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D6F1-EA8F-40CC-9790-F0CEF2FF3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426A-5FCB-442E-8331-73EB6FBF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5835-8DCD-4A52-9B47-A1BB853AE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E272-7526-4B3C-88D4-6F7EBADB4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3DA43-05A1-4BE3-AA13-8CC3C6AE6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F696-5567-493D-88B7-DCFAEE19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2CAAC-2551-471A-94D5-F0CE025B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16D1B-8D00-450E-9782-8B5DB011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4BED-C6D0-405B-84E7-7DAF2E10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8646-AAD6-4490-B00E-507FBEB8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BEE3-C343-43E7-A2CB-6E4C9AA3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A069-EAFC-44A2-8024-D9222B11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9653-9D11-497E-B8BC-063C179A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26B1-4E1C-42FA-A433-2460033C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9DAB-1A5C-4357-9207-135AA430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3FE8-D0E6-4AEC-B892-690680D85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A2E9-815F-4B72-AB94-47F4BC812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DBAF-E974-4AD7-A692-92125E26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A212-2F33-417B-8600-C132B31C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D12C-95EE-41E8-9760-9A7A8AEA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0E23-D611-421A-ACD0-47C65B71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2194-76FD-46E9-B347-A9273C32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2916-822B-499C-955C-19084C11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37FE-D5E8-48D7-8122-280428DE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8E75-17A4-4211-87C4-4FA0E05F399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9718-1B73-4654-8922-FFE35C31AA1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1915920"/>
            <a:ext cx="7631280" cy="305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Номинация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«История из жизни моей семьи» -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«Мультимедиа-проект»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-360" y="566064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Автор: Сидорович Ольга Дмитриевна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 лет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ученица 3 -го класса Великосельской СОШ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Руководитель: Сидорович Светлана Николаевна – учитель информатики и ИКТ, ИЗО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оброе в моей семь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184640" cy="26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апа и мама очень меня любили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ы ходили в зоопарк, в парк развлечений, в цирк. Наверное поэтому я очень люблю животны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68360" y="4869000"/>
            <a:ext cx="2627280" cy="16984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580000" y="3878280"/>
            <a:ext cx="3149640" cy="26827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5580000" y="1733400"/>
            <a:ext cx="3059280" cy="18129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3635280" y="4797360"/>
            <a:ext cx="15210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Грустное в моей семь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ы всегда жили дружно! Всегда вместе отдыхали, веселились и играли. Все было замечательно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о однажды всё закончилось…потому что папа умер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932360" y="4508640"/>
            <a:ext cx="3274920" cy="2133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932360" y="1557360"/>
            <a:ext cx="324468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Грустное в моей семь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906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т, конечно, я неправа, не всё закончилось, нам хорошо вместе с мамой, но всё равно папы нам очень не хватает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ы так же много гуляем, ездим на экскурсии, ходим в музеи, в цирк, зоопарки, парки аттракционов, узнаём много нового, но нас осталось только двое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508720" y="1341360"/>
            <a:ext cx="25398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оброе в моей семь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ама очень любит меня…И я её так же сильно люблю! Она очень добрая, всегда меня понимает и много уделяет мне времени…Во всём всегда помогает и поддерживае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572000" y="1268280"/>
            <a:ext cx="33656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4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оброе в моей семь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3457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Мы с мамой переехали в деревню к бабушке и дедушке – её родителям, чтобы быть чаще на свежем воздухе и природе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Но я часто езжу и в город - к папиным родителям и к своей тёте. Мы любим кататься на пароходе и гулять у фонтанов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708360" y="4869000"/>
            <a:ext cx="2627280" cy="16984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6443640" y="2708280"/>
            <a:ext cx="2131920" cy="3240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4211640" y="1989000"/>
            <a:ext cx="20289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оброе в моей семь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Мама и я любим ездить в зоопарк и цирк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300720" y="2492280"/>
            <a:ext cx="2567160" cy="38894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2530440" cy="38163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3203640" y="2492280"/>
            <a:ext cx="1225440" cy="19447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3059280" y="4724280"/>
            <a:ext cx="2881080" cy="1836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4643280" y="2492280"/>
            <a:ext cx="13431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3000"/>
                            </p:stCondLst>
                            <p:childTnLst>
                              <p:par>
                                <p:cTn id="3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4000"/>
                            </p:stCondLst>
                            <p:childTnLst>
                              <p:par>
                                <p:cTn id="3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0"/>
                            </p:stCondLst>
                            <p:childTnLst>
                              <p:par>
                                <p:cTn id="3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оброе в моей семь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 садике мы часто участвовали в праздниках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3024000" cy="22831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635280" y="2349360"/>
            <a:ext cx="1530360" cy="2286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5435640" y="2421000"/>
            <a:ext cx="3384360" cy="22683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835280" y="5013360"/>
            <a:ext cx="7308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 в Новогоднем празднике, и в Ярмарке, и празднике, посвящённом празднованию Побед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500"/>
                            </p:stCondLst>
                            <p:childTnLst>
                              <p:par>
                                <p:cTn id="40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500"/>
                            </p:stCondLst>
                            <p:childTnLst>
                              <p:par>
                                <p:cTn id="41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500"/>
                            </p:stCondLst>
                            <p:childTnLst>
                              <p:par>
                                <p:cTn id="4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500"/>
                            </p:stCondLst>
                            <p:childTnLst>
                              <p:par>
                                <p:cTn id="4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оброе в моей семь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8144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 детском саду я очень любила спортивные игры и праздник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85840" y="4365720"/>
            <a:ext cx="1847880" cy="18716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5435640" y="1557360"/>
            <a:ext cx="3446280" cy="47512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2484360" y="4365720"/>
            <a:ext cx="257328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3000"/>
                            </p:stCondLst>
                            <p:childTnLst>
                              <p:par>
                                <p:cTn id="4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3500"/>
                            </p:stCondLst>
                            <p:childTnLst>
                              <p:par>
                                <p:cTn id="4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оброе в моей семь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4790880" cy="28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ейчас я тоже люблю спорт, танцы, хожу в музыкальную школу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203640" y="3789360"/>
            <a:ext cx="2520720" cy="24321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12000" y="1413000"/>
            <a:ext cx="2708280" cy="49132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rcRect l="10029" t="0" r="0" b="0"/>
          <a:stretch/>
        </p:blipFill>
        <p:spPr>
          <a:xfrm>
            <a:off x="179280" y="3860640"/>
            <a:ext cx="288144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4000"/>
                            </p:stCondLst>
                            <p:childTnLst>
                              <p:par>
                                <p:cTn id="48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0"/>
                            </p:stCondLst>
                            <p:childTnLst>
                              <p:par>
                                <p:cTn id="49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6000"/>
                            </p:stCondLst>
                            <p:childTnLst>
                              <p:par>
                                <p:cTn id="50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оброе в моей семь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402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 нас всё замечательно, но мне очень не хватает папы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 пусть я была еще маленькой, но я его помню…и именно нашей полной, счастливой семье я хотела посвятить свою презентацию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едь пап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сегда с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ми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325296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5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03280" y="184428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«Доброе и грустное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в нашей семье»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Спасибо за внимание!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635280" y="3860640"/>
            <a:ext cx="2303640" cy="22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7556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азрешите представиться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6244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еня зовут Сидорович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льга Дмитриевна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я учусь в Великосельской средней общеобразовательной школе в 3 классе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не 8 лет. Я очень люблю свою семью и хочу рассказать о ней немног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292720" y="1125360"/>
            <a:ext cx="2494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оброе в моей семь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60692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оя история очень грустная, но именно это событие я хочу описать в своей презентац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оя семья родилась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8 июня 1999 года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 21 августа в ней появилась я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545160" y="2060640"/>
            <a:ext cx="1944720" cy="2952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643280" y="3573360"/>
            <a:ext cx="1478160" cy="2521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2268360" y="4797360"/>
            <a:ext cx="172908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оброе в моей семь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7676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сё было замечательно! Мы постоянно много гуляли с мамой и папой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588000" y="2060640"/>
            <a:ext cx="2122560" cy="3024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241280" y="3860640"/>
            <a:ext cx="2455920" cy="2592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3924360" y="2997360"/>
            <a:ext cx="239076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оброе в моей семь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9144000" y="-1971720"/>
            <a:ext cx="3220920" cy="21956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40384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Я всегда очень любила купаться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, вскоре, мой водоём вырос до огромных размеров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-3997440" y="4005360"/>
            <a:ext cx="3240360" cy="25416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859280" y="4005360"/>
            <a:ext cx="40384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ама прошлым летом купила мне бассейн, чтобы я могла купаться одна. Я очень жду этого ле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16185E-006 C 0.03403 0.20139 0.06823 0.40277 -0.01111 0.49271 C -0.09045 0.58266 -0.28333 0.56092 -0.47622 0.53919 E">
                                      <p:cBhvr>
                                        <p:cTn id="135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3.00578E-006 C 0.10573 0.09272 0.21146 0.18567 0.30781 0.19029 C 0.40417 0.19491 0.53229 0.05965 0.57778 0.02752 C 0.62326 -0.00462 0.60208 -0.00347 0.5809 -0.00208 E">
                                      <p:cBhvr>
                                        <p:cTn id="141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оброе в моей семь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60720" y="4508280"/>
            <a:ext cx="5183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о и зимой я очень люблю гулять и играть, мы всегда лепим снеговика из первого снега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932360" y="1413000"/>
            <a:ext cx="2847960" cy="29527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042920" y="1773360"/>
            <a:ext cx="28591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0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оброе в моей семь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483920"/>
            <a:ext cx="377676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 ещё я всегда любила узнавать новое, учиться чему-то, мама всегда  мне в этом помогал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03640" y="1484280"/>
            <a:ext cx="3564000" cy="22878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012000" y="4076640"/>
            <a:ext cx="2808000" cy="2297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3492360" y="4076640"/>
            <a:ext cx="2400480" cy="23274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324000" y="4076640"/>
            <a:ext cx="302400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500"/>
                            </p:stCondLst>
                            <p:childTnLst>
                              <p:par>
                                <p:cTn id="18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500"/>
                            </p:stCondLst>
                            <p:childTnLst>
                              <p:par>
                                <p:cTn id="19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500"/>
                            </p:stCondLst>
                            <p:childTnLst>
                              <p:par>
                                <p:cTn id="19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оброе в моей семь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4103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 ещё я очень люблю природу вообще – речку, поле, лес! Мы очень часто ходим к реке, в лес за грибами и ягодами, выгуливаем у бабушки коровку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292720" y="2060640"/>
            <a:ext cx="29336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5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1T16:21:43Z</dcterms:created>
  <dc:creator>User</dc:creator>
  <dc:description/>
  <dc:language>en-US</dc:language>
  <cp:lastModifiedBy>User</cp:lastModifiedBy>
  <dcterms:modified xsi:type="dcterms:W3CDTF">2006-05-21T19:37:19Z</dcterms:modified>
  <cp:revision>44</cp:revision>
  <dc:subject/>
  <dc:title>Слайд 1</dc:title>
</cp:coreProperties>
</file>