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63.jpeg" ContentType="image/jpeg"/>
  <Override PartName="/ppt/media/image64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77.jpeg" ContentType="image/jpeg"/>
  <Override PartName="/ppt/media/image60.jpeg" ContentType="image/jpeg"/>
  <Override PartName="/ppt/media/image119.wmf" ContentType="image/x-wmf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118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875-5935-4DDE-9E44-01486437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945-5934-4494-A43C-0A52995F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287-17CD-47AA-B930-C9D3AB42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409B-FF98-4AD3-95BE-52D7EF45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644C-44AF-4924-87B0-C463F2B5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E52-4257-4B07-BBDE-E8EA4C71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F449-9971-44BE-8A09-34083E78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942B-C5C0-446A-BC13-8CBFD215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5F90-F9D1-46A7-B17B-4899BE28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1FE-D808-4DC6-B3F8-4640538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CA60-F7CE-47D5-BC14-AD7BE6A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2C7-E537-409E-B557-E09D116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E185-95A1-498B-BC4C-E62623E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FF83-2F8A-438A-975D-708FAAC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B349-203E-423E-9418-B141EAAD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D3F2-C4E8-466F-AE84-82B41BC1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9300-4C30-44AF-A3EB-9DE7D8CA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173-3AEB-4200-8CA8-2829FBF2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4A8-3EA2-4B5E-AA36-1DE880B6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475-4E36-4FD0-BB25-A1D944F7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45B-5789-4845-8B64-4E1B2371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019-7928-4B74-8078-FCE7B8D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099-CA3E-4128-8F1C-48B25D04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BED-2214-4DBA-8A75-F783400C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A817-E52F-45D3-8B53-40F63A2EF9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5B4-5A80-4031-970D-554BFD7A0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70.jpeg"/><Relationship Id="rId3" Type="http://schemas.openxmlformats.org/officeDocument/2006/relationships/image" Target="../media/image69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5.jpeg"/><Relationship Id="rId8" Type="http://schemas.openxmlformats.org/officeDocument/2006/relationships/image" Target="../media/image36.jpeg"/><Relationship Id="rId9" Type="http://schemas.openxmlformats.org/officeDocument/2006/relationships/image" Target="../media/image119.wmf"/><Relationship Id="rId10" Type="http://schemas.openxmlformats.org/officeDocument/2006/relationships/image" Target="../media/image119.wmf"/><Relationship Id="rId11" Type="http://schemas.openxmlformats.org/officeDocument/2006/relationships/image" Target="../media/image119.wmf"/><Relationship Id="rId12" Type="http://schemas.openxmlformats.org/officeDocument/2006/relationships/image" Target="../media/image119.wmf"/><Relationship Id="rId13" Type="http://schemas.openxmlformats.org/officeDocument/2006/relationships/image" Target="../media/image119.wmf"/><Relationship Id="rId14" Type="http://schemas.openxmlformats.org/officeDocument/2006/relationships/image" Target="../media/image119.wmf"/><Relationship Id="rId15" Type="http://schemas.openxmlformats.org/officeDocument/2006/relationships/image" Target="../media/image119.wmf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hyperlink" Target="file:///tmp/home/.config/libreoffice/4/user/gallery/click.wav" TargetMode="External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03.jpeg"/><Relationship Id="rId3" Type="http://schemas.openxmlformats.org/officeDocument/2006/relationships/image" Target="../media/image119.wmf"/><Relationship Id="rId4" Type="http://schemas.openxmlformats.org/officeDocument/2006/relationships/image" Target="../media/image119.wmf"/><Relationship Id="rId5" Type="http://schemas.openxmlformats.org/officeDocument/2006/relationships/image" Target="../media/image105.jpeg"/><Relationship Id="rId6" Type="http://schemas.openxmlformats.org/officeDocument/2006/relationships/image" Target="../media/image119.wmf"/><Relationship Id="rId7" Type="http://schemas.openxmlformats.org/officeDocument/2006/relationships/image" Target="../media/image119.wmf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6.jpeg"/><Relationship Id="rId3" Type="http://schemas.openxmlformats.org/officeDocument/2006/relationships/image" Target="../media/image119.wmf"/><Relationship Id="rId4" Type="http://schemas.openxmlformats.org/officeDocument/2006/relationships/image" Target="../media/image119.wmf"/><Relationship Id="rId5" Type="http://schemas.openxmlformats.org/officeDocument/2006/relationships/image" Target="../media/image113.jpeg"/><Relationship Id="rId6" Type="http://schemas.openxmlformats.org/officeDocument/2006/relationships/image" Target="../media/image119.wmf"/><Relationship Id="rId7" Type="http://schemas.openxmlformats.org/officeDocument/2006/relationships/image" Target="../media/image104.jpeg"/><Relationship Id="rId8" Type="http://schemas.openxmlformats.org/officeDocument/2006/relationships/image" Target="../media/image119.wmf"/><Relationship Id="rId9" Type="http://schemas.openxmlformats.org/officeDocument/2006/relationships/image" Target="../media/image111.jpeg"/><Relationship Id="rId10" Type="http://schemas.openxmlformats.org/officeDocument/2006/relationships/image" Target="../media/image119.wmf"/><Relationship Id="rId11" Type="http://schemas.openxmlformats.org/officeDocument/2006/relationships/image" Target="../media/image110.jpeg"/><Relationship Id="rId12" Type="http://schemas.openxmlformats.org/officeDocument/2006/relationships/image" Target="../media/image119.wmf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slide" Target="slide4.xml"/><Relationship Id="rId8" Type="http://schemas.openxmlformats.org/officeDocument/2006/relationships/slide" Target="slide6.xml"/><Relationship Id="rId9" Type="http://schemas.openxmlformats.org/officeDocument/2006/relationships/slide" Target="slide3.xml"/><Relationship Id="rId10" Type="http://schemas.openxmlformats.org/officeDocument/2006/relationships/slide" Target="slide7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" Target="slide8.xml"/><Relationship Id="rId4" Type="http://schemas.openxmlformats.org/officeDocument/2006/relationships/image" Target="../media/image3.jpeg"/><Relationship Id="rId5" Type="http://schemas.openxmlformats.org/officeDocument/2006/relationships/slide" Target="slide8.xm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slide" Target="slide8.xml"/><Relationship Id="rId15" Type="http://schemas.openxmlformats.org/officeDocument/2006/relationships/slide" Target="slide8.xml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image" Target="../media/image14.jpeg"/><Relationship Id="rId19" Type="http://schemas.openxmlformats.org/officeDocument/2006/relationships/image" Target="../media/image15.jpeg"/><Relationship Id="rId20" Type="http://schemas.openxmlformats.org/officeDocument/2006/relationships/image" Target="../media/image16.jpeg"/><Relationship Id="rId21" Type="http://schemas.openxmlformats.org/officeDocument/2006/relationships/image" Target="../media/image17.jpeg"/><Relationship Id="rId22" Type="http://schemas.openxmlformats.org/officeDocument/2006/relationships/image" Target="../media/image18.jpeg"/><Relationship Id="rId23" Type="http://schemas.openxmlformats.org/officeDocument/2006/relationships/slide" Target="slide8.xml"/><Relationship Id="rId24" Type="http://schemas.openxmlformats.org/officeDocument/2006/relationships/image" Target="../media/image19.jpeg"/><Relationship Id="rId25" Type="http://schemas.openxmlformats.org/officeDocument/2006/relationships/image" Target="../media/image20.jpeg"/><Relationship Id="rId26" Type="http://schemas.openxmlformats.org/officeDocument/2006/relationships/image" Target="../media/image21.jpeg"/><Relationship Id="rId27" Type="http://schemas.openxmlformats.org/officeDocument/2006/relationships/slide" Target="slide8.xml"/><Relationship Id="rId28" Type="http://schemas.openxmlformats.org/officeDocument/2006/relationships/image" Target="../media/image22.jpeg"/><Relationship Id="rId29" Type="http://schemas.openxmlformats.org/officeDocument/2006/relationships/image" Target="../media/image23.jpeg"/><Relationship Id="rId30" Type="http://schemas.openxmlformats.org/officeDocument/2006/relationships/image" Target="../media/image24.jpeg"/><Relationship Id="rId31" Type="http://schemas.openxmlformats.org/officeDocument/2006/relationships/image" Target="../media/image25.jpeg"/><Relationship Id="rId32" Type="http://schemas.openxmlformats.org/officeDocument/2006/relationships/image" Target="../media/image26.jpeg"/><Relationship Id="rId33" Type="http://schemas.openxmlformats.org/officeDocument/2006/relationships/image" Target="../media/image27.jpeg"/><Relationship Id="rId34" Type="http://schemas.openxmlformats.org/officeDocument/2006/relationships/image" Target="../media/image28.jpeg"/><Relationship Id="rId35" Type="http://schemas.openxmlformats.org/officeDocument/2006/relationships/image" Target="../media/image29.jpeg"/><Relationship Id="rId36" Type="http://schemas.openxmlformats.org/officeDocument/2006/relationships/image" Target="../media/image30.jpeg"/><Relationship Id="rId37" Type="http://schemas.openxmlformats.org/officeDocument/2006/relationships/slide" Target="slide8.xml"/><Relationship Id="rId38" Type="http://schemas.openxmlformats.org/officeDocument/2006/relationships/image" Target="../media/image31.jpeg"/><Relationship Id="rId39" Type="http://schemas.openxmlformats.org/officeDocument/2006/relationships/slide" Target="slide9.xml"/><Relationship Id="rId40" Type="http://schemas.openxmlformats.org/officeDocument/2006/relationships/image" Target="../media/image32.jpeg"/><Relationship Id="rId41" Type="http://schemas.openxmlformats.org/officeDocument/2006/relationships/image" Target="../media/image33.jpeg"/><Relationship Id="rId42" Type="http://schemas.openxmlformats.org/officeDocument/2006/relationships/image" Target="../media/image34.jpeg"/><Relationship Id="rId43" Type="http://schemas.openxmlformats.org/officeDocument/2006/relationships/image" Target="../media/image35.jpeg"/><Relationship Id="rId44" Type="http://schemas.openxmlformats.org/officeDocument/2006/relationships/slide" Target="slide10.xml"/><Relationship Id="rId45" Type="http://schemas.openxmlformats.org/officeDocument/2006/relationships/image" Target="../media/image36.jpeg"/><Relationship Id="rId46" Type="http://schemas.openxmlformats.org/officeDocument/2006/relationships/image" Target="../media/image37.jpeg"/><Relationship Id="rId47" Type="http://schemas.openxmlformats.org/officeDocument/2006/relationships/image" Target="../media/image38.jpeg"/><Relationship Id="rId48" Type="http://schemas.openxmlformats.org/officeDocument/2006/relationships/image" Target="../media/image39.jpeg"/><Relationship Id="rId49" Type="http://schemas.openxmlformats.org/officeDocument/2006/relationships/image" Target="../media/image40.jpeg"/><Relationship Id="rId50" Type="http://schemas.openxmlformats.org/officeDocument/2006/relationships/image" Target="../media/image41.jpeg"/><Relationship Id="rId51" Type="http://schemas.openxmlformats.org/officeDocument/2006/relationships/image" Target="../media/image42.jpeg"/><Relationship Id="rId52" Type="http://schemas.openxmlformats.org/officeDocument/2006/relationships/image" Target="../media/image43.jpeg"/><Relationship Id="rId53" Type="http://schemas.openxmlformats.org/officeDocument/2006/relationships/image" Target="../media/image44.jpeg"/><Relationship Id="rId54" Type="http://schemas.openxmlformats.org/officeDocument/2006/relationships/image" Target="../media/image45.jpeg"/><Relationship Id="rId55" Type="http://schemas.openxmlformats.org/officeDocument/2006/relationships/image" Target="../media/image46.jpeg"/><Relationship Id="rId56" Type="http://schemas.openxmlformats.org/officeDocument/2006/relationships/slide" Target="slide8.xml"/><Relationship Id="rId57" Type="http://schemas.openxmlformats.org/officeDocument/2006/relationships/image" Target="../media/image47.jpeg"/><Relationship Id="rId58" Type="http://schemas.openxmlformats.org/officeDocument/2006/relationships/image" Target="../media/image48.jpeg"/><Relationship Id="rId59" Type="http://schemas.openxmlformats.org/officeDocument/2006/relationships/image" Target="../media/image49.jpeg"/><Relationship Id="rId60" Type="http://schemas.openxmlformats.org/officeDocument/2006/relationships/image" Target="../media/image50.jpeg"/><Relationship Id="rId61" Type="http://schemas.openxmlformats.org/officeDocument/2006/relationships/image" Target="../media/image51.jpeg"/><Relationship Id="rId62" Type="http://schemas.openxmlformats.org/officeDocument/2006/relationships/image" Target="../media/image52.jpeg"/><Relationship Id="rId63" Type="http://schemas.openxmlformats.org/officeDocument/2006/relationships/image" Target="../media/image53.jpeg"/><Relationship Id="rId64" Type="http://schemas.openxmlformats.org/officeDocument/2006/relationships/image" Target="../media/image54.jpeg"/><Relationship Id="rId65" Type="http://schemas.openxmlformats.org/officeDocument/2006/relationships/slide" Target="slide4.xml"/><Relationship Id="rId66" Type="http://schemas.openxmlformats.org/officeDocument/2006/relationships/slide" Target="slide6.xml"/><Relationship Id="rId67" Type="http://schemas.openxmlformats.org/officeDocument/2006/relationships/slide" Target="slide5.xml"/><Relationship Id="rId6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5.jpeg"/><Relationship Id="rId3" Type="http://schemas.openxmlformats.org/officeDocument/2006/relationships/slide" Target="slide9.xml"/><Relationship Id="rId4" Type="http://schemas.openxmlformats.org/officeDocument/2006/relationships/image" Target="../media/image56.jpeg"/><Relationship Id="rId5" Type="http://schemas.openxmlformats.org/officeDocument/2006/relationships/image" Target="../media/image45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image" Target="../media/image41.jpeg"/><Relationship Id="rId13" Type="http://schemas.openxmlformats.org/officeDocument/2006/relationships/image" Target="../media/image42.jpeg"/><Relationship Id="rId14" Type="http://schemas.openxmlformats.org/officeDocument/2006/relationships/image" Target="../media/image43.jpeg"/><Relationship Id="rId15" Type="http://schemas.openxmlformats.org/officeDocument/2006/relationships/image" Target="../media/image44.jpeg"/><Relationship Id="rId16" Type="http://schemas.openxmlformats.org/officeDocument/2006/relationships/slide" Target="slide9.xml"/><Relationship Id="rId17" Type="http://schemas.openxmlformats.org/officeDocument/2006/relationships/image" Target="../media/image57.jpeg"/><Relationship Id="rId18" Type="http://schemas.openxmlformats.org/officeDocument/2006/relationships/slide" Target="slide9.xml"/><Relationship Id="rId19" Type="http://schemas.openxmlformats.org/officeDocument/2006/relationships/image" Target="../media/image58.jpeg"/><Relationship Id="rId20" Type="http://schemas.openxmlformats.org/officeDocument/2006/relationships/image" Target="../media/image59.jpeg"/><Relationship Id="rId21" Type="http://schemas.openxmlformats.org/officeDocument/2006/relationships/image" Target="../media/image60.jpeg"/><Relationship Id="rId22" Type="http://schemas.openxmlformats.org/officeDocument/2006/relationships/image" Target="../media/image61.jpeg"/><Relationship Id="rId23" Type="http://schemas.openxmlformats.org/officeDocument/2006/relationships/slide" Target="slide9.xml"/><Relationship Id="rId24" Type="http://schemas.openxmlformats.org/officeDocument/2006/relationships/image" Target="../media/image62.jpeg"/><Relationship Id="rId25" Type="http://schemas.openxmlformats.org/officeDocument/2006/relationships/image" Target="../media/image63.jpeg"/><Relationship Id="rId26" Type="http://schemas.openxmlformats.org/officeDocument/2006/relationships/slide" Target="slide9.xml"/><Relationship Id="rId27" Type="http://schemas.openxmlformats.org/officeDocument/2006/relationships/image" Target="../media/image64.jpeg"/><Relationship Id="rId28" Type="http://schemas.openxmlformats.org/officeDocument/2006/relationships/image" Target="../media/image65.jpeg"/><Relationship Id="rId29" Type="http://schemas.openxmlformats.org/officeDocument/2006/relationships/image" Target="../media/image66.jpeg"/><Relationship Id="rId30" Type="http://schemas.openxmlformats.org/officeDocument/2006/relationships/slide" Target="slide9.xml"/><Relationship Id="rId31" Type="http://schemas.openxmlformats.org/officeDocument/2006/relationships/image" Target="../media/image67.jpeg"/><Relationship Id="rId32" Type="http://schemas.openxmlformats.org/officeDocument/2006/relationships/image" Target="../media/image68.jpeg"/><Relationship Id="rId33" Type="http://schemas.openxmlformats.org/officeDocument/2006/relationships/image" Target="../media/image35.jpeg"/><Relationship Id="rId34" Type="http://schemas.openxmlformats.org/officeDocument/2006/relationships/slide" Target="slide10.xml"/><Relationship Id="rId35" Type="http://schemas.openxmlformats.org/officeDocument/2006/relationships/image" Target="../media/image36.jpeg"/><Relationship Id="rId36" Type="http://schemas.openxmlformats.org/officeDocument/2006/relationships/image" Target="../media/image46.jpeg"/><Relationship Id="rId37" Type="http://schemas.openxmlformats.org/officeDocument/2006/relationships/image" Target="../media/image48.jpeg"/><Relationship Id="rId38" Type="http://schemas.openxmlformats.org/officeDocument/2006/relationships/image" Target="../media/image49.jpeg"/><Relationship Id="rId39" Type="http://schemas.openxmlformats.org/officeDocument/2006/relationships/image" Target="../media/image50.jpeg"/><Relationship Id="rId40" Type="http://schemas.openxmlformats.org/officeDocument/2006/relationships/slide" Target="slide3.xml"/><Relationship Id="rId41" Type="http://schemas.openxmlformats.org/officeDocument/2006/relationships/slide" Target="slide6.xml"/><Relationship Id="rId42" Type="http://schemas.openxmlformats.org/officeDocument/2006/relationships/slide" Target="slide5.xml"/><Relationship Id="rId4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9.jpeg"/><Relationship Id="rId3" Type="http://schemas.openxmlformats.org/officeDocument/2006/relationships/slide" Target="slide10.xml"/><Relationship Id="rId4" Type="http://schemas.openxmlformats.org/officeDocument/2006/relationships/image" Target="../media/image70.jpeg"/><Relationship Id="rId5" Type="http://schemas.openxmlformats.org/officeDocument/2006/relationships/slide" Target="slide10.xml"/><Relationship Id="rId6" Type="http://schemas.openxmlformats.org/officeDocument/2006/relationships/image" Target="../media/image71.jpeg"/><Relationship Id="rId7" Type="http://schemas.openxmlformats.org/officeDocument/2006/relationships/slide" Target="slide10.xml"/><Relationship Id="rId8" Type="http://schemas.openxmlformats.org/officeDocument/2006/relationships/image" Target="../media/image72.jpeg"/><Relationship Id="rId9" Type="http://schemas.openxmlformats.org/officeDocument/2006/relationships/slide" Target="slide10.xml"/><Relationship Id="rId10" Type="http://schemas.openxmlformats.org/officeDocument/2006/relationships/image" Target="../media/image73.jpeg"/><Relationship Id="rId11" Type="http://schemas.openxmlformats.org/officeDocument/2006/relationships/image" Target="../media/image74.jpeg"/><Relationship Id="rId12" Type="http://schemas.openxmlformats.org/officeDocument/2006/relationships/slide" Target="slide10.xml"/><Relationship Id="rId13" Type="http://schemas.openxmlformats.org/officeDocument/2006/relationships/image" Target="../media/image75.jpeg"/><Relationship Id="rId14" Type="http://schemas.openxmlformats.org/officeDocument/2006/relationships/image" Target="../media/image76.jpeg"/><Relationship Id="rId15" Type="http://schemas.openxmlformats.org/officeDocument/2006/relationships/image" Target="../media/image77.jpeg"/><Relationship Id="rId16" Type="http://schemas.openxmlformats.org/officeDocument/2006/relationships/image" Target="../media/image78.jpeg"/><Relationship Id="rId17" Type="http://schemas.openxmlformats.org/officeDocument/2006/relationships/image" Target="../media/image79.jpeg"/><Relationship Id="rId18" Type="http://schemas.openxmlformats.org/officeDocument/2006/relationships/image" Target="../media/image80.jpeg"/><Relationship Id="rId19" Type="http://schemas.openxmlformats.org/officeDocument/2006/relationships/image" Target="../media/image81.jpeg"/><Relationship Id="rId20" Type="http://schemas.openxmlformats.org/officeDocument/2006/relationships/image" Target="../media/image82.jpeg"/><Relationship Id="rId21" Type="http://schemas.openxmlformats.org/officeDocument/2006/relationships/image" Target="../media/image83.jpeg"/><Relationship Id="rId22" Type="http://schemas.openxmlformats.org/officeDocument/2006/relationships/image" Target="../media/image84.jpeg"/><Relationship Id="rId23" Type="http://schemas.openxmlformats.org/officeDocument/2006/relationships/image" Target="../media/image85.jpeg"/><Relationship Id="rId24" Type="http://schemas.openxmlformats.org/officeDocument/2006/relationships/image" Target="../media/image86.jpeg"/><Relationship Id="rId25" Type="http://schemas.openxmlformats.org/officeDocument/2006/relationships/image" Target="../media/image87.jpeg"/><Relationship Id="rId26" Type="http://schemas.openxmlformats.org/officeDocument/2006/relationships/image" Target="../media/image88.jpeg"/><Relationship Id="rId27" Type="http://schemas.openxmlformats.org/officeDocument/2006/relationships/image" Target="../media/image89.jpeg"/><Relationship Id="rId28" Type="http://schemas.openxmlformats.org/officeDocument/2006/relationships/image" Target="../media/image90.jpeg"/><Relationship Id="rId29" Type="http://schemas.openxmlformats.org/officeDocument/2006/relationships/image" Target="../media/image91.jpeg"/><Relationship Id="rId30" Type="http://schemas.openxmlformats.org/officeDocument/2006/relationships/image" Target="../media/image92.jpeg"/><Relationship Id="rId31" Type="http://schemas.openxmlformats.org/officeDocument/2006/relationships/image" Target="../media/image93.jpeg"/><Relationship Id="rId32" Type="http://schemas.openxmlformats.org/officeDocument/2006/relationships/image" Target="../media/image94.jpeg"/><Relationship Id="rId33" Type="http://schemas.openxmlformats.org/officeDocument/2006/relationships/image" Target="../media/image95.jpeg"/><Relationship Id="rId34" Type="http://schemas.openxmlformats.org/officeDocument/2006/relationships/image" Target="../media/image96.jpeg"/><Relationship Id="rId35" Type="http://schemas.openxmlformats.org/officeDocument/2006/relationships/image" Target="../media/image97.jpeg"/><Relationship Id="rId36" Type="http://schemas.openxmlformats.org/officeDocument/2006/relationships/image" Target="../media/image98.jpeg"/><Relationship Id="rId37" Type="http://schemas.openxmlformats.org/officeDocument/2006/relationships/image" Target="../media/image99.jpeg"/><Relationship Id="rId38" Type="http://schemas.openxmlformats.org/officeDocument/2006/relationships/image" Target="../media/image42.jpeg"/><Relationship Id="rId39" Type="http://schemas.openxmlformats.org/officeDocument/2006/relationships/image" Target="../media/image43.jpeg"/><Relationship Id="rId40" Type="http://schemas.openxmlformats.org/officeDocument/2006/relationships/image" Target="../media/image44.jpeg"/><Relationship Id="rId41" Type="http://schemas.openxmlformats.org/officeDocument/2006/relationships/image" Target="../media/image40.jpeg"/><Relationship Id="rId42" Type="http://schemas.openxmlformats.org/officeDocument/2006/relationships/image" Target="../media/image41.jpeg"/><Relationship Id="rId43" Type="http://schemas.openxmlformats.org/officeDocument/2006/relationships/image" Target="../media/image46.jpeg"/><Relationship Id="rId44" Type="http://schemas.openxmlformats.org/officeDocument/2006/relationships/image" Target="../media/image45.jpeg"/><Relationship Id="rId45" Type="http://schemas.openxmlformats.org/officeDocument/2006/relationships/image" Target="../media/image100.jpeg"/><Relationship Id="rId46" Type="http://schemas.openxmlformats.org/officeDocument/2006/relationships/image" Target="../media/image48.jpeg"/><Relationship Id="rId47" Type="http://schemas.openxmlformats.org/officeDocument/2006/relationships/image" Target="../media/image49.jpeg"/><Relationship Id="rId48" Type="http://schemas.openxmlformats.org/officeDocument/2006/relationships/image" Target="../media/image50.jpeg"/><Relationship Id="rId49" Type="http://schemas.openxmlformats.org/officeDocument/2006/relationships/image" Target="../media/image35.jpeg"/><Relationship Id="rId50" Type="http://schemas.openxmlformats.org/officeDocument/2006/relationships/slide" Target="slide10.xml"/><Relationship Id="rId51" Type="http://schemas.openxmlformats.org/officeDocument/2006/relationships/image" Target="../media/image36.jpeg"/><Relationship Id="rId52" Type="http://schemas.openxmlformats.org/officeDocument/2006/relationships/slide" Target="slide6.xml"/><Relationship Id="rId53" Type="http://schemas.openxmlformats.org/officeDocument/2006/relationships/slide" Target="slide4.xml"/><Relationship Id="rId54" Type="http://schemas.openxmlformats.org/officeDocument/2006/relationships/slide" Target="slide3.xml"/><Relationship Id="rId5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48.jpeg"/><Relationship Id="rId3" Type="http://schemas.openxmlformats.org/officeDocument/2006/relationships/image" Target="../media/image50.jpeg"/><Relationship Id="rId4" Type="http://schemas.openxmlformats.org/officeDocument/2006/relationships/image" Target="../media/image46.jpeg"/><Relationship Id="rId5" Type="http://schemas.openxmlformats.org/officeDocument/2006/relationships/image" Target="../media/image102.jpeg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image" Target="../media/image103.jpeg"/><Relationship Id="rId9" Type="http://schemas.openxmlformats.org/officeDocument/2006/relationships/slide" Target="slide12.xml"/><Relationship Id="rId10" Type="http://schemas.openxmlformats.org/officeDocument/2006/relationships/image" Target="../media/image104.jpeg"/><Relationship Id="rId11" Type="http://schemas.openxmlformats.org/officeDocument/2006/relationships/slide" Target="slide11.xml"/><Relationship Id="rId12" Type="http://schemas.openxmlformats.org/officeDocument/2006/relationships/image" Target="../media/image105.jpeg"/><Relationship Id="rId13" Type="http://schemas.openxmlformats.org/officeDocument/2006/relationships/slide" Target="slide11.xml"/><Relationship Id="rId14" Type="http://schemas.openxmlformats.org/officeDocument/2006/relationships/image" Target="../media/image106.jpeg"/><Relationship Id="rId15" Type="http://schemas.openxmlformats.org/officeDocument/2006/relationships/image" Target="../media/image107.jpeg"/><Relationship Id="rId16" Type="http://schemas.openxmlformats.org/officeDocument/2006/relationships/image" Target="../media/image108.jpeg"/><Relationship Id="rId17" Type="http://schemas.openxmlformats.org/officeDocument/2006/relationships/image" Target="../media/image109.jpeg"/><Relationship Id="rId18" Type="http://schemas.openxmlformats.org/officeDocument/2006/relationships/image" Target="../media/image35.jpeg"/><Relationship Id="rId19" Type="http://schemas.openxmlformats.org/officeDocument/2006/relationships/slide" Target="slide10.xml"/><Relationship Id="rId20" Type="http://schemas.openxmlformats.org/officeDocument/2006/relationships/image" Target="../media/image36.jpeg"/><Relationship Id="rId21" Type="http://schemas.openxmlformats.org/officeDocument/2006/relationships/slide" Target="slide7.xml"/><Relationship Id="rId22" Type="http://schemas.openxmlformats.org/officeDocument/2006/relationships/slide" Target="slide5.xml"/><Relationship Id="rId23" Type="http://schemas.openxmlformats.org/officeDocument/2006/relationships/slide" Target="slide4.xml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46.jpeg"/><Relationship Id="rId3" Type="http://schemas.openxmlformats.org/officeDocument/2006/relationships/image" Target="../media/image102.jpeg"/><Relationship Id="rId4" Type="http://schemas.openxmlformats.org/officeDocument/2006/relationships/image" Target="../media/image106.jpeg"/><Relationship Id="rId5" Type="http://schemas.openxmlformats.org/officeDocument/2006/relationships/image" Target="../media/image109.jpeg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" Target="slide12.xml"/><Relationship Id="rId9" Type="http://schemas.openxmlformats.org/officeDocument/2006/relationships/image" Target="../media/image104.jpeg"/><Relationship Id="rId10" Type="http://schemas.openxmlformats.org/officeDocument/2006/relationships/slide" Target="slide11.xml"/><Relationship Id="rId11" Type="http://schemas.openxmlformats.org/officeDocument/2006/relationships/image" Target="../media/image105.jpeg"/><Relationship Id="rId12" Type="http://schemas.openxmlformats.org/officeDocument/2006/relationships/slide" Target="slide12.xml"/><Relationship Id="rId13" Type="http://schemas.openxmlformats.org/officeDocument/2006/relationships/image" Target="../media/image110.jpeg"/><Relationship Id="rId14" Type="http://schemas.openxmlformats.org/officeDocument/2006/relationships/slide" Target="slide12.xml"/><Relationship Id="rId15" Type="http://schemas.openxmlformats.org/officeDocument/2006/relationships/image" Target="../media/image111.jpeg"/><Relationship Id="rId16" Type="http://schemas.openxmlformats.org/officeDocument/2006/relationships/image" Target="../media/image112.jpeg"/><Relationship Id="rId17" Type="http://schemas.openxmlformats.org/officeDocument/2006/relationships/slide" Target="slide12.xml"/><Relationship Id="rId18" Type="http://schemas.openxmlformats.org/officeDocument/2006/relationships/image" Target="../media/image113.jpeg"/><Relationship Id="rId19" Type="http://schemas.openxmlformats.org/officeDocument/2006/relationships/image" Target="../media/image114.jpeg"/><Relationship Id="rId20" Type="http://schemas.openxmlformats.org/officeDocument/2006/relationships/image" Target="../media/image115.jpeg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image" Target="../media/image116.jpeg"/><Relationship Id="rId24" Type="http://schemas.openxmlformats.org/officeDocument/2006/relationships/image" Target="../media/image117.jpeg"/><Relationship Id="rId25" Type="http://schemas.openxmlformats.org/officeDocument/2006/relationships/image" Target="../media/image50.jpeg"/><Relationship Id="rId26" Type="http://schemas.openxmlformats.org/officeDocument/2006/relationships/image" Target="../media/image48.jpeg"/><Relationship Id="rId27" Type="http://schemas.openxmlformats.org/officeDocument/2006/relationships/image" Target="../media/image35.jpeg"/><Relationship Id="rId28" Type="http://schemas.openxmlformats.org/officeDocument/2006/relationships/slide" Target="slide10.xml"/><Relationship Id="rId29" Type="http://schemas.openxmlformats.org/officeDocument/2006/relationships/image" Target="../media/image36.jpeg"/><Relationship Id="rId30" Type="http://schemas.openxmlformats.org/officeDocument/2006/relationships/slide" Target="slide5.xml"/><Relationship Id="rId31" Type="http://schemas.openxmlformats.org/officeDocument/2006/relationships/slide" Target="slide6.xml"/><Relationship Id="rId32" Type="http://schemas.openxmlformats.org/officeDocument/2006/relationships/slide" Target="slide4.xml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wmf"/><Relationship Id="rId3" Type="http://schemas.openxmlformats.org/officeDocument/2006/relationships/image" Target="../media/image3.jpeg"/><Relationship Id="rId4" Type="http://schemas.openxmlformats.org/officeDocument/2006/relationships/image" Target="../media/image119.wmf"/><Relationship Id="rId5" Type="http://schemas.openxmlformats.org/officeDocument/2006/relationships/image" Target="../media/image2.jpeg"/><Relationship Id="rId6" Type="http://schemas.openxmlformats.org/officeDocument/2006/relationships/image" Target="../media/image119.wmf"/><Relationship Id="rId7" Type="http://schemas.openxmlformats.org/officeDocument/2006/relationships/image" Target="../media/image119.wmf"/><Relationship Id="rId8" Type="http://schemas.openxmlformats.org/officeDocument/2006/relationships/image" Target="../media/image119.wmf"/><Relationship Id="rId9" Type="http://schemas.openxmlformats.org/officeDocument/2006/relationships/image" Target="../media/image119.wmf"/><Relationship Id="rId10" Type="http://schemas.openxmlformats.org/officeDocument/2006/relationships/image" Target="../media/image119.wmf"/><Relationship Id="rId11" Type="http://schemas.openxmlformats.org/officeDocument/2006/relationships/image" Target="../media/image119.wmf"/><Relationship Id="rId12" Type="http://schemas.openxmlformats.org/officeDocument/2006/relationships/image" Target="../media/image19.jpeg"/><Relationship Id="rId13" Type="http://schemas.openxmlformats.org/officeDocument/2006/relationships/image" Target="../media/image4.jpeg"/><Relationship Id="rId14" Type="http://schemas.openxmlformats.org/officeDocument/2006/relationships/image" Target="../media/image31.jpeg"/><Relationship Id="rId15" Type="http://schemas.openxmlformats.org/officeDocument/2006/relationships/image" Target="../media/image12.jpeg"/><Relationship Id="rId16" Type="http://schemas.openxmlformats.org/officeDocument/2006/relationships/image" Target="../media/image22.jpeg"/><Relationship Id="rId17" Type="http://schemas.openxmlformats.org/officeDocument/2006/relationships/image" Target="../media/image119.wmf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wmf"/><Relationship Id="rId3" Type="http://schemas.openxmlformats.org/officeDocument/2006/relationships/image" Target="../media/image119.wmf"/><Relationship Id="rId4" Type="http://schemas.openxmlformats.org/officeDocument/2006/relationships/image" Target="../media/image57.jpeg"/><Relationship Id="rId5" Type="http://schemas.openxmlformats.org/officeDocument/2006/relationships/image" Target="../media/image32.jpeg"/><Relationship Id="rId6" Type="http://schemas.openxmlformats.org/officeDocument/2006/relationships/image" Target="../media/image62.jpeg"/><Relationship Id="rId7" Type="http://schemas.openxmlformats.org/officeDocument/2006/relationships/image" Target="../media/image67.jpeg"/><Relationship Id="rId8" Type="http://schemas.openxmlformats.org/officeDocument/2006/relationships/image" Target="../media/image64.jpeg"/><Relationship Id="rId9" Type="http://schemas.openxmlformats.org/officeDocument/2006/relationships/image" Target="../media/image119.wmf"/><Relationship Id="rId10" Type="http://schemas.openxmlformats.org/officeDocument/2006/relationships/image" Target="../media/image119.wmf"/><Relationship Id="rId11" Type="http://schemas.openxmlformats.org/officeDocument/2006/relationships/image" Target="../media/image119.wmf"/><Relationship Id="rId12" Type="http://schemas.openxmlformats.org/officeDocument/2006/relationships/image" Target="../media/image119.wmf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47640" y="2133720"/>
            <a:ext cx="5977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Родовое древо се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Москвичёвых, Квасовых, Заламаевых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лаковых и Поникаров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У Иванищевская С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4941720"/>
            <a:ext cx="34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ект выполн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лаков Антон Александр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63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й 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2" name=""/>
          <p:cNvSpPr/>
          <p:nvPr/>
        </p:nvSpPr>
        <p:spPr>
          <a:xfrm>
            <a:off x="3203640" y="2349360"/>
            <a:ext cx="1079280" cy="9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к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анти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ге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11 - 197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3" name=""/>
          <p:cNvSpPr/>
          <p:nvPr/>
        </p:nvSpPr>
        <p:spPr>
          <a:xfrm>
            <a:off x="4427640" y="2349360"/>
            <a:ext cx="1079280" cy="9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ка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мё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10 - 197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4" name=""/>
          <p:cNvSpPr/>
          <p:nvPr/>
        </p:nvSpPr>
        <p:spPr>
          <a:xfrm>
            <a:off x="2197080" y="5229360"/>
            <a:ext cx="136692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т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ид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3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5" name=""/>
          <p:cNvSpPr/>
          <p:nvPr/>
        </p:nvSpPr>
        <p:spPr>
          <a:xfrm>
            <a:off x="370836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дыше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лент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6" name=""/>
          <p:cNvSpPr/>
          <p:nvPr/>
        </p:nvSpPr>
        <p:spPr>
          <a:xfrm>
            <a:off x="5295960" y="5229360"/>
            <a:ext cx="143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к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анти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4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7" name=""/>
          <p:cNvSpPr/>
          <p:nvPr/>
        </p:nvSpPr>
        <p:spPr>
          <a:xfrm>
            <a:off x="687852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к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станти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4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8" name=""/>
          <p:cNvSpPr/>
          <p:nvPr/>
        </p:nvSpPr>
        <p:spPr>
          <a:xfrm>
            <a:off x="4356000" y="620640"/>
            <a:ext cx="1155960" cy="144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9" name=""/>
          <p:cNvSpPr/>
          <p:nvPr/>
        </p:nvSpPr>
        <p:spPr>
          <a:xfrm>
            <a:off x="3130560" y="620640"/>
            <a:ext cx="1155600" cy="1441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0" name=""/>
          <p:cNvSpPr/>
          <p:nvPr/>
        </p:nvSpPr>
        <p:spPr>
          <a:xfrm>
            <a:off x="826920" y="3429000"/>
            <a:ext cx="1159200" cy="1444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1" name=""/>
          <p:cNvSpPr/>
          <p:nvPr/>
        </p:nvSpPr>
        <p:spPr>
          <a:xfrm>
            <a:off x="2268360" y="3429000"/>
            <a:ext cx="1159200" cy="1444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2" name=""/>
          <p:cNvSpPr/>
          <p:nvPr/>
        </p:nvSpPr>
        <p:spPr>
          <a:xfrm>
            <a:off x="3851280" y="3500280"/>
            <a:ext cx="1158840" cy="14446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3" name=""/>
          <p:cNvSpPr/>
          <p:nvPr/>
        </p:nvSpPr>
        <p:spPr>
          <a:xfrm>
            <a:off x="5508720" y="3429000"/>
            <a:ext cx="1158840" cy="14446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4" name=""/>
          <p:cNvSpPr/>
          <p:nvPr/>
        </p:nvSpPr>
        <p:spPr>
          <a:xfrm>
            <a:off x="7093080" y="3429000"/>
            <a:ext cx="1158840" cy="14446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85" name="" descr=""/>
          <p:cNvPicPr/>
          <p:nvPr/>
        </p:nvPicPr>
        <p:blipFill>
          <a:blip r:embed="rId9"/>
          <a:stretch/>
        </p:blipFill>
        <p:spPr>
          <a:xfrm>
            <a:off x="4211640" y="62064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886" name="" descr=""/>
          <p:cNvPicPr/>
          <p:nvPr/>
        </p:nvPicPr>
        <p:blipFill>
          <a:blip r:embed="rId10"/>
          <a:stretch/>
        </p:blipFill>
        <p:spPr>
          <a:xfrm>
            <a:off x="2987640" y="62064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887" name="" descr=""/>
          <p:cNvPicPr/>
          <p:nvPr/>
        </p:nvPicPr>
        <p:blipFill>
          <a:blip r:embed="rId11"/>
          <a:stretch/>
        </p:blipFill>
        <p:spPr>
          <a:xfrm>
            <a:off x="68580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88" name="" descr=""/>
          <p:cNvPicPr/>
          <p:nvPr/>
        </p:nvPicPr>
        <p:blipFill>
          <a:blip r:embed="rId12"/>
          <a:stretch/>
        </p:blipFill>
        <p:spPr>
          <a:xfrm>
            <a:off x="212400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89" name="" descr=""/>
          <p:cNvPicPr/>
          <p:nvPr/>
        </p:nvPicPr>
        <p:blipFill>
          <a:blip r:embed="rId13"/>
          <a:stretch/>
        </p:blipFill>
        <p:spPr>
          <a:xfrm>
            <a:off x="536400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90" name="" descr=""/>
          <p:cNvPicPr/>
          <p:nvPr/>
        </p:nvPicPr>
        <p:blipFill>
          <a:blip r:embed="rId14"/>
          <a:stretch/>
        </p:blipFill>
        <p:spPr>
          <a:xfrm>
            <a:off x="3708360" y="3500280"/>
            <a:ext cx="1440000" cy="1729080"/>
          </a:xfrm>
          <a:prstGeom prst="rect">
            <a:avLst/>
          </a:prstGeom>
          <a:ln w="0">
            <a:noFill/>
          </a:ln>
        </p:spPr>
      </p:pic>
      <p:pic>
        <p:nvPicPr>
          <p:cNvPr id="17891" name="" descr=""/>
          <p:cNvPicPr/>
          <p:nvPr/>
        </p:nvPicPr>
        <p:blipFill>
          <a:blip r:embed="rId15"/>
          <a:stretch/>
        </p:blipFill>
        <p:spPr>
          <a:xfrm>
            <a:off x="6948360" y="3429000"/>
            <a:ext cx="1440000" cy="1655640"/>
          </a:xfrm>
          <a:prstGeom prst="rect">
            <a:avLst/>
          </a:prstGeom>
          <a:ln w="0">
            <a:noFill/>
          </a:ln>
        </p:spPr>
      </p:pic>
      <p:grpSp>
        <p:nvGrpSpPr>
          <p:cNvPr id="17892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893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4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5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6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97" name=""/>
          <p:cNvGrpSpPr/>
          <p:nvPr/>
        </p:nvGrpSpPr>
        <p:grpSpPr>
          <a:xfrm>
            <a:off x="7032600" y="-1495080"/>
            <a:ext cx="3103200" cy="2948040"/>
            <a:chOff x="7032600" y="-1495080"/>
            <a:chExt cx="3103200" cy="2948040"/>
          </a:xfrm>
        </p:grpSpPr>
        <p:grpSp>
          <p:nvGrpSpPr>
            <p:cNvPr id="17898" name=""/>
            <p:cNvGrpSpPr/>
            <p:nvPr/>
          </p:nvGrpSpPr>
          <p:grpSpPr>
            <a:xfrm>
              <a:off x="7032600" y="-1495080"/>
              <a:ext cx="2850840" cy="2738880"/>
              <a:chOff x="7032600" y="-1495080"/>
              <a:chExt cx="2850840" cy="2738880"/>
            </a:xfrm>
          </p:grpSpPr>
          <p:sp>
            <p:nvSpPr>
              <p:cNvPr id="17899" name=""/>
              <p:cNvSpPr/>
              <p:nvPr/>
            </p:nvSpPr>
            <p:spPr>
              <a:xfrm rot="13152000">
                <a:off x="7237800" y="28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0" name=""/>
              <p:cNvSpPr/>
              <p:nvPr/>
            </p:nvSpPr>
            <p:spPr>
              <a:xfrm rot="13152000">
                <a:off x="8740080" y="-15807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01" name=""/>
            <p:cNvGrpSpPr/>
            <p:nvPr/>
          </p:nvGrpSpPr>
          <p:grpSpPr>
            <a:xfrm>
              <a:off x="7677000" y="-855720"/>
              <a:ext cx="2399040" cy="2308680"/>
              <a:chOff x="7677000" y="-855720"/>
              <a:chExt cx="2399040" cy="2308680"/>
            </a:xfrm>
          </p:grpSpPr>
          <p:sp>
            <p:nvSpPr>
              <p:cNvPr id="17902" name=""/>
              <p:cNvSpPr/>
              <p:nvPr/>
            </p:nvSpPr>
            <p:spPr>
              <a:xfrm rot="13152000">
                <a:off x="7814880" y="4903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3" name=""/>
              <p:cNvSpPr/>
              <p:nvPr/>
            </p:nvSpPr>
            <p:spPr>
              <a:xfrm rot="13152000">
                <a:off x="8985960" y="-875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04" name=""/>
            <p:cNvGrpSpPr/>
            <p:nvPr/>
          </p:nvGrpSpPr>
          <p:grpSpPr>
            <a:xfrm>
              <a:off x="8511120" y="-1250640"/>
              <a:ext cx="1624680" cy="2471760"/>
              <a:chOff x="8511120" y="-1250640"/>
              <a:chExt cx="1624680" cy="2471760"/>
            </a:xfrm>
          </p:grpSpPr>
          <p:sp>
            <p:nvSpPr>
              <p:cNvPr id="17905" name=""/>
              <p:cNvSpPr/>
              <p:nvPr/>
            </p:nvSpPr>
            <p:spPr>
              <a:xfrm rot="11728800">
                <a:off x="8590680" y="4266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6" name=""/>
              <p:cNvSpPr/>
              <p:nvPr/>
            </p:nvSpPr>
            <p:spPr>
              <a:xfrm rot="11728800">
                <a:off x="8867520" y="-11376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07" name=""/>
            <p:cNvGrpSpPr/>
            <p:nvPr/>
          </p:nvGrpSpPr>
          <p:grpSpPr>
            <a:xfrm>
              <a:off x="8139960" y="-1184040"/>
              <a:ext cx="1492560" cy="2024280"/>
              <a:chOff x="8139960" y="-1184040"/>
              <a:chExt cx="1492560" cy="2024280"/>
            </a:xfrm>
          </p:grpSpPr>
          <p:sp>
            <p:nvSpPr>
              <p:cNvPr id="17908" name=""/>
              <p:cNvSpPr/>
              <p:nvPr/>
            </p:nvSpPr>
            <p:spPr>
              <a:xfrm rot="13152000">
                <a:off x="8209080" y="1540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9" name=""/>
              <p:cNvSpPr/>
              <p:nvPr/>
            </p:nvSpPr>
            <p:spPr>
              <a:xfrm rot="13152000">
                <a:off x="8728200" y="-11718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10" name=""/>
          <p:cNvGrpSpPr/>
          <p:nvPr/>
        </p:nvGrpSpPr>
        <p:grpSpPr>
          <a:xfrm>
            <a:off x="-1575360" y="-1414440"/>
            <a:ext cx="2946600" cy="3104640"/>
            <a:chOff x="-1575360" y="-1414440"/>
            <a:chExt cx="2946600" cy="3104640"/>
          </a:xfrm>
        </p:grpSpPr>
        <p:grpSp>
          <p:nvGrpSpPr>
            <p:cNvPr id="17911" name=""/>
            <p:cNvGrpSpPr/>
            <p:nvPr/>
          </p:nvGrpSpPr>
          <p:grpSpPr>
            <a:xfrm>
              <a:off x="-1575360" y="-1162800"/>
              <a:ext cx="2736720" cy="2853000"/>
              <a:chOff x="-1575360" y="-1162800"/>
              <a:chExt cx="2736720" cy="2853000"/>
            </a:xfrm>
          </p:grpSpPr>
          <p:sp>
            <p:nvSpPr>
              <p:cNvPr id="17912" name=""/>
              <p:cNvSpPr/>
              <p:nvPr/>
            </p:nvSpPr>
            <p:spPr>
              <a:xfrm rot="7755600">
                <a:off x="-92880" y="447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3" name=""/>
              <p:cNvSpPr/>
              <p:nvPr/>
            </p:nvSpPr>
            <p:spPr>
              <a:xfrm rot="7755600">
                <a:off x="-820800" y="-13680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14" name=""/>
            <p:cNvGrpSpPr/>
            <p:nvPr/>
          </p:nvGrpSpPr>
          <p:grpSpPr>
            <a:xfrm>
              <a:off x="-936000" y="-1354320"/>
              <a:ext cx="2307240" cy="2400840"/>
              <a:chOff x="-936000" y="-1354320"/>
              <a:chExt cx="2307240" cy="2400840"/>
            </a:xfrm>
          </p:grpSpPr>
          <p:sp>
            <p:nvSpPr>
              <p:cNvPr id="17915" name=""/>
              <p:cNvSpPr/>
              <p:nvPr/>
            </p:nvSpPr>
            <p:spPr>
              <a:xfrm rot="7755600">
                <a:off x="334800" y="730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6" name=""/>
              <p:cNvSpPr/>
              <p:nvPr/>
            </p:nvSpPr>
            <p:spPr>
              <a:xfrm rot="7755600">
                <a:off x="-340560" y="-1461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17" name=""/>
            <p:cNvGrpSpPr/>
            <p:nvPr/>
          </p:nvGrpSpPr>
          <p:grpSpPr>
            <a:xfrm>
              <a:off x="-1331280" y="-1414440"/>
              <a:ext cx="2471760" cy="1626120"/>
              <a:chOff x="-1331280" y="-1414440"/>
              <a:chExt cx="2471760" cy="1626120"/>
            </a:xfrm>
          </p:grpSpPr>
          <p:sp>
            <p:nvSpPr>
              <p:cNvPr id="17918" name=""/>
              <p:cNvSpPr/>
              <p:nvPr/>
            </p:nvSpPr>
            <p:spPr>
              <a:xfrm rot="6332400">
                <a:off x="307800" y="-6091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9" name=""/>
              <p:cNvSpPr/>
              <p:nvPr/>
            </p:nvSpPr>
            <p:spPr>
              <a:xfrm rot="6332400">
                <a:off x="-933120" y="-149904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20" name=""/>
            <p:cNvGrpSpPr/>
            <p:nvPr/>
          </p:nvGrpSpPr>
          <p:grpSpPr>
            <a:xfrm>
              <a:off x="-1265040" y="-911160"/>
              <a:ext cx="2023920" cy="1493640"/>
              <a:chOff x="-1265040" y="-911160"/>
              <a:chExt cx="2023920" cy="1493640"/>
            </a:xfrm>
          </p:grpSpPr>
          <p:sp>
            <p:nvSpPr>
              <p:cNvPr id="17921" name=""/>
              <p:cNvSpPr/>
              <p:nvPr/>
            </p:nvSpPr>
            <p:spPr>
              <a:xfrm rot="7755600">
                <a:off x="-67680" y="-123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2" name=""/>
              <p:cNvSpPr/>
              <p:nvPr/>
            </p:nvSpPr>
            <p:spPr>
              <a:xfrm rot="7755600">
                <a:off x="-829080" y="-958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23" name=""/>
          <p:cNvGrpSpPr/>
          <p:nvPr/>
        </p:nvGrpSpPr>
        <p:grpSpPr>
          <a:xfrm>
            <a:off x="7821720" y="5051160"/>
            <a:ext cx="2718360" cy="3318840"/>
            <a:chOff x="7821720" y="5051160"/>
            <a:chExt cx="2718360" cy="3318840"/>
          </a:xfrm>
        </p:grpSpPr>
        <p:grpSp>
          <p:nvGrpSpPr>
            <p:cNvPr id="17924" name=""/>
            <p:cNvGrpSpPr/>
            <p:nvPr/>
          </p:nvGrpSpPr>
          <p:grpSpPr>
            <a:xfrm>
              <a:off x="8118360" y="5051160"/>
              <a:ext cx="2421720" cy="3106440"/>
              <a:chOff x="8118360" y="5051160"/>
              <a:chExt cx="2421720" cy="3106440"/>
            </a:xfrm>
          </p:grpSpPr>
          <p:sp>
            <p:nvSpPr>
              <p:cNvPr id="17925" name=""/>
              <p:cNvSpPr/>
              <p:nvPr/>
            </p:nvSpPr>
            <p:spPr>
              <a:xfrm rot="19135800">
                <a:off x="8325360" y="527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6" name=""/>
              <p:cNvSpPr/>
              <p:nvPr/>
            </p:nvSpPr>
            <p:spPr>
              <a:xfrm rot="19135800">
                <a:off x="9374400" y="6069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27" name=""/>
            <p:cNvGrpSpPr/>
            <p:nvPr/>
          </p:nvGrpSpPr>
          <p:grpSpPr>
            <a:xfrm>
              <a:off x="7821720" y="5635440"/>
              <a:ext cx="2064960" cy="2595240"/>
              <a:chOff x="7821720" y="5635440"/>
              <a:chExt cx="2064960" cy="2595240"/>
            </a:xfrm>
          </p:grpSpPr>
          <p:sp>
            <p:nvSpPr>
              <p:cNvPr id="17928" name=""/>
              <p:cNvSpPr/>
              <p:nvPr/>
            </p:nvSpPr>
            <p:spPr>
              <a:xfrm rot="19135800">
                <a:off x="7959600" y="5840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9" name=""/>
              <p:cNvSpPr/>
              <p:nvPr/>
            </p:nvSpPr>
            <p:spPr>
              <a:xfrm rot="19135800">
                <a:off x="8779680" y="644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30" name=""/>
            <p:cNvGrpSpPr/>
            <p:nvPr/>
          </p:nvGrpSpPr>
          <p:grpSpPr>
            <a:xfrm>
              <a:off x="7901280" y="6435360"/>
              <a:ext cx="2462400" cy="1934640"/>
              <a:chOff x="7901280" y="6435360"/>
              <a:chExt cx="2462400" cy="1934640"/>
            </a:xfrm>
          </p:grpSpPr>
          <p:sp>
            <p:nvSpPr>
              <p:cNvPr id="17931" name=""/>
              <p:cNvSpPr/>
              <p:nvPr/>
            </p:nvSpPr>
            <p:spPr>
              <a:xfrm rot="17713200">
                <a:off x="7995600" y="6585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2" name=""/>
              <p:cNvSpPr/>
              <p:nvPr/>
            </p:nvSpPr>
            <p:spPr>
              <a:xfrm rot="17713200">
                <a:off x="8860320" y="6718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33" name=""/>
            <p:cNvGrpSpPr/>
            <p:nvPr/>
          </p:nvGrpSpPr>
          <p:grpSpPr>
            <a:xfrm>
              <a:off x="8364600" y="6181560"/>
              <a:ext cx="1913760" cy="1673280"/>
              <a:chOff x="8364600" y="6181560"/>
              <a:chExt cx="1913760" cy="1673280"/>
            </a:xfrm>
          </p:grpSpPr>
          <p:sp>
            <p:nvSpPr>
              <p:cNvPr id="17934" name=""/>
              <p:cNvSpPr/>
              <p:nvPr/>
            </p:nvSpPr>
            <p:spPr>
              <a:xfrm rot="19135800">
                <a:off x="8431920" y="6375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5" name=""/>
              <p:cNvSpPr/>
              <p:nvPr/>
            </p:nvSpPr>
            <p:spPr>
              <a:xfrm rot="19135800">
                <a:off x="9362520" y="6474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36" name=""/>
          <p:cNvGrpSpPr/>
          <p:nvPr/>
        </p:nvGrpSpPr>
        <p:grpSpPr>
          <a:xfrm>
            <a:off x="-1351440" y="5509080"/>
            <a:ext cx="3220920" cy="2845080"/>
            <a:chOff x="-1351440" y="5509080"/>
            <a:chExt cx="3220920" cy="2845080"/>
          </a:xfrm>
        </p:grpSpPr>
        <p:grpSp>
          <p:nvGrpSpPr>
            <p:cNvPr id="17937" name=""/>
            <p:cNvGrpSpPr/>
            <p:nvPr/>
          </p:nvGrpSpPr>
          <p:grpSpPr>
            <a:xfrm>
              <a:off x="-1117800" y="5762520"/>
              <a:ext cx="2987280" cy="2591640"/>
              <a:chOff x="-1117800" y="5762520"/>
              <a:chExt cx="2987280" cy="2591640"/>
            </a:xfrm>
          </p:grpSpPr>
          <p:sp>
            <p:nvSpPr>
              <p:cNvPr id="17938" name=""/>
              <p:cNvSpPr/>
              <p:nvPr/>
            </p:nvSpPr>
            <p:spPr>
              <a:xfrm rot="2638800">
                <a:off x="610560" y="59835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9" name=""/>
              <p:cNvSpPr/>
              <p:nvPr/>
            </p:nvSpPr>
            <p:spPr>
              <a:xfrm rot="2638800">
                <a:off x="-428400" y="6294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40" name=""/>
            <p:cNvGrpSpPr/>
            <p:nvPr/>
          </p:nvGrpSpPr>
          <p:grpSpPr>
            <a:xfrm>
              <a:off x="-1251720" y="5509080"/>
              <a:ext cx="2504160" cy="2196360"/>
              <a:chOff x="-1251720" y="5509080"/>
              <a:chExt cx="2504160" cy="2196360"/>
            </a:xfrm>
          </p:grpSpPr>
          <p:sp>
            <p:nvSpPr>
              <p:cNvPr id="17941" name=""/>
              <p:cNvSpPr/>
              <p:nvPr/>
            </p:nvSpPr>
            <p:spPr>
              <a:xfrm rot="2638800">
                <a:off x="207000" y="57175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2" name=""/>
              <p:cNvSpPr/>
              <p:nvPr/>
            </p:nvSpPr>
            <p:spPr>
              <a:xfrm rot="2638800">
                <a:off x="-703800" y="5943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43" name=""/>
            <p:cNvGrpSpPr/>
            <p:nvPr/>
          </p:nvGrpSpPr>
          <p:grpSpPr>
            <a:xfrm>
              <a:off x="-1351440" y="5666760"/>
              <a:ext cx="1783440" cy="2475720"/>
              <a:chOff x="-1351440" y="5666760"/>
              <a:chExt cx="1783440" cy="2475720"/>
            </a:xfrm>
          </p:grpSpPr>
          <p:sp>
            <p:nvSpPr>
              <p:cNvPr id="17944" name=""/>
              <p:cNvSpPr/>
              <p:nvPr/>
            </p:nvSpPr>
            <p:spPr>
              <a:xfrm rot="1215600">
                <a:off x="-444240" y="57798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5" name=""/>
              <p:cNvSpPr/>
              <p:nvPr/>
            </p:nvSpPr>
            <p:spPr>
              <a:xfrm rot="1215600">
                <a:off x="-1100520" y="636948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46" name=""/>
            <p:cNvGrpSpPr/>
            <p:nvPr/>
          </p:nvGrpSpPr>
          <p:grpSpPr>
            <a:xfrm>
              <a:off x="-840240" y="6089400"/>
              <a:ext cx="1586880" cy="1977120"/>
              <a:chOff x="-840240" y="6089400"/>
              <a:chExt cx="1586880" cy="1977120"/>
            </a:xfrm>
          </p:grpSpPr>
          <p:sp>
            <p:nvSpPr>
              <p:cNvPr id="17947" name=""/>
              <p:cNvSpPr/>
              <p:nvPr/>
            </p:nvSpPr>
            <p:spPr>
              <a:xfrm rot="2638800">
                <a:off x="-93960" y="6289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8" name=""/>
              <p:cNvSpPr/>
              <p:nvPr/>
            </p:nvSpPr>
            <p:spPr>
              <a:xfrm rot="2638800">
                <a:off x="-436320" y="66999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49" name=""/>
          <p:cNvSpPr/>
          <p:nvPr/>
        </p:nvSpPr>
        <p:spPr>
          <a:xfrm>
            <a:off x="757080" y="5229360"/>
            <a:ext cx="1295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идо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4 - 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0" name="">
            <a:hlinkClick r:id="rId16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1" name="">
            <a:hlinkClick r:id="rId17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реву Поникар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2" name=""/>
          <p:cNvSpPr/>
          <p:nvPr/>
        </p:nvSpPr>
        <p:spPr>
          <a:xfrm>
            <a:off x="3203640" y="227664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он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лизаве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одор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06 - 199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3" name=""/>
          <p:cNvSpPr/>
          <p:nvPr/>
        </p:nvSpPr>
        <p:spPr>
          <a:xfrm>
            <a:off x="4932360" y="227664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ла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07 - 19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4" name=""/>
          <p:cNvSpPr/>
          <p:nvPr/>
        </p:nvSpPr>
        <p:spPr>
          <a:xfrm>
            <a:off x="3132000" y="549360"/>
            <a:ext cx="1155960" cy="144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55" name="" descr=""/>
          <p:cNvPicPr/>
          <p:nvPr/>
        </p:nvPicPr>
        <p:blipFill>
          <a:blip r:embed="rId3"/>
          <a:stretch/>
        </p:blipFill>
        <p:spPr>
          <a:xfrm>
            <a:off x="2987640" y="54756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956" name=""/>
          <p:cNvSpPr/>
          <p:nvPr/>
        </p:nvSpPr>
        <p:spPr>
          <a:xfrm>
            <a:off x="4859280" y="549360"/>
            <a:ext cx="1158840" cy="144468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57" name="" descr=""/>
          <p:cNvPicPr/>
          <p:nvPr/>
        </p:nvPicPr>
        <p:blipFill>
          <a:blip r:embed="rId4"/>
          <a:stretch/>
        </p:blipFill>
        <p:spPr>
          <a:xfrm>
            <a:off x="4716360" y="54936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17958" name=""/>
          <p:cNvSpPr/>
          <p:nvPr/>
        </p:nvSpPr>
        <p:spPr>
          <a:xfrm>
            <a:off x="6588000" y="2997360"/>
            <a:ext cx="1155960" cy="14414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59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17960" name=""/>
          <p:cNvSpPr/>
          <p:nvPr/>
        </p:nvSpPr>
        <p:spPr>
          <a:xfrm>
            <a:off x="1476360" y="2997360"/>
            <a:ext cx="1158840" cy="144432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61" name="" descr=""/>
          <p:cNvPicPr/>
          <p:nvPr/>
        </p:nvPicPr>
        <p:blipFill>
          <a:blip r:embed="rId7"/>
          <a:stretch/>
        </p:blipFill>
        <p:spPr>
          <a:xfrm>
            <a:off x="1332000" y="2997360"/>
            <a:ext cx="1439640" cy="1655640"/>
          </a:xfrm>
          <a:prstGeom prst="rect">
            <a:avLst/>
          </a:prstGeom>
          <a:ln w="0">
            <a:noFill/>
          </a:ln>
        </p:spPr>
      </p:pic>
      <p:sp>
        <p:nvSpPr>
          <p:cNvPr id="17962" name=""/>
          <p:cNvSpPr/>
          <p:nvPr/>
        </p:nvSpPr>
        <p:spPr>
          <a:xfrm>
            <a:off x="1547640" y="479736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ла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тол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0 -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3" name=""/>
          <p:cNvSpPr/>
          <p:nvPr/>
        </p:nvSpPr>
        <p:spPr>
          <a:xfrm>
            <a:off x="6443640" y="4797360"/>
            <a:ext cx="14414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а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лер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тальон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48 - 199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64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965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6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7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8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69" name=""/>
          <p:cNvGrpSpPr/>
          <p:nvPr/>
        </p:nvGrpSpPr>
        <p:grpSpPr>
          <a:xfrm>
            <a:off x="7321680" y="-1639440"/>
            <a:ext cx="3103200" cy="2948040"/>
            <a:chOff x="7321680" y="-1639440"/>
            <a:chExt cx="3103200" cy="2948040"/>
          </a:xfrm>
        </p:grpSpPr>
        <p:grpSp>
          <p:nvGrpSpPr>
            <p:cNvPr id="17970" name=""/>
            <p:cNvGrpSpPr/>
            <p:nvPr/>
          </p:nvGrpSpPr>
          <p:grpSpPr>
            <a:xfrm>
              <a:off x="7321680" y="-1639440"/>
              <a:ext cx="2850840" cy="2738880"/>
              <a:chOff x="7321680" y="-1639440"/>
              <a:chExt cx="2850840" cy="2738880"/>
            </a:xfrm>
          </p:grpSpPr>
          <p:sp>
            <p:nvSpPr>
              <p:cNvPr id="17971" name=""/>
              <p:cNvSpPr/>
              <p:nvPr/>
            </p:nvSpPr>
            <p:spPr>
              <a:xfrm rot="13152000">
                <a:off x="7526880" y="-14112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2" name=""/>
              <p:cNvSpPr/>
              <p:nvPr/>
            </p:nvSpPr>
            <p:spPr>
              <a:xfrm rot="13152000">
                <a:off x="9029160" y="-1725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73" name=""/>
            <p:cNvGrpSpPr/>
            <p:nvPr/>
          </p:nvGrpSpPr>
          <p:grpSpPr>
            <a:xfrm>
              <a:off x="7966080" y="-1000080"/>
              <a:ext cx="2399040" cy="2308680"/>
              <a:chOff x="7966080" y="-1000080"/>
              <a:chExt cx="2399040" cy="2308680"/>
            </a:xfrm>
          </p:grpSpPr>
          <p:sp>
            <p:nvSpPr>
              <p:cNvPr id="17974" name=""/>
              <p:cNvSpPr/>
              <p:nvPr/>
            </p:nvSpPr>
            <p:spPr>
              <a:xfrm rot="13152000">
                <a:off x="8103960" y="3459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5" name=""/>
              <p:cNvSpPr/>
              <p:nvPr/>
            </p:nvSpPr>
            <p:spPr>
              <a:xfrm rot="13152000">
                <a:off x="9275040" y="-1019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76" name=""/>
            <p:cNvGrpSpPr/>
            <p:nvPr/>
          </p:nvGrpSpPr>
          <p:grpSpPr>
            <a:xfrm>
              <a:off x="8800200" y="-1395000"/>
              <a:ext cx="1624680" cy="2471760"/>
              <a:chOff x="8800200" y="-1395000"/>
              <a:chExt cx="1624680" cy="2471760"/>
            </a:xfrm>
          </p:grpSpPr>
          <p:sp>
            <p:nvSpPr>
              <p:cNvPr id="17977" name=""/>
              <p:cNvSpPr/>
              <p:nvPr/>
            </p:nvSpPr>
            <p:spPr>
              <a:xfrm rot="11728800">
                <a:off x="8879760" y="28224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8" name=""/>
              <p:cNvSpPr/>
              <p:nvPr/>
            </p:nvSpPr>
            <p:spPr>
              <a:xfrm rot="11728800">
                <a:off x="9156600" y="-12819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79" name=""/>
            <p:cNvGrpSpPr/>
            <p:nvPr/>
          </p:nvGrpSpPr>
          <p:grpSpPr>
            <a:xfrm>
              <a:off x="8429040" y="-1328400"/>
              <a:ext cx="1492560" cy="2024280"/>
              <a:chOff x="8429040" y="-1328400"/>
              <a:chExt cx="1492560" cy="2024280"/>
            </a:xfrm>
          </p:grpSpPr>
          <p:sp>
            <p:nvSpPr>
              <p:cNvPr id="17980" name=""/>
              <p:cNvSpPr/>
              <p:nvPr/>
            </p:nvSpPr>
            <p:spPr>
              <a:xfrm rot="13152000">
                <a:off x="8498160" y="97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1" name=""/>
              <p:cNvSpPr/>
              <p:nvPr/>
            </p:nvSpPr>
            <p:spPr>
              <a:xfrm rot="13152000">
                <a:off x="9017280" y="-13161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82" name=""/>
          <p:cNvGrpSpPr/>
          <p:nvPr/>
        </p:nvGrpSpPr>
        <p:grpSpPr>
          <a:xfrm>
            <a:off x="-1503720" y="-1487160"/>
            <a:ext cx="2946240" cy="3104640"/>
            <a:chOff x="-1503720" y="-1487160"/>
            <a:chExt cx="2946240" cy="3104640"/>
          </a:xfrm>
        </p:grpSpPr>
        <p:grpSp>
          <p:nvGrpSpPr>
            <p:cNvPr id="17983" name=""/>
            <p:cNvGrpSpPr/>
            <p:nvPr/>
          </p:nvGrpSpPr>
          <p:grpSpPr>
            <a:xfrm>
              <a:off x="-1503720" y="-1235160"/>
              <a:ext cx="2736360" cy="2852640"/>
              <a:chOff x="-1503720" y="-1235160"/>
              <a:chExt cx="2736360" cy="2852640"/>
            </a:xfrm>
          </p:grpSpPr>
          <p:sp>
            <p:nvSpPr>
              <p:cNvPr id="17984" name=""/>
              <p:cNvSpPr/>
              <p:nvPr/>
            </p:nvSpPr>
            <p:spPr>
              <a:xfrm rot="7755600">
                <a:off x="-21240" y="37476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5" name=""/>
              <p:cNvSpPr/>
              <p:nvPr/>
            </p:nvSpPr>
            <p:spPr>
              <a:xfrm rot="7755600">
                <a:off x="-749160" y="-14403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86" name=""/>
            <p:cNvGrpSpPr/>
            <p:nvPr/>
          </p:nvGrpSpPr>
          <p:grpSpPr>
            <a:xfrm>
              <a:off x="-864720" y="-1427040"/>
              <a:ext cx="2307240" cy="2400840"/>
              <a:chOff x="-864720" y="-1427040"/>
              <a:chExt cx="2307240" cy="2400840"/>
            </a:xfrm>
          </p:grpSpPr>
          <p:sp>
            <p:nvSpPr>
              <p:cNvPr id="17987" name=""/>
              <p:cNvSpPr/>
              <p:nvPr/>
            </p:nvSpPr>
            <p:spPr>
              <a:xfrm rot="7755600">
                <a:off x="406080" y="3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8" name=""/>
              <p:cNvSpPr/>
              <p:nvPr/>
            </p:nvSpPr>
            <p:spPr>
              <a:xfrm rot="7755600">
                <a:off x="-269280" y="-15343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89" name=""/>
            <p:cNvGrpSpPr/>
            <p:nvPr/>
          </p:nvGrpSpPr>
          <p:grpSpPr>
            <a:xfrm>
              <a:off x="-1259640" y="-1487160"/>
              <a:ext cx="2471400" cy="1626120"/>
              <a:chOff x="-1259640" y="-1487160"/>
              <a:chExt cx="2471400" cy="1626120"/>
            </a:xfrm>
          </p:grpSpPr>
          <p:sp>
            <p:nvSpPr>
              <p:cNvPr id="17990" name=""/>
              <p:cNvSpPr/>
              <p:nvPr/>
            </p:nvSpPr>
            <p:spPr>
              <a:xfrm rot="6332400">
                <a:off x="379440" y="-68148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1" name=""/>
              <p:cNvSpPr/>
              <p:nvPr/>
            </p:nvSpPr>
            <p:spPr>
              <a:xfrm rot="6332400">
                <a:off x="-861840" y="-15717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92" name=""/>
            <p:cNvGrpSpPr/>
            <p:nvPr/>
          </p:nvGrpSpPr>
          <p:grpSpPr>
            <a:xfrm>
              <a:off x="-1193400" y="-983520"/>
              <a:ext cx="2023560" cy="1493280"/>
              <a:chOff x="-1193400" y="-983520"/>
              <a:chExt cx="2023560" cy="1493280"/>
            </a:xfrm>
          </p:grpSpPr>
          <p:sp>
            <p:nvSpPr>
              <p:cNvPr id="17993" name=""/>
              <p:cNvSpPr/>
              <p:nvPr/>
            </p:nvSpPr>
            <p:spPr>
              <a:xfrm rot="7755600">
                <a:off x="3240" y="-1962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4" name=""/>
              <p:cNvSpPr/>
              <p:nvPr/>
            </p:nvSpPr>
            <p:spPr>
              <a:xfrm rot="7755600">
                <a:off x="-757800" y="-103104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995" name=""/>
          <p:cNvGrpSpPr/>
          <p:nvPr/>
        </p:nvGrpSpPr>
        <p:grpSpPr>
          <a:xfrm>
            <a:off x="7678800" y="5051160"/>
            <a:ext cx="2718360" cy="3318840"/>
            <a:chOff x="7678800" y="5051160"/>
            <a:chExt cx="2718360" cy="3318840"/>
          </a:xfrm>
        </p:grpSpPr>
        <p:grpSp>
          <p:nvGrpSpPr>
            <p:cNvPr id="17996" name=""/>
            <p:cNvGrpSpPr/>
            <p:nvPr/>
          </p:nvGrpSpPr>
          <p:grpSpPr>
            <a:xfrm>
              <a:off x="7975440" y="5051160"/>
              <a:ext cx="2421720" cy="3106440"/>
              <a:chOff x="7975440" y="5051160"/>
              <a:chExt cx="2421720" cy="3106440"/>
            </a:xfrm>
          </p:grpSpPr>
          <p:sp>
            <p:nvSpPr>
              <p:cNvPr id="17997" name=""/>
              <p:cNvSpPr/>
              <p:nvPr/>
            </p:nvSpPr>
            <p:spPr>
              <a:xfrm rot="19135800">
                <a:off x="8182440" y="527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8" name=""/>
              <p:cNvSpPr/>
              <p:nvPr/>
            </p:nvSpPr>
            <p:spPr>
              <a:xfrm rot="19135800">
                <a:off x="9231480" y="6069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99" name=""/>
            <p:cNvGrpSpPr/>
            <p:nvPr/>
          </p:nvGrpSpPr>
          <p:grpSpPr>
            <a:xfrm>
              <a:off x="7678800" y="5635440"/>
              <a:ext cx="2064960" cy="2595240"/>
              <a:chOff x="7678800" y="5635440"/>
              <a:chExt cx="2064960" cy="2595240"/>
            </a:xfrm>
          </p:grpSpPr>
          <p:sp>
            <p:nvSpPr>
              <p:cNvPr id="18000" name=""/>
              <p:cNvSpPr/>
              <p:nvPr/>
            </p:nvSpPr>
            <p:spPr>
              <a:xfrm rot="19135800">
                <a:off x="7816680" y="5840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1" name=""/>
              <p:cNvSpPr/>
              <p:nvPr/>
            </p:nvSpPr>
            <p:spPr>
              <a:xfrm rot="19135800">
                <a:off x="8636760" y="644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02" name=""/>
            <p:cNvGrpSpPr/>
            <p:nvPr/>
          </p:nvGrpSpPr>
          <p:grpSpPr>
            <a:xfrm>
              <a:off x="7758360" y="6435360"/>
              <a:ext cx="2462400" cy="1934640"/>
              <a:chOff x="7758360" y="6435360"/>
              <a:chExt cx="2462400" cy="1934640"/>
            </a:xfrm>
          </p:grpSpPr>
          <p:sp>
            <p:nvSpPr>
              <p:cNvPr id="18003" name=""/>
              <p:cNvSpPr/>
              <p:nvPr/>
            </p:nvSpPr>
            <p:spPr>
              <a:xfrm rot="17713200">
                <a:off x="7852680" y="6585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4" name=""/>
              <p:cNvSpPr/>
              <p:nvPr/>
            </p:nvSpPr>
            <p:spPr>
              <a:xfrm rot="17713200">
                <a:off x="8717400" y="6718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05" name=""/>
            <p:cNvGrpSpPr/>
            <p:nvPr/>
          </p:nvGrpSpPr>
          <p:grpSpPr>
            <a:xfrm>
              <a:off x="8221680" y="6181560"/>
              <a:ext cx="1913760" cy="1673280"/>
              <a:chOff x="8221680" y="6181560"/>
              <a:chExt cx="1913760" cy="1673280"/>
            </a:xfrm>
          </p:grpSpPr>
          <p:sp>
            <p:nvSpPr>
              <p:cNvPr id="18006" name=""/>
              <p:cNvSpPr/>
              <p:nvPr/>
            </p:nvSpPr>
            <p:spPr>
              <a:xfrm rot="19135800">
                <a:off x="8289000" y="6375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7" name=""/>
              <p:cNvSpPr/>
              <p:nvPr/>
            </p:nvSpPr>
            <p:spPr>
              <a:xfrm rot="19135800">
                <a:off x="9219600" y="6474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08" name=""/>
          <p:cNvGrpSpPr/>
          <p:nvPr/>
        </p:nvGrpSpPr>
        <p:grpSpPr>
          <a:xfrm>
            <a:off x="-1351800" y="5364720"/>
            <a:ext cx="3220920" cy="2844720"/>
            <a:chOff x="-1351800" y="5364720"/>
            <a:chExt cx="3220920" cy="2844720"/>
          </a:xfrm>
        </p:grpSpPr>
        <p:grpSp>
          <p:nvGrpSpPr>
            <p:cNvPr id="18009" name=""/>
            <p:cNvGrpSpPr/>
            <p:nvPr/>
          </p:nvGrpSpPr>
          <p:grpSpPr>
            <a:xfrm>
              <a:off x="-1117800" y="5617800"/>
              <a:ext cx="2986920" cy="2591640"/>
              <a:chOff x="-1117800" y="5617800"/>
              <a:chExt cx="2986920" cy="2591640"/>
            </a:xfrm>
          </p:grpSpPr>
          <p:sp>
            <p:nvSpPr>
              <p:cNvPr id="18010" name=""/>
              <p:cNvSpPr/>
              <p:nvPr/>
            </p:nvSpPr>
            <p:spPr>
              <a:xfrm rot="2638800">
                <a:off x="610200" y="583884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1" name=""/>
              <p:cNvSpPr/>
              <p:nvPr/>
            </p:nvSpPr>
            <p:spPr>
              <a:xfrm rot="2638800">
                <a:off x="-428400" y="61498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12" name=""/>
            <p:cNvGrpSpPr/>
            <p:nvPr/>
          </p:nvGrpSpPr>
          <p:grpSpPr>
            <a:xfrm>
              <a:off x="-1252080" y="5364720"/>
              <a:ext cx="2504520" cy="2196360"/>
              <a:chOff x="-1252080" y="5364720"/>
              <a:chExt cx="2504520" cy="2196360"/>
            </a:xfrm>
          </p:grpSpPr>
          <p:sp>
            <p:nvSpPr>
              <p:cNvPr id="18013" name=""/>
              <p:cNvSpPr/>
              <p:nvPr/>
            </p:nvSpPr>
            <p:spPr>
              <a:xfrm rot="2638800">
                <a:off x="207000" y="55731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4" name=""/>
              <p:cNvSpPr/>
              <p:nvPr/>
            </p:nvSpPr>
            <p:spPr>
              <a:xfrm rot="2638800">
                <a:off x="-704160" y="5799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15" name=""/>
            <p:cNvGrpSpPr/>
            <p:nvPr/>
          </p:nvGrpSpPr>
          <p:grpSpPr>
            <a:xfrm>
              <a:off x="-1351800" y="5522040"/>
              <a:ext cx="1783440" cy="2475360"/>
              <a:chOff x="-1351800" y="5522040"/>
              <a:chExt cx="1783440" cy="2475360"/>
            </a:xfrm>
          </p:grpSpPr>
          <p:sp>
            <p:nvSpPr>
              <p:cNvPr id="18016" name=""/>
              <p:cNvSpPr/>
              <p:nvPr/>
            </p:nvSpPr>
            <p:spPr>
              <a:xfrm rot="1215600">
                <a:off x="-444240" y="563508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7" name=""/>
              <p:cNvSpPr/>
              <p:nvPr/>
            </p:nvSpPr>
            <p:spPr>
              <a:xfrm rot="1215600">
                <a:off x="-1100880" y="62247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18" name=""/>
            <p:cNvGrpSpPr/>
            <p:nvPr/>
          </p:nvGrpSpPr>
          <p:grpSpPr>
            <a:xfrm>
              <a:off x="-839880" y="5945040"/>
              <a:ext cx="1586520" cy="1977120"/>
              <a:chOff x="-839880" y="5945040"/>
              <a:chExt cx="1586520" cy="1977120"/>
            </a:xfrm>
          </p:grpSpPr>
          <p:sp>
            <p:nvSpPr>
              <p:cNvPr id="18019" name=""/>
              <p:cNvSpPr/>
              <p:nvPr/>
            </p:nvSpPr>
            <p:spPr>
              <a:xfrm rot="2638800">
                <a:off x="-93960" y="61452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0" name=""/>
              <p:cNvSpPr/>
              <p:nvPr/>
            </p:nvSpPr>
            <p:spPr>
              <a:xfrm rot="2638800">
                <a:off x="-436320" y="655560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21" name="">
            <a:hlinkClick r:id="rId8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2" name="">
            <a:hlinkClick r:id="rId9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древу Кулак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3" name=""/>
          <p:cNvSpPr/>
          <p:nvPr/>
        </p:nvSpPr>
        <p:spPr>
          <a:xfrm>
            <a:off x="3276720" y="2349360"/>
            <a:ext cx="1079280" cy="9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ламае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лизаве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кинич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4" name=""/>
          <p:cNvSpPr/>
          <p:nvPr/>
        </p:nvSpPr>
        <p:spPr>
          <a:xfrm>
            <a:off x="4500720" y="2349360"/>
            <a:ext cx="1079280" cy="90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лама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5" name=""/>
          <p:cNvSpPr/>
          <p:nvPr/>
        </p:nvSpPr>
        <p:spPr>
          <a:xfrm>
            <a:off x="2916360" y="5229360"/>
            <a:ext cx="136656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улак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5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6" name=""/>
          <p:cNvSpPr/>
          <p:nvPr/>
        </p:nvSpPr>
        <p:spPr>
          <a:xfrm>
            <a:off x="457200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оныче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7" name=""/>
          <p:cNvSpPr/>
          <p:nvPr/>
        </p:nvSpPr>
        <p:spPr>
          <a:xfrm>
            <a:off x="630072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лама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г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8" name=""/>
          <p:cNvSpPr/>
          <p:nvPr/>
        </p:nvSpPr>
        <p:spPr>
          <a:xfrm>
            <a:off x="3203640" y="620640"/>
            <a:ext cx="1155600" cy="1441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29" name="" descr=""/>
          <p:cNvPicPr/>
          <p:nvPr/>
        </p:nvPicPr>
        <p:blipFill>
          <a:blip r:embed="rId3"/>
          <a:stretch/>
        </p:blipFill>
        <p:spPr>
          <a:xfrm>
            <a:off x="3060720" y="62064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8030" name=""/>
          <p:cNvSpPr/>
          <p:nvPr/>
        </p:nvSpPr>
        <p:spPr>
          <a:xfrm>
            <a:off x="4429080" y="620640"/>
            <a:ext cx="1155600" cy="144144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1" name="" descr=""/>
          <p:cNvPicPr/>
          <p:nvPr/>
        </p:nvPicPr>
        <p:blipFill>
          <a:blip r:embed="rId4"/>
          <a:stretch/>
        </p:blipFill>
        <p:spPr>
          <a:xfrm>
            <a:off x="4284720" y="620640"/>
            <a:ext cx="1439640" cy="1656000"/>
          </a:xfrm>
          <a:prstGeom prst="rect">
            <a:avLst/>
          </a:prstGeom>
          <a:ln w="0">
            <a:noFill/>
          </a:ln>
        </p:spPr>
      </p:pic>
      <p:sp>
        <p:nvSpPr>
          <p:cNvPr id="18032" name=""/>
          <p:cNvSpPr/>
          <p:nvPr/>
        </p:nvSpPr>
        <p:spPr>
          <a:xfrm>
            <a:off x="4716360" y="3500280"/>
            <a:ext cx="1158840" cy="1444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3" name="" descr=""/>
          <p:cNvPicPr/>
          <p:nvPr/>
        </p:nvPicPr>
        <p:blipFill>
          <a:blip r:embed="rId6"/>
          <a:stretch/>
        </p:blipFill>
        <p:spPr>
          <a:xfrm>
            <a:off x="4572000" y="350028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8034" name=""/>
          <p:cNvSpPr/>
          <p:nvPr/>
        </p:nvSpPr>
        <p:spPr>
          <a:xfrm>
            <a:off x="2987640" y="3429000"/>
            <a:ext cx="1158840" cy="14446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5" name="" descr=""/>
          <p:cNvPicPr/>
          <p:nvPr/>
        </p:nvPicPr>
        <p:blipFill>
          <a:blip r:embed="rId8"/>
          <a:stretch/>
        </p:blipFill>
        <p:spPr>
          <a:xfrm>
            <a:off x="2843280" y="3429000"/>
            <a:ext cx="1439640" cy="1655640"/>
          </a:xfrm>
          <a:prstGeom prst="rect">
            <a:avLst/>
          </a:prstGeom>
          <a:ln w="0">
            <a:noFill/>
          </a:ln>
        </p:spPr>
      </p:pic>
      <p:sp>
        <p:nvSpPr>
          <p:cNvPr id="18036" name=""/>
          <p:cNvSpPr/>
          <p:nvPr/>
        </p:nvSpPr>
        <p:spPr>
          <a:xfrm>
            <a:off x="1403280" y="3429000"/>
            <a:ext cx="1158840" cy="144468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7" name="" descr=""/>
          <p:cNvPicPr/>
          <p:nvPr/>
        </p:nvPicPr>
        <p:blipFill>
          <a:blip r:embed="rId10"/>
          <a:stretch/>
        </p:blipFill>
        <p:spPr>
          <a:xfrm>
            <a:off x="1258920" y="342900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18038" name=""/>
          <p:cNvSpPr/>
          <p:nvPr/>
        </p:nvSpPr>
        <p:spPr>
          <a:xfrm>
            <a:off x="6443640" y="3500280"/>
            <a:ext cx="1158840" cy="144468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39" name="" descr=""/>
          <p:cNvPicPr/>
          <p:nvPr/>
        </p:nvPicPr>
        <p:blipFill>
          <a:blip r:embed="rId12"/>
          <a:stretch/>
        </p:blipFill>
        <p:spPr>
          <a:xfrm>
            <a:off x="6300720" y="3500280"/>
            <a:ext cx="144000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8040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8041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2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3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4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45" name=""/>
          <p:cNvGrpSpPr/>
          <p:nvPr/>
        </p:nvGrpSpPr>
        <p:grpSpPr>
          <a:xfrm>
            <a:off x="7105680" y="-1495080"/>
            <a:ext cx="3103200" cy="2948040"/>
            <a:chOff x="7105680" y="-1495080"/>
            <a:chExt cx="3103200" cy="2948040"/>
          </a:xfrm>
        </p:grpSpPr>
        <p:grpSp>
          <p:nvGrpSpPr>
            <p:cNvPr id="18046" name=""/>
            <p:cNvGrpSpPr/>
            <p:nvPr/>
          </p:nvGrpSpPr>
          <p:grpSpPr>
            <a:xfrm>
              <a:off x="7105680" y="-1495080"/>
              <a:ext cx="2850840" cy="2738880"/>
              <a:chOff x="7105680" y="-1495080"/>
              <a:chExt cx="2850840" cy="2738880"/>
            </a:xfrm>
          </p:grpSpPr>
          <p:sp>
            <p:nvSpPr>
              <p:cNvPr id="18047" name=""/>
              <p:cNvSpPr/>
              <p:nvPr/>
            </p:nvSpPr>
            <p:spPr>
              <a:xfrm rot="13152000">
                <a:off x="7310880" y="28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8" name=""/>
              <p:cNvSpPr/>
              <p:nvPr/>
            </p:nvSpPr>
            <p:spPr>
              <a:xfrm rot="13152000">
                <a:off x="8813160" y="-15807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49" name=""/>
            <p:cNvGrpSpPr/>
            <p:nvPr/>
          </p:nvGrpSpPr>
          <p:grpSpPr>
            <a:xfrm>
              <a:off x="7750080" y="-855720"/>
              <a:ext cx="2399040" cy="2308680"/>
              <a:chOff x="7750080" y="-855720"/>
              <a:chExt cx="2399040" cy="2308680"/>
            </a:xfrm>
          </p:grpSpPr>
          <p:sp>
            <p:nvSpPr>
              <p:cNvPr id="18050" name=""/>
              <p:cNvSpPr/>
              <p:nvPr/>
            </p:nvSpPr>
            <p:spPr>
              <a:xfrm rot="13152000">
                <a:off x="7887960" y="4903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1" name=""/>
              <p:cNvSpPr/>
              <p:nvPr/>
            </p:nvSpPr>
            <p:spPr>
              <a:xfrm rot="13152000">
                <a:off x="9059040" y="-875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52" name=""/>
            <p:cNvGrpSpPr/>
            <p:nvPr/>
          </p:nvGrpSpPr>
          <p:grpSpPr>
            <a:xfrm>
              <a:off x="8584200" y="-1250640"/>
              <a:ext cx="1624680" cy="2471760"/>
              <a:chOff x="8584200" y="-1250640"/>
              <a:chExt cx="1624680" cy="2471760"/>
            </a:xfrm>
          </p:grpSpPr>
          <p:sp>
            <p:nvSpPr>
              <p:cNvPr id="18053" name=""/>
              <p:cNvSpPr/>
              <p:nvPr/>
            </p:nvSpPr>
            <p:spPr>
              <a:xfrm rot="11728800">
                <a:off x="8663760" y="4266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4" name=""/>
              <p:cNvSpPr/>
              <p:nvPr/>
            </p:nvSpPr>
            <p:spPr>
              <a:xfrm rot="11728800">
                <a:off x="8940600" y="-11376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55" name=""/>
            <p:cNvGrpSpPr/>
            <p:nvPr/>
          </p:nvGrpSpPr>
          <p:grpSpPr>
            <a:xfrm>
              <a:off x="8213040" y="-1184040"/>
              <a:ext cx="1492560" cy="2024280"/>
              <a:chOff x="8213040" y="-1184040"/>
              <a:chExt cx="1492560" cy="2024280"/>
            </a:xfrm>
          </p:grpSpPr>
          <p:sp>
            <p:nvSpPr>
              <p:cNvPr id="18056" name=""/>
              <p:cNvSpPr/>
              <p:nvPr/>
            </p:nvSpPr>
            <p:spPr>
              <a:xfrm rot="13152000">
                <a:off x="8282160" y="1540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7" name=""/>
              <p:cNvSpPr/>
              <p:nvPr/>
            </p:nvSpPr>
            <p:spPr>
              <a:xfrm rot="13152000">
                <a:off x="8801280" y="-11718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58" name=""/>
          <p:cNvGrpSpPr/>
          <p:nvPr/>
        </p:nvGrpSpPr>
        <p:grpSpPr>
          <a:xfrm>
            <a:off x="-1648440" y="-1271520"/>
            <a:ext cx="2946600" cy="3104640"/>
            <a:chOff x="-1648440" y="-1271520"/>
            <a:chExt cx="2946600" cy="3104640"/>
          </a:xfrm>
        </p:grpSpPr>
        <p:grpSp>
          <p:nvGrpSpPr>
            <p:cNvPr id="18059" name=""/>
            <p:cNvGrpSpPr/>
            <p:nvPr/>
          </p:nvGrpSpPr>
          <p:grpSpPr>
            <a:xfrm>
              <a:off x="-1648440" y="-1019880"/>
              <a:ext cx="2736720" cy="2853000"/>
              <a:chOff x="-1648440" y="-1019880"/>
              <a:chExt cx="2736720" cy="2853000"/>
            </a:xfrm>
          </p:grpSpPr>
          <p:sp>
            <p:nvSpPr>
              <p:cNvPr id="18060" name=""/>
              <p:cNvSpPr/>
              <p:nvPr/>
            </p:nvSpPr>
            <p:spPr>
              <a:xfrm rot="7755600">
                <a:off x="-165960" y="59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1" name=""/>
              <p:cNvSpPr/>
              <p:nvPr/>
            </p:nvSpPr>
            <p:spPr>
              <a:xfrm rot="7755600">
                <a:off x="-893880" y="-12250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62" name=""/>
            <p:cNvGrpSpPr/>
            <p:nvPr/>
          </p:nvGrpSpPr>
          <p:grpSpPr>
            <a:xfrm>
              <a:off x="-1009080" y="-1211400"/>
              <a:ext cx="2307240" cy="2400840"/>
              <a:chOff x="-1009080" y="-1211400"/>
              <a:chExt cx="2307240" cy="2400840"/>
            </a:xfrm>
          </p:grpSpPr>
          <p:sp>
            <p:nvSpPr>
              <p:cNvPr id="18063" name=""/>
              <p:cNvSpPr/>
              <p:nvPr/>
            </p:nvSpPr>
            <p:spPr>
              <a:xfrm rot="7755600">
                <a:off x="261720" y="216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4" name=""/>
              <p:cNvSpPr/>
              <p:nvPr/>
            </p:nvSpPr>
            <p:spPr>
              <a:xfrm rot="7755600">
                <a:off x="-413640" y="-131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65" name=""/>
            <p:cNvGrpSpPr/>
            <p:nvPr/>
          </p:nvGrpSpPr>
          <p:grpSpPr>
            <a:xfrm>
              <a:off x="-1404360" y="-1271520"/>
              <a:ext cx="2471760" cy="1626120"/>
              <a:chOff x="-1404360" y="-1271520"/>
              <a:chExt cx="2471760" cy="1626120"/>
            </a:xfrm>
          </p:grpSpPr>
          <p:sp>
            <p:nvSpPr>
              <p:cNvPr id="18066" name=""/>
              <p:cNvSpPr/>
              <p:nvPr/>
            </p:nvSpPr>
            <p:spPr>
              <a:xfrm rot="6332400">
                <a:off x="234720" y="-4662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7" name=""/>
              <p:cNvSpPr/>
              <p:nvPr/>
            </p:nvSpPr>
            <p:spPr>
              <a:xfrm rot="6332400">
                <a:off x="-1006200" y="-13561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68" name=""/>
            <p:cNvGrpSpPr/>
            <p:nvPr/>
          </p:nvGrpSpPr>
          <p:grpSpPr>
            <a:xfrm>
              <a:off x="-1338120" y="-768240"/>
              <a:ext cx="2023920" cy="1493640"/>
              <a:chOff x="-1338120" y="-768240"/>
              <a:chExt cx="2023920" cy="1493640"/>
            </a:xfrm>
          </p:grpSpPr>
          <p:sp>
            <p:nvSpPr>
              <p:cNvPr id="18069" name=""/>
              <p:cNvSpPr/>
              <p:nvPr/>
            </p:nvSpPr>
            <p:spPr>
              <a:xfrm rot="7755600">
                <a:off x="-140760" y="190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0" name=""/>
              <p:cNvSpPr/>
              <p:nvPr/>
            </p:nvSpPr>
            <p:spPr>
              <a:xfrm rot="7755600">
                <a:off x="-902160" y="-8157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71" name=""/>
          <p:cNvGrpSpPr/>
          <p:nvPr/>
        </p:nvGrpSpPr>
        <p:grpSpPr>
          <a:xfrm>
            <a:off x="7821720" y="5051160"/>
            <a:ext cx="2718360" cy="3318840"/>
            <a:chOff x="7821720" y="5051160"/>
            <a:chExt cx="2718360" cy="3318840"/>
          </a:xfrm>
        </p:grpSpPr>
        <p:grpSp>
          <p:nvGrpSpPr>
            <p:cNvPr id="18072" name=""/>
            <p:cNvGrpSpPr/>
            <p:nvPr/>
          </p:nvGrpSpPr>
          <p:grpSpPr>
            <a:xfrm>
              <a:off x="8118360" y="5051160"/>
              <a:ext cx="2421720" cy="3106440"/>
              <a:chOff x="8118360" y="5051160"/>
              <a:chExt cx="2421720" cy="3106440"/>
            </a:xfrm>
          </p:grpSpPr>
          <p:sp>
            <p:nvSpPr>
              <p:cNvPr id="18073" name=""/>
              <p:cNvSpPr/>
              <p:nvPr/>
            </p:nvSpPr>
            <p:spPr>
              <a:xfrm rot="19135800">
                <a:off x="8325360" y="527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4" name=""/>
              <p:cNvSpPr/>
              <p:nvPr/>
            </p:nvSpPr>
            <p:spPr>
              <a:xfrm rot="19135800">
                <a:off x="9374400" y="6069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75" name=""/>
            <p:cNvGrpSpPr/>
            <p:nvPr/>
          </p:nvGrpSpPr>
          <p:grpSpPr>
            <a:xfrm>
              <a:off x="7821720" y="5635440"/>
              <a:ext cx="2064960" cy="2595240"/>
              <a:chOff x="7821720" y="5635440"/>
              <a:chExt cx="2064960" cy="2595240"/>
            </a:xfrm>
          </p:grpSpPr>
          <p:sp>
            <p:nvSpPr>
              <p:cNvPr id="18076" name=""/>
              <p:cNvSpPr/>
              <p:nvPr/>
            </p:nvSpPr>
            <p:spPr>
              <a:xfrm rot="19135800">
                <a:off x="7959600" y="5840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7" name=""/>
              <p:cNvSpPr/>
              <p:nvPr/>
            </p:nvSpPr>
            <p:spPr>
              <a:xfrm rot="19135800">
                <a:off x="8779680" y="644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78" name=""/>
            <p:cNvGrpSpPr/>
            <p:nvPr/>
          </p:nvGrpSpPr>
          <p:grpSpPr>
            <a:xfrm>
              <a:off x="7901280" y="6435360"/>
              <a:ext cx="2462400" cy="1934640"/>
              <a:chOff x="7901280" y="6435360"/>
              <a:chExt cx="2462400" cy="1934640"/>
            </a:xfrm>
          </p:grpSpPr>
          <p:sp>
            <p:nvSpPr>
              <p:cNvPr id="18079" name=""/>
              <p:cNvSpPr/>
              <p:nvPr/>
            </p:nvSpPr>
            <p:spPr>
              <a:xfrm rot="17713200">
                <a:off x="7995600" y="6585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0" name=""/>
              <p:cNvSpPr/>
              <p:nvPr/>
            </p:nvSpPr>
            <p:spPr>
              <a:xfrm rot="17713200">
                <a:off x="8860320" y="6718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81" name=""/>
            <p:cNvGrpSpPr/>
            <p:nvPr/>
          </p:nvGrpSpPr>
          <p:grpSpPr>
            <a:xfrm>
              <a:off x="8364600" y="6181560"/>
              <a:ext cx="1913760" cy="1673280"/>
              <a:chOff x="8364600" y="6181560"/>
              <a:chExt cx="1913760" cy="1673280"/>
            </a:xfrm>
          </p:grpSpPr>
          <p:sp>
            <p:nvSpPr>
              <p:cNvPr id="18082" name=""/>
              <p:cNvSpPr/>
              <p:nvPr/>
            </p:nvSpPr>
            <p:spPr>
              <a:xfrm rot="19135800">
                <a:off x="8431920" y="6375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3" name=""/>
              <p:cNvSpPr/>
              <p:nvPr/>
            </p:nvSpPr>
            <p:spPr>
              <a:xfrm rot="19135800">
                <a:off x="9362520" y="6474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084" name=""/>
          <p:cNvGrpSpPr/>
          <p:nvPr/>
        </p:nvGrpSpPr>
        <p:grpSpPr>
          <a:xfrm>
            <a:off x="-1424520" y="5509080"/>
            <a:ext cx="3220920" cy="2845080"/>
            <a:chOff x="-1424520" y="5509080"/>
            <a:chExt cx="3220920" cy="2845080"/>
          </a:xfrm>
        </p:grpSpPr>
        <p:grpSp>
          <p:nvGrpSpPr>
            <p:cNvPr id="18085" name=""/>
            <p:cNvGrpSpPr/>
            <p:nvPr/>
          </p:nvGrpSpPr>
          <p:grpSpPr>
            <a:xfrm>
              <a:off x="-1190880" y="5762520"/>
              <a:ext cx="2987280" cy="2591640"/>
              <a:chOff x="-1190880" y="5762520"/>
              <a:chExt cx="2987280" cy="2591640"/>
            </a:xfrm>
          </p:grpSpPr>
          <p:sp>
            <p:nvSpPr>
              <p:cNvPr id="18086" name=""/>
              <p:cNvSpPr/>
              <p:nvPr/>
            </p:nvSpPr>
            <p:spPr>
              <a:xfrm rot="2638800">
                <a:off x="537480" y="59835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7" name=""/>
              <p:cNvSpPr/>
              <p:nvPr/>
            </p:nvSpPr>
            <p:spPr>
              <a:xfrm rot="2638800">
                <a:off x="-501480" y="6294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88" name=""/>
            <p:cNvGrpSpPr/>
            <p:nvPr/>
          </p:nvGrpSpPr>
          <p:grpSpPr>
            <a:xfrm>
              <a:off x="-1324800" y="5509080"/>
              <a:ext cx="2504160" cy="2196360"/>
              <a:chOff x="-1324800" y="5509080"/>
              <a:chExt cx="2504160" cy="2196360"/>
            </a:xfrm>
          </p:grpSpPr>
          <p:sp>
            <p:nvSpPr>
              <p:cNvPr id="18089" name=""/>
              <p:cNvSpPr/>
              <p:nvPr/>
            </p:nvSpPr>
            <p:spPr>
              <a:xfrm rot="2638800">
                <a:off x="133920" y="57175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0" name=""/>
              <p:cNvSpPr/>
              <p:nvPr/>
            </p:nvSpPr>
            <p:spPr>
              <a:xfrm rot="2638800">
                <a:off x="-776880" y="5943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91" name=""/>
            <p:cNvGrpSpPr/>
            <p:nvPr/>
          </p:nvGrpSpPr>
          <p:grpSpPr>
            <a:xfrm>
              <a:off x="-1424520" y="5666760"/>
              <a:ext cx="1783440" cy="2475720"/>
              <a:chOff x="-1424520" y="5666760"/>
              <a:chExt cx="1783440" cy="2475720"/>
            </a:xfrm>
          </p:grpSpPr>
          <p:sp>
            <p:nvSpPr>
              <p:cNvPr id="18092" name=""/>
              <p:cNvSpPr/>
              <p:nvPr/>
            </p:nvSpPr>
            <p:spPr>
              <a:xfrm rot="1215600">
                <a:off x="-517320" y="57798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3" name=""/>
              <p:cNvSpPr/>
              <p:nvPr/>
            </p:nvSpPr>
            <p:spPr>
              <a:xfrm rot="1215600">
                <a:off x="-1173600" y="636948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94" name=""/>
            <p:cNvGrpSpPr/>
            <p:nvPr/>
          </p:nvGrpSpPr>
          <p:grpSpPr>
            <a:xfrm>
              <a:off x="-913320" y="6089400"/>
              <a:ext cx="1586880" cy="1977120"/>
              <a:chOff x="-913320" y="6089400"/>
              <a:chExt cx="1586880" cy="1977120"/>
            </a:xfrm>
          </p:grpSpPr>
          <p:sp>
            <p:nvSpPr>
              <p:cNvPr id="18095" name=""/>
              <p:cNvSpPr/>
              <p:nvPr/>
            </p:nvSpPr>
            <p:spPr>
              <a:xfrm rot="2638800">
                <a:off x="-167040" y="6289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6" name=""/>
              <p:cNvSpPr/>
              <p:nvPr/>
            </p:nvSpPr>
            <p:spPr>
              <a:xfrm rot="2638800">
                <a:off x="-509400" y="66999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97" name=""/>
          <p:cNvSpPr/>
          <p:nvPr/>
        </p:nvSpPr>
        <p:spPr>
          <a:xfrm>
            <a:off x="1330200" y="5229360"/>
            <a:ext cx="1295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лама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8" name="">
            <a:hlinkClick r:id="rId13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9" name="">
            <a:hlinkClick r:id="rId14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реву Заламае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4610160" y="316440"/>
            <a:ext cx="1870200" cy="3336480"/>
            <a:chOff x="4610160" y="316440"/>
            <a:chExt cx="1870200" cy="3336480"/>
          </a:xfrm>
        </p:grpSpPr>
        <p:grpSp>
          <p:nvGrpSpPr>
            <p:cNvPr id="102" name=""/>
            <p:cNvGrpSpPr/>
            <p:nvPr/>
          </p:nvGrpSpPr>
          <p:grpSpPr>
            <a:xfrm>
              <a:off x="5670000" y="316440"/>
              <a:ext cx="361440" cy="586440"/>
              <a:chOff x="5670000" y="316440"/>
              <a:chExt cx="361440" cy="586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5875560" y="538920"/>
                <a:ext cx="117000" cy="117360"/>
                <a:chOff x="5875560" y="538920"/>
                <a:chExt cx="117000" cy="117360"/>
              </a:xfrm>
            </p:grpSpPr>
            <p:sp>
              <p:nvSpPr>
                <p:cNvPr id="104" name=""/>
                <p:cNvSpPr/>
                <p:nvPr/>
              </p:nvSpPr>
              <p:spPr>
                <a:xfrm rot="8101200">
                  <a:off x="5906520" y="54180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882760" y="582120"/>
                  <a:ext cx="7092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908320" y="591480"/>
                  <a:ext cx="1296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5922720" y="587160"/>
                  <a:ext cx="108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936040" y="599040"/>
                  <a:ext cx="936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 flipH="1" flipV="1">
                <a:off x="5776200" y="574200"/>
                <a:ext cx="75960" cy="150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4285800">
                <a:off x="5601960" y="580320"/>
                <a:ext cx="417240" cy="15732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849640" y="511920"/>
                <a:ext cx="59040" cy="90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809680" y="721080"/>
                <a:ext cx="105480" cy="141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5780880" y="625320"/>
                <a:ext cx="33120" cy="2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5837400" y="641520"/>
                <a:ext cx="4320" cy="51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5873760" y="483840"/>
                <a:ext cx="12600" cy="74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7280" y="578520"/>
                <a:ext cx="39600" cy="4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5790240" y="464040"/>
                <a:ext cx="38520" cy="39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5861880" y="661320"/>
                <a:ext cx="20160" cy="130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875200" y="693360"/>
                <a:ext cx="17640" cy="23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44960" y="815400"/>
                <a:ext cx="50760" cy="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897880" y="733320"/>
                <a:ext cx="34200" cy="11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5801400" y="724320"/>
                <a:ext cx="32400" cy="59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5811480" y="526680"/>
                <a:ext cx="27360" cy="435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5830200" y="444600"/>
                <a:ext cx="17280" cy="23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5893920" y="461160"/>
                <a:ext cx="92880" cy="88560"/>
                <a:chOff x="5893920" y="461160"/>
                <a:chExt cx="92880" cy="88560"/>
              </a:xfrm>
            </p:grpSpPr>
            <p:sp>
              <p:nvSpPr>
                <p:cNvPr id="126" name=""/>
                <p:cNvSpPr/>
                <p:nvPr/>
              </p:nvSpPr>
              <p:spPr>
                <a:xfrm rot="6031200">
                  <a:off x="5902560" y="46476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5900040" y="493200"/>
                  <a:ext cx="5508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5921280" y="518760"/>
                  <a:ext cx="111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5930280" y="494640"/>
                  <a:ext cx="612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5941800" y="502200"/>
                  <a:ext cx="792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786640" y="536760"/>
                <a:ext cx="110160" cy="109800"/>
                <a:chOff x="5786640" y="536760"/>
                <a:chExt cx="110160" cy="109800"/>
              </a:xfrm>
            </p:grpSpPr>
            <p:sp>
              <p:nvSpPr>
                <p:cNvPr id="132" name=""/>
                <p:cNvSpPr/>
                <p:nvPr/>
              </p:nvSpPr>
              <p:spPr>
                <a:xfrm rot="2872800">
                  <a:off x="5803920" y="55116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5839200" y="572400"/>
                  <a:ext cx="1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843160" y="606240"/>
                  <a:ext cx="468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 flipV="1">
                  <a:off x="5830920" y="588240"/>
                  <a:ext cx="7200" cy="13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5842800" y="582480"/>
                  <a:ext cx="216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53240" y="575280"/>
                <a:ext cx="100080" cy="96840"/>
                <a:chOff x="5853240" y="575280"/>
                <a:chExt cx="100080" cy="96840"/>
              </a:xfrm>
            </p:grpSpPr>
            <p:sp>
              <p:nvSpPr>
                <p:cNvPr id="138" name=""/>
                <p:cNvSpPr/>
                <p:nvPr/>
              </p:nvSpPr>
              <p:spPr>
                <a:xfrm rot="4285800">
                  <a:off x="5865480" y="58320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5881680" y="605880"/>
                  <a:ext cx="28800" cy="61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894640" y="639360"/>
                  <a:ext cx="828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5895000" y="616320"/>
                  <a:ext cx="108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5904720" y="616680"/>
                  <a:ext cx="540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688000" y="478800"/>
                <a:ext cx="97200" cy="123840"/>
                <a:chOff x="5688000" y="478800"/>
                <a:chExt cx="97200" cy="123840"/>
              </a:xfrm>
            </p:grpSpPr>
            <p:sp>
              <p:nvSpPr>
                <p:cNvPr id="144" name=""/>
                <p:cNvSpPr/>
                <p:nvPr/>
              </p:nvSpPr>
              <p:spPr>
                <a:xfrm rot="20055000">
                  <a:off x="5709240" y="48492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5719680" y="529560"/>
                  <a:ext cx="60120" cy="4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flipV="1">
                  <a:off x="5749560" y="542520"/>
                  <a:ext cx="936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5733720" y="549720"/>
                  <a:ext cx="1152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 flipV="1">
                  <a:off x="5727960" y="531000"/>
                  <a:ext cx="72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18680" y="357840"/>
                <a:ext cx="100080" cy="96840"/>
                <a:chOff x="5818680" y="357840"/>
                <a:chExt cx="100080" cy="96840"/>
              </a:xfrm>
            </p:grpSpPr>
            <p:sp>
              <p:nvSpPr>
                <p:cNvPr id="150" name=""/>
                <p:cNvSpPr/>
                <p:nvPr/>
              </p:nvSpPr>
              <p:spPr>
                <a:xfrm rot="4285800">
                  <a:off x="5830920" y="36576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5847120" y="388440"/>
                  <a:ext cx="28440" cy="61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5860080" y="421920"/>
                  <a:ext cx="828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5860080" y="398880"/>
                  <a:ext cx="144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5870160" y="399240"/>
                  <a:ext cx="540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886360" y="634680"/>
                <a:ext cx="100080" cy="96840"/>
                <a:chOff x="5886360" y="634680"/>
                <a:chExt cx="100080" cy="96840"/>
              </a:xfrm>
            </p:grpSpPr>
            <p:sp>
              <p:nvSpPr>
                <p:cNvPr id="156" name=""/>
                <p:cNvSpPr/>
                <p:nvPr/>
              </p:nvSpPr>
              <p:spPr>
                <a:xfrm rot="4285800">
                  <a:off x="5898600" y="64260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5914440" y="664920"/>
                  <a:ext cx="2880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5927400" y="698760"/>
                  <a:ext cx="828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 flipV="1">
                  <a:off x="5927760" y="675720"/>
                  <a:ext cx="108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V="1">
                  <a:off x="5937480" y="675720"/>
                  <a:ext cx="540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857560" y="397800"/>
                <a:ext cx="100080" cy="96840"/>
                <a:chOff x="5857560" y="397800"/>
                <a:chExt cx="100080" cy="96840"/>
              </a:xfrm>
            </p:grpSpPr>
            <p:sp>
              <p:nvSpPr>
                <p:cNvPr id="162" name=""/>
                <p:cNvSpPr/>
                <p:nvPr/>
              </p:nvSpPr>
              <p:spPr>
                <a:xfrm rot="4285800">
                  <a:off x="5869800" y="40572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5885640" y="428040"/>
                  <a:ext cx="2880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898600" y="461880"/>
                  <a:ext cx="864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5898960" y="438840"/>
                  <a:ext cx="144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5909040" y="438840"/>
                  <a:ext cx="540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695920" y="633240"/>
                <a:ext cx="108720" cy="122040"/>
                <a:chOff x="5695920" y="633240"/>
                <a:chExt cx="108720" cy="122040"/>
              </a:xfrm>
            </p:grpSpPr>
            <p:sp>
              <p:nvSpPr>
                <p:cNvPr id="168" name=""/>
                <p:cNvSpPr/>
                <p:nvPr/>
              </p:nvSpPr>
              <p:spPr>
                <a:xfrm rot="19484400">
                  <a:off x="5722920" y="63864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5731200" y="686160"/>
                  <a:ext cx="6660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5762880" y="694080"/>
                  <a:ext cx="1116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5748480" y="702000"/>
                  <a:ext cx="115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>
                  <a:off x="5739840" y="686520"/>
                  <a:ext cx="828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675040" y="554760"/>
                <a:ext cx="119880" cy="113760"/>
                <a:chOff x="5675040" y="554760"/>
                <a:chExt cx="119880" cy="113760"/>
              </a:xfrm>
            </p:grpSpPr>
            <p:sp>
              <p:nvSpPr>
                <p:cNvPr id="174" name=""/>
                <p:cNvSpPr/>
                <p:nvPr/>
              </p:nvSpPr>
              <p:spPr>
                <a:xfrm rot="18645000">
                  <a:off x="5707440" y="55584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 flipV="1">
                  <a:off x="5714640" y="608040"/>
                  <a:ext cx="7236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5747400" y="608040"/>
                  <a:ext cx="1332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5735880" y="616320"/>
                  <a:ext cx="104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5722920" y="606240"/>
                  <a:ext cx="93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734080" y="340920"/>
                <a:ext cx="91800" cy="123480"/>
                <a:chOff x="5734080" y="340920"/>
                <a:chExt cx="91800" cy="123480"/>
              </a:xfrm>
            </p:grpSpPr>
            <p:sp>
              <p:nvSpPr>
                <p:cNvPr id="180" name=""/>
                <p:cNvSpPr/>
                <p:nvPr/>
              </p:nvSpPr>
              <p:spPr>
                <a:xfrm rot="20296200">
                  <a:off x="5752440" y="34704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flipV="1">
                  <a:off x="5763240" y="390600"/>
                  <a:ext cx="576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5792400" y="406080"/>
                  <a:ext cx="828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 flipV="1">
                  <a:off x="5775840" y="412560"/>
                  <a:ext cx="1188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>
                  <a:off x="5771520" y="392760"/>
                  <a:ext cx="68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682240" y="373680"/>
                <a:ext cx="113760" cy="119880"/>
                <a:chOff x="5682240" y="373680"/>
                <a:chExt cx="113760" cy="119880"/>
              </a:xfrm>
            </p:grpSpPr>
            <p:sp>
              <p:nvSpPr>
                <p:cNvPr id="186" name=""/>
                <p:cNvSpPr/>
                <p:nvPr/>
              </p:nvSpPr>
              <p:spPr>
                <a:xfrm rot="19168200">
                  <a:off x="5711760" y="37764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5719680" y="427320"/>
                  <a:ext cx="6948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5752080" y="432360"/>
                  <a:ext cx="1188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5738760" y="440280"/>
                  <a:ext cx="111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5728320" y="426600"/>
                  <a:ext cx="864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725080" y="447120"/>
                <a:ext cx="104760" cy="123120"/>
                <a:chOff x="5725080" y="447120"/>
                <a:chExt cx="104760" cy="123120"/>
              </a:xfrm>
            </p:grpSpPr>
            <p:sp>
              <p:nvSpPr>
                <p:cNvPr id="192" name=""/>
                <p:cNvSpPr/>
                <p:nvPr/>
              </p:nvSpPr>
              <p:spPr>
                <a:xfrm rot="19687800">
                  <a:off x="5750280" y="45288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H="1" flipV="1">
                  <a:off x="5759280" y="499680"/>
                  <a:ext cx="6444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 flipV="1">
                  <a:off x="5790240" y="509760"/>
                  <a:ext cx="1044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>
                  <a:off x="5775480" y="517320"/>
                  <a:ext cx="11520" cy="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5767560" y="500400"/>
                  <a:ext cx="792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814720" y="392400"/>
                <a:ext cx="64800" cy="115920"/>
                <a:chOff x="5814720" y="392400"/>
                <a:chExt cx="64800" cy="115920"/>
              </a:xfrm>
            </p:grpSpPr>
            <p:sp>
              <p:nvSpPr>
                <p:cNvPr id="198" name=""/>
                <p:cNvSpPr/>
                <p:nvPr/>
              </p:nvSpPr>
              <p:spPr>
                <a:xfrm rot="21271200">
                  <a:off x="5819760" y="39456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 flipV="1">
                  <a:off x="5834520" y="434160"/>
                  <a:ext cx="4212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5858280" y="456840"/>
                  <a:ext cx="468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5840640" y="458280"/>
                  <a:ext cx="111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5842080" y="438480"/>
                  <a:ext cx="396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828400" y="578160"/>
                <a:ext cx="104400" cy="106560"/>
                <a:chOff x="5828400" y="578160"/>
                <a:chExt cx="104400" cy="106560"/>
              </a:xfrm>
            </p:grpSpPr>
            <p:sp>
              <p:nvSpPr>
                <p:cNvPr id="204" name=""/>
                <p:cNvSpPr/>
                <p:nvPr/>
              </p:nvSpPr>
              <p:spPr>
                <a:xfrm rot="1722000">
                  <a:off x="5843160" y="59112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5873400" y="613440"/>
                  <a:ext cx="2088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889960" y="643320"/>
                  <a:ext cx="108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>
                  <a:off x="5869440" y="631800"/>
                  <a:ext cx="111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flipV="1">
                  <a:off x="5880600" y="621720"/>
                  <a:ext cx="72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5920200" y="699120"/>
                <a:ext cx="111240" cy="120960"/>
                <a:chOff x="5920200" y="699120"/>
                <a:chExt cx="111240" cy="120960"/>
              </a:xfrm>
            </p:grpSpPr>
            <p:sp>
              <p:nvSpPr>
                <p:cNvPr id="210" name=""/>
                <p:cNvSpPr/>
                <p:nvPr/>
              </p:nvSpPr>
              <p:spPr>
                <a:xfrm rot="8518800">
                  <a:off x="5948280" y="70380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927040" y="738000"/>
                  <a:ext cx="68040" cy="28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51160" y="750600"/>
                  <a:ext cx="1188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5965560" y="749520"/>
                  <a:ext cx="111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977800" y="761400"/>
                  <a:ext cx="864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884920" y="780840"/>
                <a:ext cx="109440" cy="122040"/>
                <a:chOff x="5884920" y="780840"/>
                <a:chExt cx="109440" cy="122040"/>
              </a:xfrm>
            </p:grpSpPr>
            <p:sp>
              <p:nvSpPr>
                <p:cNvPr id="216" name=""/>
                <p:cNvSpPr/>
                <p:nvPr/>
              </p:nvSpPr>
              <p:spPr>
                <a:xfrm rot="8638800">
                  <a:off x="5912280" y="78588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891400" y="819000"/>
                  <a:ext cx="6696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15520" y="832320"/>
                  <a:ext cx="111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5929560" y="831960"/>
                  <a:ext cx="115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941800" y="843840"/>
                  <a:ext cx="828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746320" y="603720"/>
                <a:ext cx="108000" cy="109440"/>
                <a:chOff x="5746320" y="603720"/>
                <a:chExt cx="108000" cy="109440"/>
              </a:xfrm>
            </p:grpSpPr>
            <p:sp>
              <p:nvSpPr>
                <p:cNvPr id="222" name=""/>
                <p:cNvSpPr/>
                <p:nvPr/>
              </p:nvSpPr>
              <p:spPr>
                <a:xfrm rot="2211600">
                  <a:off x="5762880" y="61776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5796000" y="639720"/>
                  <a:ext cx="11160" cy="66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5806440" y="671400"/>
                  <a:ext cx="252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>
                  <a:off x="5789160" y="657000"/>
                  <a:ext cx="972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5801400" y="648720"/>
                  <a:ext cx="36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721840" y="467280"/>
                <a:ext cx="97920" cy="123840"/>
                <a:chOff x="5721840" y="467280"/>
                <a:chExt cx="97920" cy="123840"/>
              </a:xfrm>
            </p:grpSpPr>
            <p:sp>
              <p:nvSpPr>
                <p:cNvPr id="228" name=""/>
                <p:cNvSpPr/>
                <p:nvPr/>
              </p:nvSpPr>
              <p:spPr>
                <a:xfrm rot="1576200">
                  <a:off x="5743440" y="47340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 flipV="1">
                  <a:off x="5769360" y="508680"/>
                  <a:ext cx="3600" cy="73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5773680" y="540360"/>
                  <a:ext cx="360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 flipV="1">
                  <a:off x="5761440" y="532440"/>
                  <a:ext cx="756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5771880" y="516240"/>
                  <a:ext cx="108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732280" y="341280"/>
                <a:ext cx="94320" cy="123840"/>
                <a:chOff x="5732280" y="341280"/>
                <a:chExt cx="94320" cy="123840"/>
              </a:xfrm>
            </p:grpSpPr>
            <p:sp>
              <p:nvSpPr>
                <p:cNvPr id="234" name=""/>
                <p:cNvSpPr/>
                <p:nvPr/>
              </p:nvSpPr>
              <p:spPr>
                <a:xfrm rot="1416000">
                  <a:off x="5752080" y="347400"/>
                  <a:ext cx="54360" cy="111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 flipV="1">
                  <a:off x="5776920" y="383040"/>
                  <a:ext cx="7200" cy="73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783400" y="414000"/>
                  <a:ext cx="288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5770080" y="407160"/>
                  <a:ext cx="828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5780160" y="390240"/>
                  <a:ext cx="108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764680" y="316440"/>
                <a:ext cx="107280" cy="108720"/>
                <a:chOff x="5764680" y="316440"/>
                <a:chExt cx="107280" cy="108720"/>
              </a:xfrm>
            </p:grpSpPr>
            <p:sp>
              <p:nvSpPr>
                <p:cNvPr id="240" name=""/>
                <p:cNvSpPr/>
                <p:nvPr/>
              </p:nvSpPr>
              <p:spPr>
                <a:xfrm rot="2048400">
                  <a:off x="5780880" y="330480"/>
                  <a:ext cx="74880" cy="80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5813280" y="352440"/>
                  <a:ext cx="14400" cy="66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5825520" y="383760"/>
                  <a:ext cx="216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H="1" flipV="1">
                  <a:off x="5807160" y="370080"/>
                  <a:ext cx="1008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5819400" y="361080"/>
                  <a:ext cx="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4610160" y="487800"/>
              <a:ext cx="1870200" cy="3165120"/>
              <a:chOff x="4610160" y="487800"/>
              <a:chExt cx="1870200" cy="3165120"/>
            </a:xfrm>
          </p:grpSpPr>
          <p:sp>
            <p:nvSpPr>
              <p:cNvPr id="246" name=""/>
              <p:cNvSpPr/>
              <p:nvPr/>
            </p:nvSpPr>
            <p:spPr>
              <a:xfrm>
                <a:off x="4972320" y="750600"/>
                <a:ext cx="1062360" cy="290232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5157720" y="2128320"/>
                <a:ext cx="497520" cy="432360"/>
                <a:chOff x="5157720" y="2128320"/>
                <a:chExt cx="497520" cy="4323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5358960" y="2184840"/>
                  <a:ext cx="111960" cy="104760"/>
                  <a:chOff x="5358960" y="2184840"/>
                  <a:chExt cx="111960" cy="1047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15400">
                    <a:off x="5378400" y="2192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5396040" y="221796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V="1">
                    <a:off x="5407560" y="225252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flipV="1">
                    <a:off x="5405400" y="223128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V="1">
                    <a:off x="5416560" y="222876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flipH="1">
                  <a:off x="5357520" y="239544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264280" y="231444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H="1" flipV="1">
                  <a:off x="5344200" y="223308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 flipV="1">
                  <a:off x="5504040" y="231444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5397120" y="241200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5423760" y="237888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5317200" y="224964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5384160" y="226512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5277240" y="233064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 flipV="1">
                  <a:off x="5450400" y="233028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5477760" y="233028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557680" y="237924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5517720" y="229788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5477400" y="244404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>
                  <a:off x="5330520" y="234684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5276880" y="228168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5294520" y="2128320"/>
                  <a:ext cx="104760" cy="123840"/>
                  <a:chOff x="5294520" y="2128320"/>
                  <a:chExt cx="104760" cy="1238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rot="1745400">
                    <a:off x="5316840" y="2135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5344920" y="216972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5349960" y="220284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>
                    <a:off x="5336640" y="219276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348160" y="217800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5338440" y="2291040"/>
                  <a:ext cx="97920" cy="123120"/>
                  <a:chOff x="5338440" y="2291040"/>
                  <a:chExt cx="97920" cy="1231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 rot="20187000">
                    <a:off x="5357520" y="2298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flipV="1">
                    <a:off x="5369760" y="234180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 flipV="1">
                    <a:off x="5401800" y="235476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>
                    <a:off x="5383080" y="236196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flipV="1">
                    <a:off x="5379480" y="234324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5397480" y="2233440"/>
                  <a:ext cx="59760" cy="108360"/>
                  <a:chOff x="5397480" y="2233440"/>
                  <a:chExt cx="59760" cy="1083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5397480" y="2233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 flipV="1">
                    <a:off x="5415480" y="227088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5439600" y="229536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H="1" flipV="1">
                    <a:off x="5419440" y="229500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5423760" y="227592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5273280" y="2422800"/>
                  <a:ext cx="97200" cy="83160"/>
                  <a:chOff x="5273280" y="2422800"/>
                  <a:chExt cx="97200" cy="831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5769200">
                    <a:off x="5285160" y="2419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5309640" y="242640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5325840" y="244296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5328720" y="245808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5312880" y="246420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5223960" y="2184840"/>
                  <a:ext cx="59760" cy="108360"/>
                  <a:chOff x="5223960" y="2184840"/>
                  <a:chExt cx="59760" cy="10836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5223960" y="2184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flipV="1">
                    <a:off x="5241960" y="222228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 flipV="1">
                    <a:off x="5266080" y="224676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flipV="1">
                    <a:off x="5245920" y="224640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flipV="1">
                    <a:off x="5250240" y="222732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5450760" y="2216880"/>
                  <a:ext cx="59760" cy="108360"/>
                  <a:chOff x="5450760" y="2216880"/>
                  <a:chExt cx="59760" cy="1083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450760" y="2216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>
                    <a:off x="5468760" y="22543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 flipV="1">
                    <a:off x="5492880" y="22788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flipV="1">
                    <a:off x="5472720" y="22784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>
                    <a:off x="5477040" y="22593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5264280" y="2152080"/>
                  <a:ext cx="59760" cy="108360"/>
                  <a:chOff x="5264280" y="2152080"/>
                  <a:chExt cx="59760" cy="1083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5264280" y="2152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flipV="1">
                    <a:off x="5282280" y="21895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 flipV="1">
                    <a:off x="5306400" y="22140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flipV="1">
                    <a:off x="5286240" y="22136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>
                    <a:off x="5290560" y="21945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5388840" y="2465640"/>
                  <a:ext cx="106200" cy="95040"/>
                  <a:chOff x="5388840" y="2465640"/>
                  <a:chExt cx="106200" cy="9504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15198000">
                    <a:off x="5405400" y="2468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>
                    <a:off x="5432760" y="247032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5443560" y="248976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450040" y="250560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5434200" y="251352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318640" y="2442960"/>
                  <a:ext cx="113400" cy="108000"/>
                  <a:chOff x="5318640" y="2442960"/>
                  <a:chExt cx="113400" cy="1080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4358600">
                    <a:off x="5338800" y="24523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5370840" y="244872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5373000" y="247140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381280" y="248760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5369400" y="249768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5182560" y="2312280"/>
                  <a:ext cx="92880" cy="77400"/>
                  <a:chOff x="5182560" y="2312280"/>
                  <a:chExt cx="92880" cy="7740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16010400">
                    <a:off x="5192280" y="2306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5215680" y="231516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>
                    <a:off x="5234040" y="233064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5235120" y="234504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>
                    <a:off x="5219640" y="235080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5186880" y="2365200"/>
                  <a:ext cx="109800" cy="100800"/>
                  <a:chOff x="5186880" y="2365200"/>
                  <a:chExt cx="109800" cy="100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4881800">
                    <a:off x="5205240" y="2370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flipH="1">
                    <a:off x="5234400" y="237024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5241960" y="239112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249160" y="240732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>
                    <a:off x="5234760" y="241596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5257080" y="2354040"/>
                  <a:ext cx="103320" cy="91080"/>
                  <a:chOff x="5257080" y="2354040"/>
                  <a:chExt cx="103320" cy="910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15401400">
                    <a:off x="5272200" y="2354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>
                    <a:off x="5298480" y="235800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H="1">
                    <a:off x="5311080" y="237672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>
                    <a:off x="5316840" y="239220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5300640" y="239976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5230080" y="2240640"/>
                  <a:ext cx="102960" cy="91080"/>
                  <a:chOff x="5230080" y="2240640"/>
                  <a:chExt cx="102960" cy="910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16985400">
                    <a:off x="5245200" y="22417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>
                    <a:off x="5265000" y="226188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>
                    <a:off x="5290920" y="227160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>
                    <a:off x="5285520" y="228348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>
                    <a:off x="5271480" y="228564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5368680" y="2259360"/>
                  <a:ext cx="117360" cy="120240"/>
                  <a:chOff x="5368680" y="2259360"/>
                  <a:chExt cx="117360" cy="1202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rot="19036200">
                    <a:off x="5397480" y="2265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flipV="1">
                    <a:off x="5407560" y="231552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flipV="1">
                    <a:off x="5441760" y="231696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H="1">
                    <a:off x="5426640" y="232596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flipV="1">
                    <a:off x="5416920" y="231336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5494320" y="2204280"/>
                  <a:ext cx="108000" cy="98280"/>
                  <a:chOff x="5494320" y="2204280"/>
                  <a:chExt cx="108000" cy="982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4233000">
                    <a:off x="5511960" y="2208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5524200" y="223524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5538240" y="22687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flipV="1">
                    <a:off x="5539680" y="224640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5550120" y="224568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5548320" y="2286720"/>
                  <a:ext cx="106920" cy="96120"/>
                  <a:chOff x="5548320" y="2286720"/>
                  <a:chExt cx="106920" cy="961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rot="4353000">
                    <a:off x="5565240" y="2289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V="1">
                    <a:off x="5576040" y="231660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V="1">
                    <a:off x="5590440" y="235008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flipV="1">
                    <a:off x="5593320" y="232740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V="1">
                    <a:off x="5603400" y="23274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5372280" y="2372040"/>
                  <a:ext cx="110520" cy="123120"/>
                  <a:chOff x="5372280" y="2372040"/>
                  <a:chExt cx="110520" cy="1231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rot="19525800">
                    <a:off x="5397480" y="2379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5408280" y="242640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5441760" y="243288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5425200" y="244116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flipV="1">
                    <a:off x="5418000" y="242568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5264640" y="2358720"/>
                  <a:ext cx="114480" cy="114120"/>
                  <a:chOff x="5264640" y="2358720"/>
                  <a:chExt cx="114480" cy="11412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rot="18890400">
                    <a:off x="5285160" y="2370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flipV="1">
                    <a:off x="5301720" y="241632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flipV="1">
                    <a:off x="5335920" y="240984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5319360" y="241920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flipV="1">
                    <a:off x="5311440" y="241236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5171400" y="2293920"/>
                  <a:ext cx="114840" cy="113760"/>
                  <a:chOff x="5171400" y="2293920"/>
                  <a:chExt cx="114840" cy="1137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rot="18730200">
                    <a:off x="5192280" y="2306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>
                    <a:off x="5208840" y="235152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5242680" y="234432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5226840" y="235368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 flipV="1">
                    <a:off x="5218560" y="234792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157720" y="2226240"/>
                  <a:ext cx="113040" cy="122400"/>
                  <a:chOff x="5157720" y="2226240"/>
                  <a:chExt cx="113040" cy="1224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362600">
                    <a:off x="5184360" y="2233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flipV="1">
                    <a:off x="5194800" y="228132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flipV="1">
                    <a:off x="5228640" y="228636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5212440" y="229464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flipV="1">
                    <a:off x="5204520" y="228060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4616640" y="833400"/>
                <a:ext cx="497520" cy="432360"/>
                <a:chOff x="4616640" y="833400"/>
                <a:chExt cx="497520" cy="43236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4817880" y="889920"/>
                  <a:ext cx="111960" cy="104760"/>
                  <a:chOff x="4817880" y="889920"/>
                  <a:chExt cx="111960" cy="104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rot="3815400">
                    <a:off x="4837320" y="8974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V="1">
                    <a:off x="4854960" y="92304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V="1">
                    <a:off x="4866480" y="95760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864320" y="93636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V="1">
                    <a:off x="4875480" y="9338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7" name=""/>
                <p:cNvSpPr/>
                <p:nvPr/>
              </p:nvSpPr>
              <p:spPr>
                <a:xfrm flipH="1">
                  <a:off x="4816440" y="110052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723200" y="10195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>
                  <a:off x="4803120" y="93816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 flipV="1">
                  <a:off x="4962960" y="101952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4856040" y="111708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flipV="1">
                  <a:off x="4882680" y="108396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>
                  <a:off x="4776120" y="95472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V="1">
                  <a:off x="4843080" y="97020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4736160" y="103572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909320" y="103536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4936680" y="103536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5016600" y="108432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4976640" y="100296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4936320" y="114912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4789440" y="105192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>
                  <a:off x="4735800" y="98676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4753440" y="833400"/>
                  <a:ext cx="104760" cy="123840"/>
                  <a:chOff x="4753440" y="833400"/>
                  <a:chExt cx="104760" cy="1238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745400">
                    <a:off x="4775760" y="840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4803840" y="87480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>
                    <a:off x="4808880" y="9079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4795560" y="89784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V="1">
                    <a:off x="4807080" y="88308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4797360" y="996120"/>
                  <a:ext cx="97920" cy="123120"/>
                  <a:chOff x="4797360" y="996120"/>
                  <a:chExt cx="97920" cy="1231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0187000">
                    <a:off x="4816440" y="1003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4828680" y="104688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4860720" y="105984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>
                    <a:off x="4842000" y="106704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4838400" y="104832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4856400" y="938520"/>
                  <a:ext cx="59760" cy="108360"/>
                  <a:chOff x="4856400" y="938520"/>
                  <a:chExt cx="59760" cy="10836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4856400" y="938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4874400" y="9759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4898520" y="10004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4878360" y="10000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4882680" y="9810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732200" y="1127880"/>
                  <a:ext cx="97200" cy="83160"/>
                  <a:chOff x="4732200" y="1127880"/>
                  <a:chExt cx="97200" cy="831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15769200">
                    <a:off x="4744080" y="1124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4768560" y="113148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4784760" y="114804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4787640" y="116316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>
                    <a:off x="4771800" y="116928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682880" y="889920"/>
                  <a:ext cx="59760" cy="108360"/>
                  <a:chOff x="4682880" y="889920"/>
                  <a:chExt cx="59760" cy="1083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4682880" y="889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4700880" y="9273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4725000" y="9518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4704840" y="9514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4709160" y="9324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4909680" y="921960"/>
                  <a:ext cx="59760" cy="108360"/>
                  <a:chOff x="4909680" y="921960"/>
                  <a:chExt cx="59760" cy="10836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4909680" y="921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4927680" y="9594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4951800" y="9838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4931640" y="9835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4935960" y="9644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4723200" y="857160"/>
                  <a:ext cx="59760" cy="108360"/>
                  <a:chOff x="4723200" y="857160"/>
                  <a:chExt cx="59760" cy="10836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4723200" y="857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4741200" y="8946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flipV="1">
                    <a:off x="4765320" y="9190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H="1" flipV="1">
                    <a:off x="4745160" y="9187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flipV="1">
                    <a:off x="4749480" y="8996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4847760" y="1170720"/>
                  <a:ext cx="106200" cy="95040"/>
                  <a:chOff x="4847760" y="1170720"/>
                  <a:chExt cx="106200" cy="9504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15198000">
                    <a:off x="4864320" y="1173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4891680" y="117540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4902480" y="11948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4908960" y="12106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>
                    <a:off x="4893120" y="12186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4777560" y="1148040"/>
                  <a:ext cx="113400" cy="108000"/>
                  <a:chOff x="4777560" y="1148040"/>
                  <a:chExt cx="113400" cy="1080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4358600">
                    <a:off x="4797720" y="1157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H="1">
                    <a:off x="4829760" y="115380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flipH="1">
                    <a:off x="4831920" y="117648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4840200" y="11926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4828320" y="120276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4641480" y="1017360"/>
                  <a:ext cx="92880" cy="77400"/>
                  <a:chOff x="4641480" y="1017360"/>
                  <a:chExt cx="92880" cy="7740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16010400">
                    <a:off x="4651200" y="1011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4674600" y="102024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>
                    <a:off x="4692960" y="103572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4694040" y="105012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H="1">
                    <a:off x="4678560" y="105588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4645800" y="1070280"/>
                  <a:ext cx="109800" cy="100800"/>
                  <a:chOff x="4645800" y="1070280"/>
                  <a:chExt cx="109800" cy="1008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14881800">
                    <a:off x="4664160" y="1076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4693320" y="107532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>
                    <a:off x="4700880" y="109620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708080" y="111240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>
                    <a:off x="4693680" y="112104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4716000" y="1059120"/>
                  <a:ext cx="103320" cy="91080"/>
                  <a:chOff x="4716000" y="1059120"/>
                  <a:chExt cx="103320" cy="910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5401400">
                    <a:off x="4731120" y="1059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H="1">
                    <a:off x="4757400" y="106308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H="1">
                    <a:off x="4770000" y="108180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>
                    <a:off x="4775760" y="10972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>
                    <a:off x="4759560" y="110484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4689000" y="945720"/>
                  <a:ext cx="102960" cy="91080"/>
                  <a:chOff x="4689000" y="945720"/>
                  <a:chExt cx="102960" cy="9108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rot="16985400">
                    <a:off x="4704120" y="946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>
                    <a:off x="4723920" y="96696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>
                    <a:off x="4749840" y="97668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4744440" y="9885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>
                    <a:off x="4730400" y="99072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4827600" y="964440"/>
                  <a:ext cx="117360" cy="120240"/>
                  <a:chOff x="4827600" y="964440"/>
                  <a:chExt cx="117360" cy="1202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19036200">
                    <a:off x="4856400" y="9702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flipV="1">
                    <a:off x="4866480" y="102060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flipV="1">
                    <a:off x="4900680" y="102204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4885560" y="103104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flipV="1">
                    <a:off x="4875840" y="101844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4953240" y="909360"/>
                  <a:ext cx="108000" cy="98280"/>
                  <a:chOff x="4953240" y="909360"/>
                  <a:chExt cx="108000" cy="9828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rot="4233000">
                    <a:off x="4970880" y="913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V="1">
                    <a:off x="4983120" y="94032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V="1">
                    <a:off x="4997160" y="9738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flipV="1">
                    <a:off x="4998600" y="95148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>
                    <a:off x="5009040" y="95076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5007240" y="991800"/>
                  <a:ext cx="106920" cy="96120"/>
                  <a:chOff x="5007240" y="991800"/>
                  <a:chExt cx="106920" cy="9612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 rot="4353000">
                    <a:off x="5024160" y="995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V="1">
                    <a:off x="5034960" y="102168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5049360" y="105516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flipV="1">
                    <a:off x="5052240" y="103248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V="1">
                    <a:off x="5062320" y="103248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4831200" y="1077120"/>
                  <a:ext cx="110520" cy="123120"/>
                  <a:chOff x="4831200" y="1077120"/>
                  <a:chExt cx="110520" cy="12312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 rot="19525800">
                    <a:off x="4856400" y="1084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 flipV="1">
                    <a:off x="4867200" y="113148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flipV="1">
                    <a:off x="4900680" y="11379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4884120" y="114624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flipV="1">
                    <a:off x="4876920" y="113076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4723560" y="1063800"/>
                  <a:ext cx="114480" cy="114120"/>
                  <a:chOff x="4723560" y="1063800"/>
                  <a:chExt cx="114480" cy="11412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rot="18890400">
                    <a:off x="4744080" y="1076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 flipV="1">
                    <a:off x="4760640" y="112140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flipV="1">
                    <a:off x="4794840" y="11149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4778280" y="112428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>
                    <a:off x="4770360" y="111744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4630320" y="999000"/>
                  <a:ext cx="114840" cy="113760"/>
                  <a:chOff x="4630320" y="999000"/>
                  <a:chExt cx="114840" cy="11376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 rot="18730200">
                    <a:off x="4651200" y="1011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H="1">
                    <a:off x="4667760" y="105660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flipV="1">
                    <a:off x="4701600" y="104940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4685760" y="105876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 flipV="1">
                    <a:off x="4677480" y="105300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"/>
                <p:cNvGrpSpPr/>
                <p:nvPr/>
              </p:nvGrpSpPr>
              <p:grpSpPr>
                <a:xfrm>
                  <a:off x="4616640" y="931320"/>
                  <a:ext cx="113040" cy="122400"/>
                  <a:chOff x="4616640" y="931320"/>
                  <a:chExt cx="113040" cy="12240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 rot="19362600">
                    <a:off x="4643280" y="938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flipV="1">
                    <a:off x="4653720" y="98640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flipV="1">
                    <a:off x="4687560" y="99144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>
                    <a:off x="4671360" y="9997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 flipV="1">
                    <a:off x="4663440" y="98568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5040000" y="797760"/>
                <a:ext cx="497520" cy="432360"/>
                <a:chOff x="5040000" y="797760"/>
                <a:chExt cx="497520" cy="43236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5241240" y="854280"/>
                  <a:ext cx="111960" cy="104760"/>
                  <a:chOff x="5241240" y="854280"/>
                  <a:chExt cx="111960" cy="10476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 rot="3815400">
                    <a:off x="5260680" y="861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5278320" y="88740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5289840" y="92196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flipV="1">
                    <a:off x="5287680" y="90072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V="1">
                    <a:off x="5298840" y="89820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"/>
                <p:cNvSpPr/>
                <p:nvPr/>
              </p:nvSpPr>
              <p:spPr>
                <a:xfrm flipH="1">
                  <a:off x="5239800" y="106488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46560" y="98388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 flipV="1">
                  <a:off x="5226480" y="90252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 flipV="1">
                  <a:off x="5386320" y="98388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279400" y="108144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 flipV="1">
                  <a:off x="5306040" y="104832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 flipV="1">
                  <a:off x="5199480" y="91908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266440" y="93456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>
                  <a:off x="5159520" y="100008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5332680" y="99972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 flipV="1">
                  <a:off x="5360040" y="99972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5439960" y="104868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V="1">
                  <a:off x="5400000" y="96732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5359680" y="111348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>
                  <a:off x="5212800" y="101628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 flipV="1">
                  <a:off x="5159160" y="95112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5176800" y="797760"/>
                  <a:ext cx="104760" cy="123840"/>
                  <a:chOff x="5176800" y="797760"/>
                  <a:chExt cx="104760" cy="12384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rot="1745400">
                    <a:off x="5199120" y="805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flipV="1">
                    <a:off x="5227200" y="83916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V="1">
                    <a:off x="5232240" y="8722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flipV="1">
                    <a:off x="5218920" y="86220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>
                    <a:off x="5230440" y="84744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5220720" y="960480"/>
                  <a:ext cx="97920" cy="123120"/>
                  <a:chOff x="5220720" y="960480"/>
                  <a:chExt cx="97920" cy="12312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rot="20187000">
                    <a:off x="5239800" y="967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flipV="1">
                    <a:off x="5252040" y="101124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>
                    <a:off x="5284080" y="102420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5265360" y="103140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flipV="1">
                    <a:off x="5261760" y="101268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5279760" y="902880"/>
                  <a:ext cx="59760" cy="108360"/>
                  <a:chOff x="5279760" y="902880"/>
                  <a:chExt cx="59760" cy="1083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5279760" y="902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flipV="1">
                    <a:off x="5297760" y="9403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flipV="1">
                    <a:off x="5321880" y="9648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flipV="1">
                    <a:off x="5301720" y="9644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flipV="1">
                    <a:off x="5306040" y="9453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5155560" y="1092240"/>
                  <a:ext cx="97200" cy="83160"/>
                  <a:chOff x="5155560" y="1092240"/>
                  <a:chExt cx="97200" cy="831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rot="15769200">
                    <a:off x="5167440" y="1089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5191920" y="109584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5208120" y="11124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5211000" y="112752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5195160" y="113364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5106240" y="854280"/>
                  <a:ext cx="59760" cy="108360"/>
                  <a:chOff x="5106240" y="854280"/>
                  <a:chExt cx="59760" cy="10836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5106240" y="854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 flipV="1">
                    <a:off x="5124240" y="8917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 flipV="1">
                    <a:off x="5148360" y="9162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 flipV="1">
                    <a:off x="5128200" y="9158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flipV="1">
                    <a:off x="5132520" y="8967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5333040" y="886320"/>
                  <a:ext cx="59760" cy="108360"/>
                  <a:chOff x="5333040" y="886320"/>
                  <a:chExt cx="59760" cy="10836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>
                    <a:off x="5333040" y="886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flipV="1">
                    <a:off x="5351040" y="9237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 flipV="1">
                    <a:off x="5375160" y="9482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 flipV="1">
                    <a:off x="5355000" y="9478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 flipV="1">
                    <a:off x="5359320" y="9288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5146560" y="821520"/>
                  <a:ext cx="59760" cy="108360"/>
                  <a:chOff x="5146560" y="821520"/>
                  <a:chExt cx="59760" cy="10836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5146560" y="821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 flipV="1">
                    <a:off x="5164560" y="8589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 flipV="1">
                    <a:off x="5188680" y="8834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5168520" y="8830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 flipV="1">
                    <a:off x="5172840" y="8640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5271120" y="1135080"/>
                  <a:ext cx="106200" cy="95040"/>
                  <a:chOff x="5271120" y="1135080"/>
                  <a:chExt cx="106200" cy="9504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 rot="15198000">
                    <a:off x="5287680" y="1137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5315040" y="113976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5325840" y="11592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5332320" y="117504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5316480" y="118296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" name=""/>
                <p:cNvGrpSpPr/>
                <p:nvPr/>
              </p:nvGrpSpPr>
              <p:grpSpPr>
                <a:xfrm>
                  <a:off x="5200920" y="1112400"/>
                  <a:ext cx="113400" cy="108000"/>
                  <a:chOff x="5200920" y="1112400"/>
                  <a:chExt cx="113400" cy="10800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14358600">
                    <a:off x="5221080" y="1121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5253120" y="111816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5255280" y="114084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263560" y="115704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5251680" y="116712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5064840" y="981720"/>
                  <a:ext cx="92880" cy="77400"/>
                  <a:chOff x="5064840" y="981720"/>
                  <a:chExt cx="92880" cy="7740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rot="16010400">
                    <a:off x="5074560" y="975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5097960" y="98460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5116320" y="100008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5117400" y="101448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5101920" y="102024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5069160" y="1034640"/>
                  <a:ext cx="109800" cy="100800"/>
                  <a:chOff x="5069160" y="1034640"/>
                  <a:chExt cx="109800" cy="10080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 rot="14881800">
                    <a:off x="5087520" y="1040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5116680" y="103968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5124240" y="106056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5131440" y="107676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5117040" y="108540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5139360" y="1023480"/>
                  <a:ext cx="103320" cy="91080"/>
                  <a:chOff x="5139360" y="1023480"/>
                  <a:chExt cx="103320" cy="9108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 rot="15401400">
                    <a:off x="5154480" y="1024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5180760" y="102744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5193360" y="104616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5199120" y="106164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5182920" y="106920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5112360" y="910080"/>
                  <a:ext cx="102960" cy="91080"/>
                  <a:chOff x="5112360" y="910080"/>
                  <a:chExt cx="102960" cy="9108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rot="16985400">
                    <a:off x="5127480" y="911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5147280" y="93132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5173200" y="94104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5167800" y="95292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5153760" y="95508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5250960" y="928800"/>
                  <a:ext cx="117360" cy="120240"/>
                  <a:chOff x="5250960" y="928800"/>
                  <a:chExt cx="117360" cy="1202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9036200">
                    <a:off x="5279760" y="93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 flipV="1">
                    <a:off x="5289840" y="98496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 flipV="1">
                    <a:off x="5324040" y="98640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5308920" y="99540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flipV="1">
                    <a:off x="5299200" y="98280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5376600" y="873720"/>
                  <a:ext cx="108000" cy="98280"/>
                  <a:chOff x="5376600" y="873720"/>
                  <a:chExt cx="108000" cy="982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4233000">
                    <a:off x="5394240" y="878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V="1">
                    <a:off x="5406480" y="90468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V="1">
                    <a:off x="5420520" y="93816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 flipV="1">
                    <a:off x="5421960" y="91584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V="1">
                    <a:off x="5432400" y="91512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5430600" y="956160"/>
                  <a:ext cx="106920" cy="96120"/>
                  <a:chOff x="5430600" y="956160"/>
                  <a:chExt cx="106920" cy="9612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rot="4353000">
                    <a:off x="5447520" y="959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V="1">
                    <a:off x="5458320" y="98604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flipV="1">
                    <a:off x="5472720" y="101952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H="1" flipV="1">
                    <a:off x="5475600" y="99684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V="1">
                    <a:off x="5485680" y="99684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5254560" y="1041480"/>
                  <a:ext cx="110520" cy="123120"/>
                  <a:chOff x="5254560" y="1041480"/>
                  <a:chExt cx="110520" cy="12312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rot="19525800">
                    <a:off x="5279760" y="1048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flipV="1">
                    <a:off x="5290560" y="109584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flipH="1" flipV="1">
                    <a:off x="5324040" y="110232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flipH="1">
                    <a:off x="5307480" y="111060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flipV="1">
                    <a:off x="5300280" y="109512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5146920" y="1028160"/>
                  <a:ext cx="114480" cy="114120"/>
                  <a:chOff x="5146920" y="1028160"/>
                  <a:chExt cx="114480" cy="11412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 rot="18890400">
                    <a:off x="5167440" y="1040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 flipH="1" flipV="1">
                    <a:off x="5184000" y="108576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 flipH="1" flipV="1">
                    <a:off x="5218200" y="107928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 flipH="1">
                    <a:off x="5201640" y="108864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 flipV="1">
                    <a:off x="5193720" y="108180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5053680" y="963360"/>
                  <a:ext cx="114840" cy="113760"/>
                  <a:chOff x="5053680" y="963360"/>
                  <a:chExt cx="114840" cy="11376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 rot="18730200">
                    <a:off x="5074560" y="975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 flipH="1">
                    <a:off x="5091120" y="102096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 flipH="1" flipV="1">
                    <a:off x="5124960" y="101376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>
                    <a:off x="5109120" y="102312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 flipV="1">
                    <a:off x="5100840" y="101736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0" name=""/>
                <p:cNvGrpSpPr/>
                <p:nvPr/>
              </p:nvGrpSpPr>
              <p:grpSpPr>
                <a:xfrm>
                  <a:off x="5040000" y="895680"/>
                  <a:ext cx="113040" cy="122400"/>
                  <a:chOff x="5040000" y="895680"/>
                  <a:chExt cx="113040" cy="12240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 rot="19362600">
                    <a:off x="5066640" y="902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H="1" flipV="1">
                    <a:off x="5077080" y="95076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 flipV="1">
                    <a:off x="5110920" y="95580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 flipH="1">
                    <a:off x="5094720" y="96408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 flipV="1">
                    <a:off x="5086800" y="95004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6" name=""/>
              <p:cNvGrpSpPr/>
              <p:nvPr/>
            </p:nvGrpSpPr>
            <p:grpSpPr>
              <a:xfrm>
                <a:off x="4950720" y="487800"/>
                <a:ext cx="497520" cy="432360"/>
                <a:chOff x="4950720" y="487800"/>
                <a:chExt cx="497520" cy="43236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5151960" y="544320"/>
                  <a:ext cx="111960" cy="104760"/>
                  <a:chOff x="5151960" y="544320"/>
                  <a:chExt cx="111960" cy="104760"/>
                </a:xfrm>
              </p:grpSpPr>
              <p:sp>
                <p:nvSpPr>
                  <p:cNvPr id="678" name=""/>
                  <p:cNvSpPr/>
                  <p:nvPr/>
                </p:nvSpPr>
                <p:spPr>
                  <a:xfrm rot="3815400">
                    <a:off x="5171400" y="5518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V="1">
                    <a:off x="5189040" y="57744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>
                    <a:off x="5200560" y="61200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 flipV="1">
                    <a:off x="5198400" y="59076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 flipV="1">
                    <a:off x="5209560" y="5882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"/>
                <p:cNvSpPr/>
                <p:nvPr/>
              </p:nvSpPr>
              <p:spPr>
                <a:xfrm flipH="1">
                  <a:off x="5150520" y="75492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057280" y="6739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H="1" flipV="1">
                  <a:off x="5137200" y="59256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 flipV="1">
                  <a:off x="5297040" y="67392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5190120" y="77148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H="1" flipV="1">
                  <a:off x="5216760" y="73836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H="1" flipV="1">
                  <a:off x="5110200" y="60912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5177160" y="62460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H="1">
                  <a:off x="5070240" y="69012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H="1" flipV="1">
                  <a:off x="5243400" y="68976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H="1" flipV="1">
                  <a:off x="5270760" y="68976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5350680" y="73872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5310720" y="65736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>
                  <a:off x="5270400" y="80352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H="1">
                  <a:off x="5123520" y="70632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H="1" flipV="1">
                  <a:off x="5069880" y="64116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5087520" y="487800"/>
                  <a:ext cx="104760" cy="123840"/>
                  <a:chOff x="5087520" y="487800"/>
                  <a:chExt cx="104760" cy="12384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 rot="1745400">
                    <a:off x="5109840" y="495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 flipV="1">
                    <a:off x="5137920" y="52920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V="1">
                    <a:off x="5142960" y="5623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H="1" flipV="1">
                    <a:off x="5129640" y="55224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V="1">
                    <a:off x="5141160" y="53748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5131440" y="650520"/>
                  <a:ext cx="97920" cy="123120"/>
                  <a:chOff x="5131440" y="650520"/>
                  <a:chExt cx="97920" cy="12312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rot="20187000">
                    <a:off x="5150520" y="657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 flipV="1">
                    <a:off x="5162760" y="70128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flipV="1">
                    <a:off x="5194800" y="71424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176080" y="72144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flipV="1">
                    <a:off x="5172480" y="70272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"/>
                <p:cNvGrpSpPr/>
                <p:nvPr/>
              </p:nvGrpSpPr>
              <p:grpSpPr>
                <a:xfrm>
                  <a:off x="5190480" y="592920"/>
                  <a:ext cx="59760" cy="108360"/>
                  <a:chOff x="5190480" y="592920"/>
                  <a:chExt cx="59760" cy="108360"/>
                </a:xfrm>
              </p:grpSpPr>
              <p:sp>
                <p:nvSpPr>
                  <p:cNvPr id="712" name=""/>
                  <p:cNvSpPr/>
                  <p:nvPr/>
                </p:nvSpPr>
                <p:spPr>
                  <a:xfrm>
                    <a:off x="5190480" y="592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 flipH="1" flipV="1">
                    <a:off x="5208480" y="6303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 flipH="1" flipV="1">
                    <a:off x="5232600" y="6548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 flipH="1" flipV="1">
                    <a:off x="5212440" y="6544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 flipH="1" flipV="1">
                    <a:off x="5216760" y="6354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5066280" y="782280"/>
                  <a:ext cx="97200" cy="83160"/>
                  <a:chOff x="5066280" y="782280"/>
                  <a:chExt cx="97200" cy="8316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 rot="15769200">
                    <a:off x="5078160" y="779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H="1">
                    <a:off x="5102640" y="78588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5118840" y="80244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>
                    <a:off x="5121720" y="81756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5105880" y="82368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" name=""/>
                <p:cNvGrpSpPr/>
                <p:nvPr/>
              </p:nvGrpSpPr>
              <p:grpSpPr>
                <a:xfrm>
                  <a:off x="5016960" y="544320"/>
                  <a:ext cx="59760" cy="108360"/>
                  <a:chOff x="5016960" y="544320"/>
                  <a:chExt cx="59760" cy="10836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5016960" y="544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>
                    <a:off x="5034960" y="5817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 flipV="1">
                    <a:off x="5059080" y="6062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 flipV="1">
                    <a:off x="5038920" y="6058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H="1" flipV="1">
                    <a:off x="5043240" y="5868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5243760" y="576360"/>
                  <a:ext cx="59760" cy="108360"/>
                  <a:chOff x="5243760" y="576360"/>
                  <a:chExt cx="59760" cy="10836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>
                    <a:off x="5243760" y="576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H="1" flipV="1">
                    <a:off x="5261760" y="6138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H="1" flipV="1">
                    <a:off x="5285880" y="6382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H="1" flipV="1">
                    <a:off x="5265720" y="6379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 flipV="1">
                    <a:off x="5270040" y="6188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5057280" y="511560"/>
                  <a:ext cx="59760" cy="108360"/>
                  <a:chOff x="5057280" y="511560"/>
                  <a:chExt cx="59760" cy="10836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5057280" y="511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 flipV="1">
                    <a:off x="5075280" y="5490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 flipV="1">
                    <a:off x="5099400" y="5734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 flipV="1">
                    <a:off x="5079240" y="5731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H="1" flipV="1">
                    <a:off x="5083560" y="5540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5181840" y="825120"/>
                  <a:ext cx="106200" cy="95040"/>
                  <a:chOff x="5181840" y="825120"/>
                  <a:chExt cx="106200" cy="9504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 rot="15198000">
                    <a:off x="5198400" y="828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>
                    <a:off x="5225760" y="82980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5236560" y="8492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243040" y="8650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5227200" y="8730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5111640" y="802440"/>
                  <a:ext cx="113400" cy="108000"/>
                  <a:chOff x="5111640" y="802440"/>
                  <a:chExt cx="113400" cy="10800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 rot="14358600">
                    <a:off x="5131800" y="811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5163840" y="80820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5166000" y="83088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5174280" y="8470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H="1">
                    <a:off x="5162400" y="85716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4975560" y="671760"/>
                  <a:ext cx="92880" cy="77400"/>
                  <a:chOff x="4975560" y="671760"/>
                  <a:chExt cx="92880" cy="7740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 rot="16010400">
                    <a:off x="4985280" y="665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5008680" y="67464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5027040" y="69012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>
                    <a:off x="5028120" y="70452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5012640" y="71028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"/>
                <p:cNvGrpSpPr/>
                <p:nvPr/>
              </p:nvGrpSpPr>
              <p:grpSpPr>
                <a:xfrm>
                  <a:off x="4979880" y="724680"/>
                  <a:ext cx="109800" cy="100800"/>
                  <a:chOff x="4979880" y="724680"/>
                  <a:chExt cx="109800" cy="10080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 rot="14881800">
                    <a:off x="4998240" y="73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>
                    <a:off x="5027400" y="72972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>
                    <a:off x="5034960" y="75060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5042160" y="76680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>
                    <a:off x="5027760" y="77544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5050080" y="713520"/>
                  <a:ext cx="103320" cy="91080"/>
                  <a:chOff x="5050080" y="713520"/>
                  <a:chExt cx="103320" cy="9108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 rot="15401400">
                    <a:off x="5065200" y="714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>
                    <a:off x="5091480" y="71748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>
                    <a:off x="5104080" y="73620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5109840" y="7516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>
                    <a:off x="5093640" y="75924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5023080" y="600120"/>
                  <a:ext cx="102960" cy="91080"/>
                  <a:chOff x="5023080" y="600120"/>
                  <a:chExt cx="102960" cy="9108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 rot="16985400">
                    <a:off x="5038200" y="601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>
                    <a:off x="5058000" y="62136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>
                    <a:off x="5083920" y="63108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>
                    <a:off x="5078520" y="6429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>
                    <a:off x="5064480" y="64512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5161680" y="618840"/>
                  <a:ext cx="117360" cy="120240"/>
                  <a:chOff x="5161680" y="618840"/>
                  <a:chExt cx="117360" cy="1202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rot="19036200">
                    <a:off x="5190480" y="624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5200560" y="67500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5234760" y="67644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>
                    <a:off x="5219640" y="68544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5209920" y="67284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" name=""/>
                <p:cNvGrpSpPr/>
                <p:nvPr/>
              </p:nvGrpSpPr>
              <p:grpSpPr>
                <a:xfrm>
                  <a:off x="5287320" y="563760"/>
                  <a:ext cx="108000" cy="98280"/>
                  <a:chOff x="5287320" y="563760"/>
                  <a:chExt cx="108000" cy="9828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4233000">
                    <a:off x="5304960" y="5680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V="1">
                    <a:off x="5317200" y="59472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V="1">
                    <a:off x="5331240" y="6282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5332680" y="60588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V="1">
                    <a:off x="5343120" y="60516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5341320" y="646200"/>
                  <a:ext cx="106920" cy="96120"/>
                  <a:chOff x="5341320" y="646200"/>
                  <a:chExt cx="106920" cy="961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4353000">
                    <a:off x="5358240" y="649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>
                    <a:off x="5369040" y="67608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V="1">
                    <a:off x="5383440" y="70956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5386320" y="68688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V="1">
                    <a:off x="5396400" y="68688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5165280" y="731520"/>
                  <a:ext cx="110520" cy="123120"/>
                  <a:chOff x="5165280" y="731520"/>
                  <a:chExt cx="110520" cy="12312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19525800">
                    <a:off x="5190480" y="738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5201280" y="78588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5234760" y="7923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>
                    <a:off x="5218200" y="80064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5211000" y="78516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5057640" y="718200"/>
                  <a:ext cx="114480" cy="114120"/>
                  <a:chOff x="5057640" y="718200"/>
                  <a:chExt cx="114480" cy="11412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18890400">
                    <a:off x="5078160" y="73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5094720" y="77580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5128920" y="7693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>
                    <a:off x="5112360" y="77868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5104440" y="77184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4964400" y="653400"/>
                  <a:ext cx="114840" cy="113760"/>
                  <a:chOff x="4964400" y="653400"/>
                  <a:chExt cx="114840" cy="11376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rot="18730200">
                    <a:off x="4985280" y="665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>
                    <a:off x="5001840" y="71100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5035680" y="70380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>
                    <a:off x="5019840" y="71316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5011560" y="70740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4950720" y="585720"/>
                  <a:ext cx="113040" cy="122400"/>
                  <a:chOff x="4950720" y="585720"/>
                  <a:chExt cx="113040" cy="12240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rot="19362600">
                    <a:off x="4977360" y="592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flipV="1">
                    <a:off x="4987800" y="64080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 flipH="1" flipV="1">
                    <a:off x="5021640" y="64584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flipH="1">
                    <a:off x="5005440" y="6541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flipV="1">
                    <a:off x="4997520" y="64008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9" name=""/>
              <p:cNvGrpSpPr/>
              <p:nvPr/>
            </p:nvGrpSpPr>
            <p:grpSpPr>
              <a:xfrm>
                <a:off x="5364000" y="487800"/>
                <a:ext cx="497520" cy="432360"/>
                <a:chOff x="5364000" y="487800"/>
                <a:chExt cx="497520" cy="432360"/>
              </a:xfrm>
            </p:grpSpPr>
            <p:grpSp>
              <p:nvGrpSpPr>
                <p:cNvPr id="820" name=""/>
                <p:cNvGrpSpPr/>
                <p:nvPr/>
              </p:nvGrpSpPr>
              <p:grpSpPr>
                <a:xfrm>
                  <a:off x="5565240" y="544320"/>
                  <a:ext cx="111960" cy="104760"/>
                  <a:chOff x="5565240" y="544320"/>
                  <a:chExt cx="111960" cy="104760"/>
                </a:xfrm>
              </p:grpSpPr>
              <p:sp>
                <p:nvSpPr>
                  <p:cNvPr id="821" name=""/>
                  <p:cNvSpPr/>
                  <p:nvPr/>
                </p:nvSpPr>
                <p:spPr>
                  <a:xfrm rot="3815400">
                    <a:off x="5584680" y="5518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V="1">
                    <a:off x="5602320" y="57744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V="1">
                    <a:off x="5613840" y="61200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flipV="1">
                    <a:off x="5611680" y="59076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V="1">
                    <a:off x="5622840" y="5882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6" name=""/>
                <p:cNvSpPr/>
                <p:nvPr/>
              </p:nvSpPr>
              <p:spPr>
                <a:xfrm flipH="1">
                  <a:off x="5563800" y="75492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5470560" y="6739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flipV="1">
                  <a:off x="5550480" y="59256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flipV="1">
                  <a:off x="5710320" y="67392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5603400" y="77148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flipV="1">
                  <a:off x="5630040" y="73836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flipV="1">
                  <a:off x="5523480" y="60912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5590440" y="62460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5483520" y="69012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 flipV="1">
                  <a:off x="5656680" y="68976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flipV="1">
                  <a:off x="5684040" y="68976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5763960" y="73872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5724000" y="65736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5683680" y="80352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5536800" y="70632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flipV="1">
                  <a:off x="5483160" y="64116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2" name=""/>
                <p:cNvGrpSpPr/>
                <p:nvPr/>
              </p:nvGrpSpPr>
              <p:grpSpPr>
                <a:xfrm>
                  <a:off x="5500800" y="487800"/>
                  <a:ext cx="104760" cy="123840"/>
                  <a:chOff x="5500800" y="487800"/>
                  <a:chExt cx="104760" cy="12384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rot="1745400">
                    <a:off x="5523120" y="495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 flipV="1">
                    <a:off x="5551200" y="52920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V="1">
                    <a:off x="5556240" y="5623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 flipV="1">
                    <a:off x="5542920" y="55224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V="1">
                    <a:off x="5554440" y="53748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5544720" y="650520"/>
                  <a:ext cx="97920" cy="123120"/>
                  <a:chOff x="5544720" y="650520"/>
                  <a:chExt cx="97920" cy="12312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rot="20187000">
                    <a:off x="5563800" y="657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flipV="1">
                    <a:off x="5576040" y="70128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 flipV="1">
                    <a:off x="5608080" y="71424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5589360" y="72144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 flipV="1">
                    <a:off x="5585760" y="70272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5603760" y="592920"/>
                  <a:ext cx="59760" cy="108360"/>
                  <a:chOff x="5603760" y="592920"/>
                  <a:chExt cx="59760" cy="10836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>
                    <a:off x="5603760" y="592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 flipV="1">
                    <a:off x="5621760" y="6303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 flipV="1">
                    <a:off x="5645880" y="6548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 flipV="1">
                    <a:off x="5625720" y="6544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flipV="1">
                    <a:off x="5630040" y="6354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5479560" y="782280"/>
                  <a:ext cx="97200" cy="83160"/>
                  <a:chOff x="5479560" y="782280"/>
                  <a:chExt cx="97200" cy="8316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rot="15769200">
                    <a:off x="5491440" y="779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5515920" y="78588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5532120" y="80244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5535000" y="81756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5519160" y="82368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5430240" y="544320"/>
                  <a:ext cx="59760" cy="108360"/>
                  <a:chOff x="5430240" y="544320"/>
                  <a:chExt cx="59760" cy="10836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5430240" y="544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 flipV="1">
                    <a:off x="5448240" y="5817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 flipV="1">
                    <a:off x="5472360" y="6062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 flipV="1">
                    <a:off x="5452200" y="6058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H="1" flipV="1">
                    <a:off x="5456520" y="5868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5657040" y="576360"/>
                  <a:ext cx="59760" cy="108360"/>
                  <a:chOff x="5657040" y="576360"/>
                  <a:chExt cx="59760" cy="10836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5657040" y="576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 flipV="1">
                    <a:off x="5675040" y="6138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H="1" flipV="1">
                    <a:off x="5699160" y="6382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H="1" flipV="1">
                    <a:off x="5679000" y="6379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H="1" flipV="1">
                    <a:off x="5683320" y="6188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8" name=""/>
                <p:cNvGrpSpPr/>
                <p:nvPr/>
              </p:nvGrpSpPr>
              <p:grpSpPr>
                <a:xfrm>
                  <a:off x="5470560" y="511560"/>
                  <a:ext cx="59760" cy="108360"/>
                  <a:chOff x="5470560" y="511560"/>
                  <a:chExt cx="59760" cy="10836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5470560" y="511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>
                    <a:off x="5488560" y="5490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 flipV="1">
                    <a:off x="5512680" y="5734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H="1" flipV="1">
                    <a:off x="5492520" y="5731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H="1" flipV="1">
                    <a:off x="5496840" y="5540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4" name=""/>
                <p:cNvGrpSpPr/>
                <p:nvPr/>
              </p:nvGrpSpPr>
              <p:grpSpPr>
                <a:xfrm>
                  <a:off x="5595120" y="825120"/>
                  <a:ext cx="106200" cy="95040"/>
                  <a:chOff x="5595120" y="825120"/>
                  <a:chExt cx="106200" cy="9504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 rot="15198000">
                    <a:off x="5611680" y="828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 flipH="1">
                    <a:off x="5639040" y="82980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 flipH="1">
                    <a:off x="5649840" y="8492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656320" y="8650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 flipH="1">
                    <a:off x="5640480" y="8730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5524920" y="802440"/>
                  <a:ext cx="113400" cy="108000"/>
                  <a:chOff x="5524920" y="802440"/>
                  <a:chExt cx="113400" cy="1080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 rot="14358600">
                    <a:off x="5545080" y="811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 flipH="1">
                    <a:off x="5577120" y="80820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 flipH="1">
                    <a:off x="5579280" y="83088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5587560" y="8470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 flipH="1">
                    <a:off x="5575680" y="85716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6" name=""/>
                <p:cNvGrpSpPr/>
                <p:nvPr/>
              </p:nvGrpSpPr>
              <p:grpSpPr>
                <a:xfrm>
                  <a:off x="5388840" y="671760"/>
                  <a:ext cx="92880" cy="77400"/>
                  <a:chOff x="5388840" y="671760"/>
                  <a:chExt cx="92880" cy="77400"/>
                </a:xfrm>
              </p:grpSpPr>
              <p:sp>
                <p:nvSpPr>
                  <p:cNvPr id="897" name=""/>
                  <p:cNvSpPr/>
                  <p:nvPr/>
                </p:nvSpPr>
                <p:spPr>
                  <a:xfrm rot="16010400">
                    <a:off x="5398560" y="665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 flipH="1">
                    <a:off x="5421960" y="67464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 flipH="1">
                    <a:off x="5440320" y="69012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H="1">
                    <a:off x="5441400" y="70452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 flipH="1">
                    <a:off x="5425920" y="71028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"/>
                <p:cNvGrpSpPr/>
                <p:nvPr/>
              </p:nvGrpSpPr>
              <p:grpSpPr>
                <a:xfrm>
                  <a:off x="5393160" y="724680"/>
                  <a:ext cx="109800" cy="100800"/>
                  <a:chOff x="5393160" y="724680"/>
                  <a:chExt cx="109800" cy="100800"/>
                </a:xfrm>
              </p:grpSpPr>
              <p:sp>
                <p:nvSpPr>
                  <p:cNvPr id="903" name=""/>
                  <p:cNvSpPr/>
                  <p:nvPr/>
                </p:nvSpPr>
                <p:spPr>
                  <a:xfrm rot="14881800">
                    <a:off x="5411520" y="73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>
                    <a:off x="5440680" y="72972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flipH="1">
                    <a:off x="5448240" y="75060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5455440" y="76680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flipH="1">
                    <a:off x="5441040" y="77544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" name=""/>
                <p:cNvGrpSpPr/>
                <p:nvPr/>
              </p:nvGrpSpPr>
              <p:grpSpPr>
                <a:xfrm>
                  <a:off x="5463360" y="713520"/>
                  <a:ext cx="103320" cy="91080"/>
                  <a:chOff x="5463360" y="713520"/>
                  <a:chExt cx="103320" cy="91080"/>
                </a:xfrm>
              </p:grpSpPr>
              <p:sp>
                <p:nvSpPr>
                  <p:cNvPr id="909" name=""/>
                  <p:cNvSpPr/>
                  <p:nvPr/>
                </p:nvSpPr>
                <p:spPr>
                  <a:xfrm rot="15401400">
                    <a:off x="5478480" y="714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 flipH="1">
                    <a:off x="5504760" y="71748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 flipH="1">
                    <a:off x="5517360" y="73620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5523120" y="75168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>
                    <a:off x="5506920" y="75924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"/>
                <p:cNvGrpSpPr/>
                <p:nvPr/>
              </p:nvGrpSpPr>
              <p:grpSpPr>
                <a:xfrm>
                  <a:off x="5436360" y="600120"/>
                  <a:ext cx="102960" cy="91080"/>
                  <a:chOff x="5436360" y="600120"/>
                  <a:chExt cx="102960" cy="91080"/>
                </a:xfrm>
              </p:grpSpPr>
              <p:sp>
                <p:nvSpPr>
                  <p:cNvPr id="915" name=""/>
                  <p:cNvSpPr/>
                  <p:nvPr/>
                </p:nvSpPr>
                <p:spPr>
                  <a:xfrm rot="16985400">
                    <a:off x="5451480" y="601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5471280" y="62136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5497200" y="63108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5491800" y="6429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H="1">
                    <a:off x="5477760" y="64512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5574960" y="618840"/>
                  <a:ext cx="117360" cy="120240"/>
                  <a:chOff x="5574960" y="618840"/>
                  <a:chExt cx="117360" cy="1202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rot="19036200">
                    <a:off x="5603760" y="624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 flipV="1">
                    <a:off x="5613840" y="67500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 flipV="1">
                    <a:off x="5648040" y="67644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5632920" y="68544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 flipV="1">
                    <a:off x="5623200" y="67284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"/>
                <p:cNvGrpSpPr/>
                <p:nvPr/>
              </p:nvGrpSpPr>
              <p:grpSpPr>
                <a:xfrm>
                  <a:off x="5700600" y="563760"/>
                  <a:ext cx="108000" cy="98280"/>
                  <a:chOff x="5700600" y="563760"/>
                  <a:chExt cx="108000" cy="9828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rot="4233000">
                    <a:off x="5718240" y="5680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 flipV="1">
                    <a:off x="5730480" y="59472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 flipV="1">
                    <a:off x="5744520" y="6282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 flipV="1">
                    <a:off x="5745960" y="60588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 flipV="1">
                    <a:off x="5756400" y="60516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" name=""/>
                <p:cNvGrpSpPr/>
                <p:nvPr/>
              </p:nvGrpSpPr>
              <p:grpSpPr>
                <a:xfrm>
                  <a:off x="5754600" y="646200"/>
                  <a:ext cx="106920" cy="96120"/>
                  <a:chOff x="5754600" y="646200"/>
                  <a:chExt cx="106920" cy="96120"/>
                </a:xfrm>
              </p:grpSpPr>
              <p:sp>
                <p:nvSpPr>
                  <p:cNvPr id="933" name=""/>
                  <p:cNvSpPr/>
                  <p:nvPr/>
                </p:nvSpPr>
                <p:spPr>
                  <a:xfrm rot="4353000">
                    <a:off x="5771520" y="649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 flipV="1">
                    <a:off x="5782320" y="67608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flipV="1">
                    <a:off x="5796720" y="70956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 flipH="1" flipV="1">
                    <a:off x="5799600" y="68688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 flipV="1">
                    <a:off x="5809680" y="68688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5578560" y="731520"/>
                  <a:ext cx="110520" cy="123120"/>
                  <a:chOff x="5578560" y="731520"/>
                  <a:chExt cx="110520" cy="12312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 rot="19525800">
                    <a:off x="5603760" y="738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 flipH="1" flipV="1">
                    <a:off x="5614560" y="78588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 flipV="1">
                    <a:off x="5648040" y="7923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flipH="1">
                    <a:off x="5631480" y="80064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 flipV="1">
                    <a:off x="5624280" y="78516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5470920" y="718200"/>
                  <a:ext cx="114480" cy="114120"/>
                  <a:chOff x="5470920" y="718200"/>
                  <a:chExt cx="114480" cy="114120"/>
                </a:xfrm>
              </p:grpSpPr>
              <p:sp>
                <p:nvSpPr>
                  <p:cNvPr id="945" name=""/>
                  <p:cNvSpPr/>
                  <p:nvPr/>
                </p:nvSpPr>
                <p:spPr>
                  <a:xfrm rot="18890400">
                    <a:off x="5491440" y="73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 flipV="1">
                    <a:off x="5508000" y="77580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 flipV="1">
                    <a:off x="5542200" y="7693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 flipH="1">
                    <a:off x="5525640" y="77868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 flipV="1">
                    <a:off x="5517720" y="77184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377680" y="653400"/>
                  <a:ext cx="114840" cy="113760"/>
                  <a:chOff x="5377680" y="653400"/>
                  <a:chExt cx="114840" cy="11376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 rot="18730200">
                    <a:off x="5398560" y="6656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>
                    <a:off x="5415120" y="71100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flipH="1" flipV="1">
                    <a:off x="5448960" y="70380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H="1">
                    <a:off x="5433120" y="71316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 flipV="1">
                    <a:off x="5424840" y="70740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5364000" y="585720"/>
                  <a:ext cx="113040" cy="122400"/>
                  <a:chOff x="5364000" y="585720"/>
                  <a:chExt cx="113040" cy="1224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 rot="19362600">
                    <a:off x="5390640" y="592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 flipV="1">
                    <a:off x="5401080" y="64080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 flipV="1">
                    <a:off x="5434920" y="64584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>
                    <a:off x="5418720" y="6541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 flipV="1">
                    <a:off x="5410800" y="64008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2" name=""/>
              <p:cNvGrpSpPr/>
              <p:nvPr/>
            </p:nvGrpSpPr>
            <p:grpSpPr>
              <a:xfrm>
                <a:off x="5305320" y="1697040"/>
                <a:ext cx="497520" cy="432360"/>
                <a:chOff x="5305320" y="1697040"/>
                <a:chExt cx="497520" cy="432360"/>
              </a:xfrm>
            </p:grpSpPr>
            <p:grpSp>
              <p:nvGrpSpPr>
                <p:cNvPr id="963" name=""/>
                <p:cNvGrpSpPr/>
                <p:nvPr/>
              </p:nvGrpSpPr>
              <p:grpSpPr>
                <a:xfrm>
                  <a:off x="5506560" y="1753560"/>
                  <a:ext cx="111960" cy="104760"/>
                  <a:chOff x="5506560" y="1753560"/>
                  <a:chExt cx="111960" cy="104760"/>
                </a:xfrm>
              </p:grpSpPr>
              <p:sp>
                <p:nvSpPr>
                  <p:cNvPr id="964" name=""/>
                  <p:cNvSpPr/>
                  <p:nvPr/>
                </p:nvSpPr>
                <p:spPr>
                  <a:xfrm rot="3815400">
                    <a:off x="5526000" y="1761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V="1">
                    <a:off x="5543640" y="178668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V="1">
                    <a:off x="5555160" y="182124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 flipV="1">
                    <a:off x="5553000" y="180000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V="1">
                    <a:off x="5564160" y="179748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9" name=""/>
                <p:cNvSpPr/>
                <p:nvPr/>
              </p:nvSpPr>
              <p:spPr>
                <a:xfrm flipH="1">
                  <a:off x="5505120" y="196416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411880" y="188316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>
                  <a:off x="5491800" y="180180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>
                  <a:off x="5651640" y="188316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5544720" y="198072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5571360" y="194760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5464800" y="181836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5531760" y="183384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5424840" y="189936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>
                  <a:off x="5598000" y="189900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flipV="1">
                  <a:off x="5625360" y="189900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5705280" y="194796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5665320" y="186660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5625000" y="201276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5478120" y="191556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flipV="1">
                  <a:off x="5424480" y="185040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5" name=""/>
                <p:cNvGrpSpPr/>
                <p:nvPr/>
              </p:nvGrpSpPr>
              <p:grpSpPr>
                <a:xfrm>
                  <a:off x="5442120" y="1697040"/>
                  <a:ext cx="104760" cy="123840"/>
                  <a:chOff x="5442120" y="1697040"/>
                  <a:chExt cx="104760" cy="123840"/>
                </a:xfrm>
              </p:grpSpPr>
              <p:sp>
                <p:nvSpPr>
                  <p:cNvPr id="986" name=""/>
                  <p:cNvSpPr/>
                  <p:nvPr/>
                </p:nvSpPr>
                <p:spPr>
                  <a:xfrm rot="1745400">
                    <a:off x="5464440" y="1704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 flipH="1" flipV="1">
                    <a:off x="5492520" y="173844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 flipV="1">
                    <a:off x="5497560" y="177156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 flipV="1">
                    <a:off x="5484240" y="176148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V="1">
                    <a:off x="5495760" y="174672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"/>
                <p:cNvGrpSpPr/>
                <p:nvPr/>
              </p:nvGrpSpPr>
              <p:grpSpPr>
                <a:xfrm>
                  <a:off x="5486040" y="1859760"/>
                  <a:ext cx="97920" cy="123120"/>
                  <a:chOff x="5486040" y="1859760"/>
                  <a:chExt cx="97920" cy="1231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 rot="20187000">
                    <a:off x="5505120" y="1866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flipV="1">
                    <a:off x="5517360" y="191052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 flipV="1">
                    <a:off x="5549400" y="192348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flipH="1">
                    <a:off x="5530680" y="193068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flipH="1" flipV="1">
                    <a:off x="5527080" y="191196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5545080" y="1802160"/>
                  <a:ext cx="59760" cy="108360"/>
                  <a:chOff x="5545080" y="1802160"/>
                  <a:chExt cx="59760" cy="108360"/>
                </a:xfrm>
              </p:grpSpPr>
              <p:sp>
                <p:nvSpPr>
                  <p:cNvPr id="998" name=""/>
                  <p:cNvSpPr/>
                  <p:nvPr/>
                </p:nvSpPr>
                <p:spPr>
                  <a:xfrm>
                    <a:off x="5545080" y="1802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flipV="1">
                    <a:off x="5563080" y="18396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H="1" flipV="1">
                    <a:off x="5587200" y="18640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H="1" flipV="1">
                    <a:off x="5567040" y="18637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 flipV="1">
                    <a:off x="5571360" y="18446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" name=""/>
                <p:cNvGrpSpPr/>
                <p:nvPr/>
              </p:nvGrpSpPr>
              <p:grpSpPr>
                <a:xfrm>
                  <a:off x="5420880" y="1991520"/>
                  <a:ext cx="97200" cy="83160"/>
                  <a:chOff x="5420880" y="1991520"/>
                  <a:chExt cx="97200" cy="83160"/>
                </a:xfrm>
              </p:grpSpPr>
              <p:sp>
                <p:nvSpPr>
                  <p:cNvPr id="1004" name=""/>
                  <p:cNvSpPr/>
                  <p:nvPr/>
                </p:nvSpPr>
                <p:spPr>
                  <a:xfrm rot="15769200">
                    <a:off x="5432760" y="19882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 flipH="1">
                    <a:off x="5457240" y="199512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H="1">
                    <a:off x="5473440" y="20116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>
                    <a:off x="5476320" y="202680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>
                    <a:off x="5460480" y="203292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5371560" y="1753560"/>
                  <a:ext cx="59760" cy="108360"/>
                  <a:chOff x="5371560" y="1753560"/>
                  <a:chExt cx="59760" cy="10836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5371560" y="1753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 flipV="1">
                    <a:off x="5389560" y="17910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 flipV="1">
                    <a:off x="5413680" y="18154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flipH="1" flipV="1">
                    <a:off x="5393520" y="18151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flipV="1">
                    <a:off x="5397840" y="17960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5598360" y="1785600"/>
                  <a:ext cx="59760" cy="108360"/>
                  <a:chOff x="5598360" y="1785600"/>
                  <a:chExt cx="59760" cy="1083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5598360" y="1785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 flipV="1">
                    <a:off x="5616360" y="182304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 flipV="1">
                    <a:off x="5640480" y="184752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flipH="1" flipV="1">
                    <a:off x="5620320" y="184716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 flipV="1">
                    <a:off x="5624640" y="182808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5411880" y="1720800"/>
                  <a:ext cx="59760" cy="108360"/>
                  <a:chOff x="5411880" y="1720800"/>
                  <a:chExt cx="59760" cy="10836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5411880" y="1720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 flipH="1" flipV="1">
                    <a:off x="5429880" y="175824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 flipH="1" flipV="1">
                    <a:off x="5454000" y="178272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 flipH="1" flipV="1">
                    <a:off x="5433840" y="178236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 flipH="1" flipV="1">
                    <a:off x="5438160" y="176328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5536440" y="2034360"/>
                  <a:ext cx="106200" cy="95040"/>
                  <a:chOff x="5536440" y="2034360"/>
                  <a:chExt cx="106200" cy="9504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rot="15198000">
                    <a:off x="5553000" y="2037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H="1">
                    <a:off x="5580360" y="203904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>
                    <a:off x="5591160" y="20584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5597640" y="207432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>
                    <a:off x="5581800" y="208224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5466240" y="2011680"/>
                  <a:ext cx="113400" cy="108000"/>
                  <a:chOff x="5466240" y="2011680"/>
                  <a:chExt cx="113400" cy="1080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rot="14358600">
                    <a:off x="5486400" y="2021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H="1">
                    <a:off x="5518440" y="201744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>
                    <a:off x="5520600" y="204012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528880" y="20563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>
                    <a:off x="5517000" y="206640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5330160" y="1881000"/>
                  <a:ext cx="92880" cy="77400"/>
                  <a:chOff x="5330160" y="1881000"/>
                  <a:chExt cx="92880" cy="774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rot="16010400">
                    <a:off x="5339880" y="18748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H="1">
                    <a:off x="5363280" y="188388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>
                    <a:off x="5381640" y="189936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>
                    <a:off x="5382720" y="191376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H="1">
                    <a:off x="5367240" y="191952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5334480" y="1933920"/>
                  <a:ext cx="109800" cy="100800"/>
                  <a:chOff x="5334480" y="1933920"/>
                  <a:chExt cx="109800" cy="10080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 rot="14881800">
                    <a:off x="5352840" y="1939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>
                    <a:off x="5382000" y="193896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H="1">
                    <a:off x="5389560" y="195984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5396760" y="197604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 flipH="1">
                    <a:off x="5382360" y="198468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5404680" y="1922760"/>
                  <a:ext cx="103320" cy="91080"/>
                  <a:chOff x="5404680" y="1922760"/>
                  <a:chExt cx="103320" cy="9108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 rot="15401400">
                    <a:off x="5419800" y="19234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 flipH="1">
                    <a:off x="5446080" y="192672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 flipH="1">
                    <a:off x="5458680" y="194544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5464440" y="196092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H="1">
                    <a:off x="5448240" y="196848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5377680" y="1809360"/>
                  <a:ext cx="102960" cy="91080"/>
                  <a:chOff x="5377680" y="1809360"/>
                  <a:chExt cx="102960" cy="9108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 rot="16985400">
                    <a:off x="5392800" y="181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flipH="1">
                    <a:off x="5412600" y="183060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5438520" y="18403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 flipH="1">
                    <a:off x="5433120" y="185220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 flipH="1">
                    <a:off x="5419080" y="185436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5516280" y="1828080"/>
                  <a:ext cx="117360" cy="120240"/>
                  <a:chOff x="5516280" y="1828080"/>
                  <a:chExt cx="117360" cy="12024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 rot="19036200">
                    <a:off x="5545080" y="1833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 flipH="1" flipV="1">
                    <a:off x="5555160" y="188424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 flipH="1" flipV="1">
                    <a:off x="5589360" y="188568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 flipH="1">
                    <a:off x="5574240" y="189468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 flipV="1">
                    <a:off x="5564520" y="188208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5641920" y="1773000"/>
                  <a:ext cx="108000" cy="98280"/>
                  <a:chOff x="5641920" y="1773000"/>
                  <a:chExt cx="108000" cy="9828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 rot="4233000">
                    <a:off x="5659560" y="17773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 flipV="1">
                    <a:off x="5671800" y="180396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V="1">
                    <a:off x="5685840" y="183744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 flipH="1" flipV="1">
                    <a:off x="5687280" y="181512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 flipV="1">
                    <a:off x="5697720" y="181440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5695920" y="1855440"/>
                  <a:ext cx="106920" cy="96120"/>
                  <a:chOff x="5695920" y="1855440"/>
                  <a:chExt cx="106920" cy="9612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 rot="4353000">
                    <a:off x="5712840" y="1858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V="1">
                    <a:off x="5723640" y="188532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V="1">
                    <a:off x="5738040" y="191880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5740920" y="189612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V="1">
                    <a:off x="5751000" y="189612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5519880" y="1940760"/>
                  <a:ext cx="110520" cy="123120"/>
                  <a:chOff x="5519880" y="1940760"/>
                  <a:chExt cx="110520" cy="12312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 rot="19525800">
                    <a:off x="5545080" y="1947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H="1" flipV="1">
                    <a:off x="5555880" y="199512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flipH="1" flipV="1">
                    <a:off x="5589360" y="200160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 flipH="1">
                    <a:off x="5572800" y="200988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flipH="1" flipV="1">
                    <a:off x="5565600" y="199440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5412240" y="1927440"/>
                  <a:ext cx="114480" cy="114120"/>
                  <a:chOff x="5412240" y="1927440"/>
                  <a:chExt cx="114480" cy="11412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 rot="18890400">
                    <a:off x="5432760" y="1939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 flipV="1">
                    <a:off x="5449320" y="198504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flipH="1" flipV="1">
                    <a:off x="5483520" y="197856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5466960" y="198792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H="1" flipV="1">
                    <a:off x="5459040" y="198108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5319000" y="1862640"/>
                  <a:ext cx="114840" cy="113760"/>
                  <a:chOff x="5319000" y="1862640"/>
                  <a:chExt cx="114840" cy="11376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 rot="18730200">
                    <a:off x="5339880" y="18748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5356440" y="192024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 flipH="1" flipV="1">
                    <a:off x="5390280" y="191304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5374440" y="192240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 flipH="1" flipV="1">
                    <a:off x="5366160" y="191664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9" name=""/>
                <p:cNvGrpSpPr/>
                <p:nvPr/>
              </p:nvGrpSpPr>
              <p:grpSpPr>
                <a:xfrm>
                  <a:off x="5305320" y="1794960"/>
                  <a:ext cx="113040" cy="122400"/>
                  <a:chOff x="5305320" y="1794960"/>
                  <a:chExt cx="113040" cy="12240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 rot="19362600">
                    <a:off x="5331960" y="1801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 flipV="1">
                    <a:off x="5342400" y="185004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 flipV="1">
                    <a:off x="5376240" y="185508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360040" y="186336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 flipH="1" flipV="1">
                    <a:off x="5352120" y="184932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5" name=""/>
              <p:cNvGrpSpPr/>
              <p:nvPr/>
            </p:nvGrpSpPr>
            <p:grpSpPr>
              <a:xfrm>
                <a:off x="5815440" y="745920"/>
                <a:ext cx="483120" cy="522360"/>
                <a:chOff x="5815440" y="745920"/>
                <a:chExt cx="483120" cy="522360"/>
              </a:xfrm>
            </p:grpSpPr>
            <p:grpSp>
              <p:nvGrpSpPr>
                <p:cNvPr id="1106" name=""/>
                <p:cNvGrpSpPr/>
                <p:nvPr/>
              </p:nvGrpSpPr>
              <p:grpSpPr>
                <a:xfrm>
                  <a:off x="6098400" y="1004040"/>
                  <a:ext cx="72360" cy="114840"/>
                  <a:chOff x="6098400" y="1004040"/>
                  <a:chExt cx="72360" cy="11484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 rot="11212800">
                    <a:off x="6104520" y="1007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112800" y="1013040"/>
                    <a:ext cx="3168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6121440" y="1037880"/>
                    <a:ext cx="1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132240" y="10494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6134400" y="1064160"/>
                    <a:ext cx="2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"/>
                <p:cNvSpPr/>
                <p:nvPr/>
              </p:nvSpPr>
              <p:spPr>
                <a:xfrm flipV="1">
                  <a:off x="5975640" y="916920"/>
                  <a:ext cx="66960" cy="15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7397400">
                  <a:off x="5796000" y="908280"/>
                  <a:ext cx="40608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6071760" y="990720"/>
                  <a:ext cx="11340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835600" y="1112040"/>
                  <a:ext cx="18684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flipH="1" flipV="1">
                  <a:off x="6004800" y="950400"/>
                  <a:ext cx="46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V="1">
                  <a:off x="5994000" y="1006920"/>
                  <a:ext cx="37800" cy="33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flipV="1">
                  <a:off x="6123240" y="956160"/>
                  <a:ext cx="6876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103080" y="995400"/>
                  <a:ext cx="2412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flipV="1">
                  <a:off x="6136200" y="864360"/>
                  <a:ext cx="468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flipV="1">
                  <a:off x="5928840" y="1056240"/>
                  <a:ext cx="11844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998320" y="1082160"/>
                  <a:ext cx="30960" cy="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897880" y="1114200"/>
                  <a:ext cx="35640" cy="4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991480" y="1116720"/>
                  <a:ext cx="331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V="1">
                  <a:off x="5915160" y="1024920"/>
                  <a:ext cx="2448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V="1">
                  <a:off x="6089400" y="919080"/>
                  <a:ext cx="1584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165720" y="900360"/>
                  <a:ext cx="30960" cy="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8" name=""/>
                <p:cNvGrpSpPr/>
                <p:nvPr/>
              </p:nvGrpSpPr>
              <p:grpSpPr>
                <a:xfrm>
                  <a:off x="6159600" y="957600"/>
                  <a:ext cx="105840" cy="112680"/>
                  <a:chOff x="6159600" y="957600"/>
                  <a:chExt cx="105840" cy="112680"/>
                </a:xfrm>
              </p:grpSpPr>
              <p:sp>
                <p:nvSpPr>
                  <p:cNvPr id="1129" name=""/>
                  <p:cNvSpPr/>
                  <p:nvPr/>
                </p:nvSpPr>
                <p:spPr>
                  <a:xfrm rot="9142800">
                    <a:off x="6175800" y="969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165000" y="996120"/>
                    <a:ext cx="6660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6187320" y="100692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 flipV="1">
                    <a:off x="6203160" y="1004040"/>
                    <a:ext cx="147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6213600" y="101484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" name=""/>
                <p:cNvGrpSpPr/>
                <p:nvPr/>
              </p:nvGrpSpPr>
              <p:grpSpPr>
                <a:xfrm>
                  <a:off x="6023880" y="938160"/>
                  <a:ext cx="100080" cy="87120"/>
                  <a:chOff x="6023880" y="938160"/>
                  <a:chExt cx="100080" cy="87120"/>
                </a:xfrm>
              </p:grpSpPr>
              <p:sp>
                <p:nvSpPr>
                  <p:cNvPr id="1135" name=""/>
                  <p:cNvSpPr/>
                  <p:nvPr/>
                </p:nvSpPr>
                <p:spPr>
                  <a:xfrm rot="5984400">
                    <a:off x="6037200" y="9370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V="1">
                    <a:off x="6031440" y="970200"/>
                    <a:ext cx="586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V="1">
                    <a:off x="6053400" y="99540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 flipV="1">
                    <a:off x="6063480" y="97200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V="1">
                    <a:off x="6075720" y="978840"/>
                    <a:ext cx="86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6034680" y="996840"/>
                  <a:ext cx="114480" cy="110160"/>
                  <a:chOff x="6034680" y="996840"/>
                  <a:chExt cx="114480" cy="11016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 rot="7397400">
                    <a:off x="6055200" y="10072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V="1">
                    <a:off x="6041880" y="1047600"/>
                    <a:ext cx="694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6066360" y="105804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 flipV="1">
                    <a:off x="6080760" y="1040760"/>
                    <a:ext cx="111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6093360" y="105264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" name=""/>
                <p:cNvGrpSpPr/>
                <p:nvPr/>
              </p:nvGrpSpPr>
              <p:grpSpPr>
                <a:xfrm>
                  <a:off x="5990760" y="802800"/>
                  <a:ext cx="101160" cy="123480"/>
                  <a:chOff x="5990760" y="802800"/>
                  <a:chExt cx="101160" cy="12348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 rot="1566600">
                    <a:off x="6011280" y="810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H="1" flipV="1">
                    <a:off x="6037920" y="844200"/>
                    <a:ext cx="792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V="1">
                    <a:off x="6045840" y="876600"/>
                    <a:ext cx="2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H="1" flipV="1">
                    <a:off x="6031080" y="86760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V="1">
                    <a:off x="6042240" y="852120"/>
                    <a:ext cx="1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6184080" y="842040"/>
                  <a:ext cx="114480" cy="110160"/>
                  <a:chOff x="6184080" y="842040"/>
                  <a:chExt cx="114480" cy="11016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 rot="7397400">
                    <a:off x="6204600" y="852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flipV="1">
                    <a:off x="6191280" y="892800"/>
                    <a:ext cx="694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6215760" y="903240"/>
                    <a:ext cx="126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flipV="1">
                    <a:off x="6230160" y="885960"/>
                    <a:ext cx="111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6242760" y="89784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8" name=""/>
                <p:cNvGrpSpPr/>
                <p:nvPr/>
              </p:nvGrpSpPr>
              <p:grpSpPr>
                <a:xfrm>
                  <a:off x="6010200" y="1058040"/>
                  <a:ext cx="114480" cy="110160"/>
                  <a:chOff x="6010200" y="1058040"/>
                  <a:chExt cx="114480" cy="110160"/>
                </a:xfrm>
              </p:grpSpPr>
              <p:sp>
                <p:nvSpPr>
                  <p:cNvPr id="1159" name=""/>
                  <p:cNvSpPr/>
                  <p:nvPr/>
                </p:nvSpPr>
                <p:spPr>
                  <a:xfrm rot="7397400">
                    <a:off x="6030720" y="1068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V="1">
                    <a:off x="6017400" y="110880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042240" y="1119600"/>
                    <a:ext cx="1224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 flipV="1">
                    <a:off x="6056280" y="110232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6068880" y="1113840"/>
                    <a:ext cx="9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179760" y="897120"/>
                  <a:ext cx="114480" cy="110160"/>
                  <a:chOff x="6179760" y="897120"/>
                  <a:chExt cx="114480" cy="11016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 rot="7397400">
                    <a:off x="6200280" y="9075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V="1">
                    <a:off x="6186960" y="94788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6211440" y="95868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V="1">
                    <a:off x="6225840" y="94140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6238440" y="95292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883120" y="904320"/>
                  <a:ext cx="88200" cy="120960"/>
                  <a:chOff x="5883120" y="904320"/>
                  <a:chExt cx="88200" cy="1209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 rot="995400">
                    <a:off x="5897160" y="910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H="1" flipV="1">
                    <a:off x="5920920" y="945360"/>
                    <a:ext cx="1980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 flipV="1">
                    <a:off x="5936400" y="97596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H="1" flipV="1">
                    <a:off x="5917680" y="969840"/>
                    <a:ext cx="100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 flipH="1" flipV="1">
                    <a:off x="5927400" y="95256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6" name=""/>
                <p:cNvGrpSpPr/>
                <p:nvPr/>
              </p:nvGrpSpPr>
              <p:grpSpPr>
                <a:xfrm>
                  <a:off x="5950800" y="848520"/>
                  <a:ext cx="64800" cy="110880"/>
                  <a:chOff x="5950800" y="848520"/>
                  <a:chExt cx="64800" cy="11088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 rot="156000">
                    <a:off x="5953320" y="849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 flipH="1" flipV="1">
                    <a:off x="5972400" y="887040"/>
                    <a:ext cx="36360" cy="64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flipH="1" flipV="1">
                    <a:off x="5995080" y="91260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flipH="1" flipV="1">
                    <a:off x="5974920" y="91116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flipH="1" flipV="1">
                    <a:off x="5980320" y="89244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" name=""/>
                <p:cNvGrpSpPr/>
                <p:nvPr/>
              </p:nvGrpSpPr>
              <p:grpSpPr>
                <a:xfrm>
                  <a:off x="6128640" y="758880"/>
                  <a:ext cx="106200" cy="123840"/>
                  <a:chOff x="6128640" y="758880"/>
                  <a:chExt cx="106200" cy="12384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 rot="1807800">
                    <a:off x="6151680" y="766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 flipH="1" flipV="1">
                    <a:off x="6179760" y="800280"/>
                    <a:ext cx="216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 flipV="1">
                    <a:off x="6184080" y="83340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 flipV="1">
                    <a:off x="6170760" y="82296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 flipV="1">
                    <a:off x="6182640" y="808920"/>
                    <a:ext cx="14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8" name=""/>
                <p:cNvGrpSpPr/>
                <p:nvPr/>
              </p:nvGrpSpPr>
              <p:grpSpPr>
                <a:xfrm>
                  <a:off x="6088320" y="745920"/>
                  <a:ext cx="79920" cy="118080"/>
                  <a:chOff x="6088320" y="745920"/>
                  <a:chExt cx="79920" cy="118080"/>
                </a:xfrm>
              </p:grpSpPr>
              <p:sp>
                <p:nvSpPr>
                  <p:cNvPr id="1189" name=""/>
                  <p:cNvSpPr/>
                  <p:nvPr/>
                </p:nvSpPr>
                <p:spPr>
                  <a:xfrm rot="679200">
                    <a:off x="6098040" y="750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 flipH="1" flipV="1">
                    <a:off x="6120000" y="785880"/>
                    <a:ext cx="2628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 flipV="1">
                    <a:off x="6138720" y="81468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 flipV="1">
                    <a:off x="6118920" y="8103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 flipV="1">
                    <a:off x="6127200" y="79236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6048360" y="819000"/>
                  <a:ext cx="93240" cy="122400"/>
                  <a:chOff x="6048360" y="819000"/>
                  <a:chExt cx="93240" cy="12240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 rot="1198800">
                    <a:off x="6064920" y="825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 flipV="1">
                    <a:off x="6089400" y="860400"/>
                    <a:ext cx="1548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V="1">
                    <a:off x="6102000" y="89136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 flipV="1">
                    <a:off x="6084720" y="884160"/>
                    <a:ext cx="97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V="1">
                    <a:off x="6095520" y="867960"/>
                    <a:ext cx="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0" name=""/>
                <p:cNvGrpSpPr/>
                <p:nvPr/>
              </p:nvGrpSpPr>
              <p:grpSpPr>
                <a:xfrm>
                  <a:off x="6130440" y="844920"/>
                  <a:ext cx="119880" cy="118080"/>
                  <a:chOff x="6130440" y="844920"/>
                  <a:chExt cx="119880" cy="11808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 rot="2782800">
                    <a:off x="6160320" y="849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flipV="1">
                    <a:off x="6176160" y="883800"/>
                    <a:ext cx="1800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 flipV="1">
                    <a:off x="6185160" y="91836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 flipV="1">
                    <a:off x="6179760" y="903600"/>
                    <a:ext cx="4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 flipV="1">
                    <a:off x="6192000" y="89352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6" name=""/>
                <p:cNvGrpSpPr/>
                <p:nvPr/>
              </p:nvGrpSpPr>
              <p:grpSpPr>
                <a:xfrm>
                  <a:off x="6019920" y="993960"/>
                  <a:ext cx="99720" cy="86760"/>
                  <a:chOff x="6019920" y="993960"/>
                  <a:chExt cx="99720" cy="86760"/>
                </a:xfrm>
              </p:grpSpPr>
              <p:sp>
                <p:nvSpPr>
                  <p:cNvPr id="1207" name=""/>
                  <p:cNvSpPr/>
                  <p:nvPr/>
                </p:nvSpPr>
                <p:spPr>
                  <a:xfrm rot="4833600">
                    <a:off x="6033240" y="9925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V="1">
                    <a:off x="6038280" y="1020960"/>
                    <a:ext cx="4284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flipV="1">
                    <a:off x="6055200" y="105264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V="1">
                    <a:off x="6060960" y="102924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V="1">
                    <a:off x="6071400" y="1031040"/>
                    <a:ext cx="68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5992200" y="1130760"/>
                  <a:ext cx="83880" cy="119520"/>
                  <a:chOff x="5992200" y="1130760"/>
                  <a:chExt cx="83880" cy="11952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 rot="11631000">
                    <a:off x="6004080" y="1136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018480" y="1139400"/>
                    <a:ext cx="2340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024240" y="1165320"/>
                    <a:ext cx="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6033240" y="117792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6033600" y="119268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" name=""/>
                <p:cNvGrpSpPr/>
                <p:nvPr/>
              </p:nvGrpSpPr>
              <p:grpSpPr>
                <a:xfrm>
                  <a:off x="5899320" y="1147680"/>
                  <a:ext cx="87120" cy="120600"/>
                  <a:chOff x="5899320" y="1147680"/>
                  <a:chExt cx="87120" cy="12060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 rot="11751000">
                    <a:off x="5913000" y="1153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929200" y="1156320"/>
                    <a:ext cx="205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H="1">
                    <a:off x="5933160" y="118260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942520" y="11952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942520" y="121032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4" name=""/>
                <p:cNvGrpSpPr/>
                <p:nvPr/>
              </p:nvGrpSpPr>
              <p:grpSpPr>
                <a:xfrm>
                  <a:off x="5946480" y="948600"/>
                  <a:ext cx="90720" cy="74880"/>
                  <a:chOff x="5946480" y="948600"/>
                  <a:chExt cx="90720" cy="748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 rot="5323200">
                    <a:off x="5955120" y="9414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flipV="1">
                    <a:off x="5955120" y="971640"/>
                    <a:ext cx="50400" cy="49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V="1">
                    <a:off x="5974560" y="100080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>
                    <a:off x="5982120" y="9770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V="1">
                    <a:off x="5993280" y="981000"/>
                    <a:ext cx="79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0" name=""/>
                <p:cNvGrpSpPr/>
                <p:nvPr/>
              </p:nvGrpSpPr>
              <p:grpSpPr>
                <a:xfrm>
                  <a:off x="6015240" y="845640"/>
                  <a:ext cx="118440" cy="80640"/>
                  <a:chOff x="6015240" y="845640"/>
                  <a:chExt cx="118440" cy="8064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 rot="4687800">
                    <a:off x="6044400" y="831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V="1">
                    <a:off x="6035400" y="871200"/>
                    <a:ext cx="5328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flipV="1">
                    <a:off x="6056280" y="899640"/>
                    <a:ext cx="133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 flipV="1">
                    <a:off x="6063480" y="879840"/>
                    <a:ext cx="21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V="1">
                    <a:off x="6076800" y="880200"/>
                    <a:ext cx="86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6" name=""/>
                <p:cNvGrpSpPr/>
                <p:nvPr/>
              </p:nvGrpSpPr>
              <p:grpSpPr>
                <a:xfrm>
                  <a:off x="6121440" y="777960"/>
                  <a:ext cx="119880" cy="84960"/>
                  <a:chOff x="6121440" y="777960"/>
                  <a:chExt cx="119880" cy="84960"/>
                </a:xfrm>
              </p:grpSpPr>
              <p:sp>
                <p:nvSpPr>
                  <p:cNvPr id="1237" name=""/>
                  <p:cNvSpPr/>
                  <p:nvPr/>
                </p:nvSpPr>
                <p:spPr>
                  <a:xfrm rot="4527600">
                    <a:off x="6151320" y="766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 flipV="1">
                    <a:off x="6143760" y="804960"/>
                    <a:ext cx="507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V="1">
                    <a:off x="6163920" y="83448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V="1">
                    <a:off x="6170760" y="81468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V="1">
                    <a:off x="6183720" y="814320"/>
                    <a:ext cx="79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2" name=""/>
                <p:cNvGrpSpPr/>
                <p:nvPr/>
              </p:nvGrpSpPr>
              <p:grpSpPr>
                <a:xfrm>
                  <a:off x="6188040" y="795240"/>
                  <a:ext cx="93600" cy="78840"/>
                  <a:chOff x="6188040" y="795240"/>
                  <a:chExt cx="93600" cy="7884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 rot="5160000">
                    <a:off x="6198120" y="789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 flipV="1">
                    <a:off x="6199560" y="819000"/>
                    <a:ext cx="47880" cy="51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flipV="1">
                    <a:off x="6218280" y="84924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 flipV="1">
                    <a:off x="6225120" y="82548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6236280" y="829080"/>
                    <a:ext cx="75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8" name=""/>
              <p:cNvGrpSpPr/>
              <p:nvPr/>
            </p:nvGrpSpPr>
            <p:grpSpPr>
              <a:xfrm>
                <a:off x="5776920" y="1353240"/>
                <a:ext cx="442800" cy="540720"/>
                <a:chOff x="5776920" y="1353240"/>
                <a:chExt cx="442800" cy="540720"/>
              </a:xfrm>
            </p:grpSpPr>
            <p:grpSp>
              <p:nvGrpSpPr>
                <p:cNvPr id="1249" name=""/>
                <p:cNvGrpSpPr/>
                <p:nvPr/>
              </p:nvGrpSpPr>
              <p:grpSpPr>
                <a:xfrm>
                  <a:off x="6049800" y="1604520"/>
                  <a:ext cx="65160" cy="111240"/>
                  <a:chOff x="6049800" y="1604520"/>
                  <a:chExt cx="65160" cy="111240"/>
                </a:xfrm>
              </p:grpSpPr>
              <p:sp>
                <p:nvSpPr>
                  <p:cNvPr id="1250" name=""/>
                  <p:cNvSpPr/>
                  <p:nvPr/>
                </p:nvSpPr>
                <p:spPr>
                  <a:xfrm rot="10627200">
                    <a:off x="6052320" y="1605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6052680" y="1616040"/>
                    <a:ext cx="4212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6065280" y="1639080"/>
                    <a:ext cx="43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6077520" y="164844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6082200" y="166284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 flipV="1">
                  <a:off x="5926320" y="1533240"/>
                  <a:ext cx="40320" cy="159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rot="6811800">
                  <a:off x="5734080" y="1531080"/>
                  <a:ext cx="40608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V="1">
                  <a:off x="6008760" y="1582200"/>
                  <a:ext cx="11124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5796000" y="1734840"/>
                  <a:ext cx="185040" cy="2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H="1" flipV="1">
                  <a:off x="5935680" y="1572840"/>
                  <a:ext cx="1116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V="1">
                  <a:off x="5940000" y="1623600"/>
                  <a:ext cx="3132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V="1">
                  <a:off x="6058440" y="1546560"/>
                  <a:ext cx="62280" cy="43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6039720" y="1600560"/>
                  <a:ext cx="29880" cy="3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 flipV="1">
                  <a:off x="6054840" y="1464840"/>
                  <a:ext cx="504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V="1">
                  <a:off x="5888520" y="1669680"/>
                  <a:ext cx="106560" cy="77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V="1">
                  <a:off x="5951520" y="1699920"/>
                  <a:ext cx="3024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857920" y="1752120"/>
                  <a:ext cx="4212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950440" y="1739160"/>
                  <a:ext cx="3600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V="1">
                  <a:off x="5870160" y="1657080"/>
                  <a:ext cx="1368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V="1">
                  <a:off x="6021720" y="1524600"/>
                  <a:ext cx="720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V="1">
                  <a:off x="6085440" y="1491480"/>
                  <a:ext cx="3060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1" name=""/>
                <p:cNvGrpSpPr/>
                <p:nvPr/>
              </p:nvGrpSpPr>
              <p:grpSpPr>
                <a:xfrm>
                  <a:off x="6094800" y="1542600"/>
                  <a:ext cx="111960" cy="114840"/>
                  <a:chOff x="6094800" y="1542600"/>
                  <a:chExt cx="111960" cy="11484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 rot="8557200">
                    <a:off x="6113880" y="15552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6100920" y="1590480"/>
                    <a:ext cx="694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6124680" y="15973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flipV="1">
                    <a:off x="6140520" y="1589400"/>
                    <a:ext cx="140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6152040" y="1600920"/>
                    <a:ext cx="828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7" name=""/>
                <p:cNvGrpSpPr/>
                <p:nvPr/>
              </p:nvGrpSpPr>
              <p:grpSpPr>
                <a:xfrm>
                  <a:off x="5964480" y="1555560"/>
                  <a:ext cx="88920" cy="73080"/>
                  <a:chOff x="5964480" y="1555560"/>
                  <a:chExt cx="88920" cy="7308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 rot="5398800">
                    <a:off x="5972400" y="15476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 flipV="1">
                    <a:off x="5971320" y="1577880"/>
                    <a:ext cx="5148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 flipV="1">
                    <a:off x="5991120" y="16066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flipV="1">
                    <a:off x="5999040" y="15829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 flipV="1">
                    <a:off x="6010560" y="1587240"/>
                    <a:ext cx="79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5982840" y="1606320"/>
                  <a:ext cx="110880" cy="102600"/>
                  <a:chOff x="5982840" y="1606320"/>
                  <a:chExt cx="110880" cy="1026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 rot="6811800">
                    <a:off x="6001560" y="16131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 flipV="1">
                    <a:off x="5990400" y="1650240"/>
                    <a:ext cx="666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6014520" y="166824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flipV="1">
                    <a:off x="6027120" y="164700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V="1">
                    <a:off x="6040080" y="165708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" name=""/>
                <p:cNvGrpSpPr/>
                <p:nvPr/>
              </p:nvGrpSpPr>
              <p:grpSpPr>
                <a:xfrm>
                  <a:off x="5912640" y="1421640"/>
                  <a:ext cx="87840" cy="120960"/>
                  <a:chOff x="5912640" y="1421640"/>
                  <a:chExt cx="87840" cy="120960"/>
                </a:xfrm>
              </p:grpSpPr>
              <p:sp>
                <p:nvSpPr>
                  <p:cNvPr id="1290" name=""/>
                  <p:cNvSpPr/>
                  <p:nvPr/>
                </p:nvSpPr>
                <p:spPr>
                  <a:xfrm rot="981000">
                    <a:off x="5926680" y="1427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H="1" flipV="1">
                    <a:off x="5950080" y="1462320"/>
                    <a:ext cx="2016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flipV="1">
                    <a:off x="5965560" y="149256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 flipV="1">
                    <a:off x="5947200" y="14864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flipH="1" flipV="1">
                    <a:off x="5956560" y="146952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" name=""/>
                <p:cNvGrpSpPr/>
                <p:nvPr/>
              </p:nvGrpSpPr>
              <p:grpSpPr>
                <a:xfrm>
                  <a:off x="6103800" y="1428840"/>
                  <a:ext cx="110880" cy="102600"/>
                  <a:chOff x="6103800" y="1428840"/>
                  <a:chExt cx="110880" cy="102600"/>
                </a:xfrm>
              </p:grpSpPr>
              <p:sp>
                <p:nvSpPr>
                  <p:cNvPr id="1296" name=""/>
                  <p:cNvSpPr/>
                  <p:nvPr/>
                </p:nvSpPr>
                <p:spPr>
                  <a:xfrm rot="6811800">
                    <a:off x="6122520" y="1435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V="1">
                    <a:off x="6111360" y="1472400"/>
                    <a:ext cx="666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6135480" y="149076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V="1">
                    <a:off x="6148440" y="1469160"/>
                    <a:ext cx="9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V="1">
                    <a:off x="6161040" y="1479240"/>
                    <a:ext cx="90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1" name=""/>
                <p:cNvGrpSpPr/>
                <p:nvPr/>
              </p:nvGrpSpPr>
              <p:grpSpPr>
                <a:xfrm>
                  <a:off x="5969160" y="1671120"/>
                  <a:ext cx="110880" cy="102600"/>
                  <a:chOff x="5969160" y="1671120"/>
                  <a:chExt cx="110880" cy="102600"/>
                </a:xfrm>
              </p:grpSpPr>
              <p:sp>
                <p:nvSpPr>
                  <p:cNvPr id="1302" name=""/>
                  <p:cNvSpPr/>
                  <p:nvPr/>
                </p:nvSpPr>
                <p:spPr>
                  <a:xfrm rot="6811800">
                    <a:off x="5987880" y="16779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V="1">
                    <a:off x="5976720" y="1715040"/>
                    <a:ext cx="666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6000840" y="173304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 flipV="1">
                    <a:off x="6013800" y="171180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 flipV="1">
                    <a:off x="6026400" y="172188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" name=""/>
                <p:cNvGrpSpPr/>
                <p:nvPr/>
              </p:nvGrpSpPr>
              <p:grpSpPr>
                <a:xfrm>
                  <a:off x="6108840" y="1483920"/>
                  <a:ext cx="110880" cy="102600"/>
                  <a:chOff x="6108840" y="1483920"/>
                  <a:chExt cx="110880" cy="102600"/>
                </a:xfrm>
              </p:grpSpPr>
              <p:sp>
                <p:nvSpPr>
                  <p:cNvPr id="1308" name=""/>
                  <p:cNvSpPr/>
                  <p:nvPr/>
                </p:nvSpPr>
                <p:spPr>
                  <a:xfrm rot="6811800">
                    <a:off x="6127560" y="14907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 flipV="1">
                    <a:off x="6116400" y="1527840"/>
                    <a:ext cx="66600" cy="23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6140520" y="154584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V="1">
                    <a:off x="6153480" y="152460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V="1">
                    <a:off x="6166080" y="153468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" name=""/>
                <p:cNvGrpSpPr/>
                <p:nvPr/>
              </p:nvGrpSpPr>
              <p:grpSpPr>
                <a:xfrm>
                  <a:off x="5825520" y="1542600"/>
                  <a:ext cx="72360" cy="114840"/>
                  <a:chOff x="5825520" y="1542600"/>
                  <a:chExt cx="72360" cy="11484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 rot="409800">
                    <a:off x="5831640" y="15454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H="1" flipV="1">
                    <a:off x="5851800" y="1582200"/>
                    <a:ext cx="3168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 flipV="1">
                    <a:off x="5873040" y="1609200"/>
                    <a:ext cx="1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 flipV="1">
                    <a:off x="5852880" y="16063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H="1" flipV="1">
                    <a:off x="5859360" y="1587960"/>
                    <a:ext cx="2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" name=""/>
                <p:cNvGrpSpPr/>
                <p:nvPr/>
              </p:nvGrpSpPr>
              <p:grpSpPr>
                <a:xfrm>
                  <a:off x="5870160" y="1473120"/>
                  <a:ext cx="72720" cy="115200"/>
                  <a:chOff x="5870160" y="1473120"/>
                  <a:chExt cx="72720" cy="11520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 rot="21171000">
                    <a:off x="5876640" y="1476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 flipH="1" flipV="1">
                    <a:off x="5892480" y="1515600"/>
                    <a:ext cx="46800" cy="57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H="1" flipV="1">
                    <a:off x="5919480" y="1536840"/>
                    <a:ext cx="54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H="1" flipV="1">
                    <a:off x="5899320" y="153900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flipH="1" flipV="1">
                    <a:off x="5901480" y="151956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" name=""/>
                <p:cNvGrpSpPr/>
                <p:nvPr/>
              </p:nvGrpSpPr>
              <p:grpSpPr>
                <a:xfrm>
                  <a:off x="6040440" y="1353960"/>
                  <a:ext cx="93960" cy="122400"/>
                  <a:chOff x="6040440" y="1353960"/>
                  <a:chExt cx="93960" cy="12240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 rot="1222200">
                    <a:off x="6057360" y="1360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H="1" flipV="1">
                    <a:off x="6082200" y="1395000"/>
                    <a:ext cx="1512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V="1">
                    <a:off x="6094800" y="142632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 flipH="1" flipV="1">
                    <a:off x="6077520" y="14191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 flipV="1">
                    <a:off x="6088320" y="1402560"/>
                    <a:ext cx="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" name=""/>
                <p:cNvGrpSpPr/>
                <p:nvPr/>
              </p:nvGrpSpPr>
              <p:grpSpPr>
                <a:xfrm>
                  <a:off x="6001200" y="1353240"/>
                  <a:ext cx="62640" cy="109800"/>
                  <a:chOff x="6001200" y="1353240"/>
                  <a:chExt cx="62640" cy="10980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 rot="93600">
                    <a:off x="6002280" y="1353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 flipH="1" flipV="1">
                    <a:off x="6021000" y="1391040"/>
                    <a:ext cx="374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 flipV="1">
                    <a:off x="6044400" y="141624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H="1" flipV="1">
                    <a:off x="6024240" y="14155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 flipV="1">
                    <a:off x="6029280" y="139644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"/>
                <p:cNvGrpSpPr/>
                <p:nvPr/>
              </p:nvGrpSpPr>
              <p:grpSpPr>
                <a:xfrm>
                  <a:off x="5973480" y="1429560"/>
                  <a:ext cx="77760" cy="117360"/>
                  <a:chOff x="5973480" y="1429560"/>
                  <a:chExt cx="77760" cy="11736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 rot="613200">
                    <a:off x="5982120" y="1433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 flipV="1">
                    <a:off x="6003360" y="1469520"/>
                    <a:ext cx="27360" cy="68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H="1" flipV="1">
                    <a:off x="6022800" y="149796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H="1" flipV="1">
                    <a:off x="6003000" y="149400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H="1" flipV="1">
                    <a:off x="6010560" y="1476000"/>
                    <a:ext cx="1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"/>
                <p:cNvGrpSpPr/>
                <p:nvPr/>
              </p:nvGrpSpPr>
              <p:grpSpPr>
                <a:xfrm>
                  <a:off x="6054120" y="1434240"/>
                  <a:ext cx="112680" cy="122760"/>
                  <a:chOff x="6054120" y="1434240"/>
                  <a:chExt cx="112680" cy="122760"/>
                </a:xfrm>
              </p:grpSpPr>
              <p:sp>
                <p:nvSpPr>
                  <p:cNvPr id="1344" name=""/>
                  <p:cNvSpPr/>
                  <p:nvPr/>
                </p:nvSpPr>
                <p:spPr>
                  <a:xfrm rot="2197200">
                    <a:off x="6080400" y="1441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 flipV="1">
                    <a:off x="6104880" y="1474920"/>
                    <a:ext cx="612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V="1">
                    <a:off x="6109920" y="150912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 flipH="1" flipV="1">
                    <a:off x="6099840" y="1496880"/>
                    <a:ext cx="6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 flipV="1">
                    <a:off x="6111720" y="1483920"/>
                    <a:ext cx="28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"/>
                <p:cNvGrpSpPr/>
                <p:nvPr/>
              </p:nvGrpSpPr>
              <p:grpSpPr>
                <a:xfrm>
                  <a:off x="5960520" y="1598040"/>
                  <a:ext cx="108000" cy="98280"/>
                  <a:chOff x="5960520" y="1598040"/>
                  <a:chExt cx="108000" cy="98280"/>
                </a:xfrm>
              </p:grpSpPr>
              <p:sp>
                <p:nvSpPr>
                  <p:cNvPr id="1350" name=""/>
                  <p:cNvSpPr/>
                  <p:nvPr/>
                </p:nvSpPr>
                <p:spPr>
                  <a:xfrm rot="4248000">
                    <a:off x="5977800" y="16023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 flipV="1">
                    <a:off x="5989680" y="1629360"/>
                    <a:ext cx="327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V="1">
                    <a:off x="6003720" y="16632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 flipH="1" flipV="1">
                    <a:off x="6005520" y="164052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 flipV="1">
                    <a:off x="6015600" y="163980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"/>
                <p:cNvGrpSpPr/>
                <p:nvPr/>
              </p:nvGrpSpPr>
              <p:grpSpPr>
                <a:xfrm>
                  <a:off x="5971320" y="1748160"/>
                  <a:ext cx="67320" cy="112320"/>
                  <a:chOff x="5971320" y="1748160"/>
                  <a:chExt cx="67320" cy="1123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 rot="11045400">
                    <a:off x="5974920" y="1749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5981040" y="1756440"/>
                    <a:ext cx="34560" cy="65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5990760" y="1780920"/>
                    <a:ext cx="2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6001920" y="179208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6004800" y="1806480"/>
                    <a:ext cx="28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"/>
                <p:cNvGrpSpPr/>
                <p:nvPr/>
              </p:nvGrpSpPr>
              <p:grpSpPr>
                <a:xfrm>
                  <a:off x="5882760" y="1779840"/>
                  <a:ext cx="70920" cy="114120"/>
                  <a:chOff x="5882760" y="1779840"/>
                  <a:chExt cx="70920" cy="11412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 rot="11165400">
                    <a:off x="5888160" y="1782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895720" y="1788480"/>
                    <a:ext cx="324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5904720" y="181332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5915520" y="182484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5918040" y="1839600"/>
                    <a:ext cx="2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5878080" y="1565640"/>
                  <a:ext cx="101160" cy="88920"/>
                  <a:chOff x="5878080" y="1565640"/>
                  <a:chExt cx="101160" cy="8892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 rot="4737600">
                    <a:off x="5891760" y="15652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V="1">
                    <a:off x="5898240" y="1593360"/>
                    <a:ext cx="41400" cy="57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 flipV="1">
                    <a:off x="5914800" y="1625400"/>
                    <a:ext cx="108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 flipV="1">
                    <a:off x="5919840" y="160236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 flipV="1">
                    <a:off x="5930280" y="1603440"/>
                    <a:ext cx="684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"/>
                <p:cNvGrpSpPr/>
                <p:nvPr/>
              </p:nvGrpSpPr>
              <p:grpSpPr>
                <a:xfrm>
                  <a:off x="5931720" y="1449720"/>
                  <a:ext cx="122760" cy="95400"/>
                  <a:chOff x="5931720" y="1449720"/>
                  <a:chExt cx="122760" cy="9540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 rot="4102200">
                    <a:off x="5963040" y="1443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flipV="1">
                    <a:off x="5960520" y="1480320"/>
                    <a:ext cx="43920" cy="59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 flipV="1">
                    <a:off x="5978520" y="1511640"/>
                    <a:ext cx="122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 flipV="1">
                    <a:off x="5983560" y="1492920"/>
                    <a:ext cx="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flipV="1">
                    <a:off x="5995440" y="149004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6025680" y="1365120"/>
                  <a:ext cx="123120" cy="99000"/>
                  <a:chOff x="6025680" y="1365120"/>
                  <a:chExt cx="123120" cy="990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 rot="3942000">
                    <a:off x="6057000" y="1360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 flipV="1">
                    <a:off x="6057000" y="1397160"/>
                    <a:ext cx="4068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 flipV="1">
                    <a:off x="6073560" y="142920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 flipH="1" flipV="1">
                    <a:off x="6077520" y="1410840"/>
                    <a:ext cx="3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 flipV="1">
                    <a:off x="6089400" y="140688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090480" y="1373760"/>
                  <a:ext cx="103680" cy="91800"/>
                  <a:chOff x="6090480" y="1373760"/>
                  <a:chExt cx="103680" cy="9180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 rot="4574400">
                    <a:off x="6105960" y="1374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flipV="1">
                    <a:off x="6113880" y="1402200"/>
                    <a:ext cx="3852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flipV="1">
                    <a:off x="6129360" y="143496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V="1">
                    <a:off x="6134040" y="141192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V="1">
                    <a:off x="6143760" y="1412640"/>
                    <a:ext cx="68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"/>
              <p:cNvGrpSpPr/>
              <p:nvPr/>
            </p:nvGrpSpPr>
            <p:grpSpPr>
              <a:xfrm>
                <a:off x="5971680" y="1359360"/>
                <a:ext cx="508680" cy="420480"/>
                <a:chOff x="5971680" y="1359360"/>
                <a:chExt cx="508680" cy="420480"/>
              </a:xfrm>
            </p:grpSpPr>
            <p:grpSp>
              <p:nvGrpSpPr>
                <p:cNvPr id="1392" name=""/>
                <p:cNvGrpSpPr/>
                <p:nvPr/>
              </p:nvGrpSpPr>
              <p:grpSpPr>
                <a:xfrm>
                  <a:off x="6198840" y="1626480"/>
                  <a:ext cx="112680" cy="114840"/>
                  <a:chOff x="6198840" y="1626480"/>
                  <a:chExt cx="112680" cy="114840"/>
                </a:xfrm>
              </p:grpSpPr>
              <p:sp>
                <p:nvSpPr>
                  <p:cNvPr id="1393" name=""/>
                  <p:cNvSpPr/>
                  <p:nvPr/>
                </p:nvSpPr>
                <p:spPr>
                  <a:xfrm rot="13188000">
                    <a:off x="6218640" y="16390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6253560" y="1633680"/>
                    <a:ext cx="396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 flipH="1">
                    <a:off x="6247800" y="165780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6257520" y="1672920"/>
                    <a:ext cx="86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 flipH="1">
                    <a:off x="6252480" y="1685160"/>
                    <a:ext cx="18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 flipV="1">
                  <a:off x="6121800" y="1486080"/>
                  <a:ext cx="109080" cy="83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rot="9372600">
                  <a:off x="6000120" y="14173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226920" y="1576800"/>
                  <a:ext cx="94680" cy="82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5990400" y="1503360"/>
                  <a:ext cx="151920" cy="14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6176880" y="1487160"/>
                  <a:ext cx="1116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6146640" y="1557720"/>
                  <a:ext cx="43200" cy="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6271200" y="1610280"/>
                  <a:ext cx="6840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6252480" y="1601280"/>
                  <a:ext cx="720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>
                  <a:off x="6307200" y="1513080"/>
                  <a:ext cx="23040" cy="4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067080" y="1576440"/>
                  <a:ext cx="118080" cy="36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135480" y="1599840"/>
                  <a:ext cx="24480" cy="24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6041160" y="1551960"/>
                  <a:ext cx="1404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6117120" y="1625040"/>
                  <a:ext cx="1944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V="1">
                  <a:off x="6066000" y="1504800"/>
                  <a:ext cx="42120" cy="36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6251760" y="1535040"/>
                  <a:ext cx="29880" cy="3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338520" y="1563480"/>
                  <a:ext cx="24840" cy="2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14" name=""/>
                <p:cNvGrpSpPr/>
                <p:nvPr/>
              </p:nvGrpSpPr>
              <p:grpSpPr>
                <a:xfrm>
                  <a:off x="6301800" y="1642680"/>
                  <a:ext cx="69480" cy="113400"/>
                  <a:chOff x="6301800" y="1642680"/>
                  <a:chExt cx="69480" cy="113400"/>
                </a:xfrm>
              </p:grpSpPr>
              <p:sp>
                <p:nvSpPr>
                  <p:cNvPr id="1415" name=""/>
                  <p:cNvSpPr/>
                  <p:nvPr/>
                </p:nvSpPr>
                <p:spPr>
                  <a:xfrm rot="11118000">
                    <a:off x="6306480" y="1644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13320" y="1651320"/>
                    <a:ext cx="3348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322680" y="1676160"/>
                    <a:ext cx="2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333480" y="168696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336000" y="1701720"/>
                    <a:ext cx="28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"/>
                <p:cNvGrpSpPr/>
                <p:nvPr/>
              </p:nvGrpSpPr>
              <p:grpSpPr>
                <a:xfrm>
                  <a:off x="6173640" y="1508400"/>
                  <a:ext cx="120240" cy="117360"/>
                  <a:chOff x="6173640" y="1508400"/>
                  <a:chExt cx="120240" cy="11736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 rot="7959600">
                    <a:off x="6203880" y="1512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181560" y="1556280"/>
                    <a:ext cx="727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6206760" y="156384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flipV="1">
                    <a:off x="6222240" y="155628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235560" y="1568880"/>
                    <a:ext cx="9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"/>
                <p:cNvGrpSpPr/>
                <p:nvPr/>
              </p:nvGrpSpPr>
              <p:grpSpPr>
                <a:xfrm>
                  <a:off x="6174360" y="1581120"/>
                  <a:ext cx="98280" cy="123120"/>
                  <a:chOff x="6174360" y="1581120"/>
                  <a:chExt cx="98280" cy="123120"/>
                </a:xfrm>
              </p:grpSpPr>
              <p:sp>
                <p:nvSpPr>
                  <p:cNvPr id="1427" name=""/>
                  <p:cNvSpPr/>
                  <p:nvPr/>
                </p:nvSpPr>
                <p:spPr>
                  <a:xfrm rot="9372600">
                    <a:off x="6193440" y="1588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179760" y="1611720"/>
                    <a:ext cx="6120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6199920" y="1628640"/>
                    <a:ext cx="9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 flipV="1">
                    <a:off x="6215040" y="163260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224400" y="1644840"/>
                    <a:ext cx="72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" name=""/>
                <p:cNvGrpSpPr/>
                <p:nvPr/>
              </p:nvGrpSpPr>
              <p:grpSpPr>
                <a:xfrm>
                  <a:off x="6191640" y="1384200"/>
                  <a:ext cx="113760" cy="108000"/>
                  <a:chOff x="6191640" y="1384200"/>
                  <a:chExt cx="113760" cy="108000"/>
                </a:xfrm>
              </p:grpSpPr>
              <p:sp>
                <p:nvSpPr>
                  <p:cNvPr id="1433" name=""/>
                  <p:cNvSpPr/>
                  <p:nvPr/>
                </p:nvSpPr>
                <p:spPr>
                  <a:xfrm rot="3541800">
                    <a:off x="6212160" y="1393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V="1">
                    <a:off x="6233760" y="1419120"/>
                    <a:ext cx="1944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V="1">
                    <a:off x="6243480" y="145368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 flipH="1" flipV="1">
                    <a:off x="6239160" y="143352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 flipV="1">
                    <a:off x="6250320" y="1429560"/>
                    <a:ext cx="43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6352560" y="1555560"/>
                  <a:ext cx="98280" cy="123120"/>
                  <a:chOff x="6352560" y="1555560"/>
                  <a:chExt cx="98280" cy="12312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 rot="9372600">
                    <a:off x="6371640" y="1562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358320" y="1586160"/>
                    <a:ext cx="6120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6378480" y="160308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 flipV="1">
                    <a:off x="6393240" y="160704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402600" y="1619280"/>
                    <a:ext cx="72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6132240" y="1617840"/>
                  <a:ext cx="98280" cy="123120"/>
                  <a:chOff x="6132240" y="1617840"/>
                  <a:chExt cx="98280" cy="123120"/>
                </a:xfrm>
              </p:grpSpPr>
              <p:sp>
                <p:nvSpPr>
                  <p:cNvPr id="1445" name=""/>
                  <p:cNvSpPr/>
                  <p:nvPr/>
                </p:nvSpPr>
                <p:spPr>
                  <a:xfrm rot="9372600">
                    <a:off x="6151320" y="1625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137640" y="1648440"/>
                    <a:ext cx="6120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6157800" y="1665360"/>
                    <a:ext cx="9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V="1">
                    <a:off x="6172920" y="166932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182280" y="168156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329160" y="1602000"/>
                  <a:ext cx="98280" cy="123120"/>
                  <a:chOff x="6329160" y="1602000"/>
                  <a:chExt cx="98280" cy="123120"/>
                </a:xfrm>
              </p:grpSpPr>
              <p:sp>
                <p:nvSpPr>
                  <p:cNvPr id="1451" name=""/>
                  <p:cNvSpPr/>
                  <p:nvPr/>
                </p:nvSpPr>
                <p:spPr>
                  <a:xfrm rot="9372600">
                    <a:off x="6348240" y="16092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334560" y="163224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354720" y="164952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 flipV="1">
                    <a:off x="6369480" y="165348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79200" y="1665360"/>
                    <a:ext cx="68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6" name=""/>
                <p:cNvGrpSpPr/>
                <p:nvPr/>
              </p:nvGrpSpPr>
              <p:grpSpPr>
                <a:xfrm>
                  <a:off x="6061680" y="1385640"/>
                  <a:ext cx="114840" cy="113040"/>
                  <a:chOff x="6061680" y="1385640"/>
                  <a:chExt cx="114840" cy="11304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2970600">
                    <a:off x="6082560" y="1397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V="1">
                    <a:off x="6112440" y="1422360"/>
                    <a:ext cx="792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flipV="1">
                    <a:off x="6117840" y="145692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flipH="1" flipV="1">
                    <a:off x="6108480" y="1438920"/>
                    <a:ext cx="64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flipV="1">
                    <a:off x="6120360" y="1432440"/>
                    <a:ext cx="2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2" name=""/>
                <p:cNvGrpSpPr/>
                <p:nvPr/>
              </p:nvGrpSpPr>
              <p:grpSpPr>
                <a:xfrm>
                  <a:off x="6130800" y="1372680"/>
                  <a:ext cx="110880" cy="114480"/>
                  <a:chOff x="6130800" y="1372680"/>
                  <a:chExt cx="110880" cy="11448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 rot="2131200">
                    <a:off x="6149880" y="13852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 flipH="1" flipV="1">
                    <a:off x="6183000" y="1410480"/>
                    <a:ext cx="900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 flipV="1">
                    <a:off x="6192000" y="1443240"/>
                    <a:ext cx="28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 flipH="1" flipV="1">
                    <a:off x="6175440" y="142956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 flipV="1">
                    <a:off x="6187680" y="141984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8" name=""/>
                <p:cNvGrpSpPr/>
                <p:nvPr/>
              </p:nvGrpSpPr>
              <p:grpSpPr>
                <a:xfrm>
                  <a:off x="6323400" y="1452240"/>
                  <a:ext cx="112320" cy="105120"/>
                  <a:chOff x="6323400" y="1452240"/>
                  <a:chExt cx="112320" cy="105120"/>
                </a:xfrm>
              </p:grpSpPr>
              <p:sp>
                <p:nvSpPr>
                  <p:cNvPr id="1469" name=""/>
                  <p:cNvSpPr/>
                  <p:nvPr/>
                </p:nvSpPr>
                <p:spPr>
                  <a:xfrm rot="3783000">
                    <a:off x="6342840" y="1460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flipV="1">
                    <a:off x="6361200" y="1485720"/>
                    <a:ext cx="24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flipV="1">
                    <a:off x="6372360" y="152028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H="1" flipV="1">
                    <a:off x="6370200" y="149904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 flipV="1">
                    <a:off x="6381000" y="1496160"/>
                    <a:ext cx="50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4" name=""/>
                <p:cNvGrpSpPr/>
                <p:nvPr/>
              </p:nvGrpSpPr>
              <p:grpSpPr>
                <a:xfrm>
                  <a:off x="6284520" y="1393560"/>
                  <a:ext cx="114120" cy="114480"/>
                  <a:chOff x="6284520" y="1393560"/>
                  <a:chExt cx="114120" cy="114480"/>
                </a:xfrm>
              </p:grpSpPr>
              <p:sp>
                <p:nvSpPr>
                  <p:cNvPr id="1475" name=""/>
                  <p:cNvSpPr/>
                  <p:nvPr/>
                </p:nvSpPr>
                <p:spPr>
                  <a:xfrm rot="2654400">
                    <a:off x="6305040" y="1406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V="1">
                    <a:off x="6339240" y="1430640"/>
                    <a:ext cx="180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 flipV="1">
                    <a:off x="6342840" y="14648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flipH="1" flipV="1">
                    <a:off x="6330960" y="144828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 flipV="1">
                    <a:off x="6342840" y="1440720"/>
                    <a:ext cx="21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0" name=""/>
                <p:cNvGrpSpPr/>
                <p:nvPr/>
              </p:nvGrpSpPr>
              <p:grpSpPr>
                <a:xfrm>
                  <a:off x="6229440" y="1436760"/>
                  <a:ext cx="114840" cy="111600"/>
                  <a:chOff x="6229440" y="1436760"/>
                  <a:chExt cx="114840" cy="111600"/>
                </a:xfrm>
              </p:grpSpPr>
              <p:sp>
                <p:nvSpPr>
                  <p:cNvPr id="1481" name=""/>
                  <p:cNvSpPr/>
                  <p:nvPr/>
                </p:nvSpPr>
                <p:spPr>
                  <a:xfrm rot="3174000">
                    <a:off x="6250320" y="1447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flipV="1">
                    <a:off x="6276960" y="1472760"/>
                    <a:ext cx="1224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flipV="1">
                    <a:off x="6284160" y="1507680"/>
                    <a:ext cx="6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flipH="1" flipV="1">
                    <a:off x="6276600" y="1488600"/>
                    <a:ext cx="54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flipV="1">
                    <a:off x="6288120" y="1483200"/>
                    <a:ext cx="3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6" name=""/>
                <p:cNvGrpSpPr/>
                <p:nvPr/>
              </p:nvGrpSpPr>
              <p:grpSpPr>
                <a:xfrm>
                  <a:off x="6306840" y="1541160"/>
                  <a:ext cx="101160" cy="87840"/>
                  <a:chOff x="6306840" y="1541160"/>
                  <a:chExt cx="101160" cy="87840"/>
                </a:xfrm>
              </p:grpSpPr>
              <p:sp>
                <p:nvSpPr>
                  <p:cNvPr id="1487" name=""/>
                  <p:cNvSpPr/>
                  <p:nvPr/>
                </p:nvSpPr>
                <p:spPr>
                  <a:xfrm rot="4758000">
                    <a:off x="6320880" y="1540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flipV="1">
                    <a:off x="6326640" y="1568520"/>
                    <a:ext cx="4176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V="1">
                    <a:off x="6343200" y="16005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V="1">
                    <a:off x="6348600" y="157716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V="1">
                    <a:off x="6359040" y="1578960"/>
                    <a:ext cx="684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2" name=""/>
                <p:cNvGrpSpPr/>
                <p:nvPr/>
              </p:nvGrpSpPr>
              <p:grpSpPr>
                <a:xfrm>
                  <a:off x="6149160" y="1564560"/>
                  <a:ext cx="123120" cy="97920"/>
                  <a:chOff x="6149160" y="1564560"/>
                  <a:chExt cx="123120" cy="97920"/>
                </a:xfrm>
              </p:grpSpPr>
              <p:sp>
                <p:nvSpPr>
                  <p:cNvPr id="1493" name=""/>
                  <p:cNvSpPr/>
                  <p:nvPr/>
                </p:nvSpPr>
                <p:spPr>
                  <a:xfrm rot="6808800">
                    <a:off x="6180480" y="1559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flipV="1">
                    <a:off x="6157440" y="1609200"/>
                    <a:ext cx="73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6183720" y="1619280"/>
                    <a:ext cx="147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 flipV="1">
                    <a:off x="6197760" y="160308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6212520" y="1614240"/>
                    <a:ext cx="10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8" name=""/>
                <p:cNvGrpSpPr/>
                <p:nvPr/>
              </p:nvGrpSpPr>
              <p:grpSpPr>
                <a:xfrm>
                  <a:off x="6069240" y="1666080"/>
                  <a:ext cx="114480" cy="113760"/>
                  <a:chOff x="6069240" y="1666080"/>
                  <a:chExt cx="114480" cy="113760"/>
                </a:xfrm>
              </p:grpSpPr>
              <p:sp>
                <p:nvSpPr>
                  <p:cNvPr id="1499" name=""/>
                  <p:cNvSpPr/>
                  <p:nvPr/>
                </p:nvSpPr>
                <p:spPr>
                  <a:xfrm rot="13605600">
                    <a:off x="6089760" y="16783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flipH="1">
                    <a:off x="6126120" y="1672560"/>
                    <a:ext cx="468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 flipH="1">
                    <a:off x="6120720" y="169668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6130080" y="171252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flipH="1">
                    <a:off x="6122520" y="1724040"/>
                    <a:ext cx="2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4" name=""/>
                <p:cNvGrpSpPr/>
                <p:nvPr/>
              </p:nvGrpSpPr>
              <p:grpSpPr>
                <a:xfrm>
                  <a:off x="5987520" y="1613160"/>
                  <a:ext cx="114840" cy="113400"/>
                  <a:chOff x="5987520" y="1613160"/>
                  <a:chExt cx="114840" cy="113400"/>
                </a:xfrm>
              </p:grpSpPr>
              <p:sp>
                <p:nvSpPr>
                  <p:cNvPr id="1505" name=""/>
                  <p:cNvSpPr/>
                  <p:nvPr/>
                </p:nvSpPr>
                <p:spPr>
                  <a:xfrm rot="13725600">
                    <a:off x="6008400" y="1625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 flipH="1">
                    <a:off x="6044040" y="1620000"/>
                    <a:ext cx="720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flipH="1">
                    <a:off x="6039720" y="164376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6049080" y="165960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H="1">
                    <a:off x="6040800" y="1671120"/>
                    <a:ext cx="2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0" name=""/>
                <p:cNvGrpSpPr/>
                <p:nvPr/>
              </p:nvGrpSpPr>
              <p:grpSpPr>
                <a:xfrm>
                  <a:off x="6102720" y="1455480"/>
                  <a:ext cx="123480" cy="107640"/>
                  <a:chOff x="6102720" y="1455480"/>
                  <a:chExt cx="123480" cy="10764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 rot="7298400">
                    <a:off x="6134400" y="1455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 flipV="1">
                    <a:off x="6111000" y="1508040"/>
                    <a:ext cx="741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137280" y="1511280"/>
                    <a:ext cx="144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 flipV="1">
                    <a:off x="6152040" y="1498680"/>
                    <a:ext cx="104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6166440" y="1510560"/>
                    <a:ext cx="100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6" name=""/>
                <p:cNvGrpSpPr/>
                <p:nvPr/>
              </p:nvGrpSpPr>
              <p:grpSpPr>
                <a:xfrm>
                  <a:off x="6213960" y="1432800"/>
                  <a:ext cx="109080" cy="100080"/>
                  <a:chOff x="6213960" y="1432800"/>
                  <a:chExt cx="109080" cy="10008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rot="6663000">
                    <a:off x="6231960" y="1438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 flipV="1">
                    <a:off x="6221520" y="1474200"/>
                    <a:ext cx="6516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6244920" y="149400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V="1">
                    <a:off x="6257520" y="1472040"/>
                    <a:ext cx="86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V="1">
                    <a:off x="6270120" y="1481760"/>
                    <a:ext cx="90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6325920" y="1456200"/>
                  <a:ext cx="107280" cy="97200"/>
                  <a:chOff x="6325920" y="1456200"/>
                  <a:chExt cx="107280" cy="9720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rot="6502800">
                    <a:off x="6342840" y="1460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flipV="1">
                    <a:off x="6333480" y="1495440"/>
                    <a:ext cx="6372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V="1">
                    <a:off x="6356520" y="151632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V="1">
                    <a:off x="6368760" y="149400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V="1">
                    <a:off x="6381000" y="150300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6356520" y="1504080"/>
                  <a:ext cx="123840" cy="104760"/>
                  <a:chOff x="6356520" y="1504080"/>
                  <a:chExt cx="123840" cy="1047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rot="7135200">
                    <a:off x="6388560" y="1502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 flipV="1">
                    <a:off x="6364800" y="1554480"/>
                    <a:ext cx="738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6391440" y="1559880"/>
                    <a:ext cx="144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 flipV="1">
                    <a:off x="6405840" y="15462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420240" y="1557720"/>
                    <a:ext cx="100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4" name=""/>
              <p:cNvGrpSpPr/>
              <p:nvPr/>
            </p:nvGrpSpPr>
            <p:grpSpPr>
              <a:xfrm>
                <a:off x="5533920" y="1161360"/>
                <a:ext cx="448560" cy="504360"/>
                <a:chOff x="5533920" y="1161360"/>
                <a:chExt cx="448560" cy="504360"/>
              </a:xfrm>
            </p:grpSpPr>
            <p:grpSp>
              <p:nvGrpSpPr>
                <p:cNvPr id="1535" name=""/>
                <p:cNvGrpSpPr/>
                <p:nvPr/>
              </p:nvGrpSpPr>
              <p:grpSpPr>
                <a:xfrm>
                  <a:off x="5788440" y="1282680"/>
                  <a:ext cx="106200" cy="95760"/>
                  <a:chOff x="5788440" y="1282680"/>
                  <a:chExt cx="106200" cy="95760"/>
                </a:xfrm>
              </p:grpSpPr>
              <p:sp>
                <p:nvSpPr>
                  <p:cNvPr id="1536" name=""/>
                  <p:cNvSpPr/>
                  <p:nvPr/>
                </p:nvSpPr>
                <p:spPr>
                  <a:xfrm rot="6426000">
                    <a:off x="5805000" y="1285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V="1">
                    <a:off x="5795640" y="1321200"/>
                    <a:ext cx="63360" cy="30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 flipV="1">
                    <a:off x="5819040" y="134280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V="1">
                    <a:off x="5830560" y="132012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 flipV="1">
                    <a:off x="5843160" y="132912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1" name=""/>
                <p:cNvSpPr/>
                <p:nvPr/>
              </p:nvSpPr>
              <p:spPr>
                <a:xfrm flipH="1" flipV="1">
                  <a:off x="5668560" y="1429560"/>
                  <a:ext cx="118800" cy="6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2610600">
                  <a:off x="5560560" y="136872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V="1">
                  <a:off x="5753520" y="1279080"/>
                  <a:ext cx="39600" cy="119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V="1">
                  <a:off x="5777280" y="1448280"/>
                  <a:ext cx="75600" cy="19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>
                  <a:off x="5686200" y="1463400"/>
                  <a:ext cx="410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flipV="1">
                  <a:off x="5750280" y="1439640"/>
                  <a:ext cx="1800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 flipV="1">
                  <a:off x="5762160" y="1272600"/>
                  <a:ext cx="5400" cy="71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V="1">
                  <a:off x="5766480" y="1339200"/>
                  <a:ext cx="43200" cy="2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 flipV="1">
                  <a:off x="5654880" y="1327320"/>
                  <a:ext cx="5112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flipV="1">
                  <a:off x="5803200" y="1422720"/>
                  <a:ext cx="11880" cy="123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V="1">
                  <a:off x="5810400" y="1441440"/>
                  <a:ext cx="12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V="1">
                  <a:off x="5802480" y="1541160"/>
                  <a:ext cx="5400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V="1">
                  <a:off x="5840640" y="1445760"/>
                  <a:ext cx="3348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 flipV="1">
                  <a:off x="5733360" y="1535760"/>
                  <a:ext cx="4932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flipV="1">
                  <a:off x="5693760" y="136368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V="1">
                  <a:off x="5698440" y="1267920"/>
                  <a:ext cx="1224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7" name=""/>
                <p:cNvGrpSpPr/>
                <p:nvPr/>
              </p:nvGrpSpPr>
              <p:grpSpPr>
                <a:xfrm>
                  <a:off x="5763960" y="1205280"/>
                  <a:ext cx="121320" cy="89280"/>
                  <a:chOff x="5763960" y="1205280"/>
                  <a:chExt cx="121320" cy="89280"/>
                </a:xfrm>
              </p:grpSpPr>
              <p:sp>
                <p:nvSpPr>
                  <p:cNvPr id="1558" name=""/>
                  <p:cNvSpPr/>
                  <p:nvPr/>
                </p:nvSpPr>
                <p:spPr>
                  <a:xfrm rot="4356000">
                    <a:off x="5794560" y="1195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V="1">
                    <a:off x="5789160" y="1233360"/>
                    <a:ext cx="4788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 flipV="1">
                    <a:off x="5808240" y="126396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V="1">
                    <a:off x="5814360" y="124452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V="1">
                    <a:off x="5826960" y="1243080"/>
                    <a:ext cx="79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3" name=""/>
                <p:cNvGrpSpPr/>
                <p:nvPr/>
              </p:nvGrpSpPr>
              <p:grpSpPr>
                <a:xfrm>
                  <a:off x="5695560" y="1334520"/>
                  <a:ext cx="93240" cy="122400"/>
                  <a:chOff x="5695560" y="1334520"/>
                  <a:chExt cx="93240" cy="12240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 rot="1197600">
                    <a:off x="5712120" y="1341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 flipV="1">
                    <a:off x="5736960" y="1375560"/>
                    <a:ext cx="1548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 flipV="1">
                    <a:off x="5749560" y="140688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 flipV="1">
                    <a:off x="5732280" y="1399680"/>
                    <a:ext cx="97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 flipH="1" flipV="1">
                    <a:off x="5742720" y="1383120"/>
                    <a:ext cx="3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9" name=""/>
                <p:cNvGrpSpPr/>
                <p:nvPr/>
              </p:nvGrpSpPr>
              <p:grpSpPr>
                <a:xfrm>
                  <a:off x="5756760" y="1316160"/>
                  <a:ext cx="117720" cy="119880"/>
                  <a:chOff x="5756760" y="1316160"/>
                  <a:chExt cx="117720" cy="11988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 rot="2610600">
                    <a:off x="5785560" y="1321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V="1">
                    <a:off x="5803920" y="1355760"/>
                    <a:ext cx="1476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 flipV="1">
                    <a:off x="5811840" y="13899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 flipV="1">
                    <a:off x="5805000" y="137592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 flipV="1">
                    <a:off x="5817240" y="1365120"/>
                    <a:ext cx="39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5" name=""/>
                <p:cNvGrpSpPr/>
                <p:nvPr/>
              </p:nvGrpSpPr>
              <p:grpSpPr>
                <a:xfrm>
                  <a:off x="5560200" y="1375920"/>
                  <a:ext cx="114840" cy="111240"/>
                  <a:chOff x="5560200" y="1375920"/>
                  <a:chExt cx="114840" cy="11124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rot="18379800">
                    <a:off x="5581080" y="13870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5598000" y="1426680"/>
                    <a:ext cx="698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 flipH="1" flipV="1">
                    <a:off x="5630760" y="14230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flipH="1">
                    <a:off x="5616720" y="143316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flipV="1">
                    <a:off x="5607000" y="1429560"/>
                    <a:ext cx="9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1" name=""/>
                <p:cNvGrpSpPr/>
                <p:nvPr/>
              </p:nvGrpSpPr>
              <p:grpSpPr>
                <a:xfrm>
                  <a:off x="5664600" y="1161360"/>
                  <a:ext cx="117720" cy="119880"/>
                  <a:chOff x="5664600" y="1161360"/>
                  <a:chExt cx="117720" cy="1198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 rot="2610600">
                    <a:off x="5693400" y="1166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 flipV="1">
                    <a:off x="5711760" y="1200960"/>
                    <a:ext cx="14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 flipV="1">
                    <a:off x="5719680" y="123516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 flipH="1" flipV="1">
                    <a:off x="5712480" y="122112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 flipV="1">
                    <a:off x="5725080" y="121032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7" name=""/>
                <p:cNvGrpSpPr/>
                <p:nvPr/>
              </p:nvGrpSpPr>
              <p:grpSpPr>
                <a:xfrm>
                  <a:off x="5806800" y="1340640"/>
                  <a:ext cx="117720" cy="119880"/>
                  <a:chOff x="5806800" y="1340640"/>
                  <a:chExt cx="117720" cy="119880"/>
                </a:xfrm>
              </p:grpSpPr>
              <p:sp>
                <p:nvSpPr>
                  <p:cNvPr id="1588" name=""/>
                  <p:cNvSpPr/>
                  <p:nvPr/>
                </p:nvSpPr>
                <p:spPr>
                  <a:xfrm rot="2610600">
                    <a:off x="5835600" y="1346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 flipV="1">
                    <a:off x="5853960" y="1380240"/>
                    <a:ext cx="1476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 flipV="1">
                    <a:off x="5862240" y="141480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 flipH="1" flipV="1">
                    <a:off x="5855040" y="1400400"/>
                    <a:ext cx="5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 flipV="1">
                    <a:off x="5867280" y="1389600"/>
                    <a:ext cx="39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3" name=""/>
                <p:cNvGrpSpPr/>
                <p:nvPr/>
              </p:nvGrpSpPr>
              <p:grpSpPr>
                <a:xfrm>
                  <a:off x="5716440" y="1165320"/>
                  <a:ext cx="117720" cy="119880"/>
                  <a:chOff x="5716440" y="1165320"/>
                  <a:chExt cx="117720" cy="119880"/>
                </a:xfrm>
              </p:grpSpPr>
              <p:sp>
                <p:nvSpPr>
                  <p:cNvPr id="1594" name=""/>
                  <p:cNvSpPr/>
                  <p:nvPr/>
                </p:nvSpPr>
                <p:spPr>
                  <a:xfrm rot="2610600">
                    <a:off x="5745240" y="1170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V="1">
                    <a:off x="5763600" y="1204920"/>
                    <a:ext cx="14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V="1">
                    <a:off x="5771520" y="123912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 flipH="1" flipV="1">
                    <a:off x="5764320" y="122508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 flipV="1">
                    <a:off x="5776920" y="121428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9" name=""/>
                <p:cNvGrpSpPr/>
                <p:nvPr/>
              </p:nvGrpSpPr>
              <p:grpSpPr>
                <a:xfrm>
                  <a:off x="5614920" y="1496880"/>
                  <a:ext cx="112320" cy="104760"/>
                  <a:chOff x="5614920" y="1496880"/>
                  <a:chExt cx="112320" cy="10476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 rot="17808600">
                    <a:off x="5634360" y="1504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 flipH="1">
                    <a:off x="5652360" y="1536480"/>
                    <a:ext cx="6732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 flipH="1" flipV="1">
                    <a:off x="5682960" y="153936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 flipH="1">
                    <a:off x="5672160" y="154944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H="1">
                    <a:off x="5660640" y="154872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5" name=""/>
                <p:cNvGrpSpPr/>
                <p:nvPr/>
              </p:nvGrpSpPr>
              <p:grpSpPr>
                <a:xfrm>
                  <a:off x="5582520" y="1446840"/>
                  <a:ext cx="102960" cy="90720"/>
                  <a:chOff x="5582520" y="1446840"/>
                  <a:chExt cx="102960" cy="9072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rot="16969200">
                    <a:off x="5597280" y="1447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5617080" y="1467720"/>
                    <a:ext cx="6084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 flipH="1">
                    <a:off x="5643000" y="1477080"/>
                    <a:ext cx="126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flipH="1">
                    <a:off x="5637600" y="148932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H="1">
                    <a:off x="5623560" y="1491480"/>
                    <a:ext cx="90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1" name=""/>
                <p:cNvGrpSpPr/>
                <p:nvPr/>
              </p:nvGrpSpPr>
              <p:grpSpPr>
                <a:xfrm>
                  <a:off x="5571000" y="1228680"/>
                  <a:ext cx="114840" cy="113040"/>
                  <a:chOff x="5571000" y="1228680"/>
                  <a:chExt cx="114840" cy="11304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 rot="18621600">
                    <a:off x="5591880" y="1240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 flipH="1">
                    <a:off x="5608440" y="1283760"/>
                    <a:ext cx="70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 flipH="1" flipV="1">
                    <a:off x="5642280" y="1278000"/>
                    <a:ext cx="118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 flipH="1">
                    <a:off x="5626800" y="128772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H="1" flipV="1">
                    <a:off x="5618160" y="128232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7" name=""/>
                <p:cNvGrpSpPr/>
                <p:nvPr/>
              </p:nvGrpSpPr>
              <p:grpSpPr>
                <a:xfrm>
                  <a:off x="5538240" y="1290960"/>
                  <a:ext cx="109440" cy="100440"/>
                  <a:chOff x="5538240" y="1290960"/>
                  <a:chExt cx="109440" cy="100440"/>
                </a:xfrm>
              </p:grpSpPr>
              <p:sp>
                <p:nvSpPr>
                  <p:cNvPr id="1618" name=""/>
                  <p:cNvSpPr/>
                  <p:nvPr/>
                </p:nvSpPr>
                <p:spPr>
                  <a:xfrm rot="17492400">
                    <a:off x="5556240" y="12963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H="1">
                    <a:off x="5574960" y="1323720"/>
                    <a:ext cx="65520" cy="25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H="1">
                    <a:off x="5603760" y="132984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H="1">
                    <a:off x="5595120" y="133992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flipH="1">
                    <a:off x="5582520" y="1340280"/>
                    <a:ext cx="90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3" name=""/>
                <p:cNvGrpSpPr/>
                <p:nvPr/>
              </p:nvGrpSpPr>
              <p:grpSpPr>
                <a:xfrm>
                  <a:off x="5596200" y="1321560"/>
                  <a:ext cx="113400" cy="107640"/>
                  <a:chOff x="5596200" y="1321560"/>
                  <a:chExt cx="113400" cy="107640"/>
                </a:xfrm>
              </p:grpSpPr>
              <p:sp>
                <p:nvSpPr>
                  <p:cNvPr id="1624" name=""/>
                  <p:cNvSpPr/>
                  <p:nvPr/>
                </p:nvSpPr>
                <p:spPr>
                  <a:xfrm rot="18012000">
                    <a:off x="5616360" y="1330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 flipH="1">
                    <a:off x="5633640" y="1365480"/>
                    <a:ext cx="68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 flipH="1" flipV="1">
                    <a:off x="5665320" y="136584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 flipH="1">
                    <a:off x="5653080" y="1375920"/>
                    <a:ext cx="108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 flipH="1">
                    <a:off x="5642280" y="1374480"/>
                    <a:ext cx="90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5656320" y="1217520"/>
                  <a:ext cx="109800" cy="114120"/>
                  <a:chOff x="5656320" y="1217520"/>
                  <a:chExt cx="109800" cy="11412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rot="19596600">
                    <a:off x="5674680" y="1230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H="1" flipV="1">
                    <a:off x="5691600" y="1270800"/>
                    <a:ext cx="684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 flipH="1" flipV="1">
                    <a:off x="5726520" y="1271520"/>
                    <a:ext cx="104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flipH="1">
                    <a:off x="5706720" y="1280160"/>
                    <a:ext cx="140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H="1" flipV="1">
                    <a:off x="5702040" y="1269000"/>
                    <a:ext cx="82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5763240" y="1344600"/>
                  <a:ext cx="61200" cy="109080"/>
                  <a:chOff x="5763240" y="1344600"/>
                  <a:chExt cx="61200" cy="1090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 rot="46800">
                    <a:off x="5763600" y="1344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 flipV="1">
                    <a:off x="5782320" y="1382400"/>
                    <a:ext cx="3816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flipH="1" flipV="1">
                    <a:off x="5806080" y="140724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 flipH="1" flipV="1">
                    <a:off x="5785920" y="14065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flipH="1" flipV="1">
                    <a:off x="5790240" y="13874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1" name=""/>
                <p:cNvGrpSpPr/>
                <p:nvPr/>
              </p:nvGrpSpPr>
              <p:grpSpPr>
                <a:xfrm>
                  <a:off x="5871600" y="1383120"/>
                  <a:ext cx="110880" cy="102600"/>
                  <a:chOff x="5871600" y="1383120"/>
                  <a:chExt cx="110880" cy="102600"/>
                </a:xfrm>
              </p:grpSpPr>
              <p:sp>
                <p:nvSpPr>
                  <p:cNvPr id="1642" name=""/>
                  <p:cNvSpPr/>
                  <p:nvPr/>
                </p:nvSpPr>
                <p:spPr>
                  <a:xfrm rot="6843600">
                    <a:off x="5890680" y="1389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 flipV="1">
                    <a:off x="5879160" y="1427040"/>
                    <a:ext cx="66600" cy="2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5903280" y="144468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V="1">
                    <a:off x="5916240" y="142344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V="1">
                    <a:off x="5928840" y="143424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"/>
                <p:cNvGrpSpPr/>
                <p:nvPr/>
              </p:nvGrpSpPr>
              <p:grpSpPr>
                <a:xfrm>
                  <a:off x="5853600" y="1477800"/>
                  <a:ext cx="111960" cy="104400"/>
                  <a:chOff x="5853600" y="1477800"/>
                  <a:chExt cx="111960" cy="104400"/>
                </a:xfrm>
              </p:grpSpPr>
              <p:sp>
                <p:nvSpPr>
                  <p:cNvPr id="1648" name=""/>
                  <p:cNvSpPr/>
                  <p:nvPr/>
                </p:nvSpPr>
                <p:spPr>
                  <a:xfrm rot="6963600">
                    <a:off x="5873040" y="14853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flipV="1">
                    <a:off x="5861520" y="1523160"/>
                    <a:ext cx="67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5885640" y="153936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 flipV="1">
                    <a:off x="5898960" y="1519200"/>
                    <a:ext cx="97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V="1">
                    <a:off x="5911200" y="1530000"/>
                    <a:ext cx="9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5677560" y="1423800"/>
                  <a:ext cx="75960" cy="116280"/>
                  <a:chOff x="5677560" y="1423800"/>
                  <a:chExt cx="75960" cy="116280"/>
                </a:xfrm>
              </p:grpSpPr>
              <p:sp>
                <p:nvSpPr>
                  <p:cNvPr id="1654" name=""/>
                  <p:cNvSpPr/>
                  <p:nvPr/>
                </p:nvSpPr>
                <p:spPr>
                  <a:xfrm rot="536400">
                    <a:off x="5685480" y="1427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H="1" flipV="1">
                    <a:off x="5706360" y="1463400"/>
                    <a:ext cx="2916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H="1" flipV="1">
                    <a:off x="5726520" y="149148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H="1" flipV="1">
                    <a:off x="5706360" y="148788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H="1" flipV="1">
                    <a:off x="5713920" y="1469520"/>
                    <a:ext cx="18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5613480" y="1350720"/>
                  <a:ext cx="75240" cy="91080"/>
                  <a:chOff x="5613480" y="1350720"/>
                  <a:chExt cx="75240" cy="9108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 rot="21501600">
                    <a:off x="5614560" y="1351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H="1" flipV="1">
                    <a:off x="5636160" y="1382760"/>
                    <a:ext cx="4932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H="1" flipV="1">
                    <a:off x="5665320" y="1401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flipV="1">
                    <a:off x="5641560" y="1402200"/>
                    <a:ext cx="147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 flipV="1">
                    <a:off x="5645880" y="1386720"/>
                    <a:ext cx="50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5" name=""/>
                <p:cNvGrpSpPr/>
                <p:nvPr/>
              </p:nvGrpSpPr>
              <p:grpSpPr>
                <a:xfrm>
                  <a:off x="5588640" y="1238040"/>
                  <a:ext cx="79200" cy="93960"/>
                  <a:chOff x="5588640" y="1238040"/>
                  <a:chExt cx="79200" cy="939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rot="21341400">
                    <a:off x="5591880" y="12405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H="1" flipV="1">
                    <a:off x="5612760" y="1272240"/>
                    <a:ext cx="5148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H="1" flipV="1">
                    <a:off x="5643000" y="128988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H="1" flipV="1">
                    <a:off x="5619240" y="1291680"/>
                    <a:ext cx="147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flipH="1" flipV="1">
                    <a:off x="5622840" y="12758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1" name=""/>
                <p:cNvGrpSpPr/>
                <p:nvPr/>
              </p:nvGrpSpPr>
              <p:grpSpPr>
                <a:xfrm>
                  <a:off x="5625720" y="1172160"/>
                  <a:ext cx="71280" cy="114120"/>
                  <a:chOff x="5625720" y="1172160"/>
                  <a:chExt cx="71280" cy="114120"/>
                </a:xfrm>
              </p:grpSpPr>
              <p:sp>
                <p:nvSpPr>
                  <p:cNvPr id="1672" name=""/>
                  <p:cNvSpPr/>
                  <p:nvPr/>
                </p:nvSpPr>
                <p:spPr>
                  <a:xfrm rot="373200">
                    <a:off x="5631480" y="1175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flipH="1" flipV="1">
                    <a:off x="5651280" y="1211400"/>
                    <a:ext cx="324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flipH="1" flipV="1">
                    <a:off x="5672520" y="123840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H="1" flipV="1">
                    <a:off x="5652720" y="123588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 flipH="1" flipV="1">
                    <a:off x="5658840" y="1217160"/>
                    <a:ext cx="28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7" name=""/>
              <p:cNvGrpSpPr/>
              <p:nvPr/>
            </p:nvGrpSpPr>
            <p:grpSpPr>
              <a:xfrm>
                <a:off x="5936040" y="963000"/>
                <a:ext cx="361080" cy="591480"/>
                <a:chOff x="5936040" y="963000"/>
                <a:chExt cx="361080" cy="591480"/>
              </a:xfrm>
            </p:grpSpPr>
            <p:grpSp>
              <p:nvGrpSpPr>
                <p:cNvPr id="1678" name=""/>
                <p:cNvGrpSpPr/>
                <p:nvPr/>
              </p:nvGrpSpPr>
              <p:grpSpPr>
                <a:xfrm>
                  <a:off x="6154200" y="1199880"/>
                  <a:ext cx="105480" cy="123840"/>
                  <a:chOff x="6154200" y="1199880"/>
                  <a:chExt cx="105480" cy="12384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 rot="9030000">
                    <a:off x="6176880" y="1207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6160320" y="1235520"/>
                    <a:ext cx="6516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6182280" y="125064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6197400" y="12517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6208200" y="126396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84" name=""/>
                <p:cNvSpPr/>
                <p:nvPr/>
              </p:nvSpPr>
              <p:spPr>
                <a:xfrm flipH="1" flipV="1">
                  <a:off x="6046920" y="1200600"/>
                  <a:ext cx="35280" cy="160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5215200">
                  <a:off x="5854680" y="1202400"/>
                  <a:ext cx="40644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6116400" y="1175040"/>
                  <a:ext cx="89280" cy="70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V="1">
                  <a:off x="5995800" y="1373760"/>
                  <a:ext cx="154080" cy="10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 flipV="1">
                  <a:off x="6036480" y="1249920"/>
                  <a:ext cx="28080" cy="30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V="1">
                  <a:off x="6080760" y="1278720"/>
                  <a:ext cx="1080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6154560" y="1143360"/>
                  <a:ext cx="36000" cy="67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6141960" y="1227960"/>
                  <a:ext cx="4032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 flipV="1">
                  <a:off x="6094800" y="1099440"/>
                  <a:ext cx="29160" cy="47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V="1">
                  <a:off x="6072840" y="1309680"/>
                  <a:ext cx="60120" cy="11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V="1">
                  <a:off x="6109560" y="1342440"/>
                  <a:ext cx="252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6047280" y="1444680"/>
                  <a:ext cx="5364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V="1">
                  <a:off x="6124320" y="1389600"/>
                  <a:ext cx="3960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 flipV="1">
                  <a:off x="6028200" y="1348200"/>
                  <a:ext cx="16560" cy="64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 flipV="1">
                  <a:off x="6098760" y="1164600"/>
                  <a:ext cx="1548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V="1">
                  <a:off x="6136200" y="1095840"/>
                  <a:ext cx="2556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00" name=""/>
                <p:cNvGrpSpPr/>
                <p:nvPr/>
              </p:nvGrpSpPr>
              <p:grpSpPr>
                <a:xfrm>
                  <a:off x="6185160" y="1125360"/>
                  <a:ext cx="111960" cy="104400"/>
                  <a:chOff x="6185160" y="1125360"/>
                  <a:chExt cx="111960" cy="104400"/>
                </a:xfrm>
              </p:grpSpPr>
              <p:sp>
                <p:nvSpPr>
                  <p:cNvPr id="1701" name=""/>
                  <p:cNvSpPr/>
                  <p:nvPr/>
                </p:nvSpPr>
                <p:spPr>
                  <a:xfrm rot="6960000">
                    <a:off x="6204600" y="1132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 flipV="1">
                    <a:off x="6192360" y="1170720"/>
                    <a:ext cx="673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6216480" y="118692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 flipV="1">
                    <a:off x="6229800" y="116676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 flipV="1">
                    <a:off x="6242760" y="117720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6" name=""/>
                <p:cNvGrpSpPr/>
                <p:nvPr/>
              </p:nvGrpSpPr>
              <p:grpSpPr>
                <a:xfrm>
                  <a:off x="6054480" y="1181160"/>
                  <a:ext cx="112320" cy="105120"/>
                  <a:chOff x="6054480" y="1181160"/>
                  <a:chExt cx="112320" cy="105120"/>
                </a:xfrm>
              </p:grpSpPr>
              <p:sp>
                <p:nvSpPr>
                  <p:cNvPr id="1707" name=""/>
                  <p:cNvSpPr/>
                  <p:nvPr/>
                </p:nvSpPr>
                <p:spPr>
                  <a:xfrm rot="3801600">
                    <a:off x="6073920" y="11890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 flipV="1">
                    <a:off x="6092640" y="1214640"/>
                    <a:ext cx="24120" cy="66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 flipV="1">
                    <a:off x="6103440" y="124956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 flipH="1" flipV="1">
                    <a:off x="6101640" y="1228320"/>
                    <a:ext cx="2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 flipV="1">
                    <a:off x="6112080" y="1225080"/>
                    <a:ext cx="50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2" name=""/>
                <p:cNvGrpSpPr/>
                <p:nvPr/>
              </p:nvGrpSpPr>
              <p:grpSpPr>
                <a:xfrm>
                  <a:off x="6120000" y="1240920"/>
                  <a:ext cx="92880" cy="77760"/>
                  <a:chOff x="6120000" y="1240920"/>
                  <a:chExt cx="92880" cy="77760"/>
                </a:xfrm>
              </p:grpSpPr>
              <p:sp>
                <p:nvSpPr>
                  <p:cNvPr id="1713" name=""/>
                  <p:cNvSpPr/>
                  <p:nvPr/>
                </p:nvSpPr>
                <p:spPr>
                  <a:xfrm rot="5215200">
                    <a:off x="6129720" y="12351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 flipV="1">
                    <a:off x="6130800" y="1264680"/>
                    <a:ext cx="4896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 flipV="1">
                    <a:off x="6149880" y="129456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 flipV="1">
                    <a:off x="6157080" y="127080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 flipV="1">
                    <a:off x="6168240" y="127440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8" name=""/>
                <p:cNvGrpSpPr/>
                <p:nvPr/>
              </p:nvGrpSpPr>
              <p:grpSpPr>
                <a:xfrm>
                  <a:off x="5975640" y="1099800"/>
                  <a:ext cx="78120" cy="117360"/>
                  <a:chOff x="5975640" y="1099800"/>
                  <a:chExt cx="78120" cy="11736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 rot="20984400">
                    <a:off x="5984640" y="1104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 flipH="1" flipV="1">
                    <a:off x="6000120" y="1144080"/>
                    <a:ext cx="49680" cy="54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 flipH="1" flipV="1">
                    <a:off x="6028200" y="1163880"/>
                    <a:ext cx="61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flipH="1" flipV="1">
                    <a:off x="6008040" y="116712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H="1" flipV="1">
                    <a:off x="6009120" y="114768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4" name=""/>
                <p:cNvGrpSpPr/>
                <p:nvPr/>
              </p:nvGrpSpPr>
              <p:grpSpPr>
                <a:xfrm>
                  <a:off x="6148800" y="1027440"/>
                  <a:ext cx="92880" cy="77760"/>
                  <a:chOff x="6148800" y="1027440"/>
                  <a:chExt cx="92880" cy="77760"/>
                </a:xfrm>
              </p:grpSpPr>
              <p:sp>
                <p:nvSpPr>
                  <p:cNvPr id="1725" name=""/>
                  <p:cNvSpPr/>
                  <p:nvPr/>
                </p:nvSpPr>
                <p:spPr>
                  <a:xfrm rot="5215200">
                    <a:off x="6158520" y="1021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V="1">
                    <a:off x="6159240" y="1051200"/>
                    <a:ext cx="4896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flipV="1">
                    <a:off x="6178320" y="108108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 flipV="1">
                    <a:off x="6185520" y="105732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V="1">
                    <a:off x="6196680" y="106092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0" name=""/>
                <p:cNvGrpSpPr/>
                <p:nvPr/>
              </p:nvGrpSpPr>
              <p:grpSpPr>
                <a:xfrm>
                  <a:off x="6136920" y="1304640"/>
                  <a:ext cx="92880" cy="77760"/>
                  <a:chOff x="6136920" y="1304640"/>
                  <a:chExt cx="92880" cy="77760"/>
                </a:xfrm>
              </p:grpSpPr>
              <p:sp>
                <p:nvSpPr>
                  <p:cNvPr id="1731" name=""/>
                  <p:cNvSpPr/>
                  <p:nvPr/>
                </p:nvSpPr>
                <p:spPr>
                  <a:xfrm rot="5215200">
                    <a:off x="6146640" y="12988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 flipV="1">
                    <a:off x="6147720" y="132876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 flipV="1">
                    <a:off x="6166800" y="135864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 flipV="1">
                    <a:off x="6174000" y="1334880"/>
                    <a:ext cx="2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 flipV="1">
                    <a:off x="6185160" y="133848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6" name=""/>
                <p:cNvGrpSpPr/>
                <p:nvPr/>
              </p:nvGrpSpPr>
              <p:grpSpPr>
                <a:xfrm>
                  <a:off x="6177960" y="1074240"/>
                  <a:ext cx="92880" cy="77760"/>
                  <a:chOff x="6177960" y="1074240"/>
                  <a:chExt cx="92880" cy="7776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 rot="5215200">
                    <a:off x="6187680" y="1068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flipV="1">
                    <a:off x="6188760" y="1098360"/>
                    <a:ext cx="4860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 flipV="1">
                    <a:off x="6207480" y="112824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 flipV="1">
                    <a:off x="6214680" y="110448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flipV="1">
                    <a:off x="6225840" y="1107720"/>
                    <a:ext cx="79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5936040" y="1246320"/>
                  <a:ext cx="92880" cy="122040"/>
                  <a:chOff x="5936040" y="1246320"/>
                  <a:chExt cx="92880" cy="12204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 rot="20413200">
                    <a:off x="5952600" y="1253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 flipH="1" flipV="1">
                    <a:off x="5965920" y="1295640"/>
                    <a:ext cx="57960" cy="45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 flipH="1" flipV="1">
                    <a:off x="5996880" y="131040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 flipH="1" flipV="1">
                    <a:off x="5977800" y="131688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 flipH="1" flipV="1">
                    <a:off x="5975280" y="1297440"/>
                    <a:ext cx="64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8" name=""/>
                <p:cNvGrpSpPr/>
                <p:nvPr/>
              </p:nvGrpSpPr>
              <p:grpSpPr>
                <a:xfrm>
                  <a:off x="5936760" y="1163160"/>
                  <a:ext cx="109800" cy="123120"/>
                  <a:chOff x="5936760" y="1163160"/>
                  <a:chExt cx="109800" cy="12312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 rot="19573800">
                    <a:off x="5961600" y="1170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 flipH="1" flipV="1">
                    <a:off x="5972400" y="1217520"/>
                    <a:ext cx="6732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 flipH="1" flipV="1">
                    <a:off x="6006240" y="122472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 flipH="1">
                    <a:off x="5989320" y="123264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H="1" flipV="1">
                    <a:off x="5982120" y="121716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4" name=""/>
                <p:cNvGrpSpPr/>
                <p:nvPr/>
              </p:nvGrpSpPr>
              <p:grpSpPr>
                <a:xfrm>
                  <a:off x="6066000" y="983160"/>
                  <a:ext cx="71280" cy="114120"/>
                  <a:chOff x="6066000" y="983160"/>
                  <a:chExt cx="71280" cy="11412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 rot="21225000">
                    <a:off x="6071400" y="986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 flipH="1" flipV="1">
                    <a:off x="6087960" y="1024920"/>
                    <a:ext cx="4572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 flipH="1" flipV="1">
                    <a:off x="6114600" y="104652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flipH="1" flipV="1">
                    <a:off x="6094440" y="104832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 flipH="1" flipV="1">
                    <a:off x="6096600" y="102888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0" name=""/>
                <p:cNvGrpSpPr/>
                <p:nvPr/>
              </p:nvGrpSpPr>
              <p:grpSpPr>
                <a:xfrm>
                  <a:off x="5999400" y="997200"/>
                  <a:ext cx="100080" cy="123480"/>
                  <a:chOff x="5999400" y="997200"/>
                  <a:chExt cx="100080" cy="12348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 rot="20097000">
                    <a:off x="6019200" y="1004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 flipH="1" flipV="1">
                    <a:off x="6031440" y="1048680"/>
                    <a:ext cx="62280" cy="40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 flipV="1">
                    <a:off x="6063840" y="106056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 flipH="1">
                    <a:off x="6045120" y="106812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 flipH="1" flipV="1">
                    <a:off x="6041160" y="104976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6" name=""/>
                <p:cNvGrpSpPr/>
                <p:nvPr/>
              </p:nvGrpSpPr>
              <p:grpSpPr>
                <a:xfrm>
                  <a:off x="6023160" y="1078920"/>
                  <a:ext cx="87840" cy="120960"/>
                  <a:chOff x="6023160" y="1078920"/>
                  <a:chExt cx="87840" cy="120960"/>
                </a:xfrm>
              </p:grpSpPr>
              <p:sp>
                <p:nvSpPr>
                  <p:cNvPr id="1767" name=""/>
                  <p:cNvSpPr/>
                  <p:nvPr/>
                </p:nvSpPr>
                <p:spPr>
                  <a:xfrm rot="20616600">
                    <a:off x="6037200" y="1085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H="1" flipV="1">
                    <a:off x="6050880" y="1126800"/>
                    <a:ext cx="5544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flipH="1" flipV="1">
                    <a:off x="6080760" y="11433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flipH="1" flipV="1">
                    <a:off x="6061320" y="114876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H="1" flipV="1">
                    <a:off x="6060240" y="1129320"/>
                    <a:ext cx="61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2" name=""/>
                <p:cNvGrpSpPr/>
                <p:nvPr/>
              </p:nvGrpSpPr>
              <p:grpSpPr>
                <a:xfrm>
                  <a:off x="6119640" y="1043280"/>
                  <a:ext cx="77400" cy="117000"/>
                  <a:chOff x="6119640" y="1043280"/>
                  <a:chExt cx="77400" cy="117000"/>
                </a:xfrm>
              </p:grpSpPr>
              <p:sp>
                <p:nvSpPr>
                  <p:cNvPr id="1773" name=""/>
                  <p:cNvSpPr/>
                  <p:nvPr/>
                </p:nvSpPr>
                <p:spPr>
                  <a:xfrm rot="600000">
                    <a:off x="6128280" y="1047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 flipH="1" flipV="1">
                    <a:off x="6149520" y="1083600"/>
                    <a:ext cx="27720" cy="68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 flipH="1" flipV="1">
                    <a:off x="6168960" y="111168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 flipH="1" flipV="1">
                    <a:off x="6149160" y="1108080"/>
                    <a:ext cx="108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 flipH="1" flipV="1">
                    <a:off x="6156720" y="1089720"/>
                    <a:ext cx="18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8" name=""/>
                <p:cNvGrpSpPr/>
                <p:nvPr/>
              </p:nvGrpSpPr>
              <p:grpSpPr>
                <a:xfrm>
                  <a:off x="6083280" y="1223640"/>
                  <a:ext cx="114480" cy="114840"/>
                  <a:chOff x="6083280" y="1223640"/>
                  <a:chExt cx="114480" cy="114840"/>
                </a:xfrm>
              </p:grpSpPr>
              <p:sp>
                <p:nvSpPr>
                  <p:cNvPr id="1779" name=""/>
                  <p:cNvSpPr/>
                  <p:nvPr/>
                </p:nvSpPr>
                <p:spPr>
                  <a:xfrm rot="2650800">
                    <a:off x="6103800" y="12362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 flipV="1">
                    <a:off x="6138360" y="1261440"/>
                    <a:ext cx="144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V="1">
                    <a:off x="6141600" y="1295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H="1" flipV="1">
                    <a:off x="6129360" y="127908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6141240" y="1270800"/>
                    <a:ext cx="21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4" name=""/>
                <p:cNvGrpSpPr/>
                <p:nvPr/>
              </p:nvGrpSpPr>
              <p:grpSpPr>
                <a:xfrm>
                  <a:off x="6153840" y="1363680"/>
                  <a:ext cx="96840" cy="123120"/>
                  <a:chOff x="6153840" y="1363680"/>
                  <a:chExt cx="96840" cy="123120"/>
                </a:xfrm>
              </p:grpSpPr>
              <p:sp>
                <p:nvSpPr>
                  <p:cNvPr id="1785" name=""/>
                  <p:cNvSpPr/>
                  <p:nvPr/>
                </p:nvSpPr>
                <p:spPr>
                  <a:xfrm rot="9448200">
                    <a:off x="6172200" y="1370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6159600" y="1393200"/>
                    <a:ext cx="60120" cy="4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6179400" y="1410840"/>
                    <a:ext cx="86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6194160" y="1415520"/>
                    <a:ext cx="126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6203160" y="1427400"/>
                    <a:ext cx="72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0" name=""/>
                <p:cNvGrpSpPr/>
                <p:nvPr/>
              </p:nvGrpSpPr>
              <p:grpSpPr>
                <a:xfrm>
                  <a:off x="6092280" y="1432080"/>
                  <a:ext cx="93960" cy="122400"/>
                  <a:chOff x="6092280" y="1432080"/>
                  <a:chExt cx="93960" cy="122400"/>
                </a:xfrm>
              </p:grpSpPr>
              <p:sp>
                <p:nvSpPr>
                  <p:cNvPr id="1791" name=""/>
                  <p:cNvSpPr/>
                  <p:nvPr/>
                </p:nvSpPr>
                <p:spPr>
                  <a:xfrm rot="9568200">
                    <a:off x="6109200" y="1438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6097680" y="1460160"/>
                    <a:ext cx="58680" cy="45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6116760" y="147816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6131520" y="148356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6140160" y="1495800"/>
                    <a:ext cx="68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6" name=""/>
                <p:cNvGrpSpPr/>
                <p:nvPr/>
              </p:nvGrpSpPr>
              <p:grpSpPr>
                <a:xfrm>
                  <a:off x="5989320" y="1230120"/>
                  <a:ext cx="115200" cy="112320"/>
                  <a:chOff x="5989320" y="1230120"/>
                  <a:chExt cx="115200" cy="112320"/>
                </a:xfrm>
              </p:grpSpPr>
              <p:sp>
                <p:nvSpPr>
                  <p:cNvPr id="1797" name=""/>
                  <p:cNvSpPr/>
                  <p:nvPr/>
                </p:nvSpPr>
                <p:spPr>
                  <a:xfrm rot="3141000">
                    <a:off x="6010200" y="12416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flipV="1">
                    <a:off x="6037920" y="1266480"/>
                    <a:ext cx="115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 flipV="1">
                    <a:off x="6044760" y="1301400"/>
                    <a:ext cx="6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 flipH="1" flipV="1">
                    <a:off x="6036840" y="128268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 flipV="1">
                    <a:off x="6048360" y="1276560"/>
                    <a:ext cx="32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2" name=""/>
                <p:cNvGrpSpPr/>
                <p:nvPr/>
              </p:nvGrpSpPr>
              <p:grpSpPr>
                <a:xfrm>
                  <a:off x="5996160" y="1095840"/>
                  <a:ext cx="116640" cy="120600"/>
                  <a:chOff x="5996160" y="1095840"/>
                  <a:chExt cx="116640" cy="12060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 rot="2505000">
                    <a:off x="6024240" y="1101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 flipV="1">
                    <a:off x="6044400" y="1135800"/>
                    <a:ext cx="1224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 flipV="1">
                    <a:off x="6051600" y="11703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 flipH="1" flipV="1">
                    <a:off x="6043680" y="115632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 flipV="1">
                    <a:off x="6055920" y="11451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8" name=""/>
                <p:cNvGrpSpPr/>
                <p:nvPr/>
              </p:nvGrpSpPr>
              <p:grpSpPr>
                <a:xfrm>
                  <a:off x="6044040" y="979200"/>
                  <a:ext cx="114840" cy="121680"/>
                  <a:chOff x="6044040" y="979200"/>
                  <a:chExt cx="114840" cy="121680"/>
                </a:xfrm>
              </p:grpSpPr>
              <p:sp>
                <p:nvSpPr>
                  <p:cNvPr id="1809" name=""/>
                  <p:cNvSpPr/>
                  <p:nvPr/>
                </p:nvSpPr>
                <p:spPr>
                  <a:xfrm rot="2345400">
                    <a:off x="6071400" y="985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 flipV="1">
                    <a:off x="6093720" y="1019520"/>
                    <a:ext cx="900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 flipV="1">
                    <a:off x="6099840" y="1053720"/>
                    <a:ext cx="61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 flipH="1" flipV="1">
                    <a:off x="6090840" y="104076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 flipV="1">
                    <a:off x="6103080" y="1028880"/>
                    <a:ext cx="2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4" name=""/>
                <p:cNvGrpSpPr/>
                <p:nvPr/>
              </p:nvGrpSpPr>
              <p:grpSpPr>
                <a:xfrm>
                  <a:off x="6095520" y="963000"/>
                  <a:ext cx="115200" cy="113400"/>
                  <a:chOff x="6095520" y="963000"/>
                  <a:chExt cx="115200" cy="113400"/>
                </a:xfrm>
              </p:grpSpPr>
              <p:sp>
                <p:nvSpPr>
                  <p:cNvPr id="1815" name=""/>
                  <p:cNvSpPr/>
                  <p:nvPr/>
                </p:nvSpPr>
                <p:spPr>
                  <a:xfrm rot="2977200">
                    <a:off x="6116400" y="9748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 flipV="1">
                    <a:off x="6146280" y="1000080"/>
                    <a:ext cx="792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 flipV="1">
                    <a:off x="6151680" y="103464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 flipH="1" flipV="1">
                    <a:off x="6142320" y="1016640"/>
                    <a:ext cx="61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 flipV="1">
                    <a:off x="6153840" y="1009800"/>
                    <a:ext cx="2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0" name=""/>
              <p:cNvGrpSpPr/>
              <p:nvPr/>
            </p:nvGrpSpPr>
            <p:grpSpPr>
              <a:xfrm>
                <a:off x="4989240" y="1664280"/>
                <a:ext cx="370440" cy="582480"/>
                <a:chOff x="4989240" y="1664280"/>
                <a:chExt cx="370440" cy="582480"/>
              </a:xfrm>
            </p:grpSpPr>
            <p:grpSp>
              <p:nvGrpSpPr>
                <p:cNvPr id="1821" name=""/>
                <p:cNvGrpSpPr/>
                <p:nvPr/>
              </p:nvGrpSpPr>
              <p:grpSpPr>
                <a:xfrm>
                  <a:off x="5042880" y="1883520"/>
                  <a:ext cx="96480" cy="123120"/>
                  <a:chOff x="5042880" y="1883520"/>
                  <a:chExt cx="96480" cy="123120"/>
                </a:xfrm>
              </p:grpSpPr>
              <p:sp>
                <p:nvSpPr>
                  <p:cNvPr id="1822" name=""/>
                  <p:cNvSpPr/>
                  <p:nvPr/>
                </p:nvSpPr>
                <p:spPr>
                  <a:xfrm rot="20265000">
                    <a:off x="5060880" y="1890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 flipH="1" flipV="1">
                    <a:off x="5073840" y="1933920"/>
                    <a:ext cx="59760" cy="4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 flipH="1" flipV="1">
                    <a:off x="5105160" y="194724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H="1">
                    <a:off x="5086440" y="195444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 flipH="1" flipV="1">
                    <a:off x="5083200" y="1935360"/>
                    <a:ext cx="68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27" name=""/>
                <p:cNvSpPr/>
                <p:nvPr/>
              </p:nvSpPr>
              <p:spPr>
                <a:xfrm>
                  <a:off x="5226840" y="1861560"/>
                  <a:ext cx="14760" cy="16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rot="16449600">
                  <a:off x="5037840" y="1850040"/>
                  <a:ext cx="406440" cy="1728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>
                  <a:off x="5081400" y="1972800"/>
                  <a:ext cx="9720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H="1">
                  <a:off x="5161320" y="1755360"/>
                  <a:ext cx="16596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234760" y="1944720"/>
                  <a:ext cx="2376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5207400" y="1895040"/>
                  <a:ext cx="1692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>
                  <a:off x="5092200" y="2002320"/>
                  <a:ext cx="4428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 flipV="1">
                  <a:off x="5112360" y="1967760"/>
                  <a:ext cx="38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5158800" y="2069640"/>
                  <a:ext cx="2304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>
                  <a:off x="5170680" y="1798200"/>
                  <a:ext cx="7416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>
                  <a:off x="5172480" y="1860120"/>
                  <a:ext cx="2736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H="1" flipV="1">
                  <a:off x="5220360" y="1764000"/>
                  <a:ext cx="5148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 flipV="1">
                  <a:off x="5149440" y="1823760"/>
                  <a:ext cx="3960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270400" y="1816200"/>
                  <a:ext cx="864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176440" y="2005560"/>
                  <a:ext cx="936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>
                  <a:off x="5114880" y="2100960"/>
                  <a:ext cx="2736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3" name=""/>
                <p:cNvGrpSpPr/>
                <p:nvPr/>
              </p:nvGrpSpPr>
              <p:grpSpPr>
                <a:xfrm>
                  <a:off x="4989240" y="1969200"/>
                  <a:ext cx="114480" cy="109800"/>
                  <a:chOff x="4989240" y="1969200"/>
                  <a:chExt cx="114480" cy="109800"/>
                </a:xfrm>
              </p:grpSpPr>
              <p:sp>
                <p:nvSpPr>
                  <p:cNvPr id="1844" name=""/>
                  <p:cNvSpPr/>
                  <p:nvPr/>
                </p:nvSpPr>
                <p:spPr>
                  <a:xfrm rot="18195000">
                    <a:off x="5009760" y="19796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H="1">
                    <a:off x="5027040" y="201636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 flipH="1" flipV="1">
                    <a:off x="5059440" y="201528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 flipH="1">
                    <a:off x="5046480" y="20253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 flipH="1" flipV="1">
                    <a:off x="5035680" y="202320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9" name=""/>
                <p:cNvGrpSpPr/>
                <p:nvPr/>
              </p:nvGrpSpPr>
              <p:grpSpPr>
                <a:xfrm>
                  <a:off x="5128560" y="1936080"/>
                  <a:ext cx="108000" cy="98280"/>
                  <a:chOff x="5128560" y="1936080"/>
                  <a:chExt cx="108000" cy="98280"/>
                </a:xfrm>
              </p:grpSpPr>
              <p:sp>
                <p:nvSpPr>
                  <p:cNvPr id="1850" name=""/>
                  <p:cNvSpPr/>
                  <p:nvPr/>
                </p:nvSpPr>
                <p:spPr>
                  <a:xfrm rot="15036600">
                    <a:off x="5145840" y="19404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 flipH="1">
                    <a:off x="5173920" y="1940400"/>
                    <a:ext cx="327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 flipH="1">
                    <a:off x="5182920" y="196092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5189760" y="197676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 flipH="1">
                    <a:off x="5175000" y="1985760"/>
                    <a:ext cx="5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5" name=""/>
                <p:cNvGrpSpPr/>
                <p:nvPr/>
              </p:nvGrpSpPr>
              <p:grpSpPr>
                <a:xfrm>
                  <a:off x="5086080" y="1892880"/>
                  <a:ext cx="93600" cy="79200"/>
                  <a:chOff x="5086080" y="1892880"/>
                  <a:chExt cx="93600" cy="79200"/>
                </a:xfrm>
              </p:grpSpPr>
              <p:sp>
                <p:nvSpPr>
                  <p:cNvPr id="1856" name=""/>
                  <p:cNvSpPr/>
                  <p:nvPr/>
                </p:nvSpPr>
                <p:spPr>
                  <a:xfrm rot="16449600">
                    <a:off x="5096160" y="1887840"/>
                    <a:ext cx="730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 flipH="1">
                    <a:off x="5118480" y="1901160"/>
                    <a:ext cx="5436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 flipH="1">
                    <a:off x="5140080" y="1914480"/>
                    <a:ext cx="1188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 flipH="1">
                    <a:off x="5137920" y="192780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 flipH="1">
                    <a:off x="5122440" y="1932120"/>
                    <a:ext cx="79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1" name=""/>
                <p:cNvGrpSpPr/>
                <p:nvPr/>
              </p:nvGrpSpPr>
              <p:grpSpPr>
                <a:xfrm>
                  <a:off x="5235480" y="2015640"/>
                  <a:ext cx="65520" cy="111600"/>
                  <a:chOff x="5235480" y="2015640"/>
                  <a:chExt cx="65520" cy="111600"/>
                </a:xfrm>
              </p:grpSpPr>
              <p:sp>
                <p:nvSpPr>
                  <p:cNvPr id="1862" name=""/>
                  <p:cNvSpPr/>
                  <p:nvPr/>
                </p:nvSpPr>
                <p:spPr>
                  <a:xfrm rot="10618800">
                    <a:off x="5238360" y="2017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5238720" y="2027160"/>
                    <a:ext cx="4248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5251320" y="205056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5263560" y="20599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5268600" y="2073960"/>
                    <a:ext cx="39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7" name=""/>
                <p:cNvGrpSpPr/>
                <p:nvPr/>
              </p:nvGrpSpPr>
              <p:grpSpPr>
                <a:xfrm>
                  <a:off x="5031000" y="2100960"/>
                  <a:ext cx="93960" cy="79200"/>
                  <a:chOff x="5031000" y="2100960"/>
                  <a:chExt cx="93960" cy="79200"/>
                </a:xfrm>
              </p:grpSpPr>
              <p:sp>
                <p:nvSpPr>
                  <p:cNvPr id="1868" name=""/>
                  <p:cNvSpPr/>
                  <p:nvPr/>
                </p:nvSpPr>
                <p:spPr>
                  <a:xfrm rot="16449600">
                    <a:off x="5041440" y="2095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 flipH="1">
                    <a:off x="5063040" y="2109240"/>
                    <a:ext cx="55080" cy="44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 flipH="1">
                    <a:off x="5085000" y="212256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 flipH="1">
                    <a:off x="5083200" y="2135880"/>
                    <a:ext cx="50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 flipH="1">
                    <a:off x="5068080" y="214056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3" name=""/>
                <p:cNvGrpSpPr/>
                <p:nvPr/>
              </p:nvGrpSpPr>
              <p:grpSpPr>
                <a:xfrm>
                  <a:off x="5077080" y="1827000"/>
                  <a:ext cx="93960" cy="79200"/>
                  <a:chOff x="5077080" y="1827000"/>
                  <a:chExt cx="93960" cy="79200"/>
                </a:xfrm>
              </p:grpSpPr>
              <p:sp>
                <p:nvSpPr>
                  <p:cNvPr id="1874" name=""/>
                  <p:cNvSpPr/>
                  <p:nvPr/>
                </p:nvSpPr>
                <p:spPr>
                  <a:xfrm rot="16449600">
                    <a:off x="5087520" y="18219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 flipH="1">
                    <a:off x="5109480" y="183564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 flipH="1">
                    <a:off x="5131080" y="184860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 flipH="1">
                    <a:off x="5129640" y="186228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 flipH="1">
                    <a:off x="5114520" y="1866600"/>
                    <a:ext cx="79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9" name=""/>
                <p:cNvGrpSpPr/>
                <p:nvPr/>
              </p:nvGrpSpPr>
              <p:grpSpPr>
                <a:xfrm>
                  <a:off x="5007960" y="2050560"/>
                  <a:ext cx="93600" cy="79200"/>
                  <a:chOff x="5007960" y="2050560"/>
                  <a:chExt cx="93600" cy="79200"/>
                </a:xfrm>
              </p:grpSpPr>
              <p:sp>
                <p:nvSpPr>
                  <p:cNvPr id="1880" name=""/>
                  <p:cNvSpPr/>
                  <p:nvPr/>
                </p:nvSpPr>
                <p:spPr>
                  <a:xfrm rot="16449600">
                    <a:off x="5018040" y="2045520"/>
                    <a:ext cx="730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 flipH="1">
                    <a:off x="5040000" y="205884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 flipH="1">
                    <a:off x="5061960" y="2072160"/>
                    <a:ext cx="118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H="1">
                    <a:off x="5059800" y="208548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 flipH="1">
                    <a:off x="5044320" y="2090160"/>
                    <a:ext cx="79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5" name=""/>
                <p:cNvGrpSpPr/>
                <p:nvPr/>
              </p:nvGrpSpPr>
              <p:grpSpPr>
                <a:xfrm>
                  <a:off x="5277960" y="1868760"/>
                  <a:ext cx="81720" cy="118800"/>
                  <a:chOff x="5277960" y="1868760"/>
                  <a:chExt cx="81720" cy="118800"/>
                </a:xfrm>
              </p:grpSpPr>
              <p:sp>
                <p:nvSpPr>
                  <p:cNvPr id="1886" name=""/>
                  <p:cNvSpPr/>
                  <p:nvPr/>
                </p:nvSpPr>
                <p:spPr>
                  <a:xfrm rot="10047600">
                    <a:off x="5288760" y="1873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5282280" y="1889280"/>
                    <a:ext cx="5184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>
                    <a:off x="5298480" y="190980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5312160" y="191736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5319360" y="1930320"/>
                    <a:ext cx="54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1" name=""/>
                <p:cNvGrpSpPr/>
                <p:nvPr/>
              </p:nvGrpSpPr>
              <p:grpSpPr>
                <a:xfrm>
                  <a:off x="5248440" y="1947240"/>
                  <a:ext cx="101880" cy="123480"/>
                  <a:chOff x="5248440" y="1947240"/>
                  <a:chExt cx="101880" cy="123480"/>
                </a:xfrm>
              </p:grpSpPr>
              <p:sp>
                <p:nvSpPr>
                  <p:cNvPr id="1892" name=""/>
                  <p:cNvSpPr/>
                  <p:nvPr/>
                </p:nvSpPr>
                <p:spPr>
                  <a:xfrm rot="9208200">
                    <a:off x="5269320" y="1954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5254560" y="1980000"/>
                    <a:ext cx="63000" cy="38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5275440" y="199584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 flipV="1">
                    <a:off x="5290560" y="199836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5300640" y="201060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7" name=""/>
                <p:cNvGrpSpPr/>
                <p:nvPr/>
              </p:nvGrpSpPr>
              <p:grpSpPr>
                <a:xfrm>
                  <a:off x="5136120" y="2123280"/>
                  <a:ext cx="61560" cy="109440"/>
                  <a:chOff x="5136120" y="2123280"/>
                  <a:chExt cx="61560" cy="109440"/>
                </a:xfrm>
              </p:grpSpPr>
              <p:sp>
                <p:nvSpPr>
                  <p:cNvPr id="1898" name=""/>
                  <p:cNvSpPr/>
                  <p:nvPr/>
                </p:nvSpPr>
                <p:spPr>
                  <a:xfrm rot="10860000">
                    <a:off x="5136840" y="21236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5140440" y="2131560"/>
                    <a:ext cx="3816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5151600" y="215568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5163480" y="21657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5167080" y="218052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3" name=""/>
                <p:cNvGrpSpPr/>
                <p:nvPr/>
              </p:nvGrpSpPr>
              <p:grpSpPr>
                <a:xfrm>
                  <a:off x="5176440" y="2105280"/>
                  <a:ext cx="90000" cy="121680"/>
                  <a:chOff x="5176440" y="2105280"/>
                  <a:chExt cx="90000" cy="121680"/>
                </a:xfrm>
              </p:grpSpPr>
              <p:sp>
                <p:nvSpPr>
                  <p:cNvPr id="1904" name=""/>
                  <p:cNvSpPr/>
                  <p:nvPr/>
                </p:nvSpPr>
                <p:spPr>
                  <a:xfrm rot="9731400">
                    <a:off x="5191200" y="2111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5181120" y="2130840"/>
                    <a:ext cx="5652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5199480" y="214992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5213880" y="215568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5222160" y="2168280"/>
                    <a:ext cx="61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9" name=""/>
                <p:cNvGrpSpPr/>
                <p:nvPr/>
              </p:nvGrpSpPr>
              <p:grpSpPr>
                <a:xfrm>
                  <a:off x="5175720" y="2025720"/>
                  <a:ext cx="76320" cy="116280"/>
                  <a:chOff x="5175720" y="2025720"/>
                  <a:chExt cx="76320" cy="116280"/>
                </a:xfrm>
              </p:grpSpPr>
              <p:sp>
                <p:nvSpPr>
                  <p:cNvPr id="1910" name=""/>
                  <p:cNvSpPr/>
                  <p:nvPr/>
                </p:nvSpPr>
                <p:spPr>
                  <a:xfrm rot="10251000">
                    <a:off x="5184000" y="2029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5179680" y="2043000"/>
                    <a:ext cx="48600" cy="55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5194800" y="206460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5208120" y="207288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5214240" y="208620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5" name=""/>
                <p:cNvGrpSpPr/>
                <p:nvPr/>
              </p:nvGrpSpPr>
              <p:grpSpPr>
                <a:xfrm>
                  <a:off x="5074200" y="2048760"/>
                  <a:ext cx="89280" cy="121320"/>
                  <a:chOff x="5074200" y="2048760"/>
                  <a:chExt cx="89280" cy="121320"/>
                </a:xfrm>
              </p:grpSpPr>
              <p:sp>
                <p:nvSpPr>
                  <p:cNvPr id="1916" name=""/>
                  <p:cNvSpPr/>
                  <p:nvPr/>
                </p:nvSpPr>
                <p:spPr>
                  <a:xfrm rot="11835000">
                    <a:off x="5088960" y="2055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5106600" y="2057760"/>
                    <a:ext cx="18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 flipH="1">
                    <a:off x="5109840" y="208368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5118840" y="20970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5118480" y="211176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1" name=""/>
                <p:cNvGrpSpPr/>
                <p:nvPr/>
              </p:nvGrpSpPr>
              <p:grpSpPr>
                <a:xfrm>
                  <a:off x="5101560" y="1878120"/>
                  <a:ext cx="114840" cy="112320"/>
                  <a:chOff x="5101560" y="1878120"/>
                  <a:chExt cx="114840" cy="112320"/>
                </a:xfrm>
              </p:grpSpPr>
              <p:sp>
                <p:nvSpPr>
                  <p:cNvPr id="1922" name=""/>
                  <p:cNvSpPr/>
                  <p:nvPr/>
                </p:nvSpPr>
                <p:spPr>
                  <a:xfrm rot="13885800">
                    <a:off x="5122440" y="1889640"/>
                    <a:ext cx="730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 flipH="1">
                    <a:off x="5157360" y="1884240"/>
                    <a:ext cx="9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 flipH="1">
                    <a:off x="5154840" y="190800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5163480" y="192420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 flipH="1">
                    <a:off x="5154120" y="1936080"/>
                    <a:ext cx="3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7" name=""/>
                <p:cNvGrpSpPr/>
                <p:nvPr/>
              </p:nvGrpSpPr>
              <p:grpSpPr>
                <a:xfrm>
                  <a:off x="5072760" y="1722960"/>
                  <a:ext cx="86040" cy="120240"/>
                  <a:chOff x="5072760" y="1722960"/>
                  <a:chExt cx="86040" cy="120240"/>
                </a:xfrm>
              </p:grpSpPr>
              <p:sp>
                <p:nvSpPr>
                  <p:cNvPr id="1928" name=""/>
                  <p:cNvSpPr/>
                  <p:nvPr/>
                </p:nvSpPr>
                <p:spPr>
                  <a:xfrm rot="20683200">
                    <a:off x="5085720" y="1728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 flipH="1" flipV="1">
                    <a:off x="5099760" y="1770480"/>
                    <a:ext cx="5436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 flipH="1" flipV="1">
                    <a:off x="5129640" y="178776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 flipH="1" flipV="1">
                    <a:off x="5110200" y="179244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 flipH="1" flipV="1">
                    <a:off x="5109120" y="1773000"/>
                    <a:ext cx="61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3" name=""/>
                <p:cNvGrpSpPr/>
                <p:nvPr/>
              </p:nvGrpSpPr>
              <p:grpSpPr>
                <a:xfrm>
                  <a:off x="5145480" y="1664280"/>
                  <a:ext cx="83160" cy="119160"/>
                  <a:chOff x="5145480" y="1664280"/>
                  <a:chExt cx="83160" cy="119160"/>
                </a:xfrm>
              </p:grpSpPr>
              <p:sp>
                <p:nvSpPr>
                  <p:cNvPr id="1934" name=""/>
                  <p:cNvSpPr/>
                  <p:nvPr/>
                </p:nvSpPr>
                <p:spPr>
                  <a:xfrm rot="20803200">
                    <a:off x="5157000" y="1669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 flipH="1" flipV="1">
                    <a:off x="5171400" y="1710000"/>
                    <a:ext cx="52560" cy="51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 flipH="1" flipV="1">
                    <a:off x="5200560" y="172836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 flipH="1" flipV="1">
                    <a:off x="5180760" y="173268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 flipH="1" flipV="1">
                    <a:off x="5180760" y="1712880"/>
                    <a:ext cx="54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9" name=""/>
                <p:cNvGrpSpPr/>
                <p:nvPr/>
              </p:nvGrpSpPr>
              <p:grpSpPr>
                <a:xfrm>
                  <a:off x="5195160" y="1886760"/>
                  <a:ext cx="113760" cy="108000"/>
                  <a:chOff x="5195160" y="1886760"/>
                  <a:chExt cx="113760" cy="108000"/>
                </a:xfrm>
              </p:grpSpPr>
              <p:sp>
                <p:nvSpPr>
                  <p:cNvPr id="1940" name=""/>
                  <p:cNvSpPr/>
                  <p:nvPr/>
                </p:nvSpPr>
                <p:spPr>
                  <a:xfrm rot="14375400">
                    <a:off x="5215320" y="18961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 flipH="1">
                    <a:off x="5247360" y="1892520"/>
                    <a:ext cx="2016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 flipH="1">
                    <a:off x="5249880" y="191520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5258160" y="193140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 flipH="1">
                    <a:off x="5246640" y="1941840"/>
                    <a:ext cx="43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5" name=""/>
                <p:cNvGrpSpPr/>
                <p:nvPr/>
              </p:nvGrpSpPr>
              <p:grpSpPr>
                <a:xfrm>
                  <a:off x="5168160" y="2010600"/>
                  <a:ext cx="120960" cy="116280"/>
                  <a:chOff x="5168160" y="2010600"/>
                  <a:chExt cx="120960" cy="116280"/>
                </a:xfrm>
              </p:grpSpPr>
              <p:sp>
                <p:nvSpPr>
                  <p:cNvPr id="1946" name=""/>
                  <p:cNvSpPr/>
                  <p:nvPr/>
                </p:nvSpPr>
                <p:spPr>
                  <a:xfrm rot="13740000">
                    <a:off x="5198760" y="201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H="1">
                    <a:off x="5223600" y="2018160"/>
                    <a:ext cx="2160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 flipH="1">
                    <a:off x="5226480" y="204228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5235120" y="205812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 flipH="1">
                    <a:off x="5222160" y="207036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1" name=""/>
                <p:cNvGrpSpPr/>
                <p:nvPr/>
              </p:nvGrpSpPr>
              <p:grpSpPr>
                <a:xfrm>
                  <a:off x="5107320" y="2118960"/>
                  <a:ext cx="119880" cy="118080"/>
                  <a:chOff x="5107320" y="2118960"/>
                  <a:chExt cx="119880" cy="118080"/>
                </a:xfrm>
              </p:grpSpPr>
              <p:sp>
                <p:nvSpPr>
                  <p:cNvPr id="1952" name=""/>
                  <p:cNvSpPr/>
                  <p:nvPr/>
                </p:nvSpPr>
                <p:spPr>
                  <a:xfrm rot="13579800">
                    <a:off x="5137200" y="21236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 flipH="1">
                    <a:off x="5163480" y="2126520"/>
                    <a:ext cx="1800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 flipH="1">
                    <a:off x="5164200" y="215136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5173200" y="216684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 flipH="1">
                    <a:off x="5161320" y="217980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7" name=""/>
                <p:cNvGrpSpPr/>
                <p:nvPr/>
              </p:nvGrpSpPr>
              <p:grpSpPr>
                <a:xfrm>
                  <a:off x="5056920" y="2137320"/>
                  <a:ext cx="114120" cy="109440"/>
                  <a:chOff x="5056920" y="2137320"/>
                  <a:chExt cx="114120" cy="109440"/>
                </a:xfrm>
              </p:grpSpPr>
              <p:sp>
                <p:nvSpPr>
                  <p:cNvPr id="1958" name=""/>
                  <p:cNvSpPr/>
                  <p:nvPr/>
                </p:nvSpPr>
                <p:spPr>
                  <a:xfrm rot="14212200">
                    <a:off x="5077440" y="2147400"/>
                    <a:ext cx="7308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H="1">
                    <a:off x="5110200" y="2143080"/>
                    <a:ext cx="1656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H="1">
                    <a:off x="5111280" y="216612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5119200" y="218232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 flipH="1">
                    <a:off x="5108400" y="2193480"/>
                    <a:ext cx="36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3" name=""/>
              <p:cNvGrpSpPr/>
              <p:nvPr/>
            </p:nvGrpSpPr>
            <p:grpSpPr>
              <a:xfrm>
                <a:off x="4779720" y="1413720"/>
                <a:ext cx="508680" cy="446760"/>
                <a:chOff x="4779720" y="1413720"/>
                <a:chExt cx="508680" cy="446760"/>
              </a:xfrm>
            </p:grpSpPr>
            <p:grpSp>
              <p:nvGrpSpPr>
                <p:cNvPr id="1964" name=""/>
                <p:cNvGrpSpPr/>
                <p:nvPr/>
              </p:nvGrpSpPr>
              <p:grpSpPr>
                <a:xfrm>
                  <a:off x="4914360" y="1485000"/>
                  <a:ext cx="104040" cy="111600"/>
                  <a:chOff x="4914360" y="1485000"/>
                  <a:chExt cx="104040" cy="111600"/>
                </a:xfrm>
              </p:grpSpPr>
              <p:sp>
                <p:nvSpPr>
                  <p:cNvPr id="1965" name=""/>
                  <p:cNvSpPr/>
                  <p:nvPr/>
                </p:nvSpPr>
                <p:spPr>
                  <a:xfrm rot="1519200">
                    <a:off x="4929840" y="1496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 flipH="1" flipV="1">
                    <a:off x="4959360" y="1522080"/>
                    <a:ext cx="21240" cy="66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 flipV="1">
                    <a:off x="4975920" y="155196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 flipH="1" flipV="1">
                    <a:off x="4955400" y="154188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 flipH="1" flipV="1">
                    <a:off x="4966200" y="153000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0" name=""/>
                <p:cNvSpPr/>
                <p:nvPr/>
              </p:nvSpPr>
              <p:spPr>
                <a:xfrm flipH="1">
                  <a:off x="5038920" y="1617840"/>
                  <a:ext cx="8496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rot="19303800">
                  <a:off x="4924800" y="1568520"/>
                  <a:ext cx="33372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H="1" flipV="1">
                  <a:off x="4907880" y="1581480"/>
                  <a:ext cx="112320" cy="56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 flipV="1">
                  <a:off x="5084280" y="1546200"/>
                  <a:ext cx="183240" cy="10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 flipH="1">
                  <a:off x="5080320" y="1672560"/>
                  <a:ext cx="10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>
                  <a:off x="5060880" y="1634400"/>
                  <a:ext cx="4140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 flipV="1">
                  <a:off x="4897440" y="1611000"/>
                  <a:ext cx="716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 flipH="1" flipV="1">
                  <a:off x="4969800" y="1573560"/>
                  <a:ext cx="19440" cy="46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 flipH="1">
                  <a:off x="4935960" y="1674720"/>
                  <a:ext cx="1116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 flipV="1">
                  <a:off x="5052240" y="1591560"/>
                  <a:ext cx="12348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H="1" flipV="1">
                  <a:off x="5073120" y="1575000"/>
                  <a:ext cx="2988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H="1" flipV="1">
                  <a:off x="5176440" y="1555920"/>
                  <a:ext cx="302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 flipV="1">
                  <a:off x="5084280" y="1524960"/>
                  <a:ext cx="30240" cy="38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H="1">
                  <a:off x="5153400" y="1631880"/>
                  <a:ext cx="3132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 flipH="1">
                  <a:off x="4977360" y="1654560"/>
                  <a:ext cx="21600" cy="37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5" name=""/>
                <p:cNvSpPr/>
                <p:nvPr/>
              </p:nvSpPr>
              <p:spPr>
                <a:xfrm flipH="1" flipV="1">
                  <a:off x="4885560" y="1661040"/>
                  <a:ext cx="302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6" name=""/>
                <p:cNvGrpSpPr/>
                <p:nvPr/>
              </p:nvGrpSpPr>
              <p:grpSpPr>
                <a:xfrm>
                  <a:off x="4845600" y="1487880"/>
                  <a:ext cx="76320" cy="116280"/>
                  <a:chOff x="4845600" y="1487880"/>
                  <a:chExt cx="76320" cy="116280"/>
                </a:xfrm>
              </p:grpSpPr>
              <p:sp>
                <p:nvSpPr>
                  <p:cNvPr id="1987" name=""/>
                  <p:cNvSpPr/>
                  <p:nvPr/>
                </p:nvSpPr>
                <p:spPr>
                  <a:xfrm rot="21049200">
                    <a:off x="4853520" y="14914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 flipH="1" flipV="1">
                    <a:off x="4869360" y="1531080"/>
                    <a:ext cx="48600" cy="55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flipH="1" flipV="1">
                    <a:off x="4897080" y="155124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flipH="1" flipV="1">
                    <a:off x="4877280" y="155412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 flipH="1" flipV="1">
                    <a:off x="4878360" y="153468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2" name=""/>
                <p:cNvGrpSpPr/>
                <p:nvPr/>
              </p:nvGrpSpPr>
              <p:grpSpPr>
                <a:xfrm>
                  <a:off x="4954320" y="1596240"/>
                  <a:ext cx="123840" cy="103680"/>
                  <a:chOff x="4954320" y="1596240"/>
                  <a:chExt cx="123840" cy="103680"/>
                </a:xfrm>
              </p:grpSpPr>
              <p:sp>
                <p:nvSpPr>
                  <p:cNvPr id="1993" name=""/>
                  <p:cNvSpPr/>
                  <p:nvPr/>
                </p:nvSpPr>
                <p:spPr>
                  <a:xfrm rot="17890800">
                    <a:off x="4986000" y="1593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 flipH="1">
                    <a:off x="4995720" y="1645560"/>
                    <a:ext cx="73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 flipH="1" flipV="1">
                    <a:off x="5028840" y="1640880"/>
                    <a:ext cx="144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 flipH="1">
                    <a:off x="5018760" y="165024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 flipH="1" flipV="1">
                    <a:off x="5004000" y="1645920"/>
                    <a:ext cx="10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8" name=""/>
                <p:cNvGrpSpPr/>
                <p:nvPr/>
              </p:nvGrpSpPr>
              <p:grpSpPr>
                <a:xfrm>
                  <a:off x="4950360" y="1511280"/>
                  <a:ext cx="114120" cy="122040"/>
                  <a:chOff x="4950360" y="1511280"/>
                  <a:chExt cx="114120" cy="122040"/>
                </a:xfrm>
              </p:grpSpPr>
              <p:sp>
                <p:nvSpPr>
                  <p:cNvPr id="1999" name=""/>
                  <p:cNvSpPr/>
                  <p:nvPr/>
                </p:nvSpPr>
                <p:spPr>
                  <a:xfrm rot="19303800">
                    <a:off x="4977360" y="1518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 flipH="1" flipV="1">
                    <a:off x="4987800" y="1566720"/>
                    <a:ext cx="6948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 flipH="1" flipV="1">
                    <a:off x="5021640" y="157104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 flipH="1">
                    <a:off x="5005800" y="157968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 flipH="1" flipV="1">
                    <a:off x="4997160" y="1565640"/>
                    <a:ext cx="86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4" name=""/>
                <p:cNvGrpSpPr/>
                <p:nvPr/>
              </p:nvGrpSpPr>
              <p:grpSpPr>
                <a:xfrm>
                  <a:off x="4976640" y="1719360"/>
                  <a:ext cx="114120" cy="114480"/>
                  <a:chOff x="4976640" y="1719360"/>
                  <a:chExt cx="114120" cy="11448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 rot="13473000">
                    <a:off x="4997160" y="1731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 flipH="1">
                    <a:off x="5034240" y="1726200"/>
                    <a:ext cx="216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 flipH="1">
                    <a:off x="5027760" y="17506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5037120" y="17661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 flipH="1">
                    <a:off x="5030280" y="1777680"/>
                    <a:ext cx="21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0" name=""/>
                <p:cNvGrpSpPr/>
                <p:nvPr/>
              </p:nvGrpSpPr>
              <p:grpSpPr>
                <a:xfrm>
                  <a:off x="4784040" y="1580760"/>
                  <a:ext cx="114120" cy="122040"/>
                  <a:chOff x="4784040" y="1580760"/>
                  <a:chExt cx="114120" cy="122040"/>
                </a:xfrm>
              </p:grpSpPr>
              <p:sp>
                <p:nvSpPr>
                  <p:cNvPr id="2011" name=""/>
                  <p:cNvSpPr/>
                  <p:nvPr/>
                </p:nvSpPr>
                <p:spPr>
                  <a:xfrm rot="19303800">
                    <a:off x="4811040" y="1587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 flipH="1" flipV="1">
                    <a:off x="4821120" y="1636200"/>
                    <a:ext cx="6984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 flipH="1" flipV="1">
                    <a:off x="4855320" y="164052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 flipH="1">
                    <a:off x="4839480" y="16488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 flipH="1" flipV="1">
                    <a:off x="4830840" y="1634760"/>
                    <a:ext cx="86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6" name=""/>
                <p:cNvGrpSpPr/>
                <p:nvPr/>
              </p:nvGrpSpPr>
              <p:grpSpPr>
                <a:xfrm>
                  <a:off x="4982040" y="1465560"/>
                  <a:ext cx="114120" cy="122040"/>
                  <a:chOff x="4982040" y="1465560"/>
                  <a:chExt cx="114120" cy="122040"/>
                </a:xfrm>
              </p:grpSpPr>
              <p:sp>
                <p:nvSpPr>
                  <p:cNvPr id="2017" name=""/>
                  <p:cNvSpPr/>
                  <p:nvPr/>
                </p:nvSpPr>
                <p:spPr>
                  <a:xfrm rot="19303800">
                    <a:off x="5009040" y="1472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H="1" flipV="1">
                    <a:off x="5019120" y="1520640"/>
                    <a:ext cx="6984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 flipH="1" flipV="1">
                    <a:off x="5053320" y="152496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 flipH="1">
                    <a:off x="5037120" y="15336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H="1" flipV="1">
                    <a:off x="5028840" y="1519560"/>
                    <a:ext cx="86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4795200" y="1530360"/>
                  <a:ext cx="114120" cy="122040"/>
                  <a:chOff x="4795200" y="1530360"/>
                  <a:chExt cx="114120" cy="12204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 rot="19303800">
                    <a:off x="4822200" y="15372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 flipH="1" flipV="1">
                    <a:off x="4832280" y="1585440"/>
                    <a:ext cx="69840" cy="25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 flipH="1" flipV="1">
                    <a:off x="4866480" y="158976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 flipH="1">
                    <a:off x="4850280" y="15984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 flipH="1" flipV="1">
                    <a:off x="4842000" y="1584360"/>
                    <a:ext cx="86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8" name=""/>
                <p:cNvGrpSpPr/>
                <p:nvPr/>
              </p:nvGrpSpPr>
              <p:grpSpPr>
                <a:xfrm>
                  <a:off x="5103360" y="1683360"/>
                  <a:ext cx="110520" cy="114480"/>
                  <a:chOff x="5103360" y="1683360"/>
                  <a:chExt cx="110520" cy="114480"/>
                </a:xfrm>
              </p:grpSpPr>
              <p:sp>
                <p:nvSpPr>
                  <p:cNvPr id="2029" name=""/>
                  <p:cNvSpPr/>
                  <p:nvPr/>
                </p:nvSpPr>
                <p:spPr>
                  <a:xfrm rot="12901800">
                    <a:off x="5122080" y="1695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5152680" y="1690560"/>
                    <a:ext cx="9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 flipH="1">
                    <a:off x="5150160" y="171504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5159880" y="172944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 flipH="1">
                    <a:off x="5156640" y="174204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4" name=""/>
                <p:cNvGrpSpPr/>
                <p:nvPr/>
              </p:nvGrpSpPr>
              <p:grpSpPr>
                <a:xfrm>
                  <a:off x="5045760" y="1714680"/>
                  <a:ext cx="100080" cy="109080"/>
                  <a:chOff x="5045760" y="1714680"/>
                  <a:chExt cx="100080" cy="109080"/>
                </a:xfrm>
              </p:grpSpPr>
              <p:sp>
                <p:nvSpPr>
                  <p:cNvPr id="2035" name=""/>
                  <p:cNvSpPr/>
                  <p:nvPr/>
                </p:nvSpPr>
                <p:spPr>
                  <a:xfrm rot="12062400">
                    <a:off x="5059440" y="1724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5078160" y="1722240"/>
                    <a:ext cx="2592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5084280" y="1745640"/>
                    <a:ext cx="3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5094720" y="175824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5095080" y="1770840"/>
                    <a:ext cx="18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4833000" y="1688760"/>
                  <a:ext cx="114840" cy="113400"/>
                  <a:chOff x="4833000" y="1688760"/>
                  <a:chExt cx="114840" cy="11340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 rot="13714200">
                    <a:off x="4853880" y="1701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 flipH="1">
                    <a:off x="4889520" y="1695240"/>
                    <a:ext cx="684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 flipH="1">
                    <a:off x="4885200" y="1719360"/>
                    <a:ext cx="57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4894560" y="1734840"/>
                    <a:ext cx="64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flipH="1">
                    <a:off x="4886280" y="1746360"/>
                    <a:ext cx="2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4887360" y="1731600"/>
                  <a:ext cx="107280" cy="113400"/>
                  <a:chOff x="4887360" y="1731600"/>
                  <a:chExt cx="107280" cy="113400"/>
                </a:xfrm>
              </p:grpSpPr>
              <p:sp>
                <p:nvSpPr>
                  <p:cNvPr id="2047" name=""/>
                  <p:cNvSpPr/>
                  <p:nvPr/>
                </p:nvSpPr>
                <p:spPr>
                  <a:xfrm rot="12585600">
                    <a:off x="4904280" y="1743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4930200" y="1738800"/>
                    <a:ext cx="15840" cy="68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 flipH="1">
                    <a:off x="4930920" y="1763280"/>
                    <a:ext cx="1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4941000" y="1776960"/>
                    <a:ext cx="108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4939920" y="1789560"/>
                    <a:ext cx="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2" name=""/>
                <p:cNvGrpSpPr/>
                <p:nvPr/>
              </p:nvGrpSpPr>
              <p:grpSpPr>
                <a:xfrm>
                  <a:off x="4927320" y="1676520"/>
                  <a:ext cx="111960" cy="114840"/>
                  <a:chOff x="4927320" y="1676520"/>
                  <a:chExt cx="111960" cy="114840"/>
                </a:xfrm>
              </p:grpSpPr>
              <p:sp>
                <p:nvSpPr>
                  <p:cNvPr id="2053" name=""/>
                  <p:cNvSpPr/>
                  <p:nvPr/>
                </p:nvSpPr>
                <p:spPr>
                  <a:xfrm rot="13105200">
                    <a:off x="4946760" y="1689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4980240" y="1683720"/>
                    <a:ext cx="540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flipH="1">
                    <a:off x="4975560" y="170820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4985280" y="1722960"/>
                    <a:ext cx="90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4980960" y="1735200"/>
                    <a:ext cx="10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8" name=""/>
                <p:cNvGrpSpPr/>
                <p:nvPr/>
              </p:nvGrpSpPr>
              <p:grpSpPr>
                <a:xfrm>
                  <a:off x="4835880" y="1609920"/>
                  <a:ext cx="111600" cy="103680"/>
                  <a:chOff x="4835880" y="1609920"/>
                  <a:chExt cx="111600" cy="103680"/>
                </a:xfrm>
              </p:grpSpPr>
              <p:sp>
                <p:nvSpPr>
                  <p:cNvPr id="2059" name=""/>
                  <p:cNvSpPr/>
                  <p:nvPr/>
                </p:nvSpPr>
                <p:spPr>
                  <a:xfrm rot="14689200">
                    <a:off x="4854960" y="1617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flipH="1">
                    <a:off x="4885200" y="1615320"/>
                    <a:ext cx="26280" cy="65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 flipH="1">
                    <a:off x="4890960" y="163692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4898520" y="1653120"/>
                    <a:ext cx="25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 flipH="1">
                    <a:off x="4885200" y="166248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4" name=""/>
                <p:cNvGrpSpPr/>
                <p:nvPr/>
              </p:nvGrpSpPr>
              <p:grpSpPr>
                <a:xfrm>
                  <a:off x="4969080" y="1559520"/>
                  <a:ext cx="116280" cy="75960"/>
                  <a:chOff x="4969080" y="1559520"/>
                  <a:chExt cx="116280" cy="7596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 rot="16740000">
                    <a:off x="4997160" y="1543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flipH="1">
                    <a:off x="5008680" y="1577880"/>
                    <a:ext cx="6804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flipH="1">
                    <a:off x="5036760" y="1585440"/>
                    <a:ext cx="147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 flipH="1">
                    <a:off x="5033160" y="1595520"/>
                    <a:ext cx="64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 flipH="1">
                    <a:off x="5015160" y="1597320"/>
                    <a:ext cx="9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0" name=""/>
                <p:cNvGrpSpPr/>
                <p:nvPr/>
              </p:nvGrpSpPr>
              <p:grpSpPr>
                <a:xfrm>
                  <a:off x="5026680" y="1413720"/>
                  <a:ext cx="109080" cy="114120"/>
                  <a:chOff x="5026680" y="1413720"/>
                  <a:chExt cx="109080" cy="114120"/>
                </a:xfrm>
              </p:grpSpPr>
              <p:sp>
                <p:nvSpPr>
                  <p:cNvPr id="2071" name=""/>
                  <p:cNvSpPr/>
                  <p:nvPr/>
                </p:nvSpPr>
                <p:spPr>
                  <a:xfrm rot="1936800">
                    <a:off x="5044680" y="1425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 flipH="1" flipV="1">
                    <a:off x="5076360" y="1451160"/>
                    <a:ext cx="1296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 flipV="1">
                    <a:off x="5087880" y="1483200"/>
                    <a:ext cx="21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 flipH="1" flipV="1">
                    <a:off x="5070240" y="147060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 flipV="1">
                    <a:off x="5082120" y="1460160"/>
                    <a:ext cx="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6" name=""/>
                <p:cNvGrpSpPr/>
                <p:nvPr/>
              </p:nvGrpSpPr>
              <p:grpSpPr>
                <a:xfrm>
                  <a:off x="5118480" y="1444320"/>
                  <a:ext cx="110160" cy="114480"/>
                  <a:chOff x="5118480" y="1444320"/>
                  <a:chExt cx="110160" cy="114480"/>
                </a:xfrm>
              </p:grpSpPr>
              <p:sp>
                <p:nvSpPr>
                  <p:cNvPr id="2077" name=""/>
                  <p:cNvSpPr/>
                  <p:nvPr/>
                </p:nvSpPr>
                <p:spPr>
                  <a:xfrm rot="2057400">
                    <a:off x="5136840" y="1456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 flipH="1" flipV="1">
                    <a:off x="5169240" y="1481760"/>
                    <a:ext cx="1080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 flipV="1">
                    <a:off x="5178960" y="151452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 flipH="1" flipV="1">
                    <a:off x="5162400" y="1501200"/>
                    <a:ext cx="97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 flipV="1">
                    <a:off x="5174280" y="1490760"/>
                    <a:ext cx="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5037480" y="1642320"/>
                  <a:ext cx="121320" cy="89280"/>
                  <a:chOff x="5037480" y="1642320"/>
                  <a:chExt cx="121320" cy="89280"/>
                </a:xfrm>
              </p:grpSpPr>
              <p:sp>
                <p:nvSpPr>
                  <p:cNvPr id="2083" name=""/>
                  <p:cNvSpPr/>
                  <p:nvPr/>
                </p:nvSpPr>
                <p:spPr>
                  <a:xfrm rot="17229600">
                    <a:off x="5068080" y="1632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 flipH="1">
                    <a:off x="5078160" y="167436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 flipH="1" flipV="1">
                    <a:off x="5108760" y="1677600"/>
                    <a:ext cx="147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 flipH="1">
                    <a:off x="5102280" y="16866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 flipH="1">
                    <a:off x="5085360" y="1686240"/>
                    <a:ext cx="10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8" name=""/>
                <p:cNvGrpSpPr/>
                <p:nvPr/>
              </p:nvGrpSpPr>
              <p:grpSpPr>
                <a:xfrm>
                  <a:off x="4955400" y="1697040"/>
                  <a:ext cx="96480" cy="82440"/>
                  <a:chOff x="4955400" y="1697040"/>
                  <a:chExt cx="96480" cy="82440"/>
                </a:xfrm>
              </p:grpSpPr>
              <p:sp>
                <p:nvSpPr>
                  <p:cNvPr id="2089" name=""/>
                  <p:cNvSpPr/>
                  <p:nvPr/>
                </p:nvSpPr>
                <p:spPr>
                  <a:xfrm rot="16594200">
                    <a:off x="4967280" y="16938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 flipH="1">
                    <a:off x="4988160" y="1709640"/>
                    <a:ext cx="5688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5011200" y="17215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 flipH="1">
                    <a:off x="5008680" y="1734840"/>
                    <a:ext cx="54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 flipH="1">
                    <a:off x="4993560" y="1738440"/>
                    <a:ext cx="8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4" name=""/>
                <p:cNvGrpSpPr/>
                <p:nvPr/>
              </p:nvGrpSpPr>
              <p:grpSpPr>
                <a:xfrm>
                  <a:off x="4843440" y="1706040"/>
                  <a:ext cx="93600" cy="78840"/>
                  <a:chOff x="4843440" y="1706040"/>
                  <a:chExt cx="93600" cy="7884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 rot="16434000">
                    <a:off x="4853880" y="1701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 flipH="1">
                    <a:off x="4875480" y="171468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 flipH="1">
                    <a:off x="4897080" y="172764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 flipH="1">
                    <a:off x="4895640" y="1740960"/>
                    <a:ext cx="50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 flipH="1">
                    <a:off x="4880520" y="1745280"/>
                    <a:ext cx="82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0" name=""/>
                <p:cNvGrpSpPr/>
                <p:nvPr/>
              </p:nvGrpSpPr>
              <p:grpSpPr>
                <a:xfrm>
                  <a:off x="4779720" y="1662120"/>
                  <a:ext cx="119880" cy="84960"/>
                  <a:chOff x="4779720" y="1662120"/>
                  <a:chExt cx="119880" cy="84960"/>
                </a:xfrm>
              </p:grpSpPr>
              <p:sp>
                <p:nvSpPr>
                  <p:cNvPr id="2101" name=""/>
                  <p:cNvSpPr/>
                  <p:nvPr/>
                </p:nvSpPr>
                <p:spPr>
                  <a:xfrm rot="17066400">
                    <a:off x="4809600" y="1650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"/>
                  <p:cNvSpPr/>
                  <p:nvPr/>
                </p:nvSpPr>
                <p:spPr>
                  <a:xfrm flipH="1">
                    <a:off x="4820760" y="1689480"/>
                    <a:ext cx="70200" cy="2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 flipH="1">
                    <a:off x="4850280" y="1694880"/>
                    <a:ext cx="147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4" name=""/>
                  <p:cNvSpPr/>
                  <p:nvPr/>
                </p:nvSpPr>
                <p:spPr>
                  <a:xfrm flipH="1">
                    <a:off x="4844880" y="170388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"/>
                  <p:cNvSpPr/>
                  <p:nvPr/>
                </p:nvSpPr>
                <p:spPr>
                  <a:xfrm flipH="1">
                    <a:off x="4827600" y="1704240"/>
                    <a:ext cx="10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6" name=""/>
              <p:cNvGrpSpPr/>
              <p:nvPr/>
            </p:nvGrpSpPr>
            <p:grpSpPr>
              <a:xfrm>
                <a:off x="5128560" y="1157760"/>
                <a:ext cx="497520" cy="432360"/>
                <a:chOff x="5128560" y="1157760"/>
                <a:chExt cx="497520" cy="432360"/>
              </a:xfrm>
            </p:grpSpPr>
            <p:grpSp>
              <p:nvGrpSpPr>
                <p:cNvPr id="2107" name=""/>
                <p:cNvGrpSpPr/>
                <p:nvPr/>
              </p:nvGrpSpPr>
              <p:grpSpPr>
                <a:xfrm>
                  <a:off x="5329800" y="1214280"/>
                  <a:ext cx="111960" cy="104760"/>
                  <a:chOff x="5329800" y="1214280"/>
                  <a:chExt cx="111960" cy="104760"/>
                </a:xfrm>
              </p:grpSpPr>
              <p:sp>
                <p:nvSpPr>
                  <p:cNvPr id="2108" name=""/>
                  <p:cNvSpPr/>
                  <p:nvPr/>
                </p:nvSpPr>
                <p:spPr>
                  <a:xfrm rot="3815400">
                    <a:off x="5349240" y="1221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9" name=""/>
                  <p:cNvSpPr/>
                  <p:nvPr/>
                </p:nvSpPr>
                <p:spPr>
                  <a:xfrm flipV="1">
                    <a:off x="5366880" y="1247400"/>
                    <a:ext cx="2484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/>
                  <p:nvPr/>
                </p:nvSpPr>
                <p:spPr>
                  <a:xfrm flipV="1">
                    <a:off x="5378400" y="128196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 flipH="1" flipV="1">
                    <a:off x="5376240" y="1260720"/>
                    <a:ext cx="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2" name=""/>
                  <p:cNvSpPr/>
                  <p:nvPr/>
                </p:nvSpPr>
                <p:spPr>
                  <a:xfrm flipV="1">
                    <a:off x="5387400" y="125820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3" name=""/>
                <p:cNvSpPr/>
                <p:nvPr/>
              </p:nvSpPr>
              <p:spPr>
                <a:xfrm flipH="1">
                  <a:off x="5328360" y="1424880"/>
                  <a:ext cx="1332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5235120" y="134388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H="1" flipV="1">
                  <a:off x="5315040" y="1262520"/>
                  <a:ext cx="5328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H="1" flipV="1">
                  <a:off x="5474880" y="1343880"/>
                  <a:ext cx="8028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H="1">
                  <a:off x="5367960" y="1441440"/>
                  <a:ext cx="2628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H="1" flipV="1">
                  <a:off x="5394600" y="1408320"/>
                  <a:ext cx="3996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H="1" flipV="1">
                  <a:off x="5288040" y="1279080"/>
                  <a:ext cx="5328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V="1">
                  <a:off x="5355000" y="1294560"/>
                  <a:ext cx="1332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H="1">
                  <a:off x="5248080" y="1360080"/>
                  <a:ext cx="3960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H="1" flipV="1">
                  <a:off x="5421240" y="1359720"/>
                  <a:ext cx="9324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H="1" flipV="1">
                  <a:off x="5448600" y="1359720"/>
                  <a:ext cx="1296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flipV="1">
                  <a:off x="5528520" y="1408680"/>
                  <a:ext cx="1296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5488560" y="1327320"/>
                  <a:ext cx="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H="1">
                  <a:off x="5448240" y="1473480"/>
                  <a:ext cx="5292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H="1">
                  <a:off x="5301360" y="1376280"/>
                  <a:ext cx="399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H="1" flipV="1">
                  <a:off x="5247720" y="1311120"/>
                  <a:ext cx="133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29" name=""/>
                <p:cNvGrpSpPr/>
                <p:nvPr/>
              </p:nvGrpSpPr>
              <p:grpSpPr>
                <a:xfrm>
                  <a:off x="5265360" y="1157760"/>
                  <a:ext cx="104760" cy="123840"/>
                  <a:chOff x="5265360" y="1157760"/>
                  <a:chExt cx="104760" cy="123840"/>
                </a:xfrm>
              </p:grpSpPr>
              <p:sp>
                <p:nvSpPr>
                  <p:cNvPr id="2130" name=""/>
                  <p:cNvSpPr/>
                  <p:nvPr/>
                </p:nvSpPr>
                <p:spPr>
                  <a:xfrm rot="1745400">
                    <a:off x="5287680" y="1165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 flipV="1">
                    <a:off x="5315760" y="1199160"/>
                    <a:ext cx="360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V="1">
                    <a:off x="5320800" y="12322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H="1" flipV="1">
                    <a:off x="5307480" y="122220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flipV="1">
                    <a:off x="5319000" y="1207440"/>
                    <a:ext cx="1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5" name=""/>
                <p:cNvGrpSpPr/>
                <p:nvPr/>
              </p:nvGrpSpPr>
              <p:grpSpPr>
                <a:xfrm>
                  <a:off x="5309280" y="1320480"/>
                  <a:ext cx="97920" cy="123120"/>
                  <a:chOff x="5309280" y="1320480"/>
                  <a:chExt cx="97920" cy="123120"/>
                </a:xfrm>
              </p:grpSpPr>
              <p:sp>
                <p:nvSpPr>
                  <p:cNvPr id="2136" name=""/>
                  <p:cNvSpPr/>
                  <p:nvPr/>
                </p:nvSpPr>
                <p:spPr>
                  <a:xfrm rot="20187000">
                    <a:off x="5328360" y="1327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flipH="1" flipV="1">
                    <a:off x="5340600" y="1371240"/>
                    <a:ext cx="6120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flipH="1" flipV="1">
                    <a:off x="5372640" y="138420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>
                    <a:off x="5353920" y="139140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 flipH="1" flipV="1">
                    <a:off x="5350320" y="1372680"/>
                    <a:ext cx="72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1" name=""/>
                <p:cNvGrpSpPr/>
                <p:nvPr/>
              </p:nvGrpSpPr>
              <p:grpSpPr>
                <a:xfrm>
                  <a:off x="5368320" y="1262880"/>
                  <a:ext cx="59760" cy="108360"/>
                  <a:chOff x="5368320" y="1262880"/>
                  <a:chExt cx="59760" cy="108360"/>
                </a:xfrm>
              </p:grpSpPr>
              <p:sp>
                <p:nvSpPr>
                  <p:cNvPr id="2142" name=""/>
                  <p:cNvSpPr/>
                  <p:nvPr/>
                </p:nvSpPr>
                <p:spPr>
                  <a:xfrm>
                    <a:off x="5368320" y="1262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H="1" flipV="1">
                    <a:off x="5386320" y="13003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H="1" flipV="1">
                    <a:off x="5410440" y="13248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H="1" flipV="1">
                    <a:off x="5390280" y="13244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 flipH="1" flipV="1">
                    <a:off x="5394600" y="13053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7" name=""/>
                <p:cNvGrpSpPr/>
                <p:nvPr/>
              </p:nvGrpSpPr>
              <p:grpSpPr>
                <a:xfrm>
                  <a:off x="5244120" y="1452240"/>
                  <a:ext cx="97200" cy="83160"/>
                  <a:chOff x="5244120" y="1452240"/>
                  <a:chExt cx="97200" cy="8316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 rot="15769200">
                    <a:off x="5256000" y="1449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 flipH="1">
                    <a:off x="5280480" y="1455840"/>
                    <a:ext cx="4536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 flipH="1">
                    <a:off x="5296680" y="14724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1" name=""/>
                  <p:cNvSpPr/>
                  <p:nvPr/>
                </p:nvSpPr>
                <p:spPr>
                  <a:xfrm flipH="1">
                    <a:off x="5299560" y="148752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 flipH="1">
                    <a:off x="5283720" y="1493640"/>
                    <a:ext cx="72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5194800" y="1214280"/>
                  <a:ext cx="59760" cy="108360"/>
                  <a:chOff x="5194800" y="1214280"/>
                  <a:chExt cx="59760" cy="10836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>
                    <a:off x="5194800" y="1214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 flipH="1" flipV="1">
                    <a:off x="5212800" y="125172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 flipH="1" flipV="1">
                    <a:off x="5236920" y="127620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 flipH="1" flipV="1">
                    <a:off x="5216760" y="127584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 flipH="1" flipV="1">
                    <a:off x="5221080" y="125676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5421600" y="1246320"/>
                  <a:ext cx="59760" cy="108360"/>
                  <a:chOff x="5421600" y="1246320"/>
                  <a:chExt cx="59760" cy="108360"/>
                </a:xfrm>
              </p:grpSpPr>
              <p:sp>
                <p:nvSpPr>
                  <p:cNvPr id="2160" name=""/>
                  <p:cNvSpPr/>
                  <p:nvPr/>
                </p:nvSpPr>
                <p:spPr>
                  <a:xfrm>
                    <a:off x="5421600" y="1246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 flipH="1" flipV="1">
                    <a:off x="5439600" y="12837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 flipH="1" flipV="1">
                    <a:off x="5463720" y="13082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 flipH="1" flipV="1">
                    <a:off x="5443560" y="13078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 flipH="1" flipV="1">
                    <a:off x="5447880" y="12888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5" name=""/>
                <p:cNvGrpSpPr/>
                <p:nvPr/>
              </p:nvGrpSpPr>
              <p:grpSpPr>
                <a:xfrm>
                  <a:off x="5235120" y="1181520"/>
                  <a:ext cx="59760" cy="108360"/>
                  <a:chOff x="5235120" y="1181520"/>
                  <a:chExt cx="59760" cy="108360"/>
                </a:xfrm>
              </p:grpSpPr>
              <p:sp>
                <p:nvSpPr>
                  <p:cNvPr id="2166" name=""/>
                  <p:cNvSpPr/>
                  <p:nvPr/>
                </p:nvSpPr>
                <p:spPr>
                  <a:xfrm>
                    <a:off x="5235120" y="1181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 flipH="1" flipV="1">
                    <a:off x="5253120" y="121896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 flipH="1" flipV="1">
                    <a:off x="5277240" y="124344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 flipH="1" flipV="1">
                    <a:off x="5257080" y="124308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 flipH="1" flipV="1">
                    <a:off x="5261400" y="122400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1" name=""/>
                <p:cNvGrpSpPr/>
                <p:nvPr/>
              </p:nvGrpSpPr>
              <p:grpSpPr>
                <a:xfrm>
                  <a:off x="5359680" y="1495080"/>
                  <a:ext cx="106200" cy="95040"/>
                  <a:chOff x="5359680" y="1495080"/>
                  <a:chExt cx="106200" cy="95040"/>
                </a:xfrm>
              </p:grpSpPr>
              <p:sp>
                <p:nvSpPr>
                  <p:cNvPr id="2172" name=""/>
                  <p:cNvSpPr/>
                  <p:nvPr/>
                </p:nvSpPr>
                <p:spPr>
                  <a:xfrm rot="15198000">
                    <a:off x="5376240" y="1497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 flipH="1">
                    <a:off x="5403600" y="1499760"/>
                    <a:ext cx="3564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 flipH="1">
                    <a:off x="5414400" y="15192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5420880" y="153504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 flipH="1">
                    <a:off x="5405040" y="154296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7" name=""/>
                <p:cNvGrpSpPr/>
                <p:nvPr/>
              </p:nvGrpSpPr>
              <p:grpSpPr>
                <a:xfrm>
                  <a:off x="5289480" y="1472400"/>
                  <a:ext cx="113400" cy="108000"/>
                  <a:chOff x="5289480" y="1472400"/>
                  <a:chExt cx="113400" cy="108000"/>
                </a:xfrm>
              </p:grpSpPr>
              <p:sp>
                <p:nvSpPr>
                  <p:cNvPr id="2178" name=""/>
                  <p:cNvSpPr/>
                  <p:nvPr/>
                </p:nvSpPr>
                <p:spPr>
                  <a:xfrm rot="14358600">
                    <a:off x="5309640" y="1481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 flipH="1">
                    <a:off x="5341680" y="1478160"/>
                    <a:ext cx="1980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 flipH="1">
                    <a:off x="5343840" y="150084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5352120" y="151704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 flipH="1">
                    <a:off x="5340240" y="1527120"/>
                    <a:ext cx="46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3" name=""/>
                <p:cNvGrpSpPr/>
                <p:nvPr/>
              </p:nvGrpSpPr>
              <p:grpSpPr>
                <a:xfrm>
                  <a:off x="5153400" y="1341720"/>
                  <a:ext cx="92880" cy="77400"/>
                  <a:chOff x="5153400" y="1341720"/>
                  <a:chExt cx="92880" cy="77400"/>
                </a:xfrm>
              </p:grpSpPr>
              <p:sp>
                <p:nvSpPr>
                  <p:cNvPr id="2184" name=""/>
                  <p:cNvSpPr/>
                  <p:nvPr/>
                </p:nvSpPr>
                <p:spPr>
                  <a:xfrm rot="16010400">
                    <a:off x="5163120" y="1335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 flipH="1">
                    <a:off x="5186520" y="1344600"/>
                    <a:ext cx="489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 flipH="1">
                    <a:off x="5204880" y="136008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 flipH="1">
                    <a:off x="5205960" y="1374480"/>
                    <a:ext cx="32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 flipH="1">
                    <a:off x="5190480" y="1380240"/>
                    <a:ext cx="75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9" name=""/>
                <p:cNvGrpSpPr/>
                <p:nvPr/>
              </p:nvGrpSpPr>
              <p:grpSpPr>
                <a:xfrm>
                  <a:off x="5157720" y="1394640"/>
                  <a:ext cx="109800" cy="100800"/>
                  <a:chOff x="5157720" y="1394640"/>
                  <a:chExt cx="109800" cy="10080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rot="14881800">
                    <a:off x="5176080" y="1400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5205240" y="1399680"/>
                    <a:ext cx="298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 flipH="1">
                    <a:off x="5212800" y="142056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5220000" y="143676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 flipH="1">
                    <a:off x="5205600" y="1445400"/>
                    <a:ext cx="54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5" name=""/>
                <p:cNvGrpSpPr/>
                <p:nvPr/>
              </p:nvGrpSpPr>
              <p:grpSpPr>
                <a:xfrm>
                  <a:off x="5227920" y="1383480"/>
                  <a:ext cx="103320" cy="91080"/>
                  <a:chOff x="5227920" y="1383480"/>
                  <a:chExt cx="103320" cy="91080"/>
                </a:xfrm>
              </p:grpSpPr>
              <p:sp>
                <p:nvSpPr>
                  <p:cNvPr id="2196" name=""/>
                  <p:cNvSpPr/>
                  <p:nvPr/>
                </p:nvSpPr>
                <p:spPr>
                  <a:xfrm rot="15401400">
                    <a:off x="5243040" y="1384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 flipH="1">
                    <a:off x="5269320" y="1387440"/>
                    <a:ext cx="392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 flipH="1">
                    <a:off x="5281920" y="140616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flipH="1">
                    <a:off x="5287680" y="1421640"/>
                    <a:ext cx="3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flipH="1">
                    <a:off x="5271480" y="142920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1" name=""/>
                <p:cNvGrpSpPr/>
                <p:nvPr/>
              </p:nvGrpSpPr>
              <p:grpSpPr>
                <a:xfrm>
                  <a:off x="5200920" y="1270080"/>
                  <a:ext cx="102960" cy="91080"/>
                  <a:chOff x="5200920" y="1270080"/>
                  <a:chExt cx="102960" cy="91080"/>
                </a:xfrm>
              </p:grpSpPr>
              <p:sp>
                <p:nvSpPr>
                  <p:cNvPr id="2202" name=""/>
                  <p:cNvSpPr/>
                  <p:nvPr/>
                </p:nvSpPr>
                <p:spPr>
                  <a:xfrm rot="16985400">
                    <a:off x="5216040" y="1271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 flipH="1">
                    <a:off x="5235840" y="1291320"/>
                    <a:ext cx="6084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 flipH="1">
                    <a:off x="5261760" y="130104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 flipH="1">
                    <a:off x="5256360" y="131292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 flipH="1">
                    <a:off x="5242320" y="131508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7" name=""/>
                <p:cNvGrpSpPr/>
                <p:nvPr/>
              </p:nvGrpSpPr>
              <p:grpSpPr>
                <a:xfrm>
                  <a:off x="5339520" y="1288800"/>
                  <a:ext cx="117360" cy="120240"/>
                  <a:chOff x="5339520" y="1288800"/>
                  <a:chExt cx="117360" cy="120240"/>
                </a:xfrm>
              </p:grpSpPr>
              <p:sp>
                <p:nvSpPr>
                  <p:cNvPr id="2208" name=""/>
                  <p:cNvSpPr/>
                  <p:nvPr/>
                </p:nvSpPr>
                <p:spPr>
                  <a:xfrm rot="19036200">
                    <a:off x="5368320" y="129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 flipH="1" flipV="1">
                    <a:off x="5378400" y="1344960"/>
                    <a:ext cx="7128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 flipH="1" flipV="1">
                    <a:off x="5412600" y="134640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 flipH="1">
                    <a:off x="5397480" y="135540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 flipH="1" flipV="1">
                    <a:off x="5387760" y="134280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3" name=""/>
                <p:cNvGrpSpPr/>
                <p:nvPr/>
              </p:nvGrpSpPr>
              <p:grpSpPr>
                <a:xfrm>
                  <a:off x="5465160" y="1233720"/>
                  <a:ext cx="108000" cy="98280"/>
                  <a:chOff x="5465160" y="1233720"/>
                  <a:chExt cx="108000" cy="98280"/>
                </a:xfrm>
              </p:grpSpPr>
              <p:sp>
                <p:nvSpPr>
                  <p:cNvPr id="2214" name=""/>
                  <p:cNvSpPr/>
                  <p:nvPr/>
                </p:nvSpPr>
                <p:spPr>
                  <a:xfrm rot="4233000">
                    <a:off x="5482800" y="1238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 flipV="1">
                    <a:off x="5495040" y="1264680"/>
                    <a:ext cx="327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 flipV="1">
                    <a:off x="5509080" y="129816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 flipH="1" flipV="1">
                    <a:off x="5510520" y="1275840"/>
                    <a:ext cx="1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 flipV="1">
                    <a:off x="5520960" y="127512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9" name=""/>
                <p:cNvGrpSpPr/>
                <p:nvPr/>
              </p:nvGrpSpPr>
              <p:grpSpPr>
                <a:xfrm>
                  <a:off x="5519160" y="1316160"/>
                  <a:ext cx="106920" cy="96120"/>
                  <a:chOff x="5519160" y="1316160"/>
                  <a:chExt cx="106920" cy="96120"/>
                </a:xfrm>
              </p:grpSpPr>
              <p:sp>
                <p:nvSpPr>
                  <p:cNvPr id="2220" name=""/>
                  <p:cNvSpPr/>
                  <p:nvPr/>
                </p:nvSpPr>
                <p:spPr>
                  <a:xfrm rot="4353000">
                    <a:off x="5536080" y="1319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flipV="1">
                    <a:off x="5546880" y="1346040"/>
                    <a:ext cx="3456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 flipV="1">
                    <a:off x="5561280" y="137952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 flipH="1" flipV="1">
                    <a:off x="5564160" y="1356840"/>
                    <a:ext cx="3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 flipV="1">
                    <a:off x="5574240" y="1356840"/>
                    <a:ext cx="6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5343120" y="1401480"/>
                  <a:ext cx="110520" cy="123120"/>
                  <a:chOff x="5343120" y="1401480"/>
                  <a:chExt cx="110520" cy="123120"/>
                </a:xfrm>
              </p:grpSpPr>
              <p:sp>
                <p:nvSpPr>
                  <p:cNvPr id="2226" name=""/>
                  <p:cNvSpPr/>
                  <p:nvPr/>
                </p:nvSpPr>
                <p:spPr>
                  <a:xfrm rot="19525800">
                    <a:off x="5368320" y="1408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 flipH="1" flipV="1">
                    <a:off x="5379120" y="145584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 flipH="1" flipV="1">
                    <a:off x="5412600" y="146232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 flipH="1">
                    <a:off x="5396040" y="147060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 flipH="1" flipV="1">
                    <a:off x="5388840" y="145512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1" name=""/>
                <p:cNvGrpSpPr/>
                <p:nvPr/>
              </p:nvGrpSpPr>
              <p:grpSpPr>
                <a:xfrm>
                  <a:off x="5235480" y="1388160"/>
                  <a:ext cx="114480" cy="114120"/>
                  <a:chOff x="5235480" y="1388160"/>
                  <a:chExt cx="114480" cy="114120"/>
                </a:xfrm>
              </p:grpSpPr>
              <p:sp>
                <p:nvSpPr>
                  <p:cNvPr id="2232" name=""/>
                  <p:cNvSpPr/>
                  <p:nvPr/>
                </p:nvSpPr>
                <p:spPr>
                  <a:xfrm rot="18890400">
                    <a:off x="5256000" y="1400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 flipH="1" flipV="1">
                    <a:off x="5272560" y="1445760"/>
                    <a:ext cx="70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 flipH="1" flipV="1">
                    <a:off x="5306760" y="143928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 flipH="1">
                    <a:off x="5290200" y="1448640"/>
                    <a:ext cx="12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 flipH="1" flipV="1">
                    <a:off x="5282280" y="144180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7" name=""/>
                <p:cNvGrpSpPr/>
                <p:nvPr/>
              </p:nvGrpSpPr>
              <p:grpSpPr>
                <a:xfrm>
                  <a:off x="5142240" y="1323360"/>
                  <a:ext cx="114840" cy="113760"/>
                  <a:chOff x="5142240" y="1323360"/>
                  <a:chExt cx="114840" cy="113760"/>
                </a:xfrm>
              </p:grpSpPr>
              <p:sp>
                <p:nvSpPr>
                  <p:cNvPr id="2238" name=""/>
                  <p:cNvSpPr/>
                  <p:nvPr/>
                </p:nvSpPr>
                <p:spPr>
                  <a:xfrm rot="18730200">
                    <a:off x="5163120" y="13356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 flipH="1">
                    <a:off x="5179680" y="1380960"/>
                    <a:ext cx="70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 flipH="1" flipV="1">
                    <a:off x="5213520" y="137376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 flipH="1">
                    <a:off x="5197680" y="1383120"/>
                    <a:ext cx="126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 flipH="1" flipV="1">
                    <a:off x="5189400" y="1377360"/>
                    <a:ext cx="90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3" name=""/>
                <p:cNvGrpSpPr/>
                <p:nvPr/>
              </p:nvGrpSpPr>
              <p:grpSpPr>
                <a:xfrm>
                  <a:off x="5128560" y="1255680"/>
                  <a:ext cx="113040" cy="122400"/>
                  <a:chOff x="5128560" y="1255680"/>
                  <a:chExt cx="113040" cy="122400"/>
                </a:xfrm>
              </p:grpSpPr>
              <p:sp>
                <p:nvSpPr>
                  <p:cNvPr id="2244" name=""/>
                  <p:cNvSpPr/>
                  <p:nvPr/>
                </p:nvSpPr>
                <p:spPr>
                  <a:xfrm rot="19362600">
                    <a:off x="5155200" y="1262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 flipH="1" flipV="1">
                    <a:off x="5165640" y="1310760"/>
                    <a:ext cx="691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 flipH="1" flipV="1">
                    <a:off x="5199480" y="1315800"/>
                    <a:ext cx="118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 flipH="1">
                    <a:off x="5183280" y="132408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 flipH="1" flipV="1">
                    <a:off x="5175360" y="1310040"/>
                    <a:ext cx="82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9" name=""/>
              <p:cNvGrpSpPr/>
              <p:nvPr/>
            </p:nvGrpSpPr>
            <p:grpSpPr>
              <a:xfrm>
                <a:off x="5466240" y="755280"/>
                <a:ext cx="370800" cy="582480"/>
                <a:chOff x="5466240" y="755280"/>
                <a:chExt cx="370800" cy="582480"/>
              </a:xfrm>
            </p:grpSpPr>
            <p:grpSp>
              <p:nvGrpSpPr>
                <p:cNvPr id="2250" name=""/>
                <p:cNvGrpSpPr/>
                <p:nvPr/>
              </p:nvGrpSpPr>
              <p:grpSpPr>
                <a:xfrm>
                  <a:off x="5686920" y="995400"/>
                  <a:ext cx="96480" cy="123120"/>
                  <a:chOff x="5686920" y="995400"/>
                  <a:chExt cx="96480" cy="123120"/>
                </a:xfrm>
              </p:grpSpPr>
              <p:sp>
                <p:nvSpPr>
                  <p:cNvPr id="2251" name=""/>
                  <p:cNvSpPr/>
                  <p:nvPr/>
                </p:nvSpPr>
                <p:spPr>
                  <a:xfrm rot="9465600">
                    <a:off x="5705280" y="1002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5692680" y="1025280"/>
                    <a:ext cx="597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5712120" y="104292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5726880" y="104760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5736240" y="1059480"/>
                    <a:ext cx="68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56" name=""/>
                <p:cNvSpPr/>
                <p:nvPr/>
              </p:nvSpPr>
              <p:spPr>
                <a:xfrm flipH="1" flipV="1">
                  <a:off x="5584320" y="975600"/>
                  <a:ext cx="14760" cy="164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5650200">
                  <a:off x="5381280" y="978480"/>
                  <a:ext cx="40608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V="1">
                  <a:off x="5647320" y="970920"/>
                  <a:ext cx="9756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V="1">
                  <a:off x="5498280" y="1161000"/>
                  <a:ext cx="16632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 flipV="1">
                  <a:off x="5567760" y="1023120"/>
                  <a:ext cx="2376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V="1">
                  <a:off x="5601600" y="1059480"/>
                  <a:ext cx="1692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V="1">
                  <a:off x="5689800" y="937080"/>
                  <a:ext cx="4428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5675400" y="1014840"/>
                  <a:ext cx="38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 flipV="1">
                  <a:off x="5644440" y="882000"/>
                  <a:ext cx="2304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V="1">
                  <a:off x="5581440" y="1095120"/>
                  <a:ext cx="7452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V="1">
                  <a:off x="5626440" y="1127520"/>
                  <a:ext cx="2736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5554080" y="1218240"/>
                  <a:ext cx="5148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5636880" y="1175040"/>
                  <a:ext cx="3960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 flipV="1">
                  <a:off x="5546880" y="1119960"/>
                  <a:ext cx="864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flipH="1" flipV="1">
                  <a:off x="5640120" y="946800"/>
                  <a:ext cx="936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V="1">
                  <a:off x="5684040" y="886680"/>
                  <a:ext cx="2736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72" name=""/>
                <p:cNvGrpSpPr/>
                <p:nvPr/>
              </p:nvGrpSpPr>
              <p:grpSpPr>
                <a:xfrm>
                  <a:off x="5722560" y="922680"/>
                  <a:ext cx="114480" cy="109800"/>
                  <a:chOff x="5722560" y="922680"/>
                  <a:chExt cx="114480" cy="109800"/>
                </a:xfrm>
              </p:grpSpPr>
              <p:sp>
                <p:nvSpPr>
                  <p:cNvPr id="2273" name=""/>
                  <p:cNvSpPr/>
                  <p:nvPr/>
                </p:nvSpPr>
                <p:spPr>
                  <a:xfrm rot="7395600">
                    <a:off x="5743080" y="9327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 flipV="1">
                    <a:off x="5729760" y="97308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5754240" y="98388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 flipV="1">
                    <a:off x="5768640" y="96660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5781240" y="97812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8" name=""/>
                <p:cNvGrpSpPr/>
                <p:nvPr/>
              </p:nvGrpSpPr>
              <p:grpSpPr>
                <a:xfrm>
                  <a:off x="5589360" y="967680"/>
                  <a:ext cx="108000" cy="98280"/>
                  <a:chOff x="5589360" y="967680"/>
                  <a:chExt cx="108000" cy="98280"/>
                </a:xfrm>
              </p:grpSpPr>
              <p:sp>
                <p:nvSpPr>
                  <p:cNvPr id="2279" name=""/>
                  <p:cNvSpPr/>
                  <p:nvPr/>
                </p:nvSpPr>
                <p:spPr>
                  <a:xfrm rot="4237200">
                    <a:off x="5606640" y="9723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 flipV="1">
                    <a:off x="5619240" y="999000"/>
                    <a:ext cx="327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 flipV="1">
                    <a:off x="5633280" y="103284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H="1" flipV="1">
                    <a:off x="5635080" y="101052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V="1">
                    <a:off x="5645160" y="1009440"/>
                    <a:ext cx="5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4" name=""/>
                <p:cNvGrpSpPr/>
                <p:nvPr/>
              </p:nvGrpSpPr>
              <p:grpSpPr>
                <a:xfrm>
                  <a:off x="5646240" y="1029600"/>
                  <a:ext cx="93960" cy="79200"/>
                  <a:chOff x="5646240" y="1029600"/>
                  <a:chExt cx="93960" cy="79200"/>
                </a:xfrm>
              </p:grpSpPr>
              <p:sp>
                <p:nvSpPr>
                  <p:cNvPr id="2285" name=""/>
                  <p:cNvSpPr/>
                  <p:nvPr/>
                </p:nvSpPr>
                <p:spPr>
                  <a:xfrm rot="5650200">
                    <a:off x="5656320" y="10245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 flipV="1">
                    <a:off x="5653080" y="105624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 flipV="1">
                    <a:off x="5673960" y="10836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 flipV="1">
                    <a:off x="5682960" y="105984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 flipV="1">
                    <a:off x="5694840" y="106524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0" name=""/>
                <p:cNvGrpSpPr/>
                <p:nvPr/>
              </p:nvGrpSpPr>
              <p:grpSpPr>
                <a:xfrm>
                  <a:off x="5524920" y="874800"/>
                  <a:ext cx="65520" cy="111600"/>
                  <a:chOff x="5524920" y="874800"/>
                  <a:chExt cx="65520" cy="111600"/>
                </a:xfrm>
              </p:grpSpPr>
              <p:sp>
                <p:nvSpPr>
                  <p:cNvPr id="2291" name=""/>
                  <p:cNvSpPr/>
                  <p:nvPr/>
                </p:nvSpPr>
                <p:spPr>
                  <a:xfrm rot="21420000">
                    <a:off x="5527440" y="876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 flipH="1" flipV="1">
                    <a:off x="5544720" y="914040"/>
                    <a:ext cx="4248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 flipH="1" flipV="1">
                    <a:off x="5570280" y="93744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 flipH="1" flipV="1">
                    <a:off x="5550120" y="93816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 flipH="1" flipV="1">
                    <a:off x="5553360" y="918720"/>
                    <a:ext cx="39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6" name=""/>
                <p:cNvGrpSpPr/>
                <p:nvPr/>
              </p:nvGrpSpPr>
              <p:grpSpPr>
                <a:xfrm>
                  <a:off x="5701320" y="821880"/>
                  <a:ext cx="93960" cy="79200"/>
                  <a:chOff x="5701320" y="821880"/>
                  <a:chExt cx="93960" cy="79200"/>
                </a:xfrm>
              </p:grpSpPr>
              <p:sp>
                <p:nvSpPr>
                  <p:cNvPr id="2297" name=""/>
                  <p:cNvSpPr/>
                  <p:nvPr/>
                </p:nvSpPr>
                <p:spPr>
                  <a:xfrm rot="5650200">
                    <a:off x="5711400" y="8168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 flipV="1">
                    <a:off x="5708160" y="848520"/>
                    <a:ext cx="5508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 flipV="1">
                    <a:off x="5729040" y="8755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 flipV="1">
                    <a:off x="5738040" y="85212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 flipV="1">
                    <a:off x="5749920" y="85752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2" name=""/>
                <p:cNvGrpSpPr/>
                <p:nvPr/>
              </p:nvGrpSpPr>
              <p:grpSpPr>
                <a:xfrm>
                  <a:off x="5654880" y="1095120"/>
                  <a:ext cx="93960" cy="79200"/>
                  <a:chOff x="5654880" y="1095120"/>
                  <a:chExt cx="93960" cy="7920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 rot="5650200">
                    <a:off x="5664960" y="10900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 flipV="1">
                    <a:off x="5661720" y="112176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 flipV="1">
                    <a:off x="5682600" y="11491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 flipV="1">
                    <a:off x="5691240" y="112536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 flipV="1">
                    <a:off x="5703120" y="1130760"/>
                    <a:ext cx="82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8" name=""/>
                <p:cNvGrpSpPr/>
                <p:nvPr/>
              </p:nvGrpSpPr>
              <p:grpSpPr>
                <a:xfrm>
                  <a:off x="5724360" y="872280"/>
                  <a:ext cx="93960" cy="79200"/>
                  <a:chOff x="5724360" y="872280"/>
                  <a:chExt cx="93960" cy="79200"/>
                </a:xfrm>
              </p:grpSpPr>
              <p:sp>
                <p:nvSpPr>
                  <p:cNvPr id="2309" name=""/>
                  <p:cNvSpPr/>
                  <p:nvPr/>
                </p:nvSpPr>
                <p:spPr>
                  <a:xfrm rot="5650200">
                    <a:off x="5734440" y="8672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 flipV="1">
                    <a:off x="5731200" y="898920"/>
                    <a:ext cx="5508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 flipV="1">
                    <a:off x="5752080" y="9259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flipV="1">
                    <a:off x="5761080" y="90252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 flipV="1">
                    <a:off x="5772960" y="90792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4" name=""/>
                <p:cNvGrpSpPr/>
                <p:nvPr/>
              </p:nvGrpSpPr>
              <p:grpSpPr>
                <a:xfrm>
                  <a:off x="5466240" y="1014120"/>
                  <a:ext cx="81720" cy="118800"/>
                  <a:chOff x="5466240" y="1014120"/>
                  <a:chExt cx="81720" cy="118800"/>
                </a:xfrm>
              </p:grpSpPr>
              <p:sp>
                <p:nvSpPr>
                  <p:cNvPr id="2315" name=""/>
                  <p:cNvSpPr/>
                  <p:nvPr/>
                </p:nvSpPr>
                <p:spPr>
                  <a:xfrm rot="20848800">
                    <a:off x="5477040" y="1019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 flipH="1" flipV="1">
                    <a:off x="5491800" y="1059840"/>
                    <a:ext cx="5184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 flipH="1" flipV="1">
                    <a:off x="5520600" y="107856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H="1" flipV="1">
                    <a:off x="5501160" y="10825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 flipH="1" flipV="1">
                    <a:off x="5501160" y="1062720"/>
                    <a:ext cx="5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0" name=""/>
                <p:cNvGrpSpPr/>
                <p:nvPr/>
              </p:nvGrpSpPr>
              <p:grpSpPr>
                <a:xfrm>
                  <a:off x="5475600" y="931320"/>
                  <a:ext cx="101880" cy="123480"/>
                  <a:chOff x="5475600" y="931320"/>
                  <a:chExt cx="101880" cy="123480"/>
                </a:xfrm>
              </p:grpSpPr>
              <p:sp>
                <p:nvSpPr>
                  <p:cNvPr id="2321" name=""/>
                  <p:cNvSpPr/>
                  <p:nvPr/>
                </p:nvSpPr>
                <p:spPr>
                  <a:xfrm rot="20009400">
                    <a:off x="5496480" y="938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 flipH="1" flipV="1">
                    <a:off x="5508360" y="983520"/>
                    <a:ext cx="63000" cy="38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 flipH="1" flipV="1">
                    <a:off x="5540760" y="99468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 flipH="1">
                    <a:off x="5522760" y="100224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 flipH="1" flipV="1">
                    <a:off x="5518080" y="984600"/>
                    <a:ext cx="72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6" name=""/>
                <p:cNvGrpSpPr/>
                <p:nvPr/>
              </p:nvGrpSpPr>
              <p:grpSpPr>
                <a:xfrm>
                  <a:off x="5628240" y="769320"/>
                  <a:ext cx="61560" cy="109440"/>
                  <a:chOff x="5628240" y="769320"/>
                  <a:chExt cx="61560" cy="109440"/>
                </a:xfrm>
              </p:grpSpPr>
              <p:sp>
                <p:nvSpPr>
                  <p:cNvPr id="2327" name=""/>
                  <p:cNvSpPr/>
                  <p:nvPr/>
                </p:nvSpPr>
                <p:spPr>
                  <a:xfrm rot="60600">
                    <a:off x="5628960" y="769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 flipH="1" flipV="1">
                    <a:off x="5647320" y="807120"/>
                    <a:ext cx="3816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H="1" flipV="1">
                    <a:off x="5671080" y="83196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 flipH="1" flipV="1">
                    <a:off x="5650920" y="831240"/>
                    <a:ext cx="115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H="1" flipV="1">
                    <a:off x="5655600" y="81216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2" name=""/>
                <p:cNvGrpSpPr/>
                <p:nvPr/>
              </p:nvGrpSpPr>
              <p:grpSpPr>
                <a:xfrm>
                  <a:off x="5559480" y="775080"/>
                  <a:ext cx="90000" cy="121680"/>
                  <a:chOff x="5559480" y="775080"/>
                  <a:chExt cx="90000" cy="121680"/>
                </a:xfrm>
              </p:grpSpPr>
              <p:sp>
                <p:nvSpPr>
                  <p:cNvPr id="2333" name=""/>
                  <p:cNvSpPr/>
                  <p:nvPr/>
                </p:nvSpPr>
                <p:spPr>
                  <a:xfrm rot="20532600">
                    <a:off x="5574600" y="781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 flipH="1" flipV="1">
                    <a:off x="5588280" y="823680"/>
                    <a:ext cx="5652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 flipH="1" flipV="1">
                    <a:off x="5618520" y="83952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 flipH="1" flipV="1">
                    <a:off x="5599440" y="84528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 flipH="1" flipV="1">
                    <a:off x="5597640" y="825840"/>
                    <a:ext cx="61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8" name=""/>
                <p:cNvGrpSpPr/>
                <p:nvPr/>
              </p:nvGrpSpPr>
              <p:grpSpPr>
                <a:xfrm>
                  <a:off x="5573880" y="859680"/>
                  <a:ext cx="76320" cy="116280"/>
                  <a:chOff x="5573880" y="859680"/>
                  <a:chExt cx="76320" cy="116280"/>
                </a:xfrm>
              </p:grpSpPr>
              <p:sp>
                <p:nvSpPr>
                  <p:cNvPr id="2339" name=""/>
                  <p:cNvSpPr/>
                  <p:nvPr/>
                </p:nvSpPr>
                <p:spPr>
                  <a:xfrm rot="21052200">
                    <a:off x="5581800" y="863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 flipH="1" flipV="1">
                    <a:off x="5597640" y="903240"/>
                    <a:ext cx="48600" cy="55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 flipH="1" flipV="1">
                    <a:off x="5625360" y="92376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 flipH="1" flipV="1">
                    <a:off x="5605200" y="92664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 flipH="1" flipV="1">
                    <a:off x="5606640" y="90720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4" name=""/>
                <p:cNvGrpSpPr/>
                <p:nvPr/>
              </p:nvGrpSpPr>
              <p:grpSpPr>
                <a:xfrm>
                  <a:off x="5662800" y="831960"/>
                  <a:ext cx="89280" cy="121320"/>
                  <a:chOff x="5662800" y="831960"/>
                  <a:chExt cx="89280" cy="121320"/>
                </a:xfrm>
              </p:grpSpPr>
              <p:sp>
                <p:nvSpPr>
                  <p:cNvPr id="2345" name=""/>
                  <p:cNvSpPr/>
                  <p:nvPr/>
                </p:nvSpPr>
                <p:spPr>
                  <a:xfrm rot="1035600">
                    <a:off x="5677200" y="838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 flipH="1" flipV="1">
                    <a:off x="5700960" y="873000"/>
                    <a:ext cx="18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 flipV="1">
                    <a:off x="5715720" y="90360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 flipH="1" flipV="1">
                    <a:off x="5697360" y="89712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 flipH="1" flipV="1">
                    <a:off x="5707080" y="88020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0" name=""/>
                <p:cNvGrpSpPr/>
                <p:nvPr/>
              </p:nvGrpSpPr>
              <p:grpSpPr>
                <a:xfrm>
                  <a:off x="5609160" y="1011240"/>
                  <a:ext cx="115200" cy="112680"/>
                  <a:chOff x="5609160" y="1011240"/>
                  <a:chExt cx="115200" cy="112680"/>
                </a:xfrm>
              </p:grpSpPr>
              <p:sp>
                <p:nvSpPr>
                  <p:cNvPr id="2351" name=""/>
                  <p:cNvSpPr/>
                  <p:nvPr/>
                </p:nvSpPr>
                <p:spPr>
                  <a:xfrm rot="3086400">
                    <a:off x="5630040" y="10227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 flipV="1">
                    <a:off x="5658480" y="1047600"/>
                    <a:ext cx="1008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 flipV="1">
                    <a:off x="5664600" y="1082520"/>
                    <a:ext cx="64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flipH="1" flipV="1">
                    <a:off x="5656320" y="106416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 flipV="1">
                    <a:off x="5667840" y="1057680"/>
                    <a:ext cx="32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6" name=""/>
                <p:cNvGrpSpPr/>
                <p:nvPr/>
              </p:nvGrpSpPr>
              <p:grpSpPr>
                <a:xfrm>
                  <a:off x="5667120" y="1158840"/>
                  <a:ext cx="86040" cy="120240"/>
                  <a:chOff x="5667120" y="1158840"/>
                  <a:chExt cx="86040" cy="120240"/>
                </a:xfrm>
              </p:grpSpPr>
              <p:sp>
                <p:nvSpPr>
                  <p:cNvPr id="2357" name=""/>
                  <p:cNvSpPr/>
                  <p:nvPr/>
                </p:nvSpPr>
                <p:spPr>
                  <a:xfrm rot="9883800">
                    <a:off x="5680080" y="11646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5671800" y="1181520"/>
                    <a:ext cx="5436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5689080" y="120132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5703120" y="120816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5710680" y="1220760"/>
                    <a:ext cx="61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2" name=""/>
                <p:cNvGrpSpPr/>
                <p:nvPr/>
              </p:nvGrpSpPr>
              <p:grpSpPr>
                <a:xfrm>
                  <a:off x="5597280" y="1218600"/>
                  <a:ext cx="83160" cy="119160"/>
                  <a:chOff x="5597280" y="1218600"/>
                  <a:chExt cx="83160" cy="119160"/>
                </a:xfrm>
              </p:grpSpPr>
              <p:sp>
                <p:nvSpPr>
                  <p:cNvPr id="2363" name=""/>
                  <p:cNvSpPr/>
                  <p:nvPr/>
                </p:nvSpPr>
                <p:spPr>
                  <a:xfrm rot="10003800">
                    <a:off x="5608800" y="12240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5601960" y="1240200"/>
                    <a:ext cx="52560" cy="51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5618520" y="126036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5632200" y="1267560"/>
                    <a:ext cx="129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5639400" y="1280520"/>
                    <a:ext cx="57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8" name=""/>
                <p:cNvGrpSpPr/>
                <p:nvPr/>
              </p:nvGrpSpPr>
              <p:grpSpPr>
                <a:xfrm>
                  <a:off x="5517000" y="1006560"/>
                  <a:ext cx="113760" cy="108000"/>
                  <a:chOff x="5517000" y="1006560"/>
                  <a:chExt cx="113760" cy="108000"/>
                </a:xfrm>
              </p:grpSpPr>
              <p:sp>
                <p:nvSpPr>
                  <p:cNvPr id="2369" name=""/>
                  <p:cNvSpPr/>
                  <p:nvPr/>
                </p:nvSpPr>
                <p:spPr>
                  <a:xfrm rot="3576600">
                    <a:off x="5537160" y="1015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 flipV="1">
                    <a:off x="5558400" y="1041480"/>
                    <a:ext cx="2016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 flipV="1">
                    <a:off x="5568120" y="107640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 flipH="1" flipV="1">
                    <a:off x="5563800" y="105588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 flipV="1">
                    <a:off x="5574960" y="1051560"/>
                    <a:ext cx="43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4" name=""/>
                <p:cNvGrpSpPr/>
                <p:nvPr/>
              </p:nvGrpSpPr>
              <p:grpSpPr>
                <a:xfrm>
                  <a:off x="5536800" y="875160"/>
                  <a:ext cx="120960" cy="116280"/>
                  <a:chOff x="5536800" y="875160"/>
                  <a:chExt cx="120960" cy="116280"/>
                </a:xfrm>
              </p:grpSpPr>
              <p:sp>
                <p:nvSpPr>
                  <p:cNvPr id="2375" name=""/>
                  <p:cNvSpPr/>
                  <p:nvPr/>
                </p:nvSpPr>
                <p:spPr>
                  <a:xfrm rot="2940600">
                    <a:off x="5567040" y="878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6" name=""/>
                  <p:cNvSpPr/>
                  <p:nvPr/>
                </p:nvSpPr>
                <p:spPr>
                  <a:xfrm flipV="1">
                    <a:off x="5580720" y="913320"/>
                    <a:ext cx="2160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7" name=""/>
                  <p:cNvSpPr/>
                  <p:nvPr/>
                </p:nvSpPr>
                <p:spPr>
                  <a:xfrm flipV="1">
                    <a:off x="5591160" y="94752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8" name=""/>
                  <p:cNvSpPr/>
                  <p:nvPr/>
                </p:nvSpPr>
                <p:spPr>
                  <a:xfrm flipH="1" flipV="1">
                    <a:off x="5586480" y="93204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 flipV="1">
                    <a:off x="5599080" y="92268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0" name=""/>
                <p:cNvGrpSpPr/>
                <p:nvPr/>
              </p:nvGrpSpPr>
              <p:grpSpPr>
                <a:xfrm>
                  <a:off x="5598720" y="765000"/>
                  <a:ext cx="119880" cy="118080"/>
                  <a:chOff x="5598720" y="765000"/>
                  <a:chExt cx="119880" cy="11808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 rot="2781000">
                    <a:off x="5628600" y="769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 flipV="1">
                    <a:off x="5644440" y="803880"/>
                    <a:ext cx="18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 flipV="1">
                    <a:off x="5653800" y="83808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flipH="1" flipV="1">
                    <a:off x="5648040" y="82332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 flipV="1">
                    <a:off x="5660280" y="81324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"/>
                <p:cNvGrpSpPr/>
                <p:nvPr/>
              </p:nvGrpSpPr>
              <p:grpSpPr>
                <a:xfrm>
                  <a:off x="5654880" y="755280"/>
                  <a:ext cx="114120" cy="109440"/>
                  <a:chOff x="5654880" y="755280"/>
                  <a:chExt cx="114120" cy="109440"/>
                </a:xfrm>
              </p:grpSpPr>
              <p:sp>
                <p:nvSpPr>
                  <p:cNvPr id="2387" name=""/>
                  <p:cNvSpPr/>
                  <p:nvPr/>
                </p:nvSpPr>
                <p:spPr>
                  <a:xfrm rot="3412800">
                    <a:off x="5675400" y="7653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 flipV="1">
                    <a:off x="5698800" y="790560"/>
                    <a:ext cx="1692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 flipV="1">
                    <a:off x="5707440" y="82548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flipH="1" flipV="1">
                    <a:off x="5702040" y="805320"/>
                    <a:ext cx="43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 flipV="1">
                    <a:off x="5713560" y="801000"/>
                    <a:ext cx="39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92" name=""/>
              <p:cNvGrpSpPr/>
              <p:nvPr/>
            </p:nvGrpSpPr>
            <p:grpSpPr>
              <a:xfrm>
                <a:off x="5500800" y="2115720"/>
                <a:ext cx="392040" cy="572040"/>
                <a:chOff x="5500800" y="2115720"/>
                <a:chExt cx="392040" cy="572040"/>
              </a:xfrm>
            </p:grpSpPr>
            <p:grpSp>
              <p:nvGrpSpPr>
                <p:cNvPr id="2393" name=""/>
                <p:cNvGrpSpPr/>
                <p:nvPr/>
              </p:nvGrpSpPr>
              <p:grpSpPr>
                <a:xfrm>
                  <a:off x="5727960" y="2327400"/>
                  <a:ext cx="120240" cy="117000"/>
                  <a:chOff x="5727960" y="2327400"/>
                  <a:chExt cx="120240" cy="11700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 rot="7935000">
                    <a:off x="5757840" y="2331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5735880" y="2375280"/>
                    <a:ext cx="72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5761080" y="238284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 flipV="1">
                    <a:off x="5776560" y="237492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5789880" y="2387520"/>
                    <a:ext cx="9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9" name=""/>
                <p:cNvSpPr/>
                <p:nvPr/>
              </p:nvSpPr>
              <p:spPr>
                <a:xfrm flipH="1" flipV="1">
                  <a:off x="5616720" y="2377080"/>
                  <a:ext cx="8388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rot="4120200">
                  <a:off x="5452200" y="2371320"/>
                  <a:ext cx="40608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flipV="1">
                  <a:off x="5696640" y="2303640"/>
                  <a:ext cx="63000" cy="9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flipV="1">
                  <a:off x="5655960" y="2509920"/>
                  <a:ext cx="113040" cy="14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flipH="1" flipV="1">
                  <a:off x="5622480" y="2427120"/>
                  <a:ext cx="360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flipH="1" flipV="1">
                  <a:off x="5683680" y="2437920"/>
                  <a:ext cx="540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V="1">
                  <a:off x="5722200" y="2278080"/>
                  <a:ext cx="1296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5715720" y="2373480"/>
                  <a:ext cx="4284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H="1" flipV="1">
                  <a:off x="5630760" y="2266560"/>
                  <a:ext cx="4248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V="1">
                  <a:off x="5712120" y="2454120"/>
                  <a:ext cx="20880" cy="12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V="1">
                  <a:off x="5726160" y="2484360"/>
                  <a:ext cx="1872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V="1">
                  <a:off x="5693760" y="2604600"/>
                  <a:ext cx="5508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V="1">
                  <a:off x="5750280" y="2520360"/>
                  <a:ext cx="367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flipH="1" flipV="1">
                  <a:off x="5645160" y="2523240"/>
                  <a:ext cx="36000" cy="5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 flipV="1">
                  <a:off x="5654880" y="2327040"/>
                  <a:ext cx="2952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V="1">
                  <a:off x="5674680" y="2242440"/>
                  <a:ext cx="1836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15" name=""/>
                <p:cNvGrpSpPr/>
                <p:nvPr/>
              </p:nvGrpSpPr>
              <p:grpSpPr>
                <a:xfrm>
                  <a:off x="5745240" y="2252520"/>
                  <a:ext cx="97920" cy="84240"/>
                  <a:chOff x="5745240" y="2252520"/>
                  <a:chExt cx="97920" cy="8424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 rot="5865000">
                    <a:off x="5757480" y="22500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 flipV="1">
                    <a:off x="5752080" y="2282400"/>
                    <a:ext cx="5760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 flipV="1">
                    <a:off x="5773680" y="2308320"/>
                    <a:ext cx="126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 flipV="1">
                    <a:off x="5783400" y="2284560"/>
                    <a:ext cx="61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V="1">
                    <a:off x="5795640" y="2291040"/>
                    <a:ext cx="8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5630760" y="2331720"/>
                  <a:ext cx="114480" cy="114480"/>
                  <a:chOff x="5630760" y="2331720"/>
                  <a:chExt cx="114480" cy="11448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 rot="2706600">
                    <a:off x="5651280" y="23443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V="1">
                    <a:off x="5685480" y="2369160"/>
                    <a:ext cx="252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 flipV="1">
                    <a:off x="5689080" y="240336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 flipH="1" flipV="1">
                    <a:off x="5677560" y="238680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 flipV="1">
                    <a:off x="5689080" y="2378880"/>
                    <a:ext cx="2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5700600" y="2364840"/>
                  <a:ext cx="109440" cy="100440"/>
                  <a:chOff x="5700600" y="2364840"/>
                  <a:chExt cx="109440" cy="100440"/>
                </a:xfrm>
              </p:grpSpPr>
              <p:sp>
                <p:nvSpPr>
                  <p:cNvPr id="2428" name=""/>
                  <p:cNvSpPr/>
                  <p:nvPr/>
                </p:nvSpPr>
                <p:spPr>
                  <a:xfrm rot="4120200">
                    <a:off x="5718600" y="23702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 flipV="1">
                    <a:off x="5732640" y="2396520"/>
                    <a:ext cx="302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 flipV="1">
                    <a:off x="5745600" y="24307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 flipH="1" flipV="1">
                    <a:off x="5746320" y="2408400"/>
                    <a:ext cx="1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 flipV="1">
                    <a:off x="5756760" y="240696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"/>
                <p:cNvGrpSpPr/>
                <p:nvPr/>
              </p:nvGrpSpPr>
              <p:grpSpPr>
                <a:xfrm>
                  <a:off x="5520960" y="2286000"/>
                  <a:ext cx="104400" cy="123480"/>
                  <a:chOff x="5520960" y="2286000"/>
                  <a:chExt cx="104400" cy="12348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 rot="19889400">
                    <a:off x="5542920" y="2293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 flipH="1" flipV="1">
                    <a:off x="5554800" y="2338560"/>
                    <a:ext cx="64440" cy="36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 flipH="1" flipV="1">
                    <a:off x="5587560" y="234864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 flipH="1">
                    <a:off x="5569560" y="23565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 flipH="1" flipV="1">
                    <a:off x="5564520" y="233928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9" name=""/>
                <p:cNvGrpSpPr/>
                <p:nvPr/>
              </p:nvGrpSpPr>
              <p:grpSpPr>
                <a:xfrm>
                  <a:off x="5661000" y="2153160"/>
                  <a:ext cx="109440" cy="100440"/>
                  <a:chOff x="5661000" y="2153160"/>
                  <a:chExt cx="109440" cy="100440"/>
                </a:xfrm>
              </p:grpSpPr>
              <p:sp>
                <p:nvSpPr>
                  <p:cNvPr id="2440" name=""/>
                  <p:cNvSpPr/>
                  <p:nvPr/>
                </p:nvSpPr>
                <p:spPr>
                  <a:xfrm rot="4120200">
                    <a:off x="5679000" y="215856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 flipV="1">
                    <a:off x="5693040" y="2185200"/>
                    <a:ext cx="302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 flipV="1">
                    <a:off x="5706000" y="22194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 flipH="1" flipV="1">
                    <a:off x="5706720" y="219708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flipV="1">
                    <a:off x="5717160" y="219564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5" name=""/>
                <p:cNvGrpSpPr/>
                <p:nvPr/>
              </p:nvGrpSpPr>
              <p:grpSpPr>
                <a:xfrm>
                  <a:off x="5736600" y="2420280"/>
                  <a:ext cx="109440" cy="100440"/>
                  <a:chOff x="5736600" y="2420280"/>
                  <a:chExt cx="109440" cy="100440"/>
                </a:xfrm>
              </p:grpSpPr>
              <p:sp>
                <p:nvSpPr>
                  <p:cNvPr id="2446" name=""/>
                  <p:cNvSpPr/>
                  <p:nvPr/>
                </p:nvSpPr>
                <p:spPr>
                  <a:xfrm rot="4120200">
                    <a:off x="5754600" y="2425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 flipV="1">
                    <a:off x="5768640" y="2451960"/>
                    <a:ext cx="302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 flipV="1">
                    <a:off x="5781600" y="248616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flipH="1" flipV="1">
                    <a:off x="5782320" y="2463840"/>
                    <a:ext cx="18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 flipV="1">
                    <a:off x="5792760" y="2462400"/>
                    <a:ext cx="5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1" name=""/>
                <p:cNvGrpSpPr/>
                <p:nvPr/>
              </p:nvGrpSpPr>
              <p:grpSpPr>
                <a:xfrm>
                  <a:off x="5703480" y="2188800"/>
                  <a:ext cx="109440" cy="100440"/>
                  <a:chOff x="5703480" y="2188800"/>
                  <a:chExt cx="109440" cy="100440"/>
                </a:xfrm>
              </p:grpSpPr>
              <p:sp>
                <p:nvSpPr>
                  <p:cNvPr id="2452" name=""/>
                  <p:cNvSpPr/>
                  <p:nvPr/>
                </p:nvSpPr>
                <p:spPr>
                  <a:xfrm rot="4120200">
                    <a:off x="5721480" y="21942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 flipV="1">
                    <a:off x="5735520" y="2220840"/>
                    <a:ext cx="302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 flipV="1">
                    <a:off x="5748480" y="22546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flipH="1" flipV="1">
                    <a:off x="5749200" y="2232720"/>
                    <a:ext cx="1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 flipV="1">
                    <a:off x="5759640" y="2230920"/>
                    <a:ext cx="5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7" name=""/>
                <p:cNvGrpSpPr/>
                <p:nvPr/>
              </p:nvGrpSpPr>
              <p:grpSpPr>
                <a:xfrm>
                  <a:off x="5532120" y="2437560"/>
                  <a:ext cx="113760" cy="122040"/>
                  <a:chOff x="5532120" y="2437560"/>
                  <a:chExt cx="113760" cy="122040"/>
                </a:xfrm>
              </p:grpSpPr>
              <p:sp>
                <p:nvSpPr>
                  <p:cNvPr id="2458" name=""/>
                  <p:cNvSpPr/>
                  <p:nvPr/>
                </p:nvSpPr>
                <p:spPr>
                  <a:xfrm rot="19318200">
                    <a:off x="5559120" y="2444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 flipH="1" flipV="1">
                    <a:off x="5569560" y="2492640"/>
                    <a:ext cx="69480" cy="25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 flipH="1" flipV="1">
                    <a:off x="5603760" y="249732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>
                    <a:off x="5587560" y="250560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 flipH="1" flipV="1">
                    <a:off x="5579280" y="2491560"/>
                    <a:ext cx="86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3" name=""/>
                <p:cNvGrpSpPr/>
                <p:nvPr/>
              </p:nvGrpSpPr>
              <p:grpSpPr>
                <a:xfrm>
                  <a:off x="5510880" y="2360880"/>
                  <a:ext cx="122040" cy="113760"/>
                  <a:chOff x="5510880" y="2360880"/>
                  <a:chExt cx="122040" cy="113760"/>
                </a:xfrm>
              </p:grpSpPr>
              <p:sp>
                <p:nvSpPr>
                  <p:cNvPr id="2464" name=""/>
                  <p:cNvSpPr/>
                  <p:nvPr/>
                </p:nvSpPr>
                <p:spPr>
                  <a:xfrm rot="18478800">
                    <a:off x="5541840" y="2363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 flipH="1" flipV="1">
                    <a:off x="5551560" y="2417040"/>
                    <a:ext cx="734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 flipH="1" flipV="1">
                    <a:off x="5585760" y="2413080"/>
                    <a:ext cx="136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flipH="1">
                    <a:off x="5573160" y="2422440"/>
                    <a:ext cx="108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 flipH="1" flipV="1">
                    <a:off x="5560560" y="2413800"/>
                    <a:ext cx="9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9" name=""/>
                <p:cNvGrpSpPr/>
                <p:nvPr/>
              </p:nvGrpSpPr>
              <p:grpSpPr>
                <a:xfrm>
                  <a:off x="5569200" y="2146320"/>
                  <a:ext cx="99360" cy="123480"/>
                  <a:chOff x="5569200" y="2146320"/>
                  <a:chExt cx="99360" cy="123480"/>
                </a:xfrm>
              </p:grpSpPr>
              <p:sp>
                <p:nvSpPr>
                  <p:cNvPr id="2470" name=""/>
                  <p:cNvSpPr/>
                  <p:nvPr/>
                </p:nvSpPr>
                <p:spPr>
                  <a:xfrm rot="20130000">
                    <a:off x="5588640" y="2153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 flipH="1" flipV="1">
                    <a:off x="5600880" y="2197800"/>
                    <a:ext cx="6192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 flipH="1" flipV="1">
                    <a:off x="5632920" y="221004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flipH="1">
                    <a:off x="5614560" y="2217600"/>
                    <a:ext cx="126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 flipH="1" flipV="1">
                    <a:off x="5610600" y="2198880"/>
                    <a:ext cx="72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5" name=""/>
                <p:cNvGrpSpPr/>
                <p:nvPr/>
              </p:nvGrpSpPr>
              <p:grpSpPr>
                <a:xfrm>
                  <a:off x="5515920" y="2182320"/>
                  <a:ext cx="117720" cy="119880"/>
                  <a:chOff x="5515920" y="2182320"/>
                  <a:chExt cx="117720" cy="119880"/>
                </a:xfrm>
              </p:grpSpPr>
              <p:sp>
                <p:nvSpPr>
                  <p:cNvPr id="2476" name=""/>
                  <p:cNvSpPr/>
                  <p:nvPr/>
                </p:nvSpPr>
                <p:spPr>
                  <a:xfrm rot="19002000">
                    <a:off x="5544720" y="2188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 flipH="1" flipV="1">
                    <a:off x="5554800" y="2238120"/>
                    <a:ext cx="716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 flipH="1" flipV="1">
                    <a:off x="5589000" y="2239560"/>
                    <a:ext cx="126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flipH="1">
                    <a:off x="5574240" y="224820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 flipH="1" flipV="1">
                    <a:off x="5564160" y="2236320"/>
                    <a:ext cx="90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1" name=""/>
                <p:cNvGrpSpPr/>
                <p:nvPr/>
              </p:nvGrpSpPr>
              <p:grpSpPr>
                <a:xfrm>
                  <a:off x="5561640" y="2251800"/>
                  <a:ext cx="110880" cy="123120"/>
                  <a:chOff x="5561640" y="2251800"/>
                  <a:chExt cx="110880" cy="123120"/>
                </a:xfrm>
              </p:grpSpPr>
              <p:sp>
                <p:nvSpPr>
                  <p:cNvPr id="2482" name=""/>
                  <p:cNvSpPr/>
                  <p:nvPr/>
                </p:nvSpPr>
                <p:spPr>
                  <a:xfrm rot="19521600">
                    <a:off x="5586840" y="22590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 flipH="1" flipV="1">
                    <a:off x="5597640" y="2306160"/>
                    <a:ext cx="676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 flipH="1" flipV="1">
                    <a:off x="5631480" y="231264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 flipH="1">
                    <a:off x="5614560" y="2320920"/>
                    <a:ext cx="126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 flipH="1" flipV="1">
                    <a:off x="5607360" y="2305440"/>
                    <a:ext cx="82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7" name=""/>
                <p:cNvGrpSpPr/>
                <p:nvPr/>
              </p:nvGrpSpPr>
              <p:grpSpPr>
                <a:xfrm>
                  <a:off x="5654520" y="2190960"/>
                  <a:ext cx="74520" cy="115920"/>
                  <a:chOff x="5654520" y="2190960"/>
                  <a:chExt cx="74520" cy="115920"/>
                </a:xfrm>
              </p:grpSpPr>
              <p:sp>
                <p:nvSpPr>
                  <p:cNvPr id="2488" name=""/>
                  <p:cNvSpPr/>
                  <p:nvPr/>
                </p:nvSpPr>
                <p:spPr>
                  <a:xfrm rot="21105000">
                    <a:off x="5661720" y="219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 flipH="1" flipV="1">
                    <a:off x="5677560" y="2234160"/>
                    <a:ext cx="4788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 flipH="1" flipV="1">
                    <a:off x="5704920" y="225504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 flipH="1" flipV="1">
                    <a:off x="5685120" y="225756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 flipH="1" flipV="1">
                    <a:off x="5686560" y="223812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3" name=""/>
                <p:cNvGrpSpPr/>
                <p:nvPr/>
              </p:nvGrpSpPr>
              <p:grpSpPr>
                <a:xfrm>
                  <a:off x="5678280" y="2368440"/>
                  <a:ext cx="104760" cy="111960"/>
                  <a:chOff x="5678280" y="2368440"/>
                  <a:chExt cx="104760" cy="111960"/>
                </a:xfrm>
              </p:grpSpPr>
              <p:sp>
                <p:nvSpPr>
                  <p:cNvPr id="2494" name=""/>
                  <p:cNvSpPr/>
                  <p:nvPr/>
                </p:nvSpPr>
                <p:spPr>
                  <a:xfrm rot="1555800">
                    <a:off x="5693760" y="23796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 flipH="1" flipV="1">
                    <a:off x="5724000" y="2405880"/>
                    <a:ext cx="2088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 flipV="1">
                    <a:off x="5740200" y="243612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 flipH="1" flipV="1">
                    <a:off x="5719680" y="2426040"/>
                    <a:ext cx="11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 flipH="1" flipV="1">
                    <a:off x="5730480" y="2413800"/>
                    <a:ext cx="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9" name=""/>
                <p:cNvGrpSpPr/>
                <p:nvPr/>
              </p:nvGrpSpPr>
              <p:grpSpPr>
                <a:xfrm>
                  <a:off x="5776920" y="2481840"/>
                  <a:ext cx="115920" cy="120960"/>
                  <a:chOff x="5776920" y="2481840"/>
                  <a:chExt cx="115920" cy="120960"/>
                </a:xfrm>
              </p:grpSpPr>
              <p:sp>
                <p:nvSpPr>
                  <p:cNvPr id="2500" name=""/>
                  <p:cNvSpPr/>
                  <p:nvPr/>
                </p:nvSpPr>
                <p:spPr>
                  <a:xfrm rot="8353200">
                    <a:off x="5804640" y="2487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5784120" y="2525400"/>
                    <a:ext cx="70920" cy="21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5808600" y="2535840"/>
                    <a:ext cx="11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 flipV="1">
                    <a:off x="5824080" y="253152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5836320" y="2544120"/>
                    <a:ext cx="9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5" name=""/>
                <p:cNvGrpSpPr/>
                <p:nvPr/>
              </p:nvGrpSpPr>
              <p:grpSpPr>
                <a:xfrm>
                  <a:off x="5739120" y="2565720"/>
                  <a:ext cx="114480" cy="122040"/>
                  <a:chOff x="5739120" y="2565720"/>
                  <a:chExt cx="114480" cy="122040"/>
                </a:xfrm>
              </p:grpSpPr>
              <p:sp>
                <p:nvSpPr>
                  <p:cNvPr id="2506" name=""/>
                  <p:cNvSpPr/>
                  <p:nvPr/>
                </p:nvSpPr>
                <p:spPr>
                  <a:xfrm rot="8473200">
                    <a:off x="5766480" y="2572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5746320" y="2608200"/>
                    <a:ext cx="6984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5770440" y="26193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 flipV="1">
                    <a:off x="5785920" y="26161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5798160" y="2628720"/>
                    <a:ext cx="86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1" name=""/>
                <p:cNvGrpSpPr/>
                <p:nvPr/>
              </p:nvGrpSpPr>
              <p:grpSpPr>
                <a:xfrm>
                  <a:off x="5588640" y="2401200"/>
                  <a:ext cx="110160" cy="114480"/>
                  <a:chOff x="5588640" y="2401200"/>
                  <a:chExt cx="110160" cy="114480"/>
                </a:xfrm>
              </p:grpSpPr>
              <p:sp>
                <p:nvSpPr>
                  <p:cNvPr id="2512" name=""/>
                  <p:cNvSpPr/>
                  <p:nvPr/>
                </p:nvSpPr>
                <p:spPr>
                  <a:xfrm rot="2046000">
                    <a:off x="5607000" y="24138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 flipH="1" flipV="1">
                    <a:off x="5639760" y="2439000"/>
                    <a:ext cx="1116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 flipV="1">
                    <a:off x="5649840" y="247176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 flipH="1" flipV="1">
                    <a:off x="5632920" y="2458440"/>
                    <a:ext cx="97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 flipV="1">
                    <a:off x="5644440" y="244800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7" name=""/>
                <p:cNvGrpSpPr/>
                <p:nvPr/>
              </p:nvGrpSpPr>
              <p:grpSpPr>
                <a:xfrm>
                  <a:off x="5561280" y="2271600"/>
                  <a:ext cx="97920" cy="123120"/>
                  <a:chOff x="5561280" y="2271600"/>
                  <a:chExt cx="97920" cy="123120"/>
                </a:xfrm>
              </p:grpSpPr>
              <p:sp>
                <p:nvSpPr>
                  <p:cNvPr id="2518" name=""/>
                  <p:cNvSpPr/>
                  <p:nvPr/>
                </p:nvSpPr>
                <p:spPr>
                  <a:xfrm rot="1410000">
                    <a:off x="5580360" y="2278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 flipH="1" flipV="1">
                    <a:off x="5605920" y="2313000"/>
                    <a:ext cx="1116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 flipV="1">
                    <a:off x="5616000" y="2345040"/>
                    <a:ext cx="2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 flipH="1" flipV="1">
                    <a:off x="5600160" y="233676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 flipV="1">
                    <a:off x="5610960" y="232092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3" name=""/>
                <p:cNvGrpSpPr/>
                <p:nvPr/>
              </p:nvGrpSpPr>
              <p:grpSpPr>
                <a:xfrm>
                  <a:off x="5571360" y="2147040"/>
                  <a:ext cx="94320" cy="122400"/>
                  <a:chOff x="5571360" y="2147040"/>
                  <a:chExt cx="94320" cy="122400"/>
                </a:xfrm>
              </p:grpSpPr>
              <p:sp>
                <p:nvSpPr>
                  <p:cNvPr id="2524" name=""/>
                  <p:cNvSpPr/>
                  <p:nvPr/>
                </p:nvSpPr>
                <p:spPr>
                  <a:xfrm rot="1250400">
                    <a:off x="5588640" y="21538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 flipH="1" flipV="1">
                    <a:off x="5613480" y="2188440"/>
                    <a:ext cx="14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 flipV="1">
                    <a:off x="5625360" y="2219760"/>
                    <a:ext cx="1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 flipH="1" flipV="1">
                    <a:off x="5608440" y="2212200"/>
                    <a:ext cx="97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 flipV="1">
                    <a:off x="5619240" y="2196000"/>
                    <a:ext cx="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9" name=""/>
                <p:cNvGrpSpPr/>
                <p:nvPr/>
              </p:nvGrpSpPr>
              <p:grpSpPr>
                <a:xfrm>
                  <a:off x="5606640" y="2115720"/>
                  <a:ext cx="108360" cy="113760"/>
                  <a:chOff x="5606640" y="2115720"/>
                  <a:chExt cx="108360" cy="113760"/>
                </a:xfrm>
              </p:grpSpPr>
              <p:sp>
                <p:nvSpPr>
                  <p:cNvPr id="2530" name=""/>
                  <p:cNvSpPr/>
                  <p:nvPr/>
                </p:nvSpPr>
                <p:spPr>
                  <a:xfrm rot="1882200">
                    <a:off x="5624280" y="21279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 flipH="1" flipV="1">
                    <a:off x="5655600" y="2153520"/>
                    <a:ext cx="14040" cy="68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 flipV="1">
                    <a:off x="5667840" y="2185200"/>
                    <a:ext cx="21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 flipH="1" flipV="1">
                    <a:off x="5649480" y="2172960"/>
                    <a:ext cx="104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 flipV="1">
                    <a:off x="5661720" y="2162160"/>
                    <a:ext cx="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5" name=""/>
              <p:cNvGrpSpPr/>
              <p:nvPr/>
            </p:nvGrpSpPr>
            <p:grpSpPr>
              <a:xfrm>
                <a:off x="5701680" y="1725840"/>
                <a:ext cx="370800" cy="582480"/>
                <a:chOff x="5701680" y="1725840"/>
                <a:chExt cx="370800" cy="582480"/>
              </a:xfrm>
            </p:grpSpPr>
            <p:grpSp>
              <p:nvGrpSpPr>
                <p:cNvPr id="2536" name=""/>
                <p:cNvGrpSpPr/>
                <p:nvPr/>
              </p:nvGrpSpPr>
              <p:grpSpPr>
                <a:xfrm>
                  <a:off x="5922360" y="1965960"/>
                  <a:ext cx="96480" cy="123120"/>
                  <a:chOff x="5922360" y="1965960"/>
                  <a:chExt cx="96480" cy="123120"/>
                </a:xfrm>
              </p:grpSpPr>
              <p:sp>
                <p:nvSpPr>
                  <p:cNvPr id="2537" name=""/>
                  <p:cNvSpPr/>
                  <p:nvPr/>
                </p:nvSpPr>
                <p:spPr>
                  <a:xfrm rot="9465600">
                    <a:off x="5940720" y="1973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5928120" y="1995840"/>
                    <a:ext cx="597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5947560" y="201348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5962320" y="201816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5971680" y="2030040"/>
                    <a:ext cx="68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2" name=""/>
                <p:cNvSpPr/>
                <p:nvPr/>
              </p:nvSpPr>
              <p:spPr>
                <a:xfrm flipH="1" flipV="1">
                  <a:off x="5819760" y="1946520"/>
                  <a:ext cx="14760" cy="16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5650200">
                  <a:off x="5616360" y="1949400"/>
                  <a:ext cx="406440" cy="1731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flipV="1">
                  <a:off x="5883120" y="1941480"/>
                  <a:ext cx="9720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flipV="1">
                  <a:off x="5733720" y="2131560"/>
                  <a:ext cx="16632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H="1" flipV="1">
                  <a:off x="5803200" y="1994040"/>
                  <a:ext cx="2376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V="1">
                  <a:off x="5837040" y="2030040"/>
                  <a:ext cx="1692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V="1">
                  <a:off x="5925240" y="1908000"/>
                  <a:ext cx="4428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5910840" y="1985760"/>
                  <a:ext cx="38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 flipV="1">
                  <a:off x="5879880" y="1852560"/>
                  <a:ext cx="2304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V="1">
                  <a:off x="5816880" y="2066040"/>
                  <a:ext cx="7452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V="1">
                  <a:off x="5861880" y="2098440"/>
                  <a:ext cx="2736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5789520" y="2188800"/>
                  <a:ext cx="5148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5872320" y="2145960"/>
                  <a:ext cx="3960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 flipV="1">
                  <a:off x="5782320" y="2090880"/>
                  <a:ext cx="864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flipH="1" flipV="1">
                  <a:off x="5875560" y="1917360"/>
                  <a:ext cx="936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flipV="1">
                  <a:off x="5919480" y="1857240"/>
                  <a:ext cx="2736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558" name=""/>
                <p:cNvGrpSpPr/>
                <p:nvPr/>
              </p:nvGrpSpPr>
              <p:grpSpPr>
                <a:xfrm>
                  <a:off x="5958000" y="1893600"/>
                  <a:ext cx="114480" cy="109800"/>
                  <a:chOff x="5958000" y="1893600"/>
                  <a:chExt cx="114480" cy="109800"/>
                </a:xfrm>
              </p:grpSpPr>
              <p:sp>
                <p:nvSpPr>
                  <p:cNvPr id="2559" name=""/>
                  <p:cNvSpPr/>
                  <p:nvPr/>
                </p:nvSpPr>
                <p:spPr>
                  <a:xfrm rot="7395600">
                    <a:off x="5978520" y="1903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 flipV="1">
                    <a:off x="5965200" y="1944000"/>
                    <a:ext cx="694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5989680" y="195480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 flipV="1">
                    <a:off x="6004080" y="193752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6016680" y="1949040"/>
                    <a:ext cx="93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4" name=""/>
                <p:cNvGrpSpPr/>
                <p:nvPr/>
              </p:nvGrpSpPr>
              <p:grpSpPr>
                <a:xfrm>
                  <a:off x="5824800" y="1938240"/>
                  <a:ext cx="108000" cy="98280"/>
                  <a:chOff x="5824800" y="1938240"/>
                  <a:chExt cx="108000" cy="98280"/>
                </a:xfrm>
              </p:grpSpPr>
              <p:sp>
                <p:nvSpPr>
                  <p:cNvPr id="2565" name=""/>
                  <p:cNvSpPr/>
                  <p:nvPr/>
                </p:nvSpPr>
                <p:spPr>
                  <a:xfrm rot="4237200">
                    <a:off x="5842080" y="1942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 flipV="1">
                    <a:off x="5854680" y="1969560"/>
                    <a:ext cx="327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 flipV="1">
                    <a:off x="5868720" y="20034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 flipH="1" flipV="1">
                    <a:off x="5870520" y="198108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 flipV="1">
                    <a:off x="5880600" y="1980000"/>
                    <a:ext cx="5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0" name=""/>
                <p:cNvGrpSpPr/>
                <p:nvPr/>
              </p:nvGrpSpPr>
              <p:grpSpPr>
                <a:xfrm>
                  <a:off x="5881680" y="2000520"/>
                  <a:ext cx="93960" cy="79200"/>
                  <a:chOff x="5881680" y="2000520"/>
                  <a:chExt cx="93960" cy="79200"/>
                </a:xfrm>
              </p:grpSpPr>
              <p:sp>
                <p:nvSpPr>
                  <p:cNvPr id="2571" name=""/>
                  <p:cNvSpPr/>
                  <p:nvPr/>
                </p:nvSpPr>
                <p:spPr>
                  <a:xfrm rot="5650200">
                    <a:off x="5891760" y="19954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 flipV="1">
                    <a:off x="5888520" y="202716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 flipV="1">
                    <a:off x="5909400" y="205452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 flipV="1">
                    <a:off x="5918400" y="203076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 flipV="1">
                    <a:off x="5930280" y="203616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6" name=""/>
                <p:cNvGrpSpPr/>
                <p:nvPr/>
              </p:nvGrpSpPr>
              <p:grpSpPr>
                <a:xfrm>
                  <a:off x="5760360" y="1845360"/>
                  <a:ext cx="65520" cy="111600"/>
                  <a:chOff x="5760360" y="1845360"/>
                  <a:chExt cx="65520" cy="111600"/>
                </a:xfrm>
              </p:grpSpPr>
              <p:sp>
                <p:nvSpPr>
                  <p:cNvPr id="2577" name=""/>
                  <p:cNvSpPr/>
                  <p:nvPr/>
                </p:nvSpPr>
                <p:spPr>
                  <a:xfrm rot="21420000">
                    <a:off x="5762880" y="18468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 flipH="1" flipV="1">
                    <a:off x="5780160" y="1884600"/>
                    <a:ext cx="4248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 flipH="1" flipV="1">
                    <a:off x="5805720" y="190800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 flipH="1" flipV="1">
                    <a:off x="5785560" y="190872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flipH="1" flipV="1">
                    <a:off x="5788800" y="1889280"/>
                    <a:ext cx="43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2" name=""/>
                <p:cNvGrpSpPr/>
                <p:nvPr/>
              </p:nvGrpSpPr>
              <p:grpSpPr>
                <a:xfrm>
                  <a:off x="5936760" y="1792440"/>
                  <a:ext cx="93960" cy="79200"/>
                  <a:chOff x="5936760" y="1792440"/>
                  <a:chExt cx="93960" cy="79200"/>
                </a:xfrm>
              </p:grpSpPr>
              <p:sp>
                <p:nvSpPr>
                  <p:cNvPr id="2583" name=""/>
                  <p:cNvSpPr/>
                  <p:nvPr/>
                </p:nvSpPr>
                <p:spPr>
                  <a:xfrm rot="5650200">
                    <a:off x="5946840" y="17874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 flipV="1">
                    <a:off x="5943960" y="181908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 flipV="1">
                    <a:off x="5964480" y="184608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 flipV="1">
                    <a:off x="5973480" y="182268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 flipV="1">
                    <a:off x="5985360" y="182808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8" name=""/>
                <p:cNvGrpSpPr/>
                <p:nvPr/>
              </p:nvGrpSpPr>
              <p:grpSpPr>
                <a:xfrm>
                  <a:off x="5890320" y="2066040"/>
                  <a:ext cx="93960" cy="79200"/>
                  <a:chOff x="5890320" y="2066040"/>
                  <a:chExt cx="93960" cy="7920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 rot="5650200">
                    <a:off x="5900400" y="20610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flipV="1">
                    <a:off x="5897160" y="209268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 flipV="1">
                    <a:off x="5918040" y="2120040"/>
                    <a:ext cx="122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 flipV="1">
                    <a:off x="5926680" y="209628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 flipV="1">
                    <a:off x="5938560" y="2101680"/>
                    <a:ext cx="82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4" name=""/>
                <p:cNvGrpSpPr/>
                <p:nvPr/>
              </p:nvGrpSpPr>
              <p:grpSpPr>
                <a:xfrm>
                  <a:off x="5959800" y="1842840"/>
                  <a:ext cx="93960" cy="79200"/>
                  <a:chOff x="5959800" y="1842840"/>
                  <a:chExt cx="93960" cy="79200"/>
                </a:xfrm>
              </p:grpSpPr>
              <p:sp>
                <p:nvSpPr>
                  <p:cNvPr id="2595" name=""/>
                  <p:cNvSpPr/>
                  <p:nvPr/>
                </p:nvSpPr>
                <p:spPr>
                  <a:xfrm rot="5650200">
                    <a:off x="5969880" y="183780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 flipV="1">
                    <a:off x="5967000" y="1869480"/>
                    <a:ext cx="5472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 flipV="1">
                    <a:off x="5987520" y="1896480"/>
                    <a:ext cx="122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 flipV="1">
                    <a:off x="5996520" y="187308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 flipV="1">
                    <a:off x="6008400" y="1878480"/>
                    <a:ext cx="82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0" name=""/>
                <p:cNvGrpSpPr/>
                <p:nvPr/>
              </p:nvGrpSpPr>
              <p:grpSpPr>
                <a:xfrm>
                  <a:off x="5701680" y="1985040"/>
                  <a:ext cx="81720" cy="118800"/>
                  <a:chOff x="5701680" y="1985040"/>
                  <a:chExt cx="81720" cy="118800"/>
                </a:xfrm>
              </p:grpSpPr>
              <p:sp>
                <p:nvSpPr>
                  <p:cNvPr id="2601" name=""/>
                  <p:cNvSpPr/>
                  <p:nvPr/>
                </p:nvSpPr>
                <p:spPr>
                  <a:xfrm rot="20848800">
                    <a:off x="5712480" y="19900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 flipH="1" flipV="1">
                    <a:off x="5727240" y="2030760"/>
                    <a:ext cx="5184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 flipH="1" flipV="1">
                    <a:off x="5756040" y="2049480"/>
                    <a:ext cx="68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 flipH="1" flipV="1">
                    <a:off x="5736600" y="205344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 flipH="1" flipV="1">
                    <a:off x="5736600" y="2033640"/>
                    <a:ext cx="5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6" name=""/>
                <p:cNvGrpSpPr/>
                <p:nvPr/>
              </p:nvGrpSpPr>
              <p:grpSpPr>
                <a:xfrm>
                  <a:off x="5711040" y="1901880"/>
                  <a:ext cx="101880" cy="123480"/>
                  <a:chOff x="5711040" y="1901880"/>
                  <a:chExt cx="101880" cy="123480"/>
                </a:xfrm>
              </p:grpSpPr>
              <p:sp>
                <p:nvSpPr>
                  <p:cNvPr id="2607" name=""/>
                  <p:cNvSpPr/>
                  <p:nvPr/>
                </p:nvSpPr>
                <p:spPr>
                  <a:xfrm rot="20009400">
                    <a:off x="5731920" y="1909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flipH="1" flipV="1">
                    <a:off x="5743800" y="1954080"/>
                    <a:ext cx="63000" cy="38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 flipH="1" flipV="1">
                    <a:off x="5776200" y="1965240"/>
                    <a:ext cx="97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H="1">
                    <a:off x="5758200" y="197280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 flipH="1" flipV="1">
                    <a:off x="5753520" y="1955160"/>
                    <a:ext cx="72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2" name=""/>
                <p:cNvGrpSpPr/>
                <p:nvPr/>
              </p:nvGrpSpPr>
              <p:grpSpPr>
                <a:xfrm>
                  <a:off x="5863680" y="1739880"/>
                  <a:ext cx="61560" cy="109440"/>
                  <a:chOff x="5863680" y="1739880"/>
                  <a:chExt cx="61560" cy="109440"/>
                </a:xfrm>
              </p:grpSpPr>
              <p:sp>
                <p:nvSpPr>
                  <p:cNvPr id="2613" name=""/>
                  <p:cNvSpPr/>
                  <p:nvPr/>
                </p:nvSpPr>
                <p:spPr>
                  <a:xfrm rot="60600">
                    <a:off x="5864400" y="1740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 flipV="1">
                    <a:off x="5882760" y="1777680"/>
                    <a:ext cx="3816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 flipV="1">
                    <a:off x="5906520" y="1802520"/>
                    <a:ext cx="3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 flipV="1">
                    <a:off x="5886360" y="1801800"/>
                    <a:ext cx="115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flipV="1">
                    <a:off x="5891040" y="178272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8" name=""/>
                <p:cNvGrpSpPr/>
                <p:nvPr/>
              </p:nvGrpSpPr>
              <p:grpSpPr>
                <a:xfrm>
                  <a:off x="5794920" y="1745640"/>
                  <a:ext cx="90000" cy="121680"/>
                  <a:chOff x="5794920" y="1745640"/>
                  <a:chExt cx="90000" cy="121680"/>
                </a:xfrm>
              </p:grpSpPr>
              <p:sp>
                <p:nvSpPr>
                  <p:cNvPr id="2619" name=""/>
                  <p:cNvSpPr/>
                  <p:nvPr/>
                </p:nvSpPr>
                <p:spPr>
                  <a:xfrm rot="20532600">
                    <a:off x="5810040" y="17521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H="1" flipV="1">
                    <a:off x="5823720" y="1794240"/>
                    <a:ext cx="5652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 flipV="1">
                    <a:off x="5853960" y="181008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 flipV="1">
                    <a:off x="5834880" y="181584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H="1" flipV="1">
                    <a:off x="5833080" y="1796400"/>
                    <a:ext cx="61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4" name=""/>
                <p:cNvGrpSpPr/>
                <p:nvPr/>
              </p:nvGrpSpPr>
              <p:grpSpPr>
                <a:xfrm>
                  <a:off x="5809320" y="1830240"/>
                  <a:ext cx="76320" cy="116280"/>
                  <a:chOff x="5809320" y="1830240"/>
                  <a:chExt cx="76320" cy="116280"/>
                </a:xfrm>
              </p:grpSpPr>
              <p:sp>
                <p:nvSpPr>
                  <p:cNvPr id="2625" name=""/>
                  <p:cNvSpPr/>
                  <p:nvPr/>
                </p:nvSpPr>
                <p:spPr>
                  <a:xfrm rot="21052200">
                    <a:off x="5817240" y="18338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 flipV="1">
                    <a:off x="5833080" y="1873800"/>
                    <a:ext cx="48600" cy="55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 flipV="1">
                    <a:off x="5860800" y="189432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H="1" flipV="1">
                    <a:off x="5840640" y="189720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H="1" flipV="1">
                    <a:off x="5842080" y="1877760"/>
                    <a:ext cx="5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0" name=""/>
                <p:cNvGrpSpPr/>
                <p:nvPr/>
              </p:nvGrpSpPr>
              <p:grpSpPr>
                <a:xfrm>
                  <a:off x="5898240" y="1802520"/>
                  <a:ext cx="89280" cy="121320"/>
                  <a:chOff x="5898240" y="1802520"/>
                  <a:chExt cx="89280" cy="121320"/>
                </a:xfrm>
              </p:grpSpPr>
              <p:sp>
                <p:nvSpPr>
                  <p:cNvPr id="2631" name=""/>
                  <p:cNvSpPr/>
                  <p:nvPr/>
                </p:nvSpPr>
                <p:spPr>
                  <a:xfrm rot="1035600">
                    <a:off x="5912640" y="18086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flipH="1" flipV="1">
                    <a:off x="5936400" y="1843560"/>
                    <a:ext cx="18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flipV="1">
                    <a:off x="5951160" y="1874160"/>
                    <a:ext cx="1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flipH="1" flipV="1">
                    <a:off x="5932800" y="18676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flipH="1" flipV="1">
                    <a:off x="5942880" y="1850760"/>
                    <a:ext cx="3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6" name=""/>
                <p:cNvGrpSpPr/>
                <p:nvPr/>
              </p:nvGrpSpPr>
              <p:grpSpPr>
                <a:xfrm>
                  <a:off x="5844600" y="1982160"/>
                  <a:ext cx="115200" cy="112680"/>
                  <a:chOff x="5844600" y="1982160"/>
                  <a:chExt cx="115200" cy="112680"/>
                </a:xfrm>
              </p:grpSpPr>
              <p:sp>
                <p:nvSpPr>
                  <p:cNvPr id="2637" name=""/>
                  <p:cNvSpPr/>
                  <p:nvPr/>
                </p:nvSpPr>
                <p:spPr>
                  <a:xfrm rot="3086400">
                    <a:off x="5865480" y="199368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flipV="1">
                    <a:off x="5893920" y="2018520"/>
                    <a:ext cx="1008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V="1">
                    <a:off x="5900040" y="2053440"/>
                    <a:ext cx="64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H="1" flipV="1">
                    <a:off x="5891760" y="203508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V="1">
                    <a:off x="5903280" y="2028600"/>
                    <a:ext cx="32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2" name=""/>
                <p:cNvGrpSpPr/>
                <p:nvPr/>
              </p:nvGrpSpPr>
              <p:grpSpPr>
                <a:xfrm>
                  <a:off x="5902560" y="2129400"/>
                  <a:ext cx="86040" cy="120240"/>
                  <a:chOff x="5902560" y="2129400"/>
                  <a:chExt cx="86040" cy="120240"/>
                </a:xfrm>
              </p:grpSpPr>
              <p:sp>
                <p:nvSpPr>
                  <p:cNvPr id="2643" name=""/>
                  <p:cNvSpPr/>
                  <p:nvPr/>
                </p:nvSpPr>
                <p:spPr>
                  <a:xfrm rot="9883800">
                    <a:off x="5915520" y="2135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>
                    <a:off x="5907240" y="2152080"/>
                    <a:ext cx="5436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5924520" y="217188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>
                    <a:off x="5938560" y="217872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>
                    <a:off x="5946120" y="2191320"/>
                    <a:ext cx="61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8" name=""/>
                <p:cNvGrpSpPr/>
                <p:nvPr/>
              </p:nvGrpSpPr>
              <p:grpSpPr>
                <a:xfrm>
                  <a:off x="5832720" y="2189160"/>
                  <a:ext cx="83160" cy="119160"/>
                  <a:chOff x="5832720" y="2189160"/>
                  <a:chExt cx="83160" cy="119160"/>
                </a:xfrm>
              </p:grpSpPr>
              <p:sp>
                <p:nvSpPr>
                  <p:cNvPr id="2649" name=""/>
                  <p:cNvSpPr/>
                  <p:nvPr/>
                </p:nvSpPr>
                <p:spPr>
                  <a:xfrm rot="10003800">
                    <a:off x="5844240" y="2194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>
                    <a:off x="5837400" y="2210760"/>
                    <a:ext cx="52560" cy="51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>
                    <a:off x="5853960" y="223092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5868000" y="22381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5874840" y="2251080"/>
                    <a:ext cx="57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4" name=""/>
                <p:cNvGrpSpPr/>
                <p:nvPr/>
              </p:nvGrpSpPr>
              <p:grpSpPr>
                <a:xfrm>
                  <a:off x="5752440" y="1977480"/>
                  <a:ext cx="113760" cy="108000"/>
                  <a:chOff x="5752440" y="1977480"/>
                  <a:chExt cx="113760" cy="108000"/>
                </a:xfrm>
              </p:grpSpPr>
              <p:sp>
                <p:nvSpPr>
                  <p:cNvPr id="2655" name=""/>
                  <p:cNvSpPr/>
                  <p:nvPr/>
                </p:nvSpPr>
                <p:spPr>
                  <a:xfrm rot="3576600">
                    <a:off x="5772600" y="198684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V="1">
                    <a:off x="5793840" y="2012400"/>
                    <a:ext cx="2016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V="1">
                    <a:off x="5803560" y="204732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H="1" flipV="1">
                    <a:off x="5799240" y="2026800"/>
                    <a:ext cx="39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V="1">
                    <a:off x="5810400" y="2022480"/>
                    <a:ext cx="43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0" name=""/>
                <p:cNvGrpSpPr/>
                <p:nvPr/>
              </p:nvGrpSpPr>
              <p:grpSpPr>
                <a:xfrm>
                  <a:off x="5772240" y="1845720"/>
                  <a:ext cx="120960" cy="116280"/>
                  <a:chOff x="5772240" y="1845720"/>
                  <a:chExt cx="120960" cy="11628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 rot="2940600">
                    <a:off x="5802480" y="18493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flipV="1">
                    <a:off x="5816160" y="1883880"/>
                    <a:ext cx="2160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 flipV="1">
                    <a:off x="5826600" y="1918080"/>
                    <a:ext cx="82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flipH="1" flipV="1">
                    <a:off x="5821920" y="190260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 flipV="1">
                    <a:off x="5834520" y="1893240"/>
                    <a:ext cx="4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6" name=""/>
                <p:cNvGrpSpPr/>
                <p:nvPr/>
              </p:nvGrpSpPr>
              <p:grpSpPr>
                <a:xfrm>
                  <a:off x="5834160" y="1735560"/>
                  <a:ext cx="119880" cy="118080"/>
                  <a:chOff x="5834160" y="1735560"/>
                  <a:chExt cx="119880" cy="118080"/>
                </a:xfrm>
              </p:grpSpPr>
              <p:sp>
                <p:nvSpPr>
                  <p:cNvPr id="2667" name=""/>
                  <p:cNvSpPr/>
                  <p:nvPr/>
                </p:nvSpPr>
                <p:spPr>
                  <a:xfrm rot="2781000">
                    <a:off x="5864040" y="17402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flipV="1">
                    <a:off x="5879880" y="1774440"/>
                    <a:ext cx="18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flipV="1">
                    <a:off x="5889240" y="180864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flipH="1" flipV="1">
                    <a:off x="5883480" y="179388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flipV="1">
                    <a:off x="5895720" y="1783800"/>
                    <a:ext cx="43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2" name=""/>
                <p:cNvGrpSpPr/>
                <p:nvPr/>
              </p:nvGrpSpPr>
              <p:grpSpPr>
                <a:xfrm>
                  <a:off x="5890320" y="1725840"/>
                  <a:ext cx="114480" cy="109800"/>
                  <a:chOff x="5890320" y="1725840"/>
                  <a:chExt cx="114480" cy="109800"/>
                </a:xfrm>
              </p:grpSpPr>
              <p:sp>
                <p:nvSpPr>
                  <p:cNvPr id="2673" name=""/>
                  <p:cNvSpPr/>
                  <p:nvPr/>
                </p:nvSpPr>
                <p:spPr>
                  <a:xfrm rot="3412800">
                    <a:off x="5910840" y="1735920"/>
                    <a:ext cx="730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flipV="1">
                    <a:off x="5934600" y="1761480"/>
                    <a:ext cx="16920" cy="68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flipV="1">
                    <a:off x="5943240" y="1796400"/>
                    <a:ext cx="72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flipH="1" flipV="1">
                    <a:off x="5937480" y="1776240"/>
                    <a:ext cx="46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flipV="1">
                    <a:off x="5949000" y="1771560"/>
                    <a:ext cx="39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8" name=""/>
              <p:cNvGrpSpPr/>
              <p:nvPr/>
            </p:nvGrpSpPr>
            <p:grpSpPr>
              <a:xfrm>
                <a:off x="5034240" y="1163160"/>
                <a:ext cx="447120" cy="501840"/>
                <a:chOff x="5034240" y="1163160"/>
                <a:chExt cx="447120" cy="501840"/>
              </a:xfrm>
            </p:grpSpPr>
            <p:grpSp>
              <p:nvGrpSpPr>
                <p:cNvPr id="2679" name=""/>
                <p:cNvGrpSpPr/>
                <p:nvPr/>
              </p:nvGrpSpPr>
              <p:grpSpPr>
                <a:xfrm>
                  <a:off x="5284080" y="1281240"/>
                  <a:ext cx="104040" cy="92520"/>
                  <a:chOff x="5284080" y="1281240"/>
                  <a:chExt cx="104040" cy="92520"/>
                </a:xfrm>
              </p:grpSpPr>
              <p:sp>
                <p:nvSpPr>
                  <p:cNvPr id="2680" name=""/>
                  <p:cNvSpPr/>
                  <p:nvPr/>
                </p:nvSpPr>
                <p:spPr>
                  <a:xfrm rot="6258600">
                    <a:off x="5299560" y="1282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 flipV="1">
                    <a:off x="5291640" y="1316880"/>
                    <a:ext cx="61560" cy="33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 flipV="1">
                    <a:off x="5314320" y="133992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 flipV="1">
                    <a:off x="5325480" y="131688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 flipV="1">
                    <a:off x="5337720" y="1325160"/>
                    <a:ext cx="90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5" name=""/>
                <p:cNvSpPr/>
                <p:nvPr/>
              </p:nvSpPr>
              <p:spPr>
                <a:xfrm flipH="1" flipV="1">
                  <a:off x="5168160" y="1434600"/>
                  <a:ext cx="12240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2443800">
                  <a:off x="5062320" y="137088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flipV="1">
                  <a:off x="5251680" y="1278000"/>
                  <a:ext cx="33480" cy="12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flipV="1">
                  <a:off x="5287320" y="1443960"/>
                  <a:ext cx="65880" cy="19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5187600" y="1465560"/>
                  <a:ext cx="4104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 flipH="1" flipV="1">
                  <a:off x="5250600" y="1440720"/>
                  <a:ext cx="19440" cy="38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 flipH="1" flipV="1">
                  <a:off x="5253840" y="1272960"/>
                  <a:ext cx="9000" cy="71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V="1">
                  <a:off x="5262840" y="1337040"/>
                  <a:ext cx="4176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 flipH="1" flipV="1">
                  <a:off x="5149800" y="1333080"/>
                  <a:ext cx="51120" cy="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 flipH="1" flipV="1">
                  <a:off x="5302440" y="1421280"/>
                  <a:ext cx="17640" cy="12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V="1">
                  <a:off x="5312160" y="1438920"/>
                  <a:ext cx="1080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flipV="1">
                  <a:off x="5309280" y="1536480"/>
                  <a:ext cx="5220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flipV="1">
                  <a:off x="5342760" y="1440360"/>
                  <a:ext cx="31680" cy="37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 flipV="1">
                  <a:off x="5238000" y="1537200"/>
                  <a:ext cx="507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flipH="1" flipV="1">
                  <a:off x="5190480" y="1367280"/>
                  <a:ext cx="403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V="1">
                  <a:off x="5191560" y="1271160"/>
                  <a:ext cx="1080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01" name=""/>
                <p:cNvGrpSpPr/>
                <p:nvPr/>
              </p:nvGrpSpPr>
              <p:grpSpPr>
                <a:xfrm>
                  <a:off x="5253840" y="1200600"/>
                  <a:ext cx="122400" cy="93600"/>
                  <a:chOff x="5253840" y="1200600"/>
                  <a:chExt cx="122400" cy="93600"/>
                </a:xfrm>
              </p:grpSpPr>
              <p:sp>
                <p:nvSpPr>
                  <p:cNvPr id="2702" name=""/>
                  <p:cNvSpPr/>
                  <p:nvPr/>
                </p:nvSpPr>
                <p:spPr>
                  <a:xfrm rot="4188600">
                    <a:off x="5285160" y="11930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3" name=""/>
                  <p:cNvSpPr/>
                  <p:nvPr/>
                </p:nvSpPr>
                <p:spPr>
                  <a:xfrm flipV="1">
                    <a:off x="5281920" y="1230480"/>
                    <a:ext cx="45000" cy="58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4" name=""/>
                  <p:cNvSpPr/>
                  <p:nvPr/>
                </p:nvSpPr>
                <p:spPr>
                  <a:xfrm flipV="1">
                    <a:off x="5300280" y="1261440"/>
                    <a:ext cx="122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 flipV="1">
                    <a:off x="5305320" y="1242360"/>
                    <a:ext cx="3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6" name=""/>
                  <p:cNvSpPr/>
                  <p:nvPr/>
                </p:nvSpPr>
                <p:spPr>
                  <a:xfrm flipV="1">
                    <a:off x="5317560" y="1239840"/>
                    <a:ext cx="75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7" name=""/>
                <p:cNvGrpSpPr/>
                <p:nvPr/>
              </p:nvGrpSpPr>
              <p:grpSpPr>
                <a:xfrm>
                  <a:off x="5195520" y="1336320"/>
                  <a:ext cx="89280" cy="121320"/>
                  <a:chOff x="5195520" y="1336320"/>
                  <a:chExt cx="89280" cy="121320"/>
                </a:xfrm>
              </p:grpSpPr>
              <p:sp>
                <p:nvSpPr>
                  <p:cNvPr id="2708" name=""/>
                  <p:cNvSpPr/>
                  <p:nvPr/>
                </p:nvSpPr>
                <p:spPr>
                  <a:xfrm rot="1030200">
                    <a:off x="5209920" y="1342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 flipH="1" flipV="1">
                    <a:off x="5233680" y="1377360"/>
                    <a:ext cx="1908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flipV="1">
                    <a:off x="5248800" y="140796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flipH="1" flipV="1">
                    <a:off x="5230440" y="14014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 flipH="1" flipV="1">
                    <a:off x="5240160" y="1384560"/>
                    <a:ext cx="7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3" name=""/>
                <p:cNvGrpSpPr/>
                <p:nvPr/>
              </p:nvGrpSpPr>
              <p:grpSpPr>
                <a:xfrm>
                  <a:off x="5254920" y="1313280"/>
                  <a:ext cx="115920" cy="120960"/>
                  <a:chOff x="5254920" y="1313280"/>
                  <a:chExt cx="115920" cy="120960"/>
                </a:xfrm>
              </p:grpSpPr>
              <p:sp>
                <p:nvSpPr>
                  <p:cNvPr id="2714" name=""/>
                  <p:cNvSpPr/>
                  <p:nvPr/>
                </p:nvSpPr>
                <p:spPr>
                  <a:xfrm rot="2443800">
                    <a:off x="5282640" y="1319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5" name=""/>
                  <p:cNvSpPr/>
                  <p:nvPr/>
                </p:nvSpPr>
                <p:spPr>
                  <a:xfrm flipV="1">
                    <a:off x="5303520" y="1353240"/>
                    <a:ext cx="1116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6" name=""/>
                  <p:cNvSpPr/>
                  <p:nvPr/>
                </p:nvSpPr>
                <p:spPr>
                  <a:xfrm flipV="1">
                    <a:off x="5310360" y="138744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 flipH="1" flipV="1">
                    <a:off x="5301720" y="137412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8" name=""/>
                  <p:cNvSpPr/>
                  <p:nvPr/>
                </p:nvSpPr>
                <p:spPr>
                  <a:xfrm flipV="1">
                    <a:off x="5314320" y="136260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9" name=""/>
                <p:cNvGrpSpPr/>
                <p:nvPr/>
              </p:nvGrpSpPr>
              <p:grpSpPr>
                <a:xfrm>
                  <a:off x="5060160" y="1384200"/>
                  <a:ext cx="114120" cy="109440"/>
                  <a:chOff x="5060160" y="1384200"/>
                  <a:chExt cx="114120" cy="109440"/>
                </a:xfrm>
              </p:grpSpPr>
              <p:sp>
                <p:nvSpPr>
                  <p:cNvPr id="2720" name=""/>
                  <p:cNvSpPr/>
                  <p:nvPr/>
                </p:nvSpPr>
                <p:spPr>
                  <a:xfrm rot="18213000">
                    <a:off x="5080680" y="13942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1" name=""/>
                  <p:cNvSpPr/>
                  <p:nvPr/>
                </p:nvSpPr>
                <p:spPr>
                  <a:xfrm flipH="1">
                    <a:off x="5097960" y="1431360"/>
                    <a:ext cx="69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2" name=""/>
                  <p:cNvSpPr/>
                  <p:nvPr/>
                </p:nvSpPr>
                <p:spPr>
                  <a:xfrm flipH="1" flipV="1">
                    <a:off x="5130360" y="142992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3" name=""/>
                  <p:cNvSpPr/>
                  <p:nvPr/>
                </p:nvSpPr>
                <p:spPr>
                  <a:xfrm flipH="1">
                    <a:off x="5117040" y="1440000"/>
                    <a:ext cx="11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 flipH="1" flipV="1">
                    <a:off x="5106960" y="143712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5" name=""/>
                <p:cNvGrpSpPr/>
                <p:nvPr/>
              </p:nvGrpSpPr>
              <p:grpSpPr>
                <a:xfrm>
                  <a:off x="5155200" y="1163160"/>
                  <a:ext cx="115920" cy="120960"/>
                  <a:chOff x="5155200" y="1163160"/>
                  <a:chExt cx="115920" cy="120960"/>
                </a:xfrm>
              </p:grpSpPr>
              <p:sp>
                <p:nvSpPr>
                  <p:cNvPr id="2726" name=""/>
                  <p:cNvSpPr/>
                  <p:nvPr/>
                </p:nvSpPr>
                <p:spPr>
                  <a:xfrm rot="2443800">
                    <a:off x="5182920" y="1169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 flipV="1">
                    <a:off x="5203800" y="1203120"/>
                    <a:ext cx="1116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 flipV="1">
                    <a:off x="5210280" y="123768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 flipH="1" flipV="1">
                    <a:off x="5202000" y="122400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0" name=""/>
                  <p:cNvSpPr/>
                  <p:nvPr/>
                </p:nvSpPr>
                <p:spPr>
                  <a:xfrm flipV="1">
                    <a:off x="5214240" y="121248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1" name=""/>
                <p:cNvGrpSpPr/>
                <p:nvPr/>
              </p:nvGrpSpPr>
              <p:grpSpPr>
                <a:xfrm>
                  <a:off x="5306040" y="1335240"/>
                  <a:ext cx="115920" cy="120960"/>
                  <a:chOff x="5306040" y="1335240"/>
                  <a:chExt cx="115920" cy="120960"/>
                </a:xfrm>
              </p:grpSpPr>
              <p:sp>
                <p:nvSpPr>
                  <p:cNvPr id="2732" name=""/>
                  <p:cNvSpPr/>
                  <p:nvPr/>
                </p:nvSpPr>
                <p:spPr>
                  <a:xfrm rot="2443800">
                    <a:off x="5333760" y="13413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 flipV="1">
                    <a:off x="5354640" y="1375560"/>
                    <a:ext cx="1116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4" name=""/>
                  <p:cNvSpPr/>
                  <p:nvPr/>
                </p:nvSpPr>
                <p:spPr>
                  <a:xfrm flipV="1">
                    <a:off x="5361480" y="140976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 flipH="1" flipV="1">
                    <a:off x="5353200" y="1396440"/>
                    <a:ext cx="57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6" name=""/>
                  <p:cNvSpPr/>
                  <p:nvPr/>
                </p:nvSpPr>
                <p:spPr>
                  <a:xfrm flipV="1">
                    <a:off x="5365440" y="1384560"/>
                    <a:ext cx="32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7" name=""/>
                <p:cNvGrpSpPr/>
                <p:nvPr/>
              </p:nvGrpSpPr>
              <p:grpSpPr>
                <a:xfrm>
                  <a:off x="5207040" y="1164600"/>
                  <a:ext cx="115920" cy="120960"/>
                  <a:chOff x="5207040" y="1164600"/>
                  <a:chExt cx="115920" cy="120960"/>
                </a:xfrm>
              </p:grpSpPr>
              <p:sp>
                <p:nvSpPr>
                  <p:cNvPr id="2738" name=""/>
                  <p:cNvSpPr/>
                  <p:nvPr/>
                </p:nvSpPr>
                <p:spPr>
                  <a:xfrm rot="2443800">
                    <a:off x="5234760" y="11707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V="1">
                    <a:off x="5255640" y="1204920"/>
                    <a:ext cx="11160" cy="72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V="1">
                    <a:off x="5262480" y="123912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1" name=""/>
                  <p:cNvSpPr/>
                  <p:nvPr/>
                </p:nvSpPr>
                <p:spPr>
                  <a:xfrm flipH="1" flipV="1">
                    <a:off x="5253840" y="122544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 flipV="1">
                    <a:off x="5266440" y="121392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3" name=""/>
                <p:cNvGrpSpPr/>
                <p:nvPr/>
              </p:nvGrpSpPr>
              <p:grpSpPr>
                <a:xfrm>
                  <a:off x="5121360" y="1502640"/>
                  <a:ext cx="110880" cy="102960"/>
                  <a:chOff x="5121360" y="1502640"/>
                  <a:chExt cx="110880" cy="102960"/>
                </a:xfrm>
              </p:grpSpPr>
              <p:sp>
                <p:nvSpPr>
                  <p:cNvPr id="2744" name=""/>
                  <p:cNvSpPr/>
                  <p:nvPr/>
                </p:nvSpPr>
                <p:spPr>
                  <a:xfrm rot="17641800">
                    <a:off x="5140080" y="15094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5" name=""/>
                  <p:cNvSpPr/>
                  <p:nvPr/>
                </p:nvSpPr>
                <p:spPr>
                  <a:xfrm flipH="1">
                    <a:off x="5158080" y="1539000"/>
                    <a:ext cx="66600" cy="2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6" name=""/>
                  <p:cNvSpPr/>
                  <p:nvPr/>
                </p:nvSpPr>
                <p:spPr>
                  <a:xfrm flipH="1" flipV="1">
                    <a:off x="5187960" y="154332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 flipH="1">
                    <a:off x="5178240" y="1553400"/>
                    <a:ext cx="9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8" name=""/>
                  <p:cNvSpPr/>
                  <p:nvPr/>
                </p:nvSpPr>
                <p:spPr>
                  <a:xfrm flipH="1">
                    <a:off x="5166000" y="155340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9" name=""/>
                <p:cNvGrpSpPr/>
                <p:nvPr/>
              </p:nvGrpSpPr>
              <p:grpSpPr>
                <a:xfrm>
                  <a:off x="5086440" y="1455120"/>
                  <a:ext cx="100080" cy="87120"/>
                  <a:chOff x="5086440" y="1455120"/>
                  <a:chExt cx="100080" cy="87120"/>
                </a:xfrm>
              </p:grpSpPr>
              <p:sp>
                <p:nvSpPr>
                  <p:cNvPr id="2750" name=""/>
                  <p:cNvSpPr/>
                  <p:nvPr/>
                </p:nvSpPr>
                <p:spPr>
                  <a:xfrm rot="16802400">
                    <a:off x="5100120" y="1454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 flipH="1">
                    <a:off x="5120640" y="1472040"/>
                    <a:ext cx="59040" cy="38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 flipH="1">
                    <a:off x="5145120" y="1482840"/>
                    <a:ext cx="126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 flipH="1">
                    <a:off x="5140800" y="1495080"/>
                    <a:ext cx="64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 flipH="1">
                    <a:off x="5126400" y="1497960"/>
                    <a:ext cx="86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5" name=""/>
                <p:cNvGrpSpPr/>
                <p:nvPr/>
              </p:nvGrpSpPr>
              <p:grpSpPr>
                <a:xfrm>
                  <a:off x="5063760" y="1236240"/>
                  <a:ext cx="114840" cy="111960"/>
                  <a:chOff x="5063760" y="1236240"/>
                  <a:chExt cx="114840" cy="111960"/>
                </a:xfrm>
              </p:grpSpPr>
              <p:sp>
                <p:nvSpPr>
                  <p:cNvPr id="2756" name=""/>
                  <p:cNvSpPr/>
                  <p:nvPr/>
                </p:nvSpPr>
                <p:spPr>
                  <a:xfrm rot="18454200">
                    <a:off x="5084640" y="1247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7" name=""/>
                  <p:cNvSpPr/>
                  <p:nvPr/>
                </p:nvSpPr>
                <p:spPr>
                  <a:xfrm flipH="1">
                    <a:off x="5101200" y="1288440"/>
                    <a:ext cx="702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8" name=""/>
                  <p:cNvSpPr/>
                  <p:nvPr/>
                </p:nvSpPr>
                <p:spPr>
                  <a:xfrm flipH="1" flipV="1">
                    <a:off x="5134680" y="1284480"/>
                    <a:ext cx="122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 flipH="1">
                    <a:off x="5119920" y="1294200"/>
                    <a:ext cx="11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 flipH="1" flipV="1">
                    <a:off x="5110560" y="128988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1" name=""/>
                <p:cNvGrpSpPr/>
                <p:nvPr/>
              </p:nvGrpSpPr>
              <p:grpSpPr>
                <a:xfrm>
                  <a:off x="5034960" y="1301040"/>
                  <a:ext cx="107640" cy="97200"/>
                  <a:chOff x="5034960" y="1301040"/>
                  <a:chExt cx="107640" cy="97200"/>
                </a:xfrm>
              </p:grpSpPr>
              <p:sp>
                <p:nvSpPr>
                  <p:cNvPr id="2762" name=""/>
                  <p:cNvSpPr/>
                  <p:nvPr/>
                </p:nvSpPr>
                <p:spPr>
                  <a:xfrm rot="17325000">
                    <a:off x="5052240" y="1305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 flipH="1">
                    <a:off x="5070960" y="1329840"/>
                    <a:ext cx="6408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 flipH="1">
                    <a:off x="5098680" y="133740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 flipH="1">
                    <a:off x="5091120" y="1348200"/>
                    <a:ext cx="86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 flipH="1">
                    <a:off x="5078160" y="1348920"/>
                    <a:ext cx="9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7" name=""/>
                <p:cNvGrpSpPr/>
                <p:nvPr/>
              </p:nvGrpSpPr>
              <p:grpSpPr>
                <a:xfrm>
                  <a:off x="5093640" y="1328760"/>
                  <a:ext cx="112320" cy="105480"/>
                  <a:chOff x="5093640" y="1328760"/>
                  <a:chExt cx="112320" cy="105480"/>
                </a:xfrm>
              </p:grpSpPr>
              <p:sp>
                <p:nvSpPr>
                  <p:cNvPr id="2768" name=""/>
                  <p:cNvSpPr/>
                  <p:nvPr/>
                </p:nvSpPr>
                <p:spPr>
                  <a:xfrm rot="17845200">
                    <a:off x="5113440" y="13366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 flipH="1">
                    <a:off x="5131080" y="1368720"/>
                    <a:ext cx="676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0" name=""/>
                  <p:cNvSpPr/>
                  <p:nvPr/>
                </p:nvSpPr>
                <p:spPr>
                  <a:xfrm flipH="1" flipV="1">
                    <a:off x="5161680" y="13708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1" name=""/>
                  <p:cNvSpPr/>
                  <p:nvPr/>
                </p:nvSpPr>
                <p:spPr>
                  <a:xfrm flipH="1">
                    <a:off x="5150880" y="138096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 flipH="1">
                    <a:off x="5139360" y="1380240"/>
                    <a:ext cx="9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3" name=""/>
                <p:cNvGrpSpPr/>
                <p:nvPr/>
              </p:nvGrpSpPr>
              <p:grpSpPr>
                <a:xfrm>
                  <a:off x="5147640" y="1220400"/>
                  <a:ext cx="111240" cy="114480"/>
                  <a:chOff x="5147640" y="1220400"/>
                  <a:chExt cx="111240" cy="114480"/>
                </a:xfrm>
              </p:grpSpPr>
              <p:sp>
                <p:nvSpPr>
                  <p:cNvPr id="2774" name=""/>
                  <p:cNvSpPr/>
                  <p:nvPr/>
                </p:nvSpPr>
                <p:spPr>
                  <a:xfrm rot="19429200">
                    <a:off x="5166720" y="12330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5" name=""/>
                  <p:cNvSpPr/>
                  <p:nvPr/>
                </p:nvSpPr>
                <p:spPr>
                  <a:xfrm flipH="1" flipV="1">
                    <a:off x="5183640" y="1274760"/>
                    <a:ext cx="691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6" name=""/>
                  <p:cNvSpPr/>
                  <p:nvPr/>
                </p:nvSpPr>
                <p:spPr>
                  <a:xfrm flipH="1" flipV="1">
                    <a:off x="5218560" y="127368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 flipH="1">
                    <a:off x="5199480" y="1282680"/>
                    <a:ext cx="136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 flipH="1" flipV="1">
                    <a:off x="5194080" y="1272600"/>
                    <a:ext cx="828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9" name=""/>
                <p:cNvGrpSpPr/>
                <p:nvPr/>
              </p:nvGrpSpPr>
              <p:grpSpPr>
                <a:xfrm>
                  <a:off x="5259960" y="1342800"/>
                  <a:ext cx="63360" cy="110520"/>
                  <a:chOff x="5259960" y="1342800"/>
                  <a:chExt cx="63360" cy="110520"/>
                </a:xfrm>
              </p:grpSpPr>
              <p:sp>
                <p:nvSpPr>
                  <p:cNvPr id="2780" name=""/>
                  <p:cNvSpPr/>
                  <p:nvPr/>
                </p:nvSpPr>
                <p:spPr>
                  <a:xfrm rot="21480000">
                    <a:off x="5261760" y="13435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 flipV="1">
                    <a:off x="5279400" y="1381680"/>
                    <a:ext cx="4140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 flipV="1">
                    <a:off x="5304600" y="1405440"/>
                    <a:ext cx="39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 flipV="1">
                    <a:off x="5284440" y="1405800"/>
                    <a:ext cx="1188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 flipH="1" flipV="1">
                    <a:off x="5288040" y="1386360"/>
                    <a:ext cx="39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5" name=""/>
                <p:cNvGrpSpPr/>
                <p:nvPr/>
              </p:nvGrpSpPr>
              <p:grpSpPr>
                <a:xfrm>
                  <a:off x="5372280" y="1376640"/>
                  <a:ext cx="109080" cy="100080"/>
                  <a:chOff x="5372280" y="1376640"/>
                  <a:chExt cx="109080" cy="100080"/>
                </a:xfrm>
              </p:grpSpPr>
              <p:sp>
                <p:nvSpPr>
                  <p:cNvPr id="2786" name=""/>
                  <p:cNvSpPr/>
                  <p:nvPr/>
                </p:nvSpPr>
                <p:spPr>
                  <a:xfrm rot="6676200">
                    <a:off x="5390280" y="13820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 flipV="1">
                    <a:off x="5379840" y="1418400"/>
                    <a:ext cx="65160" cy="25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>
                    <a:off x="5403240" y="143820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 flipV="1">
                    <a:off x="5415840" y="1415880"/>
                    <a:ext cx="90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 flipV="1">
                    <a:off x="5428440" y="1425960"/>
                    <a:ext cx="90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1" name=""/>
                <p:cNvGrpSpPr/>
                <p:nvPr/>
              </p:nvGrpSpPr>
              <p:grpSpPr>
                <a:xfrm>
                  <a:off x="5358960" y="1472040"/>
                  <a:ext cx="110520" cy="102240"/>
                  <a:chOff x="5358960" y="1472040"/>
                  <a:chExt cx="110520" cy="102240"/>
                </a:xfrm>
              </p:grpSpPr>
              <p:sp>
                <p:nvSpPr>
                  <p:cNvPr id="2792" name=""/>
                  <p:cNvSpPr/>
                  <p:nvPr/>
                </p:nvSpPr>
                <p:spPr>
                  <a:xfrm rot="6796200">
                    <a:off x="5377680" y="1478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3" name=""/>
                  <p:cNvSpPr/>
                  <p:nvPr/>
                </p:nvSpPr>
                <p:spPr>
                  <a:xfrm flipV="1">
                    <a:off x="5366520" y="1515600"/>
                    <a:ext cx="6624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4" name=""/>
                  <p:cNvSpPr/>
                  <p:nvPr/>
                </p:nvSpPr>
                <p:spPr>
                  <a:xfrm>
                    <a:off x="5390280" y="153360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5" name=""/>
                  <p:cNvSpPr/>
                  <p:nvPr/>
                </p:nvSpPr>
                <p:spPr>
                  <a:xfrm flipV="1">
                    <a:off x="5403240" y="151236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6" name=""/>
                  <p:cNvSpPr/>
                  <p:nvPr/>
                </p:nvSpPr>
                <p:spPr>
                  <a:xfrm flipV="1">
                    <a:off x="5415840" y="1522800"/>
                    <a:ext cx="90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7" name=""/>
                <p:cNvGrpSpPr/>
                <p:nvPr/>
              </p:nvGrpSpPr>
              <p:grpSpPr>
                <a:xfrm>
                  <a:off x="5182200" y="1427400"/>
                  <a:ext cx="70920" cy="114120"/>
                  <a:chOff x="5182200" y="1427400"/>
                  <a:chExt cx="70920" cy="114120"/>
                </a:xfrm>
              </p:grpSpPr>
              <p:sp>
                <p:nvSpPr>
                  <p:cNvPr id="2798" name=""/>
                  <p:cNvSpPr/>
                  <p:nvPr/>
                </p:nvSpPr>
                <p:spPr>
                  <a:xfrm rot="369000">
                    <a:off x="5187600" y="14302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 flipH="1" flipV="1">
                    <a:off x="5207760" y="1466280"/>
                    <a:ext cx="3204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0" name=""/>
                  <p:cNvSpPr/>
                  <p:nvPr/>
                </p:nvSpPr>
                <p:spPr>
                  <a:xfrm flipH="1" flipV="1">
                    <a:off x="5229000" y="1493280"/>
                    <a:ext cx="2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1" name=""/>
                  <p:cNvSpPr/>
                  <p:nvPr/>
                </p:nvSpPr>
                <p:spPr>
                  <a:xfrm flipH="1" flipV="1">
                    <a:off x="5208840" y="1490760"/>
                    <a:ext cx="1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2" name=""/>
                  <p:cNvSpPr/>
                  <p:nvPr/>
                </p:nvSpPr>
                <p:spPr>
                  <a:xfrm flipH="1" flipV="1">
                    <a:off x="5215320" y="1472400"/>
                    <a:ext cx="25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3" name=""/>
                <p:cNvGrpSpPr/>
                <p:nvPr/>
              </p:nvGrpSpPr>
              <p:grpSpPr>
                <a:xfrm>
                  <a:off x="5109480" y="1354680"/>
                  <a:ext cx="79560" cy="94320"/>
                  <a:chOff x="5109480" y="1354680"/>
                  <a:chExt cx="79560" cy="94320"/>
                </a:xfrm>
              </p:grpSpPr>
              <p:sp>
                <p:nvSpPr>
                  <p:cNvPr id="2804" name=""/>
                  <p:cNvSpPr/>
                  <p:nvPr/>
                </p:nvSpPr>
                <p:spPr>
                  <a:xfrm rot="21334200">
                    <a:off x="5112720" y="13572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 flipH="1" flipV="1">
                    <a:off x="5133600" y="1389240"/>
                    <a:ext cx="5184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 flipH="1" flipV="1">
                    <a:off x="5163840" y="140652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7" name=""/>
                  <p:cNvSpPr/>
                  <p:nvPr/>
                </p:nvSpPr>
                <p:spPr>
                  <a:xfrm flipH="1" flipV="1">
                    <a:off x="5140080" y="1408680"/>
                    <a:ext cx="147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8" name=""/>
                  <p:cNvSpPr/>
                  <p:nvPr/>
                </p:nvSpPr>
                <p:spPr>
                  <a:xfrm flipH="1" flipV="1">
                    <a:off x="5143680" y="1392840"/>
                    <a:ext cx="50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9" name=""/>
                <p:cNvGrpSpPr/>
                <p:nvPr/>
              </p:nvGrpSpPr>
              <p:grpSpPr>
                <a:xfrm>
                  <a:off x="5079240" y="1243440"/>
                  <a:ext cx="83160" cy="97200"/>
                  <a:chOff x="5079240" y="1243440"/>
                  <a:chExt cx="83160" cy="97200"/>
                </a:xfrm>
              </p:grpSpPr>
              <p:sp>
                <p:nvSpPr>
                  <p:cNvPr id="2810" name=""/>
                  <p:cNvSpPr/>
                  <p:nvPr/>
                </p:nvSpPr>
                <p:spPr>
                  <a:xfrm rot="21174000">
                    <a:off x="5084280" y="124740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1" name=""/>
                  <p:cNvSpPr/>
                  <p:nvPr/>
                </p:nvSpPr>
                <p:spPr>
                  <a:xfrm flipH="1" flipV="1">
                    <a:off x="5104800" y="1280160"/>
                    <a:ext cx="54000" cy="45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 flipH="1" flipV="1">
                    <a:off x="5135760" y="129636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 flipH="1" flipV="1">
                    <a:off x="5112360" y="1299240"/>
                    <a:ext cx="147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4" name=""/>
                  <p:cNvSpPr/>
                  <p:nvPr/>
                </p:nvSpPr>
                <p:spPr>
                  <a:xfrm flipH="1" flipV="1">
                    <a:off x="5115240" y="1283400"/>
                    <a:ext cx="54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5" name=""/>
                <p:cNvGrpSpPr/>
                <p:nvPr/>
              </p:nvGrpSpPr>
              <p:grpSpPr>
                <a:xfrm>
                  <a:off x="5118120" y="1179000"/>
                  <a:ext cx="66240" cy="111600"/>
                  <a:chOff x="5118120" y="1179000"/>
                  <a:chExt cx="66240" cy="111600"/>
                </a:xfrm>
              </p:grpSpPr>
              <p:sp>
                <p:nvSpPr>
                  <p:cNvPr id="2816" name=""/>
                  <p:cNvSpPr/>
                  <p:nvPr/>
                </p:nvSpPr>
                <p:spPr>
                  <a:xfrm rot="205800">
                    <a:off x="5121000" y="11804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7" name=""/>
                  <p:cNvSpPr/>
                  <p:nvPr/>
                </p:nvSpPr>
                <p:spPr>
                  <a:xfrm flipH="1" flipV="1">
                    <a:off x="5140440" y="1217160"/>
                    <a:ext cx="3528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8" name=""/>
                  <p:cNvSpPr/>
                  <p:nvPr/>
                </p:nvSpPr>
                <p:spPr>
                  <a:xfrm flipH="1" flipV="1">
                    <a:off x="5163120" y="1243080"/>
                    <a:ext cx="2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 flipH="1" flipV="1">
                    <a:off x="5142960" y="124164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 flipH="1" flipV="1">
                    <a:off x="5148360" y="1222920"/>
                    <a:ext cx="32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1" name=""/>
              <p:cNvGrpSpPr/>
              <p:nvPr/>
            </p:nvGrpSpPr>
            <p:grpSpPr>
              <a:xfrm>
                <a:off x="4610160" y="1064520"/>
                <a:ext cx="511920" cy="432360"/>
                <a:chOff x="4610160" y="1064520"/>
                <a:chExt cx="511920" cy="432360"/>
              </a:xfrm>
            </p:grpSpPr>
            <p:grpSp>
              <p:nvGrpSpPr>
                <p:cNvPr id="2822" name=""/>
                <p:cNvGrpSpPr/>
                <p:nvPr/>
              </p:nvGrpSpPr>
              <p:grpSpPr>
                <a:xfrm>
                  <a:off x="4767840" y="1114560"/>
                  <a:ext cx="110520" cy="114480"/>
                  <a:chOff x="4767840" y="1114560"/>
                  <a:chExt cx="110520" cy="114480"/>
                </a:xfrm>
              </p:grpSpPr>
              <p:sp>
                <p:nvSpPr>
                  <p:cNvPr id="2823" name=""/>
                  <p:cNvSpPr/>
                  <p:nvPr/>
                </p:nvSpPr>
                <p:spPr>
                  <a:xfrm rot="2086800">
                    <a:off x="4786560" y="11271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4" name=""/>
                  <p:cNvSpPr/>
                  <p:nvPr/>
                </p:nvSpPr>
                <p:spPr>
                  <a:xfrm flipH="1" flipV="1">
                    <a:off x="4819320" y="1152360"/>
                    <a:ext cx="9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5" name=""/>
                  <p:cNvSpPr/>
                  <p:nvPr/>
                </p:nvSpPr>
                <p:spPr>
                  <a:xfrm flipV="1">
                    <a:off x="4828680" y="118512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 flipH="1" flipV="1">
                    <a:off x="4812120" y="1171440"/>
                    <a:ext cx="93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 flipV="1">
                    <a:off x="4824000" y="1161360"/>
                    <a:ext cx="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28" name=""/>
                <p:cNvSpPr/>
                <p:nvPr/>
              </p:nvSpPr>
              <p:spPr>
                <a:xfrm flipH="1">
                  <a:off x="4864680" y="1274040"/>
                  <a:ext cx="101160" cy="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rot="19871400">
                  <a:off x="4758120" y="1218600"/>
                  <a:ext cx="333360" cy="21096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 flipV="1">
                  <a:off x="4759200" y="1202400"/>
                  <a:ext cx="101160" cy="73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 flipV="1">
                  <a:off x="4938480" y="1196640"/>
                  <a:ext cx="164160" cy="131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4907160" y="1321200"/>
                  <a:ext cx="7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4899240" y="1286640"/>
                  <a:ext cx="428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 flipV="1">
                  <a:off x="4743360" y="1229760"/>
                  <a:ext cx="7020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 flipV="1">
                  <a:off x="4821480" y="1204920"/>
                  <a:ext cx="11520" cy="4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4763160" y="1301040"/>
                  <a:ext cx="1908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 flipV="1">
                  <a:off x="4899240" y="1236240"/>
                  <a:ext cx="120600" cy="26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 flipV="1">
                  <a:off x="4923000" y="1223280"/>
                  <a:ext cx="2700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 flipV="1">
                  <a:off x="5028120" y="1221480"/>
                  <a:ext cx="19800" cy="63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 flipV="1">
                  <a:off x="4942440" y="1175400"/>
                  <a:ext cx="2340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4985280" y="1297440"/>
                  <a:ext cx="3852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4809600" y="1289520"/>
                  <a:ext cx="27360" cy="33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 flipV="1">
                  <a:off x="4723560" y="1277280"/>
                  <a:ext cx="2736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44" name=""/>
                <p:cNvGrpSpPr/>
                <p:nvPr/>
              </p:nvGrpSpPr>
              <p:grpSpPr>
                <a:xfrm>
                  <a:off x="4710960" y="1109160"/>
                  <a:ext cx="60120" cy="108720"/>
                  <a:chOff x="4710960" y="1109160"/>
                  <a:chExt cx="60120" cy="108720"/>
                </a:xfrm>
              </p:grpSpPr>
              <p:sp>
                <p:nvSpPr>
                  <p:cNvPr id="2845" name=""/>
                  <p:cNvSpPr/>
                  <p:nvPr/>
                </p:nvSpPr>
                <p:spPr>
                  <a:xfrm rot="16800">
                    <a:off x="4710960" y="11091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H="1" flipV="1">
                    <a:off x="4728960" y="1146600"/>
                    <a:ext cx="3924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 flipH="1" flipV="1">
                    <a:off x="4753080" y="1171080"/>
                    <a:ext cx="36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 flipH="1" flipV="1">
                    <a:off x="4732920" y="1170720"/>
                    <a:ext cx="118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 flipV="1">
                    <a:off x="4737240" y="1151640"/>
                    <a:ext cx="36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0" name=""/>
                <p:cNvGrpSpPr/>
                <p:nvPr/>
              </p:nvGrpSpPr>
              <p:grpSpPr>
                <a:xfrm>
                  <a:off x="4793400" y="1229760"/>
                  <a:ext cx="122400" cy="113400"/>
                  <a:chOff x="4793400" y="1229760"/>
                  <a:chExt cx="122400" cy="113400"/>
                </a:xfrm>
              </p:grpSpPr>
              <p:sp>
                <p:nvSpPr>
                  <p:cNvPr id="2851" name=""/>
                  <p:cNvSpPr/>
                  <p:nvPr/>
                </p:nvSpPr>
                <p:spPr>
                  <a:xfrm rot="18458400">
                    <a:off x="4824360" y="123192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 flipH="1" flipV="1">
                    <a:off x="4834080" y="1285200"/>
                    <a:ext cx="73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 flipH="1" flipV="1">
                    <a:off x="4868280" y="1281240"/>
                    <a:ext cx="136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 flipH="1">
                    <a:off x="4855680" y="1290240"/>
                    <a:ext cx="108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 flipH="1" flipV="1">
                    <a:off x="4843080" y="1281960"/>
                    <a:ext cx="9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6" name=""/>
                <p:cNvGrpSpPr/>
                <p:nvPr/>
              </p:nvGrpSpPr>
              <p:grpSpPr>
                <a:xfrm>
                  <a:off x="4806000" y="1148400"/>
                  <a:ext cx="104760" cy="123840"/>
                  <a:chOff x="4806000" y="1148400"/>
                  <a:chExt cx="104760" cy="123840"/>
                </a:xfrm>
              </p:grpSpPr>
              <p:sp>
                <p:nvSpPr>
                  <p:cNvPr id="2857" name=""/>
                  <p:cNvSpPr/>
                  <p:nvPr/>
                </p:nvSpPr>
                <p:spPr>
                  <a:xfrm rot="19871400">
                    <a:off x="4828320" y="11559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 flipH="1" flipV="1">
                    <a:off x="4839840" y="1201320"/>
                    <a:ext cx="64440" cy="36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 flipH="1" flipV="1">
                    <a:off x="4872960" y="121104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 flipH="1">
                    <a:off x="4854960" y="121896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 flipH="1" flipV="1">
                    <a:off x="4849560" y="120168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2" name=""/>
                <p:cNvGrpSpPr/>
                <p:nvPr/>
              </p:nvGrpSpPr>
              <p:grpSpPr>
                <a:xfrm>
                  <a:off x="4793760" y="1360080"/>
                  <a:ext cx="114840" cy="111240"/>
                  <a:chOff x="4793760" y="1360080"/>
                  <a:chExt cx="114840" cy="111240"/>
                </a:xfrm>
              </p:grpSpPr>
              <p:sp>
                <p:nvSpPr>
                  <p:cNvPr id="2863" name=""/>
                  <p:cNvSpPr/>
                  <p:nvPr/>
                </p:nvSpPr>
                <p:spPr>
                  <a:xfrm rot="14040600">
                    <a:off x="4814640" y="13712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 flipH="1">
                    <a:off x="4848120" y="1366560"/>
                    <a:ext cx="1332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 flipH="1">
                    <a:off x="4847040" y="138996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4856040" y="1405800"/>
                    <a:ext cx="50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 flipH="1">
                    <a:off x="4845960" y="1416600"/>
                    <a:ext cx="36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8" name=""/>
                <p:cNvGrpSpPr/>
                <p:nvPr/>
              </p:nvGrpSpPr>
              <p:grpSpPr>
                <a:xfrm>
                  <a:off x="4630680" y="1189440"/>
                  <a:ext cx="104760" cy="123840"/>
                  <a:chOff x="4630680" y="1189440"/>
                  <a:chExt cx="104760" cy="123840"/>
                </a:xfrm>
              </p:grpSpPr>
              <p:sp>
                <p:nvSpPr>
                  <p:cNvPr id="2869" name=""/>
                  <p:cNvSpPr/>
                  <p:nvPr/>
                </p:nvSpPr>
                <p:spPr>
                  <a:xfrm rot="19871400">
                    <a:off x="4653000" y="11970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 flipH="1" flipV="1">
                    <a:off x="4664520" y="1242360"/>
                    <a:ext cx="64440" cy="36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 flipH="1" flipV="1">
                    <a:off x="4697280" y="125208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 flipH="1">
                    <a:off x="4679640" y="126000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 flipH="1" flipV="1">
                    <a:off x="4674240" y="124272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4" name=""/>
                <p:cNvGrpSpPr/>
                <p:nvPr/>
              </p:nvGrpSpPr>
              <p:grpSpPr>
                <a:xfrm>
                  <a:off x="4844880" y="1108080"/>
                  <a:ext cx="104760" cy="123840"/>
                  <a:chOff x="4844880" y="1108080"/>
                  <a:chExt cx="104760" cy="123840"/>
                </a:xfrm>
              </p:grpSpPr>
              <p:sp>
                <p:nvSpPr>
                  <p:cNvPr id="2875" name=""/>
                  <p:cNvSpPr/>
                  <p:nvPr/>
                </p:nvSpPr>
                <p:spPr>
                  <a:xfrm rot="19871400">
                    <a:off x="4867200" y="111564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 flipH="1" flipV="1">
                    <a:off x="4878720" y="1161000"/>
                    <a:ext cx="64440" cy="36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 flipH="1" flipV="1">
                    <a:off x="4911480" y="1170720"/>
                    <a:ext cx="100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>
                    <a:off x="4893840" y="117864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flipV="1">
                    <a:off x="4888440" y="116136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4650120" y="1141200"/>
                  <a:ext cx="104760" cy="123840"/>
                  <a:chOff x="4650120" y="1141200"/>
                  <a:chExt cx="104760" cy="12384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 rot="19871400">
                    <a:off x="4672440" y="11487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flipH="1" flipV="1">
                    <a:off x="4683960" y="1194120"/>
                    <a:ext cx="64440" cy="36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flipH="1" flipV="1">
                    <a:off x="4716720" y="1203840"/>
                    <a:ext cx="104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flipH="1">
                    <a:off x="4699080" y="1211760"/>
                    <a:ext cx="126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 flipH="1" flipV="1">
                    <a:off x="4693680" y="1194480"/>
                    <a:ext cx="7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6" name=""/>
                <p:cNvGrpSpPr/>
                <p:nvPr/>
              </p:nvGrpSpPr>
              <p:grpSpPr>
                <a:xfrm>
                  <a:off x="4922640" y="1343520"/>
                  <a:ext cx="114120" cy="114480"/>
                  <a:chOff x="4922640" y="1343520"/>
                  <a:chExt cx="114120" cy="114480"/>
                </a:xfrm>
              </p:grpSpPr>
              <p:sp>
                <p:nvSpPr>
                  <p:cNvPr id="2887" name=""/>
                  <p:cNvSpPr/>
                  <p:nvPr/>
                </p:nvSpPr>
                <p:spPr>
                  <a:xfrm rot="13469400">
                    <a:off x="4943160" y="1356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H="1">
                    <a:off x="4980240" y="1350360"/>
                    <a:ext cx="216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flipH="1">
                    <a:off x="4973760" y="1374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4983120" y="13899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 flipH="1">
                    <a:off x="4976280" y="1401840"/>
                    <a:ext cx="2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2" name=""/>
                <p:cNvGrpSpPr/>
                <p:nvPr/>
              </p:nvGrpSpPr>
              <p:grpSpPr>
                <a:xfrm>
                  <a:off x="4860000" y="1361880"/>
                  <a:ext cx="107640" cy="113400"/>
                  <a:chOff x="4860000" y="1361880"/>
                  <a:chExt cx="107640" cy="113400"/>
                </a:xfrm>
              </p:grpSpPr>
              <p:sp>
                <p:nvSpPr>
                  <p:cNvPr id="2893" name=""/>
                  <p:cNvSpPr/>
                  <p:nvPr/>
                </p:nvSpPr>
                <p:spPr>
                  <a:xfrm rot="12630000">
                    <a:off x="4877280" y="1373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4903920" y="1369080"/>
                    <a:ext cx="15120" cy="68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 flipH="1">
                    <a:off x="4904280" y="1393560"/>
                    <a:ext cx="1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4914360" y="1407600"/>
                    <a:ext cx="104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4912920" y="1419840"/>
                    <a:ext cx="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8" name=""/>
                <p:cNvGrpSpPr/>
                <p:nvPr/>
              </p:nvGrpSpPr>
              <p:grpSpPr>
                <a:xfrm>
                  <a:off x="4658040" y="1306800"/>
                  <a:ext cx="114120" cy="108720"/>
                  <a:chOff x="4658040" y="1306800"/>
                  <a:chExt cx="114120" cy="108720"/>
                </a:xfrm>
              </p:grpSpPr>
              <p:sp>
                <p:nvSpPr>
                  <p:cNvPr id="2899" name=""/>
                  <p:cNvSpPr/>
                  <p:nvPr/>
                </p:nvSpPr>
                <p:spPr>
                  <a:xfrm rot="14281800">
                    <a:off x="4678560" y="1316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 flipH="1">
                    <a:off x="4710600" y="1312920"/>
                    <a:ext cx="1836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 flipH="1">
                    <a:off x="4712400" y="133560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4720680" y="135180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 flipH="1">
                    <a:off x="4709160" y="1361880"/>
                    <a:ext cx="43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4" name=""/>
                <p:cNvGrpSpPr/>
                <p:nvPr/>
              </p:nvGrpSpPr>
              <p:grpSpPr>
                <a:xfrm>
                  <a:off x="4701240" y="1354320"/>
                  <a:ext cx="112320" cy="114840"/>
                  <a:chOff x="4701240" y="1354320"/>
                  <a:chExt cx="112320" cy="114840"/>
                </a:xfrm>
              </p:grpSpPr>
              <p:sp>
                <p:nvSpPr>
                  <p:cNvPr id="2905" name=""/>
                  <p:cNvSpPr/>
                  <p:nvPr/>
                </p:nvSpPr>
                <p:spPr>
                  <a:xfrm rot="13153200">
                    <a:off x="4720680" y="13669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>
                    <a:off x="4755240" y="1361160"/>
                    <a:ext cx="468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>
                    <a:off x="4749840" y="138564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>
                    <a:off x="4759560" y="1400760"/>
                    <a:ext cx="90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H="1">
                    <a:off x="4754880" y="1413000"/>
                    <a:ext cx="14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0" name=""/>
                <p:cNvGrpSpPr/>
                <p:nvPr/>
              </p:nvGrpSpPr>
              <p:grpSpPr>
                <a:xfrm>
                  <a:off x="4751280" y="1308600"/>
                  <a:ext cx="114480" cy="113400"/>
                  <a:chOff x="4751280" y="1308600"/>
                  <a:chExt cx="114480" cy="11340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 rot="13672800">
                    <a:off x="4771800" y="132048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 flipH="1">
                    <a:off x="4807800" y="1315080"/>
                    <a:ext cx="576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 flipH="1">
                    <a:off x="4803120" y="133920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4812120" y="1354680"/>
                    <a:ext cx="6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 flipH="1">
                    <a:off x="4804200" y="1366200"/>
                    <a:ext cx="28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6" name=""/>
                <p:cNvGrpSpPr/>
                <p:nvPr/>
              </p:nvGrpSpPr>
              <p:grpSpPr>
                <a:xfrm>
                  <a:off x="4677120" y="1232280"/>
                  <a:ext cx="105480" cy="93960"/>
                  <a:chOff x="4677120" y="1232280"/>
                  <a:chExt cx="105480" cy="93960"/>
                </a:xfrm>
              </p:grpSpPr>
              <p:sp>
                <p:nvSpPr>
                  <p:cNvPr id="2917" name=""/>
                  <p:cNvSpPr/>
                  <p:nvPr/>
                </p:nvSpPr>
                <p:spPr>
                  <a:xfrm rot="15256800">
                    <a:off x="4693320" y="12344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 flipH="1">
                    <a:off x="4720680" y="1236600"/>
                    <a:ext cx="36360" cy="60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 flipH="1">
                    <a:off x="4731840" y="12556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4738320" y="1271520"/>
                    <a:ext cx="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 flipH="1">
                    <a:off x="4722120" y="1279440"/>
                    <a:ext cx="6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2" name=""/>
                <p:cNvGrpSpPr/>
                <p:nvPr/>
              </p:nvGrpSpPr>
              <p:grpSpPr>
                <a:xfrm>
                  <a:off x="4812840" y="1192680"/>
                  <a:ext cx="121680" cy="90720"/>
                  <a:chOff x="4812840" y="1192680"/>
                  <a:chExt cx="121680" cy="90720"/>
                </a:xfrm>
              </p:grpSpPr>
              <p:sp>
                <p:nvSpPr>
                  <p:cNvPr id="2923" name=""/>
                  <p:cNvSpPr/>
                  <p:nvPr/>
                </p:nvSpPr>
                <p:spPr>
                  <a:xfrm rot="17308200">
                    <a:off x="4843800" y="118368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 flipH="1">
                    <a:off x="4854240" y="1226520"/>
                    <a:ext cx="720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5" name=""/>
                  <p:cNvSpPr/>
                  <p:nvPr/>
                </p:nvSpPr>
                <p:spPr>
                  <a:xfrm flipH="1" flipV="1">
                    <a:off x="4885200" y="1229040"/>
                    <a:ext cx="147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6" name=""/>
                  <p:cNvSpPr/>
                  <p:nvPr/>
                </p:nvSpPr>
                <p:spPr>
                  <a:xfrm flipH="1">
                    <a:off x="4878360" y="123804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 flipH="1">
                    <a:off x="4861800" y="1237320"/>
                    <a:ext cx="9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8" name=""/>
                <p:cNvGrpSpPr/>
                <p:nvPr/>
              </p:nvGrpSpPr>
              <p:grpSpPr>
                <a:xfrm>
                  <a:off x="4891320" y="1064520"/>
                  <a:ext cx="113400" cy="114840"/>
                  <a:chOff x="4891320" y="1064520"/>
                  <a:chExt cx="113400" cy="114840"/>
                </a:xfrm>
              </p:grpSpPr>
              <p:sp>
                <p:nvSpPr>
                  <p:cNvPr id="2929" name=""/>
                  <p:cNvSpPr/>
                  <p:nvPr/>
                </p:nvSpPr>
                <p:spPr>
                  <a:xfrm rot="2504400">
                    <a:off x="4911480" y="10771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 flipH="1" flipV="1">
                    <a:off x="4946400" y="1101600"/>
                    <a:ext cx="144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 flipV="1">
                    <a:off x="4950360" y="113580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 flipH="1" flipV="1">
                    <a:off x="4937040" y="111996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V="1">
                    <a:off x="4948920" y="1111320"/>
                    <a:ext cx="18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4" name=""/>
                <p:cNvGrpSpPr/>
                <p:nvPr/>
              </p:nvGrpSpPr>
              <p:grpSpPr>
                <a:xfrm>
                  <a:off x="4976640" y="1110240"/>
                  <a:ext cx="114120" cy="114480"/>
                  <a:chOff x="4976640" y="1110240"/>
                  <a:chExt cx="114120" cy="114480"/>
                </a:xfrm>
              </p:grpSpPr>
              <p:sp>
                <p:nvSpPr>
                  <p:cNvPr id="2935" name=""/>
                  <p:cNvSpPr/>
                  <p:nvPr/>
                </p:nvSpPr>
                <p:spPr>
                  <a:xfrm rot="2624400">
                    <a:off x="4997160" y="112284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 flipV="1">
                    <a:off x="5032080" y="1147320"/>
                    <a:ext cx="108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 flipV="1">
                    <a:off x="5035320" y="118152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 flipH="1" flipV="1">
                    <a:off x="5023080" y="1164960"/>
                    <a:ext cx="75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 flipV="1">
                    <a:off x="5034960" y="1157040"/>
                    <a:ext cx="21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0" name=""/>
                <p:cNvGrpSpPr/>
                <p:nvPr/>
              </p:nvGrpSpPr>
              <p:grpSpPr>
                <a:xfrm>
                  <a:off x="4867200" y="1287000"/>
                  <a:ext cx="123480" cy="101880"/>
                  <a:chOff x="4867200" y="1287000"/>
                  <a:chExt cx="123480" cy="101880"/>
                </a:xfrm>
              </p:grpSpPr>
              <p:sp>
                <p:nvSpPr>
                  <p:cNvPr id="2941" name=""/>
                  <p:cNvSpPr/>
                  <p:nvPr/>
                </p:nvSpPr>
                <p:spPr>
                  <a:xfrm rot="17797200">
                    <a:off x="4898880" y="128340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 flipH="1">
                    <a:off x="4908240" y="1333800"/>
                    <a:ext cx="738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 flipH="1" flipV="1">
                    <a:off x="4941000" y="1330200"/>
                    <a:ext cx="144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 flipH="1">
                    <a:off x="4931640" y="1339560"/>
                    <a:ext cx="97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 flipH="1" flipV="1">
                    <a:off x="4916520" y="1335960"/>
                    <a:ext cx="10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6" name=""/>
                <p:cNvGrpSpPr/>
                <p:nvPr/>
              </p:nvGrpSpPr>
              <p:grpSpPr>
                <a:xfrm>
                  <a:off x="4774680" y="1326240"/>
                  <a:ext cx="105480" cy="94320"/>
                  <a:chOff x="4774680" y="1326240"/>
                  <a:chExt cx="105480" cy="94320"/>
                </a:xfrm>
              </p:grpSpPr>
              <p:sp>
                <p:nvSpPr>
                  <p:cNvPr id="2947" name=""/>
                  <p:cNvSpPr/>
                  <p:nvPr/>
                </p:nvSpPr>
                <p:spPr>
                  <a:xfrm rot="17161800">
                    <a:off x="4790880" y="132876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 flipH="1">
                    <a:off x="4810320" y="1351440"/>
                    <a:ext cx="6264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 flipH="1">
                    <a:off x="4837320" y="136008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 flipH="1">
                    <a:off x="4830480" y="1371240"/>
                    <a:ext cx="7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 flipH="1">
                    <a:off x="4817160" y="1373040"/>
                    <a:ext cx="864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2" name=""/>
                <p:cNvGrpSpPr/>
                <p:nvPr/>
              </p:nvGrpSpPr>
              <p:grpSpPr>
                <a:xfrm>
                  <a:off x="4663080" y="1315440"/>
                  <a:ext cx="103320" cy="91440"/>
                  <a:chOff x="4663080" y="1315440"/>
                  <a:chExt cx="103320" cy="91440"/>
                </a:xfrm>
              </p:grpSpPr>
              <p:sp>
                <p:nvSpPr>
                  <p:cNvPr id="2953" name=""/>
                  <p:cNvSpPr/>
                  <p:nvPr/>
                </p:nvSpPr>
                <p:spPr>
                  <a:xfrm rot="17001600">
                    <a:off x="4678200" y="1316520"/>
                    <a:ext cx="727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 flipH="1">
                    <a:off x="4698000" y="1337400"/>
                    <a:ext cx="6120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 flipH="1">
                    <a:off x="4723920" y="134676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 flipH="1">
                    <a:off x="4718520" y="1358640"/>
                    <a:ext cx="72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 flipH="1">
                    <a:off x="4704480" y="1360800"/>
                    <a:ext cx="8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8" name=""/>
                <p:cNvGrpSpPr/>
                <p:nvPr/>
              </p:nvGrpSpPr>
              <p:grpSpPr>
                <a:xfrm>
                  <a:off x="4610160" y="1263600"/>
                  <a:ext cx="123120" cy="98640"/>
                  <a:chOff x="4610160" y="1263600"/>
                  <a:chExt cx="123120" cy="98640"/>
                </a:xfrm>
              </p:grpSpPr>
              <p:sp>
                <p:nvSpPr>
                  <p:cNvPr id="2959" name=""/>
                  <p:cNvSpPr/>
                  <p:nvPr/>
                </p:nvSpPr>
                <p:spPr>
                  <a:xfrm rot="17634600">
                    <a:off x="4641840" y="1258560"/>
                    <a:ext cx="5976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 flipH="1">
                    <a:off x="4651560" y="1306440"/>
                    <a:ext cx="730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 flipH="1" flipV="1">
                    <a:off x="4683600" y="1304640"/>
                    <a:ext cx="147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 flipH="1">
                    <a:off x="4675320" y="131400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 flipH="1" flipV="1">
                    <a:off x="4659480" y="1311480"/>
                    <a:ext cx="10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964" name=""/>
          <p:cNvSpPr/>
          <p:nvPr/>
        </p:nvSpPr>
        <p:spPr>
          <a:xfrm flipH="1">
            <a:off x="4932360" y="-171360"/>
            <a:ext cx="4392720" cy="28728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flipH="1">
            <a:off x="1618920" y="-171360"/>
            <a:ext cx="7705800" cy="158436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H="1">
            <a:off x="1402920" y="-171360"/>
            <a:ext cx="7921800" cy="324000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flipH="1">
            <a:off x="2555640" y="-171360"/>
            <a:ext cx="6769080" cy="388764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flipH="1">
            <a:off x="2987640" y="-171360"/>
            <a:ext cx="6337440" cy="79200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H="1">
            <a:off x="4211640" y="-171360"/>
            <a:ext cx="5113440" cy="547200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flipH="1">
            <a:off x="8101080" y="-171360"/>
            <a:ext cx="1224000" cy="583236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1" name=""/>
          <p:cNvGrpSpPr/>
          <p:nvPr/>
        </p:nvGrpSpPr>
        <p:grpSpPr>
          <a:xfrm>
            <a:off x="5219640" y="3284640"/>
            <a:ext cx="816120" cy="403200"/>
            <a:chOff x="5219640" y="3284640"/>
            <a:chExt cx="816120" cy="403200"/>
          </a:xfrm>
        </p:grpSpPr>
        <p:sp>
          <p:nvSpPr>
            <p:cNvPr id="2972" name=""/>
            <p:cNvSpPr/>
            <p:nvPr/>
          </p:nvSpPr>
          <p:spPr>
            <a:xfrm>
              <a:off x="5219640" y="3284640"/>
              <a:ext cx="816120" cy="403200"/>
            </a:xfrm>
            <a:custGeom>
              <a:avLst/>
              <a:gdLst/>
              <a:ahLst/>
              <a:rect l="l" t="t" r="r" b="b"/>
              <a:pathLst>
                <a:path w="604" h="298">
                  <a:moveTo>
                    <a:pt x="8" y="245"/>
                  </a:moveTo>
                  <a:cubicBezTo>
                    <a:pt x="0" y="238"/>
                    <a:pt x="48" y="225"/>
                    <a:pt x="48" y="202"/>
                  </a:cubicBezTo>
                  <a:cubicBezTo>
                    <a:pt x="48" y="179"/>
                    <a:pt x="0" y="117"/>
                    <a:pt x="8" y="109"/>
                  </a:cubicBezTo>
                  <a:cubicBezTo>
                    <a:pt x="16" y="101"/>
                    <a:pt x="75" y="162"/>
                    <a:pt x="98" y="155"/>
                  </a:cubicBezTo>
                  <a:cubicBezTo>
                    <a:pt x="121" y="148"/>
                    <a:pt x="128" y="66"/>
                    <a:pt x="144" y="64"/>
                  </a:cubicBezTo>
                  <a:cubicBezTo>
                    <a:pt x="160" y="62"/>
                    <a:pt x="176" y="138"/>
                    <a:pt x="192" y="145"/>
                  </a:cubicBezTo>
                  <a:cubicBezTo>
                    <a:pt x="208" y="152"/>
                    <a:pt x="236" y="133"/>
                    <a:pt x="242" y="109"/>
                  </a:cubicBezTo>
                  <a:cubicBezTo>
                    <a:pt x="248" y="85"/>
                    <a:pt x="218" y="0"/>
                    <a:pt x="228" y="1"/>
                  </a:cubicBezTo>
                  <a:cubicBezTo>
                    <a:pt x="238" y="2"/>
                    <a:pt x="269" y="111"/>
                    <a:pt x="300" y="116"/>
                  </a:cubicBezTo>
                  <a:cubicBezTo>
                    <a:pt x="331" y="121"/>
                    <a:pt x="397" y="27"/>
                    <a:pt x="415" y="29"/>
                  </a:cubicBezTo>
                  <a:cubicBezTo>
                    <a:pt x="433" y="31"/>
                    <a:pt x="383" y="113"/>
                    <a:pt x="408" y="130"/>
                  </a:cubicBezTo>
                  <a:cubicBezTo>
                    <a:pt x="433" y="147"/>
                    <a:pt x="550" y="118"/>
                    <a:pt x="566" y="130"/>
                  </a:cubicBezTo>
                  <a:cubicBezTo>
                    <a:pt x="582" y="142"/>
                    <a:pt x="501" y="181"/>
                    <a:pt x="506" y="200"/>
                  </a:cubicBezTo>
                  <a:cubicBezTo>
                    <a:pt x="511" y="219"/>
                    <a:pt x="604" y="238"/>
                    <a:pt x="597" y="245"/>
                  </a:cubicBezTo>
                  <a:cubicBezTo>
                    <a:pt x="590" y="252"/>
                    <a:pt x="491" y="252"/>
                    <a:pt x="461" y="245"/>
                  </a:cubicBezTo>
                  <a:cubicBezTo>
                    <a:pt x="431" y="238"/>
                    <a:pt x="423" y="192"/>
                    <a:pt x="416" y="200"/>
                  </a:cubicBezTo>
                  <a:cubicBezTo>
                    <a:pt x="409" y="208"/>
                    <a:pt x="431" y="284"/>
                    <a:pt x="416" y="291"/>
                  </a:cubicBezTo>
                  <a:cubicBezTo>
                    <a:pt x="401" y="298"/>
                    <a:pt x="355" y="253"/>
                    <a:pt x="325" y="245"/>
                  </a:cubicBezTo>
                  <a:cubicBezTo>
                    <a:pt x="295" y="237"/>
                    <a:pt x="272" y="245"/>
                    <a:pt x="234" y="245"/>
                  </a:cubicBezTo>
                  <a:cubicBezTo>
                    <a:pt x="196" y="245"/>
                    <a:pt x="136" y="245"/>
                    <a:pt x="98" y="245"/>
                  </a:cubicBezTo>
                  <a:cubicBezTo>
                    <a:pt x="60" y="245"/>
                    <a:pt x="24" y="251"/>
                    <a:pt x="8" y="24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5313960" y="3410280"/>
              <a:ext cx="47520" cy="15372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5501880" y="3368880"/>
              <a:ext cx="47520" cy="19548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H="1">
              <a:off x="5596560" y="3327120"/>
              <a:ext cx="47520" cy="19548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H="1">
              <a:off x="5690880" y="3368880"/>
              <a:ext cx="47520" cy="19548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H="1">
              <a:off x="5832360" y="3368880"/>
              <a:ext cx="47520" cy="19548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360760" y="3284640"/>
              <a:ext cx="47520" cy="27972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9" name=""/>
          <p:cNvGrpSpPr/>
          <p:nvPr/>
        </p:nvGrpSpPr>
        <p:grpSpPr>
          <a:xfrm>
            <a:off x="640800" y="808920"/>
            <a:ext cx="2768400" cy="4686120"/>
            <a:chOff x="640800" y="808920"/>
            <a:chExt cx="2768400" cy="4686120"/>
          </a:xfrm>
        </p:grpSpPr>
        <p:grpSp>
          <p:nvGrpSpPr>
            <p:cNvPr id="2980" name=""/>
            <p:cNvGrpSpPr/>
            <p:nvPr/>
          </p:nvGrpSpPr>
          <p:grpSpPr>
            <a:xfrm>
              <a:off x="2216160" y="808920"/>
              <a:ext cx="524880" cy="828360"/>
              <a:chOff x="2216160" y="808920"/>
              <a:chExt cx="524880" cy="828360"/>
            </a:xfrm>
          </p:grpSpPr>
          <p:grpSp>
            <p:nvGrpSpPr>
              <p:cNvPr id="2981" name=""/>
              <p:cNvGrpSpPr/>
              <p:nvPr/>
            </p:nvGrpSpPr>
            <p:grpSpPr>
              <a:xfrm>
                <a:off x="2520000" y="1121400"/>
                <a:ext cx="167400" cy="167400"/>
                <a:chOff x="2520000" y="1121400"/>
                <a:chExt cx="167400" cy="167400"/>
              </a:xfrm>
            </p:grpSpPr>
            <p:sp>
              <p:nvSpPr>
                <p:cNvPr id="2982" name=""/>
                <p:cNvSpPr/>
                <p:nvPr/>
              </p:nvSpPr>
              <p:spPr>
                <a:xfrm rot="8101200">
                  <a:off x="2563200" y="11268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2529720" y="1185120"/>
                  <a:ext cx="101880" cy="26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2566440" y="1198440"/>
                  <a:ext cx="1800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 flipV="1">
                  <a:off x="2587320" y="1190520"/>
                  <a:ext cx="1620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2605320" y="1207800"/>
                  <a:ext cx="1332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7" name=""/>
              <p:cNvSpPr/>
              <p:nvPr/>
            </p:nvSpPr>
            <p:spPr>
              <a:xfrm flipH="1" flipV="1">
                <a:off x="2370600" y="1176120"/>
                <a:ext cx="108720" cy="21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rot="4285800">
                <a:off x="2127240" y="1178280"/>
                <a:ext cx="585720" cy="23400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2478960" y="1085040"/>
                <a:ext cx="89280" cy="128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2413080" y="1380240"/>
                <a:ext cx="159480" cy="202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H="1" flipV="1">
                <a:off x="2376000" y="1248480"/>
                <a:ext cx="48600" cy="32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flipV="1">
                <a:off x="2458800" y="1269720"/>
                <a:ext cx="54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2514960" y="1045800"/>
                <a:ext cx="20880" cy="106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2505600" y="1180440"/>
                <a:ext cx="5832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 flipV="1">
                <a:off x="2394000" y="1019880"/>
                <a:ext cx="56160" cy="54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2491920" y="1297440"/>
                <a:ext cx="33120" cy="18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V="1">
                <a:off x="2513880" y="1341720"/>
                <a:ext cx="26640" cy="33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2466000" y="1513800"/>
                <a:ext cx="7524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2545920" y="1396800"/>
                <a:ext cx="50760" cy="1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 flipV="1">
                <a:off x="2403720" y="1387440"/>
                <a:ext cx="46800" cy="82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H="1" flipV="1">
                <a:off x="2423880" y="1108440"/>
                <a:ext cx="39240" cy="6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453040" y="990720"/>
                <a:ext cx="26280" cy="33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3" name=""/>
              <p:cNvGrpSpPr/>
              <p:nvPr/>
            </p:nvGrpSpPr>
            <p:grpSpPr>
              <a:xfrm>
                <a:off x="2546280" y="1012680"/>
                <a:ext cx="137520" cy="125280"/>
                <a:chOff x="2546280" y="1012680"/>
                <a:chExt cx="137520" cy="125280"/>
              </a:xfrm>
            </p:grpSpPr>
            <p:sp>
              <p:nvSpPr>
                <p:cNvPr id="3004" name=""/>
                <p:cNvSpPr/>
                <p:nvPr/>
              </p:nvSpPr>
              <p:spPr>
                <a:xfrm rot="6031200">
                  <a:off x="2562480" y="101520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flipV="1">
                  <a:off x="2556000" y="1058760"/>
                  <a:ext cx="8100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flipV="1">
                  <a:off x="2585880" y="1094400"/>
                  <a:ext cx="1692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flipV="1">
                  <a:off x="2600640" y="1060200"/>
                  <a:ext cx="900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2617560" y="1071000"/>
                  <a:ext cx="1152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9" name=""/>
              <p:cNvGrpSpPr/>
              <p:nvPr/>
            </p:nvGrpSpPr>
            <p:grpSpPr>
              <a:xfrm>
                <a:off x="2386800" y="1120320"/>
                <a:ext cx="159840" cy="158760"/>
                <a:chOff x="2386800" y="1120320"/>
                <a:chExt cx="159840" cy="158760"/>
              </a:xfrm>
            </p:grpSpPr>
            <p:sp>
              <p:nvSpPr>
                <p:cNvPr id="3010" name=""/>
                <p:cNvSpPr/>
                <p:nvPr/>
              </p:nvSpPr>
              <p:spPr>
                <a:xfrm rot="2872800">
                  <a:off x="2414160" y="113940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V="1">
                  <a:off x="2462040" y="1172160"/>
                  <a:ext cx="504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V="1">
                  <a:off x="2467800" y="1221120"/>
                  <a:ext cx="720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H="1" flipV="1">
                  <a:off x="2451600" y="1194840"/>
                  <a:ext cx="1008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V="1">
                  <a:off x="2468880" y="1185840"/>
                  <a:ext cx="324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5" name=""/>
              <p:cNvGrpSpPr/>
              <p:nvPr/>
            </p:nvGrpSpPr>
            <p:grpSpPr>
              <a:xfrm>
                <a:off x="2484000" y="1174320"/>
                <a:ext cx="147240" cy="137880"/>
                <a:chOff x="2484000" y="1174320"/>
                <a:chExt cx="147240" cy="137880"/>
              </a:xfrm>
            </p:grpSpPr>
            <p:sp>
              <p:nvSpPr>
                <p:cNvPr id="3016" name=""/>
                <p:cNvSpPr/>
                <p:nvPr/>
              </p:nvSpPr>
              <p:spPr>
                <a:xfrm rot="4285800">
                  <a:off x="2504880" y="118296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V="1">
                  <a:off x="2525040" y="1218240"/>
                  <a:ext cx="4320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 flipV="1">
                  <a:off x="2543400" y="126612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H="1" flipV="1">
                  <a:off x="2545560" y="123300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V="1">
                  <a:off x="2560320" y="1232640"/>
                  <a:ext cx="75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1" name=""/>
              <p:cNvGrpSpPr/>
              <p:nvPr/>
            </p:nvGrpSpPr>
            <p:grpSpPr>
              <a:xfrm>
                <a:off x="2242080" y="1042200"/>
                <a:ext cx="140400" cy="175680"/>
                <a:chOff x="2242080" y="1042200"/>
                <a:chExt cx="140400" cy="175680"/>
              </a:xfrm>
            </p:grpSpPr>
            <p:sp>
              <p:nvSpPr>
                <p:cNvPr id="3022" name=""/>
                <p:cNvSpPr/>
                <p:nvPr/>
              </p:nvSpPr>
              <p:spPr>
                <a:xfrm rot="20055000">
                  <a:off x="2271960" y="10515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H="1" flipV="1">
                  <a:off x="2287800" y="1114920"/>
                  <a:ext cx="87120" cy="57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 flipH="1" flipV="1">
                  <a:off x="2331720" y="1131840"/>
                  <a:ext cx="1332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 flipH="1">
                  <a:off x="2307240" y="1143000"/>
                  <a:ext cx="17280" cy="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H="1" flipV="1">
                  <a:off x="2300760" y="1116720"/>
                  <a:ext cx="1044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7" name=""/>
              <p:cNvGrpSpPr/>
              <p:nvPr/>
            </p:nvGrpSpPr>
            <p:grpSpPr>
              <a:xfrm>
                <a:off x="2437560" y="868320"/>
                <a:ext cx="147600" cy="137880"/>
                <a:chOff x="2437560" y="868320"/>
                <a:chExt cx="147600" cy="137880"/>
              </a:xfrm>
            </p:grpSpPr>
            <p:sp>
              <p:nvSpPr>
                <p:cNvPr id="3028" name=""/>
                <p:cNvSpPr/>
                <p:nvPr/>
              </p:nvSpPr>
              <p:spPr>
                <a:xfrm rot="4285800">
                  <a:off x="2458800" y="87696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V="1">
                  <a:off x="2478960" y="911880"/>
                  <a:ext cx="4392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V="1">
                  <a:off x="2497680" y="959760"/>
                  <a:ext cx="1260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H="1" flipV="1">
                  <a:off x="2499480" y="92664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V="1">
                  <a:off x="2514240" y="926280"/>
                  <a:ext cx="75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3" name=""/>
              <p:cNvGrpSpPr/>
              <p:nvPr/>
            </p:nvGrpSpPr>
            <p:grpSpPr>
              <a:xfrm>
                <a:off x="2530440" y="1257480"/>
                <a:ext cx="147600" cy="137880"/>
                <a:chOff x="2530440" y="1257480"/>
                <a:chExt cx="147600" cy="137880"/>
              </a:xfrm>
            </p:grpSpPr>
            <p:sp>
              <p:nvSpPr>
                <p:cNvPr id="3034" name=""/>
                <p:cNvSpPr/>
                <p:nvPr/>
              </p:nvSpPr>
              <p:spPr>
                <a:xfrm rot="4285800">
                  <a:off x="2551680" y="126612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V="1">
                  <a:off x="2571840" y="1301400"/>
                  <a:ext cx="43920" cy="87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V="1">
                  <a:off x="2590200" y="134928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 flipV="1">
                  <a:off x="2592360" y="131580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 flipV="1">
                  <a:off x="2607120" y="1315800"/>
                  <a:ext cx="75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9" name=""/>
              <p:cNvGrpSpPr/>
              <p:nvPr/>
            </p:nvGrpSpPr>
            <p:grpSpPr>
              <a:xfrm>
                <a:off x="2494440" y="923400"/>
                <a:ext cx="147240" cy="137880"/>
                <a:chOff x="2494440" y="923400"/>
                <a:chExt cx="147240" cy="137880"/>
              </a:xfrm>
            </p:grpSpPr>
            <p:sp>
              <p:nvSpPr>
                <p:cNvPr id="3040" name=""/>
                <p:cNvSpPr/>
                <p:nvPr/>
              </p:nvSpPr>
              <p:spPr>
                <a:xfrm rot="4285800">
                  <a:off x="2515320" y="93204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V="1">
                  <a:off x="2535480" y="967680"/>
                  <a:ext cx="43560" cy="87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V="1">
                  <a:off x="2554200" y="101520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 flipV="1">
                  <a:off x="2556360" y="98208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V="1">
                  <a:off x="2570760" y="981720"/>
                  <a:ext cx="79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5" name=""/>
              <p:cNvGrpSpPr/>
              <p:nvPr/>
            </p:nvGrpSpPr>
            <p:grpSpPr>
              <a:xfrm>
                <a:off x="2250360" y="1260360"/>
                <a:ext cx="155880" cy="173880"/>
                <a:chOff x="2250360" y="1260360"/>
                <a:chExt cx="155880" cy="173880"/>
              </a:xfrm>
            </p:grpSpPr>
            <p:sp>
              <p:nvSpPr>
                <p:cNvPr id="3046" name=""/>
                <p:cNvSpPr/>
                <p:nvPr/>
              </p:nvSpPr>
              <p:spPr>
                <a:xfrm rot="19484400">
                  <a:off x="2287800" y="12690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 flipV="1">
                  <a:off x="2301840" y="1336680"/>
                  <a:ext cx="9576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 flipV="1">
                  <a:off x="2347920" y="1346400"/>
                  <a:ext cx="1584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2325960" y="1358280"/>
                  <a:ext cx="1692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 flipV="1">
                  <a:off x="2314800" y="1336320"/>
                  <a:ext cx="1188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1" name=""/>
              <p:cNvGrpSpPr/>
              <p:nvPr/>
            </p:nvGrpSpPr>
            <p:grpSpPr>
              <a:xfrm>
                <a:off x="2222640" y="1148760"/>
                <a:ext cx="171000" cy="163080"/>
                <a:chOff x="2222640" y="1148760"/>
                <a:chExt cx="171000" cy="163080"/>
              </a:xfrm>
            </p:grpSpPr>
            <p:sp>
              <p:nvSpPr>
                <p:cNvPr id="3052" name=""/>
                <p:cNvSpPr/>
                <p:nvPr/>
              </p:nvSpPr>
              <p:spPr>
                <a:xfrm rot="18645000">
                  <a:off x="2267640" y="11520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 flipV="1">
                  <a:off x="2279520" y="1226160"/>
                  <a:ext cx="1033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 flipV="1">
                  <a:off x="2326680" y="1224720"/>
                  <a:ext cx="1908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H="1">
                  <a:off x="2309040" y="1237320"/>
                  <a:ext cx="1548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H="1" flipV="1">
                  <a:off x="2292120" y="1222920"/>
                  <a:ext cx="1368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2313720" y="847080"/>
                <a:ext cx="132840" cy="174960"/>
                <a:chOff x="2313720" y="847080"/>
                <a:chExt cx="132840" cy="174960"/>
              </a:xfrm>
            </p:grpSpPr>
            <p:sp>
              <p:nvSpPr>
                <p:cNvPr id="3058" name=""/>
                <p:cNvSpPr/>
                <p:nvPr/>
              </p:nvSpPr>
              <p:spPr>
                <a:xfrm rot="20296200">
                  <a:off x="2339640" y="8564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 flipH="1" flipV="1">
                  <a:off x="2356560" y="918000"/>
                  <a:ext cx="83160" cy="64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 flipH="1" flipV="1">
                  <a:off x="2399400" y="938160"/>
                  <a:ext cx="1224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 flipH="1" flipV="1">
                  <a:off x="2374200" y="948240"/>
                  <a:ext cx="1728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 flipH="1" flipV="1">
                  <a:off x="2369520" y="920520"/>
                  <a:ext cx="972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3" name=""/>
              <p:cNvGrpSpPr/>
              <p:nvPr/>
            </p:nvGrpSpPr>
            <p:grpSpPr>
              <a:xfrm>
                <a:off x="2237400" y="893880"/>
                <a:ext cx="162720" cy="171360"/>
                <a:chOff x="2237400" y="893880"/>
                <a:chExt cx="162720" cy="171360"/>
              </a:xfrm>
            </p:grpSpPr>
            <p:sp>
              <p:nvSpPr>
                <p:cNvPr id="3064" name=""/>
                <p:cNvSpPr/>
                <p:nvPr/>
              </p:nvSpPr>
              <p:spPr>
                <a:xfrm rot="19168200">
                  <a:off x="2278440" y="9014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 flipH="1" flipV="1">
                  <a:off x="2291400" y="971280"/>
                  <a:ext cx="9900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 flipH="1" flipV="1">
                  <a:off x="2338200" y="976680"/>
                  <a:ext cx="1692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 flipH="1">
                  <a:off x="2317680" y="988920"/>
                  <a:ext cx="165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 flipH="1" flipV="1">
                  <a:off x="2304360" y="969480"/>
                  <a:ext cx="126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9" name=""/>
              <p:cNvGrpSpPr/>
              <p:nvPr/>
            </p:nvGrpSpPr>
            <p:grpSpPr>
              <a:xfrm>
                <a:off x="2298240" y="997560"/>
                <a:ext cx="150840" cy="175320"/>
                <a:chOff x="2298240" y="997560"/>
                <a:chExt cx="150840" cy="175320"/>
              </a:xfrm>
            </p:grpSpPr>
            <p:sp>
              <p:nvSpPr>
                <p:cNvPr id="3070" name=""/>
                <p:cNvSpPr/>
                <p:nvPr/>
              </p:nvSpPr>
              <p:spPr>
                <a:xfrm rot="19687800">
                  <a:off x="2333160" y="100692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 flipH="1" flipV="1">
                  <a:off x="2347560" y="1072440"/>
                  <a:ext cx="9288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 flipH="1" flipV="1">
                  <a:off x="2393280" y="1085040"/>
                  <a:ext cx="1512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 flipH="1">
                  <a:off x="2370240" y="1096560"/>
                  <a:ext cx="169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 flipH="1" flipV="1">
                  <a:off x="2360520" y="1072800"/>
                  <a:ext cx="1152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2430000" y="918720"/>
                <a:ext cx="95040" cy="163080"/>
                <a:chOff x="2430000" y="918720"/>
                <a:chExt cx="95040" cy="163080"/>
              </a:xfrm>
            </p:grpSpPr>
            <p:sp>
              <p:nvSpPr>
                <p:cNvPr id="3076" name=""/>
                <p:cNvSpPr/>
                <p:nvPr/>
              </p:nvSpPr>
              <p:spPr>
                <a:xfrm rot="21271200">
                  <a:off x="2437200" y="9219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H="1" flipV="1">
                  <a:off x="2459880" y="977760"/>
                  <a:ext cx="61560" cy="8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H="1" flipV="1">
                  <a:off x="2495160" y="1009080"/>
                  <a:ext cx="6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 flipH="1" flipV="1">
                  <a:off x="2468160" y="1011600"/>
                  <a:ext cx="165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 flipH="1" flipV="1">
                  <a:off x="2471400" y="983880"/>
                  <a:ext cx="612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1" name=""/>
              <p:cNvGrpSpPr/>
              <p:nvPr/>
            </p:nvGrpSpPr>
            <p:grpSpPr>
              <a:xfrm>
                <a:off x="2448720" y="1176840"/>
                <a:ext cx="149760" cy="155520"/>
                <a:chOff x="2448720" y="1176840"/>
                <a:chExt cx="149760" cy="155520"/>
              </a:xfrm>
            </p:grpSpPr>
            <p:sp>
              <p:nvSpPr>
                <p:cNvPr id="3082" name=""/>
                <p:cNvSpPr/>
                <p:nvPr/>
              </p:nvSpPr>
              <p:spPr>
                <a:xfrm rot="1722000">
                  <a:off x="2471040" y="119448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H="1" flipV="1">
                  <a:off x="2514600" y="1229400"/>
                  <a:ext cx="27360" cy="9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flipV="1">
                  <a:off x="2536560" y="1272600"/>
                  <a:ext cx="14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flipH="1" flipV="1">
                  <a:off x="2507760" y="1255320"/>
                  <a:ext cx="1548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 flipH="1" flipV="1">
                  <a:off x="2523960" y="1240200"/>
                  <a:ext cx="72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7" name=""/>
              <p:cNvGrpSpPr/>
              <p:nvPr/>
            </p:nvGrpSpPr>
            <p:grpSpPr>
              <a:xfrm>
                <a:off x="2581200" y="1346760"/>
                <a:ext cx="159840" cy="172800"/>
                <a:chOff x="2581200" y="1346760"/>
                <a:chExt cx="159840" cy="172800"/>
              </a:xfrm>
            </p:grpSpPr>
            <p:sp>
              <p:nvSpPr>
                <p:cNvPr id="3088" name=""/>
                <p:cNvSpPr/>
                <p:nvPr/>
              </p:nvSpPr>
              <p:spPr>
                <a:xfrm rot="8518800">
                  <a:off x="2620800" y="13550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2590560" y="1404360"/>
                  <a:ext cx="9756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2625120" y="1422360"/>
                  <a:ext cx="165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 flipV="1">
                  <a:off x="2646360" y="1418760"/>
                  <a:ext cx="1656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2662920" y="1436040"/>
                  <a:ext cx="122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3" name=""/>
              <p:cNvGrpSpPr/>
              <p:nvPr/>
            </p:nvGrpSpPr>
            <p:grpSpPr>
              <a:xfrm>
                <a:off x="2527200" y="1463400"/>
                <a:ext cx="156960" cy="173880"/>
                <a:chOff x="2527200" y="1463400"/>
                <a:chExt cx="156960" cy="173880"/>
              </a:xfrm>
            </p:grpSpPr>
            <p:sp>
              <p:nvSpPr>
                <p:cNvPr id="3094" name=""/>
                <p:cNvSpPr/>
                <p:nvPr/>
              </p:nvSpPr>
              <p:spPr>
                <a:xfrm rot="8638800">
                  <a:off x="2565000" y="14720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2535840" y="1519200"/>
                  <a:ext cx="96480" cy="41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2569680" y="1537920"/>
                  <a:ext cx="1620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V="1">
                  <a:off x="2590920" y="1535760"/>
                  <a:ext cx="1692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2607120" y="1553400"/>
                  <a:ext cx="122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9" name=""/>
              <p:cNvGrpSpPr/>
              <p:nvPr/>
            </p:nvGrpSpPr>
            <p:grpSpPr>
              <a:xfrm>
                <a:off x="2325960" y="1215360"/>
                <a:ext cx="156240" cy="159120"/>
                <a:chOff x="2325960" y="1215360"/>
                <a:chExt cx="156240" cy="159120"/>
              </a:xfrm>
            </p:grpSpPr>
            <p:sp>
              <p:nvSpPr>
                <p:cNvPr id="3100" name=""/>
                <p:cNvSpPr/>
                <p:nvPr/>
              </p:nvSpPr>
              <p:spPr>
                <a:xfrm rot="2211600">
                  <a:off x="2351160" y="123480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 flipH="1" flipV="1">
                  <a:off x="2399040" y="1267920"/>
                  <a:ext cx="13680" cy="9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V="1">
                  <a:off x="2412000" y="1314360"/>
                  <a:ext cx="396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 flipH="1" flipV="1">
                  <a:off x="2388240" y="1293120"/>
                  <a:ext cx="1296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 flipV="1">
                  <a:off x="2405520" y="1280160"/>
                  <a:ext cx="72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5" name=""/>
              <p:cNvGrpSpPr/>
              <p:nvPr/>
            </p:nvGrpSpPr>
            <p:grpSpPr>
              <a:xfrm>
                <a:off x="2292840" y="1024560"/>
                <a:ext cx="141480" cy="175680"/>
                <a:chOff x="2292840" y="1024560"/>
                <a:chExt cx="141480" cy="175680"/>
              </a:xfrm>
            </p:grpSpPr>
            <p:sp>
              <p:nvSpPr>
                <p:cNvPr id="3106" name=""/>
                <p:cNvSpPr/>
                <p:nvPr/>
              </p:nvSpPr>
              <p:spPr>
                <a:xfrm rot="1576200">
                  <a:off x="2323080" y="103428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 flipH="1" flipV="1">
                  <a:off x="2360160" y="1083960"/>
                  <a:ext cx="7920" cy="10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 flipV="1">
                  <a:off x="2369160" y="1129320"/>
                  <a:ext cx="468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 flipH="1" flipV="1">
                  <a:off x="2349360" y="1117440"/>
                  <a:ext cx="111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flipV="1">
                  <a:off x="2365200" y="1095480"/>
                  <a:ext cx="144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1" name=""/>
              <p:cNvGrpSpPr/>
              <p:nvPr/>
            </p:nvGrpSpPr>
            <p:grpSpPr>
              <a:xfrm>
                <a:off x="2311920" y="846720"/>
                <a:ext cx="136440" cy="175320"/>
                <a:chOff x="2311920" y="846720"/>
                <a:chExt cx="136440" cy="175320"/>
              </a:xfrm>
            </p:grpSpPr>
            <p:sp>
              <p:nvSpPr>
                <p:cNvPr id="3112" name=""/>
                <p:cNvSpPr/>
                <p:nvPr/>
              </p:nvSpPr>
              <p:spPr>
                <a:xfrm rot="1416000">
                  <a:off x="2339640" y="85608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flipH="1" flipV="1">
                  <a:off x="2375640" y="906120"/>
                  <a:ext cx="12600" cy="10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 flipV="1">
                  <a:off x="2387520" y="950760"/>
                  <a:ext cx="36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 flipH="1" flipV="1">
                  <a:off x="2366280" y="939960"/>
                  <a:ext cx="118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 flipV="1">
                  <a:off x="2381760" y="917280"/>
                  <a:ext cx="7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7" name=""/>
              <p:cNvGrpSpPr/>
              <p:nvPr/>
            </p:nvGrpSpPr>
            <p:grpSpPr>
              <a:xfrm>
                <a:off x="2361240" y="808920"/>
                <a:ext cx="154440" cy="158040"/>
                <a:chOff x="2361240" y="808920"/>
                <a:chExt cx="154440" cy="158040"/>
              </a:xfrm>
            </p:grpSpPr>
            <p:sp>
              <p:nvSpPr>
                <p:cNvPr id="3118" name=""/>
                <p:cNvSpPr/>
                <p:nvPr/>
              </p:nvSpPr>
              <p:spPr>
                <a:xfrm rot="2048400">
                  <a:off x="2385720" y="82800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 flipH="1" flipV="1">
                  <a:off x="2431800" y="861840"/>
                  <a:ext cx="18360" cy="9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 flipV="1">
                  <a:off x="2448000" y="907200"/>
                  <a:ext cx="32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H="1" flipV="1">
                  <a:off x="2422440" y="887040"/>
                  <a:ext cx="1404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 flipV="1">
                  <a:off x="2439720" y="873360"/>
                  <a:ext cx="36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3" name=""/>
            <p:cNvGrpSpPr/>
            <p:nvPr/>
          </p:nvGrpSpPr>
          <p:grpSpPr>
            <a:xfrm>
              <a:off x="640800" y="1051920"/>
              <a:ext cx="2768400" cy="4443120"/>
              <a:chOff x="640800" y="1051920"/>
              <a:chExt cx="2768400" cy="4443120"/>
            </a:xfrm>
          </p:grpSpPr>
          <p:sp>
            <p:nvSpPr>
              <p:cNvPr id="3124" name=""/>
              <p:cNvSpPr/>
              <p:nvPr/>
            </p:nvSpPr>
            <p:spPr>
              <a:xfrm>
                <a:off x="1173240" y="1422000"/>
                <a:ext cx="1578960" cy="407304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5" name=""/>
              <p:cNvGrpSpPr/>
              <p:nvPr/>
            </p:nvGrpSpPr>
            <p:grpSpPr>
              <a:xfrm>
                <a:off x="1451520" y="3354480"/>
                <a:ext cx="735840" cy="609480"/>
                <a:chOff x="1451520" y="3354480"/>
                <a:chExt cx="735840" cy="609480"/>
              </a:xfrm>
            </p:grpSpPr>
            <p:grpSp>
              <p:nvGrpSpPr>
                <p:cNvPr id="3126" name=""/>
                <p:cNvGrpSpPr/>
                <p:nvPr/>
              </p:nvGrpSpPr>
              <p:grpSpPr>
                <a:xfrm>
                  <a:off x="1749600" y="3433320"/>
                  <a:ext cx="163800" cy="150480"/>
                  <a:chOff x="1749600" y="3433320"/>
                  <a:chExt cx="163800" cy="150480"/>
                </a:xfrm>
              </p:grpSpPr>
              <p:sp>
                <p:nvSpPr>
                  <p:cNvPr id="3127" name=""/>
                  <p:cNvSpPr/>
                  <p:nvPr/>
                </p:nvSpPr>
                <p:spPr>
                  <a:xfrm rot="3815400">
                    <a:off x="1780200" y="3442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 flipV="1">
                    <a:off x="1802520" y="348156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 flipV="1">
                    <a:off x="1820160" y="353124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 flipH="1" flipV="1">
                    <a:off x="1817640" y="350100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 flipV="1">
                    <a:off x="1834200" y="349668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32" name=""/>
                <p:cNvSpPr/>
                <p:nvPr/>
              </p:nvSpPr>
              <p:spPr>
                <a:xfrm flipH="1">
                  <a:off x="1746000" y="373068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1607400" y="361692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 flipH="1" flipV="1">
                  <a:off x="1726200" y="350316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 flipH="1" flipV="1">
                  <a:off x="1964160" y="361692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H="1">
                  <a:off x="1805400" y="375372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H="1" flipV="1">
                  <a:off x="1844640" y="370800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H="1" flipV="1">
                  <a:off x="1685880" y="352548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V="1">
                  <a:off x="1785600" y="354816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H="1">
                  <a:off x="1626840" y="363996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H="1" flipV="1">
                  <a:off x="1884960" y="363996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 flipH="1" flipV="1">
                  <a:off x="1924560" y="363960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V="1">
                  <a:off x="2043360" y="370800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V="1">
                  <a:off x="1983960" y="359388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 flipH="1">
                  <a:off x="1924200" y="379908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 flipH="1">
                  <a:off x="1706040" y="366228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 flipH="1" flipV="1">
                  <a:off x="1626480" y="357120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8" name=""/>
                <p:cNvGrpSpPr/>
                <p:nvPr/>
              </p:nvGrpSpPr>
              <p:grpSpPr>
                <a:xfrm>
                  <a:off x="1654920" y="3354480"/>
                  <a:ext cx="151560" cy="176040"/>
                  <a:chOff x="1654920" y="3354480"/>
                  <a:chExt cx="151560" cy="176040"/>
                </a:xfrm>
              </p:grpSpPr>
              <p:sp>
                <p:nvSpPr>
                  <p:cNvPr id="3149" name=""/>
                  <p:cNvSpPr/>
                  <p:nvPr/>
                </p:nvSpPr>
                <p:spPr>
                  <a:xfrm rot="1745400">
                    <a:off x="1685880" y="3366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 flipH="1" flipV="1">
                    <a:off x="1726560" y="341388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 flipV="1">
                    <a:off x="1736640" y="34606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 flipH="1" flipV="1">
                    <a:off x="1715400" y="344592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 flipV="1">
                    <a:off x="1732680" y="342540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4" name=""/>
                <p:cNvGrpSpPr/>
                <p:nvPr/>
              </p:nvGrpSpPr>
              <p:grpSpPr>
                <a:xfrm>
                  <a:off x="1719720" y="3582720"/>
                  <a:ext cx="142200" cy="174960"/>
                  <a:chOff x="1719720" y="3582720"/>
                  <a:chExt cx="142200" cy="174960"/>
                </a:xfrm>
              </p:grpSpPr>
              <p:sp>
                <p:nvSpPr>
                  <p:cNvPr id="3155" name=""/>
                  <p:cNvSpPr/>
                  <p:nvPr/>
                </p:nvSpPr>
                <p:spPr>
                  <a:xfrm rot="20187000">
                    <a:off x="1746360" y="35942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 flipH="1" flipV="1">
                    <a:off x="1765440" y="365616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 flipH="1" flipV="1">
                    <a:off x="1811880" y="367272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 flipH="1">
                    <a:off x="1784160" y="368352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 flipH="1" flipV="1">
                    <a:off x="1779480" y="365688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0" name=""/>
                <p:cNvGrpSpPr/>
                <p:nvPr/>
              </p:nvGrpSpPr>
              <p:grpSpPr>
                <a:xfrm>
                  <a:off x="1805760" y="3503160"/>
                  <a:ext cx="88920" cy="151920"/>
                  <a:chOff x="1805760" y="3503160"/>
                  <a:chExt cx="88920" cy="151920"/>
                </a:xfrm>
              </p:grpSpPr>
              <p:sp>
                <p:nvSpPr>
                  <p:cNvPr id="3161" name=""/>
                  <p:cNvSpPr/>
                  <p:nvPr/>
                </p:nvSpPr>
                <p:spPr>
                  <a:xfrm>
                    <a:off x="1805760" y="3503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 flipH="1" flipV="1">
                    <a:off x="1832760" y="35560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 flipH="1" flipV="1">
                    <a:off x="1868400" y="3589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 flipH="1" flipV="1">
                    <a:off x="1838520" y="3589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 flipH="1" flipV="1">
                    <a:off x="1845000" y="35625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6" name=""/>
                <p:cNvGrpSpPr/>
                <p:nvPr/>
              </p:nvGrpSpPr>
              <p:grpSpPr>
                <a:xfrm>
                  <a:off x="1621080" y="3768480"/>
                  <a:ext cx="143640" cy="118080"/>
                  <a:chOff x="1621080" y="3768480"/>
                  <a:chExt cx="143640" cy="118080"/>
                </a:xfrm>
              </p:grpSpPr>
              <p:sp>
                <p:nvSpPr>
                  <p:cNvPr id="3167" name=""/>
                  <p:cNvSpPr/>
                  <p:nvPr/>
                </p:nvSpPr>
                <p:spPr>
                  <a:xfrm rot="15769200">
                    <a:off x="1641600" y="3761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 flipH="1">
                    <a:off x="1675080" y="377388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 flipH="1">
                    <a:off x="1699200" y="379692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 flipH="1">
                    <a:off x="1703520" y="381852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 flipH="1">
                    <a:off x="1679400" y="382752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2" name=""/>
                <p:cNvGrpSpPr/>
                <p:nvPr/>
              </p:nvGrpSpPr>
              <p:grpSpPr>
                <a:xfrm>
                  <a:off x="1547640" y="3435120"/>
                  <a:ext cx="88920" cy="151920"/>
                  <a:chOff x="1547640" y="3435120"/>
                  <a:chExt cx="88920" cy="151920"/>
                </a:xfrm>
              </p:grpSpPr>
              <p:sp>
                <p:nvSpPr>
                  <p:cNvPr id="3173" name=""/>
                  <p:cNvSpPr/>
                  <p:nvPr/>
                </p:nvSpPr>
                <p:spPr>
                  <a:xfrm>
                    <a:off x="1547640" y="3435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 flipH="1" flipV="1">
                    <a:off x="1574640" y="34880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 flipH="1" flipV="1">
                    <a:off x="1610280" y="35218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 flipH="1" flipV="1">
                    <a:off x="1580400" y="35215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 flipH="1" flipV="1">
                    <a:off x="1586880" y="34945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8" name=""/>
                <p:cNvGrpSpPr/>
                <p:nvPr/>
              </p:nvGrpSpPr>
              <p:grpSpPr>
                <a:xfrm>
                  <a:off x="1884960" y="3480120"/>
                  <a:ext cx="88920" cy="151920"/>
                  <a:chOff x="1884960" y="3480120"/>
                  <a:chExt cx="88920" cy="151920"/>
                </a:xfrm>
              </p:grpSpPr>
              <p:sp>
                <p:nvSpPr>
                  <p:cNvPr id="3179" name=""/>
                  <p:cNvSpPr/>
                  <p:nvPr/>
                </p:nvSpPr>
                <p:spPr>
                  <a:xfrm>
                    <a:off x="1884960" y="3480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 flipH="1" flipV="1">
                    <a:off x="1911960" y="35330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 flipH="1" flipV="1">
                    <a:off x="1947600" y="35668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 flipH="1" flipV="1">
                    <a:off x="1917720" y="35665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 flipH="1" flipV="1">
                    <a:off x="1924200" y="35395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4" name=""/>
                <p:cNvGrpSpPr/>
                <p:nvPr/>
              </p:nvGrpSpPr>
              <p:grpSpPr>
                <a:xfrm>
                  <a:off x="1607400" y="3389400"/>
                  <a:ext cx="88920" cy="151920"/>
                  <a:chOff x="1607400" y="3389400"/>
                  <a:chExt cx="88920" cy="151920"/>
                </a:xfrm>
              </p:grpSpPr>
              <p:sp>
                <p:nvSpPr>
                  <p:cNvPr id="3185" name=""/>
                  <p:cNvSpPr/>
                  <p:nvPr/>
                </p:nvSpPr>
                <p:spPr>
                  <a:xfrm>
                    <a:off x="1607400" y="3389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 flipH="1" flipV="1">
                    <a:off x="1634400" y="34423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 flipH="1" flipV="1">
                    <a:off x="1670040" y="34761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 flipH="1" flipV="1">
                    <a:off x="1640160" y="34758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 flipH="1" flipV="1">
                    <a:off x="1646640" y="34488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0" name=""/>
                <p:cNvGrpSpPr/>
                <p:nvPr/>
              </p:nvGrpSpPr>
              <p:grpSpPr>
                <a:xfrm>
                  <a:off x="1793880" y="3828240"/>
                  <a:ext cx="156240" cy="135720"/>
                  <a:chOff x="1793880" y="3828240"/>
                  <a:chExt cx="156240" cy="135720"/>
                </a:xfrm>
              </p:grpSpPr>
              <p:sp>
                <p:nvSpPr>
                  <p:cNvPr id="3191" name=""/>
                  <p:cNvSpPr/>
                  <p:nvPr/>
                </p:nvSpPr>
                <p:spPr>
                  <a:xfrm rot="15198000">
                    <a:off x="1820520" y="3829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 flipH="1">
                    <a:off x="1857960" y="383472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 flipH="1">
                    <a:off x="1874160" y="386208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>
                    <a:off x="1883880" y="388476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 flipH="1">
                    <a:off x="1860120" y="389628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6" name=""/>
                <p:cNvGrpSpPr/>
                <p:nvPr/>
              </p:nvGrpSpPr>
              <p:grpSpPr>
                <a:xfrm>
                  <a:off x="1689480" y="3795480"/>
                  <a:ext cx="165960" cy="155520"/>
                  <a:chOff x="1689480" y="3795480"/>
                  <a:chExt cx="165960" cy="155520"/>
                </a:xfrm>
              </p:grpSpPr>
              <p:sp>
                <p:nvSpPr>
                  <p:cNvPr id="3197" name=""/>
                  <p:cNvSpPr/>
                  <p:nvPr/>
                </p:nvSpPr>
                <p:spPr>
                  <a:xfrm rot="14358600">
                    <a:off x="1721160" y="3807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flipH="1">
                    <a:off x="1765080" y="380412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flipH="1">
                    <a:off x="1769400" y="38361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>
                    <a:off x="1781640" y="385920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 flipH="1">
                    <a:off x="1763280" y="387432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2" name=""/>
                <p:cNvGrpSpPr/>
                <p:nvPr/>
              </p:nvGrpSpPr>
              <p:grpSpPr>
                <a:xfrm>
                  <a:off x="1485720" y="3613320"/>
                  <a:ext cx="137520" cy="109440"/>
                  <a:chOff x="1485720" y="3613320"/>
                  <a:chExt cx="137520" cy="109440"/>
                </a:xfrm>
              </p:grpSpPr>
              <p:sp>
                <p:nvSpPr>
                  <p:cNvPr id="3203" name=""/>
                  <p:cNvSpPr/>
                  <p:nvPr/>
                </p:nvSpPr>
                <p:spPr>
                  <a:xfrm rot="16010400">
                    <a:off x="1503360" y="3601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4" name=""/>
                  <p:cNvSpPr/>
                  <p:nvPr/>
                </p:nvSpPr>
                <p:spPr>
                  <a:xfrm flipH="1">
                    <a:off x="1535400" y="361800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 flipH="1">
                    <a:off x="1562400" y="363924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 flipH="1">
                    <a:off x="1564560" y="3660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 flipH="1">
                    <a:off x="1540800" y="366768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8" name=""/>
                <p:cNvGrpSpPr/>
                <p:nvPr/>
              </p:nvGrpSpPr>
              <p:grpSpPr>
                <a:xfrm>
                  <a:off x="1493640" y="3686760"/>
                  <a:ext cx="160560" cy="144360"/>
                  <a:chOff x="1493640" y="3686760"/>
                  <a:chExt cx="160560" cy="144360"/>
                </a:xfrm>
              </p:grpSpPr>
              <p:sp>
                <p:nvSpPr>
                  <p:cNvPr id="3209" name=""/>
                  <p:cNvSpPr/>
                  <p:nvPr/>
                </p:nvSpPr>
                <p:spPr>
                  <a:xfrm rot="14881800">
                    <a:off x="1522800" y="3692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 flipH="1">
                    <a:off x="1562760" y="369432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 flipH="1">
                    <a:off x="1574280" y="37238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1585080" y="374688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 flipH="1">
                    <a:off x="1563120" y="375984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4" name=""/>
                <p:cNvGrpSpPr/>
                <p:nvPr/>
              </p:nvGrpSpPr>
              <p:grpSpPr>
                <a:xfrm>
                  <a:off x="1597680" y="3670920"/>
                  <a:ext cx="151920" cy="129960"/>
                  <a:chOff x="1597680" y="3670920"/>
                  <a:chExt cx="151920" cy="129960"/>
                </a:xfrm>
              </p:grpSpPr>
              <p:sp>
                <p:nvSpPr>
                  <p:cNvPr id="3215" name=""/>
                  <p:cNvSpPr/>
                  <p:nvPr/>
                </p:nvSpPr>
                <p:spPr>
                  <a:xfrm rot="15401400">
                    <a:off x="1622160" y="3669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 flipH="1">
                    <a:off x="1658160" y="367740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 flipH="1">
                    <a:off x="1677240" y="370332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 flipH="1">
                    <a:off x="1685520" y="372564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 flipH="1">
                    <a:off x="1661040" y="373644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0" name=""/>
                <p:cNvGrpSpPr/>
                <p:nvPr/>
              </p:nvGrpSpPr>
              <p:grpSpPr>
                <a:xfrm>
                  <a:off x="1557720" y="3512160"/>
                  <a:ext cx="151920" cy="129600"/>
                  <a:chOff x="1557720" y="3512160"/>
                  <a:chExt cx="151920" cy="129600"/>
                </a:xfrm>
              </p:grpSpPr>
              <p:sp>
                <p:nvSpPr>
                  <p:cNvPr id="3221" name=""/>
                  <p:cNvSpPr/>
                  <p:nvPr/>
                </p:nvSpPr>
                <p:spPr>
                  <a:xfrm rot="16985400">
                    <a:off x="1582200" y="3510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 flipH="1">
                    <a:off x="1609200" y="354384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 flipH="1">
                    <a:off x="1646640" y="35564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 flipH="1">
                    <a:off x="1639440" y="357336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 flipH="1">
                    <a:off x="1618200" y="357588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6" name=""/>
                <p:cNvGrpSpPr/>
                <p:nvPr/>
              </p:nvGrpSpPr>
              <p:grpSpPr>
                <a:xfrm>
                  <a:off x="1765800" y="3538080"/>
                  <a:ext cx="168480" cy="172080"/>
                  <a:chOff x="1765800" y="3538080"/>
                  <a:chExt cx="168480" cy="172080"/>
                </a:xfrm>
              </p:grpSpPr>
              <p:sp>
                <p:nvSpPr>
                  <p:cNvPr id="3227" name=""/>
                  <p:cNvSpPr/>
                  <p:nvPr/>
                </p:nvSpPr>
                <p:spPr>
                  <a:xfrm rot="19036200">
                    <a:off x="1805400" y="3548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H="1" flipV="1">
                    <a:off x="1821600" y="361944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 flipH="1" flipV="1">
                    <a:off x="1870920" y="361980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H="1">
                    <a:off x="1848600" y="3633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 flipH="1" flipV="1">
                    <a:off x="1835280" y="361584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2" name=""/>
                <p:cNvGrpSpPr/>
                <p:nvPr/>
              </p:nvGrpSpPr>
              <p:grpSpPr>
                <a:xfrm>
                  <a:off x="1950840" y="3461040"/>
                  <a:ext cx="158760" cy="140400"/>
                  <a:chOff x="1950840" y="3461040"/>
                  <a:chExt cx="158760" cy="140400"/>
                </a:xfrm>
              </p:grpSpPr>
              <p:sp>
                <p:nvSpPr>
                  <p:cNvPr id="3233" name=""/>
                  <p:cNvSpPr/>
                  <p:nvPr/>
                </p:nvSpPr>
                <p:spPr>
                  <a:xfrm rot="4233000">
                    <a:off x="1978920" y="3465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 flipV="1">
                    <a:off x="1993320" y="350568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 flipV="1">
                    <a:off x="2014560" y="355392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 flipH="1" flipV="1">
                    <a:off x="2017080" y="352224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 flipV="1">
                    <a:off x="2032920" y="352080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8" name=""/>
                <p:cNvGrpSpPr/>
                <p:nvPr/>
              </p:nvGrpSpPr>
              <p:grpSpPr>
                <a:xfrm>
                  <a:off x="2030760" y="3576960"/>
                  <a:ext cx="156600" cy="137160"/>
                  <a:chOff x="2030760" y="3576960"/>
                  <a:chExt cx="156600" cy="137160"/>
                </a:xfrm>
              </p:grpSpPr>
              <p:sp>
                <p:nvSpPr>
                  <p:cNvPr id="3239" name=""/>
                  <p:cNvSpPr/>
                  <p:nvPr/>
                </p:nvSpPr>
                <p:spPr>
                  <a:xfrm rot="4353000">
                    <a:off x="2057760" y="3579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 flipV="1">
                    <a:off x="2069640" y="362016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 flipV="1">
                    <a:off x="2091960" y="36680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 flipH="1" flipV="1">
                    <a:off x="2096280" y="363564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V="1">
                    <a:off x="2111760" y="363528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4" name=""/>
                <p:cNvGrpSpPr/>
                <p:nvPr/>
              </p:nvGrpSpPr>
              <p:grpSpPr>
                <a:xfrm>
                  <a:off x="1770480" y="3696120"/>
                  <a:ext cx="159480" cy="175320"/>
                  <a:chOff x="1770480" y="3696120"/>
                  <a:chExt cx="159480" cy="175320"/>
                </a:xfrm>
              </p:grpSpPr>
              <p:sp>
                <p:nvSpPr>
                  <p:cNvPr id="3245" name=""/>
                  <p:cNvSpPr/>
                  <p:nvPr/>
                </p:nvSpPr>
                <p:spPr>
                  <a:xfrm rot="19525800">
                    <a:off x="1805400" y="3707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 flipH="1" flipV="1">
                    <a:off x="1822680" y="377496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 flipH="1" flipV="1">
                    <a:off x="1871280" y="378252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 flipH="1">
                    <a:off x="1846440" y="37947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 flipH="1" flipV="1">
                    <a:off x="1836360" y="377316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0" name=""/>
                <p:cNvGrpSpPr/>
                <p:nvPr/>
              </p:nvGrpSpPr>
              <p:grpSpPr>
                <a:xfrm>
                  <a:off x="1609920" y="3676680"/>
                  <a:ext cx="165600" cy="165600"/>
                  <a:chOff x="1609920" y="3676680"/>
                  <a:chExt cx="165600" cy="165600"/>
                </a:xfrm>
              </p:grpSpPr>
              <p:sp>
                <p:nvSpPr>
                  <p:cNvPr id="3251" name=""/>
                  <p:cNvSpPr/>
                  <p:nvPr/>
                </p:nvSpPr>
                <p:spPr>
                  <a:xfrm rot="18890400">
                    <a:off x="1641600" y="3693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 flipH="1" flipV="1">
                    <a:off x="1664280" y="375912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 flipH="1" flipV="1">
                    <a:off x="1713960" y="375084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 flipH="1">
                    <a:off x="1690200" y="376452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H="1" flipV="1">
                    <a:off x="1678320" y="375372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6" name=""/>
                <p:cNvGrpSpPr/>
                <p:nvPr/>
              </p:nvGrpSpPr>
              <p:grpSpPr>
                <a:xfrm>
                  <a:off x="1471320" y="3585960"/>
                  <a:ext cx="166680" cy="164160"/>
                  <a:chOff x="1471320" y="3585960"/>
                  <a:chExt cx="166680" cy="164160"/>
                </a:xfrm>
              </p:grpSpPr>
              <p:sp>
                <p:nvSpPr>
                  <p:cNvPr id="3257" name=""/>
                  <p:cNvSpPr/>
                  <p:nvPr/>
                </p:nvSpPr>
                <p:spPr>
                  <a:xfrm rot="18730200">
                    <a:off x="1503360" y="3601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 flipH="1" flipV="1">
                    <a:off x="1526040" y="366948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 flipH="1" flipV="1">
                    <a:off x="1575000" y="3658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 flipH="1">
                    <a:off x="1552680" y="36727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1" name=""/>
                  <p:cNvSpPr/>
                  <p:nvPr/>
                </p:nvSpPr>
                <p:spPr>
                  <a:xfrm flipH="1" flipV="1">
                    <a:off x="1540080" y="366300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2" name=""/>
                <p:cNvGrpSpPr/>
                <p:nvPr/>
              </p:nvGrpSpPr>
              <p:grpSpPr>
                <a:xfrm>
                  <a:off x="1451520" y="3491640"/>
                  <a:ext cx="162720" cy="174960"/>
                  <a:chOff x="1451520" y="3491640"/>
                  <a:chExt cx="162720" cy="174960"/>
                </a:xfrm>
              </p:grpSpPr>
              <p:sp>
                <p:nvSpPr>
                  <p:cNvPr id="3263" name=""/>
                  <p:cNvSpPr/>
                  <p:nvPr/>
                </p:nvSpPr>
                <p:spPr>
                  <a:xfrm rot="19362600">
                    <a:off x="1488240" y="3503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 flipH="1" flipV="1">
                    <a:off x="1505160" y="357120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 flipH="1" flipV="1">
                    <a:off x="1554120" y="357660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 flipH="1">
                    <a:off x="1530000" y="35892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 flipH="1" flipV="1">
                    <a:off x="1518840" y="356904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68" name=""/>
              <p:cNvGrpSpPr/>
              <p:nvPr/>
            </p:nvGrpSpPr>
            <p:grpSpPr>
              <a:xfrm>
                <a:off x="647280" y="1537200"/>
                <a:ext cx="735840" cy="609480"/>
                <a:chOff x="647280" y="1537200"/>
                <a:chExt cx="735840" cy="609480"/>
              </a:xfrm>
            </p:grpSpPr>
            <p:grpSp>
              <p:nvGrpSpPr>
                <p:cNvPr id="3269" name=""/>
                <p:cNvGrpSpPr/>
                <p:nvPr/>
              </p:nvGrpSpPr>
              <p:grpSpPr>
                <a:xfrm>
                  <a:off x="945360" y="1616040"/>
                  <a:ext cx="163800" cy="150480"/>
                  <a:chOff x="945360" y="1616040"/>
                  <a:chExt cx="163800" cy="150480"/>
                </a:xfrm>
              </p:grpSpPr>
              <p:sp>
                <p:nvSpPr>
                  <p:cNvPr id="3270" name=""/>
                  <p:cNvSpPr/>
                  <p:nvPr/>
                </p:nvSpPr>
                <p:spPr>
                  <a:xfrm rot="3815400">
                    <a:off x="975960" y="1625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V="1">
                    <a:off x="998280" y="166428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V="1">
                    <a:off x="1015920" y="17139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 flipH="1" flipV="1">
                    <a:off x="1013400" y="168372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 flipV="1">
                    <a:off x="1029960" y="167940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75" name=""/>
                <p:cNvSpPr/>
                <p:nvPr/>
              </p:nvSpPr>
              <p:spPr>
                <a:xfrm flipH="1">
                  <a:off x="941760" y="191340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803160" y="179964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 flipH="1" flipV="1">
                  <a:off x="921960" y="168588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 flipH="1" flipV="1">
                  <a:off x="1159920" y="179964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H="1">
                  <a:off x="1001160" y="193644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H="1" flipV="1">
                  <a:off x="1040400" y="189072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 flipH="1" flipV="1">
                  <a:off x="881640" y="170820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 flipV="1">
                  <a:off x="981360" y="173088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 flipH="1">
                  <a:off x="822600" y="182268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 flipH="1" flipV="1">
                  <a:off x="1080720" y="182268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 flipH="1" flipV="1">
                  <a:off x="1120320" y="182232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 flipV="1">
                  <a:off x="1239120" y="189072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 flipV="1">
                  <a:off x="1179720" y="177660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 flipH="1">
                  <a:off x="1119960" y="198180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 flipH="1">
                  <a:off x="901800" y="184500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 flipH="1" flipV="1">
                  <a:off x="822240" y="175392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91" name=""/>
                <p:cNvGrpSpPr/>
                <p:nvPr/>
              </p:nvGrpSpPr>
              <p:grpSpPr>
                <a:xfrm>
                  <a:off x="850680" y="1537200"/>
                  <a:ext cx="151560" cy="176040"/>
                  <a:chOff x="850680" y="1537200"/>
                  <a:chExt cx="151560" cy="176040"/>
                </a:xfrm>
              </p:grpSpPr>
              <p:sp>
                <p:nvSpPr>
                  <p:cNvPr id="3292" name=""/>
                  <p:cNvSpPr/>
                  <p:nvPr/>
                </p:nvSpPr>
                <p:spPr>
                  <a:xfrm rot="1745400">
                    <a:off x="881640" y="1549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 flipH="1" flipV="1">
                    <a:off x="922320" y="159660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 flipV="1">
                    <a:off x="932400" y="16434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 flipH="1" flipV="1">
                    <a:off x="911160" y="16286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 flipV="1">
                    <a:off x="928440" y="16081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7" name=""/>
                <p:cNvGrpSpPr/>
                <p:nvPr/>
              </p:nvGrpSpPr>
              <p:grpSpPr>
                <a:xfrm>
                  <a:off x="915480" y="1765440"/>
                  <a:ext cx="142200" cy="174960"/>
                  <a:chOff x="915480" y="1765440"/>
                  <a:chExt cx="142200" cy="174960"/>
                </a:xfrm>
              </p:grpSpPr>
              <p:sp>
                <p:nvSpPr>
                  <p:cNvPr id="3298" name=""/>
                  <p:cNvSpPr/>
                  <p:nvPr/>
                </p:nvSpPr>
                <p:spPr>
                  <a:xfrm rot="20187000">
                    <a:off x="942120" y="1776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 flipH="1" flipV="1">
                    <a:off x="961200" y="183888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 flipH="1" flipV="1">
                    <a:off x="1007640" y="18554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H="1">
                    <a:off x="979920" y="186624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 flipH="1" flipV="1">
                    <a:off x="975240" y="18396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3" name=""/>
                <p:cNvGrpSpPr/>
                <p:nvPr/>
              </p:nvGrpSpPr>
              <p:grpSpPr>
                <a:xfrm>
                  <a:off x="1001520" y="1685880"/>
                  <a:ext cx="88920" cy="151920"/>
                  <a:chOff x="1001520" y="1685880"/>
                  <a:chExt cx="88920" cy="151920"/>
                </a:xfrm>
              </p:grpSpPr>
              <p:sp>
                <p:nvSpPr>
                  <p:cNvPr id="3304" name=""/>
                  <p:cNvSpPr/>
                  <p:nvPr/>
                </p:nvSpPr>
                <p:spPr>
                  <a:xfrm>
                    <a:off x="1001520" y="1685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 flipH="1" flipV="1">
                    <a:off x="1028520" y="1738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 flipH="1" flipV="1">
                    <a:off x="1064160" y="1772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 flipH="1" flipV="1">
                    <a:off x="1034280" y="1772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 flipH="1" flipV="1">
                    <a:off x="1040760" y="1745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9" name=""/>
                <p:cNvGrpSpPr/>
                <p:nvPr/>
              </p:nvGrpSpPr>
              <p:grpSpPr>
                <a:xfrm>
                  <a:off x="816840" y="1951200"/>
                  <a:ext cx="143640" cy="118080"/>
                  <a:chOff x="816840" y="1951200"/>
                  <a:chExt cx="143640" cy="118080"/>
                </a:xfrm>
              </p:grpSpPr>
              <p:sp>
                <p:nvSpPr>
                  <p:cNvPr id="3310" name=""/>
                  <p:cNvSpPr/>
                  <p:nvPr/>
                </p:nvSpPr>
                <p:spPr>
                  <a:xfrm rot="15769200">
                    <a:off x="837360" y="1944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 flipH="1">
                    <a:off x="870840" y="195660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 flipH="1">
                    <a:off x="894960" y="197964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 flipH="1">
                    <a:off x="899280" y="200124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 flipH="1">
                    <a:off x="875160" y="201024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5" name=""/>
                <p:cNvGrpSpPr/>
                <p:nvPr/>
              </p:nvGrpSpPr>
              <p:grpSpPr>
                <a:xfrm>
                  <a:off x="743400" y="1617840"/>
                  <a:ext cx="88920" cy="151920"/>
                  <a:chOff x="743400" y="1617840"/>
                  <a:chExt cx="88920" cy="151920"/>
                </a:xfrm>
              </p:grpSpPr>
              <p:sp>
                <p:nvSpPr>
                  <p:cNvPr id="3316" name=""/>
                  <p:cNvSpPr/>
                  <p:nvPr/>
                </p:nvSpPr>
                <p:spPr>
                  <a:xfrm>
                    <a:off x="743400" y="1617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 flipH="1" flipV="1">
                    <a:off x="770400" y="1670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H="1" flipV="1">
                    <a:off x="806040" y="1704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H="1" flipV="1">
                    <a:off x="776160" y="1704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 flipH="1" flipV="1">
                    <a:off x="782640" y="1677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1" name=""/>
                <p:cNvGrpSpPr/>
                <p:nvPr/>
              </p:nvGrpSpPr>
              <p:grpSpPr>
                <a:xfrm>
                  <a:off x="1080720" y="1662840"/>
                  <a:ext cx="88920" cy="151920"/>
                  <a:chOff x="1080720" y="1662840"/>
                  <a:chExt cx="88920" cy="151920"/>
                </a:xfrm>
              </p:grpSpPr>
              <p:sp>
                <p:nvSpPr>
                  <p:cNvPr id="3322" name=""/>
                  <p:cNvSpPr/>
                  <p:nvPr/>
                </p:nvSpPr>
                <p:spPr>
                  <a:xfrm>
                    <a:off x="1080720" y="1662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 flipH="1" flipV="1">
                    <a:off x="1107720" y="1715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 flipH="1" flipV="1">
                    <a:off x="1143360" y="1749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H="1" flipV="1">
                    <a:off x="1113480" y="1749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 flipH="1" flipV="1">
                    <a:off x="1119960" y="1722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7" name=""/>
                <p:cNvGrpSpPr/>
                <p:nvPr/>
              </p:nvGrpSpPr>
              <p:grpSpPr>
                <a:xfrm>
                  <a:off x="803160" y="1572120"/>
                  <a:ext cx="88920" cy="151920"/>
                  <a:chOff x="803160" y="1572120"/>
                  <a:chExt cx="88920" cy="151920"/>
                </a:xfrm>
              </p:grpSpPr>
              <p:sp>
                <p:nvSpPr>
                  <p:cNvPr id="3328" name=""/>
                  <p:cNvSpPr/>
                  <p:nvPr/>
                </p:nvSpPr>
                <p:spPr>
                  <a:xfrm>
                    <a:off x="803160" y="1572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H="1" flipV="1">
                    <a:off x="830160" y="16250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H="1" flipV="1">
                    <a:off x="865800" y="16588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 flipH="1" flipV="1">
                    <a:off x="835920" y="16585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H="1" flipV="1">
                    <a:off x="842400" y="16315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3" name=""/>
                <p:cNvGrpSpPr/>
                <p:nvPr/>
              </p:nvGrpSpPr>
              <p:grpSpPr>
                <a:xfrm>
                  <a:off x="989640" y="2010960"/>
                  <a:ext cx="156240" cy="135720"/>
                  <a:chOff x="989640" y="2010960"/>
                  <a:chExt cx="156240" cy="135720"/>
                </a:xfrm>
              </p:grpSpPr>
              <p:sp>
                <p:nvSpPr>
                  <p:cNvPr id="3334" name=""/>
                  <p:cNvSpPr/>
                  <p:nvPr/>
                </p:nvSpPr>
                <p:spPr>
                  <a:xfrm rot="15198000">
                    <a:off x="1016280" y="2012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 flipH="1">
                    <a:off x="1053720" y="201744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 flipH="1">
                    <a:off x="1069920" y="204480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1079640" y="206748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 flipH="1">
                    <a:off x="1055880" y="207900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9" name=""/>
                <p:cNvGrpSpPr/>
                <p:nvPr/>
              </p:nvGrpSpPr>
              <p:grpSpPr>
                <a:xfrm>
                  <a:off x="885240" y="1978200"/>
                  <a:ext cx="165960" cy="155520"/>
                  <a:chOff x="885240" y="1978200"/>
                  <a:chExt cx="165960" cy="155520"/>
                </a:xfrm>
              </p:grpSpPr>
              <p:sp>
                <p:nvSpPr>
                  <p:cNvPr id="3340" name=""/>
                  <p:cNvSpPr/>
                  <p:nvPr/>
                </p:nvSpPr>
                <p:spPr>
                  <a:xfrm rot="14358600">
                    <a:off x="916920" y="1989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H="1">
                    <a:off x="960840" y="198684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H="1">
                    <a:off x="965160" y="20188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977400" y="20419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flipH="1">
                    <a:off x="959040" y="205704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5" name=""/>
                <p:cNvGrpSpPr/>
                <p:nvPr/>
              </p:nvGrpSpPr>
              <p:grpSpPr>
                <a:xfrm>
                  <a:off x="681480" y="1796040"/>
                  <a:ext cx="137520" cy="109440"/>
                  <a:chOff x="681480" y="1796040"/>
                  <a:chExt cx="137520" cy="109440"/>
                </a:xfrm>
              </p:grpSpPr>
              <p:sp>
                <p:nvSpPr>
                  <p:cNvPr id="3346" name=""/>
                  <p:cNvSpPr/>
                  <p:nvPr/>
                </p:nvSpPr>
                <p:spPr>
                  <a:xfrm rot="16010400">
                    <a:off x="699120" y="1784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H="1">
                    <a:off x="731160" y="180072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H="1">
                    <a:off x="758160" y="182196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>
                    <a:off x="760320" y="1842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>
                    <a:off x="736560" y="185040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1" name=""/>
                <p:cNvGrpSpPr/>
                <p:nvPr/>
              </p:nvGrpSpPr>
              <p:grpSpPr>
                <a:xfrm>
                  <a:off x="689400" y="1869480"/>
                  <a:ext cx="160560" cy="144360"/>
                  <a:chOff x="689400" y="1869480"/>
                  <a:chExt cx="160560" cy="144360"/>
                </a:xfrm>
              </p:grpSpPr>
              <p:sp>
                <p:nvSpPr>
                  <p:cNvPr id="3352" name=""/>
                  <p:cNvSpPr/>
                  <p:nvPr/>
                </p:nvSpPr>
                <p:spPr>
                  <a:xfrm rot="14881800">
                    <a:off x="718560" y="1875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 flipH="1">
                    <a:off x="758520" y="187704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 flipH="1">
                    <a:off x="770040" y="19065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780840" y="192960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 flipH="1">
                    <a:off x="758880" y="194256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7" name=""/>
                <p:cNvGrpSpPr/>
                <p:nvPr/>
              </p:nvGrpSpPr>
              <p:grpSpPr>
                <a:xfrm>
                  <a:off x="793440" y="1853640"/>
                  <a:ext cx="151920" cy="129960"/>
                  <a:chOff x="793440" y="1853640"/>
                  <a:chExt cx="151920" cy="129960"/>
                </a:xfrm>
              </p:grpSpPr>
              <p:sp>
                <p:nvSpPr>
                  <p:cNvPr id="3358" name=""/>
                  <p:cNvSpPr/>
                  <p:nvPr/>
                </p:nvSpPr>
                <p:spPr>
                  <a:xfrm rot="15401400">
                    <a:off x="817920" y="1852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 flipH="1">
                    <a:off x="853920" y="186012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 flipH="1">
                    <a:off x="873000" y="188604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 flipH="1">
                    <a:off x="881280" y="190836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 flipH="1">
                    <a:off x="856800" y="191916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3" name=""/>
                <p:cNvGrpSpPr/>
                <p:nvPr/>
              </p:nvGrpSpPr>
              <p:grpSpPr>
                <a:xfrm>
                  <a:off x="753480" y="1694880"/>
                  <a:ext cx="151920" cy="129600"/>
                  <a:chOff x="753480" y="1694880"/>
                  <a:chExt cx="151920" cy="129600"/>
                </a:xfrm>
              </p:grpSpPr>
              <p:sp>
                <p:nvSpPr>
                  <p:cNvPr id="3364" name=""/>
                  <p:cNvSpPr/>
                  <p:nvPr/>
                </p:nvSpPr>
                <p:spPr>
                  <a:xfrm rot="16985400">
                    <a:off x="777960" y="1693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 flipH="1">
                    <a:off x="804960" y="172656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 flipH="1">
                    <a:off x="842400" y="173916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 flipH="1">
                    <a:off x="835200" y="175608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 flipH="1">
                    <a:off x="813960" y="175860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9" name=""/>
                <p:cNvGrpSpPr/>
                <p:nvPr/>
              </p:nvGrpSpPr>
              <p:grpSpPr>
                <a:xfrm>
                  <a:off x="961560" y="1720800"/>
                  <a:ext cx="168480" cy="172080"/>
                  <a:chOff x="961560" y="1720800"/>
                  <a:chExt cx="168480" cy="172080"/>
                </a:xfrm>
              </p:grpSpPr>
              <p:sp>
                <p:nvSpPr>
                  <p:cNvPr id="3370" name=""/>
                  <p:cNvSpPr/>
                  <p:nvPr/>
                </p:nvSpPr>
                <p:spPr>
                  <a:xfrm rot="19036200">
                    <a:off x="1001160" y="1730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 flipH="1" flipV="1">
                    <a:off x="1017360" y="180216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 flipH="1" flipV="1">
                    <a:off x="1066680" y="18025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 flipH="1">
                    <a:off x="1044360" y="1815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 flipH="1" flipV="1">
                    <a:off x="1031040" y="179856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5" name=""/>
                <p:cNvGrpSpPr/>
                <p:nvPr/>
              </p:nvGrpSpPr>
              <p:grpSpPr>
                <a:xfrm>
                  <a:off x="1146600" y="1643760"/>
                  <a:ext cx="158760" cy="140400"/>
                  <a:chOff x="1146600" y="1643760"/>
                  <a:chExt cx="158760" cy="140400"/>
                </a:xfrm>
              </p:grpSpPr>
              <p:sp>
                <p:nvSpPr>
                  <p:cNvPr id="3376" name=""/>
                  <p:cNvSpPr/>
                  <p:nvPr/>
                </p:nvSpPr>
                <p:spPr>
                  <a:xfrm rot="4233000">
                    <a:off x="1174680" y="1647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 flipV="1">
                    <a:off x="1189080" y="168840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 flipV="1">
                    <a:off x="1210320" y="17366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 flipH="1" flipV="1">
                    <a:off x="1212840" y="17049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 flipV="1">
                    <a:off x="1228680" y="170352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1" name=""/>
                <p:cNvGrpSpPr/>
                <p:nvPr/>
              </p:nvGrpSpPr>
              <p:grpSpPr>
                <a:xfrm>
                  <a:off x="1226520" y="1759680"/>
                  <a:ext cx="156600" cy="137160"/>
                  <a:chOff x="1226520" y="1759680"/>
                  <a:chExt cx="156600" cy="137160"/>
                </a:xfrm>
              </p:grpSpPr>
              <p:sp>
                <p:nvSpPr>
                  <p:cNvPr id="3382" name=""/>
                  <p:cNvSpPr/>
                  <p:nvPr/>
                </p:nvSpPr>
                <p:spPr>
                  <a:xfrm rot="4353000">
                    <a:off x="1253520" y="1761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 flipV="1">
                    <a:off x="1265400" y="180288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 flipV="1">
                    <a:off x="1287720" y="18507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 flipH="1" flipV="1">
                    <a:off x="1292040" y="181836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 flipV="1">
                    <a:off x="1307520" y="181800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7" name=""/>
                <p:cNvGrpSpPr/>
                <p:nvPr/>
              </p:nvGrpSpPr>
              <p:grpSpPr>
                <a:xfrm>
                  <a:off x="966240" y="1878840"/>
                  <a:ext cx="159480" cy="175320"/>
                  <a:chOff x="966240" y="1878840"/>
                  <a:chExt cx="159480" cy="175320"/>
                </a:xfrm>
              </p:grpSpPr>
              <p:sp>
                <p:nvSpPr>
                  <p:cNvPr id="3388" name=""/>
                  <p:cNvSpPr/>
                  <p:nvPr/>
                </p:nvSpPr>
                <p:spPr>
                  <a:xfrm rot="19525800">
                    <a:off x="1001160" y="1890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 flipH="1" flipV="1">
                    <a:off x="1018440" y="195768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 flipH="1" flipV="1">
                    <a:off x="1067040" y="196524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flipH="1">
                    <a:off x="1042200" y="197748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 flipH="1" flipV="1">
                    <a:off x="1032120" y="195588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3" name=""/>
                <p:cNvGrpSpPr/>
                <p:nvPr/>
              </p:nvGrpSpPr>
              <p:grpSpPr>
                <a:xfrm>
                  <a:off x="805680" y="1859400"/>
                  <a:ext cx="165600" cy="165600"/>
                  <a:chOff x="805680" y="1859400"/>
                  <a:chExt cx="165600" cy="165600"/>
                </a:xfrm>
              </p:grpSpPr>
              <p:sp>
                <p:nvSpPr>
                  <p:cNvPr id="3394" name=""/>
                  <p:cNvSpPr/>
                  <p:nvPr/>
                </p:nvSpPr>
                <p:spPr>
                  <a:xfrm rot="18890400">
                    <a:off x="837360" y="1875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 flipH="1" flipV="1">
                    <a:off x="860040" y="194184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 flipH="1" flipV="1">
                    <a:off x="909720" y="193356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7" name=""/>
                  <p:cNvSpPr/>
                  <p:nvPr/>
                </p:nvSpPr>
                <p:spPr>
                  <a:xfrm flipH="1">
                    <a:off x="885960" y="194724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 flipH="1" flipV="1">
                    <a:off x="874080" y="193644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9" name=""/>
                <p:cNvGrpSpPr/>
                <p:nvPr/>
              </p:nvGrpSpPr>
              <p:grpSpPr>
                <a:xfrm>
                  <a:off x="667080" y="1768680"/>
                  <a:ext cx="166680" cy="164160"/>
                  <a:chOff x="667080" y="1768680"/>
                  <a:chExt cx="166680" cy="164160"/>
                </a:xfrm>
              </p:grpSpPr>
              <p:sp>
                <p:nvSpPr>
                  <p:cNvPr id="3400" name=""/>
                  <p:cNvSpPr/>
                  <p:nvPr/>
                </p:nvSpPr>
                <p:spPr>
                  <a:xfrm rot="18730200">
                    <a:off x="699120" y="1784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 flipH="1" flipV="1">
                    <a:off x="721800" y="185220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2" name=""/>
                  <p:cNvSpPr/>
                  <p:nvPr/>
                </p:nvSpPr>
                <p:spPr>
                  <a:xfrm flipH="1" flipV="1">
                    <a:off x="770760" y="18414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 flipH="1">
                    <a:off x="748440" y="18554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 flipH="1" flipV="1">
                    <a:off x="735840" y="184572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5" name=""/>
                <p:cNvGrpSpPr/>
                <p:nvPr/>
              </p:nvGrpSpPr>
              <p:grpSpPr>
                <a:xfrm>
                  <a:off x="647280" y="1674360"/>
                  <a:ext cx="162720" cy="174960"/>
                  <a:chOff x="647280" y="1674360"/>
                  <a:chExt cx="162720" cy="174960"/>
                </a:xfrm>
              </p:grpSpPr>
              <p:sp>
                <p:nvSpPr>
                  <p:cNvPr id="3406" name=""/>
                  <p:cNvSpPr/>
                  <p:nvPr/>
                </p:nvSpPr>
                <p:spPr>
                  <a:xfrm rot="19362600">
                    <a:off x="684000" y="1685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 flipH="1" flipV="1">
                    <a:off x="700920" y="175392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 flipH="1" flipV="1">
                    <a:off x="749880" y="175932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 flipH="1">
                    <a:off x="725760" y="17719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 flipH="1" flipV="1">
                    <a:off x="714600" y="17517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11" name=""/>
              <p:cNvGrpSpPr/>
              <p:nvPr/>
            </p:nvGrpSpPr>
            <p:grpSpPr>
              <a:xfrm>
                <a:off x="1276560" y="1486800"/>
                <a:ext cx="735840" cy="609480"/>
                <a:chOff x="1276560" y="1486800"/>
                <a:chExt cx="735840" cy="609480"/>
              </a:xfrm>
            </p:grpSpPr>
            <p:grpSp>
              <p:nvGrpSpPr>
                <p:cNvPr id="3412" name=""/>
                <p:cNvGrpSpPr/>
                <p:nvPr/>
              </p:nvGrpSpPr>
              <p:grpSpPr>
                <a:xfrm>
                  <a:off x="1574640" y="1565640"/>
                  <a:ext cx="163800" cy="150480"/>
                  <a:chOff x="1574640" y="1565640"/>
                  <a:chExt cx="163800" cy="150480"/>
                </a:xfrm>
              </p:grpSpPr>
              <p:sp>
                <p:nvSpPr>
                  <p:cNvPr id="3413" name=""/>
                  <p:cNvSpPr/>
                  <p:nvPr/>
                </p:nvSpPr>
                <p:spPr>
                  <a:xfrm rot="3815400">
                    <a:off x="1605240" y="1574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 flipV="1">
                    <a:off x="1627560" y="161388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 flipV="1">
                    <a:off x="1645200" y="16635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 flipH="1" flipV="1">
                    <a:off x="1642680" y="163332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 flipV="1">
                    <a:off x="1659240" y="162900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8" name=""/>
                <p:cNvSpPr/>
                <p:nvPr/>
              </p:nvSpPr>
              <p:spPr>
                <a:xfrm flipH="1">
                  <a:off x="1571040" y="186300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1432440" y="174924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H="1" flipV="1">
                  <a:off x="1551240" y="163548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 flipH="1" flipV="1">
                  <a:off x="1789200" y="174924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 flipH="1">
                  <a:off x="1630440" y="188604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 flipH="1" flipV="1">
                  <a:off x="1669680" y="184032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 flipH="1" flipV="1">
                  <a:off x="1510920" y="165780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 flipV="1">
                  <a:off x="1610640" y="168048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 flipH="1">
                  <a:off x="1451880" y="177228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 flipH="1" flipV="1">
                  <a:off x="1710000" y="177228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 flipH="1" flipV="1">
                  <a:off x="1749600" y="177192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 flipV="1">
                  <a:off x="1868400" y="184032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 flipV="1">
                  <a:off x="1809000" y="172620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 flipH="1">
                  <a:off x="1749240" y="193140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 flipH="1">
                  <a:off x="1531080" y="179460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H="1" flipV="1">
                  <a:off x="1451520" y="170352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34" name=""/>
                <p:cNvGrpSpPr/>
                <p:nvPr/>
              </p:nvGrpSpPr>
              <p:grpSpPr>
                <a:xfrm>
                  <a:off x="1479960" y="1486800"/>
                  <a:ext cx="151560" cy="176040"/>
                  <a:chOff x="1479960" y="1486800"/>
                  <a:chExt cx="151560" cy="176040"/>
                </a:xfrm>
              </p:grpSpPr>
              <p:sp>
                <p:nvSpPr>
                  <p:cNvPr id="3435" name=""/>
                  <p:cNvSpPr/>
                  <p:nvPr/>
                </p:nvSpPr>
                <p:spPr>
                  <a:xfrm rot="1745400">
                    <a:off x="1510920" y="1498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 flipH="1" flipV="1">
                    <a:off x="1551600" y="154620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 flipV="1">
                    <a:off x="1561680" y="15930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 flipH="1" flipV="1">
                    <a:off x="1540440" y="15782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 flipV="1">
                    <a:off x="1557720" y="15577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0" name=""/>
                <p:cNvGrpSpPr/>
                <p:nvPr/>
              </p:nvGrpSpPr>
              <p:grpSpPr>
                <a:xfrm>
                  <a:off x="1544760" y="1715040"/>
                  <a:ext cx="142200" cy="174960"/>
                  <a:chOff x="1544760" y="1715040"/>
                  <a:chExt cx="142200" cy="174960"/>
                </a:xfrm>
              </p:grpSpPr>
              <p:sp>
                <p:nvSpPr>
                  <p:cNvPr id="3441" name=""/>
                  <p:cNvSpPr/>
                  <p:nvPr/>
                </p:nvSpPr>
                <p:spPr>
                  <a:xfrm rot="20187000">
                    <a:off x="1571400" y="1726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H="1" flipV="1">
                    <a:off x="1590480" y="178848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 flipH="1" flipV="1">
                    <a:off x="1636920" y="18050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 flipH="1">
                    <a:off x="1609200" y="181584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 flipH="1" flipV="1">
                    <a:off x="1604520" y="17892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6" name=""/>
                <p:cNvGrpSpPr/>
                <p:nvPr/>
              </p:nvGrpSpPr>
              <p:grpSpPr>
                <a:xfrm>
                  <a:off x="1630800" y="1635480"/>
                  <a:ext cx="88920" cy="151920"/>
                  <a:chOff x="1630800" y="1635480"/>
                  <a:chExt cx="88920" cy="151920"/>
                </a:xfrm>
              </p:grpSpPr>
              <p:sp>
                <p:nvSpPr>
                  <p:cNvPr id="3447" name=""/>
                  <p:cNvSpPr/>
                  <p:nvPr/>
                </p:nvSpPr>
                <p:spPr>
                  <a:xfrm>
                    <a:off x="1630800" y="1635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 flipH="1" flipV="1">
                    <a:off x="1657800" y="16884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 flipH="1" flipV="1">
                    <a:off x="1693440" y="17222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 flipH="1" flipV="1">
                    <a:off x="1663560" y="17218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 flipH="1" flipV="1">
                    <a:off x="1670040" y="16948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2" name=""/>
                <p:cNvGrpSpPr/>
                <p:nvPr/>
              </p:nvGrpSpPr>
              <p:grpSpPr>
                <a:xfrm>
                  <a:off x="1446120" y="1900800"/>
                  <a:ext cx="143640" cy="118080"/>
                  <a:chOff x="1446120" y="1900800"/>
                  <a:chExt cx="143640" cy="118080"/>
                </a:xfrm>
              </p:grpSpPr>
              <p:sp>
                <p:nvSpPr>
                  <p:cNvPr id="3453" name=""/>
                  <p:cNvSpPr/>
                  <p:nvPr/>
                </p:nvSpPr>
                <p:spPr>
                  <a:xfrm rot="15769200">
                    <a:off x="1466640" y="1893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 flipH="1">
                    <a:off x="1500120" y="190620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 flipH="1">
                    <a:off x="1524240" y="192924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 flipH="1">
                    <a:off x="1528560" y="195084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 flipH="1">
                    <a:off x="1504440" y="195984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8" name=""/>
                <p:cNvGrpSpPr/>
                <p:nvPr/>
              </p:nvGrpSpPr>
              <p:grpSpPr>
                <a:xfrm>
                  <a:off x="1372680" y="1567440"/>
                  <a:ext cx="88920" cy="151920"/>
                  <a:chOff x="1372680" y="1567440"/>
                  <a:chExt cx="88920" cy="151920"/>
                </a:xfrm>
              </p:grpSpPr>
              <p:sp>
                <p:nvSpPr>
                  <p:cNvPr id="3459" name=""/>
                  <p:cNvSpPr/>
                  <p:nvPr/>
                </p:nvSpPr>
                <p:spPr>
                  <a:xfrm>
                    <a:off x="1372680" y="1567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 flipH="1" flipV="1">
                    <a:off x="1399680" y="16203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 flipH="1" flipV="1">
                    <a:off x="1435320" y="16542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H="1" flipV="1">
                    <a:off x="1405440" y="1653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 flipH="1" flipV="1">
                    <a:off x="1411920" y="16268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4" name=""/>
                <p:cNvGrpSpPr/>
                <p:nvPr/>
              </p:nvGrpSpPr>
              <p:grpSpPr>
                <a:xfrm>
                  <a:off x="1710000" y="1612440"/>
                  <a:ext cx="88920" cy="151920"/>
                  <a:chOff x="1710000" y="1612440"/>
                  <a:chExt cx="88920" cy="151920"/>
                </a:xfrm>
              </p:grpSpPr>
              <p:sp>
                <p:nvSpPr>
                  <p:cNvPr id="3465" name=""/>
                  <p:cNvSpPr/>
                  <p:nvPr/>
                </p:nvSpPr>
                <p:spPr>
                  <a:xfrm>
                    <a:off x="1710000" y="1612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 flipH="1" flipV="1">
                    <a:off x="1737000" y="16653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 flipH="1" flipV="1">
                    <a:off x="1772640" y="16992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 flipH="1" flipV="1">
                    <a:off x="1742760" y="1698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 flipH="1" flipV="1">
                    <a:off x="1749240" y="16718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0" name=""/>
                <p:cNvGrpSpPr/>
                <p:nvPr/>
              </p:nvGrpSpPr>
              <p:grpSpPr>
                <a:xfrm>
                  <a:off x="1432440" y="1521720"/>
                  <a:ext cx="88920" cy="151920"/>
                  <a:chOff x="1432440" y="1521720"/>
                  <a:chExt cx="88920" cy="151920"/>
                </a:xfrm>
              </p:grpSpPr>
              <p:sp>
                <p:nvSpPr>
                  <p:cNvPr id="3471" name=""/>
                  <p:cNvSpPr/>
                  <p:nvPr/>
                </p:nvSpPr>
                <p:spPr>
                  <a:xfrm>
                    <a:off x="1432440" y="1521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 flipH="1" flipV="1">
                    <a:off x="1459440" y="15746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 flipH="1" flipV="1">
                    <a:off x="1495080" y="16084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 flipH="1" flipV="1">
                    <a:off x="1465200" y="1608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 flipH="1" flipV="1">
                    <a:off x="1471680" y="15811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6" name=""/>
                <p:cNvGrpSpPr/>
                <p:nvPr/>
              </p:nvGrpSpPr>
              <p:grpSpPr>
                <a:xfrm>
                  <a:off x="1618920" y="1960560"/>
                  <a:ext cx="156240" cy="135720"/>
                  <a:chOff x="1618920" y="1960560"/>
                  <a:chExt cx="156240" cy="135720"/>
                </a:xfrm>
              </p:grpSpPr>
              <p:sp>
                <p:nvSpPr>
                  <p:cNvPr id="3477" name=""/>
                  <p:cNvSpPr/>
                  <p:nvPr/>
                </p:nvSpPr>
                <p:spPr>
                  <a:xfrm rot="15198000">
                    <a:off x="1645560" y="1962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 flipH="1">
                    <a:off x="1683000" y="196704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 flipH="1">
                    <a:off x="1699200" y="199440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>
                    <a:off x="1708920" y="201708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 flipH="1">
                    <a:off x="1685160" y="202860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2" name=""/>
                <p:cNvGrpSpPr/>
                <p:nvPr/>
              </p:nvGrpSpPr>
              <p:grpSpPr>
                <a:xfrm>
                  <a:off x="1514520" y="1927800"/>
                  <a:ext cx="165960" cy="155520"/>
                  <a:chOff x="1514520" y="1927800"/>
                  <a:chExt cx="165960" cy="155520"/>
                </a:xfrm>
              </p:grpSpPr>
              <p:sp>
                <p:nvSpPr>
                  <p:cNvPr id="3483" name=""/>
                  <p:cNvSpPr/>
                  <p:nvPr/>
                </p:nvSpPr>
                <p:spPr>
                  <a:xfrm rot="14358600">
                    <a:off x="1546200" y="1939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4" name=""/>
                  <p:cNvSpPr/>
                  <p:nvPr/>
                </p:nvSpPr>
                <p:spPr>
                  <a:xfrm flipH="1">
                    <a:off x="1590120" y="193644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 flipH="1">
                    <a:off x="1594440" y="19684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>
                    <a:off x="1606680" y="19915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 flipH="1">
                    <a:off x="1588320" y="200664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8" name=""/>
                <p:cNvGrpSpPr/>
                <p:nvPr/>
              </p:nvGrpSpPr>
              <p:grpSpPr>
                <a:xfrm>
                  <a:off x="1310760" y="1745640"/>
                  <a:ext cx="137520" cy="109440"/>
                  <a:chOff x="1310760" y="1745640"/>
                  <a:chExt cx="137520" cy="109440"/>
                </a:xfrm>
              </p:grpSpPr>
              <p:sp>
                <p:nvSpPr>
                  <p:cNvPr id="3489" name=""/>
                  <p:cNvSpPr/>
                  <p:nvPr/>
                </p:nvSpPr>
                <p:spPr>
                  <a:xfrm rot="16010400">
                    <a:off x="1328400" y="1734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 flipH="1">
                    <a:off x="1360440" y="175032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 flipH="1">
                    <a:off x="1387440" y="177156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 flipH="1">
                    <a:off x="1389600" y="17924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 flipH="1">
                    <a:off x="1365840" y="180000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4" name=""/>
                <p:cNvGrpSpPr/>
                <p:nvPr/>
              </p:nvGrpSpPr>
              <p:grpSpPr>
                <a:xfrm>
                  <a:off x="1318680" y="1819080"/>
                  <a:ext cx="160560" cy="144360"/>
                  <a:chOff x="1318680" y="1819080"/>
                  <a:chExt cx="160560" cy="144360"/>
                </a:xfrm>
              </p:grpSpPr>
              <p:sp>
                <p:nvSpPr>
                  <p:cNvPr id="3495" name=""/>
                  <p:cNvSpPr/>
                  <p:nvPr/>
                </p:nvSpPr>
                <p:spPr>
                  <a:xfrm rot="14881800">
                    <a:off x="1347840" y="1825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 flipH="1">
                    <a:off x="1387800" y="182664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7" name=""/>
                  <p:cNvSpPr/>
                  <p:nvPr/>
                </p:nvSpPr>
                <p:spPr>
                  <a:xfrm flipH="1">
                    <a:off x="1399320" y="18561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1410120" y="187920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 flipH="1">
                    <a:off x="1388160" y="189216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0" name=""/>
                <p:cNvGrpSpPr/>
                <p:nvPr/>
              </p:nvGrpSpPr>
              <p:grpSpPr>
                <a:xfrm>
                  <a:off x="1422720" y="1803240"/>
                  <a:ext cx="151920" cy="129960"/>
                  <a:chOff x="1422720" y="1803240"/>
                  <a:chExt cx="151920" cy="129960"/>
                </a:xfrm>
              </p:grpSpPr>
              <p:sp>
                <p:nvSpPr>
                  <p:cNvPr id="3501" name=""/>
                  <p:cNvSpPr/>
                  <p:nvPr/>
                </p:nvSpPr>
                <p:spPr>
                  <a:xfrm rot="15401400">
                    <a:off x="1447200" y="1802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 flipH="1">
                    <a:off x="1483200" y="180972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 flipH="1">
                    <a:off x="1502280" y="183564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"/>
                  <p:cNvSpPr/>
                  <p:nvPr/>
                </p:nvSpPr>
                <p:spPr>
                  <a:xfrm flipH="1">
                    <a:off x="1510560" y="185796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"/>
                  <p:cNvSpPr/>
                  <p:nvPr/>
                </p:nvSpPr>
                <p:spPr>
                  <a:xfrm flipH="1">
                    <a:off x="1486080" y="186876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6" name=""/>
                <p:cNvGrpSpPr/>
                <p:nvPr/>
              </p:nvGrpSpPr>
              <p:grpSpPr>
                <a:xfrm>
                  <a:off x="1382760" y="1644480"/>
                  <a:ext cx="151920" cy="129600"/>
                  <a:chOff x="1382760" y="1644480"/>
                  <a:chExt cx="151920" cy="129600"/>
                </a:xfrm>
              </p:grpSpPr>
              <p:sp>
                <p:nvSpPr>
                  <p:cNvPr id="3507" name=""/>
                  <p:cNvSpPr/>
                  <p:nvPr/>
                </p:nvSpPr>
                <p:spPr>
                  <a:xfrm rot="16985400">
                    <a:off x="1407240" y="1643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 flipH="1">
                    <a:off x="1434240" y="167616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 flipH="1">
                    <a:off x="1471680" y="168876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 flipH="1">
                    <a:off x="1464480" y="170568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 flipH="1">
                    <a:off x="1443240" y="170820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2" name=""/>
                <p:cNvGrpSpPr/>
                <p:nvPr/>
              </p:nvGrpSpPr>
              <p:grpSpPr>
                <a:xfrm>
                  <a:off x="1590840" y="1670400"/>
                  <a:ext cx="168480" cy="172080"/>
                  <a:chOff x="1590840" y="1670400"/>
                  <a:chExt cx="168480" cy="172080"/>
                </a:xfrm>
              </p:grpSpPr>
              <p:sp>
                <p:nvSpPr>
                  <p:cNvPr id="3513" name=""/>
                  <p:cNvSpPr/>
                  <p:nvPr/>
                </p:nvSpPr>
                <p:spPr>
                  <a:xfrm rot="19036200">
                    <a:off x="1630440" y="1680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 flipH="1" flipV="1">
                    <a:off x="1646640" y="175176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 flipH="1" flipV="1">
                    <a:off x="1695960" y="17521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 flipH="1">
                    <a:off x="1673640" y="17654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 flipH="1" flipV="1">
                    <a:off x="1660320" y="174816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8" name=""/>
                <p:cNvGrpSpPr/>
                <p:nvPr/>
              </p:nvGrpSpPr>
              <p:grpSpPr>
                <a:xfrm>
                  <a:off x="1775880" y="1593360"/>
                  <a:ext cx="158760" cy="140400"/>
                  <a:chOff x="1775880" y="1593360"/>
                  <a:chExt cx="158760" cy="140400"/>
                </a:xfrm>
              </p:grpSpPr>
              <p:sp>
                <p:nvSpPr>
                  <p:cNvPr id="3519" name=""/>
                  <p:cNvSpPr/>
                  <p:nvPr/>
                </p:nvSpPr>
                <p:spPr>
                  <a:xfrm rot="4233000">
                    <a:off x="1803960" y="1597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 flipV="1">
                    <a:off x="1818360" y="163800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 flipV="1">
                    <a:off x="1839600" y="16862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 flipH="1" flipV="1">
                    <a:off x="1842120" y="16545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 flipV="1">
                    <a:off x="1857960" y="165312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4" name=""/>
                <p:cNvGrpSpPr/>
                <p:nvPr/>
              </p:nvGrpSpPr>
              <p:grpSpPr>
                <a:xfrm>
                  <a:off x="1855800" y="1709280"/>
                  <a:ext cx="156600" cy="137160"/>
                  <a:chOff x="1855800" y="1709280"/>
                  <a:chExt cx="156600" cy="137160"/>
                </a:xfrm>
              </p:grpSpPr>
              <p:sp>
                <p:nvSpPr>
                  <p:cNvPr id="3525" name=""/>
                  <p:cNvSpPr/>
                  <p:nvPr/>
                </p:nvSpPr>
                <p:spPr>
                  <a:xfrm rot="4353000">
                    <a:off x="1882800" y="1711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 flipV="1">
                    <a:off x="1894680" y="175248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 flipV="1">
                    <a:off x="1917000" y="18003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 flipH="1" flipV="1">
                    <a:off x="1921320" y="176796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 flipV="1">
                    <a:off x="1936800" y="176760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0" name=""/>
                <p:cNvGrpSpPr/>
                <p:nvPr/>
              </p:nvGrpSpPr>
              <p:grpSpPr>
                <a:xfrm>
                  <a:off x="1595520" y="1828440"/>
                  <a:ext cx="159480" cy="175320"/>
                  <a:chOff x="1595520" y="1828440"/>
                  <a:chExt cx="159480" cy="175320"/>
                </a:xfrm>
              </p:grpSpPr>
              <p:sp>
                <p:nvSpPr>
                  <p:cNvPr id="3531" name=""/>
                  <p:cNvSpPr/>
                  <p:nvPr/>
                </p:nvSpPr>
                <p:spPr>
                  <a:xfrm rot="19525800">
                    <a:off x="1630440" y="1839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 flipH="1" flipV="1">
                    <a:off x="1647720" y="190728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 flipH="1" flipV="1">
                    <a:off x="1696320" y="191484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 flipH="1">
                    <a:off x="1671480" y="192708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 flipH="1" flipV="1">
                    <a:off x="1661400" y="190548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36" name=""/>
                <p:cNvGrpSpPr/>
                <p:nvPr/>
              </p:nvGrpSpPr>
              <p:grpSpPr>
                <a:xfrm>
                  <a:off x="1434960" y="1809000"/>
                  <a:ext cx="165600" cy="165600"/>
                  <a:chOff x="1434960" y="1809000"/>
                  <a:chExt cx="165600" cy="165600"/>
                </a:xfrm>
              </p:grpSpPr>
              <p:sp>
                <p:nvSpPr>
                  <p:cNvPr id="3537" name=""/>
                  <p:cNvSpPr/>
                  <p:nvPr/>
                </p:nvSpPr>
                <p:spPr>
                  <a:xfrm rot="18890400">
                    <a:off x="1466640" y="1825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 flipH="1" flipV="1">
                    <a:off x="1489320" y="189144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 flipH="1" flipV="1">
                    <a:off x="1539000" y="188316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 flipH="1">
                    <a:off x="1515240" y="189684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 flipH="1" flipV="1">
                    <a:off x="1503360" y="188604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2" name=""/>
                <p:cNvGrpSpPr/>
                <p:nvPr/>
              </p:nvGrpSpPr>
              <p:grpSpPr>
                <a:xfrm>
                  <a:off x="1296360" y="1718280"/>
                  <a:ext cx="166680" cy="164160"/>
                  <a:chOff x="1296360" y="1718280"/>
                  <a:chExt cx="166680" cy="164160"/>
                </a:xfrm>
              </p:grpSpPr>
              <p:sp>
                <p:nvSpPr>
                  <p:cNvPr id="3543" name=""/>
                  <p:cNvSpPr/>
                  <p:nvPr/>
                </p:nvSpPr>
                <p:spPr>
                  <a:xfrm rot="18730200">
                    <a:off x="1328400" y="1734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 flipH="1" flipV="1">
                    <a:off x="1351080" y="180180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 flipH="1" flipV="1">
                    <a:off x="1400040" y="1791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 flipH="1">
                    <a:off x="1377720" y="18050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 flipH="1" flipV="1">
                    <a:off x="1365120" y="179532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8" name=""/>
                <p:cNvGrpSpPr/>
                <p:nvPr/>
              </p:nvGrpSpPr>
              <p:grpSpPr>
                <a:xfrm>
                  <a:off x="1276560" y="1623960"/>
                  <a:ext cx="162720" cy="174960"/>
                  <a:chOff x="1276560" y="1623960"/>
                  <a:chExt cx="162720" cy="174960"/>
                </a:xfrm>
              </p:grpSpPr>
              <p:sp>
                <p:nvSpPr>
                  <p:cNvPr id="3549" name=""/>
                  <p:cNvSpPr/>
                  <p:nvPr/>
                </p:nvSpPr>
                <p:spPr>
                  <a:xfrm rot="19362600">
                    <a:off x="1313280" y="1635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 flipH="1" flipV="1">
                    <a:off x="1330200" y="170352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 flipH="1" flipV="1">
                    <a:off x="1379160" y="170892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 flipH="1">
                    <a:off x="1355040" y="17215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 flipH="1" flipV="1">
                    <a:off x="1343880" y="17013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54" name=""/>
              <p:cNvGrpSpPr/>
              <p:nvPr/>
            </p:nvGrpSpPr>
            <p:grpSpPr>
              <a:xfrm>
                <a:off x="1144080" y="1051920"/>
                <a:ext cx="735840" cy="609480"/>
                <a:chOff x="1144080" y="1051920"/>
                <a:chExt cx="735840" cy="609480"/>
              </a:xfrm>
            </p:grpSpPr>
            <p:grpSp>
              <p:nvGrpSpPr>
                <p:cNvPr id="3555" name=""/>
                <p:cNvGrpSpPr/>
                <p:nvPr/>
              </p:nvGrpSpPr>
              <p:grpSpPr>
                <a:xfrm>
                  <a:off x="1442160" y="1130760"/>
                  <a:ext cx="163800" cy="150480"/>
                  <a:chOff x="1442160" y="1130760"/>
                  <a:chExt cx="163800" cy="150480"/>
                </a:xfrm>
              </p:grpSpPr>
              <p:sp>
                <p:nvSpPr>
                  <p:cNvPr id="3556" name=""/>
                  <p:cNvSpPr/>
                  <p:nvPr/>
                </p:nvSpPr>
                <p:spPr>
                  <a:xfrm rot="3815400">
                    <a:off x="1472760" y="1139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 flipV="1">
                    <a:off x="1495080" y="117900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 flipV="1">
                    <a:off x="1512720" y="12286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flipH="1" flipV="1">
                    <a:off x="1510200" y="11984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flipV="1">
                    <a:off x="1526760" y="11941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1" name=""/>
                <p:cNvSpPr/>
                <p:nvPr/>
              </p:nvSpPr>
              <p:spPr>
                <a:xfrm flipH="1">
                  <a:off x="1438560" y="142812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1299960" y="13143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H="1" flipV="1">
                  <a:off x="1418760" y="120060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 flipH="1" flipV="1">
                  <a:off x="1656720" y="131436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 flipH="1">
                  <a:off x="1497960" y="145116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 flipH="1" flipV="1">
                  <a:off x="1537200" y="140544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 flipH="1" flipV="1">
                  <a:off x="1378440" y="122292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 flipV="1">
                  <a:off x="1478160" y="124560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 flipH="1">
                  <a:off x="1319400" y="133740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 flipH="1" flipV="1">
                  <a:off x="1577520" y="133740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 flipH="1" flipV="1">
                  <a:off x="1617120" y="133704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 flipV="1">
                  <a:off x="1735920" y="140544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 flipV="1">
                  <a:off x="1676520" y="129132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 flipH="1">
                  <a:off x="1616760" y="149652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flipH="1">
                  <a:off x="1398600" y="135972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 flipH="1" flipV="1">
                  <a:off x="1319040" y="126864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77" name=""/>
                <p:cNvGrpSpPr/>
                <p:nvPr/>
              </p:nvGrpSpPr>
              <p:grpSpPr>
                <a:xfrm>
                  <a:off x="1347480" y="1051920"/>
                  <a:ext cx="151560" cy="176040"/>
                  <a:chOff x="1347480" y="1051920"/>
                  <a:chExt cx="151560" cy="176040"/>
                </a:xfrm>
              </p:grpSpPr>
              <p:sp>
                <p:nvSpPr>
                  <p:cNvPr id="3578" name=""/>
                  <p:cNvSpPr/>
                  <p:nvPr/>
                </p:nvSpPr>
                <p:spPr>
                  <a:xfrm rot="1745400">
                    <a:off x="1378440" y="1063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9" name=""/>
                  <p:cNvSpPr/>
                  <p:nvPr/>
                </p:nvSpPr>
                <p:spPr>
                  <a:xfrm flipH="1" flipV="1">
                    <a:off x="1419120" y="111132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 flipV="1">
                    <a:off x="1429200" y="1158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 flipH="1" flipV="1">
                    <a:off x="1407960" y="11433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 flipV="1">
                    <a:off x="1425240" y="11228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3" name=""/>
                <p:cNvGrpSpPr/>
                <p:nvPr/>
              </p:nvGrpSpPr>
              <p:grpSpPr>
                <a:xfrm>
                  <a:off x="1412280" y="1280160"/>
                  <a:ext cx="142200" cy="174960"/>
                  <a:chOff x="1412280" y="1280160"/>
                  <a:chExt cx="142200" cy="174960"/>
                </a:xfrm>
              </p:grpSpPr>
              <p:sp>
                <p:nvSpPr>
                  <p:cNvPr id="3584" name=""/>
                  <p:cNvSpPr/>
                  <p:nvPr/>
                </p:nvSpPr>
                <p:spPr>
                  <a:xfrm rot="20187000">
                    <a:off x="1438920" y="1291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 flipH="1" flipV="1">
                    <a:off x="1458000" y="135360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 flipH="1" flipV="1">
                    <a:off x="1504440" y="13701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 flipH="1">
                    <a:off x="1476720" y="138096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 flipH="1" flipV="1">
                    <a:off x="1472040" y="13543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9" name=""/>
                <p:cNvGrpSpPr/>
                <p:nvPr/>
              </p:nvGrpSpPr>
              <p:grpSpPr>
                <a:xfrm>
                  <a:off x="1498320" y="1200600"/>
                  <a:ext cx="88920" cy="151920"/>
                  <a:chOff x="1498320" y="1200600"/>
                  <a:chExt cx="88920" cy="151920"/>
                </a:xfrm>
              </p:grpSpPr>
              <p:sp>
                <p:nvSpPr>
                  <p:cNvPr id="3590" name=""/>
                  <p:cNvSpPr/>
                  <p:nvPr/>
                </p:nvSpPr>
                <p:spPr>
                  <a:xfrm>
                    <a:off x="1498320" y="1200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1" name=""/>
                  <p:cNvSpPr/>
                  <p:nvPr/>
                </p:nvSpPr>
                <p:spPr>
                  <a:xfrm flipH="1" flipV="1">
                    <a:off x="1525320" y="1253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 flipH="1" flipV="1">
                    <a:off x="1560960" y="1287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 flipH="1" flipV="1">
                    <a:off x="1531080" y="1287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 flipH="1" flipV="1">
                    <a:off x="1537560" y="1260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5" name=""/>
                <p:cNvGrpSpPr/>
                <p:nvPr/>
              </p:nvGrpSpPr>
              <p:grpSpPr>
                <a:xfrm>
                  <a:off x="1313640" y="1465920"/>
                  <a:ext cx="143640" cy="118080"/>
                  <a:chOff x="1313640" y="1465920"/>
                  <a:chExt cx="143640" cy="118080"/>
                </a:xfrm>
              </p:grpSpPr>
              <p:sp>
                <p:nvSpPr>
                  <p:cNvPr id="3596" name=""/>
                  <p:cNvSpPr/>
                  <p:nvPr/>
                </p:nvSpPr>
                <p:spPr>
                  <a:xfrm rot="15769200">
                    <a:off x="1334160" y="1458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 flipH="1">
                    <a:off x="1367640" y="147132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8" name=""/>
                  <p:cNvSpPr/>
                  <p:nvPr/>
                </p:nvSpPr>
                <p:spPr>
                  <a:xfrm flipH="1">
                    <a:off x="1391760" y="14943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 flipH="1">
                    <a:off x="1396080" y="151596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 flipH="1">
                    <a:off x="1371960" y="152496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1" name=""/>
                <p:cNvGrpSpPr/>
                <p:nvPr/>
              </p:nvGrpSpPr>
              <p:grpSpPr>
                <a:xfrm>
                  <a:off x="1240200" y="1132560"/>
                  <a:ext cx="88920" cy="151920"/>
                  <a:chOff x="1240200" y="1132560"/>
                  <a:chExt cx="88920" cy="151920"/>
                </a:xfrm>
              </p:grpSpPr>
              <p:sp>
                <p:nvSpPr>
                  <p:cNvPr id="3602" name=""/>
                  <p:cNvSpPr/>
                  <p:nvPr/>
                </p:nvSpPr>
                <p:spPr>
                  <a:xfrm>
                    <a:off x="1240200" y="1132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 flipH="1" flipV="1">
                    <a:off x="1267200" y="1185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 flipH="1" flipV="1">
                    <a:off x="1302840" y="1219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 flipH="1" flipV="1">
                    <a:off x="1272960" y="1218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 flipH="1" flipV="1">
                    <a:off x="1279440" y="1191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7" name=""/>
                <p:cNvGrpSpPr/>
                <p:nvPr/>
              </p:nvGrpSpPr>
              <p:grpSpPr>
                <a:xfrm>
                  <a:off x="1577520" y="1177560"/>
                  <a:ext cx="88920" cy="151920"/>
                  <a:chOff x="1577520" y="1177560"/>
                  <a:chExt cx="88920" cy="151920"/>
                </a:xfrm>
              </p:grpSpPr>
              <p:sp>
                <p:nvSpPr>
                  <p:cNvPr id="3608" name=""/>
                  <p:cNvSpPr/>
                  <p:nvPr/>
                </p:nvSpPr>
                <p:spPr>
                  <a:xfrm>
                    <a:off x="1577520" y="1177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 flipH="1" flipV="1">
                    <a:off x="1604520" y="1230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 flipH="1" flipV="1">
                    <a:off x="1640160" y="1264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 flipH="1" flipV="1">
                    <a:off x="1610280" y="1263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 flipH="1" flipV="1">
                    <a:off x="1616760" y="123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3" name=""/>
                <p:cNvGrpSpPr/>
                <p:nvPr/>
              </p:nvGrpSpPr>
              <p:grpSpPr>
                <a:xfrm>
                  <a:off x="1299960" y="1086840"/>
                  <a:ext cx="88920" cy="151920"/>
                  <a:chOff x="1299960" y="1086840"/>
                  <a:chExt cx="88920" cy="151920"/>
                </a:xfrm>
              </p:grpSpPr>
              <p:sp>
                <p:nvSpPr>
                  <p:cNvPr id="3614" name=""/>
                  <p:cNvSpPr/>
                  <p:nvPr/>
                </p:nvSpPr>
                <p:spPr>
                  <a:xfrm>
                    <a:off x="1299960" y="1086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 flipH="1" flipV="1">
                    <a:off x="1326960" y="1139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 flipH="1" flipV="1">
                    <a:off x="1362600" y="1173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 flipH="1" flipV="1">
                    <a:off x="1332720" y="1173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 flipH="1" flipV="1">
                    <a:off x="1339200" y="1146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9" name=""/>
                <p:cNvGrpSpPr/>
                <p:nvPr/>
              </p:nvGrpSpPr>
              <p:grpSpPr>
                <a:xfrm>
                  <a:off x="1486440" y="1525680"/>
                  <a:ext cx="156240" cy="135720"/>
                  <a:chOff x="1486440" y="1525680"/>
                  <a:chExt cx="156240" cy="135720"/>
                </a:xfrm>
              </p:grpSpPr>
              <p:sp>
                <p:nvSpPr>
                  <p:cNvPr id="3620" name=""/>
                  <p:cNvSpPr/>
                  <p:nvPr/>
                </p:nvSpPr>
                <p:spPr>
                  <a:xfrm rot="15198000">
                    <a:off x="1513080" y="1527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 flipH="1">
                    <a:off x="1550520" y="153216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 flipH="1">
                    <a:off x="1566720" y="15595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1576440" y="15822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 flipH="1">
                    <a:off x="1552680" y="159372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5" name=""/>
                <p:cNvGrpSpPr/>
                <p:nvPr/>
              </p:nvGrpSpPr>
              <p:grpSpPr>
                <a:xfrm>
                  <a:off x="1382040" y="1492920"/>
                  <a:ext cx="165960" cy="155520"/>
                  <a:chOff x="1382040" y="1492920"/>
                  <a:chExt cx="165960" cy="155520"/>
                </a:xfrm>
              </p:grpSpPr>
              <p:sp>
                <p:nvSpPr>
                  <p:cNvPr id="3626" name=""/>
                  <p:cNvSpPr/>
                  <p:nvPr/>
                </p:nvSpPr>
                <p:spPr>
                  <a:xfrm rot="14358600">
                    <a:off x="1413720" y="1504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 flipH="1">
                    <a:off x="1457640" y="150156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 flipH="1">
                    <a:off x="1461960" y="15336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1474200" y="15566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 flipH="1">
                    <a:off x="1455840" y="15717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1" name=""/>
                <p:cNvGrpSpPr/>
                <p:nvPr/>
              </p:nvGrpSpPr>
              <p:grpSpPr>
                <a:xfrm>
                  <a:off x="1178280" y="1310760"/>
                  <a:ext cx="137520" cy="109440"/>
                  <a:chOff x="1178280" y="1310760"/>
                  <a:chExt cx="137520" cy="109440"/>
                </a:xfrm>
              </p:grpSpPr>
              <p:sp>
                <p:nvSpPr>
                  <p:cNvPr id="3632" name=""/>
                  <p:cNvSpPr/>
                  <p:nvPr/>
                </p:nvSpPr>
                <p:spPr>
                  <a:xfrm rot="16010400">
                    <a:off x="1195920" y="1299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 flipH="1">
                    <a:off x="1227960" y="131544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 flipH="1">
                    <a:off x="1254960" y="13366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5" name=""/>
                  <p:cNvSpPr/>
                  <p:nvPr/>
                </p:nvSpPr>
                <p:spPr>
                  <a:xfrm flipH="1">
                    <a:off x="1257120" y="13575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 flipH="1">
                    <a:off x="1233360" y="13651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7" name=""/>
                <p:cNvGrpSpPr/>
                <p:nvPr/>
              </p:nvGrpSpPr>
              <p:grpSpPr>
                <a:xfrm>
                  <a:off x="1186200" y="1384200"/>
                  <a:ext cx="160560" cy="144360"/>
                  <a:chOff x="1186200" y="1384200"/>
                  <a:chExt cx="160560" cy="144360"/>
                </a:xfrm>
              </p:grpSpPr>
              <p:sp>
                <p:nvSpPr>
                  <p:cNvPr id="3638" name=""/>
                  <p:cNvSpPr/>
                  <p:nvPr/>
                </p:nvSpPr>
                <p:spPr>
                  <a:xfrm rot="14881800">
                    <a:off x="1215360" y="1390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9" name=""/>
                  <p:cNvSpPr/>
                  <p:nvPr/>
                </p:nvSpPr>
                <p:spPr>
                  <a:xfrm flipH="1">
                    <a:off x="1255320" y="139176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0" name=""/>
                  <p:cNvSpPr/>
                  <p:nvPr/>
                </p:nvSpPr>
                <p:spPr>
                  <a:xfrm flipH="1">
                    <a:off x="1266840" y="142128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1277640" y="14443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 flipH="1">
                    <a:off x="1255680" y="14572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3" name=""/>
                <p:cNvGrpSpPr/>
                <p:nvPr/>
              </p:nvGrpSpPr>
              <p:grpSpPr>
                <a:xfrm>
                  <a:off x="1290240" y="1368360"/>
                  <a:ext cx="151920" cy="129960"/>
                  <a:chOff x="1290240" y="1368360"/>
                  <a:chExt cx="151920" cy="129960"/>
                </a:xfrm>
              </p:grpSpPr>
              <p:sp>
                <p:nvSpPr>
                  <p:cNvPr id="3644" name=""/>
                  <p:cNvSpPr/>
                  <p:nvPr/>
                </p:nvSpPr>
                <p:spPr>
                  <a:xfrm rot="15401400">
                    <a:off x="1314720" y="136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 flipH="1">
                    <a:off x="1350720" y="137484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 flipH="1">
                    <a:off x="1369800" y="14007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 flipH="1">
                    <a:off x="1378080" y="142308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 flipH="1">
                    <a:off x="1353600" y="14338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9" name=""/>
                <p:cNvGrpSpPr/>
                <p:nvPr/>
              </p:nvGrpSpPr>
              <p:grpSpPr>
                <a:xfrm>
                  <a:off x="1250280" y="1209600"/>
                  <a:ext cx="151920" cy="129600"/>
                  <a:chOff x="1250280" y="1209600"/>
                  <a:chExt cx="151920" cy="129600"/>
                </a:xfrm>
              </p:grpSpPr>
              <p:sp>
                <p:nvSpPr>
                  <p:cNvPr id="3650" name=""/>
                  <p:cNvSpPr/>
                  <p:nvPr/>
                </p:nvSpPr>
                <p:spPr>
                  <a:xfrm rot="16985400">
                    <a:off x="1274760" y="1208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 flipH="1">
                    <a:off x="1301760" y="124128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2" name=""/>
                  <p:cNvSpPr/>
                  <p:nvPr/>
                </p:nvSpPr>
                <p:spPr>
                  <a:xfrm flipH="1">
                    <a:off x="1339200" y="12538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 flipH="1">
                    <a:off x="1332000" y="12708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4" name=""/>
                  <p:cNvSpPr/>
                  <p:nvPr/>
                </p:nvSpPr>
                <p:spPr>
                  <a:xfrm flipH="1">
                    <a:off x="1310760" y="127332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5" name=""/>
                <p:cNvGrpSpPr/>
                <p:nvPr/>
              </p:nvGrpSpPr>
              <p:grpSpPr>
                <a:xfrm>
                  <a:off x="1458360" y="1235520"/>
                  <a:ext cx="168480" cy="172080"/>
                  <a:chOff x="1458360" y="1235520"/>
                  <a:chExt cx="168480" cy="172080"/>
                </a:xfrm>
              </p:grpSpPr>
              <p:sp>
                <p:nvSpPr>
                  <p:cNvPr id="3656" name=""/>
                  <p:cNvSpPr/>
                  <p:nvPr/>
                </p:nvSpPr>
                <p:spPr>
                  <a:xfrm rot="19036200">
                    <a:off x="1497960" y="1245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 flipH="1" flipV="1">
                    <a:off x="1514160" y="131688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 flipH="1" flipV="1">
                    <a:off x="1563480" y="13172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 flipH="1">
                    <a:off x="1541160" y="1330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 flipH="1" flipV="1">
                    <a:off x="1527840" y="131328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1" name=""/>
                <p:cNvGrpSpPr/>
                <p:nvPr/>
              </p:nvGrpSpPr>
              <p:grpSpPr>
                <a:xfrm>
                  <a:off x="1643400" y="1158480"/>
                  <a:ext cx="158760" cy="140400"/>
                  <a:chOff x="1643400" y="1158480"/>
                  <a:chExt cx="158760" cy="140400"/>
                </a:xfrm>
              </p:grpSpPr>
              <p:sp>
                <p:nvSpPr>
                  <p:cNvPr id="3662" name=""/>
                  <p:cNvSpPr/>
                  <p:nvPr/>
                </p:nvSpPr>
                <p:spPr>
                  <a:xfrm rot="4233000">
                    <a:off x="1671480" y="1162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3" name=""/>
                  <p:cNvSpPr/>
                  <p:nvPr/>
                </p:nvSpPr>
                <p:spPr>
                  <a:xfrm flipV="1">
                    <a:off x="1685880" y="120312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 flipV="1">
                    <a:off x="1707120" y="125136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 flipH="1" flipV="1">
                    <a:off x="1709640" y="12196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 flipV="1">
                    <a:off x="1725480" y="12182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7" name=""/>
                <p:cNvGrpSpPr/>
                <p:nvPr/>
              </p:nvGrpSpPr>
              <p:grpSpPr>
                <a:xfrm>
                  <a:off x="1723320" y="1274400"/>
                  <a:ext cx="156600" cy="137160"/>
                  <a:chOff x="1723320" y="1274400"/>
                  <a:chExt cx="156600" cy="137160"/>
                </a:xfrm>
              </p:grpSpPr>
              <p:sp>
                <p:nvSpPr>
                  <p:cNvPr id="3668" name=""/>
                  <p:cNvSpPr/>
                  <p:nvPr/>
                </p:nvSpPr>
                <p:spPr>
                  <a:xfrm rot="4353000">
                    <a:off x="1750320" y="1276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 flipV="1">
                    <a:off x="1762200" y="131760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 flipV="1">
                    <a:off x="1784520" y="13654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 flipH="1" flipV="1">
                    <a:off x="1788840" y="13330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2" name=""/>
                  <p:cNvSpPr/>
                  <p:nvPr/>
                </p:nvSpPr>
                <p:spPr>
                  <a:xfrm flipV="1">
                    <a:off x="1804320" y="133272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3" name=""/>
                <p:cNvGrpSpPr/>
                <p:nvPr/>
              </p:nvGrpSpPr>
              <p:grpSpPr>
                <a:xfrm>
                  <a:off x="1463040" y="1393560"/>
                  <a:ext cx="159480" cy="175320"/>
                  <a:chOff x="1463040" y="1393560"/>
                  <a:chExt cx="159480" cy="175320"/>
                </a:xfrm>
              </p:grpSpPr>
              <p:sp>
                <p:nvSpPr>
                  <p:cNvPr id="3674" name=""/>
                  <p:cNvSpPr/>
                  <p:nvPr/>
                </p:nvSpPr>
                <p:spPr>
                  <a:xfrm rot="19525800">
                    <a:off x="1497960" y="1405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 flipH="1" flipV="1">
                    <a:off x="1515240" y="14724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 flipH="1" flipV="1">
                    <a:off x="1563840" y="14799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 flipH="1">
                    <a:off x="1539000" y="14922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 flipH="1" flipV="1">
                    <a:off x="1528920" y="147060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9" name=""/>
                <p:cNvGrpSpPr/>
                <p:nvPr/>
              </p:nvGrpSpPr>
              <p:grpSpPr>
                <a:xfrm>
                  <a:off x="1302480" y="1374120"/>
                  <a:ext cx="165600" cy="165600"/>
                  <a:chOff x="1302480" y="1374120"/>
                  <a:chExt cx="165600" cy="165600"/>
                </a:xfrm>
              </p:grpSpPr>
              <p:sp>
                <p:nvSpPr>
                  <p:cNvPr id="3680" name=""/>
                  <p:cNvSpPr/>
                  <p:nvPr/>
                </p:nvSpPr>
                <p:spPr>
                  <a:xfrm rot="18890400">
                    <a:off x="1334160" y="1390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 flipH="1" flipV="1">
                    <a:off x="1356840" y="145656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 flipH="1" flipV="1">
                    <a:off x="1406520" y="14482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 flipH="1">
                    <a:off x="1382760" y="146196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 flipH="1" flipV="1">
                    <a:off x="1370880" y="145116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5" name=""/>
                <p:cNvGrpSpPr/>
                <p:nvPr/>
              </p:nvGrpSpPr>
              <p:grpSpPr>
                <a:xfrm>
                  <a:off x="1163880" y="1283400"/>
                  <a:ext cx="166680" cy="164160"/>
                  <a:chOff x="1163880" y="1283400"/>
                  <a:chExt cx="166680" cy="164160"/>
                </a:xfrm>
              </p:grpSpPr>
              <p:sp>
                <p:nvSpPr>
                  <p:cNvPr id="3686" name=""/>
                  <p:cNvSpPr/>
                  <p:nvPr/>
                </p:nvSpPr>
                <p:spPr>
                  <a:xfrm rot="18730200">
                    <a:off x="1195920" y="1299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 flipH="1" flipV="1">
                    <a:off x="1218600" y="136692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 flipH="1" flipV="1">
                    <a:off x="1267560" y="1356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 flipH="1">
                    <a:off x="1245240" y="13701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 flipH="1" flipV="1">
                    <a:off x="1232640" y="13604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1" name=""/>
                <p:cNvGrpSpPr/>
                <p:nvPr/>
              </p:nvGrpSpPr>
              <p:grpSpPr>
                <a:xfrm>
                  <a:off x="1144080" y="1189080"/>
                  <a:ext cx="162720" cy="174960"/>
                  <a:chOff x="1144080" y="1189080"/>
                  <a:chExt cx="162720" cy="174960"/>
                </a:xfrm>
              </p:grpSpPr>
              <p:sp>
                <p:nvSpPr>
                  <p:cNvPr id="3692" name=""/>
                  <p:cNvSpPr/>
                  <p:nvPr/>
                </p:nvSpPr>
                <p:spPr>
                  <a:xfrm rot="19362600">
                    <a:off x="1180800" y="1200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 flipH="1" flipV="1">
                    <a:off x="1197720" y="126864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4" name=""/>
                  <p:cNvSpPr/>
                  <p:nvPr/>
                </p:nvSpPr>
                <p:spPr>
                  <a:xfrm flipH="1" flipV="1">
                    <a:off x="1246680" y="12740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5" name=""/>
                  <p:cNvSpPr/>
                  <p:nvPr/>
                </p:nvSpPr>
                <p:spPr>
                  <a:xfrm flipH="1">
                    <a:off x="1222560" y="12866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 flipH="1" flipV="1">
                    <a:off x="1211400" y="12664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97" name=""/>
              <p:cNvGrpSpPr/>
              <p:nvPr/>
            </p:nvGrpSpPr>
            <p:grpSpPr>
              <a:xfrm>
                <a:off x="1758240" y="1051920"/>
                <a:ext cx="735840" cy="609480"/>
                <a:chOff x="1758240" y="1051920"/>
                <a:chExt cx="735840" cy="609480"/>
              </a:xfrm>
            </p:grpSpPr>
            <p:grpSp>
              <p:nvGrpSpPr>
                <p:cNvPr id="3698" name=""/>
                <p:cNvGrpSpPr/>
                <p:nvPr/>
              </p:nvGrpSpPr>
              <p:grpSpPr>
                <a:xfrm>
                  <a:off x="2056320" y="1130760"/>
                  <a:ext cx="163800" cy="150480"/>
                  <a:chOff x="2056320" y="1130760"/>
                  <a:chExt cx="163800" cy="150480"/>
                </a:xfrm>
              </p:grpSpPr>
              <p:sp>
                <p:nvSpPr>
                  <p:cNvPr id="3699" name=""/>
                  <p:cNvSpPr/>
                  <p:nvPr/>
                </p:nvSpPr>
                <p:spPr>
                  <a:xfrm rot="3815400">
                    <a:off x="2086920" y="1139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 flipV="1">
                    <a:off x="2109240" y="117900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 flipV="1">
                    <a:off x="2126880" y="12286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 flipH="1" flipV="1">
                    <a:off x="2124360" y="11984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 flipV="1">
                    <a:off x="2140920" y="11941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04" name=""/>
                <p:cNvSpPr/>
                <p:nvPr/>
              </p:nvSpPr>
              <p:spPr>
                <a:xfrm flipH="1">
                  <a:off x="2052720" y="142812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1914120" y="13143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 flipH="1" flipV="1">
                  <a:off x="2032920" y="120060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 flipH="1" flipV="1">
                  <a:off x="2270880" y="131436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 flipH="1">
                  <a:off x="2112120" y="145116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 flipH="1" flipV="1">
                  <a:off x="2151360" y="140544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 flipH="1" flipV="1">
                  <a:off x="1992600" y="122292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 flipV="1">
                  <a:off x="2092320" y="124560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 flipH="1">
                  <a:off x="1933560" y="133740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H="1" flipV="1">
                  <a:off x="2191680" y="133740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 flipH="1" flipV="1">
                  <a:off x="2231280" y="133704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 flipV="1">
                  <a:off x="2350080" y="140544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 flipV="1">
                  <a:off x="2290680" y="129132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 flipH="1">
                  <a:off x="2230920" y="149652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 flipH="1">
                  <a:off x="2012760" y="135972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 flipH="1" flipV="1">
                  <a:off x="1933200" y="126864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20" name=""/>
                <p:cNvGrpSpPr/>
                <p:nvPr/>
              </p:nvGrpSpPr>
              <p:grpSpPr>
                <a:xfrm>
                  <a:off x="1961640" y="1051920"/>
                  <a:ext cx="151560" cy="176040"/>
                  <a:chOff x="1961640" y="1051920"/>
                  <a:chExt cx="151560" cy="176040"/>
                </a:xfrm>
              </p:grpSpPr>
              <p:sp>
                <p:nvSpPr>
                  <p:cNvPr id="3721" name=""/>
                  <p:cNvSpPr/>
                  <p:nvPr/>
                </p:nvSpPr>
                <p:spPr>
                  <a:xfrm rot="1745400">
                    <a:off x="1992600" y="1063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2" name=""/>
                  <p:cNvSpPr/>
                  <p:nvPr/>
                </p:nvSpPr>
                <p:spPr>
                  <a:xfrm flipH="1" flipV="1">
                    <a:off x="2033280" y="111132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3" name=""/>
                  <p:cNvSpPr/>
                  <p:nvPr/>
                </p:nvSpPr>
                <p:spPr>
                  <a:xfrm flipV="1">
                    <a:off x="2043360" y="1158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4" name=""/>
                  <p:cNvSpPr/>
                  <p:nvPr/>
                </p:nvSpPr>
                <p:spPr>
                  <a:xfrm flipH="1" flipV="1">
                    <a:off x="2022120" y="11433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5" name=""/>
                  <p:cNvSpPr/>
                  <p:nvPr/>
                </p:nvSpPr>
                <p:spPr>
                  <a:xfrm flipV="1">
                    <a:off x="2039400" y="11228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6" name=""/>
                <p:cNvGrpSpPr/>
                <p:nvPr/>
              </p:nvGrpSpPr>
              <p:grpSpPr>
                <a:xfrm>
                  <a:off x="2026440" y="1280160"/>
                  <a:ext cx="142200" cy="174960"/>
                  <a:chOff x="2026440" y="1280160"/>
                  <a:chExt cx="142200" cy="174960"/>
                </a:xfrm>
              </p:grpSpPr>
              <p:sp>
                <p:nvSpPr>
                  <p:cNvPr id="3727" name=""/>
                  <p:cNvSpPr/>
                  <p:nvPr/>
                </p:nvSpPr>
                <p:spPr>
                  <a:xfrm rot="20187000">
                    <a:off x="2053080" y="1291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8" name=""/>
                  <p:cNvSpPr/>
                  <p:nvPr/>
                </p:nvSpPr>
                <p:spPr>
                  <a:xfrm flipH="1" flipV="1">
                    <a:off x="2072160" y="135360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9" name=""/>
                  <p:cNvSpPr/>
                  <p:nvPr/>
                </p:nvSpPr>
                <p:spPr>
                  <a:xfrm flipH="1" flipV="1">
                    <a:off x="2118600" y="13701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0" name=""/>
                  <p:cNvSpPr/>
                  <p:nvPr/>
                </p:nvSpPr>
                <p:spPr>
                  <a:xfrm flipH="1">
                    <a:off x="2090880" y="138096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1" name=""/>
                  <p:cNvSpPr/>
                  <p:nvPr/>
                </p:nvSpPr>
                <p:spPr>
                  <a:xfrm flipH="1" flipV="1">
                    <a:off x="2086200" y="13543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2" name=""/>
                <p:cNvGrpSpPr/>
                <p:nvPr/>
              </p:nvGrpSpPr>
              <p:grpSpPr>
                <a:xfrm>
                  <a:off x="2112480" y="1200600"/>
                  <a:ext cx="88920" cy="151920"/>
                  <a:chOff x="2112480" y="1200600"/>
                  <a:chExt cx="88920" cy="151920"/>
                </a:xfrm>
              </p:grpSpPr>
              <p:sp>
                <p:nvSpPr>
                  <p:cNvPr id="3733" name=""/>
                  <p:cNvSpPr/>
                  <p:nvPr/>
                </p:nvSpPr>
                <p:spPr>
                  <a:xfrm>
                    <a:off x="2112480" y="1200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4" name=""/>
                  <p:cNvSpPr/>
                  <p:nvPr/>
                </p:nvSpPr>
                <p:spPr>
                  <a:xfrm flipH="1" flipV="1">
                    <a:off x="2139480" y="1253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5" name=""/>
                  <p:cNvSpPr/>
                  <p:nvPr/>
                </p:nvSpPr>
                <p:spPr>
                  <a:xfrm flipH="1" flipV="1">
                    <a:off x="2175120" y="1287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6" name=""/>
                  <p:cNvSpPr/>
                  <p:nvPr/>
                </p:nvSpPr>
                <p:spPr>
                  <a:xfrm flipH="1" flipV="1">
                    <a:off x="2145240" y="1287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7" name=""/>
                  <p:cNvSpPr/>
                  <p:nvPr/>
                </p:nvSpPr>
                <p:spPr>
                  <a:xfrm flipH="1" flipV="1">
                    <a:off x="2151720" y="1260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8" name=""/>
                <p:cNvGrpSpPr/>
                <p:nvPr/>
              </p:nvGrpSpPr>
              <p:grpSpPr>
                <a:xfrm>
                  <a:off x="1927800" y="1465920"/>
                  <a:ext cx="143640" cy="118080"/>
                  <a:chOff x="1927800" y="1465920"/>
                  <a:chExt cx="143640" cy="118080"/>
                </a:xfrm>
              </p:grpSpPr>
              <p:sp>
                <p:nvSpPr>
                  <p:cNvPr id="3739" name=""/>
                  <p:cNvSpPr/>
                  <p:nvPr/>
                </p:nvSpPr>
                <p:spPr>
                  <a:xfrm rot="15769200">
                    <a:off x="1948320" y="1458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0" name=""/>
                  <p:cNvSpPr/>
                  <p:nvPr/>
                </p:nvSpPr>
                <p:spPr>
                  <a:xfrm flipH="1">
                    <a:off x="1981800" y="147132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1" name=""/>
                  <p:cNvSpPr/>
                  <p:nvPr/>
                </p:nvSpPr>
                <p:spPr>
                  <a:xfrm flipH="1">
                    <a:off x="2005920" y="14943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2" name=""/>
                  <p:cNvSpPr/>
                  <p:nvPr/>
                </p:nvSpPr>
                <p:spPr>
                  <a:xfrm flipH="1">
                    <a:off x="2010240" y="151596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3" name=""/>
                  <p:cNvSpPr/>
                  <p:nvPr/>
                </p:nvSpPr>
                <p:spPr>
                  <a:xfrm flipH="1">
                    <a:off x="1986120" y="152496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4" name=""/>
                <p:cNvGrpSpPr/>
                <p:nvPr/>
              </p:nvGrpSpPr>
              <p:grpSpPr>
                <a:xfrm>
                  <a:off x="1854360" y="1132560"/>
                  <a:ext cx="88920" cy="151920"/>
                  <a:chOff x="1854360" y="1132560"/>
                  <a:chExt cx="88920" cy="151920"/>
                </a:xfrm>
              </p:grpSpPr>
              <p:sp>
                <p:nvSpPr>
                  <p:cNvPr id="3745" name=""/>
                  <p:cNvSpPr/>
                  <p:nvPr/>
                </p:nvSpPr>
                <p:spPr>
                  <a:xfrm>
                    <a:off x="1854360" y="1132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6" name=""/>
                  <p:cNvSpPr/>
                  <p:nvPr/>
                </p:nvSpPr>
                <p:spPr>
                  <a:xfrm flipH="1" flipV="1">
                    <a:off x="1881360" y="1185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7" name=""/>
                  <p:cNvSpPr/>
                  <p:nvPr/>
                </p:nvSpPr>
                <p:spPr>
                  <a:xfrm flipH="1" flipV="1">
                    <a:off x="1917000" y="1219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8" name=""/>
                  <p:cNvSpPr/>
                  <p:nvPr/>
                </p:nvSpPr>
                <p:spPr>
                  <a:xfrm flipH="1" flipV="1">
                    <a:off x="1887120" y="1218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9" name=""/>
                  <p:cNvSpPr/>
                  <p:nvPr/>
                </p:nvSpPr>
                <p:spPr>
                  <a:xfrm flipH="1" flipV="1">
                    <a:off x="1893600" y="1191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0" name=""/>
                <p:cNvGrpSpPr/>
                <p:nvPr/>
              </p:nvGrpSpPr>
              <p:grpSpPr>
                <a:xfrm>
                  <a:off x="2191680" y="1177560"/>
                  <a:ext cx="88920" cy="151920"/>
                  <a:chOff x="2191680" y="1177560"/>
                  <a:chExt cx="88920" cy="151920"/>
                </a:xfrm>
              </p:grpSpPr>
              <p:sp>
                <p:nvSpPr>
                  <p:cNvPr id="3751" name=""/>
                  <p:cNvSpPr/>
                  <p:nvPr/>
                </p:nvSpPr>
                <p:spPr>
                  <a:xfrm>
                    <a:off x="2191680" y="1177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2" name=""/>
                  <p:cNvSpPr/>
                  <p:nvPr/>
                </p:nvSpPr>
                <p:spPr>
                  <a:xfrm flipH="1" flipV="1">
                    <a:off x="2218680" y="1230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3" name=""/>
                  <p:cNvSpPr/>
                  <p:nvPr/>
                </p:nvSpPr>
                <p:spPr>
                  <a:xfrm flipH="1" flipV="1">
                    <a:off x="2254320" y="1264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4" name=""/>
                  <p:cNvSpPr/>
                  <p:nvPr/>
                </p:nvSpPr>
                <p:spPr>
                  <a:xfrm flipH="1" flipV="1">
                    <a:off x="2224440" y="1263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5" name=""/>
                  <p:cNvSpPr/>
                  <p:nvPr/>
                </p:nvSpPr>
                <p:spPr>
                  <a:xfrm flipH="1" flipV="1">
                    <a:off x="2230920" y="123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6" name=""/>
                <p:cNvGrpSpPr/>
                <p:nvPr/>
              </p:nvGrpSpPr>
              <p:grpSpPr>
                <a:xfrm>
                  <a:off x="1914120" y="1086840"/>
                  <a:ext cx="88920" cy="151920"/>
                  <a:chOff x="1914120" y="1086840"/>
                  <a:chExt cx="88920" cy="151920"/>
                </a:xfrm>
              </p:grpSpPr>
              <p:sp>
                <p:nvSpPr>
                  <p:cNvPr id="3757" name=""/>
                  <p:cNvSpPr/>
                  <p:nvPr/>
                </p:nvSpPr>
                <p:spPr>
                  <a:xfrm>
                    <a:off x="1914120" y="1086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8" name=""/>
                  <p:cNvSpPr/>
                  <p:nvPr/>
                </p:nvSpPr>
                <p:spPr>
                  <a:xfrm flipH="1" flipV="1">
                    <a:off x="1941120" y="1139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9" name=""/>
                  <p:cNvSpPr/>
                  <p:nvPr/>
                </p:nvSpPr>
                <p:spPr>
                  <a:xfrm flipH="1" flipV="1">
                    <a:off x="1976760" y="1173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0" name=""/>
                  <p:cNvSpPr/>
                  <p:nvPr/>
                </p:nvSpPr>
                <p:spPr>
                  <a:xfrm flipH="1" flipV="1">
                    <a:off x="1946880" y="1173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1" name=""/>
                  <p:cNvSpPr/>
                  <p:nvPr/>
                </p:nvSpPr>
                <p:spPr>
                  <a:xfrm flipH="1" flipV="1">
                    <a:off x="1953360" y="1146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2" name=""/>
                <p:cNvGrpSpPr/>
                <p:nvPr/>
              </p:nvGrpSpPr>
              <p:grpSpPr>
                <a:xfrm>
                  <a:off x="2100600" y="1525680"/>
                  <a:ext cx="156240" cy="135720"/>
                  <a:chOff x="2100600" y="1525680"/>
                  <a:chExt cx="156240" cy="135720"/>
                </a:xfrm>
              </p:grpSpPr>
              <p:sp>
                <p:nvSpPr>
                  <p:cNvPr id="3763" name=""/>
                  <p:cNvSpPr/>
                  <p:nvPr/>
                </p:nvSpPr>
                <p:spPr>
                  <a:xfrm rot="15198000">
                    <a:off x="2127240" y="1527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4" name=""/>
                  <p:cNvSpPr/>
                  <p:nvPr/>
                </p:nvSpPr>
                <p:spPr>
                  <a:xfrm flipH="1">
                    <a:off x="2164680" y="153216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5" name=""/>
                  <p:cNvSpPr/>
                  <p:nvPr/>
                </p:nvSpPr>
                <p:spPr>
                  <a:xfrm flipH="1">
                    <a:off x="2180880" y="15595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6" name=""/>
                  <p:cNvSpPr/>
                  <p:nvPr/>
                </p:nvSpPr>
                <p:spPr>
                  <a:xfrm>
                    <a:off x="2190600" y="15822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7" name=""/>
                  <p:cNvSpPr/>
                  <p:nvPr/>
                </p:nvSpPr>
                <p:spPr>
                  <a:xfrm flipH="1">
                    <a:off x="2166840" y="159372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8" name=""/>
                <p:cNvGrpSpPr/>
                <p:nvPr/>
              </p:nvGrpSpPr>
              <p:grpSpPr>
                <a:xfrm>
                  <a:off x="1996200" y="1492920"/>
                  <a:ext cx="165960" cy="155520"/>
                  <a:chOff x="1996200" y="1492920"/>
                  <a:chExt cx="165960" cy="155520"/>
                </a:xfrm>
              </p:grpSpPr>
              <p:sp>
                <p:nvSpPr>
                  <p:cNvPr id="3769" name=""/>
                  <p:cNvSpPr/>
                  <p:nvPr/>
                </p:nvSpPr>
                <p:spPr>
                  <a:xfrm rot="14358600">
                    <a:off x="2027880" y="1504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0" name=""/>
                  <p:cNvSpPr/>
                  <p:nvPr/>
                </p:nvSpPr>
                <p:spPr>
                  <a:xfrm flipH="1">
                    <a:off x="2071800" y="150156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1" name=""/>
                  <p:cNvSpPr/>
                  <p:nvPr/>
                </p:nvSpPr>
                <p:spPr>
                  <a:xfrm flipH="1">
                    <a:off x="2076120" y="15336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2" name=""/>
                  <p:cNvSpPr/>
                  <p:nvPr/>
                </p:nvSpPr>
                <p:spPr>
                  <a:xfrm>
                    <a:off x="2088360" y="15566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3" name=""/>
                  <p:cNvSpPr/>
                  <p:nvPr/>
                </p:nvSpPr>
                <p:spPr>
                  <a:xfrm flipH="1">
                    <a:off x="2070000" y="15717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4" name=""/>
                <p:cNvGrpSpPr/>
                <p:nvPr/>
              </p:nvGrpSpPr>
              <p:grpSpPr>
                <a:xfrm>
                  <a:off x="1792440" y="1310760"/>
                  <a:ext cx="137520" cy="109440"/>
                  <a:chOff x="1792440" y="1310760"/>
                  <a:chExt cx="137520" cy="109440"/>
                </a:xfrm>
              </p:grpSpPr>
              <p:sp>
                <p:nvSpPr>
                  <p:cNvPr id="3775" name=""/>
                  <p:cNvSpPr/>
                  <p:nvPr/>
                </p:nvSpPr>
                <p:spPr>
                  <a:xfrm rot="16010400">
                    <a:off x="1810080" y="1299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6" name=""/>
                  <p:cNvSpPr/>
                  <p:nvPr/>
                </p:nvSpPr>
                <p:spPr>
                  <a:xfrm flipH="1">
                    <a:off x="1842120" y="131544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7" name=""/>
                  <p:cNvSpPr/>
                  <p:nvPr/>
                </p:nvSpPr>
                <p:spPr>
                  <a:xfrm flipH="1">
                    <a:off x="1869120" y="13366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8" name=""/>
                  <p:cNvSpPr/>
                  <p:nvPr/>
                </p:nvSpPr>
                <p:spPr>
                  <a:xfrm flipH="1">
                    <a:off x="1871280" y="13575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9" name=""/>
                  <p:cNvSpPr/>
                  <p:nvPr/>
                </p:nvSpPr>
                <p:spPr>
                  <a:xfrm flipH="1">
                    <a:off x="1847520" y="13651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0" name=""/>
                <p:cNvGrpSpPr/>
                <p:nvPr/>
              </p:nvGrpSpPr>
              <p:grpSpPr>
                <a:xfrm>
                  <a:off x="1800360" y="1384200"/>
                  <a:ext cx="160560" cy="144360"/>
                  <a:chOff x="1800360" y="1384200"/>
                  <a:chExt cx="160560" cy="144360"/>
                </a:xfrm>
              </p:grpSpPr>
              <p:sp>
                <p:nvSpPr>
                  <p:cNvPr id="3781" name=""/>
                  <p:cNvSpPr/>
                  <p:nvPr/>
                </p:nvSpPr>
                <p:spPr>
                  <a:xfrm rot="14881800">
                    <a:off x="1829520" y="1390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2" name=""/>
                  <p:cNvSpPr/>
                  <p:nvPr/>
                </p:nvSpPr>
                <p:spPr>
                  <a:xfrm flipH="1">
                    <a:off x="1869480" y="139176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3" name=""/>
                  <p:cNvSpPr/>
                  <p:nvPr/>
                </p:nvSpPr>
                <p:spPr>
                  <a:xfrm flipH="1">
                    <a:off x="1881000" y="142128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4" name=""/>
                  <p:cNvSpPr/>
                  <p:nvPr/>
                </p:nvSpPr>
                <p:spPr>
                  <a:xfrm>
                    <a:off x="1891800" y="14443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5" name=""/>
                  <p:cNvSpPr/>
                  <p:nvPr/>
                </p:nvSpPr>
                <p:spPr>
                  <a:xfrm flipH="1">
                    <a:off x="1869840" y="14572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6" name=""/>
                <p:cNvGrpSpPr/>
                <p:nvPr/>
              </p:nvGrpSpPr>
              <p:grpSpPr>
                <a:xfrm>
                  <a:off x="1904400" y="1368360"/>
                  <a:ext cx="151920" cy="129960"/>
                  <a:chOff x="1904400" y="1368360"/>
                  <a:chExt cx="151920" cy="129960"/>
                </a:xfrm>
              </p:grpSpPr>
              <p:sp>
                <p:nvSpPr>
                  <p:cNvPr id="3787" name=""/>
                  <p:cNvSpPr/>
                  <p:nvPr/>
                </p:nvSpPr>
                <p:spPr>
                  <a:xfrm rot="15401400">
                    <a:off x="1928880" y="136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"/>
                  <p:cNvSpPr/>
                  <p:nvPr/>
                </p:nvSpPr>
                <p:spPr>
                  <a:xfrm flipH="1">
                    <a:off x="1964880" y="137484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9" name=""/>
                  <p:cNvSpPr/>
                  <p:nvPr/>
                </p:nvSpPr>
                <p:spPr>
                  <a:xfrm flipH="1">
                    <a:off x="1983960" y="14007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0" name=""/>
                  <p:cNvSpPr/>
                  <p:nvPr/>
                </p:nvSpPr>
                <p:spPr>
                  <a:xfrm flipH="1">
                    <a:off x="1992240" y="142308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 flipH="1">
                    <a:off x="1967760" y="14338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2" name=""/>
                <p:cNvGrpSpPr/>
                <p:nvPr/>
              </p:nvGrpSpPr>
              <p:grpSpPr>
                <a:xfrm>
                  <a:off x="1864440" y="1209600"/>
                  <a:ext cx="151920" cy="129600"/>
                  <a:chOff x="1864440" y="1209600"/>
                  <a:chExt cx="151920" cy="129600"/>
                </a:xfrm>
              </p:grpSpPr>
              <p:sp>
                <p:nvSpPr>
                  <p:cNvPr id="3793" name=""/>
                  <p:cNvSpPr/>
                  <p:nvPr/>
                </p:nvSpPr>
                <p:spPr>
                  <a:xfrm rot="16985400">
                    <a:off x="1888920" y="1208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 flipH="1">
                    <a:off x="1915920" y="124128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 flipH="1">
                    <a:off x="1953360" y="12538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 flipH="1">
                    <a:off x="1946160" y="12708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"/>
                  <p:cNvSpPr/>
                  <p:nvPr/>
                </p:nvSpPr>
                <p:spPr>
                  <a:xfrm flipH="1">
                    <a:off x="1924920" y="127332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8" name=""/>
                <p:cNvGrpSpPr/>
                <p:nvPr/>
              </p:nvGrpSpPr>
              <p:grpSpPr>
                <a:xfrm>
                  <a:off x="2072520" y="1235520"/>
                  <a:ext cx="168480" cy="172080"/>
                  <a:chOff x="2072520" y="1235520"/>
                  <a:chExt cx="168480" cy="172080"/>
                </a:xfrm>
              </p:grpSpPr>
              <p:sp>
                <p:nvSpPr>
                  <p:cNvPr id="3799" name=""/>
                  <p:cNvSpPr/>
                  <p:nvPr/>
                </p:nvSpPr>
                <p:spPr>
                  <a:xfrm rot="19036200">
                    <a:off x="2112120" y="1245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"/>
                  <p:cNvSpPr/>
                  <p:nvPr/>
                </p:nvSpPr>
                <p:spPr>
                  <a:xfrm flipH="1" flipV="1">
                    <a:off x="2128320" y="131688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 flipH="1" flipV="1">
                    <a:off x="2177640" y="13172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"/>
                  <p:cNvSpPr/>
                  <p:nvPr/>
                </p:nvSpPr>
                <p:spPr>
                  <a:xfrm flipH="1">
                    <a:off x="2155320" y="1330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"/>
                  <p:cNvSpPr/>
                  <p:nvPr/>
                </p:nvSpPr>
                <p:spPr>
                  <a:xfrm flipH="1" flipV="1">
                    <a:off x="2142000" y="131328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4" name=""/>
                <p:cNvGrpSpPr/>
                <p:nvPr/>
              </p:nvGrpSpPr>
              <p:grpSpPr>
                <a:xfrm>
                  <a:off x="2257560" y="1158480"/>
                  <a:ext cx="158760" cy="140400"/>
                  <a:chOff x="2257560" y="1158480"/>
                  <a:chExt cx="158760" cy="140400"/>
                </a:xfrm>
              </p:grpSpPr>
              <p:sp>
                <p:nvSpPr>
                  <p:cNvPr id="3805" name=""/>
                  <p:cNvSpPr/>
                  <p:nvPr/>
                </p:nvSpPr>
                <p:spPr>
                  <a:xfrm rot="4233000">
                    <a:off x="2285640" y="1162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"/>
                  <p:cNvSpPr/>
                  <p:nvPr/>
                </p:nvSpPr>
                <p:spPr>
                  <a:xfrm flipV="1">
                    <a:off x="2300040" y="120312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 flipV="1">
                    <a:off x="2321280" y="125136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 flipH="1" flipV="1">
                    <a:off x="2323800" y="12196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 flipV="1">
                    <a:off x="2339640" y="12182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0" name=""/>
                <p:cNvGrpSpPr/>
                <p:nvPr/>
              </p:nvGrpSpPr>
              <p:grpSpPr>
                <a:xfrm>
                  <a:off x="2337480" y="1274400"/>
                  <a:ext cx="156600" cy="137160"/>
                  <a:chOff x="2337480" y="1274400"/>
                  <a:chExt cx="156600" cy="137160"/>
                </a:xfrm>
              </p:grpSpPr>
              <p:sp>
                <p:nvSpPr>
                  <p:cNvPr id="3811" name=""/>
                  <p:cNvSpPr/>
                  <p:nvPr/>
                </p:nvSpPr>
                <p:spPr>
                  <a:xfrm rot="4353000">
                    <a:off x="2364480" y="1276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 flipV="1">
                    <a:off x="2376360" y="131760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 flipV="1">
                    <a:off x="2398680" y="13654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 flipH="1" flipV="1">
                    <a:off x="2403000" y="13330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"/>
                  <p:cNvSpPr/>
                  <p:nvPr/>
                </p:nvSpPr>
                <p:spPr>
                  <a:xfrm flipV="1">
                    <a:off x="2418480" y="133272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6" name=""/>
                <p:cNvGrpSpPr/>
                <p:nvPr/>
              </p:nvGrpSpPr>
              <p:grpSpPr>
                <a:xfrm>
                  <a:off x="2077200" y="1393560"/>
                  <a:ext cx="159480" cy="175320"/>
                  <a:chOff x="2077200" y="1393560"/>
                  <a:chExt cx="159480" cy="175320"/>
                </a:xfrm>
              </p:grpSpPr>
              <p:sp>
                <p:nvSpPr>
                  <p:cNvPr id="3817" name=""/>
                  <p:cNvSpPr/>
                  <p:nvPr/>
                </p:nvSpPr>
                <p:spPr>
                  <a:xfrm rot="19525800">
                    <a:off x="2112120" y="1405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 flipH="1" flipV="1">
                    <a:off x="2129400" y="14724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"/>
                  <p:cNvSpPr/>
                  <p:nvPr/>
                </p:nvSpPr>
                <p:spPr>
                  <a:xfrm flipH="1" flipV="1">
                    <a:off x="2178000" y="14799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 flipH="1">
                    <a:off x="2153160" y="14922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 flipH="1" flipV="1">
                    <a:off x="2143080" y="147060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2" name=""/>
                <p:cNvGrpSpPr/>
                <p:nvPr/>
              </p:nvGrpSpPr>
              <p:grpSpPr>
                <a:xfrm>
                  <a:off x="1916640" y="1374120"/>
                  <a:ext cx="165600" cy="165600"/>
                  <a:chOff x="1916640" y="1374120"/>
                  <a:chExt cx="165600" cy="165600"/>
                </a:xfrm>
              </p:grpSpPr>
              <p:sp>
                <p:nvSpPr>
                  <p:cNvPr id="3823" name=""/>
                  <p:cNvSpPr/>
                  <p:nvPr/>
                </p:nvSpPr>
                <p:spPr>
                  <a:xfrm rot="18890400">
                    <a:off x="1948320" y="1390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"/>
                  <p:cNvSpPr/>
                  <p:nvPr/>
                </p:nvSpPr>
                <p:spPr>
                  <a:xfrm flipH="1" flipV="1">
                    <a:off x="1971000" y="145656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"/>
                  <p:cNvSpPr/>
                  <p:nvPr/>
                </p:nvSpPr>
                <p:spPr>
                  <a:xfrm flipH="1" flipV="1">
                    <a:off x="2020680" y="14482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 flipH="1">
                    <a:off x="1996920" y="146196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 flipH="1" flipV="1">
                    <a:off x="1985040" y="145116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8" name=""/>
                <p:cNvGrpSpPr/>
                <p:nvPr/>
              </p:nvGrpSpPr>
              <p:grpSpPr>
                <a:xfrm>
                  <a:off x="1778040" y="1283400"/>
                  <a:ext cx="166680" cy="164160"/>
                  <a:chOff x="1778040" y="1283400"/>
                  <a:chExt cx="166680" cy="164160"/>
                </a:xfrm>
              </p:grpSpPr>
              <p:sp>
                <p:nvSpPr>
                  <p:cNvPr id="3829" name=""/>
                  <p:cNvSpPr/>
                  <p:nvPr/>
                </p:nvSpPr>
                <p:spPr>
                  <a:xfrm rot="18730200">
                    <a:off x="1810080" y="1299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"/>
                  <p:cNvSpPr/>
                  <p:nvPr/>
                </p:nvSpPr>
                <p:spPr>
                  <a:xfrm flipH="1" flipV="1">
                    <a:off x="1832760" y="136692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 flipH="1" flipV="1">
                    <a:off x="1881720" y="1356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 flipH="1">
                    <a:off x="1859400" y="13701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"/>
                  <p:cNvSpPr/>
                  <p:nvPr/>
                </p:nvSpPr>
                <p:spPr>
                  <a:xfrm flipH="1" flipV="1">
                    <a:off x="1846800" y="13604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4" name=""/>
                <p:cNvGrpSpPr/>
                <p:nvPr/>
              </p:nvGrpSpPr>
              <p:grpSpPr>
                <a:xfrm>
                  <a:off x="1758240" y="1189080"/>
                  <a:ext cx="162720" cy="174960"/>
                  <a:chOff x="1758240" y="1189080"/>
                  <a:chExt cx="162720" cy="174960"/>
                </a:xfrm>
              </p:grpSpPr>
              <p:sp>
                <p:nvSpPr>
                  <p:cNvPr id="3835" name=""/>
                  <p:cNvSpPr/>
                  <p:nvPr/>
                </p:nvSpPr>
                <p:spPr>
                  <a:xfrm rot="19362600">
                    <a:off x="1794960" y="1200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 flipH="1" flipV="1">
                    <a:off x="1811880" y="126864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 flipH="1" flipV="1">
                    <a:off x="1860840" y="12740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 flipH="1">
                    <a:off x="1836720" y="12866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 flipH="1" flipV="1">
                    <a:off x="1825560" y="12664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0" name=""/>
              <p:cNvGrpSpPr/>
              <p:nvPr/>
            </p:nvGrpSpPr>
            <p:grpSpPr>
              <a:xfrm>
                <a:off x="1671120" y="2748960"/>
                <a:ext cx="735840" cy="609480"/>
                <a:chOff x="1671120" y="2748960"/>
                <a:chExt cx="735840" cy="609480"/>
              </a:xfrm>
            </p:grpSpPr>
            <p:grpSp>
              <p:nvGrpSpPr>
                <p:cNvPr id="3841" name=""/>
                <p:cNvGrpSpPr/>
                <p:nvPr/>
              </p:nvGrpSpPr>
              <p:grpSpPr>
                <a:xfrm>
                  <a:off x="1969200" y="2827800"/>
                  <a:ext cx="163800" cy="150480"/>
                  <a:chOff x="1969200" y="2827800"/>
                  <a:chExt cx="163800" cy="150480"/>
                </a:xfrm>
              </p:grpSpPr>
              <p:sp>
                <p:nvSpPr>
                  <p:cNvPr id="3842" name=""/>
                  <p:cNvSpPr/>
                  <p:nvPr/>
                </p:nvSpPr>
                <p:spPr>
                  <a:xfrm rot="3815400">
                    <a:off x="1999800" y="2836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 flipV="1">
                    <a:off x="2022120" y="287604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"/>
                  <p:cNvSpPr/>
                  <p:nvPr/>
                </p:nvSpPr>
                <p:spPr>
                  <a:xfrm flipV="1">
                    <a:off x="2039760" y="292572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"/>
                  <p:cNvSpPr/>
                  <p:nvPr/>
                </p:nvSpPr>
                <p:spPr>
                  <a:xfrm flipH="1" flipV="1">
                    <a:off x="2037240" y="289548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 flipV="1">
                    <a:off x="2053800" y="289116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7" name=""/>
                <p:cNvSpPr/>
                <p:nvPr/>
              </p:nvSpPr>
              <p:spPr>
                <a:xfrm flipH="1">
                  <a:off x="1965600" y="312516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>
                  <a:off x="1827000" y="30114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 flipH="1" flipV="1">
                  <a:off x="1945800" y="289764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 flipH="1" flipV="1">
                  <a:off x="2183760" y="301140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 flipH="1">
                  <a:off x="2025000" y="314820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 flipH="1" flipV="1">
                  <a:off x="2064240" y="310248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 flipH="1" flipV="1">
                  <a:off x="1905480" y="291996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 flipV="1">
                  <a:off x="2005200" y="294264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 flipH="1">
                  <a:off x="1846440" y="303444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 flipH="1" flipV="1">
                  <a:off x="2104560" y="303444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 flipH="1" flipV="1">
                  <a:off x="2144160" y="303408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 flipV="1">
                  <a:off x="2262960" y="310248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 flipV="1">
                  <a:off x="2203560" y="298836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 flipH="1">
                  <a:off x="2143800" y="319356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 flipH="1">
                  <a:off x="1925640" y="305676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 flipH="1" flipV="1">
                  <a:off x="1846080" y="296568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63" name=""/>
                <p:cNvGrpSpPr/>
                <p:nvPr/>
              </p:nvGrpSpPr>
              <p:grpSpPr>
                <a:xfrm>
                  <a:off x="1874520" y="2748960"/>
                  <a:ext cx="151560" cy="176040"/>
                  <a:chOff x="1874520" y="2748960"/>
                  <a:chExt cx="151560" cy="176040"/>
                </a:xfrm>
              </p:grpSpPr>
              <p:sp>
                <p:nvSpPr>
                  <p:cNvPr id="3864" name=""/>
                  <p:cNvSpPr/>
                  <p:nvPr/>
                </p:nvSpPr>
                <p:spPr>
                  <a:xfrm rot="1745400">
                    <a:off x="1905480" y="2760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"/>
                  <p:cNvSpPr/>
                  <p:nvPr/>
                </p:nvSpPr>
                <p:spPr>
                  <a:xfrm flipH="1" flipV="1">
                    <a:off x="1946160" y="280836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 flipV="1">
                    <a:off x="1956240" y="28551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"/>
                  <p:cNvSpPr/>
                  <p:nvPr/>
                </p:nvSpPr>
                <p:spPr>
                  <a:xfrm flipH="1" flipV="1">
                    <a:off x="1935000" y="284040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"/>
                  <p:cNvSpPr/>
                  <p:nvPr/>
                </p:nvSpPr>
                <p:spPr>
                  <a:xfrm flipV="1">
                    <a:off x="1952280" y="281988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9" name=""/>
                <p:cNvGrpSpPr/>
                <p:nvPr/>
              </p:nvGrpSpPr>
              <p:grpSpPr>
                <a:xfrm>
                  <a:off x="1939320" y="2977200"/>
                  <a:ext cx="142200" cy="174960"/>
                  <a:chOff x="1939320" y="2977200"/>
                  <a:chExt cx="142200" cy="174960"/>
                </a:xfrm>
              </p:grpSpPr>
              <p:sp>
                <p:nvSpPr>
                  <p:cNvPr id="3870" name=""/>
                  <p:cNvSpPr/>
                  <p:nvPr/>
                </p:nvSpPr>
                <p:spPr>
                  <a:xfrm rot="20187000">
                    <a:off x="1965960" y="2988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 flipH="1" flipV="1">
                    <a:off x="1985040" y="305064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"/>
                  <p:cNvSpPr/>
                  <p:nvPr/>
                </p:nvSpPr>
                <p:spPr>
                  <a:xfrm flipH="1" flipV="1">
                    <a:off x="2031480" y="30672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"/>
                  <p:cNvSpPr/>
                  <p:nvPr/>
                </p:nvSpPr>
                <p:spPr>
                  <a:xfrm flipH="1">
                    <a:off x="2003760" y="307800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 flipH="1" flipV="1">
                    <a:off x="1999080" y="305136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5" name=""/>
                <p:cNvGrpSpPr/>
                <p:nvPr/>
              </p:nvGrpSpPr>
              <p:grpSpPr>
                <a:xfrm>
                  <a:off x="2025360" y="2897640"/>
                  <a:ext cx="88920" cy="151920"/>
                  <a:chOff x="2025360" y="2897640"/>
                  <a:chExt cx="88920" cy="151920"/>
                </a:xfrm>
              </p:grpSpPr>
              <p:sp>
                <p:nvSpPr>
                  <p:cNvPr id="3876" name=""/>
                  <p:cNvSpPr/>
                  <p:nvPr/>
                </p:nvSpPr>
                <p:spPr>
                  <a:xfrm>
                    <a:off x="2025360" y="2897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 flipH="1" flipV="1">
                    <a:off x="2052360" y="29505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 flipH="1" flipV="1">
                    <a:off x="2088000" y="29844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 flipH="1" flipV="1">
                    <a:off x="2058120" y="29840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 flipH="1" flipV="1">
                    <a:off x="2064600" y="29570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1" name=""/>
                <p:cNvGrpSpPr/>
                <p:nvPr/>
              </p:nvGrpSpPr>
              <p:grpSpPr>
                <a:xfrm>
                  <a:off x="1840680" y="3162960"/>
                  <a:ext cx="143640" cy="118080"/>
                  <a:chOff x="1840680" y="3162960"/>
                  <a:chExt cx="143640" cy="118080"/>
                </a:xfrm>
              </p:grpSpPr>
              <p:sp>
                <p:nvSpPr>
                  <p:cNvPr id="3882" name=""/>
                  <p:cNvSpPr/>
                  <p:nvPr/>
                </p:nvSpPr>
                <p:spPr>
                  <a:xfrm rot="15769200">
                    <a:off x="1861200" y="3155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 flipH="1">
                    <a:off x="1894680" y="316836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 flipH="1">
                    <a:off x="1918800" y="319140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 flipH="1">
                    <a:off x="1923120" y="321300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 flipH="1">
                    <a:off x="1899000" y="322200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7" name=""/>
                <p:cNvGrpSpPr/>
                <p:nvPr/>
              </p:nvGrpSpPr>
              <p:grpSpPr>
                <a:xfrm>
                  <a:off x="1767240" y="2829600"/>
                  <a:ext cx="88920" cy="151920"/>
                  <a:chOff x="1767240" y="2829600"/>
                  <a:chExt cx="88920" cy="151920"/>
                </a:xfrm>
              </p:grpSpPr>
              <p:sp>
                <p:nvSpPr>
                  <p:cNvPr id="3888" name=""/>
                  <p:cNvSpPr/>
                  <p:nvPr/>
                </p:nvSpPr>
                <p:spPr>
                  <a:xfrm>
                    <a:off x="1767240" y="2829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"/>
                  <p:cNvSpPr/>
                  <p:nvPr/>
                </p:nvSpPr>
                <p:spPr>
                  <a:xfrm flipH="1" flipV="1">
                    <a:off x="1794240" y="2882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"/>
                  <p:cNvSpPr/>
                  <p:nvPr/>
                </p:nvSpPr>
                <p:spPr>
                  <a:xfrm flipH="1" flipV="1">
                    <a:off x="1829880" y="2916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 flipH="1" flipV="1">
                    <a:off x="1800000" y="2916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"/>
                  <p:cNvSpPr/>
                  <p:nvPr/>
                </p:nvSpPr>
                <p:spPr>
                  <a:xfrm flipH="1" flipV="1">
                    <a:off x="1806480" y="2889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3" name=""/>
                <p:cNvGrpSpPr/>
                <p:nvPr/>
              </p:nvGrpSpPr>
              <p:grpSpPr>
                <a:xfrm>
                  <a:off x="2104560" y="2874600"/>
                  <a:ext cx="88920" cy="151920"/>
                  <a:chOff x="2104560" y="2874600"/>
                  <a:chExt cx="88920" cy="151920"/>
                </a:xfrm>
              </p:grpSpPr>
              <p:sp>
                <p:nvSpPr>
                  <p:cNvPr id="3894" name=""/>
                  <p:cNvSpPr/>
                  <p:nvPr/>
                </p:nvSpPr>
                <p:spPr>
                  <a:xfrm>
                    <a:off x="2104560" y="2874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 flipH="1" flipV="1">
                    <a:off x="2131560" y="2927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"/>
                  <p:cNvSpPr/>
                  <p:nvPr/>
                </p:nvSpPr>
                <p:spPr>
                  <a:xfrm flipH="1" flipV="1">
                    <a:off x="2167200" y="2961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"/>
                  <p:cNvSpPr/>
                  <p:nvPr/>
                </p:nvSpPr>
                <p:spPr>
                  <a:xfrm flipH="1" flipV="1">
                    <a:off x="2137320" y="2961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 flipH="1" flipV="1">
                    <a:off x="2143800" y="2934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9" name=""/>
                <p:cNvGrpSpPr/>
                <p:nvPr/>
              </p:nvGrpSpPr>
              <p:grpSpPr>
                <a:xfrm>
                  <a:off x="1827000" y="2783880"/>
                  <a:ext cx="88920" cy="151920"/>
                  <a:chOff x="1827000" y="2783880"/>
                  <a:chExt cx="88920" cy="151920"/>
                </a:xfrm>
              </p:grpSpPr>
              <p:sp>
                <p:nvSpPr>
                  <p:cNvPr id="3900" name=""/>
                  <p:cNvSpPr/>
                  <p:nvPr/>
                </p:nvSpPr>
                <p:spPr>
                  <a:xfrm>
                    <a:off x="1827000" y="2783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 flipH="1" flipV="1">
                    <a:off x="1854000" y="2836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 flipH="1" flipV="1">
                    <a:off x="1889640" y="2870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 flipH="1" flipV="1">
                    <a:off x="1859760" y="2870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 flipH="1" flipV="1">
                    <a:off x="1866240" y="2843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5" name=""/>
                <p:cNvGrpSpPr/>
                <p:nvPr/>
              </p:nvGrpSpPr>
              <p:grpSpPr>
                <a:xfrm>
                  <a:off x="2013480" y="3222720"/>
                  <a:ext cx="156240" cy="135720"/>
                  <a:chOff x="2013480" y="3222720"/>
                  <a:chExt cx="156240" cy="135720"/>
                </a:xfrm>
              </p:grpSpPr>
              <p:sp>
                <p:nvSpPr>
                  <p:cNvPr id="3906" name=""/>
                  <p:cNvSpPr/>
                  <p:nvPr/>
                </p:nvSpPr>
                <p:spPr>
                  <a:xfrm rot="15198000">
                    <a:off x="2040120" y="3224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 flipH="1">
                    <a:off x="2077560" y="322920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"/>
                  <p:cNvSpPr/>
                  <p:nvPr/>
                </p:nvSpPr>
                <p:spPr>
                  <a:xfrm flipH="1">
                    <a:off x="2093760" y="325656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"/>
                  <p:cNvSpPr/>
                  <p:nvPr/>
                </p:nvSpPr>
                <p:spPr>
                  <a:xfrm>
                    <a:off x="2103480" y="327924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 flipH="1">
                    <a:off x="2079720" y="329076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1" name=""/>
                <p:cNvGrpSpPr/>
                <p:nvPr/>
              </p:nvGrpSpPr>
              <p:grpSpPr>
                <a:xfrm>
                  <a:off x="1909080" y="3189960"/>
                  <a:ext cx="165960" cy="155520"/>
                  <a:chOff x="1909080" y="3189960"/>
                  <a:chExt cx="165960" cy="155520"/>
                </a:xfrm>
              </p:grpSpPr>
              <p:sp>
                <p:nvSpPr>
                  <p:cNvPr id="3912" name=""/>
                  <p:cNvSpPr/>
                  <p:nvPr/>
                </p:nvSpPr>
                <p:spPr>
                  <a:xfrm rot="14358600">
                    <a:off x="1940760" y="3201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 flipH="1">
                    <a:off x="1984680" y="319860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 flipH="1">
                    <a:off x="1989000" y="32306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"/>
                  <p:cNvSpPr/>
                  <p:nvPr/>
                </p:nvSpPr>
                <p:spPr>
                  <a:xfrm>
                    <a:off x="2001240" y="325368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 flipH="1">
                    <a:off x="1982880" y="326880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7" name=""/>
                <p:cNvGrpSpPr/>
                <p:nvPr/>
              </p:nvGrpSpPr>
              <p:grpSpPr>
                <a:xfrm>
                  <a:off x="1705320" y="3007800"/>
                  <a:ext cx="137520" cy="109440"/>
                  <a:chOff x="1705320" y="3007800"/>
                  <a:chExt cx="137520" cy="109440"/>
                </a:xfrm>
              </p:grpSpPr>
              <p:sp>
                <p:nvSpPr>
                  <p:cNvPr id="3918" name=""/>
                  <p:cNvSpPr/>
                  <p:nvPr/>
                </p:nvSpPr>
                <p:spPr>
                  <a:xfrm rot="16010400">
                    <a:off x="1722960" y="299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 flipH="1">
                    <a:off x="1755000" y="301248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 flipH="1">
                    <a:off x="1782000" y="303372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 flipH="1">
                    <a:off x="1784160" y="30546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 flipH="1">
                    <a:off x="1760400" y="30621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3" name=""/>
                <p:cNvGrpSpPr/>
                <p:nvPr/>
              </p:nvGrpSpPr>
              <p:grpSpPr>
                <a:xfrm>
                  <a:off x="1713240" y="3081240"/>
                  <a:ext cx="160560" cy="144360"/>
                  <a:chOff x="1713240" y="3081240"/>
                  <a:chExt cx="160560" cy="144360"/>
                </a:xfrm>
              </p:grpSpPr>
              <p:sp>
                <p:nvSpPr>
                  <p:cNvPr id="3924" name=""/>
                  <p:cNvSpPr/>
                  <p:nvPr/>
                </p:nvSpPr>
                <p:spPr>
                  <a:xfrm rot="14881800">
                    <a:off x="1742400" y="3087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 flipH="1">
                    <a:off x="1782360" y="308880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 flipH="1">
                    <a:off x="1793880" y="311832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>
                    <a:off x="1804680" y="314136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 flipH="1">
                    <a:off x="1782720" y="315432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9" name=""/>
                <p:cNvGrpSpPr/>
                <p:nvPr/>
              </p:nvGrpSpPr>
              <p:grpSpPr>
                <a:xfrm>
                  <a:off x="1817280" y="3065400"/>
                  <a:ext cx="151920" cy="129960"/>
                  <a:chOff x="1817280" y="3065400"/>
                  <a:chExt cx="151920" cy="129960"/>
                </a:xfrm>
              </p:grpSpPr>
              <p:sp>
                <p:nvSpPr>
                  <p:cNvPr id="3930" name=""/>
                  <p:cNvSpPr/>
                  <p:nvPr/>
                </p:nvSpPr>
                <p:spPr>
                  <a:xfrm rot="15401400">
                    <a:off x="1841760" y="3064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 flipH="1">
                    <a:off x="1877760" y="307188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 flipH="1">
                    <a:off x="1896840" y="309780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 flipH="1">
                    <a:off x="1905120" y="312012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 flipH="1">
                    <a:off x="1880640" y="313092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5" name=""/>
                <p:cNvGrpSpPr/>
                <p:nvPr/>
              </p:nvGrpSpPr>
              <p:grpSpPr>
                <a:xfrm>
                  <a:off x="1777320" y="2906640"/>
                  <a:ext cx="151920" cy="129600"/>
                  <a:chOff x="1777320" y="2906640"/>
                  <a:chExt cx="151920" cy="129600"/>
                </a:xfrm>
              </p:grpSpPr>
              <p:sp>
                <p:nvSpPr>
                  <p:cNvPr id="3936" name=""/>
                  <p:cNvSpPr/>
                  <p:nvPr/>
                </p:nvSpPr>
                <p:spPr>
                  <a:xfrm rot="16985400">
                    <a:off x="1801800" y="2905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"/>
                  <p:cNvSpPr/>
                  <p:nvPr/>
                </p:nvSpPr>
                <p:spPr>
                  <a:xfrm flipH="1">
                    <a:off x="1828800" y="293832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 flipH="1">
                    <a:off x="1866240" y="29509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"/>
                  <p:cNvSpPr/>
                  <p:nvPr/>
                </p:nvSpPr>
                <p:spPr>
                  <a:xfrm flipH="1">
                    <a:off x="1859040" y="296784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 flipH="1">
                    <a:off x="1837800" y="297036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1" name=""/>
                <p:cNvGrpSpPr/>
                <p:nvPr/>
              </p:nvGrpSpPr>
              <p:grpSpPr>
                <a:xfrm>
                  <a:off x="1985400" y="2932560"/>
                  <a:ext cx="168480" cy="172080"/>
                  <a:chOff x="1985400" y="2932560"/>
                  <a:chExt cx="168480" cy="172080"/>
                </a:xfrm>
              </p:grpSpPr>
              <p:sp>
                <p:nvSpPr>
                  <p:cNvPr id="3942" name=""/>
                  <p:cNvSpPr/>
                  <p:nvPr/>
                </p:nvSpPr>
                <p:spPr>
                  <a:xfrm rot="19036200">
                    <a:off x="2025000" y="2942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 flipH="1" flipV="1">
                    <a:off x="2041200" y="301392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 flipH="1" flipV="1">
                    <a:off x="2090520" y="30142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 flipH="1">
                    <a:off x="2068200" y="30276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 flipH="1" flipV="1">
                    <a:off x="2054880" y="301032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7" name=""/>
                <p:cNvGrpSpPr/>
                <p:nvPr/>
              </p:nvGrpSpPr>
              <p:grpSpPr>
                <a:xfrm>
                  <a:off x="2170440" y="2855520"/>
                  <a:ext cx="158760" cy="140400"/>
                  <a:chOff x="2170440" y="2855520"/>
                  <a:chExt cx="158760" cy="140400"/>
                </a:xfrm>
              </p:grpSpPr>
              <p:sp>
                <p:nvSpPr>
                  <p:cNvPr id="3948" name=""/>
                  <p:cNvSpPr/>
                  <p:nvPr/>
                </p:nvSpPr>
                <p:spPr>
                  <a:xfrm rot="4233000">
                    <a:off x="2198520" y="2859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 flipV="1">
                    <a:off x="2212920" y="290016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 flipV="1">
                    <a:off x="2234160" y="29484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 flipH="1" flipV="1">
                    <a:off x="2236680" y="291672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"/>
                  <p:cNvSpPr/>
                  <p:nvPr/>
                </p:nvSpPr>
                <p:spPr>
                  <a:xfrm flipV="1">
                    <a:off x="2252520" y="291528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3" name=""/>
                <p:cNvGrpSpPr/>
                <p:nvPr/>
              </p:nvGrpSpPr>
              <p:grpSpPr>
                <a:xfrm>
                  <a:off x="2250360" y="2971440"/>
                  <a:ext cx="156600" cy="137160"/>
                  <a:chOff x="2250360" y="2971440"/>
                  <a:chExt cx="156600" cy="137160"/>
                </a:xfrm>
              </p:grpSpPr>
              <p:sp>
                <p:nvSpPr>
                  <p:cNvPr id="3954" name=""/>
                  <p:cNvSpPr/>
                  <p:nvPr/>
                </p:nvSpPr>
                <p:spPr>
                  <a:xfrm rot="4353000">
                    <a:off x="2277360" y="2973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"/>
                  <p:cNvSpPr/>
                  <p:nvPr/>
                </p:nvSpPr>
                <p:spPr>
                  <a:xfrm flipV="1">
                    <a:off x="2289240" y="301464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 flipV="1">
                    <a:off x="2311560" y="306252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 flipH="1" flipV="1">
                    <a:off x="2315880" y="303012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 flipV="1">
                    <a:off x="2331360" y="302976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9" name=""/>
                <p:cNvGrpSpPr/>
                <p:nvPr/>
              </p:nvGrpSpPr>
              <p:grpSpPr>
                <a:xfrm>
                  <a:off x="1990080" y="3090600"/>
                  <a:ext cx="159480" cy="175320"/>
                  <a:chOff x="1990080" y="3090600"/>
                  <a:chExt cx="159480" cy="175320"/>
                </a:xfrm>
              </p:grpSpPr>
              <p:sp>
                <p:nvSpPr>
                  <p:cNvPr id="3960" name=""/>
                  <p:cNvSpPr/>
                  <p:nvPr/>
                </p:nvSpPr>
                <p:spPr>
                  <a:xfrm rot="19525800">
                    <a:off x="2025000" y="3102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 flipH="1" flipV="1">
                    <a:off x="2042280" y="316944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"/>
                  <p:cNvSpPr/>
                  <p:nvPr/>
                </p:nvSpPr>
                <p:spPr>
                  <a:xfrm flipH="1" flipV="1">
                    <a:off x="2090880" y="317700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 flipH="1">
                    <a:off x="2066040" y="31892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 flipH="1" flipV="1">
                    <a:off x="2055960" y="316764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5" name=""/>
                <p:cNvGrpSpPr/>
                <p:nvPr/>
              </p:nvGrpSpPr>
              <p:grpSpPr>
                <a:xfrm>
                  <a:off x="1829520" y="3071160"/>
                  <a:ext cx="165600" cy="165600"/>
                  <a:chOff x="1829520" y="3071160"/>
                  <a:chExt cx="165600" cy="165600"/>
                </a:xfrm>
              </p:grpSpPr>
              <p:sp>
                <p:nvSpPr>
                  <p:cNvPr id="3966" name=""/>
                  <p:cNvSpPr/>
                  <p:nvPr/>
                </p:nvSpPr>
                <p:spPr>
                  <a:xfrm rot="18890400">
                    <a:off x="1861200" y="3087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"/>
                  <p:cNvSpPr/>
                  <p:nvPr/>
                </p:nvSpPr>
                <p:spPr>
                  <a:xfrm flipH="1" flipV="1">
                    <a:off x="1883880" y="315360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"/>
                  <p:cNvSpPr/>
                  <p:nvPr/>
                </p:nvSpPr>
                <p:spPr>
                  <a:xfrm flipH="1" flipV="1">
                    <a:off x="1933560" y="314532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 flipH="1">
                    <a:off x="1909800" y="315900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"/>
                  <p:cNvSpPr/>
                  <p:nvPr/>
                </p:nvSpPr>
                <p:spPr>
                  <a:xfrm flipH="1" flipV="1">
                    <a:off x="1897920" y="314820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1" name=""/>
                <p:cNvGrpSpPr/>
                <p:nvPr/>
              </p:nvGrpSpPr>
              <p:grpSpPr>
                <a:xfrm>
                  <a:off x="1690920" y="2980440"/>
                  <a:ext cx="166680" cy="164160"/>
                  <a:chOff x="1690920" y="2980440"/>
                  <a:chExt cx="166680" cy="164160"/>
                </a:xfrm>
              </p:grpSpPr>
              <p:sp>
                <p:nvSpPr>
                  <p:cNvPr id="3972" name=""/>
                  <p:cNvSpPr/>
                  <p:nvPr/>
                </p:nvSpPr>
                <p:spPr>
                  <a:xfrm rot="18730200">
                    <a:off x="1722960" y="299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 flipH="1" flipV="1">
                    <a:off x="1745640" y="306396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 flipH="1" flipV="1">
                    <a:off x="1794600" y="30531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 flipH="1">
                    <a:off x="1772280" y="306720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 flipH="1" flipV="1">
                    <a:off x="1759680" y="30574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7" name=""/>
                <p:cNvGrpSpPr/>
                <p:nvPr/>
              </p:nvGrpSpPr>
              <p:grpSpPr>
                <a:xfrm>
                  <a:off x="1671120" y="2886120"/>
                  <a:ext cx="162720" cy="174960"/>
                  <a:chOff x="1671120" y="2886120"/>
                  <a:chExt cx="162720" cy="174960"/>
                </a:xfrm>
              </p:grpSpPr>
              <p:sp>
                <p:nvSpPr>
                  <p:cNvPr id="3978" name=""/>
                  <p:cNvSpPr/>
                  <p:nvPr/>
                </p:nvSpPr>
                <p:spPr>
                  <a:xfrm rot="19362600">
                    <a:off x="1707840" y="2897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 flipH="1" flipV="1">
                    <a:off x="1724760" y="296568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 flipH="1" flipV="1">
                    <a:off x="1773720" y="297108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 flipH="1">
                    <a:off x="1749600" y="29836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"/>
                  <p:cNvSpPr/>
                  <p:nvPr/>
                </p:nvSpPr>
                <p:spPr>
                  <a:xfrm flipH="1" flipV="1">
                    <a:off x="1738440" y="296352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83" name=""/>
              <p:cNvGrpSpPr/>
              <p:nvPr/>
            </p:nvGrpSpPr>
            <p:grpSpPr>
              <a:xfrm>
                <a:off x="2436840" y="1412280"/>
                <a:ext cx="697680" cy="738000"/>
                <a:chOff x="2436840" y="1412280"/>
                <a:chExt cx="697680" cy="738000"/>
              </a:xfrm>
            </p:grpSpPr>
            <p:grpSp>
              <p:nvGrpSpPr>
                <p:cNvPr id="3984" name=""/>
                <p:cNvGrpSpPr/>
                <p:nvPr/>
              </p:nvGrpSpPr>
              <p:grpSpPr>
                <a:xfrm>
                  <a:off x="2848320" y="1782000"/>
                  <a:ext cx="106560" cy="162000"/>
                  <a:chOff x="2848320" y="1782000"/>
                  <a:chExt cx="106560" cy="162000"/>
                </a:xfrm>
              </p:grpSpPr>
              <p:sp>
                <p:nvSpPr>
                  <p:cNvPr id="3985" name=""/>
                  <p:cNvSpPr/>
                  <p:nvPr/>
                </p:nvSpPr>
                <p:spPr>
                  <a:xfrm rot="11212800">
                    <a:off x="2856960" y="1786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2868480" y="1794240"/>
                    <a:ext cx="4752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"/>
                  <p:cNvSpPr/>
                  <p:nvPr/>
                </p:nvSpPr>
                <p:spPr>
                  <a:xfrm>
                    <a:off x="2881440" y="1829880"/>
                    <a:ext cx="32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"/>
                  <p:cNvSpPr/>
                  <p:nvPr/>
                </p:nvSpPr>
                <p:spPr>
                  <a:xfrm>
                    <a:off x="2897640" y="1845720"/>
                    <a:ext cx="16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"/>
                  <p:cNvSpPr/>
                  <p:nvPr/>
                </p:nvSpPr>
                <p:spPr>
                  <a:xfrm>
                    <a:off x="2900520" y="186660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90" name=""/>
                <p:cNvSpPr/>
                <p:nvPr/>
              </p:nvSpPr>
              <p:spPr>
                <a:xfrm flipV="1">
                  <a:off x="2669040" y="1653120"/>
                  <a:ext cx="92160" cy="21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rot="7397400">
                  <a:off x="2415600" y="163440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V="1">
                  <a:off x="2806200" y="1764360"/>
                  <a:ext cx="16596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2466000" y="1923480"/>
                  <a:ext cx="27360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 flipH="1" flipV="1">
                  <a:off x="2707200" y="1699200"/>
                  <a:ext cx="8280" cy="59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 flipV="1">
                  <a:off x="2694600" y="1781280"/>
                  <a:ext cx="5400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 flipV="1">
                  <a:off x="2881440" y="1715040"/>
                  <a:ext cx="99720" cy="43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2852640" y="1767240"/>
                  <a:ext cx="3672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flipV="1">
                  <a:off x="2898720" y="1581480"/>
                  <a:ext cx="432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flipV="1">
                  <a:off x="2602800" y="1851840"/>
                  <a:ext cx="170280" cy="79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2702880" y="1887120"/>
                  <a:ext cx="453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2557440" y="1928520"/>
                  <a:ext cx="5364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2693880" y="1936440"/>
                  <a:ext cx="4932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flipV="1">
                  <a:off x="2582280" y="1802880"/>
                  <a:ext cx="33120" cy="8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V="1">
                  <a:off x="2831400" y="1658520"/>
                  <a:ext cx="2124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2940480" y="1634040"/>
                  <a:ext cx="4536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06" name=""/>
                <p:cNvGrpSpPr/>
                <p:nvPr/>
              </p:nvGrpSpPr>
              <p:grpSpPr>
                <a:xfrm>
                  <a:off x="2937240" y="1715400"/>
                  <a:ext cx="152280" cy="164520"/>
                  <a:chOff x="2937240" y="1715400"/>
                  <a:chExt cx="152280" cy="164520"/>
                </a:xfrm>
              </p:grpSpPr>
              <p:sp>
                <p:nvSpPr>
                  <p:cNvPr id="4007" name=""/>
                  <p:cNvSpPr/>
                  <p:nvPr/>
                </p:nvSpPr>
                <p:spPr>
                  <a:xfrm rot="9142800">
                    <a:off x="2962080" y="17312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"/>
                  <p:cNvSpPr/>
                  <p:nvPr/>
                </p:nvSpPr>
                <p:spPr>
                  <a:xfrm>
                    <a:off x="2945160" y="1770120"/>
                    <a:ext cx="95400" cy="36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"/>
                  <p:cNvSpPr/>
                  <p:nvPr/>
                </p:nvSpPr>
                <p:spPr>
                  <a:xfrm>
                    <a:off x="2976840" y="17870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"/>
                  <p:cNvSpPr/>
                  <p:nvPr/>
                </p:nvSpPr>
                <p:spPr>
                  <a:xfrm flipV="1">
                    <a:off x="3000600" y="178344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"/>
                  <p:cNvSpPr/>
                  <p:nvPr/>
                </p:nvSpPr>
                <p:spPr>
                  <a:xfrm>
                    <a:off x="3014640" y="180000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2" name=""/>
                <p:cNvGrpSpPr/>
                <p:nvPr/>
              </p:nvGrpSpPr>
              <p:grpSpPr>
                <a:xfrm>
                  <a:off x="2736360" y="1685160"/>
                  <a:ext cx="147600" cy="123480"/>
                  <a:chOff x="2736360" y="1685160"/>
                  <a:chExt cx="147600" cy="123480"/>
                </a:xfrm>
              </p:grpSpPr>
              <p:sp>
                <p:nvSpPr>
                  <p:cNvPr id="4013" name=""/>
                  <p:cNvSpPr/>
                  <p:nvPr/>
                </p:nvSpPr>
                <p:spPr>
                  <a:xfrm rot="5984400">
                    <a:off x="2758680" y="16804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"/>
                  <p:cNvSpPr/>
                  <p:nvPr/>
                </p:nvSpPr>
                <p:spPr>
                  <a:xfrm flipV="1">
                    <a:off x="2746800" y="1730880"/>
                    <a:ext cx="86760" cy="54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"/>
                  <p:cNvSpPr/>
                  <p:nvPr/>
                </p:nvSpPr>
                <p:spPr>
                  <a:xfrm flipV="1">
                    <a:off x="2779560" y="1766160"/>
                    <a:ext cx="183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"/>
                  <p:cNvSpPr/>
                  <p:nvPr/>
                </p:nvSpPr>
                <p:spPr>
                  <a:xfrm flipV="1">
                    <a:off x="2794320" y="173232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"/>
                  <p:cNvSpPr/>
                  <p:nvPr/>
                </p:nvSpPr>
                <p:spPr>
                  <a:xfrm flipV="1">
                    <a:off x="2812680" y="1743120"/>
                    <a:ext cx="126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8" name=""/>
                <p:cNvGrpSpPr/>
                <p:nvPr/>
              </p:nvGrpSpPr>
              <p:grpSpPr>
                <a:xfrm>
                  <a:off x="2755080" y="1768320"/>
                  <a:ext cx="166680" cy="158040"/>
                  <a:chOff x="2755080" y="1768320"/>
                  <a:chExt cx="166680" cy="158040"/>
                </a:xfrm>
              </p:grpSpPr>
              <p:sp>
                <p:nvSpPr>
                  <p:cNvPr id="4019" name=""/>
                  <p:cNvSpPr/>
                  <p:nvPr/>
                </p:nvSpPr>
                <p:spPr>
                  <a:xfrm rot="7397400">
                    <a:off x="2786760" y="17809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"/>
                  <p:cNvSpPr/>
                  <p:nvPr/>
                </p:nvSpPr>
                <p:spPr>
                  <a:xfrm flipV="1">
                    <a:off x="2765520" y="1842120"/>
                    <a:ext cx="100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"/>
                  <p:cNvSpPr/>
                  <p:nvPr/>
                </p:nvSpPr>
                <p:spPr>
                  <a:xfrm>
                    <a:off x="2801160" y="18558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"/>
                  <p:cNvSpPr/>
                  <p:nvPr/>
                </p:nvSpPr>
                <p:spPr>
                  <a:xfrm flipV="1">
                    <a:off x="2822040" y="1831320"/>
                    <a:ext cx="162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"/>
                  <p:cNvSpPr/>
                  <p:nvPr/>
                </p:nvSpPr>
                <p:spPr>
                  <a:xfrm>
                    <a:off x="2840760" y="184896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4" name=""/>
                <p:cNvGrpSpPr/>
                <p:nvPr/>
              </p:nvGrpSpPr>
              <p:grpSpPr>
                <a:xfrm>
                  <a:off x="2684880" y="1489680"/>
                  <a:ext cx="146880" cy="176040"/>
                  <a:chOff x="2684880" y="1489680"/>
                  <a:chExt cx="146880" cy="176040"/>
                </a:xfrm>
              </p:grpSpPr>
              <p:sp>
                <p:nvSpPr>
                  <p:cNvPr id="4025" name=""/>
                  <p:cNvSpPr/>
                  <p:nvPr/>
                </p:nvSpPr>
                <p:spPr>
                  <a:xfrm rot="1566600">
                    <a:off x="2713680" y="1501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"/>
                  <p:cNvSpPr/>
                  <p:nvPr/>
                </p:nvSpPr>
                <p:spPr>
                  <a:xfrm flipH="1" flipV="1">
                    <a:off x="2752560" y="1548720"/>
                    <a:ext cx="140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"/>
                  <p:cNvSpPr/>
                  <p:nvPr/>
                </p:nvSpPr>
                <p:spPr>
                  <a:xfrm flipV="1">
                    <a:off x="2765880" y="15951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"/>
                  <p:cNvSpPr/>
                  <p:nvPr/>
                </p:nvSpPr>
                <p:spPr>
                  <a:xfrm flipH="1" flipV="1">
                    <a:off x="2742840" y="158184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"/>
                  <p:cNvSpPr/>
                  <p:nvPr/>
                </p:nvSpPr>
                <p:spPr>
                  <a:xfrm flipV="1">
                    <a:off x="2760120" y="156024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0" name=""/>
                <p:cNvGrpSpPr/>
                <p:nvPr/>
              </p:nvGrpSpPr>
              <p:grpSpPr>
                <a:xfrm>
                  <a:off x="2967840" y="1552680"/>
                  <a:ext cx="166680" cy="158040"/>
                  <a:chOff x="2967840" y="1552680"/>
                  <a:chExt cx="166680" cy="158040"/>
                </a:xfrm>
              </p:grpSpPr>
              <p:sp>
                <p:nvSpPr>
                  <p:cNvPr id="4031" name=""/>
                  <p:cNvSpPr/>
                  <p:nvPr/>
                </p:nvSpPr>
                <p:spPr>
                  <a:xfrm rot="7397400">
                    <a:off x="2999520" y="15652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"/>
                  <p:cNvSpPr/>
                  <p:nvPr/>
                </p:nvSpPr>
                <p:spPr>
                  <a:xfrm flipV="1">
                    <a:off x="2977920" y="1626480"/>
                    <a:ext cx="101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3013920" y="16401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 flipV="1">
                    <a:off x="3034800" y="161568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"/>
                  <p:cNvSpPr/>
                  <p:nvPr/>
                </p:nvSpPr>
                <p:spPr>
                  <a:xfrm>
                    <a:off x="3053520" y="163332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6" name=""/>
                <p:cNvGrpSpPr/>
                <p:nvPr/>
              </p:nvGrpSpPr>
              <p:grpSpPr>
                <a:xfrm>
                  <a:off x="2721960" y="1855440"/>
                  <a:ext cx="166680" cy="158040"/>
                  <a:chOff x="2721960" y="1855440"/>
                  <a:chExt cx="166680" cy="158040"/>
                </a:xfrm>
              </p:grpSpPr>
              <p:sp>
                <p:nvSpPr>
                  <p:cNvPr id="4037" name=""/>
                  <p:cNvSpPr/>
                  <p:nvPr/>
                </p:nvSpPr>
                <p:spPr>
                  <a:xfrm rot="7397400">
                    <a:off x="2753640" y="1868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"/>
                  <p:cNvSpPr/>
                  <p:nvPr/>
                </p:nvSpPr>
                <p:spPr>
                  <a:xfrm flipV="1">
                    <a:off x="2732040" y="192924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"/>
                  <p:cNvSpPr/>
                  <p:nvPr/>
                </p:nvSpPr>
                <p:spPr>
                  <a:xfrm>
                    <a:off x="2768040" y="19429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"/>
                  <p:cNvSpPr/>
                  <p:nvPr/>
                </p:nvSpPr>
                <p:spPr>
                  <a:xfrm flipV="1">
                    <a:off x="2788920" y="191844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"/>
                  <p:cNvSpPr/>
                  <p:nvPr/>
                </p:nvSpPr>
                <p:spPr>
                  <a:xfrm>
                    <a:off x="2807640" y="193608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2" name=""/>
                <p:cNvGrpSpPr/>
                <p:nvPr/>
              </p:nvGrpSpPr>
              <p:grpSpPr>
                <a:xfrm>
                  <a:off x="2963880" y="1631880"/>
                  <a:ext cx="166680" cy="158040"/>
                  <a:chOff x="2963880" y="1631880"/>
                  <a:chExt cx="166680" cy="158040"/>
                </a:xfrm>
              </p:grpSpPr>
              <p:sp>
                <p:nvSpPr>
                  <p:cNvPr id="4043" name=""/>
                  <p:cNvSpPr/>
                  <p:nvPr/>
                </p:nvSpPr>
                <p:spPr>
                  <a:xfrm rot="7397400">
                    <a:off x="2995560" y="16444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"/>
                  <p:cNvSpPr/>
                  <p:nvPr/>
                </p:nvSpPr>
                <p:spPr>
                  <a:xfrm flipV="1">
                    <a:off x="2973960" y="1705320"/>
                    <a:ext cx="100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"/>
                  <p:cNvSpPr/>
                  <p:nvPr/>
                </p:nvSpPr>
                <p:spPr>
                  <a:xfrm>
                    <a:off x="3009960" y="1719360"/>
                    <a:ext cx="180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"/>
                  <p:cNvSpPr/>
                  <p:nvPr/>
                </p:nvSpPr>
                <p:spPr>
                  <a:xfrm flipV="1">
                    <a:off x="3030840" y="169452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"/>
                  <p:cNvSpPr/>
                  <p:nvPr/>
                </p:nvSpPr>
                <p:spPr>
                  <a:xfrm>
                    <a:off x="3049200" y="171216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8" name=""/>
                <p:cNvGrpSpPr/>
                <p:nvPr/>
              </p:nvGrpSpPr>
              <p:grpSpPr>
                <a:xfrm>
                  <a:off x="2531160" y="1631520"/>
                  <a:ext cx="128880" cy="171360"/>
                  <a:chOff x="2531160" y="1631520"/>
                  <a:chExt cx="128880" cy="171360"/>
                </a:xfrm>
              </p:grpSpPr>
              <p:sp>
                <p:nvSpPr>
                  <p:cNvPr id="4049" name=""/>
                  <p:cNvSpPr/>
                  <p:nvPr/>
                </p:nvSpPr>
                <p:spPr>
                  <a:xfrm rot="995400">
                    <a:off x="2550960" y="1640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"/>
                  <p:cNvSpPr/>
                  <p:nvPr/>
                </p:nvSpPr>
                <p:spPr>
                  <a:xfrm flipH="1" flipV="1">
                    <a:off x="2585520" y="1689480"/>
                    <a:ext cx="30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"/>
                  <p:cNvSpPr/>
                  <p:nvPr/>
                </p:nvSpPr>
                <p:spPr>
                  <a:xfrm flipV="1">
                    <a:off x="2609640" y="173268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"/>
                  <p:cNvSpPr/>
                  <p:nvPr/>
                </p:nvSpPr>
                <p:spPr>
                  <a:xfrm flipH="1" flipV="1">
                    <a:off x="2581200" y="17236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 flipH="1" flipV="1">
                    <a:off x="2595240" y="16995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4" name=""/>
                <p:cNvGrpSpPr/>
                <p:nvPr/>
              </p:nvGrpSpPr>
              <p:grpSpPr>
                <a:xfrm>
                  <a:off x="2626920" y="1554480"/>
                  <a:ext cx="95760" cy="156240"/>
                  <a:chOff x="2626920" y="1554480"/>
                  <a:chExt cx="95760" cy="156240"/>
                </a:xfrm>
              </p:grpSpPr>
              <p:sp>
                <p:nvSpPr>
                  <p:cNvPr id="4055" name=""/>
                  <p:cNvSpPr/>
                  <p:nvPr/>
                </p:nvSpPr>
                <p:spPr>
                  <a:xfrm rot="156000">
                    <a:off x="2630160" y="15562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"/>
                  <p:cNvSpPr/>
                  <p:nvPr/>
                </p:nvSpPr>
                <p:spPr>
                  <a:xfrm flipH="1" flipV="1">
                    <a:off x="2658240" y="1608480"/>
                    <a:ext cx="5472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 flipH="1" flipV="1">
                    <a:off x="2692440" y="1644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 flipH="1" flipV="1">
                    <a:off x="2662560" y="164232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 flipH="1" flipV="1">
                    <a:off x="2670120" y="161568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0" name=""/>
                <p:cNvGrpSpPr/>
                <p:nvPr/>
              </p:nvGrpSpPr>
              <p:grpSpPr>
                <a:xfrm>
                  <a:off x="2884680" y="1432800"/>
                  <a:ext cx="153360" cy="176400"/>
                  <a:chOff x="2884680" y="1432800"/>
                  <a:chExt cx="153360" cy="176400"/>
                </a:xfrm>
              </p:grpSpPr>
              <p:sp>
                <p:nvSpPr>
                  <p:cNvPr id="4061" name=""/>
                  <p:cNvSpPr/>
                  <p:nvPr/>
                </p:nvSpPr>
                <p:spPr>
                  <a:xfrm rot="1807800">
                    <a:off x="2916720" y="1444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"/>
                  <p:cNvSpPr/>
                  <p:nvPr/>
                </p:nvSpPr>
                <p:spPr>
                  <a:xfrm flipH="1" flipV="1">
                    <a:off x="2957760" y="1491480"/>
                    <a:ext cx="6480" cy="10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 flipV="1">
                    <a:off x="2966400" y="1539000"/>
                    <a:ext cx="50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 flipH="1" flipV="1">
                    <a:off x="2945880" y="1523880"/>
                    <a:ext cx="11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 flipV="1">
                    <a:off x="2963520" y="15037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6" name=""/>
                <p:cNvGrpSpPr/>
                <p:nvPr/>
              </p:nvGrpSpPr>
              <p:grpSpPr>
                <a:xfrm>
                  <a:off x="2824200" y="1412280"/>
                  <a:ext cx="117000" cy="166680"/>
                  <a:chOff x="2824200" y="1412280"/>
                  <a:chExt cx="117000" cy="166680"/>
                </a:xfrm>
              </p:grpSpPr>
              <p:sp>
                <p:nvSpPr>
                  <p:cNvPr id="4067" name=""/>
                  <p:cNvSpPr/>
                  <p:nvPr/>
                </p:nvSpPr>
                <p:spPr>
                  <a:xfrm rot="679200">
                    <a:off x="2838240" y="1419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 flipH="1" flipV="1">
                    <a:off x="2870280" y="1469520"/>
                    <a:ext cx="4032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 flipH="1" flipV="1">
                    <a:off x="2898360" y="150984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 flipH="1" flipV="1">
                    <a:off x="2869200" y="150372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 flipH="1" flipV="1">
                    <a:off x="2881080" y="1478520"/>
                    <a:ext cx="28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2" name=""/>
                <p:cNvGrpSpPr/>
                <p:nvPr/>
              </p:nvGrpSpPr>
              <p:grpSpPr>
                <a:xfrm>
                  <a:off x="2768760" y="1515600"/>
                  <a:ext cx="135720" cy="173520"/>
                  <a:chOff x="2768760" y="1515600"/>
                  <a:chExt cx="135720" cy="173520"/>
                </a:xfrm>
              </p:grpSpPr>
              <p:sp>
                <p:nvSpPr>
                  <p:cNvPr id="4073" name=""/>
                  <p:cNvSpPr/>
                  <p:nvPr/>
                </p:nvSpPr>
                <p:spPr>
                  <a:xfrm rot="1198800">
                    <a:off x="2792160" y="1526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 flipH="1" flipV="1">
                    <a:off x="2828160" y="1573920"/>
                    <a:ext cx="25200" cy="10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"/>
                  <p:cNvSpPr/>
                  <p:nvPr/>
                </p:nvSpPr>
                <p:spPr>
                  <a:xfrm flipV="1">
                    <a:off x="2848680" y="16185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 flipH="1" flipV="1">
                    <a:off x="2822040" y="160776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 flipH="1" flipV="1">
                    <a:off x="2837520" y="158472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8" name=""/>
                <p:cNvGrpSpPr/>
                <p:nvPr/>
              </p:nvGrpSpPr>
              <p:grpSpPr>
                <a:xfrm>
                  <a:off x="2891880" y="1555560"/>
                  <a:ext cx="171360" cy="169560"/>
                  <a:chOff x="2891880" y="1555560"/>
                  <a:chExt cx="171360" cy="169560"/>
                </a:xfrm>
              </p:grpSpPr>
              <p:sp>
                <p:nvSpPr>
                  <p:cNvPr id="4079" name=""/>
                  <p:cNvSpPr/>
                  <p:nvPr/>
                </p:nvSpPr>
                <p:spPr>
                  <a:xfrm rot="2782800">
                    <a:off x="2932920" y="1563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"/>
                  <p:cNvSpPr/>
                  <p:nvPr/>
                </p:nvSpPr>
                <p:spPr>
                  <a:xfrm flipV="1">
                    <a:off x="2959200" y="1611360"/>
                    <a:ext cx="2340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 flipV="1">
                    <a:off x="2971800" y="16606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 flipH="1" flipV="1">
                    <a:off x="2962080" y="163872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"/>
                  <p:cNvSpPr/>
                  <p:nvPr/>
                </p:nvSpPr>
                <p:spPr>
                  <a:xfrm flipV="1">
                    <a:off x="2980440" y="1624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4" name=""/>
                <p:cNvGrpSpPr/>
                <p:nvPr/>
              </p:nvGrpSpPr>
              <p:grpSpPr>
                <a:xfrm>
                  <a:off x="2732040" y="1764720"/>
                  <a:ext cx="147240" cy="122760"/>
                  <a:chOff x="2732040" y="1764720"/>
                  <a:chExt cx="147240" cy="122760"/>
                </a:xfrm>
              </p:grpSpPr>
              <p:sp>
                <p:nvSpPr>
                  <p:cNvPr id="4085" name=""/>
                  <p:cNvSpPr/>
                  <p:nvPr/>
                </p:nvSpPr>
                <p:spPr>
                  <a:xfrm rot="4833600">
                    <a:off x="2754000" y="1760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 flipV="1">
                    <a:off x="2758320" y="1803240"/>
                    <a:ext cx="6444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"/>
                  <p:cNvSpPr/>
                  <p:nvPr/>
                </p:nvSpPr>
                <p:spPr>
                  <a:xfrm flipV="1">
                    <a:off x="2784240" y="1848240"/>
                    <a:ext cx="162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 flipV="1">
                    <a:off x="2792160" y="181440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 flipV="1">
                    <a:off x="2808360" y="1817280"/>
                    <a:ext cx="104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0" name=""/>
                <p:cNvGrpSpPr/>
                <p:nvPr/>
              </p:nvGrpSpPr>
              <p:grpSpPr>
                <a:xfrm>
                  <a:off x="2698200" y="1958400"/>
                  <a:ext cx="122760" cy="169200"/>
                  <a:chOff x="2698200" y="1958400"/>
                  <a:chExt cx="122760" cy="169200"/>
                </a:xfrm>
              </p:grpSpPr>
              <p:sp>
                <p:nvSpPr>
                  <p:cNvPr id="4091" name=""/>
                  <p:cNvSpPr/>
                  <p:nvPr/>
                </p:nvSpPr>
                <p:spPr>
                  <a:xfrm rot="11631000">
                    <a:off x="2715120" y="1966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"/>
                  <p:cNvSpPr/>
                  <p:nvPr/>
                </p:nvSpPr>
                <p:spPr>
                  <a:xfrm>
                    <a:off x="2735280" y="1970640"/>
                    <a:ext cx="3564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2743920" y="200772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2757960" y="2025360"/>
                    <a:ext cx="15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"/>
                  <p:cNvSpPr/>
                  <p:nvPr/>
                </p:nvSpPr>
                <p:spPr>
                  <a:xfrm>
                    <a:off x="2758320" y="2046600"/>
                    <a:ext cx="25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96" name=""/>
                <p:cNvGrpSpPr/>
                <p:nvPr/>
              </p:nvGrpSpPr>
              <p:grpSpPr>
                <a:xfrm>
                  <a:off x="2563560" y="1979640"/>
                  <a:ext cx="127080" cy="170640"/>
                  <a:chOff x="2563560" y="1979640"/>
                  <a:chExt cx="127080" cy="170640"/>
                </a:xfrm>
              </p:grpSpPr>
              <p:sp>
                <p:nvSpPr>
                  <p:cNvPr id="4097" name=""/>
                  <p:cNvSpPr/>
                  <p:nvPr/>
                </p:nvSpPr>
                <p:spPr>
                  <a:xfrm rot="11751000">
                    <a:off x="2582640" y="1988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2604960" y="1991520"/>
                    <a:ext cx="3240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2612520" y="202896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"/>
                  <p:cNvSpPr/>
                  <p:nvPr/>
                </p:nvSpPr>
                <p:spPr>
                  <a:xfrm>
                    <a:off x="2625840" y="20469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2625480" y="206820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2" name=""/>
                <p:cNvGrpSpPr/>
                <p:nvPr/>
              </p:nvGrpSpPr>
              <p:grpSpPr>
                <a:xfrm>
                  <a:off x="2622600" y="1697040"/>
                  <a:ext cx="134280" cy="105480"/>
                  <a:chOff x="2622600" y="1697040"/>
                  <a:chExt cx="134280" cy="105480"/>
                </a:xfrm>
              </p:grpSpPr>
              <p:sp>
                <p:nvSpPr>
                  <p:cNvPr id="4103" name=""/>
                  <p:cNvSpPr/>
                  <p:nvPr/>
                </p:nvSpPr>
                <p:spPr>
                  <a:xfrm rot="5323200">
                    <a:off x="2638440" y="1683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 flipV="1">
                    <a:off x="2635200" y="1729800"/>
                    <a:ext cx="7452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 flipV="1">
                    <a:off x="2664000" y="17712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 flipV="1">
                    <a:off x="2675160" y="173700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 flipV="1">
                    <a:off x="2692800" y="174312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8" name=""/>
                <p:cNvGrpSpPr/>
                <p:nvPr/>
              </p:nvGrpSpPr>
              <p:grpSpPr>
                <a:xfrm>
                  <a:off x="2723760" y="1551240"/>
                  <a:ext cx="167400" cy="118440"/>
                  <a:chOff x="2723760" y="1551240"/>
                  <a:chExt cx="167400" cy="118440"/>
                </a:xfrm>
              </p:grpSpPr>
              <p:sp>
                <p:nvSpPr>
                  <p:cNvPr id="4109" name=""/>
                  <p:cNvSpPr/>
                  <p:nvPr/>
                </p:nvSpPr>
                <p:spPr>
                  <a:xfrm rot="4687800">
                    <a:off x="2762640" y="1533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 flipV="1">
                    <a:off x="2752560" y="1588320"/>
                    <a:ext cx="7452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 flipV="1">
                    <a:off x="2782080" y="1630440"/>
                    <a:ext cx="187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 flipV="1">
                    <a:off x="2791800" y="1600920"/>
                    <a:ext cx="32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 flipV="1">
                    <a:off x="2810880" y="1601640"/>
                    <a:ext cx="11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4" name=""/>
                <p:cNvGrpSpPr/>
                <p:nvPr/>
              </p:nvGrpSpPr>
              <p:grpSpPr>
                <a:xfrm>
                  <a:off x="2876040" y="1458360"/>
                  <a:ext cx="169560" cy="124200"/>
                  <a:chOff x="2876040" y="1458360"/>
                  <a:chExt cx="169560" cy="124200"/>
                </a:xfrm>
              </p:grpSpPr>
              <p:sp>
                <p:nvSpPr>
                  <p:cNvPr id="4115" name=""/>
                  <p:cNvSpPr/>
                  <p:nvPr/>
                </p:nvSpPr>
                <p:spPr>
                  <a:xfrm rot="4527600">
                    <a:off x="2916000" y="14443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 flipV="1">
                    <a:off x="2908800" y="1497960"/>
                    <a:ext cx="7056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 flipV="1">
                    <a:off x="2937240" y="1541160"/>
                    <a:ext cx="180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 flipV="1">
                    <a:off x="2945880" y="1512000"/>
                    <a:ext cx="21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 flipV="1">
                    <a:off x="2964240" y="151164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0" name=""/>
                <p:cNvGrpSpPr/>
                <p:nvPr/>
              </p:nvGrpSpPr>
              <p:grpSpPr>
                <a:xfrm>
                  <a:off x="2969640" y="1486440"/>
                  <a:ext cx="138960" cy="111240"/>
                  <a:chOff x="2969640" y="1486440"/>
                  <a:chExt cx="138960" cy="111240"/>
                </a:xfrm>
              </p:grpSpPr>
              <p:sp>
                <p:nvSpPr>
                  <p:cNvPr id="4121" name=""/>
                  <p:cNvSpPr/>
                  <p:nvPr/>
                </p:nvSpPr>
                <p:spPr>
                  <a:xfrm rot="5160000">
                    <a:off x="2987640" y="1475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 flipV="1">
                    <a:off x="2986560" y="1520640"/>
                    <a:ext cx="7128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"/>
                  <p:cNvSpPr/>
                  <p:nvPr/>
                </p:nvSpPr>
                <p:spPr>
                  <a:xfrm flipV="1">
                    <a:off x="3014640" y="15634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"/>
                  <p:cNvSpPr/>
                  <p:nvPr/>
                </p:nvSpPr>
                <p:spPr>
                  <a:xfrm flipV="1">
                    <a:off x="3024720" y="152964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 flipV="1">
                    <a:off x="3041640" y="15350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26" name=""/>
              <p:cNvGrpSpPr/>
              <p:nvPr/>
            </p:nvGrpSpPr>
            <p:grpSpPr>
              <a:xfrm>
                <a:off x="2377440" y="2265840"/>
                <a:ext cx="645120" cy="762120"/>
                <a:chOff x="2377440" y="2265840"/>
                <a:chExt cx="645120" cy="762120"/>
              </a:xfrm>
            </p:grpSpPr>
            <p:grpSp>
              <p:nvGrpSpPr>
                <p:cNvPr id="4127" name=""/>
                <p:cNvGrpSpPr/>
                <p:nvPr/>
              </p:nvGrpSpPr>
              <p:grpSpPr>
                <a:xfrm>
                  <a:off x="2775960" y="2624040"/>
                  <a:ext cx="96480" cy="156240"/>
                  <a:chOff x="2775960" y="2624040"/>
                  <a:chExt cx="96480" cy="156240"/>
                </a:xfrm>
              </p:grpSpPr>
              <p:sp>
                <p:nvSpPr>
                  <p:cNvPr id="4128" name=""/>
                  <p:cNvSpPr/>
                  <p:nvPr/>
                </p:nvSpPr>
                <p:spPr>
                  <a:xfrm rot="10627200">
                    <a:off x="2779560" y="2625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2779560" y="2639880"/>
                    <a:ext cx="6300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>
                    <a:off x="2798640" y="267264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"/>
                  <p:cNvSpPr/>
                  <p:nvPr/>
                </p:nvSpPr>
                <p:spPr>
                  <a:xfrm>
                    <a:off x="2817360" y="268560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"/>
                  <p:cNvSpPr/>
                  <p:nvPr/>
                </p:nvSpPr>
                <p:spPr>
                  <a:xfrm>
                    <a:off x="2823840" y="270576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33" name=""/>
                <p:cNvSpPr/>
                <p:nvPr/>
              </p:nvSpPr>
              <p:spPr>
                <a:xfrm flipV="1">
                  <a:off x="2595240" y="2518920"/>
                  <a:ext cx="54720" cy="22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 rot="6811800">
                  <a:off x="2324160" y="250848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5" name=""/>
                <p:cNvSpPr/>
                <p:nvPr/>
              </p:nvSpPr>
              <p:spPr>
                <a:xfrm flipV="1">
                  <a:off x="2713680" y="2592720"/>
                  <a:ext cx="16308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6" name=""/>
                <p:cNvSpPr/>
                <p:nvPr/>
              </p:nvSpPr>
              <p:spPr>
                <a:xfrm flipV="1">
                  <a:off x="2405160" y="2804400"/>
                  <a:ext cx="27216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7" name=""/>
                <p:cNvSpPr/>
                <p:nvPr/>
              </p:nvSpPr>
              <p:spPr>
                <a:xfrm flipH="1" flipV="1">
                  <a:off x="2604960" y="2573640"/>
                  <a:ext cx="1800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8" name=""/>
                <p:cNvSpPr/>
                <p:nvPr/>
              </p:nvSpPr>
              <p:spPr>
                <a:xfrm flipV="1">
                  <a:off x="2613960" y="2647080"/>
                  <a:ext cx="4536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 flipV="1">
                  <a:off x="2786760" y="2542680"/>
                  <a:ext cx="9072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0" name=""/>
                <p:cNvSpPr/>
                <p:nvPr/>
              </p:nvSpPr>
              <p:spPr>
                <a:xfrm>
                  <a:off x="2759400" y="2615760"/>
                  <a:ext cx="4500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1" name=""/>
                <p:cNvSpPr/>
                <p:nvPr/>
              </p:nvSpPr>
              <p:spPr>
                <a:xfrm flipH="1" flipV="1">
                  <a:off x="2777760" y="2424240"/>
                  <a:ext cx="900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2" name=""/>
                <p:cNvSpPr/>
                <p:nvPr/>
              </p:nvSpPr>
              <p:spPr>
                <a:xfrm flipV="1">
                  <a:off x="2541240" y="2712960"/>
                  <a:ext cx="15444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3" name=""/>
                <p:cNvSpPr/>
                <p:nvPr/>
              </p:nvSpPr>
              <p:spPr>
                <a:xfrm flipV="1">
                  <a:off x="2632680" y="2754720"/>
                  <a:ext cx="446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2496240" y="2824920"/>
                  <a:ext cx="6300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2631960" y="2809440"/>
                  <a:ext cx="54000" cy="2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 flipV="1">
                  <a:off x="2513880" y="2691360"/>
                  <a:ext cx="1800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 flipV="1">
                  <a:off x="2731680" y="2508840"/>
                  <a:ext cx="972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8" name=""/>
                <p:cNvSpPr/>
                <p:nvPr/>
              </p:nvSpPr>
              <p:spPr>
                <a:xfrm flipV="1">
                  <a:off x="2823480" y="2464200"/>
                  <a:ext cx="453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49" name=""/>
                <p:cNvGrpSpPr/>
                <p:nvPr/>
              </p:nvGrpSpPr>
              <p:grpSpPr>
                <a:xfrm>
                  <a:off x="2842560" y="2534760"/>
                  <a:ext cx="161640" cy="167400"/>
                  <a:chOff x="2842560" y="2534760"/>
                  <a:chExt cx="161640" cy="167400"/>
                </a:xfrm>
              </p:grpSpPr>
              <p:sp>
                <p:nvSpPr>
                  <p:cNvPr id="4150" name=""/>
                  <p:cNvSpPr/>
                  <p:nvPr/>
                </p:nvSpPr>
                <p:spPr>
                  <a:xfrm rot="8557200">
                    <a:off x="2871720" y="25524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>
                    <a:off x="2851200" y="2603160"/>
                    <a:ext cx="10008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2885400" y="261432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 flipV="1">
                    <a:off x="2908800" y="2603160"/>
                    <a:ext cx="19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2925000" y="262080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55" name=""/>
                <p:cNvGrpSpPr/>
                <p:nvPr/>
              </p:nvGrpSpPr>
              <p:grpSpPr>
                <a:xfrm>
                  <a:off x="2648160" y="2551680"/>
                  <a:ext cx="132120" cy="102600"/>
                  <a:chOff x="2648160" y="2551680"/>
                  <a:chExt cx="132120" cy="102600"/>
                </a:xfrm>
              </p:grpSpPr>
              <p:sp>
                <p:nvSpPr>
                  <p:cNvPr id="4156" name=""/>
                  <p:cNvSpPr/>
                  <p:nvPr/>
                </p:nvSpPr>
                <p:spPr>
                  <a:xfrm rot="5398800">
                    <a:off x="2662920" y="25369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 flipV="1">
                    <a:off x="2658240" y="2583360"/>
                    <a:ext cx="7632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 flipV="1">
                    <a:off x="2687760" y="262404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 flipV="1">
                    <a:off x="2699280" y="25898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 flipV="1">
                    <a:off x="2716920" y="2596680"/>
                    <a:ext cx="115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1" name=""/>
                <p:cNvGrpSpPr/>
                <p:nvPr/>
              </p:nvGrpSpPr>
              <p:grpSpPr>
                <a:xfrm>
                  <a:off x="2678400" y="2623680"/>
                  <a:ext cx="162000" cy="146880"/>
                  <a:chOff x="2678400" y="2623680"/>
                  <a:chExt cx="162000" cy="146880"/>
                </a:xfrm>
              </p:grpSpPr>
              <p:sp>
                <p:nvSpPr>
                  <p:cNvPr id="4162" name=""/>
                  <p:cNvSpPr/>
                  <p:nvPr/>
                </p:nvSpPr>
                <p:spPr>
                  <a:xfrm rot="6811800">
                    <a:off x="2707920" y="2630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 flipV="1">
                    <a:off x="2688840" y="2687400"/>
                    <a:ext cx="9684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>
                    <a:off x="2724120" y="27118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 flipV="1">
                    <a:off x="2742840" y="26812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 flipV="1">
                    <a:off x="2761560" y="2697120"/>
                    <a:ext cx="133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7" name=""/>
                <p:cNvGrpSpPr/>
                <p:nvPr/>
              </p:nvGrpSpPr>
              <p:grpSpPr>
                <a:xfrm>
                  <a:off x="2570400" y="2359800"/>
                  <a:ext cx="128160" cy="171000"/>
                  <a:chOff x="2570400" y="2359800"/>
                  <a:chExt cx="128160" cy="171000"/>
                </a:xfrm>
              </p:grpSpPr>
              <p:sp>
                <p:nvSpPr>
                  <p:cNvPr id="4168" name=""/>
                  <p:cNvSpPr/>
                  <p:nvPr/>
                </p:nvSpPr>
                <p:spPr>
                  <a:xfrm rot="981000">
                    <a:off x="2589840" y="2369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 flipH="1" flipV="1">
                    <a:off x="2624040" y="2417760"/>
                    <a:ext cx="3168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 flipV="1">
                    <a:off x="2648520" y="246060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 flipH="1" flipV="1">
                    <a:off x="2620080" y="24516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 flipH="1" flipV="1">
                    <a:off x="2633760" y="242748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3" name=""/>
                <p:cNvGrpSpPr/>
                <p:nvPr/>
              </p:nvGrpSpPr>
              <p:grpSpPr>
                <a:xfrm>
                  <a:off x="2851200" y="2374920"/>
                  <a:ext cx="162000" cy="146880"/>
                  <a:chOff x="2851200" y="2374920"/>
                  <a:chExt cx="162000" cy="146880"/>
                </a:xfrm>
              </p:grpSpPr>
              <p:sp>
                <p:nvSpPr>
                  <p:cNvPr id="4174" name=""/>
                  <p:cNvSpPr/>
                  <p:nvPr/>
                </p:nvSpPr>
                <p:spPr>
                  <a:xfrm rot="6811800">
                    <a:off x="2880720" y="2382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 flipV="1">
                    <a:off x="2861640" y="2438640"/>
                    <a:ext cx="9720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6" name=""/>
                  <p:cNvSpPr/>
                  <p:nvPr/>
                </p:nvSpPr>
                <p:spPr>
                  <a:xfrm>
                    <a:off x="2896920" y="246312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 flipV="1">
                    <a:off x="2915640" y="24328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 flipV="1">
                    <a:off x="2934720" y="24483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9" name=""/>
                <p:cNvGrpSpPr/>
                <p:nvPr/>
              </p:nvGrpSpPr>
              <p:grpSpPr>
                <a:xfrm>
                  <a:off x="2660400" y="2715120"/>
                  <a:ext cx="162000" cy="146880"/>
                  <a:chOff x="2660400" y="2715120"/>
                  <a:chExt cx="162000" cy="146880"/>
                </a:xfrm>
              </p:grpSpPr>
              <p:sp>
                <p:nvSpPr>
                  <p:cNvPr id="4180" name=""/>
                  <p:cNvSpPr/>
                  <p:nvPr/>
                </p:nvSpPr>
                <p:spPr>
                  <a:xfrm rot="6811800">
                    <a:off x="2689920" y="2722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 flipV="1">
                    <a:off x="2670840" y="2778840"/>
                    <a:ext cx="9720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2" name=""/>
                  <p:cNvSpPr/>
                  <p:nvPr/>
                </p:nvSpPr>
                <p:spPr>
                  <a:xfrm>
                    <a:off x="2706120" y="280332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3" name=""/>
                  <p:cNvSpPr/>
                  <p:nvPr/>
                </p:nvSpPr>
                <p:spPr>
                  <a:xfrm flipV="1">
                    <a:off x="2724840" y="27730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4" name=""/>
                  <p:cNvSpPr/>
                  <p:nvPr/>
                </p:nvSpPr>
                <p:spPr>
                  <a:xfrm flipV="1">
                    <a:off x="2743920" y="27885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85" name=""/>
                <p:cNvGrpSpPr/>
                <p:nvPr/>
              </p:nvGrpSpPr>
              <p:grpSpPr>
                <a:xfrm>
                  <a:off x="2860560" y="2453760"/>
                  <a:ext cx="162000" cy="146880"/>
                  <a:chOff x="2860560" y="2453760"/>
                  <a:chExt cx="162000" cy="146880"/>
                </a:xfrm>
              </p:grpSpPr>
              <p:sp>
                <p:nvSpPr>
                  <p:cNvPr id="4186" name=""/>
                  <p:cNvSpPr/>
                  <p:nvPr/>
                </p:nvSpPr>
                <p:spPr>
                  <a:xfrm rot="6811800">
                    <a:off x="2890080" y="2460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7" name=""/>
                  <p:cNvSpPr/>
                  <p:nvPr/>
                </p:nvSpPr>
                <p:spPr>
                  <a:xfrm flipV="1">
                    <a:off x="2871000" y="2517480"/>
                    <a:ext cx="9720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>
                    <a:off x="2906280" y="25419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 flipV="1">
                    <a:off x="2925000" y="25113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 flipV="1">
                    <a:off x="2944080" y="252720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1" name=""/>
                <p:cNvGrpSpPr/>
                <p:nvPr/>
              </p:nvGrpSpPr>
              <p:grpSpPr>
                <a:xfrm>
                  <a:off x="2444760" y="2529360"/>
                  <a:ext cx="106200" cy="161640"/>
                  <a:chOff x="2444760" y="2529360"/>
                  <a:chExt cx="106200" cy="161640"/>
                </a:xfrm>
              </p:grpSpPr>
              <p:sp>
                <p:nvSpPr>
                  <p:cNvPr id="4192" name=""/>
                  <p:cNvSpPr/>
                  <p:nvPr/>
                </p:nvSpPr>
                <p:spPr>
                  <a:xfrm rot="409800">
                    <a:off x="2453040" y="2534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 flipH="1" flipV="1">
                    <a:off x="2482920" y="2584800"/>
                    <a:ext cx="4788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 flipH="1" flipV="1">
                    <a:off x="2514240" y="2622960"/>
                    <a:ext cx="36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5" name=""/>
                  <p:cNvSpPr/>
                  <p:nvPr/>
                </p:nvSpPr>
                <p:spPr>
                  <a:xfrm flipH="1" flipV="1">
                    <a:off x="2484720" y="2619000"/>
                    <a:ext cx="16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6" name=""/>
                  <p:cNvSpPr/>
                  <p:nvPr/>
                </p:nvSpPr>
                <p:spPr>
                  <a:xfrm flipH="1" flipV="1">
                    <a:off x="2494440" y="2593080"/>
                    <a:ext cx="3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7" name=""/>
                <p:cNvGrpSpPr/>
                <p:nvPr/>
              </p:nvGrpSpPr>
              <p:grpSpPr>
                <a:xfrm>
                  <a:off x="2507760" y="2432160"/>
                  <a:ext cx="107280" cy="162360"/>
                  <a:chOff x="2507760" y="2432160"/>
                  <a:chExt cx="107280" cy="162360"/>
                </a:xfrm>
              </p:grpSpPr>
              <p:sp>
                <p:nvSpPr>
                  <p:cNvPr id="4198" name=""/>
                  <p:cNvSpPr/>
                  <p:nvPr/>
                </p:nvSpPr>
                <p:spPr>
                  <a:xfrm rot="21171000">
                    <a:off x="2516760" y="2436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9" name=""/>
                  <p:cNvSpPr/>
                  <p:nvPr/>
                </p:nvSpPr>
                <p:spPr>
                  <a:xfrm flipH="1" flipV="1">
                    <a:off x="2541240" y="2492280"/>
                    <a:ext cx="6912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0" name=""/>
                  <p:cNvSpPr/>
                  <p:nvPr/>
                </p:nvSpPr>
                <p:spPr>
                  <a:xfrm flipH="1" flipV="1">
                    <a:off x="2580840" y="252180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1" name=""/>
                  <p:cNvSpPr/>
                  <p:nvPr/>
                </p:nvSpPr>
                <p:spPr>
                  <a:xfrm flipH="1" flipV="1">
                    <a:off x="2550960" y="2525040"/>
                    <a:ext cx="1836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2" name=""/>
                  <p:cNvSpPr/>
                  <p:nvPr/>
                </p:nvSpPr>
                <p:spPr>
                  <a:xfrm flipH="1" flipV="1">
                    <a:off x="2554200" y="2497680"/>
                    <a:ext cx="72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3" name=""/>
                <p:cNvGrpSpPr/>
                <p:nvPr/>
              </p:nvGrpSpPr>
              <p:grpSpPr>
                <a:xfrm>
                  <a:off x="2756880" y="2267640"/>
                  <a:ext cx="136440" cy="173880"/>
                  <a:chOff x="2756880" y="2267640"/>
                  <a:chExt cx="136440" cy="173880"/>
                </a:xfrm>
              </p:grpSpPr>
              <p:sp>
                <p:nvSpPr>
                  <p:cNvPr id="4204" name=""/>
                  <p:cNvSpPr/>
                  <p:nvPr/>
                </p:nvSpPr>
                <p:spPr>
                  <a:xfrm rot="1222200">
                    <a:off x="2780280" y="2278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5" name=""/>
                  <p:cNvSpPr/>
                  <p:nvPr/>
                </p:nvSpPr>
                <p:spPr>
                  <a:xfrm flipH="1" flipV="1">
                    <a:off x="2816640" y="2326320"/>
                    <a:ext cx="2448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6" name=""/>
                  <p:cNvSpPr/>
                  <p:nvPr/>
                </p:nvSpPr>
                <p:spPr>
                  <a:xfrm flipV="1">
                    <a:off x="2836440" y="23709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7" name=""/>
                  <p:cNvSpPr/>
                  <p:nvPr/>
                </p:nvSpPr>
                <p:spPr>
                  <a:xfrm flipH="1" flipV="1">
                    <a:off x="2810160" y="236016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8" name=""/>
                  <p:cNvSpPr/>
                  <p:nvPr/>
                </p:nvSpPr>
                <p:spPr>
                  <a:xfrm flipH="1" flipV="1">
                    <a:off x="2825640" y="233712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9" name=""/>
                <p:cNvGrpSpPr/>
                <p:nvPr/>
              </p:nvGrpSpPr>
              <p:grpSpPr>
                <a:xfrm>
                  <a:off x="2696760" y="2265840"/>
                  <a:ext cx="93240" cy="154800"/>
                  <a:chOff x="2696760" y="2265840"/>
                  <a:chExt cx="93240" cy="154800"/>
                </a:xfrm>
              </p:grpSpPr>
              <p:sp>
                <p:nvSpPr>
                  <p:cNvPr id="4210" name=""/>
                  <p:cNvSpPr/>
                  <p:nvPr/>
                </p:nvSpPr>
                <p:spPr>
                  <a:xfrm rot="93600">
                    <a:off x="2698920" y="2266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1" name=""/>
                  <p:cNvSpPr/>
                  <p:nvPr/>
                </p:nvSpPr>
                <p:spPr>
                  <a:xfrm flipH="1" flipV="1">
                    <a:off x="2726640" y="2319480"/>
                    <a:ext cx="5616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 flipH="1" flipV="1">
                    <a:off x="2761200" y="235440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3" name=""/>
                  <p:cNvSpPr/>
                  <p:nvPr/>
                </p:nvSpPr>
                <p:spPr>
                  <a:xfrm flipH="1" flipV="1">
                    <a:off x="2731320" y="235332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4" name=""/>
                  <p:cNvSpPr/>
                  <p:nvPr/>
                </p:nvSpPr>
                <p:spPr>
                  <a:xfrm flipH="1" flipV="1">
                    <a:off x="2738520" y="232668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5" name=""/>
                <p:cNvGrpSpPr/>
                <p:nvPr/>
              </p:nvGrpSpPr>
              <p:grpSpPr>
                <a:xfrm>
                  <a:off x="2658600" y="2373120"/>
                  <a:ext cx="114480" cy="165600"/>
                  <a:chOff x="2658600" y="2373120"/>
                  <a:chExt cx="114480" cy="165600"/>
                </a:xfrm>
              </p:grpSpPr>
              <p:sp>
                <p:nvSpPr>
                  <p:cNvPr id="4216" name=""/>
                  <p:cNvSpPr/>
                  <p:nvPr/>
                </p:nvSpPr>
                <p:spPr>
                  <a:xfrm rot="613200">
                    <a:off x="2671200" y="2379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7" name=""/>
                  <p:cNvSpPr/>
                  <p:nvPr/>
                </p:nvSpPr>
                <p:spPr>
                  <a:xfrm flipH="1" flipV="1">
                    <a:off x="2702880" y="2429640"/>
                    <a:ext cx="4212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8" name=""/>
                  <p:cNvSpPr/>
                  <p:nvPr/>
                </p:nvSpPr>
                <p:spPr>
                  <a:xfrm flipH="1" flipV="1">
                    <a:off x="2732040" y="246960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 flipH="1" flipV="1">
                    <a:off x="2702520" y="246384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0" name=""/>
                  <p:cNvSpPr/>
                  <p:nvPr/>
                </p:nvSpPr>
                <p:spPr>
                  <a:xfrm flipH="1" flipV="1">
                    <a:off x="2713680" y="2438640"/>
                    <a:ext cx="3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1" name=""/>
                <p:cNvGrpSpPr/>
                <p:nvPr/>
              </p:nvGrpSpPr>
              <p:grpSpPr>
                <a:xfrm>
                  <a:off x="2779920" y="2381760"/>
                  <a:ext cx="162000" cy="175320"/>
                  <a:chOff x="2779920" y="2381760"/>
                  <a:chExt cx="162000" cy="175320"/>
                </a:xfrm>
              </p:grpSpPr>
              <p:sp>
                <p:nvSpPr>
                  <p:cNvPr id="4222" name=""/>
                  <p:cNvSpPr/>
                  <p:nvPr/>
                </p:nvSpPr>
                <p:spPr>
                  <a:xfrm rot="2197200">
                    <a:off x="2816280" y="2392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3" name=""/>
                  <p:cNvSpPr/>
                  <p:nvPr/>
                </p:nvSpPr>
                <p:spPr>
                  <a:xfrm flipV="1">
                    <a:off x="2855520" y="2440080"/>
                    <a:ext cx="5760" cy="10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4" name=""/>
                  <p:cNvSpPr/>
                  <p:nvPr/>
                </p:nvSpPr>
                <p:spPr>
                  <a:xfrm flipV="1">
                    <a:off x="2862000" y="248868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5" name=""/>
                  <p:cNvSpPr/>
                  <p:nvPr/>
                </p:nvSpPr>
                <p:spPr>
                  <a:xfrm flipH="1" flipV="1">
                    <a:off x="2845440" y="2470680"/>
                    <a:ext cx="100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6" name=""/>
                  <p:cNvSpPr/>
                  <p:nvPr/>
                </p:nvSpPr>
                <p:spPr>
                  <a:xfrm flipV="1">
                    <a:off x="2863440" y="2453040"/>
                    <a:ext cx="3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7" name=""/>
                <p:cNvGrpSpPr/>
                <p:nvPr/>
              </p:nvGrpSpPr>
              <p:grpSpPr>
                <a:xfrm>
                  <a:off x="2643840" y="2611440"/>
                  <a:ext cx="158760" cy="140400"/>
                  <a:chOff x="2643840" y="2611440"/>
                  <a:chExt cx="158760" cy="140400"/>
                </a:xfrm>
              </p:grpSpPr>
              <p:sp>
                <p:nvSpPr>
                  <p:cNvPr id="4228" name=""/>
                  <p:cNvSpPr/>
                  <p:nvPr/>
                </p:nvSpPr>
                <p:spPr>
                  <a:xfrm rot="4248000">
                    <a:off x="2671920" y="26154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 flipV="1">
                    <a:off x="2686320" y="2656440"/>
                    <a:ext cx="496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 flipV="1">
                    <a:off x="2707560" y="270432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 flipH="1" flipV="1">
                    <a:off x="2710440" y="2672280"/>
                    <a:ext cx="108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 flipV="1">
                    <a:off x="2725920" y="2670840"/>
                    <a:ext cx="90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3" name=""/>
                <p:cNvGrpSpPr/>
                <p:nvPr/>
              </p:nvGrpSpPr>
              <p:grpSpPr>
                <a:xfrm>
                  <a:off x="2665080" y="2824200"/>
                  <a:ext cx="99360" cy="158400"/>
                  <a:chOff x="2665080" y="2824200"/>
                  <a:chExt cx="99360" cy="158400"/>
                </a:xfrm>
              </p:grpSpPr>
              <p:sp>
                <p:nvSpPr>
                  <p:cNvPr id="4234" name=""/>
                  <p:cNvSpPr/>
                  <p:nvPr/>
                </p:nvSpPr>
                <p:spPr>
                  <a:xfrm rot="11045400">
                    <a:off x="2670120" y="2827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2678400" y="2836440"/>
                    <a:ext cx="52200" cy="9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2693160" y="287136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2710080" y="2886120"/>
                    <a:ext cx="17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2714040" y="2907000"/>
                    <a:ext cx="46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9" name=""/>
                <p:cNvGrpSpPr/>
                <p:nvPr/>
              </p:nvGrpSpPr>
              <p:grpSpPr>
                <a:xfrm>
                  <a:off x="2535480" y="2867040"/>
                  <a:ext cx="104760" cy="160920"/>
                  <a:chOff x="2535480" y="2867040"/>
                  <a:chExt cx="104760" cy="160920"/>
                </a:xfrm>
              </p:grpSpPr>
              <p:sp>
                <p:nvSpPr>
                  <p:cNvPr id="4240" name=""/>
                  <p:cNvSpPr/>
                  <p:nvPr/>
                </p:nvSpPr>
                <p:spPr>
                  <a:xfrm rot="11165400">
                    <a:off x="2543400" y="2871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2553480" y="2878920"/>
                    <a:ext cx="489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2" name=""/>
                  <p:cNvSpPr/>
                  <p:nvPr/>
                </p:nvSpPr>
                <p:spPr>
                  <a:xfrm>
                    <a:off x="2567160" y="2914560"/>
                    <a:ext cx="36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>
                    <a:off x="2583720" y="293004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2586960" y="295092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5" name=""/>
                <p:cNvGrpSpPr/>
                <p:nvPr/>
              </p:nvGrpSpPr>
              <p:grpSpPr>
                <a:xfrm>
                  <a:off x="2521800" y="2563200"/>
                  <a:ext cx="149400" cy="126000"/>
                  <a:chOff x="2521800" y="2563200"/>
                  <a:chExt cx="149400" cy="126000"/>
                </a:xfrm>
              </p:grpSpPr>
              <p:sp>
                <p:nvSpPr>
                  <p:cNvPr id="4246" name=""/>
                  <p:cNvSpPr/>
                  <p:nvPr/>
                </p:nvSpPr>
                <p:spPr>
                  <a:xfrm rot="4737600">
                    <a:off x="2544840" y="2559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7" name=""/>
                  <p:cNvSpPr/>
                  <p:nvPr/>
                </p:nvSpPr>
                <p:spPr>
                  <a:xfrm flipV="1">
                    <a:off x="2550600" y="2603160"/>
                    <a:ext cx="619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8" name=""/>
                  <p:cNvSpPr/>
                  <p:nvPr/>
                </p:nvSpPr>
                <p:spPr>
                  <a:xfrm flipV="1">
                    <a:off x="2575440" y="264852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9" name=""/>
                  <p:cNvSpPr/>
                  <p:nvPr/>
                </p:nvSpPr>
                <p:spPr>
                  <a:xfrm flipV="1">
                    <a:off x="2583000" y="261504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0" name=""/>
                  <p:cNvSpPr/>
                  <p:nvPr/>
                </p:nvSpPr>
                <p:spPr>
                  <a:xfrm flipV="1">
                    <a:off x="2598840" y="2617200"/>
                    <a:ext cx="100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1" name=""/>
                <p:cNvGrpSpPr/>
                <p:nvPr/>
              </p:nvGrpSpPr>
              <p:grpSpPr>
                <a:xfrm>
                  <a:off x="2601360" y="2399760"/>
                  <a:ext cx="174240" cy="138960"/>
                  <a:chOff x="2601360" y="2399760"/>
                  <a:chExt cx="174240" cy="138960"/>
                </a:xfrm>
              </p:grpSpPr>
              <p:sp>
                <p:nvSpPr>
                  <p:cNvPr id="4252" name=""/>
                  <p:cNvSpPr/>
                  <p:nvPr/>
                </p:nvSpPr>
                <p:spPr>
                  <a:xfrm rot="4102200">
                    <a:off x="2643840" y="2392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3" name=""/>
                  <p:cNvSpPr/>
                  <p:nvPr/>
                </p:nvSpPr>
                <p:spPr>
                  <a:xfrm flipV="1">
                    <a:off x="2643480" y="2444040"/>
                    <a:ext cx="6048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4" name=""/>
                  <p:cNvSpPr/>
                  <p:nvPr/>
                </p:nvSpPr>
                <p:spPr>
                  <a:xfrm flipV="1">
                    <a:off x="2668680" y="24897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5" name=""/>
                  <p:cNvSpPr/>
                  <p:nvPr/>
                </p:nvSpPr>
                <p:spPr>
                  <a:xfrm flipH="1" flipV="1">
                    <a:off x="2674440" y="246168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6" name=""/>
                  <p:cNvSpPr/>
                  <p:nvPr/>
                </p:nvSpPr>
                <p:spPr>
                  <a:xfrm flipV="1">
                    <a:off x="2691720" y="2457720"/>
                    <a:ext cx="104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7" name=""/>
                <p:cNvGrpSpPr/>
                <p:nvPr/>
              </p:nvGrpSpPr>
              <p:grpSpPr>
                <a:xfrm>
                  <a:off x="2736720" y="2282760"/>
                  <a:ext cx="175680" cy="143640"/>
                  <a:chOff x="2736720" y="2282760"/>
                  <a:chExt cx="175680" cy="143640"/>
                </a:xfrm>
              </p:grpSpPr>
              <p:sp>
                <p:nvSpPr>
                  <p:cNvPr id="4258" name=""/>
                  <p:cNvSpPr/>
                  <p:nvPr/>
                </p:nvSpPr>
                <p:spPr>
                  <a:xfrm rot="3942000">
                    <a:off x="2779920" y="22784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9" name=""/>
                  <p:cNvSpPr/>
                  <p:nvPr/>
                </p:nvSpPr>
                <p:spPr>
                  <a:xfrm flipV="1">
                    <a:off x="2782800" y="2328840"/>
                    <a:ext cx="561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0" name=""/>
                  <p:cNvSpPr/>
                  <p:nvPr/>
                </p:nvSpPr>
                <p:spPr>
                  <a:xfrm flipV="1">
                    <a:off x="2806560" y="2375640"/>
                    <a:ext cx="15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 flipH="1" flipV="1">
                    <a:off x="2810520" y="23482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 flipV="1">
                    <a:off x="2827800" y="234288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3" name=""/>
                <p:cNvGrpSpPr/>
                <p:nvPr/>
              </p:nvGrpSpPr>
              <p:grpSpPr>
                <a:xfrm>
                  <a:off x="2829240" y="2297160"/>
                  <a:ext cx="152640" cy="130680"/>
                  <a:chOff x="2829240" y="2297160"/>
                  <a:chExt cx="152640" cy="130680"/>
                </a:xfrm>
              </p:grpSpPr>
              <p:sp>
                <p:nvSpPr>
                  <p:cNvPr id="4264" name=""/>
                  <p:cNvSpPr/>
                  <p:nvPr/>
                </p:nvSpPr>
                <p:spPr>
                  <a:xfrm rot="4574400">
                    <a:off x="2854080" y="2296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5" name=""/>
                  <p:cNvSpPr/>
                  <p:nvPr/>
                </p:nvSpPr>
                <p:spPr>
                  <a:xfrm flipV="1">
                    <a:off x="2862000" y="2337840"/>
                    <a:ext cx="5796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6" name=""/>
                  <p:cNvSpPr/>
                  <p:nvPr/>
                </p:nvSpPr>
                <p:spPr>
                  <a:xfrm flipV="1">
                    <a:off x="2885760" y="2384640"/>
                    <a:ext cx="15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7" name=""/>
                  <p:cNvSpPr/>
                  <p:nvPr/>
                </p:nvSpPr>
                <p:spPr>
                  <a:xfrm flipV="1">
                    <a:off x="2892240" y="23518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8" name=""/>
                  <p:cNvSpPr/>
                  <p:nvPr/>
                </p:nvSpPr>
                <p:spPr>
                  <a:xfrm flipV="1">
                    <a:off x="2907720" y="235296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9" name=""/>
              <p:cNvGrpSpPr/>
              <p:nvPr/>
            </p:nvGrpSpPr>
            <p:grpSpPr>
              <a:xfrm>
                <a:off x="2665080" y="2271960"/>
                <a:ext cx="744120" cy="602280"/>
                <a:chOff x="2665080" y="2271960"/>
                <a:chExt cx="744120" cy="602280"/>
              </a:xfrm>
            </p:grpSpPr>
            <p:grpSp>
              <p:nvGrpSpPr>
                <p:cNvPr id="4270" name=""/>
                <p:cNvGrpSpPr/>
                <p:nvPr/>
              </p:nvGrpSpPr>
              <p:grpSpPr>
                <a:xfrm>
                  <a:off x="2995200" y="2648880"/>
                  <a:ext cx="163080" cy="167040"/>
                  <a:chOff x="2995200" y="2648880"/>
                  <a:chExt cx="163080" cy="167040"/>
                </a:xfrm>
              </p:grpSpPr>
              <p:sp>
                <p:nvSpPr>
                  <p:cNvPr id="4271" name=""/>
                  <p:cNvSpPr/>
                  <p:nvPr/>
                </p:nvSpPr>
                <p:spPr>
                  <a:xfrm rot="13188000">
                    <a:off x="3025440" y="2666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2" name=""/>
                  <p:cNvSpPr/>
                  <p:nvPr/>
                </p:nvSpPr>
                <p:spPr>
                  <a:xfrm>
                    <a:off x="3076200" y="2658960"/>
                    <a:ext cx="2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3" name=""/>
                  <p:cNvSpPr/>
                  <p:nvPr/>
                </p:nvSpPr>
                <p:spPr>
                  <a:xfrm flipH="1">
                    <a:off x="3066120" y="269424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4" name=""/>
                  <p:cNvSpPr/>
                  <p:nvPr/>
                </p:nvSpPr>
                <p:spPr>
                  <a:xfrm>
                    <a:off x="3080520" y="271620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5" name=""/>
                  <p:cNvSpPr/>
                  <p:nvPr/>
                </p:nvSpPr>
                <p:spPr>
                  <a:xfrm flipH="1">
                    <a:off x="3072240" y="2733840"/>
                    <a:ext cx="21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76" name=""/>
                <p:cNvSpPr/>
                <p:nvPr/>
              </p:nvSpPr>
              <p:spPr>
                <a:xfrm flipV="1">
                  <a:off x="2883600" y="2453040"/>
                  <a:ext cx="163440" cy="121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 rot="9372600">
                  <a:off x="2703600" y="23590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>
                  <a:off x="3038400" y="2581200"/>
                  <a:ext cx="13680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2692440" y="2485080"/>
                  <a:ext cx="219240" cy="20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 flipV="1">
                  <a:off x="2965680" y="2456280"/>
                  <a:ext cx="176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 flipV="1">
                  <a:off x="2920320" y="2554920"/>
                  <a:ext cx="6372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3102840" y="2628000"/>
                  <a:ext cx="10008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3075120" y="2615040"/>
                  <a:ext cx="93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 flipV="1">
                  <a:off x="3156840" y="2487960"/>
                  <a:ext cx="35640" cy="65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2801520" y="2585520"/>
                  <a:ext cx="17316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2902680" y="2616480"/>
                  <a:ext cx="3600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2765880" y="2552040"/>
                  <a:ext cx="1872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2875320" y="2653560"/>
                  <a:ext cx="273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 flipV="1">
                  <a:off x="2802600" y="2482920"/>
                  <a:ext cx="630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 flipV="1">
                  <a:off x="3075120" y="2520360"/>
                  <a:ext cx="4536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3202560" y="2558880"/>
                  <a:ext cx="3636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2" name=""/>
                <p:cNvGrpSpPr/>
                <p:nvPr/>
              </p:nvGrpSpPr>
              <p:grpSpPr>
                <a:xfrm>
                  <a:off x="3144240" y="2672280"/>
                  <a:ext cx="102600" cy="159480"/>
                  <a:chOff x="3144240" y="2672280"/>
                  <a:chExt cx="102600" cy="159480"/>
                </a:xfrm>
              </p:grpSpPr>
              <p:sp>
                <p:nvSpPr>
                  <p:cNvPr id="4293" name=""/>
                  <p:cNvSpPr/>
                  <p:nvPr/>
                </p:nvSpPr>
                <p:spPr>
                  <a:xfrm rot="11118000">
                    <a:off x="3151080" y="2675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>
                    <a:off x="3160440" y="2683800"/>
                    <a:ext cx="504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>
                    <a:off x="3174480" y="2719080"/>
                    <a:ext cx="396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3191400" y="2734200"/>
                    <a:ext cx="16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3194640" y="275508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8" name=""/>
                <p:cNvGrpSpPr/>
                <p:nvPr/>
              </p:nvGrpSpPr>
              <p:grpSpPr>
                <a:xfrm>
                  <a:off x="2962440" y="2483640"/>
                  <a:ext cx="172080" cy="168480"/>
                  <a:chOff x="2962440" y="2483640"/>
                  <a:chExt cx="172080" cy="168480"/>
                </a:xfrm>
              </p:grpSpPr>
              <p:sp>
                <p:nvSpPr>
                  <p:cNvPr id="4299" name=""/>
                  <p:cNvSpPr/>
                  <p:nvPr/>
                </p:nvSpPr>
                <p:spPr>
                  <a:xfrm rot="7959600">
                    <a:off x="3003840" y="2491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2973240" y="2554200"/>
                    <a:ext cx="1040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3009600" y="2564640"/>
                    <a:ext cx="18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 flipV="1">
                    <a:off x="3031920" y="2552400"/>
                    <a:ext cx="169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3050640" y="2570400"/>
                    <a:ext cx="136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4" name=""/>
                <p:cNvGrpSpPr/>
                <p:nvPr/>
              </p:nvGrpSpPr>
              <p:grpSpPr>
                <a:xfrm>
                  <a:off x="2959920" y="2587680"/>
                  <a:ext cx="142560" cy="174960"/>
                  <a:chOff x="2959920" y="2587680"/>
                  <a:chExt cx="142560" cy="174960"/>
                </a:xfrm>
              </p:grpSpPr>
              <p:sp>
                <p:nvSpPr>
                  <p:cNvPr id="4305" name=""/>
                  <p:cNvSpPr/>
                  <p:nvPr/>
                </p:nvSpPr>
                <p:spPr>
                  <a:xfrm rot="9372600">
                    <a:off x="2986560" y="2598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6" name=""/>
                  <p:cNvSpPr/>
                  <p:nvPr/>
                </p:nvSpPr>
                <p:spPr>
                  <a:xfrm>
                    <a:off x="2967120" y="2632680"/>
                    <a:ext cx="8928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7" name=""/>
                  <p:cNvSpPr/>
                  <p:nvPr/>
                </p:nvSpPr>
                <p:spPr>
                  <a:xfrm>
                    <a:off x="2996640" y="26564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8" name=""/>
                  <p:cNvSpPr/>
                  <p:nvPr/>
                </p:nvSpPr>
                <p:spPr>
                  <a:xfrm flipV="1">
                    <a:off x="3018600" y="266076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9" name=""/>
                  <p:cNvSpPr/>
                  <p:nvPr/>
                </p:nvSpPr>
                <p:spPr>
                  <a:xfrm>
                    <a:off x="3031920" y="2678400"/>
                    <a:ext cx="104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0" name=""/>
                <p:cNvGrpSpPr/>
                <p:nvPr/>
              </p:nvGrpSpPr>
              <p:grpSpPr>
                <a:xfrm>
                  <a:off x="2991600" y="2306520"/>
                  <a:ext cx="165960" cy="155520"/>
                  <a:chOff x="2991600" y="2306520"/>
                  <a:chExt cx="165960" cy="155520"/>
                </a:xfrm>
              </p:grpSpPr>
              <p:sp>
                <p:nvSpPr>
                  <p:cNvPr id="4311" name=""/>
                  <p:cNvSpPr/>
                  <p:nvPr/>
                </p:nvSpPr>
                <p:spPr>
                  <a:xfrm rot="3541800">
                    <a:off x="3023280" y="2318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2" name=""/>
                  <p:cNvSpPr/>
                  <p:nvPr/>
                </p:nvSpPr>
                <p:spPr>
                  <a:xfrm flipV="1">
                    <a:off x="3051000" y="2356560"/>
                    <a:ext cx="3096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"/>
                  <p:cNvSpPr/>
                  <p:nvPr/>
                </p:nvSpPr>
                <p:spPr>
                  <a:xfrm flipV="1">
                    <a:off x="3066120" y="24069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4" name=""/>
                  <p:cNvSpPr/>
                  <p:nvPr/>
                </p:nvSpPr>
                <p:spPr>
                  <a:xfrm flipH="1" flipV="1">
                    <a:off x="3060360" y="237816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5" name=""/>
                  <p:cNvSpPr/>
                  <p:nvPr/>
                </p:nvSpPr>
                <p:spPr>
                  <a:xfrm flipV="1">
                    <a:off x="3077280" y="237204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6" name=""/>
                <p:cNvGrpSpPr/>
                <p:nvPr/>
              </p:nvGrpSpPr>
              <p:grpSpPr>
                <a:xfrm>
                  <a:off x="3223440" y="2545920"/>
                  <a:ext cx="142560" cy="174960"/>
                  <a:chOff x="3223440" y="2545920"/>
                  <a:chExt cx="142560" cy="174960"/>
                </a:xfrm>
              </p:grpSpPr>
              <p:sp>
                <p:nvSpPr>
                  <p:cNvPr id="4317" name=""/>
                  <p:cNvSpPr/>
                  <p:nvPr/>
                </p:nvSpPr>
                <p:spPr>
                  <a:xfrm rot="9372600">
                    <a:off x="3250080" y="2557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3230640" y="2590560"/>
                    <a:ext cx="8928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9" name=""/>
                  <p:cNvSpPr/>
                  <p:nvPr/>
                </p:nvSpPr>
                <p:spPr>
                  <a:xfrm>
                    <a:off x="3260160" y="2614680"/>
                    <a:ext cx="136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 flipV="1">
                    <a:off x="3282120" y="261900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3295440" y="263664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2" name=""/>
                <p:cNvGrpSpPr/>
                <p:nvPr/>
              </p:nvGrpSpPr>
              <p:grpSpPr>
                <a:xfrm>
                  <a:off x="2896560" y="2640960"/>
                  <a:ext cx="142560" cy="174960"/>
                  <a:chOff x="2896560" y="2640960"/>
                  <a:chExt cx="142560" cy="174960"/>
                </a:xfrm>
              </p:grpSpPr>
              <p:sp>
                <p:nvSpPr>
                  <p:cNvPr id="4323" name=""/>
                  <p:cNvSpPr/>
                  <p:nvPr/>
                </p:nvSpPr>
                <p:spPr>
                  <a:xfrm rot="9372600">
                    <a:off x="2923200" y="2652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4" name=""/>
                  <p:cNvSpPr/>
                  <p:nvPr/>
                </p:nvSpPr>
                <p:spPr>
                  <a:xfrm>
                    <a:off x="2904120" y="2685600"/>
                    <a:ext cx="8892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2933280" y="270972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 flipV="1">
                    <a:off x="2955600" y="2714040"/>
                    <a:ext cx="187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2968560" y="2731320"/>
                    <a:ext cx="108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8" name=""/>
                <p:cNvGrpSpPr/>
                <p:nvPr/>
              </p:nvGrpSpPr>
              <p:grpSpPr>
                <a:xfrm>
                  <a:off x="3187080" y="2611800"/>
                  <a:ext cx="142560" cy="174960"/>
                  <a:chOff x="3187080" y="2611800"/>
                  <a:chExt cx="142560" cy="174960"/>
                </a:xfrm>
              </p:grpSpPr>
              <p:sp>
                <p:nvSpPr>
                  <p:cNvPr id="4329" name=""/>
                  <p:cNvSpPr/>
                  <p:nvPr/>
                </p:nvSpPr>
                <p:spPr>
                  <a:xfrm rot="9372600">
                    <a:off x="3213720" y="2622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3194640" y="265644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1" name=""/>
                  <p:cNvSpPr/>
                  <p:nvPr/>
                </p:nvSpPr>
                <p:spPr>
                  <a:xfrm>
                    <a:off x="3224160" y="26805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2" name=""/>
                  <p:cNvSpPr/>
                  <p:nvPr/>
                </p:nvSpPr>
                <p:spPr>
                  <a:xfrm flipV="1">
                    <a:off x="3246120" y="26848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3" name=""/>
                  <p:cNvSpPr/>
                  <p:nvPr/>
                </p:nvSpPr>
                <p:spPr>
                  <a:xfrm>
                    <a:off x="3259080" y="270252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4" name=""/>
                <p:cNvGrpSpPr/>
                <p:nvPr/>
              </p:nvGrpSpPr>
              <p:grpSpPr>
                <a:xfrm>
                  <a:off x="2799720" y="2312280"/>
                  <a:ext cx="166680" cy="163440"/>
                  <a:chOff x="2799720" y="2312280"/>
                  <a:chExt cx="166680" cy="163440"/>
                </a:xfrm>
              </p:grpSpPr>
              <p:sp>
                <p:nvSpPr>
                  <p:cNvPr id="4335" name=""/>
                  <p:cNvSpPr/>
                  <p:nvPr/>
                </p:nvSpPr>
                <p:spPr>
                  <a:xfrm rot="2970600">
                    <a:off x="2831760" y="2327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6" name=""/>
                  <p:cNvSpPr/>
                  <p:nvPr/>
                </p:nvSpPr>
                <p:spPr>
                  <a:xfrm flipV="1">
                    <a:off x="2871720" y="2365560"/>
                    <a:ext cx="140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7" name=""/>
                  <p:cNvSpPr/>
                  <p:nvPr/>
                </p:nvSpPr>
                <p:spPr>
                  <a:xfrm flipV="1">
                    <a:off x="2881080" y="241560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8" name=""/>
                  <p:cNvSpPr/>
                  <p:nvPr/>
                </p:nvSpPr>
                <p:spPr>
                  <a:xfrm flipH="1" flipV="1">
                    <a:off x="2868120" y="239004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9" name=""/>
                  <p:cNvSpPr/>
                  <p:nvPr/>
                </p:nvSpPr>
                <p:spPr>
                  <a:xfrm flipV="1">
                    <a:off x="2885760" y="238032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0" name=""/>
                <p:cNvGrpSpPr/>
                <p:nvPr/>
              </p:nvGrpSpPr>
              <p:grpSpPr>
                <a:xfrm>
                  <a:off x="2903760" y="2291040"/>
                  <a:ext cx="159840" cy="167040"/>
                  <a:chOff x="2903760" y="2291040"/>
                  <a:chExt cx="159840" cy="167040"/>
                </a:xfrm>
              </p:grpSpPr>
              <p:sp>
                <p:nvSpPr>
                  <p:cNvPr id="4341" name=""/>
                  <p:cNvSpPr/>
                  <p:nvPr/>
                </p:nvSpPr>
                <p:spPr>
                  <a:xfrm rot="2131200">
                    <a:off x="2932200" y="2308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2" name=""/>
                  <p:cNvSpPr/>
                  <p:nvPr/>
                </p:nvSpPr>
                <p:spPr>
                  <a:xfrm flipH="1" flipV="1">
                    <a:off x="2979000" y="2346480"/>
                    <a:ext cx="1044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 flipV="1">
                    <a:off x="2990520" y="2394000"/>
                    <a:ext cx="50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 flipH="1" flipV="1">
                    <a:off x="2967840" y="237456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5" name=""/>
                  <p:cNvSpPr/>
                  <p:nvPr/>
                </p:nvSpPr>
                <p:spPr>
                  <a:xfrm flipV="1">
                    <a:off x="2985480" y="235980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6" name=""/>
                <p:cNvGrpSpPr/>
                <p:nvPr/>
              </p:nvGrpSpPr>
              <p:grpSpPr>
                <a:xfrm>
                  <a:off x="3183480" y="2399040"/>
                  <a:ext cx="164160" cy="150840"/>
                  <a:chOff x="3183480" y="2399040"/>
                  <a:chExt cx="164160" cy="150840"/>
                </a:xfrm>
              </p:grpSpPr>
              <p:sp>
                <p:nvSpPr>
                  <p:cNvPr id="4347" name=""/>
                  <p:cNvSpPr/>
                  <p:nvPr/>
                </p:nvSpPr>
                <p:spPr>
                  <a:xfrm rot="3783000">
                    <a:off x="3214080" y="2408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 flipV="1">
                    <a:off x="3237120" y="2447280"/>
                    <a:ext cx="3744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9" name=""/>
                  <p:cNvSpPr/>
                  <p:nvPr/>
                </p:nvSpPr>
                <p:spPr>
                  <a:xfrm flipV="1">
                    <a:off x="3254400" y="249732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 flipH="1" flipV="1">
                    <a:off x="3251520" y="2467080"/>
                    <a:ext cx="39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1" name=""/>
                  <p:cNvSpPr/>
                  <p:nvPr/>
                </p:nvSpPr>
                <p:spPr>
                  <a:xfrm flipV="1">
                    <a:off x="3268080" y="2462760"/>
                    <a:ext cx="75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2" name=""/>
                <p:cNvGrpSpPr/>
                <p:nvPr/>
              </p:nvGrpSpPr>
              <p:grpSpPr>
                <a:xfrm>
                  <a:off x="3128400" y="2316240"/>
                  <a:ext cx="165240" cy="165960"/>
                  <a:chOff x="3128400" y="2316240"/>
                  <a:chExt cx="165240" cy="165960"/>
                </a:xfrm>
              </p:grpSpPr>
              <p:sp>
                <p:nvSpPr>
                  <p:cNvPr id="4353" name=""/>
                  <p:cNvSpPr/>
                  <p:nvPr/>
                </p:nvSpPr>
                <p:spPr>
                  <a:xfrm rot="2654400">
                    <a:off x="3159720" y="2333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4" name=""/>
                  <p:cNvSpPr/>
                  <p:nvPr/>
                </p:nvSpPr>
                <p:spPr>
                  <a:xfrm flipV="1">
                    <a:off x="3205800" y="2370600"/>
                    <a:ext cx="50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 flipV="1">
                    <a:off x="3212280" y="241992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6" name=""/>
                  <p:cNvSpPr/>
                  <p:nvPr/>
                </p:nvSpPr>
                <p:spPr>
                  <a:xfrm flipH="1" flipV="1">
                    <a:off x="3195360" y="23968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7" name=""/>
                  <p:cNvSpPr/>
                  <p:nvPr/>
                </p:nvSpPr>
                <p:spPr>
                  <a:xfrm flipV="1">
                    <a:off x="3213360" y="2384640"/>
                    <a:ext cx="32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8" name=""/>
                <p:cNvGrpSpPr/>
                <p:nvPr/>
              </p:nvGrpSpPr>
              <p:grpSpPr>
                <a:xfrm>
                  <a:off x="3045600" y="2379960"/>
                  <a:ext cx="167040" cy="161280"/>
                  <a:chOff x="3045600" y="2379960"/>
                  <a:chExt cx="167040" cy="161280"/>
                </a:xfrm>
              </p:grpSpPr>
              <p:sp>
                <p:nvSpPr>
                  <p:cNvPr id="4359" name=""/>
                  <p:cNvSpPr/>
                  <p:nvPr/>
                </p:nvSpPr>
                <p:spPr>
                  <a:xfrm rot="3174000">
                    <a:off x="3078000" y="2394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 flipV="1">
                    <a:off x="3113280" y="2431800"/>
                    <a:ext cx="2016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 flipV="1">
                    <a:off x="3124800" y="2482200"/>
                    <a:ext cx="100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 flipH="1" flipV="1">
                    <a:off x="3114360" y="2455560"/>
                    <a:ext cx="756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 flipV="1">
                    <a:off x="3132000" y="2446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4" name=""/>
                <p:cNvGrpSpPr/>
                <p:nvPr/>
              </p:nvGrpSpPr>
              <p:grpSpPr>
                <a:xfrm>
                  <a:off x="3155400" y="2527200"/>
                  <a:ext cx="149040" cy="124920"/>
                  <a:chOff x="3155400" y="2527200"/>
                  <a:chExt cx="149040" cy="124920"/>
                </a:xfrm>
              </p:grpSpPr>
              <p:sp>
                <p:nvSpPr>
                  <p:cNvPr id="4365" name=""/>
                  <p:cNvSpPr/>
                  <p:nvPr/>
                </p:nvSpPr>
                <p:spPr>
                  <a:xfrm rot="4758000">
                    <a:off x="3178800" y="2523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 flipV="1">
                    <a:off x="3183840" y="2566080"/>
                    <a:ext cx="6264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 flipV="1">
                    <a:off x="3209400" y="2611800"/>
                    <a:ext cx="15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 flipV="1">
                    <a:off x="3216960" y="257868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9" name=""/>
                  <p:cNvSpPr/>
                  <p:nvPr/>
                </p:nvSpPr>
                <p:spPr>
                  <a:xfrm flipV="1">
                    <a:off x="3232800" y="258120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0" name=""/>
                <p:cNvGrpSpPr/>
                <p:nvPr/>
              </p:nvGrpSpPr>
              <p:grpSpPr>
                <a:xfrm>
                  <a:off x="2925720" y="2562840"/>
                  <a:ext cx="174600" cy="142200"/>
                  <a:chOff x="2925720" y="2562840"/>
                  <a:chExt cx="174600" cy="142200"/>
                </a:xfrm>
              </p:grpSpPr>
              <p:sp>
                <p:nvSpPr>
                  <p:cNvPr id="4371" name=""/>
                  <p:cNvSpPr/>
                  <p:nvPr/>
                </p:nvSpPr>
                <p:spPr>
                  <a:xfrm rot="6808800">
                    <a:off x="2968200" y="2557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2" name=""/>
                  <p:cNvSpPr/>
                  <p:nvPr/>
                </p:nvSpPr>
                <p:spPr>
                  <a:xfrm flipV="1">
                    <a:off x="2936880" y="2626920"/>
                    <a:ext cx="1040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3" name=""/>
                  <p:cNvSpPr/>
                  <p:nvPr/>
                </p:nvSpPr>
                <p:spPr>
                  <a:xfrm>
                    <a:off x="2975040" y="2643480"/>
                    <a:ext cx="20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 flipV="1">
                    <a:off x="2994480" y="261900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015720" y="2635560"/>
                    <a:ext cx="144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6" name=""/>
                <p:cNvGrpSpPr/>
                <p:nvPr/>
              </p:nvGrpSpPr>
              <p:grpSpPr>
                <a:xfrm>
                  <a:off x="2802240" y="2709360"/>
                  <a:ext cx="166320" cy="164880"/>
                  <a:chOff x="2802240" y="2709360"/>
                  <a:chExt cx="166320" cy="164880"/>
                </a:xfrm>
              </p:grpSpPr>
              <p:sp>
                <p:nvSpPr>
                  <p:cNvPr id="4377" name=""/>
                  <p:cNvSpPr/>
                  <p:nvPr/>
                </p:nvSpPr>
                <p:spPr>
                  <a:xfrm rot="13605600">
                    <a:off x="2834280" y="2725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 flipH="1">
                    <a:off x="2884680" y="2718720"/>
                    <a:ext cx="93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 flipH="1">
                    <a:off x="2877840" y="2753640"/>
                    <a:ext cx="82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2891520" y="277596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1" name=""/>
                  <p:cNvSpPr/>
                  <p:nvPr/>
                </p:nvSpPr>
                <p:spPr>
                  <a:xfrm flipH="1">
                    <a:off x="2879280" y="279324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2" name=""/>
                <p:cNvGrpSpPr/>
                <p:nvPr/>
              </p:nvGrpSpPr>
              <p:grpSpPr>
                <a:xfrm>
                  <a:off x="2684160" y="2637000"/>
                  <a:ext cx="166680" cy="163800"/>
                  <a:chOff x="2684160" y="2637000"/>
                  <a:chExt cx="166680" cy="163800"/>
                </a:xfrm>
              </p:grpSpPr>
              <p:sp>
                <p:nvSpPr>
                  <p:cNvPr id="4383" name=""/>
                  <p:cNvSpPr/>
                  <p:nvPr/>
                </p:nvSpPr>
                <p:spPr>
                  <a:xfrm rot="13725600">
                    <a:off x="2716200" y="2652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 flipH="1">
                    <a:off x="2765520" y="2646720"/>
                    <a:ext cx="1296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 flipH="1">
                    <a:off x="2760120" y="268092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2773800" y="270360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 flipH="1">
                    <a:off x="2760840" y="272052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8" name=""/>
                <p:cNvGrpSpPr/>
                <p:nvPr/>
              </p:nvGrpSpPr>
              <p:grpSpPr>
                <a:xfrm>
                  <a:off x="2860560" y="2410200"/>
                  <a:ext cx="176040" cy="155160"/>
                  <a:chOff x="2860560" y="2410200"/>
                  <a:chExt cx="176040" cy="155160"/>
                </a:xfrm>
              </p:grpSpPr>
              <p:sp>
                <p:nvSpPr>
                  <p:cNvPr id="4389" name=""/>
                  <p:cNvSpPr/>
                  <p:nvPr/>
                </p:nvSpPr>
                <p:spPr>
                  <a:xfrm rot="7298400">
                    <a:off x="2904120" y="2411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 flipV="1">
                    <a:off x="2871720" y="2485080"/>
                    <a:ext cx="1054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1" name=""/>
                  <p:cNvSpPr/>
                  <p:nvPr/>
                </p:nvSpPr>
                <p:spPr>
                  <a:xfrm>
                    <a:off x="2909520" y="2491920"/>
                    <a:ext cx="20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2" name=""/>
                  <p:cNvSpPr/>
                  <p:nvPr/>
                </p:nvSpPr>
                <p:spPr>
                  <a:xfrm flipV="1">
                    <a:off x="2930760" y="24724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2950920" y="2490120"/>
                    <a:ext cx="144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4" name=""/>
                <p:cNvGrpSpPr/>
                <p:nvPr/>
              </p:nvGrpSpPr>
              <p:grpSpPr>
                <a:xfrm>
                  <a:off x="3022200" y="2375280"/>
                  <a:ext cx="160200" cy="142920"/>
                  <a:chOff x="3022200" y="2375280"/>
                  <a:chExt cx="160200" cy="142920"/>
                </a:xfrm>
              </p:grpSpPr>
              <p:sp>
                <p:nvSpPr>
                  <p:cNvPr id="4395" name=""/>
                  <p:cNvSpPr/>
                  <p:nvPr/>
                </p:nvSpPr>
                <p:spPr>
                  <a:xfrm rot="6663000">
                    <a:off x="3051000" y="2380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 flipV="1">
                    <a:off x="3033360" y="2435400"/>
                    <a:ext cx="9540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7" name=""/>
                  <p:cNvSpPr/>
                  <p:nvPr/>
                </p:nvSpPr>
                <p:spPr>
                  <a:xfrm>
                    <a:off x="3067920" y="246276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 flipV="1">
                    <a:off x="3085920" y="2431440"/>
                    <a:ext cx="1260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 flipV="1">
                    <a:off x="3104640" y="2446200"/>
                    <a:ext cx="133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0" name=""/>
                <p:cNvGrpSpPr/>
                <p:nvPr/>
              </p:nvGrpSpPr>
              <p:grpSpPr>
                <a:xfrm>
                  <a:off x="3186720" y="2405160"/>
                  <a:ext cx="157680" cy="138960"/>
                  <a:chOff x="3186720" y="2405160"/>
                  <a:chExt cx="157680" cy="138960"/>
                </a:xfrm>
              </p:grpSpPr>
              <p:sp>
                <p:nvSpPr>
                  <p:cNvPr id="4401" name=""/>
                  <p:cNvSpPr/>
                  <p:nvPr/>
                </p:nvSpPr>
                <p:spPr>
                  <a:xfrm rot="6502800">
                    <a:off x="3214440" y="2408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 flipV="1">
                    <a:off x="3197520" y="2461680"/>
                    <a:ext cx="93600" cy="39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 flipV="1">
                    <a:off x="3231720" y="249156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 flipV="1">
                    <a:off x="3249000" y="245916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 flipV="1">
                    <a:off x="3268080" y="247320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6" name=""/>
                <p:cNvGrpSpPr/>
                <p:nvPr/>
              </p:nvGrpSpPr>
              <p:grpSpPr>
                <a:xfrm>
                  <a:off x="3233160" y="2471400"/>
                  <a:ext cx="176040" cy="151200"/>
                  <a:chOff x="3233160" y="2471400"/>
                  <a:chExt cx="176040" cy="151200"/>
                </a:xfrm>
              </p:grpSpPr>
              <p:sp>
                <p:nvSpPr>
                  <p:cNvPr id="4407" name=""/>
                  <p:cNvSpPr/>
                  <p:nvPr/>
                </p:nvSpPr>
                <p:spPr>
                  <a:xfrm rot="7135200">
                    <a:off x="3276720" y="24710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 flipV="1">
                    <a:off x="3244680" y="2543040"/>
                    <a:ext cx="1051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3282480" y="2553480"/>
                    <a:ext cx="205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 flipV="1">
                    <a:off x="3303360" y="253188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>
                    <a:off x="3323880" y="254952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12" name=""/>
              <p:cNvGrpSpPr/>
              <p:nvPr/>
            </p:nvGrpSpPr>
            <p:grpSpPr>
              <a:xfrm>
                <a:off x="2018520" y="1987920"/>
                <a:ext cx="650520" cy="729000"/>
                <a:chOff x="2018520" y="1987920"/>
                <a:chExt cx="650520" cy="729000"/>
              </a:xfrm>
            </p:grpSpPr>
            <p:grpSp>
              <p:nvGrpSpPr>
                <p:cNvPr id="4413" name=""/>
                <p:cNvGrpSpPr/>
                <p:nvPr/>
              </p:nvGrpSpPr>
              <p:grpSpPr>
                <a:xfrm>
                  <a:off x="2381400" y="2168280"/>
                  <a:ext cx="156240" cy="136440"/>
                  <a:chOff x="2381400" y="2168280"/>
                  <a:chExt cx="156240" cy="136440"/>
                </a:xfrm>
              </p:grpSpPr>
              <p:sp>
                <p:nvSpPr>
                  <p:cNvPr id="4414" name=""/>
                  <p:cNvSpPr/>
                  <p:nvPr/>
                </p:nvSpPr>
                <p:spPr>
                  <a:xfrm rot="6426000">
                    <a:off x="2408040" y="2170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 flipV="1">
                    <a:off x="2392200" y="2223360"/>
                    <a:ext cx="92520" cy="42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 flipV="1">
                    <a:off x="2426040" y="22539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 flipV="1">
                    <a:off x="2442960" y="222156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 flipV="1">
                    <a:off x="2462040" y="2234880"/>
                    <a:ext cx="129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9" name=""/>
                <p:cNvSpPr/>
                <p:nvPr/>
              </p:nvSpPr>
              <p:spPr>
                <a:xfrm flipH="1" flipV="1">
                  <a:off x="2213280" y="2371680"/>
                  <a:ext cx="174960" cy="10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 rot="2610600">
                  <a:off x="2052360" y="22906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 flipV="1">
                  <a:off x="2334600" y="2160360"/>
                  <a:ext cx="52200" cy="169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 flipV="1">
                  <a:off x="2379600" y="2406600"/>
                  <a:ext cx="101520" cy="28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3" name=""/>
                <p:cNvSpPr/>
                <p:nvPr/>
              </p:nvSpPr>
              <p:spPr>
                <a:xfrm flipH="1">
                  <a:off x="2240640" y="2423520"/>
                  <a:ext cx="5940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 flipH="1" flipV="1">
                  <a:off x="2331720" y="2390400"/>
                  <a:ext cx="27360" cy="5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 flipH="1" flipV="1">
                  <a:off x="2342160" y="2148480"/>
                  <a:ext cx="10800" cy="10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 flipV="1">
                  <a:off x="2352240" y="2247480"/>
                  <a:ext cx="6120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 flipH="1" flipV="1">
                  <a:off x="2189520" y="2224080"/>
                  <a:ext cx="7380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 flipH="1" flipV="1">
                  <a:off x="2407680" y="2368800"/>
                  <a:ext cx="22680" cy="178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9" name=""/>
                <p:cNvSpPr/>
                <p:nvPr/>
              </p:nvSpPr>
              <p:spPr>
                <a:xfrm flipV="1">
                  <a:off x="2419920" y="2395800"/>
                  <a:ext cx="1692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 flipV="1">
                  <a:off x="2413440" y="2540520"/>
                  <a:ext cx="7632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1" name=""/>
                <p:cNvSpPr/>
                <p:nvPr/>
              </p:nvSpPr>
              <p:spPr>
                <a:xfrm flipV="1">
                  <a:off x="2464560" y="2403360"/>
                  <a:ext cx="4680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2" name=""/>
                <p:cNvSpPr/>
                <p:nvPr/>
              </p:nvSpPr>
              <p:spPr>
                <a:xfrm flipH="1" flipV="1">
                  <a:off x="2311200" y="2527560"/>
                  <a:ext cx="7272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 flipH="1" flipV="1">
                  <a:off x="2247120" y="2278080"/>
                  <a:ext cx="5868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4" name=""/>
                <p:cNvSpPr/>
                <p:nvPr/>
              </p:nvSpPr>
              <p:spPr>
                <a:xfrm flipV="1">
                  <a:off x="2251080" y="2140920"/>
                  <a:ext cx="16560" cy="46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35" name=""/>
                <p:cNvGrpSpPr/>
                <p:nvPr/>
              </p:nvGrpSpPr>
              <p:grpSpPr>
                <a:xfrm>
                  <a:off x="2345760" y="2054160"/>
                  <a:ext cx="171720" cy="130320"/>
                  <a:chOff x="2345760" y="2054160"/>
                  <a:chExt cx="171720" cy="130320"/>
                </a:xfrm>
              </p:grpSpPr>
              <p:sp>
                <p:nvSpPr>
                  <p:cNvPr id="4436" name=""/>
                  <p:cNvSpPr/>
                  <p:nvPr/>
                </p:nvSpPr>
                <p:spPr>
                  <a:xfrm rot="4356000">
                    <a:off x="2387160" y="20430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7" name=""/>
                  <p:cNvSpPr/>
                  <p:nvPr/>
                </p:nvSpPr>
                <p:spPr>
                  <a:xfrm flipV="1">
                    <a:off x="2382480" y="2095560"/>
                    <a:ext cx="6624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8" name=""/>
                  <p:cNvSpPr/>
                  <p:nvPr/>
                </p:nvSpPr>
                <p:spPr>
                  <a:xfrm flipV="1">
                    <a:off x="2409480" y="2139840"/>
                    <a:ext cx="17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 flipV="1">
                    <a:off x="2417040" y="2111040"/>
                    <a:ext cx="14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 flipV="1">
                    <a:off x="2435040" y="210924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1" name=""/>
                <p:cNvGrpSpPr/>
                <p:nvPr/>
              </p:nvGrpSpPr>
              <p:grpSpPr>
                <a:xfrm>
                  <a:off x="2251080" y="2239200"/>
                  <a:ext cx="135360" cy="173160"/>
                  <a:chOff x="2251080" y="2239200"/>
                  <a:chExt cx="135360" cy="173160"/>
                </a:xfrm>
              </p:grpSpPr>
              <p:sp>
                <p:nvSpPr>
                  <p:cNvPr id="4442" name=""/>
                  <p:cNvSpPr/>
                  <p:nvPr/>
                </p:nvSpPr>
                <p:spPr>
                  <a:xfrm rot="1197600">
                    <a:off x="2274120" y="2249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 flipH="1" flipV="1">
                    <a:off x="2310120" y="2298240"/>
                    <a:ext cx="25200" cy="10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4" name=""/>
                  <p:cNvSpPr/>
                  <p:nvPr/>
                </p:nvSpPr>
                <p:spPr>
                  <a:xfrm flipV="1">
                    <a:off x="2330640" y="23421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5" name=""/>
                  <p:cNvSpPr/>
                  <p:nvPr/>
                </p:nvSpPr>
                <p:spPr>
                  <a:xfrm flipH="1" flipV="1">
                    <a:off x="2304000" y="233172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6" name=""/>
                  <p:cNvSpPr/>
                  <p:nvPr/>
                </p:nvSpPr>
                <p:spPr>
                  <a:xfrm flipH="1" flipV="1">
                    <a:off x="2319480" y="230832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7" name=""/>
                <p:cNvGrpSpPr/>
                <p:nvPr/>
              </p:nvGrpSpPr>
              <p:grpSpPr>
                <a:xfrm>
                  <a:off x="2339640" y="2215080"/>
                  <a:ext cx="169200" cy="171360"/>
                  <a:chOff x="2339640" y="2215080"/>
                  <a:chExt cx="169200" cy="171360"/>
                </a:xfrm>
              </p:grpSpPr>
              <p:sp>
                <p:nvSpPr>
                  <p:cNvPr id="4448" name=""/>
                  <p:cNvSpPr/>
                  <p:nvPr/>
                </p:nvSpPr>
                <p:spPr>
                  <a:xfrm rot="2610600">
                    <a:off x="2379600" y="2224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9" name=""/>
                  <p:cNvSpPr/>
                  <p:nvPr/>
                </p:nvSpPr>
                <p:spPr>
                  <a:xfrm flipV="1">
                    <a:off x="2409840" y="2271960"/>
                    <a:ext cx="1800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0" name=""/>
                  <p:cNvSpPr/>
                  <p:nvPr/>
                </p:nvSpPr>
                <p:spPr>
                  <a:xfrm flipV="1">
                    <a:off x="2420640" y="232092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 flipH="1" flipV="1">
                    <a:off x="2408760" y="2300040"/>
                    <a:ext cx="82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 flipV="1">
                    <a:off x="2427120" y="228492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3" name=""/>
                <p:cNvGrpSpPr/>
                <p:nvPr/>
              </p:nvGrpSpPr>
              <p:grpSpPr>
                <a:xfrm>
                  <a:off x="2055600" y="2292120"/>
                  <a:ext cx="167040" cy="160560"/>
                  <a:chOff x="2055600" y="2292120"/>
                  <a:chExt cx="167040" cy="160560"/>
                </a:xfrm>
              </p:grpSpPr>
              <p:sp>
                <p:nvSpPr>
                  <p:cNvPr id="4454" name=""/>
                  <p:cNvSpPr/>
                  <p:nvPr/>
                </p:nvSpPr>
                <p:spPr>
                  <a:xfrm rot="18379800">
                    <a:off x="2087640" y="2306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 flipH="1">
                    <a:off x="2111040" y="2367720"/>
                    <a:ext cx="10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 flipH="1" flipV="1">
                    <a:off x="2158920" y="236088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 flipH="1">
                    <a:off x="2139120" y="23756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 flipH="1" flipV="1">
                    <a:off x="2124360" y="23691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9" name=""/>
                <p:cNvGrpSpPr/>
                <p:nvPr/>
              </p:nvGrpSpPr>
              <p:grpSpPr>
                <a:xfrm>
                  <a:off x="2199240" y="1987920"/>
                  <a:ext cx="169200" cy="171360"/>
                  <a:chOff x="2199240" y="1987920"/>
                  <a:chExt cx="169200" cy="171360"/>
                </a:xfrm>
              </p:grpSpPr>
              <p:sp>
                <p:nvSpPr>
                  <p:cNvPr id="4460" name=""/>
                  <p:cNvSpPr/>
                  <p:nvPr/>
                </p:nvSpPr>
                <p:spPr>
                  <a:xfrm rot="2610600">
                    <a:off x="2239200" y="1997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 flipV="1">
                    <a:off x="2269440" y="2044800"/>
                    <a:ext cx="18000" cy="10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2" name=""/>
                  <p:cNvSpPr/>
                  <p:nvPr/>
                </p:nvSpPr>
                <p:spPr>
                  <a:xfrm flipV="1">
                    <a:off x="2280240" y="209412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 flipH="1" flipV="1">
                    <a:off x="2268360" y="207324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 flipV="1">
                    <a:off x="2286720" y="205812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5" name=""/>
                <p:cNvGrpSpPr/>
                <p:nvPr/>
              </p:nvGrpSpPr>
              <p:grpSpPr>
                <a:xfrm>
                  <a:off x="2413080" y="2252880"/>
                  <a:ext cx="169200" cy="171360"/>
                  <a:chOff x="2413080" y="2252880"/>
                  <a:chExt cx="169200" cy="171360"/>
                </a:xfrm>
              </p:grpSpPr>
              <p:sp>
                <p:nvSpPr>
                  <p:cNvPr id="4466" name=""/>
                  <p:cNvSpPr/>
                  <p:nvPr/>
                </p:nvSpPr>
                <p:spPr>
                  <a:xfrm rot="2610600">
                    <a:off x="2453040" y="2262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7" name=""/>
                  <p:cNvSpPr/>
                  <p:nvPr/>
                </p:nvSpPr>
                <p:spPr>
                  <a:xfrm flipV="1">
                    <a:off x="2482920" y="2309760"/>
                    <a:ext cx="1800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 flipV="1">
                    <a:off x="2493720" y="235872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 flipH="1" flipV="1">
                    <a:off x="2482200" y="23382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 flipV="1">
                    <a:off x="2500560" y="2323080"/>
                    <a:ext cx="46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1" name=""/>
                <p:cNvGrpSpPr/>
                <p:nvPr/>
              </p:nvGrpSpPr>
              <p:grpSpPr>
                <a:xfrm>
                  <a:off x="2274120" y="1995840"/>
                  <a:ext cx="169200" cy="171360"/>
                  <a:chOff x="2274120" y="1995840"/>
                  <a:chExt cx="169200" cy="171360"/>
                </a:xfrm>
              </p:grpSpPr>
              <p:sp>
                <p:nvSpPr>
                  <p:cNvPr id="4472" name=""/>
                  <p:cNvSpPr/>
                  <p:nvPr/>
                </p:nvSpPr>
                <p:spPr>
                  <a:xfrm rot="2610600">
                    <a:off x="2314080" y="2005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 flipV="1">
                    <a:off x="2344320" y="2052720"/>
                    <a:ext cx="17640" cy="10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 flipV="1">
                    <a:off x="2355120" y="210204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 flipH="1" flipV="1">
                    <a:off x="2343240" y="208116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6" name=""/>
                  <p:cNvSpPr/>
                  <p:nvPr/>
                </p:nvSpPr>
                <p:spPr>
                  <a:xfrm flipV="1">
                    <a:off x="2361600" y="206604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7" name=""/>
                <p:cNvGrpSpPr/>
                <p:nvPr/>
              </p:nvGrpSpPr>
              <p:grpSpPr>
                <a:xfrm>
                  <a:off x="2140200" y="2470320"/>
                  <a:ext cx="164160" cy="150840"/>
                  <a:chOff x="2140200" y="2470320"/>
                  <a:chExt cx="164160" cy="150840"/>
                </a:xfrm>
              </p:grpSpPr>
              <p:sp>
                <p:nvSpPr>
                  <p:cNvPr id="4478" name=""/>
                  <p:cNvSpPr/>
                  <p:nvPr/>
                </p:nvSpPr>
                <p:spPr>
                  <a:xfrm rot="17808600">
                    <a:off x="2170800" y="2479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 flipH="1">
                    <a:off x="2194920" y="2528280"/>
                    <a:ext cx="98280" cy="25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 flipH="1" flipV="1">
                    <a:off x="2239200" y="25308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 flipH="1">
                    <a:off x="2224440" y="254556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 flipH="1">
                    <a:off x="2206440" y="2543760"/>
                    <a:ext cx="133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3" name=""/>
                <p:cNvGrpSpPr/>
                <p:nvPr/>
              </p:nvGrpSpPr>
              <p:grpSpPr>
                <a:xfrm>
                  <a:off x="2089800" y="2395800"/>
                  <a:ext cx="151560" cy="128880"/>
                  <a:chOff x="2089800" y="2395800"/>
                  <a:chExt cx="151560" cy="128880"/>
                </a:xfrm>
              </p:grpSpPr>
              <p:sp>
                <p:nvSpPr>
                  <p:cNvPr id="4484" name=""/>
                  <p:cNvSpPr/>
                  <p:nvPr/>
                </p:nvSpPr>
                <p:spPr>
                  <a:xfrm rot="16969200">
                    <a:off x="2114280" y="2394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5" name=""/>
                  <p:cNvSpPr/>
                  <p:nvPr/>
                </p:nvSpPr>
                <p:spPr>
                  <a:xfrm flipH="1">
                    <a:off x="2141280" y="2426760"/>
                    <a:ext cx="8928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 flipH="1">
                    <a:off x="2178720" y="24397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 flipH="1">
                    <a:off x="2171880" y="245664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 flipH="1">
                    <a:off x="2150280" y="2459520"/>
                    <a:ext cx="129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89" name=""/>
                <p:cNvGrpSpPr/>
                <p:nvPr/>
              </p:nvGrpSpPr>
              <p:grpSpPr>
                <a:xfrm>
                  <a:off x="2065320" y="2080080"/>
                  <a:ext cx="167040" cy="163440"/>
                  <a:chOff x="2065320" y="2080080"/>
                  <a:chExt cx="167040" cy="163440"/>
                </a:xfrm>
              </p:grpSpPr>
              <p:sp>
                <p:nvSpPr>
                  <p:cNvPr id="4490" name=""/>
                  <p:cNvSpPr/>
                  <p:nvPr/>
                </p:nvSpPr>
                <p:spPr>
                  <a:xfrm rot="18621600">
                    <a:off x="2097360" y="2095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 flipH="1">
                    <a:off x="2120400" y="2162160"/>
                    <a:ext cx="10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2" name=""/>
                  <p:cNvSpPr/>
                  <p:nvPr/>
                </p:nvSpPr>
                <p:spPr>
                  <a:xfrm flipH="1" flipV="1">
                    <a:off x="2169000" y="215136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 flipH="1">
                    <a:off x="2147400" y="2165760"/>
                    <a:ext cx="176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 flipH="1" flipV="1">
                    <a:off x="2134080" y="215712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5" name=""/>
                <p:cNvGrpSpPr/>
                <p:nvPr/>
              </p:nvGrpSpPr>
              <p:grpSpPr>
                <a:xfrm>
                  <a:off x="2019960" y="2169360"/>
                  <a:ext cx="160560" cy="143640"/>
                  <a:chOff x="2019960" y="2169360"/>
                  <a:chExt cx="160560" cy="143640"/>
                </a:xfrm>
              </p:grpSpPr>
              <p:sp>
                <p:nvSpPr>
                  <p:cNvPr id="4496" name=""/>
                  <p:cNvSpPr/>
                  <p:nvPr/>
                </p:nvSpPr>
                <p:spPr>
                  <a:xfrm rot="17492400">
                    <a:off x="2048760" y="2174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 flipH="1">
                    <a:off x="2073960" y="2217600"/>
                    <a:ext cx="9576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 flipH="1" flipV="1">
                    <a:off x="2116080" y="222480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 flipH="1">
                    <a:off x="2104200" y="2239920"/>
                    <a:ext cx="126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 flipH="1">
                    <a:off x="2084760" y="2239920"/>
                    <a:ext cx="133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1" name=""/>
                <p:cNvGrpSpPr/>
                <p:nvPr/>
              </p:nvGrpSpPr>
              <p:grpSpPr>
                <a:xfrm>
                  <a:off x="2105640" y="2215440"/>
                  <a:ext cx="165600" cy="154800"/>
                  <a:chOff x="2105640" y="2215440"/>
                  <a:chExt cx="165600" cy="154800"/>
                </a:xfrm>
              </p:grpSpPr>
              <p:sp>
                <p:nvSpPr>
                  <p:cNvPr id="4502" name=""/>
                  <p:cNvSpPr/>
                  <p:nvPr/>
                </p:nvSpPr>
                <p:spPr>
                  <a:xfrm rot="18012000">
                    <a:off x="2137320" y="2226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3" name=""/>
                  <p:cNvSpPr/>
                  <p:nvPr/>
                </p:nvSpPr>
                <p:spPr>
                  <a:xfrm flipH="1">
                    <a:off x="2160360" y="2280240"/>
                    <a:ext cx="10008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4" name=""/>
                  <p:cNvSpPr/>
                  <p:nvPr/>
                </p:nvSpPr>
                <p:spPr>
                  <a:xfrm flipH="1" flipV="1">
                    <a:off x="2206440" y="2279160"/>
                    <a:ext cx="183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 flipH="1">
                    <a:off x="2189520" y="2294280"/>
                    <a:ext cx="151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 flipH="1">
                    <a:off x="2172960" y="229104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7" name=""/>
                <p:cNvGrpSpPr/>
                <p:nvPr/>
              </p:nvGrpSpPr>
              <p:grpSpPr>
                <a:xfrm>
                  <a:off x="2189880" y="2066760"/>
                  <a:ext cx="158040" cy="166320"/>
                  <a:chOff x="2189880" y="2066760"/>
                  <a:chExt cx="158040" cy="166320"/>
                </a:xfrm>
              </p:grpSpPr>
              <p:sp>
                <p:nvSpPr>
                  <p:cNvPr id="4508" name=""/>
                  <p:cNvSpPr/>
                  <p:nvPr/>
                </p:nvSpPr>
                <p:spPr>
                  <a:xfrm rot="19596600">
                    <a:off x="2217600" y="2083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9" name=""/>
                  <p:cNvSpPr/>
                  <p:nvPr/>
                </p:nvSpPr>
                <p:spPr>
                  <a:xfrm flipH="1" flipV="1">
                    <a:off x="2240640" y="2144160"/>
                    <a:ext cx="9828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 flipH="1" flipV="1">
                    <a:off x="2291040" y="214596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1" name=""/>
                  <p:cNvSpPr/>
                  <p:nvPr/>
                </p:nvSpPr>
                <p:spPr>
                  <a:xfrm flipH="1">
                    <a:off x="2262960" y="2158560"/>
                    <a:ext cx="20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2" name=""/>
                  <p:cNvSpPr/>
                  <p:nvPr/>
                </p:nvSpPr>
                <p:spPr>
                  <a:xfrm flipH="1" flipV="1">
                    <a:off x="2255760" y="2141280"/>
                    <a:ext cx="118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3" name=""/>
                <p:cNvGrpSpPr/>
                <p:nvPr/>
              </p:nvGrpSpPr>
              <p:grpSpPr>
                <a:xfrm>
                  <a:off x="2347560" y="2256840"/>
                  <a:ext cx="91080" cy="153000"/>
                  <a:chOff x="2347560" y="2256840"/>
                  <a:chExt cx="91080" cy="153000"/>
                </a:xfrm>
              </p:grpSpPr>
              <p:sp>
                <p:nvSpPr>
                  <p:cNvPr id="4514" name=""/>
                  <p:cNvSpPr/>
                  <p:nvPr/>
                </p:nvSpPr>
                <p:spPr>
                  <a:xfrm rot="46800">
                    <a:off x="2348640" y="2257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 flipH="1" flipV="1">
                    <a:off x="2376000" y="2310120"/>
                    <a:ext cx="5760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6" name=""/>
                  <p:cNvSpPr/>
                  <p:nvPr/>
                </p:nvSpPr>
                <p:spPr>
                  <a:xfrm flipH="1" flipV="1">
                    <a:off x="2411280" y="234468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7" name=""/>
                  <p:cNvSpPr/>
                  <p:nvPr/>
                </p:nvSpPr>
                <p:spPr>
                  <a:xfrm flipH="1" flipV="1">
                    <a:off x="2381400" y="234360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 flipH="1" flipV="1">
                    <a:off x="2388240" y="231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9" name=""/>
                <p:cNvGrpSpPr/>
                <p:nvPr/>
              </p:nvGrpSpPr>
              <p:grpSpPr>
                <a:xfrm>
                  <a:off x="2506680" y="2316240"/>
                  <a:ext cx="162360" cy="147240"/>
                  <a:chOff x="2506680" y="2316240"/>
                  <a:chExt cx="162360" cy="147240"/>
                </a:xfrm>
              </p:grpSpPr>
              <p:sp>
                <p:nvSpPr>
                  <p:cNvPr id="4520" name=""/>
                  <p:cNvSpPr/>
                  <p:nvPr/>
                </p:nvSpPr>
                <p:spPr>
                  <a:xfrm rot="6843600">
                    <a:off x="2536560" y="2323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1" name=""/>
                  <p:cNvSpPr/>
                  <p:nvPr/>
                </p:nvSpPr>
                <p:spPr>
                  <a:xfrm flipV="1">
                    <a:off x="2517480" y="2379960"/>
                    <a:ext cx="9720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2" name=""/>
                  <p:cNvSpPr/>
                  <p:nvPr/>
                </p:nvSpPr>
                <p:spPr>
                  <a:xfrm>
                    <a:off x="2552760" y="2404080"/>
                    <a:ext cx="187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3" name=""/>
                  <p:cNvSpPr/>
                  <p:nvPr/>
                </p:nvSpPr>
                <p:spPr>
                  <a:xfrm flipV="1">
                    <a:off x="2571480" y="23742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4" name=""/>
                  <p:cNvSpPr/>
                  <p:nvPr/>
                </p:nvSpPr>
                <p:spPr>
                  <a:xfrm flipV="1">
                    <a:off x="2590200" y="2390040"/>
                    <a:ext cx="133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5" name=""/>
                <p:cNvGrpSpPr/>
                <p:nvPr/>
              </p:nvGrpSpPr>
              <p:grpSpPr>
                <a:xfrm>
                  <a:off x="2484720" y="2452320"/>
                  <a:ext cx="163440" cy="149760"/>
                  <a:chOff x="2484720" y="2452320"/>
                  <a:chExt cx="163440" cy="149760"/>
                </a:xfrm>
              </p:grpSpPr>
              <p:sp>
                <p:nvSpPr>
                  <p:cNvPr id="4526" name=""/>
                  <p:cNvSpPr/>
                  <p:nvPr/>
                </p:nvSpPr>
                <p:spPr>
                  <a:xfrm rot="6963600">
                    <a:off x="2514960" y="2460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7" name=""/>
                  <p:cNvSpPr/>
                  <p:nvPr/>
                </p:nvSpPr>
                <p:spPr>
                  <a:xfrm flipV="1">
                    <a:off x="2495520" y="2517840"/>
                    <a:ext cx="9828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8" name=""/>
                  <p:cNvSpPr/>
                  <p:nvPr/>
                </p:nvSpPr>
                <p:spPr>
                  <a:xfrm>
                    <a:off x="2530800" y="25398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9" name=""/>
                  <p:cNvSpPr/>
                  <p:nvPr/>
                </p:nvSpPr>
                <p:spPr>
                  <a:xfrm flipV="1">
                    <a:off x="2549880" y="251136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0" name=""/>
                  <p:cNvSpPr/>
                  <p:nvPr/>
                </p:nvSpPr>
                <p:spPr>
                  <a:xfrm flipV="1">
                    <a:off x="2568960" y="252792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1" name=""/>
                <p:cNvGrpSpPr/>
                <p:nvPr/>
              </p:nvGrpSpPr>
              <p:grpSpPr>
                <a:xfrm>
                  <a:off x="2227680" y="2367360"/>
                  <a:ext cx="111600" cy="163800"/>
                  <a:chOff x="2227680" y="2367360"/>
                  <a:chExt cx="111600" cy="163800"/>
                </a:xfrm>
              </p:grpSpPr>
              <p:sp>
                <p:nvSpPr>
                  <p:cNvPr id="4532" name=""/>
                  <p:cNvSpPr/>
                  <p:nvPr/>
                </p:nvSpPr>
                <p:spPr>
                  <a:xfrm rot="536400">
                    <a:off x="2238840" y="2373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3" name=""/>
                  <p:cNvSpPr/>
                  <p:nvPr/>
                </p:nvSpPr>
                <p:spPr>
                  <a:xfrm flipH="1" flipV="1">
                    <a:off x="2269800" y="2423520"/>
                    <a:ext cx="44280" cy="9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4" name=""/>
                  <p:cNvSpPr/>
                  <p:nvPr/>
                </p:nvSpPr>
                <p:spPr>
                  <a:xfrm flipH="1" flipV="1">
                    <a:off x="2299680" y="246276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5" name=""/>
                  <p:cNvSpPr/>
                  <p:nvPr/>
                </p:nvSpPr>
                <p:spPr>
                  <a:xfrm flipH="1" flipV="1">
                    <a:off x="2270160" y="2457720"/>
                    <a:ext cx="16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6" name=""/>
                  <p:cNvSpPr/>
                  <p:nvPr/>
                </p:nvSpPr>
                <p:spPr>
                  <a:xfrm flipH="1" flipV="1">
                    <a:off x="2280960" y="2432160"/>
                    <a:ext cx="3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7" name=""/>
                <p:cNvGrpSpPr/>
                <p:nvPr/>
              </p:nvGrpSpPr>
              <p:grpSpPr>
                <a:xfrm>
                  <a:off x="2133360" y="2255760"/>
                  <a:ext cx="105840" cy="135000"/>
                  <a:chOff x="2133360" y="2255760"/>
                  <a:chExt cx="105840" cy="135000"/>
                </a:xfrm>
              </p:grpSpPr>
              <p:sp>
                <p:nvSpPr>
                  <p:cNvPr id="4538" name=""/>
                  <p:cNvSpPr/>
                  <p:nvPr/>
                </p:nvSpPr>
                <p:spPr>
                  <a:xfrm rot="21501600">
                    <a:off x="2135160" y="2256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9" name=""/>
                  <p:cNvSpPr/>
                  <p:nvPr/>
                </p:nvSpPr>
                <p:spPr>
                  <a:xfrm flipH="1" flipV="1">
                    <a:off x="2165760" y="2303280"/>
                    <a:ext cx="6948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0" name=""/>
                  <p:cNvSpPr/>
                  <p:nvPr/>
                </p:nvSpPr>
                <p:spPr>
                  <a:xfrm flipH="1" flipV="1">
                    <a:off x="2207520" y="2331360"/>
                    <a:ext cx="68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1" name=""/>
                  <p:cNvSpPr/>
                  <p:nvPr/>
                </p:nvSpPr>
                <p:spPr>
                  <a:xfrm flipH="1" flipV="1">
                    <a:off x="2173680" y="2332440"/>
                    <a:ext cx="201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2" name=""/>
                  <p:cNvSpPr/>
                  <p:nvPr/>
                </p:nvSpPr>
                <p:spPr>
                  <a:xfrm flipH="1" flipV="1">
                    <a:off x="2179800" y="230904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3" name=""/>
                <p:cNvGrpSpPr/>
                <p:nvPr/>
              </p:nvGrpSpPr>
              <p:grpSpPr>
                <a:xfrm>
                  <a:off x="2093040" y="2091960"/>
                  <a:ext cx="111960" cy="139320"/>
                  <a:chOff x="2093040" y="2091960"/>
                  <a:chExt cx="111960" cy="139320"/>
                </a:xfrm>
              </p:grpSpPr>
              <p:sp>
                <p:nvSpPr>
                  <p:cNvPr id="4544" name=""/>
                  <p:cNvSpPr/>
                  <p:nvPr/>
                </p:nvSpPr>
                <p:spPr>
                  <a:xfrm rot="21341400">
                    <a:off x="2097720" y="2095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5" name=""/>
                  <p:cNvSpPr/>
                  <p:nvPr/>
                </p:nvSpPr>
                <p:spPr>
                  <a:xfrm flipH="1" flipV="1">
                    <a:off x="2127240" y="2143080"/>
                    <a:ext cx="727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6" name=""/>
                  <p:cNvSpPr/>
                  <p:nvPr/>
                </p:nvSpPr>
                <p:spPr>
                  <a:xfrm flipH="1" flipV="1">
                    <a:off x="2170440" y="216900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 flipH="1" flipV="1">
                    <a:off x="2136600" y="217188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8" name=""/>
                  <p:cNvSpPr/>
                  <p:nvPr/>
                </p:nvSpPr>
                <p:spPr>
                  <a:xfrm flipH="1" flipV="1">
                    <a:off x="2141640" y="214812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49" name=""/>
                <p:cNvGrpSpPr/>
                <p:nvPr/>
              </p:nvGrpSpPr>
              <p:grpSpPr>
                <a:xfrm>
                  <a:off x="2141640" y="2001960"/>
                  <a:ext cx="105120" cy="160560"/>
                  <a:chOff x="2141640" y="2001960"/>
                  <a:chExt cx="105120" cy="160560"/>
                </a:xfrm>
              </p:grpSpPr>
              <p:sp>
                <p:nvSpPr>
                  <p:cNvPr id="4550" name=""/>
                  <p:cNvSpPr/>
                  <p:nvPr/>
                </p:nvSpPr>
                <p:spPr>
                  <a:xfrm rot="373200">
                    <a:off x="2149560" y="2006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1" name=""/>
                  <p:cNvSpPr/>
                  <p:nvPr/>
                </p:nvSpPr>
                <p:spPr>
                  <a:xfrm flipH="1" flipV="1">
                    <a:off x="2179800" y="2057400"/>
                    <a:ext cx="4860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2" name=""/>
                  <p:cNvSpPr/>
                  <p:nvPr/>
                </p:nvSpPr>
                <p:spPr>
                  <a:xfrm flipH="1" flipV="1">
                    <a:off x="2211480" y="20948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3" name=""/>
                  <p:cNvSpPr/>
                  <p:nvPr/>
                </p:nvSpPr>
                <p:spPr>
                  <a:xfrm flipH="1" flipV="1">
                    <a:off x="2181600" y="2091240"/>
                    <a:ext cx="16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4" name=""/>
                  <p:cNvSpPr/>
                  <p:nvPr/>
                </p:nvSpPr>
                <p:spPr>
                  <a:xfrm flipH="1" flipV="1">
                    <a:off x="2190960" y="206532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5" name=""/>
              <p:cNvGrpSpPr/>
              <p:nvPr/>
            </p:nvGrpSpPr>
            <p:grpSpPr>
              <a:xfrm>
                <a:off x="2608920" y="1717560"/>
                <a:ext cx="533880" cy="834480"/>
                <a:chOff x="2608920" y="1717560"/>
                <a:chExt cx="533880" cy="834480"/>
              </a:xfrm>
            </p:grpSpPr>
            <p:grpSp>
              <p:nvGrpSpPr>
                <p:cNvPr id="4556" name=""/>
                <p:cNvGrpSpPr/>
                <p:nvPr/>
              </p:nvGrpSpPr>
              <p:grpSpPr>
                <a:xfrm>
                  <a:off x="2933280" y="2051640"/>
                  <a:ext cx="152280" cy="176400"/>
                  <a:chOff x="2933280" y="2051640"/>
                  <a:chExt cx="152280" cy="176400"/>
                </a:xfrm>
              </p:grpSpPr>
              <p:sp>
                <p:nvSpPr>
                  <p:cNvPr id="4557" name=""/>
                  <p:cNvSpPr/>
                  <p:nvPr/>
                </p:nvSpPr>
                <p:spPr>
                  <a:xfrm rot="9030000">
                    <a:off x="2964600" y="20635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8" name=""/>
                  <p:cNvSpPr/>
                  <p:nvPr/>
                </p:nvSpPr>
                <p:spPr>
                  <a:xfrm>
                    <a:off x="2941920" y="2103840"/>
                    <a:ext cx="9432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>
                    <a:off x="2973600" y="212472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0" name=""/>
                  <p:cNvSpPr/>
                  <p:nvPr/>
                </p:nvSpPr>
                <p:spPr>
                  <a:xfrm flipV="1">
                    <a:off x="2995920" y="21250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1" name=""/>
                  <p:cNvSpPr/>
                  <p:nvPr/>
                </p:nvSpPr>
                <p:spPr>
                  <a:xfrm>
                    <a:off x="3010680" y="214308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62" name=""/>
                <p:cNvSpPr/>
                <p:nvPr/>
              </p:nvSpPr>
              <p:spPr>
                <a:xfrm flipH="1" flipV="1">
                  <a:off x="2772000" y="2053800"/>
                  <a:ext cx="51840" cy="22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 rot="5215200">
                  <a:off x="2503080" y="2049840"/>
                  <a:ext cx="57060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 flipV="1">
                  <a:off x="2874240" y="2018160"/>
                  <a:ext cx="133200" cy="9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V="1">
                  <a:off x="2694600" y="2296800"/>
                  <a:ext cx="229680" cy="14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 flipH="1" flipV="1">
                  <a:off x="2755800" y="2122920"/>
                  <a:ext cx="4140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 flipV="1">
                  <a:off x="2821680" y="2164320"/>
                  <a:ext cx="1584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 flipV="1">
                  <a:off x="2931480" y="1973520"/>
                  <a:ext cx="54000" cy="9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2913120" y="2091600"/>
                  <a:ext cx="6012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 flipH="1" flipV="1">
                  <a:off x="2843640" y="1912320"/>
                  <a:ext cx="4320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1" name=""/>
                <p:cNvSpPr/>
                <p:nvPr/>
              </p:nvSpPr>
              <p:spPr>
                <a:xfrm flipV="1">
                  <a:off x="2809080" y="2206440"/>
                  <a:ext cx="90360" cy="165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 flipV="1">
                  <a:off x="2863800" y="2252520"/>
                  <a:ext cx="3816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3" name=""/>
                <p:cNvSpPr/>
                <p:nvPr/>
              </p:nvSpPr>
              <p:spPr>
                <a:xfrm>
                  <a:off x="2771280" y="2396520"/>
                  <a:ext cx="799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4" name=""/>
                <p:cNvSpPr/>
                <p:nvPr/>
              </p:nvSpPr>
              <p:spPr>
                <a:xfrm flipV="1">
                  <a:off x="2885760" y="2318400"/>
                  <a:ext cx="590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 flipH="1" flipV="1">
                  <a:off x="2743560" y="2261160"/>
                  <a:ext cx="24480" cy="89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 flipH="1" flipV="1">
                  <a:off x="2848680" y="2003760"/>
                  <a:ext cx="23400" cy="67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 flipV="1">
                  <a:off x="2904840" y="1907280"/>
                  <a:ext cx="378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78" name=""/>
                <p:cNvGrpSpPr/>
                <p:nvPr/>
              </p:nvGrpSpPr>
              <p:grpSpPr>
                <a:xfrm>
                  <a:off x="2979000" y="1945440"/>
                  <a:ext cx="163800" cy="150120"/>
                  <a:chOff x="2979000" y="1945440"/>
                  <a:chExt cx="163800" cy="150120"/>
                </a:xfrm>
              </p:grpSpPr>
              <p:sp>
                <p:nvSpPr>
                  <p:cNvPr id="4579" name=""/>
                  <p:cNvSpPr/>
                  <p:nvPr/>
                </p:nvSpPr>
                <p:spPr>
                  <a:xfrm rot="6960000">
                    <a:off x="3009600" y="1954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0" name=""/>
                  <p:cNvSpPr/>
                  <p:nvPr/>
                </p:nvSpPr>
                <p:spPr>
                  <a:xfrm flipV="1">
                    <a:off x="2989440" y="2012040"/>
                    <a:ext cx="9828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1" name=""/>
                  <p:cNvSpPr/>
                  <p:nvPr/>
                </p:nvSpPr>
                <p:spPr>
                  <a:xfrm>
                    <a:off x="3025080" y="2033640"/>
                    <a:ext cx="183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2" name=""/>
                  <p:cNvSpPr/>
                  <p:nvPr/>
                </p:nvSpPr>
                <p:spPr>
                  <a:xfrm flipV="1">
                    <a:off x="3044160" y="200484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3" name=""/>
                  <p:cNvSpPr/>
                  <p:nvPr/>
                </p:nvSpPr>
                <p:spPr>
                  <a:xfrm flipV="1">
                    <a:off x="3063240" y="202104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4" name=""/>
                <p:cNvGrpSpPr/>
                <p:nvPr/>
              </p:nvGrpSpPr>
              <p:grpSpPr>
                <a:xfrm>
                  <a:off x="2784960" y="2024640"/>
                  <a:ext cx="164160" cy="150840"/>
                  <a:chOff x="2784960" y="2024640"/>
                  <a:chExt cx="164160" cy="150840"/>
                </a:xfrm>
              </p:grpSpPr>
              <p:sp>
                <p:nvSpPr>
                  <p:cNvPr id="4585" name=""/>
                  <p:cNvSpPr/>
                  <p:nvPr/>
                </p:nvSpPr>
                <p:spPr>
                  <a:xfrm rot="3801600">
                    <a:off x="2815560" y="20340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6" name=""/>
                  <p:cNvSpPr/>
                  <p:nvPr/>
                </p:nvSpPr>
                <p:spPr>
                  <a:xfrm flipV="1">
                    <a:off x="2838600" y="2073600"/>
                    <a:ext cx="3780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7" name=""/>
                  <p:cNvSpPr/>
                  <p:nvPr/>
                </p:nvSpPr>
                <p:spPr>
                  <a:xfrm flipV="1">
                    <a:off x="2855520" y="212292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8" name=""/>
                  <p:cNvSpPr/>
                  <p:nvPr/>
                </p:nvSpPr>
                <p:spPr>
                  <a:xfrm flipH="1" flipV="1">
                    <a:off x="2852640" y="2092320"/>
                    <a:ext cx="39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9" name=""/>
                  <p:cNvSpPr/>
                  <p:nvPr/>
                </p:nvSpPr>
                <p:spPr>
                  <a:xfrm flipV="1">
                    <a:off x="2869560" y="208800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0" name=""/>
                <p:cNvGrpSpPr/>
                <p:nvPr/>
              </p:nvGrpSpPr>
              <p:grpSpPr>
                <a:xfrm>
                  <a:off x="2880720" y="2109240"/>
                  <a:ext cx="137160" cy="109440"/>
                  <a:chOff x="2880720" y="2109240"/>
                  <a:chExt cx="137160" cy="109440"/>
                </a:xfrm>
              </p:grpSpPr>
              <p:sp>
                <p:nvSpPr>
                  <p:cNvPr id="4591" name=""/>
                  <p:cNvSpPr/>
                  <p:nvPr/>
                </p:nvSpPr>
                <p:spPr>
                  <a:xfrm rot="5215200">
                    <a:off x="2897640" y="2097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2" name=""/>
                  <p:cNvSpPr/>
                  <p:nvPr/>
                </p:nvSpPr>
                <p:spPr>
                  <a:xfrm flipV="1">
                    <a:off x="2895840" y="2143440"/>
                    <a:ext cx="7272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 flipV="1">
                    <a:off x="2924280" y="218556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 flipV="1">
                    <a:off x="2934720" y="21513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 flipV="1">
                    <a:off x="2952000" y="215712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6" name=""/>
                <p:cNvGrpSpPr/>
                <p:nvPr/>
              </p:nvGrpSpPr>
              <p:grpSpPr>
                <a:xfrm>
                  <a:off x="2667240" y="1912320"/>
                  <a:ext cx="114480" cy="165600"/>
                  <a:chOff x="2667240" y="1912320"/>
                  <a:chExt cx="114480" cy="165600"/>
                </a:xfrm>
              </p:grpSpPr>
              <p:sp>
                <p:nvSpPr>
                  <p:cNvPr id="4597" name=""/>
                  <p:cNvSpPr/>
                  <p:nvPr/>
                </p:nvSpPr>
                <p:spPr>
                  <a:xfrm rot="20984400">
                    <a:off x="2679840" y="1918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 flipH="1" flipV="1">
                    <a:off x="2703240" y="1974960"/>
                    <a:ext cx="7344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 flipH="1" flipV="1">
                    <a:off x="2744280" y="2002320"/>
                    <a:ext cx="9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 flipH="1" flipV="1">
                    <a:off x="2714760" y="2007360"/>
                    <a:ext cx="1872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 flipH="1" flipV="1">
                    <a:off x="2716560" y="197964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2" name=""/>
                <p:cNvGrpSpPr/>
                <p:nvPr/>
              </p:nvGrpSpPr>
              <p:grpSpPr>
                <a:xfrm>
                  <a:off x="2923920" y="1809360"/>
                  <a:ext cx="137160" cy="109440"/>
                  <a:chOff x="2923920" y="1809360"/>
                  <a:chExt cx="137160" cy="109440"/>
                </a:xfrm>
              </p:grpSpPr>
              <p:sp>
                <p:nvSpPr>
                  <p:cNvPr id="4603" name=""/>
                  <p:cNvSpPr/>
                  <p:nvPr/>
                </p:nvSpPr>
                <p:spPr>
                  <a:xfrm rot="5215200">
                    <a:off x="2940840" y="1797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 flipV="1">
                    <a:off x="2939400" y="184356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 flipV="1">
                    <a:off x="2967480" y="18856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 flipV="1">
                    <a:off x="2977920" y="1851840"/>
                    <a:ext cx="46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7" name=""/>
                  <p:cNvSpPr/>
                  <p:nvPr/>
                </p:nvSpPr>
                <p:spPr>
                  <a:xfrm flipV="1">
                    <a:off x="2995200" y="18572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8" name=""/>
                <p:cNvGrpSpPr/>
                <p:nvPr/>
              </p:nvGrpSpPr>
              <p:grpSpPr>
                <a:xfrm>
                  <a:off x="2905560" y="2199240"/>
                  <a:ext cx="137160" cy="109440"/>
                  <a:chOff x="2905560" y="2199240"/>
                  <a:chExt cx="137160" cy="109440"/>
                </a:xfrm>
              </p:grpSpPr>
              <p:sp>
                <p:nvSpPr>
                  <p:cNvPr id="4609" name=""/>
                  <p:cNvSpPr/>
                  <p:nvPr/>
                </p:nvSpPr>
                <p:spPr>
                  <a:xfrm rot="5215200">
                    <a:off x="2922480" y="2187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 flipV="1">
                    <a:off x="2921040" y="223344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 flipV="1">
                    <a:off x="2949480" y="2275560"/>
                    <a:ext cx="1728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2" name=""/>
                  <p:cNvSpPr/>
                  <p:nvPr/>
                </p:nvSpPr>
                <p:spPr>
                  <a:xfrm flipV="1">
                    <a:off x="2959560" y="22413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 flipV="1">
                    <a:off x="2976840" y="22467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4" name=""/>
                <p:cNvGrpSpPr/>
                <p:nvPr/>
              </p:nvGrpSpPr>
              <p:grpSpPr>
                <a:xfrm>
                  <a:off x="2967480" y="1875960"/>
                  <a:ext cx="137160" cy="109440"/>
                  <a:chOff x="2967480" y="1875960"/>
                  <a:chExt cx="137160" cy="109440"/>
                </a:xfrm>
              </p:grpSpPr>
              <p:sp>
                <p:nvSpPr>
                  <p:cNvPr id="4615" name=""/>
                  <p:cNvSpPr/>
                  <p:nvPr/>
                </p:nvSpPr>
                <p:spPr>
                  <a:xfrm rot="5215200">
                    <a:off x="2984400" y="1864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6" name=""/>
                  <p:cNvSpPr/>
                  <p:nvPr/>
                </p:nvSpPr>
                <p:spPr>
                  <a:xfrm flipV="1">
                    <a:off x="2982960" y="191016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 flipV="1">
                    <a:off x="3011040" y="19522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 flipV="1">
                    <a:off x="3021480" y="19180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9" name=""/>
                  <p:cNvSpPr/>
                  <p:nvPr/>
                </p:nvSpPr>
                <p:spPr>
                  <a:xfrm flipV="1">
                    <a:off x="3038760" y="19238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0" name=""/>
                <p:cNvGrpSpPr/>
                <p:nvPr/>
              </p:nvGrpSpPr>
              <p:grpSpPr>
                <a:xfrm>
                  <a:off x="2608920" y="2116800"/>
                  <a:ext cx="135360" cy="173520"/>
                  <a:chOff x="2608920" y="2116800"/>
                  <a:chExt cx="135360" cy="173520"/>
                </a:xfrm>
              </p:grpSpPr>
              <p:sp>
                <p:nvSpPr>
                  <p:cNvPr id="4621" name=""/>
                  <p:cNvSpPr/>
                  <p:nvPr/>
                </p:nvSpPr>
                <p:spPr>
                  <a:xfrm rot="20413200">
                    <a:off x="2631960" y="2127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 flipH="1" flipV="1">
                    <a:off x="2651760" y="2187360"/>
                    <a:ext cx="8532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3" name=""/>
                  <p:cNvSpPr/>
                  <p:nvPr/>
                </p:nvSpPr>
                <p:spPr>
                  <a:xfrm flipH="1" flipV="1">
                    <a:off x="2697120" y="2207520"/>
                    <a:ext cx="122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4" name=""/>
                  <p:cNvSpPr/>
                  <p:nvPr/>
                </p:nvSpPr>
                <p:spPr>
                  <a:xfrm flipH="1" flipV="1">
                    <a:off x="2668680" y="221724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 flipH="1" flipV="1">
                    <a:off x="2665800" y="218952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6" name=""/>
                <p:cNvGrpSpPr/>
                <p:nvPr/>
              </p:nvGrpSpPr>
              <p:grpSpPr>
                <a:xfrm>
                  <a:off x="2610720" y="2000520"/>
                  <a:ext cx="158400" cy="176040"/>
                  <a:chOff x="2610720" y="2000520"/>
                  <a:chExt cx="158400" cy="176040"/>
                </a:xfrm>
              </p:grpSpPr>
              <p:sp>
                <p:nvSpPr>
                  <p:cNvPr id="4627" name=""/>
                  <p:cNvSpPr/>
                  <p:nvPr/>
                </p:nvSpPr>
                <p:spPr>
                  <a:xfrm rot="19573800">
                    <a:off x="2645280" y="2012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8" name=""/>
                  <p:cNvSpPr/>
                  <p:nvPr/>
                </p:nvSpPr>
                <p:spPr>
                  <a:xfrm flipH="1" flipV="1">
                    <a:off x="2662200" y="2078640"/>
                    <a:ext cx="9792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 flipH="1" flipV="1">
                    <a:off x="2711160" y="208728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 flipH="1">
                    <a:off x="2685960" y="209952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1" name=""/>
                  <p:cNvSpPr/>
                  <p:nvPr/>
                </p:nvSpPr>
                <p:spPr>
                  <a:xfrm flipH="1" flipV="1">
                    <a:off x="2676240" y="2077560"/>
                    <a:ext cx="122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2" name=""/>
                <p:cNvGrpSpPr/>
                <p:nvPr/>
              </p:nvGrpSpPr>
              <p:grpSpPr>
                <a:xfrm>
                  <a:off x="2801880" y="1747800"/>
                  <a:ext cx="105120" cy="160920"/>
                  <a:chOff x="2801880" y="1747800"/>
                  <a:chExt cx="105120" cy="160920"/>
                </a:xfrm>
              </p:grpSpPr>
              <p:sp>
                <p:nvSpPr>
                  <p:cNvPr id="4633" name=""/>
                  <p:cNvSpPr/>
                  <p:nvPr/>
                </p:nvSpPr>
                <p:spPr>
                  <a:xfrm rot="21225000">
                    <a:off x="2809800" y="1752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 flipH="1" flipV="1">
                    <a:off x="2834280" y="1806840"/>
                    <a:ext cx="6804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5" name=""/>
                  <p:cNvSpPr/>
                  <p:nvPr/>
                </p:nvSpPr>
                <p:spPr>
                  <a:xfrm flipH="1" flipV="1">
                    <a:off x="2873520" y="1837080"/>
                    <a:ext cx="792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 flipH="1" flipV="1">
                    <a:off x="2844000" y="183996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 flipH="1" flipV="1">
                    <a:off x="2847240" y="1812600"/>
                    <a:ext cx="72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38" name=""/>
                <p:cNvGrpSpPr/>
                <p:nvPr/>
              </p:nvGrpSpPr>
              <p:grpSpPr>
                <a:xfrm>
                  <a:off x="2703960" y="1766880"/>
                  <a:ext cx="145080" cy="175680"/>
                  <a:chOff x="2703960" y="1766880"/>
                  <a:chExt cx="145080" cy="175680"/>
                </a:xfrm>
              </p:grpSpPr>
              <p:sp>
                <p:nvSpPr>
                  <p:cNvPr id="4639" name=""/>
                  <p:cNvSpPr/>
                  <p:nvPr/>
                </p:nvSpPr>
                <p:spPr>
                  <a:xfrm rot="20097000">
                    <a:off x="2731680" y="1778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0" name=""/>
                  <p:cNvSpPr/>
                  <p:nvPr/>
                </p:nvSpPr>
                <p:spPr>
                  <a:xfrm flipH="1" flipV="1">
                    <a:off x="2750760" y="1841040"/>
                    <a:ext cx="9036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 flipH="1" flipV="1">
                    <a:off x="2797560" y="185688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 flipH="1">
                    <a:off x="2770200" y="186804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3" name=""/>
                  <p:cNvSpPr/>
                  <p:nvPr/>
                </p:nvSpPr>
                <p:spPr>
                  <a:xfrm flipH="1" flipV="1">
                    <a:off x="2764800" y="184212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4" name=""/>
                <p:cNvGrpSpPr/>
                <p:nvPr/>
              </p:nvGrpSpPr>
              <p:grpSpPr>
                <a:xfrm>
                  <a:off x="2738520" y="1882440"/>
                  <a:ext cx="128160" cy="171360"/>
                  <a:chOff x="2738520" y="1882440"/>
                  <a:chExt cx="128160" cy="171360"/>
                </a:xfrm>
              </p:grpSpPr>
              <p:sp>
                <p:nvSpPr>
                  <p:cNvPr id="4645" name=""/>
                  <p:cNvSpPr/>
                  <p:nvPr/>
                </p:nvSpPr>
                <p:spPr>
                  <a:xfrm rot="20616600">
                    <a:off x="2757960" y="1891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 flipH="1" flipV="1">
                    <a:off x="2778840" y="1950480"/>
                    <a:ext cx="8136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7" name=""/>
                  <p:cNvSpPr/>
                  <p:nvPr/>
                </p:nvSpPr>
                <p:spPr>
                  <a:xfrm flipH="1" flipV="1">
                    <a:off x="2822760" y="1973160"/>
                    <a:ext cx="111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8" name=""/>
                  <p:cNvSpPr/>
                  <p:nvPr/>
                </p:nvSpPr>
                <p:spPr>
                  <a:xfrm flipH="1" flipV="1">
                    <a:off x="2793960" y="1981440"/>
                    <a:ext cx="190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 flipH="1" flipV="1">
                    <a:off x="2792520" y="1953720"/>
                    <a:ext cx="93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0" name=""/>
                <p:cNvGrpSpPr/>
                <p:nvPr/>
              </p:nvGrpSpPr>
              <p:grpSpPr>
                <a:xfrm>
                  <a:off x="2881440" y="1832400"/>
                  <a:ext cx="113760" cy="165240"/>
                  <a:chOff x="2881440" y="1832400"/>
                  <a:chExt cx="113760" cy="165240"/>
                </a:xfrm>
              </p:grpSpPr>
              <p:sp>
                <p:nvSpPr>
                  <p:cNvPr id="4651" name=""/>
                  <p:cNvSpPr/>
                  <p:nvPr/>
                </p:nvSpPr>
                <p:spPr>
                  <a:xfrm rot="600000">
                    <a:off x="2893680" y="1838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 flipH="1" flipV="1">
                    <a:off x="2925000" y="1888560"/>
                    <a:ext cx="4248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 flipH="1" flipV="1">
                    <a:off x="2954160" y="192852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 flipH="1" flipV="1">
                    <a:off x="2925000" y="192312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5" name=""/>
                  <p:cNvSpPr/>
                  <p:nvPr/>
                </p:nvSpPr>
                <p:spPr>
                  <a:xfrm flipH="1" flipV="1">
                    <a:off x="2936160" y="1897560"/>
                    <a:ext cx="3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6" name=""/>
                <p:cNvGrpSpPr/>
                <p:nvPr/>
              </p:nvGrpSpPr>
              <p:grpSpPr>
                <a:xfrm>
                  <a:off x="2827440" y="2083320"/>
                  <a:ext cx="165600" cy="166320"/>
                  <a:chOff x="2827440" y="2083320"/>
                  <a:chExt cx="165600" cy="166320"/>
                </a:xfrm>
              </p:grpSpPr>
              <p:sp>
                <p:nvSpPr>
                  <p:cNvPr id="4657" name=""/>
                  <p:cNvSpPr/>
                  <p:nvPr/>
                </p:nvSpPr>
                <p:spPr>
                  <a:xfrm rot="2650800">
                    <a:off x="2858760" y="21002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 flipV="1">
                    <a:off x="2905560" y="2138040"/>
                    <a:ext cx="46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 flipV="1">
                    <a:off x="2911680" y="218736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 flipH="1" flipV="1">
                    <a:off x="2894400" y="216360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 flipV="1">
                    <a:off x="2912400" y="215172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2" name=""/>
                <p:cNvGrpSpPr/>
                <p:nvPr/>
              </p:nvGrpSpPr>
              <p:grpSpPr>
                <a:xfrm>
                  <a:off x="2931840" y="2281320"/>
                  <a:ext cx="140400" cy="174960"/>
                  <a:chOff x="2931840" y="2281320"/>
                  <a:chExt cx="140400" cy="174960"/>
                </a:xfrm>
              </p:grpSpPr>
              <p:sp>
                <p:nvSpPr>
                  <p:cNvPr id="4663" name=""/>
                  <p:cNvSpPr/>
                  <p:nvPr/>
                </p:nvSpPr>
                <p:spPr>
                  <a:xfrm rot="9448200">
                    <a:off x="2957400" y="2292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4" name=""/>
                  <p:cNvSpPr/>
                  <p:nvPr/>
                </p:nvSpPr>
                <p:spPr>
                  <a:xfrm>
                    <a:off x="2939400" y="2325240"/>
                    <a:ext cx="878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2968200" y="234972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 flipV="1">
                    <a:off x="2990160" y="235512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7" name=""/>
                  <p:cNvSpPr/>
                  <p:nvPr/>
                </p:nvSpPr>
                <p:spPr>
                  <a:xfrm>
                    <a:off x="3002760" y="23724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8" name=""/>
                <p:cNvGrpSpPr/>
                <p:nvPr/>
              </p:nvGrpSpPr>
              <p:grpSpPr>
                <a:xfrm>
                  <a:off x="2839680" y="2378160"/>
                  <a:ext cx="136800" cy="173880"/>
                  <a:chOff x="2839680" y="2378160"/>
                  <a:chExt cx="136800" cy="173880"/>
                </a:xfrm>
              </p:grpSpPr>
              <p:sp>
                <p:nvSpPr>
                  <p:cNvPr id="4669" name=""/>
                  <p:cNvSpPr/>
                  <p:nvPr/>
                </p:nvSpPr>
                <p:spPr>
                  <a:xfrm rot="9568200">
                    <a:off x="2863440" y="2388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0" name=""/>
                  <p:cNvSpPr/>
                  <p:nvPr/>
                </p:nvSpPr>
                <p:spPr>
                  <a:xfrm>
                    <a:off x="2846880" y="2419200"/>
                    <a:ext cx="8604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1" name=""/>
                  <p:cNvSpPr/>
                  <p:nvPr/>
                </p:nvSpPr>
                <p:spPr>
                  <a:xfrm>
                    <a:off x="2874960" y="2444760"/>
                    <a:ext cx="122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2" name=""/>
                  <p:cNvSpPr/>
                  <p:nvPr/>
                </p:nvSpPr>
                <p:spPr>
                  <a:xfrm>
                    <a:off x="2896560" y="245124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2908800" y="2468520"/>
                    <a:ext cx="100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4" name=""/>
                <p:cNvGrpSpPr/>
                <p:nvPr/>
              </p:nvGrpSpPr>
              <p:grpSpPr>
                <a:xfrm>
                  <a:off x="2688120" y="2092680"/>
                  <a:ext cx="167400" cy="162000"/>
                  <a:chOff x="2688120" y="2092680"/>
                  <a:chExt cx="167400" cy="162000"/>
                </a:xfrm>
              </p:grpSpPr>
              <p:sp>
                <p:nvSpPr>
                  <p:cNvPr id="4675" name=""/>
                  <p:cNvSpPr/>
                  <p:nvPr/>
                </p:nvSpPr>
                <p:spPr>
                  <a:xfrm rot="3141000">
                    <a:off x="2720520" y="2107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6" name=""/>
                  <p:cNvSpPr/>
                  <p:nvPr/>
                </p:nvSpPr>
                <p:spPr>
                  <a:xfrm flipV="1">
                    <a:off x="2756880" y="2145960"/>
                    <a:ext cx="1908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 flipV="1">
                    <a:off x="2767680" y="2195640"/>
                    <a:ext cx="100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 flipH="1" flipV="1">
                    <a:off x="2756520" y="2169000"/>
                    <a:ext cx="756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9" name=""/>
                  <p:cNvSpPr/>
                  <p:nvPr/>
                </p:nvSpPr>
                <p:spPr>
                  <a:xfrm flipV="1">
                    <a:off x="2774160" y="216000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0" name=""/>
                <p:cNvGrpSpPr/>
                <p:nvPr/>
              </p:nvGrpSpPr>
              <p:grpSpPr>
                <a:xfrm>
                  <a:off x="2700000" y="1905840"/>
                  <a:ext cx="167760" cy="172800"/>
                  <a:chOff x="2700000" y="1905840"/>
                  <a:chExt cx="167760" cy="172800"/>
                </a:xfrm>
              </p:grpSpPr>
              <p:sp>
                <p:nvSpPr>
                  <p:cNvPr id="4681" name=""/>
                  <p:cNvSpPr/>
                  <p:nvPr/>
                </p:nvSpPr>
                <p:spPr>
                  <a:xfrm rot="2505000">
                    <a:off x="2739240" y="1915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 flipV="1">
                    <a:off x="2771280" y="1963080"/>
                    <a:ext cx="1512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3" name=""/>
                  <p:cNvSpPr/>
                  <p:nvPr/>
                </p:nvSpPr>
                <p:spPr>
                  <a:xfrm flipV="1">
                    <a:off x="2781000" y="201204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4" name=""/>
                  <p:cNvSpPr/>
                  <p:nvPr/>
                </p:nvSpPr>
                <p:spPr>
                  <a:xfrm flipH="1" flipV="1">
                    <a:off x="2768040" y="1991880"/>
                    <a:ext cx="86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 flipV="1">
                    <a:off x="2786400" y="197604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6" name=""/>
                <p:cNvGrpSpPr/>
                <p:nvPr/>
              </p:nvGrpSpPr>
              <p:grpSpPr>
                <a:xfrm>
                  <a:off x="2771280" y="1741320"/>
                  <a:ext cx="165240" cy="174240"/>
                  <a:chOff x="2771280" y="1741320"/>
                  <a:chExt cx="165240" cy="174240"/>
                </a:xfrm>
              </p:grpSpPr>
              <p:sp>
                <p:nvSpPr>
                  <p:cNvPr id="4687" name=""/>
                  <p:cNvSpPr/>
                  <p:nvPr/>
                </p:nvSpPr>
                <p:spPr>
                  <a:xfrm rot="2345400">
                    <a:off x="2809440" y="1752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8" name=""/>
                  <p:cNvSpPr/>
                  <p:nvPr/>
                </p:nvSpPr>
                <p:spPr>
                  <a:xfrm flipV="1">
                    <a:off x="2845440" y="1799280"/>
                    <a:ext cx="10080" cy="10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 flipV="1">
                    <a:off x="2853360" y="1848240"/>
                    <a:ext cx="828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 flipH="1" flipV="1">
                    <a:off x="2838600" y="182916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 flipV="1">
                    <a:off x="2856600" y="1812240"/>
                    <a:ext cx="39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2" name=""/>
                <p:cNvGrpSpPr/>
                <p:nvPr/>
              </p:nvGrpSpPr>
              <p:grpSpPr>
                <a:xfrm>
                  <a:off x="2846160" y="1717560"/>
                  <a:ext cx="167040" cy="163440"/>
                  <a:chOff x="2846160" y="1717560"/>
                  <a:chExt cx="167040" cy="163440"/>
                </a:xfrm>
              </p:grpSpPr>
              <p:sp>
                <p:nvSpPr>
                  <p:cNvPr id="4693" name=""/>
                  <p:cNvSpPr/>
                  <p:nvPr/>
                </p:nvSpPr>
                <p:spPr>
                  <a:xfrm rot="2977200">
                    <a:off x="2878560" y="1733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 flipV="1">
                    <a:off x="2917440" y="1770840"/>
                    <a:ext cx="1476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5" name=""/>
                  <p:cNvSpPr/>
                  <p:nvPr/>
                </p:nvSpPr>
                <p:spPr>
                  <a:xfrm flipV="1">
                    <a:off x="2927160" y="182124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 flipH="1" flipV="1">
                    <a:off x="2914200" y="179568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 flipV="1">
                    <a:off x="2931840" y="1785600"/>
                    <a:ext cx="46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8" name=""/>
              <p:cNvGrpSpPr/>
              <p:nvPr/>
            </p:nvGrpSpPr>
            <p:grpSpPr>
              <a:xfrm>
                <a:off x="1200600" y="2703240"/>
                <a:ext cx="547200" cy="820800"/>
                <a:chOff x="1200600" y="2703240"/>
                <a:chExt cx="547200" cy="820800"/>
              </a:xfrm>
            </p:grpSpPr>
            <p:grpSp>
              <p:nvGrpSpPr>
                <p:cNvPr id="4699" name=""/>
                <p:cNvGrpSpPr/>
                <p:nvPr/>
              </p:nvGrpSpPr>
              <p:grpSpPr>
                <a:xfrm>
                  <a:off x="1279800" y="3010320"/>
                  <a:ext cx="140040" cy="174960"/>
                  <a:chOff x="1279800" y="3010320"/>
                  <a:chExt cx="140040" cy="174960"/>
                </a:xfrm>
              </p:grpSpPr>
              <p:sp>
                <p:nvSpPr>
                  <p:cNvPr id="4700" name=""/>
                  <p:cNvSpPr/>
                  <p:nvPr/>
                </p:nvSpPr>
                <p:spPr>
                  <a:xfrm rot="20265000">
                    <a:off x="1305000" y="3021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1" name=""/>
                  <p:cNvSpPr/>
                  <p:nvPr/>
                </p:nvSpPr>
                <p:spPr>
                  <a:xfrm flipH="1" flipV="1">
                    <a:off x="1324800" y="3082320"/>
                    <a:ext cx="8748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2" name=""/>
                  <p:cNvSpPr/>
                  <p:nvPr/>
                </p:nvSpPr>
                <p:spPr>
                  <a:xfrm flipH="1" flipV="1">
                    <a:off x="1370520" y="3100680"/>
                    <a:ext cx="12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 flipH="1">
                    <a:off x="1342800" y="311112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4" name=""/>
                  <p:cNvSpPr/>
                  <p:nvPr/>
                </p:nvSpPr>
                <p:spPr>
                  <a:xfrm flipH="1" flipV="1">
                    <a:off x="1338480" y="30841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05" name=""/>
                <p:cNvSpPr/>
                <p:nvPr/>
              </p:nvSpPr>
              <p:spPr>
                <a:xfrm>
                  <a:off x="1551600" y="298224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 rot="16449600">
                  <a:off x="1288080" y="2958120"/>
                  <a:ext cx="570600" cy="2570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 flipH="1">
                  <a:off x="1335960" y="313740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 flipH="1">
                  <a:off x="1454040" y="283284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>
                  <a:off x="1563120" y="309852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 flipH="1">
                  <a:off x="1523520" y="302832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 flipH="1">
                  <a:off x="1352520" y="317844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 flipH="1" flipV="1">
                  <a:off x="1382040" y="313020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>
                  <a:off x="1451160" y="327348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 flipH="1">
                  <a:off x="1467360" y="289296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 flipH="1">
                  <a:off x="1470960" y="297972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 flipH="1" flipV="1">
                  <a:off x="1541520" y="284436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 flipH="1" flipV="1">
                  <a:off x="1436760" y="292824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>
                  <a:off x="1615680" y="291852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>
                  <a:off x="1477440" y="318276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0" name=""/>
                <p:cNvSpPr/>
                <p:nvPr/>
              </p:nvSpPr>
              <p:spPr>
                <a:xfrm flipH="1">
                  <a:off x="1386720" y="331632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21" name=""/>
                <p:cNvGrpSpPr/>
                <p:nvPr/>
              </p:nvGrpSpPr>
              <p:grpSpPr>
                <a:xfrm>
                  <a:off x="1200600" y="3130200"/>
                  <a:ext cx="166680" cy="158040"/>
                  <a:chOff x="1200600" y="3130200"/>
                  <a:chExt cx="166680" cy="158040"/>
                </a:xfrm>
              </p:grpSpPr>
              <p:sp>
                <p:nvSpPr>
                  <p:cNvPr id="4722" name=""/>
                  <p:cNvSpPr/>
                  <p:nvPr/>
                </p:nvSpPr>
                <p:spPr>
                  <a:xfrm rot="18195000">
                    <a:off x="1232640" y="31428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3" name=""/>
                  <p:cNvSpPr/>
                  <p:nvPr/>
                </p:nvSpPr>
                <p:spPr>
                  <a:xfrm flipH="1">
                    <a:off x="1256040" y="319968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4" name=""/>
                  <p:cNvSpPr/>
                  <p:nvPr/>
                </p:nvSpPr>
                <p:spPr>
                  <a:xfrm flipH="1" flipV="1">
                    <a:off x="1302840" y="31964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5" name=""/>
                  <p:cNvSpPr/>
                  <p:nvPr/>
                </p:nvSpPr>
                <p:spPr>
                  <a:xfrm flipH="1">
                    <a:off x="1284480" y="321156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6" name=""/>
                  <p:cNvSpPr/>
                  <p:nvPr/>
                </p:nvSpPr>
                <p:spPr>
                  <a:xfrm flipH="1" flipV="1">
                    <a:off x="1268640" y="320652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7" name=""/>
                <p:cNvGrpSpPr/>
                <p:nvPr/>
              </p:nvGrpSpPr>
              <p:grpSpPr>
                <a:xfrm>
                  <a:off x="1406880" y="3084120"/>
                  <a:ext cx="158760" cy="140760"/>
                  <a:chOff x="1406880" y="3084120"/>
                  <a:chExt cx="158760" cy="140760"/>
                </a:xfrm>
              </p:grpSpPr>
              <p:sp>
                <p:nvSpPr>
                  <p:cNvPr id="4728" name=""/>
                  <p:cNvSpPr/>
                  <p:nvPr/>
                </p:nvSpPr>
                <p:spPr>
                  <a:xfrm rot="15036600">
                    <a:off x="1434960" y="3088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"/>
                  <p:cNvSpPr/>
                  <p:nvPr/>
                </p:nvSpPr>
                <p:spPr>
                  <a:xfrm flipH="1">
                    <a:off x="1473480" y="3090960"/>
                    <a:ext cx="49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0" name=""/>
                  <p:cNvSpPr/>
                  <p:nvPr/>
                </p:nvSpPr>
                <p:spPr>
                  <a:xfrm flipH="1">
                    <a:off x="1487520" y="312012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1" name=""/>
                  <p:cNvSpPr/>
                  <p:nvPr/>
                </p:nvSpPr>
                <p:spPr>
                  <a:xfrm>
                    <a:off x="1497960" y="31431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2" name=""/>
                  <p:cNvSpPr/>
                  <p:nvPr/>
                </p:nvSpPr>
                <p:spPr>
                  <a:xfrm flipH="1">
                    <a:off x="1474920" y="315540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3" name=""/>
                <p:cNvGrpSpPr/>
                <p:nvPr/>
              </p:nvGrpSpPr>
              <p:grpSpPr>
                <a:xfrm>
                  <a:off x="1342800" y="3025080"/>
                  <a:ext cx="139320" cy="111960"/>
                  <a:chOff x="1342800" y="3025080"/>
                  <a:chExt cx="139320" cy="111960"/>
                </a:xfrm>
              </p:grpSpPr>
              <p:sp>
                <p:nvSpPr>
                  <p:cNvPr id="4734" name=""/>
                  <p:cNvSpPr/>
                  <p:nvPr/>
                </p:nvSpPr>
                <p:spPr>
                  <a:xfrm rot="16449600">
                    <a:off x="1360800" y="3014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 flipH="1">
                    <a:off x="1390680" y="303696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 flipH="1">
                    <a:off x="1422720" y="305532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7" name=""/>
                  <p:cNvSpPr/>
                  <p:nvPr/>
                </p:nvSpPr>
                <p:spPr>
                  <a:xfrm flipH="1">
                    <a:off x="1420560" y="307512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"/>
                  <p:cNvSpPr/>
                  <p:nvPr/>
                </p:nvSpPr>
                <p:spPr>
                  <a:xfrm flipH="1">
                    <a:off x="1397520" y="3080520"/>
                    <a:ext cx="122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9" name=""/>
                <p:cNvGrpSpPr/>
                <p:nvPr/>
              </p:nvGrpSpPr>
              <p:grpSpPr>
                <a:xfrm>
                  <a:off x="1565280" y="3198600"/>
                  <a:ext cx="96840" cy="156600"/>
                  <a:chOff x="1565280" y="3198600"/>
                  <a:chExt cx="96840" cy="156600"/>
                </a:xfrm>
              </p:grpSpPr>
              <p:sp>
                <p:nvSpPr>
                  <p:cNvPr id="4740" name=""/>
                  <p:cNvSpPr/>
                  <p:nvPr/>
                </p:nvSpPr>
                <p:spPr>
                  <a:xfrm rot="10618800">
                    <a:off x="1569240" y="3200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1" name=""/>
                  <p:cNvSpPr/>
                  <p:nvPr/>
                </p:nvSpPr>
                <p:spPr>
                  <a:xfrm>
                    <a:off x="1569240" y="321444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2" name=""/>
                  <p:cNvSpPr/>
                  <p:nvPr/>
                </p:nvSpPr>
                <p:spPr>
                  <a:xfrm>
                    <a:off x="1588320" y="3247200"/>
                    <a:ext cx="684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3" name=""/>
                  <p:cNvSpPr/>
                  <p:nvPr/>
                </p:nvSpPr>
                <p:spPr>
                  <a:xfrm>
                    <a:off x="1607040" y="32601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1613520" y="328032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5" name=""/>
                <p:cNvGrpSpPr/>
                <p:nvPr/>
              </p:nvGrpSpPr>
              <p:grpSpPr>
                <a:xfrm>
                  <a:off x="1261800" y="3317040"/>
                  <a:ext cx="139320" cy="111960"/>
                  <a:chOff x="1261800" y="3317040"/>
                  <a:chExt cx="139320" cy="111960"/>
                </a:xfrm>
              </p:grpSpPr>
              <p:sp>
                <p:nvSpPr>
                  <p:cNvPr id="4746" name=""/>
                  <p:cNvSpPr/>
                  <p:nvPr/>
                </p:nvSpPr>
                <p:spPr>
                  <a:xfrm rot="16449600">
                    <a:off x="1279800" y="3306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 flipH="1">
                    <a:off x="1309680" y="332892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 flipH="1">
                    <a:off x="1341720" y="33472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9" name=""/>
                  <p:cNvSpPr/>
                  <p:nvPr/>
                </p:nvSpPr>
                <p:spPr>
                  <a:xfrm flipH="1">
                    <a:off x="1339920" y="336708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0" name=""/>
                  <p:cNvSpPr/>
                  <p:nvPr/>
                </p:nvSpPr>
                <p:spPr>
                  <a:xfrm flipH="1">
                    <a:off x="1316880" y="337248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1" name=""/>
                <p:cNvGrpSpPr/>
                <p:nvPr/>
              </p:nvGrpSpPr>
              <p:grpSpPr>
                <a:xfrm>
                  <a:off x="1329480" y="2932920"/>
                  <a:ext cx="139320" cy="111960"/>
                  <a:chOff x="1329480" y="2932920"/>
                  <a:chExt cx="139320" cy="111960"/>
                </a:xfrm>
              </p:grpSpPr>
              <p:sp>
                <p:nvSpPr>
                  <p:cNvPr id="4752" name=""/>
                  <p:cNvSpPr/>
                  <p:nvPr/>
                </p:nvSpPr>
                <p:spPr>
                  <a:xfrm rot="16449600">
                    <a:off x="1347480" y="29224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 flipH="1">
                    <a:off x="1377360" y="294480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 flipH="1">
                    <a:off x="1409400" y="29631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 flipH="1">
                    <a:off x="1407240" y="298260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 flipH="1">
                    <a:off x="1384560" y="298836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7" name=""/>
                <p:cNvGrpSpPr/>
                <p:nvPr/>
              </p:nvGrpSpPr>
              <p:grpSpPr>
                <a:xfrm>
                  <a:off x="1227600" y="3245400"/>
                  <a:ext cx="139320" cy="111960"/>
                  <a:chOff x="1227600" y="3245400"/>
                  <a:chExt cx="139320" cy="111960"/>
                </a:xfrm>
              </p:grpSpPr>
              <p:sp>
                <p:nvSpPr>
                  <p:cNvPr id="4758" name=""/>
                  <p:cNvSpPr/>
                  <p:nvPr/>
                </p:nvSpPr>
                <p:spPr>
                  <a:xfrm rot="16449600">
                    <a:off x="1245600" y="3234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9" name=""/>
                  <p:cNvSpPr/>
                  <p:nvPr/>
                </p:nvSpPr>
                <p:spPr>
                  <a:xfrm flipH="1">
                    <a:off x="1275480" y="325764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0" name=""/>
                  <p:cNvSpPr/>
                  <p:nvPr/>
                </p:nvSpPr>
                <p:spPr>
                  <a:xfrm flipH="1">
                    <a:off x="1307520" y="327600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 flipH="1">
                    <a:off x="1305360" y="32954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 flipH="1">
                    <a:off x="1282320" y="330084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"/>
                <p:cNvGrpSpPr/>
                <p:nvPr/>
              </p:nvGrpSpPr>
              <p:grpSpPr>
                <a:xfrm>
                  <a:off x="1628280" y="2992320"/>
                  <a:ext cx="119520" cy="167760"/>
                  <a:chOff x="1628280" y="2992320"/>
                  <a:chExt cx="119520" cy="167760"/>
                </a:xfrm>
              </p:grpSpPr>
              <p:sp>
                <p:nvSpPr>
                  <p:cNvPr id="4764" name=""/>
                  <p:cNvSpPr/>
                  <p:nvPr/>
                </p:nvSpPr>
                <p:spPr>
                  <a:xfrm rot="10047600">
                    <a:off x="1643760" y="299988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1633680" y="3021840"/>
                    <a:ext cx="7632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1658520" y="305136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7" name=""/>
                  <p:cNvSpPr/>
                  <p:nvPr/>
                </p:nvSpPr>
                <p:spPr>
                  <a:xfrm>
                    <a:off x="1678680" y="3060720"/>
                    <a:ext cx="183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8" name=""/>
                  <p:cNvSpPr/>
                  <p:nvPr/>
                </p:nvSpPr>
                <p:spPr>
                  <a:xfrm>
                    <a:off x="1688760" y="3079440"/>
                    <a:ext cx="82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9" name=""/>
                <p:cNvGrpSpPr/>
                <p:nvPr/>
              </p:nvGrpSpPr>
              <p:grpSpPr>
                <a:xfrm>
                  <a:off x="1586520" y="3101040"/>
                  <a:ext cx="147600" cy="175680"/>
                  <a:chOff x="1586520" y="3101040"/>
                  <a:chExt cx="147600" cy="175680"/>
                </a:xfrm>
              </p:grpSpPr>
              <p:sp>
                <p:nvSpPr>
                  <p:cNvPr id="4770" name=""/>
                  <p:cNvSpPr/>
                  <p:nvPr/>
                </p:nvSpPr>
                <p:spPr>
                  <a:xfrm rot="9208200">
                    <a:off x="1615680" y="3112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1" name=""/>
                  <p:cNvSpPr/>
                  <p:nvPr/>
                </p:nvSpPr>
                <p:spPr>
                  <a:xfrm>
                    <a:off x="1594440" y="3149280"/>
                    <a:ext cx="9216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2" name=""/>
                  <p:cNvSpPr/>
                  <p:nvPr/>
                </p:nvSpPr>
                <p:spPr>
                  <a:xfrm>
                    <a:off x="1625040" y="317160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3" name=""/>
                  <p:cNvSpPr/>
                  <p:nvPr/>
                </p:nvSpPr>
                <p:spPr>
                  <a:xfrm flipV="1">
                    <a:off x="1647360" y="31741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4" name=""/>
                  <p:cNvSpPr/>
                  <p:nvPr/>
                </p:nvSpPr>
                <p:spPr>
                  <a:xfrm>
                    <a:off x="1661400" y="319176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5" name=""/>
                <p:cNvGrpSpPr/>
                <p:nvPr/>
              </p:nvGrpSpPr>
              <p:grpSpPr>
                <a:xfrm>
                  <a:off x="1418400" y="3349080"/>
                  <a:ext cx="91080" cy="153720"/>
                  <a:chOff x="1418400" y="3349080"/>
                  <a:chExt cx="91080" cy="153720"/>
                </a:xfrm>
              </p:grpSpPr>
              <p:sp>
                <p:nvSpPr>
                  <p:cNvPr id="4776" name=""/>
                  <p:cNvSpPr/>
                  <p:nvPr/>
                </p:nvSpPr>
                <p:spPr>
                  <a:xfrm rot="10860000">
                    <a:off x="1419480" y="334944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>
                    <a:off x="1424160" y="3360600"/>
                    <a:ext cx="565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>
                    <a:off x="1441080" y="33944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9" name=""/>
                  <p:cNvSpPr/>
                  <p:nvPr/>
                </p:nvSpPr>
                <p:spPr>
                  <a:xfrm>
                    <a:off x="1458360" y="3408480"/>
                    <a:ext cx="1728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1463760" y="34293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1" name=""/>
                <p:cNvGrpSpPr/>
                <p:nvPr/>
              </p:nvGrpSpPr>
              <p:grpSpPr>
                <a:xfrm>
                  <a:off x="1479240" y="3323160"/>
                  <a:ext cx="131400" cy="172440"/>
                  <a:chOff x="1479240" y="3323160"/>
                  <a:chExt cx="131400" cy="172440"/>
                </a:xfrm>
              </p:grpSpPr>
              <p:sp>
                <p:nvSpPr>
                  <p:cNvPr id="4782" name=""/>
                  <p:cNvSpPr/>
                  <p:nvPr/>
                </p:nvSpPr>
                <p:spPr>
                  <a:xfrm rot="9731400">
                    <a:off x="1500480" y="3332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3" name=""/>
                  <p:cNvSpPr/>
                  <p:nvPr/>
                </p:nvSpPr>
                <p:spPr>
                  <a:xfrm>
                    <a:off x="1486080" y="336060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4" name=""/>
                  <p:cNvSpPr/>
                  <p:nvPr/>
                </p:nvSpPr>
                <p:spPr>
                  <a:xfrm>
                    <a:off x="1512720" y="338724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"/>
                  <p:cNvSpPr/>
                  <p:nvPr/>
                </p:nvSpPr>
                <p:spPr>
                  <a:xfrm>
                    <a:off x="1534320" y="33948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6" name=""/>
                  <p:cNvSpPr/>
                  <p:nvPr/>
                </p:nvSpPr>
                <p:spPr>
                  <a:xfrm>
                    <a:off x="1545480" y="341280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7" name=""/>
                <p:cNvGrpSpPr/>
                <p:nvPr/>
              </p:nvGrpSpPr>
              <p:grpSpPr>
                <a:xfrm>
                  <a:off x="1477440" y="3211200"/>
                  <a:ext cx="111600" cy="164520"/>
                  <a:chOff x="1477440" y="3211200"/>
                  <a:chExt cx="111600" cy="164520"/>
                </a:xfrm>
              </p:grpSpPr>
              <p:sp>
                <p:nvSpPr>
                  <p:cNvPr id="4788" name=""/>
                  <p:cNvSpPr/>
                  <p:nvPr/>
                </p:nvSpPr>
                <p:spPr>
                  <a:xfrm rot="10251000">
                    <a:off x="1488600" y="321732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1482120" y="3236400"/>
                    <a:ext cx="716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0" name=""/>
                  <p:cNvSpPr/>
                  <p:nvPr/>
                </p:nvSpPr>
                <p:spPr>
                  <a:xfrm>
                    <a:off x="1505160" y="326700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"/>
                  <p:cNvSpPr/>
                  <p:nvPr/>
                </p:nvSpPr>
                <p:spPr>
                  <a:xfrm>
                    <a:off x="1524600" y="327780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2" name=""/>
                  <p:cNvSpPr/>
                  <p:nvPr/>
                </p:nvSpPr>
                <p:spPr>
                  <a:xfrm>
                    <a:off x="1533600" y="329724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3" name=""/>
                <p:cNvGrpSpPr/>
                <p:nvPr/>
              </p:nvGrpSpPr>
              <p:grpSpPr>
                <a:xfrm>
                  <a:off x="1327320" y="3243600"/>
                  <a:ext cx="129600" cy="171720"/>
                  <a:chOff x="1327320" y="3243600"/>
                  <a:chExt cx="129600" cy="171720"/>
                </a:xfrm>
              </p:grpSpPr>
              <p:sp>
                <p:nvSpPr>
                  <p:cNvPr id="4794" name=""/>
                  <p:cNvSpPr/>
                  <p:nvPr/>
                </p:nvSpPr>
                <p:spPr>
                  <a:xfrm rot="11835000">
                    <a:off x="1347840" y="325332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5" name=""/>
                  <p:cNvSpPr/>
                  <p:nvPr/>
                </p:nvSpPr>
                <p:spPr>
                  <a:xfrm>
                    <a:off x="1371960" y="3255480"/>
                    <a:ext cx="2952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6" name=""/>
                  <p:cNvSpPr/>
                  <p:nvPr/>
                </p:nvSpPr>
                <p:spPr>
                  <a:xfrm flipH="1">
                    <a:off x="1378440" y="329328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7" name=""/>
                  <p:cNvSpPr/>
                  <p:nvPr/>
                </p:nvSpPr>
                <p:spPr>
                  <a:xfrm>
                    <a:off x="1391400" y="3311640"/>
                    <a:ext cx="14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8" name=""/>
                  <p:cNvSpPr/>
                  <p:nvPr/>
                </p:nvSpPr>
                <p:spPr>
                  <a:xfrm>
                    <a:off x="1391040" y="333288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9" name=""/>
                <p:cNvGrpSpPr/>
                <p:nvPr/>
              </p:nvGrpSpPr>
              <p:grpSpPr>
                <a:xfrm>
                  <a:off x="1367640" y="3002040"/>
                  <a:ext cx="167400" cy="162720"/>
                  <a:chOff x="1367640" y="3002040"/>
                  <a:chExt cx="167400" cy="162720"/>
                </a:xfrm>
              </p:grpSpPr>
              <p:sp>
                <p:nvSpPr>
                  <p:cNvPr id="4800" name=""/>
                  <p:cNvSpPr/>
                  <p:nvPr/>
                </p:nvSpPr>
                <p:spPr>
                  <a:xfrm rot="13885800">
                    <a:off x="1400040" y="3017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1" name=""/>
                  <p:cNvSpPr/>
                  <p:nvPr/>
                </p:nvSpPr>
                <p:spPr>
                  <a:xfrm flipH="1">
                    <a:off x="1447560" y="301104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2" name=""/>
                  <p:cNvSpPr/>
                  <p:nvPr/>
                </p:nvSpPr>
                <p:spPr>
                  <a:xfrm flipH="1">
                    <a:off x="1445040" y="304560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3" name=""/>
                  <p:cNvSpPr/>
                  <p:nvPr/>
                </p:nvSpPr>
                <p:spPr>
                  <a:xfrm>
                    <a:off x="1458720" y="306900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4" name=""/>
                  <p:cNvSpPr/>
                  <p:nvPr/>
                </p:nvSpPr>
                <p:spPr>
                  <a:xfrm flipH="1">
                    <a:off x="1443960" y="308520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5" name=""/>
                <p:cNvGrpSpPr/>
                <p:nvPr/>
              </p:nvGrpSpPr>
              <p:grpSpPr>
                <a:xfrm>
                  <a:off x="1323360" y="2786040"/>
                  <a:ext cx="126000" cy="170280"/>
                  <a:chOff x="1323360" y="2786040"/>
                  <a:chExt cx="126000" cy="170280"/>
                </a:xfrm>
              </p:grpSpPr>
              <p:sp>
                <p:nvSpPr>
                  <p:cNvPr id="4806" name=""/>
                  <p:cNvSpPr/>
                  <p:nvPr/>
                </p:nvSpPr>
                <p:spPr>
                  <a:xfrm rot="20683200">
                    <a:off x="1341720" y="2794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7" name=""/>
                  <p:cNvSpPr/>
                  <p:nvPr/>
                </p:nvSpPr>
                <p:spPr>
                  <a:xfrm flipH="1" flipV="1">
                    <a:off x="1362960" y="285300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"/>
                  <p:cNvSpPr/>
                  <p:nvPr/>
                </p:nvSpPr>
                <p:spPr>
                  <a:xfrm flipH="1" flipV="1">
                    <a:off x="1406520" y="287640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9" name=""/>
                  <p:cNvSpPr/>
                  <p:nvPr/>
                </p:nvSpPr>
                <p:spPr>
                  <a:xfrm flipH="1" flipV="1">
                    <a:off x="1377720" y="288396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0" name=""/>
                  <p:cNvSpPr/>
                  <p:nvPr/>
                </p:nvSpPr>
                <p:spPr>
                  <a:xfrm flipH="1" flipV="1">
                    <a:off x="1376640" y="285624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1" name=""/>
                <p:cNvGrpSpPr/>
                <p:nvPr/>
              </p:nvGrpSpPr>
              <p:grpSpPr>
                <a:xfrm>
                  <a:off x="1430640" y="2703240"/>
                  <a:ext cx="121680" cy="168840"/>
                  <a:chOff x="1430640" y="2703240"/>
                  <a:chExt cx="121680" cy="168840"/>
                </a:xfrm>
              </p:grpSpPr>
              <p:sp>
                <p:nvSpPr>
                  <p:cNvPr id="4812" name=""/>
                  <p:cNvSpPr/>
                  <p:nvPr/>
                </p:nvSpPr>
                <p:spPr>
                  <a:xfrm rot="20803200">
                    <a:off x="1446840" y="2711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3" name=""/>
                  <p:cNvSpPr/>
                  <p:nvPr/>
                </p:nvSpPr>
                <p:spPr>
                  <a:xfrm flipH="1" flipV="1">
                    <a:off x="1469160" y="276840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4" name=""/>
                  <p:cNvSpPr/>
                  <p:nvPr/>
                </p:nvSpPr>
                <p:spPr>
                  <a:xfrm flipH="1" flipV="1">
                    <a:off x="1511640" y="27936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5" name=""/>
                  <p:cNvSpPr/>
                  <p:nvPr/>
                </p:nvSpPr>
                <p:spPr>
                  <a:xfrm flipH="1" flipV="1">
                    <a:off x="1482480" y="28000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6" name=""/>
                  <p:cNvSpPr/>
                  <p:nvPr/>
                </p:nvSpPr>
                <p:spPr>
                  <a:xfrm flipH="1" flipV="1">
                    <a:off x="1482480" y="277236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7" name=""/>
                <p:cNvGrpSpPr/>
                <p:nvPr/>
              </p:nvGrpSpPr>
              <p:grpSpPr>
                <a:xfrm>
                  <a:off x="1506960" y="3016080"/>
                  <a:ext cx="165960" cy="155520"/>
                  <a:chOff x="1506960" y="3016080"/>
                  <a:chExt cx="165960" cy="155520"/>
                </a:xfrm>
              </p:grpSpPr>
              <p:sp>
                <p:nvSpPr>
                  <p:cNvPr id="4818" name=""/>
                  <p:cNvSpPr/>
                  <p:nvPr/>
                </p:nvSpPr>
                <p:spPr>
                  <a:xfrm rot="14375400">
                    <a:off x="1538280" y="3027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9" name=""/>
                  <p:cNvSpPr/>
                  <p:nvPr/>
                </p:nvSpPr>
                <p:spPr>
                  <a:xfrm flipH="1">
                    <a:off x="1582200" y="302400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0" name=""/>
                  <p:cNvSpPr/>
                  <p:nvPr/>
                </p:nvSpPr>
                <p:spPr>
                  <a:xfrm flipH="1">
                    <a:off x="1586880" y="30567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1" name=""/>
                  <p:cNvSpPr/>
                  <p:nvPr/>
                </p:nvSpPr>
                <p:spPr>
                  <a:xfrm>
                    <a:off x="1599120" y="308016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2" name=""/>
                  <p:cNvSpPr/>
                  <p:nvPr/>
                </p:nvSpPr>
                <p:spPr>
                  <a:xfrm flipH="1">
                    <a:off x="1580760" y="309492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3" name=""/>
                <p:cNvGrpSpPr/>
                <p:nvPr/>
              </p:nvGrpSpPr>
              <p:grpSpPr>
                <a:xfrm>
                  <a:off x="1468440" y="3188880"/>
                  <a:ext cx="173160" cy="167040"/>
                  <a:chOff x="1468440" y="3188880"/>
                  <a:chExt cx="173160" cy="167040"/>
                </a:xfrm>
              </p:grpSpPr>
              <p:sp>
                <p:nvSpPr>
                  <p:cNvPr id="4824" name=""/>
                  <p:cNvSpPr/>
                  <p:nvPr/>
                </p:nvSpPr>
                <p:spPr>
                  <a:xfrm rot="13740000">
                    <a:off x="1510560" y="3196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 flipH="1">
                    <a:off x="1549080" y="3198960"/>
                    <a:ext cx="2772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6" name=""/>
                  <p:cNvSpPr/>
                  <p:nvPr/>
                </p:nvSpPr>
                <p:spPr>
                  <a:xfrm flipH="1">
                    <a:off x="1551240" y="323424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7" name=""/>
                  <p:cNvSpPr/>
                  <p:nvPr/>
                </p:nvSpPr>
                <p:spPr>
                  <a:xfrm>
                    <a:off x="1564200" y="325656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8" name=""/>
                  <p:cNvSpPr/>
                  <p:nvPr/>
                </p:nvSpPr>
                <p:spPr>
                  <a:xfrm flipH="1">
                    <a:off x="1546200" y="3274200"/>
                    <a:ext cx="61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9" name=""/>
                <p:cNvGrpSpPr/>
                <p:nvPr/>
              </p:nvGrpSpPr>
              <p:grpSpPr>
                <a:xfrm>
                  <a:off x="1378800" y="3341160"/>
                  <a:ext cx="171360" cy="169200"/>
                  <a:chOff x="1378800" y="3341160"/>
                  <a:chExt cx="171360" cy="169200"/>
                </a:xfrm>
              </p:grpSpPr>
              <p:sp>
                <p:nvSpPr>
                  <p:cNvPr id="4830" name=""/>
                  <p:cNvSpPr/>
                  <p:nvPr/>
                </p:nvSpPr>
                <p:spPr>
                  <a:xfrm rot="13579800">
                    <a:off x="1420200" y="334944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1" name=""/>
                  <p:cNvSpPr/>
                  <p:nvPr/>
                </p:nvSpPr>
                <p:spPr>
                  <a:xfrm flipH="1">
                    <a:off x="1459080" y="3351240"/>
                    <a:ext cx="23400" cy="10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2" name=""/>
                  <p:cNvSpPr/>
                  <p:nvPr/>
                </p:nvSpPr>
                <p:spPr>
                  <a:xfrm flipH="1">
                    <a:off x="1459800" y="338724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3" name=""/>
                  <p:cNvSpPr/>
                  <p:nvPr/>
                </p:nvSpPr>
                <p:spPr>
                  <a:xfrm>
                    <a:off x="1472400" y="340956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4" name=""/>
                  <p:cNvSpPr/>
                  <p:nvPr/>
                </p:nvSpPr>
                <p:spPr>
                  <a:xfrm flipH="1">
                    <a:off x="1456200" y="342792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5" name=""/>
                <p:cNvGrpSpPr/>
                <p:nvPr/>
              </p:nvGrpSpPr>
              <p:grpSpPr>
                <a:xfrm>
                  <a:off x="1302480" y="3366360"/>
                  <a:ext cx="166320" cy="157680"/>
                  <a:chOff x="1302480" y="3366360"/>
                  <a:chExt cx="166320" cy="157680"/>
                </a:xfrm>
              </p:grpSpPr>
              <p:sp>
                <p:nvSpPr>
                  <p:cNvPr id="4836" name=""/>
                  <p:cNvSpPr/>
                  <p:nvPr/>
                </p:nvSpPr>
                <p:spPr>
                  <a:xfrm rot="14212200">
                    <a:off x="1334520" y="3378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7" name=""/>
                  <p:cNvSpPr/>
                  <p:nvPr/>
                </p:nvSpPr>
                <p:spPr>
                  <a:xfrm flipH="1">
                    <a:off x="1379880" y="337500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 flipH="1">
                    <a:off x="1381680" y="3407760"/>
                    <a:ext cx="115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9" name=""/>
                  <p:cNvSpPr/>
                  <p:nvPr/>
                </p:nvSpPr>
                <p:spPr>
                  <a:xfrm>
                    <a:off x="1394280" y="3430800"/>
                    <a:ext cx="64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0" name=""/>
                  <p:cNvSpPr/>
                  <p:nvPr/>
                </p:nvSpPr>
                <p:spPr>
                  <a:xfrm flipH="1">
                    <a:off x="1377360" y="344628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1" name=""/>
              <p:cNvGrpSpPr/>
              <p:nvPr/>
            </p:nvGrpSpPr>
            <p:grpSpPr>
              <a:xfrm>
                <a:off x="894240" y="2342520"/>
                <a:ext cx="738720" cy="645120"/>
                <a:chOff x="894240" y="2342520"/>
                <a:chExt cx="738720" cy="645120"/>
              </a:xfrm>
            </p:grpSpPr>
            <p:grpSp>
              <p:nvGrpSpPr>
                <p:cNvPr id="4842" name=""/>
                <p:cNvGrpSpPr/>
                <p:nvPr/>
              </p:nvGrpSpPr>
              <p:grpSpPr>
                <a:xfrm>
                  <a:off x="1095840" y="2449080"/>
                  <a:ext cx="149040" cy="163440"/>
                  <a:chOff x="1095840" y="2449080"/>
                  <a:chExt cx="149040" cy="163440"/>
                </a:xfrm>
              </p:grpSpPr>
              <p:sp>
                <p:nvSpPr>
                  <p:cNvPr id="4843" name=""/>
                  <p:cNvSpPr/>
                  <p:nvPr/>
                </p:nvSpPr>
                <p:spPr>
                  <a:xfrm rot="1519200">
                    <a:off x="1118880" y="24645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 flipH="1" flipV="1">
                    <a:off x="1160640" y="2503800"/>
                    <a:ext cx="2808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5" name=""/>
                  <p:cNvSpPr/>
                  <p:nvPr/>
                </p:nvSpPr>
                <p:spPr>
                  <a:xfrm flipV="1">
                    <a:off x="1183320" y="254808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6" name=""/>
                  <p:cNvSpPr/>
                  <p:nvPr/>
                </p:nvSpPr>
                <p:spPr>
                  <a:xfrm flipH="1" flipV="1">
                    <a:off x="1154520" y="2533680"/>
                    <a:ext cx="158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7" name=""/>
                  <p:cNvSpPr/>
                  <p:nvPr/>
                </p:nvSpPr>
                <p:spPr>
                  <a:xfrm flipH="1" flipV="1">
                    <a:off x="1170720" y="2515320"/>
                    <a:ext cx="1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48" name=""/>
                <p:cNvSpPr/>
                <p:nvPr/>
              </p:nvSpPr>
              <p:spPr>
                <a:xfrm flipH="1">
                  <a:off x="1267920" y="2635920"/>
                  <a:ext cx="127800" cy="15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9" name=""/>
                <p:cNvSpPr/>
                <p:nvPr/>
              </p:nvSpPr>
              <p:spPr>
                <a:xfrm rot="19303800">
                  <a:off x="1098720" y="2570040"/>
                  <a:ext cx="49572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0" name=""/>
                <p:cNvSpPr/>
                <p:nvPr/>
              </p:nvSpPr>
              <p:spPr>
                <a:xfrm flipH="1" flipV="1">
                  <a:off x="1083600" y="2592360"/>
                  <a:ext cx="160560" cy="75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1" name=""/>
                <p:cNvSpPr/>
                <p:nvPr/>
              </p:nvSpPr>
              <p:spPr>
                <a:xfrm flipH="1" flipV="1">
                  <a:off x="1340640" y="2534400"/>
                  <a:ext cx="262800" cy="14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1328760" y="2715840"/>
                  <a:ext cx="288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3" name=""/>
                <p:cNvSpPr/>
                <p:nvPr/>
              </p:nvSpPr>
              <p:spPr>
                <a:xfrm flipH="1">
                  <a:off x="1303560" y="2661120"/>
                  <a:ext cx="6084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4" name=""/>
                <p:cNvSpPr/>
                <p:nvPr/>
              </p:nvSpPr>
              <p:spPr>
                <a:xfrm flipH="1" flipV="1">
                  <a:off x="1065960" y="2634840"/>
                  <a:ext cx="1044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5" name=""/>
                <p:cNvSpPr/>
                <p:nvPr/>
              </p:nvSpPr>
              <p:spPr>
                <a:xfrm flipH="1" flipV="1">
                  <a:off x="1173600" y="2578680"/>
                  <a:ext cx="26640" cy="65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 flipH="1">
                  <a:off x="1118160" y="2724480"/>
                  <a:ext cx="18720" cy="72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 flipV="1">
                  <a:off x="1292760" y="2601360"/>
                  <a:ext cx="1796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 flipH="1" flipV="1">
                  <a:off x="1324080" y="2576520"/>
                  <a:ext cx="4284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 flipH="1" flipV="1">
                  <a:off x="1474920" y="2544480"/>
                  <a:ext cx="41040" cy="83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0" name=""/>
                <p:cNvSpPr/>
                <p:nvPr/>
              </p:nvSpPr>
              <p:spPr>
                <a:xfrm flipH="1" flipV="1">
                  <a:off x="1342440" y="2503800"/>
                  <a:ext cx="42120" cy="53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1" name=""/>
                <p:cNvSpPr/>
                <p:nvPr/>
              </p:nvSpPr>
              <p:spPr>
                <a:xfrm flipH="1">
                  <a:off x="1436400" y="2653200"/>
                  <a:ext cx="478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2" name=""/>
                <p:cNvSpPr/>
                <p:nvPr/>
              </p:nvSpPr>
              <p:spPr>
                <a:xfrm flipH="1">
                  <a:off x="1180440" y="2692800"/>
                  <a:ext cx="32760" cy="5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3" name=""/>
                <p:cNvSpPr/>
                <p:nvPr/>
              </p:nvSpPr>
              <p:spPr>
                <a:xfrm flipH="1" flipV="1">
                  <a:off x="1047600" y="2707560"/>
                  <a:ext cx="4356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64" name=""/>
                <p:cNvGrpSpPr/>
                <p:nvPr/>
              </p:nvGrpSpPr>
              <p:grpSpPr>
                <a:xfrm>
                  <a:off x="993600" y="2459880"/>
                  <a:ext cx="111960" cy="164160"/>
                  <a:chOff x="993600" y="2459880"/>
                  <a:chExt cx="111960" cy="164160"/>
                </a:xfrm>
              </p:grpSpPr>
              <p:sp>
                <p:nvSpPr>
                  <p:cNvPr id="4865" name=""/>
                  <p:cNvSpPr/>
                  <p:nvPr/>
                </p:nvSpPr>
                <p:spPr>
                  <a:xfrm rot="21049200">
                    <a:off x="1005120" y="2465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6" name=""/>
                  <p:cNvSpPr/>
                  <p:nvPr/>
                </p:nvSpPr>
                <p:spPr>
                  <a:xfrm flipH="1" flipV="1">
                    <a:off x="1028520" y="2521800"/>
                    <a:ext cx="7200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7" name=""/>
                  <p:cNvSpPr/>
                  <p:nvPr/>
                </p:nvSpPr>
                <p:spPr>
                  <a:xfrm flipH="1" flipV="1">
                    <a:off x="1069200" y="254952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8" name=""/>
                  <p:cNvSpPr/>
                  <p:nvPr/>
                </p:nvSpPr>
                <p:spPr>
                  <a:xfrm flipH="1" flipV="1">
                    <a:off x="1039680" y="255384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9" name=""/>
                  <p:cNvSpPr/>
                  <p:nvPr/>
                </p:nvSpPr>
                <p:spPr>
                  <a:xfrm flipH="1" flipV="1">
                    <a:off x="1041840" y="252612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0" name=""/>
                <p:cNvGrpSpPr/>
                <p:nvPr/>
              </p:nvGrpSpPr>
              <p:grpSpPr>
                <a:xfrm>
                  <a:off x="1149840" y="2608560"/>
                  <a:ext cx="176040" cy="150120"/>
                  <a:chOff x="1149840" y="2608560"/>
                  <a:chExt cx="176040" cy="150120"/>
                </a:xfrm>
              </p:grpSpPr>
              <p:sp>
                <p:nvSpPr>
                  <p:cNvPr id="4871" name=""/>
                  <p:cNvSpPr/>
                  <p:nvPr/>
                </p:nvSpPr>
                <p:spPr>
                  <a:xfrm rot="17890800">
                    <a:off x="1193040" y="2607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2" name=""/>
                  <p:cNvSpPr/>
                  <p:nvPr/>
                </p:nvSpPr>
                <p:spPr>
                  <a:xfrm flipH="1">
                    <a:off x="1208880" y="2677680"/>
                    <a:ext cx="1051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3" name=""/>
                  <p:cNvSpPr/>
                  <p:nvPr/>
                </p:nvSpPr>
                <p:spPr>
                  <a:xfrm flipH="1" flipV="1">
                    <a:off x="1255680" y="267264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4" name=""/>
                  <p:cNvSpPr/>
                  <p:nvPr/>
                </p:nvSpPr>
                <p:spPr>
                  <a:xfrm flipH="1">
                    <a:off x="1241280" y="268632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5" name=""/>
                  <p:cNvSpPr/>
                  <p:nvPr/>
                </p:nvSpPr>
                <p:spPr>
                  <a:xfrm flipH="1" flipV="1">
                    <a:off x="1220400" y="268020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6" name=""/>
                <p:cNvGrpSpPr/>
                <p:nvPr/>
              </p:nvGrpSpPr>
              <p:grpSpPr>
                <a:xfrm>
                  <a:off x="1145880" y="2487960"/>
                  <a:ext cx="163800" cy="174240"/>
                  <a:chOff x="1145880" y="2487960"/>
                  <a:chExt cx="163800" cy="174240"/>
                </a:xfrm>
              </p:grpSpPr>
              <p:sp>
                <p:nvSpPr>
                  <p:cNvPr id="4877" name=""/>
                  <p:cNvSpPr/>
                  <p:nvPr/>
                </p:nvSpPr>
                <p:spPr>
                  <a:xfrm rot="19303800">
                    <a:off x="1183320" y="2499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8" name=""/>
                  <p:cNvSpPr/>
                  <p:nvPr/>
                </p:nvSpPr>
                <p:spPr>
                  <a:xfrm flipH="1" flipV="1">
                    <a:off x="1199880" y="2567880"/>
                    <a:ext cx="10044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 flipH="1" flipV="1">
                    <a:off x="1248840" y="257256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0" name=""/>
                  <p:cNvSpPr/>
                  <p:nvPr/>
                </p:nvSpPr>
                <p:spPr>
                  <a:xfrm flipH="1">
                    <a:off x="1225080" y="258516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1" name=""/>
                  <p:cNvSpPr/>
                  <p:nvPr/>
                </p:nvSpPr>
                <p:spPr>
                  <a:xfrm flipH="1" flipV="1">
                    <a:off x="1213560" y="25653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2" name=""/>
                <p:cNvGrpSpPr/>
                <p:nvPr/>
              </p:nvGrpSpPr>
              <p:grpSpPr>
                <a:xfrm>
                  <a:off x="1175760" y="2784600"/>
                  <a:ext cx="165600" cy="165960"/>
                  <a:chOff x="1175760" y="2784600"/>
                  <a:chExt cx="165600" cy="165960"/>
                </a:xfrm>
              </p:grpSpPr>
              <p:sp>
                <p:nvSpPr>
                  <p:cNvPr id="4883" name=""/>
                  <p:cNvSpPr/>
                  <p:nvPr/>
                </p:nvSpPr>
                <p:spPr>
                  <a:xfrm rot="13473000">
                    <a:off x="1207080" y="28011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4" name=""/>
                  <p:cNvSpPr/>
                  <p:nvPr/>
                </p:nvSpPr>
                <p:spPr>
                  <a:xfrm flipH="1">
                    <a:off x="1258560" y="2794320"/>
                    <a:ext cx="576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5" name=""/>
                  <p:cNvSpPr/>
                  <p:nvPr/>
                </p:nvSpPr>
                <p:spPr>
                  <a:xfrm flipH="1">
                    <a:off x="1249920" y="282924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6" name=""/>
                  <p:cNvSpPr/>
                  <p:nvPr/>
                </p:nvSpPr>
                <p:spPr>
                  <a:xfrm>
                    <a:off x="1263960" y="285156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7" name=""/>
                  <p:cNvSpPr/>
                  <p:nvPr/>
                </p:nvSpPr>
                <p:spPr>
                  <a:xfrm flipH="1">
                    <a:off x="1252800" y="286920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8" name=""/>
                <p:cNvGrpSpPr/>
                <p:nvPr/>
              </p:nvGrpSpPr>
              <p:grpSpPr>
                <a:xfrm>
                  <a:off x="901440" y="2594160"/>
                  <a:ext cx="163800" cy="174240"/>
                  <a:chOff x="901440" y="2594160"/>
                  <a:chExt cx="163800" cy="174240"/>
                </a:xfrm>
              </p:grpSpPr>
              <p:sp>
                <p:nvSpPr>
                  <p:cNvPr id="4889" name=""/>
                  <p:cNvSpPr/>
                  <p:nvPr/>
                </p:nvSpPr>
                <p:spPr>
                  <a:xfrm rot="19303800">
                    <a:off x="938880" y="2605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0" name=""/>
                  <p:cNvSpPr/>
                  <p:nvPr/>
                </p:nvSpPr>
                <p:spPr>
                  <a:xfrm flipH="1" flipV="1">
                    <a:off x="955440" y="2674080"/>
                    <a:ext cx="10044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1" name=""/>
                  <p:cNvSpPr/>
                  <p:nvPr/>
                </p:nvSpPr>
                <p:spPr>
                  <a:xfrm flipH="1" flipV="1">
                    <a:off x="1004400" y="267876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2" name=""/>
                  <p:cNvSpPr/>
                  <p:nvPr/>
                </p:nvSpPr>
                <p:spPr>
                  <a:xfrm flipH="1">
                    <a:off x="980640" y="26913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3" name=""/>
                  <p:cNvSpPr/>
                  <p:nvPr/>
                </p:nvSpPr>
                <p:spPr>
                  <a:xfrm flipH="1" flipV="1">
                    <a:off x="969120" y="26715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4" name=""/>
                <p:cNvGrpSpPr/>
                <p:nvPr/>
              </p:nvGrpSpPr>
              <p:grpSpPr>
                <a:xfrm>
                  <a:off x="1193760" y="2421000"/>
                  <a:ext cx="163800" cy="174240"/>
                  <a:chOff x="1193760" y="2421000"/>
                  <a:chExt cx="163800" cy="174240"/>
                </a:xfrm>
              </p:grpSpPr>
              <p:sp>
                <p:nvSpPr>
                  <p:cNvPr id="4895" name=""/>
                  <p:cNvSpPr/>
                  <p:nvPr/>
                </p:nvSpPr>
                <p:spPr>
                  <a:xfrm rot="19303800">
                    <a:off x="1231200" y="2432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6" name=""/>
                  <p:cNvSpPr/>
                  <p:nvPr/>
                </p:nvSpPr>
                <p:spPr>
                  <a:xfrm flipH="1" flipV="1">
                    <a:off x="1247760" y="2500920"/>
                    <a:ext cx="100440" cy="32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7" name=""/>
                  <p:cNvSpPr/>
                  <p:nvPr/>
                </p:nvSpPr>
                <p:spPr>
                  <a:xfrm flipH="1" flipV="1">
                    <a:off x="1296720" y="250524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8" name=""/>
                  <p:cNvSpPr/>
                  <p:nvPr/>
                </p:nvSpPr>
                <p:spPr>
                  <a:xfrm flipH="1">
                    <a:off x="1272960" y="251820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9" name=""/>
                  <p:cNvSpPr/>
                  <p:nvPr/>
                </p:nvSpPr>
                <p:spPr>
                  <a:xfrm flipH="1" flipV="1">
                    <a:off x="1261440" y="2498400"/>
                    <a:ext cx="126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0" name=""/>
                <p:cNvGrpSpPr/>
                <p:nvPr/>
              </p:nvGrpSpPr>
              <p:grpSpPr>
                <a:xfrm>
                  <a:off x="919800" y="2521800"/>
                  <a:ext cx="163800" cy="174240"/>
                  <a:chOff x="919800" y="2521800"/>
                  <a:chExt cx="163800" cy="174240"/>
                </a:xfrm>
              </p:grpSpPr>
              <p:sp>
                <p:nvSpPr>
                  <p:cNvPr id="4901" name=""/>
                  <p:cNvSpPr/>
                  <p:nvPr/>
                </p:nvSpPr>
                <p:spPr>
                  <a:xfrm rot="19303800">
                    <a:off x="957240" y="2532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2" name=""/>
                  <p:cNvSpPr/>
                  <p:nvPr/>
                </p:nvSpPr>
                <p:spPr>
                  <a:xfrm flipH="1" flipV="1">
                    <a:off x="973800" y="2601720"/>
                    <a:ext cx="100440" cy="32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3" name=""/>
                  <p:cNvSpPr/>
                  <p:nvPr/>
                </p:nvSpPr>
                <p:spPr>
                  <a:xfrm flipH="1" flipV="1">
                    <a:off x="1022760" y="260604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4" name=""/>
                  <p:cNvSpPr/>
                  <p:nvPr/>
                </p:nvSpPr>
                <p:spPr>
                  <a:xfrm flipH="1">
                    <a:off x="999000" y="261864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5" name=""/>
                  <p:cNvSpPr/>
                  <p:nvPr/>
                </p:nvSpPr>
                <p:spPr>
                  <a:xfrm flipH="1" flipV="1">
                    <a:off x="987480" y="2599200"/>
                    <a:ext cx="126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6" name=""/>
                <p:cNvGrpSpPr/>
                <p:nvPr/>
              </p:nvGrpSpPr>
              <p:grpSpPr>
                <a:xfrm>
                  <a:off x="1361160" y="2727000"/>
                  <a:ext cx="159840" cy="167040"/>
                  <a:chOff x="1361160" y="2727000"/>
                  <a:chExt cx="159840" cy="167040"/>
                </a:xfrm>
              </p:grpSpPr>
              <p:sp>
                <p:nvSpPr>
                  <p:cNvPr id="4907" name=""/>
                  <p:cNvSpPr/>
                  <p:nvPr/>
                </p:nvSpPr>
                <p:spPr>
                  <a:xfrm rot="12901800">
                    <a:off x="1389960" y="27439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8" name=""/>
                  <p:cNvSpPr/>
                  <p:nvPr/>
                </p:nvSpPr>
                <p:spPr>
                  <a:xfrm>
                    <a:off x="1434960" y="2737440"/>
                    <a:ext cx="1080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9" name=""/>
                  <p:cNvSpPr/>
                  <p:nvPr/>
                </p:nvSpPr>
                <p:spPr>
                  <a:xfrm flipH="1">
                    <a:off x="1429200" y="27730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"/>
                  <p:cNvSpPr/>
                  <p:nvPr/>
                </p:nvSpPr>
                <p:spPr>
                  <a:xfrm>
                    <a:off x="1443960" y="27939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1" name=""/>
                  <p:cNvSpPr/>
                  <p:nvPr/>
                </p:nvSpPr>
                <p:spPr>
                  <a:xfrm flipH="1">
                    <a:off x="1437840" y="281268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2" name=""/>
                <p:cNvGrpSpPr/>
                <p:nvPr/>
              </p:nvGrpSpPr>
              <p:grpSpPr>
                <a:xfrm>
                  <a:off x="1278000" y="2774160"/>
                  <a:ext cx="142920" cy="160200"/>
                  <a:chOff x="1278000" y="2774160"/>
                  <a:chExt cx="142920" cy="160200"/>
                </a:xfrm>
              </p:grpSpPr>
              <p:sp>
                <p:nvSpPr>
                  <p:cNvPr id="4913" name=""/>
                  <p:cNvSpPr/>
                  <p:nvPr/>
                </p:nvSpPr>
                <p:spPr>
                  <a:xfrm rot="12062400">
                    <a:off x="1298160" y="27878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4" name=""/>
                  <p:cNvSpPr/>
                  <p:nvPr/>
                </p:nvSpPr>
                <p:spPr>
                  <a:xfrm>
                    <a:off x="1325520" y="2784600"/>
                    <a:ext cx="35280" cy="9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5" name=""/>
                  <p:cNvSpPr/>
                  <p:nvPr/>
                </p:nvSpPr>
                <p:spPr>
                  <a:xfrm flipH="1">
                    <a:off x="1333080" y="281916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"/>
                  <p:cNvSpPr/>
                  <p:nvPr/>
                </p:nvSpPr>
                <p:spPr>
                  <a:xfrm>
                    <a:off x="1348200" y="28371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7" name=""/>
                  <p:cNvSpPr/>
                  <p:nvPr/>
                </p:nvSpPr>
                <p:spPr>
                  <a:xfrm>
                    <a:off x="1348200" y="2856600"/>
                    <a:ext cx="18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8" name=""/>
                <p:cNvGrpSpPr/>
                <p:nvPr/>
              </p:nvGrpSpPr>
              <p:grpSpPr>
                <a:xfrm>
                  <a:off x="967320" y="2746080"/>
                  <a:ext cx="167040" cy="164160"/>
                  <a:chOff x="967320" y="2746080"/>
                  <a:chExt cx="167040" cy="164160"/>
                </a:xfrm>
              </p:grpSpPr>
              <p:sp>
                <p:nvSpPr>
                  <p:cNvPr id="4919" name=""/>
                  <p:cNvSpPr/>
                  <p:nvPr/>
                </p:nvSpPr>
                <p:spPr>
                  <a:xfrm rot="13714200">
                    <a:off x="999360" y="27615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0" name=""/>
                  <p:cNvSpPr/>
                  <p:nvPr/>
                </p:nvSpPr>
                <p:spPr>
                  <a:xfrm flipH="1">
                    <a:off x="1049040" y="2755440"/>
                    <a:ext cx="1296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1" name=""/>
                  <p:cNvSpPr/>
                  <p:nvPr/>
                </p:nvSpPr>
                <p:spPr>
                  <a:xfrm flipH="1">
                    <a:off x="1044000" y="279000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2" name=""/>
                  <p:cNvSpPr/>
                  <p:nvPr/>
                </p:nvSpPr>
                <p:spPr>
                  <a:xfrm>
                    <a:off x="1057680" y="2812680"/>
                    <a:ext cx="90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3" name=""/>
                  <p:cNvSpPr/>
                  <p:nvPr/>
                </p:nvSpPr>
                <p:spPr>
                  <a:xfrm flipH="1">
                    <a:off x="1044360" y="2829600"/>
                    <a:ext cx="43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4" name=""/>
                <p:cNvGrpSpPr/>
                <p:nvPr/>
              </p:nvGrpSpPr>
              <p:grpSpPr>
                <a:xfrm>
                  <a:off x="1045080" y="2805120"/>
                  <a:ext cx="154800" cy="165600"/>
                  <a:chOff x="1045080" y="2805120"/>
                  <a:chExt cx="154800" cy="165600"/>
                </a:xfrm>
              </p:grpSpPr>
              <p:sp>
                <p:nvSpPr>
                  <p:cNvPr id="4925" name=""/>
                  <p:cNvSpPr/>
                  <p:nvPr/>
                </p:nvSpPr>
                <p:spPr>
                  <a:xfrm rot="12585600">
                    <a:off x="1071360" y="28213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6" name=""/>
                  <p:cNvSpPr/>
                  <p:nvPr/>
                </p:nvSpPr>
                <p:spPr>
                  <a:xfrm>
                    <a:off x="1109520" y="2815200"/>
                    <a:ext cx="2052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7" name=""/>
                  <p:cNvSpPr/>
                  <p:nvPr/>
                </p:nvSpPr>
                <p:spPr>
                  <a:xfrm flipH="1">
                    <a:off x="1109160" y="285084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8" name=""/>
                  <p:cNvSpPr/>
                  <p:nvPr/>
                </p:nvSpPr>
                <p:spPr>
                  <a:xfrm>
                    <a:off x="1123920" y="287064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9" name=""/>
                  <p:cNvSpPr/>
                  <p:nvPr/>
                </p:nvSpPr>
                <p:spPr>
                  <a:xfrm>
                    <a:off x="1121040" y="2889720"/>
                    <a:ext cx="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0" name=""/>
                <p:cNvGrpSpPr/>
                <p:nvPr/>
              </p:nvGrpSpPr>
              <p:grpSpPr>
                <a:xfrm>
                  <a:off x="1105200" y="2724120"/>
                  <a:ext cx="162720" cy="167400"/>
                  <a:chOff x="1105200" y="2724120"/>
                  <a:chExt cx="162720" cy="167400"/>
                </a:xfrm>
              </p:grpSpPr>
              <p:sp>
                <p:nvSpPr>
                  <p:cNvPr id="4931" name=""/>
                  <p:cNvSpPr/>
                  <p:nvPr/>
                </p:nvSpPr>
                <p:spPr>
                  <a:xfrm rot="13105200">
                    <a:off x="1135440" y="274140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2" name=""/>
                  <p:cNvSpPr/>
                  <p:nvPr/>
                </p:nvSpPr>
                <p:spPr>
                  <a:xfrm>
                    <a:off x="1184400" y="2734560"/>
                    <a:ext cx="504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"/>
                  <p:cNvSpPr/>
                  <p:nvPr/>
                </p:nvSpPr>
                <p:spPr>
                  <a:xfrm flipH="1">
                    <a:off x="1175760" y="2769840"/>
                    <a:ext cx="57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4" name=""/>
                  <p:cNvSpPr/>
                  <p:nvPr/>
                </p:nvSpPr>
                <p:spPr>
                  <a:xfrm>
                    <a:off x="1190160" y="2791440"/>
                    <a:ext cx="122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5" name=""/>
                  <p:cNvSpPr/>
                  <p:nvPr/>
                </p:nvSpPr>
                <p:spPr>
                  <a:xfrm flipH="1">
                    <a:off x="1182240" y="2809800"/>
                    <a:ext cx="21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6" name=""/>
                <p:cNvGrpSpPr/>
                <p:nvPr/>
              </p:nvGrpSpPr>
              <p:grpSpPr>
                <a:xfrm>
                  <a:off x="974880" y="2633040"/>
                  <a:ext cx="163440" cy="149040"/>
                  <a:chOff x="974880" y="2633040"/>
                  <a:chExt cx="163440" cy="149040"/>
                </a:xfrm>
              </p:grpSpPr>
              <p:sp>
                <p:nvSpPr>
                  <p:cNvPr id="4937" name=""/>
                  <p:cNvSpPr/>
                  <p:nvPr/>
                </p:nvSpPr>
                <p:spPr>
                  <a:xfrm rot="14689200">
                    <a:off x="1005480" y="26413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8" name=""/>
                  <p:cNvSpPr/>
                  <p:nvPr/>
                </p:nvSpPr>
                <p:spPr>
                  <a:xfrm flipH="1">
                    <a:off x="1046520" y="2640960"/>
                    <a:ext cx="4068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9" name=""/>
                  <p:cNvSpPr/>
                  <p:nvPr/>
                </p:nvSpPr>
                <p:spPr>
                  <a:xfrm flipH="1">
                    <a:off x="1055880" y="267156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0" name=""/>
                  <p:cNvSpPr/>
                  <p:nvPr/>
                </p:nvSpPr>
                <p:spPr>
                  <a:xfrm>
                    <a:off x="1067040" y="269460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1" name=""/>
                  <p:cNvSpPr/>
                  <p:nvPr/>
                </p:nvSpPr>
                <p:spPr>
                  <a:xfrm flipH="1">
                    <a:off x="1046160" y="2708640"/>
                    <a:ext cx="75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2" name=""/>
                <p:cNvGrpSpPr/>
                <p:nvPr/>
              </p:nvGrpSpPr>
              <p:grpSpPr>
                <a:xfrm>
                  <a:off x="1173600" y="2554920"/>
                  <a:ext cx="163800" cy="111600"/>
                  <a:chOff x="1173600" y="2554920"/>
                  <a:chExt cx="163800" cy="111600"/>
                </a:xfrm>
              </p:grpSpPr>
              <p:sp>
                <p:nvSpPr>
                  <p:cNvPr id="4943" name=""/>
                  <p:cNvSpPr/>
                  <p:nvPr/>
                </p:nvSpPr>
                <p:spPr>
                  <a:xfrm rot="16740000">
                    <a:off x="1211040" y="2534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4" name=""/>
                  <p:cNvSpPr/>
                  <p:nvPr/>
                </p:nvSpPr>
                <p:spPr>
                  <a:xfrm flipH="1">
                    <a:off x="1230480" y="2580120"/>
                    <a:ext cx="9576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5" name=""/>
                  <p:cNvSpPr/>
                  <p:nvPr/>
                </p:nvSpPr>
                <p:spPr>
                  <a:xfrm flipH="1">
                    <a:off x="1269360" y="2592000"/>
                    <a:ext cx="2088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"/>
                  <p:cNvSpPr/>
                  <p:nvPr/>
                </p:nvSpPr>
                <p:spPr>
                  <a:xfrm flipH="1">
                    <a:off x="1264320" y="260748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7" name=""/>
                  <p:cNvSpPr/>
                  <p:nvPr/>
                </p:nvSpPr>
                <p:spPr>
                  <a:xfrm flipH="1">
                    <a:off x="1238760" y="260964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8" name=""/>
                <p:cNvGrpSpPr/>
                <p:nvPr/>
              </p:nvGrpSpPr>
              <p:grpSpPr>
                <a:xfrm>
                  <a:off x="1261080" y="2342520"/>
                  <a:ext cx="157320" cy="166680"/>
                  <a:chOff x="1261080" y="2342520"/>
                  <a:chExt cx="157320" cy="166680"/>
                </a:xfrm>
              </p:grpSpPr>
              <p:sp>
                <p:nvSpPr>
                  <p:cNvPr id="4949" name=""/>
                  <p:cNvSpPr/>
                  <p:nvPr/>
                </p:nvSpPr>
                <p:spPr>
                  <a:xfrm rot="1936800">
                    <a:off x="1288440" y="23594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0" name=""/>
                  <p:cNvSpPr/>
                  <p:nvPr/>
                </p:nvSpPr>
                <p:spPr>
                  <a:xfrm flipH="1" flipV="1">
                    <a:off x="1333800" y="2397600"/>
                    <a:ext cx="158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1" name=""/>
                  <p:cNvSpPr/>
                  <p:nvPr/>
                </p:nvSpPr>
                <p:spPr>
                  <a:xfrm flipV="1">
                    <a:off x="1348920" y="244476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2" name=""/>
                  <p:cNvSpPr/>
                  <p:nvPr/>
                </p:nvSpPr>
                <p:spPr>
                  <a:xfrm flipH="1" flipV="1">
                    <a:off x="1324080" y="2426760"/>
                    <a:ext cx="140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3" name=""/>
                  <p:cNvSpPr/>
                  <p:nvPr/>
                </p:nvSpPr>
                <p:spPr>
                  <a:xfrm flipV="1">
                    <a:off x="1341720" y="241056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4" name=""/>
                <p:cNvGrpSpPr/>
                <p:nvPr/>
              </p:nvGrpSpPr>
              <p:grpSpPr>
                <a:xfrm>
                  <a:off x="1393200" y="2382840"/>
                  <a:ext cx="159120" cy="167040"/>
                  <a:chOff x="1393200" y="2382840"/>
                  <a:chExt cx="159120" cy="167040"/>
                </a:xfrm>
              </p:grpSpPr>
              <p:sp>
                <p:nvSpPr>
                  <p:cNvPr id="4955" name=""/>
                  <p:cNvSpPr/>
                  <p:nvPr/>
                </p:nvSpPr>
                <p:spPr>
                  <a:xfrm rot="2057400">
                    <a:off x="1421280" y="24001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6" name=""/>
                  <p:cNvSpPr/>
                  <p:nvPr/>
                </p:nvSpPr>
                <p:spPr>
                  <a:xfrm flipH="1" flipV="1">
                    <a:off x="1467720" y="2437920"/>
                    <a:ext cx="122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7" name=""/>
                  <p:cNvSpPr/>
                  <p:nvPr/>
                </p:nvSpPr>
                <p:spPr>
                  <a:xfrm flipV="1">
                    <a:off x="1480320" y="2485440"/>
                    <a:ext cx="46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8" name=""/>
                  <p:cNvSpPr/>
                  <p:nvPr/>
                </p:nvSpPr>
                <p:spPr>
                  <a:xfrm flipH="1" flipV="1">
                    <a:off x="1456920" y="246672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9" name=""/>
                  <p:cNvSpPr/>
                  <p:nvPr/>
                </p:nvSpPr>
                <p:spPr>
                  <a:xfrm flipV="1">
                    <a:off x="1474560" y="245124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0" name=""/>
                <p:cNvGrpSpPr/>
                <p:nvPr/>
              </p:nvGrpSpPr>
              <p:grpSpPr>
                <a:xfrm>
                  <a:off x="1269000" y="2671200"/>
                  <a:ext cx="171360" cy="129960"/>
                  <a:chOff x="1269000" y="2671200"/>
                  <a:chExt cx="171360" cy="129960"/>
                </a:xfrm>
              </p:grpSpPr>
              <p:sp>
                <p:nvSpPr>
                  <p:cNvPr id="4961" name=""/>
                  <p:cNvSpPr/>
                  <p:nvPr/>
                </p:nvSpPr>
                <p:spPr>
                  <a:xfrm rot="17229600">
                    <a:off x="1310040" y="26600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2" name=""/>
                  <p:cNvSpPr/>
                  <p:nvPr/>
                </p:nvSpPr>
                <p:spPr>
                  <a:xfrm flipH="1">
                    <a:off x="1327320" y="2715840"/>
                    <a:ext cx="10152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3" name=""/>
                  <p:cNvSpPr/>
                  <p:nvPr/>
                </p:nvSpPr>
                <p:spPr>
                  <a:xfrm flipH="1" flipV="1">
                    <a:off x="1370160" y="2721960"/>
                    <a:ext cx="2124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4" name=""/>
                  <p:cNvSpPr/>
                  <p:nvPr/>
                </p:nvSpPr>
                <p:spPr>
                  <a:xfrm flipH="1">
                    <a:off x="1361160" y="2735280"/>
                    <a:ext cx="118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5" name=""/>
                  <p:cNvSpPr/>
                  <p:nvPr/>
                </p:nvSpPr>
                <p:spPr>
                  <a:xfrm flipH="1">
                    <a:off x="1337400" y="273456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6" name=""/>
                <p:cNvGrpSpPr/>
                <p:nvPr/>
              </p:nvGrpSpPr>
              <p:grpSpPr>
                <a:xfrm>
                  <a:off x="1144440" y="2755440"/>
                  <a:ext cx="143280" cy="116640"/>
                  <a:chOff x="1144440" y="2755440"/>
                  <a:chExt cx="143280" cy="116640"/>
                </a:xfrm>
              </p:grpSpPr>
              <p:sp>
                <p:nvSpPr>
                  <p:cNvPr id="4967" name=""/>
                  <p:cNvSpPr/>
                  <p:nvPr/>
                </p:nvSpPr>
                <p:spPr>
                  <a:xfrm rot="16594200">
                    <a:off x="1164960" y="27471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8" name=""/>
                  <p:cNvSpPr/>
                  <p:nvPr/>
                </p:nvSpPr>
                <p:spPr>
                  <a:xfrm flipH="1">
                    <a:off x="1193400" y="2773440"/>
                    <a:ext cx="8388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9" name=""/>
                  <p:cNvSpPr/>
                  <p:nvPr/>
                </p:nvSpPr>
                <p:spPr>
                  <a:xfrm flipH="1">
                    <a:off x="1227600" y="27896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0" name=""/>
                  <p:cNvSpPr/>
                  <p:nvPr/>
                </p:nvSpPr>
                <p:spPr>
                  <a:xfrm flipH="1">
                    <a:off x="1224000" y="2808360"/>
                    <a:ext cx="792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1" name=""/>
                  <p:cNvSpPr/>
                  <p:nvPr/>
                </p:nvSpPr>
                <p:spPr>
                  <a:xfrm flipH="1">
                    <a:off x="1201320" y="2813040"/>
                    <a:ext cx="122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2" name=""/>
                <p:cNvGrpSpPr/>
                <p:nvPr/>
              </p:nvGrpSpPr>
              <p:grpSpPr>
                <a:xfrm>
                  <a:off x="981360" y="2772720"/>
                  <a:ext cx="138960" cy="110880"/>
                  <a:chOff x="981360" y="2772720"/>
                  <a:chExt cx="138960" cy="110880"/>
                </a:xfrm>
              </p:grpSpPr>
              <p:sp>
                <p:nvSpPr>
                  <p:cNvPr id="4973" name=""/>
                  <p:cNvSpPr/>
                  <p:nvPr/>
                </p:nvSpPr>
                <p:spPr>
                  <a:xfrm rot="16434000">
                    <a:off x="999720" y="27615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 flipH="1">
                    <a:off x="1029240" y="278496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5" name=""/>
                  <p:cNvSpPr/>
                  <p:nvPr/>
                </p:nvSpPr>
                <p:spPr>
                  <a:xfrm flipH="1">
                    <a:off x="1061280" y="28026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6" name=""/>
                  <p:cNvSpPr/>
                  <p:nvPr/>
                </p:nvSpPr>
                <p:spPr>
                  <a:xfrm flipH="1">
                    <a:off x="1059480" y="282204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7" name=""/>
                  <p:cNvSpPr/>
                  <p:nvPr/>
                </p:nvSpPr>
                <p:spPr>
                  <a:xfrm flipH="1">
                    <a:off x="1036080" y="2827440"/>
                    <a:ext cx="122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8" name=""/>
                <p:cNvGrpSpPr/>
                <p:nvPr/>
              </p:nvGrpSpPr>
              <p:grpSpPr>
                <a:xfrm>
                  <a:off x="894240" y="2709720"/>
                  <a:ext cx="169200" cy="123840"/>
                  <a:chOff x="894240" y="2709720"/>
                  <a:chExt cx="169200" cy="123840"/>
                </a:xfrm>
              </p:grpSpPr>
              <p:sp>
                <p:nvSpPr>
                  <p:cNvPr id="4979" name=""/>
                  <p:cNvSpPr/>
                  <p:nvPr/>
                </p:nvSpPr>
                <p:spPr>
                  <a:xfrm rot="17066400">
                    <a:off x="934200" y="2695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0" name=""/>
                  <p:cNvSpPr/>
                  <p:nvPr/>
                </p:nvSpPr>
                <p:spPr>
                  <a:xfrm flipH="1">
                    <a:off x="952200" y="2747880"/>
                    <a:ext cx="9972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1" name=""/>
                  <p:cNvSpPr/>
                  <p:nvPr/>
                </p:nvSpPr>
                <p:spPr>
                  <a:xfrm flipH="1">
                    <a:off x="993600" y="2756160"/>
                    <a:ext cx="2124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2" name=""/>
                  <p:cNvSpPr/>
                  <p:nvPr/>
                </p:nvSpPr>
                <p:spPr>
                  <a:xfrm flipH="1">
                    <a:off x="986040" y="2770200"/>
                    <a:ext cx="108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3" name=""/>
                  <p:cNvSpPr/>
                  <p:nvPr/>
                </p:nvSpPr>
                <p:spPr>
                  <a:xfrm flipH="1">
                    <a:off x="961560" y="2770200"/>
                    <a:ext cx="1404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4" name=""/>
              <p:cNvGrpSpPr/>
              <p:nvPr/>
            </p:nvGrpSpPr>
            <p:grpSpPr>
              <a:xfrm>
                <a:off x="1408320" y="1992240"/>
                <a:ext cx="735840" cy="609480"/>
                <a:chOff x="1408320" y="1992240"/>
                <a:chExt cx="735840" cy="609480"/>
              </a:xfrm>
            </p:grpSpPr>
            <p:grpSp>
              <p:nvGrpSpPr>
                <p:cNvPr id="4985" name=""/>
                <p:cNvGrpSpPr/>
                <p:nvPr/>
              </p:nvGrpSpPr>
              <p:grpSpPr>
                <a:xfrm>
                  <a:off x="1706400" y="2071080"/>
                  <a:ext cx="163800" cy="150480"/>
                  <a:chOff x="1706400" y="2071080"/>
                  <a:chExt cx="163800" cy="150480"/>
                </a:xfrm>
              </p:grpSpPr>
              <p:sp>
                <p:nvSpPr>
                  <p:cNvPr id="4986" name=""/>
                  <p:cNvSpPr/>
                  <p:nvPr/>
                </p:nvSpPr>
                <p:spPr>
                  <a:xfrm rot="3815400">
                    <a:off x="1737000" y="2080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"/>
                  <p:cNvSpPr/>
                  <p:nvPr/>
                </p:nvSpPr>
                <p:spPr>
                  <a:xfrm flipV="1">
                    <a:off x="1759320" y="211932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8" name=""/>
                  <p:cNvSpPr/>
                  <p:nvPr/>
                </p:nvSpPr>
                <p:spPr>
                  <a:xfrm flipV="1">
                    <a:off x="1776960" y="216900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9" name=""/>
                  <p:cNvSpPr/>
                  <p:nvPr/>
                </p:nvSpPr>
                <p:spPr>
                  <a:xfrm flipH="1" flipV="1">
                    <a:off x="1774440" y="21387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0" name=""/>
                  <p:cNvSpPr/>
                  <p:nvPr/>
                </p:nvSpPr>
                <p:spPr>
                  <a:xfrm flipV="1">
                    <a:off x="1791000" y="213444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91" name=""/>
                <p:cNvSpPr/>
                <p:nvPr/>
              </p:nvSpPr>
              <p:spPr>
                <a:xfrm flipH="1">
                  <a:off x="1702800" y="236844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2" name=""/>
                <p:cNvSpPr/>
                <p:nvPr/>
              </p:nvSpPr>
              <p:spPr>
                <a:xfrm>
                  <a:off x="1564200" y="22546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3" name=""/>
                <p:cNvSpPr/>
                <p:nvPr/>
              </p:nvSpPr>
              <p:spPr>
                <a:xfrm flipH="1" flipV="1">
                  <a:off x="1683000" y="214092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4" name=""/>
                <p:cNvSpPr/>
                <p:nvPr/>
              </p:nvSpPr>
              <p:spPr>
                <a:xfrm flipH="1" flipV="1">
                  <a:off x="1920960" y="225468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5" name=""/>
                <p:cNvSpPr/>
                <p:nvPr/>
              </p:nvSpPr>
              <p:spPr>
                <a:xfrm flipH="1">
                  <a:off x="1762200" y="239148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6" name=""/>
                <p:cNvSpPr/>
                <p:nvPr/>
              </p:nvSpPr>
              <p:spPr>
                <a:xfrm flipH="1" flipV="1">
                  <a:off x="1801440" y="234576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7" name=""/>
                <p:cNvSpPr/>
                <p:nvPr/>
              </p:nvSpPr>
              <p:spPr>
                <a:xfrm flipH="1" flipV="1">
                  <a:off x="1642680" y="216324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8" name=""/>
                <p:cNvSpPr/>
                <p:nvPr/>
              </p:nvSpPr>
              <p:spPr>
                <a:xfrm flipV="1">
                  <a:off x="1742400" y="218592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9" name=""/>
                <p:cNvSpPr/>
                <p:nvPr/>
              </p:nvSpPr>
              <p:spPr>
                <a:xfrm flipH="1">
                  <a:off x="1583640" y="227772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0" name=""/>
                <p:cNvSpPr/>
                <p:nvPr/>
              </p:nvSpPr>
              <p:spPr>
                <a:xfrm flipH="1" flipV="1">
                  <a:off x="1841760" y="227772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1" name=""/>
                <p:cNvSpPr/>
                <p:nvPr/>
              </p:nvSpPr>
              <p:spPr>
                <a:xfrm flipH="1" flipV="1">
                  <a:off x="1881360" y="227736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2" name=""/>
                <p:cNvSpPr/>
                <p:nvPr/>
              </p:nvSpPr>
              <p:spPr>
                <a:xfrm flipV="1">
                  <a:off x="2000160" y="234576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3" name=""/>
                <p:cNvSpPr/>
                <p:nvPr/>
              </p:nvSpPr>
              <p:spPr>
                <a:xfrm flipV="1">
                  <a:off x="1940760" y="223164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4" name=""/>
                <p:cNvSpPr/>
                <p:nvPr/>
              </p:nvSpPr>
              <p:spPr>
                <a:xfrm flipH="1">
                  <a:off x="1881000" y="243684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5" name=""/>
                <p:cNvSpPr/>
                <p:nvPr/>
              </p:nvSpPr>
              <p:spPr>
                <a:xfrm flipH="1">
                  <a:off x="1662840" y="230004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6" name=""/>
                <p:cNvSpPr/>
                <p:nvPr/>
              </p:nvSpPr>
              <p:spPr>
                <a:xfrm flipH="1" flipV="1">
                  <a:off x="1583280" y="220896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07" name=""/>
                <p:cNvGrpSpPr/>
                <p:nvPr/>
              </p:nvGrpSpPr>
              <p:grpSpPr>
                <a:xfrm>
                  <a:off x="1611720" y="1992240"/>
                  <a:ext cx="151560" cy="176040"/>
                  <a:chOff x="1611720" y="1992240"/>
                  <a:chExt cx="151560" cy="176040"/>
                </a:xfrm>
              </p:grpSpPr>
              <p:sp>
                <p:nvSpPr>
                  <p:cNvPr id="5008" name=""/>
                  <p:cNvSpPr/>
                  <p:nvPr/>
                </p:nvSpPr>
                <p:spPr>
                  <a:xfrm rot="1745400">
                    <a:off x="1642680" y="2004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9" name=""/>
                  <p:cNvSpPr/>
                  <p:nvPr/>
                </p:nvSpPr>
                <p:spPr>
                  <a:xfrm flipH="1" flipV="1">
                    <a:off x="1683360" y="205164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0" name=""/>
                  <p:cNvSpPr/>
                  <p:nvPr/>
                </p:nvSpPr>
                <p:spPr>
                  <a:xfrm flipV="1">
                    <a:off x="1693440" y="20984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1" name=""/>
                  <p:cNvSpPr/>
                  <p:nvPr/>
                </p:nvSpPr>
                <p:spPr>
                  <a:xfrm flipH="1" flipV="1">
                    <a:off x="1672200" y="208368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2" name=""/>
                  <p:cNvSpPr/>
                  <p:nvPr/>
                </p:nvSpPr>
                <p:spPr>
                  <a:xfrm flipV="1">
                    <a:off x="1689480" y="20631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3" name=""/>
                <p:cNvGrpSpPr/>
                <p:nvPr/>
              </p:nvGrpSpPr>
              <p:grpSpPr>
                <a:xfrm>
                  <a:off x="1676520" y="2220480"/>
                  <a:ext cx="142200" cy="174960"/>
                  <a:chOff x="1676520" y="2220480"/>
                  <a:chExt cx="142200" cy="174960"/>
                </a:xfrm>
              </p:grpSpPr>
              <p:sp>
                <p:nvSpPr>
                  <p:cNvPr id="5014" name=""/>
                  <p:cNvSpPr/>
                  <p:nvPr/>
                </p:nvSpPr>
                <p:spPr>
                  <a:xfrm rot="20187000">
                    <a:off x="1703160" y="22320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 flipH="1" flipV="1">
                    <a:off x="1722240" y="229392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 flipH="1" flipV="1">
                    <a:off x="1768680" y="23104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7" name=""/>
                  <p:cNvSpPr/>
                  <p:nvPr/>
                </p:nvSpPr>
                <p:spPr>
                  <a:xfrm flipH="1">
                    <a:off x="1740960" y="232128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8" name=""/>
                  <p:cNvSpPr/>
                  <p:nvPr/>
                </p:nvSpPr>
                <p:spPr>
                  <a:xfrm flipH="1" flipV="1">
                    <a:off x="1736280" y="229464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9" name=""/>
                <p:cNvGrpSpPr/>
                <p:nvPr/>
              </p:nvGrpSpPr>
              <p:grpSpPr>
                <a:xfrm>
                  <a:off x="1762560" y="2140920"/>
                  <a:ext cx="88920" cy="151920"/>
                  <a:chOff x="1762560" y="2140920"/>
                  <a:chExt cx="88920" cy="151920"/>
                </a:xfrm>
              </p:grpSpPr>
              <p:sp>
                <p:nvSpPr>
                  <p:cNvPr id="5020" name=""/>
                  <p:cNvSpPr/>
                  <p:nvPr/>
                </p:nvSpPr>
                <p:spPr>
                  <a:xfrm>
                    <a:off x="1762560" y="2140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1" name=""/>
                  <p:cNvSpPr/>
                  <p:nvPr/>
                </p:nvSpPr>
                <p:spPr>
                  <a:xfrm flipH="1" flipV="1">
                    <a:off x="1789560" y="21938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2" name=""/>
                  <p:cNvSpPr/>
                  <p:nvPr/>
                </p:nvSpPr>
                <p:spPr>
                  <a:xfrm flipH="1" flipV="1">
                    <a:off x="1825200" y="22276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3" name=""/>
                  <p:cNvSpPr/>
                  <p:nvPr/>
                </p:nvSpPr>
                <p:spPr>
                  <a:xfrm flipH="1" flipV="1">
                    <a:off x="1795320" y="22273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4" name=""/>
                  <p:cNvSpPr/>
                  <p:nvPr/>
                </p:nvSpPr>
                <p:spPr>
                  <a:xfrm flipH="1" flipV="1">
                    <a:off x="1801800" y="22003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5" name=""/>
                <p:cNvGrpSpPr/>
                <p:nvPr/>
              </p:nvGrpSpPr>
              <p:grpSpPr>
                <a:xfrm>
                  <a:off x="1577880" y="2406240"/>
                  <a:ext cx="143640" cy="118080"/>
                  <a:chOff x="1577880" y="2406240"/>
                  <a:chExt cx="143640" cy="118080"/>
                </a:xfrm>
              </p:grpSpPr>
              <p:sp>
                <p:nvSpPr>
                  <p:cNvPr id="5026" name=""/>
                  <p:cNvSpPr/>
                  <p:nvPr/>
                </p:nvSpPr>
                <p:spPr>
                  <a:xfrm rot="15769200">
                    <a:off x="1598400" y="2399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7" name=""/>
                  <p:cNvSpPr/>
                  <p:nvPr/>
                </p:nvSpPr>
                <p:spPr>
                  <a:xfrm flipH="1">
                    <a:off x="1631880" y="241164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8" name=""/>
                  <p:cNvSpPr/>
                  <p:nvPr/>
                </p:nvSpPr>
                <p:spPr>
                  <a:xfrm flipH="1">
                    <a:off x="1656000" y="243468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9" name=""/>
                  <p:cNvSpPr/>
                  <p:nvPr/>
                </p:nvSpPr>
                <p:spPr>
                  <a:xfrm flipH="1">
                    <a:off x="1660320" y="245628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0" name=""/>
                  <p:cNvSpPr/>
                  <p:nvPr/>
                </p:nvSpPr>
                <p:spPr>
                  <a:xfrm flipH="1">
                    <a:off x="1636200" y="246528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1" name=""/>
                <p:cNvGrpSpPr/>
                <p:nvPr/>
              </p:nvGrpSpPr>
              <p:grpSpPr>
                <a:xfrm>
                  <a:off x="1504440" y="2072880"/>
                  <a:ext cx="88920" cy="151920"/>
                  <a:chOff x="1504440" y="2072880"/>
                  <a:chExt cx="88920" cy="151920"/>
                </a:xfrm>
              </p:grpSpPr>
              <p:sp>
                <p:nvSpPr>
                  <p:cNvPr id="5032" name=""/>
                  <p:cNvSpPr/>
                  <p:nvPr/>
                </p:nvSpPr>
                <p:spPr>
                  <a:xfrm>
                    <a:off x="1504440" y="2072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 flipH="1" flipV="1">
                    <a:off x="1531440" y="2125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4" name=""/>
                  <p:cNvSpPr/>
                  <p:nvPr/>
                </p:nvSpPr>
                <p:spPr>
                  <a:xfrm flipH="1" flipV="1">
                    <a:off x="1567080" y="2159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5" name=""/>
                  <p:cNvSpPr/>
                  <p:nvPr/>
                </p:nvSpPr>
                <p:spPr>
                  <a:xfrm flipH="1" flipV="1">
                    <a:off x="1537200" y="2159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6" name=""/>
                  <p:cNvSpPr/>
                  <p:nvPr/>
                </p:nvSpPr>
                <p:spPr>
                  <a:xfrm flipH="1" flipV="1">
                    <a:off x="1543680" y="2132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7" name=""/>
                <p:cNvGrpSpPr/>
                <p:nvPr/>
              </p:nvGrpSpPr>
              <p:grpSpPr>
                <a:xfrm>
                  <a:off x="1841760" y="2117880"/>
                  <a:ext cx="88920" cy="151920"/>
                  <a:chOff x="1841760" y="2117880"/>
                  <a:chExt cx="88920" cy="151920"/>
                </a:xfrm>
              </p:grpSpPr>
              <p:sp>
                <p:nvSpPr>
                  <p:cNvPr id="5038" name=""/>
                  <p:cNvSpPr/>
                  <p:nvPr/>
                </p:nvSpPr>
                <p:spPr>
                  <a:xfrm>
                    <a:off x="1841760" y="2117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 flipH="1" flipV="1">
                    <a:off x="1868760" y="2170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0" name=""/>
                  <p:cNvSpPr/>
                  <p:nvPr/>
                </p:nvSpPr>
                <p:spPr>
                  <a:xfrm flipH="1" flipV="1">
                    <a:off x="1904400" y="2204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1" name=""/>
                  <p:cNvSpPr/>
                  <p:nvPr/>
                </p:nvSpPr>
                <p:spPr>
                  <a:xfrm flipH="1" flipV="1">
                    <a:off x="1874520" y="2204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2" name=""/>
                  <p:cNvSpPr/>
                  <p:nvPr/>
                </p:nvSpPr>
                <p:spPr>
                  <a:xfrm flipH="1" flipV="1">
                    <a:off x="1881000" y="2177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3" name=""/>
                <p:cNvGrpSpPr/>
                <p:nvPr/>
              </p:nvGrpSpPr>
              <p:grpSpPr>
                <a:xfrm>
                  <a:off x="1564200" y="2027160"/>
                  <a:ext cx="88920" cy="151920"/>
                  <a:chOff x="1564200" y="2027160"/>
                  <a:chExt cx="88920" cy="151920"/>
                </a:xfrm>
              </p:grpSpPr>
              <p:sp>
                <p:nvSpPr>
                  <p:cNvPr id="5044" name=""/>
                  <p:cNvSpPr/>
                  <p:nvPr/>
                </p:nvSpPr>
                <p:spPr>
                  <a:xfrm>
                    <a:off x="1564200" y="2027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5" name=""/>
                  <p:cNvSpPr/>
                  <p:nvPr/>
                </p:nvSpPr>
                <p:spPr>
                  <a:xfrm flipH="1" flipV="1">
                    <a:off x="1591200" y="20800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6" name=""/>
                  <p:cNvSpPr/>
                  <p:nvPr/>
                </p:nvSpPr>
                <p:spPr>
                  <a:xfrm flipH="1" flipV="1">
                    <a:off x="1626840" y="2113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 flipH="1" flipV="1">
                    <a:off x="1596960" y="2113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 flipH="1" flipV="1">
                    <a:off x="1603440" y="20865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9" name=""/>
                <p:cNvGrpSpPr/>
                <p:nvPr/>
              </p:nvGrpSpPr>
              <p:grpSpPr>
                <a:xfrm>
                  <a:off x="1750680" y="2466000"/>
                  <a:ext cx="156240" cy="135720"/>
                  <a:chOff x="1750680" y="2466000"/>
                  <a:chExt cx="156240" cy="135720"/>
                </a:xfrm>
              </p:grpSpPr>
              <p:sp>
                <p:nvSpPr>
                  <p:cNvPr id="5050" name=""/>
                  <p:cNvSpPr/>
                  <p:nvPr/>
                </p:nvSpPr>
                <p:spPr>
                  <a:xfrm rot="15198000">
                    <a:off x="1777320" y="2467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 flipH="1">
                    <a:off x="1814760" y="247248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 flipH="1">
                    <a:off x="1830960" y="249984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>
                    <a:off x="1840680" y="252252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4" name=""/>
                  <p:cNvSpPr/>
                  <p:nvPr/>
                </p:nvSpPr>
                <p:spPr>
                  <a:xfrm flipH="1">
                    <a:off x="1816920" y="253404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5" name=""/>
                <p:cNvGrpSpPr/>
                <p:nvPr/>
              </p:nvGrpSpPr>
              <p:grpSpPr>
                <a:xfrm>
                  <a:off x="1646280" y="2433240"/>
                  <a:ext cx="165960" cy="155520"/>
                  <a:chOff x="1646280" y="2433240"/>
                  <a:chExt cx="165960" cy="155520"/>
                </a:xfrm>
              </p:grpSpPr>
              <p:sp>
                <p:nvSpPr>
                  <p:cNvPr id="5056" name=""/>
                  <p:cNvSpPr/>
                  <p:nvPr/>
                </p:nvSpPr>
                <p:spPr>
                  <a:xfrm rot="14358600">
                    <a:off x="1677960" y="2444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 flipH="1">
                    <a:off x="1721880" y="244188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 flipH="1">
                    <a:off x="1726200" y="24739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9" name=""/>
                  <p:cNvSpPr/>
                  <p:nvPr/>
                </p:nvSpPr>
                <p:spPr>
                  <a:xfrm>
                    <a:off x="1738440" y="24969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0" name=""/>
                  <p:cNvSpPr/>
                  <p:nvPr/>
                </p:nvSpPr>
                <p:spPr>
                  <a:xfrm flipH="1">
                    <a:off x="1720080" y="251208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1" name=""/>
                <p:cNvGrpSpPr/>
                <p:nvPr/>
              </p:nvGrpSpPr>
              <p:grpSpPr>
                <a:xfrm>
                  <a:off x="1442520" y="2251080"/>
                  <a:ext cx="137520" cy="109440"/>
                  <a:chOff x="1442520" y="2251080"/>
                  <a:chExt cx="137520" cy="109440"/>
                </a:xfrm>
              </p:grpSpPr>
              <p:sp>
                <p:nvSpPr>
                  <p:cNvPr id="5062" name=""/>
                  <p:cNvSpPr/>
                  <p:nvPr/>
                </p:nvSpPr>
                <p:spPr>
                  <a:xfrm rot="16010400">
                    <a:off x="1460160" y="2239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3" name=""/>
                  <p:cNvSpPr/>
                  <p:nvPr/>
                </p:nvSpPr>
                <p:spPr>
                  <a:xfrm flipH="1">
                    <a:off x="1492200" y="225576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 flipH="1">
                    <a:off x="1519200" y="22770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5" name=""/>
                  <p:cNvSpPr/>
                  <p:nvPr/>
                </p:nvSpPr>
                <p:spPr>
                  <a:xfrm flipH="1">
                    <a:off x="1521360" y="22978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6" name=""/>
                  <p:cNvSpPr/>
                  <p:nvPr/>
                </p:nvSpPr>
                <p:spPr>
                  <a:xfrm flipH="1">
                    <a:off x="1497600" y="23054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7" name=""/>
                <p:cNvGrpSpPr/>
                <p:nvPr/>
              </p:nvGrpSpPr>
              <p:grpSpPr>
                <a:xfrm>
                  <a:off x="1450440" y="2324520"/>
                  <a:ext cx="160560" cy="144360"/>
                  <a:chOff x="1450440" y="2324520"/>
                  <a:chExt cx="160560" cy="144360"/>
                </a:xfrm>
              </p:grpSpPr>
              <p:sp>
                <p:nvSpPr>
                  <p:cNvPr id="5068" name=""/>
                  <p:cNvSpPr/>
                  <p:nvPr/>
                </p:nvSpPr>
                <p:spPr>
                  <a:xfrm rot="14881800">
                    <a:off x="1479600" y="2330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9" name=""/>
                  <p:cNvSpPr/>
                  <p:nvPr/>
                </p:nvSpPr>
                <p:spPr>
                  <a:xfrm flipH="1">
                    <a:off x="1519560" y="233208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0" name=""/>
                  <p:cNvSpPr/>
                  <p:nvPr/>
                </p:nvSpPr>
                <p:spPr>
                  <a:xfrm flipH="1">
                    <a:off x="1531080" y="236160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1" name=""/>
                  <p:cNvSpPr/>
                  <p:nvPr/>
                </p:nvSpPr>
                <p:spPr>
                  <a:xfrm>
                    <a:off x="1541880" y="238464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2" name=""/>
                  <p:cNvSpPr/>
                  <p:nvPr/>
                </p:nvSpPr>
                <p:spPr>
                  <a:xfrm flipH="1">
                    <a:off x="1519920" y="23976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3" name=""/>
                <p:cNvGrpSpPr/>
                <p:nvPr/>
              </p:nvGrpSpPr>
              <p:grpSpPr>
                <a:xfrm>
                  <a:off x="1554480" y="2308680"/>
                  <a:ext cx="151920" cy="129960"/>
                  <a:chOff x="1554480" y="2308680"/>
                  <a:chExt cx="151920" cy="129960"/>
                </a:xfrm>
              </p:grpSpPr>
              <p:sp>
                <p:nvSpPr>
                  <p:cNvPr id="5074" name=""/>
                  <p:cNvSpPr/>
                  <p:nvPr/>
                </p:nvSpPr>
                <p:spPr>
                  <a:xfrm rot="15401400">
                    <a:off x="1578960" y="2307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5" name=""/>
                  <p:cNvSpPr/>
                  <p:nvPr/>
                </p:nvSpPr>
                <p:spPr>
                  <a:xfrm flipH="1">
                    <a:off x="1614960" y="231516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6" name=""/>
                  <p:cNvSpPr/>
                  <p:nvPr/>
                </p:nvSpPr>
                <p:spPr>
                  <a:xfrm flipH="1">
                    <a:off x="1634040" y="234108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7" name=""/>
                  <p:cNvSpPr/>
                  <p:nvPr/>
                </p:nvSpPr>
                <p:spPr>
                  <a:xfrm flipH="1">
                    <a:off x="1642320" y="236340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8" name=""/>
                  <p:cNvSpPr/>
                  <p:nvPr/>
                </p:nvSpPr>
                <p:spPr>
                  <a:xfrm flipH="1">
                    <a:off x="1617840" y="237420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9" name=""/>
                <p:cNvGrpSpPr/>
                <p:nvPr/>
              </p:nvGrpSpPr>
              <p:grpSpPr>
                <a:xfrm>
                  <a:off x="1514520" y="2149920"/>
                  <a:ext cx="151920" cy="129600"/>
                  <a:chOff x="1514520" y="2149920"/>
                  <a:chExt cx="151920" cy="129600"/>
                </a:xfrm>
              </p:grpSpPr>
              <p:sp>
                <p:nvSpPr>
                  <p:cNvPr id="5080" name=""/>
                  <p:cNvSpPr/>
                  <p:nvPr/>
                </p:nvSpPr>
                <p:spPr>
                  <a:xfrm rot="16985400">
                    <a:off x="1539000" y="2148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1" name=""/>
                  <p:cNvSpPr/>
                  <p:nvPr/>
                </p:nvSpPr>
                <p:spPr>
                  <a:xfrm flipH="1">
                    <a:off x="1566000" y="218160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2" name=""/>
                  <p:cNvSpPr/>
                  <p:nvPr/>
                </p:nvSpPr>
                <p:spPr>
                  <a:xfrm flipH="1">
                    <a:off x="1603440" y="21942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3" name=""/>
                  <p:cNvSpPr/>
                  <p:nvPr/>
                </p:nvSpPr>
                <p:spPr>
                  <a:xfrm flipH="1">
                    <a:off x="1596240" y="22111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4" name=""/>
                  <p:cNvSpPr/>
                  <p:nvPr/>
                </p:nvSpPr>
                <p:spPr>
                  <a:xfrm flipH="1">
                    <a:off x="1575000" y="221364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5" name=""/>
                <p:cNvGrpSpPr/>
                <p:nvPr/>
              </p:nvGrpSpPr>
              <p:grpSpPr>
                <a:xfrm>
                  <a:off x="1722600" y="2175840"/>
                  <a:ext cx="168480" cy="172080"/>
                  <a:chOff x="1722600" y="2175840"/>
                  <a:chExt cx="168480" cy="172080"/>
                </a:xfrm>
              </p:grpSpPr>
              <p:sp>
                <p:nvSpPr>
                  <p:cNvPr id="5086" name=""/>
                  <p:cNvSpPr/>
                  <p:nvPr/>
                </p:nvSpPr>
                <p:spPr>
                  <a:xfrm rot="19036200">
                    <a:off x="1762200" y="2185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7" name=""/>
                  <p:cNvSpPr/>
                  <p:nvPr/>
                </p:nvSpPr>
                <p:spPr>
                  <a:xfrm flipH="1" flipV="1">
                    <a:off x="1778400" y="225720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8" name=""/>
                  <p:cNvSpPr/>
                  <p:nvPr/>
                </p:nvSpPr>
                <p:spPr>
                  <a:xfrm flipH="1" flipV="1">
                    <a:off x="1827720" y="22575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9" name=""/>
                  <p:cNvSpPr/>
                  <p:nvPr/>
                </p:nvSpPr>
                <p:spPr>
                  <a:xfrm flipH="1">
                    <a:off x="1805400" y="22708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0" name=""/>
                  <p:cNvSpPr/>
                  <p:nvPr/>
                </p:nvSpPr>
                <p:spPr>
                  <a:xfrm flipH="1" flipV="1">
                    <a:off x="1792080" y="225360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1" name=""/>
                <p:cNvGrpSpPr/>
                <p:nvPr/>
              </p:nvGrpSpPr>
              <p:grpSpPr>
                <a:xfrm>
                  <a:off x="1907640" y="2098800"/>
                  <a:ext cx="158760" cy="140400"/>
                  <a:chOff x="1907640" y="2098800"/>
                  <a:chExt cx="158760" cy="140400"/>
                </a:xfrm>
              </p:grpSpPr>
              <p:sp>
                <p:nvSpPr>
                  <p:cNvPr id="5092" name=""/>
                  <p:cNvSpPr/>
                  <p:nvPr/>
                </p:nvSpPr>
                <p:spPr>
                  <a:xfrm rot="4233000">
                    <a:off x="1935720" y="2102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3" name=""/>
                  <p:cNvSpPr/>
                  <p:nvPr/>
                </p:nvSpPr>
                <p:spPr>
                  <a:xfrm flipV="1">
                    <a:off x="1950120" y="214344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4" name=""/>
                  <p:cNvSpPr/>
                  <p:nvPr/>
                </p:nvSpPr>
                <p:spPr>
                  <a:xfrm flipV="1">
                    <a:off x="1971360" y="219168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5" name=""/>
                  <p:cNvSpPr/>
                  <p:nvPr/>
                </p:nvSpPr>
                <p:spPr>
                  <a:xfrm flipH="1" flipV="1">
                    <a:off x="1973880" y="216000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6" name=""/>
                  <p:cNvSpPr/>
                  <p:nvPr/>
                </p:nvSpPr>
                <p:spPr>
                  <a:xfrm flipV="1">
                    <a:off x="1989720" y="215856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7" name=""/>
                <p:cNvGrpSpPr/>
                <p:nvPr/>
              </p:nvGrpSpPr>
              <p:grpSpPr>
                <a:xfrm>
                  <a:off x="1987560" y="2214720"/>
                  <a:ext cx="156600" cy="137160"/>
                  <a:chOff x="1987560" y="2214720"/>
                  <a:chExt cx="156600" cy="137160"/>
                </a:xfrm>
              </p:grpSpPr>
              <p:sp>
                <p:nvSpPr>
                  <p:cNvPr id="5098" name=""/>
                  <p:cNvSpPr/>
                  <p:nvPr/>
                </p:nvSpPr>
                <p:spPr>
                  <a:xfrm rot="4353000">
                    <a:off x="2014560" y="2216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9" name=""/>
                  <p:cNvSpPr/>
                  <p:nvPr/>
                </p:nvSpPr>
                <p:spPr>
                  <a:xfrm flipV="1">
                    <a:off x="2026440" y="225792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0" name=""/>
                  <p:cNvSpPr/>
                  <p:nvPr/>
                </p:nvSpPr>
                <p:spPr>
                  <a:xfrm flipV="1">
                    <a:off x="2048760" y="23058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1" name=""/>
                  <p:cNvSpPr/>
                  <p:nvPr/>
                </p:nvSpPr>
                <p:spPr>
                  <a:xfrm flipH="1" flipV="1">
                    <a:off x="2053080" y="22734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2" name=""/>
                  <p:cNvSpPr/>
                  <p:nvPr/>
                </p:nvSpPr>
                <p:spPr>
                  <a:xfrm flipV="1">
                    <a:off x="2068560" y="227304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3" name=""/>
                <p:cNvGrpSpPr/>
                <p:nvPr/>
              </p:nvGrpSpPr>
              <p:grpSpPr>
                <a:xfrm>
                  <a:off x="1727280" y="2333880"/>
                  <a:ext cx="159480" cy="175320"/>
                  <a:chOff x="1727280" y="2333880"/>
                  <a:chExt cx="159480" cy="175320"/>
                </a:xfrm>
              </p:grpSpPr>
              <p:sp>
                <p:nvSpPr>
                  <p:cNvPr id="5104" name=""/>
                  <p:cNvSpPr/>
                  <p:nvPr/>
                </p:nvSpPr>
                <p:spPr>
                  <a:xfrm rot="19525800">
                    <a:off x="1762200" y="2345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 flipH="1" flipV="1">
                    <a:off x="1779480" y="241272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6" name=""/>
                  <p:cNvSpPr/>
                  <p:nvPr/>
                </p:nvSpPr>
                <p:spPr>
                  <a:xfrm flipH="1" flipV="1">
                    <a:off x="1828080" y="242028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7" name=""/>
                  <p:cNvSpPr/>
                  <p:nvPr/>
                </p:nvSpPr>
                <p:spPr>
                  <a:xfrm flipH="1">
                    <a:off x="1803240" y="24325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8" name=""/>
                  <p:cNvSpPr/>
                  <p:nvPr/>
                </p:nvSpPr>
                <p:spPr>
                  <a:xfrm flipH="1" flipV="1">
                    <a:off x="1793160" y="241092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9" name=""/>
                <p:cNvGrpSpPr/>
                <p:nvPr/>
              </p:nvGrpSpPr>
              <p:grpSpPr>
                <a:xfrm>
                  <a:off x="1566720" y="2314440"/>
                  <a:ext cx="165600" cy="165600"/>
                  <a:chOff x="1566720" y="2314440"/>
                  <a:chExt cx="165600" cy="165600"/>
                </a:xfrm>
              </p:grpSpPr>
              <p:sp>
                <p:nvSpPr>
                  <p:cNvPr id="5110" name=""/>
                  <p:cNvSpPr/>
                  <p:nvPr/>
                </p:nvSpPr>
                <p:spPr>
                  <a:xfrm rot="18890400">
                    <a:off x="1598400" y="2331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1" name=""/>
                  <p:cNvSpPr/>
                  <p:nvPr/>
                </p:nvSpPr>
                <p:spPr>
                  <a:xfrm flipH="1" flipV="1">
                    <a:off x="1621080" y="239688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2" name=""/>
                  <p:cNvSpPr/>
                  <p:nvPr/>
                </p:nvSpPr>
                <p:spPr>
                  <a:xfrm flipH="1" flipV="1">
                    <a:off x="1670760" y="238860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3" name=""/>
                  <p:cNvSpPr/>
                  <p:nvPr/>
                </p:nvSpPr>
                <p:spPr>
                  <a:xfrm flipH="1">
                    <a:off x="1647000" y="240228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4" name=""/>
                  <p:cNvSpPr/>
                  <p:nvPr/>
                </p:nvSpPr>
                <p:spPr>
                  <a:xfrm flipH="1" flipV="1">
                    <a:off x="1635120" y="239148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5" name=""/>
                <p:cNvGrpSpPr/>
                <p:nvPr/>
              </p:nvGrpSpPr>
              <p:grpSpPr>
                <a:xfrm>
                  <a:off x="1428120" y="2223720"/>
                  <a:ext cx="166680" cy="164160"/>
                  <a:chOff x="1428120" y="2223720"/>
                  <a:chExt cx="166680" cy="164160"/>
                </a:xfrm>
              </p:grpSpPr>
              <p:sp>
                <p:nvSpPr>
                  <p:cNvPr id="5116" name=""/>
                  <p:cNvSpPr/>
                  <p:nvPr/>
                </p:nvSpPr>
                <p:spPr>
                  <a:xfrm rot="18730200">
                    <a:off x="1460160" y="2239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7" name=""/>
                  <p:cNvSpPr/>
                  <p:nvPr/>
                </p:nvSpPr>
                <p:spPr>
                  <a:xfrm flipH="1" flipV="1">
                    <a:off x="1482840" y="230724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8" name=""/>
                  <p:cNvSpPr/>
                  <p:nvPr/>
                </p:nvSpPr>
                <p:spPr>
                  <a:xfrm flipH="1" flipV="1">
                    <a:off x="1531800" y="22964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9" name=""/>
                  <p:cNvSpPr/>
                  <p:nvPr/>
                </p:nvSpPr>
                <p:spPr>
                  <a:xfrm flipH="1">
                    <a:off x="1509480" y="23104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0" name=""/>
                  <p:cNvSpPr/>
                  <p:nvPr/>
                </p:nvSpPr>
                <p:spPr>
                  <a:xfrm flipH="1" flipV="1">
                    <a:off x="1496880" y="230076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1" name=""/>
                <p:cNvGrpSpPr/>
                <p:nvPr/>
              </p:nvGrpSpPr>
              <p:grpSpPr>
                <a:xfrm>
                  <a:off x="1408320" y="2129400"/>
                  <a:ext cx="162720" cy="174960"/>
                  <a:chOff x="1408320" y="2129400"/>
                  <a:chExt cx="162720" cy="174960"/>
                </a:xfrm>
              </p:grpSpPr>
              <p:sp>
                <p:nvSpPr>
                  <p:cNvPr id="5122" name=""/>
                  <p:cNvSpPr/>
                  <p:nvPr/>
                </p:nvSpPr>
                <p:spPr>
                  <a:xfrm rot="19362600">
                    <a:off x="1445040" y="2140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3" name=""/>
                  <p:cNvSpPr/>
                  <p:nvPr/>
                </p:nvSpPr>
                <p:spPr>
                  <a:xfrm flipH="1" flipV="1">
                    <a:off x="1461960" y="220896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4" name=""/>
                  <p:cNvSpPr/>
                  <p:nvPr/>
                </p:nvSpPr>
                <p:spPr>
                  <a:xfrm flipH="1" flipV="1">
                    <a:off x="1510920" y="22143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5" name=""/>
                  <p:cNvSpPr/>
                  <p:nvPr/>
                </p:nvSpPr>
                <p:spPr>
                  <a:xfrm flipH="1">
                    <a:off x="1486800" y="22269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6" name=""/>
                  <p:cNvSpPr/>
                  <p:nvPr/>
                </p:nvSpPr>
                <p:spPr>
                  <a:xfrm flipH="1" flipV="1">
                    <a:off x="1475640" y="220680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27" name=""/>
              <p:cNvGrpSpPr/>
              <p:nvPr/>
            </p:nvGrpSpPr>
            <p:grpSpPr>
              <a:xfrm>
                <a:off x="1910160" y="1426680"/>
                <a:ext cx="547560" cy="820440"/>
                <a:chOff x="1910160" y="1426680"/>
                <a:chExt cx="547560" cy="820440"/>
              </a:xfrm>
            </p:grpSpPr>
            <p:grpSp>
              <p:nvGrpSpPr>
                <p:cNvPr id="5128" name=""/>
                <p:cNvGrpSpPr/>
                <p:nvPr/>
              </p:nvGrpSpPr>
              <p:grpSpPr>
                <a:xfrm>
                  <a:off x="2238480" y="1765800"/>
                  <a:ext cx="140040" cy="174600"/>
                  <a:chOff x="2238480" y="1765800"/>
                  <a:chExt cx="140040" cy="174600"/>
                </a:xfrm>
              </p:grpSpPr>
              <p:sp>
                <p:nvSpPr>
                  <p:cNvPr id="5129" name=""/>
                  <p:cNvSpPr/>
                  <p:nvPr/>
                </p:nvSpPr>
                <p:spPr>
                  <a:xfrm rot="9465600">
                    <a:off x="2264040" y="1776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0" name=""/>
                  <p:cNvSpPr/>
                  <p:nvPr/>
                </p:nvSpPr>
                <p:spPr>
                  <a:xfrm>
                    <a:off x="2245680" y="1809000"/>
                    <a:ext cx="87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1" name=""/>
                  <p:cNvSpPr/>
                  <p:nvPr/>
                </p:nvSpPr>
                <p:spPr>
                  <a:xfrm>
                    <a:off x="2274480" y="183384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2" name=""/>
                  <p:cNvSpPr/>
                  <p:nvPr/>
                </p:nvSpPr>
                <p:spPr>
                  <a:xfrm flipV="1">
                    <a:off x="2296440" y="183924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3" name=""/>
                  <p:cNvSpPr/>
                  <p:nvPr/>
                </p:nvSpPr>
                <p:spPr>
                  <a:xfrm>
                    <a:off x="2309400" y="1856520"/>
                    <a:ext cx="10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4" name=""/>
                <p:cNvSpPr/>
                <p:nvPr/>
              </p:nvSpPr>
              <p:spPr>
                <a:xfrm flipH="1" flipV="1">
                  <a:off x="2083680" y="173808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 rot="5650200">
                  <a:off x="1798920" y="173448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 flipV="1">
                  <a:off x="2177280" y="173232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 flipV="1">
                  <a:off x="1957320" y="199800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 flipH="1" flipV="1">
                  <a:off x="2058840" y="180432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 flipV="1">
                  <a:off x="2110320" y="185580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 flipV="1">
                  <a:off x="2240280" y="168480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2219040" y="179280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2" name=""/>
                <p:cNvSpPr/>
                <p:nvPr/>
              </p:nvSpPr>
              <p:spPr>
                <a:xfrm flipH="1" flipV="1">
                  <a:off x="2172600" y="160632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3" name=""/>
                <p:cNvSpPr/>
                <p:nvPr/>
              </p:nvSpPr>
              <p:spPr>
                <a:xfrm flipV="1">
                  <a:off x="2080440" y="190584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V="1">
                  <a:off x="2146680" y="195120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5" name=""/>
                <p:cNvSpPr/>
                <p:nvPr/>
              </p:nvSpPr>
              <p:spPr>
                <a:xfrm>
                  <a:off x="2039760" y="207756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6" name=""/>
                <p:cNvSpPr/>
                <p:nvPr/>
              </p:nvSpPr>
              <p:spPr>
                <a:xfrm>
                  <a:off x="2162880" y="201816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 flipH="1" flipV="1">
                  <a:off x="2029320" y="193968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 flipH="1" flipV="1">
                  <a:off x="2166120" y="169812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V="1">
                  <a:off x="2230920" y="161388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50" name=""/>
                <p:cNvGrpSpPr/>
                <p:nvPr/>
              </p:nvGrpSpPr>
              <p:grpSpPr>
                <a:xfrm>
                  <a:off x="2291040" y="1662120"/>
                  <a:ext cx="166680" cy="158040"/>
                  <a:chOff x="2291040" y="1662120"/>
                  <a:chExt cx="166680" cy="158040"/>
                </a:xfrm>
              </p:grpSpPr>
              <p:sp>
                <p:nvSpPr>
                  <p:cNvPr id="5151" name=""/>
                  <p:cNvSpPr/>
                  <p:nvPr/>
                </p:nvSpPr>
                <p:spPr>
                  <a:xfrm rot="7395600">
                    <a:off x="2322720" y="16750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2" name=""/>
                  <p:cNvSpPr/>
                  <p:nvPr/>
                </p:nvSpPr>
                <p:spPr>
                  <a:xfrm flipV="1">
                    <a:off x="2301120" y="173592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3" name=""/>
                  <p:cNvSpPr/>
                  <p:nvPr/>
                </p:nvSpPr>
                <p:spPr>
                  <a:xfrm>
                    <a:off x="2337120" y="17496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4" name=""/>
                  <p:cNvSpPr/>
                  <p:nvPr/>
                </p:nvSpPr>
                <p:spPr>
                  <a:xfrm flipV="1">
                    <a:off x="2358000" y="172512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5" name=""/>
                  <p:cNvSpPr/>
                  <p:nvPr/>
                </p:nvSpPr>
                <p:spPr>
                  <a:xfrm>
                    <a:off x="2376360" y="174276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6" name=""/>
                <p:cNvGrpSpPr/>
                <p:nvPr/>
              </p:nvGrpSpPr>
              <p:grpSpPr>
                <a:xfrm>
                  <a:off x="2092680" y="1725840"/>
                  <a:ext cx="158760" cy="140760"/>
                  <a:chOff x="2092680" y="1725840"/>
                  <a:chExt cx="158760" cy="140760"/>
                </a:xfrm>
              </p:grpSpPr>
              <p:sp>
                <p:nvSpPr>
                  <p:cNvPr id="5157" name=""/>
                  <p:cNvSpPr/>
                  <p:nvPr/>
                </p:nvSpPr>
                <p:spPr>
                  <a:xfrm rot="4237200">
                    <a:off x="2120400" y="17298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8" name=""/>
                  <p:cNvSpPr/>
                  <p:nvPr/>
                </p:nvSpPr>
                <p:spPr>
                  <a:xfrm flipV="1">
                    <a:off x="2135160" y="1770480"/>
                    <a:ext cx="49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9" name=""/>
                  <p:cNvSpPr/>
                  <p:nvPr/>
                </p:nvSpPr>
                <p:spPr>
                  <a:xfrm flipV="1">
                    <a:off x="2156040" y="181872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0" name=""/>
                  <p:cNvSpPr/>
                  <p:nvPr/>
                </p:nvSpPr>
                <p:spPr>
                  <a:xfrm flipH="1" flipV="1">
                    <a:off x="2158920" y="17866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1" name=""/>
                  <p:cNvSpPr/>
                  <p:nvPr/>
                </p:nvSpPr>
                <p:spPr>
                  <a:xfrm flipV="1">
                    <a:off x="2174760" y="17852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2" name=""/>
                <p:cNvGrpSpPr/>
                <p:nvPr/>
              </p:nvGrpSpPr>
              <p:grpSpPr>
                <a:xfrm>
                  <a:off x="2175840" y="1813680"/>
                  <a:ext cx="139320" cy="111960"/>
                  <a:chOff x="2175840" y="1813680"/>
                  <a:chExt cx="139320" cy="111960"/>
                </a:xfrm>
              </p:grpSpPr>
              <p:sp>
                <p:nvSpPr>
                  <p:cNvPr id="5163" name=""/>
                  <p:cNvSpPr/>
                  <p:nvPr/>
                </p:nvSpPr>
                <p:spPr>
                  <a:xfrm rot="5650200">
                    <a:off x="2194200" y="1803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4" name=""/>
                  <p:cNvSpPr/>
                  <p:nvPr/>
                </p:nvSpPr>
                <p:spPr>
                  <a:xfrm flipV="1">
                    <a:off x="2186280" y="185184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5" name=""/>
                  <p:cNvSpPr/>
                  <p:nvPr/>
                </p:nvSpPr>
                <p:spPr>
                  <a:xfrm flipV="1">
                    <a:off x="2217240" y="189000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6" name=""/>
                  <p:cNvSpPr/>
                  <p:nvPr/>
                </p:nvSpPr>
                <p:spPr>
                  <a:xfrm flipV="1">
                    <a:off x="2230200" y="185616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7" name=""/>
                  <p:cNvSpPr/>
                  <p:nvPr/>
                </p:nvSpPr>
                <p:spPr>
                  <a:xfrm flipV="1">
                    <a:off x="2248200" y="186444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8" name=""/>
                <p:cNvGrpSpPr/>
                <p:nvPr/>
              </p:nvGrpSpPr>
              <p:grpSpPr>
                <a:xfrm>
                  <a:off x="1995840" y="1595160"/>
                  <a:ext cx="96840" cy="156600"/>
                  <a:chOff x="1995840" y="1595160"/>
                  <a:chExt cx="96840" cy="156600"/>
                </a:xfrm>
              </p:grpSpPr>
              <p:sp>
                <p:nvSpPr>
                  <p:cNvPr id="5169" name=""/>
                  <p:cNvSpPr/>
                  <p:nvPr/>
                </p:nvSpPr>
                <p:spPr>
                  <a:xfrm rot="21420000">
                    <a:off x="1999440" y="15973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0" name=""/>
                  <p:cNvSpPr/>
                  <p:nvPr/>
                </p:nvSpPr>
                <p:spPr>
                  <a:xfrm flipH="1" flipV="1">
                    <a:off x="2025360" y="165096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1" name=""/>
                  <p:cNvSpPr/>
                  <p:nvPr/>
                </p:nvSpPr>
                <p:spPr>
                  <a:xfrm flipH="1" flipV="1">
                    <a:off x="2062800" y="168300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2" name=""/>
                  <p:cNvSpPr/>
                  <p:nvPr/>
                </p:nvSpPr>
                <p:spPr>
                  <a:xfrm flipH="1" flipV="1">
                    <a:off x="2032920" y="168444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3" name=""/>
                  <p:cNvSpPr/>
                  <p:nvPr/>
                </p:nvSpPr>
                <p:spPr>
                  <a:xfrm flipH="1" flipV="1">
                    <a:off x="2037960" y="165708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4" name=""/>
                <p:cNvGrpSpPr/>
                <p:nvPr/>
              </p:nvGrpSpPr>
              <p:grpSpPr>
                <a:xfrm>
                  <a:off x="2256840" y="1521720"/>
                  <a:ext cx="139320" cy="111960"/>
                  <a:chOff x="2256840" y="1521720"/>
                  <a:chExt cx="139320" cy="111960"/>
                </a:xfrm>
              </p:grpSpPr>
              <p:sp>
                <p:nvSpPr>
                  <p:cNvPr id="5175" name=""/>
                  <p:cNvSpPr/>
                  <p:nvPr/>
                </p:nvSpPr>
                <p:spPr>
                  <a:xfrm rot="5650200">
                    <a:off x="2275200" y="1511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6" name=""/>
                  <p:cNvSpPr/>
                  <p:nvPr/>
                </p:nvSpPr>
                <p:spPr>
                  <a:xfrm flipV="1">
                    <a:off x="2267280" y="155988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7" name=""/>
                  <p:cNvSpPr/>
                  <p:nvPr/>
                </p:nvSpPr>
                <p:spPr>
                  <a:xfrm flipV="1">
                    <a:off x="2297880" y="15984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8" name=""/>
                  <p:cNvSpPr/>
                  <p:nvPr/>
                </p:nvSpPr>
                <p:spPr>
                  <a:xfrm flipV="1">
                    <a:off x="2310840" y="156420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9" name=""/>
                  <p:cNvSpPr/>
                  <p:nvPr/>
                </p:nvSpPr>
                <p:spPr>
                  <a:xfrm flipV="1">
                    <a:off x="2329200" y="157284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0" name=""/>
                <p:cNvGrpSpPr/>
                <p:nvPr/>
              </p:nvGrpSpPr>
              <p:grpSpPr>
                <a:xfrm>
                  <a:off x="2189520" y="1906200"/>
                  <a:ext cx="139320" cy="111960"/>
                  <a:chOff x="2189520" y="1906200"/>
                  <a:chExt cx="139320" cy="111960"/>
                </a:xfrm>
              </p:grpSpPr>
              <p:sp>
                <p:nvSpPr>
                  <p:cNvPr id="5181" name=""/>
                  <p:cNvSpPr/>
                  <p:nvPr/>
                </p:nvSpPr>
                <p:spPr>
                  <a:xfrm rot="5650200">
                    <a:off x="2207880" y="1896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2" name=""/>
                  <p:cNvSpPr/>
                  <p:nvPr/>
                </p:nvSpPr>
                <p:spPr>
                  <a:xfrm flipV="1">
                    <a:off x="2199600" y="194400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3" name=""/>
                  <p:cNvSpPr/>
                  <p:nvPr/>
                </p:nvSpPr>
                <p:spPr>
                  <a:xfrm flipV="1">
                    <a:off x="2230560" y="19825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4" name=""/>
                  <p:cNvSpPr/>
                  <p:nvPr/>
                </p:nvSpPr>
                <p:spPr>
                  <a:xfrm flipV="1">
                    <a:off x="2243520" y="194832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5" name=""/>
                  <p:cNvSpPr/>
                  <p:nvPr/>
                </p:nvSpPr>
                <p:spPr>
                  <a:xfrm flipV="1">
                    <a:off x="2261880" y="195696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6" name=""/>
                <p:cNvGrpSpPr/>
                <p:nvPr/>
              </p:nvGrpSpPr>
              <p:grpSpPr>
                <a:xfrm>
                  <a:off x="2291760" y="1593000"/>
                  <a:ext cx="139320" cy="111960"/>
                  <a:chOff x="2291760" y="1593000"/>
                  <a:chExt cx="139320" cy="111960"/>
                </a:xfrm>
              </p:grpSpPr>
              <p:sp>
                <p:nvSpPr>
                  <p:cNvPr id="5187" name=""/>
                  <p:cNvSpPr/>
                  <p:nvPr/>
                </p:nvSpPr>
                <p:spPr>
                  <a:xfrm rot="5650200">
                    <a:off x="2310120" y="15829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8" name=""/>
                  <p:cNvSpPr/>
                  <p:nvPr/>
                </p:nvSpPr>
                <p:spPr>
                  <a:xfrm flipV="1">
                    <a:off x="2301840" y="163080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9" name=""/>
                  <p:cNvSpPr/>
                  <p:nvPr/>
                </p:nvSpPr>
                <p:spPr>
                  <a:xfrm flipV="1">
                    <a:off x="2332800" y="166932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0" name=""/>
                  <p:cNvSpPr/>
                  <p:nvPr/>
                </p:nvSpPr>
                <p:spPr>
                  <a:xfrm flipV="1">
                    <a:off x="2345760" y="163512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1" name=""/>
                  <p:cNvSpPr/>
                  <p:nvPr/>
                </p:nvSpPr>
                <p:spPr>
                  <a:xfrm flipV="1">
                    <a:off x="2364120" y="164376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2" name=""/>
                <p:cNvGrpSpPr/>
                <p:nvPr/>
              </p:nvGrpSpPr>
              <p:grpSpPr>
                <a:xfrm>
                  <a:off x="1910160" y="1790280"/>
                  <a:ext cx="119880" cy="168120"/>
                  <a:chOff x="1910160" y="1790280"/>
                  <a:chExt cx="119880" cy="168120"/>
                </a:xfrm>
              </p:grpSpPr>
              <p:sp>
                <p:nvSpPr>
                  <p:cNvPr id="5193" name=""/>
                  <p:cNvSpPr/>
                  <p:nvPr/>
                </p:nvSpPr>
                <p:spPr>
                  <a:xfrm rot="20848800">
                    <a:off x="1925280" y="1798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4" name=""/>
                  <p:cNvSpPr/>
                  <p:nvPr/>
                </p:nvSpPr>
                <p:spPr>
                  <a:xfrm flipH="1" flipV="1">
                    <a:off x="1947600" y="1855440"/>
                    <a:ext cx="7668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5" name=""/>
                  <p:cNvSpPr/>
                  <p:nvPr/>
                </p:nvSpPr>
                <p:spPr>
                  <a:xfrm flipH="1" flipV="1">
                    <a:off x="1990080" y="188100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6" name=""/>
                  <p:cNvSpPr/>
                  <p:nvPr/>
                </p:nvSpPr>
                <p:spPr>
                  <a:xfrm flipH="1" flipV="1">
                    <a:off x="1960560" y="1887120"/>
                    <a:ext cx="18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7" name=""/>
                  <p:cNvSpPr/>
                  <p:nvPr/>
                </p:nvSpPr>
                <p:spPr>
                  <a:xfrm flipH="1" flipV="1">
                    <a:off x="1961280" y="1859400"/>
                    <a:ext cx="82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98" name=""/>
                <p:cNvGrpSpPr/>
                <p:nvPr/>
              </p:nvGrpSpPr>
              <p:grpSpPr>
                <a:xfrm>
                  <a:off x="1924200" y="1674000"/>
                  <a:ext cx="147600" cy="175680"/>
                  <a:chOff x="1924200" y="1674000"/>
                  <a:chExt cx="147600" cy="175680"/>
                </a:xfrm>
              </p:grpSpPr>
              <p:sp>
                <p:nvSpPr>
                  <p:cNvPr id="5199" name=""/>
                  <p:cNvSpPr/>
                  <p:nvPr/>
                </p:nvSpPr>
                <p:spPr>
                  <a:xfrm rot="20009400">
                    <a:off x="1953360" y="16855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0" name=""/>
                  <p:cNvSpPr/>
                  <p:nvPr/>
                </p:nvSpPr>
                <p:spPr>
                  <a:xfrm flipH="1" flipV="1">
                    <a:off x="1971720" y="1748880"/>
                    <a:ext cx="9180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1" name=""/>
                  <p:cNvSpPr/>
                  <p:nvPr/>
                </p:nvSpPr>
                <p:spPr>
                  <a:xfrm flipH="1" flipV="1">
                    <a:off x="2018880" y="176364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2" name=""/>
                  <p:cNvSpPr/>
                  <p:nvPr/>
                </p:nvSpPr>
                <p:spPr>
                  <a:xfrm flipH="1">
                    <a:off x="1992240" y="177480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3" name=""/>
                  <p:cNvSpPr/>
                  <p:nvPr/>
                </p:nvSpPr>
                <p:spPr>
                  <a:xfrm flipH="1" flipV="1">
                    <a:off x="1985760" y="174960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4" name=""/>
                <p:cNvGrpSpPr/>
                <p:nvPr/>
              </p:nvGrpSpPr>
              <p:grpSpPr>
                <a:xfrm>
                  <a:off x="2148480" y="1447920"/>
                  <a:ext cx="91440" cy="153720"/>
                  <a:chOff x="2148480" y="1447920"/>
                  <a:chExt cx="91440" cy="153720"/>
                </a:xfrm>
              </p:grpSpPr>
              <p:sp>
                <p:nvSpPr>
                  <p:cNvPr id="5205" name=""/>
                  <p:cNvSpPr/>
                  <p:nvPr/>
                </p:nvSpPr>
                <p:spPr>
                  <a:xfrm rot="60600">
                    <a:off x="2149560" y="1448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6" name=""/>
                  <p:cNvSpPr/>
                  <p:nvPr/>
                </p:nvSpPr>
                <p:spPr>
                  <a:xfrm flipH="1" flipV="1">
                    <a:off x="2176920" y="1501200"/>
                    <a:ext cx="568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7" name=""/>
                  <p:cNvSpPr/>
                  <p:nvPr/>
                </p:nvSpPr>
                <p:spPr>
                  <a:xfrm flipH="1" flipV="1">
                    <a:off x="2211840" y="15357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8" name=""/>
                  <p:cNvSpPr/>
                  <p:nvPr/>
                </p:nvSpPr>
                <p:spPr>
                  <a:xfrm flipH="1" flipV="1">
                    <a:off x="2181960" y="153504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9" name=""/>
                  <p:cNvSpPr/>
                  <p:nvPr/>
                </p:nvSpPr>
                <p:spPr>
                  <a:xfrm flipH="1" flipV="1">
                    <a:off x="2188800" y="15080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0" name=""/>
                <p:cNvGrpSpPr/>
                <p:nvPr/>
              </p:nvGrpSpPr>
              <p:grpSpPr>
                <a:xfrm>
                  <a:off x="2047680" y="1455120"/>
                  <a:ext cx="131040" cy="172440"/>
                  <a:chOff x="2047680" y="1455120"/>
                  <a:chExt cx="131040" cy="172440"/>
                </a:xfrm>
              </p:grpSpPr>
              <p:sp>
                <p:nvSpPr>
                  <p:cNvPr id="5211" name=""/>
                  <p:cNvSpPr/>
                  <p:nvPr/>
                </p:nvSpPr>
                <p:spPr>
                  <a:xfrm rot="20532600">
                    <a:off x="2068560" y="1465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2" name=""/>
                  <p:cNvSpPr/>
                  <p:nvPr/>
                </p:nvSpPr>
                <p:spPr>
                  <a:xfrm flipH="1" flipV="1">
                    <a:off x="2089440" y="152424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3" name=""/>
                  <p:cNvSpPr/>
                  <p:nvPr/>
                </p:nvSpPr>
                <p:spPr>
                  <a:xfrm flipH="1" flipV="1">
                    <a:off x="2133720" y="154584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4" name=""/>
                  <p:cNvSpPr/>
                  <p:nvPr/>
                </p:nvSpPr>
                <p:spPr>
                  <a:xfrm flipH="1" flipV="1">
                    <a:off x="2105280" y="155484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5" name=""/>
                  <p:cNvSpPr/>
                  <p:nvPr/>
                </p:nvSpPr>
                <p:spPr>
                  <a:xfrm flipH="1" flipV="1">
                    <a:off x="2103120" y="152712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16" name=""/>
                <p:cNvGrpSpPr/>
                <p:nvPr/>
              </p:nvGrpSpPr>
              <p:grpSpPr>
                <a:xfrm>
                  <a:off x="2068920" y="1574640"/>
                  <a:ext cx="111960" cy="164520"/>
                  <a:chOff x="2068920" y="1574640"/>
                  <a:chExt cx="111960" cy="164520"/>
                </a:xfrm>
              </p:grpSpPr>
              <p:sp>
                <p:nvSpPr>
                  <p:cNvPr id="5217" name=""/>
                  <p:cNvSpPr/>
                  <p:nvPr/>
                </p:nvSpPr>
                <p:spPr>
                  <a:xfrm rot="21052200">
                    <a:off x="2080440" y="1580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8" name=""/>
                  <p:cNvSpPr/>
                  <p:nvPr/>
                </p:nvSpPr>
                <p:spPr>
                  <a:xfrm flipH="1" flipV="1">
                    <a:off x="2103840" y="1636200"/>
                    <a:ext cx="7200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9" name=""/>
                  <p:cNvSpPr/>
                  <p:nvPr/>
                </p:nvSpPr>
                <p:spPr>
                  <a:xfrm flipH="1" flipV="1">
                    <a:off x="2144520" y="166428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0" name=""/>
                  <p:cNvSpPr/>
                  <p:nvPr/>
                </p:nvSpPr>
                <p:spPr>
                  <a:xfrm flipH="1" flipV="1">
                    <a:off x="2114640" y="166860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1" name=""/>
                  <p:cNvSpPr/>
                  <p:nvPr/>
                </p:nvSpPr>
                <p:spPr>
                  <a:xfrm flipH="1" flipV="1">
                    <a:off x="2116800" y="164088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2" name=""/>
                <p:cNvGrpSpPr/>
                <p:nvPr/>
              </p:nvGrpSpPr>
              <p:grpSpPr>
                <a:xfrm>
                  <a:off x="2201040" y="1535400"/>
                  <a:ext cx="130320" cy="171720"/>
                  <a:chOff x="2201040" y="1535400"/>
                  <a:chExt cx="130320" cy="171720"/>
                </a:xfrm>
              </p:grpSpPr>
              <p:sp>
                <p:nvSpPr>
                  <p:cNvPr id="5223" name=""/>
                  <p:cNvSpPr/>
                  <p:nvPr/>
                </p:nvSpPr>
                <p:spPr>
                  <a:xfrm rot="1035600">
                    <a:off x="2221560" y="1545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4" name=""/>
                  <p:cNvSpPr/>
                  <p:nvPr/>
                </p:nvSpPr>
                <p:spPr>
                  <a:xfrm flipH="1" flipV="1">
                    <a:off x="2256480" y="1593360"/>
                    <a:ext cx="29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5" name=""/>
                  <p:cNvSpPr/>
                  <p:nvPr/>
                </p:nvSpPr>
                <p:spPr>
                  <a:xfrm flipV="1">
                    <a:off x="2279880" y="1636560"/>
                    <a:ext cx="36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6" name=""/>
                  <p:cNvSpPr/>
                  <p:nvPr/>
                </p:nvSpPr>
                <p:spPr>
                  <a:xfrm flipH="1" flipV="1">
                    <a:off x="2252160" y="162756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7" name=""/>
                  <p:cNvSpPr/>
                  <p:nvPr/>
                </p:nvSpPr>
                <p:spPr>
                  <a:xfrm flipH="1" flipV="1">
                    <a:off x="2266200" y="160380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8" name=""/>
                <p:cNvGrpSpPr/>
                <p:nvPr/>
              </p:nvGrpSpPr>
              <p:grpSpPr>
                <a:xfrm>
                  <a:off x="2122920" y="1785960"/>
                  <a:ext cx="167400" cy="162720"/>
                  <a:chOff x="2122920" y="1785960"/>
                  <a:chExt cx="167400" cy="162720"/>
                </a:xfrm>
              </p:grpSpPr>
              <p:sp>
                <p:nvSpPr>
                  <p:cNvPr id="5229" name=""/>
                  <p:cNvSpPr/>
                  <p:nvPr/>
                </p:nvSpPr>
                <p:spPr>
                  <a:xfrm rot="3086400">
                    <a:off x="2154960" y="18010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0" name=""/>
                  <p:cNvSpPr/>
                  <p:nvPr/>
                </p:nvSpPr>
                <p:spPr>
                  <a:xfrm flipV="1">
                    <a:off x="2192760" y="183888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1" name=""/>
                  <p:cNvSpPr/>
                  <p:nvPr/>
                </p:nvSpPr>
                <p:spPr>
                  <a:xfrm flipV="1">
                    <a:off x="2203200" y="188892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2" name=""/>
                  <p:cNvSpPr/>
                  <p:nvPr/>
                </p:nvSpPr>
                <p:spPr>
                  <a:xfrm flipH="1" flipV="1">
                    <a:off x="2191320" y="186264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3" name=""/>
                  <p:cNvSpPr/>
                  <p:nvPr/>
                </p:nvSpPr>
                <p:spPr>
                  <a:xfrm flipV="1">
                    <a:off x="2208960" y="185328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4" name=""/>
                <p:cNvGrpSpPr/>
                <p:nvPr/>
              </p:nvGrpSpPr>
              <p:grpSpPr>
                <a:xfrm>
                  <a:off x="2208960" y="1994040"/>
                  <a:ext cx="126000" cy="170280"/>
                  <a:chOff x="2208960" y="1994040"/>
                  <a:chExt cx="126000" cy="170280"/>
                </a:xfrm>
              </p:grpSpPr>
              <p:sp>
                <p:nvSpPr>
                  <p:cNvPr id="5235" name=""/>
                  <p:cNvSpPr/>
                  <p:nvPr/>
                </p:nvSpPr>
                <p:spPr>
                  <a:xfrm rot="9883800">
                    <a:off x="2227320" y="2003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6" name=""/>
                  <p:cNvSpPr/>
                  <p:nvPr/>
                </p:nvSpPr>
                <p:spPr>
                  <a:xfrm>
                    <a:off x="2215440" y="202788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7" name=""/>
                  <p:cNvSpPr/>
                  <p:nvPr/>
                </p:nvSpPr>
                <p:spPr>
                  <a:xfrm>
                    <a:off x="2241000" y="205596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8" name=""/>
                  <p:cNvSpPr/>
                  <p:nvPr/>
                </p:nvSpPr>
                <p:spPr>
                  <a:xfrm>
                    <a:off x="2261880" y="206460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9" name=""/>
                  <p:cNvSpPr/>
                  <p:nvPr/>
                </p:nvSpPr>
                <p:spPr>
                  <a:xfrm>
                    <a:off x="2272680" y="2082960"/>
                    <a:ext cx="9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0" name=""/>
                <p:cNvGrpSpPr/>
                <p:nvPr/>
              </p:nvGrpSpPr>
              <p:grpSpPr>
                <a:xfrm>
                  <a:off x="2106000" y="2078280"/>
                  <a:ext cx="121680" cy="168840"/>
                  <a:chOff x="2106000" y="2078280"/>
                  <a:chExt cx="121680" cy="168840"/>
                </a:xfrm>
              </p:grpSpPr>
              <p:sp>
                <p:nvSpPr>
                  <p:cNvPr id="5241" name=""/>
                  <p:cNvSpPr/>
                  <p:nvPr/>
                </p:nvSpPr>
                <p:spPr>
                  <a:xfrm rot="10003800">
                    <a:off x="2122200" y="2086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2" name=""/>
                  <p:cNvSpPr/>
                  <p:nvPr/>
                </p:nvSpPr>
                <p:spPr>
                  <a:xfrm>
                    <a:off x="2111760" y="210960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3" name=""/>
                  <p:cNvSpPr/>
                  <p:nvPr/>
                </p:nvSpPr>
                <p:spPr>
                  <a:xfrm>
                    <a:off x="2136240" y="213840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4" name=""/>
                  <p:cNvSpPr/>
                  <p:nvPr/>
                </p:nvSpPr>
                <p:spPr>
                  <a:xfrm>
                    <a:off x="2157120" y="214776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5" name=""/>
                  <p:cNvSpPr/>
                  <p:nvPr/>
                </p:nvSpPr>
                <p:spPr>
                  <a:xfrm>
                    <a:off x="2167200" y="216648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6" name=""/>
                <p:cNvGrpSpPr/>
                <p:nvPr/>
              </p:nvGrpSpPr>
              <p:grpSpPr>
                <a:xfrm>
                  <a:off x="1985040" y="1779120"/>
                  <a:ext cx="165960" cy="155520"/>
                  <a:chOff x="1985040" y="1779120"/>
                  <a:chExt cx="165960" cy="155520"/>
                </a:xfrm>
              </p:grpSpPr>
              <p:sp>
                <p:nvSpPr>
                  <p:cNvPr id="5247" name=""/>
                  <p:cNvSpPr/>
                  <p:nvPr/>
                </p:nvSpPr>
                <p:spPr>
                  <a:xfrm rot="3576600">
                    <a:off x="2016720" y="1790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8" name=""/>
                  <p:cNvSpPr/>
                  <p:nvPr/>
                </p:nvSpPr>
                <p:spPr>
                  <a:xfrm flipV="1">
                    <a:off x="2044440" y="182988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9" name=""/>
                  <p:cNvSpPr/>
                  <p:nvPr/>
                </p:nvSpPr>
                <p:spPr>
                  <a:xfrm flipV="1">
                    <a:off x="2059560" y="18795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0" name=""/>
                  <p:cNvSpPr/>
                  <p:nvPr/>
                </p:nvSpPr>
                <p:spPr>
                  <a:xfrm flipH="1" flipV="1">
                    <a:off x="2053800" y="1850400"/>
                    <a:ext cx="50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1" name=""/>
                  <p:cNvSpPr/>
                  <p:nvPr/>
                </p:nvSpPr>
                <p:spPr>
                  <a:xfrm flipV="1">
                    <a:off x="2070720" y="184428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2" name=""/>
                <p:cNvGrpSpPr/>
                <p:nvPr/>
              </p:nvGrpSpPr>
              <p:grpSpPr>
                <a:xfrm>
                  <a:off x="2016720" y="1594440"/>
                  <a:ext cx="173160" cy="167040"/>
                  <a:chOff x="2016720" y="1594440"/>
                  <a:chExt cx="173160" cy="167040"/>
                </a:xfrm>
              </p:grpSpPr>
              <p:sp>
                <p:nvSpPr>
                  <p:cNvPr id="5253" name=""/>
                  <p:cNvSpPr/>
                  <p:nvPr/>
                </p:nvSpPr>
                <p:spPr>
                  <a:xfrm rot="2940600">
                    <a:off x="2058480" y="1601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4" name=""/>
                  <p:cNvSpPr/>
                  <p:nvPr/>
                </p:nvSpPr>
                <p:spPr>
                  <a:xfrm flipV="1">
                    <a:off x="2081520" y="1649160"/>
                    <a:ext cx="2808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5" name=""/>
                  <p:cNvSpPr/>
                  <p:nvPr/>
                </p:nvSpPr>
                <p:spPr>
                  <a:xfrm flipV="1">
                    <a:off x="2095560" y="169848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6" name=""/>
                  <p:cNvSpPr/>
                  <p:nvPr/>
                </p:nvSpPr>
                <p:spPr>
                  <a:xfrm flipH="1" flipV="1">
                    <a:off x="2087640" y="167580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7" name=""/>
                  <p:cNvSpPr/>
                  <p:nvPr/>
                </p:nvSpPr>
                <p:spPr>
                  <a:xfrm flipV="1">
                    <a:off x="2106000" y="166284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8" name=""/>
                <p:cNvGrpSpPr/>
                <p:nvPr/>
              </p:nvGrpSpPr>
              <p:grpSpPr>
                <a:xfrm>
                  <a:off x="2107800" y="1440360"/>
                  <a:ext cx="171720" cy="169560"/>
                  <a:chOff x="2107800" y="1440360"/>
                  <a:chExt cx="171720" cy="169560"/>
                </a:xfrm>
              </p:grpSpPr>
              <p:sp>
                <p:nvSpPr>
                  <p:cNvPr id="5259" name=""/>
                  <p:cNvSpPr/>
                  <p:nvPr/>
                </p:nvSpPr>
                <p:spPr>
                  <a:xfrm rot="2781000">
                    <a:off x="2148840" y="1448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0" name=""/>
                  <p:cNvSpPr/>
                  <p:nvPr/>
                </p:nvSpPr>
                <p:spPr>
                  <a:xfrm flipV="1">
                    <a:off x="2175480" y="1496160"/>
                    <a:ext cx="2304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1" name=""/>
                  <p:cNvSpPr/>
                  <p:nvPr/>
                </p:nvSpPr>
                <p:spPr>
                  <a:xfrm flipV="1">
                    <a:off x="2188080" y="15454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2" name=""/>
                  <p:cNvSpPr/>
                  <p:nvPr/>
                </p:nvSpPr>
                <p:spPr>
                  <a:xfrm flipH="1" flipV="1">
                    <a:off x="2178000" y="1523520"/>
                    <a:ext cx="75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3" name=""/>
                  <p:cNvSpPr/>
                  <p:nvPr/>
                </p:nvSpPr>
                <p:spPr>
                  <a:xfrm flipV="1">
                    <a:off x="2196360" y="150948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4" name=""/>
                <p:cNvGrpSpPr/>
                <p:nvPr/>
              </p:nvGrpSpPr>
              <p:grpSpPr>
                <a:xfrm>
                  <a:off x="2189160" y="1426680"/>
                  <a:ext cx="166320" cy="157680"/>
                  <a:chOff x="2189160" y="1426680"/>
                  <a:chExt cx="166320" cy="157680"/>
                </a:xfrm>
              </p:grpSpPr>
              <p:sp>
                <p:nvSpPr>
                  <p:cNvPr id="5265" name=""/>
                  <p:cNvSpPr/>
                  <p:nvPr/>
                </p:nvSpPr>
                <p:spPr>
                  <a:xfrm rot="3412800">
                    <a:off x="2220840" y="1439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6" name=""/>
                  <p:cNvSpPr/>
                  <p:nvPr/>
                </p:nvSpPr>
                <p:spPr>
                  <a:xfrm flipV="1">
                    <a:off x="2251080" y="147780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7" name=""/>
                  <p:cNvSpPr/>
                  <p:nvPr/>
                </p:nvSpPr>
                <p:spPr>
                  <a:xfrm flipV="1">
                    <a:off x="2265120" y="152784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8" name=""/>
                  <p:cNvSpPr/>
                  <p:nvPr/>
                </p:nvSpPr>
                <p:spPr>
                  <a:xfrm flipH="1" flipV="1">
                    <a:off x="2257560" y="1499760"/>
                    <a:ext cx="612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9" name=""/>
                  <p:cNvSpPr/>
                  <p:nvPr/>
                </p:nvSpPr>
                <p:spPr>
                  <a:xfrm flipV="1">
                    <a:off x="2274480" y="149292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70" name=""/>
              <p:cNvGrpSpPr/>
              <p:nvPr/>
            </p:nvGrpSpPr>
            <p:grpSpPr>
              <a:xfrm>
                <a:off x="1965240" y="3333600"/>
                <a:ext cx="569520" cy="808920"/>
                <a:chOff x="1965240" y="3333600"/>
                <a:chExt cx="569520" cy="808920"/>
              </a:xfrm>
            </p:grpSpPr>
            <p:grpSp>
              <p:nvGrpSpPr>
                <p:cNvPr id="5271" name=""/>
                <p:cNvGrpSpPr/>
                <p:nvPr/>
              </p:nvGrpSpPr>
              <p:grpSpPr>
                <a:xfrm>
                  <a:off x="2300400" y="3630600"/>
                  <a:ext cx="172440" cy="168120"/>
                  <a:chOff x="2300400" y="3630600"/>
                  <a:chExt cx="172440" cy="168120"/>
                </a:xfrm>
              </p:grpSpPr>
              <p:sp>
                <p:nvSpPr>
                  <p:cNvPr id="5272" name=""/>
                  <p:cNvSpPr/>
                  <p:nvPr/>
                </p:nvSpPr>
                <p:spPr>
                  <a:xfrm rot="7935000">
                    <a:off x="2341800" y="3638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3" name=""/>
                  <p:cNvSpPr/>
                  <p:nvPr/>
                </p:nvSpPr>
                <p:spPr>
                  <a:xfrm>
                    <a:off x="2311200" y="3701880"/>
                    <a:ext cx="104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4" name=""/>
                  <p:cNvSpPr/>
                  <p:nvPr/>
                </p:nvSpPr>
                <p:spPr>
                  <a:xfrm>
                    <a:off x="2347920" y="3711600"/>
                    <a:ext cx="18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5" name=""/>
                  <p:cNvSpPr/>
                  <p:nvPr/>
                </p:nvSpPr>
                <p:spPr>
                  <a:xfrm flipV="1">
                    <a:off x="2369880" y="3699360"/>
                    <a:ext cx="17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6" name=""/>
                  <p:cNvSpPr/>
                  <p:nvPr/>
                </p:nvSpPr>
                <p:spPr>
                  <a:xfrm>
                    <a:off x="2388960" y="3717360"/>
                    <a:ext cx="136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7" name=""/>
                <p:cNvSpPr/>
                <p:nvPr/>
              </p:nvSpPr>
              <p:spPr>
                <a:xfrm flipH="1" flipV="1">
                  <a:off x="2134080" y="3707640"/>
                  <a:ext cx="119880" cy="19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 rot="4120200">
                  <a:off x="1903680" y="369144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 flipV="1">
                  <a:off x="2251080" y="3600000"/>
                  <a:ext cx="95760" cy="13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 flipV="1">
                  <a:off x="2183760" y="3890520"/>
                  <a:ext cx="171000" cy="21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 flipH="1" flipV="1">
                  <a:off x="2140560" y="3778200"/>
                  <a:ext cx="52920" cy="2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 flipH="1" flipV="1">
                  <a:off x="2231280" y="3791880"/>
                  <a:ext cx="6480" cy="70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 flipV="1">
                  <a:off x="2289960" y="3564000"/>
                  <a:ext cx="21960" cy="10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>
                  <a:off x="2279880" y="3699000"/>
                  <a:ext cx="63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H="1" flipV="1">
                  <a:off x="2157840" y="3550320"/>
                  <a:ext cx="61560" cy="4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 flipV="1">
                  <a:off x="2269080" y="3812760"/>
                  <a:ext cx="34200" cy="18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 flipV="1">
                  <a:off x="2291400" y="3855240"/>
                  <a:ext cx="2844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 flipV="1">
                  <a:off x="2240640" y="4025520"/>
                  <a:ext cx="8172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 flipV="1">
                  <a:off x="2326320" y="3904920"/>
                  <a:ext cx="5508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 flipH="1" flipV="1">
                  <a:off x="2171880" y="3913200"/>
                  <a:ext cx="51480" cy="77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 flipH="1" flipV="1">
                  <a:off x="2191680" y="3636000"/>
                  <a:ext cx="428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 flipV="1">
                  <a:off x="2222280" y="3514680"/>
                  <a:ext cx="2808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93" name=""/>
                <p:cNvGrpSpPr/>
                <p:nvPr/>
              </p:nvGrpSpPr>
              <p:grpSpPr>
                <a:xfrm>
                  <a:off x="2325600" y="3525840"/>
                  <a:ext cx="144720" cy="119160"/>
                  <a:chOff x="2325600" y="3525840"/>
                  <a:chExt cx="144720" cy="119160"/>
                </a:xfrm>
              </p:grpSpPr>
              <p:sp>
                <p:nvSpPr>
                  <p:cNvPr id="5294" name=""/>
                  <p:cNvSpPr/>
                  <p:nvPr/>
                </p:nvSpPr>
                <p:spPr>
                  <a:xfrm rot="5865000">
                    <a:off x="2346480" y="35190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5" name=""/>
                  <p:cNvSpPr/>
                  <p:nvPr/>
                </p:nvSpPr>
                <p:spPr>
                  <a:xfrm flipV="1">
                    <a:off x="2336040" y="3568680"/>
                    <a:ext cx="8460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6" name=""/>
                  <p:cNvSpPr/>
                  <p:nvPr/>
                </p:nvSpPr>
                <p:spPr>
                  <a:xfrm flipV="1">
                    <a:off x="2368080" y="360504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7" name=""/>
                  <p:cNvSpPr/>
                  <p:nvPr/>
                </p:nvSpPr>
                <p:spPr>
                  <a:xfrm flipV="1">
                    <a:off x="2382120" y="35712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8" name=""/>
                  <p:cNvSpPr/>
                  <p:nvPr/>
                </p:nvSpPr>
                <p:spPr>
                  <a:xfrm flipV="1">
                    <a:off x="2400480" y="3580920"/>
                    <a:ext cx="126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9" name=""/>
                <p:cNvGrpSpPr/>
                <p:nvPr/>
              </p:nvGrpSpPr>
              <p:grpSpPr>
                <a:xfrm>
                  <a:off x="2156040" y="3638880"/>
                  <a:ext cx="165960" cy="165960"/>
                  <a:chOff x="2156040" y="3638880"/>
                  <a:chExt cx="165960" cy="165960"/>
                </a:xfrm>
              </p:grpSpPr>
              <p:sp>
                <p:nvSpPr>
                  <p:cNvPr id="5300" name=""/>
                  <p:cNvSpPr/>
                  <p:nvPr/>
                </p:nvSpPr>
                <p:spPr>
                  <a:xfrm rot="2706600">
                    <a:off x="2187720" y="3655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1" name=""/>
                  <p:cNvSpPr/>
                  <p:nvPr/>
                </p:nvSpPr>
                <p:spPr>
                  <a:xfrm flipV="1">
                    <a:off x="2233080" y="3693600"/>
                    <a:ext cx="64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2" name=""/>
                  <p:cNvSpPr/>
                  <p:nvPr/>
                </p:nvSpPr>
                <p:spPr>
                  <a:xfrm flipV="1">
                    <a:off x="2239560" y="37429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3" name=""/>
                  <p:cNvSpPr/>
                  <p:nvPr/>
                </p:nvSpPr>
                <p:spPr>
                  <a:xfrm flipH="1" flipV="1">
                    <a:off x="2223000" y="371916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4" name=""/>
                  <p:cNvSpPr/>
                  <p:nvPr/>
                </p:nvSpPr>
                <p:spPr>
                  <a:xfrm flipV="1">
                    <a:off x="2241000" y="370728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5" name=""/>
                <p:cNvGrpSpPr/>
                <p:nvPr/>
              </p:nvGrpSpPr>
              <p:grpSpPr>
                <a:xfrm>
                  <a:off x="2256840" y="3684960"/>
                  <a:ext cx="160560" cy="143640"/>
                  <a:chOff x="2256840" y="3684960"/>
                  <a:chExt cx="160560" cy="143640"/>
                </a:xfrm>
              </p:grpSpPr>
              <p:sp>
                <p:nvSpPr>
                  <p:cNvPr id="5306" name=""/>
                  <p:cNvSpPr/>
                  <p:nvPr/>
                </p:nvSpPr>
                <p:spPr>
                  <a:xfrm rot="4120200">
                    <a:off x="2285640" y="3690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7" name=""/>
                  <p:cNvSpPr/>
                  <p:nvPr/>
                </p:nvSpPr>
                <p:spPr>
                  <a:xfrm flipV="1">
                    <a:off x="2302560" y="3731040"/>
                    <a:ext cx="4644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8" name=""/>
                  <p:cNvSpPr/>
                  <p:nvPr/>
                </p:nvSpPr>
                <p:spPr>
                  <a:xfrm flipV="1">
                    <a:off x="2322360" y="37796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9" name=""/>
                  <p:cNvSpPr/>
                  <p:nvPr/>
                </p:nvSpPr>
                <p:spPr>
                  <a:xfrm flipH="1" flipV="1">
                    <a:off x="2323800" y="37479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0" name=""/>
                  <p:cNvSpPr/>
                  <p:nvPr/>
                </p:nvSpPr>
                <p:spPr>
                  <a:xfrm flipV="1">
                    <a:off x="2339640" y="37458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1" name=""/>
                <p:cNvGrpSpPr/>
                <p:nvPr/>
              </p:nvGrpSpPr>
              <p:grpSpPr>
                <a:xfrm>
                  <a:off x="1995480" y="3578400"/>
                  <a:ext cx="150840" cy="176400"/>
                  <a:chOff x="1995480" y="3578400"/>
                  <a:chExt cx="150840" cy="176400"/>
                </a:xfrm>
              </p:grpSpPr>
              <p:sp>
                <p:nvSpPr>
                  <p:cNvPr id="5312" name=""/>
                  <p:cNvSpPr/>
                  <p:nvPr/>
                </p:nvSpPr>
                <p:spPr>
                  <a:xfrm rot="19889400">
                    <a:off x="2026080" y="35902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3" name=""/>
                  <p:cNvSpPr/>
                  <p:nvPr/>
                </p:nvSpPr>
                <p:spPr>
                  <a:xfrm flipH="1" flipV="1">
                    <a:off x="2044080" y="3654000"/>
                    <a:ext cx="93600" cy="49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4" name=""/>
                  <p:cNvSpPr/>
                  <p:nvPr/>
                </p:nvSpPr>
                <p:spPr>
                  <a:xfrm flipH="1" flipV="1">
                    <a:off x="2091600" y="366696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5" name=""/>
                  <p:cNvSpPr/>
                  <p:nvPr/>
                </p:nvSpPr>
                <p:spPr>
                  <a:xfrm flipH="1">
                    <a:off x="2065320" y="36784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6" name=""/>
                  <p:cNvSpPr/>
                  <p:nvPr/>
                </p:nvSpPr>
                <p:spPr>
                  <a:xfrm flipH="1" flipV="1">
                    <a:off x="2058120" y="36543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7" name=""/>
                <p:cNvGrpSpPr/>
                <p:nvPr/>
              </p:nvGrpSpPr>
              <p:grpSpPr>
                <a:xfrm>
                  <a:off x="2204280" y="3386880"/>
                  <a:ext cx="160560" cy="143640"/>
                  <a:chOff x="2204280" y="3386880"/>
                  <a:chExt cx="160560" cy="143640"/>
                </a:xfrm>
              </p:grpSpPr>
              <p:sp>
                <p:nvSpPr>
                  <p:cNvPr id="5318" name=""/>
                  <p:cNvSpPr/>
                  <p:nvPr/>
                </p:nvSpPr>
                <p:spPr>
                  <a:xfrm rot="4120200">
                    <a:off x="2233080" y="3392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9" name=""/>
                  <p:cNvSpPr/>
                  <p:nvPr/>
                </p:nvSpPr>
                <p:spPr>
                  <a:xfrm flipV="1">
                    <a:off x="2249640" y="3432960"/>
                    <a:ext cx="464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0" name=""/>
                  <p:cNvSpPr/>
                  <p:nvPr/>
                </p:nvSpPr>
                <p:spPr>
                  <a:xfrm flipV="1">
                    <a:off x="2269800" y="348156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1" name=""/>
                  <p:cNvSpPr/>
                  <p:nvPr/>
                </p:nvSpPr>
                <p:spPr>
                  <a:xfrm flipH="1" flipV="1">
                    <a:off x="2270880" y="344952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2" name=""/>
                  <p:cNvSpPr/>
                  <p:nvPr/>
                </p:nvSpPr>
                <p:spPr>
                  <a:xfrm flipV="1">
                    <a:off x="2287080" y="3447360"/>
                    <a:ext cx="82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3" name=""/>
                <p:cNvGrpSpPr/>
                <p:nvPr/>
              </p:nvGrpSpPr>
              <p:grpSpPr>
                <a:xfrm>
                  <a:off x="2308680" y="3762360"/>
                  <a:ext cx="160560" cy="143640"/>
                  <a:chOff x="2308680" y="3762360"/>
                  <a:chExt cx="160560" cy="143640"/>
                </a:xfrm>
              </p:grpSpPr>
              <p:sp>
                <p:nvSpPr>
                  <p:cNvPr id="5324" name=""/>
                  <p:cNvSpPr/>
                  <p:nvPr/>
                </p:nvSpPr>
                <p:spPr>
                  <a:xfrm rot="4120200">
                    <a:off x="2337480" y="3768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5" name=""/>
                  <p:cNvSpPr/>
                  <p:nvPr/>
                </p:nvSpPr>
                <p:spPr>
                  <a:xfrm flipV="1">
                    <a:off x="2354400" y="3808800"/>
                    <a:ext cx="464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6" name=""/>
                  <p:cNvSpPr/>
                  <p:nvPr/>
                </p:nvSpPr>
                <p:spPr>
                  <a:xfrm flipV="1">
                    <a:off x="2374560" y="38570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7" name=""/>
                  <p:cNvSpPr/>
                  <p:nvPr/>
                </p:nvSpPr>
                <p:spPr>
                  <a:xfrm flipH="1" flipV="1">
                    <a:off x="2375640" y="382536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8" name=""/>
                  <p:cNvSpPr/>
                  <p:nvPr/>
                </p:nvSpPr>
                <p:spPr>
                  <a:xfrm flipV="1">
                    <a:off x="2391480" y="3823200"/>
                    <a:ext cx="86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9" name=""/>
                <p:cNvGrpSpPr/>
                <p:nvPr/>
              </p:nvGrpSpPr>
              <p:grpSpPr>
                <a:xfrm>
                  <a:off x="2266200" y="3435840"/>
                  <a:ext cx="160560" cy="143640"/>
                  <a:chOff x="2266200" y="3435840"/>
                  <a:chExt cx="160560" cy="143640"/>
                </a:xfrm>
              </p:grpSpPr>
              <p:sp>
                <p:nvSpPr>
                  <p:cNvPr id="5330" name=""/>
                  <p:cNvSpPr/>
                  <p:nvPr/>
                </p:nvSpPr>
                <p:spPr>
                  <a:xfrm rot="4120200">
                    <a:off x="2295000" y="3441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1" name=""/>
                  <p:cNvSpPr/>
                  <p:nvPr/>
                </p:nvSpPr>
                <p:spPr>
                  <a:xfrm flipV="1">
                    <a:off x="2311920" y="3481920"/>
                    <a:ext cx="4644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2" name=""/>
                  <p:cNvSpPr/>
                  <p:nvPr/>
                </p:nvSpPr>
                <p:spPr>
                  <a:xfrm flipV="1">
                    <a:off x="2331720" y="353052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3" name=""/>
                  <p:cNvSpPr/>
                  <p:nvPr/>
                </p:nvSpPr>
                <p:spPr>
                  <a:xfrm flipH="1" flipV="1">
                    <a:off x="2333160" y="349884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4" name=""/>
                  <p:cNvSpPr/>
                  <p:nvPr/>
                </p:nvSpPr>
                <p:spPr>
                  <a:xfrm flipV="1">
                    <a:off x="2349000" y="34966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5" name=""/>
                <p:cNvGrpSpPr/>
                <p:nvPr/>
              </p:nvGrpSpPr>
              <p:grpSpPr>
                <a:xfrm>
                  <a:off x="2008440" y="3792240"/>
                  <a:ext cx="163800" cy="174600"/>
                  <a:chOff x="2008440" y="3792240"/>
                  <a:chExt cx="163800" cy="174600"/>
                </a:xfrm>
              </p:grpSpPr>
              <p:sp>
                <p:nvSpPr>
                  <p:cNvPr id="5336" name=""/>
                  <p:cNvSpPr/>
                  <p:nvPr/>
                </p:nvSpPr>
                <p:spPr>
                  <a:xfrm rot="19318200">
                    <a:off x="2045880" y="3803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7" name=""/>
                  <p:cNvSpPr/>
                  <p:nvPr/>
                </p:nvSpPr>
                <p:spPr>
                  <a:xfrm flipH="1" flipV="1">
                    <a:off x="2062080" y="3872160"/>
                    <a:ext cx="100440" cy="33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8" name=""/>
                  <p:cNvSpPr/>
                  <p:nvPr/>
                </p:nvSpPr>
                <p:spPr>
                  <a:xfrm flipH="1" flipV="1">
                    <a:off x="2111040" y="3876840"/>
                    <a:ext cx="172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9" name=""/>
                  <p:cNvSpPr/>
                  <p:nvPr/>
                </p:nvSpPr>
                <p:spPr>
                  <a:xfrm flipH="1">
                    <a:off x="2087280" y="388980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0" name=""/>
                  <p:cNvSpPr/>
                  <p:nvPr/>
                </p:nvSpPr>
                <p:spPr>
                  <a:xfrm flipH="1" flipV="1">
                    <a:off x="2075760" y="387000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1" name=""/>
                <p:cNvGrpSpPr/>
                <p:nvPr/>
              </p:nvGrpSpPr>
              <p:grpSpPr>
                <a:xfrm>
                  <a:off x="1980000" y="3684240"/>
                  <a:ext cx="174600" cy="163800"/>
                  <a:chOff x="1980000" y="3684240"/>
                  <a:chExt cx="174600" cy="163800"/>
                </a:xfrm>
              </p:grpSpPr>
              <p:sp>
                <p:nvSpPr>
                  <p:cNvPr id="5342" name=""/>
                  <p:cNvSpPr/>
                  <p:nvPr/>
                </p:nvSpPr>
                <p:spPr>
                  <a:xfrm rot="18478800">
                    <a:off x="2022840" y="36900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3" name=""/>
                  <p:cNvSpPr/>
                  <p:nvPr/>
                </p:nvSpPr>
                <p:spPr>
                  <a:xfrm flipH="1" flipV="1">
                    <a:off x="2037960" y="3765600"/>
                    <a:ext cx="1054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4" name=""/>
                  <p:cNvSpPr/>
                  <p:nvPr/>
                </p:nvSpPr>
                <p:spPr>
                  <a:xfrm flipH="1" flipV="1">
                    <a:off x="2086920" y="3758400"/>
                    <a:ext cx="19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5" name=""/>
                  <p:cNvSpPr/>
                  <p:nvPr/>
                </p:nvSpPr>
                <p:spPr>
                  <a:xfrm flipH="1">
                    <a:off x="2068200" y="377208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6" name=""/>
                  <p:cNvSpPr/>
                  <p:nvPr/>
                </p:nvSpPr>
                <p:spPr>
                  <a:xfrm flipH="1" flipV="1">
                    <a:off x="2050920" y="376020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7" name=""/>
                <p:cNvGrpSpPr/>
                <p:nvPr/>
              </p:nvGrpSpPr>
              <p:grpSpPr>
                <a:xfrm>
                  <a:off x="2070000" y="3380040"/>
                  <a:ext cx="144000" cy="175320"/>
                  <a:chOff x="2070000" y="3380040"/>
                  <a:chExt cx="144000" cy="175320"/>
                </a:xfrm>
              </p:grpSpPr>
              <p:sp>
                <p:nvSpPr>
                  <p:cNvPr id="5348" name=""/>
                  <p:cNvSpPr/>
                  <p:nvPr/>
                </p:nvSpPr>
                <p:spPr>
                  <a:xfrm rot="20130000">
                    <a:off x="2097360" y="3391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9" name=""/>
                  <p:cNvSpPr/>
                  <p:nvPr/>
                </p:nvSpPr>
                <p:spPr>
                  <a:xfrm flipH="1" flipV="1">
                    <a:off x="2116080" y="3453480"/>
                    <a:ext cx="9000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0" name=""/>
                  <p:cNvSpPr/>
                  <p:nvPr/>
                </p:nvSpPr>
                <p:spPr>
                  <a:xfrm flipH="1" flipV="1">
                    <a:off x="2162880" y="347004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1" name=""/>
                  <p:cNvSpPr/>
                  <p:nvPr/>
                </p:nvSpPr>
                <p:spPr>
                  <a:xfrm flipH="1">
                    <a:off x="2135520" y="348084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2" name=""/>
                  <p:cNvSpPr/>
                  <p:nvPr/>
                </p:nvSpPr>
                <p:spPr>
                  <a:xfrm flipH="1" flipV="1">
                    <a:off x="2130120" y="345492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3" name=""/>
                <p:cNvGrpSpPr/>
                <p:nvPr/>
              </p:nvGrpSpPr>
              <p:grpSpPr>
                <a:xfrm>
                  <a:off x="1991520" y="3431520"/>
                  <a:ext cx="169200" cy="171720"/>
                  <a:chOff x="1991520" y="3431520"/>
                  <a:chExt cx="169200" cy="171720"/>
                </a:xfrm>
              </p:grpSpPr>
              <p:sp>
                <p:nvSpPr>
                  <p:cNvPr id="5354" name=""/>
                  <p:cNvSpPr/>
                  <p:nvPr/>
                </p:nvSpPr>
                <p:spPr>
                  <a:xfrm rot="19002000">
                    <a:off x="2031480" y="3440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5" name=""/>
                  <p:cNvSpPr/>
                  <p:nvPr/>
                </p:nvSpPr>
                <p:spPr>
                  <a:xfrm flipH="1" flipV="1">
                    <a:off x="2047320" y="3512160"/>
                    <a:ext cx="10332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6" name=""/>
                  <p:cNvSpPr/>
                  <p:nvPr/>
                </p:nvSpPr>
                <p:spPr>
                  <a:xfrm flipH="1" flipV="1">
                    <a:off x="2096640" y="3512520"/>
                    <a:ext cx="180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7" name=""/>
                  <p:cNvSpPr/>
                  <p:nvPr/>
                </p:nvSpPr>
                <p:spPr>
                  <a:xfrm flipH="1">
                    <a:off x="2074680" y="352584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8" name=""/>
                  <p:cNvSpPr/>
                  <p:nvPr/>
                </p:nvSpPr>
                <p:spPr>
                  <a:xfrm flipH="1" flipV="1">
                    <a:off x="2061000" y="3508920"/>
                    <a:ext cx="133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9" name=""/>
                <p:cNvGrpSpPr/>
                <p:nvPr/>
              </p:nvGrpSpPr>
              <p:grpSpPr>
                <a:xfrm>
                  <a:off x="2056320" y="3528720"/>
                  <a:ext cx="159840" cy="175680"/>
                  <a:chOff x="2056320" y="3528720"/>
                  <a:chExt cx="159840" cy="175680"/>
                </a:xfrm>
              </p:grpSpPr>
              <p:sp>
                <p:nvSpPr>
                  <p:cNvPr id="5360" name=""/>
                  <p:cNvSpPr/>
                  <p:nvPr/>
                </p:nvSpPr>
                <p:spPr>
                  <a:xfrm rot="19521600">
                    <a:off x="2091600" y="3540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1" name=""/>
                  <p:cNvSpPr/>
                  <p:nvPr/>
                </p:nvSpPr>
                <p:spPr>
                  <a:xfrm flipH="1" flipV="1">
                    <a:off x="2108520" y="36072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2" name=""/>
                  <p:cNvSpPr/>
                  <p:nvPr/>
                </p:nvSpPr>
                <p:spPr>
                  <a:xfrm flipH="1" flipV="1">
                    <a:off x="2157120" y="36147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3" name=""/>
                  <p:cNvSpPr/>
                  <p:nvPr/>
                </p:nvSpPr>
                <p:spPr>
                  <a:xfrm flipH="1">
                    <a:off x="2132280" y="3627360"/>
                    <a:ext cx="187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4" name=""/>
                  <p:cNvSpPr/>
                  <p:nvPr/>
                </p:nvSpPr>
                <p:spPr>
                  <a:xfrm flipH="1" flipV="1">
                    <a:off x="2122560" y="3605760"/>
                    <a:ext cx="122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65" name=""/>
                <p:cNvGrpSpPr/>
                <p:nvPr/>
              </p:nvGrpSpPr>
              <p:grpSpPr>
                <a:xfrm>
                  <a:off x="2193840" y="3441960"/>
                  <a:ext cx="109800" cy="163440"/>
                  <a:chOff x="2193840" y="3441960"/>
                  <a:chExt cx="109800" cy="163440"/>
                </a:xfrm>
              </p:grpSpPr>
              <p:sp>
                <p:nvSpPr>
                  <p:cNvPr id="5366" name=""/>
                  <p:cNvSpPr/>
                  <p:nvPr/>
                </p:nvSpPr>
                <p:spPr>
                  <a:xfrm rot="21105000">
                    <a:off x="2204280" y="3447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7" name=""/>
                  <p:cNvSpPr/>
                  <p:nvPr/>
                </p:nvSpPr>
                <p:spPr>
                  <a:xfrm flipH="1" flipV="1">
                    <a:off x="2228040" y="3502800"/>
                    <a:ext cx="7056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8" name=""/>
                  <p:cNvSpPr/>
                  <p:nvPr/>
                </p:nvSpPr>
                <p:spPr>
                  <a:xfrm flipH="1" flipV="1">
                    <a:off x="2268000" y="35316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9" name=""/>
                  <p:cNvSpPr/>
                  <p:nvPr/>
                </p:nvSpPr>
                <p:spPr>
                  <a:xfrm flipH="1" flipV="1">
                    <a:off x="2238480" y="353556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0" name=""/>
                  <p:cNvSpPr/>
                  <p:nvPr/>
                </p:nvSpPr>
                <p:spPr>
                  <a:xfrm flipH="1" flipV="1">
                    <a:off x="2241000" y="3507840"/>
                    <a:ext cx="75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1" name=""/>
                <p:cNvGrpSpPr/>
                <p:nvPr/>
              </p:nvGrpSpPr>
              <p:grpSpPr>
                <a:xfrm>
                  <a:off x="2225880" y="3689280"/>
                  <a:ext cx="149760" cy="163800"/>
                  <a:chOff x="2225880" y="3689280"/>
                  <a:chExt cx="149760" cy="163800"/>
                </a:xfrm>
              </p:grpSpPr>
              <p:sp>
                <p:nvSpPr>
                  <p:cNvPr id="5372" name=""/>
                  <p:cNvSpPr/>
                  <p:nvPr/>
                </p:nvSpPr>
                <p:spPr>
                  <a:xfrm rot="1555800">
                    <a:off x="2249280" y="37047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3" name=""/>
                  <p:cNvSpPr/>
                  <p:nvPr/>
                </p:nvSpPr>
                <p:spPr>
                  <a:xfrm flipH="1" flipV="1">
                    <a:off x="2292120" y="3744360"/>
                    <a:ext cx="27360" cy="9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4" name=""/>
                  <p:cNvSpPr/>
                  <p:nvPr/>
                </p:nvSpPr>
                <p:spPr>
                  <a:xfrm flipV="1">
                    <a:off x="2314080" y="378828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5" name=""/>
                  <p:cNvSpPr/>
                  <p:nvPr/>
                </p:nvSpPr>
                <p:spPr>
                  <a:xfrm flipH="1" flipV="1">
                    <a:off x="2284920" y="3773520"/>
                    <a:ext cx="154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6" name=""/>
                  <p:cNvSpPr/>
                  <p:nvPr/>
                </p:nvSpPr>
                <p:spPr>
                  <a:xfrm flipH="1" flipV="1">
                    <a:off x="2301480" y="3755520"/>
                    <a:ext cx="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7" name=""/>
                <p:cNvGrpSpPr/>
                <p:nvPr/>
              </p:nvGrpSpPr>
              <p:grpSpPr>
                <a:xfrm>
                  <a:off x="2368080" y="3848040"/>
                  <a:ext cx="166680" cy="173160"/>
                  <a:chOff x="2368080" y="3848040"/>
                  <a:chExt cx="166680" cy="173160"/>
                </a:xfrm>
              </p:grpSpPr>
              <p:sp>
                <p:nvSpPr>
                  <p:cNvPr id="5378" name=""/>
                  <p:cNvSpPr/>
                  <p:nvPr/>
                </p:nvSpPr>
                <p:spPr>
                  <a:xfrm rot="8353200">
                    <a:off x="2406600" y="3858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9" name=""/>
                  <p:cNvSpPr/>
                  <p:nvPr/>
                </p:nvSpPr>
                <p:spPr>
                  <a:xfrm>
                    <a:off x="2377800" y="3912480"/>
                    <a:ext cx="102240" cy="28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0" name=""/>
                  <p:cNvSpPr/>
                  <p:nvPr/>
                </p:nvSpPr>
                <p:spPr>
                  <a:xfrm>
                    <a:off x="2413080" y="3926880"/>
                    <a:ext cx="17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1" name=""/>
                  <p:cNvSpPr/>
                  <p:nvPr/>
                </p:nvSpPr>
                <p:spPr>
                  <a:xfrm flipV="1">
                    <a:off x="2435760" y="391896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2" name=""/>
                  <p:cNvSpPr/>
                  <p:nvPr/>
                </p:nvSpPr>
                <p:spPr>
                  <a:xfrm>
                    <a:off x="2453040" y="3937320"/>
                    <a:ext cx="133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3" name=""/>
                <p:cNvGrpSpPr/>
                <p:nvPr/>
              </p:nvGrpSpPr>
              <p:grpSpPr>
                <a:xfrm>
                  <a:off x="2309760" y="3967920"/>
                  <a:ext cx="164880" cy="174600"/>
                  <a:chOff x="2309760" y="3967920"/>
                  <a:chExt cx="164880" cy="174600"/>
                </a:xfrm>
              </p:grpSpPr>
              <p:sp>
                <p:nvSpPr>
                  <p:cNvPr id="5384" name=""/>
                  <p:cNvSpPr/>
                  <p:nvPr/>
                </p:nvSpPr>
                <p:spPr>
                  <a:xfrm rot="8473200">
                    <a:off x="2347560" y="3979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5" name=""/>
                  <p:cNvSpPr/>
                  <p:nvPr/>
                </p:nvSpPr>
                <p:spPr>
                  <a:xfrm>
                    <a:off x="2319480" y="4030920"/>
                    <a:ext cx="10116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6" name=""/>
                  <p:cNvSpPr/>
                  <p:nvPr/>
                </p:nvSpPr>
                <p:spPr>
                  <a:xfrm>
                    <a:off x="2354400" y="404640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7" name=""/>
                  <p:cNvSpPr/>
                  <p:nvPr/>
                </p:nvSpPr>
                <p:spPr>
                  <a:xfrm flipV="1">
                    <a:off x="2377080" y="403992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8" name=""/>
                  <p:cNvSpPr/>
                  <p:nvPr/>
                </p:nvSpPr>
                <p:spPr>
                  <a:xfrm>
                    <a:off x="2394000" y="405828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9" name=""/>
                <p:cNvGrpSpPr/>
                <p:nvPr/>
              </p:nvGrpSpPr>
              <p:grpSpPr>
                <a:xfrm>
                  <a:off x="2091960" y="3737880"/>
                  <a:ext cx="159120" cy="167040"/>
                  <a:chOff x="2091960" y="3737880"/>
                  <a:chExt cx="159120" cy="167040"/>
                </a:xfrm>
              </p:grpSpPr>
              <p:sp>
                <p:nvSpPr>
                  <p:cNvPr id="5390" name=""/>
                  <p:cNvSpPr/>
                  <p:nvPr/>
                </p:nvSpPr>
                <p:spPr>
                  <a:xfrm rot="2046000">
                    <a:off x="2120040" y="3755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1" name=""/>
                  <p:cNvSpPr/>
                  <p:nvPr/>
                </p:nvSpPr>
                <p:spPr>
                  <a:xfrm flipH="1" flipV="1">
                    <a:off x="2166840" y="3793680"/>
                    <a:ext cx="1332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2" name=""/>
                  <p:cNvSpPr/>
                  <p:nvPr/>
                </p:nvSpPr>
                <p:spPr>
                  <a:xfrm flipV="1">
                    <a:off x="2179440" y="38408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3" name=""/>
                  <p:cNvSpPr/>
                  <p:nvPr/>
                </p:nvSpPr>
                <p:spPr>
                  <a:xfrm flipH="1" flipV="1">
                    <a:off x="2155680" y="38217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4" name=""/>
                  <p:cNvSpPr/>
                  <p:nvPr/>
                </p:nvSpPr>
                <p:spPr>
                  <a:xfrm flipV="1">
                    <a:off x="2173320" y="3806280"/>
                    <a:ext cx="1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95" name=""/>
                <p:cNvGrpSpPr/>
                <p:nvPr/>
              </p:nvGrpSpPr>
              <p:grpSpPr>
                <a:xfrm>
                  <a:off x="2054880" y="3557520"/>
                  <a:ext cx="142560" cy="174960"/>
                  <a:chOff x="2054880" y="3557520"/>
                  <a:chExt cx="142560" cy="174960"/>
                </a:xfrm>
              </p:grpSpPr>
              <p:sp>
                <p:nvSpPr>
                  <p:cNvPr id="5396" name=""/>
                  <p:cNvSpPr/>
                  <p:nvPr/>
                </p:nvSpPr>
                <p:spPr>
                  <a:xfrm rot="1410000">
                    <a:off x="2081520" y="3568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7" name=""/>
                  <p:cNvSpPr/>
                  <p:nvPr/>
                </p:nvSpPr>
                <p:spPr>
                  <a:xfrm flipH="1" flipV="1">
                    <a:off x="2119320" y="3616560"/>
                    <a:ext cx="1872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8" name=""/>
                  <p:cNvSpPr/>
                  <p:nvPr/>
                </p:nvSpPr>
                <p:spPr>
                  <a:xfrm flipV="1">
                    <a:off x="2135520" y="3661920"/>
                    <a:ext cx="288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9" name=""/>
                  <p:cNvSpPr/>
                  <p:nvPr/>
                </p:nvSpPr>
                <p:spPr>
                  <a:xfrm flipH="1" flipV="1">
                    <a:off x="2111040" y="364968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0" name=""/>
                  <p:cNvSpPr/>
                  <p:nvPr/>
                </p:nvSpPr>
                <p:spPr>
                  <a:xfrm flipV="1">
                    <a:off x="2127600" y="3627720"/>
                    <a:ext cx="3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1" name=""/>
                <p:cNvGrpSpPr/>
                <p:nvPr/>
              </p:nvGrpSpPr>
              <p:grpSpPr>
                <a:xfrm>
                  <a:off x="2073240" y="3381120"/>
                  <a:ext cx="137160" cy="173880"/>
                  <a:chOff x="2073240" y="3381120"/>
                  <a:chExt cx="137160" cy="173880"/>
                </a:xfrm>
              </p:grpSpPr>
              <p:sp>
                <p:nvSpPr>
                  <p:cNvPr id="5402" name=""/>
                  <p:cNvSpPr/>
                  <p:nvPr/>
                </p:nvSpPr>
                <p:spPr>
                  <a:xfrm rot="1250400">
                    <a:off x="2097000" y="3391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3" name=""/>
                  <p:cNvSpPr/>
                  <p:nvPr/>
                </p:nvSpPr>
                <p:spPr>
                  <a:xfrm flipH="1" flipV="1">
                    <a:off x="2133720" y="3439800"/>
                    <a:ext cx="2376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4" name=""/>
                  <p:cNvSpPr/>
                  <p:nvPr/>
                </p:nvSpPr>
                <p:spPr>
                  <a:xfrm flipV="1">
                    <a:off x="2153160" y="348444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5" name=""/>
                  <p:cNvSpPr/>
                  <p:nvPr/>
                </p:nvSpPr>
                <p:spPr>
                  <a:xfrm flipH="1" flipV="1">
                    <a:off x="2127240" y="3473280"/>
                    <a:ext cx="140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6" name=""/>
                  <p:cNvSpPr/>
                  <p:nvPr/>
                </p:nvSpPr>
                <p:spPr>
                  <a:xfrm flipH="1" flipV="1">
                    <a:off x="2142720" y="345060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7" name=""/>
                <p:cNvGrpSpPr/>
                <p:nvPr/>
              </p:nvGrpSpPr>
              <p:grpSpPr>
                <a:xfrm>
                  <a:off x="2126520" y="3333600"/>
                  <a:ext cx="155880" cy="165960"/>
                  <a:chOff x="2126520" y="3333600"/>
                  <a:chExt cx="155880" cy="165960"/>
                </a:xfrm>
              </p:grpSpPr>
              <p:sp>
                <p:nvSpPr>
                  <p:cNvPr id="5408" name=""/>
                  <p:cNvSpPr/>
                  <p:nvPr/>
                </p:nvSpPr>
                <p:spPr>
                  <a:xfrm rot="1882200">
                    <a:off x="2153160" y="3350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9" name=""/>
                  <p:cNvSpPr/>
                  <p:nvPr/>
                </p:nvSpPr>
                <p:spPr>
                  <a:xfrm flipH="1" flipV="1">
                    <a:off x="2197800" y="3389040"/>
                    <a:ext cx="1764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0" name=""/>
                  <p:cNvSpPr/>
                  <p:nvPr/>
                </p:nvSpPr>
                <p:spPr>
                  <a:xfrm flipV="1">
                    <a:off x="2214000" y="34351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1" name=""/>
                  <p:cNvSpPr/>
                  <p:nvPr/>
                </p:nvSpPr>
                <p:spPr>
                  <a:xfrm flipH="1" flipV="1">
                    <a:off x="2188440" y="341784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2" name=""/>
                  <p:cNvSpPr/>
                  <p:nvPr/>
                </p:nvSpPr>
                <p:spPr>
                  <a:xfrm flipV="1">
                    <a:off x="2206080" y="3401280"/>
                    <a:ext cx="3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3" name=""/>
              <p:cNvGrpSpPr/>
              <p:nvPr/>
            </p:nvGrpSpPr>
            <p:grpSpPr>
              <a:xfrm>
                <a:off x="2260080" y="2788920"/>
                <a:ext cx="547560" cy="820800"/>
                <a:chOff x="2260080" y="2788920"/>
                <a:chExt cx="547560" cy="820800"/>
              </a:xfrm>
            </p:grpSpPr>
            <p:grpSp>
              <p:nvGrpSpPr>
                <p:cNvPr id="5414" name=""/>
                <p:cNvGrpSpPr/>
                <p:nvPr/>
              </p:nvGrpSpPr>
              <p:grpSpPr>
                <a:xfrm>
                  <a:off x="2588400" y="3128040"/>
                  <a:ext cx="140040" cy="174600"/>
                  <a:chOff x="2588400" y="3128040"/>
                  <a:chExt cx="140040" cy="174600"/>
                </a:xfrm>
              </p:grpSpPr>
              <p:sp>
                <p:nvSpPr>
                  <p:cNvPr id="5415" name=""/>
                  <p:cNvSpPr/>
                  <p:nvPr/>
                </p:nvSpPr>
                <p:spPr>
                  <a:xfrm rot="9465600">
                    <a:off x="2613960" y="3139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6" name=""/>
                  <p:cNvSpPr/>
                  <p:nvPr/>
                </p:nvSpPr>
                <p:spPr>
                  <a:xfrm>
                    <a:off x="2595960" y="3171240"/>
                    <a:ext cx="8748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7" name=""/>
                  <p:cNvSpPr/>
                  <p:nvPr/>
                </p:nvSpPr>
                <p:spPr>
                  <a:xfrm>
                    <a:off x="2624760" y="319608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8" name=""/>
                  <p:cNvSpPr/>
                  <p:nvPr/>
                </p:nvSpPr>
                <p:spPr>
                  <a:xfrm flipV="1">
                    <a:off x="2646360" y="320148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9" name=""/>
                  <p:cNvSpPr/>
                  <p:nvPr/>
                </p:nvSpPr>
                <p:spPr>
                  <a:xfrm>
                    <a:off x="2659320" y="3218760"/>
                    <a:ext cx="10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0" name=""/>
                <p:cNvSpPr/>
                <p:nvPr/>
              </p:nvSpPr>
              <p:spPr>
                <a:xfrm flipH="1" flipV="1">
                  <a:off x="2433600" y="310032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1" name=""/>
                <p:cNvSpPr/>
                <p:nvPr/>
              </p:nvSpPr>
              <p:spPr>
                <a:xfrm rot="5650200">
                  <a:off x="2148840" y="3097080"/>
                  <a:ext cx="57060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2" name=""/>
                <p:cNvSpPr/>
                <p:nvPr/>
              </p:nvSpPr>
              <p:spPr>
                <a:xfrm flipV="1">
                  <a:off x="2527200" y="309456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3" name=""/>
                <p:cNvSpPr/>
                <p:nvPr/>
              </p:nvSpPr>
              <p:spPr>
                <a:xfrm flipV="1">
                  <a:off x="2307240" y="336060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4" name=""/>
                <p:cNvSpPr/>
                <p:nvPr/>
              </p:nvSpPr>
              <p:spPr>
                <a:xfrm flipH="1" flipV="1">
                  <a:off x="2408760" y="316656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5" name=""/>
                <p:cNvSpPr/>
                <p:nvPr/>
              </p:nvSpPr>
              <p:spPr>
                <a:xfrm flipV="1">
                  <a:off x="2460240" y="321804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 flipV="1">
                  <a:off x="2590200" y="304740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7" name=""/>
                <p:cNvSpPr/>
                <p:nvPr/>
              </p:nvSpPr>
              <p:spPr>
                <a:xfrm>
                  <a:off x="2568960" y="315540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8" name=""/>
                <p:cNvSpPr/>
                <p:nvPr/>
              </p:nvSpPr>
              <p:spPr>
                <a:xfrm flipH="1" flipV="1">
                  <a:off x="2522520" y="296892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9" name=""/>
                <p:cNvSpPr/>
                <p:nvPr/>
              </p:nvSpPr>
              <p:spPr>
                <a:xfrm flipV="1">
                  <a:off x="2430360" y="326808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0" name=""/>
                <p:cNvSpPr/>
                <p:nvPr/>
              </p:nvSpPr>
              <p:spPr>
                <a:xfrm flipV="1">
                  <a:off x="2496600" y="331380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>
                  <a:off x="2389680" y="344016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2" name=""/>
                <p:cNvSpPr/>
                <p:nvPr/>
              </p:nvSpPr>
              <p:spPr>
                <a:xfrm>
                  <a:off x="2512800" y="338040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3" name=""/>
                <p:cNvSpPr/>
                <p:nvPr/>
              </p:nvSpPr>
              <p:spPr>
                <a:xfrm flipH="1" flipV="1">
                  <a:off x="2379240" y="330228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4" name=""/>
                <p:cNvSpPr/>
                <p:nvPr/>
              </p:nvSpPr>
              <p:spPr>
                <a:xfrm flipH="1" flipV="1">
                  <a:off x="2516040" y="306036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5" name=""/>
                <p:cNvSpPr/>
                <p:nvPr/>
              </p:nvSpPr>
              <p:spPr>
                <a:xfrm flipV="1">
                  <a:off x="2580840" y="297648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36" name=""/>
                <p:cNvGrpSpPr/>
                <p:nvPr/>
              </p:nvGrpSpPr>
              <p:grpSpPr>
                <a:xfrm>
                  <a:off x="2640960" y="3024720"/>
                  <a:ext cx="166680" cy="158040"/>
                  <a:chOff x="2640960" y="3024720"/>
                  <a:chExt cx="166680" cy="158040"/>
                </a:xfrm>
              </p:grpSpPr>
              <p:sp>
                <p:nvSpPr>
                  <p:cNvPr id="5437" name=""/>
                  <p:cNvSpPr/>
                  <p:nvPr/>
                </p:nvSpPr>
                <p:spPr>
                  <a:xfrm rot="7395600">
                    <a:off x="2672640" y="30376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8" name=""/>
                  <p:cNvSpPr/>
                  <p:nvPr/>
                </p:nvSpPr>
                <p:spPr>
                  <a:xfrm flipV="1">
                    <a:off x="2651040" y="309852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9" name=""/>
                  <p:cNvSpPr/>
                  <p:nvPr/>
                </p:nvSpPr>
                <p:spPr>
                  <a:xfrm>
                    <a:off x="2687040" y="31122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0" name=""/>
                  <p:cNvSpPr/>
                  <p:nvPr/>
                </p:nvSpPr>
                <p:spPr>
                  <a:xfrm flipV="1">
                    <a:off x="2707920" y="308772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1" name=""/>
                  <p:cNvSpPr/>
                  <p:nvPr/>
                </p:nvSpPr>
                <p:spPr>
                  <a:xfrm>
                    <a:off x="2726280" y="310536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2" name=""/>
                <p:cNvGrpSpPr/>
                <p:nvPr/>
              </p:nvGrpSpPr>
              <p:grpSpPr>
                <a:xfrm>
                  <a:off x="2442600" y="3088080"/>
                  <a:ext cx="158760" cy="140760"/>
                  <a:chOff x="2442600" y="3088080"/>
                  <a:chExt cx="158760" cy="140760"/>
                </a:xfrm>
              </p:grpSpPr>
              <p:sp>
                <p:nvSpPr>
                  <p:cNvPr id="5443" name=""/>
                  <p:cNvSpPr/>
                  <p:nvPr/>
                </p:nvSpPr>
                <p:spPr>
                  <a:xfrm rot="4237200">
                    <a:off x="2470320" y="3092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4" name=""/>
                  <p:cNvSpPr/>
                  <p:nvPr/>
                </p:nvSpPr>
                <p:spPr>
                  <a:xfrm flipV="1">
                    <a:off x="2485080" y="3133080"/>
                    <a:ext cx="496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5" name=""/>
                  <p:cNvSpPr/>
                  <p:nvPr/>
                </p:nvSpPr>
                <p:spPr>
                  <a:xfrm flipV="1">
                    <a:off x="2505960" y="318096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6" name=""/>
                  <p:cNvSpPr/>
                  <p:nvPr/>
                </p:nvSpPr>
                <p:spPr>
                  <a:xfrm flipH="1" flipV="1">
                    <a:off x="2508840" y="314892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7" name=""/>
                  <p:cNvSpPr/>
                  <p:nvPr/>
                </p:nvSpPr>
                <p:spPr>
                  <a:xfrm flipV="1">
                    <a:off x="2524680" y="314748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8" name=""/>
                <p:cNvGrpSpPr/>
                <p:nvPr/>
              </p:nvGrpSpPr>
              <p:grpSpPr>
                <a:xfrm>
                  <a:off x="2525760" y="3175920"/>
                  <a:ext cx="139320" cy="111960"/>
                  <a:chOff x="2525760" y="3175920"/>
                  <a:chExt cx="139320" cy="111960"/>
                </a:xfrm>
              </p:grpSpPr>
              <p:sp>
                <p:nvSpPr>
                  <p:cNvPr id="5449" name=""/>
                  <p:cNvSpPr/>
                  <p:nvPr/>
                </p:nvSpPr>
                <p:spPr>
                  <a:xfrm rot="5650200">
                    <a:off x="2544120" y="3165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0" name=""/>
                  <p:cNvSpPr/>
                  <p:nvPr/>
                </p:nvSpPr>
                <p:spPr>
                  <a:xfrm flipV="1">
                    <a:off x="2536200" y="321408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1" name=""/>
                  <p:cNvSpPr/>
                  <p:nvPr/>
                </p:nvSpPr>
                <p:spPr>
                  <a:xfrm flipV="1">
                    <a:off x="2567160" y="325224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2" name=""/>
                  <p:cNvSpPr/>
                  <p:nvPr/>
                </p:nvSpPr>
                <p:spPr>
                  <a:xfrm flipV="1">
                    <a:off x="2580120" y="321840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3" name=""/>
                  <p:cNvSpPr/>
                  <p:nvPr/>
                </p:nvSpPr>
                <p:spPr>
                  <a:xfrm flipV="1">
                    <a:off x="2598120" y="322668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54" name=""/>
                <p:cNvGrpSpPr/>
                <p:nvPr/>
              </p:nvGrpSpPr>
              <p:grpSpPr>
                <a:xfrm>
                  <a:off x="2345760" y="2957760"/>
                  <a:ext cx="96840" cy="156600"/>
                  <a:chOff x="2345760" y="2957760"/>
                  <a:chExt cx="96840" cy="156600"/>
                </a:xfrm>
              </p:grpSpPr>
              <p:sp>
                <p:nvSpPr>
                  <p:cNvPr id="5455" name=""/>
                  <p:cNvSpPr/>
                  <p:nvPr/>
                </p:nvSpPr>
                <p:spPr>
                  <a:xfrm rot="21420000">
                    <a:off x="2349360" y="2959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6" name=""/>
                  <p:cNvSpPr/>
                  <p:nvPr/>
                </p:nvSpPr>
                <p:spPr>
                  <a:xfrm flipH="1" flipV="1">
                    <a:off x="2375280" y="301356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7" name=""/>
                  <p:cNvSpPr/>
                  <p:nvPr/>
                </p:nvSpPr>
                <p:spPr>
                  <a:xfrm flipH="1" flipV="1">
                    <a:off x="2412720" y="304560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8" name=""/>
                  <p:cNvSpPr/>
                  <p:nvPr/>
                </p:nvSpPr>
                <p:spPr>
                  <a:xfrm flipH="1" flipV="1">
                    <a:off x="2382840" y="304704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9" name=""/>
                  <p:cNvSpPr/>
                  <p:nvPr/>
                </p:nvSpPr>
                <p:spPr>
                  <a:xfrm flipH="1" flipV="1">
                    <a:off x="2387880" y="301968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0" name=""/>
                <p:cNvGrpSpPr/>
                <p:nvPr/>
              </p:nvGrpSpPr>
              <p:grpSpPr>
                <a:xfrm>
                  <a:off x="2606760" y="2883960"/>
                  <a:ext cx="139320" cy="111960"/>
                  <a:chOff x="2606760" y="2883960"/>
                  <a:chExt cx="139320" cy="111960"/>
                </a:xfrm>
              </p:grpSpPr>
              <p:sp>
                <p:nvSpPr>
                  <p:cNvPr id="5461" name=""/>
                  <p:cNvSpPr/>
                  <p:nvPr/>
                </p:nvSpPr>
                <p:spPr>
                  <a:xfrm rot="5650200">
                    <a:off x="2625120" y="2873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2" name=""/>
                  <p:cNvSpPr/>
                  <p:nvPr/>
                </p:nvSpPr>
                <p:spPr>
                  <a:xfrm flipV="1">
                    <a:off x="2617200" y="292212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3" name=""/>
                  <p:cNvSpPr/>
                  <p:nvPr/>
                </p:nvSpPr>
                <p:spPr>
                  <a:xfrm flipV="1">
                    <a:off x="2648160" y="296064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4" name=""/>
                  <p:cNvSpPr/>
                  <p:nvPr/>
                </p:nvSpPr>
                <p:spPr>
                  <a:xfrm flipV="1">
                    <a:off x="2661120" y="29264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5" name=""/>
                  <p:cNvSpPr/>
                  <p:nvPr/>
                </p:nvSpPr>
                <p:spPr>
                  <a:xfrm flipV="1">
                    <a:off x="2679120" y="293508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6" name=""/>
                <p:cNvGrpSpPr/>
                <p:nvPr/>
              </p:nvGrpSpPr>
              <p:grpSpPr>
                <a:xfrm>
                  <a:off x="2539440" y="3268440"/>
                  <a:ext cx="139320" cy="111960"/>
                  <a:chOff x="2539440" y="3268440"/>
                  <a:chExt cx="139320" cy="111960"/>
                </a:xfrm>
              </p:grpSpPr>
              <p:sp>
                <p:nvSpPr>
                  <p:cNvPr id="5467" name=""/>
                  <p:cNvSpPr/>
                  <p:nvPr/>
                </p:nvSpPr>
                <p:spPr>
                  <a:xfrm rot="5650200">
                    <a:off x="2557800" y="3258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8" name=""/>
                  <p:cNvSpPr/>
                  <p:nvPr/>
                </p:nvSpPr>
                <p:spPr>
                  <a:xfrm flipV="1">
                    <a:off x="2549520" y="330624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9" name=""/>
                  <p:cNvSpPr/>
                  <p:nvPr/>
                </p:nvSpPr>
                <p:spPr>
                  <a:xfrm flipV="1">
                    <a:off x="2580480" y="33447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0" name=""/>
                  <p:cNvSpPr/>
                  <p:nvPr/>
                </p:nvSpPr>
                <p:spPr>
                  <a:xfrm flipV="1">
                    <a:off x="2593440" y="331056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1" name=""/>
                  <p:cNvSpPr/>
                  <p:nvPr/>
                </p:nvSpPr>
                <p:spPr>
                  <a:xfrm flipV="1">
                    <a:off x="2611800" y="331920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2" name=""/>
                <p:cNvGrpSpPr/>
                <p:nvPr/>
              </p:nvGrpSpPr>
              <p:grpSpPr>
                <a:xfrm>
                  <a:off x="2641680" y="2955600"/>
                  <a:ext cx="139320" cy="111960"/>
                  <a:chOff x="2641680" y="2955600"/>
                  <a:chExt cx="139320" cy="111960"/>
                </a:xfrm>
              </p:grpSpPr>
              <p:sp>
                <p:nvSpPr>
                  <p:cNvPr id="5473" name=""/>
                  <p:cNvSpPr/>
                  <p:nvPr/>
                </p:nvSpPr>
                <p:spPr>
                  <a:xfrm rot="5650200">
                    <a:off x="2660040" y="29455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4" name=""/>
                  <p:cNvSpPr/>
                  <p:nvPr/>
                </p:nvSpPr>
                <p:spPr>
                  <a:xfrm flipV="1">
                    <a:off x="2651760" y="299340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5" name=""/>
                  <p:cNvSpPr/>
                  <p:nvPr/>
                </p:nvSpPr>
                <p:spPr>
                  <a:xfrm flipV="1">
                    <a:off x="2682720" y="303192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6" name=""/>
                  <p:cNvSpPr/>
                  <p:nvPr/>
                </p:nvSpPr>
                <p:spPr>
                  <a:xfrm flipV="1">
                    <a:off x="2695680" y="299772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7" name=""/>
                  <p:cNvSpPr/>
                  <p:nvPr/>
                </p:nvSpPr>
                <p:spPr>
                  <a:xfrm flipV="1">
                    <a:off x="2714040" y="300636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8" name=""/>
                <p:cNvGrpSpPr/>
                <p:nvPr/>
              </p:nvGrpSpPr>
              <p:grpSpPr>
                <a:xfrm>
                  <a:off x="2260080" y="3152520"/>
                  <a:ext cx="119880" cy="168120"/>
                  <a:chOff x="2260080" y="3152520"/>
                  <a:chExt cx="119880" cy="168120"/>
                </a:xfrm>
              </p:grpSpPr>
              <p:sp>
                <p:nvSpPr>
                  <p:cNvPr id="5479" name=""/>
                  <p:cNvSpPr/>
                  <p:nvPr/>
                </p:nvSpPr>
                <p:spPr>
                  <a:xfrm rot="20848800">
                    <a:off x="2275200" y="31604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0" name=""/>
                  <p:cNvSpPr/>
                  <p:nvPr/>
                </p:nvSpPr>
                <p:spPr>
                  <a:xfrm flipH="1" flipV="1">
                    <a:off x="2297520" y="3217680"/>
                    <a:ext cx="7668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1" name=""/>
                  <p:cNvSpPr/>
                  <p:nvPr/>
                </p:nvSpPr>
                <p:spPr>
                  <a:xfrm flipH="1" flipV="1">
                    <a:off x="2340000" y="324324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2" name=""/>
                  <p:cNvSpPr/>
                  <p:nvPr/>
                </p:nvSpPr>
                <p:spPr>
                  <a:xfrm flipH="1" flipV="1">
                    <a:off x="2310480" y="3249360"/>
                    <a:ext cx="18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3" name=""/>
                  <p:cNvSpPr/>
                  <p:nvPr/>
                </p:nvSpPr>
                <p:spPr>
                  <a:xfrm flipH="1" flipV="1">
                    <a:off x="2311200" y="3221640"/>
                    <a:ext cx="82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84" name=""/>
                <p:cNvGrpSpPr/>
                <p:nvPr/>
              </p:nvGrpSpPr>
              <p:grpSpPr>
                <a:xfrm>
                  <a:off x="2274120" y="3036240"/>
                  <a:ext cx="147600" cy="175680"/>
                  <a:chOff x="2274120" y="3036240"/>
                  <a:chExt cx="147600" cy="175680"/>
                </a:xfrm>
              </p:grpSpPr>
              <p:sp>
                <p:nvSpPr>
                  <p:cNvPr id="5485" name=""/>
                  <p:cNvSpPr/>
                  <p:nvPr/>
                </p:nvSpPr>
                <p:spPr>
                  <a:xfrm rot="20009400">
                    <a:off x="2303280" y="3047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6" name=""/>
                  <p:cNvSpPr/>
                  <p:nvPr/>
                </p:nvSpPr>
                <p:spPr>
                  <a:xfrm flipH="1" flipV="1">
                    <a:off x="2321640" y="3111120"/>
                    <a:ext cx="9216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7" name=""/>
                  <p:cNvSpPr/>
                  <p:nvPr/>
                </p:nvSpPr>
                <p:spPr>
                  <a:xfrm flipH="1" flipV="1">
                    <a:off x="2368800" y="312588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8" name=""/>
                  <p:cNvSpPr/>
                  <p:nvPr/>
                </p:nvSpPr>
                <p:spPr>
                  <a:xfrm flipH="1">
                    <a:off x="2342160" y="313704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9" name=""/>
                  <p:cNvSpPr/>
                  <p:nvPr/>
                </p:nvSpPr>
                <p:spPr>
                  <a:xfrm flipH="1" flipV="1">
                    <a:off x="2335680" y="311184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0" name=""/>
                <p:cNvGrpSpPr/>
                <p:nvPr/>
              </p:nvGrpSpPr>
              <p:grpSpPr>
                <a:xfrm>
                  <a:off x="2498400" y="2810160"/>
                  <a:ext cx="91440" cy="153720"/>
                  <a:chOff x="2498400" y="2810160"/>
                  <a:chExt cx="91440" cy="153720"/>
                </a:xfrm>
              </p:grpSpPr>
              <p:sp>
                <p:nvSpPr>
                  <p:cNvPr id="5491" name=""/>
                  <p:cNvSpPr/>
                  <p:nvPr/>
                </p:nvSpPr>
                <p:spPr>
                  <a:xfrm rot="60600">
                    <a:off x="2499480" y="2810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2" name=""/>
                  <p:cNvSpPr/>
                  <p:nvPr/>
                </p:nvSpPr>
                <p:spPr>
                  <a:xfrm flipH="1" flipV="1">
                    <a:off x="2526840" y="2863440"/>
                    <a:ext cx="568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3" name=""/>
                  <p:cNvSpPr/>
                  <p:nvPr/>
                </p:nvSpPr>
                <p:spPr>
                  <a:xfrm flipH="1" flipV="1">
                    <a:off x="2561760" y="289800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 flipH="1" flipV="1">
                    <a:off x="2531880" y="289728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5" name=""/>
                  <p:cNvSpPr/>
                  <p:nvPr/>
                </p:nvSpPr>
                <p:spPr>
                  <a:xfrm flipH="1" flipV="1">
                    <a:off x="2538720" y="2870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6" name=""/>
                <p:cNvGrpSpPr/>
                <p:nvPr/>
              </p:nvGrpSpPr>
              <p:grpSpPr>
                <a:xfrm>
                  <a:off x="2397600" y="2817360"/>
                  <a:ext cx="131040" cy="172440"/>
                  <a:chOff x="2397600" y="2817360"/>
                  <a:chExt cx="131040" cy="172440"/>
                </a:xfrm>
              </p:grpSpPr>
              <p:sp>
                <p:nvSpPr>
                  <p:cNvPr id="5497" name=""/>
                  <p:cNvSpPr/>
                  <p:nvPr/>
                </p:nvSpPr>
                <p:spPr>
                  <a:xfrm rot="20532600">
                    <a:off x="2418480" y="28274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8" name=""/>
                  <p:cNvSpPr/>
                  <p:nvPr/>
                </p:nvSpPr>
                <p:spPr>
                  <a:xfrm flipH="1" flipV="1">
                    <a:off x="2439360" y="288648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9" name=""/>
                  <p:cNvSpPr/>
                  <p:nvPr/>
                </p:nvSpPr>
                <p:spPr>
                  <a:xfrm flipH="1" flipV="1">
                    <a:off x="2483640" y="290808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0" name=""/>
                  <p:cNvSpPr/>
                  <p:nvPr/>
                </p:nvSpPr>
                <p:spPr>
                  <a:xfrm flipH="1" flipV="1">
                    <a:off x="2455200" y="291708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1" name=""/>
                  <p:cNvSpPr/>
                  <p:nvPr/>
                </p:nvSpPr>
                <p:spPr>
                  <a:xfrm flipH="1" flipV="1">
                    <a:off x="2453040" y="288936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2" name=""/>
                <p:cNvGrpSpPr/>
                <p:nvPr/>
              </p:nvGrpSpPr>
              <p:grpSpPr>
                <a:xfrm>
                  <a:off x="2418840" y="2937240"/>
                  <a:ext cx="111960" cy="164520"/>
                  <a:chOff x="2418840" y="2937240"/>
                  <a:chExt cx="111960" cy="164520"/>
                </a:xfrm>
              </p:grpSpPr>
              <p:sp>
                <p:nvSpPr>
                  <p:cNvPr id="5503" name=""/>
                  <p:cNvSpPr/>
                  <p:nvPr/>
                </p:nvSpPr>
                <p:spPr>
                  <a:xfrm rot="21052200">
                    <a:off x="2430360" y="29430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 flipH="1" flipV="1">
                    <a:off x="2453760" y="2998800"/>
                    <a:ext cx="7200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 flipH="1" flipV="1">
                    <a:off x="2494440" y="302688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 flipH="1" flipV="1">
                    <a:off x="2464560" y="303120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7" name=""/>
                  <p:cNvSpPr/>
                  <p:nvPr/>
                </p:nvSpPr>
                <p:spPr>
                  <a:xfrm flipH="1" flipV="1">
                    <a:off x="2466720" y="300348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8" name=""/>
                <p:cNvGrpSpPr/>
                <p:nvPr/>
              </p:nvGrpSpPr>
              <p:grpSpPr>
                <a:xfrm>
                  <a:off x="2550960" y="2897640"/>
                  <a:ext cx="130320" cy="171720"/>
                  <a:chOff x="2550960" y="2897640"/>
                  <a:chExt cx="130320" cy="171720"/>
                </a:xfrm>
              </p:grpSpPr>
              <p:sp>
                <p:nvSpPr>
                  <p:cNvPr id="5509" name=""/>
                  <p:cNvSpPr/>
                  <p:nvPr/>
                </p:nvSpPr>
                <p:spPr>
                  <a:xfrm rot="1035600">
                    <a:off x="2571480" y="2907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"/>
                  <p:cNvSpPr/>
                  <p:nvPr/>
                </p:nvSpPr>
                <p:spPr>
                  <a:xfrm flipH="1" flipV="1">
                    <a:off x="2606400" y="2955600"/>
                    <a:ext cx="29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1" name=""/>
                  <p:cNvSpPr/>
                  <p:nvPr/>
                </p:nvSpPr>
                <p:spPr>
                  <a:xfrm flipV="1">
                    <a:off x="2629800" y="29988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2" name=""/>
                  <p:cNvSpPr/>
                  <p:nvPr/>
                </p:nvSpPr>
                <p:spPr>
                  <a:xfrm flipH="1" flipV="1">
                    <a:off x="2602080" y="298980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3" name=""/>
                  <p:cNvSpPr/>
                  <p:nvPr/>
                </p:nvSpPr>
                <p:spPr>
                  <a:xfrm flipH="1" flipV="1">
                    <a:off x="2616120" y="29660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14" name=""/>
                <p:cNvGrpSpPr/>
                <p:nvPr/>
              </p:nvGrpSpPr>
              <p:grpSpPr>
                <a:xfrm>
                  <a:off x="2472840" y="3148200"/>
                  <a:ext cx="167400" cy="162720"/>
                  <a:chOff x="2472840" y="3148200"/>
                  <a:chExt cx="167400" cy="162720"/>
                </a:xfrm>
              </p:grpSpPr>
              <p:sp>
                <p:nvSpPr>
                  <p:cNvPr id="5515" name=""/>
                  <p:cNvSpPr/>
                  <p:nvPr/>
                </p:nvSpPr>
                <p:spPr>
                  <a:xfrm rot="3086400">
                    <a:off x="2504880" y="3163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6" name=""/>
                  <p:cNvSpPr/>
                  <p:nvPr/>
                </p:nvSpPr>
                <p:spPr>
                  <a:xfrm flipV="1">
                    <a:off x="2542680" y="320112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7" name=""/>
                  <p:cNvSpPr/>
                  <p:nvPr/>
                </p:nvSpPr>
                <p:spPr>
                  <a:xfrm flipV="1">
                    <a:off x="2553120" y="325116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8" name=""/>
                  <p:cNvSpPr/>
                  <p:nvPr/>
                </p:nvSpPr>
                <p:spPr>
                  <a:xfrm flipH="1" flipV="1">
                    <a:off x="2541240" y="322488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"/>
                  <p:cNvSpPr/>
                  <p:nvPr/>
                </p:nvSpPr>
                <p:spPr>
                  <a:xfrm flipV="1">
                    <a:off x="2558880" y="321552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0" name=""/>
                <p:cNvGrpSpPr/>
                <p:nvPr/>
              </p:nvGrpSpPr>
              <p:grpSpPr>
                <a:xfrm>
                  <a:off x="2558880" y="3356640"/>
                  <a:ext cx="126000" cy="170280"/>
                  <a:chOff x="2558880" y="3356640"/>
                  <a:chExt cx="126000" cy="170280"/>
                </a:xfrm>
              </p:grpSpPr>
              <p:sp>
                <p:nvSpPr>
                  <p:cNvPr id="5521" name=""/>
                  <p:cNvSpPr/>
                  <p:nvPr/>
                </p:nvSpPr>
                <p:spPr>
                  <a:xfrm rot="9883800">
                    <a:off x="2577240" y="3365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2" name=""/>
                  <p:cNvSpPr/>
                  <p:nvPr/>
                </p:nvSpPr>
                <p:spPr>
                  <a:xfrm>
                    <a:off x="2565360" y="339048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3" name=""/>
                  <p:cNvSpPr/>
                  <p:nvPr/>
                </p:nvSpPr>
                <p:spPr>
                  <a:xfrm>
                    <a:off x="2590920" y="341856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4" name=""/>
                  <p:cNvSpPr/>
                  <p:nvPr/>
                </p:nvSpPr>
                <p:spPr>
                  <a:xfrm>
                    <a:off x="2611800" y="342720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5" name=""/>
                  <p:cNvSpPr/>
                  <p:nvPr/>
                </p:nvSpPr>
                <p:spPr>
                  <a:xfrm>
                    <a:off x="2622600" y="3445560"/>
                    <a:ext cx="9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6" name=""/>
                <p:cNvGrpSpPr/>
                <p:nvPr/>
              </p:nvGrpSpPr>
              <p:grpSpPr>
                <a:xfrm>
                  <a:off x="2455920" y="3440880"/>
                  <a:ext cx="121680" cy="168840"/>
                  <a:chOff x="2455920" y="3440880"/>
                  <a:chExt cx="121680" cy="168840"/>
                </a:xfrm>
              </p:grpSpPr>
              <p:sp>
                <p:nvSpPr>
                  <p:cNvPr id="5527" name=""/>
                  <p:cNvSpPr/>
                  <p:nvPr/>
                </p:nvSpPr>
                <p:spPr>
                  <a:xfrm rot="10003800">
                    <a:off x="2472120" y="3449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8" name=""/>
                  <p:cNvSpPr/>
                  <p:nvPr/>
                </p:nvSpPr>
                <p:spPr>
                  <a:xfrm>
                    <a:off x="2461680" y="347220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9" name=""/>
                  <p:cNvSpPr/>
                  <p:nvPr/>
                </p:nvSpPr>
                <p:spPr>
                  <a:xfrm>
                    <a:off x="2486160" y="350100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0" name=""/>
                  <p:cNvSpPr/>
                  <p:nvPr/>
                </p:nvSpPr>
                <p:spPr>
                  <a:xfrm>
                    <a:off x="2507040" y="351036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1" name=""/>
                  <p:cNvSpPr/>
                  <p:nvPr/>
                </p:nvSpPr>
                <p:spPr>
                  <a:xfrm>
                    <a:off x="2517120" y="352908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2" name=""/>
                <p:cNvGrpSpPr/>
                <p:nvPr/>
              </p:nvGrpSpPr>
              <p:grpSpPr>
                <a:xfrm>
                  <a:off x="2335320" y="3141360"/>
                  <a:ext cx="165960" cy="155520"/>
                  <a:chOff x="2335320" y="3141360"/>
                  <a:chExt cx="165960" cy="155520"/>
                </a:xfrm>
              </p:grpSpPr>
              <p:sp>
                <p:nvSpPr>
                  <p:cNvPr id="5533" name=""/>
                  <p:cNvSpPr/>
                  <p:nvPr/>
                </p:nvSpPr>
                <p:spPr>
                  <a:xfrm rot="3576600">
                    <a:off x="2367000" y="3152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4" name=""/>
                  <p:cNvSpPr/>
                  <p:nvPr/>
                </p:nvSpPr>
                <p:spPr>
                  <a:xfrm flipV="1">
                    <a:off x="2394360" y="319212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 flipV="1">
                    <a:off x="2409480" y="32418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 flipH="1" flipV="1">
                    <a:off x="2403720" y="321264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 flipV="1">
                    <a:off x="2420640" y="320652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8" name=""/>
                <p:cNvGrpSpPr/>
                <p:nvPr/>
              </p:nvGrpSpPr>
              <p:grpSpPr>
                <a:xfrm>
                  <a:off x="2366640" y="2957040"/>
                  <a:ext cx="173160" cy="167040"/>
                  <a:chOff x="2366640" y="2957040"/>
                  <a:chExt cx="173160" cy="167040"/>
                </a:xfrm>
              </p:grpSpPr>
              <p:sp>
                <p:nvSpPr>
                  <p:cNvPr id="5539" name=""/>
                  <p:cNvSpPr/>
                  <p:nvPr/>
                </p:nvSpPr>
                <p:spPr>
                  <a:xfrm rot="2940600">
                    <a:off x="2408400" y="2964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0" name=""/>
                  <p:cNvSpPr/>
                  <p:nvPr/>
                </p:nvSpPr>
                <p:spPr>
                  <a:xfrm flipV="1">
                    <a:off x="2431440" y="3011760"/>
                    <a:ext cx="2808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1" name=""/>
                  <p:cNvSpPr/>
                  <p:nvPr/>
                </p:nvSpPr>
                <p:spPr>
                  <a:xfrm flipV="1">
                    <a:off x="2445480" y="306108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2" name=""/>
                  <p:cNvSpPr/>
                  <p:nvPr/>
                </p:nvSpPr>
                <p:spPr>
                  <a:xfrm flipH="1" flipV="1">
                    <a:off x="2437560" y="303840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3" name=""/>
                  <p:cNvSpPr/>
                  <p:nvPr/>
                </p:nvSpPr>
                <p:spPr>
                  <a:xfrm flipV="1">
                    <a:off x="2455920" y="302544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44" name=""/>
                <p:cNvGrpSpPr/>
                <p:nvPr/>
              </p:nvGrpSpPr>
              <p:grpSpPr>
                <a:xfrm>
                  <a:off x="2457720" y="2802600"/>
                  <a:ext cx="171720" cy="169560"/>
                  <a:chOff x="2457720" y="2802600"/>
                  <a:chExt cx="171720" cy="169560"/>
                </a:xfrm>
              </p:grpSpPr>
              <p:sp>
                <p:nvSpPr>
                  <p:cNvPr id="5545" name=""/>
                  <p:cNvSpPr/>
                  <p:nvPr/>
                </p:nvSpPr>
                <p:spPr>
                  <a:xfrm rot="2781000">
                    <a:off x="2498760" y="2810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6" name=""/>
                  <p:cNvSpPr/>
                  <p:nvPr/>
                </p:nvSpPr>
                <p:spPr>
                  <a:xfrm flipV="1">
                    <a:off x="2525400" y="2858400"/>
                    <a:ext cx="2340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7" name=""/>
                  <p:cNvSpPr/>
                  <p:nvPr/>
                </p:nvSpPr>
                <p:spPr>
                  <a:xfrm flipV="1">
                    <a:off x="2538000" y="290772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8" name=""/>
                  <p:cNvSpPr/>
                  <p:nvPr/>
                </p:nvSpPr>
                <p:spPr>
                  <a:xfrm flipH="1" flipV="1">
                    <a:off x="2528280" y="288576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9" name=""/>
                  <p:cNvSpPr/>
                  <p:nvPr/>
                </p:nvSpPr>
                <p:spPr>
                  <a:xfrm flipV="1">
                    <a:off x="2546640" y="287208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0" name=""/>
                <p:cNvGrpSpPr/>
                <p:nvPr/>
              </p:nvGrpSpPr>
              <p:grpSpPr>
                <a:xfrm>
                  <a:off x="2539080" y="2788920"/>
                  <a:ext cx="166320" cy="157680"/>
                  <a:chOff x="2539080" y="2788920"/>
                  <a:chExt cx="166320" cy="157680"/>
                </a:xfrm>
              </p:grpSpPr>
              <p:sp>
                <p:nvSpPr>
                  <p:cNvPr id="5551" name=""/>
                  <p:cNvSpPr/>
                  <p:nvPr/>
                </p:nvSpPr>
                <p:spPr>
                  <a:xfrm rot="3412800">
                    <a:off x="2570760" y="2801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2" name=""/>
                  <p:cNvSpPr/>
                  <p:nvPr/>
                </p:nvSpPr>
                <p:spPr>
                  <a:xfrm flipV="1">
                    <a:off x="2601000" y="284004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3" name=""/>
                  <p:cNvSpPr/>
                  <p:nvPr/>
                </p:nvSpPr>
                <p:spPr>
                  <a:xfrm flipV="1">
                    <a:off x="2615040" y="289008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4" name=""/>
                  <p:cNvSpPr/>
                  <p:nvPr/>
                </p:nvSpPr>
                <p:spPr>
                  <a:xfrm flipH="1" flipV="1">
                    <a:off x="2607480" y="2862000"/>
                    <a:ext cx="612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5" name=""/>
                  <p:cNvSpPr/>
                  <p:nvPr/>
                </p:nvSpPr>
                <p:spPr>
                  <a:xfrm flipV="1">
                    <a:off x="2624760" y="285516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56" name=""/>
              <p:cNvGrpSpPr/>
              <p:nvPr/>
            </p:nvGrpSpPr>
            <p:grpSpPr>
              <a:xfrm>
                <a:off x="1271520" y="1991160"/>
                <a:ext cx="653400" cy="724320"/>
                <a:chOff x="1271520" y="1991160"/>
                <a:chExt cx="653400" cy="724320"/>
              </a:xfrm>
            </p:grpSpPr>
            <p:grpSp>
              <p:nvGrpSpPr>
                <p:cNvPr id="5557" name=""/>
                <p:cNvGrpSpPr/>
                <p:nvPr/>
              </p:nvGrpSpPr>
              <p:grpSpPr>
                <a:xfrm>
                  <a:off x="1632240" y="2165760"/>
                  <a:ext cx="153360" cy="131760"/>
                  <a:chOff x="1632240" y="2165760"/>
                  <a:chExt cx="153360" cy="131760"/>
                </a:xfrm>
              </p:grpSpPr>
              <p:sp>
                <p:nvSpPr>
                  <p:cNvPr id="5558" name=""/>
                  <p:cNvSpPr/>
                  <p:nvPr/>
                </p:nvSpPr>
                <p:spPr>
                  <a:xfrm rot="6258600">
                    <a:off x="1657800" y="2165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9" name=""/>
                  <p:cNvSpPr/>
                  <p:nvPr/>
                </p:nvSpPr>
                <p:spPr>
                  <a:xfrm flipV="1">
                    <a:off x="1643040" y="2217240"/>
                    <a:ext cx="90360" cy="46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0" name=""/>
                  <p:cNvSpPr/>
                  <p:nvPr/>
                </p:nvSpPr>
                <p:spPr>
                  <a:xfrm flipV="1">
                    <a:off x="1676520" y="225000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 flipV="1">
                    <a:off x="1692720" y="221724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2" name=""/>
                  <p:cNvSpPr/>
                  <p:nvPr/>
                </p:nvSpPr>
                <p:spPr>
                  <a:xfrm flipV="1">
                    <a:off x="1711440" y="222948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63" name=""/>
                <p:cNvSpPr/>
                <p:nvPr/>
              </p:nvSpPr>
              <p:spPr>
                <a:xfrm flipH="1" flipV="1">
                  <a:off x="1469520" y="2378880"/>
                  <a:ext cx="180000" cy="9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 rot="2443800">
                  <a:off x="1311840" y="22935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 flipV="1">
                  <a:off x="1588680" y="2158920"/>
                  <a:ext cx="43920" cy="172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 flipV="1">
                  <a:off x="1650960" y="2400480"/>
                  <a:ext cx="87840" cy="28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 flipH="1">
                  <a:off x="1499760" y="2426040"/>
                  <a:ext cx="5904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 flipH="1" flipV="1">
                  <a:off x="1588680" y="2391480"/>
                  <a:ext cx="30240" cy="56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 flipH="1" flipV="1">
                  <a:off x="1587600" y="2149560"/>
                  <a:ext cx="15840" cy="10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 flipV="1">
                  <a:off x="1603800" y="2244960"/>
                  <a:ext cx="5940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 flipH="1" flipV="1">
                  <a:off x="1438560" y="2232360"/>
                  <a:ext cx="7416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 flipH="1" flipV="1">
                  <a:off x="1663560" y="2366280"/>
                  <a:ext cx="31320" cy="17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 flipV="1">
                  <a:off x="1679400" y="2391840"/>
                  <a:ext cx="14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 flipV="1">
                  <a:off x="1680120" y="2534040"/>
                  <a:ext cx="74160" cy="5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 flipV="1">
                  <a:off x="1724400" y="2395800"/>
                  <a:ext cx="44280" cy="5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 flipH="1" flipV="1">
                  <a:off x="1575000" y="2529720"/>
                  <a:ext cx="74520" cy="34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 flipH="1" flipV="1">
                  <a:off x="1499040" y="2283480"/>
                  <a:ext cx="5940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 flipV="1">
                  <a:off x="1498320" y="2145600"/>
                  <a:ext cx="14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79" name=""/>
                <p:cNvGrpSpPr/>
                <p:nvPr/>
              </p:nvGrpSpPr>
              <p:grpSpPr>
                <a:xfrm>
                  <a:off x="1589040" y="2048040"/>
                  <a:ext cx="173160" cy="135720"/>
                  <a:chOff x="1589040" y="2048040"/>
                  <a:chExt cx="173160" cy="135720"/>
                </a:xfrm>
              </p:grpSpPr>
              <p:sp>
                <p:nvSpPr>
                  <p:cNvPr id="5580" name=""/>
                  <p:cNvSpPr/>
                  <p:nvPr/>
                </p:nvSpPr>
                <p:spPr>
                  <a:xfrm rot="4188600">
                    <a:off x="1631160" y="2039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1" name=""/>
                  <p:cNvSpPr/>
                  <p:nvPr/>
                </p:nvSpPr>
                <p:spPr>
                  <a:xfrm flipV="1">
                    <a:off x="1629000" y="2091600"/>
                    <a:ext cx="62280" cy="85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2" name=""/>
                  <p:cNvSpPr/>
                  <p:nvPr/>
                </p:nvSpPr>
                <p:spPr>
                  <a:xfrm flipV="1">
                    <a:off x="1654920" y="2136600"/>
                    <a:ext cx="16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3" name=""/>
                  <p:cNvSpPr/>
                  <p:nvPr/>
                </p:nvSpPr>
                <p:spPr>
                  <a:xfrm flipV="1">
                    <a:off x="1661400" y="210852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4" name=""/>
                  <p:cNvSpPr/>
                  <p:nvPr/>
                </p:nvSpPr>
                <p:spPr>
                  <a:xfrm flipV="1">
                    <a:off x="1679040" y="210528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5" name=""/>
                <p:cNvGrpSpPr/>
                <p:nvPr/>
              </p:nvGrpSpPr>
              <p:grpSpPr>
                <a:xfrm>
                  <a:off x="1507680" y="2242080"/>
                  <a:ext cx="129960" cy="171360"/>
                  <a:chOff x="1507680" y="2242080"/>
                  <a:chExt cx="129960" cy="171360"/>
                </a:xfrm>
              </p:grpSpPr>
              <p:sp>
                <p:nvSpPr>
                  <p:cNvPr id="5586" name=""/>
                  <p:cNvSpPr/>
                  <p:nvPr/>
                </p:nvSpPr>
                <p:spPr>
                  <a:xfrm rot="1030200">
                    <a:off x="1528200" y="2251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7" name=""/>
                  <p:cNvSpPr/>
                  <p:nvPr/>
                </p:nvSpPr>
                <p:spPr>
                  <a:xfrm flipH="1" flipV="1">
                    <a:off x="1562760" y="2300400"/>
                    <a:ext cx="302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8" name=""/>
                  <p:cNvSpPr/>
                  <p:nvPr/>
                </p:nvSpPr>
                <p:spPr>
                  <a:xfrm flipV="1">
                    <a:off x="1586520" y="2343240"/>
                    <a:ext cx="36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9" name=""/>
                  <p:cNvSpPr/>
                  <p:nvPr/>
                </p:nvSpPr>
                <p:spPr>
                  <a:xfrm flipH="1" flipV="1">
                    <a:off x="1558440" y="233424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0" name=""/>
                  <p:cNvSpPr/>
                  <p:nvPr/>
                </p:nvSpPr>
                <p:spPr>
                  <a:xfrm flipH="1" flipV="1">
                    <a:off x="1572480" y="231048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1" name=""/>
                <p:cNvGrpSpPr/>
                <p:nvPr/>
              </p:nvGrpSpPr>
              <p:grpSpPr>
                <a:xfrm>
                  <a:off x="1594080" y="2211120"/>
                  <a:ext cx="166320" cy="173160"/>
                  <a:chOff x="1594080" y="2211120"/>
                  <a:chExt cx="166320" cy="173160"/>
                </a:xfrm>
              </p:grpSpPr>
              <p:sp>
                <p:nvSpPr>
                  <p:cNvPr id="5592" name=""/>
                  <p:cNvSpPr/>
                  <p:nvPr/>
                </p:nvSpPr>
                <p:spPr>
                  <a:xfrm rot="2443800">
                    <a:off x="1632600" y="2221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3" name=""/>
                  <p:cNvSpPr/>
                  <p:nvPr/>
                </p:nvSpPr>
                <p:spPr>
                  <a:xfrm flipV="1">
                    <a:off x="1666080" y="226872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4" name=""/>
                  <p:cNvSpPr/>
                  <p:nvPr/>
                </p:nvSpPr>
                <p:spPr>
                  <a:xfrm flipV="1">
                    <a:off x="1675080" y="231768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5" name=""/>
                  <p:cNvSpPr/>
                  <p:nvPr/>
                </p:nvSpPr>
                <p:spPr>
                  <a:xfrm flipH="1" flipV="1">
                    <a:off x="1661400" y="229788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6" name=""/>
                  <p:cNvSpPr/>
                  <p:nvPr/>
                </p:nvSpPr>
                <p:spPr>
                  <a:xfrm flipV="1">
                    <a:off x="1679760" y="228168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7" name=""/>
                <p:cNvGrpSpPr/>
                <p:nvPr/>
              </p:nvGrpSpPr>
              <p:grpSpPr>
                <a:xfrm>
                  <a:off x="1312560" y="2304000"/>
                  <a:ext cx="166680" cy="158400"/>
                  <a:chOff x="1312560" y="2304000"/>
                  <a:chExt cx="166680" cy="158400"/>
                </a:xfrm>
              </p:grpSpPr>
              <p:sp>
                <p:nvSpPr>
                  <p:cNvPr id="5598" name=""/>
                  <p:cNvSpPr/>
                  <p:nvPr/>
                </p:nvSpPr>
                <p:spPr>
                  <a:xfrm rot="18213000">
                    <a:off x="1344600" y="2316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9" name=""/>
                  <p:cNvSpPr/>
                  <p:nvPr/>
                </p:nvSpPr>
                <p:spPr>
                  <a:xfrm flipH="1">
                    <a:off x="1367640" y="2374920"/>
                    <a:ext cx="1008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0" name=""/>
                  <p:cNvSpPr/>
                  <p:nvPr/>
                </p:nvSpPr>
                <p:spPr>
                  <a:xfrm flipH="1" flipV="1">
                    <a:off x="1414800" y="2370600"/>
                    <a:ext cx="180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1" name=""/>
                  <p:cNvSpPr/>
                  <p:nvPr/>
                </p:nvSpPr>
                <p:spPr>
                  <a:xfrm flipH="1">
                    <a:off x="1396440" y="238536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2" name=""/>
                  <p:cNvSpPr/>
                  <p:nvPr/>
                </p:nvSpPr>
                <p:spPr>
                  <a:xfrm flipH="1" flipV="1">
                    <a:off x="1380600" y="238032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3" name=""/>
                <p:cNvGrpSpPr/>
                <p:nvPr/>
              </p:nvGrpSpPr>
              <p:grpSpPr>
                <a:xfrm>
                  <a:off x="1442520" y="1991160"/>
                  <a:ext cx="166320" cy="173160"/>
                  <a:chOff x="1442520" y="1991160"/>
                  <a:chExt cx="166320" cy="173160"/>
                </a:xfrm>
              </p:grpSpPr>
              <p:sp>
                <p:nvSpPr>
                  <p:cNvPr id="5604" name=""/>
                  <p:cNvSpPr/>
                  <p:nvPr/>
                </p:nvSpPr>
                <p:spPr>
                  <a:xfrm rot="2443800">
                    <a:off x="1481040" y="2001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5" name=""/>
                  <p:cNvSpPr/>
                  <p:nvPr/>
                </p:nvSpPr>
                <p:spPr>
                  <a:xfrm flipV="1">
                    <a:off x="1514880" y="2048760"/>
                    <a:ext cx="1260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6" name=""/>
                  <p:cNvSpPr/>
                  <p:nvPr/>
                </p:nvSpPr>
                <p:spPr>
                  <a:xfrm flipV="1">
                    <a:off x="1523880" y="209772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7" name=""/>
                  <p:cNvSpPr/>
                  <p:nvPr/>
                </p:nvSpPr>
                <p:spPr>
                  <a:xfrm flipH="1" flipV="1">
                    <a:off x="1510200" y="207792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 flipV="1">
                    <a:off x="1528200" y="206172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9" name=""/>
                <p:cNvGrpSpPr/>
                <p:nvPr/>
              </p:nvGrpSpPr>
              <p:grpSpPr>
                <a:xfrm>
                  <a:off x="1668960" y="2245320"/>
                  <a:ext cx="166320" cy="173160"/>
                  <a:chOff x="1668960" y="2245320"/>
                  <a:chExt cx="166320" cy="173160"/>
                </a:xfrm>
              </p:grpSpPr>
              <p:sp>
                <p:nvSpPr>
                  <p:cNvPr id="5610" name=""/>
                  <p:cNvSpPr/>
                  <p:nvPr/>
                </p:nvSpPr>
                <p:spPr>
                  <a:xfrm rot="2443800">
                    <a:off x="1707480" y="2255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1" name=""/>
                  <p:cNvSpPr/>
                  <p:nvPr/>
                </p:nvSpPr>
                <p:spPr>
                  <a:xfrm flipV="1">
                    <a:off x="1740960" y="230292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2" name=""/>
                  <p:cNvSpPr/>
                  <p:nvPr/>
                </p:nvSpPr>
                <p:spPr>
                  <a:xfrm flipV="1">
                    <a:off x="1749960" y="235188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3" name=""/>
                  <p:cNvSpPr/>
                  <p:nvPr/>
                </p:nvSpPr>
                <p:spPr>
                  <a:xfrm flipH="1" flipV="1">
                    <a:off x="1736280" y="233208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4" name=""/>
                  <p:cNvSpPr/>
                  <p:nvPr/>
                </p:nvSpPr>
                <p:spPr>
                  <a:xfrm flipV="1">
                    <a:off x="1754640" y="231588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5" name=""/>
                <p:cNvGrpSpPr/>
                <p:nvPr/>
              </p:nvGrpSpPr>
              <p:grpSpPr>
                <a:xfrm>
                  <a:off x="1517760" y="1995480"/>
                  <a:ext cx="166320" cy="173160"/>
                  <a:chOff x="1517760" y="1995480"/>
                  <a:chExt cx="166320" cy="173160"/>
                </a:xfrm>
              </p:grpSpPr>
              <p:sp>
                <p:nvSpPr>
                  <p:cNvPr id="5616" name=""/>
                  <p:cNvSpPr/>
                  <p:nvPr/>
                </p:nvSpPr>
                <p:spPr>
                  <a:xfrm rot="2443800">
                    <a:off x="1556280" y="2005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7" name=""/>
                  <p:cNvSpPr/>
                  <p:nvPr/>
                </p:nvSpPr>
                <p:spPr>
                  <a:xfrm flipV="1">
                    <a:off x="1589760" y="205308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8" name=""/>
                  <p:cNvSpPr/>
                  <p:nvPr/>
                </p:nvSpPr>
                <p:spPr>
                  <a:xfrm flipV="1">
                    <a:off x="1598760" y="210204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9" name=""/>
                  <p:cNvSpPr/>
                  <p:nvPr/>
                </p:nvSpPr>
                <p:spPr>
                  <a:xfrm flipH="1" flipV="1">
                    <a:off x="1585440" y="208224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0" name=""/>
                  <p:cNvSpPr/>
                  <p:nvPr/>
                </p:nvSpPr>
                <p:spPr>
                  <a:xfrm flipV="1">
                    <a:off x="1603440" y="206604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1" name=""/>
                <p:cNvGrpSpPr/>
                <p:nvPr/>
              </p:nvGrpSpPr>
              <p:grpSpPr>
                <a:xfrm>
                  <a:off x="1405800" y="2478600"/>
                  <a:ext cx="162360" cy="146880"/>
                  <a:chOff x="1405800" y="2478600"/>
                  <a:chExt cx="162360" cy="146880"/>
                </a:xfrm>
              </p:grpSpPr>
              <p:sp>
                <p:nvSpPr>
                  <p:cNvPr id="5622" name=""/>
                  <p:cNvSpPr/>
                  <p:nvPr/>
                </p:nvSpPr>
                <p:spPr>
                  <a:xfrm rot="17641800">
                    <a:off x="1435680" y="2485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3" name=""/>
                  <p:cNvSpPr/>
                  <p:nvPr/>
                </p:nvSpPr>
                <p:spPr>
                  <a:xfrm flipH="1">
                    <a:off x="1460160" y="2531520"/>
                    <a:ext cx="9684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4" name=""/>
                  <p:cNvSpPr/>
                  <p:nvPr/>
                </p:nvSpPr>
                <p:spPr>
                  <a:xfrm flipH="1" flipV="1">
                    <a:off x="1503360" y="25362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5" name=""/>
                  <p:cNvSpPr/>
                  <p:nvPr/>
                </p:nvSpPr>
                <p:spPr>
                  <a:xfrm flipH="1">
                    <a:off x="1490040" y="2551320"/>
                    <a:ext cx="133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6" name=""/>
                  <p:cNvSpPr/>
                  <p:nvPr/>
                </p:nvSpPr>
                <p:spPr>
                  <a:xfrm flipH="1">
                    <a:off x="1471320" y="255024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7" name=""/>
                <p:cNvGrpSpPr/>
                <p:nvPr/>
              </p:nvGrpSpPr>
              <p:grpSpPr>
                <a:xfrm>
                  <a:off x="1352160" y="2407680"/>
                  <a:ext cx="147960" cy="123840"/>
                  <a:chOff x="1352160" y="2407680"/>
                  <a:chExt cx="147960" cy="123840"/>
                </a:xfrm>
              </p:grpSpPr>
              <p:sp>
                <p:nvSpPr>
                  <p:cNvPr id="5628" name=""/>
                  <p:cNvSpPr/>
                  <p:nvPr/>
                </p:nvSpPr>
                <p:spPr>
                  <a:xfrm rot="16802400">
                    <a:off x="1374840" y="2403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9" name=""/>
                  <p:cNvSpPr/>
                  <p:nvPr/>
                </p:nvSpPr>
                <p:spPr>
                  <a:xfrm flipH="1">
                    <a:off x="1402920" y="2432880"/>
                    <a:ext cx="86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0" name=""/>
                  <p:cNvSpPr/>
                  <p:nvPr/>
                </p:nvSpPr>
                <p:spPr>
                  <a:xfrm flipH="1">
                    <a:off x="1438560" y="2447280"/>
                    <a:ext cx="187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1" name=""/>
                  <p:cNvSpPr/>
                  <p:nvPr/>
                </p:nvSpPr>
                <p:spPr>
                  <a:xfrm flipH="1">
                    <a:off x="1433160" y="2465280"/>
                    <a:ext cx="90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2" name=""/>
                  <p:cNvSpPr/>
                  <p:nvPr/>
                </p:nvSpPr>
                <p:spPr>
                  <a:xfrm flipH="1">
                    <a:off x="1411200" y="2468880"/>
                    <a:ext cx="126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3" name=""/>
                <p:cNvGrpSpPr/>
                <p:nvPr/>
              </p:nvGrpSpPr>
              <p:grpSpPr>
                <a:xfrm>
                  <a:off x="1311480" y="2091240"/>
                  <a:ext cx="167040" cy="161640"/>
                  <a:chOff x="1311480" y="2091240"/>
                  <a:chExt cx="167040" cy="161640"/>
                </a:xfrm>
              </p:grpSpPr>
              <p:sp>
                <p:nvSpPr>
                  <p:cNvPr id="5634" name=""/>
                  <p:cNvSpPr/>
                  <p:nvPr/>
                </p:nvSpPr>
                <p:spPr>
                  <a:xfrm rot="18454200">
                    <a:off x="1343880" y="2105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5" name=""/>
                  <p:cNvSpPr/>
                  <p:nvPr/>
                </p:nvSpPr>
                <p:spPr>
                  <a:xfrm flipH="1">
                    <a:off x="1366560" y="2169000"/>
                    <a:ext cx="1015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6" name=""/>
                  <p:cNvSpPr/>
                  <p:nvPr/>
                </p:nvSpPr>
                <p:spPr>
                  <a:xfrm flipH="1" flipV="1">
                    <a:off x="1414800" y="216108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7" name=""/>
                  <p:cNvSpPr/>
                  <p:nvPr/>
                </p:nvSpPr>
                <p:spPr>
                  <a:xfrm flipH="1">
                    <a:off x="1394280" y="2175480"/>
                    <a:ext cx="16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8" name=""/>
                  <p:cNvSpPr/>
                  <p:nvPr/>
                </p:nvSpPr>
                <p:spPr>
                  <a:xfrm flipH="1" flipV="1">
                    <a:off x="1379880" y="2168280"/>
                    <a:ext cx="133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9" name=""/>
                <p:cNvGrpSpPr/>
                <p:nvPr/>
              </p:nvGrpSpPr>
              <p:grpSpPr>
                <a:xfrm>
                  <a:off x="1271520" y="2184120"/>
                  <a:ext cx="158040" cy="139320"/>
                  <a:chOff x="1271520" y="2184120"/>
                  <a:chExt cx="158040" cy="139320"/>
                </a:xfrm>
              </p:grpSpPr>
              <p:sp>
                <p:nvSpPr>
                  <p:cNvPr id="5640" name=""/>
                  <p:cNvSpPr/>
                  <p:nvPr/>
                </p:nvSpPr>
                <p:spPr>
                  <a:xfrm rot="17325000">
                    <a:off x="1299240" y="2187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1" name=""/>
                  <p:cNvSpPr/>
                  <p:nvPr/>
                </p:nvSpPr>
                <p:spPr>
                  <a:xfrm flipH="1">
                    <a:off x="1324800" y="2226960"/>
                    <a:ext cx="93600" cy="39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2" name=""/>
                  <p:cNvSpPr/>
                  <p:nvPr/>
                </p:nvSpPr>
                <p:spPr>
                  <a:xfrm flipH="1">
                    <a:off x="1365480" y="223632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"/>
                  <p:cNvSpPr/>
                  <p:nvPr/>
                </p:nvSpPr>
                <p:spPr>
                  <a:xfrm flipH="1">
                    <a:off x="1355040" y="225180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4" name=""/>
                  <p:cNvSpPr/>
                  <p:nvPr/>
                </p:nvSpPr>
                <p:spPr>
                  <a:xfrm flipH="1">
                    <a:off x="1334880" y="225252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5" name=""/>
                <p:cNvGrpSpPr/>
                <p:nvPr/>
              </p:nvGrpSpPr>
              <p:grpSpPr>
                <a:xfrm>
                  <a:off x="1358640" y="2225520"/>
                  <a:ext cx="164520" cy="151560"/>
                  <a:chOff x="1358640" y="2225520"/>
                  <a:chExt cx="164520" cy="151560"/>
                </a:xfrm>
              </p:grpSpPr>
              <p:sp>
                <p:nvSpPr>
                  <p:cNvPr id="5646" name=""/>
                  <p:cNvSpPr/>
                  <p:nvPr/>
                </p:nvSpPr>
                <p:spPr>
                  <a:xfrm rot="17845200">
                    <a:off x="1389600" y="2234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7" name=""/>
                  <p:cNvSpPr/>
                  <p:nvPr/>
                </p:nvSpPr>
                <p:spPr>
                  <a:xfrm flipH="1">
                    <a:off x="1413360" y="2284920"/>
                    <a:ext cx="9864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8" name=""/>
                  <p:cNvSpPr/>
                  <p:nvPr/>
                </p:nvSpPr>
                <p:spPr>
                  <a:xfrm flipH="1" flipV="1">
                    <a:off x="1458000" y="22867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9" name=""/>
                  <p:cNvSpPr/>
                  <p:nvPr/>
                </p:nvSpPr>
                <p:spPr>
                  <a:xfrm flipH="1">
                    <a:off x="1442880" y="230148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0" name=""/>
                  <p:cNvSpPr/>
                  <p:nvPr/>
                </p:nvSpPr>
                <p:spPr>
                  <a:xfrm flipH="1">
                    <a:off x="1425240" y="2299680"/>
                    <a:ext cx="133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1" name=""/>
                <p:cNvGrpSpPr/>
                <p:nvPr/>
              </p:nvGrpSpPr>
              <p:grpSpPr>
                <a:xfrm>
                  <a:off x="1433880" y="2071080"/>
                  <a:ext cx="160560" cy="167040"/>
                  <a:chOff x="1433880" y="2071080"/>
                  <a:chExt cx="160560" cy="167040"/>
                </a:xfrm>
              </p:grpSpPr>
              <p:sp>
                <p:nvSpPr>
                  <p:cNvPr id="5652" name=""/>
                  <p:cNvSpPr/>
                  <p:nvPr/>
                </p:nvSpPr>
                <p:spPr>
                  <a:xfrm rot="19429200">
                    <a:off x="1462680" y="2088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3" name=""/>
                  <p:cNvSpPr/>
                  <p:nvPr/>
                </p:nvSpPr>
                <p:spPr>
                  <a:xfrm flipH="1" flipV="1">
                    <a:off x="1486080" y="2149920"/>
                    <a:ext cx="99360" cy="21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4" name=""/>
                  <p:cNvSpPr/>
                  <p:nvPr/>
                </p:nvSpPr>
                <p:spPr>
                  <a:xfrm flipH="1" flipV="1">
                    <a:off x="1536120" y="214920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5" name=""/>
                  <p:cNvSpPr/>
                  <p:nvPr/>
                </p:nvSpPr>
                <p:spPr>
                  <a:xfrm flipH="1">
                    <a:off x="1509120" y="2162160"/>
                    <a:ext cx="198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6" name=""/>
                  <p:cNvSpPr/>
                  <p:nvPr/>
                </p:nvSpPr>
                <p:spPr>
                  <a:xfrm flipH="1" flipV="1">
                    <a:off x="1500840" y="214668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7" name=""/>
                <p:cNvGrpSpPr/>
                <p:nvPr/>
              </p:nvGrpSpPr>
              <p:grpSpPr>
                <a:xfrm>
                  <a:off x="1600560" y="2253960"/>
                  <a:ext cx="94320" cy="155160"/>
                  <a:chOff x="1600560" y="2253960"/>
                  <a:chExt cx="94320" cy="155160"/>
                </a:xfrm>
              </p:grpSpPr>
              <p:sp>
                <p:nvSpPr>
                  <p:cNvPr id="5658" name=""/>
                  <p:cNvSpPr/>
                  <p:nvPr/>
                </p:nvSpPr>
                <p:spPr>
                  <a:xfrm rot="21480000">
                    <a:off x="1603080" y="2255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9" name=""/>
                  <p:cNvSpPr/>
                  <p:nvPr/>
                </p:nvSpPr>
                <p:spPr>
                  <a:xfrm flipH="1" flipV="1">
                    <a:off x="1629360" y="2309400"/>
                    <a:ext cx="6156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0" name=""/>
                  <p:cNvSpPr/>
                  <p:nvPr/>
                </p:nvSpPr>
                <p:spPr>
                  <a:xfrm flipH="1" flipV="1">
                    <a:off x="1666080" y="2341800"/>
                    <a:ext cx="64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1" name=""/>
                  <p:cNvSpPr/>
                  <p:nvPr/>
                </p:nvSpPr>
                <p:spPr>
                  <a:xfrm flipH="1" flipV="1">
                    <a:off x="1636200" y="2342520"/>
                    <a:ext cx="180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2" name=""/>
                  <p:cNvSpPr/>
                  <p:nvPr/>
                </p:nvSpPr>
                <p:spPr>
                  <a:xfrm flipH="1" flipV="1">
                    <a:off x="1641600" y="231552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3" name=""/>
                <p:cNvGrpSpPr/>
                <p:nvPr/>
              </p:nvGrpSpPr>
              <p:grpSpPr>
                <a:xfrm>
                  <a:off x="1764720" y="2306880"/>
                  <a:ext cx="160200" cy="143280"/>
                  <a:chOff x="1764720" y="2306880"/>
                  <a:chExt cx="160200" cy="143280"/>
                </a:xfrm>
              </p:grpSpPr>
              <p:sp>
                <p:nvSpPr>
                  <p:cNvPr id="5664" name=""/>
                  <p:cNvSpPr/>
                  <p:nvPr/>
                </p:nvSpPr>
                <p:spPr>
                  <a:xfrm rot="6676200">
                    <a:off x="1793520" y="2312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5" name=""/>
                  <p:cNvSpPr/>
                  <p:nvPr/>
                </p:nvSpPr>
                <p:spPr>
                  <a:xfrm flipV="1">
                    <a:off x="1775520" y="2367360"/>
                    <a:ext cx="9540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6" name=""/>
                  <p:cNvSpPr/>
                  <p:nvPr/>
                </p:nvSpPr>
                <p:spPr>
                  <a:xfrm>
                    <a:off x="1810080" y="239472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7" name=""/>
                  <p:cNvSpPr/>
                  <p:nvPr/>
                </p:nvSpPr>
                <p:spPr>
                  <a:xfrm flipV="1">
                    <a:off x="1828080" y="2363400"/>
                    <a:ext cx="126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"/>
                  <p:cNvSpPr/>
                  <p:nvPr/>
                </p:nvSpPr>
                <p:spPr>
                  <a:xfrm flipV="1">
                    <a:off x="1847160" y="2378160"/>
                    <a:ext cx="129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9" name=""/>
                <p:cNvGrpSpPr/>
                <p:nvPr/>
              </p:nvGrpSpPr>
              <p:grpSpPr>
                <a:xfrm>
                  <a:off x="1749240" y="2443680"/>
                  <a:ext cx="161640" cy="146160"/>
                  <a:chOff x="1749240" y="2443680"/>
                  <a:chExt cx="161640" cy="146160"/>
                </a:xfrm>
              </p:grpSpPr>
              <p:sp>
                <p:nvSpPr>
                  <p:cNvPr id="5670" name=""/>
                  <p:cNvSpPr/>
                  <p:nvPr/>
                </p:nvSpPr>
                <p:spPr>
                  <a:xfrm rot="6796200">
                    <a:off x="1778760" y="2450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1" name=""/>
                  <p:cNvSpPr/>
                  <p:nvPr/>
                </p:nvSpPr>
                <p:spPr>
                  <a:xfrm flipV="1">
                    <a:off x="1760040" y="2506320"/>
                    <a:ext cx="9648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2" name=""/>
                  <p:cNvSpPr/>
                  <p:nvPr/>
                </p:nvSpPr>
                <p:spPr>
                  <a:xfrm>
                    <a:off x="1794960" y="25311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3" name=""/>
                  <p:cNvSpPr/>
                  <p:nvPr/>
                </p:nvSpPr>
                <p:spPr>
                  <a:xfrm flipV="1">
                    <a:off x="1813320" y="2500920"/>
                    <a:ext cx="133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4" name=""/>
                  <p:cNvSpPr/>
                  <p:nvPr/>
                </p:nvSpPr>
                <p:spPr>
                  <a:xfrm flipV="1">
                    <a:off x="1832400" y="251676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5" name=""/>
                <p:cNvGrpSpPr/>
                <p:nvPr/>
              </p:nvGrpSpPr>
              <p:grpSpPr>
                <a:xfrm>
                  <a:off x="1491120" y="2372400"/>
                  <a:ext cx="104760" cy="160560"/>
                  <a:chOff x="1491120" y="2372400"/>
                  <a:chExt cx="104760" cy="160560"/>
                </a:xfrm>
              </p:grpSpPr>
              <p:sp>
                <p:nvSpPr>
                  <p:cNvPr id="5676" name=""/>
                  <p:cNvSpPr/>
                  <p:nvPr/>
                </p:nvSpPr>
                <p:spPr>
                  <a:xfrm rot="369000">
                    <a:off x="1498680" y="2376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"/>
                  <p:cNvSpPr/>
                  <p:nvPr/>
                </p:nvSpPr>
                <p:spPr>
                  <a:xfrm flipH="1" flipV="1">
                    <a:off x="1528560" y="2427840"/>
                    <a:ext cx="4896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8" name=""/>
                  <p:cNvSpPr/>
                  <p:nvPr/>
                </p:nvSpPr>
                <p:spPr>
                  <a:xfrm flipH="1" flipV="1">
                    <a:off x="1560240" y="246528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9" name=""/>
                  <p:cNvSpPr/>
                  <p:nvPr/>
                </p:nvSpPr>
                <p:spPr>
                  <a:xfrm flipH="1" flipV="1">
                    <a:off x="1530720" y="2461680"/>
                    <a:ext cx="16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0" name=""/>
                  <p:cNvSpPr/>
                  <p:nvPr/>
                </p:nvSpPr>
                <p:spPr>
                  <a:xfrm flipH="1" flipV="1">
                    <a:off x="1540080" y="243576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1" name=""/>
                <p:cNvGrpSpPr/>
                <p:nvPr/>
              </p:nvGrpSpPr>
              <p:grpSpPr>
                <a:xfrm>
                  <a:off x="1384200" y="2261520"/>
                  <a:ext cx="112320" cy="139680"/>
                  <a:chOff x="1384200" y="2261520"/>
                  <a:chExt cx="112320" cy="139680"/>
                </a:xfrm>
              </p:grpSpPr>
              <p:sp>
                <p:nvSpPr>
                  <p:cNvPr id="5682" name=""/>
                  <p:cNvSpPr/>
                  <p:nvPr/>
                </p:nvSpPr>
                <p:spPr>
                  <a:xfrm rot="21334200">
                    <a:off x="1388880" y="2265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3" name=""/>
                  <p:cNvSpPr/>
                  <p:nvPr/>
                </p:nvSpPr>
                <p:spPr>
                  <a:xfrm flipH="1" flipV="1">
                    <a:off x="1418760" y="2312640"/>
                    <a:ext cx="727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4" name=""/>
                  <p:cNvSpPr/>
                  <p:nvPr/>
                </p:nvSpPr>
                <p:spPr>
                  <a:xfrm flipH="1" flipV="1">
                    <a:off x="1461960" y="233856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5" name=""/>
                  <p:cNvSpPr/>
                  <p:nvPr/>
                </p:nvSpPr>
                <p:spPr>
                  <a:xfrm flipH="1" flipV="1">
                    <a:off x="1428120" y="234144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6" name=""/>
                  <p:cNvSpPr/>
                  <p:nvPr/>
                </p:nvSpPr>
                <p:spPr>
                  <a:xfrm flipH="1" flipV="1">
                    <a:off x="1433160" y="231768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7" name=""/>
                <p:cNvGrpSpPr/>
                <p:nvPr/>
              </p:nvGrpSpPr>
              <p:grpSpPr>
                <a:xfrm>
                  <a:off x="1335960" y="2100240"/>
                  <a:ext cx="117720" cy="143640"/>
                  <a:chOff x="1335960" y="2100240"/>
                  <a:chExt cx="117720" cy="143640"/>
                </a:xfrm>
              </p:grpSpPr>
              <p:sp>
                <p:nvSpPr>
                  <p:cNvPr id="5688" name=""/>
                  <p:cNvSpPr/>
                  <p:nvPr/>
                </p:nvSpPr>
                <p:spPr>
                  <a:xfrm rot="21174000">
                    <a:off x="1343520" y="2106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9" name=""/>
                  <p:cNvSpPr/>
                  <p:nvPr/>
                </p:nvSpPr>
                <p:spPr>
                  <a:xfrm flipH="1" flipV="1">
                    <a:off x="1372320" y="2154600"/>
                    <a:ext cx="7632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0" name=""/>
                  <p:cNvSpPr/>
                  <p:nvPr/>
                </p:nvSpPr>
                <p:spPr>
                  <a:xfrm flipH="1" flipV="1">
                    <a:off x="1416600" y="217836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1" name=""/>
                  <p:cNvSpPr/>
                  <p:nvPr/>
                </p:nvSpPr>
                <p:spPr>
                  <a:xfrm flipH="1" flipV="1">
                    <a:off x="1383120" y="2183040"/>
                    <a:ext cx="2088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2" name=""/>
                  <p:cNvSpPr/>
                  <p:nvPr/>
                </p:nvSpPr>
                <p:spPr>
                  <a:xfrm flipH="1" flipV="1">
                    <a:off x="1387080" y="2158920"/>
                    <a:ext cx="79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3" name=""/>
                <p:cNvGrpSpPr/>
                <p:nvPr/>
              </p:nvGrpSpPr>
              <p:grpSpPr>
                <a:xfrm>
                  <a:off x="1387800" y="2012040"/>
                  <a:ext cx="97920" cy="156960"/>
                  <a:chOff x="1387800" y="2012040"/>
                  <a:chExt cx="97920" cy="156960"/>
                </a:xfrm>
              </p:grpSpPr>
              <p:sp>
                <p:nvSpPr>
                  <p:cNvPr id="5694" name=""/>
                  <p:cNvSpPr/>
                  <p:nvPr/>
                </p:nvSpPr>
                <p:spPr>
                  <a:xfrm rot="205800">
                    <a:off x="1392120" y="2014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5" name=""/>
                  <p:cNvSpPr/>
                  <p:nvPr/>
                </p:nvSpPr>
                <p:spPr>
                  <a:xfrm flipH="1" flipV="1">
                    <a:off x="1420560" y="2066400"/>
                    <a:ext cx="53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6" name=""/>
                  <p:cNvSpPr/>
                  <p:nvPr/>
                </p:nvSpPr>
                <p:spPr>
                  <a:xfrm flipH="1" flipV="1">
                    <a:off x="1454400" y="210240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7" name=""/>
                  <p:cNvSpPr/>
                  <p:nvPr/>
                </p:nvSpPr>
                <p:spPr>
                  <a:xfrm flipH="1" flipV="1">
                    <a:off x="1424520" y="2100240"/>
                    <a:ext cx="172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8" name=""/>
                  <p:cNvSpPr/>
                  <p:nvPr/>
                </p:nvSpPr>
                <p:spPr>
                  <a:xfrm flipH="1" flipV="1">
                    <a:off x="1432440" y="207360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99" name=""/>
              <p:cNvGrpSpPr/>
              <p:nvPr/>
            </p:nvGrpSpPr>
            <p:grpSpPr>
              <a:xfrm>
                <a:off x="640800" y="1854000"/>
                <a:ext cx="747720" cy="621360"/>
                <a:chOff x="640800" y="1854000"/>
                <a:chExt cx="747720" cy="621360"/>
              </a:xfrm>
            </p:grpSpPr>
            <p:grpSp>
              <p:nvGrpSpPr>
                <p:cNvPr id="5700" name=""/>
                <p:cNvGrpSpPr/>
                <p:nvPr/>
              </p:nvGrpSpPr>
              <p:grpSpPr>
                <a:xfrm>
                  <a:off x="876600" y="1929960"/>
                  <a:ext cx="159120" cy="166680"/>
                  <a:chOff x="876600" y="1929960"/>
                  <a:chExt cx="159120" cy="166680"/>
                </a:xfrm>
              </p:grpSpPr>
              <p:sp>
                <p:nvSpPr>
                  <p:cNvPr id="5701" name=""/>
                  <p:cNvSpPr/>
                  <p:nvPr/>
                </p:nvSpPr>
                <p:spPr>
                  <a:xfrm rot="2086800">
                    <a:off x="904680" y="1947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2" name=""/>
                  <p:cNvSpPr/>
                  <p:nvPr/>
                </p:nvSpPr>
                <p:spPr>
                  <a:xfrm flipH="1" flipV="1">
                    <a:off x="951120" y="1985040"/>
                    <a:ext cx="1188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3" name=""/>
                  <p:cNvSpPr/>
                  <p:nvPr/>
                </p:nvSpPr>
                <p:spPr>
                  <a:xfrm flipV="1">
                    <a:off x="963360" y="20325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4" name=""/>
                  <p:cNvSpPr/>
                  <p:nvPr/>
                </p:nvSpPr>
                <p:spPr>
                  <a:xfrm flipH="1" flipV="1">
                    <a:off x="940320" y="20134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5" name=""/>
                  <p:cNvSpPr/>
                  <p:nvPr/>
                </p:nvSpPr>
                <p:spPr>
                  <a:xfrm flipV="1">
                    <a:off x="957960" y="199836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06" name=""/>
                <p:cNvSpPr/>
                <p:nvPr/>
              </p:nvSpPr>
              <p:spPr>
                <a:xfrm flipH="1">
                  <a:off x="1010160" y="2153520"/>
                  <a:ext cx="151920" cy="13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7" name=""/>
                <p:cNvSpPr/>
                <p:nvPr/>
              </p:nvSpPr>
              <p:spPr>
                <a:xfrm rot="19871400">
                  <a:off x="852120" y="20782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8" name=""/>
                <p:cNvSpPr/>
                <p:nvPr/>
              </p:nvSpPr>
              <p:spPr>
                <a:xfrm flipH="1" flipV="1">
                  <a:off x="861120" y="2059200"/>
                  <a:ext cx="14616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9" name=""/>
                <p:cNvSpPr/>
                <p:nvPr/>
              </p:nvSpPr>
              <p:spPr>
                <a:xfrm flipH="1" flipV="1">
                  <a:off x="1124640" y="2044440"/>
                  <a:ext cx="235800" cy="18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0" name=""/>
                <p:cNvSpPr/>
                <p:nvPr/>
              </p:nvSpPr>
              <p:spPr>
                <a:xfrm flipH="1">
                  <a:off x="1073160" y="2221920"/>
                  <a:ext cx="1260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1" name=""/>
                <p:cNvSpPr/>
                <p:nvPr/>
              </p:nvSpPr>
              <p:spPr>
                <a:xfrm flipH="1">
                  <a:off x="1063800" y="2173320"/>
                  <a:ext cx="6300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2" name=""/>
                <p:cNvSpPr/>
                <p:nvPr/>
              </p:nvSpPr>
              <p:spPr>
                <a:xfrm flipH="1" flipV="1">
                  <a:off x="836640" y="2098440"/>
                  <a:ext cx="10260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3" name=""/>
                <p:cNvSpPr/>
                <p:nvPr/>
              </p:nvSpPr>
              <p:spPr>
                <a:xfrm flipH="1" flipV="1">
                  <a:off x="952200" y="2060640"/>
                  <a:ext cx="1548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4" name=""/>
                <p:cNvSpPr/>
                <p:nvPr/>
              </p:nvSpPr>
              <p:spPr>
                <a:xfrm flipH="1">
                  <a:off x="861840" y="2198520"/>
                  <a:ext cx="29880" cy="6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5" name=""/>
                <p:cNvSpPr/>
                <p:nvPr/>
              </p:nvSpPr>
              <p:spPr>
                <a:xfrm flipH="1" flipV="1">
                  <a:off x="1066320" y="2102760"/>
                  <a:ext cx="17640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6" name=""/>
                <p:cNvSpPr/>
                <p:nvPr/>
              </p:nvSpPr>
              <p:spPr>
                <a:xfrm flipH="1" flipV="1">
                  <a:off x="1100880" y="2083320"/>
                  <a:ext cx="3852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7" name=""/>
                <p:cNvSpPr/>
                <p:nvPr/>
              </p:nvSpPr>
              <p:spPr>
                <a:xfrm flipH="1" flipV="1">
                  <a:off x="1254960" y="2076480"/>
                  <a:ext cx="26640" cy="88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8" name=""/>
                <p:cNvSpPr/>
                <p:nvPr/>
              </p:nvSpPr>
              <p:spPr>
                <a:xfrm flipH="1" flipV="1">
                  <a:off x="1130760" y="2014560"/>
                  <a:ext cx="327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9" name=""/>
                <p:cNvSpPr/>
                <p:nvPr/>
              </p:nvSpPr>
              <p:spPr>
                <a:xfrm flipH="1">
                  <a:off x="1188360" y="2185200"/>
                  <a:ext cx="57960" cy="57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0" name=""/>
                <p:cNvSpPr/>
                <p:nvPr/>
              </p:nvSpPr>
              <p:spPr>
                <a:xfrm flipH="1">
                  <a:off x="930960" y="2179800"/>
                  <a:ext cx="4140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1" name=""/>
                <p:cNvSpPr/>
                <p:nvPr/>
              </p:nvSpPr>
              <p:spPr>
                <a:xfrm flipH="1" flipV="1">
                  <a:off x="806400" y="2167200"/>
                  <a:ext cx="3924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22" name=""/>
                <p:cNvGrpSpPr/>
                <p:nvPr/>
              </p:nvGrpSpPr>
              <p:grpSpPr>
                <a:xfrm>
                  <a:off x="790920" y="1927800"/>
                  <a:ext cx="89640" cy="152280"/>
                  <a:chOff x="790920" y="1927800"/>
                  <a:chExt cx="89640" cy="152280"/>
                </a:xfrm>
              </p:grpSpPr>
              <p:sp>
                <p:nvSpPr>
                  <p:cNvPr id="5723" name=""/>
                  <p:cNvSpPr/>
                  <p:nvPr/>
                </p:nvSpPr>
                <p:spPr>
                  <a:xfrm rot="16800">
                    <a:off x="790920" y="1927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4" name=""/>
                  <p:cNvSpPr/>
                  <p:nvPr/>
                </p:nvSpPr>
                <p:spPr>
                  <a:xfrm flipH="1" flipV="1">
                    <a:off x="818280" y="1980720"/>
                    <a:ext cx="5832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5" name=""/>
                  <p:cNvSpPr/>
                  <p:nvPr/>
                </p:nvSpPr>
                <p:spPr>
                  <a:xfrm flipH="1" flipV="1">
                    <a:off x="853920" y="2014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6" name=""/>
                  <p:cNvSpPr/>
                  <p:nvPr/>
                </p:nvSpPr>
                <p:spPr>
                  <a:xfrm flipH="1" flipV="1">
                    <a:off x="824040" y="201420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7" name=""/>
                  <p:cNvSpPr/>
                  <p:nvPr/>
                </p:nvSpPr>
                <p:spPr>
                  <a:xfrm flipH="1" flipV="1">
                    <a:off x="830520" y="198720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8" name=""/>
                <p:cNvGrpSpPr/>
                <p:nvPr/>
              </p:nvGrpSpPr>
              <p:grpSpPr>
                <a:xfrm>
                  <a:off x="911160" y="2092680"/>
                  <a:ext cx="174600" cy="163440"/>
                  <a:chOff x="911160" y="2092680"/>
                  <a:chExt cx="174600" cy="163440"/>
                </a:xfrm>
              </p:grpSpPr>
              <p:sp>
                <p:nvSpPr>
                  <p:cNvPr id="5729" name=""/>
                  <p:cNvSpPr/>
                  <p:nvPr/>
                </p:nvSpPr>
                <p:spPr>
                  <a:xfrm rot="18458400">
                    <a:off x="954000" y="2098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0" name=""/>
                  <p:cNvSpPr/>
                  <p:nvPr/>
                </p:nvSpPr>
                <p:spPr>
                  <a:xfrm flipH="1" flipV="1">
                    <a:off x="969480" y="2174400"/>
                    <a:ext cx="10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1" name=""/>
                  <p:cNvSpPr/>
                  <p:nvPr/>
                </p:nvSpPr>
                <p:spPr>
                  <a:xfrm flipH="1" flipV="1">
                    <a:off x="1017720" y="2166840"/>
                    <a:ext cx="198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2" name=""/>
                  <p:cNvSpPr/>
                  <p:nvPr/>
                </p:nvSpPr>
                <p:spPr>
                  <a:xfrm flipH="1">
                    <a:off x="999360" y="218052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3" name=""/>
                  <p:cNvSpPr/>
                  <p:nvPr/>
                </p:nvSpPr>
                <p:spPr>
                  <a:xfrm flipH="1" flipV="1">
                    <a:off x="982080" y="216864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4" name=""/>
                <p:cNvGrpSpPr/>
                <p:nvPr/>
              </p:nvGrpSpPr>
              <p:grpSpPr>
                <a:xfrm>
                  <a:off x="930960" y="1978200"/>
                  <a:ext cx="151200" cy="176040"/>
                  <a:chOff x="930960" y="1978200"/>
                  <a:chExt cx="151200" cy="176040"/>
                </a:xfrm>
              </p:grpSpPr>
              <p:sp>
                <p:nvSpPr>
                  <p:cNvPr id="5735" name=""/>
                  <p:cNvSpPr/>
                  <p:nvPr/>
                </p:nvSpPr>
                <p:spPr>
                  <a:xfrm rot="19871400">
                    <a:off x="961920" y="1990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6" name=""/>
                  <p:cNvSpPr/>
                  <p:nvPr/>
                </p:nvSpPr>
                <p:spPr>
                  <a:xfrm flipH="1" flipV="1">
                    <a:off x="979920" y="2054520"/>
                    <a:ext cx="939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7" name=""/>
                  <p:cNvSpPr/>
                  <p:nvPr/>
                </p:nvSpPr>
                <p:spPr>
                  <a:xfrm flipH="1" flipV="1">
                    <a:off x="1027440" y="206676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8" name=""/>
                  <p:cNvSpPr/>
                  <p:nvPr/>
                </p:nvSpPr>
                <p:spPr>
                  <a:xfrm flipH="1">
                    <a:off x="1001160" y="20782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9" name=""/>
                  <p:cNvSpPr/>
                  <p:nvPr/>
                </p:nvSpPr>
                <p:spPr>
                  <a:xfrm flipH="1" flipV="1">
                    <a:off x="993960" y="20541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0" name=""/>
                <p:cNvGrpSpPr/>
                <p:nvPr/>
              </p:nvGrpSpPr>
              <p:grpSpPr>
                <a:xfrm>
                  <a:off x="904680" y="2279520"/>
                  <a:ext cx="167040" cy="160200"/>
                  <a:chOff x="904680" y="2279520"/>
                  <a:chExt cx="167040" cy="160200"/>
                </a:xfrm>
              </p:grpSpPr>
              <p:sp>
                <p:nvSpPr>
                  <p:cNvPr id="5741" name=""/>
                  <p:cNvSpPr/>
                  <p:nvPr/>
                </p:nvSpPr>
                <p:spPr>
                  <a:xfrm rot="14040600">
                    <a:off x="937080" y="2293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2" name=""/>
                  <p:cNvSpPr/>
                  <p:nvPr/>
                </p:nvSpPr>
                <p:spPr>
                  <a:xfrm flipH="1">
                    <a:off x="983520" y="2288520"/>
                    <a:ext cx="22320" cy="9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3" name=""/>
                  <p:cNvSpPr/>
                  <p:nvPr/>
                </p:nvSpPr>
                <p:spPr>
                  <a:xfrm flipH="1">
                    <a:off x="983160" y="232200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4" name=""/>
                  <p:cNvSpPr/>
                  <p:nvPr/>
                </p:nvSpPr>
                <p:spPr>
                  <a:xfrm>
                    <a:off x="996120" y="23450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5" name=""/>
                  <p:cNvSpPr/>
                  <p:nvPr/>
                </p:nvSpPr>
                <p:spPr>
                  <a:xfrm flipH="1">
                    <a:off x="980280" y="236088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6" name=""/>
                <p:cNvGrpSpPr/>
                <p:nvPr/>
              </p:nvGrpSpPr>
              <p:grpSpPr>
                <a:xfrm>
                  <a:off x="671760" y="2043000"/>
                  <a:ext cx="151200" cy="176040"/>
                  <a:chOff x="671760" y="2043000"/>
                  <a:chExt cx="151200" cy="176040"/>
                </a:xfrm>
              </p:grpSpPr>
              <p:sp>
                <p:nvSpPr>
                  <p:cNvPr id="5747" name=""/>
                  <p:cNvSpPr/>
                  <p:nvPr/>
                </p:nvSpPr>
                <p:spPr>
                  <a:xfrm rot="19871400">
                    <a:off x="702720" y="2054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8" name=""/>
                  <p:cNvSpPr/>
                  <p:nvPr/>
                </p:nvSpPr>
                <p:spPr>
                  <a:xfrm flipH="1" flipV="1">
                    <a:off x="721080" y="2118960"/>
                    <a:ext cx="9360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9" name=""/>
                  <p:cNvSpPr/>
                  <p:nvPr/>
                </p:nvSpPr>
                <p:spPr>
                  <a:xfrm flipH="1" flipV="1">
                    <a:off x="768600" y="213156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0" name=""/>
                  <p:cNvSpPr/>
                  <p:nvPr/>
                </p:nvSpPr>
                <p:spPr>
                  <a:xfrm flipH="1">
                    <a:off x="742320" y="21430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1" name=""/>
                  <p:cNvSpPr/>
                  <p:nvPr/>
                </p:nvSpPr>
                <p:spPr>
                  <a:xfrm flipH="1" flipV="1">
                    <a:off x="734760" y="21189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2" name=""/>
                <p:cNvGrpSpPr/>
                <p:nvPr/>
              </p:nvGrpSpPr>
              <p:grpSpPr>
                <a:xfrm>
                  <a:off x="989280" y="1919880"/>
                  <a:ext cx="151200" cy="176040"/>
                  <a:chOff x="989280" y="1919880"/>
                  <a:chExt cx="151200" cy="176040"/>
                </a:xfrm>
              </p:grpSpPr>
              <p:sp>
                <p:nvSpPr>
                  <p:cNvPr id="5753" name=""/>
                  <p:cNvSpPr/>
                  <p:nvPr/>
                </p:nvSpPr>
                <p:spPr>
                  <a:xfrm rot="19871400">
                    <a:off x="1020240" y="1931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4" name=""/>
                  <p:cNvSpPr/>
                  <p:nvPr/>
                </p:nvSpPr>
                <p:spPr>
                  <a:xfrm flipH="1" flipV="1">
                    <a:off x="1038240" y="1995840"/>
                    <a:ext cx="9396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5" name=""/>
                  <p:cNvSpPr/>
                  <p:nvPr/>
                </p:nvSpPr>
                <p:spPr>
                  <a:xfrm flipH="1" flipV="1">
                    <a:off x="1085760" y="200844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6" name=""/>
                  <p:cNvSpPr/>
                  <p:nvPr/>
                </p:nvSpPr>
                <p:spPr>
                  <a:xfrm flipH="1">
                    <a:off x="1059480" y="201996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7" name=""/>
                  <p:cNvSpPr/>
                  <p:nvPr/>
                </p:nvSpPr>
                <p:spPr>
                  <a:xfrm flipH="1" flipV="1">
                    <a:off x="1052280" y="199584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8" name=""/>
                <p:cNvGrpSpPr/>
                <p:nvPr/>
              </p:nvGrpSpPr>
              <p:grpSpPr>
                <a:xfrm>
                  <a:off x="702360" y="1974240"/>
                  <a:ext cx="151200" cy="176040"/>
                  <a:chOff x="702360" y="1974240"/>
                  <a:chExt cx="151200" cy="176040"/>
                </a:xfrm>
              </p:grpSpPr>
              <p:sp>
                <p:nvSpPr>
                  <p:cNvPr id="5759" name=""/>
                  <p:cNvSpPr/>
                  <p:nvPr/>
                </p:nvSpPr>
                <p:spPr>
                  <a:xfrm rot="19871400">
                    <a:off x="733320" y="1986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0" name=""/>
                  <p:cNvSpPr/>
                  <p:nvPr/>
                </p:nvSpPr>
                <p:spPr>
                  <a:xfrm flipH="1" flipV="1">
                    <a:off x="751320" y="2050200"/>
                    <a:ext cx="939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1" name=""/>
                  <p:cNvSpPr/>
                  <p:nvPr/>
                </p:nvSpPr>
                <p:spPr>
                  <a:xfrm flipH="1" flipV="1">
                    <a:off x="798840" y="206280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2" name=""/>
                  <p:cNvSpPr/>
                  <p:nvPr/>
                </p:nvSpPr>
                <p:spPr>
                  <a:xfrm flipH="1">
                    <a:off x="772560" y="207432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3" name=""/>
                  <p:cNvSpPr/>
                  <p:nvPr/>
                </p:nvSpPr>
                <p:spPr>
                  <a:xfrm flipH="1" flipV="1">
                    <a:off x="765360" y="205020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4" name=""/>
                <p:cNvGrpSpPr/>
                <p:nvPr/>
              </p:nvGrpSpPr>
              <p:grpSpPr>
                <a:xfrm>
                  <a:off x="1095480" y="2250360"/>
                  <a:ext cx="165600" cy="165960"/>
                  <a:chOff x="1095480" y="2250360"/>
                  <a:chExt cx="165600" cy="165960"/>
                </a:xfrm>
              </p:grpSpPr>
              <p:sp>
                <p:nvSpPr>
                  <p:cNvPr id="5765" name=""/>
                  <p:cNvSpPr/>
                  <p:nvPr/>
                </p:nvSpPr>
                <p:spPr>
                  <a:xfrm rot="13469400">
                    <a:off x="1127160" y="226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6" name=""/>
                  <p:cNvSpPr/>
                  <p:nvPr/>
                </p:nvSpPr>
                <p:spPr>
                  <a:xfrm flipH="1">
                    <a:off x="1178280" y="2260440"/>
                    <a:ext cx="540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7" name=""/>
                  <p:cNvSpPr/>
                  <p:nvPr/>
                </p:nvSpPr>
                <p:spPr>
                  <a:xfrm flipH="1">
                    <a:off x="1169280" y="229536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8" name=""/>
                  <p:cNvSpPr/>
                  <p:nvPr/>
                </p:nvSpPr>
                <p:spPr>
                  <a:xfrm>
                    <a:off x="1183320" y="23176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9" name=""/>
                  <p:cNvSpPr/>
                  <p:nvPr/>
                </p:nvSpPr>
                <p:spPr>
                  <a:xfrm flipH="1">
                    <a:off x="1172520" y="233496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0" name=""/>
                <p:cNvGrpSpPr/>
                <p:nvPr/>
              </p:nvGrpSpPr>
              <p:grpSpPr>
                <a:xfrm>
                  <a:off x="1002240" y="2278800"/>
                  <a:ext cx="155160" cy="165600"/>
                  <a:chOff x="1002240" y="2278800"/>
                  <a:chExt cx="155160" cy="165600"/>
                </a:xfrm>
              </p:grpSpPr>
              <p:sp>
                <p:nvSpPr>
                  <p:cNvPr id="5771" name=""/>
                  <p:cNvSpPr/>
                  <p:nvPr/>
                </p:nvSpPr>
                <p:spPr>
                  <a:xfrm rot="12630000">
                    <a:off x="1028520" y="2295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2" name=""/>
                  <p:cNvSpPr/>
                  <p:nvPr/>
                </p:nvSpPr>
                <p:spPr>
                  <a:xfrm>
                    <a:off x="1067760" y="2289240"/>
                    <a:ext cx="1908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3" name=""/>
                  <p:cNvSpPr/>
                  <p:nvPr/>
                </p:nvSpPr>
                <p:spPr>
                  <a:xfrm flipH="1">
                    <a:off x="1066320" y="2324520"/>
                    <a:ext cx="36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4" name=""/>
                  <p:cNvSpPr/>
                  <p:nvPr/>
                </p:nvSpPr>
                <p:spPr>
                  <a:xfrm>
                    <a:off x="1081440" y="2344680"/>
                    <a:ext cx="144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5" name=""/>
                  <p:cNvSpPr/>
                  <p:nvPr/>
                </p:nvSpPr>
                <p:spPr>
                  <a:xfrm>
                    <a:off x="1078200" y="2363400"/>
                    <a:ext cx="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6" name=""/>
                <p:cNvGrpSpPr/>
                <p:nvPr/>
              </p:nvGrpSpPr>
              <p:grpSpPr>
                <a:xfrm>
                  <a:off x="707400" y="2208240"/>
                  <a:ext cx="165960" cy="156600"/>
                  <a:chOff x="707400" y="2208240"/>
                  <a:chExt cx="165960" cy="156600"/>
                </a:xfrm>
              </p:grpSpPr>
              <p:sp>
                <p:nvSpPr>
                  <p:cNvPr id="5777" name=""/>
                  <p:cNvSpPr/>
                  <p:nvPr/>
                </p:nvSpPr>
                <p:spPr>
                  <a:xfrm rot="14281800">
                    <a:off x="739080" y="2220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8" name=""/>
                  <p:cNvSpPr/>
                  <p:nvPr/>
                </p:nvSpPr>
                <p:spPr>
                  <a:xfrm flipH="1">
                    <a:off x="783720" y="2216880"/>
                    <a:ext cx="29160" cy="9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9" name=""/>
                  <p:cNvSpPr/>
                  <p:nvPr/>
                </p:nvSpPr>
                <p:spPr>
                  <a:xfrm flipH="1">
                    <a:off x="786600" y="224928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0" name=""/>
                  <p:cNvSpPr/>
                  <p:nvPr/>
                </p:nvSpPr>
                <p:spPr>
                  <a:xfrm>
                    <a:off x="799200" y="2272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1" name=""/>
                  <p:cNvSpPr/>
                  <p:nvPr/>
                </p:nvSpPr>
                <p:spPr>
                  <a:xfrm flipH="1">
                    <a:off x="781560" y="2287440"/>
                    <a:ext cx="61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2" name=""/>
                <p:cNvGrpSpPr/>
                <p:nvPr/>
              </p:nvGrpSpPr>
              <p:grpSpPr>
                <a:xfrm>
                  <a:off x="769680" y="2273400"/>
                  <a:ext cx="162720" cy="167040"/>
                  <a:chOff x="769680" y="2273400"/>
                  <a:chExt cx="162720" cy="167040"/>
                </a:xfrm>
              </p:grpSpPr>
              <p:sp>
                <p:nvSpPr>
                  <p:cNvPr id="5783" name=""/>
                  <p:cNvSpPr/>
                  <p:nvPr/>
                </p:nvSpPr>
                <p:spPr>
                  <a:xfrm rot="13153200">
                    <a:off x="799920" y="2290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4" name=""/>
                  <p:cNvSpPr/>
                  <p:nvPr/>
                </p:nvSpPr>
                <p:spPr>
                  <a:xfrm>
                    <a:off x="849960" y="2283840"/>
                    <a:ext cx="3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5" name=""/>
                  <p:cNvSpPr/>
                  <p:nvPr/>
                </p:nvSpPr>
                <p:spPr>
                  <a:xfrm flipH="1">
                    <a:off x="840600" y="231912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6" name=""/>
                  <p:cNvSpPr/>
                  <p:nvPr/>
                </p:nvSpPr>
                <p:spPr>
                  <a:xfrm>
                    <a:off x="855000" y="234072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7" name=""/>
                  <p:cNvSpPr/>
                  <p:nvPr/>
                </p:nvSpPr>
                <p:spPr>
                  <a:xfrm flipH="1">
                    <a:off x="847080" y="2358720"/>
                    <a:ext cx="21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8" name=""/>
                <p:cNvGrpSpPr/>
                <p:nvPr/>
              </p:nvGrpSpPr>
              <p:grpSpPr>
                <a:xfrm>
                  <a:off x="844200" y="2206440"/>
                  <a:ext cx="166320" cy="164520"/>
                  <a:chOff x="844200" y="2206440"/>
                  <a:chExt cx="166320" cy="164520"/>
                </a:xfrm>
              </p:grpSpPr>
              <p:sp>
                <p:nvSpPr>
                  <p:cNvPr id="5789" name=""/>
                  <p:cNvSpPr/>
                  <p:nvPr/>
                </p:nvSpPr>
                <p:spPr>
                  <a:xfrm rot="13672800">
                    <a:off x="875880" y="2222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0" name=""/>
                  <p:cNvSpPr/>
                  <p:nvPr/>
                </p:nvSpPr>
                <p:spPr>
                  <a:xfrm flipH="1">
                    <a:off x="925560" y="2216160"/>
                    <a:ext cx="1152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1" name=""/>
                  <p:cNvSpPr/>
                  <p:nvPr/>
                </p:nvSpPr>
                <p:spPr>
                  <a:xfrm flipH="1">
                    <a:off x="919800" y="225072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2" name=""/>
                  <p:cNvSpPr/>
                  <p:nvPr/>
                </p:nvSpPr>
                <p:spPr>
                  <a:xfrm>
                    <a:off x="933480" y="2273400"/>
                    <a:ext cx="9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3" name=""/>
                  <p:cNvSpPr/>
                  <p:nvPr/>
                </p:nvSpPr>
                <p:spPr>
                  <a:xfrm flipH="1">
                    <a:off x="920880" y="229032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4" name=""/>
                <p:cNvGrpSpPr/>
                <p:nvPr/>
              </p:nvGrpSpPr>
              <p:grpSpPr>
                <a:xfrm>
                  <a:off x="738360" y="2101680"/>
                  <a:ext cx="154800" cy="134280"/>
                  <a:chOff x="738360" y="2101680"/>
                  <a:chExt cx="154800" cy="134280"/>
                </a:xfrm>
              </p:grpSpPr>
              <p:sp>
                <p:nvSpPr>
                  <p:cNvPr id="5795" name=""/>
                  <p:cNvSpPr/>
                  <p:nvPr/>
                </p:nvSpPr>
                <p:spPr>
                  <a:xfrm rot="15256800">
                    <a:off x="764640" y="2102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6" name=""/>
                  <p:cNvSpPr/>
                  <p:nvPr/>
                </p:nvSpPr>
                <p:spPr>
                  <a:xfrm flipH="1">
                    <a:off x="801360" y="2108160"/>
                    <a:ext cx="55080" cy="85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7" name=""/>
                  <p:cNvSpPr/>
                  <p:nvPr/>
                </p:nvSpPr>
                <p:spPr>
                  <a:xfrm flipH="1">
                    <a:off x="818280" y="213516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8" name=""/>
                  <p:cNvSpPr/>
                  <p:nvPr/>
                </p:nvSpPr>
                <p:spPr>
                  <a:xfrm>
                    <a:off x="828000" y="215784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9" name=""/>
                  <p:cNvSpPr/>
                  <p:nvPr/>
                </p:nvSpPr>
                <p:spPr>
                  <a:xfrm flipH="1">
                    <a:off x="803520" y="2169000"/>
                    <a:ext cx="93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0" name=""/>
                <p:cNvGrpSpPr/>
                <p:nvPr/>
              </p:nvGrpSpPr>
              <p:grpSpPr>
                <a:xfrm>
                  <a:off x="941760" y="2039760"/>
                  <a:ext cx="172080" cy="132480"/>
                  <a:chOff x="941760" y="2039760"/>
                  <a:chExt cx="172080" cy="132480"/>
                </a:xfrm>
              </p:grpSpPr>
              <p:sp>
                <p:nvSpPr>
                  <p:cNvPr id="5801" name=""/>
                  <p:cNvSpPr/>
                  <p:nvPr/>
                </p:nvSpPr>
                <p:spPr>
                  <a:xfrm rot="17308200">
                    <a:off x="983160" y="2029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2" name=""/>
                  <p:cNvSpPr/>
                  <p:nvPr/>
                </p:nvSpPr>
                <p:spPr>
                  <a:xfrm flipH="1">
                    <a:off x="1000800" y="2087280"/>
                    <a:ext cx="101880" cy="27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3" name=""/>
                  <p:cNvSpPr/>
                  <p:nvPr/>
                </p:nvSpPr>
                <p:spPr>
                  <a:xfrm flipH="1" flipV="1">
                    <a:off x="1044360" y="2091960"/>
                    <a:ext cx="20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4" name=""/>
                  <p:cNvSpPr/>
                  <p:nvPr/>
                </p:nvSpPr>
                <p:spPr>
                  <a:xfrm flipH="1">
                    <a:off x="1034280" y="21056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5" name=""/>
                  <p:cNvSpPr/>
                  <p:nvPr/>
                </p:nvSpPr>
                <p:spPr>
                  <a:xfrm flipH="1">
                    <a:off x="1010880" y="210420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6" name=""/>
                <p:cNvGrpSpPr/>
                <p:nvPr/>
              </p:nvGrpSpPr>
              <p:grpSpPr>
                <a:xfrm>
                  <a:off x="1059120" y="1854000"/>
                  <a:ext cx="164160" cy="166680"/>
                  <a:chOff x="1059120" y="1854000"/>
                  <a:chExt cx="164160" cy="166680"/>
                </a:xfrm>
              </p:grpSpPr>
              <p:sp>
                <p:nvSpPr>
                  <p:cNvPr id="5807" name=""/>
                  <p:cNvSpPr/>
                  <p:nvPr/>
                </p:nvSpPr>
                <p:spPr>
                  <a:xfrm rot="2504400">
                    <a:off x="1089720" y="1870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8" name=""/>
                  <p:cNvSpPr/>
                  <p:nvPr/>
                </p:nvSpPr>
                <p:spPr>
                  <a:xfrm flipV="1">
                    <a:off x="1139040" y="1908720"/>
                    <a:ext cx="72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9" name=""/>
                  <p:cNvSpPr/>
                  <p:nvPr/>
                </p:nvSpPr>
                <p:spPr>
                  <a:xfrm flipV="1">
                    <a:off x="1144080" y="1958040"/>
                    <a:ext cx="68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0" name=""/>
                  <p:cNvSpPr/>
                  <p:nvPr/>
                </p:nvSpPr>
                <p:spPr>
                  <a:xfrm flipH="1" flipV="1">
                    <a:off x="1125360" y="1935720"/>
                    <a:ext cx="11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1" name=""/>
                  <p:cNvSpPr/>
                  <p:nvPr/>
                </p:nvSpPr>
                <p:spPr>
                  <a:xfrm flipV="1">
                    <a:off x="1143360" y="1922760"/>
                    <a:ext cx="25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2" name=""/>
                <p:cNvGrpSpPr/>
                <p:nvPr/>
              </p:nvGrpSpPr>
              <p:grpSpPr>
                <a:xfrm>
                  <a:off x="1182600" y="1916640"/>
                  <a:ext cx="165240" cy="166320"/>
                  <a:chOff x="1182600" y="1916640"/>
                  <a:chExt cx="165240" cy="166320"/>
                </a:xfrm>
              </p:grpSpPr>
              <p:sp>
                <p:nvSpPr>
                  <p:cNvPr id="5813" name=""/>
                  <p:cNvSpPr/>
                  <p:nvPr/>
                </p:nvSpPr>
                <p:spPr>
                  <a:xfrm rot="2624400">
                    <a:off x="1213920" y="1933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4" name=""/>
                  <p:cNvSpPr/>
                  <p:nvPr/>
                </p:nvSpPr>
                <p:spPr>
                  <a:xfrm flipV="1">
                    <a:off x="1260720" y="1971000"/>
                    <a:ext cx="3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5" name=""/>
                  <p:cNvSpPr/>
                  <p:nvPr/>
                </p:nvSpPr>
                <p:spPr>
                  <a:xfrm flipV="1">
                    <a:off x="1266480" y="202032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6" name=""/>
                  <p:cNvSpPr/>
                  <p:nvPr/>
                </p:nvSpPr>
                <p:spPr>
                  <a:xfrm flipH="1" flipV="1">
                    <a:off x="1249560" y="199728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7" name=""/>
                  <p:cNvSpPr/>
                  <p:nvPr/>
                </p:nvSpPr>
                <p:spPr>
                  <a:xfrm flipV="1">
                    <a:off x="1267200" y="198504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8" name=""/>
                <p:cNvGrpSpPr/>
                <p:nvPr/>
              </p:nvGrpSpPr>
              <p:grpSpPr>
                <a:xfrm>
                  <a:off x="1017360" y="2171520"/>
                  <a:ext cx="175680" cy="147600"/>
                  <a:chOff x="1017360" y="2171520"/>
                  <a:chExt cx="175680" cy="147600"/>
                </a:xfrm>
              </p:grpSpPr>
              <p:sp>
                <p:nvSpPr>
                  <p:cNvPr id="5819" name=""/>
                  <p:cNvSpPr/>
                  <p:nvPr/>
                </p:nvSpPr>
                <p:spPr>
                  <a:xfrm rot="17797200">
                    <a:off x="1060560" y="2169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0" name=""/>
                  <p:cNvSpPr/>
                  <p:nvPr/>
                </p:nvSpPr>
                <p:spPr>
                  <a:xfrm flipH="1">
                    <a:off x="1076760" y="2237760"/>
                    <a:ext cx="1047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1" name=""/>
                  <p:cNvSpPr/>
                  <p:nvPr/>
                </p:nvSpPr>
                <p:spPr>
                  <a:xfrm flipH="1" flipV="1">
                    <a:off x="1122840" y="2234160"/>
                    <a:ext cx="205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2" name=""/>
                  <p:cNvSpPr/>
                  <p:nvPr/>
                </p:nvSpPr>
                <p:spPr>
                  <a:xfrm flipH="1">
                    <a:off x="1109160" y="2247840"/>
                    <a:ext cx="140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3" name=""/>
                  <p:cNvSpPr/>
                  <p:nvPr/>
                </p:nvSpPr>
                <p:spPr>
                  <a:xfrm flipH="1" flipV="1">
                    <a:off x="1087920" y="2242800"/>
                    <a:ext cx="144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24" name=""/>
                <p:cNvGrpSpPr/>
                <p:nvPr/>
              </p:nvGrpSpPr>
              <p:grpSpPr>
                <a:xfrm>
                  <a:off x="877680" y="2232720"/>
                  <a:ext cx="155160" cy="134640"/>
                  <a:chOff x="877680" y="2232720"/>
                  <a:chExt cx="155160" cy="134640"/>
                </a:xfrm>
              </p:grpSpPr>
              <p:sp>
                <p:nvSpPr>
                  <p:cNvPr id="5825" name=""/>
                  <p:cNvSpPr/>
                  <p:nvPr/>
                </p:nvSpPr>
                <p:spPr>
                  <a:xfrm rot="17161800">
                    <a:off x="903960" y="2233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6" name=""/>
                  <p:cNvSpPr/>
                  <p:nvPr/>
                </p:nvSpPr>
                <p:spPr>
                  <a:xfrm flipH="1">
                    <a:off x="930240" y="2269800"/>
                    <a:ext cx="91800" cy="43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7" name=""/>
                  <p:cNvSpPr/>
                  <p:nvPr/>
                </p:nvSpPr>
                <p:spPr>
                  <a:xfrm flipH="1">
                    <a:off x="969480" y="22809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8" name=""/>
                  <p:cNvSpPr/>
                  <p:nvPr/>
                </p:nvSpPr>
                <p:spPr>
                  <a:xfrm flipH="1">
                    <a:off x="960480" y="2297160"/>
                    <a:ext cx="11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9" name=""/>
                  <p:cNvSpPr/>
                  <p:nvPr/>
                </p:nvSpPr>
                <p:spPr>
                  <a:xfrm flipH="1">
                    <a:off x="939960" y="229860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0" name=""/>
                <p:cNvGrpSpPr/>
                <p:nvPr/>
              </p:nvGrpSpPr>
              <p:grpSpPr>
                <a:xfrm>
                  <a:off x="714240" y="2221560"/>
                  <a:ext cx="152280" cy="129960"/>
                  <a:chOff x="714240" y="2221560"/>
                  <a:chExt cx="152280" cy="129960"/>
                </a:xfrm>
              </p:grpSpPr>
              <p:sp>
                <p:nvSpPr>
                  <p:cNvPr id="5831" name=""/>
                  <p:cNvSpPr/>
                  <p:nvPr/>
                </p:nvSpPr>
                <p:spPr>
                  <a:xfrm rot="17001600">
                    <a:off x="739080" y="2220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2" name=""/>
                  <p:cNvSpPr/>
                  <p:nvPr/>
                </p:nvSpPr>
                <p:spPr>
                  <a:xfrm flipH="1">
                    <a:off x="765720" y="2253600"/>
                    <a:ext cx="9000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3" name=""/>
                  <p:cNvSpPr/>
                  <p:nvPr/>
                </p:nvSpPr>
                <p:spPr>
                  <a:xfrm flipH="1">
                    <a:off x="803880" y="2266200"/>
                    <a:ext cx="183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4" name=""/>
                  <p:cNvSpPr/>
                  <p:nvPr/>
                </p:nvSpPr>
                <p:spPr>
                  <a:xfrm flipH="1">
                    <a:off x="796320" y="22831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5" name=""/>
                  <p:cNvSpPr/>
                  <p:nvPr/>
                </p:nvSpPr>
                <p:spPr>
                  <a:xfrm flipH="1">
                    <a:off x="775080" y="228564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6" name=""/>
                <p:cNvGrpSpPr/>
                <p:nvPr/>
              </p:nvGrpSpPr>
              <p:grpSpPr>
                <a:xfrm>
                  <a:off x="640800" y="2147400"/>
                  <a:ext cx="174960" cy="142920"/>
                  <a:chOff x="640800" y="2147400"/>
                  <a:chExt cx="174960" cy="142920"/>
                </a:xfrm>
              </p:grpSpPr>
              <p:sp>
                <p:nvSpPr>
                  <p:cNvPr id="5837" name=""/>
                  <p:cNvSpPr/>
                  <p:nvPr/>
                </p:nvSpPr>
                <p:spPr>
                  <a:xfrm rot="17634600">
                    <a:off x="683640" y="2142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8" name=""/>
                  <p:cNvSpPr/>
                  <p:nvPr/>
                </p:nvSpPr>
                <p:spPr>
                  <a:xfrm flipH="1">
                    <a:off x="700200" y="2207520"/>
                    <a:ext cx="104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9" name=""/>
                  <p:cNvSpPr/>
                  <p:nvPr/>
                </p:nvSpPr>
                <p:spPr>
                  <a:xfrm flipH="1" flipV="1">
                    <a:off x="745560" y="2206800"/>
                    <a:ext cx="2088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0" name=""/>
                  <p:cNvSpPr/>
                  <p:nvPr/>
                </p:nvSpPr>
                <p:spPr>
                  <a:xfrm flipH="1">
                    <a:off x="733320" y="222048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1" name=""/>
                  <p:cNvSpPr/>
                  <p:nvPr/>
                </p:nvSpPr>
                <p:spPr>
                  <a:xfrm flipH="1" flipV="1">
                    <a:off x="711360" y="2216880"/>
                    <a:ext cx="144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842" name=""/>
          <p:cNvGrpSpPr/>
          <p:nvPr/>
        </p:nvGrpSpPr>
        <p:grpSpPr>
          <a:xfrm>
            <a:off x="5823720" y="1529640"/>
            <a:ext cx="2768760" cy="4686120"/>
            <a:chOff x="5823720" y="1529640"/>
            <a:chExt cx="2768760" cy="4686120"/>
          </a:xfrm>
        </p:grpSpPr>
        <p:grpSp>
          <p:nvGrpSpPr>
            <p:cNvPr id="5843" name=""/>
            <p:cNvGrpSpPr/>
            <p:nvPr/>
          </p:nvGrpSpPr>
          <p:grpSpPr>
            <a:xfrm>
              <a:off x="7399440" y="1529640"/>
              <a:ext cx="524880" cy="828360"/>
              <a:chOff x="7399440" y="1529640"/>
              <a:chExt cx="524880" cy="828360"/>
            </a:xfrm>
          </p:grpSpPr>
          <p:grpSp>
            <p:nvGrpSpPr>
              <p:cNvPr id="5844" name=""/>
              <p:cNvGrpSpPr/>
              <p:nvPr/>
            </p:nvGrpSpPr>
            <p:grpSpPr>
              <a:xfrm>
                <a:off x="7703280" y="1842120"/>
                <a:ext cx="167400" cy="167400"/>
                <a:chOff x="7703280" y="1842120"/>
                <a:chExt cx="167400" cy="167400"/>
              </a:xfrm>
            </p:grpSpPr>
            <p:sp>
              <p:nvSpPr>
                <p:cNvPr id="5845" name=""/>
                <p:cNvSpPr/>
                <p:nvPr/>
              </p:nvSpPr>
              <p:spPr>
                <a:xfrm rot="8101200">
                  <a:off x="7746480" y="184752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>
                  <a:off x="7713000" y="1905840"/>
                  <a:ext cx="101880" cy="26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>
                  <a:off x="7749720" y="1919160"/>
                  <a:ext cx="1800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8" name=""/>
                <p:cNvSpPr/>
                <p:nvPr/>
              </p:nvSpPr>
              <p:spPr>
                <a:xfrm flipV="1">
                  <a:off x="7770600" y="1911240"/>
                  <a:ext cx="1620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9" name=""/>
                <p:cNvSpPr/>
                <p:nvPr/>
              </p:nvSpPr>
              <p:spPr>
                <a:xfrm>
                  <a:off x="7788600" y="1928520"/>
                  <a:ext cx="1332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0" name=""/>
              <p:cNvSpPr/>
              <p:nvPr/>
            </p:nvSpPr>
            <p:spPr>
              <a:xfrm flipH="1" flipV="1">
                <a:off x="7553880" y="1896840"/>
                <a:ext cx="108720" cy="210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 rot="4285800">
                <a:off x="7310520" y="1899000"/>
                <a:ext cx="585720" cy="23400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 flipV="1">
                <a:off x="7662240" y="1805760"/>
                <a:ext cx="89280" cy="128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 flipV="1">
                <a:off x="7596360" y="2100960"/>
                <a:ext cx="159480" cy="202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 flipH="1" flipV="1">
                <a:off x="7559280" y="1969200"/>
                <a:ext cx="48600" cy="32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 flipH="1" flipV="1">
                <a:off x="7642080" y="1990440"/>
                <a:ext cx="5400" cy="72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 flipV="1">
                <a:off x="7698240" y="1766520"/>
                <a:ext cx="20880" cy="106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7688880" y="1901160"/>
                <a:ext cx="58320" cy="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 flipH="1" flipV="1">
                <a:off x="7577280" y="1740600"/>
                <a:ext cx="56160" cy="54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 flipV="1">
                <a:off x="7675200" y="2018160"/>
                <a:ext cx="33120" cy="18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 flipV="1">
                <a:off x="7697160" y="2062440"/>
                <a:ext cx="26640" cy="33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 flipV="1">
                <a:off x="7649280" y="2234520"/>
                <a:ext cx="75240" cy="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 flipV="1">
                <a:off x="7729200" y="2117520"/>
                <a:ext cx="50760" cy="1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 flipH="1" flipV="1">
                <a:off x="7587000" y="2108160"/>
                <a:ext cx="46800" cy="82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 flipH="1" flipV="1">
                <a:off x="7607160" y="1829160"/>
                <a:ext cx="39240" cy="61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 flipV="1">
                <a:off x="7636320" y="1711440"/>
                <a:ext cx="26280" cy="33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66" name=""/>
              <p:cNvGrpSpPr/>
              <p:nvPr/>
            </p:nvGrpSpPr>
            <p:grpSpPr>
              <a:xfrm>
                <a:off x="7729560" y="1733400"/>
                <a:ext cx="137520" cy="125280"/>
                <a:chOff x="7729560" y="1733400"/>
                <a:chExt cx="137520" cy="125280"/>
              </a:xfrm>
            </p:grpSpPr>
            <p:sp>
              <p:nvSpPr>
                <p:cNvPr id="5867" name=""/>
                <p:cNvSpPr/>
                <p:nvPr/>
              </p:nvSpPr>
              <p:spPr>
                <a:xfrm rot="6031200">
                  <a:off x="7745760" y="173592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 flipV="1">
                  <a:off x="7739280" y="1779480"/>
                  <a:ext cx="8100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9" name=""/>
                <p:cNvSpPr/>
                <p:nvPr/>
              </p:nvSpPr>
              <p:spPr>
                <a:xfrm flipV="1">
                  <a:off x="7769160" y="1815120"/>
                  <a:ext cx="1692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0" name=""/>
                <p:cNvSpPr/>
                <p:nvPr/>
              </p:nvSpPr>
              <p:spPr>
                <a:xfrm flipV="1">
                  <a:off x="7783920" y="1780920"/>
                  <a:ext cx="900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1" name=""/>
                <p:cNvSpPr/>
                <p:nvPr/>
              </p:nvSpPr>
              <p:spPr>
                <a:xfrm flipV="1">
                  <a:off x="7800840" y="1791720"/>
                  <a:ext cx="1152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2" name=""/>
              <p:cNvGrpSpPr/>
              <p:nvPr/>
            </p:nvGrpSpPr>
            <p:grpSpPr>
              <a:xfrm>
                <a:off x="7570080" y="1841040"/>
                <a:ext cx="159840" cy="158760"/>
                <a:chOff x="7570080" y="1841040"/>
                <a:chExt cx="159840" cy="158760"/>
              </a:xfrm>
            </p:grpSpPr>
            <p:sp>
              <p:nvSpPr>
                <p:cNvPr id="5873" name=""/>
                <p:cNvSpPr/>
                <p:nvPr/>
              </p:nvSpPr>
              <p:spPr>
                <a:xfrm rot="2872800">
                  <a:off x="7597440" y="186012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4" name=""/>
                <p:cNvSpPr/>
                <p:nvPr/>
              </p:nvSpPr>
              <p:spPr>
                <a:xfrm flipV="1">
                  <a:off x="7645320" y="1892880"/>
                  <a:ext cx="504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5" name=""/>
                <p:cNvSpPr/>
                <p:nvPr/>
              </p:nvSpPr>
              <p:spPr>
                <a:xfrm flipV="1">
                  <a:off x="7651080" y="1941840"/>
                  <a:ext cx="720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6" name=""/>
                <p:cNvSpPr/>
                <p:nvPr/>
              </p:nvSpPr>
              <p:spPr>
                <a:xfrm flipH="1" flipV="1">
                  <a:off x="7634880" y="1915560"/>
                  <a:ext cx="1008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 flipV="1">
                  <a:off x="7652160" y="1906560"/>
                  <a:ext cx="324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8" name=""/>
              <p:cNvGrpSpPr/>
              <p:nvPr/>
            </p:nvGrpSpPr>
            <p:grpSpPr>
              <a:xfrm>
                <a:off x="7667280" y="1895040"/>
                <a:ext cx="147240" cy="137880"/>
                <a:chOff x="7667280" y="1895040"/>
                <a:chExt cx="147240" cy="137880"/>
              </a:xfrm>
            </p:grpSpPr>
            <p:sp>
              <p:nvSpPr>
                <p:cNvPr id="5879" name=""/>
                <p:cNvSpPr/>
                <p:nvPr/>
              </p:nvSpPr>
              <p:spPr>
                <a:xfrm rot="4285800">
                  <a:off x="7688160" y="190368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 flipV="1">
                  <a:off x="7708320" y="1938960"/>
                  <a:ext cx="4320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1" name=""/>
                <p:cNvSpPr/>
                <p:nvPr/>
              </p:nvSpPr>
              <p:spPr>
                <a:xfrm flipV="1">
                  <a:off x="7726680" y="198684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2" name=""/>
                <p:cNvSpPr/>
                <p:nvPr/>
              </p:nvSpPr>
              <p:spPr>
                <a:xfrm flipH="1" flipV="1">
                  <a:off x="7728840" y="195372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 flipV="1">
                  <a:off x="7743600" y="1953360"/>
                  <a:ext cx="75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4" name=""/>
              <p:cNvGrpSpPr/>
              <p:nvPr/>
            </p:nvGrpSpPr>
            <p:grpSpPr>
              <a:xfrm>
                <a:off x="7425360" y="1762920"/>
                <a:ext cx="140400" cy="175680"/>
                <a:chOff x="7425360" y="1762920"/>
                <a:chExt cx="140400" cy="175680"/>
              </a:xfrm>
            </p:grpSpPr>
            <p:sp>
              <p:nvSpPr>
                <p:cNvPr id="5885" name=""/>
                <p:cNvSpPr/>
                <p:nvPr/>
              </p:nvSpPr>
              <p:spPr>
                <a:xfrm rot="20055000">
                  <a:off x="7455240" y="177228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 flipH="1" flipV="1">
                  <a:off x="7471080" y="1835640"/>
                  <a:ext cx="87120" cy="57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7" name=""/>
                <p:cNvSpPr/>
                <p:nvPr/>
              </p:nvSpPr>
              <p:spPr>
                <a:xfrm flipH="1" flipV="1">
                  <a:off x="7515000" y="1852560"/>
                  <a:ext cx="1332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8" name=""/>
                <p:cNvSpPr/>
                <p:nvPr/>
              </p:nvSpPr>
              <p:spPr>
                <a:xfrm flipH="1">
                  <a:off x="7490520" y="1863720"/>
                  <a:ext cx="17280" cy="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 flipH="1" flipV="1">
                  <a:off x="7484040" y="1837440"/>
                  <a:ext cx="1044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0" name=""/>
              <p:cNvGrpSpPr/>
              <p:nvPr/>
            </p:nvGrpSpPr>
            <p:grpSpPr>
              <a:xfrm>
                <a:off x="7620840" y="1589040"/>
                <a:ext cx="147600" cy="137880"/>
                <a:chOff x="7620840" y="1589040"/>
                <a:chExt cx="147600" cy="137880"/>
              </a:xfrm>
            </p:grpSpPr>
            <p:sp>
              <p:nvSpPr>
                <p:cNvPr id="5891" name=""/>
                <p:cNvSpPr/>
                <p:nvPr/>
              </p:nvSpPr>
              <p:spPr>
                <a:xfrm rot="4285800">
                  <a:off x="7642080" y="159768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 flipV="1">
                  <a:off x="7662240" y="1632600"/>
                  <a:ext cx="4392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3" name=""/>
                <p:cNvSpPr/>
                <p:nvPr/>
              </p:nvSpPr>
              <p:spPr>
                <a:xfrm flipV="1">
                  <a:off x="7680960" y="1680480"/>
                  <a:ext cx="1260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4" name=""/>
                <p:cNvSpPr/>
                <p:nvPr/>
              </p:nvSpPr>
              <p:spPr>
                <a:xfrm flipH="1" flipV="1">
                  <a:off x="7682760" y="164736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5" name=""/>
                <p:cNvSpPr/>
                <p:nvPr/>
              </p:nvSpPr>
              <p:spPr>
                <a:xfrm flipV="1">
                  <a:off x="7697520" y="1647000"/>
                  <a:ext cx="75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6" name=""/>
              <p:cNvGrpSpPr/>
              <p:nvPr/>
            </p:nvGrpSpPr>
            <p:grpSpPr>
              <a:xfrm>
                <a:off x="7713720" y="1978200"/>
                <a:ext cx="147600" cy="137880"/>
                <a:chOff x="7713720" y="1978200"/>
                <a:chExt cx="147600" cy="137880"/>
              </a:xfrm>
            </p:grpSpPr>
            <p:sp>
              <p:nvSpPr>
                <p:cNvPr id="5897" name=""/>
                <p:cNvSpPr/>
                <p:nvPr/>
              </p:nvSpPr>
              <p:spPr>
                <a:xfrm rot="4285800">
                  <a:off x="7734960" y="198684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8" name=""/>
                <p:cNvSpPr/>
                <p:nvPr/>
              </p:nvSpPr>
              <p:spPr>
                <a:xfrm flipV="1">
                  <a:off x="7755120" y="2022120"/>
                  <a:ext cx="43920" cy="87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9" name=""/>
                <p:cNvSpPr/>
                <p:nvPr/>
              </p:nvSpPr>
              <p:spPr>
                <a:xfrm flipV="1">
                  <a:off x="7773480" y="207000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0" name=""/>
                <p:cNvSpPr/>
                <p:nvPr/>
              </p:nvSpPr>
              <p:spPr>
                <a:xfrm flipH="1" flipV="1">
                  <a:off x="7775640" y="203652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1" name=""/>
                <p:cNvSpPr/>
                <p:nvPr/>
              </p:nvSpPr>
              <p:spPr>
                <a:xfrm flipV="1">
                  <a:off x="7790400" y="2036520"/>
                  <a:ext cx="75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2" name=""/>
              <p:cNvGrpSpPr/>
              <p:nvPr/>
            </p:nvGrpSpPr>
            <p:grpSpPr>
              <a:xfrm>
                <a:off x="7677720" y="1644120"/>
                <a:ext cx="147240" cy="137880"/>
                <a:chOff x="7677720" y="1644120"/>
                <a:chExt cx="147240" cy="137880"/>
              </a:xfrm>
            </p:grpSpPr>
            <p:sp>
              <p:nvSpPr>
                <p:cNvPr id="5903" name=""/>
                <p:cNvSpPr/>
                <p:nvPr/>
              </p:nvSpPr>
              <p:spPr>
                <a:xfrm rot="4285800">
                  <a:off x="7698600" y="165276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4" name=""/>
                <p:cNvSpPr/>
                <p:nvPr/>
              </p:nvSpPr>
              <p:spPr>
                <a:xfrm flipV="1">
                  <a:off x="7718760" y="1688400"/>
                  <a:ext cx="43560" cy="87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5" name=""/>
                <p:cNvSpPr/>
                <p:nvPr/>
              </p:nvSpPr>
              <p:spPr>
                <a:xfrm flipV="1">
                  <a:off x="7737480" y="1735920"/>
                  <a:ext cx="129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6" name=""/>
                <p:cNvSpPr/>
                <p:nvPr/>
              </p:nvSpPr>
              <p:spPr>
                <a:xfrm flipH="1" flipV="1">
                  <a:off x="7739640" y="1702800"/>
                  <a:ext cx="14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7" name=""/>
                <p:cNvSpPr/>
                <p:nvPr/>
              </p:nvSpPr>
              <p:spPr>
                <a:xfrm flipV="1">
                  <a:off x="7754040" y="1702440"/>
                  <a:ext cx="79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8" name=""/>
              <p:cNvGrpSpPr/>
              <p:nvPr/>
            </p:nvGrpSpPr>
            <p:grpSpPr>
              <a:xfrm>
                <a:off x="7433640" y="1981080"/>
                <a:ext cx="155880" cy="173880"/>
                <a:chOff x="7433640" y="1981080"/>
                <a:chExt cx="155880" cy="173880"/>
              </a:xfrm>
            </p:grpSpPr>
            <p:sp>
              <p:nvSpPr>
                <p:cNvPr id="5909" name=""/>
                <p:cNvSpPr/>
                <p:nvPr/>
              </p:nvSpPr>
              <p:spPr>
                <a:xfrm rot="19484400">
                  <a:off x="7471080" y="198972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0" name=""/>
                <p:cNvSpPr/>
                <p:nvPr/>
              </p:nvSpPr>
              <p:spPr>
                <a:xfrm flipH="1" flipV="1">
                  <a:off x="7485120" y="2057400"/>
                  <a:ext cx="9576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1" name=""/>
                <p:cNvSpPr/>
                <p:nvPr/>
              </p:nvSpPr>
              <p:spPr>
                <a:xfrm flipH="1" flipV="1">
                  <a:off x="7531200" y="2067120"/>
                  <a:ext cx="1584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2" name=""/>
                <p:cNvSpPr/>
                <p:nvPr/>
              </p:nvSpPr>
              <p:spPr>
                <a:xfrm flipH="1">
                  <a:off x="7509240" y="2079000"/>
                  <a:ext cx="1692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3" name=""/>
                <p:cNvSpPr/>
                <p:nvPr/>
              </p:nvSpPr>
              <p:spPr>
                <a:xfrm flipH="1" flipV="1">
                  <a:off x="7498080" y="2057040"/>
                  <a:ext cx="1188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4" name=""/>
              <p:cNvGrpSpPr/>
              <p:nvPr/>
            </p:nvGrpSpPr>
            <p:grpSpPr>
              <a:xfrm>
                <a:off x="7405920" y="1869480"/>
                <a:ext cx="171000" cy="163080"/>
                <a:chOff x="7405920" y="1869480"/>
                <a:chExt cx="171000" cy="163080"/>
              </a:xfrm>
            </p:grpSpPr>
            <p:sp>
              <p:nvSpPr>
                <p:cNvPr id="5915" name=""/>
                <p:cNvSpPr/>
                <p:nvPr/>
              </p:nvSpPr>
              <p:spPr>
                <a:xfrm rot="18645000">
                  <a:off x="7450920" y="187272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6" name=""/>
                <p:cNvSpPr/>
                <p:nvPr/>
              </p:nvSpPr>
              <p:spPr>
                <a:xfrm flipH="1" flipV="1">
                  <a:off x="7462800" y="1946880"/>
                  <a:ext cx="1033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7" name=""/>
                <p:cNvSpPr/>
                <p:nvPr/>
              </p:nvSpPr>
              <p:spPr>
                <a:xfrm flipH="1" flipV="1">
                  <a:off x="7509960" y="1945440"/>
                  <a:ext cx="1908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8" name=""/>
                <p:cNvSpPr/>
                <p:nvPr/>
              </p:nvSpPr>
              <p:spPr>
                <a:xfrm flipH="1">
                  <a:off x="7492320" y="1958040"/>
                  <a:ext cx="1548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9" name=""/>
                <p:cNvSpPr/>
                <p:nvPr/>
              </p:nvSpPr>
              <p:spPr>
                <a:xfrm flipH="1" flipV="1">
                  <a:off x="7475400" y="1943640"/>
                  <a:ext cx="1368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0" name=""/>
              <p:cNvGrpSpPr/>
              <p:nvPr/>
            </p:nvGrpSpPr>
            <p:grpSpPr>
              <a:xfrm>
                <a:off x="7497000" y="1567800"/>
                <a:ext cx="132840" cy="174960"/>
                <a:chOff x="7497000" y="1567800"/>
                <a:chExt cx="132840" cy="174960"/>
              </a:xfrm>
            </p:grpSpPr>
            <p:sp>
              <p:nvSpPr>
                <p:cNvPr id="5921" name=""/>
                <p:cNvSpPr/>
                <p:nvPr/>
              </p:nvSpPr>
              <p:spPr>
                <a:xfrm rot="20296200">
                  <a:off x="7522920" y="15771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2" name=""/>
                <p:cNvSpPr/>
                <p:nvPr/>
              </p:nvSpPr>
              <p:spPr>
                <a:xfrm flipH="1" flipV="1">
                  <a:off x="7539840" y="1638720"/>
                  <a:ext cx="83160" cy="64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3" name=""/>
                <p:cNvSpPr/>
                <p:nvPr/>
              </p:nvSpPr>
              <p:spPr>
                <a:xfrm flipH="1" flipV="1">
                  <a:off x="7582680" y="1658880"/>
                  <a:ext cx="1224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4" name=""/>
                <p:cNvSpPr/>
                <p:nvPr/>
              </p:nvSpPr>
              <p:spPr>
                <a:xfrm flipH="1" flipV="1">
                  <a:off x="7557480" y="1668960"/>
                  <a:ext cx="1728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5" name=""/>
                <p:cNvSpPr/>
                <p:nvPr/>
              </p:nvSpPr>
              <p:spPr>
                <a:xfrm flipH="1" flipV="1">
                  <a:off x="7552800" y="1641240"/>
                  <a:ext cx="972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6" name=""/>
              <p:cNvGrpSpPr/>
              <p:nvPr/>
            </p:nvGrpSpPr>
            <p:grpSpPr>
              <a:xfrm>
                <a:off x="7420680" y="1614600"/>
                <a:ext cx="162720" cy="171360"/>
                <a:chOff x="7420680" y="1614600"/>
                <a:chExt cx="162720" cy="171360"/>
              </a:xfrm>
            </p:grpSpPr>
            <p:sp>
              <p:nvSpPr>
                <p:cNvPr id="5927" name=""/>
                <p:cNvSpPr/>
                <p:nvPr/>
              </p:nvSpPr>
              <p:spPr>
                <a:xfrm rot="19168200">
                  <a:off x="7461720" y="16221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8" name=""/>
                <p:cNvSpPr/>
                <p:nvPr/>
              </p:nvSpPr>
              <p:spPr>
                <a:xfrm flipH="1" flipV="1">
                  <a:off x="7474680" y="1692000"/>
                  <a:ext cx="9900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 flipH="1" flipV="1">
                  <a:off x="7521480" y="1697400"/>
                  <a:ext cx="1692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 flipH="1">
                  <a:off x="7500960" y="1709640"/>
                  <a:ext cx="165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 flipH="1" flipV="1">
                  <a:off x="7487640" y="1690200"/>
                  <a:ext cx="126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2" name=""/>
              <p:cNvGrpSpPr/>
              <p:nvPr/>
            </p:nvGrpSpPr>
            <p:grpSpPr>
              <a:xfrm>
                <a:off x="7481520" y="1718280"/>
                <a:ext cx="150840" cy="175320"/>
                <a:chOff x="7481520" y="1718280"/>
                <a:chExt cx="150840" cy="175320"/>
              </a:xfrm>
            </p:grpSpPr>
            <p:sp>
              <p:nvSpPr>
                <p:cNvPr id="5933" name=""/>
                <p:cNvSpPr/>
                <p:nvPr/>
              </p:nvSpPr>
              <p:spPr>
                <a:xfrm rot="19687800">
                  <a:off x="7516440" y="172764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4" name=""/>
                <p:cNvSpPr/>
                <p:nvPr/>
              </p:nvSpPr>
              <p:spPr>
                <a:xfrm flipH="1" flipV="1">
                  <a:off x="7530840" y="1793160"/>
                  <a:ext cx="9288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5" name=""/>
                <p:cNvSpPr/>
                <p:nvPr/>
              </p:nvSpPr>
              <p:spPr>
                <a:xfrm flipH="1" flipV="1">
                  <a:off x="7576560" y="1805760"/>
                  <a:ext cx="1512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 flipH="1">
                  <a:off x="7553520" y="1817280"/>
                  <a:ext cx="169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 flipH="1" flipV="1">
                  <a:off x="7543800" y="1793520"/>
                  <a:ext cx="1152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8" name=""/>
              <p:cNvGrpSpPr/>
              <p:nvPr/>
            </p:nvGrpSpPr>
            <p:grpSpPr>
              <a:xfrm>
                <a:off x="7613280" y="1639440"/>
                <a:ext cx="95040" cy="163080"/>
                <a:chOff x="7613280" y="1639440"/>
                <a:chExt cx="95040" cy="163080"/>
              </a:xfrm>
            </p:grpSpPr>
            <p:sp>
              <p:nvSpPr>
                <p:cNvPr id="5939" name=""/>
                <p:cNvSpPr/>
                <p:nvPr/>
              </p:nvSpPr>
              <p:spPr>
                <a:xfrm rot="21271200">
                  <a:off x="7620480" y="164268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0" name=""/>
                <p:cNvSpPr/>
                <p:nvPr/>
              </p:nvSpPr>
              <p:spPr>
                <a:xfrm flipH="1" flipV="1">
                  <a:off x="7643160" y="1698480"/>
                  <a:ext cx="61560" cy="8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1" name=""/>
                <p:cNvSpPr/>
                <p:nvPr/>
              </p:nvSpPr>
              <p:spPr>
                <a:xfrm flipH="1" flipV="1">
                  <a:off x="7678440" y="1729800"/>
                  <a:ext cx="6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2" name=""/>
                <p:cNvSpPr/>
                <p:nvPr/>
              </p:nvSpPr>
              <p:spPr>
                <a:xfrm flipH="1" flipV="1">
                  <a:off x="7651440" y="1732320"/>
                  <a:ext cx="165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3" name=""/>
                <p:cNvSpPr/>
                <p:nvPr/>
              </p:nvSpPr>
              <p:spPr>
                <a:xfrm flipH="1" flipV="1">
                  <a:off x="7654680" y="1704600"/>
                  <a:ext cx="612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4" name=""/>
              <p:cNvGrpSpPr/>
              <p:nvPr/>
            </p:nvGrpSpPr>
            <p:grpSpPr>
              <a:xfrm>
                <a:off x="7632000" y="1897560"/>
                <a:ext cx="149760" cy="155520"/>
                <a:chOff x="7632000" y="1897560"/>
                <a:chExt cx="149760" cy="155520"/>
              </a:xfrm>
            </p:grpSpPr>
            <p:sp>
              <p:nvSpPr>
                <p:cNvPr id="5945" name=""/>
                <p:cNvSpPr/>
                <p:nvPr/>
              </p:nvSpPr>
              <p:spPr>
                <a:xfrm rot="1722000">
                  <a:off x="7654320" y="191520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6" name=""/>
                <p:cNvSpPr/>
                <p:nvPr/>
              </p:nvSpPr>
              <p:spPr>
                <a:xfrm flipH="1" flipV="1">
                  <a:off x="7697880" y="1950120"/>
                  <a:ext cx="27360" cy="9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7" name=""/>
                <p:cNvSpPr/>
                <p:nvPr/>
              </p:nvSpPr>
              <p:spPr>
                <a:xfrm flipV="1">
                  <a:off x="7719840" y="1993320"/>
                  <a:ext cx="14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8" name=""/>
                <p:cNvSpPr/>
                <p:nvPr/>
              </p:nvSpPr>
              <p:spPr>
                <a:xfrm flipH="1" flipV="1">
                  <a:off x="7691040" y="1976040"/>
                  <a:ext cx="1548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9" name=""/>
                <p:cNvSpPr/>
                <p:nvPr/>
              </p:nvSpPr>
              <p:spPr>
                <a:xfrm flipH="1" flipV="1">
                  <a:off x="7707240" y="1960920"/>
                  <a:ext cx="72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0" name=""/>
              <p:cNvGrpSpPr/>
              <p:nvPr/>
            </p:nvGrpSpPr>
            <p:grpSpPr>
              <a:xfrm>
                <a:off x="7764480" y="2067480"/>
                <a:ext cx="159840" cy="172800"/>
                <a:chOff x="7764480" y="2067480"/>
                <a:chExt cx="159840" cy="172800"/>
              </a:xfrm>
            </p:grpSpPr>
            <p:sp>
              <p:nvSpPr>
                <p:cNvPr id="5951" name=""/>
                <p:cNvSpPr/>
                <p:nvPr/>
              </p:nvSpPr>
              <p:spPr>
                <a:xfrm rot="8518800">
                  <a:off x="7804080" y="20757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2" name=""/>
                <p:cNvSpPr/>
                <p:nvPr/>
              </p:nvSpPr>
              <p:spPr>
                <a:xfrm>
                  <a:off x="7773840" y="2125080"/>
                  <a:ext cx="9756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3" name=""/>
                <p:cNvSpPr/>
                <p:nvPr/>
              </p:nvSpPr>
              <p:spPr>
                <a:xfrm>
                  <a:off x="7808400" y="2143080"/>
                  <a:ext cx="165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4" name=""/>
                <p:cNvSpPr/>
                <p:nvPr/>
              </p:nvSpPr>
              <p:spPr>
                <a:xfrm flipV="1">
                  <a:off x="7829640" y="2139480"/>
                  <a:ext cx="1656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5" name=""/>
                <p:cNvSpPr/>
                <p:nvPr/>
              </p:nvSpPr>
              <p:spPr>
                <a:xfrm>
                  <a:off x="7846200" y="2156760"/>
                  <a:ext cx="122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"/>
              <p:cNvGrpSpPr/>
              <p:nvPr/>
            </p:nvGrpSpPr>
            <p:grpSpPr>
              <a:xfrm>
                <a:off x="7710480" y="2184120"/>
                <a:ext cx="156960" cy="173880"/>
                <a:chOff x="7710480" y="2184120"/>
                <a:chExt cx="156960" cy="173880"/>
              </a:xfrm>
            </p:grpSpPr>
            <p:sp>
              <p:nvSpPr>
                <p:cNvPr id="5957" name=""/>
                <p:cNvSpPr/>
                <p:nvPr/>
              </p:nvSpPr>
              <p:spPr>
                <a:xfrm rot="8638800">
                  <a:off x="7748280" y="219276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7719120" y="2239920"/>
                  <a:ext cx="96480" cy="41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7752960" y="2258640"/>
                  <a:ext cx="1620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0" name=""/>
                <p:cNvSpPr/>
                <p:nvPr/>
              </p:nvSpPr>
              <p:spPr>
                <a:xfrm flipV="1">
                  <a:off x="7774200" y="2256480"/>
                  <a:ext cx="1692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1" name=""/>
                <p:cNvSpPr/>
                <p:nvPr/>
              </p:nvSpPr>
              <p:spPr>
                <a:xfrm>
                  <a:off x="7790400" y="2274120"/>
                  <a:ext cx="122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2" name=""/>
              <p:cNvGrpSpPr/>
              <p:nvPr/>
            </p:nvGrpSpPr>
            <p:grpSpPr>
              <a:xfrm>
                <a:off x="7509240" y="1936080"/>
                <a:ext cx="156240" cy="159120"/>
                <a:chOff x="7509240" y="1936080"/>
                <a:chExt cx="156240" cy="159120"/>
              </a:xfrm>
            </p:grpSpPr>
            <p:sp>
              <p:nvSpPr>
                <p:cNvPr id="5963" name=""/>
                <p:cNvSpPr/>
                <p:nvPr/>
              </p:nvSpPr>
              <p:spPr>
                <a:xfrm rot="2211600">
                  <a:off x="7534440" y="1955520"/>
                  <a:ext cx="105120" cy="120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4" name=""/>
                <p:cNvSpPr/>
                <p:nvPr/>
              </p:nvSpPr>
              <p:spPr>
                <a:xfrm flipH="1" flipV="1">
                  <a:off x="7582320" y="1988640"/>
                  <a:ext cx="13680" cy="9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5" name=""/>
                <p:cNvSpPr/>
                <p:nvPr/>
              </p:nvSpPr>
              <p:spPr>
                <a:xfrm flipV="1">
                  <a:off x="7595280" y="2035080"/>
                  <a:ext cx="396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 flipH="1" flipV="1">
                  <a:off x="7571520" y="2013840"/>
                  <a:ext cx="1296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 flipV="1">
                  <a:off x="7588800" y="2000880"/>
                  <a:ext cx="72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8" name=""/>
              <p:cNvGrpSpPr/>
              <p:nvPr/>
            </p:nvGrpSpPr>
            <p:grpSpPr>
              <a:xfrm>
                <a:off x="7476120" y="1745280"/>
                <a:ext cx="141480" cy="175680"/>
                <a:chOff x="7476120" y="1745280"/>
                <a:chExt cx="141480" cy="175680"/>
              </a:xfrm>
            </p:grpSpPr>
            <p:sp>
              <p:nvSpPr>
                <p:cNvPr id="5969" name=""/>
                <p:cNvSpPr/>
                <p:nvPr/>
              </p:nvSpPr>
              <p:spPr>
                <a:xfrm rot="1576200">
                  <a:off x="7506360" y="17550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0" name=""/>
                <p:cNvSpPr/>
                <p:nvPr/>
              </p:nvSpPr>
              <p:spPr>
                <a:xfrm flipH="1" flipV="1">
                  <a:off x="7543440" y="1804680"/>
                  <a:ext cx="7920" cy="10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1" name=""/>
                <p:cNvSpPr/>
                <p:nvPr/>
              </p:nvSpPr>
              <p:spPr>
                <a:xfrm flipV="1">
                  <a:off x="7552440" y="1850040"/>
                  <a:ext cx="468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 flipH="1" flipV="1">
                  <a:off x="7532640" y="1838160"/>
                  <a:ext cx="111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 flipV="1">
                  <a:off x="7548480" y="1816200"/>
                  <a:ext cx="144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"/>
              <p:cNvGrpSpPr/>
              <p:nvPr/>
            </p:nvGrpSpPr>
            <p:grpSpPr>
              <a:xfrm>
                <a:off x="7495200" y="1567440"/>
                <a:ext cx="136440" cy="175320"/>
                <a:chOff x="7495200" y="1567440"/>
                <a:chExt cx="136440" cy="175320"/>
              </a:xfrm>
            </p:grpSpPr>
            <p:sp>
              <p:nvSpPr>
                <p:cNvPr id="5975" name=""/>
                <p:cNvSpPr/>
                <p:nvPr/>
              </p:nvSpPr>
              <p:spPr>
                <a:xfrm rot="1416000">
                  <a:off x="7522920" y="1576800"/>
                  <a:ext cx="80640" cy="1562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 flipH="1" flipV="1">
                  <a:off x="7558920" y="1626840"/>
                  <a:ext cx="12600" cy="10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 flipV="1">
                  <a:off x="7570800" y="1671480"/>
                  <a:ext cx="36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 flipH="1" flipV="1">
                  <a:off x="7549560" y="1660680"/>
                  <a:ext cx="118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 flipV="1">
                  <a:off x="7565040" y="1638000"/>
                  <a:ext cx="7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0" name=""/>
              <p:cNvGrpSpPr/>
              <p:nvPr/>
            </p:nvGrpSpPr>
            <p:grpSpPr>
              <a:xfrm>
                <a:off x="7544520" y="1529640"/>
                <a:ext cx="154440" cy="158040"/>
                <a:chOff x="7544520" y="1529640"/>
                <a:chExt cx="154440" cy="158040"/>
              </a:xfrm>
            </p:grpSpPr>
            <p:sp>
              <p:nvSpPr>
                <p:cNvPr id="5981" name=""/>
                <p:cNvSpPr/>
                <p:nvPr/>
              </p:nvSpPr>
              <p:spPr>
                <a:xfrm rot="2048400">
                  <a:off x="7569000" y="1548720"/>
                  <a:ext cx="105120" cy="11988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2" name=""/>
                <p:cNvSpPr/>
                <p:nvPr/>
              </p:nvSpPr>
              <p:spPr>
                <a:xfrm flipH="1" flipV="1">
                  <a:off x="7615080" y="1582560"/>
                  <a:ext cx="18360" cy="9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3" name=""/>
                <p:cNvSpPr/>
                <p:nvPr/>
              </p:nvSpPr>
              <p:spPr>
                <a:xfrm flipV="1">
                  <a:off x="7631280" y="1627920"/>
                  <a:ext cx="32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4" name=""/>
                <p:cNvSpPr/>
                <p:nvPr/>
              </p:nvSpPr>
              <p:spPr>
                <a:xfrm flipH="1" flipV="1">
                  <a:off x="7605720" y="1607760"/>
                  <a:ext cx="1404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 flipV="1">
                  <a:off x="7623000" y="1594080"/>
                  <a:ext cx="36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86" name=""/>
            <p:cNvGrpSpPr/>
            <p:nvPr/>
          </p:nvGrpSpPr>
          <p:grpSpPr>
            <a:xfrm>
              <a:off x="5823720" y="1772640"/>
              <a:ext cx="2768760" cy="4443120"/>
              <a:chOff x="5823720" y="1772640"/>
              <a:chExt cx="2768760" cy="4443120"/>
            </a:xfrm>
          </p:grpSpPr>
          <p:sp>
            <p:nvSpPr>
              <p:cNvPr id="5987" name=""/>
              <p:cNvSpPr/>
              <p:nvPr/>
            </p:nvSpPr>
            <p:spPr>
              <a:xfrm>
                <a:off x="6356520" y="2142720"/>
                <a:ext cx="1579320" cy="407304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988" name=""/>
              <p:cNvGrpSpPr/>
              <p:nvPr/>
            </p:nvGrpSpPr>
            <p:grpSpPr>
              <a:xfrm>
                <a:off x="6634800" y="4075200"/>
                <a:ext cx="735840" cy="609480"/>
                <a:chOff x="6634800" y="4075200"/>
                <a:chExt cx="735840" cy="609480"/>
              </a:xfrm>
            </p:grpSpPr>
            <p:grpSp>
              <p:nvGrpSpPr>
                <p:cNvPr id="5989" name=""/>
                <p:cNvGrpSpPr/>
                <p:nvPr/>
              </p:nvGrpSpPr>
              <p:grpSpPr>
                <a:xfrm>
                  <a:off x="6932880" y="4154040"/>
                  <a:ext cx="163800" cy="150480"/>
                  <a:chOff x="6932880" y="4154040"/>
                  <a:chExt cx="163800" cy="150480"/>
                </a:xfrm>
              </p:grpSpPr>
              <p:sp>
                <p:nvSpPr>
                  <p:cNvPr id="5990" name=""/>
                  <p:cNvSpPr/>
                  <p:nvPr/>
                </p:nvSpPr>
                <p:spPr>
                  <a:xfrm rot="3815400">
                    <a:off x="6963480" y="4163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1" name=""/>
                  <p:cNvSpPr/>
                  <p:nvPr/>
                </p:nvSpPr>
                <p:spPr>
                  <a:xfrm flipV="1">
                    <a:off x="6985800" y="420228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2" name=""/>
                  <p:cNvSpPr/>
                  <p:nvPr/>
                </p:nvSpPr>
                <p:spPr>
                  <a:xfrm flipV="1">
                    <a:off x="7003440" y="42519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3" name=""/>
                  <p:cNvSpPr/>
                  <p:nvPr/>
                </p:nvSpPr>
                <p:spPr>
                  <a:xfrm flipH="1" flipV="1">
                    <a:off x="7000920" y="422172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4" name=""/>
                  <p:cNvSpPr/>
                  <p:nvPr/>
                </p:nvSpPr>
                <p:spPr>
                  <a:xfrm flipV="1">
                    <a:off x="7017480" y="421740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5" name=""/>
                <p:cNvSpPr/>
                <p:nvPr/>
              </p:nvSpPr>
              <p:spPr>
                <a:xfrm flipH="1">
                  <a:off x="6929280" y="445140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6790680" y="433764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 flipH="1" flipV="1">
                  <a:off x="6909480" y="422388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 flipH="1" flipV="1">
                  <a:off x="7147440" y="433764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 flipH="1">
                  <a:off x="6988680" y="447444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 flipH="1" flipV="1">
                  <a:off x="7027920" y="442872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 flipH="1" flipV="1">
                  <a:off x="6869160" y="424620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 flipV="1">
                  <a:off x="6968880" y="426888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3" name=""/>
                <p:cNvSpPr/>
                <p:nvPr/>
              </p:nvSpPr>
              <p:spPr>
                <a:xfrm flipH="1">
                  <a:off x="6810120" y="436068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4" name=""/>
                <p:cNvSpPr/>
                <p:nvPr/>
              </p:nvSpPr>
              <p:spPr>
                <a:xfrm flipH="1" flipV="1">
                  <a:off x="7068240" y="436068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5" name=""/>
                <p:cNvSpPr/>
                <p:nvPr/>
              </p:nvSpPr>
              <p:spPr>
                <a:xfrm flipH="1" flipV="1">
                  <a:off x="7107840" y="436032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6" name=""/>
                <p:cNvSpPr/>
                <p:nvPr/>
              </p:nvSpPr>
              <p:spPr>
                <a:xfrm flipV="1">
                  <a:off x="7226640" y="442872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7" name=""/>
                <p:cNvSpPr/>
                <p:nvPr/>
              </p:nvSpPr>
              <p:spPr>
                <a:xfrm flipV="1">
                  <a:off x="7167240" y="431460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8" name=""/>
                <p:cNvSpPr/>
                <p:nvPr/>
              </p:nvSpPr>
              <p:spPr>
                <a:xfrm flipH="1">
                  <a:off x="7107480" y="451980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9" name=""/>
                <p:cNvSpPr/>
                <p:nvPr/>
              </p:nvSpPr>
              <p:spPr>
                <a:xfrm flipH="1">
                  <a:off x="6889320" y="438300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0" name=""/>
                <p:cNvSpPr/>
                <p:nvPr/>
              </p:nvSpPr>
              <p:spPr>
                <a:xfrm flipH="1" flipV="1">
                  <a:off x="6809760" y="429192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11" name=""/>
                <p:cNvGrpSpPr/>
                <p:nvPr/>
              </p:nvGrpSpPr>
              <p:grpSpPr>
                <a:xfrm>
                  <a:off x="6838200" y="4075200"/>
                  <a:ext cx="151560" cy="176040"/>
                  <a:chOff x="6838200" y="4075200"/>
                  <a:chExt cx="151560" cy="176040"/>
                </a:xfrm>
              </p:grpSpPr>
              <p:sp>
                <p:nvSpPr>
                  <p:cNvPr id="6012" name=""/>
                  <p:cNvSpPr/>
                  <p:nvPr/>
                </p:nvSpPr>
                <p:spPr>
                  <a:xfrm rot="1745400">
                    <a:off x="6869160" y="4087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3" name=""/>
                  <p:cNvSpPr/>
                  <p:nvPr/>
                </p:nvSpPr>
                <p:spPr>
                  <a:xfrm flipH="1" flipV="1">
                    <a:off x="6909840" y="413460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4" name=""/>
                  <p:cNvSpPr/>
                  <p:nvPr/>
                </p:nvSpPr>
                <p:spPr>
                  <a:xfrm flipV="1">
                    <a:off x="6919920" y="41814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5" name=""/>
                  <p:cNvSpPr/>
                  <p:nvPr/>
                </p:nvSpPr>
                <p:spPr>
                  <a:xfrm flipH="1" flipV="1">
                    <a:off x="6898680" y="41666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6" name=""/>
                  <p:cNvSpPr/>
                  <p:nvPr/>
                </p:nvSpPr>
                <p:spPr>
                  <a:xfrm flipV="1">
                    <a:off x="6915960" y="41461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7" name=""/>
                <p:cNvGrpSpPr/>
                <p:nvPr/>
              </p:nvGrpSpPr>
              <p:grpSpPr>
                <a:xfrm>
                  <a:off x="6903000" y="4303440"/>
                  <a:ext cx="142200" cy="174960"/>
                  <a:chOff x="6903000" y="4303440"/>
                  <a:chExt cx="142200" cy="174960"/>
                </a:xfrm>
              </p:grpSpPr>
              <p:sp>
                <p:nvSpPr>
                  <p:cNvPr id="6018" name=""/>
                  <p:cNvSpPr/>
                  <p:nvPr/>
                </p:nvSpPr>
                <p:spPr>
                  <a:xfrm rot="20187000">
                    <a:off x="6929640" y="43149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9" name=""/>
                  <p:cNvSpPr/>
                  <p:nvPr/>
                </p:nvSpPr>
                <p:spPr>
                  <a:xfrm flipH="1" flipV="1">
                    <a:off x="6948720" y="437688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0" name=""/>
                  <p:cNvSpPr/>
                  <p:nvPr/>
                </p:nvSpPr>
                <p:spPr>
                  <a:xfrm flipH="1" flipV="1">
                    <a:off x="6995160" y="43934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1" name=""/>
                  <p:cNvSpPr/>
                  <p:nvPr/>
                </p:nvSpPr>
                <p:spPr>
                  <a:xfrm flipH="1">
                    <a:off x="6967440" y="440424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2" name=""/>
                  <p:cNvSpPr/>
                  <p:nvPr/>
                </p:nvSpPr>
                <p:spPr>
                  <a:xfrm flipH="1" flipV="1">
                    <a:off x="6962760" y="43776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3" name=""/>
                <p:cNvGrpSpPr/>
                <p:nvPr/>
              </p:nvGrpSpPr>
              <p:grpSpPr>
                <a:xfrm>
                  <a:off x="6989040" y="4223880"/>
                  <a:ext cx="88920" cy="151920"/>
                  <a:chOff x="6989040" y="4223880"/>
                  <a:chExt cx="88920" cy="151920"/>
                </a:xfrm>
              </p:grpSpPr>
              <p:sp>
                <p:nvSpPr>
                  <p:cNvPr id="6024" name=""/>
                  <p:cNvSpPr/>
                  <p:nvPr/>
                </p:nvSpPr>
                <p:spPr>
                  <a:xfrm>
                    <a:off x="6989040" y="4223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5" name=""/>
                  <p:cNvSpPr/>
                  <p:nvPr/>
                </p:nvSpPr>
                <p:spPr>
                  <a:xfrm flipH="1" flipV="1">
                    <a:off x="7016040" y="4276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6" name=""/>
                  <p:cNvSpPr/>
                  <p:nvPr/>
                </p:nvSpPr>
                <p:spPr>
                  <a:xfrm flipH="1" flipV="1">
                    <a:off x="7051680" y="4310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7" name=""/>
                  <p:cNvSpPr/>
                  <p:nvPr/>
                </p:nvSpPr>
                <p:spPr>
                  <a:xfrm flipH="1" flipV="1">
                    <a:off x="7021800" y="4310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8" name=""/>
                  <p:cNvSpPr/>
                  <p:nvPr/>
                </p:nvSpPr>
                <p:spPr>
                  <a:xfrm flipH="1" flipV="1">
                    <a:off x="7028280" y="4283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9" name=""/>
                <p:cNvGrpSpPr/>
                <p:nvPr/>
              </p:nvGrpSpPr>
              <p:grpSpPr>
                <a:xfrm>
                  <a:off x="6804360" y="4489200"/>
                  <a:ext cx="143640" cy="118080"/>
                  <a:chOff x="6804360" y="4489200"/>
                  <a:chExt cx="143640" cy="118080"/>
                </a:xfrm>
              </p:grpSpPr>
              <p:sp>
                <p:nvSpPr>
                  <p:cNvPr id="6030" name=""/>
                  <p:cNvSpPr/>
                  <p:nvPr/>
                </p:nvSpPr>
                <p:spPr>
                  <a:xfrm rot="15769200">
                    <a:off x="6824880" y="4482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1" name=""/>
                  <p:cNvSpPr/>
                  <p:nvPr/>
                </p:nvSpPr>
                <p:spPr>
                  <a:xfrm flipH="1">
                    <a:off x="6858360" y="449460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2" name=""/>
                  <p:cNvSpPr/>
                  <p:nvPr/>
                </p:nvSpPr>
                <p:spPr>
                  <a:xfrm flipH="1">
                    <a:off x="6882480" y="451764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3" name=""/>
                  <p:cNvSpPr/>
                  <p:nvPr/>
                </p:nvSpPr>
                <p:spPr>
                  <a:xfrm flipH="1">
                    <a:off x="6886800" y="453924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4" name=""/>
                  <p:cNvSpPr/>
                  <p:nvPr/>
                </p:nvSpPr>
                <p:spPr>
                  <a:xfrm flipH="1">
                    <a:off x="6862680" y="454824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5" name=""/>
                <p:cNvGrpSpPr/>
                <p:nvPr/>
              </p:nvGrpSpPr>
              <p:grpSpPr>
                <a:xfrm>
                  <a:off x="6730920" y="4155840"/>
                  <a:ext cx="88920" cy="151920"/>
                  <a:chOff x="6730920" y="4155840"/>
                  <a:chExt cx="88920" cy="151920"/>
                </a:xfrm>
              </p:grpSpPr>
              <p:sp>
                <p:nvSpPr>
                  <p:cNvPr id="6036" name=""/>
                  <p:cNvSpPr/>
                  <p:nvPr/>
                </p:nvSpPr>
                <p:spPr>
                  <a:xfrm>
                    <a:off x="6730920" y="4155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7" name=""/>
                  <p:cNvSpPr/>
                  <p:nvPr/>
                </p:nvSpPr>
                <p:spPr>
                  <a:xfrm flipH="1" flipV="1">
                    <a:off x="6757920" y="4208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8" name=""/>
                  <p:cNvSpPr/>
                  <p:nvPr/>
                </p:nvSpPr>
                <p:spPr>
                  <a:xfrm flipH="1" flipV="1">
                    <a:off x="6793560" y="4242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9" name=""/>
                  <p:cNvSpPr/>
                  <p:nvPr/>
                </p:nvSpPr>
                <p:spPr>
                  <a:xfrm flipH="1" flipV="1">
                    <a:off x="6763680" y="4242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"/>
                  <p:cNvSpPr/>
                  <p:nvPr/>
                </p:nvSpPr>
                <p:spPr>
                  <a:xfrm flipH="1" flipV="1">
                    <a:off x="6770160" y="4215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1" name=""/>
                <p:cNvGrpSpPr/>
                <p:nvPr/>
              </p:nvGrpSpPr>
              <p:grpSpPr>
                <a:xfrm>
                  <a:off x="7068240" y="4200840"/>
                  <a:ext cx="88920" cy="151920"/>
                  <a:chOff x="7068240" y="4200840"/>
                  <a:chExt cx="88920" cy="151920"/>
                </a:xfrm>
              </p:grpSpPr>
              <p:sp>
                <p:nvSpPr>
                  <p:cNvPr id="6042" name=""/>
                  <p:cNvSpPr/>
                  <p:nvPr/>
                </p:nvSpPr>
                <p:spPr>
                  <a:xfrm>
                    <a:off x="7068240" y="4200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3" name=""/>
                  <p:cNvSpPr/>
                  <p:nvPr/>
                </p:nvSpPr>
                <p:spPr>
                  <a:xfrm flipH="1" flipV="1">
                    <a:off x="7095240" y="4253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4" name=""/>
                  <p:cNvSpPr/>
                  <p:nvPr/>
                </p:nvSpPr>
                <p:spPr>
                  <a:xfrm flipH="1" flipV="1">
                    <a:off x="7130880" y="4287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5" name=""/>
                  <p:cNvSpPr/>
                  <p:nvPr/>
                </p:nvSpPr>
                <p:spPr>
                  <a:xfrm flipH="1" flipV="1">
                    <a:off x="7101000" y="4287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6" name=""/>
                  <p:cNvSpPr/>
                  <p:nvPr/>
                </p:nvSpPr>
                <p:spPr>
                  <a:xfrm flipH="1" flipV="1">
                    <a:off x="7107480" y="4260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47" name=""/>
                <p:cNvGrpSpPr/>
                <p:nvPr/>
              </p:nvGrpSpPr>
              <p:grpSpPr>
                <a:xfrm>
                  <a:off x="6790680" y="4110120"/>
                  <a:ext cx="88920" cy="151920"/>
                  <a:chOff x="6790680" y="4110120"/>
                  <a:chExt cx="88920" cy="151920"/>
                </a:xfrm>
              </p:grpSpPr>
              <p:sp>
                <p:nvSpPr>
                  <p:cNvPr id="6048" name=""/>
                  <p:cNvSpPr/>
                  <p:nvPr/>
                </p:nvSpPr>
                <p:spPr>
                  <a:xfrm>
                    <a:off x="6790680" y="4110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9" name=""/>
                  <p:cNvSpPr/>
                  <p:nvPr/>
                </p:nvSpPr>
                <p:spPr>
                  <a:xfrm flipH="1" flipV="1">
                    <a:off x="6817680" y="41630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0" name=""/>
                  <p:cNvSpPr/>
                  <p:nvPr/>
                </p:nvSpPr>
                <p:spPr>
                  <a:xfrm flipH="1" flipV="1">
                    <a:off x="6853320" y="41968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1" name=""/>
                  <p:cNvSpPr/>
                  <p:nvPr/>
                </p:nvSpPr>
                <p:spPr>
                  <a:xfrm flipH="1" flipV="1">
                    <a:off x="6823440" y="41965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2" name=""/>
                  <p:cNvSpPr/>
                  <p:nvPr/>
                </p:nvSpPr>
                <p:spPr>
                  <a:xfrm flipH="1" flipV="1">
                    <a:off x="6829920" y="41695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3" name=""/>
                <p:cNvGrpSpPr/>
                <p:nvPr/>
              </p:nvGrpSpPr>
              <p:grpSpPr>
                <a:xfrm>
                  <a:off x="6977160" y="4548960"/>
                  <a:ext cx="156240" cy="135720"/>
                  <a:chOff x="6977160" y="4548960"/>
                  <a:chExt cx="156240" cy="135720"/>
                </a:xfrm>
              </p:grpSpPr>
              <p:sp>
                <p:nvSpPr>
                  <p:cNvPr id="6054" name=""/>
                  <p:cNvSpPr/>
                  <p:nvPr/>
                </p:nvSpPr>
                <p:spPr>
                  <a:xfrm rot="15198000">
                    <a:off x="7003800" y="4550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5" name=""/>
                  <p:cNvSpPr/>
                  <p:nvPr/>
                </p:nvSpPr>
                <p:spPr>
                  <a:xfrm flipH="1">
                    <a:off x="7041240" y="455544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6" name=""/>
                  <p:cNvSpPr/>
                  <p:nvPr/>
                </p:nvSpPr>
                <p:spPr>
                  <a:xfrm flipH="1">
                    <a:off x="7057440" y="458280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7" name=""/>
                  <p:cNvSpPr/>
                  <p:nvPr/>
                </p:nvSpPr>
                <p:spPr>
                  <a:xfrm>
                    <a:off x="7067160" y="460548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8" name=""/>
                  <p:cNvSpPr/>
                  <p:nvPr/>
                </p:nvSpPr>
                <p:spPr>
                  <a:xfrm flipH="1">
                    <a:off x="7043400" y="461700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9" name=""/>
                <p:cNvGrpSpPr/>
                <p:nvPr/>
              </p:nvGrpSpPr>
              <p:grpSpPr>
                <a:xfrm>
                  <a:off x="6872760" y="4516200"/>
                  <a:ext cx="165960" cy="155520"/>
                  <a:chOff x="6872760" y="4516200"/>
                  <a:chExt cx="165960" cy="155520"/>
                </a:xfrm>
              </p:grpSpPr>
              <p:sp>
                <p:nvSpPr>
                  <p:cNvPr id="6060" name=""/>
                  <p:cNvSpPr/>
                  <p:nvPr/>
                </p:nvSpPr>
                <p:spPr>
                  <a:xfrm rot="14358600">
                    <a:off x="6904440" y="4527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1" name=""/>
                  <p:cNvSpPr/>
                  <p:nvPr/>
                </p:nvSpPr>
                <p:spPr>
                  <a:xfrm flipH="1">
                    <a:off x="6948360" y="452484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2" name=""/>
                  <p:cNvSpPr/>
                  <p:nvPr/>
                </p:nvSpPr>
                <p:spPr>
                  <a:xfrm flipH="1">
                    <a:off x="6952680" y="45568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3" name=""/>
                  <p:cNvSpPr/>
                  <p:nvPr/>
                </p:nvSpPr>
                <p:spPr>
                  <a:xfrm>
                    <a:off x="6964920" y="45799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4" name=""/>
                  <p:cNvSpPr/>
                  <p:nvPr/>
                </p:nvSpPr>
                <p:spPr>
                  <a:xfrm flipH="1">
                    <a:off x="6946560" y="459504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5" name=""/>
                <p:cNvGrpSpPr/>
                <p:nvPr/>
              </p:nvGrpSpPr>
              <p:grpSpPr>
                <a:xfrm>
                  <a:off x="6669000" y="4334040"/>
                  <a:ext cx="137520" cy="109440"/>
                  <a:chOff x="6669000" y="4334040"/>
                  <a:chExt cx="137520" cy="109440"/>
                </a:xfrm>
              </p:grpSpPr>
              <p:sp>
                <p:nvSpPr>
                  <p:cNvPr id="6066" name=""/>
                  <p:cNvSpPr/>
                  <p:nvPr/>
                </p:nvSpPr>
                <p:spPr>
                  <a:xfrm rot="16010400">
                    <a:off x="6686640" y="4322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7" name=""/>
                  <p:cNvSpPr/>
                  <p:nvPr/>
                </p:nvSpPr>
                <p:spPr>
                  <a:xfrm flipH="1">
                    <a:off x="6718680" y="433872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8" name=""/>
                  <p:cNvSpPr/>
                  <p:nvPr/>
                </p:nvSpPr>
                <p:spPr>
                  <a:xfrm flipH="1">
                    <a:off x="6745680" y="435996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9" name=""/>
                  <p:cNvSpPr/>
                  <p:nvPr/>
                </p:nvSpPr>
                <p:spPr>
                  <a:xfrm flipH="1">
                    <a:off x="6747840" y="4380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0" name=""/>
                  <p:cNvSpPr/>
                  <p:nvPr/>
                </p:nvSpPr>
                <p:spPr>
                  <a:xfrm flipH="1">
                    <a:off x="6724080" y="438840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1" name=""/>
                <p:cNvGrpSpPr/>
                <p:nvPr/>
              </p:nvGrpSpPr>
              <p:grpSpPr>
                <a:xfrm>
                  <a:off x="6676920" y="4407480"/>
                  <a:ext cx="160560" cy="144360"/>
                  <a:chOff x="6676920" y="4407480"/>
                  <a:chExt cx="160560" cy="144360"/>
                </a:xfrm>
              </p:grpSpPr>
              <p:sp>
                <p:nvSpPr>
                  <p:cNvPr id="6072" name=""/>
                  <p:cNvSpPr/>
                  <p:nvPr/>
                </p:nvSpPr>
                <p:spPr>
                  <a:xfrm rot="14881800">
                    <a:off x="6706080" y="4413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3" name=""/>
                  <p:cNvSpPr/>
                  <p:nvPr/>
                </p:nvSpPr>
                <p:spPr>
                  <a:xfrm flipH="1">
                    <a:off x="6746040" y="441504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4" name=""/>
                  <p:cNvSpPr/>
                  <p:nvPr/>
                </p:nvSpPr>
                <p:spPr>
                  <a:xfrm flipH="1">
                    <a:off x="6757560" y="44445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6768360" y="446760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 flipH="1">
                    <a:off x="6746400" y="448056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7" name=""/>
                <p:cNvGrpSpPr/>
                <p:nvPr/>
              </p:nvGrpSpPr>
              <p:grpSpPr>
                <a:xfrm>
                  <a:off x="6780960" y="4391640"/>
                  <a:ext cx="151920" cy="129960"/>
                  <a:chOff x="6780960" y="4391640"/>
                  <a:chExt cx="151920" cy="129960"/>
                </a:xfrm>
              </p:grpSpPr>
              <p:sp>
                <p:nvSpPr>
                  <p:cNvPr id="6078" name=""/>
                  <p:cNvSpPr/>
                  <p:nvPr/>
                </p:nvSpPr>
                <p:spPr>
                  <a:xfrm rot="15401400">
                    <a:off x="6805440" y="4390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9" name=""/>
                  <p:cNvSpPr/>
                  <p:nvPr/>
                </p:nvSpPr>
                <p:spPr>
                  <a:xfrm flipH="1">
                    <a:off x="6841440" y="439812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0" name=""/>
                  <p:cNvSpPr/>
                  <p:nvPr/>
                </p:nvSpPr>
                <p:spPr>
                  <a:xfrm flipH="1">
                    <a:off x="6860520" y="442404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1" name=""/>
                  <p:cNvSpPr/>
                  <p:nvPr/>
                </p:nvSpPr>
                <p:spPr>
                  <a:xfrm flipH="1">
                    <a:off x="6868800" y="444636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2" name=""/>
                  <p:cNvSpPr/>
                  <p:nvPr/>
                </p:nvSpPr>
                <p:spPr>
                  <a:xfrm flipH="1">
                    <a:off x="6844320" y="445716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3" name=""/>
                <p:cNvGrpSpPr/>
                <p:nvPr/>
              </p:nvGrpSpPr>
              <p:grpSpPr>
                <a:xfrm>
                  <a:off x="6741000" y="4232880"/>
                  <a:ext cx="151920" cy="129600"/>
                  <a:chOff x="6741000" y="4232880"/>
                  <a:chExt cx="151920" cy="129600"/>
                </a:xfrm>
              </p:grpSpPr>
              <p:sp>
                <p:nvSpPr>
                  <p:cNvPr id="6084" name=""/>
                  <p:cNvSpPr/>
                  <p:nvPr/>
                </p:nvSpPr>
                <p:spPr>
                  <a:xfrm rot="16985400">
                    <a:off x="6765480" y="4231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5" name=""/>
                  <p:cNvSpPr/>
                  <p:nvPr/>
                </p:nvSpPr>
                <p:spPr>
                  <a:xfrm flipH="1">
                    <a:off x="6792480" y="426456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6" name=""/>
                  <p:cNvSpPr/>
                  <p:nvPr/>
                </p:nvSpPr>
                <p:spPr>
                  <a:xfrm flipH="1">
                    <a:off x="6829920" y="427716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7" name=""/>
                  <p:cNvSpPr/>
                  <p:nvPr/>
                </p:nvSpPr>
                <p:spPr>
                  <a:xfrm flipH="1">
                    <a:off x="6822720" y="429408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8" name=""/>
                  <p:cNvSpPr/>
                  <p:nvPr/>
                </p:nvSpPr>
                <p:spPr>
                  <a:xfrm flipH="1">
                    <a:off x="6801480" y="429660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9" name=""/>
                <p:cNvGrpSpPr/>
                <p:nvPr/>
              </p:nvGrpSpPr>
              <p:grpSpPr>
                <a:xfrm>
                  <a:off x="6949080" y="4258800"/>
                  <a:ext cx="168480" cy="172080"/>
                  <a:chOff x="6949080" y="4258800"/>
                  <a:chExt cx="168480" cy="172080"/>
                </a:xfrm>
              </p:grpSpPr>
              <p:sp>
                <p:nvSpPr>
                  <p:cNvPr id="6090" name=""/>
                  <p:cNvSpPr/>
                  <p:nvPr/>
                </p:nvSpPr>
                <p:spPr>
                  <a:xfrm rot="19036200">
                    <a:off x="6988680" y="4268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1" name=""/>
                  <p:cNvSpPr/>
                  <p:nvPr/>
                </p:nvSpPr>
                <p:spPr>
                  <a:xfrm flipH="1" flipV="1">
                    <a:off x="7004880" y="434016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2" name=""/>
                  <p:cNvSpPr/>
                  <p:nvPr/>
                </p:nvSpPr>
                <p:spPr>
                  <a:xfrm flipH="1" flipV="1">
                    <a:off x="7054200" y="43405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3" name=""/>
                  <p:cNvSpPr/>
                  <p:nvPr/>
                </p:nvSpPr>
                <p:spPr>
                  <a:xfrm flipH="1">
                    <a:off x="7031880" y="4353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4" name=""/>
                  <p:cNvSpPr/>
                  <p:nvPr/>
                </p:nvSpPr>
                <p:spPr>
                  <a:xfrm flipH="1" flipV="1">
                    <a:off x="7018560" y="433656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5" name=""/>
                <p:cNvGrpSpPr/>
                <p:nvPr/>
              </p:nvGrpSpPr>
              <p:grpSpPr>
                <a:xfrm>
                  <a:off x="7134120" y="4181760"/>
                  <a:ext cx="158760" cy="140400"/>
                  <a:chOff x="7134120" y="4181760"/>
                  <a:chExt cx="158760" cy="140400"/>
                </a:xfrm>
              </p:grpSpPr>
              <p:sp>
                <p:nvSpPr>
                  <p:cNvPr id="6096" name=""/>
                  <p:cNvSpPr/>
                  <p:nvPr/>
                </p:nvSpPr>
                <p:spPr>
                  <a:xfrm rot="4233000">
                    <a:off x="7162200" y="4185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7" name=""/>
                  <p:cNvSpPr/>
                  <p:nvPr/>
                </p:nvSpPr>
                <p:spPr>
                  <a:xfrm flipV="1">
                    <a:off x="7176600" y="422640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8" name=""/>
                  <p:cNvSpPr/>
                  <p:nvPr/>
                </p:nvSpPr>
                <p:spPr>
                  <a:xfrm flipV="1">
                    <a:off x="7197840" y="42746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9" name=""/>
                  <p:cNvSpPr/>
                  <p:nvPr/>
                </p:nvSpPr>
                <p:spPr>
                  <a:xfrm flipH="1" flipV="1">
                    <a:off x="7200360" y="424296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0" name=""/>
                  <p:cNvSpPr/>
                  <p:nvPr/>
                </p:nvSpPr>
                <p:spPr>
                  <a:xfrm flipV="1">
                    <a:off x="7216200" y="424152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1" name=""/>
                <p:cNvGrpSpPr/>
                <p:nvPr/>
              </p:nvGrpSpPr>
              <p:grpSpPr>
                <a:xfrm>
                  <a:off x="7214040" y="4297680"/>
                  <a:ext cx="156600" cy="137160"/>
                  <a:chOff x="7214040" y="4297680"/>
                  <a:chExt cx="156600" cy="137160"/>
                </a:xfrm>
              </p:grpSpPr>
              <p:sp>
                <p:nvSpPr>
                  <p:cNvPr id="6102" name=""/>
                  <p:cNvSpPr/>
                  <p:nvPr/>
                </p:nvSpPr>
                <p:spPr>
                  <a:xfrm rot="4353000">
                    <a:off x="7241040" y="4299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3" name=""/>
                  <p:cNvSpPr/>
                  <p:nvPr/>
                </p:nvSpPr>
                <p:spPr>
                  <a:xfrm flipV="1">
                    <a:off x="7252920" y="434088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4" name=""/>
                  <p:cNvSpPr/>
                  <p:nvPr/>
                </p:nvSpPr>
                <p:spPr>
                  <a:xfrm flipV="1">
                    <a:off x="7275240" y="43887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5" name=""/>
                  <p:cNvSpPr/>
                  <p:nvPr/>
                </p:nvSpPr>
                <p:spPr>
                  <a:xfrm flipH="1" flipV="1">
                    <a:off x="7279560" y="435636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6" name=""/>
                  <p:cNvSpPr/>
                  <p:nvPr/>
                </p:nvSpPr>
                <p:spPr>
                  <a:xfrm flipV="1">
                    <a:off x="7295040" y="435600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07" name=""/>
                <p:cNvGrpSpPr/>
                <p:nvPr/>
              </p:nvGrpSpPr>
              <p:grpSpPr>
                <a:xfrm>
                  <a:off x="6953760" y="4416840"/>
                  <a:ext cx="159480" cy="175320"/>
                  <a:chOff x="6953760" y="4416840"/>
                  <a:chExt cx="159480" cy="175320"/>
                </a:xfrm>
              </p:grpSpPr>
              <p:sp>
                <p:nvSpPr>
                  <p:cNvPr id="6108" name=""/>
                  <p:cNvSpPr/>
                  <p:nvPr/>
                </p:nvSpPr>
                <p:spPr>
                  <a:xfrm rot="19525800">
                    <a:off x="6988680" y="4428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9" name=""/>
                  <p:cNvSpPr/>
                  <p:nvPr/>
                </p:nvSpPr>
                <p:spPr>
                  <a:xfrm flipH="1" flipV="1">
                    <a:off x="7005960" y="449568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0" name=""/>
                  <p:cNvSpPr/>
                  <p:nvPr/>
                </p:nvSpPr>
                <p:spPr>
                  <a:xfrm flipH="1" flipV="1">
                    <a:off x="7054560" y="450324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1" name=""/>
                  <p:cNvSpPr/>
                  <p:nvPr/>
                </p:nvSpPr>
                <p:spPr>
                  <a:xfrm flipH="1">
                    <a:off x="7029720" y="451548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2" name=""/>
                  <p:cNvSpPr/>
                  <p:nvPr/>
                </p:nvSpPr>
                <p:spPr>
                  <a:xfrm flipH="1" flipV="1">
                    <a:off x="7019640" y="449388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3" name=""/>
                <p:cNvGrpSpPr/>
                <p:nvPr/>
              </p:nvGrpSpPr>
              <p:grpSpPr>
                <a:xfrm>
                  <a:off x="6793200" y="4397400"/>
                  <a:ext cx="165600" cy="165600"/>
                  <a:chOff x="6793200" y="4397400"/>
                  <a:chExt cx="165600" cy="165600"/>
                </a:xfrm>
              </p:grpSpPr>
              <p:sp>
                <p:nvSpPr>
                  <p:cNvPr id="6114" name=""/>
                  <p:cNvSpPr/>
                  <p:nvPr/>
                </p:nvSpPr>
                <p:spPr>
                  <a:xfrm rot="18890400">
                    <a:off x="6824880" y="4413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5" name=""/>
                  <p:cNvSpPr/>
                  <p:nvPr/>
                </p:nvSpPr>
                <p:spPr>
                  <a:xfrm flipH="1" flipV="1">
                    <a:off x="6847560" y="447984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6" name=""/>
                  <p:cNvSpPr/>
                  <p:nvPr/>
                </p:nvSpPr>
                <p:spPr>
                  <a:xfrm flipH="1" flipV="1">
                    <a:off x="6897240" y="447156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7" name=""/>
                  <p:cNvSpPr/>
                  <p:nvPr/>
                </p:nvSpPr>
                <p:spPr>
                  <a:xfrm flipH="1">
                    <a:off x="6873480" y="448524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8" name=""/>
                  <p:cNvSpPr/>
                  <p:nvPr/>
                </p:nvSpPr>
                <p:spPr>
                  <a:xfrm flipH="1" flipV="1">
                    <a:off x="6861600" y="447444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9" name=""/>
                <p:cNvGrpSpPr/>
                <p:nvPr/>
              </p:nvGrpSpPr>
              <p:grpSpPr>
                <a:xfrm>
                  <a:off x="6654600" y="4306680"/>
                  <a:ext cx="166680" cy="164160"/>
                  <a:chOff x="6654600" y="4306680"/>
                  <a:chExt cx="166680" cy="164160"/>
                </a:xfrm>
              </p:grpSpPr>
              <p:sp>
                <p:nvSpPr>
                  <p:cNvPr id="6120" name=""/>
                  <p:cNvSpPr/>
                  <p:nvPr/>
                </p:nvSpPr>
                <p:spPr>
                  <a:xfrm rot="18730200">
                    <a:off x="6686640" y="4322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1" name=""/>
                  <p:cNvSpPr/>
                  <p:nvPr/>
                </p:nvSpPr>
                <p:spPr>
                  <a:xfrm flipH="1" flipV="1">
                    <a:off x="6709320" y="439020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2" name=""/>
                  <p:cNvSpPr/>
                  <p:nvPr/>
                </p:nvSpPr>
                <p:spPr>
                  <a:xfrm flipH="1" flipV="1">
                    <a:off x="6758280" y="43794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3" name=""/>
                  <p:cNvSpPr/>
                  <p:nvPr/>
                </p:nvSpPr>
                <p:spPr>
                  <a:xfrm flipH="1">
                    <a:off x="6735960" y="43934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4" name=""/>
                  <p:cNvSpPr/>
                  <p:nvPr/>
                </p:nvSpPr>
                <p:spPr>
                  <a:xfrm flipH="1" flipV="1">
                    <a:off x="6723360" y="438372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5" name=""/>
                <p:cNvGrpSpPr/>
                <p:nvPr/>
              </p:nvGrpSpPr>
              <p:grpSpPr>
                <a:xfrm>
                  <a:off x="6634800" y="4212360"/>
                  <a:ext cx="162720" cy="174960"/>
                  <a:chOff x="6634800" y="4212360"/>
                  <a:chExt cx="162720" cy="174960"/>
                </a:xfrm>
              </p:grpSpPr>
              <p:sp>
                <p:nvSpPr>
                  <p:cNvPr id="6126" name=""/>
                  <p:cNvSpPr/>
                  <p:nvPr/>
                </p:nvSpPr>
                <p:spPr>
                  <a:xfrm rot="19362600">
                    <a:off x="6671520" y="4223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7" name=""/>
                  <p:cNvSpPr/>
                  <p:nvPr/>
                </p:nvSpPr>
                <p:spPr>
                  <a:xfrm flipH="1" flipV="1">
                    <a:off x="6688440" y="429192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8" name=""/>
                  <p:cNvSpPr/>
                  <p:nvPr/>
                </p:nvSpPr>
                <p:spPr>
                  <a:xfrm flipH="1" flipV="1">
                    <a:off x="6737400" y="429732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9" name=""/>
                  <p:cNvSpPr/>
                  <p:nvPr/>
                </p:nvSpPr>
                <p:spPr>
                  <a:xfrm flipH="1">
                    <a:off x="6713280" y="43099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0" name=""/>
                  <p:cNvSpPr/>
                  <p:nvPr/>
                </p:nvSpPr>
                <p:spPr>
                  <a:xfrm flipH="1" flipV="1">
                    <a:off x="6702120" y="428976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31" name=""/>
              <p:cNvGrpSpPr/>
              <p:nvPr/>
            </p:nvGrpSpPr>
            <p:grpSpPr>
              <a:xfrm>
                <a:off x="5830200" y="2257920"/>
                <a:ext cx="735840" cy="609480"/>
                <a:chOff x="5830200" y="2257920"/>
                <a:chExt cx="735840" cy="609480"/>
              </a:xfrm>
            </p:grpSpPr>
            <p:grpSp>
              <p:nvGrpSpPr>
                <p:cNvPr id="6132" name=""/>
                <p:cNvGrpSpPr/>
                <p:nvPr/>
              </p:nvGrpSpPr>
              <p:grpSpPr>
                <a:xfrm>
                  <a:off x="6128280" y="2336760"/>
                  <a:ext cx="163800" cy="150480"/>
                  <a:chOff x="6128280" y="2336760"/>
                  <a:chExt cx="163800" cy="150480"/>
                </a:xfrm>
              </p:grpSpPr>
              <p:sp>
                <p:nvSpPr>
                  <p:cNvPr id="6133" name=""/>
                  <p:cNvSpPr/>
                  <p:nvPr/>
                </p:nvSpPr>
                <p:spPr>
                  <a:xfrm rot="3815400">
                    <a:off x="6158880" y="2345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4" name=""/>
                  <p:cNvSpPr/>
                  <p:nvPr/>
                </p:nvSpPr>
                <p:spPr>
                  <a:xfrm flipV="1">
                    <a:off x="6181200" y="238500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5" name=""/>
                  <p:cNvSpPr/>
                  <p:nvPr/>
                </p:nvSpPr>
                <p:spPr>
                  <a:xfrm flipV="1">
                    <a:off x="6198840" y="24346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6" name=""/>
                  <p:cNvSpPr/>
                  <p:nvPr/>
                </p:nvSpPr>
                <p:spPr>
                  <a:xfrm flipH="1" flipV="1">
                    <a:off x="6196320" y="24044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7" name=""/>
                  <p:cNvSpPr/>
                  <p:nvPr/>
                </p:nvSpPr>
                <p:spPr>
                  <a:xfrm flipV="1">
                    <a:off x="6212880" y="24001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38" name=""/>
                <p:cNvSpPr/>
                <p:nvPr/>
              </p:nvSpPr>
              <p:spPr>
                <a:xfrm flipH="1">
                  <a:off x="6124680" y="263412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9" name=""/>
                <p:cNvSpPr/>
                <p:nvPr/>
              </p:nvSpPr>
              <p:spPr>
                <a:xfrm>
                  <a:off x="5986080" y="25203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0" name=""/>
                <p:cNvSpPr/>
                <p:nvPr/>
              </p:nvSpPr>
              <p:spPr>
                <a:xfrm flipH="1" flipV="1">
                  <a:off x="6104880" y="240660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1" name=""/>
                <p:cNvSpPr/>
                <p:nvPr/>
              </p:nvSpPr>
              <p:spPr>
                <a:xfrm flipH="1" flipV="1">
                  <a:off x="6342840" y="252036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2" name=""/>
                <p:cNvSpPr/>
                <p:nvPr/>
              </p:nvSpPr>
              <p:spPr>
                <a:xfrm flipH="1">
                  <a:off x="6184080" y="265716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3" name=""/>
                <p:cNvSpPr/>
                <p:nvPr/>
              </p:nvSpPr>
              <p:spPr>
                <a:xfrm flipH="1" flipV="1">
                  <a:off x="6223320" y="261144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4" name=""/>
                <p:cNvSpPr/>
                <p:nvPr/>
              </p:nvSpPr>
              <p:spPr>
                <a:xfrm flipH="1" flipV="1">
                  <a:off x="6064560" y="242892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5" name=""/>
                <p:cNvSpPr/>
                <p:nvPr/>
              </p:nvSpPr>
              <p:spPr>
                <a:xfrm flipV="1">
                  <a:off x="6164280" y="245160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6" name=""/>
                <p:cNvSpPr/>
                <p:nvPr/>
              </p:nvSpPr>
              <p:spPr>
                <a:xfrm flipH="1">
                  <a:off x="6005520" y="254340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7" name=""/>
                <p:cNvSpPr/>
                <p:nvPr/>
              </p:nvSpPr>
              <p:spPr>
                <a:xfrm flipH="1" flipV="1">
                  <a:off x="6263640" y="254340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8" name=""/>
                <p:cNvSpPr/>
                <p:nvPr/>
              </p:nvSpPr>
              <p:spPr>
                <a:xfrm flipH="1" flipV="1">
                  <a:off x="6303240" y="254304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9" name=""/>
                <p:cNvSpPr/>
                <p:nvPr/>
              </p:nvSpPr>
              <p:spPr>
                <a:xfrm flipV="1">
                  <a:off x="6422040" y="261144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0" name=""/>
                <p:cNvSpPr/>
                <p:nvPr/>
              </p:nvSpPr>
              <p:spPr>
                <a:xfrm flipV="1">
                  <a:off x="6362640" y="249732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1" name=""/>
                <p:cNvSpPr/>
                <p:nvPr/>
              </p:nvSpPr>
              <p:spPr>
                <a:xfrm flipH="1">
                  <a:off x="6302880" y="270252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2" name=""/>
                <p:cNvSpPr/>
                <p:nvPr/>
              </p:nvSpPr>
              <p:spPr>
                <a:xfrm flipH="1">
                  <a:off x="6084720" y="256572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3" name=""/>
                <p:cNvSpPr/>
                <p:nvPr/>
              </p:nvSpPr>
              <p:spPr>
                <a:xfrm flipH="1" flipV="1">
                  <a:off x="6005160" y="247464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54" name=""/>
                <p:cNvGrpSpPr/>
                <p:nvPr/>
              </p:nvGrpSpPr>
              <p:grpSpPr>
                <a:xfrm>
                  <a:off x="6033600" y="2257920"/>
                  <a:ext cx="151560" cy="176040"/>
                  <a:chOff x="6033600" y="2257920"/>
                  <a:chExt cx="151560" cy="176040"/>
                </a:xfrm>
              </p:grpSpPr>
              <p:sp>
                <p:nvSpPr>
                  <p:cNvPr id="6155" name=""/>
                  <p:cNvSpPr/>
                  <p:nvPr/>
                </p:nvSpPr>
                <p:spPr>
                  <a:xfrm rot="1745400">
                    <a:off x="6064560" y="2269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6" name=""/>
                  <p:cNvSpPr/>
                  <p:nvPr/>
                </p:nvSpPr>
                <p:spPr>
                  <a:xfrm flipH="1" flipV="1">
                    <a:off x="6105240" y="231732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7" name=""/>
                  <p:cNvSpPr/>
                  <p:nvPr/>
                </p:nvSpPr>
                <p:spPr>
                  <a:xfrm flipV="1">
                    <a:off x="6115320" y="23641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8" name=""/>
                  <p:cNvSpPr/>
                  <p:nvPr/>
                </p:nvSpPr>
                <p:spPr>
                  <a:xfrm flipH="1" flipV="1">
                    <a:off x="6094080" y="23493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9" name=""/>
                  <p:cNvSpPr/>
                  <p:nvPr/>
                </p:nvSpPr>
                <p:spPr>
                  <a:xfrm flipV="1">
                    <a:off x="6111360" y="23288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0" name=""/>
                <p:cNvGrpSpPr/>
                <p:nvPr/>
              </p:nvGrpSpPr>
              <p:grpSpPr>
                <a:xfrm>
                  <a:off x="6098400" y="2486160"/>
                  <a:ext cx="142200" cy="174960"/>
                  <a:chOff x="6098400" y="2486160"/>
                  <a:chExt cx="142200" cy="174960"/>
                </a:xfrm>
              </p:grpSpPr>
              <p:sp>
                <p:nvSpPr>
                  <p:cNvPr id="6161" name=""/>
                  <p:cNvSpPr/>
                  <p:nvPr/>
                </p:nvSpPr>
                <p:spPr>
                  <a:xfrm rot="20187000">
                    <a:off x="6125040" y="2497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2" name=""/>
                  <p:cNvSpPr/>
                  <p:nvPr/>
                </p:nvSpPr>
                <p:spPr>
                  <a:xfrm flipH="1" flipV="1">
                    <a:off x="6144120" y="255960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3" name=""/>
                  <p:cNvSpPr/>
                  <p:nvPr/>
                </p:nvSpPr>
                <p:spPr>
                  <a:xfrm flipH="1" flipV="1">
                    <a:off x="6190560" y="25761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4" name=""/>
                  <p:cNvSpPr/>
                  <p:nvPr/>
                </p:nvSpPr>
                <p:spPr>
                  <a:xfrm flipH="1">
                    <a:off x="6162840" y="258696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5" name=""/>
                  <p:cNvSpPr/>
                  <p:nvPr/>
                </p:nvSpPr>
                <p:spPr>
                  <a:xfrm flipH="1" flipV="1">
                    <a:off x="6158160" y="25603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66" name=""/>
                <p:cNvGrpSpPr/>
                <p:nvPr/>
              </p:nvGrpSpPr>
              <p:grpSpPr>
                <a:xfrm>
                  <a:off x="6184440" y="2406600"/>
                  <a:ext cx="88920" cy="151920"/>
                  <a:chOff x="6184440" y="2406600"/>
                  <a:chExt cx="88920" cy="151920"/>
                </a:xfrm>
              </p:grpSpPr>
              <p:sp>
                <p:nvSpPr>
                  <p:cNvPr id="6167" name=""/>
                  <p:cNvSpPr/>
                  <p:nvPr/>
                </p:nvSpPr>
                <p:spPr>
                  <a:xfrm>
                    <a:off x="6184440" y="2406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8" name=""/>
                  <p:cNvSpPr/>
                  <p:nvPr/>
                </p:nvSpPr>
                <p:spPr>
                  <a:xfrm flipH="1" flipV="1">
                    <a:off x="6211440" y="2459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9" name=""/>
                  <p:cNvSpPr/>
                  <p:nvPr/>
                </p:nvSpPr>
                <p:spPr>
                  <a:xfrm flipH="1" flipV="1">
                    <a:off x="6247080" y="2493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0" name=""/>
                  <p:cNvSpPr/>
                  <p:nvPr/>
                </p:nvSpPr>
                <p:spPr>
                  <a:xfrm flipH="1" flipV="1">
                    <a:off x="6217200" y="2493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1" name=""/>
                  <p:cNvSpPr/>
                  <p:nvPr/>
                </p:nvSpPr>
                <p:spPr>
                  <a:xfrm flipH="1" flipV="1">
                    <a:off x="6223680" y="2466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2" name=""/>
                <p:cNvGrpSpPr/>
                <p:nvPr/>
              </p:nvGrpSpPr>
              <p:grpSpPr>
                <a:xfrm>
                  <a:off x="5999760" y="2671920"/>
                  <a:ext cx="143640" cy="118080"/>
                  <a:chOff x="5999760" y="2671920"/>
                  <a:chExt cx="143640" cy="118080"/>
                </a:xfrm>
              </p:grpSpPr>
              <p:sp>
                <p:nvSpPr>
                  <p:cNvPr id="6173" name=""/>
                  <p:cNvSpPr/>
                  <p:nvPr/>
                </p:nvSpPr>
                <p:spPr>
                  <a:xfrm rot="15769200">
                    <a:off x="6020280" y="2664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4" name=""/>
                  <p:cNvSpPr/>
                  <p:nvPr/>
                </p:nvSpPr>
                <p:spPr>
                  <a:xfrm flipH="1">
                    <a:off x="6053760" y="267732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5" name=""/>
                  <p:cNvSpPr/>
                  <p:nvPr/>
                </p:nvSpPr>
                <p:spPr>
                  <a:xfrm flipH="1">
                    <a:off x="6077880" y="27003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6" name=""/>
                  <p:cNvSpPr/>
                  <p:nvPr/>
                </p:nvSpPr>
                <p:spPr>
                  <a:xfrm flipH="1">
                    <a:off x="6082200" y="272196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7" name=""/>
                  <p:cNvSpPr/>
                  <p:nvPr/>
                </p:nvSpPr>
                <p:spPr>
                  <a:xfrm flipH="1">
                    <a:off x="6058080" y="273096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8" name=""/>
                <p:cNvGrpSpPr/>
                <p:nvPr/>
              </p:nvGrpSpPr>
              <p:grpSpPr>
                <a:xfrm>
                  <a:off x="5926320" y="2338560"/>
                  <a:ext cx="88920" cy="151920"/>
                  <a:chOff x="5926320" y="2338560"/>
                  <a:chExt cx="88920" cy="151920"/>
                </a:xfrm>
              </p:grpSpPr>
              <p:sp>
                <p:nvSpPr>
                  <p:cNvPr id="6179" name=""/>
                  <p:cNvSpPr/>
                  <p:nvPr/>
                </p:nvSpPr>
                <p:spPr>
                  <a:xfrm>
                    <a:off x="5926320" y="2338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0" name=""/>
                  <p:cNvSpPr/>
                  <p:nvPr/>
                </p:nvSpPr>
                <p:spPr>
                  <a:xfrm flipH="1" flipV="1">
                    <a:off x="5953320" y="2391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1" name=""/>
                  <p:cNvSpPr/>
                  <p:nvPr/>
                </p:nvSpPr>
                <p:spPr>
                  <a:xfrm flipH="1" flipV="1">
                    <a:off x="5988960" y="2425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2" name=""/>
                  <p:cNvSpPr/>
                  <p:nvPr/>
                </p:nvSpPr>
                <p:spPr>
                  <a:xfrm flipH="1" flipV="1">
                    <a:off x="5959080" y="2424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3" name=""/>
                  <p:cNvSpPr/>
                  <p:nvPr/>
                </p:nvSpPr>
                <p:spPr>
                  <a:xfrm flipH="1" flipV="1">
                    <a:off x="5965560" y="2397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4" name=""/>
                <p:cNvGrpSpPr/>
                <p:nvPr/>
              </p:nvGrpSpPr>
              <p:grpSpPr>
                <a:xfrm>
                  <a:off x="6263640" y="2383560"/>
                  <a:ext cx="88920" cy="151920"/>
                  <a:chOff x="6263640" y="2383560"/>
                  <a:chExt cx="88920" cy="151920"/>
                </a:xfrm>
              </p:grpSpPr>
              <p:sp>
                <p:nvSpPr>
                  <p:cNvPr id="6185" name=""/>
                  <p:cNvSpPr/>
                  <p:nvPr/>
                </p:nvSpPr>
                <p:spPr>
                  <a:xfrm>
                    <a:off x="6263640" y="2383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6" name=""/>
                  <p:cNvSpPr/>
                  <p:nvPr/>
                </p:nvSpPr>
                <p:spPr>
                  <a:xfrm flipH="1" flipV="1">
                    <a:off x="6290640" y="2436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7" name=""/>
                  <p:cNvSpPr/>
                  <p:nvPr/>
                </p:nvSpPr>
                <p:spPr>
                  <a:xfrm flipH="1" flipV="1">
                    <a:off x="6326280" y="2470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8" name=""/>
                  <p:cNvSpPr/>
                  <p:nvPr/>
                </p:nvSpPr>
                <p:spPr>
                  <a:xfrm flipH="1" flipV="1">
                    <a:off x="6296400" y="2469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9" name=""/>
                  <p:cNvSpPr/>
                  <p:nvPr/>
                </p:nvSpPr>
                <p:spPr>
                  <a:xfrm flipH="1" flipV="1">
                    <a:off x="6302880" y="2442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0" name=""/>
                <p:cNvGrpSpPr/>
                <p:nvPr/>
              </p:nvGrpSpPr>
              <p:grpSpPr>
                <a:xfrm>
                  <a:off x="5986080" y="2292840"/>
                  <a:ext cx="88920" cy="151920"/>
                  <a:chOff x="5986080" y="2292840"/>
                  <a:chExt cx="88920" cy="151920"/>
                </a:xfrm>
              </p:grpSpPr>
              <p:sp>
                <p:nvSpPr>
                  <p:cNvPr id="6191" name=""/>
                  <p:cNvSpPr/>
                  <p:nvPr/>
                </p:nvSpPr>
                <p:spPr>
                  <a:xfrm>
                    <a:off x="5986080" y="2292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2" name=""/>
                  <p:cNvSpPr/>
                  <p:nvPr/>
                </p:nvSpPr>
                <p:spPr>
                  <a:xfrm flipH="1" flipV="1">
                    <a:off x="6013080" y="23457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3" name=""/>
                  <p:cNvSpPr/>
                  <p:nvPr/>
                </p:nvSpPr>
                <p:spPr>
                  <a:xfrm flipH="1" flipV="1">
                    <a:off x="6048720" y="23796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4" name=""/>
                  <p:cNvSpPr/>
                  <p:nvPr/>
                </p:nvSpPr>
                <p:spPr>
                  <a:xfrm flipH="1" flipV="1">
                    <a:off x="6018840" y="23792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5" name=""/>
                  <p:cNvSpPr/>
                  <p:nvPr/>
                </p:nvSpPr>
                <p:spPr>
                  <a:xfrm flipH="1" flipV="1">
                    <a:off x="6025320" y="23522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96" name=""/>
                <p:cNvGrpSpPr/>
                <p:nvPr/>
              </p:nvGrpSpPr>
              <p:grpSpPr>
                <a:xfrm>
                  <a:off x="6172560" y="2731680"/>
                  <a:ext cx="156240" cy="135720"/>
                  <a:chOff x="6172560" y="2731680"/>
                  <a:chExt cx="156240" cy="135720"/>
                </a:xfrm>
              </p:grpSpPr>
              <p:sp>
                <p:nvSpPr>
                  <p:cNvPr id="6197" name=""/>
                  <p:cNvSpPr/>
                  <p:nvPr/>
                </p:nvSpPr>
                <p:spPr>
                  <a:xfrm rot="15198000">
                    <a:off x="6199200" y="2733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8" name=""/>
                  <p:cNvSpPr/>
                  <p:nvPr/>
                </p:nvSpPr>
                <p:spPr>
                  <a:xfrm flipH="1">
                    <a:off x="6236640" y="273816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9" name=""/>
                  <p:cNvSpPr/>
                  <p:nvPr/>
                </p:nvSpPr>
                <p:spPr>
                  <a:xfrm flipH="1">
                    <a:off x="6252840" y="27655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0" name=""/>
                  <p:cNvSpPr/>
                  <p:nvPr/>
                </p:nvSpPr>
                <p:spPr>
                  <a:xfrm>
                    <a:off x="6262560" y="27882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1" name=""/>
                  <p:cNvSpPr/>
                  <p:nvPr/>
                </p:nvSpPr>
                <p:spPr>
                  <a:xfrm flipH="1">
                    <a:off x="6238800" y="279972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2" name=""/>
                <p:cNvGrpSpPr/>
                <p:nvPr/>
              </p:nvGrpSpPr>
              <p:grpSpPr>
                <a:xfrm>
                  <a:off x="6068160" y="2698920"/>
                  <a:ext cx="165960" cy="155520"/>
                  <a:chOff x="6068160" y="2698920"/>
                  <a:chExt cx="165960" cy="155520"/>
                </a:xfrm>
              </p:grpSpPr>
              <p:sp>
                <p:nvSpPr>
                  <p:cNvPr id="6203" name=""/>
                  <p:cNvSpPr/>
                  <p:nvPr/>
                </p:nvSpPr>
                <p:spPr>
                  <a:xfrm rot="14358600">
                    <a:off x="6099840" y="2710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4" name=""/>
                  <p:cNvSpPr/>
                  <p:nvPr/>
                </p:nvSpPr>
                <p:spPr>
                  <a:xfrm flipH="1">
                    <a:off x="6143760" y="270756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5" name=""/>
                  <p:cNvSpPr/>
                  <p:nvPr/>
                </p:nvSpPr>
                <p:spPr>
                  <a:xfrm flipH="1">
                    <a:off x="6148080" y="27396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6" name=""/>
                  <p:cNvSpPr/>
                  <p:nvPr/>
                </p:nvSpPr>
                <p:spPr>
                  <a:xfrm>
                    <a:off x="6160320" y="27626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7" name=""/>
                  <p:cNvSpPr/>
                  <p:nvPr/>
                </p:nvSpPr>
                <p:spPr>
                  <a:xfrm flipH="1">
                    <a:off x="6141960" y="27777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8" name=""/>
                <p:cNvGrpSpPr/>
                <p:nvPr/>
              </p:nvGrpSpPr>
              <p:grpSpPr>
                <a:xfrm>
                  <a:off x="5864400" y="2516760"/>
                  <a:ext cx="137520" cy="109440"/>
                  <a:chOff x="5864400" y="2516760"/>
                  <a:chExt cx="137520" cy="109440"/>
                </a:xfrm>
              </p:grpSpPr>
              <p:sp>
                <p:nvSpPr>
                  <p:cNvPr id="6209" name=""/>
                  <p:cNvSpPr/>
                  <p:nvPr/>
                </p:nvSpPr>
                <p:spPr>
                  <a:xfrm rot="16010400">
                    <a:off x="5882040" y="2505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0" name=""/>
                  <p:cNvSpPr/>
                  <p:nvPr/>
                </p:nvSpPr>
                <p:spPr>
                  <a:xfrm flipH="1">
                    <a:off x="5914080" y="252144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1" name=""/>
                  <p:cNvSpPr/>
                  <p:nvPr/>
                </p:nvSpPr>
                <p:spPr>
                  <a:xfrm flipH="1">
                    <a:off x="5941080" y="25426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2" name=""/>
                  <p:cNvSpPr/>
                  <p:nvPr/>
                </p:nvSpPr>
                <p:spPr>
                  <a:xfrm flipH="1">
                    <a:off x="5943240" y="25635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3" name=""/>
                  <p:cNvSpPr/>
                  <p:nvPr/>
                </p:nvSpPr>
                <p:spPr>
                  <a:xfrm flipH="1">
                    <a:off x="5919480" y="25711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4" name=""/>
                <p:cNvGrpSpPr/>
                <p:nvPr/>
              </p:nvGrpSpPr>
              <p:grpSpPr>
                <a:xfrm>
                  <a:off x="5872320" y="2590200"/>
                  <a:ext cx="160560" cy="144360"/>
                  <a:chOff x="5872320" y="2590200"/>
                  <a:chExt cx="160560" cy="144360"/>
                </a:xfrm>
              </p:grpSpPr>
              <p:sp>
                <p:nvSpPr>
                  <p:cNvPr id="6215" name=""/>
                  <p:cNvSpPr/>
                  <p:nvPr/>
                </p:nvSpPr>
                <p:spPr>
                  <a:xfrm rot="14881800">
                    <a:off x="5901480" y="2596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6" name=""/>
                  <p:cNvSpPr/>
                  <p:nvPr/>
                </p:nvSpPr>
                <p:spPr>
                  <a:xfrm flipH="1">
                    <a:off x="5941440" y="259776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7" name=""/>
                  <p:cNvSpPr/>
                  <p:nvPr/>
                </p:nvSpPr>
                <p:spPr>
                  <a:xfrm flipH="1">
                    <a:off x="5952960" y="262728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8" name=""/>
                  <p:cNvSpPr/>
                  <p:nvPr/>
                </p:nvSpPr>
                <p:spPr>
                  <a:xfrm>
                    <a:off x="5963760" y="26503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9" name=""/>
                  <p:cNvSpPr/>
                  <p:nvPr/>
                </p:nvSpPr>
                <p:spPr>
                  <a:xfrm flipH="1">
                    <a:off x="5941800" y="26632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0" name=""/>
                <p:cNvGrpSpPr/>
                <p:nvPr/>
              </p:nvGrpSpPr>
              <p:grpSpPr>
                <a:xfrm>
                  <a:off x="5976360" y="2574360"/>
                  <a:ext cx="151920" cy="129960"/>
                  <a:chOff x="5976360" y="2574360"/>
                  <a:chExt cx="151920" cy="129960"/>
                </a:xfrm>
              </p:grpSpPr>
              <p:sp>
                <p:nvSpPr>
                  <p:cNvPr id="6221" name=""/>
                  <p:cNvSpPr/>
                  <p:nvPr/>
                </p:nvSpPr>
                <p:spPr>
                  <a:xfrm rot="15401400">
                    <a:off x="6000840" y="2573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2" name=""/>
                  <p:cNvSpPr/>
                  <p:nvPr/>
                </p:nvSpPr>
                <p:spPr>
                  <a:xfrm flipH="1">
                    <a:off x="6036840" y="258084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3" name=""/>
                  <p:cNvSpPr/>
                  <p:nvPr/>
                </p:nvSpPr>
                <p:spPr>
                  <a:xfrm flipH="1">
                    <a:off x="6055920" y="26067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4" name=""/>
                  <p:cNvSpPr/>
                  <p:nvPr/>
                </p:nvSpPr>
                <p:spPr>
                  <a:xfrm flipH="1">
                    <a:off x="6064200" y="262908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5" name=""/>
                  <p:cNvSpPr/>
                  <p:nvPr/>
                </p:nvSpPr>
                <p:spPr>
                  <a:xfrm flipH="1">
                    <a:off x="6039720" y="26398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6" name=""/>
                <p:cNvGrpSpPr/>
                <p:nvPr/>
              </p:nvGrpSpPr>
              <p:grpSpPr>
                <a:xfrm>
                  <a:off x="5936400" y="2415600"/>
                  <a:ext cx="151920" cy="129600"/>
                  <a:chOff x="5936400" y="2415600"/>
                  <a:chExt cx="151920" cy="129600"/>
                </a:xfrm>
              </p:grpSpPr>
              <p:sp>
                <p:nvSpPr>
                  <p:cNvPr id="6227" name=""/>
                  <p:cNvSpPr/>
                  <p:nvPr/>
                </p:nvSpPr>
                <p:spPr>
                  <a:xfrm rot="16985400">
                    <a:off x="5960880" y="2414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8" name=""/>
                  <p:cNvSpPr/>
                  <p:nvPr/>
                </p:nvSpPr>
                <p:spPr>
                  <a:xfrm flipH="1">
                    <a:off x="5987880" y="244728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9" name=""/>
                  <p:cNvSpPr/>
                  <p:nvPr/>
                </p:nvSpPr>
                <p:spPr>
                  <a:xfrm flipH="1">
                    <a:off x="6025320" y="24598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0" name=""/>
                  <p:cNvSpPr/>
                  <p:nvPr/>
                </p:nvSpPr>
                <p:spPr>
                  <a:xfrm flipH="1">
                    <a:off x="6018120" y="24768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1" name=""/>
                  <p:cNvSpPr/>
                  <p:nvPr/>
                </p:nvSpPr>
                <p:spPr>
                  <a:xfrm flipH="1">
                    <a:off x="5996880" y="247932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2" name=""/>
                <p:cNvGrpSpPr/>
                <p:nvPr/>
              </p:nvGrpSpPr>
              <p:grpSpPr>
                <a:xfrm>
                  <a:off x="6144480" y="2441520"/>
                  <a:ext cx="168480" cy="172080"/>
                  <a:chOff x="6144480" y="2441520"/>
                  <a:chExt cx="168480" cy="172080"/>
                </a:xfrm>
              </p:grpSpPr>
              <p:sp>
                <p:nvSpPr>
                  <p:cNvPr id="6233" name=""/>
                  <p:cNvSpPr/>
                  <p:nvPr/>
                </p:nvSpPr>
                <p:spPr>
                  <a:xfrm rot="19036200">
                    <a:off x="6184080" y="2451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4" name=""/>
                  <p:cNvSpPr/>
                  <p:nvPr/>
                </p:nvSpPr>
                <p:spPr>
                  <a:xfrm flipH="1" flipV="1">
                    <a:off x="6200280" y="252288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5" name=""/>
                  <p:cNvSpPr/>
                  <p:nvPr/>
                </p:nvSpPr>
                <p:spPr>
                  <a:xfrm flipH="1" flipV="1">
                    <a:off x="6249600" y="25232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6" name=""/>
                  <p:cNvSpPr/>
                  <p:nvPr/>
                </p:nvSpPr>
                <p:spPr>
                  <a:xfrm flipH="1">
                    <a:off x="6227280" y="2536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7" name=""/>
                  <p:cNvSpPr/>
                  <p:nvPr/>
                </p:nvSpPr>
                <p:spPr>
                  <a:xfrm flipH="1" flipV="1">
                    <a:off x="6213960" y="251928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8" name=""/>
                <p:cNvGrpSpPr/>
                <p:nvPr/>
              </p:nvGrpSpPr>
              <p:grpSpPr>
                <a:xfrm>
                  <a:off x="6329520" y="2364480"/>
                  <a:ext cx="158760" cy="140400"/>
                  <a:chOff x="6329520" y="2364480"/>
                  <a:chExt cx="158760" cy="140400"/>
                </a:xfrm>
              </p:grpSpPr>
              <p:sp>
                <p:nvSpPr>
                  <p:cNvPr id="6239" name=""/>
                  <p:cNvSpPr/>
                  <p:nvPr/>
                </p:nvSpPr>
                <p:spPr>
                  <a:xfrm rot="4233000">
                    <a:off x="6357600" y="2368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0" name=""/>
                  <p:cNvSpPr/>
                  <p:nvPr/>
                </p:nvSpPr>
                <p:spPr>
                  <a:xfrm flipV="1">
                    <a:off x="6372000" y="240912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1" name=""/>
                  <p:cNvSpPr/>
                  <p:nvPr/>
                </p:nvSpPr>
                <p:spPr>
                  <a:xfrm flipV="1">
                    <a:off x="6393240" y="245736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2" name=""/>
                  <p:cNvSpPr/>
                  <p:nvPr/>
                </p:nvSpPr>
                <p:spPr>
                  <a:xfrm flipH="1" flipV="1">
                    <a:off x="6395760" y="24256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3" name=""/>
                  <p:cNvSpPr/>
                  <p:nvPr/>
                </p:nvSpPr>
                <p:spPr>
                  <a:xfrm flipV="1">
                    <a:off x="6411600" y="24242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4" name=""/>
                <p:cNvGrpSpPr/>
                <p:nvPr/>
              </p:nvGrpSpPr>
              <p:grpSpPr>
                <a:xfrm>
                  <a:off x="6409440" y="2480400"/>
                  <a:ext cx="156600" cy="137160"/>
                  <a:chOff x="6409440" y="2480400"/>
                  <a:chExt cx="156600" cy="137160"/>
                </a:xfrm>
              </p:grpSpPr>
              <p:sp>
                <p:nvSpPr>
                  <p:cNvPr id="6245" name=""/>
                  <p:cNvSpPr/>
                  <p:nvPr/>
                </p:nvSpPr>
                <p:spPr>
                  <a:xfrm rot="4353000">
                    <a:off x="6436440" y="2482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6" name=""/>
                  <p:cNvSpPr/>
                  <p:nvPr/>
                </p:nvSpPr>
                <p:spPr>
                  <a:xfrm flipV="1">
                    <a:off x="6448320" y="252360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7" name=""/>
                  <p:cNvSpPr/>
                  <p:nvPr/>
                </p:nvSpPr>
                <p:spPr>
                  <a:xfrm flipV="1">
                    <a:off x="6470640" y="25714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8" name=""/>
                  <p:cNvSpPr/>
                  <p:nvPr/>
                </p:nvSpPr>
                <p:spPr>
                  <a:xfrm flipH="1" flipV="1">
                    <a:off x="6474960" y="25390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9" name=""/>
                  <p:cNvSpPr/>
                  <p:nvPr/>
                </p:nvSpPr>
                <p:spPr>
                  <a:xfrm flipV="1">
                    <a:off x="6490440" y="253872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0" name=""/>
                <p:cNvGrpSpPr/>
                <p:nvPr/>
              </p:nvGrpSpPr>
              <p:grpSpPr>
                <a:xfrm>
                  <a:off x="6149160" y="2599560"/>
                  <a:ext cx="159480" cy="175320"/>
                  <a:chOff x="6149160" y="2599560"/>
                  <a:chExt cx="159480" cy="175320"/>
                </a:xfrm>
              </p:grpSpPr>
              <p:sp>
                <p:nvSpPr>
                  <p:cNvPr id="6251" name=""/>
                  <p:cNvSpPr/>
                  <p:nvPr/>
                </p:nvSpPr>
                <p:spPr>
                  <a:xfrm rot="19525800">
                    <a:off x="6184080" y="2611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2" name=""/>
                  <p:cNvSpPr/>
                  <p:nvPr/>
                </p:nvSpPr>
                <p:spPr>
                  <a:xfrm flipH="1" flipV="1">
                    <a:off x="6201360" y="26784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3" name=""/>
                  <p:cNvSpPr/>
                  <p:nvPr/>
                </p:nvSpPr>
                <p:spPr>
                  <a:xfrm flipH="1" flipV="1">
                    <a:off x="6249960" y="26859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4" name=""/>
                  <p:cNvSpPr/>
                  <p:nvPr/>
                </p:nvSpPr>
                <p:spPr>
                  <a:xfrm flipH="1">
                    <a:off x="6225120" y="26982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5" name=""/>
                  <p:cNvSpPr/>
                  <p:nvPr/>
                </p:nvSpPr>
                <p:spPr>
                  <a:xfrm flipH="1" flipV="1">
                    <a:off x="6215040" y="267660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56" name=""/>
                <p:cNvGrpSpPr/>
                <p:nvPr/>
              </p:nvGrpSpPr>
              <p:grpSpPr>
                <a:xfrm>
                  <a:off x="5988600" y="2580120"/>
                  <a:ext cx="165600" cy="165600"/>
                  <a:chOff x="5988600" y="2580120"/>
                  <a:chExt cx="165600" cy="165600"/>
                </a:xfrm>
              </p:grpSpPr>
              <p:sp>
                <p:nvSpPr>
                  <p:cNvPr id="6257" name=""/>
                  <p:cNvSpPr/>
                  <p:nvPr/>
                </p:nvSpPr>
                <p:spPr>
                  <a:xfrm rot="18890400">
                    <a:off x="6020280" y="2596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8" name=""/>
                  <p:cNvSpPr/>
                  <p:nvPr/>
                </p:nvSpPr>
                <p:spPr>
                  <a:xfrm flipH="1" flipV="1">
                    <a:off x="6042960" y="266256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9" name=""/>
                  <p:cNvSpPr/>
                  <p:nvPr/>
                </p:nvSpPr>
                <p:spPr>
                  <a:xfrm flipH="1" flipV="1">
                    <a:off x="6092640" y="26542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0" name=""/>
                  <p:cNvSpPr/>
                  <p:nvPr/>
                </p:nvSpPr>
                <p:spPr>
                  <a:xfrm flipH="1">
                    <a:off x="6068880" y="266796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1" name=""/>
                  <p:cNvSpPr/>
                  <p:nvPr/>
                </p:nvSpPr>
                <p:spPr>
                  <a:xfrm flipH="1" flipV="1">
                    <a:off x="6057000" y="265716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2" name=""/>
                <p:cNvGrpSpPr/>
                <p:nvPr/>
              </p:nvGrpSpPr>
              <p:grpSpPr>
                <a:xfrm>
                  <a:off x="5850000" y="2489400"/>
                  <a:ext cx="166680" cy="164160"/>
                  <a:chOff x="5850000" y="2489400"/>
                  <a:chExt cx="166680" cy="164160"/>
                </a:xfrm>
              </p:grpSpPr>
              <p:sp>
                <p:nvSpPr>
                  <p:cNvPr id="6263" name=""/>
                  <p:cNvSpPr/>
                  <p:nvPr/>
                </p:nvSpPr>
                <p:spPr>
                  <a:xfrm rot="18730200">
                    <a:off x="5882040" y="2505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4" name=""/>
                  <p:cNvSpPr/>
                  <p:nvPr/>
                </p:nvSpPr>
                <p:spPr>
                  <a:xfrm flipH="1" flipV="1">
                    <a:off x="5904720" y="257292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5" name=""/>
                  <p:cNvSpPr/>
                  <p:nvPr/>
                </p:nvSpPr>
                <p:spPr>
                  <a:xfrm flipH="1" flipV="1">
                    <a:off x="5953680" y="25621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6" name=""/>
                  <p:cNvSpPr/>
                  <p:nvPr/>
                </p:nvSpPr>
                <p:spPr>
                  <a:xfrm flipH="1">
                    <a:off x="5931360" y="25761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7" name=""/>
                  <p:cNvSpPr/>
                  <p:nvPr/>
                </p:nvSpPr>
                <p:spPr>
                  <a:xfrm flipH="1" flipV="1">
                    <a:off x="5918760" y="25664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68" name=""/>
                <p:cNvGrpSpPr/>
                <p:nvPr/>
              </p:nvGrpSpPr>
              <p:grpSpPr>
                <a:xfrm>
                  <a:off x="5830200" y="2395080"/>
                  <a:ext cx="162720" cy="174960"/>
                  <a:chOff x="5830200" y="2395080"/>
                  <a:chExt cx="162720" cy="174960"/>
                </a:xfrm>
              </p:grpSpPr>
              <p:sp>
                <p:nvSpPr>
                  <p:cNvPr id="6269" name=""/>
                  <p:cNvSpPr/>
                  <p:nvPr/>
                </p:nvSpPr>
                <p:spPr>
                  <a:xfrm rot="19362600">
                    <a:off x="5866920" y="2406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0" name=""/>
                  <p:cNvSpPr/>
                  <p:nvPr/>
                </p:nvSpPr>
                <p:spPr>
                  <a:xfrm flipH="1" flipV="1">
                    <a:off x="5883840" y="247464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1" name=""/>
                  <p:cNvSpPr/>
                  <p:nvPr/>
                </p:nvSpPr>
                <p:spPr>
                  <a:xfrm flipH="1" flipV="1">
                    <a:off x="5932800" y="24800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2" name=""/>
                  <p:cNvSpPr/>
                  <p:nvPr/>
                </p:nvSpPr>
                <p:spPr>
                  <a:xfrm flipH="1">
                    <a:off x="5908680" y="24926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3" name=""/>
                  <p:cNvSpPr/>
                  <p:nvPr/>
                </p:nvSpPr>
                <p:spPr>
                  <a:xfrm flipH="1" flipV="1">
                    <a:off x="5897520" y="24724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4" name=""/>
              <p:cNvGrpSpPr/>
              <p:nvPr/>
            </p:nvGrpSpPr>
            <p:grpSpPr>
              <a:xfrm>
                <a:off x="6459480" y="2207520"/>
                <a:ext cx="735840" cy="609480"/>
                <a:chOff x="6459480" y="2207520"/>
                <a:chExt cx="735840" cy="609480"/>
              </a:xfrm>
            </p:grpSpPr>
            <p:grpSp>
              <p:nvGrpSpPr>
                <p:cNvPr id="6275" name=""/>
                <p:cNvGrpSpPr/>
                <p:nvPr/>
              </p:nvGrpSpPr>
              <p:grpSpPr>
                <a:xfrm>
                  <a:off x="6757560" y="2286360"/>
                  <a:ext cx="163800" cy="150480"/>
                  <a:chOff x="6757560" y="2286360"/>
                  <a:chExt cx="163800" cy="150480"/>
                </a:xfrm>
              </p:grpSpPr>
              <p:sp>
                <p:nvSpPr>
                  <p:cNvPr id="6276" name=""/>
                  <p:cNvSpPr/>
                  <p:nvPr/>
                </p:nvSpPr>
                <p:spPr>
                  <a:xfrm rot="3815400">
                    <a:off x="6788160" y="2295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7" name=""/>
                  <p:cNvSpPr/>
                  <p:nvPr/>
                </p:nvSpPr>
                <p:spPr>
                  <a:xfrm flipV="1">
                    <a:off x="6810480" y="233460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8" name=""/>
                  <p:cNvSpPr/>
                  <p:nvPr/>
                </p:nvSpPr>
                <p:spPr>
                  <a:xfrm flipV="1">
                    <a:off x="6828120" y="23842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9" name=""/>
                  <p:cNvSpPr/>
                  <p:nvPr/>
                </p:nvSpPr>
                <p:spPr>
                  <a:xfrm flipH="1" flipV="1">
                    <a:off x="6825600" y="235404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0" name=""/>
                  <p:cNvSpPr/>
                  <p:nvPr/>
                </p:nvSpPr>
                <p:spPr>
                  <a:xfrm flipV="1">
                    <a:off x="6842160" y="23497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81" name=""/>
                <p:cNvSpPr/>
                <p:nvPr/>
              </p:nvSpPr>
              <p:spPr>
                <a:xfrm flipH="1">
                  <a:off x="6753960" y="258372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2" name=""/>
                <p:cNvSpPr/>
                <p:nvPr/>
              </p:nvSpPr>
              <p:spPr>
                <a:xfrm>
                  <a:off x="6615360" y="246996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 flipH="1" flipV="1">
                  <a:off x="6734160" y="235620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 flipH="1" flipV="1">
                  <a:off x="6972120" y="246996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 flipH="1">
                  <a:off x="6813360" y="260676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6" name=""/>
                <p:cNvSpPr/>
                <p:nvPr/>
              </p:nvSpPr>
              <p:spPr>
                <a:xfrm flipH="1" flipV="1">
                  <a:off x="6852600" y="256104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 flipH="1" flipV="1">
                  <a:off x="6693840" y="237852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 flipV="1">
                  <a:off x="6793560" y="240120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 flipH="1">
                  <a:off x="6634800" y="249300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 flipH="1" flipV="1">
                  <a:off x="6892920" y="249300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1" name=""/>
                <p:cNvSpPr/>
                <p:nvPr/>
              </p:nvSpPr>
              <p:spPr>
                <a:xfrm flipH="1" flipV="1">
                  <a:off x="6932520" y="249264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2" name=""/>
                <p:cNvSpPr/>
                <p:nvPr/>
              </p:nvSpPr>
              <p:spPr>
                <a:xfrm flipV="1">
                  <a:off x="7051320" y="256104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3" name=""/>
                <p:cNvSpPr/>
                <p:nvPr/>
              </p:nvSpPr>
              <p:spPr>
                <a:xfrm flipV="1">
                  <a:off x="6991920" y="244692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4" name=""/>
                <p:cNvSpPr/>
                <p:nvPr/>
              </p:nvSpPr>
              <p:spPr>
                <a:xfrm flipH="1">
                  <a:off x="6932160" y="265212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5" name=""/>
                <p:cNvSpPr/>
                <p:nvPr/>
              </p:nvSpPr>
              <p:spPr>
                <a:xfrm flipH="1">
                  <a:off x="6714000" y="251532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6" name=""/>
                <p:cNvSpPr/>
                <p:nvPr/>
              </p:nvSpPr>
              <p:spPr>
                <a:xfrm flipH="1" flipV="1">
                  <a:off x="6634440" y="242424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7" name=""/>
                <p:cNvGrpSpPr/>
                <p:nvPr/>
              </p:nvGrpSpPr>
              <p:grpSpPr>
                <a:xfrm>
                  <a:off x="6662880" y="2207520"/>
                  <a:ext cx="151560" cy="176040"/>
                  <a:chOff x="6662880" y="2207520"/>
                  <a:chExt cx="151560" cy="176040"/>
                </a:xfrm>
              </p:grpSpPr>
              <p:sp>
                <p:nvSpPr>
                  <p:cNvPr id="6298" name=""/>
                  <p:cNvSpPr/>
                  <p:nvPr/>
                </p:nvSpPr>
                <p:spPr>
                  <a:xfrm rot="1745400">
                    <a:off x="6693840" y="2219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9" name=""/>
                  <p:cNvSpPr/>
                  <p:nvPr/>
                </p:nvSpPr>
                <p:spPr>
                  <a:xfrm flipH="1" flipV="1">
                    <a:off x="6734520" y="226692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0" name=""/>
                  <p:cNvSpPr/>
                  <p:nvPr/>
                </p:nvSpPr>
                <p:spPr>
                  <a:xfrm flipV="1">
                    <a:off x="6744600" y="23137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1" name=""/>
                  <p:cNvSpPr/>
                  <p:nvPr/>
                </p:nvSpPr>
                <p:spPr>
                  <a:xfrm flipH="1" flipV="1">
                    <a:off x="6723360" y="22989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2" name=""/>
                  <p:cNvSpPr/>
                  <p:nvPr/>
                </p:nvSpPr>
                <p:spPr>
                  <a:xfrm flipV="1">
                    <a:off x="6740640" y="22784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3" name=""/>
                <p:cNvGrpSpPr/>
                <p:nvPr/>
              </p:nvGrpSpPr>
              <p:grpSpPr>
                <a:xfrm>
                  <a:off x="6727680" y="2435760"/>
                  <a:ext cx="142200" cy="174960"/>
                  <a:chOff x="6727680" y="2435760"/>
                  <a:chExt cx="142200" cy="174960"/>
                </a:xfrm>
              </p:grpSpPr>
              <p:sp>
                <p:nvSpPr>
                  <p:cNvPr id="6304" name=""/>
                  <p:cNvSpPr/>
                  <p:nvPr/>
                </p:nvSpPr>
                <p:spPr>
                  <a:xfrm rot="20187000">
                    <a:off x="6754320" y="2447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5" name=""/>
                  <p:cNvSpPr/>
                  <p:nvPr/>
                </p:nvSpPr>
                <p:spPr>
                  <a:xfrm flipH="1" flipV="1">
                    <a:off x="6773400" y="250920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6" name=""/>
                  <p:cNvSpPr/>
                  <p:nvPr/>
                </p:nvSpPr>
                <p:spPr>
                  <a:xfrm flipH="1" flipV="1">
                    <a:off x="6819840" y="25257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7" name=""/>
                  <p:cNvSpPr/>
                  <p:nvPr/>
                </p:nvSpPr>
                <p:spPr>
                  <a:xfrm flipH="1">
                    <a:off x="6792120" y="253656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8" name=""/>
                  <p:cNvSpPr/>
                  <p:nvPr/>
                </p:nvSpPr>
                <p:spPr>
                  <a:xfrm flipH="1" flipV="1">
                    <a:off x="6787440" y="25099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9" name=""/>
                <p:cNvGrpSpPr/>
                <p:nvPr/>
              </p:nvGrpSpPr>
              <p:grpSpPr>
                <a:xfrm>
                  <a:off x="6813720" y="2356200"/>
                  <a:ext cx="88920" cy="151920"/>
                  <a:chOff x="6813720" y="2356200"/>
                  <a:chExt cx="88920" cy="151920"/>
                </a:xfrm>
              </p:grpSpPr>
              <p:sp>
                <p:nvSpPr>
                  <p:cNvPr id="6310" name=""/>
                  <p:cNvSpPr/>
                  <p:nvPr/>
                </p:nvSpPr>
                <p:spPr>
                  <a:xfrm>
                    <a:off x="6813720" y="2356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"/>
                  <p:cNvSpPr/>
                  <p:nvPr/>
                </p:nvSpPr>
                <p:spPr>
                  <a:xfrm flipH="1" flipV="1">
                    <a:off x="6840720" y="24091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2" name=""/>
                  <p:cNvSpPr/>
                  <p:nvPr/>
                </p:nvSpPr>
                <p:spPr>
                  <a:xfrm flipH="1" flipV="1">
                    <a:off x="6876360" y="24429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3" name=""/>
                  <p:cNvSpPr/>
                  <p:nvPr/>
                </p:nvSpPr>
                <p:spPr>
                  <a:xfrm flipH="1" flipV="1">
                    <a:off x="6846480" y="24426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4" name=""/>
                  <p:cNvSpPr/>
                  <p:nvPr/>
                </p:nvSpPr>
                <p:spPr>
                  <a:xfrm flipH="1" flipV="1">
                    <a:off x="6852960" y="24156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5" name=""/>
                <p:cNvGrpSpPr/>
                <p:nvPr/>
              </p:nvGrpSpPr>
              <p:grpSpPr>
                <a:xfrm>
                  <a:off x="6629040" y="2621520"/>
                  <a:ext cx="143640" cy="118080"/>
                  <a:chOff x="6629040" y="2621520"/>
                  <a:chExt cx="143640" cy="118080"/>
                </a:xfrm>
              </p:grpSpPr>
              <p:sp>
                <p:nvSpPr>
                  <p:cNvPr id="6316" name=""/>
                  <p:cNvSpPr/>
                  <p:nvPr/>
                </p:nvSpPr>
                <p:spPr>
                  <a:xfrm rot="15769200">
                    <a:off x="6649560" y="2614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7" name=""/>
                  <p:cNvSpPr/>
                  <p:nvPr/>
                </p:nvSpPr>
                <p:spPr>
                  <a:xfrm flipH="1">
                    <a:off x="6683040" y="262692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8" name=""/>
                  <p:cNvSpPr/>
                  <p:nvPr/>
                </p:nvSpPr>
                <p:spPr>
                  <a:xfrm flipH="1">
                    <a:off x="6707160" y="26499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9" name=""/>
                  <p:cNvSpPr/>
                  <p:nvPr/>
                </p:nvSpPr>
                <p:spPr>
                  <a:xfrm flipH="1">
                    <a:off x="6711480" y="267156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"/>
                  <p:cNvSpPr/>
                  <p:nvPr/>
                </p:nvSpPr>
                <p:spPr>
                  <a:xfrm flipH="1">
                    <a:off x="6687360" y="268056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1" name=""/>
                <p:cNvGrpSpPr/>
                <p:nvPr/>
              </p:nvGrpSpPr>
              <p:grpSpPr>
                <a:xfrm>
                  <a:off x="6555600" y="2288160"/>
                  <a:ext cx="88920" cy="151920"/>
                  <a:chOff x="6555600" y="2288160"/>
                  <a:chExt cx="88920" cy="151920"/>
                </a:xfrm>
              </p:grpSpPr>
              <p:sp>
                <p:nvSpPr>
                  <p:cNvPr id="6322" name=""/>
                  <p:cNvSpPr/>
                  <p:nvPr/>
                </p:nvSpPr>
                <p:spPr>
                  <a:xfrm>
                    <a:off x="6555600" y="2288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3" name=""/>
                  <p:cNvSpPr/>
                  <p:nvPr/>
                </p:nvSpPr>
                <p:spPr>
                  <a:xfrm flipH="1" flipV="1">
                    <a:off x="6582600" y="23410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"/>
                  <p:cNvSpPr/>
                  <p:nvPr/>
                </p:nvSpPr>
                <p:spPr>
                  <a:xfrm flipH="1" flipV="1">
                    <a:off x="6618240" y="2374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5" name=""/>
                  <p:cNvSpPr/>
                  <p:nvPr/>
                </p:nvSpPr>
                <p:spPr>
                  <a:xfrm flipH="1" flipV="1">
                    <a:off x="6588360" y="2374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6" name=""/>
                  <p:cNvSpPr/>
                  <p:nvPr/>
                </p:nvSpPr>
                <p:spPr>
                  <a:xfrm flipH="1" flipV="1">
                    <a:off x="6594840" y="23475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27" name=""/>
                <p:cNvGrpSpPr/>
                <p:nvPr/>
              </p:nvGrpSpPr>
              <p:grpSpPr>
                <a:xfrm>
                  <a:off x="6892920" y="2333160"/>
                  <a:ext cx="88920" cy="151920"/>
                  <a:chOff x="6892920" y="2333160"/>
                  <a:chExt cx="88920" cy="151920"/>
                </a:xfrm>
              </p:grpSpPr>
              <p:sp>
                <p:nvSpPr>
                  <p:cNvPr id="6328" name=""/>
                  <p:cNvSpPr/>
                  <p:nvPr/>
                </p:nvSpPr>
                <p:spPr>
                  <a:xfrm>
                    <a:off x="6892920" y="2333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9" name=""/>
                  <p:cNvSpPr/>
                  <p:nvPr/>
                </p:nvSpPr>
                <p:spPr>
                  <a:xfrm flipH="1" flipV="1">
                    <a:off x="6919920" y="23860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0" name=""/>
                  <p:cNvSpPr/>
                  <p:nvPr/>
                </p:nvSpPr>
                <p:spPr>
                  <a:xfrm flipH="1" flipV="1">
                    <a:off x="6955560" y="24199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1" name=""/>
                  <p:cNvSpPr/>
                  <p:nvPr/>
                </p:nvSpPr>
                <p:spPr>
                  <a:xfrm flipH="1" flipV="1">
                    <a:off x="6925680" y="24195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2" name=""/>
                  <p:cNvSpPr/>
                  <p:nvPr/>
                </p:nvSpPr>
                <p:spPr>
                  <a:xfrm flipH="1" flipV="1">
                    <a:off x="6932160" y="23925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3" name=""/>
                <p:cNvGrpSpPr/>
                <p:nvPr/>
              </p:nvGrpSpPr>
              <p:grpSpPr>
                <a:xfrm>
                  <a:off x="6615360" y="2242440"/>
                  <a:ext cx="88920" cy="151920"/>
                  <a:chOff x="6615360" y="2242440"/>
                  <a:chExt cx="88920" cy="151920"/>
                </a:xfrm>
              </p:grpSpPr>
              <p:sp>
                <p:nvSpPr>
                  <p:cNvPr id="6334" name=""/>
                  <p:cNvSpPr/>
                  <p:nvPr/>
                </p:nvSpPr>
                <p:spPr>
                  <a:xfrm>
                    <a:off x="6615360" y="2242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5" name=""/>
                  <p:cNvSpPr/>
                  <p:nvPr/>
                </p:nvSpPr>
                <p:spPr>
                  <a:xfrm flipH="1" flipV="1">
                    <a:off x="6642360" y="22953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6" name=""/>
                  <p:cNvSpPr/>
                  <p:nvPr/>
                </p:nvSpPr>
                <p:spPr>
                  <a:xfrm flipH="1" flipV="1">
                    <a:off x="6678000" y="23292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7" name=""/>
                  <p:cNvSpPr/>
                  <p:nvPr/>
                </p:nvSpPr>
                <p:spPr>
                  <a:xfrm flipH="1" flipV="1">
                    <a:off x="6648120" y="2328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8" name=""/>
                  <p:cNvSpPr/>
                  <p:nvPr/>
                </p:nvSpPr>
                <p:spPr>
                  <a:xfrm flipH="1" flipV="1">
                    <a:off x="6654600" y="23018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39" name=""/>
                <p:cNvGrpSpPr/>
                <p:nvPr/>
              </p:nvGrpSpPr>
              <p:grpSpPr>
                <a:xfrm>
                  <a:off x="6801840" y="2681280"/>
                  <a:ext cx="156240" cy="135720"/>
                  <a:chOff x="6801840" y="2681280"/>
                  <a:chExt cx="156240" cy="135720"/>
                </a:xfrm>
              </p:grpSpPr>
              <p:sp>
                <p:nvSpPr>
                  <p:cNvPr id="6340" name=""/>
                  <p:cNvSpPr/>
                  <p:nvPr/>
                </p:nvSpPr>
                <p:spPr>
                  <a:xfrm rot="15198000">
                    <a:off x="6828480" y="2682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1" name=""/>
                  <p:cNvSpPr/>
                  <p:nvPr/>
                </p:nvSpPr>
                <p:spPr>
                  <a:xfrm flipH="1">
                    <a:off x="6865920" y="268776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2" name=""/>
                  <p:cNvSpPr/>
                  <p:nvPr/>
                </p:nvSpPr>
                <p:spPr>
                  <a:xfrm flipH="1">
                    <a:off x="6882120" y="27151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3" name=""/>
                  <p:cNvSpPr/>
                  <p:nvPr/>
                </p:nvSpPr>
                <p:spPr>
                  <a:xfrm>
                    <a:off x="6891840" y="27378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4" name=""/>
                  <p:cNvSpPr/>
                  <p:nvPr/>
                </p:nvSpPr>
                <p:spPr>
                  <a:xfrm flipH="1">
                    <a:off x="6868080" y="274932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5" name=""/>
                <p:cNvGrpSpPr/>
                <p:nvPr/>
              </p:nvGrpSpPr>
              <p:grpSpPr>
                <a:xfrm>
                  <a:off x="6697440" y="2648520"/>
                  <a:ext cx="165960" cy="155520"/>
                  <a:chOff x="6697440" y="2648520"/>
                  <a:chExt cx="165960" cy="155520"/>
                </a:xfrm>
              </p:grpSpPr>
              <p:sp>
                <p:nvSpPr>
                  <p:cNvPr id="6346" name=""/>
                  <p:cNvSpPr/>
                  <p:nvPr/>
                </p:nvSpPr>
                <p:spPr>
                  <a:xfrm rot="14358600">
                    <a:off x="6729120" y="2660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7" name=""/>
                  <p:cNvSpPr/>
                  <p:nvPr/>
                </p:nvSpPr>
                <p:spPr>
                  <a:xfrm flipH="1">
                    <a:off x="6773040" y="265716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8" name=""/>
                  <p:cNvSpPr/>
                  <p:nvPr/>
                </p:nvSpPr>
                <p:spPr>
                  <a:xfrm flipH="1">
                    <a:off x="6777360" y="26892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9" name=""/>
                  <p:cNvSpPr/>
                  <p:nvPr/>
                </p:nvSpPr>
                <p:spPr>
                  <a:xfrm>
                    <a:off x="6789600" y="271224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0" name=""/>
                  <p:cNvSpPr/>
                  <p:nvPr/>
                </p:nvSpPr>
                <p:spPr>
                  <a:xfrm flipH="1">
                    <a:off x="6771240" y="27273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1" name=""/>
                <p:cNvGrpSpPr/>
                <p:nvPr/>
              </p:nvGrpSpPr>
              <p:grpSpPr>
                <a:xfrm>
                  <a:off x="6493680" y="2466360"/>
                  <a:ext cx="137520" cy="109440"/>
                  <a:chOff x="6493680" y="2466360"/>
                  <a:chExt cx="137520" cy="109440"/>
                </a:xfrm>
              </p:grpSpPr>
              <p:sp>
                <p:nvSpPr>
                  <p:cNvPr id="6352" name=""/>
                  <p:cNvSpPr/>
                  <p:nvPr/>
                </p:nvSpPr>
                <p:spPr>
                  <a:xfrm rot="16010400">
                    <a:off x="6511320" y="2454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3" name=""/>
                  <p:cNvSpPr/>
                  <p:nvPr/>
                </p:nvSpPr>
                <p:spPr>
                  <a:xfrm flipH="1">
                    <a:off x="6543360" y="247104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4" name=""/>
                  <p:cNvSpPr/>
                  <p:nvPr/>
                </p:nvSpPr>
                <p:spPr>
                  <a:xfrm flipH="1">
                    <a:off x="6570360" y="24922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5" name=""/>
                  <p:cNvSpPr/>
                  <p:nvPr/>
                </p:nvSpPr>
                <p:spPr>
                  <a:xfrm flipH="1">
                    <a:off x="6572520" y="25131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6" name=""/>
                  <p:cNvSpPr/>
                  <p:nvPr/>
                </p:nvSpPr>
                <p:spPr>
                  <a:xfrm flipH="1">
                    <a:off x="6548760" y="25207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7" name=""/>
                <p:cNvGrpSpPr/>
                <p:nvPr/>
              </p:nvGrpSpPr>
              <p:grpSpPr>
                <a:xfrm>
                  <a:off x="6501600" y="2539800"/>
                  <a:ext cx="160560" cy="144360"/>
                  <a:chOff x="6501600" y="2539800"/>
                  <a:chExt cx="160560" cy="144360"/>
                </a:xfrm>
              </p:grpSpPr>
              <p:sp>
                <p:nvSpPr>
                  <p:cNvPr id="6358" name=""/>
                  <p:cNvSpPr/>
                  <p:nvPr/>
                </p:nvSpPr>
                <p:spPr>
                  <a:xfrm rot="14881800">
                    <a:off x="6530760" y="2545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9" name=""/>
                  <p:cNvSpPr/>
                  <p:nvPr/>
                </p:nvSpPr>
                <p:spPr>
                  <a:xfrm flipH="1">
                    <a:off x="6570720" y="254736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0" name=""/>
                  <p:cNvSpPr/>
                  <p:nvPr/>
                </p:nvSpPr>
                <p:spPr>
                  <a:xfrm flipH="1">
                    <a:off x="6582240" y="257688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1" name=""/>
                  <p:cNvSpPr/>
                  <p:nvPr/>
                </p:nvSpPr>
                <p:spPr>
                  <a:xfrm>
                    <a:off x="6593040" y="25999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2" name=""/>
                  <p:cNvSpPr/>
                  <p:nvPr/>
                </p:nvSpPr>
                <p:spPr>
                  <a:xfrm flipH="1">
                    <a:off x="6571080" y="26128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3" name=""/>
                <p:cNvGrpSpPr/>
                <p:nvPr/>
              </p:nvGrpSpPr>
              <p:grpSpPr>
                <a:xfrm>
                  <a:off x="6605640" y="2523960"/>
                  <a:ext cx="151920" cy="129960"/>
                  <a:chOff x="6605640" y="2523960"/>
                  <a:chExt cx="151920" cy="129960"/>
                </a:xfrm>
              </p:grpSpPr>
              <p:sp>
                <p:nvSpPr>
                  <p:cNvPr id="6364" name=""/>
                  <p:cNvSpPr/>
                  <p:nvPr/>
                </p:nvSpPr>
                <p:spPr>
                  <a:xfrm rot="15401400">
                    <a:off x="6630120" y="2522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5" name=""/>
                  <p:cNvSpPr/>
                  <p:nvPr/>
                </p:nvSpPr>
                <p:spPr>
                  <a:xfrm flipH="1">
                    <a:off x="6666120" y="253044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6" name=""/>
                  <p:cNvSpPr/>
                  <p:nvPr/>
                </p:nvSpPr>
                <p:spPr>
                  <a:xfrm flipH="1">
                    <a:off x="6685200" y="25563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7" name=""/>
                  <p:cNvSpPr/>
                  <p:nvPr/>
                </p:nvSpPr>
                <p:spPr>
                  <a:xfrm flipH="1">
                    <a:off x="6693480" y="257868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8" name=""/>
                  <p:cNvSpPr/>
                  <p:nvPr/>
                </p:nvSpPr>
                <p:spPr>
                  <a:xfrm flipH="1">
                    <a:off x="6669000" y="25894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69" name=""/>
                <p:cNvGrpSpPr/>
                <p:nvPr/>
              </p:nvGrpSpPr>
              <p:grpSpPr>
                <a:xfrm>
                  <a:off x="6565680" y="2365200"/>
                  <a:ext cx="151920" cy="129600"/>
                  <a:chOff x="6565680" y="2365200"/>
                  <a:chExt cx="151920" cy="129600"/>
                </a:xfrm>
              </p:grpSpPr>
              <p:sp>
                <p:nvSpPr>
                  <p:cNvPr id="6370" name=""/>
                  <p:cNvSpPr/>
                  <p:nvPr/>
                </p:nvSpPr>
                <p:spPr>
                  <a:xfrm rot="16985400">
                    <a:off x="6590160" y="2363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1" name=""/>
                  <p:cNvSpPr/>
                  <p:nvPr/>
                </p:nvSpPr>
                <p:spPr>
                  <a:xfrm flipH="1">
                    <a:off x="6617160" y="239688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2" name=""/>
                  <p:cNvSpPr/>
                  <p:nvPr/>
                </p:nvSpPr>
                <p:spPr>
                  <a:xfrm flipH="1">
                    <a:off x="6654600" y="24094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3" name=""/>
                  <p:cNvSpPr/>
                  <p:nvPr/>
                </p:nvSpPr>
                <p:spPr>
                  <a:xfrm flipH="1">
                    <a:off x="6647400" y="242640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4" name=""/>
                  <p:cNvSpPr/>
                  <p:nvPr/>
                </p:nvSpPr>
                <p:spPr>
                  <a:xfrm flipH="1">
                    <a:off x="6626160" y="242892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5" name=""/>
                <p:cNvGrpSpPr/>
                <p:nvPr/>
              </p:nvGrpSpPr>
              <p:grpSpPr>
                <a:xfrm>
                  <a:off x="6773760" y="2391120"/>
                  <a:ext cx="168480" cy="172080"/>
                  <a:chOff x="6773760" y="2391120"/>
                  <a:chExt cx="168480" cy="172080"/>
                </a:xfrm>
              </p:grpSpPr>
              <p:sp>
                <p:nvSpPr>
                  <p:cNvPr id="6376" name=""/>
                  <p:cNvSpPr/>
                  <p:nvPr/>
                </p:nvSpPr>
                <p:spPr>
                  <a:xfrm rot="19036200">
                    <a:off x="6813360" y="2401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7" name=""/>
                  <p:cNvSpPr/>
                  <p:nvPr/>
                </p:nvSpPr>
                <p:spPr>
                  <a:xfrm flipH="1" flipV="1">
                    <a:off x="6829560" y="247248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8" name=""/>
                  <p:cNvSpPr/>
                  <p:nvPr/>
                </p:nvSpPr>
                <p:spPr>
                  <a:xfrm flipH="1" flipV="1">
                    <a:off x="6878880" y="247284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9" name=""/>
                  <p:cNvSpPr/>
                  <p:nvPr/>
                </p:nvSpPr>
                <p:spPr>
                  <a:xfrm flipH="1">
                    <a:off x="6856560" y="24861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0" name=""/>
                  <p:cNvSpPr/>
                  <p:nvPr/>
                </p:nvSpPr>
                <p:spPr>
                  <a:xfrm flipH="1" flipV="1">
                    <a:off x="6843240" y="246888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1" name=""/>
                <p:cNvGrpSpPr/>
                <p:nvPr/>
              </p:nvGrpSpPr>
              <p:grpSpPr>
                <a:xfrm>
                  <a:off x="6958800" y="2314080"/>
                  <a:ext cx="158760" cy="140400"/>
                  <a:chOff x="6958800" y="2314080"/>
                  <a:chExt cx="158760" cy="140400"/>
                </a:xfrm>
              </p:grpSpPr>
              <p:sp>
                <p:nvSpPr>
                  <p:cNvPr id="6382" name=""/>
                  <p:cNvSpPr/>
                  <p:nvPr/>
                </p:nvSpPr>
                <p:spPr>
                  <a:xfrm rot="4233000">
                    <a:off x="6986880" y="2318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3" name=""/>
                  <p:cNvSpPr/>
                  <p:nvPr/>
                </p:nvSpPr>
                <p:spPr>
                  <a:xfrm flipV="1">
                    <a:off x="7001280" y="235872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4" name=""/>
                  <p:cNvSpPr/>
                  <p:nvPr/>
                </p:nvSpPr>
                <p:spPr>
                  <a:xfrm flipV="1">
                    <a:off x="7022520" y="240696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5" name=""/>
                  <p:cNvSpPr/>
                  <p:nvPr/>
                </p:nvSpPr>
                <p:spPr>
                  <a:xfrm flipH="1" flipV="1">
                    <a:off x="7025040" y="23752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6" name=""/>
                  <p:cNvSpPr/>
                  <p:nvPr/>
                </p:nvSpPr>
                <p:spPr>
                  <a:xfrm flipV="1">
                    <a:off x="7040880" y="237384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87" name=""/>
                <p:cNvGrpSpPr/>
                <p:nvPr/>
              </p:nvGrpSpPr>
              <p:grpSpPr>
                <a:xfrm>
                  <a:off x="7038720" y="2430000"/>
                  <a:ext cx="156600" cy="137160"/>
                  <a:chOff x="7038720" y="2430000"/>
                  <a:chExt cx="156600" cy="137160"/>
                </a:xfrm>
              </p:grpSpPr>
              <p:sp>
                <p:nvSpPr>
                  <p:cNvPr id="6388" name=""/>
                  <p:cNvSpPr/>
                  <p:nvPr/>
                </p:nvSpPr>
                <p:spPr>
                  <a:xfrm rot="4353000">
                    <a:off x="7065720" y="2432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9" name=""/>
                  <p:cNvSpPr/>
                  <p:nvPr/>
                </p:nvSpPr>
                <p:spPr>
                  <a:xfrm flipV="1">
                    <a:off x="7077600" y="247320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0" name=""/>
                  <p:cNvSpPr/>
                  <p:nvPr/>
                </p:nvSpPr>
                <p:spPr>
                  <a:xfrm flipV="1">
                    <a:off x="7099920" y="25210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1" name=""/>
                  <p:cNvSpPr/>
                  <p:nvPr/>
                </p:nvSpPr>
                <p:spPr>
                  <a:xfrm flipH="1" flipV="1">
                    <a:off x="7104240" y="248868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2" name=""/>
                  <p:cNvSpPr/>
                  <p:nvPr/>
                </p:nvSpPr>
                <p:spPr>
                  <a:xfrm flipV="1">
                    <a:off x="7119720" y="248832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3" name=""/>
                <p:cNvGrpSpPr/>
                <p:nvPr/>
              </p:nvGrpSpPr>
              <p:grpSpPr>
                <a:xfrm>
                  <a:off x="6778440" y="2549160"/>
                  <a:ext cx="159480" cy="175320"/>
                  <a:chOff x="6778440" y="2549160"/>
                  <a:chExt cx="159480" cy="175320"/>
                </a:xfrm>
              </p:grpSpPr>
              <p:sp>
                <p:nvSpPr>
                  <p:cNvPr id="6394" name=""/>
                  <p:cNvSpPr/>
                  <p:nvPr/>
                </p:nvSpPr>
                <p:spPr>
                  <a:xfrm rot="19525800">
                    <a:off x="6813360" y="2560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5" name=""/>
                  <p:cNvSpPr/>
                  <p:nvPr/>
                </p:nvSpPr>
                <p:spPr>
                  <a:xfrm flipH="1" flipV="1">
                    <a:off x="6830640" y="262800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6" name=""/>
                  <p:cNvSpPr/>
                  <p:nvPr/>
                </p:nvSpPr>
                <p:spPr>
                  <a:xfrm flipH="1" flipV="1">
                    <a:off x="6879240" y="263556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7" name=""/>
                  <p:cNvSpPr/>
                  <p:nvPr/>
                </p:nvSpPr>
                <p:spPr>
                  <a:xfrm flipH="1">
                    <a:off x="6854400" y="264780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8" name=""/>
                  <p:cNvSpPr/>
                  <p:nvPr/>
                </p:nvSpPr>
                <p:spPr>
                  <a:xfrm flipH="1" flipV="1">
                    <a:off x="6844320" y="262620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9" name=""/>
                <p:cNvGrpSpPr/>
                <p:nvPr/>
              </p:nvGrpSpPr>
              <p:grpSpPr>
                <a:xfrm>
                  <a:off x="6617880" y="2529720"/>
                  <a:ext cx="165600" cy="165600"/>
                  <a:chOff x="6617880" y="2529720"/>
                  <a:chExt cx="165600" cy="165600"/>
                </a:xfrm>
              </p:grpSpPr>
              <p:sp>
                <p:nvSpPr>
                  <p:cNvPr id="6400" name=""/>
                  <p:cNvSpPr/>
                  <p:nvPr/>
                </p:nvSpPr>
                <p:spPr>
                  <a:xfrm rot="18890400">
                    <a:off x="6649560" y="254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1" name=""/>
                  <p:cNvSpPr/>
                  <p:nvPr/>
                </p:nvSpPr>
                <p:spPr>
                  <a:xfrm flipH="1" flipV="1">
                    <a:off x="6672240" y="261216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2" name=""/>
                  <p:cNvSpPr/>
                  <p:nvPr/>
                </p:nvSpPr>
                <p:spPr>
                  <a:xfrm flipH="1" flipV="1">
                    <a:off x="6721920" y="260388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3" name=""/>
                  <p:cNvSpPr/>
                  <p:nvPr/>
                </p:nvSpPr>
                <p:spPr>
                  <a:xfrm flipH="1">
                    <a:off x="6698160" y="261756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4" name=""/>
                  <p:cNvSpPr/>
                  <p:nvPr/>
                </p:nvSpPr>
                <p:spPr>
                  <a:xfrm flipH="1" flipV="1">
                    <a:off x="6686280" y="260676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5" name=""/>
                <p:cNvGrpSpPr/>
                <p:nvPr/>
              </p:nvGrpSpPr>
              <p:grpSpPr>
                <a:xfrm>
                  <a:off x="6479280" y="2439000"/>
                  <a:ext cx="166680" cy="164160"/>
                  <a:chOff x="6479280" y="2439000"/>
                  <a:chExt cx="166680" cy="164160"/>
                </a:xfrm>
              </p:grpSpPr>
              <p:sp>
                <p:nvSpPr>
                  <p:cNvPr id="6406" name=""/>
                  <p:cNvSpPr/>
                  <p:nvPr/>
                </p:nvSpPr>
                <p:spPr>
                  <a:xfrm rot="18730200">
                    <a:off x="6511320" y="2454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7" name=""/>
                  <p:cNvSpPr/>
                  <p:nvPr/>
                </p:nvSpPr>
                <p:spPr>
                  <a:xfrm flipH="1" flipV="1">
                    <a:off x="6534000" y="252252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8" name=""/>
                  <p:cNvSpPr/>
                  <p:nvPr/>
                </p:nvSpPr>
                <p:spPr>
                  <a:xfrm flipH="1" flipV="1">
                    <a:off x="6582960" y="2511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9" name=""/>
                  <p:cNvSpPr/>
                  <p:nvPr/>
                </p:nvSpPr>
                <p:spPr>
                  <a:xfrm flipH="1">
                    <a:off x="6560640" y="25257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0" name=""/>
                  <p:cNvSpPr/>
                  <p:nvPr/>
                </p:nvSpPr>
                <p:spPr>
                  <a:xfrm flipH="1" flipV="1">
                    <a:off x="6548040" y="25160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11" name=""/>
                <p:cNvGrpSpPr/>
                <p:nvPr/>
              </p:nvGrpSpPr>
              <p:grpSpPr>
                <a:xfrm>
                  <a:off x="6459480" y="2344680"/>
                  <a:ext cx="162720" cy="174960"/>
                  <a:chOff x="6459480" y="2344680"/>
                  <a:chExt cx="162720" cy="174960"/>
                </a:xfrm>
              </p:grpSpPr>
              <p:sp>
                <p:nvSpPr>
                  <p:cNvPr id="6412" name=""/>
                  <p:cNvSpPr/>
                  <p:nvPr/>
                </p:nvSpPr>
                <p:spPr>
                  <a:xfrm rot="19362600">
                    <a:off x="6496200" y="2356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3" name=""/>
                  <p:cNvSpPr/>
                  <p:nvPr/>
                </p:nvSpPr>
                <p:spPr>
                  <a:xfrm flipH="1" flipV="1">
                    <a:off x="6513120" y="242424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4" name=""/>
                  <p:cNvSpPr/>
                  <p:nvPr/>
                </p:nvSpPr>
                <p:spPr>
                  <a:xfrm flipH="1" flipV="1">
                    <a:off x="6562080" y="242964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5" name=""/>
                  <p:cNvSpPr/>
                  <p:nvPr/>
                </p:nvSpPr>
                <p:spPr>
                  <a:xfrm flipH="1">
                    <a:off x="6537960" y="24422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6" name=""/>
                  <p:cNvSpPr/>
                  <p:nvPr/>
                </p:nvSpPr>
                <p:spPr>
                  <a:xfrm flipH="1" flipV="1">
                    <a:off x="6526800" y="24220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7" name=""/>
              <p:cNvGrpSpPr/>
              <p:nvPr/>
            </p:nvGrpSpPr>
            <p:grpSpPr>
              <a:xfrm>
                <a:off x="6327000" y="1772640"/>
                <a:ext cx="735840" cy="609480"/>
                <a:chOff x="6327000" y="1772640"/>
                <a:chExt cx="735840" cy="609480"/>
              </a:xfrm>
            </p:grpSpPr>
            <p:grpSp>
              <p:nvGrpSpPr>
                <p:cNvPr id="6418" name=""/>
                <p:cNvGrpSpPr/>
                <p:nvPr/>
              </p:nvGrpSpPr>
              <p:grpSpPr>
                <a:xfrm>
                  <a:off x="6625080" y="1851480"/>
                  <a:ext cx="163800" cy="150480"/>
                  <a:chOff x="6625080" y="1851480"/>
                  <a:chExt cx="163800" cy="150480"/>
                </a:xfrm>
              </p:grpSpPr>
              <p:sp>
                <p:nvSpPr>
                  <p:cNvPr id="6419" name=""/>
                  <p:cNvSpPr/>
                  <p:nvPr/>
                </p:nvSpPr>
                <p:spPr>
                  <a:xfrm rot="3815400">
                    <a:off x="6655680" y="1860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0" name=""/>
                  <p:cNvSpPr/>
                  <p:nvPr/>
                </p:nvSpPr>
                <p:spPr>
                  <a:xfrm flipV="1">
                    <a:off x="6678000" y="189972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1" name=""/>
                  <p:cNvSpPr/>
                  <p:nvPr/>
                </p:nvSpPr>
                <p:spPr>
                  <a:xfrm flipV="1">
                    <a:off x="6695640" y="194940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2" name=""/>
                  <p:cNvSpPr/>
                  <p:nvPr/>
                </p:nvSpPr>
                <p:spPr>
                  <a:xfrm flipH="1" flipV="1">
                    <a:off x="6693120" y="19191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3" name=""/>
                  <p:cNvSpPr/>
                  <p:nvPr/>
                </p:nvSpPr>
                <p:spPr>
                  <a:xfrm flipV="1">
                    <a:off x="6709680" y="191484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24" name=""/>
                <p:cNvSpPr/>
                <p:nvPr/>
              </p:nvSpPr>
              <p:spPr>
                <a:xfrm flipH="1">
                  <a:off x="6621480" y="214884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6482880" y="20350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6" name=""/>
                <p:cNvSpPr/>
                <p:nvPr/>
              </p:nvSpPr>
              <p:spPr>
                <a:xfrm flipH="1" flipV="1">
                  <a:off x="6601680" y="192132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7" name=""/>
                <p:cNvSpPr/>
                <p:nvPr/>
              </p:nvSpPr>
              <p:spPr>
                <a:xfrm flipH="1" flipV="1">
                  <a:off x="6839640" y="203508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8" name=""/>
                <p:cNvSpPr/>
                <p:nvPr/>
              </p:nvSpPr>
              <p:spPr>
                <a:xfrm flipH="1">
                  <a:off x="6680880" y="217188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9" name=""/>
                <p:cNvSpPr/>
                <p:nvPr/>
              </p:nvSpPr>
              <p:spPr>
                <a:xfrm flipH="1" flipV="1">
                  <a:off x="6720120" y="212616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0" name=""/>
                <p:cNvSpPr/>
                <p:nvPr/>
              </p:nvSpPr>
              <p:spPr>
                <a:xfrm flipH="1" flipV="1">
                  <a:off x="6561360" y="194364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1" name=""/>
                <p:cNvSpPr/>
                <p:nvPr/>
              </p:nvSpPr>
              <p:spPr>
                <a:xfrm flipV="1">
                  <a:off x="6661080" y="196632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2" name=""/>
                <p:cNvSpPr/>
                <p:nvPr/>
              </p:nvSpPr>
              <p:spPr>
                <a:xfrm flipH="1">
                  <a:off x="6502320" y="205812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3" name=""/>
                <p:cNvSpPr/>
                <p:nvPr/>
              </p:nvSpPr>
              <p:spPr>
                <a:xfrm flipH="1" flipV="1">
                  <a:off x="6760440" y="205812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4" name=""/>
                <p:cNvSpPr/>
                <p:nvPr/>
              </p:nvSpPr>
              <p:spPr>
                <a:xfrm flipH="1" flipV="1">
                  <a:off x="6800040" y="205776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5" name=""/>
                <p:cNvSpPr/>
                <p:nvPr/>
              </p:nvSpPr>
              <p:spPr>
                <a:xfrm flipV="1">
                  <a:off x="6918840" y="212616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6" name=""/>
                <p:cNvSpPr/>
                <p:nvPr/>
              </p:nvSpPr>
              <p:spPr>
                <a:xfrm flipV="1">
                  <a:off x="6859440" y="201204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7" name=""/>
                <p:cNvSpPr/>
                <p:nvPr/>
              </p:nvSpPr>
              <p:spPr>
                <a:xfrm flipH="1">
                  <a:off x="6799680" y="221724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8" name=""/>
                <p:cNvSpPr/>
                <p:nvPr/>
              </p:nvSpPr>
              <p:spPr>
                <a:xfrm flipH="1">
                  <a:off x="6581520" y="208044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9" name=""/>
                <p:cNvSpPr/>
                <p:nvPr/>
              </p:nvSpPr>
              <p:spPr>
                <a:xfrm flipH="1" flipV="1">
                  <a:off x="6501960" y="198936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40" name=""/>
                <p:cNvGrpSpPr/>
                <p:nvPr/>
              </p:nvGrpSpPr>
              <p:grpSpPr>
                <a:xfrm>
                  <a:off x="6530400" y="1772640"/>
                  <a:ext cx="151560" cy="176040"/>
                  <a:chOff x="6530400" y="1772640"/>
                  <a:chExt cx="151560" cy="176040"/>
                </a:xfrm>
              </p:grpSpPr>
              <p:sp>
                <p:nvSpPr>
                  <p:cNvPr id="6441" name=""/>
                  <p:cNvSpPr/>
                  <p:nvPr/>
                </p:nvSpPr>
                <p:spPr>
                  <a:xfrm rot="1745400">
                    <a:off x="6561360" y="1784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2" name=""/>
                  <p:cNvSpPr/>
                  <p:nvPr/>
                </p:nvSpPr>
                <p:spPr>
                  <a:xfrm flipH="1" flipV="1">
                    <a:off x="6602040" y="183204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3" name=""/>
                  <p:cNvSpPr/>
                  <p:nvPr/>
                </p:nvSpPr>
                <p:spPr>
                  <a:xfrm flipV="1">
                    <a:off x="6612120" y="1878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4" name=""/>
                  <p:cNvSpPr/>
                  <p:nvPr/>
                </p:nvSpPr>
                <p:spPr>
                  <a:xfrm flipH="1" flipV="1">
                    <a:off x="6590880" y="186408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5" name=""/>
                  <p:cNvSpPr/>
                  <p:nvPr/>
                </p:nvSpPr>
                <p:spPr>
                  <a:xfrm flipV="1">
                    <a:off x="6608160" y="18435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46" name=""/>
                <p:cNvGrpSpPr/>
                <p:nvPr/>
              </p:nvGrpSpPr>
              <p:grpSpPr>
                <a:xfrm>
                  <a:off x="6595200" y="2000880"/>
                  <a:ext cx="142200" cy="174960"/>
                  <a:chOff x="6595200" y="2000880"/>
                  <a:chExt cx="142200" cy="174960"/>
                </a:xfrm>
              </p:grpSpPr>
              <p:sp>
                <p:nvSpPr>
                  <p:cNvPr id="6447" name=""/>
                  <p:cNvSpPr/>
                  <p:nvPr/>
                </p:nvSpPr>
                <p:spPr>
                  <a:xfrm rot="20187000">
                    <a:off x="6621840" y="2012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8" name=""/>
                  <p:cNvSpPr/>
                  <p:nvPr/>
                </p:nvSpPr>
                <p:spPr>
                  <a:xfrm flipH="1" flipV="1">
                    <a:off x="6640920" y="207432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9" name=""/>
                  <p:cNvSpPr/>
                  <p:nvPr/>
                </p:nvSpPr>
                <p:spPr>
                  <a:xfrm flipH="1" flipV="1">
                    <a:off x="6687360" y="20908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0" name=""/>
                  <p:cNvSpPr/>
                  <p:nvPr/>
                </p:nvSpPr>
                <p:spPr>
                  <a:xfrm flipH="1">
                    <a:off x="6659640" y="210168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1" name=""/>
                  <p:cNvSpPr/>
                  <p:nvPr/>
                </p:nvSpPr>
                <p:spPr>
                  <a:xfrm flipH="1" flipV="1">
                    <a:off x="6654960" y="207504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2" name=""/>
                <p:cNvGrpSpPr/>
                <p:nvPr/>
              </p:nvGrpSpPr>
              <p:grpSpPr>
                <a:xfrm>
                  <a:off x="6681240" y="1921320"/>
                  <a:ext cx="88920" cy="151920"/>
                  <a:chOff x="6681240" y="1921320"/>
                  <a:chExt cx="88920" cy="151920"/>
                </a:xfrm>
              </p:grpSpPr>
              <p:sp>
                <p:nvSpPr>
                  <p:cNvPr id="6453" name=""/>
                  <p:cNvSpPr/>
                  <p:nvPr/>
                </p:nvSpPr>
                <p:spPr>
                  <a:xfrm>
                    <a:off x="6681240" y="1921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4" name=""/>
                  <p:cNvSpPr/>
                  <p:nvPr/>
                </p:nvSpPr>
                <p:spPr>
                  <a:xfrm flipH="1" flipV="1">
                    <a:off x="6708240" y="19742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5" name=""/>
                  <p:cNvSpPr/>
                  <p:nvPr/>
                </p:nvSpPr>
                <p:spPr>
                  <a:xfrm flipH="1" flipV="1">
                    <a:off x="6743880" y="20080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6" name=""/>
                  <p:cNvSpPr/>
                  <p:nvPr/>
                </p:nvSpPr>
                <p:spPr>
                  <a:xfrm flipH="1" flipV="1">
                    <a:off x="6714000" y="2007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7" name=""/>
                  <p:cNvSpPr/>
                  <p:nvPr/>
                </p:nvSpPr>
                <p:spPr>
                  <a:xfrm flipH="1" flipV="1">
                    <a:off x="6720480" y="19807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58" name=""/>
                <p:cNvGrpSpPr/>
                <p:nvPr/>
              </p:nvGrpSpPr>
              <p:grpSpPr>
                <a:xfrm>
                  <a:off x="6496560" y="2186640"/>
                  <a:ext cx="143640" cy="118080"/>
                  <a:chOff x="6496560" y="2186640"/>
                  <a:chExt cx="143640" cy="118080"/>
                </a:xfrm>
              </p:grpSpPr>
              <p:sp>
                <p:nvSpPr>
                  <p:cNvPr id="6459" name=""/>
                  <p:cNvSpPr/>
                  <p:nvPr/>
                </p:nvSpPr>
                <p:spPr>
                  <a:xfrm rot="15769200">
                    <a:off x="6517080" y="2179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0" name=""/>
                  <p:cNvSpPr/>
                  <p:nvPr/>
                </p:nvSpPr>
                <p:spPr>
                  <a:xfrm flipH="1">
                    <a:off x="6550560" y="219204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1" name=""/>
                  <p:cNvSpPr/>
                  <p:nvPr/>
                </p:nvSpPr>
                <p:spPr>
                  <a:xfrm flipH="1">
                    <a:off x="6574680" y="221508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2" name=""/>
                  <p:cNvSpPr/>
                  <p:nvPr/>
                </p:nvSpPr>
                <p:spPr>
                  <a:xfrm flipH="1">
                    <a:off x="6579000" y="223668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3" name=""/>
                  <p:cNvSpPr/>
                  <p:nvPr/>
                </p:nvSpPr>
                <p:spPr>
                  <a:xfrm flipH="1">
                    <a:off x="6554880" y="224568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4" name=""/>
                <p:cNvGrpSpPr/>
                <p:nvPr/>
              </p:nvGrpSpPr>
              <p:grpSpPr>
                <a:xfrm>
                  <a:off x="6423120" y="1853280"/>
                  <a:ext cx="88920" cy="151920"/>
                  <a:chOff x="6423120" y="1853280"/>
                  <a:chExt cx="88920" cy="151920"/>
                </a:xfrm>
              </p:grpSpPr>
              <p:sp>
                <p:nvSpPr>
                  <p:cNvPr id="6465" name=""/>
                  <p:cNvSpPr/>
                  <p:nvPr/>
                </p:nvSpPr>
                <p:spPr>
                  <a:xfrm>
                    <a:off x="6423120" y="1853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6" name=""/>
                  <p:cNvSpPr/>
                  <p:nvPr/>
                </p:nvSpPr>
                <p:spPr>
                  <a:xfrm flipH="1" flipV="1">
                    <a:off x="6450120" y="19062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7" name=""/>
                  <p:cNvSpPr/>
                  <p:nvPr/>
                </p:nvSpPr>
                <p:spPr>
                  <a:xfrm flipH="1" flipV="1">
                    <a:off x="6485760" y="1940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8" name=""/>
                  <p:cNvSpPr/>
                  <p:nvPr/>
                </p:nvSpPr>
                <p:spPr>
                  <a:xfrm flipH="1" flipV="1">
                    <a:off x="6455880" y="1939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9" name=""/>
                  <p:cNvSpPr/>
                  <p:nvPr/>
                </p:nvSpPr>
                <p:spPr>
                  <a:xfrm flipH="1" flipV="1">
                    <a:off x="6462360" y="1912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0" name=""/>
                <p:cNvGrpSpPr/>
                <p:nvPr/>
              </p:nvGrpSpPr>
              <p:grpSpPr>
                <a:xfrm>
                  <a:off x="6760440" y="1898280"/>
                  <a:ext cx="88920" cy="151920"/>
                  <a:chOff x="6760440" y="1898280"/>
                  <a:chExt cx="88920" cy="151920"/>
                </a:xfrm>
              </p:grpSpPr>
              <p:sp>
                <p:nvSpPr>
                  <p:cNvPr id="6471" name=""/>
                  <p:cNvSpPr/>
                  <p:nvPr/>
                </p:nvSpPr>
                <p:spPr>
                  <a:xfrm>
                    <a:off x="6760440" y="1898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2" name=""/>
                  <p:cNvSpPr/>
                  <p:nvPr/>
                </p:nvSpPr>
                <p:spPr>
                  <a:xfrm flipH="1" flipV="1">
                    <a:off x="6787440" y="19512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3" name=""/>
                  <p:cNvSpPr/>
                  <p:nvPr/>
                </p:nvSpPr>
                <p:spPr>
                  <a:xfrm flipH="1" flipV="1">
                    <a:off x="6823080" y="1985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4" name=""/>
                  <p:cNvSpPr/>
                  <p:nvPr/>
                </p:nvSpPr>
                <p:spPr>
                  <a:xfrm flipH="1" flipV="1">
                    <a:off x="6793200" y="1984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5" name=""/>
                  <p:cNvSpPr/>
                  <p:nvPr/>
                </p:nvSpPr>
                <p:spPr>
                  <a:xfrm flipH="1" flipV="1">
                    <a:off x="6799680" y="1957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76" name=""/>
                <p:cNvGrpSpPr/>
                <p:nvPr/>
              </p:nvGrpSpPr>
              <p:grpSpPr>
                <a:xfrm>
                  <a:off x="6482880" y="1807560"/>
                  <a:ext cx="88920" cy="151920"/>
                  <a:chOff x="6482880" y="1807560"/>
                  <a:chExt cx="88920" cy="151920"/>
                </a:xfrm>
              </p:grpSpPr>
              <p:sp>
                <p:nvSpPr>
                  <p:cNvPr id="6477" name=""/>
                  <p:cNvSpPr/>
                  <p:nvPr/>
                </p:nvSpPr>
                <p:spPr>
                  <a:xfrm>
                    <a:off x="6482880" y="1807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8" name=""/>
                  <p:cNvSpPr/>
                  <p:nvPr/>
                </p:nvSpPr>
                <p:spPr>
                  <a:xfrm flipH="1" flipV="1">
                    <a:off x="6509880" y="1860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9" name=""/>
                  <p:cNvSpPr/>
                  <p:nvPr/>
                </p:nvSpPr>
                <p:spPr>
                  <a:xfrm flipH="1" flipV="1">
                    <a:off x="6545520" y="1894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0" name=""/>
                  <p:cNvSpPr/>
                  <p:nvPr/>
                </p:nvSpPr>
                <p:spPr>
                  <a:xfrm flipH="1" flipV="1">
                    <a:off x="6515640" y="1893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1" name=""/>
                  <p:cNvSpPr/>
                  <p:nvPr/>
                </p:nvSpPr>
                <p:spPr>
                  <a:xfrm flipH="1" flipV="1">
                    <a:off x="6522120" y="186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2" name=""/>
                <p:cNvGrpSpPr/>
                <p:nvPr/>
              </p:nvGrpSpPr>
              <p:grpSpPr>
                <a:xfrm>
                  <a:off x="6669360" y="2246400"/>
                  <a:ext cx="156240" cy="135720"/>
                  <a:chOff x="6669360" y="2246400"/>
                  <a:chExt cx="156240" cy="135720"/>
                </a:xfrm>
              </p:grpSpPr>
              <p:sp>
                <p:nvSpPr>
                  <p:cNvPr id="6483" name=""/>
                  <p:cNvSpPr/>
                  <p:nvPr/>
                </p:nvSpPr>
                <p:spPr>
                  <a:xfrm rot="15198000">
                    <a:off x="6696000" y="2247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4" name=""/>
                  <p:cNvSpPr/>
                  <p:nvPr/>
                </p:nvSpPr>
                <p:spPr>
                  <a:xfrm flipH="1">
                    <a:off x="6733440" y="225288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5" name=""/>
                  <p:cNvSpPr/>
                  <p:nvPr/>
                </p:nvSpPr>
                <p:spPr>
                  <a:xfrm flipH="1">
                    <a:off x="6749640" y="228024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6" name=""/>
                  <p:cNvSpPr/>
                  <p:nvPr/>
                </p:nvSpPr>
                <p:spPr>
                  <a:xfrm>
                    <a:off x="6759360" y="230292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"/>
                  <p:cNvSpPr/>
                  <p:nvPr/>
                </p:nvSpPr>
                <p:spPr>
                  <a:xfrm flipH="1">
                    <a:off x="6735600" y="231444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8" name=""/>
                <p:cNvGrpSpPr/>
                <p:nvPr/>
              </p:nvGrpSpPr>
              <p:grpSpPr>
                <a:xfrm>
                  <a:off x="6564960" y="2213640"/>
                  <a:ext cx="165960" cy="155520"/>
                  <a:chOff x="6564960" y="2213640"/>
                  <a:chExt cx="165960" cy="155520"/>
                </a:xfrm>
              </p:grpSpPr>
              <p:sp>
                <p:nvSpPr>
                  <p:cNvPr id="6489" name=""/>
                  <p:cNvSpPr/>
                  <p:nvPr/>
                </p:nvSpPr>
                <p:spPr>
                  <a:xfrm rot="14358600">
                    <a:off x="6596640" y="2225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0" name=""/>
                  <p:cNvSpPr/>
                  <p:nvPr/>
                </p:nvSpPr>
                <p:spPr>
                  <a:xfrm flipH="1">
                    <a:off x="6640560" y="222228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1" name=""/>
                  <p:cNvSpPr/>
                  <p:nvPr/>
                </p:nvSpPr>
                <p:spPr>
                  <a:xfrm flipH="1">
                    <a:off x="6644880" y="22543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2" name=""/>
                  <p:cNvSpPr/>
                  <p:nvPr/>
                </p:nvSpPr>
                <p:spPr>
                  <a:xfrm>
                    <a:off x="6657120" y="22773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3" name=""/>
                  <p:cNvSpPr/>
                  <p:nvPr/>
                </p:nvSpPr>
                <p:spPr>
                  <a:xfrm flipH="1">
                    <a:off x="6638760" y="229248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4" name=""/>
                <p:cNvGrpSpPr/>
                <p:nvPr/>
              </p:nvGrpSpPr>
              <p:grpSpPr>
                <a:xfrm>
                  <a:off x="6361200" y="2031480"/>
                  <a:ext cx="137520" cy="109440"/>
                  <a:chOff x="6361200" y="2031480"/>
                  <a:chExt cx="137520" cy="109440"/>
                </a:xfrm>
              </p:grpSpPr>
              <p:sp>
                <p:nvSpPr>
                  <p:cNvPr id="6495" name=""/>
                  <p:cNvSpPr/>
                  <p:nvPr/>
                </p:nvSpPr>
                <p:spPr>
                  <a:xfrm rot="16010400">
                    <a:off x="6378840" y="2019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6" name=""/>
                  <p:cNvSpPr/>
                  <p:nvPr/>
                </p:nvSpPr>
                <p:spPr>
                  <a:xfrm flipH="1">
                    <a:off x="6410880" y="203616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7" name=""/>
                  <p:cNvSpPr/>
                  <p:nvPr/>
                </p:nvSpPr>
                <p:spPr>
                  <a:xfrm flipH="1">
                    <a:off x="6437880" y="20574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8" name=""/>
                  <p:cNvSpPr/>
                  <p:nvPr/>
                </p:nvSpPr>
                <p:spPr>
                  <a:xfrm flipH="1">
                    <a:off x="6440040" y="20782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9" name=""/>
                  <p:cNvSpPr/>
                  <p:nvPr/>
                </p:nvSpPr>
                <p:spPr>
                  <a:xfrm flipH="1">
                    <a:off x="6416280" y="20858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0" name=""/>
                <p:cNvGrpSpPr/>
                <p:nvPr/>
              </p:nvGrpSpPr>
              <p:grpSpPr>
                <a:xfrm>
                  <a:off x="6369120" y="2104920"/>
                  <a:ext cx="160560" cy="144360"/>
                  <a:chOff x="6369120" y="2104920"/>
                  <a:chExt cx="160560" cy="144360"/>
                </a:xfrm>
              </p:grpSpPr>
              <p:sp>
                <p:nvSpPr>
                  <p:cNvPr id="6501" name=""/>
                  <p:cNvSpPr/>
                  <p:nvPr/>
                </p:nvSpPr>
                <p:spPr>
                  <a:xfrm rot="14881800">
                    <a:off x="6398280" y="2111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2" name=""/>
                  <p:cNvSpPr/>
                  <p:nvPr/>
                </p:nvSpPr>
                <p:spPr>
                  <a:xfrm flipH="1">
                    <a:off x="6438240" y="211248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3" name=""/>
                  <p:cNvSpPr/>
                  <p:nvPr/>
                </p:nvSpPr>
                <p:spPr>
                  <a:xfrm flipH="1">
                    <a:off x="6449760" y="214200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4" name=""/>
                  <p:cNvSpPr/>
                  <p:nvPr/>
                </p:nvSpPr>
                <p:spPr>
                  <a:xfrm>
                    <a:off x="6460560" y="216504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"/>
                  <p:cNvSpPr/>
                  <p:nvPr/>
                </p:nvSpPr>
                <p:spPr>
                  <a:xfrm flipH="1">
                    <a:off x="6438600" y="21780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6" name=""/>
                <p:cNvGrpSpPr/>
                <p:nvPr/>
              </p:nvGrpSpPr>
              <p:grpSpPr>
                <a:xfrm>
                  <a:off x="6473160" y="2089080"/>
                  <a:ext cx="151920" cy="129960"/>
                  <a:chOff x="6473160" y="2089080"/>
                  <a:chExt cx="151920" cy="129960"/>
                </a:xfrm>
              </p:grpSpPr>
              <p:sp>
                <p:nvSpPr>
                  <p:cNvPr id="6507" name=""/>
                  <p:cNvSpPr/>
                  <p:nvPr/>
                </p:nvSpPr>
                <p:spPr>
                  <a:xfrm rot="15401400">
                    <a:off x="6497640" y="2088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8" name=""/>
                  <p:cNvSpPr/>
                  <p:nvPr/>
                </p:nvSpPr>
                <p:spPr>
                  <a:xfrm flipH="1">
                    <a:off x="6533640" y="209556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9" name=""/>
                  <p:cNvSpPr/>
                  <p:nvPr/>
                </p:nvSpPr>
                <p:spPr>
                  <a:xfrm flipH="1">
                    <a:off x="6552720" y="212148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0" name=""/>
                  <p:cNvSpPr/>
                  <p:nvPr/>
                </p:nvSpPr>
                <p:spPr>
                  <a:xfrm flipH="1">
                    <a:off x="6561000" y="214380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1" name=""/>
                  <p:cNvSpPr/>
                  <p:nvPr/>
                </p:nvSpPr>
                <p:spPr>
                  <a:xfrm flipH="1">
                    <a:off x="6536520" y="215460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2" name=""/>
                <p:cNvGrpSpPr/>
                <p:nvPr/>
              </p:nvGrpSpPr>
              <p:grpSpPr>
                <a:xfrm>
                  <a:off x="6433200" y="1930320"/>
                  <a:ext cx="151920" cy="129600"/>
                  <a:chOff x="6433200" y="1930320"/>
                  <a:chExt cx="151920" cy="129600"/>
                </a:xfrm>
              </p:grpSpPr>
              <p:sp>
                <p:nvSpPr>
                  <p:cNvPr id="6513" name=""/>
                  <p:cNvSpPr/>
                  <p:nvPr/>
                </p:nvSpPr>
                <p:spPr>
                  <a:xfrm rot="16985400">
                    <a:off x="6457680" y="1928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"/>
                  <p:cNvSpPr/>
                  <p:nvPr/>
                </p:nvSpPr>
                <p:spPr>
                  <a:xfrm flipH="1">
                    <a:off x="6484680" y="196200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5" name=""/>
                  <p:cNvSpPr/>
                  <p:nvPr/>
                </p:nvSpPr>
                <p:spPr>
                  <a:xfrm flipH="1">
                    <a:off x="6522120" y="19746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6" name=""/>
                  <p:cNvSpPr/>
                  <p:nvPr/>
                </p:nvSpPr>
                <p:spPr>
                  <a:xfrm flipH="1">
                    <a:off x="6514920" y="19915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7" name=""/>
                  <p:cNvSpPr/>
                  <p:nvPr/>
                </p:nvSpPr>
                <p:spPr>
                  <a:xfrm flipH="1">
                    <a:off x="6493680" y="199404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8" name=""/>
                <p:cNvGrpSpPr/>
                <p:nvPr/>
              </p:nvGrpSpPr>
              <p:grpSpPr>
                <a:xfrm>
                  <a:off x="6641280" y="1956240"/>
                  <a:ext cx="168480" cy="172080"/>
                  <a:chOff x="6641280" y="1956240"/>
                  <a:chExt cx="168480" cy="172080"/>
                </a:xfrm>
              </p:grpSpPr>
              <p:sp>
                <p:nvSpPr>
                  <p:cNvPr id="6519" name=""/>
                  <p:cNvSpPr/>
                  <p:nvPr/>
                </p:nvSpPr>
                <p:spPr>
                  <a:xfrm rot="19036200">
                    <a:off x="6680880" y="1966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0" name=""/>
                  <p:cNvSpPr/>
                  <p:nvPr/>
                </p:nvSpPr>
                <p:spPr>
                  <a:xfrm flipH="1" flipV="1">
                    <a:off x="6697080" y="203760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1" name=""/>
                  <p:cNvSpPr/>
                  <p:nvPr/>
                </p:nvSpPr>
                <p:spPr>
                  <a:xfrm flipH="1" flipV="1">
                    <a:off x="6746400" y="20379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2" name=""/>
                  <p:cNvSpPr/>
                  <p:nvPr/>
                </p:nvSpPr>
                <p:spPr>
                  <a:xfrm flipH="1">
                    <a:off x="6724080" y="2051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"/>
                  <p:cNvSpPr/>
                  <p:nvPr/>
                </p:nvSpPr>
                <p:spPr>
                  <a:xfrm flipH="1" flipV="1">
                    <a:off x="6710760" y="203400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4" name=""/>
                <p:cNvGrpSpPr/>
                <p:nvPr/>
              </p:nvGrpSpPr>
              <p:grpSpPr>
                <a:xfrm>
                  <a:off x="6826320" y="1879200"/>
                  <a:ext cx="158760" cy="140400"/>
                  <a:chOff x="6826320" y="1879200"/>
                  <a:chExt cx="158760" cy="140400"/>
                </a:xfrm>
              </p:grpSpPr>
              <p:sp>
                <p:nvSpPr>
                  <p:cNvPr id="6525" name=""/>
                  <p:cNvSpPr/>
                  <p:nvPr/>
                </p:nvSpPr>
                <p:spPr>
                  <a:xfrm rot="4233000">
                    <a:off x="6854400" y="1883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6" name=""/>
                  <p:cNvSpPr/>
                  <p:nvPr/>
                </p:nvSpPr>
                <p:spPr>
                  <a:xfrm flipV="1">
                    <a:off x="6868800" y="192384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7" name=""/>
                  <p:cNvSpPr/>
                  <p:nvPr/>
                </p:nvSpPr>
                <p:spPr>
                  <a:xfrm flipV="1">
                    <a:off x="6890040" y="197208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8" name=""/>
                  <p:cNvSpPr/>
                  <p:nvPr/>
                </p:nvSpPr>
                <p:spPr>
                  <a:xfrm flipH="1" flipV="1">
                    <a:off x="6892560" y="194040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9" name=""/>
                  <p:cNvSpPr/>
                  <p:nvPr/>
                </p:nvSpPr>
                <p:spPr>
                  <a:xfrm flipV="1">
                    <a:off x="6908400" y="193896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0" name=""/>
                <p:cNvGrpSpPr/>
                <p:nvPr/>
              </p:nvGrpSpPr>
              <p:grpSpPr>
                <a:xfrm>
                  <a:off x="6906240" y="1995120"/>
                  <a:ext cx="156600" cy="137160"/>
                  <a:chOff x="6906240" y="1995120"/>
                  <a:chExt cx="156600" cy="137160"/>
                </a:xfrm>
              </p:grpSpPr>
              <p:sp>
                <p:nvSpPr>
                  <p:cNvPr id="6531" name=""/>
                  <p:cNvSpPr/>
                  <p:nvPr/>
                </p:nvSpPr>
                <p:spPr>
                  <a:xfrm rot="4353000">
                    <a:off x="6933240" y="199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"/>
                  <p:cNvSpPr/>
                  <p:nvPr/>
                </p:nvSpPr>
                <p:spPr>
                  <a:xfrm flipV="1">
                    <a:off x="6945120" y="203832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3" name=""/>
                  <p:cNvSpPr/>
                  <p:nvPr/>
                </p:nvSpPr>
                <p:spPr>
                  <a:xfrm flipV="1">
                    <a:off x="6967440" y="20862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4" name=""/>
                  <p:cNvSpPr/>
                  <p:nvPr/>
                </p:nvSpPr>
                <p:spPr>
                  <a:xfrm flipH="1" flipV="1">
                    <a:off x="6971760" y="20538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5" name=""/>
                  <p:cNvSpPr/>
                  <p:nvPr/>
                </p:nvSpPr>
                <p:spPr>
                  <a:xfrm flipV="1">
                    <a:off x="6987240" y="205344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36" name=""/>
                <p:cNvGrpSpPr/>
                <p:nvPr/>
              </p:nvGrpSpPr>
              <p:grpSpPr>
                <a:xfrm>
                  <a:off x="6645960" y="2114280"/>
                  <a:ext cx="159480" cy="175320"/>
                  <a:chOff x="6645960" y="2114280"/>
                  <a:chExt cx="159480" cy="175320"/>
                </a:xfrm>
              </p:grpSpPr>
              <p:sp>
                <p:nvSpPr>
                  <p:cNvPr id="6537" name=""/>
                  <p:cNvSpPr/>
                  <p:nvPr/>
                </p:nvSpPr>
                <p:spPr>
                  <a:xfrm rot="19525800">
                    <a:off x="6680880" y="2125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8" name=""/>
                  <p:cNvSpPr/>
                  <p:nvPr/>
                </p:nvSpPr>
                <p:spPr>
                  <a:xfrm flipH="1" flipV="1">
                    <a:off x="6698160" y="219312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9" name=""/>
                  <p:cNvSpPr/>
                  <p:nvPr/>
                </p:nvSpPr>
                <p:spPr>
                  <a:xfrm flipH="1" flipV="1">
                    <a:off x="6746760" y="220068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0" name=""/>
                  <p:cNvSpPr/>
                  <p:nvPr/>
                </p:nvSpPr>
                <p:spPr>
                  <a:xfrm flipH="1">
                    <a:off x="6721920" y="22129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"/>
                  <p:cNvSpPr/>
                  <p:nvPr/>
                </p:nvSpPr>
                <p:spPr>
                  <a:xfrm flipH="1" flipV="1">
                    <a:off x="6711840" y="219132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2" name=""/>
                <p:cNvGrpSpPr/>
                <p:nvPr/>
              </p:nvGrpSpPr>
              <p:grpSpPr>
                <a:xfrm>
                  <a:off x="6485400" y="2094840"/>
                  <a:ext cx="165600" cy="165600"/>
                  <a:chOff x="6485400" y="2094840"/>
                  <a:chExt cx="165600" cy="165600"/>
                </a:xfrm>
              </p:grpSpPr>
              <p:sp>
                <p:nvSpPr>
                  <p:cNvPr id="6543" name=""/>
                  <p:cNvSpPr/>
                  <p:nvPr/>
                </p:nvSpPr>
                <p:spPr>
                  <a:xfrm rot="18890400">
                    <a:off x="6517080" y="2111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4" name=""/>
                  <p:cNvSpPr/>
                  <p:nvPr/>
                </p:nvSpPr>
                <p:spPr>
                  <a:xfrm flipH="1" flipV="1">
                    <a:off x="6539760" y="217728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5" name=""/>
                  <p:cNvSpPr/>
                  <p:nvPr/>
                </p:nvSpPr>
                <p:spPr>
                  <a:xfrm flipH="1" flipV="1">
                    <a:off x="6589440" y="216900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6" name=""/>
                  <p:cNvSpPr/>
                  <p:nvPr/>
                </p:nvSpPr>
                <p:spPr>
                  <a:xfrm flipH="1">
                    <a:off x="6565680" y="218268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7" name=""/>
                  <p:cNvSpPr/>
                  <p:nvPr/>
                </p:nvSpPr>
                <p:spPr>
                  <a:xfrm flipH="1" flipV="1">
                    <a:off x="6553800" y="217188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48" name=""/>
                <p:cNvGrpSpPr/>
                <p:nvPr/>
              </p:nvGrpSpPr>
              <p:grpSpPr>
                <a:xfrm>
                  <a:off x="6346800" y="2004120"/>
                  <a:ext cx="166680" cy="164160"/>
                  <a:chOff x="6346800" y="2004120"/>
                  <a:chExt cx="166680" cy="164160"/>
                </a:xfrm>
              </p:grpSpPr>
              <p:sp>
                <p:nvSpPr>
                  <p:cNvPr id="6549" name=""/>
                  <p:cNvSpPr/>
                  <p:nvPr/>
                </p:nvSpPr>
                <p:spPr>
                  <a:xfrm rot="18730200">
                    <a:off x="6378840" y="2019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"/>
                  <p:cNvSpPr/>
                  <p:nvPr/>
                </p:nvSpPr>
                <p:spPr>
                  <a:xfrm flipH="1" flipV="1">
                    <a:off x="6401520" y="208764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1" name=""/>
                  <p:cNvSpPr/>
                  <p:nvPr/>
                </p:nvSpPr>
                <p:spPr>
                  <a:xfrm flipH="1" flipV="1">
                    <a:off x="6450480" y="2076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2" name=""/>
                  <p:cNvSpPr/>
                  <p:nvPr/>
                </p:nvSpPr>
                <p:spPr>
                  <a:xfrm flipH="1">
                    <a:off x="6428160" y="20908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3" name=""/>
                  <p:cNvSpPr/>
                  <p:nvPr/>
                </p:nvSpPr>
                <p:spPr>
                  <a:xfrm flipH="1" flipV="1">
                    <a:off x="6415560" y="208116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4" name=""/>
                <p:cNvGrpSpPr/>
                <p:nvPr/>
              </p:nvGrpSpPr>
              <p:grpSpPr>
                <a:xfrm>
                  <a:off x="6327000" y="1909800"/>
                  <a:ext cx="162720" cy="174960"/>
                  <a:chOff x="6327000" y="1909800"/>
                  <a:chExt cx="162720" cy="174960"/>
                </a:xfrm>
              </p:grpSpPr>
              <p:sp>
                <p:nvSpPr>
                  <p:cNvPr id="6555" name=""/>
                  <p:cNvSpPr/>
                  <p:nvPr/>
                </p:nvSpPr>
                <p:spPr>
                  <a:xfrm rot="19362600">
                    <a:off x="6363720" y="1921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6" name=""/>
                  <p:cNvSpPr/>
                  <p:nvPr/>
                </p:nvSpPr>
                <p:spPr>
                  <a:xfrm flipH="1" flipV="1">
                    <a:off x="6380640" y="198936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7" name=""/>
                  <p:cNvSpPr/>
                  <p:nvPr/>
                </p:nvSpPr>
                <p:spPr>
                  <a:xfrm flipH="1" flipV="1">
                    <a:off x="6429600" y="19947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8" name=""/>
                  <p:cNvSpPr/>
                  <p:nvPr/>
                </p:nvSpPr>
                <p:spPr>
                  <a:xfrm flipH="1">
                    <a:off x="6405480" y="20073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"/>
                  <p:cNvSpPr/>
                  <p:nvPr/>
                </p:nvSpPr>
                <p:spPr>
                  <a:xfrm flipH="1" flipV="1">
                    <a:off x="6394320" y="198720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60" name=""/>
              <p:cNvGrpSpPr/>
              <p:nvPr/>
            </p:nvGrpSpPr>
            <p:grpSpPr>
              <a:xfrm>
                <a:off x="6941160" y="1772640"/>
                <a:ext cx="735840" cy="609480"/>
                <a:chOff x="6941160" y="1772640"/>
                <a:chExt cx="735840" cy="609480"/>
              </a:xfrm>
            </p:grpSpPr>
            <p:grpSp>
              <p:nvGrpSpPr>
                <p:cNvPr id="6561" name=""/>
                <p:cNvGrpSpPr/>
                <p:nvPr/>
              </p:nvGrpSpPr>
              <p:grpSpPr>
                <a:xfrm>
                  <a:off x="7239240" y="1851480"/>
                  <a:ext cx="163800" cy="150480"/>
                  <a:chOff x="7239240" y="1851480"/>
                  <a:chExt cx="163800" cy="150480"/>
                </a:xfrm>
              </p:grpSpPr>
              <p:sp>
                <p:nvSpPr>
                  <p:cNvPr id="6562" name=""/>
                  <p:cNvSpPr/>
                  <p:nvPr/>
                </p:nvSpPr>
                <p:spPr>
                  <a:xfrm rot="3815400">
                    <a:off x="7269840" y="1860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3" name=""/>
                  <p:cNvSpPr/>
                  <p:nvPr/>
                </p:nvSpPr>
                <p:spPr>
                  <a:xfrm flipV="1">
                    <a:off x="7292160" y="189972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4" name=""/>
                  <p:cNvSpPr/>
                  <p:nvPr/>
                </p:nvSpPr>
                <p:spPr>
                  <a:xfrm flipV="1">
                    <a:off x="7309800" y="194940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5" name=""/>
                  <p:cNvSpPr/>
                  <p:nvPr/>
                </p:nvSpPr>
                <p:spPr>
                  <a:xfrm flipH="1" flipV="1">
                    <a:off x="7307280" y="19191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6" name=""/>
                  <p:cNvSpPr/>
                  <p:nvPr/>
                </p:nvSpPr>
                <p:spPr>
                  <a:xfrm flipV="1">
                    <a:off x="7323840" y="191484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7" name=""/>
                <p:cNvSpPr/>
                <p:nvPr/>
              </p:nvSpPr>
              <p:spPr>
                <a:xfrm flipH="1">
                  <a:off x="7235640" y="214884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8" name=""/>
                <p:cNvSpPr/>
                <p:nvPr/>
              </p:nvSpPr>
              <p:spPr>
                <a:xfrm>
                  <a:off x="7097040" y="20350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9" name=""/>
                <p:cNvSpPr/>
                <p:nvPr/>
              </p:nvSpPr>
              <p:spPr>
                <a:xfrm flipH="1" flipV="1">
                  <a:off x="7215840" y="192132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0" name=""/>
                <p:cNvSpPr/>
                <p:nvPr/>
              </p:nvSpPr>
              <p:spPr>
                <a:xfrm flipH="1" flipV="1">
                  <a:off x="7453800" y="203508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1" name=""/>
                <p:cNvSpPr/>
                <p:nvPr/>
              </p:nvSpPr>
              <p:spPr>
                <a:xfrm flipH="1">
                  <a:off x="7295040" y="217188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2" name=""/>
                <p:cNvSpPr/>
                <p:nvPr/>
              </p:nvSpPr>
              <p:spPr>
                <a:xfrm flipH="1" flipV="1">
                  <a:off x="7334280" y="212616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3" name=""/>
                <p:cNvSpPr/>
                <p:nvPr/>
              </p:nvSpPr>
              <p:spPr>
                <a:xfrm flipH="1" flipV="1">
                  <a:off x="7175520" y="194364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4" name=""/>
                <p:cNvSpPr/>
                <p:nvPr/>
              </p:nvSpPr>
              <p:spPr>
                <a:xfrm flipV="1">
                  <a:off x="7275240" y="196632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 flipH="1">
                  <a:off x="7116480" y="205812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6" name=""/>
                <p:cNvSpPr/>
                <p:nvPr/>
              </p:nvSpPr>
              <p:spPr>
                <a:xfrm flipH="1" flipV="1">
                  <a:off x="7374600" y="205812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7" name=""/>
                <p:cNvSpPr/>
                <p:nvPr/>
              </p:nvSpPr>
              <p:spPr>
                <a:xfrm flipH="1" flipV="1">
                  <a:off x="7414200" y="205776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8" name=""/>
                <p:cNvSpPr/>
                <p:nvPr/>
              </p:nvSpPr>
              <p:spPr>
                <a:xfrm flipV="1">
                  <a:off x="7533000" y="212616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9" name=""/>
                <p:cNvSpPr/>
                <p:nvPr/>
              </p:nvSpPr>
              <p:spPr>
                <a:xfrm flipV="1">
                  <a:off x="7473600" y="201204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 flipH="1">
                  <a:off x="7413840" y="221724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1" name=""/>
                <p:cNvSpPr/>
                <p:nvPr/>
              </p:nvSpPr>
              <p:spPr>
                <a:xfrm flipH="1">
                  <a:off x="7195680" y="208044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2" name=""/>
                <p:cNvSpPr/>
                <p:nvPr/>
              </p:nvSpPr>
              <p:spPr>
                <a:xfrm flipH="1" flipV="1">
                  <a:off x="7116120" y="198936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83" name=""/>
                <p:cNvGrpSpPr/>
                <p:nvPr/>
              </p:nvGrpSpPr>
              <p:grpSpPr>
                <a:xfrm>
                  <a:off x="7144560" y="1772640"/>
                  <a:ext cx="151560" cy="176040"/>
                  <a:chOff x="7144560" y="1772640"/>
                  <a:chExt cx="151560" cy="176040"/>
                </a:xfrm>
              </p:grpSpPr>
              <p:sp>
                <p:nvSpPr>
                  <p:cNvPr id="6584" name=""/>
                  <p:cNvSpPr/>
                  <p:nvPr/>
                </p:nvSpPr>
                <p:spPr>
                  <a:xfrm rot="1745400">
                    <a:off x="7175520" y="1784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5" name=""/>
                  <p:cNvSpPr/>
                  <p:nvPr/>
                </p:nvSpPr>
                <p:spPr>
                  <a:xfrm flipH="1" flipV="1">
                    <a:off x="7216200" y="183204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6" name=""/>
                  <p:cNvSpPr/>
                  <p:nvPr/>
                </p:nvSpPr>
                <p:spPr>
                  <a:xfrm flipV="1">
                    <a:off x="7226280" y="1878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7" name=""/>
                  <p:cNvSpPr/>
                  <p:nvPr/>
                </p:nvSpPr>
                <p:spPr>
                  <a:xfrm flipH="1" flipV="1">
                    <a:off x="7205040" y="186408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"/>
                  <p:cNvSpPr/>
                  <p:nvPr/>
                </p:nvSpPr>
                <p:spPr>
                  <a:xfrm flipV="1">
                    <a:off x="7222320" y="18435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9" name=""/>
                <p:cNvGrpSpPr/>
                <p:nvPr/>
              </p:nvGrpSpPr>
              <p:grpSpPr>
                <a:xfrm>
                  <a:off x="7209360" y="2000880"/>
                  <a:ext cx="142200" cy="174960"/>
                  <a:chOff x="7209360" y="2000880"/>
                  <a:chExt cx="142200" cy="174960"/>
                </a:xfrm>
              </p:grpSpPr>
              <p:sp>
                <p:nvSpPr>
                  <p:cNvPr id="6590" name=""/>
                  <p:cNvSpPr/>
                  <p:nvPr/>
                </p:nvSpPr>
                <p:spPr>
                  <a:xfrm rot="20187000">
                    <a:off x="7236000" y="2012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1" name=""/>
                  <p:cNvSpPr/>
                  <p:nvPr/>
                </p:nvSpPr>
                <p:spPr>
                  <a:xfrm flipH="1" flipV="1">
                    <a:off x="7255080" y="207432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2" name=""/>
                  <p:cNvSpPr/>
                  <p:nvPr/>
                </p:nvSpPr>
                <p:spPr>
                  <a:xfrm flipH="1" flipV="1">
                    <a:off x="7301520" y="20908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3" name=""/>
                  <p:cNvSpPr/>
                  <p:nvPr/>
                </p:nvSpPr>
                <p:spPr>
                  <a:xfrm flipH="1">
                    <a:off x="7273800" y="210168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4" name=""/>
                  <p:cNvSpPr/>
                  <p:nvPr/>
                </p:nvSpPr>
                <p:spPr>
                  <a:xfrm flipH="1" flipV="1">
                    <a:off x="7269120" y="207504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95" name=""/>
                <p:cNvGrpSpPr/>
                <p:nvPr/>
              </p:nvGrpSpPr>
              <p:grpSpPr>
                <a:xfrm>
                  <a:off x="7295400" y="1921320"/>
                  <a:ext cx="88920" cy="151920"/>
                  <a:chOff x="7295400" y="1921320"/>
                  <a:chExt cx="88920" cy="151920"/>
                </a:xfrm>
              </p:grpSpPr>
              <p:sp>
                <p:nvSpPr>
                  <p:cNvPr id="6596" name=""/>
                  <p:cNvSpPr/>
                  <p:nvPr/>
                </p:nvSpPr>
                <p:spPr>
                  <a:xfrm>
                    <a:off x="7295400" y="1921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"/>
                  <p:cNvSpPr/>
                  <p:nvPr/>
                </p:nvSpPr>
                <p:spPr>
                  <a:xfrm flipH="1" flipV="1">
                    <a:off x="7322400" y="19742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8" name=""/>
                  <p:cNvSpPr/>
                  <p:nvPr/>
                </p:nvSpPr>
                <p:spPr>
                  <a:xfrm flipH="1" flipV="1">
                    <a:off x="7358040" y="20080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9" name=""/>
                  <p:cNvSpPr/>
                  <p:nvPr/>
                </p:nvSpPr>
                <p:spPr>
                  <a:xfrm flipH="1" flipV="1">
                    <a:off x="7328160" y="2007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0" name=""/>
                  <p:cNvSpPr/>
                  <p:nvPr/>
                </p:nvSpPr>
                <p:spPr>
                  <a:xfrm flipH="1" flipV="1">
                    <a:off x="7334640" y="19807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1" name=""/>
                <p:cNvGrpSpPr/>
                <p:nvPr/>
              </p:nvGrpSpPr>
              <p:grpSpPr>
                <a:xfrm>
                  <a:off x="7110720" y="2186640"/>
                  <a:ext cx="143640" cy="118080"/>
                  <a:chOff x="7110720" y="2186640"/>
                  <a:chExt cx="143640" cy="118080"/>
                </a:xfrm>
              </p:grpSpPr>
              <p:sp>
                <p:nvSpPr>
                  <p:cNvPr id="6602" name=""/>
                  <p:cNvSpPr/>
                  <p:nvPr/>
                </p:nvSpPr>
                <p:spPr>
                  <a:xfrm rot="15769200">
                    <a:off x="7131240" y="2179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3" name=""/>
                  <p:cNvSpPr/>
                  <p:nvPr/>
                </p:nvSpPr>
                <p:spPr>
                  <a:xfrm flipH="1">
                    <a:off x="7164720" y="219204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4" name=""/>
                  <p:cNvSpPr/>
                  <p:nvPr/>
                </p:nvSpPr>
                <p:spPr>
                  <a:xfrm flipH="1">
                    <a:off x="7188840" y="221508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5" name=""/>
                  <p:cNvSpPr/>
                  <p:nvPr/>
                </p:nvSpPr>
                <p:spPr>
                  <a:xfrm flipH="1">
                    <a:off x="7193160" y="223668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"/>
                  <p:cNvSpPr/>
                  <p:nvPr/>
                </p:nvSpPr>
                <p:spPr>
                  <a:xfrm flipH="1">
                    <a:off x="7169040" y="224568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7" name=""/>
                <p:cNvGrpSpPr/>
                <p:nvPr/>
              </p:nvGrpSpPr>
              <p:grpSpPr>
                <a:xfrm>
                  <a:off x="7037280" y="1853280"/>
                  <a:ext cx="88920" cy="151920"/>
                  <a:chOff x="7037280" y="1853280"/>
                  <a:chExt cx="88920" cy="151920"/>
                </a:xfrm>
              </p:grpSpPr>
              <p:sp>
                <p:nvSpPr>
                  <p:cNvPr id="6608" name=""/>
                  <p:cNvSpPr/>
                  <p:nvPr/>
                </p:nvSpPr>
                <p:spPr>
                  <a:xfrm>
                    <a:off x="7037280" y="1853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9" name=""/>
                  <p:cNvSpPr/>
                  <p:nvPr/>
                </p:nvSpPr>
                <p:spPr>
                  <a:xfrm flipH="1" flipV="1">
                    <a:off x="7064280" y="19062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0" name=""/>
                  <p:cNvSpPr/>
                  <p:nvPr/>
                </p:nvSpPr>
                <p:spPr>
                  <a:xfrm flipH="1" flipV="1">
                    <a:off x="7099920" y="1940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1" name=""/>
                  <p:cNvSpPr/>
                  <p:nvPr/>
                </p:nvSpPr>
                <p:spPr>
                  <a:xfrm flipH="1" flipV="1">
                    <a:off x="7070040" y="1939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2" name=""/>
                  <p:cNvSpPr/>
                  <p:nvPr/>
                </p:nvSpPr>
                <p:spPr>
                  <a:xfrm flipH="1" flipV="1">
                    <a:off x="7076520" y="1912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3" name=""/>
                <p:cNvGrpSpPr/>
                <p:nvPr/>
              </p:nvGrpSpPr>
              <p:grpSpPr>
                <a:xfrm>
                  <a:off x="7374600" y="1898280"/>
                  <a:ext cx="88920" cy="151920"/>
                  <a:chOff x="7374600" y="1898280"/>
                  <a:chExt cx="88920" cy="151920"/>
                </a:xfrm>
              </p:grpSpPr>
              <p:sp>
                <p:nvSpPr>
                  <p:cNvPr id="6614" name=""/>
                  <p:cNvSpPr/>
                  <p:nvPr/>
                </p:nvSpPr>
                <p:spPr>
                  <a:xfrm>
                    <a:off x="7374600" y="1898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"/>
                  <p:cNvSpPr/>
                  <p:nvPr/>
                </p:nvSpPr>
                <p:spPr>
                  <a:xfrm flipH="1" flipV="1">
                    <a:off x="7401600" y="19512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6" name=""/>
                  <p:cNvSpPr/>
                  <p:nvPr/>
                </p:nvSpPr>
                <p:spPr>
                  <a:xfrm flipH="1" flipV="1">
                    <a:off x="7437240" y="1985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7" name=""/>
                  <p:cNvSpPr/>
                  <p:nvPr/>
                </p:nvSpPr>
                <p:spPr>
                  <a:xfrm flipH="1" flipV="1">
                    <a:off x="7407360" y="19846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8" name=""/>
                  <p:cNvSpPr/>
                  <p:nvPr/>
                </p:nvSpPr>
                <p:spPr>
                  <a:xfrm flipH="1" flipV="1">
                    <a:off x="7413840" y="1957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19" name=""/>
                <p:cNvGrpSpPr/>
                <p:nvPr/>
              </p:nvGrpSpPr>
              <p:grpSpPr>
                <a:xfrm>
                  <a:off x="7097040" y="1807560"/>
                  <a:ext cx="88920" cy="151920"/>
                  <a:chOff x="7097040" y="1807560"/>
                  <a:chExt cx="88920" cy="151920"/>
                </a:xfrm>
              </p:grpSpPr>
              <p:sp>
                <p:nvSpPr>
                  <p:cNvPr id="6620" name=""/>
                  <p:cNvSpPr/>
                  <p:nvPr/>
                </p:nvSpPr>
                <p:spPr>
                  <a:xfrm>
                    <a:off x="7097040" y="1807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1" name=""/>
                  <p:cNvSpPr/>
                  <p:nvPr/>
                </p:nvSpPr>
                <p:spPr>
                  <a:xfrm flipH="1" flipV="1">
                    <a:off x="7124040" y="18604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2" name=""/>
                  <p:cNvSpPr/>
                  <p:nvPr/>
                </p:nvSpPr>
                <p:spPr>
                  <a:xfrm flipH="1" flipV="1">
                    <a:off x="7159680" y="18943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3" name=""/>
                  <p:cNvSpPr/>
                  <p:nvPr/>
                </p:nvSpPr>
                <p:spPr>
                  <a:xfrm flipH="1" flipV="1">
                    <a:off x="7129800" y="18939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"/>
                  <p:cNvSpPr/>
                  <p:nvPr/>
                </p:nvSpPr>
                <p:spPr>
                  <a:xfrm flipH="1" flipV="1">
                    <a:off x="7136280" y="18669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25" name=""/>
                <p:cNvGrpSpPr/>
                <p:nvPr/>
              </p:nvGrpSpPr>
              <p:grpSpPr>
                <a:xfrm>
                  <a:off x="7283520" y="2246400"/>
                  <a:ext cx="156240" cy="135720"/>
                  <a:chOff x="7283520" y="2246400"/>
                  <a:chExt cx="156240" cy="135720"/>
                </a:xfrm>
              </p:grpSpPr>
              <p:sp>
                <p:nvSpPr>
                  <p:cNvPr id="6626" name=""/>
                  <p:cNvSpPr/>
                  <p:nvPr/>
                </p:nvSpPr>
                <p:spPr>
                  <a:xfrm rot="15198000">
                    <a:off x="7310160" y="2247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7" name=""/>
                  <p:cNvSpPr/>
                  <p:nvPr/>
                </p:nvSpPr>
                <p:spPr>
                  <a:xfrm flipH="1">
                    <a:off x="7347600" y="225288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8" name=""/>
                  <p:cNvSpPr/>
                  <p:nvPr/>
                </p:nvSpPr>
                <p:spPr>
                  <a:xfrm flipH="1">
                    <a:off x="7363800" y="228024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9" name=""/>
                  <p:cNvSpPr/>
                  <p:nvPr/>
                </p:nvSpPr>
                <p:spPr>
                  <a:xfrm>
                    <a:off x="7373520" y="230292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0" name=""/>
                  <p:cNvSpPr/>
                  <p:nvPr/>
                </p:nvSpPr>
                <p:spPr>
                  <a:xfrm flipH="1">
                    <a:off x="7349760" y="231444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1" name=""/>
                <p:cNvGrpSpPr/>
                <p:nvPr/>
              </p:nvGrpSpPr>
              <p:grpSpPr>
                <a:xfrm>
                  <a:off x="7179120" y="2213640"/>
                  <a:ext cx="165960" cy="155520"/>
                  <a:chOff x="7179120" y="2213640"/>
                  <a:chExt cx="165960" cy="155520"/>
                </a:xfrm>
              </p:grpSpPr>
              <p:sp>
                <p:nvSpPr>
                  <p:cNvPr id="6632" name=""/>
                  <p:cNvSpPr/>
                  <p:nvPr/>
                </p:nvSpPr>
                <p:spPr>
                  <a:xfrm rot="14358600">
                    <a:off x="7210800" y="2225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"/>
                  <p:cNvSpPr/>
                  <p:nvPr/>
                </p:nvSpPr>
                <p:spPr>
                  <a:xfrm flipH="1">
                    <a:off x="7254720" y="222228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4" name=""/>
                  <p:cNvSpPr/>
                  <p:nvPr/>
                </p:nvSpPr>
                <p:spPr>
                  <a:xfrm flipH="1">
                    <a:off x="7259040" y="22543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5" name=""/>
                  <p:cNvSpPr/>
                  <p:nvPr/>
                </p:nvSpPr>
                <p:spPr>
                  <a:xfrm>
                    <a:off x="7271280" y="22773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6" name=""/>
                  <p:cNvSpPr/>
                  <p:nvPr/>
                </p:nvSpPr>
                <p:spPr>
                  <a:xfrm flipH="1">
                    <a:off x="7252920" y="229248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7" name=""/>
                <p:cNvGrpSpPr/>
                <p:nvPr/>
              </p:nvGrpSpPr>
              <p:grpSpPr>
                <a:xfrm>
                  <a:off x="6975360" y="2031480"/>
                  <a:ext cx="137520" cy="109440"/>
                  <a:chOff x="6975360" y="2031480"/>
                  <a:chExt cx="137520" cy="109440"/>
                </a:xfrm>
              </p:grpSpPr>
              <p:sp>
                <p:nvSpPr>
                  <p:cNvPr id="6638" name=""/>
                  <p:cNvSpPr/>
                  <p:nvPr/>
                </p:nvSpPr>
                <p:spPr>
                  <a:xfrm rot="16010400">
                    <a:off x="6993000" y="2019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9" name=""/>
                  <p:cNvSpPr/>
                  <p:nvPr/>
                </p:nvSpPr>
                <p:spPr>
                  <a:xfrm flipH="1">
                    <a:off x="7025040" y="203616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0" name=""/>
                  <p:cNvSpPr/>
                  <p:nvPr/>
                </p:nvSpPr>
                <p:spPr>
                  <a:xfrm flipH="1">
                    <a:off x="7052040" y="20574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1" name=""/>
                  <p:cNvSpPr/>
                  <p:nvPr/>
                </p:nvSpPr>
                <p:spPr>
                  <a:xfrm flipH="1">
                    <a:off x="7054200" y="20782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"/>
                  <p:cNvSpPr/>
                  <p:nvPr/>
                </p:nvSpPr>
                <p:spPr>
                  <a:xfrm flipH="1">
                    <a:off x="7030440" y="208584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3" name=""/>
                <p:cNvGrpSpPr/>
                <p:nvPr/>
              </p:nvGrpSpPr>
              <p:grpSpPr>
                <a:xfrm>
                  <a:off x="6983280" y="2104920"/>
                  <a:ext cx="160560" cy="144360"/>
                  <a:chOff x="6983280" y="2104920"/>
                  <a:chExt cx="160560" cy="144360"/>
                </a:xfrm>
              </p:grpSpPr>
              <p:sp>
                <p:nvSpPr>
                  <p:cNvPr id="6644" name=""/>
                  <p:cNvSpPr/>
                  <p:nvPr/>
                </p:nvSpPr>
                <p:spPr>
                  <a:xfrm rot="14881800">
                    <a:off x="7012440" y="2111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5" name=""/>
                  <p:cNvSpPr/>
                  <p:nvPr/>
                </p:nvSpPr>
                <p:spPr>
                  <a:xfrm flipH="1">
                    <a:off x="7052400" y="211248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6" name=""/>
                  <p:cNvSpPr/>
                  <p:nvPr/>
                </p:nvSpPr>
                <p:spPr>
                  <a:xfrm flipH="1">
                    <a:off x="7063920" y="214200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7" name=""/>
                  <p:cNvSpPr/>
                  <p:nvPr/>
                </p:nvSpPr>
                <p:spPr>
                  <a:xfrm>
                    <a:off x="7074720" y="216504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8" name=""/>
                  <p:cNvSpPr/>
                  <p:nvPr/>
                </p:nvSpPr>
                <p:spPr>
                  <a:xfrm flipH="1">
                    <a:off x="7052760" y="21780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49" name=""/>
                <p:cNvGrpSpPr/>
                <p:nvPr/>
              </p:nvGrpSpPr>
              <p:grpSpPr>
                <a:xfrm>
                  <a:off x="7087320" y="2089080"/>
                  <a:ext cx="151920" cy="129960"/>
                  <a:chOff x="7087320" y="2089080"/>
                  <a:chExt cx="151920" cy="129960"/>
                </a:xfrm>
              </p:grpSpPr>
              <p:sp>
                <p:nvSpPr>
                  <p:cNvPr id="6650" name=""/>
                  <p:cNvSpPr/>
                  <p:nvPr/>
                </p:nvSpPr>
                <p:spPr>
                  <a:xfrm rot="15401400">
                    <a:off x="7111800" y="2088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1" name=""/>
                  <p:cNvSpPr/>
                  <p:nvPr/>
                </p:nvSpPr>
                <p:spPr>
                  <a:xfrm flipH="1">
                    <a:off x="7147800" y="209556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2" name=""/>
                  <p:cNvSpPr/>
                  <p:nvPr/>
                </p:nvSpPr>
                <p:spPr>
                  <a:xfrm flipH="1">
                    <a:off x="7166880" y="212148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3" name=""/>
                  <p:cNvSpPr/>
                  <p:nvPr/>
                </p:nvSpPr>
                <p:spPr>
                  <a:xfrm flipH="1">
                    <a:off x="7175160" y="214380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4" name=""/>
                  <p:cNvSpPr/>
                  <p:nvPr/>
                </p:nvSpPr>
                <p:spPr>
                  <a:xfrm flipH="1">
                    <a:off x="7150680" y="215460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55" name=""/>
                <p:cNvGrpSpPr/>
                <p:nvPr/>
              </p:nvGrpSpPr>
              <p:grpSpPr>
                <a:xfrm>
                  <a:off x="7047360" y="1930320"/>
                  <a:ext cx="151920" cy="129600"/>
                  <a:chOff x="7047360" y="1930320"/>
                  <a:chExt cx="151920" cy="129600"/>
                </a:xfrm>
              </p:grpSpPr>
              <p:sp>
                <p:nvSpPr>
                  <p:cNvPr id="6656" name=""/>
                  <p:cNvSpPr/>
                  <p:nvPr/>
                </p:nvSpPr>
                <p:spPr>
                  <a:xfrm rot="16985400">
                    <a:off x="7071840" y="1928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7" name=""/>
                  <p:cNvSpPr/>
                  <p:nvPr/>
                </p:nvSpPr>
                <p:spPr>
                  <a:xfrm flipH="1">
                    <a:off x="7098840" y="196200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8" name=""/>
                  <p:cNvSpPr/>
                  <p:nvPr/>
                </p:nvSpPr>
                <p:spPr>
                  <a:xfrm flipH="1">
                    <a:off x="7136280" y="197460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9" name=""/>
                  <p:cNvSpPr/>
                  <p:nvPr/>
                </p:nvSpPr>
                <p:spPr>
                  <a:xfrm flipH="1">
                    <a:off x="7129080" y="19915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0" name=""/>
                  <p:cNvSpPr/>
                  <p:nvPr/>
                </p:nvSpPr>
                <p:spPr>
                  <a:xfrm flipH="1">
                    <a:off x="7107840" y="199404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1" name=""/>
                <p:cNvGrpSpPr/>
                <p:nvPr/>
              </p:nvGrpSpPr>
              <p:grpSpPr>
                <a:xfrm>
                  <a:off x="7255440" y="1956240"/>
                  <a:ext cx="168480" cy="172080"/>
                  <a:chOff x="7255440" y="1956240"/>
                  <a:chExt cx="168480" cy="172080"/>
                </a:xfrm>
              </p:grpSpPr>
              <p:sp>
                <p:nvSpPr>
                  <p:cNvPr id="6662" name=""/>
                  <p:cNvSpPr/>
                  <p:nvPr/>
                </p:nvSpPr>
                <p:spPr>
                  <a:xfrm rot="19036200">
                    <a:off x="7295040" y="1966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3" name=""/>
                  <p:cNvSpPr/>
                  <p:nvPr/>
                </p:nvSpPr>
                <p:spPr>
                  <a:xfrm flipH="1" flipV="1">
                    <a:off x="7311240" y="203760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4" name=""/>
                  <p:cNvSpPr/>
                  <p:nvPr/>
                </p:nvSpPr>
                <p:spPr>
                  <a:xfrm flipH="1" flipV="1">
                    <a:off x="7360560" y="203796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5" name=""/>
                  <p:cNvSpPr/>
                  <p:nvPr/>
                </p:nvSpPr>
                <p:spPr>
                  <a:xfrm flipH="1">
                    <a:off x="7338240" y="2051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6" name=""/>
                  <p:cNvSpPr/>
                  <p:nvPr/>
                </p:nvSpPr>
                <p:spPr>
                  <a:xfrm flipH="1" flipV="1">
                    <a:off x="7324920" y="203400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7" name=""/>
                <p:cNvGrpSpPr/>
                <p:nvPr/>
              </p:nvGrpSpPr>
              <p:grpSpPr>
                <a:xfrm>
                  <a:off x="7440480" y="1879200"/>
                  <a:ext cx="158760" cy="140400"/>
                  <a:chOff x="7440480" y="1879200"/>
                  <a:chExt cx="158760" cy="140400"/>
                </a:xfrm>
              </p:grpSpPr>
              <p:sp>
                <p:nvSpPr>
                  <p:cNvPr id="6668" name=""/>
                  <p:cNvSpPr/>
                  <p:nvPr/>
                </p:nvSpPr>
                <p:spPr>
                  <a:xfrm rot="4233000">
                    <a:off x="7468560" y="1883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9" name=""/>
                  <p:cNvSpPr/>
                  <p:nvPr/>
                </p:nvSpPr>
                <p:spPr>
                  <a:xfrm flipV="1">
                    <a:off x="7482960" y="192384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0" name=""/>
                  <p:cNvSpPr/>
                  <p:nvPr/>
                </p:nvSpPr>
                <p:spPr>
                  <a:xfrm flipV="1">
                    <a:off x="7504200" y="197208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1" name=""/>
                  <p:cNvSpPr/>
                  <p:nvPr/>
                </p:nvSpPr>
                <p:spPr>
                  <a:xfrm flipH="1" flipV="1">
                    <a:off x="7506720" y="194040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2" name=""/>
                  <p:cNvSpPr/>
                  <p:nvPr/>
                </p:nvSpPr>
                <p:spPr>
                  <a:xfrm flipV="1">
                    <a:off x="7522560" y="193896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3" name=""/>
                <p:cNvGrpSpPr/>
                <p:nvPr/>
              </p:nvGrpSpPr>
              <p:grpSpPr>
                <a:xfrm>
                  <a:off x="7520400" y="1995120"/>
                  <a:ext cx="156600" cy="137160"/>
                  <a:chOff x="7520400" y="1995120"/>
                  <a:chExt cx="156600" cy="137160"/>
                </a:xfrm>
              </p:grpSpPr>
              <p:sp>
                <p:nvSpPr>
                  <p:cNvPr id="6674" name=""/>
                  <p:cNvSpPr/>
                  <p:nvPr/>
                </p:nvSpPr>
                <p:spPr>
                  <a:xfrm rot="4353000">
                    <a:off x="7547400" y="1997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5" name=""/>
                  <p:cNvSpPr/>
                  <p:nvPr/>
                </p:nvSpPr>
                <p:spPr>
                  <a:xfrm flipV="1">
                    <a:off x="7559280" y="203832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6" name=""/>
                  <p:cNvSpPr/>
                  <p:nvPr/>
                </p:nvSpPr>
                <p:spPr>
                  <a:xfrm flipV="1">
                    <a:off x="7581600" y="20862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7" name=""/>
                  <p:cNvSpPr/>
                  <p:nvPr/>
                </p:nvSpPr>
                <p:spPr>
                  <a:xfrm flipH="1" flipV="1">
                    <a:off x="7585920" y="20538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8" name=""/>
                  <p:cNvSpPr/>
                  <p:nvPr/>
                </p:nvSpPr>
                <p:spPr>
                  <a:xfrm flipV="1">
                    <a:off x="7601400" y="205344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79" name=""/>
                <p:cNvGrpSpPr/>
                <p:nvPr/>
              </p:nvGrpSpPr>
              <p:grpSpPr>
                <a:xfrm>
                  <a:off x="7260120" y="2114280"/>
                  <a:ext cx="159480" cy="175320"/>
                  <a:chOff x="7260120" y="2114280"/>
                  <a:chExt cx="159480" cy="175320"/>
                </a:xfrm>
              </p:grpSpPr>
              <p:sp>
                <p:nvSpPr>
                  <p:cNvPr id="6680" name=""/>
                  <p:cNvSpPr/>
                  <p:nvPr/>
                </p:nvSpPr>
                <p:spPr>
                  <a:xfrm rot="19525800">
                    <a:off x="7295040" y="2125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1" name=""/>
                  <p:cNvSpPr/>
                  <p:nvPr/>
                </p:nvSpPr>
                <p:spPr>
                  <a:xfrm flipH="1" flipV="1">
                    <a:off x="7312320" y="219312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2" name=""/>
                  <p:cNvSpPr/>
                  <p:nvPr/>
                </p:nvSpPr>
                <p:spPr>
                  <a:xfrm flipH="1" flipV="1">
                    <a:off x="7360920" y="220068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3" name=""/>
                  <p:cNvSpPr/>
                  <p:nvPr/>
                </p:nvSpPr>
                <p:spPr>
                  <a:xfrm flipH="1">
                    <a:off x="7336080" y="22129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4" name=""/>
                  <p:cNvSpPr/>
                  <p:nvPr/>
                </p:nvSpPr>
                <p:spPr>
                  <a:xfrm flipH="1" flipV="1">
                    <a:off x="7326000" y="219132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85" name=""/>
                <p:cNvGrpSpPr/>
                <p:nvPr/>
              </p:nvGrpSpPr>
              <p:grpSpPr>
                <a:xfrm>
                  <a:off x="7099560" y="2094840"/>
                  <a:ext cx="165600" cy="165600"/>
                  <a:chOff x="7099560" y="2094840"/>
                  <a:chExt cx="165600" cy="165600"/>
                </a:xfrm>
              </p:grpSpPr>
              <p:sp>
                <p:nvSpPr>
                  <p:cNvPr id="6686" name=""/>
                  <p:cNvSpPr/>
                  <p:nvPr/>
                </p:nvSpPr>
                <p:spPr>
                  <a:xfrm rot="18890400">
                    <a:off x="7131240" y="2111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7" name=""/>
                  <p:cNvSpPr/>
                  <p:nvPr/>
                </p:nvSpPr>
                <p:spPr>
                  <a:xfrm flipH="1" flipV="1">
                    <a:off x="7153920" y="217728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8" name=""/>
                  <p:cNvSpPr/>
                  <p:nvPr/>
                </p:nvSpPr>
                <p:spPr>
                  <a:xfrm flipH="1" flipV="1">
                    <a:off x="7203600" y="216900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9" name=""/>
                  <p:cNvSpPr/>
                  <p:nvPr/>
                </p:nvSpPr>
                <p:spPr>
                  <a:xfrm flipH="1">
                    <a:off x="7179840" y="218268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0" name=""/>
                  <p:cNvSpPr/>
                  <p:nvPr/>
                </p:nvSpPr>
                <p:spPr>
                  <a:xfrm flipH="1" flipV="1">
                    <a:off x="7167960" y="217188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1" name=""/>
                <p:cNvGrpSpPr/>
                <p:nvPr/>
              </p:nvGrpSpPr>
              <p:grpSpPr>
                <a:xfrm>
                  <a:off x="6960960" y="2004120"/>
                  <a:ext cx="166680" cy="164160"/>
                  <a:chOff x="6960960" y="2004120"/>
                  <a:chExt cx="166680" cy="164160"/>
                </a:xfrm>
              </p:grpSpPr>
              <p:sp>
                <p:nvSpPr>
                  <p:cNvPr id="6692" name=""/>
                  <p:cNvSpPr/>
                  <p:nvPr/>
                </p:nvSpPr>
                <p:spPr>
                  <a:xfrm rot="18730200">
                    <a:off x="6993000" y="2019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3" name=""/>
                  <p:cNvSpPr/>
                  <p:nvPr/>
                </p:nvSpPr>
                <p:spPr>
                  <a:xfrm flipH="1" flipV="1">
                    <a:off x="7015680" y="208764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4" name=""/>
                  <p:cNvSpPr/>
                  <p:nvPr/>
                </p:nvSpPr>
                <p:spPr>
                  <a:xfrm flipH="1" flipV="1">
                    <a:off x="7064640" y="20768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5" name=""/>
                  <p:cNvSpPr/>
                  <p:nvPr/>
                </p:nvSpPr>
                <p:spPr>
                  <a:xfrm flipH="1">
                    <a:off x="7042320" y="20908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6" name=""/>
                  <p:cNvSpPr/>
                  <p:nvPr/>
                </p:nvSpPr>
                <p:spPr>
                  <a:xfrm flipH="1" flipV="1">
                    <a:off x="7029720" y="208116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97" name=""/>
                <p:cNvGrpSpPr/>
                <p:nvPr/>
              </p:nvGrpSpPr>
              <p:grpSpPr>
                <a:xfrm>
                  <a:off x="6941160" y="1909800"/>
                  <a:ext cx="162720" cy="174960"/>
                  <a:chOff x="6941160" y="1909800"/>
                  <a:chExt cx="162720" cy="174960"/>
                </a:xfrm>
              </p:grpSpPr>
              <p:sp>
                <p:nvSpPr>
                  <p:cNvPr id="6698" name=""/>
                  <p:cNvSpPr/>
                  <p:nvPr/>
                </p:nvSpPr>
                <p:spPr>
                  <a:xfrm rot="19362600">
                    <a:off x="6977880" y="1921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9" name=""/>
                  <p:cNvSpPr/>
                  <p:nvPr/>
                </p:nvSpPr>
                <p:spPr>
                  <a:xfrm flipH="1" flipV="1">
                    <a:off x="6994800" y="198936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0" name=""/>
                  <p:cNvSpPr/>
                  <p:nvPr/>
                </p:nvSpPr>
                <p:spPr>
                  <a:xfrm flipH="1" flipV="1">
                    <a:off x="7043760" y="19947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1" name=""/>
                  <p:cNvSpPr/>
                  <p:nvPr/>
                </p:nvSpPr>
                <p:spPr>
                  <a:xfrm flipH="1">
                    <a:off x="7019640" y="200736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2" name=""/>
                  <p:cNvSpPr/>
                  <p:nvPr/>
                </p:nvSpPr>
                <p:spPr>
                  <a:xfrm flipH="1" flipV="1">
                    <a:off x="7008480" y="198720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03" name=""/>
              <p:cNvGrpSpPr/>
              <p:nvPr/>
            </p:nvGrpSpPr>
            <p:grpSpPr>
              <a:xfrm>
                <a:off x="6854040" y="3469680"/>
                <a:ext cx="735840" cy="609480"/>
                <a:chOff x="6854040" y="3469680"/>
                <a:chExt cx="735840" cy="609480"/>
              </a:xfrm>
            </p:grpSpPr>
            <p:grpSp>
              <p:nvGrpSpPr>
                <p:cNvPr id="6704" name=""/>
                <p:cNvGrpSpPr/>
                <p:nvPr/>
              </p:nvGrpSpPr>
              <p:grpSpPr>
                <a:xfrm>
                  <a:off x="7152120" y="3548520"/>
                  <a:ext cx="163800" cy="150480"/>
                  <a:chOff x="7152120" y="3548520"/>
                  <a:chExt cx="163800" cy="150480"/>
                </a:xfrm>
              </p:grpSpPr>
              <p:sp>
                <p:nvSpPr>
                  <p:cNvPr id="6705" name=""/>
                  <p:cNvSpPr/>
                  <p:nvPr/>
                </p:nvSpPr>
                <p:spPr>
                  <a:xfrm rot="3815400">
                    <a:off x="7182720" y="3557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6" name=""/>
                  <p:cNvSpPr/>
                  <p:nvPr/>
                </p:nvSpPr>
                <p:spPr>
                  <a:xfrm flipV="1">
                    <a:off x="7205040" y="359676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7" name=""/>
                  <p:cNvSpPr/>
                  <p:nvPr/>
                </p:nvSpPr>
                <p:spPr>
                  <a:xfrm flipV="1">
                    <a:off x="7222680" y="364644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8" name=""/>
                  <p:cNvSpPr/>
                  <p:nvPr/>
                </p:nvSpPr>
                <p:spPr>
                  <a:xfrm flipH="1" flipV="1">
                    <a:off x="7220160" y="361620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9" name=""/>
                  <p:cNvSpPr/>
                  <p:nvPr/>
                </p:nvSpPr>
                <p:spPr>
                  <a:xfrm flipV="1">
                    <a:off x="7236720" y="361188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10" name=""/>
                <p:cNvSpPr/>
                <p:nvPr/>
              </p:nvSpPr>
              <p:spPr>
                <a:xfrm flipH="1">
                  <a:off x="7148520" y="384588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1" name=""/>
                <p:cNvSpPr/>
                <p:nvPr/>
              </p:nvSpPr>
              <p:spPr>
                <a:xfrm>
                  <a:off x="7009920" y="373212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2" name=""/>
                <p:cNvSpPr/>
                <p:nvPr/>
              </p:nvSpPr>
              <p:spPr>
                <a:xfrm flipH="1" flipV="1">
                  <a:off x="7128720" y="361836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3" name=""/>
                <p:cNvSpPr/>
                <p:nvPr/>
              </p:nvSpPr>
              <p:spPr>
                <a:xfrm flipH="1" flipV="1">
                  <a:off x="7366680" y="373212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4" name=""/>
                <p:cNvSpPr/>
                <p:nvPr/>
              </p:nvSpPr>
              <p:spPr>
                <a:xfrm flipH="1">
                  <a:off x="7207920" y="386892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5" name=""/>
                <p:cNvSpPr/>
                <p:nvPr/>
              </p:nvSpPr>
              <p:spPr>
                <a:xfrm flipH="1" flipV="1">
                  <a:off x="7247160" y="382320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6" name=""/>
                <p:cNvSpPr/>
                <p:nvPr/>
              </p:nvSpPr>
              <p:spPr>
                <a:xfrm flipH="1" flipV="1">
                  <a:off x="7088400" y="364068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7" name=""/>
                <p:cNvSpPr/>
                <p:nvPr/>
              </p:nvSpPr>
              <p:spPr>
                <a:xfrm flipV="1">
                  <a:off x="7188120" y="366336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 flipH="1">
                  <a:off x="7029360" y="375516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 flipH="1" flipV="1">
                  <a:off x="7287480" y="375516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0" name=""/>
                <p:cNvSpPr/>
                <p:nvPr/>
              </p:nvSpPr>
              <p:spPr>
                <a:xfrm flipH="1" flipV="1">
                  <a:off x="7327080" y="375480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1" name=""/>
                <p:cNvSpPr/>
                <p:nvPr/>
              </p:nvSpPr>
              <p:spPr>
                <a:xfrm flipV="1">
                  <a:off x="7445880" y="382320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2" name=""/>
                <p:cNvSpPr/>
                <p:nvPr/>
              </p:nvSpPr>
              <p:spPr>
                <a:xfrm flipV="1">
                  <a:off x="7386480" y="370908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 flipH="1">
                  <a:off x="7326720" y="391428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4" name=""/>
                <p:cNvSpPr/>
                <p:nvPr/>
              </p:nvSpPr>
              <p:spPr>
                <a:xfrm flipH="1">
                  <a:off x="7108560" y="377748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5" name=""/>
                <p:cNvSpPr/>
                <p:nvPr/>
              </p:nvSpPr>
              <p:spPr>
                <a:xfrm flipH="1" flipV="1">
                  <a:off x="7029000" y="368640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726" name=""/>
                <p:cNvGrpSpPr/>
                <p:nvPr/>
              </p:nvGrpSpPr>
              <p:grpSpPr>
                <a:xfrm>
                  <a:off x="7057440" y="3469680"/>
                  <a:ext cx="151560" cy="176040"/>
                  <a:chOff x="7057440" y="3469680"/>
                  <a:chExt cx="151560" cy="176040"/>
                </a:xfrm>
              </p:grpSpPr>
              <p:sp>
                <p:nvSpPr>
                  <p:cNvPr id="6727" name=""/>
                  <p:cNvSpPr/>
                  <p:nvPr/>
                </p:nvSpPr>
                <p:spPr>
                  <a:xfrm rot="1745400">
                    <a:off x="7088400" y="3481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8" name=""/>
                  <p:cNvSpPr/>
                  <p:nvPr/>
                </p:nvSpPr>
                <p:spPr>
                  <a:xfrm flipH="1" flipV="1">
                    <a:off x="7129080" y="352908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9" name=""/>
                  <p:cNvSpPr/>
                  <p:nvPr/>
                </p:nvSpPr>
                <p:spPr>
                  <a:xfrm flipV="1">
                    <a:off x="7139160" y="35758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0" name=""/>
                  <p:cNvSpPr/>
                  <p:nvPr/>
                </p:nvSpPr>
                <p:spPr>
                  <a:xfrm flipH="1" flipV="1">
                    <a:off x="7117920" y="356112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1" name=""/>
                  <p:cNvSpPr/>
                  <p:nvPr/>
                </p:nvSpPr>
                <p:spPr>
                  <a:xfrm flipV="1">
                    <a:off x="7135200" y="354060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2" name=""/>
                <p:cNvGrpSpPr/>
                <p:nvPr/>
              </p:nvGrpSpPr>
              <p:grpSpPr>
                <a:xfrm>
                  <a:off x="7122240" y="3697920"/>
                  <a:ext cx="142200" cy="174960"/>
                  <a:chOff x="7122240" y="3697920"/>
                  <a:chExt cx="142200" cy="174960"/>
                </a:xfrm>
              </p:grpSpPr>
              <p:sp>
                <p:nvSpPr>
                  <p:cNvPr id="6733" name=""/>
                  <p:cNvSpPr/>
                  <p:nvPr/>
                </p:nvSpPr>
                <p:spPr>
                  <a:xfrm rot="20187000">
                    <a:off x="7148880" y="3709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4" name=""/>
                  <p:cNvSpPr/>
                  <p:nvPr/>
                </p:nvSpPr>
                <p:spPr>
                  <a:xfrm flipH="1" flipV="1">
                    <a:off x="7167960" y="377136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5" name=""/>
                  <p:cNvSpPr/>
                  <p:nvPr/>
                </p:nvSpPr>
                <p:spPr>
                  <a:xfrm flipH="1" flipV="1">
                    <a:off x="7214400" y="378792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6" name=""/>
                  <p:cNvSpPr/>
                  <p:nvPr/>
                </p:nvSpPr>
                <p:spPr>
                  <a:xfrm flipH="1">
                    <a:off x="7186680" y="379872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7" name=""/>
                  <p:cNvSpPr/>
                  <p:nvPr/>
                </p:nvSpPr>
                <p:spPr>
                  <a:xfrm flipH="1" flipV="1">
                    <a:off x="7182000" y="377208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38" name=""/>
                <p:cNvGrpSpPr/>
                <p:nvPr/>
              </p:nvGrpSpPr>
              <p:grpSpPr>
                <a:xfrm>
                  <a:off x="7208280" y="3618360"/>
                  <a:ext cx="88920" cy="151920"/>
                  <a:chOff x="7208280" y="3618360"/>
                  <a:chExt cx="88920" cy="151920"/>
                </a:xfrm>
              </p:grpSpPr>
              <p:sp>
                <p:nvSpPr>
                  <p:cNvPr id="6739" name=""/>
                  <p:cNvSpPr/>
                  <p:nvPr/>
                </p:nvSpPr>
                <p:spPr>
                  <a:xfrm>
                    <a:off x="7208280" y="3618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0" name=""/>
                  <p:cNvSpPr/>
                  <p:nvPr/>
                </p:nvSpPr>
                <p:spPr>
                  <a:xfrm flipH="1" flipV="1">
                    <a:off x="7235280" y="367128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1" name=""/>
                  <p:cNvSpPr/>
                  <p:nvPr/>
                </p:nvSpPr>
                <p:spPr>
                  <a:xfrm flipH="1" flipV="1">
                    <a:off x="7270920" y="370512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2" name=""/>
                  <p:cNvSpPr/>
                  <p:nvPr/>
                </p:nvSpPr>
                <p:spPr>
                  <a:xfrm flipH="1" flipV="1">
                    <a:off x="7241040" y="37047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3" name=""/>
                  <p:cNvSpPr/>
                  <p:nvPr/>
                </p:nvSpPr>
                <p:spPr>
                  <a:xfrm flipH="1" flipV="1">
                    <a:off x="7247520" y="36777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4" name=""/>
                <p:cNvGrpSpPr/>
                <p:nvPr/>
              </p:nvGrpSpPr>
              <p:grpSpPr>
                <a:xfrm>
                  <a:off x="7023600" y="3883680"/>
                  <a:ext cx="143640" cy="118080"/>
                  <a:chOff x="7023600" y="3883680"/>
                  <a:chExt cx="143640" cy="118080"/>
                </a:xfrm>
              </p:grpSpPr>
              <p:sp>
                <p:nvSpPr>
                  <p:cNvPr id="6745" name=""/>
                  <p:cNvSpPr/>
                  <p:nvPr/>
                </p:nvSpPr>
                <p:spPr>
                  <a:xfrm rot="15769200">
                    <a:off x="7044120" y="3876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6" name=""/>
                  <p:cNvSpPr/>
                  <p:nvPr/>
                </p:nvSpPr>
                <p:spPr>
                  <a:xfrm flipH="1">
                    <a:off x="7077600" y="388908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7" name=""/>
                  <p:cNvSpPr/>
                  <p:nvPr/>
                </p:nvSpPr>
                <p:spPr>
                  <a:xfrm flipH="1">
                    <a:off x="7101720" y="391212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8" name=""/>
                  <p:cNvSpPr/>
                  <p:nvPr/>
                </p:nvSpPr>
                <p:spPr>
                  <a:xfrm flipH="1">
                    <a:off x="7106040" y="393372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9" name=""/>
                  <p:cNvSpPr/>
                  <p:nvPr/>
                </p:nvSpPr>
                <p:spPr>
                  <a:xfrm flipH="1">
                    <a:off x="7081920" y="394272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0" name=""/>
                <p:cNvGrpSpPr/>
                <p:nvPr/>
              </p:nvGrpSpPr>
              <p:grpSpPr>
                <a:xfrm>
                  <a:off x="6950160" y="3550320"/>
                  <a:ext cx="88920" cy="151920"/>
                  <a:chOff x="6950160" y="3550320"/>
                  <a:chExt cx="88920" cy="151920"/>
                </a:xfrm>
              </p:grpSpPr>
              <p:sp>
                <p:nvSpPr>
                  <p:cNvPr id="6751" name=""/>
                  <p:cNvSpPr/>
                  <p:nvPr/>
                </p:nvSpPr>
                <p:spPr>
                  <a:xfrm>
                    <a:off x="6950160" y="3550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2" name=""/>
                  <p:cNvSpPr/>
                  <p:nvPr/>
                </p:nvSpPr>
                <p:spPr>
                  <a:xfrm flipH="1" flipV="1">
                    <a:off x="6977160" y="36032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3" name=""/>
                  <p:cNvSpPr/>
                  <p:nvPr/>
                </p:nvSpPr>
                <p:spPr>
                  <a:xfrm flipH="1" flipV="1">
                    <a:off x="7012800" y="36370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4" name=""/>
                  <p:cNvSpPr/>
                  <p:nvPr/>
                </p:nvSpPr>
                <p:spPr>
                  <a:xfrm flipH="1" flipV="1">
                    <a:off x="6982920" y="3636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5" name=""/>
                  <p:cNvSpPr/>
                  <p:nvPr/>
                </p:nvSpPr>
                <p:spPr>
                  <a:xfrm flipH="1" flipV="1">
                    <a:off x="6989400" y="36097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56" name=""/>
                <p:cNvGrpSpPr/>
                <p:nvPr/>
              </p:nvGrpSpPr>
              <p:grpSpPr>
                <a:xfrm>
                  <a:off x="7287480" y="3595320"/>
                  <a:ext cx="88920" cy="151920"/>
                  <a:chOff x="7287480" y="3595320"/>
                  <a:chExt cx="88920" cy="151920"/>
                </a:xfrm>
              </p:grpSpPr>
              <p:sp>
                <p:nvSpPr>
                  <p:cNvPr id="6757" name=""/>
                  <p:cNvSpPr/>
                  <p:nvPr/>
                </p:nvSpPr>
                <p:spPr>
                  <a:xfrm>
                    <a:off x="7287480" y="3595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8" name=""/>
                  <p:cNvSpPr/>
                  <p:nvPr/>
                </p:nvSpPr>
                <p:spPr>
                  <a:xfrm flipH="1" flipV="1">
                    <a:off x="7314480" y="364824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9" name=""/>
                  <p:cNvSpPr/>
                  <p:nvPr/>
                </p:nvSpPr>
                <p:spPr>
                  <a:xfrm flipH="1" flipV="1">
                    <a:off x="7350120" y="368208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0" name=""/>
                  <p:cNvSpPr/>
                  <p:nvPr/>
                </p:nvSpPr>
                <p:spPr>
                  <a:xfrm flipH="1" flipV="1">
                    <a:off x="7320240" y="3681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1" name=""/>
                  <p:cNvSpPr/>
                  <p:nvPr/>
                </p:nvSpPr>
                <p:spPr>
                  <a:xfrm flipH="1" flipV="1">
                    <a:off x="7326720" y="365472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2" name=""/>
                <p:cNvGrpSpPr/>
                <p:nvPr/>
              </p:nvGrpSpPr>
              <p:grpSpPr>
                <a:xfrm>
                  <a:off x="7009920" y="3504600"/>
                  <a:ext cx="88920" cy="151920"/>
                  <a:chOff x="7009920" y="3504600"/>
                  <a:chExt cx="88920" cy="151920"/>
                </a:xfrm>
              </p:grpSpPr>
              <p:sp>
                <p:nvSpPr>
                  <p:cNvPr id="6763" name=""/>
                  <p:cNvSpPr/>
                  <p:nvPr/>
                </p:nvSpPr>
                <p:spPr>
                  <a:xfrm>
                    <a:off x="7009920" y="3504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4" name=""/>
                  <p:cNvSpPr/>
                  <p:nvPr/>
                </p:nvSpPr>
                <p:spPr>
                  <a:xfrm flipH="1" flipV="1">
                    <a:off x="7036920" y="3557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5" name=""/>
                  <p:cNvSpPr/>
                  <p:nvPr/>
                </p:nvSpPr>
                <p:spPr>
                  <a:xfrm flipH="1" flipV="1">
                    <a:off x="7072560" y="3591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6" name=""/>
                  <p:cNvSpPr/>
                  <p:nvPr/>
                </p:nvSpPr>
                <p:spPr>
                  <a:xfrm flipH="1" flipV="1">
                    <a:off x="7042680" y="3591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7" name=""/>
                  <p:cNvSpPr/>
                  <p:nvPr/>
                </p:nvSpPr>
                <p:spPr>
                  <a:xfrm flipH="1" flipV="1">
                    <a:off x="7049160" y="3564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68" name=""/>
                <p:cNvGrpSpPr/>
                <p:nvPr/>
              </p:nvGrpSpPr>
              <p:grpSpPr>
                <a:xfrm>
                  <a:off x="7196400" y="3943440"/>
                  <a:ext cx="156240" cy="135720"/>
                  <a:chOff x="7196400" y="3943440"/>
                  <a:chExt cx="156240" cy="135720"/>
                </a:xfrm>
              </p:grpSpPr>
              <p:sp>
                <p:nvSpPr>
                  <p:cNvPr id="6769" name=""/>
                  <p:cNvSpPr/>
                  <p:nvPr/>
                </p:nvSpPr>
                <p:spPr>
                  <a:xfrm rot="15198000">
                    <a:off x="7223040" y="3944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0" name=""/>
                  <p:cNvSpPr/>
                  <p:nvPr/>
                </p:nvSpPr>
                <p:spPr>
                  <a:xfrm flipH="1">
                    <a:off x="7260480" y="394992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1" name=""/>
                  <p:cNvSpPr/>
                  <p:nvPr/>
                </p:nvSpPr>
                <p:spPr>
                  <a:xfrm flipH="1">
                    <a:off x="7276680" y="397728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2" name=""/>
                  <p:cNvSpPr/>
                  <p:nvPr/>
                </p:nvSpPr>
                <p:spPr>
                  <a:xfrm>
                    <a:off x="7286400" y="399996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"/>
                  <p:cNvSpPr/>
                  <p:nvPr/>
                </p:nvSpPr>
                <p:spPr>
                  <a:xfrm flipH="1">
                    <a:off x="7262640" y="401148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4" name=""/>
                <p:cNvGrpSpPr/>
                <p:nvPr/>
              </p:nvGrpSpPr>
              <p:grpSpPr>
                <a:xfrm>
                  <a:off x="7092000" y="3910680"/>
                  <a:ext cx="165960" cy="155520"/>
                  <a:chOff x="7092000" y="3910680"/>
                  <a:chExt cx="165960" cy="155520"/>
                </a:xfrm>
              </p:grpSpPr>
              <p:sp>
                <p:nvSpPr>
                  <p:cNvPr id="6775" name=""/>
                  <p:cNvSpPr/>
                  <p:nvPr/>
                </p:nvSpPr>
                <p:spPr>
                  <a:xfrm rot="14358600">
                    <a:off x="7123680" y="3922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6" name=""/>
                  <p:cNvSpPr/>
                  <p:nvPr/>
                </p:nvSpPr>
                <p:spPr>
                  <a:xfrm flipH="1">
                    <a:off x="7167600" y="391932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7" name=""/>
                  <p:cNvSpPr/>
                  <p:nvPr/>
                </p:nvSpPr>
                <p:spPr>
                  <a:xfrm flipH="1">
                    <a:off x="7171920" y="39513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"/>
                  <p:cNvSpPr/>
                  <p:nvPr/>
                </p:nvSpPr>
                <p:spPr>
                  <a:xfrm>
                    <a:off x="7184160" y="397440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9" name=""/>
                  <p:cNvSpPr/>
                  <p:nvPr/>
                </p:nvSpPr>
                <p:spPr>
                  <a:xfrm flipH="1">
                    <a:off x="7165800" y="398952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0" name=""/>
                <p:cNvGrpSpPr/>
                <p:nvPr/>
              </p:nvGrpSpPr>
              <p:grpSpPr>
                <a:xfrm>
                  <a:off x="6888240" y="3728520"/>
                  <a:ext cx="137520" cy="109440"/>
                  <a:chOff x="6888240" y="3728520"/>
                  <a:chExt cx="137520" cy="109440"/>
                </a:xfrm>
              </p:grpSpPr>
              <p:sp>
                <p:nvSpPr>
                  <p:cNvPr id="6781" name=""/>
                  <p:cNvSpPr/>
                  <p:nvPr/>
                </p:nvSpPr>
                <p:spPr>
                  <a:xfrm rot="16010400">
                    <a:off x="6905880" y="3717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"/>
                  <p:cNvSpPr/>
                  <p:nvPr/>
                </p:nvSpPr>
                <p:spPr>
                  <a:xfrm flipH="1">
                    <a:off x="6937920" y="373320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3" name=""/>
                  <p:cNvSpPr/>
                  <p:nvPr/>
                </p:nvSpPr>
                <p:spPr>
                  <a:xfrm flipH="1">
                    <a:off x="6964920" y="375444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4" name=""/>
                  <p:cNvSpPr/>
                  <p:nvPr/>
                </p:nvSpPr>
                <p:spPr>
                  <a:xfrm flipH="1">
                    <a:off x="6967080" y="377532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5" name=""/>
                  <p:cNvSpPr/>
                  <p:nvPr/>
                </p:nvSpPr>
                <p:spPr>
                  <a:xfrm flipH="1">
                    <a:off x="6943320" y="378288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6" name=""/>
                <p:cNvGrpSpPr/>
                <p:nvPr/>
              </p:nvGrpSpPr>
              <p:grpSpPr>
                <a:xfrm>
                  <a:off x="6896160" y="3801960"/>
                  <a:ext cx="160560" cy="144360"/>
                  <a:chOff x="6896160" y="3801960"/>
                  <a:chExt cx="160560" cy="144360"/>
                </a:xfrm>
              </p:grpSpPr>
              <p:sp>
                <p:nvSpPr>
                  <p:cNvPr id="6787" name=""/>
                  <p:cNvSpPr/>
                  <p:nvPr/>
                </p:nvSpPr>
                <p:spPr>
                  <a:xfrm rot="14881800">
                    <a:off x="6925320" y="3808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8" name=""/>
                  <p:cNvSpPr/>
                  <p:nvPr/>
                </p:nvSpPr>
                <p:spPr>
                  <a:xfrm flipH="1">
                    <a:off x="6965280" y="380952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9" name=""/>
                  <p:cNvSpPr/>
                  <p:nvPr/>
                </p:nvSpPr>
                <p:spPr>
                  <a:xfrm flipH="1">
                    <a:off x="6976800" y="38390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0" name=""/>
                  <p:cNvSpPr/>
                  <p:nvPr/>
                </p:nvSpPr>
                <p:spPr>
                  <a:xfrm>
                    <a:off x="6987600" y="386208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1" name=""/>
                  <p:cNvSpPr/>
                  <p:nvPr/>
                </p:nvSpPr>
                <p:spPr>
                  <a:xfrm flipH="1">
                    <a:off x="6965640" y="387504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2" name=""/>
                <p:cNvGrpSpPr/>
                <p:nvPr/>
              </p:nvGrpSpPr>
              <p:grpSpPr>
                <a:xfrm>
                  <a:off x="7000200" y="3786120"/>
                  <a:ext cx="151920" cy="129960"/>
                  <a:chOff x="7000200" y="3786120"/>
                  <a:chExt cx="151920" cy="129960"/>
                </a:xfrm>
              </p:grpSpPr>
              <p:sp>
                <p:nvSpPr>
                  <p:cNvPr id="6793" name=""/>
                  <p:cNvSpPr/>
                  <p:nvPr/>
                </p:nvSpPr>
                <p:spPr>
                  <a:xfrm rot="15401400">
                    <a:off x="7024680" y="3785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4" name=""/>
                  <p:cNvSpPr/>
                  <p:nvPr/>
                </p:nvSpPr>
                <p:spPr>
                  <a:xfrm flipH="1">
                    <a:off x="7060680" y="379260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5" name=""/>
                  <p:cNvSpPr/>
                  <p:nvPr/>
                </p:nvSpPr>
                <p:spPr>
                  <a:xfrm flipH="1">
                    <a:off x="7079760" y="381852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6" name=""/>
                  <p:cNvSpPr/>
                  <p:nvPr/>
                </p:nvSpPr>
                <p:spPr>
                  <a:xfrm flipH="1">
                    <a:off x="7088040" y="384084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7" name=""/>
                  <p:cNvSpPr/>
                  <p:nvPr/>
                </p:nvSpPr>
                <p:spPr>
                  <a:xfrm flipH="1">
                    <a:off x="7063560" y="385164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98" name=""/>
                <p:cNvGrpSpPr/>
                <p:nvPr/>
              </p:nvGrpSpPr>
              <p:grpSpPr>
                <a:xfrm>
                  <a:off x="6960240" y="3627360"/>
                  <a:ext cx="151920" cy="129600"/>
                  <a:chOff x="6960240" y="3627360"/>
                  <a:chExt cx="151920" cy="129600"/>
                </a:xfrm>
              </p:grpSpPr>
              <p:sp>
                <p:nvSpPr>
                  <p:cNvPr id="6799" name=""/>
                  <p:cNvSpPr/>
                  <p:nvPr/>
                </p:nvSpPr>
                <p:spPr>
                  <a:xfrm rot="16985400">
                    <a:off x="6984720" y="3625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0" name=""/>
                  <p:cNvSpPr/>
                  <p:nvPr/>
                </p:nvSpPr>
                <p:spPr>
                  <a:xfrm flipH="1">
                    <a:off x="7011720" y="365904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1" name=""/>
                  <p:cNvSpPr/>
                  <p:nvPr/>
                </p:nvSpPr>
                <p:spPr>
                  <a:xfrm flipH="1">
                    <a:off x="7049160" y="36716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2" name=""/>
                  <p:cNvSpPr/>
                  <p:nvPr/>
                </p:nvSpPr>
                <p:spPr>
                  <a:xfrm flipH="1">
                    <a:off x="7041960" y="368856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3" name=""/>
                  <p:cNvSpPr/>
                  <p:nvPr/>
                </p:nvSpPr>
                <p:spPr>
                  <a:xfrm flipH="1">
                    <a:off x="7020720" y="369108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4" name=""/>
                <p:cNvGrpSpPr/>
                <p:nvPr/>
              </p:nvGrpSpPr>
              <p:grpSpPr>
                <a:xfrm>
                  <a:off x="7168320" y="3653280"/>
                  <a:ext cx="168480" cy="172080"/>
                  <a:chOff x="7168320" y="3653280"/>
                  <a:chExt cx="168480" cy="172080"/>
                </a:xfrm>
              </p:grpSpPr>
              <p:sp>
                <p:nvSpPr>
                  <p:cNvPr id="6805" name=""/>
                  <p:cNvSpPr/>
                  <p:nvPr/>
                </p:nvSpPr>
                <p:spPr>
                  <a:xfrm rot="19036200">
                    <a:off x="7207920" y="3663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6" name=""/>
                  <p:cNvSpPr/>
                  <p:nvPr/>
                </p:nvSpPr>
                <p:spPr>
                  <a:xfrm flipH="1" flipV="1">
                    <a:off x="7224120" y="373464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7" name=""/>
                  <p:cNvSpPr/>
                  <p:nvPr/>
                </p:nvSpPr>
                <p:spPr>
                  <a:xfrm flipH="1" flipV="1">
                    <a:off x="7273440" y="373500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"/>
                  <p:cNvSpPr/>
                  <p:nvPr/>
                </p:nvSpPr>
                <p:spPr>
                  <a:xfrm flipH="1">
                    <a:off x="7251120" y="37483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9" name=""/>
                  <p:cNvSpPr/>
                  <p:nvPr/>
                </p:nvSpPr>
                <p:spPr>
                  <a:xfrm flipH="1" flipV="1">
                    <a:off x="7237800" y="373104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0" name=""/>
                <p:cNvGrpSpPr/>
                <p:nvPr/>
              </p:nvGrpSpPr>
              <p:grpSpPr>
                <a:xfrm>
                  <a:off x="7353360" y="3576240"/>
                  <a:ext cx="158760" cy="140400"/>
                  <a:chOff x="7353360" y="3576240"/>
                  <a:chExt cx="158760" cy="140400"/>
                </a:xfrm>
              </p:grpSpPr>
              <p:sp>
                <p:nvSpPr>
                  <p:cNvPr id="6811" name=""/>
                  <p:cNvSpPr/>
                  <p:nvPr/>
                </p:nvSpPr>
                <p:spPr>
                  <a:xfrm rot="4233000">
                    <a:off x="7381440" y="3580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2" name=""/>
                  <p:cNvSpPr/>
                  <p:nvPr/>
                </p:nvSpPr>
                <p:spPr>
                  <a:xfrm flipV="1">
                    <a:off x="7395840" y="362088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"/>
                  <p:cNvSpPr/>
                  <p:nvPr/>
                </p:nvSpPr>
                <p:spPr>
                  <a:xfrm flipV="1">
                    <a:off x="7417080" y="366912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4" name=""/>
                  <p:cNvSpPr/>
                  <p:nvPr/>
                </p:nvSpPr>
                <p:spPr>
                  <a:xfrm flipH="1" flipV="1">
                    <a:off x="7419600" y="363744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5" name=""/>
                  <p:cNvSpPr/>
                  <p:nvPr/>
                </p:nvSpPr>
                <p:spPr>
                  <a:xfrm flipV="1">
                    <a:off x="7435440" y="363600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6" name=""/>
                <p:cNvGrpSpPr/>
                <p:nvPr/>
              </p:nvGrpSpPr>
              <p:grpSpPr>
                <a:xfrm>
                  <a:off x="7433280" y="3692160"/>
                  <a:ext cx="156600" cy="137160"/>
                  <a:chOff x="7433280" y="3692160"/>
                  <a:chExt cx="156600" cy="137160"/>
                </a:xfrm>
              </p:grpSpPr>
              <p:sp>
                <p:nvSpPr>
                  <p:cNvPr id="6817" name=""/>
                  <p:cNvSpPr/>
                  <p:nvPr/>
                </p:nvSpPr>
                <p:spPr>
                  <a:xfrm rot="4353000">
                    <a:off x="7460280" y="3694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8" name=""/>
                  <p:cNvSpPr/>
                  <p:nvPr/>
                </p:nvSpPr>
                <p:spPr>
                  <a:xfrm flipV="1">
                    <a:off x="7472160" y="373536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9" name=""/>
                  <p:cNvSpPr/>
                  <p:nvPr/>
                </p:nvSpPr>
                <p:spPr>
                  <a:xfrm flipV="1">
                    <a:off x="7494480" y="37832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0" name=""/>
                  <p:cNvSpPr/>
                  <p:nvPr/>
                </p:nvSpPr>
                <p:spPr>
                  <a:xfrm flipH="1" flipV="1">
                    <a:off x="7498800" y="375084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1" name=""/>
                  <p:cNvSpPr/>
                  <p:nvPr/>
                </p:nvSpPr>
                <p:spPr>
                  <a:xfrm flipV="1">
                    <a:off x="7514280" y="375048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2" name=""/>
                <p:cNvGrpSpPr/>
                <p:nvPr/>
              </p:nvGrpSpPr>
              <p:grpSpPr>
                <a:xfrm>
                  <a:off x="7173000" y="3811320"/>
                  <a:ext cx="159480" cy="175320"/>
                  <a:chOff x="7173000" y="3811320"/>
                  <a:chExt cx="159480" cy="175320"/>
                </a:xfrm>
              </p:grpSpPr>
              <p:sp>
                <p:nvSpPr>
                  <p:cNvPr id="6823" name=""/>
                  <p:cNvSpPr/>
                  <p:nvPr/>
                </p:nvSpPr>
                <p:spPr>
                  <a:xfrm rot="19525800">
                    <a:off x="7207920" y="3822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4" name=""/>
                  <p:cNvSpPr/>
                  <p:nvPr/>
                </p:nvSpPr>
                <p:spPr>
                  <a:xfrm flipH="1" flipV="1">
                    <a:off x="7225200" y="389016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5" name=""/>
                  <p:cNvSpPr/>
                  <p:nvPr/>
                </p:nvSpPr>
                <p:spPr>
                  <a:xfrm flipH="1" flipV="1">
                    <a:off x="7273800" y="389772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6" name=""/>
                  <p:cNvSpPr/>
                  <p:nvPr/>
                </p:nvSpPr>
                <p:spPr>
                  <a:xfrm flipH="1">
                    <a:off x="7248960" y="39099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7" name=""/>
                  <p:cNvSpPr/>
                  <p:nvPr/>
                </p:nvSpPr>
                <p:spPr>
                  <a:xfrm flipH="1" flipV="1">
                    <a:off x="7238880" y="388836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28" name=""/>
                <p:cNvGrpSpPr/>
                <p:nvPr/>
              </p:nvGrpSpPr>
              <p:grpSpPr>
                <a:xfrm>
                  <a:off x="7012440" y="3791880"/>
                  <a:ext cx="165600" cy="165600"/>
                  <a:chOff x="7012440" y="3791880"/>
                  <a:chExt cx="165600" cy="165600"/>
                </a:xfrm>
              </p:grpSpPr>
              <p:sp>
                <p:nvSpPr>
                  <p:cNvPr id="6829" name=""/>
                  <p:cNvSpPr/>
                  <p:nvPr/>
                </p:nvSpPr>
                <p:spPr>
                  <a:xfrm rot="18890400">
                    <a:off x="7044120" y="3808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0" name=""/>
                  <p:cNvSpPr/>
                  <p:nvPr/>
                </p:nvSpPr>
                <p:spPr>
                  <a:xfrm flipH="1" flipV="1">
                    <a:off x="7066800" y="387432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1" name=""/>
                  <p:cNvSpPr/>
                  <p:nvPr/>
                </p:nvSpPr>
                <p:spPr>
                  <a:xfrm flipH="1" flipV="1">
                    <a:off x="7116480" y="386604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2" name=""/>
                  <p:cNvSpPr/>
                  <p:nvPr/>
                </p:nvSpPr>
                <p:spPr>
                  <a:xfrm flipH="1">
                    <a:off x="7092720" y="387972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3" name=""/>
                  <p:cNvSpPr/>
                  <p:nvPr/>
                </p:nvSpPr>
                <p:spPr>
                  <a:xfrm flipH="1" flipV="1">
                    <a:off x="7080840" y="386892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34" name=""/>
                <p:cNvGrpSpPr/>
                <p:nvPr/>
              </p:nvGrpSpPr>
              <p:grpSpPr>
                <a:xfrm>
                  <a:off x="6873840" y="3701160"/>
                  <a:ext cx="166680" cy="164160"/>
                  <a:chOff x="6873840" y="3701160"/>
                  <a:chExt cx="166680" cy="164160"/>
                </a:xfrm>
              </p:grpSpPr>
              <p:sp>
                <p:nvSpPr>
                  <p:cNvPr id="6835" name=""/>
                  <p:cNvSpPr/>
                  <p:nvPr/>
                </p:nvSpPr>
                <p:spPr>
                  <a:xfrm rot="18730200">
                    <a:off x="6905880" y="3717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6" name=""/>
                  <p:cNvSpPr/>
                  <p:nvPr/>
                </p:nvSpPr>
                <p:spPr>
                  <a:xfrm flipH="1" flipV="1">
                    <a:off x="6928560" y="378468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7" name=""/>
                  <p:cNvSpPr/>
                  <p:nvPr/>
                </p:nvSpPr>
                <p:spPr>
                  <a:xfrm flipH="1" flipV="1">
                    <a:off x="6977520" y="37738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8" name=""/>
                  <p:cNvSpPr/>
                  <p:nvPr/>
                </p:nvSpPr>
                <p:spPr>
                  <a:xfrm flipH="1">
                    <a:off x="6955200" y="378792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"/>
                  <p:cNvSpPr/>
                  <p:nvPr/>
                </p:nvSpPr>
                <p:spPr>
                  <a:xfrm flipH="1" flipV="1">
                    <a:off x="6942600" y="377820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40" name=""/>
                <p:cNvGrpSpPr/>
                <p:nvPr/>
              </p:nvGrpSpPr>
              <p:grpSpPr>
                <a:xfrm>
                  <a:off x="6854040" y="3606840"/>
                  <a:ext cx="162720" cy="174960"/>
                  <a:chOff x="6854040" y="3606840"/>
                  <a:chExt cx="162720" cy="174960"/>
                </a:xfrm>
              </p:grpSpPr>
              <p:sp>
                <p:nvSpPr>
                  <p:cNvPr id="6841" name=""/>
                  <p:cNvSpPr/>
                  <p:nvPr/>
                </p:nvSpPr>
                <p:spPr>
                  <a:xfrm rot="19362600">
                    <a:off x="6890760" y="3618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2" name=""/>
                  <p:cNvSpPr/>
                  <p:nvPr/>
                </p:nvSpPr>
                <p:spPr>
                  <a:xfrm flipH="1" flipV="1">
                    <a:off x="6907680" y="368640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"/>
                  <p:cNvSpPr/>
                  <p:nvPr/>
                </p:nvSpPr>
                <p:spPr>
                  <a:xfrm flipH="1" flipV="1">
                    <a:off x="6956640" y="369180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4" name=""/>
                  <p:cNvSpPr/>
                  <p:nvPr/>
                </p:nvSpPr>
                <p:spPr>
                  <a:xfrm flipH="1">
                    <a:off x="6932520" y="37044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5" name=""/>
                  <p:cNvSpPr/>
                  <p:nvPr/>
                </p:nvSpPr>
                <p:spPr>
                  <a:xfrm flipH="1" flipV="1">
                    <a:off x="6921360" y="368424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46" name=""/>
              <p:cNvGrpSpPr/>
              <p:nvPr/>
            </p:nvGrpSpPr>
            <p:grpSpPr>
              <a:xfrm>
                <a:off x="7620120" y="2133000"/>
                <a:ext cx="697680" cy="738000"/>
                <a:chOff x="7620120" y="2133000"/>
                <a:chExt cx="697680" cy="738000"/>
              </a:xfrm>
            </p:grpSpPr>
            <p:grpSp>
              <p:nvGrpSpPr>
                <p:cNvPr id="6847" name=""/>
                <p:cNvGrpSpPr/>
                <p:nvPr/>
              </p:nvGrpSpPr>
              <p:grpSpPr>
                <a:xfrm>
                  <a:off x="8031600" y="2502720"/>
                  <a:ext cx="106560" cy="162000"/>
                  <a:chOff x="8031600" y="2502720"/>
                  <a:chExt cx="106560" cy="162000"/>
                </a:xfrm>
              </p:grpSpPr>
              <p:sp>
                <p:nvSpPr>
                  <p:cNvPr id="6848" name=""/>
                  <p:cNvSpPr/>
                  <p:nvPr/>
                </p:nvSpPr>
                <p:spPr>
                  <a:xfrm rot="11212800">
                    <a:off x="8040240" y="2507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9" name=""/>
                  <p:cNvSpPr/>
                  <p:nvPr/>
                </p:nvSpPr>
                <p:spPr>
                  <a:xfrm>
                    <a:off x="8051760" y="2514960"/>
                    <a:ext cx="4752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0" name=""/>
                  <p:cNvSpPr/>
                  <p:nvPr/>
                </p:nvSpPr>
                <p:spPr>
                  <a:xfrm>
                    <a:off x="8064720" y="2550600"/>
                    <a:ext cx="32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1" name=""/>
                  <p:cNvSpPr/>
                  <p:nvPr/>
                </p:nvSpPr>
                <p:spPr>
                  <a:xfrm>
                    <a:off x="8080920" y="2566440"/>
                    <a:ext cx="16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"/>
                  <p:cNvSpPr/>
                  <p:nvPr/>
                </p:nvSpPr>
                <p:spPr>
                  <a:xfrm>
                    <a:off x="8083800" y="258732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"/>
                <p:cNvSpPr/>
                <p:nvPr/>
              </p:nvSpPr>
              <p:spPr>
                <a:xfrm flipV="1">
                  <a:off x="7852320" y="2373840"/>
                  <a:ext cx="92160" cy="21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4" name=""/>
                <p:cNvSpPr/>
                <p:nvPr/>
              </p:nvSpPr>
              <p:spPr>
                <a:xfrm rot="7397400">
                  <a:off x="7598880" y="235512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5" name=""/>
                <p:cNvSpPr/>
                <p:nvPr/>
              </p:nvSpPr>
              <p:spPr>
                <a:xfrm flipV="1">
                  <a:off x="7989480" y="2485080"/>
                  <a:ext cx="16596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6" name=""/>
                <p:cNvSpPr/>
                <p:nvPr/>
              </p:nvSpPr>
              <p:spPr>
                <a:xfrm>
                  <a:off x="7649280" y="2644200"/>
                  <a:ext cx="27360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 flipH="1" flipV="1">
                  <a:off x="7890480" y="2419920"/>
                  <a:ext cx="8280" cy="59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 flipV="1">
                  <a:off x="7877880" y="2502000"/>
                  <a:ext cx="5400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9" name=""/>
                <p:cNvSpPr/>
                <p:nvPr/>
              </p:nvSpPr>
              <p:spPr>
                <a:xfrm flipV="1">
                  <a:off x="8064720" y="2435760"/>
                  <a:ext cx="99720" cy="43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0" name=""/>
                <p:cNvSpPr/>
                <p:nvPr/>
              </p:nvSpPr>
              <p:spPr>
                <a:xfrm>
                  <a:off x="8035920" y="2487960"/>
                  <a:ext cx="3672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 flipV="1">
                  <a:off x="8082000" y="2302200"/>
                  <a:ext cx="432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 flipV="1">
                  <a:off x="7786080" y="2572560"/>
                  <a:ext cx="170280" cy="79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7886160" y="2607840"/>
                  <a:ext cx="453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4" name=""/>
                <p:cNvSpPr/>
                <p:nvPr/>
              </p:nvSpPr>
              <p:spPr>
                <a:xfrm>
                  <a:off x="7740720" y="2649240"/>
                  <a:ext cx="53640" cy="62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5" name=""/>
                <p:cNvSpPr/>
                <p:nvPr/>
              </p:nvSpPr>
              <p:spPr>
                <a:xfrm>
                  <a:off x="7877160" y="2657160"/>
                  <a:ext cx="4932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6" name=""/>
                <p:cNvSpPr/>
                <p:nvPr/>
              </p:nvSpPr>
              <p:spPr>
                <a:xfrm flipV="1">
                  <a:off x="7765560" y="2523600"/>
                  <a:ext cx="33120" cy="8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7" name=""/>
                <p:cNvSpPr/>
                <p:nvPr/>
              </p:nvSpPr>
              <p:spPr>
                <a:xfrm flipV="1">
                  <a:off x="8014680" y="2379240"/>
                  <a:ext cx="2124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8" name=""/>
                <p:cNvSpPr/>
                <p:nvPr/>
              </p:nvSpPr>
              <p:spPr>
                <a:xfrm>
                  <a:off x="8123760" y="2354760"/>
                  <a:ext cx="4536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69" name=""/>
                <p:cNvGrpSpPr/>
                <p:nvPr/>
              </p:nvGrpSpPr>
              <p:grpSpPr>
                <a:xfrm>
                  <a:off x="8120520" y="2436120"/>
                  <a:ext cx="152280" cy="164520"/>
                  <a:chOff x="8120520" y="2436120"/>
                  <a:chExt cx="152280" cy="164520"/>
                </a:xfrm>
              </p:grpSpPr>
              <p:sp>
                <p:nvSpPr>
                  <p:cNvPr id="6870" name=""/>
                  <p:cNvSpPr/>
                  <p:nvPr/>
                </p:nvSpPr>
                <p:spPr>
                  <a:xfrm rot="9142800">
                    <a:off x="8145360" y="2451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1" name=""/>
                  <p:cNvSpPr/>
                  <p:nvPr/>
                </p:nvSpPr>
                <p:spPr>
                  <a:xfrm>
                    <a:off x="8128440" y="2490840"/>
                    <a:ext cx="95400" cy="36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2" name=""/>
                  <p:cNvSpPr/>
                  <p:nvPr/>
                </p:nvSpPr>
                <p:spPr>
                  <a:xfrm>
                    <a:off x="8160120" y="25077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3" name=""/>
                  <p:cNvSpPr/>
                  <p:nvPr/>
                </p:nvSpPr>
                <p:spPr>
                  <a:xfrm flipV="1">
                    <a:off x="8183880" y="250416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"/>
                  <p:cNvSpPr/>
                  <p:nvPr/>
                </p:nvSpPr>
                <p:spPr>
                  <a:xfrm>
                    <a:off x="8197920" y="252072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5" name=""/>
                <p:cNvGrpSpPr/>
                <p:nvPr/>
              </p:nvGrpSpPr>
              <p:grpSpPr>
                <a:xfrm>
                  <a:off x="7919640" y="2405880"/>
                  <a:ext cx="147600" cy="123480"/>
                  <a:chOff x="7919640" y="2405880"/>
                  <a:chExt cx="147600" cy="123480"/>
                </a:xfrm>
              </p:grpSpPr>
              <p:sp>
                <p:nvSpPr>
                  <p:cNvPr id="6876" name=""/>
                  <p:cNvSpPr/>
                  <p:nvPr/>
                </p:nvSpPr>
                <p:spPr>
                  <a:xfrm rot="5984400">
                    <a:off x="7941960" y="24012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7" name=""/>
                  <p:cNvSpPr/>
                  <p:nvPr/>
                </p:nvSpPr>
                <p:spPr>
                  <a:xfrm flipV="1">
                    <a:off x="7930080" y="2451600"/>
                    <a:ext cx="86760" cy="54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"/>
                  <p:cNvSpPr/>
                  <p:nvPr/>
                </p:nvSpPr>
                <p:spPr>
                  <a:xfrm flipV="1">
                    <a:off x="7962840" y="2486880"/>
                    <a:ext cx="183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9" name=""/>
                  <p:cNvSpPr/>
                  <p:nvPr/>
                </p:nvSpPr>
                <p:spPr>
                  <a:xfrm flipV="1">
                    <a:off x="7977600" y="245304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0" name=""/>
                  <p:cNvSpPr/>
                  <p:nvPr/>
                </p:nvSpPr>
                <p:spPr>
                  <a:xfrm flipV="1">
                    <a:off x="7995960" y="2463840"/>
                    <a:ext cx="126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1" name=""/>
                <p:cNvGrpSpPr/>
                <p:nvPr/>
              </p:nvGrpSpPr>
              <p:grpSpPr>
                <a:xfrm>
                  <a:off x="7938360" y="2489040"/>
                  <a:ext cx="166680" cy="158040"/>
                  <a:chOff x="7938360" y="2489040"/>
                  <a:chExt cx="166680" cy="158040"/>
                </a:xfrm>
              </p:grpSpPr>
              <p:sp>
                <p:nvSpPr>
                  <p:cNvPr id="6882" name=""/>
                  <p:cNvSpPr/>
                  <p:nvPr/>
                </p:nvSpPr>
                <p:spPr>
                  <a:xfrm rot="7397400">
                    <a:off x="7970040" y="2501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"/>
                  <p:cNvSpPr/>
                  <p:nvPr/>
                </p:nvSpPr>
                <p:spPr>
                  <a:xfrm flipV="1">
                    <a:off x="7948800" y="2562840"/>
                    <a:ext cx="100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4" name=""/>
                  <p:cNvSpPr/>
                  <p:nvPr/>
                </p:nvSpPr>
                <p:spPr>
                  <a:xfrm>
                    <a:off x="7984440" y="25765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5" name=""/>
                  <p:cNvSpPr/>
                  <p:nvPr/>
                </p:nvSpPr>
                <p:spPr>
                  <a:xfrm flipV="1">
                    <a:off x="8005320" y="2552040"/>
                    <a:ext cx="162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6" name=""/>
                  <p:cNvSpPr/>
                  <p:nvPr/>
                </p:nvSpPr>
                <p:spPr>
                  <a:xfrm>
                    <a:off x="8024040" y="256968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87" name=""/>
                <p:cNvGrpSpPr/>
                <p:nvPr/>
              </p:nvGrpSpPr>
              <p:grpSpPr>
                <a:xfrm>
                  <a:off x="7868160" y="2210400"/>
                  <a:ext cx="146880" cy="176040"/>
                  <a:chOff x="7868160" y="2210400"/>
                  <a:chExt cx="146880" cy="176040"/>
                </a:xfrm>
              </p:grpSpPr>
              <p:sp>
                <p:nvSpPr>
                  <p:cNvPr id="6888" name=""/>
                  <p:cNvSpPr/>
                  <p:nvPr/>
                </p:nvSpPr>
                <p:spPr>
                  <a:xfrm rot="1566600">
                    <a:off x="7896960" y="2221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9" name=""/>
                  <p:cNvSpPr/>
                  <p:nvPr/>
                </p:nvSpPr>
                <p:spPr>
                  <a:xfrm flipH="1" flipV="1">
                    <a:off x="7935840" y="2269440"/>
                    <a:ext cx="140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0" name=""/>
                  <p:cNvSpPr/>
                  <p:nvPr/>
                </p:nvSpPr>
                <p:spPr>
                  <a:xfrm flipV="1">
                    <a:off x="7949160" y="231588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1" name=""/>
                  <p:cNvSpPr/>
                  <p:nvPr/>
                </p:nvSpPr>
                <p:spPr>
                  <a:xfrm flipH="1" flipV="1">
                    <a:off x="7926120" y="230256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2" name=""/>
                  <p:cNvSpPr/>
                  <p:nvPr/>
                </p:nvSpPr>
                <p:spPr>
                  <a:xfrm flipV="1">
                    <a:off x="7943400" y="228096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3" name=""/>
                <p:cNvGrpSpPr/>
                <p:nvPr/>
              </p:nvGrpSpPr>
              <p:grpSpPr>
                <a:xfrm>
                  <a:off x="8151120" y="2273400"/>
                  <a:ext cx="166680" cy="158040"/>
                  <a:chOff x="8151120" y="2273400"/>
                  <a:chExt cx="166680" cy="158040"/>
                </a:xfrm>
              </p:grpSpPr>
              <p:sp>
                <p:nvSpPr>
                  <p:cNvPr id="6894" name=""/>
                  <p:cNvSpPr/>
                  <p:nvPr/>
                </p:nvSpPr>
                <p:spPr>
                  <a:xfrm rot="7397400">
                    <a:off x="8182800" y="22860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5" name=""/>
                  <p:cNvSpPr/>
                  <p:nvPr/>
                </p:nvSpPr>
                <p:spPr>
                  <a:xfrm flipV="1">
                    <a:off x="8161200" y="2347200"/>
                    <a:ext cx="101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6" name=""/>
                  <p:cNvSpPr/>
                  <p:nvPr/>
                </p:nvSpPr>
                <p:spPr>
                  <a:xfrm>
                    <a:off x="8197200" y="236088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7" name=""/>
                  <p:cNvSpPr/>
                  <p:nvPr/>
                </p:nvSpPr>
                <p:spPr>
                  <a:xfrm flipV="1">
                    <a:off x="8218080" y="233640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8" name=""/>
                  <p:cNvSpPr/>
                  <p:nvPr/>
                </p:nvSpPr>
                <p:spPr>
                  <a:xfrm>
                    <a:off x="8236800" y="235404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9" name=""/>
                <p:cNvGrpSpPr/>
                <p:nvPr/>
              </p:nvGrpSpPr>
              <p:grpSpPr>
                <a:xfrm>
                  <a:off x="7905240" y="2576160"/>
                  <a:ext cx="166680" cy="158040"/>
                  <a:chOff x="7905240" y="2576160"/>
                  <a:chExt cx="166680" cy="158040"/>
                </a:xfrm>
              </p:grpSpPr>
              <p:sp>
                <p:nvSpPr>
                  <p:cNvPr id="6900" name=""/>
                  <p:cNvSpPr/>
                  <p:nvPr/>
                </p:nvSpPr>
                <p:spPr>
                  <a:xfrm rot="7397400">
                    <a:off x="7936920" y="25887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1" name=""/>
                  <p:cNvSpPr/>
                  <p:nvPr/>
                </p:nvSpPr>
                <p:spPr>
                  <a:xfrm flipV="1">
                    <a:off x="7915320" y="264996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2" name=""/>
                  <p:cNvSpPr/>
                  <p:nvPr/>
                </p:nvSpPr>
                <p:spPr>
                  <a:xfrm>
                    <a:off x="7951320" y="26636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3" name=""/>
                  <p:cNvSpPr/>
                  <p:nvPr/>
                </p:nvSpPr>
                <p:spPr>
                  <a:xfrm flipV="1">
                    <a:off x="7972200" y="263916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4" name=""/>
                  <p:cNvSpPr/>
                  <p:nvPr/>
                </p:nvSpPr>
                <p:spPr>
                  <a:xfrm>
                    <a:off x="7990920" y="265680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5" name=""/>
                <p:cNvGrpSpPr/>
                <p:nvPr/>
              </p:nvGrpSpPr>
              <p:grpSpPr>
                <a:xfrm>
                  <a:off x="8147160" y="2352600"/>
                  <a:ext cx="166680" cy="158040"/>
                  <a:chOff x="8147160" y="2352600"/>
                  <a:chExt cx="166680" cy="158040"/>
                </a:xfrm>
              </p:grpSpPr>
              <p:sp>
                <p:nvSpPr>
                  <p:cNvPr id="6906" name=""/>
                  <p:cNvSpPr/>
                  <p:nvPr/>
                </p:nvSpPr>
                <p:spPr>
                  <a:xfrm rot="7397400">
                    <a:off x="8178840" y="23652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7" name=""/>
                  <p:cNvSpPr/>
                  <p:nvPr/>
                </p:nvSpPr>
                <p:spPr>
                  <a:xfrm flipV="1">
                    <a:off x="8157240" y="2426040"/>
                    <a:ext cx="1008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8" name=""/>
                  <p:cNvSpPr/>
                  <p:nvPr/>
                </p:nvSpPr>
                <p:spPr>
                  <a:xfrm>
                    <a:off x="8193240" y="2440080"/>
                    <a:ext cx="180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"/>
                  <p:cNvSpPr/>
                  <p:nvPr/>
                </p:nvSpPr>
                <p:spPr>
                  <a:xfrm flipV="1">
                    <a:off x="8214120" y="241524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0" name=""/>
                  <p:cNvSpPr/>
                  <p:nvPr/>
                </p:nvSpPr>
                <p:spPr>
                  <a:xfrm>
                    <a:off x="8232480" y="243288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1" name=""/>
                <p:cNvGrpSpPr/>
                <p:nvPr/>
              </p:nvGrpSpPr>
              <p:grpSpPr>
                <a:xfrm>
                  <a:off x="7714440" y="2352240"/>
                  <a:ext cx="128880" cy="171360"/>
                  <a:chOff x="7714440" y="2352240"/>
                  <a:chExt cx="128880" cy="171360"/>
                </a:xfrm>
              </p:grpSpPr>
              <p:sp>
                <p:nvSpPr>
                  <p:cNvPr id="6912" name=""/>
                  <p:cNvSpPr/>
                  <p:nvPr/>
                </p:nvSpPr>
                <p:spPr>
                  <a:xfrm rot="995400">
                    <a:off x="7734240" y="2361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"/>
                  <p:cNvSpPr/>
                  <p:nvPr/>
                </p:nvSpPr>
                <p:spPr>
                  <a:xfrm flipH="1" flipV="1">
                    <a:off x="7768800" y="2410200"/>
                    <a:ext cx="30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4" name=""/>
                  <p:cNvSpPr/>
                  <p:nvPr/>
                </p:nvSpPr>
                <p:spPr>
                  <a:xfrm flipV="1">
                    <a:off x="7792920" y="245340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5" name=""/>
                  <p:cNvSpPr/>
                  <p:nvPr/>
                </p:nvSpPr>
                <p:spPr>
                  <a:xfrm flipH="1" flipV="1">
                    <a:off x="7764480" y="24444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6" name=""/>
                  <p:cNvSpPr/>
                  <p:nvPr/>
                </p:nvSpPr>
                <p:spPr>
                  <a:xfrm flipH="1" flipV="1">
                    <a:off x="7778520" y="242028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7" name=""/>
                <p:cNvGrpSpPr/>
                <p:nvPr/>
              </p:nvGrpSpPr>
              <p:grpSpPr>
                <a:xfrm>
                  <a:off x="7810200" y="2275200"/>
                  <a:ext cx="95760" cy="156240"/>
                  <a:chOff x="7810200" y="2275200"/>
                  <a:chExt cx="95760" cy="156240"/>
                </a:xfrm>
              </p:grpSpPr>
              <p:sp>
                <p:nvSpPr>
                  <p:cNvPr id="6918" name=""/>
                  <p:cNvSpPr/>
                  <p:nvPr/>
                </p:nvSpPr>
                <p:spPr>
                  <a:xfrm rot="156000">
                    <a:off x="7813440" y="22770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9" name=""/>
                  <p:cNvSpPr/>
                  <p:nvPr/>
                </p:nvSpPr>
                <p:spPr>
                  <a:xfrm flipH="1" flipV="1">
                    <a:off x="7841520" y="2329200"/>
                    <a:ext cx="5472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0" name=""/>
                  <p:cNvSpPr/>
                  <p:nvPr/>
                </p:nvSpPr>
                <p:spPr>
                  <a:xfrm flipH="1" flipV="1">
                    <a:off x="7875720" y="236484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1" name=""/>
                  <p:cNvSpPr/>
                  <p:nvPr/>
                </p:nvSpPr>
                <p:spPr>
                  <a:xfrm flipH="1" flipV="1">
                    <a:off x="7845840" y="236304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"/>
                  <p:cNvSpPr/>
                  <p:nvPr/>
                </p:nvSpPr>
                <p:spPr>
                  <a:xfrm flipH="1" flipV="1">
                    <a:off x="7853400" y="233640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3" name=""/>
                <p:cNvGrpSpPr/>
                <p:nvPr/>
              </p:nvGrpSpPr>
              <p:grpSpPr>
                <a:xfrm>
                  <a:off x="8067960" y="2153520"/>
                  <a:ext cx="153360" cy="176400"/>
                  <a:chOff x="8067960" y="2153520"/>
                  <a:chExt cx="153360" cy="176400"/>
                </a:xfrm>
              </p:grpSpPr>
              <p:sp>
                <p:nvSpPr>
                  <p:cNvPr id="6924" name=""/>
                  <p:cNvSpPr/>
                  <p:nvPr/>
                </p:nvSpPr>
                <p:spPr>
                  <a:xfrm rot="1807800">
                    <a:off x="8100000" y="2165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5" name=""/>
                  <p:cNvSpPr/>
                  <p:nvPr/>
                </p:nvSpPr>
                <p:spPr>
                  <a:xfrm flipH="1" flipV="1">
                    <a:off x="8141040" y="2212200"/>
                    <a:ext cx="6480" cy="10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6" name=""/>
                  <p:cNvSpPr/>
                  <p:nvPr/>
                </p:nvSpPr>
                <p:spPr>
                  <a:xfrm flipV="1">
                    <a:off x="8149680" y="2259720"/>
                    <a:ext cx="50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7" name=""/>
                  <p:cNvSpPr/>
                  <p:nvPr/>
                </p:nvSpPr>
                <p:spPr>
                  <a:xfrm flipH="1" flipV="1">
                    <a:off x="8129160" y="2244600"/>
                    <a:ext cx="11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8" name=""/>
                  <p:cNvSpPr/>
                  <p:nvPr/>
                </p:nvSpPr>
                <p:spPr>
                  <a:xfrm flipV="1">
                    <a:off x="8146800" y="222444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9" name=""/>
                <p:cNvGrpSpPr/>
                <p:nvPr/>
              </p:nvGrpSpPr>
              <p:grpSpPr>
                <a:xfrm>
                  <a:off x="8007480" y="2133000"/>
                  <a:ext cx="117000" cy="166680"/>
                  <a:chOff x="8007480" y="2133000"/>
                  <a:chExt cx="117000" cy="166680"/>
                </a:xfrm>
              </p:grpSpPr>
              <p:sp>
                <p:nvSpPr>
                  <p:cNvPr id="6930" name=""/>
                  <p:cNvSpPr/>
                  <p:nvPr/>
                </p:nvSpPr>
                <p:spPr>
                  <a:xfrm rot="679200">
                    <a:off x="8021520" y="2140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1" name=""/>
                  <p:cNvSpPr/>
                  <p:nvPr/>
                </p:nvSpPr>
                <p:spPr>
                  <a:xfrm flipH="1" flipV="1">
                    <a:off x="8053560" y="2190240"/>
                    <a:ext cx="4032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2" name=""/>
                  <p:cNvSpPr/>
                  <p:nvPr/>
                </p:nvSpPr>
                <p:spPr>
                  <a:xfrm flipH="1" flipV="1">
                    <a:off x="8081640" y="22305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3" name=""/>
                  <p:cNvSpPr/>
                  <p:nvPr/>
                </p:nvSpPr>
                <p:spPr>
                  <a:xfrm flipH="1" flipV="1">
                    <a:off x="8052480" y="222444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4" name=""/>
                  <p:cNvSpPr/>
                  <p:nvPr/>
                </p:nvSpPr>
                <p:spPr>
                  <a:xfrm flipH="1" flipV="1">
                    <a:off x="8064360" y="2199240"/>
                    <a:ext cx="28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35" name=""/>
                <p:cNvGrpSpPr/>
                <p:nvPr/>
              </p:nvGrpSpPr>
              <p:grpSpPr>
                <a:xfrm>
                  <a:off x="7952040" y="2236320"/>
                  <a:ext cx="135720" cy="173520"/>
                  <a:chOff x="7952040" y="2236320"/>
                  <a:chExt cx="135720" cy="173520"/>
                </a:xfrm>
              </p:grpSpPr>
              <p:sp>
                <p:nvSpPr>
                  <p:cNvPr id="6936" name=""/>
                  <p:cNvSpPr/>
                  <p:nvPr/>
                </p:nvSpPr>
                <p:spPr>
                  <a:xfrm rot="1198800">
                    <a:off x="7975440" y="2246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7" name=""/>
                  <p:cNvSpPr/>
                  <p:nvPr/>
                </p:nvSpPr>
                <p:spPr>
                  <a:xfrm flipH="1" flipV="1">
                    <a:off x="8011440" y="2294640"/>
                    <a:ext cx="25200" cy="10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8" name=""/>
                  <p:cNvSpPr/>
                  <p:nvPr/>
                </p:nvSpPr>
                <p:spPr>
                  <a:xfrm flipV="1">
                    <a:off x="8031960" y="23392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9" name=""/>
                  <p:cNvSpPr/>
                  <p:nvPr/>
                </p:nvSpPr>
                <p:spPr>
                  <a:xfrm flipH="1" flipV="1">
                    <a:off x="8005320" y="232848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0" name=""/>
                  <p:cNvSpPr/>
                  <p:nvPr/>
                </p:nvSpPr>
                <p:spPr>
                  <a:xfrm flipH="1" flipV="1">
                    <a:off x="8020800" y="230544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1" name=""/>
                <p:cNvGrpSpPr/>
                <p:nvPr/>
              </p:nvGrpSpPr>
              <p:grpSpPr>
                <a:xfrm>
                  <a:off x="8075160" y="2276280"/>
                  <a:ext cx="171360" cy="169560"/>
                  <a:chOff x="8075160" y="2276280"/>
                  <a:chExt cx="171360" cy="169560"/>
                </a:xfrm>
              </p:grpSpPr>
              <p:sp>
                <p:nvSpPr>
                  <p:cNvPr id="6942" name=""/>
                  <p:cNvSpPr/>
                  <p:nvPr/>
                </p:nvSpPr>
                <p:spPr>
                  <a:xfrm rot="2782800">
                    <a:off x="8116200" y="2284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3" name=""/>
                  <p:cNvSpPr/>
                  <p:nvPr/>
                </p:nvSpPr>
                <p:spPr>
                  <a:xfrm flipV="1">
                    <a:off x="8142480" y="2332080"/>
                    <a:ext cx="2340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"/>
                  <p:cNvSpPr/>
                  <p:nvPr/>
                </p:nvSpPr>
                <p:spPr>
                  <a:xfrm flipV="1">
                    <a:off x="8155080" y="23814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5" name=""/>
                  <p:cNvSpPr/>
                  <p:nvPr/>
                </p:nvSpPr>
                <p:spPr>
                  <a:xfrm flipH="1" flipV="1">
                    <a:off x="8145360" y="235944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6" name=""/>
                  <p:cNvSpPr/>
                  <p:nvPr/>
                </p:nvSpPr>
                <p:spPr>
                  <a:xfrm flipV="1">
                    <a:off x="8163720" y="23454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7" name=""/>
                <p:cNvGrpSpPr/>
                <p:nvPr/>
              </p:nvGrpSpPr>
              <p:grpSpPr>
                <a:xfrm>
                  <a:off x="7915320" y="2485440"/>
                  <a:ext cx="147240" cy="122760"/>
                  <a:chOff x="7915320" y="2485440"/>
                  <a:chExt cx="147240" cy="122760"/>
                </a:xfrm>
              </p:grpSpPr>
              <p:sp>
                <p:nvSpPr>
                  <p:cNvPr id="6948" name=""/>
                  <p:cNvSpPr/>
                  <p:nvPr/>
                </p:nvSpPr>
                <p:spPr>
                  <a:xfrm rot="4833600">
                    <a:off x="7937280" y="24807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9" name=""/>
                  <p:cNvSpPr/>
                  <p:nvPr/>
                </p:nvSpPr>
                <p:spPr>
                  <a:xfrm flipV="1">
                    <a:off x="7941600" y="2523960"/>
                    <a:ext cx="6444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0" name=""/>
                  <p:cNvSpPr/>
                  <p:nvPr/>
                </p:nvSpPr>
                <p:spPr>
                  <a:xfrm flipV="1">
                    <a:off x="7967520" y="2568960"/>
                    <a:ext cx="162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1" name=""/>
                  <p:cNvSpPr/>
                  <p:nvPr/>
                </p:nvSpPr>
                <p:spPr>
                  <a:xfrm flipV="1">
                    <a:off x="7975440" y="253512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2" name=""/>
                  <p:cNvSpPr/>
                  <p:nvPr/>
                </p:nvSpPr>
                <p:spPr>
                  <a:xfrm flipV="1">
                    <a:off x="7991640" y="2538000"/>
                    <a:ext cx="104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3" name=""/>
                <p:cNvGrpSpPr/>
                <p:nvPr/>
              </p:nvGrpSpPr>
              <p:grpSpPr>
                <a:xfrm>
                  <a:off x="7881480" y="2679120"/>
                  <a:ext cx="122760" cy="169200"/>
                  <a:chOff x="7881480" y="2679120"/>
                  <a:chExt cx="122760" cy="169200"/>
                </a:xfrm>
              </p:grpSpPr>
              <p:sp>
                <p:nvSpPr>
                  <p:cNvPr id="6954" name=""/>
                  <p:cNvSpPr/>
                  <p:nvPr/>
                </p:nvSpPr>
                <p:spPr>
                  <a:xfrm rot="11631000">
                    <a:off x="7898400" y="2687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5" name=""/>
                  <p:cNvSpPr/>
                  <p:nvPr/>
                </p:nvSpPr>
                <p:spPr>
                  <a:xfrm>
                    <a:off x="7918560" y="2691360"/>
                    <a:ext cx="3564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6" name=""/>
                  <p:cNvSpPr/>
                  <p:nvPr/>
                </p:nvSpPr>
                <p:spPr>
                  <a:xfrm>
                    <a:off x="7927200" y="272844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"/>
                  <p:cNvSpPr/>
                  <p:nvPr/>
                </p:nvSpPr>
                <p:spPr>
                  <a:xfrm>
                    <a:off x="7941240" y="2746080"/>
                    <a:ext cx="15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8" name=""/>
                  <p:cNvSpPr/>
                  <p:nvPr/>
                </p:nvSpPr>
                <p:spPr>
                  <a:xfrm>
                    <a:off x="7941600" y="2767320"/>
                    <a:ext cx="25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59" name=""/>
                <p:cNvGrpSpPr/>
                <p:nvPr/>
              </p:nvGrpSpPr>
              <p:grpSpPr>
                <a:xfrm>
                  <a:off x="7746840" y="2700360"/>
                  <a:ext cx="127080" cy="170640"/>
                  <a:chOff x="7746840" y="2700360"/>
                  <a:chExt cx="127080" cy="170640"/>
                </a:xfrm>
              </p:grpSpPr>
              <p:sp>
                <p:nvSpPr>
                  <p:cNvPr id="6960" name=""/>
                  <p:cNvSpPr/>
                  <p:nvPr/>
                </p:nvSpPr>
                <p:spPr>
                  <a:xfrm rot="11751000">
                    <a:off x="7765920" y="2709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1" name=""/>
                  <p:cNvSpPr/>
                  <p:nvPr/>
                </p:nvSpPr>
                <p:spPr>
                  <a:xfrm>
                    <a:off x="7788240" y="2712240"/>
                    <a:ext cx="3240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2" name=""/>
                  <p:cNvSpPr/>
                  <p:nvPr/>
                </p:nvSpPr>
                <p:spPr>
                  <a:xfrm>
                    <a:off x="7795800" y="274968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3" name=""/>
                  <p:cNvSpPr/>
                  <p:nvPr/>
                </p:nvSpPr>
                <p:spPr>
                  <a:xfrm>
                    <a:off x="7809120" y="276768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4" name=""/>
                  <p:cNvSpPr/>
                  <p:nvPr/>
                </p:nvSpPr>
                <p:spPr>
                  <a:xfrm>
                    <a:off x="7808760" y="278892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65" name=""/>
                <p:cNvGrpSpPr/>
                <p:nvPr/>
              </p:nvGrpSpPr>
              <p:grpSpPr>
                <a:xfrm>
                  <a:off x="7805880" y="2417760"/>
                  <a:ext cx="134280" cy="105480"/>
                  <a:chOff x="7805880" y="2417760"/>
                  <a:chExt cx="134280" cy="105480"/>
                </a:xfrm>
              </p:grpSpPr>
              <p:sp>
                <p:nvSpPr>
                  <p:cNvPr id="6966" name=""/>
                  <p:cNvSpPr/>
                  <p:nvPr/>
                </p:nvSpPr>
                <p:spPr>
                  <a:xfrm rot="5323200">
                    <a:off x="7821720" y="2404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7" name=""/>
                  <p:cNvSpPr/>
                  <p:nvPr/>
                </p:nvSpPr>
                <p:spPr>
                  <a:xfrm flipV="1">
                    <a:off x="7818480" y="2450520"/>
                    <a:ext cx="7452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8" name=""/>
                  <p:cNvSpPr/>
                  <p:nvPr/>
                </p:nvSpPr>
                <p:spPr>
                  <a:xfrm flipV="1">
                    <a:off x="7847280" y="24919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9" name=""/>
                  <p:cNvSpPr/>
                  <p:nvPr/>
                </p:nvSpPr>
                <p:spPr>
                  <a:xfrm flipV="1">
                    <a:off x="7858440" y="245772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0" name=""/>
                  <p:cNvSpPr/>
                  <p:nvPr/>
                </p:nvSpPr>
                <p:spPr>
                  <a:xfrm flipV="1">
                    <a:off x="7876080" y="246384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1" name=""/>
                <p:cNvGrpSpPr/>
                <p:nvPr/>
              </p:nvGrpSpPr>
              <p:grpSpPr>
                <a:xfrm>
                  <a:off x="7907040" y="2271960"/>
                  <a:ext cx="167400" cy="118440"/>
                  <a:chOff x="7907040" y="2271960"/>
                  <a:chExt cx="167400" cy="118440"/>
                </a:xfrm>
              </p:grpSpPr>
              <p:sp>
                <p:nvSpPr>
                  <p:cNvPr id="6972" name=""/>
                  <p:cNvSpPr/>
                  <p:nvPr/>
                </p:nvSpPr>
                <p:spPr>
                  <a:xfrm rot="4687800">
                    <a:off x="7945920" y="2254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3" name=""/>
                  <p:cNvSpPr/>
                  <p:nvPr/>
                </p:nvSpPr>
                <p:spPr>
                  <a:xfrm flipV="1">
                    <a:off x="7935840" y="2309040"/>
                    <a:ext cx="7452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4" name=""/>
                  <p:cNvSpPr/>
                  <p:nvPr/>
                </p:nvSpPr>
                <p:spPr>
                  <a:xfrm flipV="1">
                    <a:off x="7965360" y="2351160"/>
                    <a:ext cx="187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5" name=""/>
                  <p:cNvSpPr/>
                  <p:nvPr/>
                </p:nvSpPr>
                <p:spPr>
                  <a:xfrm flipV="1">
                    <a:off x="7975080" y="2321640"/>
                    <a:ext cx="32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6" name=""/>
                  <p:cNvSpPr/>
                  <p:nvPr/>
                </p:nvSpPr>
                <p:spPr>
                  <a:xfrm flipV="1">
                    <a:off x="7994160" y="2322360"/>
                    <a:ext cx="118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77" name=""/>
                <p:cNvGrpSpPr/>
                <p:nvPr/>
              </p:nvGrpSpPr>
              <p:grpSpPr>
                <a:xfrm>
                  <a:off x="8059320" y="2179080"/>
                  <a:ext cx="169560" cy="124200"/>
                  <a:chOff x="8059320" y="2179080"/>
                  <a:chExt cx="169560" cy="124200"/>
                </a:xfrm>
              </p:grpSpPr>
              <p:sp>
                <p:nvSpPr>
                  <p:cNvPr id="6978" name=""/>
                  <p:cNvSpPr/>
                  <p:nvPr/>
                </p:nvSpPr>
                <p:spPr>
                  <a:xfrm rot="4527600">
                    <a:off x="8099280" y="2165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"/>
                  <p:cNvSpPr/>
                  <p:nvPr/>
                </p:nvSpPr>
                <p:spPr>
                  <a:xfrm flipV="1">
                    <a:off x="8092080" y="2218680"/>
                    <a:ext cx="7056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0" name=""/>
                  <p:cNvSpPr/>
                  <p:nvPr/>
                </p:nvSpPr>
                <p:spPr>
                  <a:xfrm flipV="1">
                    <a:off x="8120520" y="2261880"/>
                    <a:ext cx="180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1" name=""/>
                  <p:cNvSpPr/>
                  <p:nvPr/>
                </p:nvSpPr>
                <p:spPr>
                  <a:xfrm flipV="1">
                    <a:off x="8129160" y="2232720"/>
                    <a:ext cx="21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2" name=""/>
                  <p:cNvSpPr/>
                  <p:nvPr/>
                </p:nvSpPr>
                <p:spPr>
                  <a:xfrm flipV="1">
                    <a:off x="8147520" y="223236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3" name=""/>
                <p:cNvGrpSpPr/>
                <p:nvPr/>
              </p:nvGrpSpPr>
              <p:grpSpPr>
                <a:xfrm>
                  <a:off x="8152920" y="2207160"/>
                  <a:ext cx="138960" cy="111240"/>
                  <a:chOff x="8152920" y="2207160"/>
                  <a:chExt cx="138960" cy="111240"/>
                </a:xfrm>
              </p:grpSpPr>
              <p:sp>
                <p:nvSpPr>
                  <p:cNvPr id="6984" name=""/>
                  <p:cNvSpPr/>
                  <p:nvPr/>
                </p:nvSpPr>
                <p:spPr>
                  <a:xfrm rot="5160000">
                    <a:off x="8170920" y="2196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5" name=""/>
                  <p:cNvSpPr/>
                  <p:nvPr/>
                </p:nvSpPr>
                <p:spPr>
                  <a:xfrm flipV="1">
                    <a:off x="8169840" y="2241360"/>
                    <a:ext cx="7128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6" name=""/>
                  <p:cNvSpPr/>
                  <p:nvPr/>
                </p:nvSpPr>
                <p:spPr>
                  <a:xfrm flipV="1">
                    <a:off x="8197920" y="228420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7" name=""/>
                  <p:cNvSpPr/>
                  <p:nvPr/>
                </p:nvSpPr>
                <p:spPr>
                  <a:xfrm flipV="1">
                    <a:off x="8208000" y="225036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"/>
                  <p:cNvSpPr/>
                  <p:nvPr/>
                </p:nvSpPr>
                <p:spPr>
                  <a:xfrm flipV="1">
                    <a:off x="8224920" y="22557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89" name=""/>
              <p:cNvGrpSpPr/>
              <p:nvPr/>
            </p:nvGrpSpPr>
            <p:grpSpPr>
              <a:xfrm>
                <a:off x="7560360" y="2986560"/>
                <a:ext cx="645120" cy="762120"/>
                <a:chOff x="7560360" y="2986560"/>
                <a:chExt cx="645120" cy="762120"/>
              </a:xfrm>
            </p:grpSpPr>
            <p:grpSp>
              <p:nvGrpSpPr>
                <p:cNvPr id="6990" name=""/>
                <p:cNvGrpSpPr/>
                <p:nvPr/>
              </p:nvGrpSpPr>
              <p:grpSpPr>
                <a:xfrm>
                  <a:off x="7958880" y="3344760"/>
                  <a:ext cx="96480" cy="156240"/>
                  <a:chOff x="7958880" y="3344760"/>
                  <a:chExt cx="96480" cy="156240"/>
                </a:xfrm>
              </p:grpSpPr>
              <p:sp>
                <p:nvSpPr>
                  <p:cNvPr id="6991" name=""/>
                  <p:cNvSpPr/>
                  <p:nvPr/>
                </p:nvSpPr>
                <p:spPr>
                  <a:xfrm rot="10627200">
                    <a:off x="7962480" y="3346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"/>
                  <p:cNvSpPr/>
                  <p:nvPr/>
                </p:nvSpPr>
                <p:spPr>
                  <a:xfrm>
                    <a:off x="7962480" y="3360600"/>
                    <a:ext cx="6300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3" name=""/>
                  <p:cNvSpPr/>
                  <p:nvPr/>
                </p:nvSpPr>
                <p:spPr>
                  <a:xfrm>
                    <a:off x="7981560" y="339336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4" name=""/>
                  <p:cNvSpPr/>
                  <p:nvPr/>
                </p:nvSpPr>
                <p:spPr>
                  <a:xfrm>
                    <a:off x="8000280" y="340632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5" name=""/>
                  <p:cNvSpPr/>
                  <p:nvPr/>
                </p:nvSpPr>
                <p:spPr>
                  <a:xfrm>
                    <a:off x="8006760" y="342648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6" name=""/>
                <p:cNvSpPr/>
                <p:nvPr/>
              </p:nvSpPr>
              <p:spPr>
                <a:xfrm flipV="1">
                  <a:off x="7778160" y="3239640"/>
                  <a:ext cx="54720" cy="22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7" name=""/>
                <p:cNvSpPr/>
                <p:nvPr/>
              </p:nvSpPr>
              <p:spPr>
                <a:xfrm rot="6811800">
                  <a:off x="7507080" y="322920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8" name=""/>
                <p:cNvSpPr/>
                <p:nvPr/>
              </p:nvSpPr>
              <p:spPr>
                <a:xfrm flipV="1">
                  <a:off x="7896600" y="3313440"/>
                  <a:ext cx="16308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9" name=""/>
                <p:cNvSpPr/>
                <p:nvPr/>
              </p:nvSpPr>
              <p:spPr>
                <a:xfrm flipV="1">
                  <a:off x="7588080" y="3525120"/>
                  <a:ext cx="27216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0" name=""/>
                <p:cNvSpPr/>
                <p:nvPr/>
              </p:nvSpPr>
              <p:spPr>
                <a:xfrm flipH="1" flipV="1">
                  <a:off x="7787880" y="3294360"/>
                  <a:ext cx="1800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1" name=""/>
                <p:cNvSpPr/>
                <p:nvPr/>
              </p:nvSpPr>
              <p:spPr>
                <a:xfrm flipV="1">
                  <a:off x="7796880" y="3367800"/>
                  <a:ext cx="4536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2" name=""/>
                <p:cNvSpPr/>
                <p:nvPr/>
              </p:nvSpPr>
              <p:spPr>
                <a:xfrm flipV="1">
                  <a:off x="7969680" y="3263400"/>
                  <a:ext cx="9072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3" name=""/>
                <p:cNvSpPr/>
                <p:nvPr/>
              </p:nvSpPr>
              <p:spPr>
                <a:xfrm>
                  <a:off x="7942320" y="3336480"/>
                  <a:ext cx="4500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4" name=""/>
                <p:cNvSpPr/>
                <p:nvPr/>
              </p:nvSpPr>
              <p:spPr>
                <a:xfrm flipH="1" flipV="1">
                  <a:off x="7960680" y="3144960"/>
                  <a:ext cx="900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5" name=""/>
                <p:cNvSpPr/>
                <p:nvPr/>
              </p:nvSpPr>
              <p:spPr>
                <a:xfrm flipV="1">
                  <a:off x="7724160" y="3433680"/>
                  <a:ext cx="15444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6" name=""/>
                <p:cNvSpPr/>
                <p:nvPr/>
              </p:nvSpPr>
              <p:spPr>
                <a:xfrm flipV="1">
                  <a:off x="7815600" y="3475440"/>
                  <a:ext cx="446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7" name=""/>
                <p:cNvSpPr/>
                <p:nvPr/>
              </p:nvSpPr>
              <p:spPr>
                <a:xfrm>
                  <a:off x="7679160" y="3545640"/>
                  <a:ext cx="6300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8" name=""/>
                <p:cNvSpPr/>
                <p:nvPr/>
              </p:nvSpPr>
              <p:spPr>
                <a:xfrm>
                  <a:off x="7814880" y="3530160"/>
                  <a:ext cx="54000" cy="2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9" name=""/>
                <p:cNvSpPr/>
                <p:nvPr/>
              </p:nvSpPr>
              <p:spPr>
                <a:xfrm flipV="1">
                  <a:off x="7696800" y="3412080"/>
                  <a:ext cx="1800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0" name=""/>
                <p:cNvSpPr/>
                <p:nvPr/>
              </p:nvSpPr>
              <p:spPr>
                <a:xfrm flipV="1">
                  <a:off x="7914600" y="3229560"/>
                  <a:ext cx="972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1" name=""/>
                <p:cNvSpPr/>
                <p:nvPr/>
              </p:nvSpPr>
              <p:spPr>
                <a:xfrm flipV="1">
                  <a:off x="8006400" y="3184920"/>
                  <a:ext cx="4536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12" name=""/>
                <p:cNvGrpSpPr/>
                <p:nvPr/>
              </p:nvGrpSpPr>
              <p:grpSpPr>
                <a:xfrm>
                  <a:off x="8025480" y="3255480"/>
                  <a:ext cx="161640" cy="167400"/>
                  <a:chOff x="8025480" y="3255480"/>
                  <a:chExt cx="161640" cy="167400"/>
                </a:xfrm>
              </p:grpSpPr>
              <p:sp>
                <p:nvSpPr>
                  <p:cNvPr id="7013" name=""/>
                  <p:cNvSpPr/>
                  <p:nvPr/>
                </p:nvSpPr>
                <p:spPr>
                  <a:xfrm rot="8557200">
                    <a:off x="8054640" y="3273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4" name=""/>
                  <p:cNvSpPr/>
                  <p:nvPr/>
                </p:nvSpPr>
                <p:spPr>
                  <a:xfrm>
                    <a:off x="8034120" y="3323880"/>
                    <a:ext cx="10008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5" name=""/>
                  <p:cNvSpPr/>
                  <p:nvPr/>
                </p:nvSpPr>
                <p:spPr>
                  <a:xfrm>
                    <a:off x="8068320" y="333504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"/>
                  <p:cNvSpPr/>
                  <p:nvPr/>
                </p:nvSpPr>
                <p:spPr>
                  <a:xfrm flipV="1">
                    <a:off x="8091720" y="3323880"/>
                    <a:ext cx="19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7" name=""/>
                  <p:cNvSpPr/>
                  <p:nvPr/>
                </p:nvSpPr>
                <p:spPr>
                  <a:xfrm>
                    <a:off x="8107920" y="334152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18" name=""/>
                <p:cNvGrpSpPr/>
                <p:nvPr/>
              </p:nvGrpSpPr>
              <p:grpSpPr>
                <a:xfrm>
                  <a:off x="7831080" y="3272400"/>
                  <a:ext cx="132120" cy="102600"/>
                  <a:chOff x="7831080" y="3272400"/>
                  <a:chExt cx="132120" cy="102600"/>
                </a:xfrm>
              </p:grpSpPr>
              <p:sp>
                <p:nvSpPr>
                  <p:cNvPr id="7019" name=""/>
                  <p:cNvSpPr/>
                  <p:nvPr/>
                </p:nvSpPr>
                <p:spPr>
                  <a:xfrm rot="5398800">
                    <a:off x="7845840" y="3257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0" name=""/>
                  <p:cNvSpPr/>
                  <p:nvPr/>
                </p:nvSpPr>
                <p:spPr>
                  <a:xfrm flipV="1">
                    <a:off x="7841160" y="3304080"/>
                    <a:ext cx="76320" cy="67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"/>
                  <p:cNvSpPr/>
                  <p:nvPr/>
                </p:nvSpPr>
                <p:spPr>
                  <a:xfrm flipV="1">
                    <a:off x="7870680" y="334476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2" name=""/>
                  <p:cNvSpPr/>
                  <p:nvPr/>
                </p:nvSpPr>
                <p:spPr>
                  <a:xfrm flipV="1">
                    <a:off x="7882200" y="33105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3" name=""/>
                  <p:cNvSpPr/>
                  <p:nvPr/>
                </p:nvSpPr>
                <p:spPr>
                  <a:xfrm flipV="1">
                    <a:off x="7899840" y="3317400"/>
                    <a:ext cx="115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4" name=""/>
                <p:cNvGrpSpPr/>
                <p:nvPr/>
              </p:nvGrpSpPr>
              <p:grpSpPr>
                <a:xfrm>
                  <a:off x="7861320" y="3344400"/>
                  <a:ext cx="162000" cy="146880"/>
                  <a:chOff x="7861320" y="3344400"/>
                  <a:chExt cx="162000" cy="146880"/>
                </a:xfrm>
              </p:grpSpPr>
              <p:sp>
                <p:nvSpPr>
                  <p:cNvPr id="7025" name=""/>
                  <p:cNvSpPr/>
                  <p:nvPr/>
                </p:nvSpPr>
                <p:spPr>
                  <a:xfrm rot="6811800">
                    <a:off x="7890840" y="3351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6" name=""/>
                  <p:cNvSpPr/>
                  <p:nvPr/>
                </p:nvSpPr>
                <p:spPr>
                  <a:xfrm flipV="1">
                    <a:off x="7871760" y="3408120"/>
                    <a:ext cx="9684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7" name=""/>
                  <p:cNvSpPr/>
                  <p:nvPr/>
                </p:nvSpPr>
                <p:spPr>
                  <a:xfrm>
                    <a:off x="7907040" y="34326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8" name=""/>
                  <p:cNvSpPr/>
                  <p:nvPr/>
                </p:nvSpPr>
                <p:spPr>
                  <a:xfrm flipV="1">
                    <a:off x="7925760" y="34020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9" name=""/>
                  <p:cNvSpPr/>
                  <p:nvPr/>
                </p:nvSpPr>
                <p:spPr>
                  <a:xfrm flipV="1">
                    <a:off x="7944480" y="3417840"/>
                    <a:ext cx="133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0" name=""/>
                <p:cNvGrpSpPr/>
                <p:nvPr/>
              </p:nvGrpSpPr>
              <p:grpSpPr>
                <a:xfrm>
                  <a:off x="7753320" y="3080520"/>
                  <a:ext cx="128160" cy="171000"/>
                  <a:chOff x="7753320" y="3080520"/>
                  <a:chExt cx="128160" cy="171000"/>
                </a:xfrm>
              </p:grpSpPr>
              <p:sp>
                <p:nvSpPr>
                  <p:cNvPr id="7031" name=""/>
                  <p:cNvSpPr/>
                  <p:nvPr/>
                </p:nvSpPr>
                <p:spPr>
                  <a:xfrm rot="981000">
                    <a:off x="7772760" y="3089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2" name=""/>
                  <p:cNvSpPr/>
                  <p:nvPr/>
                </p:nvSpPr>
                <p:spPr>
                  <a:xfrm flipH="1" flipV="1">
                    <a:off x="7806960" y="3138480"/>
                    <a:ext cx="3168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3" name=""/>
                  <p:cNvSpPr/>
                  <p:nvPr/>
                </p:nvSpPr>
                <p:spPr>
                  <a:xfrm flipV="1">
                    <a:off x="7831440" y="318132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4" name=""/>
                  <p:cNvSpPr/>
                  <p:nvPr/>
                </p:nvSpPr>
                <p:spPr>
                  <a:xfrm flipH="1" flipV="1">
                    <a:off x="7803000" y="317232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5" name=""/>
                  <p:cNvSpPr/>
                  <p:nvPr/>
                </p:nvSpPr>
                <p:spPr>
                  <a:xfrm flipH="1" flipV="1">
                    <a:off x="7816680" y="314820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36" name=""/>
                <p:cNvGrpSpPr/>
                <p:nvPr/>
              </p:nvGrpSpPr>
              <p:grpSpPr>
                <a:xfrm>
                  <a:off x="8034120" y="3095640"/>
                  <a:ext cx="162000" cy="146880"/>
                  <a:chOff x="8034120" y="3095640"/>
                  <a:chExt cx="162000" cy="146880"/>
                </a:xfrm>
              </p:grpSpPr>
              <p:sp>
                <p:nvSpPr>
                  <p:cNvPr id="7037" name=""/>
                  <p:cNvSpPr/>
                  <p:nvPr/>
                </p:nvSpPr>
                <p:spPr>
                  <a:xfrm rot="6811800">
                    <a:off x="8063640" y="3102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8" name=""/>
                  <p:cNvSpPr/>
                  <p:nvPr/>
                </p:nvSpPr>
                <p:spPr>
                  <a:xfrm flipV="1">
                    <a:off x="8044560" y="3159360"/>
                    <a:ext cx="9720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9" name=""/>
                  <p:cNvSpPr/>
                  <p:nvPr/>
                </p:nvSpPr>
                <p:spPr>
                  <a:xfrm>
                    <a:off x="8079840" y="318384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0" name=""/>
                  <p:cNvSpPr/>
                  <p:nvPr/>
                </p:nvSpPr>
                <p:spPr>
                  <a:xfrm flipV="1">
                    <a:off x="8098560" y="31536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1" name=""/>
                  <p:cNvSpPr/>
                  <p:nvPr/>
                </p:nvSpPr>
                <p:spPr>
                  <a:xfrm flipV="1">
                    <a:off x="8117640" y="31690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2" name=""/>
                <p:cNvGrpSpPr/>
                <p:nvPr/>
              </p:nvGrpSpPr>
              <p:grpSpPr>
                <a:xfrm>
                  <a:off x="7843320" y="3435840"/>
                  <a:ext cx="162000" cy="146880"/>
                  <a:chOff x="7843320" y="3435840"/>
                  <a:chExt cx="162000" cy="146880"/>
                </a:xfrm>
              </p:grpSpPr>
              <p:sp>
                <p:nvSpPr>
                  <p:cNvPr id="7043" name=""/>
                  <p:cNvSpPr/>
                  <p:nvPr/>
                </p:nvSpPr>
                <p:spPr>
                  <a:xfrm rot="6811800">
                    <a:off x="7872840" y="3443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4" name=""/>
                  <p:cNvSpPr/>
                  <p:nvPr/>
                </p:nvSpPr>
                <p:spPr>
                  <a:xfrm flipV="1">
                    <a:off x="7853760" y="3499560"/>
                    <a:ext cx="9720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"/>
                  <p:cNvSpPr/>
                  <p:nvPr/>
                </p:nvSpPr>
                <p:spPr>
                  <a:xfrm>
                    <a:off x="7889040" y="352404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6" name=""/>
                  <p:cNvSpPr/>
                  <p:nvPr/>
                </p:nvSpPr>
                <p:spPr>
                  <a:xfrm flipV="1">
                    <a:off x="7907760" y="34938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7" name=""/>
                  <p:cNvSpPr/>
                  <p:nvPr/>
                </p:nvSpPr>
                <p:spPr>
                  <a:xfrm flipV="1">
                    <a:off x="7926840" y="35092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48" name=""/>
                <p:cNvGrpSpPr/>
                <p:nvPr/>
              </p:nvGrpSpPr>
              <p:grpSpPr>
                <a:xfrm>
                  <a:off x="8043480" y="3174480"/>
                  <a:ext cx="162000" cy="146880"/>
                  <a:chOff x="8043480" y="3174480"/>
                  <a:chExt cx="162000" cy="146880"/>
                </a:xfrm>
              </p:grpSpPr>
              <p:sp>
                <p:nvSpPr>
                  <p:cNvPr id="7049" name=""/>
                  <p:cNvSpPr/>
                  <p:nvPr/>
                </p:nvSpPr>
                <p:spPr>
                  <a:xfrm rot="6811800">
                    <a:off x="8073000" y="31816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0" name=""/>
                  <p:cNvSpPr/>
                  <p:nvPr/>
                </p:nvSpPr>
                <p:spPr>
                  <a:xfrm flipV="1">
                    <a:off x="8053920" y="3238200"/>
                    <a:ext cx="9720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1" name=""/>
                  <p:cNvSpPr/>
                  <p:nvPr/>
                </p:nvSpPr>
                <p:spPr>
                  <a:xfrm>
                    <a:off x="8089200" y="32626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2" name=""/>
                  <p:cNvSpPr/>
                  <p:nvPr/>
                </p:nvSpPr>
                <p:spPr>
                  <a:xfrm flipV="1">
                    <a:off x="8107920" y="32320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3" name=""/>
                  <p:cNvSpPr/>
                  <p:nvPr/>
                </p:nvSpPr>
                <p:spPr>
                  <a:xfrm flipV="1">
                    <a:off x="8127000" y="324792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4" name=""/>
                <p:cNvGrpSpPr/>
                <p:nvPr/>
              </p:nvGrpSpPr>
              <p:grpSpPr>
                <a:xfrm>
                  <a:off x="7627680" y="3250080"/>
                  <a:ext cx="106200" cy="161640"/>
                  <a:chOff x="7627680" y="3250080"/>
                  <a:chExt cx="106200" cy="161640"/>
                </a:xfrm>
              </p:grpSpPr>
              <p:sp>
                <p:nvSpPr>
                  <p:cNvPr id="7055" name=""/>
                  <p:cNvSpPr/>
                  <p:nvPr/>
                </p:nvSpPr>
                <p:spPr>
                  <a:xfrm rot="409800">
                    <a:off x="7635960" y="3254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6" name=""/>
                  <p:cNvSpPr/>
                  <p:nvPr/>
                </p:nvSpPr>
                <p:spPr>
                  <a:xfrm flipH="1" flipV="1">
                    <a:off x="7665840" y="3305520"/>
                    <a:ext cx="4788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7" name=""/>
                  <p:cNvSpPr/>
                  <p:nvPr/>
                </p:nvSpPr>
                <p:spPr>
                  <a:xfrm flipH="1" flipV="1">
                    <a:off x="7697160" y="3343680"/>
                    <a:ext cx="36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"/>
                  <p:cNvSpPr/>
                  <p:nvPr/>
                </p:nvSpPr>
                <p:spPr>
                  <a:xfrm flipH="1" flipV="1">
                    <a:off x="7667640" y="3339720"/>
                    <a:ext cx="16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9" name=""/>
                  <p:cNvSpPr/>
                  <p:nvPr/>
                </p:nvSpPr>
                <p:spPr>
                  <a:xfrm flipH="1" flipV="1">
                    <a:off x="7677360" y="3313800"/>
                    <a:ext cx="3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0" name=""/>
                <p:cNvGrpSpPr/>
                <p:nvPr/>
              </p:nvGrpSpPr>
              <p:grpSpPr>
                <a:xfrm>
                  <a:off x="7690680" y="3152880"/>
                  <a:ext cx="107280" cy="162360"/>
                  <a:chOff x="7690680" y="3152880"/>
                  <a:chExt cx="107280" cy="162360"/>
                </a:xfrm>
              </p:grpSpPr>
              <p:sp>
                <p:nvSpPr>
                  <p:cNvPr id="7061" name=""/>
                  <p:cNvSpPr/>
                  <p:nvPr/>
                </p:nvSpPr>
                <p:spPr>
                  <a:xfrm rot="21171000">
                    <a:off x="7699680" y="31575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2" name=""/>
                  <p:cNvSpPr/>
                  <p:nvPr/>
                </p:nvSpPr>
                <p:spPr>
                  <a:xfrm flipH="1" flipV="1">
                    <a:off x="7724160" y="3213000"/>
                    <a:ext cx="6912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3" name=""/>
                  <p:cNvSpPr/>
                  <p:nvPr/>
                </p:nvSpPr>
                <p:spPr>
                  <a:xfrm flipH="1" flipV="1">
                    <a:off x="7763760" y="324252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4" name=""/>
                  <p:cNvSpPr/>
                  <p:nvPr/>
                </p:nvSpPr>
                <p:spPr>
                  <a:xfrm flipH="1" flipV="1">
                    <a:off x="7733880" y="3245760"/>
                    <a:ext cx="1836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5" name=""/>
                  <p:cNvSpPr/>
                  <p:nvPr/>
                </p:nvSpPr>
                <p:spPr>
                  <a:xfrm flipH="1" flipV="1">
                    <a:off x="7737120" y="3218400"/>
                    <a:ext cx="72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66" name=""/>
                <p:cNvGrpSpPr/>
                <p:nvPr/>
              </p:nvGrpSpPr>
              <p:grpSpPr>
                <a:xfrm>
                  <a:off x="7939800" y="2988360"/>
                  <a:ext cx="136440" cy="173880"/>
                  <a:chOff x="7939800" y="2988360"/>
                  <a:chExt cx="136440" cy="173880"/>
                </a:xfrm>
              </p:grpSpPr>
              <p:sp>
                <p:nvSpPr>
                  <p:cNvPr id="7067" name=""/>
                  <p:cNvSpPr/>
                  <p:nvPr/>
                </p:nvSpPr>
                <p:spPr>
                  <a:xfrm rot="1222200">
                    <a:off x="7963200" y="2998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8" name=""/>
                  <p:cNvSpPr/>
                  <p:nvPr/>
                </p:nvSpPr>
                <p:spPr>
                  <a:xfrm flipH="1" flipV="1">
                    <a:off x="7999560" y="3047040"/>
                    <a:ext cx="2448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9" name=""/>
                  <p:cNvSpPr/>
                  <p:nvPr/>
                </p:nvSpPr>
                <p:spPr>
                  <a:xfrm flipV="1">
                    <a:off x="8019360" y="309168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0" name=""/>
                  <p:cNvSpPr/>
                  <p:nvPr/>
                </p:nvSpPr>
                <p:spPr>
                  <a:xfrm flipH="1" flipV="1">
                    <a:off x="7993080" y="308088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1" name=""/>
                  <p:cNvSpPr/>
                  <p:nvPr/>
                </p:nvSpPr>
                <p:spPr>
                  <a:xfrm flipH="1" flipV="1">
                    <a:off x="8008560" y="305784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2" name=""/>
                <p:cNvGrpSpPr/>
                <p:nvPr/>
              </p:nvGrpSpPr>
              <p:grpSpPr>
                <a:xfrm>
                  <a:off x="7879680" y="2986560"/>
                  <a:ext cx="93240" cy="154800"/>
                  <a:chOff x="7879680" y="2986560"/>
                  <a:chExt cx="93240" cy="154800"/>
                </a:xfrm>
              </p:grpSpPr>
              <p:sp>
                <p:nvSpPr>
                  <p:cNvPr id="7073" name=""/>
                  <p:cNvSpPr/>
                  <p:nvPr/>
                </p:nvSpPr>
                <p:spPr>
                  <a:xfrm rot="93600">
                    <a:off x="7881840" y="2987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4" name=""/>
                  <p:cNvSpPr/>
                  <p:nvPr/>
                </p:nvSpPr>
                <p:spPr>
                  <a:xfrm flipH="1" flipV="1">
                    <a:off x="7909560" y="3040200"/>
                    <a:ext cx="5616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5" name=""/>
                  <p:cNvSpPr/>
                  <p:nvPr/>
                </p:nvSpPr>
                <p:spPr>
                  <a:xfrm flipH="1" flipV="1">
                    <a:off x="7944120" y="30751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6" name=""/>
                  <p:cNvSpPr/>
                  <p:nvPr/>
                </p:nvSpPr>
                <p:spPr>
                  <a:xfrm flipH="1" flipV="1">
                    <a:off x="7914240" y="307404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7" name=""/>
                  <p:cNvSpPr/>
                  <p:nvPr/>
                </p:nvSpPr>
                <p:spPr>
                  <a:xfrm flipH="1" flipV="1">
                    <a:off x="7921440" y="304740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78" name=""/>
                <p:cNvGrpSpPr/>
                <p:nvPr/>
              </p:nvGrpSpPr>
              <p:grpSpPr>
                <a:xfrm>
                  <a:off x="7841520" y="3093840"/>
                  <a:ext cx="114480" cy="165600"/>
                  <a:chOff x="7841520" y="3093840"/>
                  <a:chExt cx="114480" cy="165600"/>
                </a:xfrm>
              </p:grpSpPr>
              <p:sp>
                <p:nvSpPr>
                  <p:cNvPr id="7079" name=""/>
                  <p:cNvSpPr/>
                  <p:nvPr/>
                </p:nvSpPr>
                <p:spPr>
                  <a:xfrm rot="613200">
                    <a:off x="7854120" y="31003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"/>
                  <p:cNvSpPr/>
                  <p:nvPr/>
                </p:nvSpPr>
                <p:spPr>
                  <a:xfrm flipH="1" flipV="1">
                    <a:off x="7885800" y="3150360"/>
                    <a:ext cx="4212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1" name=""/>
                  <p:cNvSpPr/>
                  <p:nvPr/>
                </p:nvSpPr>
                <p:spPr>
                  <a:xfrm flipH="1" flipV="1">
                    <a:off x="7914960" y="319032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2" name=""/>
                  <p:cNvSpPr/>
                  <p:nvPr/>
                </p:nvSpPr>
                <p:spPr>
                  <a:xfrm flipH="1" flipV="1">
                    <a:off x="7885440" y="31845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3" name=""/>
                  <p:cNvSpPr/>
                  <p:nvPr/>
                </p:nvSpPr>
                <p:spPr>
                  <a:xfrm flipH="1" flipV="1">
                    <a:off x="7896600" y="3159360"/>
                    <a:ext cx="3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4" name=""/>
                <p:cNvGrpSpPr/>
                <p:nvPr/>
              </p:nvGrpSpPr>
              <p:grpSpPr>
                <a:xfrm>
                  <a:off x="7962840" y="3102480"/>
                  <a:ext cx="162000" cy="175320"/>
                  <a:chOff x="7962840" y="3102480"/>
                  <a:chExt cx="162000" cy="175320"/>
                </a:xfrm>
              </p:grpSpPr>
              <p:sp>
                <p:nvSpPr>
                  <p:cNvPr id="7085" name=""/>
                  <p:cNvSpPr/>
                  <p:nvPr/>
                </p:nvSpPr>
                <p:spPr>
                  <a:xfrm rot="2197200">
                    <a:off x="7999200" y="3113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6" name=""/>
                  <p:cNvSpPr/>
                  <p:nvPr/>
                </p:nvSpPr>
                <p:spPr>
                  <a:xfrm flipV="1">
                    <a:off x="8038440" y="3160800"/>
                    <a:ext cx="5760" cy="10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7" name=""/>
                  <p:cNvSpPr/>
                  <p:nvPr/>
                </p:nvSpPr>
                <p:spPr>
                  <a:xfrm flipV="1">
                    <a:off x="8044920" y="320940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8" name=""/>
                  <p:cNvSpPr/>
                  <p:nvPr/>
                </p:nvSpPr>
                <p:spPr>
                  <a:xfrm flipH="1" flipV="1">
                    <a:off x="8028360" y="3191400"/>
                    <a:ext cx="100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"/>
                  <p:cNvSpPr/>
                  <p:nvPr/>
                </p:nvSpPr>
                <p:spPr>
                  <a:xfrm flipV="1">
                    <a:off x="8046360" y="3173760"/>
                    <a:ext cx="3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0" name=""/>
                <p:cNvGrpSpPr/>
                <p:nvPr/>
              </p:nvGrpSpPr>
              <p:grpSpPr>
                <a:xfrm>
                  <a:off x="7826760" y="3332160"/>
                  <a:ext cx="158760" cy="140400"/>
                  <a:chOff x="7826760" y="3332160"/>
                  <a:chExt cx="158760" cy="140400"/>
                </a:xfrm>
              </p:grpSpPr>
              <p:sp>
                <p:nvSpPr>
                  <p:cNvPr id="7091" name=""/>
                  <p:cNvSpPr/>
                  <p:nvPr/>
                </p:nvSpPr>
                <p:spPr>
                  <a:xfrm rot="4248000">
                    <a:off x="7854840" y="33361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2" name=""/>
                  <p:cNvSpPr/>
                  <p:nvPr/>
                </p:nvSpPr>
                <p:spPr>
                  <a:xfrm flipV="1">
                    <a:off x="7869240" y="3377160"/>
                    <a:ext cx="496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"/>
                  <p:cNvSpPr/>
                  <p:nvPr/>
                </p:nvSpPr>
                <p:spPr>
                  <a:xfrm flipV="1">
                    <a:off x="7890480" y="34250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4" name=""/>
                  <p:cNvSpPr/>
                  <p:nvPr/>
                </p:nvSpPr>
                <p:spPr>
                  <a:xfrm flipH="1" flipV="1">
                    <a:off x="7893360" y="3393000"/>
                    <a:ext cx="108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5" name=""/>
                  <p:cNvSpPr/>
                  <p:nvPr/>
                </p:nvSpPr>
                <p:spPr>
                  <a:xfrm flipV="1">
                    <a:off x="7908840" y="3391560"/>
                    <a:ext cx="90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96" name=""/>
                <p:cNvGrpSpPr/>
                <p:nvPr/>
              </p:nvGrpSpPr>
              <p:grpSpPr>
                <a:xfrm>
                  <a:off x="7848000" y="3544920"/>
                  <a:ext cx="99360" cy="158400"/>
                  <a:chOff x="7848000" y="3544920"/>
                  <a:chExt cx="99360" cy="158400"/>
                </a:xfrm>
              </p:grpSpPr>
              <p:sp>
                <p:nvSpPr>
                  <p:cNvPr id="7097" name=""/>
                  <p:cNvSpPr/>
                  <p:nvPr/>
                </p:nvSpPr>
                <p:spPr>
                  <a:xfrm rot="11045400">
                    <a:off x="7853040" y="3547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8" name=""/>
                  <p:cNvSpPr/>
                  <p:nvPr/>
                </p:nvSpPr>
                <p:spPr>
                  <a:xfrm>
                    <a:off x="7861320" y="3557160"/>
                    <a:ext cx="52200" cy="9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9" name=""/>
                  <p:cNvSpPr/>
                  <p:nvPr/>
                </p:nvSpPr>
                <p:spPr>
                  <a:xfrm>
                    <a:off x="7876080" y="359208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0" name=""/>
                  <p:cNvSpPr/>
                  <p:nvPr/>
                </p:nvSpPr>
                <p:spPr>
                  <a:xfrm>
                    <a:off x="7893000" y="3606840"/>
                    <a:ext cx="17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1" name=""/>
                  <p:cNvSpPr/>
                  <p:nvPr/>
                </p:nvSpPr>
                <p:spPr>
                  <a:xfrm>
                    <a:off x="7896960" y="3627720"/>
                    <a:ext cx="46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2" name=""/>
                <p:cNvGrpSpPr/>
                <p:nvPr/>
              </p:nvGrpSpPr>
              <p:grpSpPr>
                <a:xfrm>
                  <a:off x="7718400" y="3587760"/>
                  <a:ext cx="104760" cy="160920"/>
                  <a:chOff x="7718400" y="3587760"/>
                  <a:chExt cx="104760" cy="160920"/>
                </a:xfrm>
              </p:grpSpPr>
              <p:sp>
                <p:nvSpPr>
                  <p:cNvPr id="7103" name=""/>
                  <p:cNvSpPr/>
                  <p:nvPr/>
                </p:nvSpPr>
                <p:spPr>
                  <a:xfrm rot="11165400">
                    <a:off x="7726320" y="3592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4" name=""/>
                  <p:cNvSpPr/>
                  <p:nvPr/>
                </p:nvSpPr>
                <p:spPr>
                  <a:xfrm>
                    <a:off x="7736400" y="3599640"/>
                    <a:ext cx="489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5" name=""/>
                  <p:cNvSpPr/>
                  <p:nvPr/>
                </p:nvSpPr>
                <p:spPr>
                  <a:xfrm>
                    <a:off x="7750080" y="3635280"/>
                    <a:ext cx="36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6" name=""/>
                  <p:cNvSpPr/>
                  <p:nvPr/>
                </p:nvSpPr>
                <p:spPr>
                  <a:xfrm>
                    <a:off x="7766640" y="365076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7" name=""/>
                  <p:cNvSpPr/>
                  <p:nvPr/>
                </p:nvSpPr>
                <p:spPr>
                  <a:xfrm>
                    <a:off x="7769880" y="3671640"/>
                    <a:ext cx="43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08" name=""/>
                <p:cNvGrpSpPr/>
                <p:nvPr/>
              </p:nvGrpSpPr>
              <p:grpSpPr>
                <a:xfrm>
                  <a:off x="7704720" y="3283920"/>
                  <a:ext cx="149400" cy="126000"/>
                  <a:chOff x="7704720" y="3283920"/>
                  <a:chExt cx="149400" cy="126000"/>
                </a:xfrm>
              </p:grpSpPr>
              <p:sp>
                <p:nvSpPr>
                  <p:cNvPr id="7109" name=""/>
                  <p:cNvSpPr/>
                  <p:nvPr/>
                </p:nvSpPr>
                <p:spPr>
                  <a:xfrm rot="4737600">
                    <a:off x="7727760" y="32806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0" name=""/>
                  <p:cNvSpPr/>
                  <p:nvPr/>
                </p:nvSpPr>
                <p:spPr>
                  <a:xfrm flipV="1">
                    <a:off x="7733520" y="3323880"/>
                    <a:ext cx="619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1" name=""/>
                  <p:cNvSpPr/>
                  <p:nvPr/>
                </p:nvSpPr>
                <p:spPr>
                  <a:xfrm flipV="1">
                    <a:off x="7758360" y="336924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2" name=""/>
                  <p:cNvSpPr/>
                  <p:nvPr/>
                </p:nvSpPr>
                <p:spPr>
                  <a:xfrm flipV="1">
                    <a:off x="7765920" y="33357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3" name=""/>
                  <p:cNvSpPr/>
                  <p:nvPr/>
                </p:nvSpPr>
                <p:spPr>
                  <a:xfrm flipV="1">
                    <a:off x="7781760" y="3337920"/>
                    <a:ext cx="100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4" name=""/>
                <p:cNvGrpSpPr/>
                <p:nvPr/>
              </p:nvGrpSpPr>
              <p:grpSpPr>
                <a:xfrm>
                  <a:off x="7784280" y="3120480"/>
                  <a:ext cx="174240" cy="138960"/>
                  <a:chOff x="7784280" y="3120480"/>
                  <a:chExt cx="174240" cy="138960"/>
                </a:xfrm>
              </p:grpSpPr>
              <p:sp>
                <p:nvSpPr>
                  <p:cNvPr id="7115" name=""/>
                  <p:cNvSpPr/>
                  <p:nvPr/>
                </p:nvSpPr>
                <p:spPr>
                  <a:xfrm rot="4102200">
                    <a:off x="7826760" y="3113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6" name=""/>
                  <p:cNvSpPr/>
                  <p:nvPr/>
                </p:nvSpPr>
                <p:spPr>
                  <a:xfrm flipV="1">
                    <a:off x="7826400" y="3164760"/>
                    <a:ext cx="6048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7" name=""/>
                  <p:cNvSpPr/>
                  <p:nvPr/>
                </p:nvSpPr>
                <p:spPr>
                  <a:xfrm flipV="1">
                    <a:off x="7851600" y="321048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8" name=""/>
                  <p:cNvSpPr/>
                  <p:nvPr/>
                </p:nvSpPr>
                <p:spPr>
                  <a:xfrm flipH="1" flipV="1">
                    <a:off x="7857360" y="318240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9" name=""/>
                  <p:cNvSpPr/>
                  <p:nvPr/>
                </p:nvSpPr>
                <p:spPr>
                  <a:xfrm flipV="1">
                    <a:off x="7874640" y="3178440"/>
                    <a:ext cx="104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0" name=""/>
                <p:cNvGrpSpPr/>
                <p:nvPr/>
              </p:nvGrpSpPr>
              <p:grpSpPr>
                <a:xfrm>
                  <a:off x="7919640" y="3003480"/>
                  <a:ext cx="175680" cy="143640"/>
                  <a:chOff x="7919640" y="3003480"/>
                  <a:chExt cx="175680" cy="143640"/>
                </a:xfrm>
              </p:grpSpPr>
              <p:sp>
                <p:nvSpPr>
                  <p:cNvPr id="7121" name=""/>
                  <p:cNvSpPr/>
                  <p:nvPr/>
                </p:nvSpPr>
                <p:spPr>
                  <a:xfrm rot="3942000">
                    <a:off x="7962840" y="2999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2" name=""/>
                  <p:cNvSpPr/>
                  <p:nvPr/>
                </p:nvSpPr>
                <p:spPr>
                  <a:xfrm flipV="1">
                    <a:off x="7965720" y="3049560"/>
                    <a:ext cx="561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3" name=""/>
                  <p:cNvSpPr/>
                  <p:nvPr/>
                </p:nvSpPr>
                <p:spPr>
                  <a:xfrm flipV="1">
                    <a:off x="7989480" y="3096360"/>
                    <a:ext cx="158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4" name=""/>
                  <p:cNvSpPr/>
                  <p:nvPr/>
                </p:nvSpPr>
                <p:spPr>
                  <a:xfrm flipH="1" flipV="1">
                    <a:off x="7993440" y="306900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5" name=""/>
                  <p:cNvSpPr/>
                  <p:nvPr/>
                </p:nvSpPr>
                <p:spPr>
                  <a:xfrm flipV="1">
                    <a:off x="8010720" y="3063600"/>
                    <a:ext cx="100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26" name=""/>
                <p:cNvGrpSpPr/>
                <p:nvPr/>
              </p:nvGrpSpPr>
              <p:grpSpPr>
                <a:xfrm>
                  <a:off x="8012160" y="3017880"/>
                  <a:ext cx="152640" cy="130680"/>
                  <a:chOff x="8012160" y="3017880"/>
                  <a:chExt cx="152640" cy="130680"/>
                </a:xfrm>
              </p:grpSpPr>
              <p:sp>
                <p:nvSpPr>
                  <p:cNvPr id="7127" name=""/>
                  <p:cNvSpPr/>
                  <p:nvPr/>
                </p:nvSpPr>
                <p:spPr>
                  <a:xfrm rot="4574400">
                    <a:off x="8037000" y="3017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"/>
                  <p:cNvSpPr/>
                  <p:nvPr/>
                </p:nvSpPr>
                <p:spPr>
                  <a:xfrm flipV="1">
                    <a:off x="8044920" y="3058560"/>
                    <a:ext cx="5796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"/>
                  <p:cNvSpPr/>
                  <p:nvPr/>
                </p:nvSpPr>
                <p:spPr>
                  <a:xfrm flipV="1">
                    <a:off x="8068680" y="3105360"/>
                    <a:ext cx="15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0" name=""/>
                  <p:cNvSpPr/>
                  <p:nvPr/>
                </p:nvSpPr>
                <p:spPr>
                  <a:xfrm flipV="1">
                    <a:off x="8075160" y="307260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1" name=""/>
                  <p:cNvSpPr/>
                  <p:nvPr/>
                </p:nvSpPr>
                <p:spPr>
                  <a:xfrm flipV="1">
                    <a:off x="8090640" y="307368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32" name=""/>
              <p:cNvGrpSpPr/>
              <p:nvPr/>
            </p:nvGrpSpPr>
            <p:grpSpPr>
              <a:xfrm>
                <a:off x="7848360" y="2992680"/>
                <a:ext cx="744120" cy="602280"/>
                <a:chOff x="7848360" y="2992680"/>
                <a:chExt cx="744120" cy="602280"/>
              </a:xfrm>
            </p:grpSpPr>
            <p:grpSp>
              <p:nvGrpSpPr>
                <p:cNvPr id="7133" name=""/>
                <p:cNvGrpSpPr/>
                <p:nvPr/>
              </p:nvGrpSpPr>
              <p:grpSpPr>
                <a:xfrm>
                  <a:off x="8178480" y="3369600"/>
                  <a:ext cx="163080" cy="167040"/>
                  <a:chOff x="8178480" y="3369600"/>
                  <a:chExt cx="163080" cy="167040"/>
                </a:xfrm>
              </p:grpSpPr>
              <p:sp>
                <p:nvSpPr>
                  <p:cNvPr id="7134" name=""/>
                  <p:cNvSpPr/>
                  <p:nvPr/>
                </p:nvSpPr>
                <p:spPr>
                  <a:xfrm rot="13188000">
                    <a:off x="8208720" y="3386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5" name=""/>
                  <p:cNvSpPr/>
                  <p:nvPr/>
                </p:nvSpPr>
                <p:spPr>
                  <a:xfrm>
                    <a:off x="8259480" y="3379680"/>
                    <a:ext cx="2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6" name=""/>
                  <p:cNvSpPr/>
                  <p:nvPr/>
                </p:nvSpPr>
                <p:spPr>
                  <a:xfrm flipH="1">
                    <a:off x="8249400" y="341496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7" name=""/>
                  <p:cNvSpPr/>
                  <p:nvPr/>
                </p:nvSpPr>
                <p:spPr>
                  <a:xfrm>
                    <a:off x="8263800" y="343692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"/>
                  <p:cNvSpPr/>
                  <p:nvPr/>
                </p:nvSpPr>
                <p:spPr>
                  <a:xfrm flipH="1">
                    <a:off x="8255520" y="3454560"/>
                    <a:ext cx="21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9" name=""/>
                <p:cNvSpPr/>
                <p:nvPr/>
              </p:nvSpPr>
              <p:spPr>
                <a:xfrm flipV="1">
                  <a:off x="8066880" y="3173760"/>
                  <a:ext cx="163440" cy="121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0" name=""/>
                <p:cNvSpPr/>
                <p:nvPr/>
              </p:nvSpPr>
              <p:spPr>
                <a:xfrm rot="9372600">
                  <a:off x="7886880" y="30798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1" name=""/>
                <p:cNvSpPr/>
                <p:nvPr/>
              </p:nvSpPr>
              <p:spPr>
                <a:xfrm>
                  <a:off x="8221680" y="3301920"/>
                  <a:ext cx="136800" cy="11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2" name=""/>
                <p:cNvSpPr/>
                <p:nvPr/>
              </p:nvSpPr>
              <p:spPr>
                <a:xfrm>
                  <a:off x="7875720" y="3205800"/>
                  <a:ext cx="219240" cy="20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3" name=""/>
                <p:cNvSpPr/>
                <p:nvPr/>
              </p:nvSpPr>
              <p:spPr>
                <a:xfrm flipV="1">
                  <a:off x="8148960" y="3177000"/>
                  <a:ext cx="176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4" name=""/>
                <p:cNvSpPr/>
                <p:nvPr/>
              </p:nvSpPr>
              <p:spPr>
                <a:xfrm flipV="1">
                  <a:off x="8103600" y="3275640"/>
                  <a:ext cx="6372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>
                  <a:off x="8286120" y="3348720"/>
                  <a:ext cx="10008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6" name=""/>
                <p:cNvSpPr/>
                <p:nvPr/>
              </p:nvSpPr>
              <p:spPr>
                <a:xfrm>
                  <a:off x="8258400" y="3335760"/>
                  <a:ext cx="93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7" name=""/>
                <p:cNvSpPr/>
                <p:nvPr/>
              </p:nvSpPr>
              <p:spPr>
                <a:xfrm flipV="1">
                  <a:off x="8340120" y="3208680"/>
                  <a:ext cx="35640" cy="65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8" name=""/>
                <p:cNvSpPr/>
                <p:nvPr/>
              </p:nvSpPr>
              <p:spPr>
                <a:xfrm>
                  <a:off x="7984800" y="3306240"/>
                  <a:ext cx="17316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9" name=""/>
                <p:cNvSpPr/>
                <p:nvPr/>
              </p:nvSpPr>
              <p:spPr>
                <a:xfrm>
                  <a:off x="8085960" y="3337200"/>
                  <a:ext cx="3600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0" name=""/>
                <p:cNvSpPr/>
                <p:nvPr/>
              </p:nvSpPr>
              <p:spPr>
                <a:xfrm>
                  <a:off x="7949160" y="3272760"/>
                  <a:ext cx="1872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1" name=""/>
                <p:cNvSpPr/>
                <p:nvPr/>
              </p:nvSpPr>
              <p:spPr>
                <a:xfrm>
                  <a:off x="8058600" y="3374280"/>
                  <a:ext cx="273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2" name=""/>
                <p:cNvSpPr/>
                <p:nvPr/>
              </p:nvSpPr>
              <p:spPr>
                <a:xfrm flipV="1">
                  <a:off x="7985880" y="3203640"/>
                  <a:ext cx="630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3" name=""/>
                <p:cNvSpPr/>
                <p:nvPr/>
              </p:nvSpPr>
              <p:spPr>
                <a:xfrm flipV="1">
                  <a:off x="8258400" y="3241080"/>
                  <a:ext cx="4536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4" name=""/>
                <p:cNvSpPr/>
                <p:nvPr/>
              </p:nvSpPr>
              <p:spPr>
                <a:xfrm>
                  <a:off x="8385840" y="3279600"/>
                  <a:ext cx="3636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55" name=""/>
                <p:cNvGrpSpPr/>
                <p:nvPr/>
              </p:nvGrpSpPr>
              <p:grpSpPr>
                <a:xfrm>
                  <a:off x="8327520" y="3393000"/>
                  <a:ext cx="102600" cy="159480"/>
                  <a:chOff x="8327520" y="3393000"/>
                  <a:chExt cx="102600" cy="159480"/>
                </a:xfrm>
              </p:grpSpPr>
              <p:sp>
                <p:nvSpPr>
                  <p:cNvPr id="7156" name=""/>
                  <p:cNvSpPr/>
                  <p:nvPr/>
                </p:nvSpPr>
                <p:spPr>
                  <a:xfrm rot="11118000">
                    <a:off x="8334360" y="3396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7" name=""/>
                  <p:cNvSpPr/>
                  <p:nvPr/>
                </p:nvSpPr>
                <p:spPr>
                  <a:xfrm>
                    <a:off x="8343720" y="3404520"/>
                    <a:ext cx="504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8" name=""/>
                  <p:cNvSpPr/>
                  <p:nvPr/>
                </p:nvSpPr>
                <p:spPr>
                  <a:xfrm>
                    <a:off x="8357760" y="3439800"/>
                    <a:ext cx="396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9" name=""/>
                  <p:cNvSpPr/>
                  <p:nvPr/>
                </p:nvSpPr>
                <p:spPr>
                  <a:xfrm>
                    <a:off x="8374680" y="3454920"/>
                    <a:ext cx="16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0" name=""/>
                  <p:cNvSpPr/>
                  <p:nvPr/>
                </p:nvSpPr>
                <p:spPr>
                  <a:xfrm>
                    <a:off x="8377920" y="347580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1" name=""/>
                <p:cNvGrpSpPr/>
                <p:nvPr/>
              </p:nvGrpSpPr>
              <p:grpSpPr>
                <a:xfrm>
                  <a:off x="8145720" y="3204360"/>
                  <a:ext cx="172080" cy="168480"/>
                  <a:chOff x="8145720" y="3204360"/>
                  <a:chExt cx="172080" cy="168480"/>
                </a:xfrm>
              </p:grpSpPr>
              <p:sp>
                <p:nvSpPr>
                  <p:cNvPr id="7162" name=""/>
                  <p:cNvSpPr/>
                  <p:nvPr/>
                </p:nvSpPr>
                <p:spPr>
                  <a:xfrm rot="7959600">
                    <a:off x="8187120" y="3212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"/>
                  <p:cNvSpPr/>
                  <p:nvPr/>
                </p:nvSpPr>
                <p:spPr>
                  <a:xfrm>
                    <a:off x="8156520" y="3274920"/>
                    <a:ext cx="1040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"/>
                  <p:cNvSpPr/>
                  <p:nvPr/>
                </p:nvSpPr>
                <p:spPr>
                  <a:xfrm>
                    <a:off x="8192880" y="3285360"/>
                    <a:ext cx="18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5" name=""/>
                  <p:cNvSpPr/>
                  <p:nvPr/>
                </p:nvSpPr>
                <p:spPr>
                  <a:xfrm flipV="1">
                    <a:off x="8215200" y="3273120"/>
                    <a:ext cx="169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6" name=""/>
                  <p:cNvSpPr/>
                  <p:nvPr/>
                </p:nvSpPr>
                <p:spPr>
                  <a:xfrm>
                    <a:off x="8233920" y="3291120"/>
                    <a:ext cx="136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67" name=""/>
                <p:cNvGrpSpPr/>
                <p:nvPr/>
              </p:nvGrpSpPr>
              <p:grpSpPr>
                <a:xfrm>
                  <a:off x="8143200" y="3308400"/>
                  <a:ext cx="142560" cy="174960"/>
                  <a:chOff x="8143200" y="3308400"/>
                  <a:chExt cx="142560" cy="174960"/>
                </a:xfrm>
              </p:grpSpPr>
              <p:sp>
                <p:nvSpPr>
                  <p:cNvPr id="7168" name=""/>
                  <p:cNvSpPr/>
                  <p:nvPr/>
                </p:nvSpPr>
                <p:spPr>
                  <a:xfrm rot="9372600">
                    <a:off x="8169840" y="33195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9" name=""/>
                  <p:cNvSpPr/>
                  <p:nvPr/>
                </p:nvSpPr>
                <p:spPr>
                  <a:xfrm>
                    <a:off x="8150400" y="3353400"/>
                    <a:ext cx="8928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0" name=""/>
                  <p:cNvSpPr/>
                  <p:nvPr/>
                </p:nvSpPr>
                <p:spPr>
                  <a:xfrm>
                    <a:off x="8179920" y="337716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1" name=""/>
                  <p:cNvSpPr/>
                  <p:nvPr/>
                </p:nvSpPr>
                <p:spPr>
                  <a:xfrm flipV="1">
                    <a:off x="8201880" y="338148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2" name=""/>
                  <p:cNvSpPr/>
                  <p:nvPr/>
                </p:nvSpPr>
                <p:spPr>
                  <a:xfrm>
                    <a:off x="8215200" y="3399120"/>
                    <a:ext cx="104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3" name=""/>
                <p:cNvGrpSpPr/>
                <p:nvPr/>
              </p:nvGrpSpPr>
              <p:grpSpPr>
                <a:xfrm>
                  <a:off x="8174880" y="3027240"/>
                  <a:ext cx="165960" cy="155520"/>
                  <a:chOff x="8174880" y="3027240"/>
                  <a:chExt cx="165960" cy="155520"/>
                </a:xfrm>
              </p:grpSpPr>
              <p:sp>
                <p:nvSpPr>
                  <p:cNvPr id="7174" name=""/>
                  <p:cNvSpPr/>
                  <p:nvPr/>
                </p:nvSpPr>
                <p:spPr>
                  <a:xfrm rot="3541800">
                    <a:off x="8206560" y="3038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5" name=""/>
                  <p:cNvSpPr/>
                  <p:nvPr/>
                </p:nvSpPr>
                <p:spPr>
                  <a:xfrm flipV="1">
                    <a:off x="8234280" y="3077280"/>
                    <a:ext cx="3096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6" name=""/>
                  <p:cNvSpPr/>
                  <p:nvPr/>
                </p:nvSpPr>
                <p:spPr>
                  <a:xfrm flipV="1">
                    <a:off x="8249400" y="31276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7" name=""/>
                  <p:cNvSpPr/>
                  <p:nvPr/>
                </p:nvSpPr>
                <p:spPr>
                  <a:xfrm flipH="1" flipV="1">
                    <a:off x="8243640" y="309888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8" name=""/>
                  <p:cNvSpPr/>
                  <p:nvPr/>
                </p:nvSpPr>
                <p:spPr>
                  <a:xfrm flipV="1">
                    <a:off x="8260560" y="309276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79" name=""/>
                <p:cNvGrpSpPr/>
                <p:nvPr/>
              </p:nvGrpSpPr>
              <p:grpSpPr>
                <a:xfrm>
                  <a:off x="8406720" y="3266640"/>
                  <a:ext cx="142560" cy="174960"/>
                  <a:chOff x="8406720" y="3266640"/>
                  <a:chExt cx="142560" cy="174960"/>
                </a:xfrm>
              </p:grpSpPr>
              <p:sp>
                <p:nvSpPr>
                  <p:cNvPr id="7180" name=""/>
                  <p:cNvSpPr/>
                  <p:nvPr/>
                </p:nvSpPr>
                <p:spPr>
                  <a:xfrm rot="9372600">
                    <a:off x="8433360" y="3277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1" name=""/>
                  <p:cNvSpPr/>
                  <p:nvPr/>
                </p:nvSpPr>
                <p:spPr>
                  <a:xfrm>
                    <a:off x="8413920" y="3311280"/>
                    <a:ext cx="8928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"/>
                  <p:cNvSpPr/>
                  <p:nvPr/>
                </p:nvSpPr>
                <p:spPr>
                  <a:xfrm>
                    <a:off x="8443440" y="3335400"/>
                    <a:ext cx="136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"/>
                  <p:cNvSpPr/>
                  <p:nvPr/>
                </p:nvSpPr>
                <p:spPr>
                  <a:xfrm flipV="1">
                    <a:off x="8465400" y="333972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"/>
                  <p:cNvSpPr/>
                  <p:nvPr/>
                </p:nvSpPr>
                <p:spPr>
                  <a:xfrm>
                    <a:off x="8478720" y="335736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85" name=""/>
                <p:cNvGrpSpPr/>
                <p:nvPr/>
              </p:nvGrpSpPr>
              <p:grpSpPr>
                <a:xfrm>
                  <a:off x="8079840" y="3361680"/>
                  <a:ext cx="142560" cy="174960"/>
                  <a:chOff x="8079840" y="3361680"/>
                  <a:chExt cx="142560" cy="174960"/>
                </a:xfrm>
              </p:grpSpPr>
              <p:sp>
                <p:nvSpPr>
                  <p:cNvPr id="7186" name=""/>
                  <p:cNvSpPr/>
                  <p:nvPr/>
                </p:nvSpPr>
                <p:spPr>
                  <a:xfrm rot="9372600">
                    <a:off x="8106480" y="3372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"/>
                  <p:cNvSpPr/>
                  <p:nvPr/>
                </p:nvSpPr>
                <p:spPr>
                  <a:xfrm>
                    <a:off x="8087400" y="3406320"/>
                    <a:ext cx="8892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"/>
                  <p:cNvSpPr/>
                  <p:nvPr/>
                </p:nvSpPr>
                <p:spPr>
                  <a:xfrm>
                    <a:off x="8116560" y="343044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"/>
                  <p:cNvSpPr/>
                  <p:nvPr/>
                </p:nvSpPr>
                <p:spPr>
                  <a:xfrm flipV="1">
                    <a:off x="8138880" y="3434760"/>
                    <a:ext cx="187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"/>
                  <p:cNvSpPr/>
                  <p:nvPr/>
                </p:nvSpPr>
                <p:spPr>
                  <a:xfrm>
                    <a:off x="8151840" y="3452040"/>
                    <a:ext cx="108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1" name=""/>
                <p:cNvGrpSpPr/>
                <p:nvPr/>
              </p:nvGrpSpPr>
              <p:grpSpPr>
                <a:xfrm>
                  <a:off x="8370360" y="3332520"/>
                  <a:ext cx="142560" cy="174960"/>
                  <a:chOff x="8370360" y="3332520"/>
                  <a:chExt cx="142560" cy="174960"/>
                </a:xfrm>
              </p:grpSpPr>
              <p:sp>
                <p:nvSpPr>
                  <p:cNvPr id="7192" name=""/>
                  <p:cNvSpPr/>
                  <p:nvPr/>
                </p:nvSpPr>
                <p:spPr>
                  <a:xfrm rot="9372600">
                    <a:off x="8397000" y="3343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3" name=""/>
                  <p:cNvSpPr/>
                  <p:nvPr/>
                </p:nvSpPr>
                <p:spPr>
                  <a:xfrm>
                    <a:off x="8377920" y="337716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4" name=""/>
                  <p:cNvSpPr/>
                  <p:nvPr/>
                </p:nvSpPr>
                <p:spPr>
                  <a:xfrm>
                    <a:off x="8407440" y="34012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5" name=""/>
                  <p:cNvSpPr/>
                  <p:nvPr/>
                </p:nvSpPr>
                <p:spPr>
                  <a:xfrm flipV="1">
                    <a:off x="8429400" y="34056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"/>
                  <p:cNvSpPr/>
                  <p:nvPr/>
                </p:nvSpPr>
                <p:spPr>
                  <a:xfrm>
                    <a:off x="8442360" y="342324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97" name=""/>
                <p:cNvGrpSpPr/>
                <p:nvPr/>
              </p:nvGrpSpPr>
              <p:grpSpPr>
                <a:xfrm>
                  <a:off x="7983000" y="3033000"/>
                  <a:ext cx="166680" cy="163440"/>
                  <a:chOff x="7983000" y="3033000"/>
                  <a:chExt cx="166680" cy="163440"/>
                </a:xfrm>
              </p:grpSpPr>
              <p:sp>
                <p:nvSpPr>
                  <p:cNvPr id="7198" name=""/>
                  <p:cNvSpPr/>
                  <p:nvPr/>
                </p:nvSpPr>
                <p:spPr>
                  <a:xfrm rot="2970600">
                    <a:off x="8015040" y="3048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"/>
                  <p:cNvSpPr/>
                  <p:nvPr/>
                </p:nvSpPr>
                <p:spPr>
                  <a:xfrm flipV="1">
                    <a:off x="8055000" y="3086280"/>
                    <a:ext cx="140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0" name=""/>
                  <p:cNvSpPr/>
                  <p:nvPr/>
                </p:nvSpPr>
                <p:spPr>
                  <a:xfrm flipV="1">
                    <a:off x="8064360" y="313632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1" name=""/>
                  <p:cNvSpPr/>
                  <p:nvPr/>
                </p:nvSpPr>
                <p:spPr>
                  <a:xfrm flipH="1" flipV="1">
                    <a:off x="8051400" y="311076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2" name=""/>
                  <p:cNvSpPr/>
                  <p:nvPr/>
                </p:nvSpPr>
                <p:spPr>
                  <a:xfrm flipV="1">
                    <a:off x="8069040" y="310104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3" name=""/>
                <p:cNvGrpSpPr/>
                <p:nvPr/>
              </p:nvGrpSpPr>
              <p:grpSpPr>
                <a:xfrm>
                  <a:off x="8087040" y="3011760"/>
                  <a:ext cx="159840" cy="167040"/>
                  <a:chOff x="8087040" y="3011760"/>
                  <a:chExt cx="159840" cy="167040"/>
                </a:xfrm>
              </p:grpSpPr>
              <p:sp>
                <p:nvSpPr>
                  <p:cNvPr id="7204" name=""/>
                  <p:cNvSpPr/>
                  <p:nvPr/>
                </p:nvSpPr>
                <p:spPr>
                  <a:xfrm rot="2131200">
                    <a:off x="8115480" y="3029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5" name=""/>
                  <p:cNvSpPr/>
                  <p:nvPr/>
                </p:nvSpPr>
                <p:spPr>
                  <a:xfrm flipH="1" flipV="1">
                    <a:off x="8162280" y="3067200"/>
                    <a:ext cx="1044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6" name=""/>
                  <p:cNvSpPr/>
                  <p:nvPr/>
                </p:nvSpPr>
                <p:spPr>
                  <a:xfrm flipV="1">
                    <a:off x="8173800" y="3114720"/>
                    <a:ext cx="50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7" name=""/>
                  <p:cNvSpPr/>
                  <p:nvPr/>
                </p:nvSpPr>
                <p:spPr>
                  <a:xfrm flipH="1" flipV="1">
                    <a:off x="8151120" y="309528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"/>
                  <p:cNvSpPr/>
                  <p:nvPr/>
                </p:nvSpPr>
                <p:spPr>
                  <a:xfrm flipV="1">
                    <a:off x="8168760" y="308052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09" name=""/>
                <p:cNvGrpSpPr/>
                <p:nvPr/>
              </p:nvGrpSpPr>
              <p:grpSpPr>
                <a:xfrm>
                  <a:off x="8366760" y="3119760"/>
                  <a:ext cx="164160" cy="150840"/>
                  <a:chOff x="8366760" y="3119760"/>
                  <a:chExt cx="164160" cy="150840"/>
                </a:xfrm>
              </p:grpSpPr>
              <p:sp>
                <p:nvSpPr>
                  <p:cNvPr id="7210" name=""/>
                  <p:cNvSpPr/>
                  <p:nvPr/>
                </p:nvSpPr>
                <p:spPr>
                  <a:xfrm rot="3783000">
                    <a:off x="8397360" y="3129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1" name=""/>
                  <p:cNvSpPr/>
                  <p:nvPr/>
                </p:nvSpPr>
                <p:spPr>
                  <a:xfrm flipV="1">
                    <a:off x="8420400" y="3168000"/>
                    <a:ext cx="3744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2" name=""/>
                  <p:cNvSpPr/>
                  <p:nvPr/>
                </p:nvSpPr>
                <p:spPr>
                  <a:xfrm flipV="1">
                    <a:off x="8437680" y="321804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3" name=""/>
                  <p:cNvSpPr/>
                  <p:nvPr/>
                </p:nvSpPr>
                <p:spPr>
                  <a:xfrm flipH="1" flipV="1">
                    <a:off x="8434800" y="3187800"/>
                    <a:ext cx="39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4" name=""/>
                  <p:cNvSpPr/>
                  <p:nvPr/>
                </p:nvSpPr>
                <p:spPr>
                  <a:xfrm flipV="1">
                    <a:off x="8451360" y="3183480"/>
                    <a:ext cx="75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15" name=""/>
                <p:cNvGrpSpPr/>
                <p:nvPr/>
              </p:nvGrpSpPr>
              <p:grpSpPr>
                <a:xfrm>
                  <a:off x="8311680" y="3036960"/>
                  <a:ext cx="165240" cy="165960"/>
                  <a:chOff x="8311680" y="3036960"/>
                  <a:chExt cx="165240" cy="165960"/>
                </a:xfrm>
              </p:grpSpPr>
              <p:sp>
                <p:nvSpPr>
                  <p:cNvPr id="7216" name=""/>
                  <p:cNvSpPr/>
                  <p:nvPr/>
                </p:nvSpPr>
                <p:spPr>
                  <a:xfrm rot="2654400">
                    <a:off x="8343000" y="3053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"/>
                  <p:cNvSpPr/>
                  <p:nvPr/>
                </p:nvSpPr>
                <p:spPr>
                  <a:xfrm flipV="1">
                    <a:off x="8389080" y="3091320"/>
                    <a:ext cx="50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"/>
                  <p:cNvSpPr/>
                  <p:nvPr/>
                </p:nvSpPr>
                <p:spPr>
                  <a:xfrm flipV="1">
                    <a:off x="8395560" y="314064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"/>
                  <p:cNvSpPr/>
                  <p:nvPr/>
                </p:nvSpPr>
                <p:spPr>
                  <a:xfrm flipH="1" flipV="1">
                    <a:off x="8378640" y="31176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"/>
                  <p:cNvSpPr/>
                  <p:nvPr/>
                </p:nvSpPr>
                <p:spPr>
                  <a:xfrm flipV="1">
                    <a:off x="8396640" y="3105360"/>
                    <a:ext cx="32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1" name=""/>
                <p:cNvGrpSpPr/>
                <p:nvPr/>
              </p:nvGrpSpPr>
              <p:grpSpPr>
                <a:xfrm>
                  <a:off x="8228880" y="3100680"/>
                  <a:ext cx="167040" cy="161280"/>
                  <a:chOff x="8228880" y="3100680"/>
                  <a:chExt cx="167040" cy="161280"/>
                </a:xfrm>
              </p:grpSpPr>
              <p:sp>
                <p:nvSpPr>
                  <p:cNvPr id="7222" name=""/>
                  <p:cNvSpPr/>
                  <p:nvPr/>
                </p:nvSpPr>
                <p:spPr>
                  <a:xfrm rot="3174000">
                    <a:off x="8261280" y="3115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"/>
                  <p:cNvSpPr/>
                  <p:nvPr/>
                </p:nvSpPr>
                <p:spPr>
                  <a:xfrm flipV="1">
                    <a:off x="8296560" y="3152520"/>
                    <a:ext cx="2016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"/>
                  <p:cNvSpPr/>
                  <p:nvPr/>
                </p:nvSpPr>
                <p:spPr>
                  <a:xfrm flipV="1">
                    <a:off x="8308080" y="3202920"/>
                    <a:ext cx="100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"/>
                  <p:cNvSpPr/>
                  <p:nvPr/>
                </p:nvSpPr>
                <p:spPr>
                  <a:xfrm flipH="1" flipV="1">
                    <a:off x="8297640" y="3176280"/>
                    <a:ext cx="756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"/>
                  <p:cNvSpPr/>
                  <p:nvPr/>
                </p:nvSpPr>
                <p:spPr>
                  <a:xfrm flipV="1">
                    <a:off x="8315280" y="3167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27" name=""/>
                <p:cNvGrpSpPr/>
                <p:nvPr/>
              </p:nvGrpSpPr>
              <p:grpSpPr>
                <a:xfrm>
                  <a:off x="8338680" y="3247920"/>
                  <a:ext cx="149040" cy="124920"/>
                  <a:chOff x="8338680" y="3247920"/>
                  <a:chExt cx="149040" cy="124920"/>
                </a:xfrm>
              </p:grpSpPr>
              <p:sp>
                <p:nvSpPr>
                  <p:cNvPr id="7228" name=""/>
                  <p:cNvSpPr/>
                  <p:nvPr/>
                </p:nvSpPr>
                <p:spPr>
                  <a:xfrm rot="4758000">
                    <a:off x="8362080" y="3244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9" name=""/>
                  <p:cNvSpPr/>
                  <p:nvPr/>
                </p:nvSpPr>
                <p:spPr>
                  <a:xfrm flipV="1">
                    <a:off x="8367120" y="3286800"/>
                    <a:ext cx="6264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0" name=""/>
                  <p:cNvSpPr/>
                  <p:nvPr/>
                </p:nvSpPr>
                <p:spPr>
                  <a:xfrm flipV="1">
                    <a:off x="8392680" y="3332520"/>
                    <a:ext cx="15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"/>
                  <p:cNvSpPr/>
                  <p:nvPr/>
                </p:nvSpPr>
                <p:spPr>
                  <a:xfrm flipV="1">
                    <a:off x="8400240" y="329940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"/>
                  <p:cNvSpPr/>
                  <p:nvPr/>
                </p:nvSpPr>
                <p:spPr>
                  <a:xfrm flipV="1">
                    <a:off x="8416080" y="330192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3" name=""/>
                <p:cNvGrpSpPr/>
                <p:nvPr/>
              </p:nvGrpSpPr>
              <p:grpSpPr>
                <a:xfrm>
                  <a:off x="8109000" y="3283560"/>
                  <a:ext cx="174600" cy="142200"/>
                  <a:chOff x="8109000" y="3283560"/>
                  <a:chExt cx="174600" cy="142200"/>
                </a:xfrm>
              </p:grpSpPr>
              <p:sp>
                <p:nvSpPr>
                  <p:cNvPr id="7234" name=""/>
                  <p:cNvSpPr/>
                  <p:nvPr/>
                </p:nvSpPr>
                <p:spPr>
                  <a:xfrm rot="6808800">
                    <a:off x="8151480" y="3278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5" name=""/>
                  <p:cNvSpPr/>
                  <p:nvPr/>
                </p:nvSpPr>
                <p:spPr>
                  <a:xfrm flipV="1">
                    <a:off x="8120160" y="3347640"/>
                    <a:ext cx="1040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6" name=""/>
                  <p:cNvSpPr/>
                  <p:nvPr/>
                </p:nvSpPr>
                <p:spPr>
                  <a:xfrm>
                    <a:off x="8158320" y="3364200"/>
                    <a:ext cx="20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7" name=""/>
                  <p:cNvSpPr/>
                  <p:nvPr/>
                </p:nvSpPr>
                <p:spPr>
                  <a:xfrm flipV="1">
                    <a:off x="8177760" y="333972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8" name=""/>
                  <p:cNvSpPr/>
                  <p:nvPr/>
                </p:nvSpPr>
                <p:spPr>
                  <a:xfrm>
                    <a:off x="8199000" y="3356280"/>
                    <a:ext cx="144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39" name=""/>
                <p:cNvGrpSpPr/>
                <p:nvPr/>
              </p:nvGrpSpPr>
              <p:grpSpPr>
                <a:xfrm>
                  <a:off x="7985520" y="3430080"/>
                  <a:ext cx="166320" cy="164880"/>
                  <a:chOff x="7985520" y="3430080"/>
                  <a:chExt cx="166320" cy="164880"/>
                </a:xfrm>
              </p:grpSpPr>
              <p:sp>
                <p:nvSpPr>
                  <p:cNvPr id="7240" name=""/>
                  <p:cNvSpPr/>
                  <p:nvPr/>
                </p:nvSpPr>
                <p:spPr>
                  <a:xfrm rot="13605600">
                    <a:off x="8017560" y="344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1" name=""/>
                  <p:cNvSpPr/>
                  <p:nvPr/>
                </p:nvSpPr>
                <p:spPr>
                  <a:xfrm flipH="1">
                    <a:off x="8067960" y="3439440"/>
                    <a:ext cx="93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2" name=""/>
                  <p:cNvSpPr/>
                  <p:nvPr/>
                </p:nvSpPr>
                <p:spPr>
                  <a:xfrm flipH="1">
                    <a:off x="8061120" y="3474360"/>
                    <a:ext cx="82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"/>
                  <p:cNvSpPr/>
                  <p:nvPr/>
                </p:nvSpPr>
                <p:spPr>
                  <a:xfrm>
                    <a:off x="8074800" y="349668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4" name=""/>
                  <p:cNvSpPr/>
                  <p:nvPr/>
                </p:nvSpPr>
                <p:spPr>
                  <a:xfrm flipH="1">
                    <a:off x="8062560" y="351396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5" name=""/>
                <p:cNvGrpSpPr/>
                <p:nvPr/>
              </p:nvGrpSpPr>
              <p:grpSpPr>
                <a:xfrm>
                  <a:off x="7867440" y="3357720"/>
                  <a:ext cx="166680" cy="163800"/>
                  <a:chOff x="7867440" y="3357720"/>
                  <a:chExt cx="166680" cy="163800"/>
                </a:xfrm>
              </p:grpSpPr>
              <p:sp>
                <p:nvSpPr>
                  <p:cNvPr id="7246" name=""/>
                  <p:cNvSpPr/>
                  <p:nvPr/>
                </p:nvSpPr>
                <p:spPr>
                  <a:xfrm rot="13725600">
                    <a:off x="7899480" y="3373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7" name=""/>
                  <p:cNvSpPr/>
                  <p:nvPr/>
                </p:nvSpPr>
                <p:spPr>
                  <a:xfrm flipH="1">
                    <a:off x="7948800" y="3367440"/>
                    <a:ext cx="1296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8" name=""/>
                  <p:cNvSpPr/>
                  <p:nvPr/>
                </p:nvSpPr>
                <p:spPr>
                  <a:xfrm flipH="1">
                    <a:off x="7943400" y="340164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9" name=""/>
                  <p:cNvSpPr/>
                  <p:nvPr/>
                </p:nvSpPr>
                <p:spPr>
                  <a:xfrm>
                    <a:off x="7957080" y="342432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0" name=""/>
                  <p:cNvSpPr/>
                  <p:nvPr/>
                </p:nvSpPr>
                <p:spPr>
                  <a:xfrm flipH="1">
                    <a:off x="7944120" y="344124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1" name=""/>
                <p:cNvGrpSpPr/>
                <p:nvPr/>
              </p:nvGrpSpPr>
              <p:grpSpPr>
                <a:xfrm>
                  <a:off x="8043840" y="3130920"/>
                  <a:ext cx="176040" cy="155160"/>
                  <a:chOff x="8043840" y="3130920"/>
                  <a:chExt cx="176040" cy="155160"/>
                </a:xfrm>
              </p:grpSpPr>
              <p:sp>
                <p:nvSpPr>
                  <p:cNvPr id="7252" name=""/>
                  <p:cNvSpPr/>
                  <p:nvPr/>
                </p:nvSpPr>
                <p:spPr>
                  <a:xfrm rot="7298400">
                    <a:off x="8087400" y="3132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"/>
                  <p:cNvSpPr/>
                  <p:nvPr/>
                </p:nvSpPr>
                <p:spPr>
                  <a:xfrm flipV="1">
                    <a:off x="8055000" y="3205800"/>
                    <a:ext cx="1054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"/>
                  <p:cNvSpPr/>
                  <p:nvPr/>
                </p:nvSpPr>
                <p:spPr>
                  <a:xfrm>
                    <a:off x="8092800" y="3212640"/>
                    <a:ext cx="20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"/>
                  <p:cNvSpPr/>
                  <p:nvPr/>
                </p:nvSpPr>
                <p:spPr>
                  <a:xfrm flipV="1">
                    <a:off x="8114040" y="319320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"/>
                  <p:cNvSpPr/>
                  <p:nvPr/>
                </p:nvSpPr>
                <p:spPr>
                  <a:xfrm>
                    <a:off x="8134200" y="3210840"/>
                    <a:ext cx="144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7" name=""/>
                <p:cNvGrpSpPr/>
                <p:nvPr/>
              </p:nvGrpSpPr>
              <p:grpSpPr>
                <a:xfrm>
                  <a:off x="8205480" y="3096000"/>
                  <a:ext cx="160200" cy="142920"/>
                  <a:chOff x="8205480" y="3096000"/>
                  <a:chExt cx="160200" cy="142920"/>
                </a:xfrm>
              </p:grpSpPr>
              <p:sp>
                <p:nvSpPr>
                  <p:cNvPr id="7258" name=""/>
                  <p:cNvSpPr/>
                  <p:nvPr/>
                </p:nvSpPr>
                <p:spPr>
                  <a:xfrm rot="6663000">
                    <a:off x="8234280" y="3101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"/>
                  <p:cNvSpPr/>
                  <p:nvPr/>
                </p:nvSpPr>
                <p:spPr>
                  <a:xfrm flipV="1">
                    <a:off x="8216640" y="3156120"/>
                    <a:ext cx="9540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"/>
                  <p:cNvSpPr/>
                  <p:nvPr/>
                </p:nvSpPr>
                <p:spPr>
                  <a:xfrm>
                    <a:off x="8251200" y="318348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"/>
                  <p:cNvSpPr/>
                  <p:nvPr/>
                </p:nvSpPr>
                <p:spPr>
                  <a:xfrm flipV="1">
                    <a:off x="8269200" y="3152160"/>
                    <a:ext cx="1260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2" name=""/>
                  <p:cNvSpPr/>
                  <p:nvPr/>
                </p:nvSpPr>
                <p:spPr>
                  <a:xfrm flipV="1">
                    <a:off x="8287920" y="3166920"/>
                    <a:ext cx="133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3" name=""/>
                <p:cNvGrpSpPr/>
                <p:nvPr/>
              </p:nvGrpSpPr>
              <p:grpSpPr>
                <a:xfrm>
                  <a:off x="8370000" y="3125880"/>
                  <a:ext cx="157680" cy="138960"/>
                  <a:chOff x="8370000" y="3125880"/>
                  <a:chExt cx="157680" cy="138960"/>
                </a:xfrm>
              </p:grpSpPr>
              <p:sp>
                <p:nvSpPr>
                  <p:cNvPr id="7264" name=""/>
                  <p:cNvSpPr/>
                  <p:nvPr/>
                </p:nvSpPr>
                <p:spPr>
                  <a:xfrm rot="6502800">
                    <a:off x="8397720" y="3129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5" name=""/>
                  <p:cNvSpPr/>
                  <p:nvPr/>
                </p:nvSpPr>
                <p:spPr>
                  <a:xfrm flipV="1">
                    <a:off x="8380800" y="3182400"/>
                    <a:ext cx="93600" cy="39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"/>
                  <p:cNvSpPr/>
                  <p:nvPr/>
                </p:nvSpPr>
                <p:spPr>
                  <a:xfrm flipV="1">
                    <a:off x="8415000" y="321228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"/>
                  <p:cNvSpPr/>
                  <p:nvPr/>
                </p:nvSpPr>
                <p:spPr>
                  <a:xfrm flipV="1">
                    <a:off x="8432280" y="317988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"/>
                  <p:cNvSpPr/>
                  <p:nvPr/>
                </p:nvSpPr>
                <p:spPr>
                  <a:xfrm flipV="1">
                    <a:off x="8451360" y="319392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9" name=""/>
                <p:cNvGrpSpPr/>
                <p:nvPr/>
              </p:nvGrpSpPr>
              <p:grpSpPr>
                <a:xfrm>
                  <a:off x="8416440" y="3192120"/>
                  <a:ext cx="176040" cy="151200"/>
                  <a:chOff x="8416440" y="3192120"/>
                  <a:chExt cx="176040" cy="151200"/>
                </a:xfrm>
              </p:grpSpPr>
              <p:sp>
                <p:nvSpPr>
                  <p:cNvPr id="7270" name=""/>
                  <p:cNvSpPr/>
                  <p:nvPr/>
                </p:nvSpPr>
                <p:spPr>
                  <a:xfrm rot="7135200">
                    <a:off x="8460000" y="3191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1" name=""/>
                  <p:cNvSpPr/>
                  <p:nvPr/>
                </p:nvSpPr>
                <p:spPr>
                  <a:xfrm flipV="1">
                    <a:off x="8427960" y="3263760"/>
                    <a:ext cx="1051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2" name=""/>
                  <p:cNvSpPr/>
                  <p:nvPr/>
                </p:nvSpPr>
                <p:spPr>
                  <a:xfrm>
                    <a:off x="8465760" y="3274200"/>
                    <a:ext cx="205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3" name=""/>
                  <p:cNvSpPr/>
                  <p:nvPr/>
                </p:nvSpPr>
                <p:spPr>
                  <a:xfrm flipV="1">
                    <a:off x="8486640" y="325260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4" name=""/>
                  <p:cNvSpPr/>
                  <p:nvPr/>
                </p:nvSpPr>
                <p:spPr>
                  <a:xfrm>
                    <a:off x="8507160" y="327024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75" name=""/>
              <p:cNvGrpSpPr/>
              <p:nvPr/>
            </p:nvGrpSpPr>
            <p:grpSpPr>
              <a:xfrm>
                <a:off x="7201800" y="2708640"/>
                <a:ext cx="650520" cy="729000"/>
                <a:chOff x="7201800" y="2708640"/>
                <a:chExt cx="650520" cy="729000"/>
              </a:xfrm>
            </p:grpSpPr>
            <p:grpSp>
              <p:nvGrpSpPr>
                <p:cNvPr id="7276" name=""/>
                <p:cNvGrpSpPr/>
                <p:nvPr/>
              </p:nvGrpSpPr>
              <p:grpSpPr>
                <a:xfrm>
                  <a:off x="7564680" y="2889000"/>
                  <a:ext cx="156240" cy="136440"/>
                  <a:chOff x="7564680" y="2889000"/>
                  <a:chExt cx="156240" cy="136440"/>
                </a:xfrm>
              </p:grpSpPr>
              <p:sp>
                <p:nvSpPr>
                  <p:cNvPr id="7277" name=""/>
                  <p:cNvSpPr/>
                  <p:nvPr/>
                </p:nvSpPr>
                <p:spPr>
                  <a:xfrm rot="6426000">
                    <a:off x="7591320" y="2891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"/>
                  <p:cNvSpPr/>
                  <p:nvPr/>
                </p:nvSpPr>
                <p:spPr>
                  <a:xfrm flipV="1">
                    <a:off x="7575480" y="2944080"/>
                    <a:ext cx="92520" cy="42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9" name=""/>
                  <p:cNvSpPr/>
                  <p:nvPr/>
                </p:nvSpPr>
                <p:spPr>
                  <a:xfrm flipV="1">
                    <a:off x="7609320" y="29746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0" name=""/>
                  <p:cNvSpPr/>
                  <p:nvPr/>
                </p:nvSpPr>
                <p:spPr>
                  <a:xfrm flipV="1">
                    <a:off x="7626240" y="294228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1" name=""/>
                  <p:cNvSpPr/>
                  <p:nvPr/>
                </p:nvSpPr>
                <p:spPr>
                  <a:xfrm flipV="1">
                    <a:off x="7645320" y="2955600"/>
                    <a:ext cx="129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82" name=""/>
                <p:cNvSpPr/>
                <p:nvPr/>
              </p:nvSpPr>
              <p:spPr>
                <a:xfrm flipH="1" flipV="1">
                  <a:off x="7396560" y="3092400"/>
                  <a:ext cx="174960" cy="10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3" name=""/>
                <p:cNvSpPr/>
                <p:nvPr/>
              </p:nvSpPr>
              <p:spPr>
                <a:xfrm rot="2610600">
                  <a:off x="7235640" y="30114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4" name=""/>
                <p:cNvSpPr/>
                <p:nvPr/>
              </p:nvSpPr>
              <p:spPr>
                <a:xfrm flipV="1">
                  <a:off x="7517880" y="2881080"/>
                  <a:ext cx="52200" cy="169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 flipV="1">
                  <a:off x="7562880" y="3127320"/>
                  <a:ext cx="101520" cy="28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6" name=""/>
                <p:cNvSpPr/>
                <p:nvPr/>
              </p:nvSpPr>
              <p:spPr>
                <a:xfrm flipH="1">
                  <a:off x="7423920" y="3144240"/>
                  <a:ext cx="5940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7" name=""/>
                <p:cNvSpPr/>
                <p:nvPr/>
              </p:nvSpPr>
              <p:spPr>
                <a:xfrm flipH="1" flipV="1">
                  <a:off x="7515000" y="3111120"/>
                  <a:ext cx="27360" cy="5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 flipH="1" flipV="1">
                  <a:off x="7525440" y="2869200"/>
                  <a:ext cx="10800" cy="10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 flipV="1">
                  <a:off x="7535520" y="2968200"/>
                  <a:ext cx="6120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0" name=""/>
                <p:cNvSpPr/>
                <p:nvPr/>
              </p:nvSpPr>
              <p:spPr>
                <a:xfrm flipH="1" flipV="1">
                  <a:off x="7372800" y="2944800"/>
                  <a:ext cx="7380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1" name=""/>
                <p:cNvSpPr/>
                <p:nvPr/>
              </p:nvSpPr>
              <p:spPr>
                <a:xfrm flipH="1" flipV="1">
                  <a:off x="7590960" y="3089520"/>
                  <a:ext cx="22680" cy="178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2" name=""/>
                <p:cNvSpPr/>
                <p:nvPr/>
              </p:nvSpPr>
              <p:spPr>
                <a:xfrm flipV="1">
                  <a:off x="7603200" y="3116520"/>
                  <a:ext cx="1692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3" name=""/>
                <p:cNvSpPr/>
                <p:nvPr/>
              </p:nvSpPr>
              <p:spPr>
                <a:xfrm flipV="1">
                  <a:off x="7596720" y="3261240"/>
                  <a:ext cx="7632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 flipV="1">
                  <a:off x="7647840" y="3124080"/>
                  <a:ext cx="4680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5" name=""/>
                <p:cNvSpPr/>
                <p:nvPr/>
              </p:nvSpPr>
              <p:spPr>
                <a:xfrm flipH="1" flipV="1">
                  <a:off x="7494480" y="3248280"/>
                  <a:ext cx="7272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6" name=""/>
                <p:cNvSpPr/>
                <p:nvPr/>
              </p:nvSpPr>
              <p:spPr>
                <a:xfrm flipH="1" flipV="1">
                  <a:off x="7430400" y="2998800"/>
                  <a:ext cx="5868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 flipV="1">
                  <a:off x="7434360" y="2861640"/>
                  <a:ext cx="16560" cy="46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298" name=""/>
                <p:cNvGrpSpPr/>
                <p:nvPr/>
              </p:nvGrpSpPr>
              <p:grpSpPr>
                <a:xfrm>
                  <a:off x="7529040" y="2774880"/>
                  <a:ext cx="171720" cy="130320"/>
                  <a:chOff x="7529040" y="2774880"/>
                  <a:chExt cx="171720" cy="130320"/>
                </a:xfrm>
              </p:grpSpPr>
              <p:sp>
                <p:nvSpPr>
                  <p:cNvPr id="7299" name=""/>
                  <p:cNvSpPr/>
                  <p:nvPr/>
                </p:nvSpPr>
                <p:spPr>
                  <a:xfrm rot="4356000">
                    <a:off x="7570440" y="2763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0" name=""/>
                  <p:cNvSpPr/>
                  <p:nvPr/>
                </p:nvSpPr>
                <p:spPr>
                  <a:xfrm flipV="1">
                    <a:off x="7565760" y="2816280"/>
                    <a:ext cx="6624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"/>
                  <p:cNvSpPr/>
                  <p:nvPr/>
                </p:nvSpPr>
                <p:spPr>
                  <a:xfrm flipV="1">
                    <a:off x="7592760" y="2860560"/>
                    <a:ext cx="17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"/>
                  <p:cNvSpPr/>
                  <p:nvPr/>
                </p:nvSpPr>
                <p:spPr>
                  <a:xfrm flipV="1">
                    <a:off x="7600320" y="2831760"/>
                    <a:ext cx="14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"/>
                  <p:cNvSpPr/>
                  <p:nvPr/>
                </p:nvSpPr>
                <p:spPr>
                  <a:xfrm flipV="1">
                    <a:off x="7618320" y="2829960"/>
                    <a:ext cx="1116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4" name=""/>
                <p:cNvGrpSpPr/>
                <p:nvPr/>
              </p:nvGrpSpPr>
              <p:grpSpPr>
                <a:xfrm>
                  <a:off x="7434360" y="2959920"/>
                  <a:ext cx="135360" cy="173160"/>
                  <a:chOff x="7434360" y="2959920"/>
                  <a:chExt cx="135360" cy="173160"/>
                </a:xfrm>
              </p:grpSpPr>
              <p:sp>
                <p:nvSpPr>
                  <p:cNvPr id="7305" name=""/>
                  <p:cNvSpPr/>
                  <p:nvPr/>
                </p:nvSpPr>
                <p:spPr>
                  <a:xfrm rot="1197600">
                    <a:off x="7457400" y="2970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6" name=""/>
                  <p:cNvSpPr/>
                  <p:nvPr/>
                </p:nvSpPr>
                <p:spPr>
                  <a:xfrm flipH="1" flipV="1">
                    <a:off x="7493400" y="3018960"/>
                    <a:ext cx="25200" cy="10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7" name=""/>
                  <p:cNvSpPr/>
                  <p:nvPr/>
                </p:nvSpPr>
                <p:spPr>
                  <a:xfrm flipV="1">
                    <a:off x="7513920" y="30628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8" name=""/>
                  <p:cNvSpPr/>
                  <p:nvPr/>
                </p:nvSpPr>
                <p:spPr>
                  <a:xfrm flipH="1" flipV="1">
                    <a:off x="7487280" y="305244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9" name=""/>
                  <p:cNvSpPr/>
                  <p:nvPr/>
                </p:nvSpPr>
                <p:spPr>
                  <a:xfrm flipH="1" flipV="1">
                    <a:off x="7502760" y="3029040"/>
                    <a:ext cx="7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0" name=""/>
                <p:cNvGrpSpPr/>
                <p:nvPr/>
              </p:nvGrpSpPr>
              <p:grpSpPr>
                <a:xfrm>
                  <a:off x="7522920" y="2935800"/>
                  <a:ext cx="169200" cy="171360"/>
                  <a:chOff x="7522920" y="2935800"/>
                  <a:chExt cx="169200" cy="171360"/>
                </a:xfrm>
              </p:grpSpPr>
              <p:sp>
                <p:nvSpPr>
                  <p:cNvPr id="7311" name=""/>
                  <p:cNvSpPr/>
                  <p:nvPr/>
                </p:nvSpPr>
                <p:spPr>
                  <a:xfrm rot="2610600">
                    <a:off x="7562880" y="2945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2" name=""/>
                  <p:cNvSpPr/>
                  <p:nvPr/>
                </p:nvSpPr>
                <p:spPr>
                  <a:xfrm flipV="1">
                    <a:off x="7593120" y="2992680"/>
                    <a:ext cx="1800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"/>
                  <p:cNvSpPr/>
                  <p:nvPr/>
                </p:nvSpPr>
                <p:spPr>
                  <a:xfrm flipV="1">
                    <a:off x="7603920" y="304164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4" name=""/>
                  <p:cNvSpPr/>
                  <p:nvPr/>
                </p:nvSpPr>
                <p:spPr>
                  <a:xfrm flipH="1" flipV="1">
                    <a:off x="7592040" y="3020760"/>
                    <a:ext cx="82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5" name=""/>
                  <p:cNvSpPr/>
                  <p:nvPr/>
                </p:nvSpPr>
                <p:spPr>
                  <a:xfrm flipV="1">
                    <a:off x="7610400" y="300564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16" name=""/>
                <p:cNvGrpSpPr/>
                <p:nvPr/>
              </p:nvGrpSpPr>
              <p:grpSpPr>
                <a:xfrm>
                  <a:off x="7238880" y="3012840"/>
                  <a:ext cx="167040" cy="160560"/>
                  <a:chOff x="7238880" y="3012840"/>
                  <a:chExt cx="167040" cy="160560"/>
                </a:xfrm>
              </p:grpSpPr>
              <p:sp>
                <p:nvSpPr>
                  <p:cNvPr id="7317" name=""/>
                  <p:cNvSpPr/>
                  <p:nvPr/>
                </p:nvSpPr>
                <p:spPr>
                  <a:xfrm rot="18379800">
                    <a:off x="7270920" y="30268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8" name=""/>
                  <p:cNvSpPr/>
                  <p:nvPr/>
                </p:nvSpPr>
                <p:spPr>
                  <a:xfrm flipH="1">
                    <a:off x="7294320" y="3088440"/>
                    <a:ext cx="10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9" name=""/>
                  <p:cNvSpPr/>
                  <p:nvPr/>
                </p:nvSpPr>
                <p:spPr>
                  <a:xfrm flipH="1" flipV="1">
                    <a:off x="7342200" y="308160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0" name=""/>
                  <p:cNvSpPr/>
                  <p:nvPr/>
                </p:nvSpPr>
                <p:spPr>
                  <a:xfrm flipH="1">
                    <a:off x="7322400" y="309636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1" name=""/>
                  <p:cNvSpPr/>
                  <p:nvPr/>
                </p:nvSpPr>
                <p:spPr>
                  <a:xfrm flipH="1" flipV="1">
                    <a:off x="7307640" y="30898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2" name=""/>
                <p:cNvGrpSpPr/>
                <p:nvPr/>
              </p:nvGrpSpPr>
              <p:grpSpPr>
                <a:xfrm>
                  <a:off x="7382520" y="2708640"/>
                  <a:ext cx="169200" cy="171360"/>
                  <a:chOff x="7382520" y="2708640"/>
                  <a:chExt cx="169200" cy="171360"/>
                </a:xfrm>
              </p:grpSpPr>
              <p:sp>
                <p:nvSpPr>
                  <p:cNvPr id="7323" name=""/>
                  <p:cNvSpPr/>
                  <p:nvPr/>
                </p:nvSpPr>
                <p:spPr>
                  <a:xfrm rot="2610600">
                    <a:off x="7422480" y="2718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"/>
                  <p:cNvSpPr/>
                  <p:nvPr/>
                </p:nvSpPr>
                <p:spPr>
                  <a:xfrm flipV="1">
                    <a:off x="7452720" y="2765520"/>
                    <a:ext cx="18000" cy="10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"/>
                  <p:cNvSpPr/>
                  <p:nvPr/>
                </p:nvSpPr>
                <p:spPr>
                  <a:xfrm flipV="1">
                    <a:off x="7463520" y="281484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"/>
                  <p:cNvSpPr/>
                  <p:nvPr/>
                </p:nvSpPr>
                <p:spPr>
                  <a:xfrm flipH="1" flipV="1">
                    <a:off x="7451640" y="279396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"/>
                  <p:cNvSpPr/>
                  <p:nvPr/>
                </p:nvSpPr>
                <p:spPr>
                  <a:xfrm flipV="1">
                    <a:off x="7470000" y="277884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28" name=""/>
                <p:cNvGrpSpPr/>
                <p:nvPr/>
              </p:nvGrpSpPr>
              <p:grpSpPr>
                <a:xfrm>
                  <a:off x="7596360" y="2973600"/>
                  <a:ext cx="169200" cy="171360"/>
                  <a:chOff x="7596360" y="2973600"/>
                  <a:chExt cx="169200" cy="171360"/>
                </a:xfrm>
              </p:grpSpPr>
              <p:sp>
                <p:nvSpPr>
                  <p:cNvPr id="7329" name=""/>
                  <p:cNvSpPr/>
                  <p:nvPr/>
                </p:nvSpPr>
                <p:spPr>
                  <a:xfrm rot="2610600">
                    <a:off x="7636320" y="2983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"/>
                  <p:cNvSpPr/>
                  <p:nvPr/>
                </p:nvSpPr>
                <p:spPr>
                  <a:xfrm flipV="1">
                    <a:off x="7666200" y="3030480"/>
                    <a:ext cx="1800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"/>
                  <p:cNvSpPr/>
                  <p:nvPr/>
                </p:nvSpPr>
                <p:spPr>
                  <a:xfrm flipV="1">
                    <a:off x="7677000" y="3079440"/>
                    <a:ext cx="9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2" name=""/>
                  <p:cNvSpPr/>
                  <p:nvPr/>
                </p:nvSpPr>
                <p:spPr>
                  <a:xfrm flipH="1" flipV="1">
                    <a:off x="7665480" y="30589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3" name=""/>
                  <p:cNvSpPr/>
                  <p:nvPr/>
                </p:nvSpPr>
                <p:spPr>
                  <a:xfrm flipV="1">
                    <a:off x="7683840" y="3043800"/>
                    <a:ext cx="46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4" name=""/>
                <p:cNvGrpSpPr/>
                <p:nvPr/>
              </p:nvGrpSpPr>
              <p:grpSpPr>
                <a:xfrm>
                  <a:off x="7457400" y="2716560"/>
                  <a:ext cx="169200" cy="171360"/>
                  <a:chOff x="7457400" y="2716560"/>
                  <a:chExt cx="169200" cy="171360"/>
                </a:xfrm>
              </p:grpSpPr>
              <p:sp>
                <p:nvSpPr>
                  <p:cNvPr id="7335" name=""/>
                  <p:cNvSpPr/>
                  <p:nvPr/>
                </p:nvSpPr>
                <p:spPr>
                  <a:xfrm rot="2610600">
                    <a:off x="7497360" y="2726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"/>
                  <p:cNvSpPr/>
                  <p:nvPr/>
                </p:nvSpPr>
                <p:spPr>
                  <a:xfrm flipV="1">
                    <a:off x="7527600" y="2773440"/>
                    <a:ext cx="17640" cy="10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"/>
                  <p:cNvSpPr/>
                  <p:nvPr/>
                </p:nvSpPr>
                <p:spPr>
                  <a:xfrm flipV="1">
                    <a:off x="7538400" y="282276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"/>
                  <p:cNvSpPr/>
                  <p:nvPr/>
                </p:nvSpPr>
                <p:spPr>
                  <a:xfrm flipH="1" flipV="1">
                    <a:off x="7526520" y="280188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"/>
                  <p:cNvSpPr/>
                  <p:nvPr/>
                </p:nvSpPr>
                <p:spPr>
                  <a:xfrm flipV="1">
                    <a:off x="7544880" y="278676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0" name=""/>
                <p:cNvGrpSpPr/>
                <p:nvPr/>
              </p:nvGrpSpPr>
              <p:grpSpPr>
                <a:xfrm>
                  <a:off x="7323480" y="3191040"/>
                  <a:ext cx="164160" cy="150840"/>
                  <a:chOff x="7323480" y="3191040"/>
                  <a:chExt cx="164160" cy="150840"/>
                </a:xfrm>
              </p:grpSpPr>
              <p:sp>
                <p:nvSpPr>
                  <p:cNvPr id="7341" name=""/>
                  <p:cNvSpPr/>
                  <p:nvPr/>
                </p:nvSpPr>
                <p:spPr>
                  <a:xfrm rot="17808600">
                    <a:off x="7354080" y="32000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2" name=""/>
                  <p:cNvSpPr/>
                  <p:nvPr/>
                </p:nvSpPr>
                <p:spPr>
                  <a:xfrm flipH="1">
                    <a:off x="7378200" y="3249000"/>
                    <a:ext cx="98280" cy="25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3" name=""/>
                  <p:cNvSpPr/>
                  <p:nvPr/>
                </p:nvSpPr>
                <p:spPr>
                  <a:xfrm flipH="1" flipV="1">
                    <a:off x="7422480" y="32515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4" name=""/>
                  <p:cNvSpPr/>
                  <p:nvPr/>
                </p:nvSpPr>
                <p:spPr>
                  <a:xfrm flipH="1">
                    <a:off x="7407720" y="326628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5" name=""/>
                  <p:cNvSpPr/>
                  <p:nvPr/>
                </p:nvSpPr>
                <p:spPr>
                  <a:xfrm flipH="1">
                    <a:off x="7389720" y="3264480"/>
                    <a:ext cx="133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46" name=""/>
                <p:cNvGrpSpPr/>
                <p:nvPr/>
              </p:nvGrpSpPr>
              <p:grpSpPr>
                <a:xfrm>
                  <a:off x="7273080" y="3116520"/>
                  <a:ext cx="151560" cy="128880"/>
                  <a:chOff x="7273080" y="3116520"/>
                  <a:chExt cx="151560" cy="128880"/>
                </a:xfrm>
              </p:grpSpPr>
              <p:sp>
                <p:nvSpPr>
                  <p:cNvPr id="7347" name=""/>
                  <p:cNvSpPr/>
                  <p:nvPr/>
                </p:nvSpPr>
                <p:spPr>
                  <a:xfrm rot="16969200">
                    <a:off x="7297560" y="3114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"/>
                  <p:cNvSpPr/>
                  <p:nvPr/>
                </p:nvSpPr>
                <p:spPr>
                  <a:xfrm flipH="1">
                    <a:off x="7324560" y="3147480"/>
                    <a:ext cx="8928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9" name=""/>
                  <p:cNvSpPr/>
                  <p:nvPr/>
                </p:nvSpPr>
                <p:spPr>
                  <a:xfrm flipH="1">
                    <a:off x="7362000" y="31604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0" name=""/>
                  <p:cNvSpPr/>
                  <p:nvPr/>
                </p:nvSpPr>
                <p:spPr>
                  <a:xfrm flipH="1">
                    <a:off x="7355160" y="317736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1" name=""/>
                  <p:cNvSpPr/>
                  <p:nvPr/>
                </p:nvSpPr>
                <p:spPr>
                  <a:xfrm flipH="1">
                    <a:off x="7333560" y="3180240"/>
                    <a:ext cx="129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2" name=""/>
                <p:cNvGrpSpPr/>
                <p:nvPr/>
              </p:nvGrpSpPr>
              <p:grpSpPr>
                <a:xfrm>
                  <a:off x="7248600" y="2800800"/>
                  <a:ext cx="167040" cy="163440"/>
                  <a:chOff x="7248600" y="2800800"/>
                  <a:chExt cx="167040" cy="163440"/>
                </a:xfrm>
              </p:grpSpPr>
              <p:sp>
                <p:nvSpPr>
                  <p:cNvPr id="7353" name=""/>
                  <p:cNvSpPr/>
                  <p:nvPr/>
                </p:nvSpPr>
                <p:spPr>
                  <a:xfrm rot="18621600">
                    <a:off x="7280640" y="2816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4" name=""/>
                  <p:cNvSpPr/>
                  <p:nvPr/>
                </p:nvSpPr>
                <p:spPr>
                  <a:xfrm flipH="1">
                    <a:off x="7303680" y="2882880"/>
                    <a:ext cx="10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5" name=""/>
                  <p:cNvSpPr/>
                  <p:nvPr/>
                </p:nvSpPr>
                <p:spPr>
                  <a:xfrm flipH="1" flipV="1">
                    <a:off x="7352280" y="287208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6" name=""/>
                  <p:cNvSpPr/>
                  <p:nvPr/>
                </p:nvSpPr>
                <p:spPr>
                  <a:xfrm flipH="1">
                    <a:off x="7330680" y="2886480"/>
                    <a:ext cx="176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"/>
                  <p:cNvSpPr/>
                  <p:nvPr/>
                </p:nvSpPr>
                <p:spPr>
                  <a:xfrm flipH="1" flipV="1">
                    <a:off x="7317360" y="287784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8" name=""/>
                <p:cNvGrpSpPr/>
                <p:nvPr/>
              </p:nvGrpSpPr>
              <p:grpSpPr>
                <a:xfrm>
                  <a:off x="7203240" y="2890080"/>
                  <a:ext cx="160560" cy="143640"/>
                  <a:chOff x="7203240" y="2890080"/>
                  <a:chExt cx="160560" cy="143640"/>
                </a:xfrm>
              </p:grpSpPr>
              <p:sp>
                <p:nvSpPr>
                  <p:cNvPr id="7359" name=""/>
                  <p:cNvSpPr/>
                  <p:nvPr/>
                </p:nvSpPr>
                <p:spPr>
                  <a:xfrm rot="17492400">
                    <a:off x="7232040" y="2895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"/>
                  <p:cNvSpPr/>
                  <p:nvPr/>
                </p:nvSpPr>
                <p:spPr>
                  <a:xfrm flipH="1">
                    <a:off x="7257240" y="2938320"/>
                    <a:ext cx="9576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"/>
                  <p:cNvSpPr/>
                  <p:nvPr/>
                </p:nvSpPr>
                <p:spPr>
                  <a:xfrm flipH="1" flipV="1">
                    <a:off x="7299360" y="294552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"/>
                  <p:cNvSpPr/>
                  <p:nvPr/>
                </p:nvSpPr>
                <p:spPr>
                  <a:xfrm flipH="1">
                    <a:off x="7287480" y="2960640"/>
                    <a:ext cx="126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"/>
                  <p:cNvSpPr/>
                  <p:nvPr/>
                </p:nvSpPr>
                <p:spPr>
                  <a:xfrm flipH="1">
                    <a:off x="7268040" y="2960640"/>
                    <a:ext cx="133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4" name=""/>
                <p:cNvGrpSpPr/>
                <p:nvPr/>
              </p:nvGrpSpPr>
              <p:grpSpPr>
                <a:xfrm>
                  <a:off x="7288920" y="2936160"/>
                  <a:ext cx="165600" cy="154800"/>
                  <a:chOff x="7288920" y="2936160"/>
                  <a:chExt cx="165600" cy="154800"/>
                </a:xfrm>
              </p:grpSpPr>
              <p:sp>
                <p:nvSpPr>
                  <p:cNvPr id="7365" name=""/>
                  <p:cNvSpPr/>
                  <p:nvPr/>
                </p:nvSpPr>
                <p:spPr>
                  <a:xfrm rot="18012000">
                    <a:off x="7320600" y="2947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"/>
                  <p:cNvSpPr/>
                  <p:nvPr/>
                </p:nvSpPr>
                <p:spPr>
                  <a:xfrm flipH="1">
                    <a:off x="7343640" y="3000960"/>
                    <a:ext cx="10008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7" name=""/>
                  <p:cNvSpPr/>
                  <p:nvPr/>
                </p:nvSpPr>
                <p:spPr>
                  <a:xfrm flipH="1" flipV="1">
                    <a:off x="7389720" y="2999880"/>
                    <a:ext cx="183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8" name=""/>
                  <p:cNvSpPr/>
                  <p:nvPr/>
                </p:nvSpPr>
                <p:spPr>
                  <a:xfrm flipH="1">
                    <a:off x="7372800" y="3015000"/>
                    <a:ext cx="151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"/>
                  <p:cNvSpPr/>
                  <p:nvPr/>
                </p:nvSpPr>
                <p:spPr>
                  <a:xfrm flipH="1">
                    <a:off x="7356240" y="301176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0" name=""/>
                <p:cNvGrpSpPr/>
                <p:nvPr/>
              </p:nvGrpSpPr>
              <p:grpSpPr>
                <a:xfrm>
                  <a:off x="7373160" y="2787480"/>
                  <a:ext cx="158040" cy="166320"/>
                  <a:chOff x="7373160" y="2787480"/>
                  <a:chExt cx="158040" cy="166320"/>
                </a:xfrm>
              </p:grpSpPr>
              <p:sp>
                <p:nvSpPr>
                  <p:cNvPr id="7371" name=""/>
                  <p:cNvSpPr/>
                  <p:nvPr/>
                </p:nvSpPr>
                <p:spPr>
                  <a:xfrm rot="19596600">
                    <a:off x="7400880" y="2804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"/>
                  <p:cNvSpPr/>
                  <p:nvPr/>
                </p:nvSpPr>
                <p:spPr>
                  <a:xfrm flipH="1" flipV="1">
                    <a:off x="7423920" y="2864880"/>
                    <a:ext cx="9828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3" name=""/>
                  <p:cNvSpPr/>
                  <p:nvPr/>
                </p:nvSpPr>
                <p:spPr>
                  <a:xfrm flipH="1" flipV="1">
                    <a:off x="7474320" y="286668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4" name=""/>
                  <p:cNvSpPr/>
                  <p:nvPr/>
                </p:nvSpPr>
                <p:spPr>
                  <a:xfrm flipH="1">
                    <a:off x="7446240" y="2879280"/>
                    <a:ext cx="20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5" name=""/>
                  <p:cNvSpPr/>
                  <p:nvPr/>
                </p:nvSpPr>
                <p:spPr>
                  <a:xfrm flipH="1" flipV="1">
                    <a:off x="7439040" y="2862000"/>
                    <a:ext cx="118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76" name=""/>
                <p:cNvGrpSpPr/>
                <p:nvPr/>
              </p:nvGrpSpPr>
              <p:grpSpPr>
                <a:xfrm>
                  <a:off x="7530840" y="2977560"/>
                  <a:ext cx="91080" cy="153000"/>
                  <a:chOff x="7530840" y="2977560"/>
                  <a:chExt cx="91080" cy="153000"/>
                </a:xfrm>
              </p:grpSpPr>
              <p:sp>
                <p:nvSpPr>
                  <p:cNvPr id="7377" name=""/>
                  <p:cNvSpPr/>
                  <p:nvPr/>
                </p:nvSpPr>
                <p:spPr>
                  <a:xfrm rot="46800">
                    <a:off x="7531920" y="29779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8" name=""/>
                  <p:cNvSpPr/>
                  <p:nvPr/>
                </p:nvSpPr>
                <p:spPr>
                  <a:xfrm flipH="1" flipV="1">
                    <a:off x="7559280" y="3030840"/>
                    <a:ext cx="5760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9" name=""/>
                  <p:cNvSpPr/>
                  <p:nvPr/>
                </p:nvSpPr>
                <p:spPr>
                  <a:xfrm flipH="1" flipV="1">
                    <a:off x="7594560" y="306540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0" name=""/>
                  <p:cNvSpPr/>
                  <p:nvPr/>
                </p:nvSpPr>
                <p:spPr>
                  <a:xfrm flipH="1" flipV="1">
                    <a:off x="7564680" y="306432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"/>
                  <p:cNvSpPr/>
                  <p:nvPr/>
                </p:nvSpPr>
                <p:spPr>
                  <a:xfrm flipH="1" flipV="1">
                    <a:off x="7571520" y="30376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2" name=""/>
                <p:cNvGrpSpPr/>
                <p:nvPr/>
              </p:nvGrpSpPr>
              <p:grpSpPr>
                <a:xfrm>
                  <a:off x="7689960" y="3036960"/>
                  <a:ext cx="162360" cy="147240"/>
                  <a:chOff x="7689960" y="3036960"/>
                  <a:chExt cx="162360" cy="147240"/>
                </a:xfrm>
              </p:grpSpPr>
              <p:sp>
                <p:nvSpPr>
                  <p:cNvPr id="7383" name=""/>
                  <p:cNvSpPr/>
                  <p:nvPr/>
                </p:nvSpPr>
                <p:spPr>
                  <a:xfrm rot="6843600">
                    <a:off x="7719840" y="3044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4" name=""/>
                  <p:cNvSpPr/>
                  <p:nvPr/>
                </p:nvSpPr>
                <p:spPr>
                  <a:xfrm flipV="1">
                    <a:off x="7700760" y="3100680"/>
                    <a:ext cx="9720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5" name=""/>
                  <p:cNvSpPr/>
                  <p:nvPr/>
                </p:nvSpPr>
                <p:spPr>
                  <a:xfrm>
                    <a:off x="7736040" y="3124800"/>
                    <a:ext cx="187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6" name=""/>
                  <p:cNvSpPr/>
                  <p:nvPr/>
                </p:nvSpPr>
                <p:spPr>
                  <a:xfrm flipV="1">
                    <a:off x="7754760" y="309492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7" name=""/>
                  <p:cNvSpPr/>
                  <p:nvPr/>
                </p:nvSpPr>
                <p:spPr>
                  <a:xfrm flipV="1">
                    <a:off x="7773480" y="3110760"/>
                    <a:ext cx="1332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8" name=""/>
                <p:cNvGrpSpPr/>
                <p:nvPr/>
              </p:nvGrpSpPr>
              <p:grpSpPr>
                <a:xfrm>
                  <a:off x="7668000" y="3173040"/>
                  <a:ext cx="163440" cy="149760"/>
                  <a:chOff x="7668000" y="3173040"/>
                  <a:chExt cx="163440" cy="149760"/>
                </a:xfrm>
              </p:grpSpPr>
              <p:sp>
                <p:nvSpPr>
                  <p:cNvPr id="7389" name=""/>
                  <p:cNvSpPr/>
                  <p:nvPr/>
                </p:nvSpPr>
                <p:spPr>
                  <a:xfrm rot="6963600">
                    <a:off x="7698240" y="3181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"/>
                  <p:cNvSpPr/>
                  <p:nvPr/>
                </p:nvSpPr>
                <p:spPr>
                  <a:xfrm flipV="1">
                    <a:off x="7678800" y="3238560"/>
                    <a:ext cx="9828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"/>
                  <p:cNvSpPr/>
                  <p:nvPr/>
                </p:nvSpPr>
                <p:spPr>
                  <a:xfrm>
                    <a:off x="7714080" y="32605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"/>
                  <p:cNvSpPr/>
                  <p:nvPr/>
                </p:nvSpPr>
                <p:spPr>
                  <a:xfrm flipV="1">
                    <a:off x="7733160" y="323208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"/>
                  <p:cNvSpPr/>
                  <p:nvPr/>
                </p:nvSpPr>
                <p:spPr>
                  <a:xfrm flipV="1">
                    <a:off x="7752240" y="3248640"/>
                    <a:ext cx="129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94" name=""/>
                <p:cNvGrpSpPr/>
                <p:nvPr/>
              </p:nvGrpSpPr>
              <p:grpSpPr>
                <a:xfrm>
                  <a:off x="7410960" y="3088080"/>
                  <a:ext cx="111600" cy="163800"/>
                  <a:chOff x="7410960" y="3088080"/>
                  <a:chExt cx="111600" cy="163800"/>
                </a:xfrm>
              </p:grpSpPr>
              <p:sp>
                <p:nvSpPr>
                  <p:cNvPr id="7395" name=""/>
                  <p:cNvSpPr/>
                  <p:nvPr/>
                </p:nvSpPr>
                <p:spPr>
                  <a:xfrm rot="536400">
                    <a:off x="7422120" y="3093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"/>
                  <p:cNvSpPr/>
                  <p:nvPr/>
                </p:nvSpPr>
                <p:spPr>
                  <a:xfrm flipH="1" flipV="1">
                    <a:off x="7453080" y="3144240"/>
                    <a:ext cx="44280" cy="9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"/>
                  <p:cNvSpPr/>
                  <p:nvPr/>
                </p:nvSpPr>
                <p:spPr>
                  <a:xfrm flipH="1" flipV="1">
                    <a:off x="7482960" y="318348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"/>
                  <p:cNvSpPr/>
                  <p:nvPr/>
                </p:nvSpPr>
                <p:spPr>
                  <a:xfrm flipH="1" flipV="1">
                    <a:off x="7453440" y="3178440"/>
                    <a:ext cx="16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"/>
                  <p:cNvSpPr/>
                  <p:nvPr/>
                </p:nvSpPr>
                <p:spPr>
                  <a:xfrm flipH="1" flipV="1">
                    <a:off x="7464240" y="3152880"/>
                    <a:ext cx="3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"/>
                <p:cNvGrpSpPr/>
                <p:nvPr/>
              </p:nvGrpSpPr>
              <p:grpSpPr>
                <a:xfrm>
                  <a:off x="7316640" y="2976480"/>
                  <a:ext cx="105840" cy="135000"/>
                  <a:chOff x="7316640" y="2976480"/>
                  <a:chExt cx="105840" cy="135000"/>
                </a:xfrm>
              </p:grpSpPr>
              <p:sp>
                <p:nvSpPr>
                  <p:cNvPr id="7401" name=""/>
                  <p:cNvSpPr/>
                  <p:nvPr/>
                </p:nvSpPr>
                <p:spPr>
                  <a:xfrm rot="21501600">
                    <a:off x="7318440" y="29775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"/>
                  <p:cNvSpPr/>
                  <p:nvPr/>
                </p:nvSpPr>
                <p:spPr>
                  <a:xfrm flipH="1" flipV="1">
                    <a:off x="7349040" y="3024000"/>
                    <a:ext cx="6948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"/>
                  <p:cNvSpPr/>
                  <p:nvPr/>
                </p:nvSpPr>
                <p:spPr>
                  <a:xfrm flipH="1" flipV="1">
                    <a:off x="7390800" y="3052080"/>
                    <a:ext cx="68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"/>
                  <p:cNvSpPr/>
                  <p:nvPr/>
                </p:nvSpPr>
                <p:spPr>
                  <a:xfrm flipH="1" flipV="1">
                    <a:off x="7356960" y="3053160"/>
                    <a:ext cx="201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"/>
                  <p:cNvSpPr/>
                  <p:nvPr/>
                </p:nvSpPr>
                <p:spPr>
                  <a:xfrm flipH="1" flipV="1">
                    <a:off x="7363080" y="302976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6" name=""/>
                <p:cNvGrpSpPr/>
                <p:nvPr/>
              </p:nvGrpSpPr>
              <p:grpSpPr>
                <a:xfrm>
                  <a:off x="7276320" y="2812680"/>
                  <a:ext cx="111960" cy="139320"/>
                  <a:chOff x="7276320" y="2812680"/>
                  <a:chExt cx="111960" cy="139320"/>
                </a:xfrm>
              </p:grpSpPr>
              <p:sp>
                <p:nvSpPr>
                  <p:cNvPr id="7407" name=""/>
                  <p:cNvSpPr/>
                  <p:nvPr/>
                </p:nvSpPr>
                <p:spPr>
                  <a:xfrm rot="21341400">
                    <a:off x="7281000" y="2815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8" name=""/>
                  <p:cNvSpPr/>
                  <p:nvPr/>
                </p:nvSpPr>
                <p:spPr>
                  <a:xfrm flipH="1" flipV="1">
                    <a:off x="7310520" y="2863800"/>
                    <a:ext cx="727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9" name=""/>
                  <p:cNvSpPr/>
                  <p:nvPr/>
                </p:nvSpPr>
                <p:spPr>
                  <a:xfrm flipH="1" flipV="1">
                    <a:off x="7353720" y="288972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0" name=""/>
                  <p:cNvSpPr/>
                  <p:nvPr/>
                </p:nvSpPr>
                <p:spPr>
                  <a:xfrm flipH="1" flipV="1">
                    <a:off x="7319880" y="289260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1" name=""/>
                  <p:cNvSpPr/>
                  <p:nvPr/>
                </p:nvSpPr>
                <p:spPr>
                  <a:xfrm flipH="1" flipV="1">
                    <a:off x="7324920" y="286884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2" name=""/>
                <p:cNvGrpSpPr/>
                <p:nvPr/>
              </p:nvGrpSpPr>
              <p:grpSpPr>
                <a:xfrm>
                  <a:off x="7324920" y="2722680"/>
                  <a:ext cx="105120" cy="160560"/>
                  <a:chOff x="7324920" y="2722680"/>
                  <a:chExt cx="105120" cy="160560"/>
                </a:xfrm>
              </p:grpSpPr>
              <p:sp>
                <p:nvSpPr>
                  <p:cNvPr id="7413" name=""/>
                  <p:cNvSpPr/>
                  <p:nvPr/>
                </p:nvSpPr>
                <p:spPr>
                  <a:xfrm rot="373200">
                    <a:off x="7332840" y="27270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"/>
                  <p:cNvSpPr/>
                  <p:nvPr/>
                </p:nvSpPr>
                <p:spPr>
                  <a:xfrm flipH="1" flipV="1">
                    <a:off x="7363080" y="2778120"/>
                    <a:ext cx="4860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5" name=""/>
                  <p:cNvSpPr/>
                  <p:nvPr/>
                </p:nvSpPr>
                <p:spPr>
                  <a:xfrm flipH="1" flipV="1">
                    <a:off x="7394760" y="281556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6" name=""/>
                  <p:cNvSpPr/>
                  <p:nvPr/>
                </p:nvSpPr>
                <p:spPr>
                  <a:xfrm flipH="1" flipV="1">
                    <a:off x="7364880" y="2811960"/>
                    <a:ext cx="16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7" name=""/>
                  <p:cNvSpPr/>
                  <p:nvPr/>
                </p:nvSpPr>
                <p:spPr>
                  <a:xfrm flipH="1" flipV="1">
                    <a:off x="7374240" y="278604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8" name=""/>
              <p:cNvGrpSpPr/>
              <p:nvPr/>
            </p:nvGrpSpPr>
            <p:grpSpPr>
              <a:xfrm>
                <a:off x="7792200" y="2438280"/>
                <a:ext cx="533880" cy="834480"/>
                <a:chOff x="7792200" y="2438280"/>
                <a:chExt cx="533880" cy="834480"/>
              </a:xfrm>
            </p:grpSpPr>
            <p:grpSp>
              <p:nvGrpSpPr>
                <p:cNvPr id="7419" name=""/>
                <p:cNvGrpSpPr/>
                <p:nvPr/>
              </p:nvGrpSpPr>
              <p:grpSpPr>
                <a:xfrm>
                  <a:off x="8116560" y="2772360"/>
                  <a:ext cx="152280" cy="176400"/>
                  <a:chOff x="8116560" y="2772360"/>
                  <a:chExt cx="152280" cy="176400"/>
                </a:xfrm>
              </p:grpSpPr>
              <p:sp>
                <p:nvSpPr>
                  <p:cNvPr id="7420" name=""/>
                  <p:cNvSpPr/>
                  <p:nvPr/>
                </p:nvSpPr>
                <p:spPr>
                  <a:xfrm rot="9030000">
                    <a:off x="8147880" y="2784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1" name=""/>
                  <p:cNvSpPr/>
                  <p:nvPr/>
                </p:nvSpPr>
                <p:spPr>
                  <a:xfrm>
                    <a:off x="8125200" y="2824560"/>
                    <a:ext cx="9432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2" name=""/>
                  <p:cNvSpPr/>
                  <p:nvPr/>
                </p:nvSpPr>
                <p:spPr>
                  <a:xfrm>
                    <a:off x="8156880" y="284544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"/>
                  <p:cNvSpPr/>
                  <p:nvPr/>
                </p:nvSpPr>
                <p:spPr>
                  <a:xfrm flipV="1">
                    <a:off x="8179200" y="28458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"/>
                  <p:cNvSpPr/>
                  <p:nvPr/>
                </p:nvSpPr>
                <p:spPr>
                  <a:xfrm>
                    <a:off x="8193960" y="286380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25" name=""/>
                <p:cNvSpPr/>
                <p:nvPr/>
              </p:nvSpPr>
              <p:spPr>
                <a:xfrm flipH="1" flipV="1">
                  <a:off x="7955280" y="2774520"/>
                  <a:ext cx="51840" cy="22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6" name=""/>
                <p:cNvSpPr/>
                <p:nvPr/>
              </p:nvSpPr>
              <p:spPr>
                <a:xfrm rot="5215200">
                  <a:off x="7686360" y="2770560"/>
                  <a:ext cx="57060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7" name=""/>
                <p:cNvSpPr/>
                <p:nvPr/>
              </p:nvSpPr>
              <p:spPr>
                <a:xfrm flipV="1">
                  <a:off x="8057520" y="2738880"/>
                  <a:ext cx="133200" cy="9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8" name=""/>
                <p:cNvSpPr/>
                <p:nvPr/>
              </p:nvSpPr>
              <p:spPr>
                <a:xfrm flipV="1">
                  <a:off x="7877880" y="3017520"/>
                  <a:ext cx="229680" cy="14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9" name=""/>
                <p:cNvSpPr/>
                <p:nvPr/>
              </p:nvSpPr>
              <p:spPr>
                <a:xfrm flipH="1" flipV="1">
                  <a:off x="7939080" y="2843640"/>
                  <a:ext cx="4140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0" name=""/>
                <p:cNvSpPr/>
                <p:nvPr/>
              </p:nvSpPr>
              <p:spPr>
                <a:xfrm flipV="1">
                  <a:off x="8004960" y="2885040"/>
                  <a:ext cx="1584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1" name=""/>
                <p:cNvSpPr/>
                <p:nvPr/>
              </p:nvSpPr>
              <p:spPr>
                <a:xfrm flipV="1">
                  <a:off x="8114760" y="2694240"/>
                  <a:ext cx="54000" cy="9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>
                  <a:off x="8096400" y="2812320"/>
                  <a:ext cx="6012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 flipH="1" flipV="1">
                  <a:off x="8026920" y="2633040"/>
                  <a:ext cx="43200" cy="65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4" name=""/>
                <p:cNvSpPr/>
                <p:nvPr/>
              </p:nvSpPr>
              <p:spPr>
                <a:xfrm flipV="1">
                  <a:off x="7992360" y="2927160"/>
                  <a:ext cx="90360" cy="165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5" name=""/>
                <p:cNvSpPr/>
                <p:nvPr/>
              </p:nvSpPr>
              <p:spPr>
                <a:xfrm flipV="1">
                  <a:off x="8047080" y="2973240"/>
                  <a:ext cx="3816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6" name=""/>
                <p:cNvSpPr/>
                <p:nvPr/>
              </p:nvSpPr>
              <p:spPr>
                <a:xfrm>
                  <a:off x="7954560" y="3117240"/>
                  <a:ext cx="799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7" name=""/>
                <p:cNvSpPr/>
                <p:nvPr/>
              </p:nvSpPr>
              <p:spPr>
                <a:xfrm flipV="1">
                  <a:off x="8069040" y="3039120"/>
                  <a:ext cx="590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8" name=""/>
                <p:cNvSpPr/>
                <p:nvPr/>
              </p:nvSpPr>
              <p:spPr>
                <a:xfrm flipH="1" flipV="1">
                  <a:off x="7926840" y="2981880"/>
                  <a:ext cx="24480" cy="89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9" name=""/>
                <p:cNvSpPr/>
                <p:nvPr/>
              </p:nvSpPr>
              <p:spPr>
                <a:xfrm flipH="1" flipV="1">
                  <a:off x="8031960" y="2724480"/>
                  <a:ext cx="23400" cy="67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0" name=""/>
                <p:cNvSpPr/>
                <p:nvPr/>
              </p:nvSpPr>
              <p:spPr>
                <a:xfrm flipV="1">
                  <a:off x="8088120" y="2628000"/>
                  <a:ext cx="378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41" name=""/>
                <p:cNvGrpSpPr/>
                <p:nvPr/>
              </p:nvGrpSpPr>
              <p:grpSpPr>
                <a:xfrm>
                  <a:off x="8162280" y="2666160"/>
                  <a:ext cx="163800" cy="150120"/>
                  <a:chOff x="8162280" y="2666160"/>
                  <a:chExt cx="163800" cy="150120"/>
                </a:xfrm>
              </p:grpSpPr>
              <p:sp>
                <p:nvSpPr>
                  <p:cNvPr id="7442" name=""/>
                  <p:cNvSpPr/>
                  <p:nvPr/>
                </p:nvSpPr>
                <p:spPr>
                  <a:xfrm rot="6960000">
                    <a:off x="8192880" y="2675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3" name=""/>
                  <p:cNvSpPr/>
                  <p:nvPr/>
                </p:nvSpPr>
                <p:spPr>
                  <a:xfrm flipV="1">
                    <a:off x="8172720" y="2732760"/>
                    <a:ext cx="9828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4" name=""/>
                  <p:cNvSpPr/>
                  <p:nvPr/>
                </p:nvSpPr>
                <p:spPr>
                  <a:xfrm>
                    <a:off x="8208360" y="2754360"/>
                    <a:ext cx="183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5" name=""/>
                  <p:cNvSpPr/>
                  <p:nvPr/>
                </p:nvSpPr>
                <p:spPr>
                  <a:xfrm flipV="1">
                    <a:off x="8227440" y="2725560"/>
                    <a:ext cx="140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6" name=""/>
                  <p:cNvSpPr/>
                  <p:nvPr/>
                </p:nvSpPr>
                <p:spPr>
                  <a:xfrm flipV="1">
                    <a:off x="8246520" y="274176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7" name=""/>
                <p:cNvGrpSpPr/>
                <p:nvPr/>
              </p:nvGrpSpPr>
              <p:grpSpPr>
                <a:xfrm>
                  <a:off x="7968240" y="2745360"/>
                  <a:ext cx="164160" cy="150840"/>
                  <a:chOff x="7968240" y="2745360"/>
                  <a:chExt cx="164160" cy="150840"/>
                </a:xfrm>
              </p:grpSpPr>
              <p:sp>
                <p:nvSpPr>
                  <p:cNvPr id="7448" name=""/>
                  <p:cNvSpPr/>
                  <p:nvPr/>
                </p:nvSpPr>
                <p:spPr>
                  <a:xfrm rot="3801600">
                    <a:off x="7998840" y="2754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"/>
                  <p:cNvSpPr/>
                  <p:nvPr/>
                </p:nvSpPr>
                <p:spPr>
                  <a:xfrm flipV="1">
                    <a:off x="8021880" y="2794320"/>
                    <a:ext cx="37800" cy="9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0" name=""/>
                  <p:cNvSpPr/>
                  <p:nvPr/>
                </p:nvSpPr>
                <p:spPr>
                  <a:xfrm flipV="1">
                    <a:off x="8038800" y="284364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1" name=""/>
                  <p:cNvSpPr/>
                  <p:nvPr/>
                </p:nvSpPr>
                <p:spPr>
                  <a:xfrm flipH="1" flipV="1">
                    <a:off x="8035920" y="2813040"/>
                    <a:ext cx="39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2" name=""/>
                  <p:cNvSpPr/>
                  <p:nvPr/>
                </p:nvSpPr>
                <p:spPr>
                  <a:xfrm flipV="1">
                    <a:off x="8052840" y="280872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3" name=""/>
                <p:cNvGrpSpPr/>
                <p:nvPr/>
              </p:nvGrpSpPr>
              <p:grpSpPr>
                <a:xfrm>
                  <a:off x="8064000" y="2829960"/>
                  <a:ext cx="137160" cy="109440"/>
                  <a:chOff x="8064000" y="2829960"/>
                  <a:chExt cx="137160" cy="109440"/>
                </a:xfrm>
              </p:grpSpPr>
              <p:sp>
                <p:nvSpPr>
                  <p:cNvPr id="7454" name=""/>
                  <p:cNvSpPr/>
                  <p:nvPr/>
                </p:nvSpPr>
                <p:spPr>
                  <a:xfrm rot="5215200">
                    <a:off x="8080920" y="2818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5" name=""/>
                  <p:cNvSpPr/>
                  <p:nvPr/>
                </p:nvSpPr>
                <p:spPr>
                  <a:xfrm flipV="1">
                    <a:off x="8079120" y="2864160"/>
                    <a:ext cx="7272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6" name=""/>
                  <p:cNvSpPr/>
                  <p:nvPr/>
                </p:nvSpPr>
                <p:spPr>
                  <a:xfrm flipV="1">
                    <a:off x="8107560" y="290628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7" name=""/>
                  <p:cNvSpPr/>
                  <p:nvPr/>
                </p:nvSpPr>
                <p:spPr>
                  <a:xfrm flipV="1">
                    <a:off x="8118000" y="28720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"/>
                  <p:cNvSpPr/>
                  <p:nvPr/>
                </p:nvSpPr>
                <p:spPr>
                  <a:xfrm flipV="1">
                    <a:off x="8135280" y="287784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59" name=""/>
                <p:cNvGrpSpPr/>
                <p:nvPr/>
              </p:nvGrpSpPr>
              <p:grpSpPr>
                <a:xfrm>
                  <a:off x="7850520" y="2633040"/>
                  <a:ext cx="114480" cy="165600"/>
                  <a:chOff x="7850520" y="2633040"/>
                  <a:chExt cx="114480" cy="165600"/>
                </a:xfrm>
              </p:grpSpPr>
              <p:sp>
                <p:nvSpPr>
                  <p:cNvPr id="7460" name=""/>
                  <p:cNvSpPr/>
                  <p:nvPr/>
                </p:nvSpPr>
                <p:spPr>
                  <a:xfrm rot="20984400">
                    <a:off x="7863120" y="26395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"/>
                  <p:cNvSpPr/>
                  <p:nvPr/>
                </p:nvSpPr>
                <p:spPr>
                  <a:xfrm flipH="1" flipV="1">
                    <a:off x="7886520" y="2695680"/>
                    <a:ext cx="7344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"/>
                  <p:cNvSpPr/>
                  <p:nvPr/>
                </p:nvSpPr>
                <p:spPr>
                  <a:xfrm flipH="1" flipV="1">
                    <a:off x="7927560" y="2723040"/>
                    <a:ext cx="9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"/>
                  <p:cNvSpPr/>
                  <p:nvPr/>
                </p:nvSpPr>
                <p:spPr>
                  <a:xfrm flipH="1" flipV="1">
                    <a:off x="7898040" y="2728080"/>
                    <a:ext cx="1872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"/>
                  <p:cNvSpPr/>
                  <p:nvPr/>
                </p:nvSpPr>
                <p:spPr>
                  <a:xfrm flipH="1" flipV="1">
                    <a:off x="7899840" y="270036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65" name=""/>
                <p:cNvGrpSpPr/>
                <p:nvPr/>
              </p:nvGrpSpPr>
              <p:grpSpPr>
                <a:xfrm>
                  <a:off x="8107200" y="2530080"/>
                  <a:ext cx="137160" cy="109440"/>
                  <a:chOff x="8107200" y="2530080"/>
                  <a:chExt cx="137160" cy="109440"/>
                </a:xfrm>
              </p:grpSpPr>
              <p:sp>
                <p:nvSpPr>
                  <p:cNvPr id="7466" name=""/>
                  <p:cNvSpPr/>
                  <p:nvPr/>
                </p:nvSpPr>
                <p:spPr>
                  <a:xfrm rot="5215200">
                    <a:off x="8124120" y="25185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"/>
                  <p:cNvSpPr/>
                  <p:nvPr/>
                </p:nvSpPr>
                <p:spPr>
                  <a:xfrm flipV="1">
                    <a:off x="8122680" y="256428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8" name=""/>
                  <p:cNvSpPr/>
                  <p:nvPr/>
                </p:nvSpPr>
                <p:spPr>
                  <a:xfrm flipV="1">
                    <a:off x="8150760" y="26064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9" name=""/>
                  <p:cNvSpPr/>
                  <p:nvPr/>
                </p:nvSpPr>
                <p:spPr>
                  <a:xfrm flipV="1">
                    <a:off x="8161200" y="2572560"/>
                    <a:ext cx="46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0" name=""/>
                  <p:cNvSpPr/>
                  <p:nvPr/>
                </p:nvSpPr>
                <p:spPr>
                  <a:xfrm flipV="1">
                    <a:off x="8178480" y="25779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1" name=""/>
                <p:cNvGrpSpPr/>
                <p:nvPr/>
              </p:nvGrpSpPr>
              <p:grpSpPr>
                <a:xfrm>
                  <a:off x="8088840" y="2919960"/>
                  <a:ext cx="137160" cy="109440"/>
                  <a:chOff x="8088840" y="2919960"/>
                  <a:chExt cx="137160" cy="109440"/>
                </a:xfrm>
              </p:grpSpPr>
              <p:sp>
                <p:nvSpPr>
                  <p:cNvPr id="7472" name=""/>
                  <p:cNvSpPr/>
                  <p:nvPr/>
                </p:nvSpPr>
                <p:spPr>
                  <a:xfrm rot="5215200">
                    <a:off x="8105760" y="2908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3" name=""/>
                  <p:cNvSpPr/>
                  <p:nvPr/>
                </p:nvSpPr>
                <p:spPr>
                  <a:xfrm flipV="1">
                    <a:off x="8104320" y="295416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4" name=""/>
                  <p:cNvSpPr/>
                  <p:nvPr/>
                </p:nvSpPr>
                <p:spPr>
                  <a:xfrm flipV="1">
                    <a:off x="8132760" y="2996280"/>
                    <a:ext cx="1728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5" name=""/>
                  <p:cNvSpPr/>
                  <p:nvPr/>
                </p:nvSpPr>
                <p:spPr>
                  <a:xfrm flipV="1">
                    <a:off x="8142840" y="296208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6" name=""/>
                  <p:cNvSpPr/>
                  <p:nvPr/>
                </p:nvSpPr>
                <p:spPr>
                  <a:xfrm flipV="1">
                    <a:off x="8160120" y="296748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7" name=""/>
                <p:cNvGrpSpPr/>
                <p:nvPr/>
              </p:nvGrpSpPr>
              <p:grpSpPr>
                <a:xfrm>
                  <a:off x="8150760" y="2596680"/>
                  <a:ext cx="137160" cy="109440"/>
                  <a:chOff x="8150760" y="2596680"/>
                  <a:chExt cx="137160" cy="109440"/>
                </a:xfrm>
              </p:grpSpPr>
              <p:sp>
                <p:nvSpPr>
                  <p:cNvPr id="7478" name=""/>
                  <p:cNvSpPr/>
                  <p:nvPr/>
                </p:nvSpPr>
                <p:spPr>
                  <a:xfrm rot="5215200">
                    <a:off x="8167680" y="2585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9" name=""/>
                  <p:cNvSpPr/>
                  <p:nvPr/>
                </p:nvSpPr>
                <p:spPr>
                  <a:xfrm flipV="1">
                    <a:off x="8166240" y="2630880"/>
                    <a:ext cx="7236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0" name=""/>
                  <p:cNvSpPr/>
                  <p:nvPr/>
                </p:nvSpPr>
                <p:spPr>
                  <a:xfrm flipV="1">
                    <a:off x="8194320" y="267300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1" name=""/>
                  <p:cNvSpPr/>
                  <p:nvPr/>
                </p:nvSpPr>
                <p:spPr>
                  <a:xfrm flipV="1">
                    <a:off x="8204760" y="26388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2" name=""/>
                  <p:cNvSpPr/>
                  <p:nvPr/>
                </p:nvSpPr>
                <p:spPr>
                  <a:xfrm flipV="1">
                    <a:off x="8222040" y="26445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3" name=""/>
                <p:cNvGrpSpPr/>
                <p:nvPr/>
              </p:nvGrpSpPr>
              <p:grpSpPr>
                <a:xfrm>
                  <a:off x="7792200" y="2837520"/>
                  <a:ext cx="135360" cy="173520"/>
                  <a:chOff x="7792200" y="2837520"/>
                  <a:chExt cx="135360" cy="173520"/>
                </a:xfrm>
              </p:grpSpPr>
              <p:sp>
                <p:nvSpPr>
                  <p:cNvPr id="7484" name=""/>
                  <p:cNvSpPr/>
                  <p:nvPr/>
                </p:nvSpPr>
                <p:spPr>
                  <a:xfrm rot="20413200">
                    <a:off x="7815240" y="2847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5" name=""/>
                  <p:cNvSpPr/>
                  <p:nvPr/>
                </p:nvSpPr>
                <p:spPr>
                  <a:xfrm flipH="1" flipV="1">
                    <a:off x="7835040" y="2908080"/>
                    <a:ext cx="8532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6" name=""/>
                  <p:cNvSpPr/>
                  <p:nvPr/>
                </p:nvSpPr>
                <p:spPr>
                  <a:xfrm flipH="1" flipV="1">
                    <a:off x="7880400" y="2928240"/>
                    <a:ext cx="122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7" name=""/>
                  <p:cNvSpPr/>
                  <p:nvPr/>
                </p:nvSpPr>
                <p:spPr>
                  <a:xfrm flipH="1" flipV="1">
                    <a:off x="7851960" y="293796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8" name=""/>
                  <p:cNvSpPr/>
                  <p:nvPr/>
                </p:nvSpPr>
                <p:spPr>
                  <a:xfrm flipH="1" flipV="1">
                    <a:off x="7849080" y="291024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89" name=""/>
                <p:cNvGrpSpPr/>
                <p:nvPr/>
              </p:nvGrpSpPr>
              <p:grpSpPr>
                <a:xfrm>
                  <a:off x="7794000" y="2721240"/>
                  <a:ext cx="158400" cy="176040"/>
                  <a:chOff x="7794000" y="2721240"/>
                  <a:chExt cx="158400" cy="176040"/>
                </a:xfrm>
              </p:grpSpPr>
              <p:sp>
                <p:nvSpPr>
                  <p:cNvPr id="7490" name=""/>
                  <p:cNvSpPr/>
                  <p:nvPr/>
                </p:nvSpPr>
                <p:spPr>
                  <a:xfrm rot="19573800">
                    <a:off x="7828560" y="2732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1" name=""/>
                  <p:cNvSpPr/>
                  <p:nvPr/>
                </p:nvSpPr>
                <p:spPr>
                  <a:xfrm flipH="1" flipV="1">
                    <a:off x="7845480" y="2799360"/>
                    <a:ext cx="9792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2" name=""/>
                  <p:cNvSpPr/>
                  <p:nvPr/>
                </p:nvSpPr>
                <p:spPr>
                  <a:xfrm flipH="1" flipV="1">
                    <a:off x="7894440" y="280800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3" name=""/>
                  <p:cNvSpPr/>
                  <p:nvPr/>
                </p:nvSpPr>
                <p:spPr>
                  <a:xfrm flipH="1">
                    <a:off x="7869240" y="282024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4" name=""/>
                  <p:cNvSpPr/>
                  <p:nvPr/>
                </p:nvSpPr>
                <p:spPr>
                  <a:xfrm flipH="1" flipV="1">
                    <a:off x="7859520" y="2798280"/>
                    <a:ext cx="122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95" name=""/>
                <p:cNvGrpSpPr/>
                <p:nvPr/>
              </p:nvGrpSpPr>
              <p:grpSpPr>
                <a:xfrm>
                  <a:off x="7985160" y="2468520"/>
                  <a:ext cx="105120" cy="160920"/>
                  <a:chOff x="7985160" y="2468520"/>
                  <a:chExt cx="105120" cy="160920"/>
                </a:xfrm>
              </p:grpSpPr>
              <p:sp>
                <p:nvSpPr>
                  <p:cNvPr id="7496" name=""/>
                  <p:cNvSpPr/>
                  <p:nvPr/>
                </p:nvSpPr>
                <p:spPr>
                  <a:xfrm rot="21225000">
                    <a:off x="7993080" y="2472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7" name=""/>
                  <p:cNvSpPr/>
                  <p:nvPr/>
                </p:nvSpPr>
                <p:spPr>
                  <a:xfrm flipH="1" flipV="1">
                    <a:off x="8017560" y="2527560"/>
                    <a:ext cx="6804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8" name=""/>
                  <p:cNvSpPr/>
                  <p:nvPr/>
                </p:nvSpPr>
                <p:spPr>
                  <a:xfrm flipH="1" flipV="1">
                    <a:off x="8056800" y="2557800"/>
                    <a:ext cx="792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9" name=""/>
                  <p:cNvSpPr/>
                  <p:nvPr/>
                </p:nvSpPr>
                <p:spPr>
                  <a:xfrm flipH="1" flipV="1">
                    <a:off x="8027280" y="256068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0" name=""/>
                  <p:cNvSpPr/>
                  <p:nvPr/>
                </p:nvSpPr>
                <p:spPr>
                  <a:xfrm flipH="1" flipV="1">
                    <a:off x="8030520" y="2533320"/>
                    <a:ext cx="72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1" name=""/>
                <p:cNvGrpSpPr/>
                <p:nvPr/>
              </p:nvGrpSpPr>
              <p:grpSpPr>
                <a:xfrm>
                  <a:off x="7887240" y="2487600"/>
                  <a:ext cx="145080" cy="175680"/>
                  <a:chOff x="7887240" y="2487600"/>
                  <a:chExt cx="145080" cy="175680"/>
                </a:xfrm>
              </p:grpSpPr>
              <p:sp>
                <p:nvSpPr>
                  <p:cNvPr id="7502" name=""/>
                  <p:cNvSpPr/>
                  <p:nvPr/>
                </p:nvSpPr>
                <p:spPr>
                  <a:xfrm rot="20097000">
                    <a:off x="7914960" y="2499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3" name=""/>
                  <p:cNvSpPr/>
                  <p:nvPr/>
                </p:nvSpPr>
                <p:spPr>
                  <a:xfrm flipH="1" flipV="1">
                    <a:off x="7934040" y="2561760"/>
                    <a:ext cx="9036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4" name=""/>
                  <p:cNvSpPr/>
                  <p:nvPr/>
                </p:nvSpPr>
                <p:spPr>
                  <a:xfrm flipH="1" flipV="1">
                    <a:off x="7980840" y="257760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5" name=""/>
                  <p:cNvSpPr/>
                  <p:nvPr/>
                </p:nvSpPr>
                <p:spPr>
                  <a:xfrm flipH="1">
                    <a:off x="7953480" y="258876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6" name=""/>
                  <p:cNvSpPr/>
                  <p:nvPr/>
                </p:nvSpPr>
                <p:spPr>
                  <a:xfrm flipH="1" flipV="1">
                    <a:off x="7948080" y="256284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7" name=""/>
                <p:cNvGrpSpPr/>
                <p:nvPr/>
              </p:nvGrpSpPr>
              <p:grpSpPr>
                <a:xfrm>
                  <a:off x="7921800" y="2603160"/>
                  <a:ext cx="128160" cy="171360"/>
                  <a:chOff x="7921800" y="2603160"/>
                  <a:chExt cx="128160" cy="171360"/>
                </a:xfrm>
              </p:grpSpPr>
              <p:sp>
                <p:nvSpPr>
                  <p:cNvPr id="7508" name=""/>
                  <p:cNvSpPr/>
                  <p:nvPr/>
                </p:nvSpPr>
                <p:spPr>
                  <a:xfrm rot="20616600">
                    <a:off x="7941240" y="26125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9" name=""/>
                  <p:cNvSpPr/>
                  <p:nvPr/>
                </p:nvSpPr>
                <p:spPr>
                  <a:xfrm flipH="1" flipV="1">
                    <a:off x="7962120" y="2671200"/>
                    <a:ext cx="8136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0" name=""/>
                  <p:cNvSpPr/>
                  <p:nvPr/>
                </p:nvSpPr>
                <p:spPr>
                  <a:xfrm flipH="1" flipV="1">
                    <a:off x="8006040" y="2693880"/>
                    <a:ext cx="111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1" name=""/>
                  <p:cNvSpPr/>
                  <p:nvPr/>
                </p:nvSpPr>
                <p:spPr>
                  <a:xfrm flipH="1" flipV="1">
                    <a:off x="7977240" y="2702160"/>
                    <a:ext cx="190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2" name=""/>
                  <p:cNvSpPr/>
                  <p:nvPr/>
                </p:nvSpPr>
                <p:spPr>
                  <a:xfrm flipH="1" flipV="1">
                    <a:off x="7975800" y="2674440"/>
                    <a:ext cx="93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3" name=""/>
                <p:cNvGrpSpPr/>
                <p:nvPr/>
              </p:nvGrpSpPr>
              <p:grpSpPr>
                <a:xfrm>
                  <a:off x="8064720" y="2553120"/>
                  <a:ext cx="113760" cy="165240"/>
                  <a:chOff x="8064720" y="2553120"/>
                  <a:chExt cx="113760" cy="165240"/>
                </a:xfrm>
              </p:grpSpPr>
              <p:sp>
                <p:nvSpPr>
                  <p:cNvPr id="7514" name=""/>
                  <p:cNvSpPr/>
                  <p:nvPr/>
                </p:nvSpPr>
                <p:spPr>
                  <a:xfrm rot="600000">
                    <a:off x="8076960" y="2559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5" name=""/>
                  <p:cNvSpPr/>
                  <p:nvPr/>
                </p:nvSpPr>
                <p:spPr>
                  <a:xfrm flipH="1" flipV="1">
                    <a:off x="8108280" y="2609280"/>
                    <a:ext cx="42480" cy="9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6" name=""/>
                  <p:cNvSpPr/>
                  <p:nvPr/>
                </p:nvSpPr>
                <p:spPr>
                  <a:xfrm flipH="1" flipV="1">
                    <a:off x="8137440" y="264924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7" name=""/>
                  <p:cNvSpPr/>
                  <p:nvPr/>
                </p:nvSpPr>
                <p:spPr>
                  <a:xfrm flipH="1" flipV="1">
                    <a:off x="8108280" y="264384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8" name=""/>
                  <p:cNvSpPr/>
                  <p:nvPr/>
                </p:nvSpPr>
                <p:spPr>
                  <a:xfrm flipH="1" flipV="1">
                    <a:off x="8119440" y="2618280"/>
                    <a:ext cx="3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19" name=""/>
                <p:cNvGrpSpPr/>
                <p:nvPr/>
              </p:nvGrpSpPr>
              <p:grpSpPr>
                <a:xfrm>
                  <a:off x="8010720" y="2804040"/>
                  <a:ext cx="165600" cy="166320"/>
                  <a:chOff x="8010720" y="2804040"/>
                  <a:chExt cx="165600" cy="166320"/>
                </a:xfrm>
              </p:grpSpPr>
              <p:sp>
                <p:nvSpPr>
                  <p:cNvPr id="7520" name=""/>
                  <p:cNvSpPr/>
                  <p:nvPr/>
                </p:nvSpPr>
                <p:spPr>
                  <a:xfrm rot="2650800">
                    <a:off x="8042040" y="28209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1" name=""/>
                  <p:cNvSpPr/>
                  <p:nvPr/>
                </p:nvSpPr>
                <p:spPr>
                  <a:xfrm flipV="1">
                    <a:off x="8088840" y="2858760"/>
                    <a:ext cx="46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2" name=""/>
                  <p:cNvSpPr/>
                  <p:nvPr/>
                </p:nvSpPr>
                <p:spPr>
                  <a:xfrm flipV="1">
                    <a:off x="8094960" y="290808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3" name=""/>
                  <p:cNvSpPr/>
                  <p:nvPr/>
                </p:nvSpPr>
                <p:spPr>
                  <a:xfrm flipH="1" flipV="1">
                    <a:off x="8077680" y="288432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4" name=""/>
                  <p:cNvSpPr/>
                  <p:nvPr/>
                </p:nvSpPr>
                <p:spPr>
                  <a:xfrm flipV="1">
                    <a:off x="8095680" y="287244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25" name=""/>
                <p:cNvGrpSpPr/>
                <p:nvPr/>
              </p:nvGrpSpPr>
              <p:grpSpPr>
                <a:xfrm>
                  <a:off x="8115120" y="3002040"/>
                  <a:ext cx="140400" cy="174960"/>
                  <a:chOff x="8115120" y="3002040"/>
                  <a:chExt cx="140400" cy="174960"/>
                </a:xfrm>
              </p:grpSpPr>
              <p:sp>
                <p:nvSpPr>
                  <p:cNvPr id="7526" name=""/>
                  <p:cNvSpPr/>
                  <p:nvPr/>
                </p:nvSpPr>
                <p:spPr>
                  <a:xfrm rot="9448200">
                    <a:off x="8140680" y="3013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7" name=""/>
                  <p:cNvSpPr/>
                  <p:nvPr/>
                </p:nvSpPr>
                <p:spPr>
                  <a:xfrm>
                    <a:off x="8122680" y="3045960"/>
                    <a:ext cx="878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8" name=""/>
                  <p:cNvSpPr/>
                  <p:nvPr/>
                </p:nvSpPr>
                <p:spPr>
                  <a:xfrm>
                    <a:off x="8151480" y="307044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9" name=""/>
                  <p:cNvSpPr/>
                  <p:nvPr/>
                </p:nvSpPr>
                <p:spPr>
                  <a:xfrm flipV="1">
                    <a:off x="8173440" y="307584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0" name=""/>
                  <p:cNvSpPr/>
                  <p:nvPr/>
                </p:nvSpPr>
                <p:spPr>
                  <a:xfrm>
                    <a:off x="8186040" y="309312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1" name=""/>
                <p:cNvGrpSpPr/>
                <p:nvPr/>
              </p:nvGrpSpPr>
              <p:grpSpPr>
                <a:xfrm>
                  <a:off x="8022960" y="3098880"/>
                  <a:ext cx="136800" cy="173880"/>
                  <a:chOff x="8022960" y="3098880"/>
                  <a:chExt cx="136800" cy="173880"/>
                </a:xfrm>
              </p:grpSpPr>
              <p:sp>
                <p:nvSpPr>
                  <p:cNvPr id="7532" name=""/>
                  <p:cNvSpPr/>
                  <p:nvPr/>
                </p:nvSpPr>
                <p:spPr>
                  <a:xfrm rot="9568200">
                    <a:off x="8046720" y="31093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3" name=""/>
                  <p:cNvSpPr/>
                  <p:nvPr/>
                </p:nvSpPr>
                <p:spPr>
                  <a:xfrm>
                    <a:off x="8030160" y="3139920"/>
                    <a:ext cx="8604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4" name=""/>
                  <p:cNvSpPr/>
                  <p:nvPr/>
                </p:nvSpPr>
                <p:spPr>
                  <a:xfrm>
                    <a:off x="8058240" y="3165480"/>
                    <a:ext cx="122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5" name=""/>
                  <p:cNvSpPr/>
                  <p:nvPr/>
                </p:nvSpPr>
                <p:spPr>
                  <a:xfrm>
                    <a:off x="8079840" y="317196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6" name=""/>
                  <p:cNvSpPr/>
                  <p:nvPr/>
                </p:nvSpPr>
                <p:spPr>
                  <a:xfrm>
                    <a:off x="8092080" y="3189240"/>
                    <a:ext cx="100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7" name=""/>
                <p:cNvGrpSpPr/>
                <p:nvPr/>
              </p:nvGrpSpPr>
              <p:grpSpPr>
                <a:xfrm>
                  <a:off x="7871400" y="2813400"/>
                  <a:ext cx="167400" cy="162000"/>
                  <a:chOff x="7871400" y="2813400"/>
                  <a:chExt cx="167400" cy="162000"/>
                </a:xfrm>
              </p:grpSpPr>
              <p:sp>
                <p:nvSpPr>
                  <p:cNvPr id="7538" name=""/>
                  <p:cNvSpPr/>
                  <p:nvPr/>
                </p:nvSpPr>
                <p:spPr>
                  <a:xfrm rot="3141000">
                    <a:off x="7903800" y="2828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9" name=""/>
                  <p:cNvSpPr/>
                  <p:nvPr/>
                </p:nvSpPr>
                <p:spPr>
                  <a:xfrm flipV="1">
                    <a:off x="7940160" y="2866680"/>
                    <a:ext cx="1908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0" name=""/>
                  <p:cNvSpPr/>
                  <p:nvPr/>
                </p:nvSpPr>
                <p:spPr>
                  <a:xfrm flipV="1">
                    <a:off x="7950960" y="2916360"/>
                    <a:ext cx="100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1" name=""/>
                  <p:cNvSpPr/>
                  <p:nvPr/>
                </p:nvSpPr>
                <p:spPr>
                  <a:xfrm flipH="1" flipV="1">
                    <a:off x="7939800" y="2889720"/>
                    <a:ext cx="756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2" name=""/>
                  <p:cNvSpPr/>
                  <p:nvPr/>
                </p:nvSpPr>
                <p:spPr>
                  <a:xfrm flipV="1">
                    <a:off x="7957440" y="288072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3" name=""/>
                <p:cNvGrpSpPr/>
                <p:nvPr/>
              </p:nvGrpSpPr>
              <p:grpSpPr>
                <a:xfrm>
                  <a:off x="7883280" y="2626560"/>
                  <a:ext cx="167760" cy="172800"/>
                  <a:chOff x="7883280" y="2626560"/>
                  <a:chExt cx="167760" cy="172800"/>
                </a:xfrm>
              </p:grpSpPr>
              <p:sp>
                <p:nvSpPr>
                  <p:cNvPr id="7544" name=""/>
                  <p:cNvSpPr/>
                  <p:nvPr/>
                </p:nvSpPr>
                <p:spPr>
                  <a:xfrm rot="2505000">
                    <a:off x="7922520" y="2636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5" name=""/>
                  <p:cNvSpPr/>
                  <p:nvPr/>
                </p:nvSpPr>
                <p:spPr>
                  <a:xfrm flipV="1">
                    <a:off x="7954560" y="2683800"/>
                    <a:ext cx="1512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6" name=""/>
                  <p:cNvSpPr/>
                  <p:nvPr/>
                </p:nvSpPr>
                <p:spPr>
                  <a:xfrm flipV="1">
                    <a:off x="7964280" y="273276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7" name=""/>
                  <p:cNvSpPr/>
                  <p:nvPr/>
                </p:nvSpPr>
                <p:spPr>
                  <a:xfrm flipH="1" flipV="1">
                    <a:off x="7951320" y="2712600"/>
                    <a:ext cx="864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8" name=""/>
                  <p:cNvSpPr/>
                  <p:nvPr/>
                </p:nvSpPr>
                <p:spPr>
                  <a:xfrm flipV="1">
                    <a:off x="7969680" y="2696760"/>
                    <a:ext cx="46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49" name=""/>
                <p:cNvGrpSpPr/>
                <p:nvPr/>
              </p:nvGrpSpPr>
              <p:grpSpPr>
                <a:xfrm>
                  <a:off x="7954560" y="2462040"/>
                  <a:ext cx="165240" cy="174240"/>
                  <a:chOff x="7954560" y="2462040"/>
                  <a:chExt cx="165240" cy="174240"/>
                </a:xfrm>
              </p:grpSpPr>
              <p:sp>
                <p:nvSpPr>
                  <p:cNvPr id="7550" name=""/>
                  <p:cNvSpPr/>
                  <p:nvPr/>
                </p:nvSpPr>
                <p:spPr>
                  <a:xfrm rot="2345400">
                    <a:off x="7992720" y="2472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1" name=""/>
                  <p:cNvSpPr/>
                  <p:nvPr/>
                </p:nvSpPr>
                <p:spPr>
                  <a:xfrm flipV="1">
                    <a:off x="8028720" y="2520000"/>
                    <a:ext cx="10080" cy="10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2" name=""/>
                  <p:cNvSpPr/>
                  <p:nvPr/>
                </p:nvSpPr>
                <p:spPr>
                  <a:xfrm flipV="1">
                    <a:off x="8036640" y="2568960"/>
                    <a:ext cx="828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3" name=""/>
                  <p:cNvSpPr/>
                  <p:nvPr/>
                </p:nvSpPr>
                <p:spPr>
                  <a:xfrm flipH="1" flipV="1">
                    <a:off x="8021880" y="254988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4" name=""/>
                  <p:cNvSpPr/>
                  <p:nvPr/>
                </p:nvSpPr>
                <p:spPr>
                  <a:xfrm flipV="1">
                    <a:off x="8039880" y="2532960"/>
                    <a:ext cx="39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55" name=""/>
                <p:cNvGrpSpPr/>
                <p:nvPr/>
              </p:nvGrpSpPr>
              <p:grpSpPr>
                <a:xfrm>
                  <a:off x="8029440" y="2438280"/>
                  <a:ext cx="167040" cy="163440"/>
                  <a:chOff x="8029440" y="2438280"/>
                  <a:chExt cx="167040" cy="163440"/>
                </a:xfrm>
              </p:grpSpPr>
              <p:sp>
                <p:nvSpPr>
                  <p:cNvPr id="7556" name=""/>
                  <p:cNvSpPr/>
                  <p:nvPr/>
                </p:nvSpPr>
                <p:spPr>
                  <a:xfrm rot="2977200">
                    <a:off x="8061840" y="2453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7" name=""/>
                  <p:cNvSpPr/>
                  <p:nvPr/>
                </p:nvSpPr>
                <p:spPr>
                  <a:xfrm flipV="1">
                    <a:off x="8100720" y="2491560"/>
                    <a:ext cx="1476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8" name=""/>
                  <p:cNvSpPr/>
                  <p:nvPr/>
                </p:nvSpPr>
                <p:spPr>
                  <a:xfrm flipV="1">
                    <a:off x="8110440" y="254196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9" name=""/>
                  <p:cNvSpPr/>
                  <p:nvPr/>
                </p:nvSpPr>
                <p:spPr>
                  <a:xfrm flipH="1" flipV="1">
                    <a:off x="8097480" y="25164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0" name=""/>
                  <p:cNvSpPr/>
                  <p:nvPr/>
                </p:nvSpPr>
                <p:spPr>
                  <a:xfrm flipV="1">
                    <a:off x="8115120" y="2506320"/>
                    <a:ext cx="46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61" name=""/>
              <p:cNvGrpSpPr/>
              <p:nvPr/>
            </p:nvGrpSpPr>
            <p:grpSpPr>
              <a:xfrm>
                <a:off x="6383520" y="3423960"/>
                <a:ext cx="547200" cy="820800"/>
                <a:chOff x="6383520" y="3423960"/>
                <a:chExt cx="547200" cy="820800"/>
              </a:xfrm>
            </p:grpSpPr>
            <p:grpSp>
              <p:nvGrpSpPr>
                <p:cNvPr id="7562" name=""/>
                <p:cNvGrpSpPr/>
                <p:nvPr/>
              </p:nvGrpSpPr>
              <p:grpSpPr>
                <a:xfrm>
                  <a:off x="6462720" y="3731040"/>
                  <a:ext cx="140040" cy="174960"/>
                  <a:chOff x="6462720" y="3731040"/>
                  <a:chExt cx="140040" cy="174960"/>
                </a:xfrm>
              </p:grpSpPr>
              <p:sp>
                <p:nvSpPr>
                  <p:cNvPr id="7563" name=""/>
                  <p:cNvSpPr/>
                  <p:nvPr/>
                </p:nvSpPr>
                <p:spPr>
                  <a:xfrm rot="20265000">
                    <a:off x="6487920" y="3742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4" name=""/>
                  <p:cNvSpPr/>
                  <p:nvPr/>
                </p:nvSpPr>
                <p:spPr>
                  <a:xfrm flipH="1" flipV="1">
                    <a:off x="6507720" y="3803040"/>
                    <a:ext cx="8748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5" name=""/>
                  <p:cNvSpPr/>
                  <p:nvPr/>
                </p:nvSpPr>
                <p:spPr>
                  <a:xfrm flipH="1" flipV="1">
                    <a:off x="6553440" y="3821400"/>
                    <a:ext cx="12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6" name=""/>
                  <p:cNvSpPr/>
                  <p:nvPr/>
                </p:nvSpPr>
                <p:spPr>
                  <a:xfrm flipH="1">
                    <a:off x="6525720" y="383184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7" name=""/>
                  <p:cNvSpPr/>
                  <p:nvPr/>
                </p:nvSpPr>
                <p:spPr>
                  <a:xfrm flipH="1" flipV="1">
                    <a:off x="6521400" y="380484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68" name=""/>
                <p:cNvSpPr/>
                <p:nvPr/>
              </p:nvSpPr>
              <p:spPr>
                <a:xfrm>
                  <a:off x="6734520" y="370296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 rot="16449600">
                  <a:off x="6471000" y="3678840"/>
                  <a:ext cx="570600" cy="2570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0" name=""/>
                <p:cNvSpPr/>
                <p:nvPr/>
              </p:nvSpPr>
              <p:spPr>
                <a:xfrm flipH="1">
                  <a:off x="6518880" y="385812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1" name=""/>
                <p:cNvSpPr/>
                <p:nvPr/>
              </p:nvSpPr>
              <p:spPr>
                <a:xfrm flipH="1">
                  <a:off x="6636960" y="355356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2" name=""/>
                <p:cNvSpPr/>
                <p:nvPr/>
              </p:nvSpPr>
              <p:spPr>
                <a:xfrm>
                  <a:off x="6746040" y="381924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 flipH="1">
                  <a:off x="6706440" y="374904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 flipH="1">
                  <a:off x="6535440" y="389916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5" name=""/>
                <p:cNvSpPr/>
                <p:nvPr/>
              </p:nvSpPr>
              <p:spPr>
                <a:xfrm flipH="1" flipV="1">
                  <a:off x="6564960" y="385092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6" name=""/>
                <p:cNvSpPr/>
                <p:nvPr/>
              </p:nvSpPr>
              <p:spPr>
                <a:xfrm>
                  <a:off x="6634080" y="399420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 flipH="1">
                  <a:off x="6650280" y="361368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 flipH="1">
                  <a:off x="6653880" y="370044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 flipH="1" flipV="1">
                  <a:off x="6724440" y="356508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0" name=""/>
                <p:cNvSpPr/>
                <p:nvPr/>
              </p:nvSpPr>
              <p:spPr>
                <a:xfrm flipH="1" flipV="1">
                  <a:off x="6619680" y="364896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1" name=""/>
                <p:cNvSpPr/>
                <p:nvPr/>
              </p:nvSpPr>
              <p:spPr>
                <a:xfrm>
                  <a:off x="6798600" y="363924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2" name=""/>
                <p:cNvSpPr/>
                <p:nvPr/>
              </p:nvSpPr>
              <p:spPr>
                <a:xfrm>
                  <a:off x="6660360" y="390348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3" name=""/>
                <p:cNvSpPr/>
                <p:nvPr/>
              </p:nvSpPr>
              <p:spPr>
                <a:xfrm flipH="1">
                  <a:off x="6569640" y="403704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584" name=""/>
                <p:cNvGrpSpPr/>
                <p:nvPr/>
              </p:nvGrpSpPr>
              <p:grpSpPr>
                <a:xfrm>
                  <a:off x="6383520" y="3850920"/>
                  <a:ext cx="166680" cy="158040"/>
                  <a:chOff x="6383520" y="3850920"/>
                  <a:chExt cx="166680" cy="158040"/>
                </a:xfrm>
              </p:grpSpPr>
              <p:sp>
                <p:nvSpPr>
                  <p:cNvPr id="7585" name=""/>
                  <p:cNvSpPr/>
                  <p:nvPr/>
                </p:nvSpPr>
                <p:spPr>
                  <a:xfrm rot="18195000">
                    <a:off x="6415560" y="38635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6" name=""/>
                  <p:cNvSpPr/>
                  <p:nvPr/>
                </p:nvSpPr>
                <p:spPr>
                  <a:xfrm flipH="1">
                    <a:off x="6438960" y="392040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7" name=""/>
                  <p:cNvSpPr/>
                  <p:nvPr/>
                </p:nvSpPr>
                <p:spPr>
                  <a:xfrm flipH="1" flipV="1">
                    <a:off x="6485760" y="39171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8" name=""/>
                  <p:cNvSpPr/>
                  <p:nvPr/>
                </p:nvSpPr>
                <p:spPr>
                  <a:xfrm flipH="1">
                    <a:off x="6467400" y="393228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9" name=""/>
                  <p:cNvSpPr/>
                  <p:nvPr/>
                </p:nvSpPr>
                <p:spPr>
                  <a:xfrm flipH="1" flipV="1">
                    <a:off x="6451560" y="392724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0" name=""/>
                <p:cNvGrpSpPr/>
                <p:nvPr/>
              </p:nvGrpSpPr>
              <p:grpSpPr>
                <a:xfrm>
                  <a:off x="6589800" y="3804840"/>
                  <a:ext cx="158760" cy="140760"/>
                  <a:chOff x="6589800" y="3804840"/>
                  <a:chExt cx="158760" cy="140760"/>
                </a:xfrm>
              </p:grpSpPr>
              <p:sp>
                <p:nvSpPr>
                  <p:cNvPr id="7591" name=""/>
                  <p:cNvSpPr/>
                  <p:nvPr/>
                </p:nvSpPr>
                <p:spPr>
                  <a:xfrm rot="15036600">
                    <a:off x="6617880" y="3809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2" name=""/>
                  <p:cNvSpPr/>
                  <p:nvPr/>
                </p:nvSpPr>
                <p:spPr>
                  <a:xfrm flipH="1">
                    <a:off x="6656400" y="3811680"/>
                    <a:ext cx="49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3" name=""/>
                  <p:cNvSpPr/>
                  <p:nvPr/>
                </p:nvSpPr>
                <p:spPr>
                  <a:xfrm flipH="1">
                    <a:off x="6670440" y="384084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4" name=""/>
                  <p:cNvSpPr/>
                  <p:nvPr/>
                </p:nvSpPr>
                <p:spPr>
                  <a:xfrm>
                    <a:off x="6680880" y="386388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5" name=""/>
                  <p:cNvSpPr/>
                  <p:nvPr/>
                </p:nvSpPr>
                <p:spPr>
                  <a:xfrm flipH="1">
                    <a:off x="6657840" y="387612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6" name=""/>
                <p:cNvGrpSpPr/>
                <p:nvPr/>
              </p:nvGrpSpPr>
              <p:grpSpPr>
                <a:xfrm>
                  <a:off x="6525720" y="3745800"/>
                  <a:ext cx="139320" cy="111960"/>
                  <a:chOff x="6525720" y="3745800"/>
                  <a:chExt cx="139320" cy="111960"/>
                </a:xfrm>
              </p:grpSpPr>
              <p:sp>
                <p:nvSpPr>
                  <p:cNvPr id="7597" name=""/>
                  <p:cNvSpPr/>
                  <p:nvPr/>
                </p:nvSpPr>
                <p:spPr>
                  <a:xfrm rot="16449600">
                    <a:off x="6543720" y="3735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8" name=""/>
                  <p:cNvSpPr/>
                  <p:nvPr/>
                </p:nvSpPr>
                <p:spPr>
                  <a:xfrm flipH="1">
                    <a:off x="6573600" y="375768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9" name=""/>
                  <p:cNvSpPr/>
                  <p:nvPr/>
                </p:nvSpPr>
                <p:spPr>
                  <a:xfrm flipH="1">
                    <a:off x="6605640" y="377604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0" name=""/>
                  <p:cNvSpPr/>
                  <p:nvPr/>
                </p:nvSpPr>
                <p:spPr>
                  <a:xfrm flipH="1">
                    <a:off x="6603480" y="379584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1" name=""/>
                  <p:cNvSpPr/>
                  <p:nvPr/>
                </p:nvSpPr>
                <p:spPr>
                  <a:xfrm flipH="1">
                    <a:off x="6580440" y="3801240"/>
                    <a:ext cx="122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2" name=""/>
                <p:cNvGrpSpPr/>
                <p:nvPr/>
              </p:nvGrpSpPr>
              <p:grpSpPr>
                <a:xfrm>
                  <a:off x="6748200" y="3919320"/>
                  <a:ext cx="96840" cy="156600"/>
                  <a:chOff x="6748200" y="3919320"/>
                  <a:chExt cx="96840" cy="156600"/>
                </a:xfrm>
              </p:grpSpPr>
              <p:sp>
                <p:nvSpPr>
                  <p:cNvPr id="7603" name=""/>
                  <p:cNvSpPr/>
                  <p:nvPr/>
                </p:nvSpPr>
                <p:spPr>
                  <a:xfrm rot="10618800">
                    <a:off x="6752160" y="3921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4" name=""/>
                  <p:cNvSpPr/>
                  <p:nvPr/>
                </p:nvSpPr>
                <p:spPr>
                  <a:xfrm>
                    <a:off x="6752160" y="393516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5" name=""/>
                  <p:cNvSpPr/>
                  <p:nvPr/>
                </p:nvSpPr>
                <p:spPr>
                  <a:xfrm>
                    <a:off x="6771240" y="3967920"/>
                    <a:ext cx="684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6" name=""/>
                  <p:cNvSpPr/>
                  <p:nvPr/>
                </p:nvSpPr>
                <p:spPr>
                  <a:xfrm>
                    <a:off x="6789960" y="398088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7" name=""/>
                  <p:cNvSpPr/>
                  <p:nvPr/>
                </p:nvSpPr>
                <p:spPr>
                  <a:xfrm>
                    <a:off x="6796440" y="400104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08" name=""/>
                <p:cNvGrpSpPr/>
                <p:nvPr/>
              </p:nvGrpSpPr>
              <p:grpSpPr>
                <a:xfrm>
                  <a:off x="6444720" y="4037760"/>
                  <a:ext cx="139320" cy="111960"/>
                  <a:chOff x="6444720" y="4037760"/>
                  <a:chExt cx="139320" cy="111960"/>
                </a:xfrm>
              </p:grpSpPr>
              <p:sp>
                <p:nvSpPr>
                  <p:cNvPr id="7609" name=""/>
                  <p:cNvSpPr/>
                  <p:nvPr/>
                </p:nvSpPr>
                <p:spPr>
                  <a:xfrm rot="16449600">
                    <a:off x="6462720" y="4027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0" name=""/>
                  <p:cNvSpPr/>
                  <p:nvPr/>
                </p:nvSpPr>
                <p:spPr>
                  <a:xfrm flipH="1">
                    <a:off x="6492600" y="404964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1" name=""/>
                  <p:cNvSpPr/>
                  <p:nvPr/>
                </p:nvSpPr>
                <p:spPr>
                  <a:xfrm flipH="1">
                    <a:off x="6524640" y="406800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2" name=""/>
                  <p:cNvSpPr/>
                  <p:nvPr/>
                </p:nvSpPr>
                <p:spPr>
                  <a:xfrm flipH="1">
                    <a:off x="6522840" y="408780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3" name=""/>
                  <p:cNvSpPr/>
                  <p:nvPr/>
                </p:nvSpPr>
                <p:spPr>
                  <a:xfrm flipH="1">
                    <a:off x="6499800" y="409320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4" name=""/>
                <p:cNvGrpSpPr/>
                <p:nvPr/>
              </p:nvGrpSpPr>
              <p:grpSpPr>
                <a:xfrm>
                  <a:off x="6512400" y="3653640"/>
                  <a:ext cx="139320" cy="111960"/>
                  <a:chOff x="6512400" y="3653640"/>
                  <a:chExt cx="139320" cy="111960"/>
                </a:xfrm>
              </p:grpSpPr>
              <p:sp>
                <p:nvSpPr>
                  <p:cNvPr id="7615" name=""/>
                  <p:cNvSpPr/>
                  <p:nvPr/>
                </p:nvSpPr>
                <p:spPr>
                  <a:xfrm rot="16449600">
                    <a:off x="6530400" y="36432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6" name=""/>
                  <p:cNvSpPr/>
                  <p:nvPr/>
                </p:nvSpPr>
                <p:spPr>
                  <a:xfrm flipH="1">
                    <a:off x="6560280" y="366552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7" name=""/>
                  <p:cNvSpPr/>
                  <p:nvPr/>
                </p:nvSpPr>
                <p:spPr>
                  <a:xfrm flipH="1">
                    <a:off x="6592320" y="36838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8" name=""/>
                  <p:cNvSpPr/>
                  <p:nvPr/>
                </p:nvSpPr>
                <p:spPr>
                  <a:xfrm flipH="1">
                    <a:off x="6590160" y="370332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9" name=""/>
                  <p:cNvSpPr/>
                  <p:nvPr/>
                </p:nvSpPr>
                <p:spPr>
                  <a:xfrm flipH="1">
                    <a:off x="6567480" y="370908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0" name=""/>
                <p:cNvGrpSpPr/>
                <p:nvPr/>
              </p:nvGrpSpPr>
              <p:grpSpPr>
                <a:xfrm>
                  <a:off x="6410520" y="3966120"/>
                  <a:ext cx="139320" cy="111960"/>
                  <a:chOff x="6410520" y="3966120"/>
                  <a:chExt cx="139320" cy="111960"/>
                </a:xfrm>
              </p:grpSpPr>
              <p:sp>
                <p:nvSpPr>
                  <p:cNvPr id="7621" name=""/>
                  <p:cNvSpPr/>
                  <p:nvPr/>
                </p:nvSpPr>
                <p:spPr>
                  <a:xfrm rot="16449600">
                    <a:off x="6428520" y="39556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2" name=""/>
                  <p:cNvSpPr/>
                  <p:nvPr/>
                </p:nvSpPr>
                <p:spPr>
                  <a:xfrm flipH="1">
                    <a:off x="6458400" y="397836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3" name=""/>
                  <p:cNvSpPr/>
                  <p:nvPr/>
                </p:nvSpPr>
                <p:spPr>
                  <a:xfrm flipH="1">
                    <a:off x="6490440" y="399672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4" name=""/>
                  <p:cNvSpPr/>
                  <p:nvPr/>
                </p:nvSpPr>
                <p:spPr>
                  <a:xfrm flipH="1">
                    <a:off x="6488280" y="401616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5" name=""/>
                  <p:cNvSpPr/>
                  <p:nvPr/>
                </p:nvSpPr>
                <p:spPr>
                  <a:xfrm flipH="1">
                    <a:off x="6465240" y="402156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26" name=""/>
                <p:cNvGrpSpPr/>
                <p:nvPr/>
              </p:nvGrpSpPr>
              <p:grpSpPr>
                <a:xfrm>
                  <a:off x="6811200" y="3713040"/>
                  <a:ext cx="119520" cy="167760"/>
                  <a:chOff x="6811200" y="3713040"/>
                  <a:chExt cx="119520" cy="167760"/>
                </a:xfrm>
              </p:grpSpPr>
              <p:sp>
                <p:nvSpPr>
                  <p:cNvPr id="7627" name=""/>
                  <p:cNvSpPr/>
                  <p:nvPr/>
                </p:nvSpPr>
                <p:spPr>
                  <a:xfrm rot="10047600">
                    <a:off x="6826680" y="372060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8" name=""/>
                  <p:cNvSpPr/>
                  <p:nvPr/>
                </p:nvSpPr>
                <p:spPr>
                  <a:xfrm>
                    <a:off x="6816600" y="3742560"/>
                    <a:ext cx="7632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9" name=""/>
                  <p:cNvSpPr/>
                  <p:nvPr/>
                </p:nvSpPr>
                <p:spPr>
                  <a:xfrm>
                    <a:off x="6841440" y="377208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0" name=""/>
                  <p:cNvSpPr/>
                  <p:nvPr/>
                </p:nvSpPr>
                <p:spPr>
                  <a:xfrm>
                    <a:off x="6861600" y="3781440"/>
                    <a:ext cx="183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1" name=""/>
                  <p:cNvSpPr/>
                  <p:nvPr/>
                </p:nvSpPr>
                <p:spPr>
                  <a:xfrm>
                    <a:off x="6871680" y="3800160"/>
                    <a:ext cx="82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2" name=""/>
                <p:cNvGrpSpPr/>
                <p:nvPr/>
              </p:nvGrpSpPr>
              <p:grpSpPr>
                <a:xfrm>
                  <a:off x="6769440" y="3821760"/>
                  <a:ext cx="147600" cy="175680"/>
                  <a:chOff x="6769440" y="3821760"/>
                  <a:chExt cx="147600" cy="175680"/>
                </a:xfrm>
              </p:grpSpPr>
              <p:sp>
                <p:nvSpPr>
                  <p:cNvPr id="7633" name=""/>
                  <p:cNvSpPr/>
                  <p:nvPr/>
                </p:nvSpPr>
                <p:spPr>
                  <a:xfrm rot="9208200">
                    <a:off x="6798600" y="38332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4" name=""/>
                  <p:cNvSpPr/>
                  <p:nvPr/>
                </p:nvSpPr>
                <p:spPr>
                  <a:xfrm>
                    <a:off x="6777360" y="3870000"/>
                    <a:ext cx="9216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5" name=""/>
                  <p:cNvSpPr/>
                  <p:nvPr/>
                </p:nvSpPr>
                <p:spPr>
                  <a:xfrm>
                    <a:off x="6807960" y="389232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6" name=""/>
                  <p:cNvSpPr/>
                  <p:nvPr/>
                </p:nvSpPr>
                <p:spPr>
                  <a:xfrm flipV="1">
                    <a:off x="6830280" y="389484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7" name=""/>
                  <p:cNvSpPr/>
                  <p:nvPr/>
                </p:nvSpPr>
                <p:spPr>
                  <a:xfrm>
                    <a:off x="6844320" y="391248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38" name=""/>
                <p:cNvGrpSpPr/>
                <p:nvPr/>
              </p:nvGrpSpPr>
              <p:grpSpPr>
                <a:xfrm>
                  <a:off x="6601320" y="4069800"/>
                  <a:ext cx="91080" cy="153720"/>
                  <a:chOff x="6601320" y="4069800"/>
                  <a:chExt cx="91080" cy="153720"/>
                </a:xfrm>
              </p:grpSpPr>
              <p:sp>
                <p:nvSpPr>
                  <p:cNvPr id="7639" name=""/>
                  <p:cNvSpPr/>
                  <p:nvPr/>
                </p:nvSpPr>
                <p:spPr>
                  <a:xfrm rot="10860000">
                    <a:off x="6602400" y="407016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0" name=""/>
                  <p:cNvSpPr/>
                  <p:nvPr/>
                </p:nvSpPr>
                <p:spPr>
                  <a:xfrm>
                    <a:off x="6607080" y="4081320"/>
                    <a:ext cx="565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1" name=""/>
                  <p:cNvSpPr/>
                  <p:nvPr/>
                </p:nvSpPr>
                <p:spPr>
                  <a:xfrm>
                    <a:off x="6624000" y="411516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2" name=""/>
                  <p:cNvSpPr/>
                  <p:nvPr/>
                </p:nvSpPr>
                <p:spPr>
                  <a:xfrm>
                    <a:off x="6641280" y="4129200"/>
                    <a:ext cx="1728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3" name=""/>
                  <p:cNvSpPr/>
                  <p:nvPr/>
                </p:nvSpPr>
                <p:spPr>
                  <a:xfrm>
                    <a:off x="6646680" y="41500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44" name=""/>
                <p:cNvGrpSpPr/>
                <p:nvPr/>
              </p:nvGrpSpPr>
              <p:grpSpPr>
                <a:xfrm>
                  <a:off x="6662160" y="4043880"/>
                  <a:ext cx="131400" cy="172440"/>
                  <a:chOff x="6662160" y="4043880"/>
                  <a:chExt cx="131400" cy="172440"/>
                </a:xfrm>
              </p:grpSpPr>
              <p:sp>
                <p:nvSpPr>
                  <p:cNvPr id="7645" name=""/>
                  <p:cNvSpPr/>
                  <p:nvPr/>
                </p:nvSpPr>
                <p:spPr>
                  <a:xfrm rot="9731400">
                    <a:off x="6683400" y="4053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6" name=""/>
                  <p:cNvSpPr/>
                  <p:nvPr/>
                </p:nvSpPr>
                <p:spPr>
                  <a:xfrm>
                    <a:off x="6669000" y="408132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7" name=""/>
                  <p:cNvSpPr/>
                  <p:nvPr/>
                </p:nvSpPr>
                <p:spPr>
                  <a:xfrm>
                    <a:off x="6695640" y="410796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8" name=""/>
                  <p:cNvSpPr/>
                  <p:nvPr/>
                </p:nvSpPr>
                <p:spPr>
                  <a:xfrm>
                    <a:off x="6717240" y="411552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9" name=""/>
                  <p:cNvSpPr/>
                  <p:nvPr/>
                </p:nvSpPr>
                <p:spPr>
                  <a:xfrm>
                    <a:off x="6728400" y="413352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0" name=""/>
                <p:cNvGrpSpPr/>
                <p:nvPr/>
              </p:nvGrpSpPr>
              <p:grpSpPr>
                <a:xfrm>
                  <a:off x="6660360" y="3931920"/>
                  <a:ext cx="111600" cy="164520"/>
                  <a:chOff x="6660360" y="3931920"/>
                  <a:chExt cx="111600" cy="164520"/>
                </a:xfrm>
              </p:grpSpPr>
              <p:sp>
                <p:nvSpPr>
                  <p:cNvPr id="7651" name=""/>
                  <p:cNvSpPr/>
                  <p:nvPr/>
                </p:nvSpPr>
                <p:spPr>
                  <a:xfrm rot="10251000">
                    <a:off x="6671520" y="393804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2" name=""/>
                  <p:cNvSpPr/>
                  <p:nvPr/>
                </p:nvSpPr>
                <p:spPr>
                  <a:xfrm>
                    <a:off x="6665040" y="3957120"/>
                    <a:ext cx="716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3" name=""/>
                  <p:cNvSpPr/>
                  <p:nvPr/>
                </p:nvSpPr>
                <p:spPr>
                  <a:xfrm>
                    <a:off x="6688080" y="398772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4" name=""/>
                  <p:cNvSpPr/>
                  <p:nvPr/>
                </p:nvSpPr>
                <p:spPr>
                  <a:xfrm>
                    <a:off x="6707520" y="399852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5" name=""/>
                  <p:cNvSpPr/>
                  <p:nvPr/>
                </p:nvSpPr>
                <p:spPr>
                  <a:xfrm>
                    <a:off x="6716520" y="401796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6" name=""/>
                <p:cNvGrpSpPr/>
                <p:nvPr/>
              </p:nvGrpSpPr>
              <p:grpSpPr>
                <a:xfrm>
                  <a:off x="6510240" y="3964320"/>
                  <a:ext cx="129600" cy="171720"/>
                  <a:chOff x="6510240" y="3964320"/>
                  <a:chExt cx="129600" cy="171720"/>
                </a:xfrm>
              </p:grpSpPr>
              <p:sp>
                <p:nvSpPr>
                  <p:cNvPr id="7657" name=""/>
                  <p:cNvSpPr/>
                  <p:nvPr/>
                </p:nvSpPr>
                <p:spPr>
                  <a:xfrm rot="11835000">
                    <a:off x="6530760" y="397404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8" name=""/>
                  <p:cNvSpPr/>
                  <p:nvPr/>
                </p:nvSpPr>
                <p:spPr>
                  <a:xfrm>
                    <a:off x="6554880" y="3976200"/>
                    <a:ext cx="2952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9" name=""/>
                  <p:cNvSpPr/>
                  <p:nvPr/>
                </p:nvSpPr>
                <p:spPr>
                  <a:xfrm flipH="1">
                    <a:off x="6561360" y="401400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0" name=""/>
                  <p:cNvSpPr/>
                  <p:nvPr/>
                </p:nvSpPr>
                <p:spPr>
                  <a:xfrm>
                    <a:off x="6574320" y="4032360"/>
                    <a:ext cx="14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1" name=""/>
                  <p:cNvSpPr/>
                  <p:nvPr/>
                </p:nvSpPr>
                <p:spPr>
                  <a:xfrm>
                    <a:off x="6573960" y="405360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2" name=""/>
                <p:cNvGrpSpPr/>
                <p:nvPr/>
              </p:nvGrpSpPr>
              <p:grpSpPr>
                <a:xfrm>
                  <a:off x="6550560" y="3722760"/>
                  <a:ext cx="167400" cy="162720"/>
                  <a:chOff x="6550560" y="3722760"/>
                  <a:chExt cx="167400" cy="162720"/>
                </a:xfrm>
              </p:grpSpPr>
              <p:sp>
                <p:nvSpPr>
                  <p:cNvPr id="7663" name=""/>
                  <p:cNvSpPr/>
                  <p:nvPr/>
                </p:nvSpPr>
                <p:spPr>
                  <a:xfrm rot="13885800">
                    <a:off x="6582960" y="3737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4" name=""/>
                  <p:cNvSpPr/>
                  <p:nvPr/>
                </p:nvSpPr>
                <p:spPr>
                  <a:xfrm flipH="1">
                    <a:off x="6630480" y="373176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5" name=""/>
                  <p:cNvSpPr/>
                  <p:nvPr/>
                </p:nvSpPr>
                <p:spPr>
                  <a:xfrm flipH="1">
                    <a:off x="6627960" y="376632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6" name=""/>
                  <p:cNvSpPr/>
                  <p:nvPr/>
                </p:nvSpPr>
                <p:spPr>
                  <a:xfrm>
                    <a:off x="6641640" y="378972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7" name=""/>
                  <p:cNvSpPr/>
                  <p:nvPr/>
                </p:nvSpPr>
                <p:spPr>
                  <a:xfrm flipH="1">
                    <a:off x="6626880" y="380592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68" name=""/>
                <p:cNvGrpSpPr/>
                <p:nvPr/>
              </p:nvGrpSpPr>
              <p:grpSpPr>
                <a:xfrm>
                  <a:off x="6506280" y="3506760"/>
                  <a:ext cx="126000" cy="170280"/>
                  <a:chOff x="6506280" y="3506760"/>
                  <a:chExt cx="126000" cy="170280"/>
                </a:xfrm>
              </p:grpSpPr>
              <p:sp>
                <p:nvSpPr>
                  <p:cNvPr id="7669" name=""/>
                  <p:cNvSpPr/>
                  <p:nvPr/>
                </p:nvSpPr>
                <p:spPr>
                  <a:xfrm rot="20683200">
                    <a:off x="6524640" y="3515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0" name=""/>
                  <p:cNvSpPr/>
                  <p:nvPr/>
                </p:nvSpPr>
                <p:spPr>
                  <a:xfrm flipH="1" flipV="1">
                    <a:off x="6545880" y="357372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1" name=""/>
                  <p:cNvSpPr/>
                  <p:nvPr/>
                </p:nvSpPr>
                <p:spPr>
                  <a:xfrm flipH="1" flipV="1">
                    <a:off x="6589440" y="359712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2" name=""/>
                  <p:cNvSpPr/>
                  <p:nvPr/>
                </p:nvSpPr>
                <p:spPr>
                  <a:xfrm flipH="1" flipV="1">
                    <a:off x="6560640" y="360468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3" name=""/>
                  <p:cNvSpPr/>
                  <p:nvPr/>
                </p:nvSpPr>
                <p:spPr>
                  <a:xfrm flipH="1" flipV="1">
                    <a:off x="6559560" y="3576960"/>
                    <a:ext cx="90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4" name=""/>
                <p:cNvGrpSpPr/>
                <p:nvPr/>
              </p:nvGrpSpPr>
              <p:grpSpPr>
                <a:xfrm>
                  <a:off x="6613560" y="3423960"/>
                  <a:ext cx="121680" cy="168840"/>
                  <a:chOff x="6613560" y="3423960"/>
                  <a:chExt cx="121680" cy="168840"/>
                </a:xfrm>
              </p:grpSpPr>
              <p:sp>
                <p:nvSpPr>
                  <p:cNvPr id="7675" name=""/>
                  <p:cNvSpPr/>
                  <p:nvPr/>
                </p:nvSpPr>
                <p:spPr>
                  <a:xfrm rot="20803200">
                    <a:off x="6629760" y="3431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6" name=""/>
                  <p:cNvSpPr/>
                  <p:nvPr/>
                </p:nvSpPr>
                <p:spPr>
                  <a:xfrm flipH="1" flipV="1">
                    <a:off x="6652080" y="348912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7" name=""/>
                  <p:cNvSpPr/>
                  <p:nvPr/>
                </p:nvSpPr>
                <p:spPr>
                  <a:xfrm flipH="1" flipV="1">
                    <a:off x="6694560" y="351432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8" name=""/>
                  <p:cNvSpPr/>
                  <p:nvPr/>
                </p:nvSpPr>
                <p:spPr>
                  <a:xfrm flipH="1" flipV="1">
                    <a:off x="6665400" y="35208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9" name=""/>
                  <p:cNvSpPr/>
                  <p:nvPr/>
                </p:nvSpPr>
                <p:spPr>
                  <a:xfrm flipH="1" flipV="1">
                    <a:off x="6665400" y="349308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0" name=""/>
                <p:cNvGrpSpPr/>
                <p:nvPr/>
              </p:nvGrpSpPr>
              <p:grpSpPr>
                <a:xfrm>
                  <a:off x="6689880" y="3736800"/>
                  <a:ext cx="165960" cy="155520"/>
                  <a:chOff x="6689880" y="3736800"/>
                  <a:chExt cx="165960" cy="155520"/>
                </a:xfrm>
              </p:grpSpPr>
              <p:sp>
                <p:nvSpPr>
                  <p:cNvPr id="7681" name=""/>
                  <p:cNvSpPr/>
                  <p:nvPr/>
                </p:nvSpPr>
                <p:spPr>
                  <a:xfrm rot="14375400">
                    <a:off x="6721200" y="3748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2" name=""/>
                  <p:cNvSpPr/>
                  <p:nvPr/>
                </p:nvSpPr>
                <p:spPr>
                  <a:xfrm flipH="1">
                    <a:off x="6765120" y="374472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3" name=""/>
                  <p:cNvSpPr/>
                  <p:nvPr/>
                </p:nvSpPr>
                <p:spPr>
                  <a:xfrm flipH="1">
                    <a:off x="6769800" y="37774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4" name=""/>
                  <p:cNvSpPr/>
                  <p:nvPr/>
                </p:nvSpPr>
                <p:spPr>
                  <a:xfrm>
                    <a:off x="6782040" y="380088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5" name=""/>
                  <p:cNvSpPr/>
                  <p:nvPr/>
                </p:nvSpPr>
                <p:spPr>
                  <a:xfrm flipH="1">
                    <a:off x="6763680" y="381564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86" name=""/>
                <p:cNvGrpSpPr/>
                <p:nvPr/>
              </p:nvGrpSpPr>
              <p:grpSpPr>
                <a:xfrm>
                  <a:off x="6651360" y="3909600"/>
                  <a:ext cx="173160" cy="167040"/>
                  <a:chOff x="6651360" y="3909600"/>
                  <a:chExt cx="173160" cy="167040"/>
                </a:xfrm>
              </p:grpSpPr>
              <p:sp>
                <p:nvSpPr>
                  <p:cNvPr id="7687" name=""/>
                  <p:cNvSpPr/>
                  <p:nvPr/>
                </p:nvSpPr>
                <p:spPr>
                  <a:xfrm rot="13740000">
                    <a:off x="6693480" y="3916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8" name=""/>
                  <p:cNvSpPr/>
                  <p:nvPr/>
                </p:nvSpPr>
                <p:spPr>
                  <a:xfrm flipH="1">
                    <a:off x="6732000" y="3919680"/>
                    <a:ext cx="2772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9" name=""/>
                  <p:cNvSpPr/>
                  <p:nvPr/>
                </p:nvSpPr>
                <p:spPr>
                  <a:xfrm flipH="1">
                    <a:off x="6734160" y="395496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0" name=""/>
                  <p:cNvSpPr/>
                  <p:nvPr/>
                </p:nvSpPr>
                <p:spPr>
                  <a:xfrm>
                    <a:off x="6747120" y="397728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1" name=""/>
                  <p:cNvSpPr/>
                  <p:nvPr/>
                </p:nvSpPr>
                <p:spPr>
                  <a:xfrm flipH="1">
                    <a:off x="6729120" y="3994920"/>
                    <a:ext cx="61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2" name=""/>
                <p:cNvGrpSpPr/>
                <p:nvPr/>
              </p:nvGrpSpPr>
              <p:grpSpPr>
                <a:xfrm>
                  <a:off x="6561720" y="4061880"/>
                  <a:ext cx="171360" cy="169200"/>
                  <a:chOff x="6561720" y="4061880"/>
                  <a:chExt cx="171360" cy="169200"/>
                </a:xfrm>
              </p:grpSpPr>
              <p:sp>
                <p:nvSpPr>
                  <p:cNvPr id="7693" name=""/>
                  <p:cNvSpPr/>
                  <p:nvPr/>
                </p:nvSpPr>
                <p:spPr>
                  <a:xfrm rot="13579800">
                    <a:off x="6603120" y="4070160"/>
                    <a:ext cx="88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4" name=""/>
                  <p:cNvSpPr/>
                  <p:nvPr/>
                </p:nvSpPr>
                <p:spPr>
                  <a:xfrm flipH="1">
                    <a:off x="6642000" y="4071960"/>
                    <a:ext cx="23400" cy="10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5" name=""/>
                  <p:cNvSpPr/>
                  <p:nvPr/>
                </p:nvSpPr>
                <p:spPr>
                  <a:xfrm flipH="1">
                    <a:off x="6642720" y="410796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6" name=""/>
                  <p:cNvSpPr/>
                  <p:nvPr/>
                </p:nvSpPr>
                <p:spPr>
                  <a:xfrm>
                    <a:off x="6655320" y="413028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7" name=""/>
                  <p:cNvSpPr/>
                  <p:nvPr/>
                </p:nvSpPr>
                <p:spPr>
                  <a:xfrm flipH="1">
                    <a:off x="6639120" y="414864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98" name=""/>
                <p:cNvGrpSpPr/>
                <p:nvPr/>
              </p:nvGrpSpPr>
              <p:grpSpPr>
                <a:xfrm>
                  <a:off x="6485400" y="4087080"/>
                  <a:ext cx="166320" cy="157680"/>
                  <a:chOff x="6485400" y="4087080"/>
                  <a:chExt cx="166320" cy="157680"/>
                </a:xfrm>
              </p:grpSpPr>
              <p:sp>
                <p:nvSpPr>
                  <p:cNvPr id="7699" name=""/>
                  <p:cNvSpPr/>
                  <p:nvPr/>
                </p:nvSpPr>
                <p:spPr>
                  <a:xfrm rot="14212200">
                    <a:off x="6517440" y="4099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0" name=""/>
                  <p:cNvSpPr/>
                  <p:nvPr/>
                </p:nvSpPr>
                <p:spPr>
                  <a:xfrm flipH="1">
                    <a:off x="6562800" y="409572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1" name=""/>
                  <p:cNvSpPr/>
                  <p:nvPr/>
                </p:nvSpPr>
                <p:spPr>
                  <a:xfrm flipH="1">
                    <a:off x="6564600" y="4128480"/>
                    <a:ext cx="115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2" name=""/>
                  <p:cNvSpPr/>
                  <p:nvPr/>
                </p:nvSpPr>
                <p:spPr>
                  <a:xfrm>
                    <a:off x="6577200" y="4151520"/>
                    <a:ext cx="64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3" name=""/>
                  <p:cNvSpPr/>
                  <p:nvPr/>
                </p:nvSpPr>
                <p:spPr>
                  <a:xfrm flipH="1">
                    <a:off x="6560280" y="416700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04" name=""/>
              <p:cNvGrpSpPr/>
              <p:nvPr/>
            </p:nvGrpSpPr>
            <p:grpSpPr>
              <a:xfrm>
                <a:off x="6077160" y="3063240"/>
                <a:ext cx="738720" cy="645120"/>
                <a:chOff x="6077160" y="3063240"/>
                <a:chExt cx="738720" cy="645120"/>
              </a:xfrm>
            </p:grpSpPr>
            <p:grpSp>
              <p:nvGrpSpPr>
                <p:cNvPr id="7705" name=""/>
                <p:cNvGrpSpPr/>
                <p:nvPr/>
              </p:nvGrpSpPr>
              <p:grpSpPr>
                <a:xfrm>
                  <a:off x="6278760" y="3169800"/>
                  <a:ext cx="149040" cy="163440"/>
                  <a:chOff x="6278760" y="3169800"/>
                  <a:chExt cx="149040" cy="163440"/>
                </a:xfrm>
              </p:grpSpPr>
              <p:sp>
                <p:nvSpPr>
                  <p:cNvPr id="7706" name=""/>
                  <p:cNvSpPr/>
                  <p:nvPr/>
                </p:nvSpPr>
                <p:spPr>
                  <a:xfrm rot="1519200">
                    <a:off x="6301800" y="31852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7" name=""/>
                  <p:cNvSpPr/>
                  <p:nvPr/>
                </p:nvSpPr>
                <p:spPr>
                  <a:xfrm flipH="1" flipV="1">
                    <a:off x="6343560" y="3224520"/>
                    <a:ext cx="2808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8" name=""/>
                  <p:cNvSpPr/>
                  <p:nvPr/>
                </p:nvSpPr>
                <p:spPr>
                  <a:xfrm flipV="1">
                    <a:off x="6366240" y="32688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9" name=""/>
                  <p:cNvSpPr/>
                  <p:nvPr/>
                </p:nvSpPr>
                <p:spPr>
                  <a:xfrm flipH="1" flipV="1">
                    <a:off x="6337440" y="3254400"/>
                    <a:ext cx="158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0" name=""/>
                  <p:cNvSpPr/>
                  <p:nvPr/>
                </p:nvSpPr>
                <p:spPr>
                  <a:xfrm flipH="1" flipV="1">
                    <a:off x="6353640" y="3236040"/>
                    <a:ext cx="1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11" name=""/>
                <p:cNvSpPr/>
                <p:nvPr/>
              </p:nvSpPr>
              <p:spPr>
                <a:xfrm flipH="1">
                  <a:off x="6450840" y="3356640"/>
                  <a:ext cx="127800" cy="15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 rot="19303800">
                  <a:off x="6281640" y="3290760"/>
                  <a:ext cx="49572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 flipH="1" flipV="1">
                  <a:off x="6266520" y="3313080"/>
                  <a:ext cx="160560" cy="75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 flipH="1" flipV="1">
                  <a:off x="6523560" y="3255120"/>
                  <a:ext cx="262800" cy="14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 flipH="1">
                  <a:off x="6511680" y="3436560"/>
                  <a:ext cx="288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 flipH="1">
                  <a:off x="6486480" y="3381840"/>
                  <a:ext cx="6084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 flipH="1" flipV="1">
                  <a:off x="6248880" y="3355560"/>
                  <a:ext cx="1044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 flipH="1" flipV="1">
                  <a:off x="6356520" y="3299400"/>
                  <a:ext cx="26640" cy="65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 flipH="1">
                  <a:off x="6301080" y="3445200"/>
                  <a:ext cx="18720" cy="72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0" name=""/>
                <p:cNvSpPr/>
                <p:nvPr/>
              </p:nvSpPr>
              <p:spPr>
                <a:xfrm flipH="1" flipV="1">
                  <a:off x="6475680" y="3322080"/>
                  <a:ext cx="1796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1" name=""/>
                <p:cNvSpPr/>
                <p:nvPr/>
              </p:nvSpPr>
              <p:spPr>
                <a:xfrm flipH="1" flipV="1">
                  <a:off x="6507000" y="3297240"/>
                  <a:ext cx="4284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2" name=""/>
                <p:cNvSpPr/>
                <p:nvPr/>
              </p:nvSpPr>
              <p:spPr>
                <a:xfrm flipH="1" flipV="1">
                  <a:off x="6657840" y="3265200"/>
                  <a:ext cx="41040" cy="83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3" name=""/>
                <p:cNvSpPr/>
                <p:nvPr/>
              </p:nvSpPr>
              <p:spPr>
                <a:xfrm flipH="1" flipV="1">
                  <a:off x="6525360" y="3224520"/>
                  <a:ext cx="42120" cy="53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4" name=""/>
                <p:cNvSpPr/>
                <p:nvPr/>
              </p:nvSpPr>
              <p:spPr>
                <a:xfrm flipH="1">
                  <a:off x="6619320" y="3373920"/>
                  <a:ext cx="478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 flipH="1">
                  <a:off x="6363360" y="3413520"/>
                  <a:ext cx="32760" cy="5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 flipH="1" flipV="1">
                  <a:off x="6230520" y="3428280"/>
                  <a:ext cx="4356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727" name=""/>
                <p:cNvGrpSpPr/>
                <p:nvPr/>
              </p:nvGrpSpPr>
              <p:grpSpPr>
                <a:xfrm>
                  <a:off x="6176520" y="3180600"/>
                  <a:ext cx="111960" cy="164160"/>
                  <a:chOff x="6176520" y="3180600"/>
                  <a:chExt cx="111960" cy="164160"/>
                </a:xfrm>
              </p:grpSpPr>
              <p:sp>
                <p:nvSpPr>
                  <p:cNvPr id="7728" name=""/>
                  <p:cNvSpPr/>
                  <p:nvPr/>
                </p:nvSpPr>
                <p:spPr>
                  <a:xfrm rot="21049200">
                    <a:off x="6188040" y="31863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9" name=""/>
                  <p:cNvSpPr/>
                  <p:nvPr/>
                </p:nvSpPr>
                <p:spPr>
                  <a:xfrm flipH="1" flipV="1">
                    <a:off x="6211440" y="3242520"/>
                    <a:ext cx="7200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0" name=""/>
                  <p:cNvSpPr/>
                  <p:nvPr/>
                </p:nvSpPr>
                <p:spPr>
                  <a:xfrm flipH="1" flipV="1">
                    <a:off x="6252120" y="327024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1" name=""/>
                  <p:cNvSpPr/>
                  <p:nvPr/>
                </p:nvSpPr>
                <p:spPr>
                  <a:xfrm flipH="1" flipV="1">
                    <a:off x="6222600" y="327456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2" name=""/>
                  <p:cNvSpPr/>
                  <p:nvPr/>
                </p:nvSpPr>
                <p:spPr>
                  <a:xfrm flipH="1" flipV="1">
                    <a:off x="6224760" y="324684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3" name=""/>
                <p:cNvGrpSpPr/>
                <p:nvPr/>
              </p:nvGrpSpPr>
              <p:grpSpPr>
                <a:xfrm>
                  <a:off x="6332760" y="3329280"/>
                  <a:ext cx="176040" cy="150120"/>
                  <a:chOff x="6332760" y="3329280"/>
                  <a:chExt cx="176040" cy="150120"/>
                </a:xfrm>
              </p:grpSpPr>
              <p:sp>
                <p:nvSpPr>
                  <p:cNvPr id="7734" name=""/>
                  <p:cNvSpPr/>
                  <p:nvPr/>
                </p:nvSpPr>
                <p:spPr>
                  <a:xfrm rot="17890800">
                    <a:off x="6375960" y="33282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5" name=""/>
                  <p:cNvSpPr/>
                  <p:nvPr/>
                </p:nvSpPr>
                <p:spPr>
                  <a:xfrm flipH="1">
                    <a:off x="6391800" y="3398400"/>
                    <a:ext cx="1051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6" name=""/>
                  <p:cNvSpPr/>
                  <p:nvPr/>
                </p:nvSpPr>
                <p:spPr>
                  <a:xfrm flipH="1" flipV="1">
                    <a:off x="6438600" y="339336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7" name=""/>
                  <p:cNvSpPr/>
                  <p:nvPr/>
                </p:nvSpPr>
                <p:spPr>
                  <a:xfrm flipH="1">
                    <a:off x="6424200" y="3407040"/>
                    <a:ext cx="144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8" name=""/>
                  <p:cNvSpPr/>
                  <p:nvPr/>
                </p:nvSpPr>
                <p:spPr>
                  <a:xfrm flipH="1" flipV="1">
                    <a:off x="6403320" y="340092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9" name=""/>
                <p:cNvGrpSpPr/>
                <p:nvPr/>
              </p:nvGrpSpPr>
              <p:grpSpPr>
                <a:xfrm>
                  <a:off x="6328800" y="3208680"/>
                  <a:ext cx="163800" cy="174240"/>
                  <a:chOff x="6328800" y="3208680"/>
                  <a:chExt cx="163800" cy="174240"/>
                </a:xfrm>
              </p:grpSpPr>
              <p:sp>
                <p:nvSpPr>
                  <p:cNvPr id="7740" name=""/>
                  <p:cNvSpPr/>
                  <p:nvPr/>
                </p:nvSpPr>
                <p:spPr>
                  <a:xfrm rot="19303800">
                    <a:off x="6366240" y="3219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1" name=""/>
                  <p:cNvSpPr/>
                  <p:nvPr/>
                </p:nvSpPr>
                <p:spPr>
                  <a:xfrm flipH="1" flipV="1">
                    <a:off x="6382800" y="3288600"/>
                    <a:ext cx="10044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2" name=""/>
                  <p:cNvSpPr/>
                  <p:nvPr/>
                </p:nvSpPr>
                <p:spPr>
                  <a:xfrm flipH="1" flipV="1">
                    <a:off x="6431760" y="329328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3" name=""/>
                  <p:cNvSpPr/>
                  <p:nvPr/>
                </p:nvSpPr>
                <p:spPr>
                  <a:xfrm flipH="1">
                    <a:off x="6408000" y="330588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4" name=""/>
                  <p:cNvSpPr/>
                  <p:nvPr/>
                </p:nvSpPr>
                <p:spPr>
                  <a:xfrm flipH="1" flipV="1">
                    <a:off x="6396480" y="32860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45" name=""/>
                <p:cNvGrpSpPr/>
                <p:nvPr/>
              </p:nvGrpSpPr>
              <p:grpSpPr>
                <a:xfrm>
                  <a:off x="6358680" y="3505320"/>
                  <a:ext cx="165600" cy="165960"/>
                  <a:chOff x="6358680" y="3505320"/>
                  <a:chExt cx="165600" cy="165960"/>
                </a:xfrm>
              </p:grpSpPr>
              <p:sp>
                <p:nvSpPr>
                  <p:cNvPr id="7746" name=""/>
                  <p:cNvSpPr/>
                  <p:nvPr/>
                </p:nvSpPr>
                <p:spPr>
                  <a:xfrm rot="13473000">
                    <a:off x="6390000" y="35218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7" name=""/>
                  <p:cNvSpPr/>
                  <p:nvPr/>
                </p:nvSpPr>
                <p:spPr>
                  <a:xfrm flipH="1">
                    <a:off x="6441480" y="3515040"/>
                    <a:ext cx="576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8" name=""/>
                  <p:cNvSpPr/>
                  <p:nvPr/>
                </p:nvSpPr>
                <p:spPr>
                  <a:xfrm flipH="1">
                    <a:off x="6432840" y="354996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9" name=""/>
                  <p:cNvSpPr/>
                  <p:nvPr/>
                </p:nvSpPr>
                <p:spPr>
                  <a:xfrm>
                    <a:off x="6446880" y="357228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0" name=""/>
                  <p:cNvSpPr/>
                  <p:nvPr/>
                </p:nvSpPr>
                <p:spPr>
                  <a:xfrm flipH="1">
                    <a:off x="6435720" y="358992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1" name=""/>
                <p:cNvGrpSpPr/>
                <p:nvPr/>
              </p:nvGrpSpPr>
              <p:grpSpPr>
                <a:xfrm>
                  <a:off x="6084360" y="3314880"/>
                  <a:ext cx="163800" cy="174240"/>
                  <a:chOff x="6084360" y="3314880"/>
                  <a:chExt cx="163800" cy="174240"/>
                </a:xfrm>
              </p:grpSpPr>
              <p:sp>
                <p:nvSpPr>
                  <p:cNvPr id="7752" name=""/>
                  <p:cNvSpPr/>
                  <p:nvPr/>
                </p:nvSpPr>
                <p:spPr>
                  <a:xfrm rot="19303800">
                    <a:off x="6121800" y="33260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3" name=""/>
                  <p:cNvSpPr/>
                  <p:nvPr/>
                </p:nvSpPr>
                <p:spPr>
                  <a:xfrm flipH="1" flipV="1">
                    <a:off x="6138360" y="3394800"/>
                    <a:ext cx="10044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4" name=""/>
                  <p:cNvSpPr/>
                  <p:nvPr/>
                </p:nvSpPr>
                <p:spPr>
                  <a:xfrm flipH="1" flipV="1">
                    <a:off x="6187320" y="339948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5" name=""/>
                  <p:cNvSpPr/>
                  <p:nvPr/>
                </p:nvSpPr>
                <p:spPr>
                  <a:xfrm flipH="1">
                    <a:off x="6163560" y="341208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6" name=""/>
                  <p:cNvSpPr/>
                  <p:nvPr/>
                </p:nvSpPr>
                <p:spPr>
                  <a:xfrm flipH="1" flipV="1">
                    <a:off x="6152040" y="339228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57" name=""/>
                <p:cNvGrpSpPr/>
                <p:nvPr/>
              </p:nvGrpSpPr>
              <p:grpSpPr>
                <a:xfrm>
                  <a:off x="6376680" y="3141720"/>
                  <a:ext cx="163800" cy="174240"/>
                  <a:chOff x="6376680" y="3141720"/>
                  <a:chExt cx="163800" cy="174240"/>
                </a:xfrm>
              </p:grpSpPr>
              <p:sp>
                <p:nvSpPr>
                  <p:cNvPr id="7758" name=""/>
                  <p:cNvSpPr/>
                  <p:nvPr/>
                </p:nvSpPr>
                <p:spPr>
                  <a:xfrm rot="19303800">
                    <a:off x="6414120" y="3152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9" name=""/>
                  <p:cNvSpPr/>
                  <p:nvPr/>
                </p:nvSpPr>
                <p:spPr>
                  <a:xfrm flipH="1" flipV="1">
                    <a:off x="6430680" y="3221640"/>
                    <a:ext cx="100440" cy="32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0" name=""/>
                  <p:cNvSpPr/>
                  <p:nvPr/>
                </p:nvSpPr>
                <p:spPr>
                  <a:xfrm flipH="1" flipV="1">
                    <a:off x="6479640" y="322596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1" name=""/>
                  <p:cNvSpPr/>
                  <p:nvPr/>
                </p:nvSpPr>
                <p:spPr>
                  <a:xfrm flipH="1">
                    <a:off x="6455880" y="323892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2" name=""/>
                  <p:cNvSpPr/>
                  <p:nvPr/>
                </p:nvSpPr>
                <p:spPr>
                  <a:xfrm flipH="1" flipV="1">
                    <a:off x="6444360" y="3219120"/>
                    <a:ext cx="126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3" name=""/>
                <p:cNvGrpSpPr/>
                <p:nvPr/>
              </p:nvGrpSpPr>
              <p:grpSpPr>
                <a:xfrm>
                  <a:off x="6102720" y="3242520"/>
                  <a:ext cx="163800" cy="174240"/>
                  <a:chOff x="6102720" y="3242520"/>
                  <a:chExt cx="163800" cy="174240"/>
                </a:xfrm>
              </p:grpSpPr>
              <p:sp>
                <p:nvSpPr>
                  <p:cNvPr id="7764" name=""/>
                  <p:cNvSpPr/>
                  <p:nvPr/>
                </p:nvSpPr>
                <p:spPr>
                  <a:xfrm rot="19303800">
                    <a:off x="6140160" y="32536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5" name=""/>
                  <p:cNvSpPr/>
                  <p:nvPr/>
                </p:nvSpPr>
                <p:spPr>
                  <a:xfrm flipH="1" flipV="1">
                    <a:off x="6156720" y="3322440"/>
                    <a:ext cx="100440" cy="32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6" name=""/>
                  <p:cNvSpPr/>
                  <p:nvPr/>
                </p:nvSpPr>
                <p:spPr>
                  <a:xfrm flipH="1" flipV="1">
                    <a:off x="6205680" y="332676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7" name=""/>
                  <p:cNvSpPr/>
                  <p:nvPr/>
                </p:nvSpPr>
                <p:spPr>
                  <a:xfrm flipH="1">
                    <a:off x="6181920" y="33393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8" name=""/>
                  <p:cNvSpPr/>
                  <p:nvPr/>
                </p:nvSpPr>
                <p:spPr>
                  <a:xfrm flipH="1" flipV="1">
                    <a:off x="6170400" y="3319920"/>
                    <a:ext cx="126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69" name=""/>
                <p:cNvGrpSpPr/>
                <p:nvPr/>
              </p:nvGrpSpPr>
              <p:grpSpPr>
                <a:xfrm>
                  <a:off x="6544080" y="3447720"/>
                  <a:ext cx="159840" cy="167040"/>
                  <a:chOff x="6544080" y="3447720"/>
                  <a:chExt cx="159840" cy="167040"/>
                </a:xfrm>
              </p:grpSpPr>
              <p:sp>
                <p:nvSpPr>
                  <p:cNvPr id="7770" name=""/>
                  <p:cNvSpPr/>
                  <p:nvPr/>
                </p:nvSpPr>
                <p:spPr>
                  <a:xfrm rot="12901800">
                    <a:off x="6572880" y="34646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1" name=""/>
                  <p:cNvSpPr/>
                  <p:nvPr/>
                </p:nvSpPr>
                <p:spPr>
                  <a:xfrm>
                    <a:off x="6617880" y="3458160"/>
                    <a:ext cx="1080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2" name=""/>
                  <p:cNvSpPr/>
                  <p:nvPr/>
                </p:nvSpPr>
                <p:spPr>
                  <a:xfrm flipH="1">
                    <a:off x="6612120" y="349380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3" name=""/>
                  <p:cNvSpPr/>
                  <p:nvPr/>
                </p:nvSpPr>
                <p:spPr>
                  <a:xfrm>
                    <a:off x="6626880" y="35146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4" name=""/>
                  <p:cNvSpPr/>
                  <p:nvPr/>
                </p:nvSpPr>
                <p:spPr>
                  <a:xfrm flipH="1">
                    <a:off x="6620760" y="353340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75" name=""/>
                <p:cNvGrpSpPr/>
                <p:nvPr/>
              </p:nvGrpSpPr>
              <p:grpSpPr>
                <a:xfrm>
                  <a:off x="6460920" y="3494880"/>
                  <a:ext cx="142920" cy="160200"/>
                  <a:chOff x="6460920" y="3494880"/>
                  <a:chExt cx="142920" cy="160200"/>
                </a:xfrm>
              </p:grpSpPr>
              <p:sp>
                <p:nvSpPr>
                  <p:cNvPr id="7776" name=""/>
                  <p:cNvSpPr/>
                  <p:nvPr/>
                </p:nvSpPr>
                <p:spPr>
                  <a:xfrm rot="12062400">
                    <a:off x="6481080" y="35085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7" name=""/>
                  <p:cNvSpPr/>
                  <p:nvPr/>
                </p:nvSpPr>
                <p:spPr>
                  <a:xfrm>
                    <a:off x="6508440" y="3505320"/>
                    <a:ext cx="35280" cy="9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8" name=""/>
                  <p:cNvSpPr/>
                  <p:nvPr/>
                </p:nvSpPr>
                <p:spPr>
                  <a:xfrm flipH="1">
                    <a:off x="6516000" y="353988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9" name=""/>
                  <p:cNvSpPr/>
                  <p:nvPr/>
                </p:nvSpPr>
                <p:spPr>
                  <a:xfrm>
                    <a:off x="6531120" y="355788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0" name=""/>
                  <p:cNvSpPr/>
                  <p:nvPr/>
                </p:nvSpPr>
                <p:spPr>
                  <a:xfrm>
                    <a:off x="6531120" y="3577320"/>
                    <a:ext cx="18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1" name=""/>
                <p:cNvGrpSpPr/>
                <p:nvPr/>
              </p:nvGrpSpPr>
              <p:grpSpPr>
                <a:xfrm>
                  <a:off x="6150240" y="3466800"/>
                  <a:ext cx="167040" cy="164160"/>
                  <a:chOff x="6150240" y="3466800"/>
                  <a:chExt cx="167040" cy="164160"/>
                </a:xfrm>
              </p:grpSpPr>
              <p:sp>
                <p:nvSpPr>
                  <p:cNvPr id="7782" name=""/>
                  <p:cNvSpPr/>
                  <p:nvPr/>
                </p:nvSpPr>
                <p:spPr>
                  <a:xfrm rot="13714200">
                    <a:off x="6182280" y="34822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3" name=""/>
                  <p:cNvSpPr/>
                  <p:nvPr/>
                </p:nvSpPr>
                <p:spPr>
                  <a:xfrm flipH="1">
                    <a:off x="6231960" y="3476160"/>
                    <a:ext cx="1296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4" name=""/>
                  <p:cNvSpPr/>
                  <p:nvPr/>
                </p:nvSpPr>
                <p:spPr>
                  <a:xfrm flipH="1">
                    <a:off x="6226920" y="351072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5" name=""/>
                  <p:cNvSpPr/>
                  <p:nvPr/>
                </p:nvSpPr>
                <p:spPr>
                  <a:xfrm>
                    <a:off x="6240600" y="3533400"/>
                    <a:ext cx="90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6" name=""/>
                  <p:cNvSpPr/>
                  <p:nvPr/>
                </p:nvSpPr>
                <p:spPr>
                  <a:xfrm flipH="1">
                    <a:off x="6227280" y="3550320"/>
                    <a:ext cx="43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7" name=""/>
                <p:cNvGrpSpPr/>
                <p:nvPr/>
              </p:nvGrpSpPr>
              <p:grpSpPr>
                <a:xfrm>
                  <a:off x="6228000" y="3525840"/>
                  <a:ext cx="154800" cy="165600"/>
                  <a:chOff x="6228000" y="3525840"/>
                  <a:chExt cx="154800" cy="165600"/>
                </a:xfrm>
              </p:grpSpPr>
              <p:sp>
                <p:nvSpPr>
                  <p:cNvPr id="7788" name=""/>
                  <p:cNvSpPr/>
                  <p:nvPr/>
                </p:nvSpPr>
                <p:spPr>
                  <a:xfrm rot="12585600">
                    <a:off x="6254280" y="35420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9" name=""/>
                  <p:cNvSpPr/>
                  <p:nvPr/>
                </p:nvSpPr>
                <p:spPr>
                  <a:xfrm>
                    <a:off x="6292440" y="3535920"/>
                    <a:ext cx="2052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0" name=""/>
                  <p:cNvSpPr/>
                  <p:nvPr/>
                </p:nvSpPr>
                <p:spPr>
                  <a:xfrm flipH="1">
                    <a:off x="6292080" y="357156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1" name=""/>
                  <p:cNvSpPr/>
                  <p:nvPr/>
                </p:nvSpPr>
                <p:spPr>
                  <a:xfrm>
                    <a:off x="6306840" y="359136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>
                    <a:off x="6303960" y="3610440"/>
                    <a:ext cx="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3" name=""/>
                <p:cNvGrpSpPr/>
                <p:nvPr/>
              </p:nvGrpSpPr>
              <p:grpSpPr>
                <a:xfrm>
                  <a:off x="6288120" y="3444840"/>
                  <a:ext cx="162720" cy="167400"/>
                  <a:chOff x="6288120" y="3444840"/>
                  <a:chExt cx="162720" cy="167400"/>
                </a:xfrm>
              </p:grpSpPr>
              <p:sp>
                <p:nvSpPr>
                  <p:cNvPr id="7794" name=""/>
                  <p:cNvSpPr/>
                  <p:nvPr/>
                </p:nvSpPr>
                <p:spPr>
                  <a:xfrm rot="13105200">
                    <a:off x="6318360" y="346212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5" name=""/>
                  <p:cNvSpPr/>
                  <p:nvPr/>
                </p:nvSpPr>
                <p:spPr>
                  <a:xfrm>
                    <a:off x="6367320" y="3455280"/>
                    <a:ext cx="504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 flipH="1">
                    <a:off x="6358680" y="3490560"/>
                    <a:ext cx="57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7" name=""/>
                  <p:cNvSpPr/>
                  <p:nvPr/>
                </p:nvSpPr>
                <p:spPr>
                  <a:xfrm>
                    <a:off x="6373080" y="3512160"/>
                    <a:ext cx="122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8" name=""/>
                  <p:cNvSpPr/>
                  <p:nvPr/>
                </p:nvSpPr>
                <p:spPr>
                  <a:xfrm flipH="1">
                    <a:off x="6365160" y="3530520"/>
                    <a:ext cx="21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99" name=""/>
                <p:cNvGrpSpPr/>
                <p:nvPr/>
              </p:nvGrpSpPr>
              <p:grpSpPr>
                <a:xfrm>
                  <a:off x="6157800" y="3353760"/>
                  <a:ext cx="163440" cy="149040"/>
                  <a:chOff x="6157800" y="3353760"/>
                  <a:chExt cx="163440" cy="149040"/>
                </a:xfrm>
              </p:grpSpPr>
              <p:sp>
                <p:nvSpPr>
                  <p:cNvPr id="7800" name=""/>
                  <p:cNvSpPr/>
                  <p:nvPr/>
                </p:nvSpPr>
                <p:spPr>
                  <a:xfrm rot="14689200">
                    <a:off x="6188400" y="33620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1" name=""/>
                  <p:cNvSpPr/>
                  <p:nvPr/>
                </p:nvSpPr>
                <p:spPr>
                  <a:xfrm flipH="1">
                    <a:off x="6229440" y="3361680"/>
                    <a:ext cx="4068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2" name=""/>
                  <p:cNvSpPr/>
                  <p:nvPr/>
                </p:nvSpPr>
                <p:spPr>
                  <a:xfrm flipH="1">
                    <a:off x="6238800" y="339228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3" name=""/>
                  <p:cNvSpPr/>
                  <p:nvPr/>
                </p:nvSpPr>
                <p:spPr>
                  <a:xfrm>
                    <a:off x="6249960" y="341532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4" name=""/>
                  <p:cNvSpPr/>
                  <p:nvPr/>
                </p:nvSpPr>
                <p:spPr>
                  <a:xfrm flipH="1">
                    <a:off x="6229080" y="3429360"/>
                    <a:ext cx="75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5" name=""/>
                <p:cNvGrpSpPr/>
                <p:nvPr/>
              </p:nvGrpSpPr>
              <p:grpSpPr>
                <a:xfrm>
                  <a:off x="6356520" y="3275640"/>
                  <a:ext cx="163800" cy="111600"/>
                  <a:chOff x="6356520" y="3275640"/>
                  <a:chExt cx="163800" cy="111600"/>
                </a:xfrm>
              </p:grpSpPr>
              <p:sp>
                <p:nvSpPr>
                  <p:cNvPr id="7806" name=""/>
                  <p:cNvSpPr/>
                  <p:nvPr/>
                </p:nvSpPr>
                <p:spPr>
                  <a:xfrm rot="16740000">
                    <a:off x="6393960" y="3255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7" name=""/>
                  <p:cNvSpPr/>
                  <p:nvPr/>
                </p:nvSpPr>
                <p:spPr>
                  <a:xfrm flipH="1">
                    <a:off x="6413400" y="3300840"/>
                    <a:ext cx="9576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8" name=""/>
                  <p:cNvSpPr/>
                  <p:nvPr/>
                </p:nvSpPr>
                <p:spPr>
                  <a:xfrm flipH="1">
                    <a:off x="6452280" y="3312720"/>
                    <a:ext cx="2088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9" name=""/>
                  <p:cNvSpPr/>
                  <p:nvPr/>
                </p:nvSpPr>
                <p:spPr>
                  <a:xfrm flipH="1">
                    <a:off x="6447240" y="332820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0" name=""/>
                  <p:cNvSpPr/>
                  <p:nvPr/>
                </p:nvSpPr>
                <p:spPr>
                  <a:xfrm flipH="1">
                    <a:off x="6421680" y="333036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1" name=""/>
                <p:cNvGrpSpPr/>
                <p:nvPr/>
              </p:nvGrpSpPr>
              <p:grpSpPr>
                <a:xfrm>
                  <a:off x="6444000" y="3063240"/>
                  <a:ext cx="157320" cy="166680"/>
                  <a:chOff x="6444000" y="3063240"/>
                  <a:chExt cx="157320" cy="166680"/>
                </a:xfrm>
              </p:grpSpPr>
              <p:sp>
                <p:nvSpPr>
                  <p:cNvPr id="7812" name=""/>
                  <p:cNvSpPr/>
                  <p:nvPr/>
                </p:nvSpPr>
                <p:spPr>
                  <a:xfrm rot="1936800">
                    <a:off x="6471360" y="308016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3" name=""/>
                  <p:cNvSpPr/>
                  <p:nvPr/>
                </p:nvSpPr>
                <p:spPr>
                  <a:xfrm flipH="1" flipV="1">
                    <a:off x="6516720" y="3118320"/>
                    <a:ext cx="158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4" name=""/>
                  <p:cNvSpPr/>
                  <p:nvPr/>
                </p:nvSpPr>
                <p:spPr>
                  <a:xfrm flipV="1">
                    <a:off x="6531840" y="316548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5" name=""/>
                  <p:cNvSpPr/>
                  <p:nvPr/>
                </p:nvSpPr>
                <p:spPr>
                  <a:xfrm flipH="1" flipV="1">
                    <a:off x="6507000" y="3147480"/>
                    <a:ext cx="140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6" name=""/>
                  <p:cNvSpPr/>
                  <p:nvPr/>
                </p:nvSpPr>
                <p:spPr>
                  <a:xfrm flipV="1">
                    <a:off x="6524640" y="313128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7" name=""/>
                <p:cNvGrpSpPr/>
                <p:nvPr/>
              </p:nvGrpSpPr>
              <p:grpSpPr>
                <a:xfrm>
                  <a:off x="6576120" y="3103560"/>
                  <a:ext cx="159120" cy="167040"/>
                  <a:chOff x="6576120" y="3103560"/>
                  <a:chExt cx="159120" cy="167040"/>
                </a:xfrm>
              </p:grpSpPr>
              <p:sp>
                <p:nvSpPr>
                  <p:cNvPr id="7818" name=""/>
                  <p:cNvSpPr/>
                  <p:nvPr/>
                </p:nvSpPr>
                <p:spPr>
                  <a:xfrm rot="2057400">
                    <a:off x="6604200" y="312084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9" name=""/>
                  <p:cNvSpPr/>
                  <p:nvPr/>
                </p:nvSpPr>
                <p:spPr>
                  <a:xfrm flipH="1" flipV="1">
                    <a:off x="6650640" y="3158640"/>
                    <a:ext cx="122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0" name=""/>
                  <p:cNvSpPr/>
                  <p:nvPr/>
                </p:nvSpPr>
                <p:spPr>
                  <a:xfrm flipV="1">
                    <a:off x="6663240" y="3206160"/>
                    <a:ext cx="46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1" name=""/>
                  <p:cNvSpPr/>
                  <p:nvPr/>
                </p:nvSpPr>
                <p:spPr>
                  <a:xfrm flipH="1" flipV="1">
                    <a:off x="6639840" y="318744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2" name=""/>
                  <p:cNvSpPr/>
                  <p:nvPr/>
                </p:nvSpPr>
                <p:spPr>
                  <a:xfrm flipV="1">
                    <a:off x="6657480" y="317196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3" name=""/>
                <p:cNvGrpSpPr/>
                <p:nvPr/>
              </p:nvGrpSpPr>
              <p:grpSpPr>
                <a:xfrm>
                  <a:off x="6451920" y="3391920"/>
                  <a:ext cx="171360" cy="129960"/>
                  <a:chOff x="6451920" y="3391920"/>
                  <a:chExt cx="171360" cy="129960"/>
                </a:xfrm>
              </p:grpSpPr>
              <p:sp>
                <p:nvSpPr>
                  <p:cNvPr id="7824" name=""/>
                  <p:cNvSpPr/>
                  <p:nvPr/>
                </p:nvSpPr>
                <p:spPr>
                  <a:xfrm rot="17229600">
                    <a:off x="6492960" y="33807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5" name=""/>
                  <p:cNvSpPr/>
                  <p:nvPr/>
                </p:nvSpPr>
                <p:spPr>
                  <a:xfrm flipH="1">
                    <a:off x="6510240" y="3436560"/>
                    <a:ext cx="10152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6" name=""/>
                  <p:cNvSpPr/>
                  <p:nvPr/>
                </p:nvSpPr>
                <p:spPr>
                  <a:xfrm flipH="1" flipV="1">
                    <a:off x="6553080" y="3442680"/>
                    <a:ext cx="2124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7" name=""/>
                  <p:cNvSpPr/>
                  <p:nvPr/>
                </p:nvSpPr>
                <p:spPr>
                  <a:xfrm flipH="1">
                    <a:off x="6544080" y="3456000"/>
                    <a:ext cx="118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8" name=""/>
                  <p:cNvSpPr/>
                  <p:nvPr/>
                </p:nvSpPr>
                <p:spPr>
                  <a:xfrm flipH="1">
                    <a:off x="6520320" y="345528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29" name=""/>
                <p:cNvGrpSpPr/>
                <p:nvPr/>
              </p:nvGrpSpPr>
              <p:grpSpPr>
                <a:xfrm>
                  <a:off x="6327360" y="3476160"/>
                  <a:ext cx="143280" cy="116640"/>
                  <a:chOff x="6327360" y="3476160"/>
                  <a:chExt cx="143280" cy="116640"/>
                </a:xfrm>
              </p:grpSpPr>
              <p:sp>
                <p:nvSpPr>
                  <p:cNvPr id="7830" name=""/>
                  <p:cNvSpPr/>
                  <p:nvPr/>
                </p:nvSpPr>
                <p:spPr>
                  <a:xfrm rot="16594200">
                    <a:off x="6347880" y="34678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1" name=""/>
                  <p:cNvSpPr/>
                  <p:nvPr/>
                </p:nvSpPr>
                <p:spPr>
                  <a:xfrm flipH="1">
                    <a:off x="6376320" y="3494160"/>
                    <a:ext cx="8388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2" name=""/>
                  <p:cNvSpPr/>
                  <p:nvPr/>
                </p:nvSpPr>
                <p:spPr>
                  <a:xfrm flipH="1">
                    <a:off x="6410520" y="351036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3" name=""/>
                  <p:cNvSpPr/>
                  <p:nvPr/>
                </p:nvSpPr>
                <p:spPr>
                  <a:xfrm flipH="1">
                    <a:off x="6406920" y="3529080"/>
                    <a:ext cx="792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4" name=""/>
                  <p:cNvSpPr/>
                  <p:nvPr/>
                </p:nvSpPr>
                <p:spPr>
                  <a:xfrm flipH="1">
                    <a:off x="6384240" y="3533760"/>
                    <a:ext cx="122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35" name=""/>
                <p:cNvGrpSpPr/>
                <p:nvPr/>
              </p:nvGrpSpPr>
              <p:grpSpPr>
                <a:xfrm>
                  <a:off x="6164280" y="3493440"/>
                  <a:ext cx="138960" cy="110880"/>
                  <a:chOff x="6164280" y="3493440"/>
                  <a:chExt cx="138960" cy="110880"/>
                </a:xfrm>
              </p:grpSpPr>
              <p:sp>
                <p:nvSpPr>
                  <p:cNvPr id="7836" name=""/>
                  <p:cNvSpPr/>
                  <p:nvPr/>
                </p:nvSpPr>
                <p:spPr>
                  <a:xfrm rot="16434000">
                    <a:off x="6182640" y="3482280"/>
                    <a:ext cx="10224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7" name=""/>
                  <p:cNvSpPr/>
                  <p:nvPr/>
                </p:nvSpPr>
                <p:spPr>
                  <a:xfrm flipH="1">
                    <a:off x="6212160" y="350568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8" name=""/>
                  <p:cNvSpPr/>
                  <p:nvPr/>
                </p:nvSpPr>
                <p:spPr>
                  <a:xfrm flipH="1">
                    <a:off x="6244200" y="35233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9" name=""/>
                  <p:cNvSpPr/>
                  <p:nvPr/>
                </p:nvSpPr>
                <p:spPr>
                  <a:xfrm flipH="1">
                    <a:off x="6242400" y="354276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0" name=""/>
                  <p:cNvSpPr/>
                  <p:nvPr/>
                </p:nvSpPr>
                <p:spPr>
                  <a:xfrm flipH="1">
                    <a:off x="6219000" y="3548160"/>
                    <a:ext cx="122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41" name=""/>
                <p:cNvGrpSpPr/>
                <p:nvPr/>
              </p:nvGrpSpPr>
              <p:grpSpPr>
                <a:xfrm>
                  <a:off x="6077160" y="3430440"/>
                  <a:ext cx="169200" cy="123840"/>
                  <a:chOff x="6077160" y="3430440"/>
                  <a:chExt cx="169200" cy="123840"/>
                </a:xfrm>
              </p:grpSpPr>
              <p:sp>
                <p:nvSpPr>
                  <p:cNvPr id="7842" name=""/>
                  <p:cNvSpPr/>
                  <p:nvPr/>
                </p:nvSpPr>
                <p:spPr>
                  <a:xfrm rot="17066400">
                    <a:off x="6117120" y="3416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3" name=""/>
                  <p:cNvSpPr/>
                  <p:nvPr/>
                </p:nvSpPr>
                <p:spPr>
                  <a:xfrm flipH="1">
                    <a:off x="6135120" y="3468600"/>
                    <a:ext cx="9972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4" name=""/>
                  <p:cNvSpPr/>
                  <p:nvPr/>
                </p:nvSpPr>
                <p:spPr>
                  <a:xfrm flipH="1">
                    <a:off x="6176520" y="3476880"/>
                    <a:ext cx="2124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5" name=""/>
                  <p:cNvSpPr/>
                  <p:nvPr/>
                </p:nvSpPr>
                <p:spPr>
                  <a:xfrm flipH="1">
                    <a:off x="6168960" y="3490920"/>
                    <a:ext cx="108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6" name=""/>
                  <p:cNvSpPr/>
                  <p:nvPr/>
                </p:nvSpPr>
                <p:spPr>
                  <a:xfrm flipH="1">
                    <a:off x="6144480" y="3490920"/>
                    <a:ext cx="1404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47" name=""/>
              <p:cNvGrpSpPr/>
              <p:nvPr/>
            </p:nvGrpSpPr>
            <p:grpSpPr>
              <a:xfrm>
                <a:off x="6591240" y="2712960"/>
                <a:ext cx="735840" cy="609480"/>
                <a:chOff x="6591240" y="2712960"/>
                <a:chExt cx="735840" cy="609480"/>
              </a:xfrm>
            </p:grpSpPr>
            <p:grpSp>
              <p:nvGrpSpPr>
                <p:cNvPr id="7848" name=""/>
                <p:cNvGrpSpPr/>
                <p:nvPr/>
              </p:nvGrpSpPr>
              <p:grpSpPr>
                <a:xfrm>
                  <a:off x="6889320" y="2791800"/>
                  <a:ext cx="163800" cy="150480"/>
                  <a:chOff x="6889320" y="2791800"/>
                  <a:chExt cx="163800" cy="150480"/>
                </a:xfrm>
              </p:grpSpPr>
              <p:sp>
                <p:nvSpPr>
                  <p:cNvPr id="7849" name=""/>
                  <p:cNvSpPr/>
                  <p:nvPr/>
                </p:nvSpPr>
                <p:spPr>
                  <a:xfrm rot="3815400">
                    <a:off x="6919920" y="28008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0" name=""/>
                  <p:cNvSpPr/>
                  <p:nvPr/>
                </p:nvSpPr>
                <p:spPr>
                  <a:xfrm flipV="1">
                    <a:off x="6942240" y="2840040"/>
                    <a:ext cx="38160" cy="9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1" name=""/>
                  <p:cNvSpPr/>
                  <p:nvPr/>
                </p:nvSpPr>
                <p:spPr>
                  <a:xfrm flipV="1">
                    <a:off x="6959880" y="288972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2" name=""/>
                  <p:cNvSpPr/>
                  <p:nvPr/>
                </p:nvSpPr>
                <p:spPr>
                  <a:xfrm flipH="1" flipV="1">
                    <a:off x="6957360" y="285948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3" name=""/>
                  <p:cNvSpPr/>
                  <p:nvPr/>
                </p:nvSpPr>
                <p:spPr>
                  <a:xfrm flipV="1">
                    <a:off x="6973920" y="2855160"/>
                    <a:ext cx="7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54" name=""/>
                <p:cNvSpPr/>
                <p:nvPr/>
              </p:nvSpPr>
              <p:spPr>
                <a:xfrm flipH="1">
                  <a:off x="6885720" y="3089160"/>
                  <a:ext cx="19836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5" name=""/>
                <p:cNvSpPr/>
                <p:nvPr/>
              </p:nvSpPr>
              <p:spPr>
                <a:xfrm>
                  <a:off x="6747120" y="29754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6" name=""/>
                <p:cNvSpPr/>
                <p:nvPr/>
              </p:nvSpPr>
              <p:spPr>
                <a:xfrm flipH="1" flipV="1">
                  <a:off x="6865920" y="2861640"/>
                  <a:ext cx="79200" cy="15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7" name=""/>
                <p:cNvSpPr/>
                <p:nvPr/>
              </p:nvSpPr>
              <p:spPr>
                <a:xfrm flipH="1" flipV="1">
                  <a:off x="7103880" y="2975400"/>
                  <a:ext cx="119160" cy="27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8" name=""/>
                <p:cNvSpPr/>
                <p:nvPr/>
              </p:nvSpPr>
              <p:spPr>
                <a:xfrm flipH="1">
                  <a:off x="6945120" y="3112200"/>
                  <a:ext cx="392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9" name=""/>
                <p:cNvSpPr/>
                <p:nvPr/>
              </p:nvSpPr>
              <p:spPr>
                <a:xfrm flipH="1" flipV="1">
                  <a:off x="6984360" y="3066480"/>
                  <a:ext cx="594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0" name=""/>
                <p:cNvSpPr/>
                <p:nvPr/>
              </p:nvSpPr>
              <p:spPr>
                <a:xfrm flipH="1" flipV="1">
                  <a:off x="6825600" y="2883960"/>
                  <a:ext cx="7956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1" name=""/>
                <p:cNvSpPr/>
                <p:nvPr/>
              </p:nvSpPr>
              <p:spPr>
                <a:xfrm flipV="1">
                  <a:off x="6925320" y="2906640"/>
                  <a:ext cx="1980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2" name=""/>
                <p:cNvSpPr/>
                <p:nvPr/>
              </p:nvSpPr>
              <p:spPr>
                <a:xfrm flipH="1">
                  <a:off x="6766560" y="2998440"/>
                  <a:ext cx="5904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3" name=""/>
                <p:cNvSpPr/>
                <p:nvPr/>
              </p:nvSpPr>
              <p:spPr>
                <a:xfrm flipH="1" flipV="1">
                  <a:off x="7024680" y="2998440"/>
                  <a:ext cx="138960" cy="11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4" name=""/>
                <p:cNvSpPr/>
                <p:nvPr/>
              </p:nvSpPr>
              <p:spPr>
                <a:xfrm flipH="1" flipV="1">
                  <a:off x="7064280" y="2998080"/>
                  <a:ext cx="1944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5" name=""/>
                <p:cNvSpPr/>
                <p:nvPr/>
              </p:nvSpPr>
              <p:spPr>
                <a:xfrm flipV="1">
                  <a:off x="7183080" y="3066480"/>
                  <a:ext cx="1944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6" name=""/>
                <p:cNvSpPr/>
                <p:nvPr/>
              </p:nvSpPr>
              <p:spPr>
                <a:xfrm flipV="1">
                  <a:off x="7123680" y="2952360"/>
                  <a:ext cx="0" cy="68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7" name=""/>
                <p:cNvSpPr/>
                <p:nvPr/>
              </p:nvSpPr>
              <p:spPr>
                <a:xfrm flipH="1">
                  <a:off x="7063920" y="3157560"/>
                  <a:ext cx="78840" cy="22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8" name=""/>
                <p:cNvSpPr/>
                <p:nvPr/>
              </p:nvSpPr>
              <p:spPr>
                <a:xfrm flipH="1">
                  <a:off x="6845760" y="3020760"/>
                  <a:ext cx="5940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9" name=""/>
                <p:cNvSpPr/>
                <p:nvPr/>
              </p:nvSpPr>
              <p:spPr>
                <a:xfrm flipH="1" flipV="1">
                  <a:off x="6766200" y="2929680"/>
                  <a:ext cx="198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870" name=""/>
                <p:cNvGrpSpPr/>
                <p:nvPr/>
              </p:nvGrpSpPr>
              <p:grpSpPr>
                <a:xfrm>
                  <a:off x="6794640" y="2712960"/>
                  <a:ext cx="151560" cy="176040"/>
                  <a:chOff x="6794640" y="2712960"/>
                  <a:chExt cx="151560" cy="176040"/>
                </a:xfrm>
              </p:grpSpPr>
              <p:sp>
                <p:nvSpPr>
                  <p:cNvPr id="7871" name=""/>
                  <p:cNvSpPr/>
                  <p:nvPr/>
                </p:nvSpPr>
                <p:spPr>
                  <a:xfrm rot="1745400">
                    <a:off x="6825600" y="2724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2" name=""/>
                  <p:cNvSpPr/>
                  <p:nvPr/>
                </p:nvSpPr>
                <p:spPr>
                  <a:xfrm flipH="1" flipV="1">
                    <a:off x="6866280" y="2772360"/>
                    <a:ext cx="8640" cy="10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3" name=""/>
                  <p:cNvSpPr/>
                  <p:nvPr/>
                </p:nvSpPr>
                <p:spPr>
                  <a:xfrm flipV="1">
                    <a:off x="6876360" y="281916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4" name=""/>
                  <p:cNvSpPr/>
                  <p:nvPr/>
                </p:nvSpPr>
                <p:spPr>
                  <a:xfrm flipH="1" flipV="1">
                    <a:off x="6855120" y="280440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5" name=""/>
                  <p:cNvSpPr/>
                  <p:nvPr/>
                </p:nvSpPr>
                <p:spPr>
                  <a:xfrm flipV="1">
                    <a:off x="6872400" y="278388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76" name=""/>
                <p:cNvGrpSpPr/>
                <p:nvPr/>
              </p:nvGrpSpPr>
              <p:grpSpPr>
                <a:xfrm>
                  <a:off x="6859440" y="2941200"/>
                  <a:ext cx="142200" cy="174960"/>
                  <a:chOff x="6859440" y="2941200"/>
                  <a:chExt cx="142200" cy="174960"/>
                </a:xfrm>
              </p:grpSpPr>
              <p:sp>
                <p:nvSpPr>
                  <p:cNvPr id="7877" name=""/>
                  <p:cNvSpPr/>
                  <p:nvPr/>
                </p:nvSpPr>
                <p:spPr>
                  <a:xfrm rot="20187000">
                    <a:off x="6886080" y="29527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8" name=""/>
                  <p:cNvSpPr/>
                  <p:nvPr/>
                </p:nvSpPr>
                <p:spPr>
                  <a:xfrm flipH="1" flipV="1">
                    <a:off x="6905160" y="3014640"/>
                    <a:ext cx="88920" cy="56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9" name=""/>
                  <p:cNvSpPr/>
                  <p:nvPr/>
                </p:nvSpPr>
                <p:spPr>
                  <a:xfrm flipH="1" flipV="1">
                    <a:off x="6951600" y="30312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0" name=""/>
                  <p:cNvSpPr/>
                  <p:nvPr/>
                </p:nvSpPr>
                <p:spPr>
                  <a:xfrm flipH="1">
                    <a:off x="6923880" y="3042000"/>
                    <a:ext cx="190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1" name=""/>
                  <p:cNvSpPr/>
                  <p:nvPr/>
                </p:nvSpPr>
                <p:spPr>
                  <a:xfrm flipH="1" flipV="1">
                    <a:off x="6919200" y="301536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2" name=""/>
                <p:cNvGrpSpPr/>
                <p:nvPr/>
              </p:nvGrpSpPr>
              <p:grpSpPr>
                <a:xfrm>
                  <a:off x="6945480" y="2861640"/>
                  <a:ext cx="88920" cy="151920"/>
                  <a:chOff x="6945480" y="2861640"/>
                  <a:chExt cx="88920" cy="151920"/>
                </a:xfrm>
              </p:grpSpPr>
              <p:sp>
                <p:nvSpPr>
                  <p:cNvPr id="7883" name=""/>
                  <p:cNvSpPr/>
                  <p:nvPr/>
                </p:nvSpPr>
                <p:spPr>
                  <a:xfrm>
                    <a:off x="6945480" y="2861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4" name=""/>
                  <p:cNvSpPr/>
                  <p:nvPr/>
                </p:nvSpPr>
                <p:spPr>
                  <a:xfrm flipH="1" flipV="1">
                    <a:off x="6972480" y="291456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5" name=""/>
                  <p:cNvSpPr/>
                  <p:nvPr/>
                </p:nvSpPr>
                <p:spPr>
                  <a:xfrm flipH="1" flipV="1">
                    <a:off x="7008120" y="294840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6" name=""/>
                  <p:cNvSpPr/>
                  <p:nvPr/>
                </p:nvSpPr>
                <p:spPr>
                  <a:xfrm flipH="1" flipV="1">
                    <a:off x="6978240" y="294804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7" name=""/>
                  <p:cNvSpPr/>
                  <p:nvPr/>
                </p:nvSpPr>
                <p:spPr>
                  <a:xfrm flipH="1" flipV="1">
                    <a:off x="6984720" y="292104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88" name=""/>
                <p:cNvGrpSpPr/>
                <p:nvPr/>
              </p:nvGrpSpPr>
              <p:grpSpPr>
                <a:xfrm>
                  <a:off x="6760800" y="3126960"/>
                  <a:ext cx="143640" cy="118080"/>
                  <a:chOff x="6760800" y="3126960"/>
                  <a:chExt cx="143640" cy="118080"/>
                </a:xfrm>
              </p:grpSpPr>
              <p:sp>
                <p:nvSpPr>
                  <p:cNvPr id="7889" name=""/>
                  <p:cNvSpPr/>
                  <p:nvPr/>
                </p:nvSpPr>
                <p:spPr>
                  <a:xfrm rot="15769200">
                    <a:off x="6781320" y="31197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0" name=""/>
                  <p:cNvSpPr/>
                  <p:nvPr/>
                </p:nvSpPr>
                <p:spPr>
                  <a:xfrm flipH="1">
                    <a:off x="6814800" y="3132360"/>
                    <a:ext cx="6732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1" name=""/>
                  <p:cNvSpPr/>
                  <p:nvPr/>
                </p:nvSpPr>
                <p:spPr>
                  <a:xfrm flipH="1">
                    <a:off x="6838920" y="315540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2" name=""/>
                  <p:cNvSpPr/>
                  <p:nvPr/>
                </p:nvSpPr>
                <p:spPr>
                  <a:xfrm flipH="1">
                    <a:off x="6843240" y="3177000"/>
                    <a:ext cx="324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3" name=""/>
                  <p:cNvSpPr/>
                  <p:nvPr/>
                </p:nvSpPr>
                <p:spPr>
                  <a:xfrm flipH="1">
                    <a:off x="6819120" y="3186000"/>
                    <a:ext cx="108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4" name=""/>
                <p:cNvGrpSpPr/>
                <p:nvPr/>
              </p:nvGrpSpPr>
              <p:grpSpPr>
                <a:xfrm>
                  <a:off x="6687360" y="2793600"/>
                  <a:ext cx="88920" cy="151920"/>
                  <a:chOff x="6687360" y="2793600"/>
                  <a:chExt cx="88920" cy="151920"/>
                </a:xfrm>
              </p:grpSpPr>
              <p:sp>
                <p:nvSpPr>
                  <p:cNvPr id="7895" name=""/>
                  <p:cNvSpPr/>
                  <p:nvPr/>
                </p:nvSpPr>
                <p:spPr>
                  <a:xfrm>
                    <a:off x="6687360" y="2793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6" name=""/>
                  <p:cNvSpPr/>
                  <p:nvPr/>
                </p:nvSpPr>
                <p:spPr>
                  <a:xfrm flipH="1" flipV="1">
                    <a:off x="6714360" y="2846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7" name=""/>
                  <p:cNvSpPr/>
                  <p:nvPr/>
                </p:nvSpPr>
                <p:spPr>
                  <a:xfrm flipH="1" flipV="1">
                    <a:off x="6750000" y="2880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8" name=""/>
                  <p:cNvSpPr/>
                  <p:nvPr/>
                </p:nvSpPr>
                <p:spPr>
                  <a:xfrm flipH="1" flipV="1">
                    <a:off x="6720120" y="2880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9" name=""/>
                  <p:cNvSpPr/>
                  <p:nvPr/>
                </p:nvSpPr>
                <p:spPr>
                  <a:xfrm flipH="1" flipV="1">
                    <a:off x="6726600" y="2853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0" name=""/>
                <p:cNvGrpSpPr/>
                <p:nvPr/>
              </p:nvGrpSpPr>
              <p:grpSpPr>
                <a:xfrm>
                  <a:off x="7024680" y="2838600"/>
                  <a:ext cx="88920" cy="151920"/>
                  <a:chOff x="7024680" y="2838600"/>
                  <a:chExt cx="88920" cy="151920"/>
                </a:xfrm>
              </p:grpSpPr>
              <p:sp>
                <p:nvSpPr>
                  <p:cNvPr id="7901" name=""/>
                  <p:cNvSpPr/>
                  <p:nvPr/>
                </p:nvSpPr>
                <p:spPr>
                  <a:xfrm>
                    <a:off x="7024680" y="2838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2" name=""/>
                  <p:cNvSpPr/>
                  <p:nvPr/>
                </p:nvSpPr>
                <p:spPr>
                  <a:xfrm flipH="1" flipV="1">
                    <a:off x="7051680" y="289152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3" name=""/>
                  <p:cNvSpPr/>
                  <p:nvPr/>
                </p:nvSpPr>
                <p:spPr>
                  <a:xfrm flipH="1" flipV="1">
                    <a:off x="7087320" y="292536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4" name=""/>
                  <p:cNvSpPr/>
                  <p:nvPr/>
                </p:nvSpPr>
                <p:spPr>
                  <a:xfrm flipH="1" flipV="1">
                    <a:off x="7057440" y="29250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5" name=""/>
                  <p:cNvSpPr/>
                  <p:nvPr/>
                </p:nvSpPr>
                <p:spPr>
                  <a:xfrm flipH="1" flipV="1">
                    <a:off x="7063920" y="2898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06" name=""/>
                <p:cNvGrpSpPr/>
                <p:nvPr/>
              </p:nvGrpSpPr>
              <p:grpSpPr>
                <a:xfrm>
                  <a:off x="6747120" y="2747880"/>
                  <a:ext cx="88920" cy="151920"/>
                  <a:chOff x="6747120" y="2747880"/>
                  <a:chExt cx="88920" cy="151920"/>
                </a:xfrm>
              </p:grpSpPr>
              <p:sp>
                <p:nvSpPr>
                  <p:cNvPr id="7907" name=""/>
                  <p:cNvSpPr/>
                  <p:nvPr/>
                </p:nvSpPr>
                <p:spPr>
                  <a:xfrm>
                    <a:off x="6747120" y="27478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8" name=""/>
                  <p:cNvSpPr/>
                  <p:nvPr/>
                </p:nvSpPr>
                <p:spPr>
                  <a:xfrm flipH="1" flipV="1">
                    <a:off x="6774120" y="2800800"/>
                    <a:ext cx="5868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9" name=""/>
                  <p:cNvSpPr/>
                  <p:nvPr/>
                </p:nvSpPr>
                <p:spPr>
                  <a:xfrm flipH="1" flipV="1">
                    <a:off x="6809760" y="2834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0" name=""/>
                  <p:cNvSpPr/>
                  <p:nvPr/>
                </p:nvSpPr>
                <p:spPr>
                  <a:xfrm flipH="1" flipV="1">
                    <a:off x="6779880" y="283428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1" name=""/>
                  <p:cNvSpPr/>
                  <p:nvPr/>
                </p:nvSpPr>
                <p:spPr>
                  <a:xfrm flipH="1" flipV="1">
                    <a:off x="6786360" y="280728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2" name=""/>
                <p:cNvGrpSpPr/>
                <p:nvPr/>
              </p:nvGrpSpPr>
              <p:grpSpPr>
                <a:xfrm>
                  <a:off x="6933600" y="3186720"/>
                  <a:ext cx="156240" cy="135720"/>
                  <a:chOff x="6933600" y="3186720"/>
                  <a:chExt cx="156240" cy="135720"/>
                </a:xfrm>
              </p:grpSpPr>
              <p:sp>
                <p:nvSpPr>
                  <p:cNvPr id="7913" name=""/>
                  <p:cNvSpPr/>
                  <p:nvPr/>
                </p:nvSpPr>
                <p:spPr>
                  <a:xfrm rot="15198000">
                    <a:off x="6960240" y="31881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4" name=""/>
                  <p:cNvSpPr/>
                  <p:nvPr/>
                </p:nvSpPr>
                <p:spPr>
                  <a:xfrm flipH="1">
                    <a:off x="6997680" y="3193200"/>
                    <a:ext cx="54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5" name=""/>
                  <p:cNvSpPr/>
                  <p:nvPr/>
                </p:nvSpPr>
                <p:spPr>
                  <a:xfrm flipH="1">
                    <a:off x="7013880" y="322056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6" name=""/>
                  <p:cNvSpPr/>
                  <p:nvPr/>
                </p:nvSpPr>
                <p:spPr>
                  <a:xfrm>
                    <a:off x="7023600" y="3243240"/>
                    <a:ext cx="3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7" name=""/>
                  <p:cNvSpPr/>
                  <p:nvPr/>
                </p:nvSpPr>
                <p:spPr>
                  <a:xfrm flipH="1">
                    <a:off x="6999840" y="325476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8" name=""/>
                <p:cNvGrpSpPr/>
                <p:nvPr/>
              </p:nvGrpSpPr>
              <p:grpSpPr>
                <a:xfrm>
                  <a:off x="6829200" y="3153960"/>
                  <a:ext cx="165960" cy="155520"/>
                  <a:chOff x="6829200" y="3153960"/>
                  <a:chExt cx="165960" cy="155520"/>
                </a:xfrm>
              </p:grpSpPr>
              <p:sp>
                <p:nvSpPr>
                  <p:cNvPr id="7919" name=""/>
                  <p:cNvSpPr/>
                  <p:nvPr/>
                </p:nvSpPr>
                <p:spPr>
                  <a:xfrm rot="14358600">
                    <a:off x="6860880" y="3165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0" name=""/>
                  <p:cNvSpPr/>
                  <p:nvPr/>
                </p:nvSpPr>
                <p:spPr>
                  <a:xfrm flipH="1">
                    <a:off x="6904800" y="3162600"/>
                    <a:ext cx="3132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1" name=""/>
                  <p:cNvSpPr/>
                  <p:nvPr/>
                </p:nvSpPr>
                <p:spPr>
                  <a:xfrm flipH="1">
                    <a:off x="6909120" y="31946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2" name=""/>
                  <p:cNvSpPr/>
                  <p:nvPr/>
                </p:nvSpPr>
                <p:spPr>
                  <a:xfrm>
                    <a:off x="6921360" y="321768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3" name=""/>
                  <p:cNvSpPr/>
                  <p:nvPr/>
                </p:nvSpPr>
                <p:spPr>
                  <a:xfrm flipH="1">
                    <a:off x="6903000" y="3232800"/>
                    <a:ext cx="64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4" name=""/>
                <p:cNvGrpSpPr/>
                <p:nvPr/>
              </p:nvGrpSpPr>
              <p:grpSpPr>
                <a:xfrm>
                  <a:off x="6625440" y="2971800"/>
                  <a:ext cx="137520" cy="109440"/>
                  <a:chOff x="6625440" y="2971800"/>
                  <a:chExt cx="137520" cy="109440"/>
                </a:xfrm>
              </p:grpSpPr>
              <p:sp>
                <p:nvSpPr>
                  <p:cNvPr id="7925" name=""/>
                  <p:cNvSpPr/>
                  <p:nvPr/>
                </p:nvSpPr>
                <p:spPr>
                  <a:xfrm rot="16010400">
                    <a:off x="6643080" y="2960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6" name=""/>
                  <p:cNvSpPr/>
                  <p:nvPr/>
                </p:nvSpPr>
                <p:spPr>
                  <a:xfrm flipH="1">
                    <a:off x="6675120" y="2976480"/>
                    <a:ext cx="7272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7" name=""/>
                  <p:cNvSpPr/>
                  <p:nvPr/>
                </p:nvSpPr>
                <p:spPr>
                  <a:xfrm flipH="1">
                    <a:off x="6702120" y="2997720"/>
                    <a:ext cx="172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8" name=""/>
                  <p:cNvSpPr/>
                  <p:nvPr/>
                </p:nvSpPr>
                <p:spPr>
                  <a:xfrm flipH="1">
                    <a:off x="6704280" y="3018600"/>
                    <a:ext cx="46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9" name=""/>
                  <p:cNvSpPr/>
                  <p:nvPr/>
                </p:nvSpPr>
                <p:spPr>
                  <a:xfrm flipH="1">
                    <a:off x="6680520" y="3026160"/>
                    <a:ext cx="111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0" name=""/>
                <p:cNvGrpSpPr/>
                <p:nvPr/>
              </p:nvGrpSpPr>
              <p:grpSpPr>
                <a:xfrm>
                  <a:off x="6633360" y="3045240"/>
                  <a:ext cx="160560" cy="144360"/>
                  <a:chOff x="6633360" y="3045240"/>
                  <a:chExt cx="160560" cy="144360"/>
                </a:xfrm>
              </p:grpSpPr>
              <p:sp>
                <p:nvSpPr>
                  <p:cNvPr id="7931" name=""/>
                  <p:cNvSpPr/>
                  <p:nvPr/>
                </p:nvSpPr>
                <p:spPr>
                  <a:xfrm rot="14881800">
                    <a:off x="6662520" y="3051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2" name=""/>
                  <p:cNvSpPr/>
                  <p:nvPr/>
                </p:nvSpPr>
                <p:spPr>
                  <a:xfrm flipH="1">
                    <a:off x="6702480" y="3052800"/>
                    <a:ext cx="45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3" name=""/>
                  <p:cNvSpPr/>
                  <p:nvPr/>
                </p:nvSpPr>
                <p:spPr>
                  <a:xfrm flipH="1">
                    <a:off x="6714000" y="308232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4" name=""/>
                  <p:cNvSpPr/>
                  <p:nvPr/>
                </p:nvSpPr>
                <p:spPr>
                  <a:xfrm>
                    <a:off x="6724800" y="3105360"/>
                    <a:ext cx="25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5" name=""/>
                  <p:cNvSpPr/>
                  <p:nvPr/>
                </p:nvSpPr>
                <p:spPr>
                  <a:xfrm flipH="1">
                    <a:off x="6702840" y="311832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6" name=""/>
                <p:cNvGrpSpPr/>
                <p:nvPr/>
              </p:nvGrpSpPr>
              <p:grpSpPr>
                <a:xfrm>
                  <a:off x="6737400" y="3029400"/>
                  <a:ext cx="151920" cy="129960"/>
                  <a:chOff x="6737400" y="3029400"/>
                  <a:chExt cx="151920" cy="129960"/>
                </a:xfrm>
              </p:grpSpPr>
              <p:sp>
                <p:nvSpPr>
                  <p:cNvPr id="7937" name=""/>
                  <p:cNvSpPr/>
                  <p:nvPr/>
                </p:nvSpPr>
                <p:spPr>
                  <a:xfrm rot="15401400">
                    <a:off x="6761880" y="30283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8" name=""/>
                  <p:cNvSpPr/>
                  <p:nvPr/>
                </p:nvSpPr>
                <p:spPr>
                  <a:xfrm flipH="1">
                    <a:off x="6797880" y="3035880"/>
                    <a:ext cx="5904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9" name=""/>
                  <p:cNvSpPr/>
                  <p:nvPr/>
                </p:nvSpPr>
                <p:spPr>
                  <a:xfrm flipH="1">
                    <a:off x="6816960" y="306180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0" name=""/>
                  <p:cNvSpPr/>
                  <p:nvPr/>
                </p:nvSpPr>
                <p:spPr>
                  <a:xfrm flipH="1">
                    <a:off x="6825240" y="3084120"/>
                    <a:ext cx="72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1" name=""/>
                  <p:cNvSpPr/>
                  <p:nvPr/>
                </p:nvSpPr>
                <p:spPr>
                  <a:xfrm flipH="1">
                    <a:off x="6800760" y="3094920"/>
                    <a:ext cx="97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2" name=""/>
                <p:cNvGrpSpPr/>
                <p:nvPr/>
              </p:nvGrpSpPr>
              <p:grpSpPr>
                <a:xfrm>
                  <a:off x="6697440" y="2870640"/>
                  <a:ext cx="151920" cy="129600"/>
                  <a:chOff x="6697440" y="2870640"/>
                  <a:chExt cx="151920" cy="129600"/>
                </a:xfrm>
              </p:grpSpPr>
              <p:sp>
                <p:nvSpPr>
                  <p:cNvPr id="7943" name=""/>
                  <p:cNvSpPr/>
                  <p:nvPr/>
                </p:nvSpPr>
                <p:spPr>
                  <a:xfrm rot="16985400">
                    <a:off x="6721920" y="28692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4" name=""/>
                  <p:cNvSpPr/>
                  <p:nvPr/>
                </p:nvSpPr>
                <p:spPr>
                  <a:xfrm flipH="1">
                    <a:off x="6748920" y="2902320"/>
                    <a:ext cx="8964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5" name=""/>
                  <p:cNvSpPr/>
                  <p:nvPr/>
                </p:nvSpPr>
                <p:spPr>
                  <a:xfrm flipH="1">
                    <a:off x="6786360" y="291492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6" name=""/>
                  <p:cNvSpPr/>
                  <p:nvPr/>
                </p:nvSpPr>
                <p:spPr>
                  <a:xfrm flipH="1">
                    <a:off x="6779160" y="293184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7" name=""/>
                  <p:cNvSpPr/>
                  <p:nvPr/>
                </p:nvSpPr>
                <p:spPr>
                  <a:xfrm flipH="1">
                    <a:off x="6757920" y="2934360"/>
                    <a:ext cx="126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8" name=""/>
                <p:cNvGrpSpPr/>
                <p:nvPr/>
              </p:nvGrpSpPr>
              <p:grpSpPr>
                <a:xfrm>
                  <a:off x="6905520" y="2896560"/>
                  <a:ext cx="168480" cy="172080"/>
                  <a:chOff x="6905520" y="2896560"/>
                  <a:chExt cx="168480" cy="172080"/>
                </a:xfrm>
              </p:grpSpPr>
              <p:sp>
                <p:nvSpPr>
                  <p:cNvPr id="7949" name=""/>
                  <p:cNvSpPr/>
                  <p:nvPr/>
                </p:nvSpPr>
                <p:spPr>
                  <a:xfrm rot="19036200">
                    <a:off x="6945120" y="2906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0" name=""/>
                  <p:cNvSpPr/>
                  <p:nvPr/>
                </p:nvSpPr>
                <p:spPr>
                  <a:xfrm flipH="1" flipV="1">
                    <a:off x="6961320" y="2977920"/>
                    <a:ext cx="10296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1" name=""/>
                  <p:cNvSpPr/>
                  <p:nvPr/>
                </p:nvSpPr>
                <p:spPr>
                  <a:xfrm flipH="1" flipV="1">
                    <a:off x="7010640" y="297828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2" name=""/>
                  <p:cNvSpPr/>
                  <p:nvPr/>
                </p:nvSpPr>
                <p:spPr>
                  <a:xfrm flipH="1">
                    <a:off x="6988320" y="29916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3" name=""/>
                  <p:cNvSpPr/>
                  <p:nvPr/>
                </p:nvSpPr>
                <p:spPr>
                  <a:xfrm flipH="1" flipV="1">
                    <a:off x="6975000" y="2974320"/>
                    <a:ext cx="129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4" name=""/>
                <p:cNvGrpSpPr/>
                <p:nvPr/>
              </p:nvGrpSpPr>
              <p:grpSpPr>
                <a:xfrm>
                  <a:off x="7090560" y="2819520"/>
                  <a:ext cx="158760" cy="140400"/>
                  <a:chOff x="7090560" y="2819520"/>
                  <a:chExt cx="158760" cy="140400"/>
                </a:xfrm>
              </p:grpSpPr>
              <p:sp>
                <p:nvSpPr>
                  <p:cNvPr id="7955" name=""/>
                  <p:cNvSpPr/>
                  <p:nvPr/>
                </p:nvSpPr>
                <p:spPr>
                  <a:xfrm rot="4233000">
                    <a:off x="7118640" y="2823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6" name=""/>
                  <p:cNvSpPr/>
                  <p:nvPr/>
                </p:nvSpPr>
                <p:spPr>
                  <a:xfrm flipV="1">
                    <a:off x="7133040" y="2864160"/>
                    <a:ext cx="493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7" name=""/>
                  <p:cNvSpPr/>
                  <p:nvPr/>
                </p:nvSpPr>
                <p:spPr>
                  <a:xfrm flipV="1">
                    <a:off x="7154280" y="29124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8" name=""/>
                  <p:cNvSpPr/>
                  <p:nvPr/>
                </p:nvSpPr>
                <p:spPr>
                  <a:xfrm flipH="1" flipV="1">
                    <a:off x="7156800" y="288072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9" name=""/>
                  <p:cNvSpPr/>
                  <p:nvPr/>
                </p:nvSpPr>
                <p:spPr>
                  <a:xfrm flipV="1">
                    <a:off x="7172640" y="287928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0" name=""/>
                <p:cNvGrpSpPr/>
                <p:nvPr/>
              </p:nvGrpSpPr>
              <p:grpSpPr>
                <a:xfrm>
                  <a:off x="7170480" y="2935440"/>
                  <a:ext cx="156600" cy="137160"/>
                  <a:chOff x="7170480" y="2935440"/>
                  <a:chExt cx="156600" cy="137160"/>
                </a:xfrm>
              </p:grpSpPr>
              <p:sp>
                <p:nvSpPr>
                  <p:cNvPr id="7961" name=""/>
                  <p:cNvSpPr/>
                  <p:nvPr/>
                </p:nvSpPr>
                <p:spPr>
                  <a:xfrm rot="4353000">
                    <a:off x="7197480" y="2937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2" name=""/>
                  <p:cNvSpPr/>
                  <p:nvPr/>
                </p:nvSpPr>
                <p:spPr>
                  <a:xfrm flipV="1">
                    <a:off x="7209360" y="2978640"/>
                    <a:ext cx="529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3" name=""/>
                  <p:cNvSpPr/>
                  <p:nvPr/>
                </p:nvSpPr>
                <p:spPr>
                  <a:xfrm flipV="1">
                    <a:off x="7231680" y="302652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4" name=""/>
                  <p:cNvSpPr/>
                  <p:nvPr/>
                </p:nvSpPr>
                <p:spPr>
                  <a:xfrm flipH="1" flipV="1">
                    <a:off x="7236000" y="299412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5" name=""/>
                  <p:cNvSpPr/>
                  <p:nvPr/>
                </p:nvSpPr>
                <p:spPr>
                  <a:xfrm flipV="1">
                    <a:off x="7251480" y="2993760"/>
                    <a:ext cx="90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6" name=""/>
                <p:cNvGrpSpPr/>
                <p:nvPr/>
              </p:nvGrpSpPr>
              <p:grpSpPr>
                <a:xfrm>
                  <a:off x="6910200" y="3054600"/>
                  <a:ext cx="159480" cy="175320"/>
                  <a:chOff x="6910200" y="3054600"/>
                  <a:chExt cx="159480" cy="175320"/>
                </a:xfrm>
              </p:grpSpPr>
              <p:sp>
                <p:nvSpPr>
                  <p:cNvPr id="7967" name=""/>
                  <p:cNvSpPr/>
                  <p:nvPr/>
                </p:nvSpPr>
                <p:spPr>
                  <a:xfrm rot="19525800">
                    <a:off x="6945120" y="3066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8" name=""/>
                  <p:cNvSpPr/>
                  <p:nvPr/>
                </p:nvSpPr>
                <p:spPr>
                  <a:xfrm flipH="1" flipV="1">
                    <a:off x="6962400" y="313344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9" name=""/>
                  <p:cNvSpPr/>
                  <p:nvPr/>
                </p:nvSpPr>
                <p:spPr>
                  <a:xfrm flipH="1" flipV="1">
                    <a:off x="7011000" y="314100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0" name=""/>
                  <p:cNvSpPr/>
                  <p:nvPr/>
                </p:nvSpPr>
                <p:spPr>
                  <a:xfrm flipH="1">
                    <a:off x="6986160" y="315324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1" name=""/>
                  <p:cNvSpPr/>
                  <p:nvPr/>
                </p:nvSpPr>
                <p:spPr>
                  <a:xfrm flipH="1" flipV="1">
                    <a:off x="6976080" y="3131640"/>
                    <a:ext cx="126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2" name=""/>
                <p:cNvGrpSpPr/>
                <p:nvPr/>
              </p:nvGrpSpPr>
              <p:grpSpPr>
                <a:xfrm>
                  <a:off x="6749640" y="3035160"/>
                  <a:ext cx="165600" cy="165600"/>
                  <a:chOff x="6749640" y="3035160"/>
                  <a:chExt cx="165600" cy="165600"/>
                </a:xfrm>
              </p:grpSpPr>
              <p:sp>
                <p:nvSpPr>
                  <p:cNvPr id="7973" name=""/>
                  <p:cNvSpPr/>
                  <p:nvPr/>
                </p:nvSpPr>
                <p:spPr>
                  <a:xfrm rot="18890400">
                    <a:off x="6781320" y="3051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4" name=""/>
                  <p:cNvSpPr/>
                  <p:nvPr/>
                </p:nvSpPr>
                <p:spPr>
                  <a:xfrm flipH="1" flipV="1">
                    <a:off x="6804000" y="3117600"/>
                    <a:ext cx="10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5" name=""/>
                  <p:cNvSpPr/>
                  <p:nvPr/>
                </p:nvSpPr>
                <p:spPr>
                  <a:xfrm flipH="1" flipV="1">
                    <a:off x="6853680" y="3109320"/>
                    <a:ext cx="169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6" name=""/>
                  <p:cNvSpPr/>
                  <p:nvPr/>
                </p:nvSpPr>
                <p:spPr>
                  <a:xfrm flipH="1">
                    <a:off x="6829920" y="3123000"/>
                    <a:ext cx="183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7" name=""/>
                  <p:cNvSpPr/>
                  <p:nvPr/>
                </p:nvSpPr>
                <p:spPr>
                  <a:xfrm flipH="1" flipV="1">
                    <a:off x="6818040" y="311220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8" name=""/>
                <p:cNvGrpSpPr/>
                <p:nvPr/>
              </p:nvGrpSpPr>
              <p:grpSpPr>
                <a:xfrm>
                  <a:off x="6611040" y="2944440"/>
                  <a:ext cx="166680" cy="164160"/>
                  <a:chOff x="6611040" y="2944440"/>
                  <a:chExt cx="166680" cy="164160"/>
                </a:xfrm>
              </p:grpSpPr>
              <p:sp>
                <p:nvSpPr>
                  <p:cNvPr id="7979" name=""/>
                  <p:cNvSpPr/>
                  <p:nvPr/>
                </p:nvSpPr>
                <p:spPr>
                  <a:xfrm rot="18730200">
                    <a:off x="6643080" y="2960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0" name=""/>
                  <p:cNvSpPr/>
                  <p:nvPr/>
                </p:nvSpPr>
                <p:spPr>
                  <a:xfrm flipH="1" flipV="1">
                    <a:off x="6665760" y="3027960"/>
                    <a:ext cx="10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1" name=""/>
                  <p:cNvSpPr/>
                  <p:nvPr/>
                </p:nvSpPr>
                <p:spPr>
                  <a:xfrm flipH="1" flipV="1">
                    <a:off x="6714720" y="301716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2" name=""/>
                  <p:cNvSpPr/>
                  <p:nvPr/>
                </p:nvSpPr>
                <p:spPr>
                  <a:xfrm flipH="1">
                    <a:off x="6692400" y="3031200"/>
                    <a:ext cx="18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3" name=""/>
                  <p:cNvSpPr/>
                  <p:nvPr/>
                </p:nvSpPr>
                <p:spPr>
                  <a:xfrm flipH="1" flipV="1">
                    <a:off x="6679800" y="30214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4" name=""/>
                <p:cNvGrpSpPr/>
                <p:nvPr/>
              </p:nvGrpSpPr>
              <p:grpSpPr>
                <a:xfrm>
                  <a:off x="6591240" y="2850120"/>
                  <a:ext cx="162720" cy="174960"/>
                  <a:chOff x="6591240" y="2850120"/>
                  <a:chExt cx="162720" cy="174960"/>
                </a:xfrm>
              </p:grpSpPr>
              <p:sp>
                <p:nvSpPr>
                  <p:cNvPr id="7985" name=""/>
                  <p:cNvSpPr/>
                  <p:nvPr/>
                </p:nvSpPr>
                <p:spPr>
                  <a:xfrm rot="19362600">
                    <a:off x="6627960" y="2861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6" name=""/>
                  <p:cNvSpPr/>
                  <p:nvPr/>
                </p:nvSpPr>
                <p:spPr>
                  <a:xfrm flipH="1" flipV="1">
                    <a:off x="6644880" y="2929680"/>
                    <a:ext cx="100080" cy="34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7" name=""/>
                  <p:cNvSpPr/>
                  <p:nvPr/>
                </p:nvSpPr>
                <p:spPr>
                  <a:xfrm flipH="1" flipV="1">
                    <a:off x="6693840" y="2935080"/>
                    <a:ext cx="165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8" name=""/>
                  <p:cNvSpPr/>
                  <p:nvPr/>
                </p:nvSpPr>
                <p:spPr>
                  <a:xfrm flipH="1">
                    <a:off x="6669720" y="29476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9" name=""/>
                  <p:cNvSpPr/>
                  <p:nvPr/>
                </p:nvSpPr>
                <p:spPr>
                  <a:xfrm flipH="1" flipV="1">
                    <a:off x="6658560" y="2927520"/>
                    <a:ext cx="12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0" name=""/>
              <p:cNvGrpSpPr/>
              <p:nvPr/>
            </p:nvGrpSpPr>
            <p:grpSpPr>
              <a:xfrm>
                <a:off x="7093080" y="2147400"/>
                <a:ext cx="547560" cy="820440"/>
                <a:chOff x="7093080" y="2147400"/>
                <a:chExt cx="547560" cy="820440"/>
              </a:xfrm>
            </p:grpSpPr>
            <p:grpSp>
              <p:nvGrpSpPr>
                <p:cNvPr id="7991" name=""/>
                <p:cNvGrpSpPr/>
                <p:nvPr/>
              </p:nvGrpSpPr>
              <p:grpSpPr>
                <a:xfrm>
                  <a:off x="7421400" y="2486520"/>
                  <a:ext cx="140040" cy="174600"/>
                  <a:chOff x="7421400" y="2486520"/>
                  <a:chExt cx="140040" cy="174600"/>
                </a:xfrm>
              </p:grpSpPr>
              <p:sp>
                <p:nvSpPr>
                  <p:cNvPr id="7992" name=""/>
                  <p:cNvSpPr/>
                  <p:nvPr/>
                </p:nvSpPr>
                <p:spPr>
                  <a:xfrm rot="9465600">
                    <a:off x="7446960" y="24976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3" name=""/>
                  <p:cNvSpPr/>
                  <p:nvPr/>
                </p:nvSpPr>
                <p:spPr>
                  <a:xfrm>
                    <a:off x="7428600" y="2529720"/>
                    <a:ext cx="87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4" name=""/>
                  <p:cNvSpPr/>
                  <p:nvPr/>
                </p:nvSpPr>
                <p:spPr>
                  <a:xfrm>
                    <a:off x="7457400" y="255456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5" name=""/>
                  <p:cNvSpPr/>
                  <p:nvPr/>
                </p:nvSpPr>
                <p:spPr>
                  <a:xfrm flipV="1">
                    <a:off x="7479360" y="255996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6" name=""/>
                  <p:cNvSpPr/>
                  <p:nvPr/>
                </p:nvSpPr>
                <p:spPr>
                  <a:xfrm>
                    <a:off x="7492320" y="2577240"/>
                    <a:ext cx="10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97" name=""/>
                <p:cNvSpPr/>
                <p:nvPr/>
              </p:nvSpPr>
              <p:spPr>
                <a:xfrm flipH="1" flipV="1">
                  <a:off x="7266600" y="245880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8" name=""/>
                <p:cNvSpPr/>
                <p:nvPr/>
              </p:nvSpPr>
              <p:spPr>
                <a:xfrm rot="5650200">
                  <a:off x="6981840" y="245520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9" name=""/>
                <p:cNvSpPr/>
                <p:nvPr/>
              </p:nvSpPr>
              <p:spPr>
                <a:xfrm flipV="1">
                  <a:off x="7360200" y="245304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0" name=""/>
                <p:cNvSpPr/>
                <p:nvPr/>
              </p:nvSpPr>
              <p:spPr>
                <a:xfrm flipV="1">
                  <a:off x="7140240" y="271872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1" name=""/>
                <p:cNvSpPr/>
                <p:nvPr/>
              </p:nvSpPr>
              <p:spPr>
                <a:xfrm flipH="1" flipV="1">
                  <a:off x="7241760" y="252504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2" name=""/>
                <p:cNvSpPr/>
                <p:nvPr/>
              </p:nvSpPr>
              <p:spPr>
                <a:xfrm flipV="1">
                  <a:off x="7293240" y="257652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3" name=""/>
                <p:cNvSpPr/>
                <p:nvPr/>
              </p:nvSpPr>
              <p:spPr>
                <a:xfrm flipV="1">
                  <a:off x="7423200" y="240552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4" name=""/>
                <p:cNvSpPr/>
                <p:nvPr/>
              </p:nvSpPr>
              <p:spPr>
                <a:xfrm>
                  <a:off x="7401960" y="251352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5" name=""/>
                <p:cNvSpPr/>
                <p:nvPr/>
              </p:nvSpPr>
              <p:spPr>
                <a:xfrm flipH="1" flipV="1">
                  <a:off x="7355520" y="232704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6" name=""/>
                <p:cNvSpPr/>
                <p:nvPr/>
              </p:nvSpPr>
              <p:spPr>
                <a:xfrm flipV="1">
                  <a:off x="7263360" y="262656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7" name=""/>
                <p:cNvSpPr/>
                <p:nvPr/>
              </p:nvSpPr>
              <p:spPr>
                <a:xfrm flipV="1">
                  <a:off x="7329600" y="267192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8" name=""/>
                <p:cNvSpPr/>
                <p:nvPr/>
              </p:nvSpPr>
              <p:spPr>
                <a:xfrm>
                  <a:off x="7222680" y="279828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9" name=""/>
                <p:cNvSpPr/>
                <p:nvPr/>
              </p:nvSpPr>
              <p:spPr>
                <a:xfrm>
                  <a:off x="7345800" y="273888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0" name=""/>
                <p:cNvSpPr/>
                <p:nvPr/>
              </p:nvSpPr>
              <p:spPr>
                <a:xfrm flipH="1" flipV="1">
                  <a:off x="7212240" y="266040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1" name=""/>
                <p:cNvSpPr/>
                <p:nvPr/>
              </p:nvSpPr>
              <p:spPr>
                <a:xfrm flipH="1" flipV="1">
                  <a:off x="7349040" y="241884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2" name=""/>
                <p:cNvSpPr/>
                <p:nvPr/>
              </p:nvSpPr>
              <p:spPr>
                <a:xfrm flipV="1">
                  <a:off x="7413840" y="233460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13" name=""/>
                <p:cNvGrpSpPr/>
                <p:nvPr/>
              </p:nvGrpSpPr>
              <p:grpSpPr>
                <a:xfrm>
                  <a:off x="7473960" y="2382840"/>
                  <a:ext cx="166680" cy="158040"/>
                  <a:chOff x="7473960" y="2382840"/>
                  <a:chExt cx="166680" cy="158040"/>
                </a:xfrm>
              </p:grpSpPr>
              <p:sp>
                <p:nvSpPr>
                  <p:cNvPr id="8014" name=""/>
                  <p:cNvSpPr/>
                  <p:nvPr/>
                </p:nvSpPr>
                <p:spPr>
                  <a:xfrm rot="7395600">
                    <a:off x="7505640" y="23958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5" name=""/>
                  <p:cNvSpPr/>
                  <p:nvPr/>
                </p:nvSpPr>
                <p:spPr>
                  <a:xfrm flipV="1">
                    <a:off x="7484040" y="245664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6" name=""/>
                  <p:cNvSpPr/>
                  <p:nvPr/>
                </p:nvSpPr>
                <p:spPr>
                  <a:xfrm>
                    <a:off x="7520040" y="24703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7" name=""/>
                  <p:cNvSpPr/>
                  <p:nvPr/>
                </p:nvSpPr>
                <p:spPr>
                  <a:xfrm flipV="1">
                    <a:off x="7540920" y="244584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8" name=""/>
                  <p:cNvSpPr/>
                  <p:nvPr/>
                </p:nvSpPr>
                <p:spPr>
                  <a:xfrm>
                    <a:off x="7559280" y="246348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9" name=""/>
                <p:cNvGrpSpPr/>
                <p:nvPr/>
              </p:nvGrpSpPr>
              <p:grpSpPr>
                <a:xfrm>
                  <a:off x="7275600" y="2446560"/>
                  <a:ext cx="158760" cy="140760"/>
                  <a:chOff x="7275600" y="2446560"/>
                  <a:chExt cx="158760" cy="140760"/>
                </a:xfrm>
              </p:grpSpPr>
              <p:sp>
                <p:nvSpPr>
                  <p:cNvPr id="8020" name=""/>
                  <p:cNvSpPr/>
                  <p:nvPr/>
                </p:nvSpPr>
                <p:spPr>
                  <a:xfrm rot="4237200">
                    <a:off x="7303320" y="24505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1" name=""/>
                  <p:cNvSpPr/>
                  <p:nvPr/>
                </p:nvSpPr>
                <p:spPr>
                  <a:xfrm flipV="1">
                    <a:off x="7318080" y="2491200"/>
                    <a:ext cx="49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2" name=""/>
                  <p:cNvSpPr/>
                  <p:nvPr/>
                </p:nvSpPr>
                <p:spPr>
                  <a:xfrm flipV="1">
                    <a:off x="7338960" y="253944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3" name=""/>
                  <p:cNvSpPr/>
                  <p:nvPr/>
                </p:nvSpPr>
                <p:spPr>
                  <a:xfrm flipH="1" flipV="1">
                    <a:off x="7341840" y="250740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4" name=""/>
                  <p:cNvSpPr/>
                  <p:nvPr/>
                </p:nvSpPr>
                <p:spPr>
                  <a:xfrm flipV="1">
                    <a:off x="7357680" y="250596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5" name=""/>
                <p:cNvGrpSpPr/>
                <p:nvPr/>
              </p:nvGrpSpPr>
              <p:grpSpPr>
                <a:xfrm>
                  <a:off x="7358760" y="2534400"/>
                  <a:ext cx="139320" cy="111960"/>
                  <a:chOff x="7358760" y="2534400"/>
                  <a:chExt cx="139320" cy="111960"/>
                </a:xfrm>
              </p:grpSpPr>
              <p:sp>
                <p:nvSpPr>
                  <p:cNvPr id="8026" name=""/>
                  <p:cNvSpPr/>
                  <p:nvPr/>
                </p:nvSpPr>
                <p:spPr>
                  <a:xfrm rot="5650200">
                    <a:off x="7377120" y="2524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7" name=""/>
                  <p:cNvSpPr/>
                  <p:nvPr/>
                </p:nvSpPr>
                <p:spPr>
                  <a:xfrm flipV="1">
                    <a:off x="7369200" y="257256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8" name=""/>
                  <p:cNvSpPr/>
                  <p:nvPr/>
                </p:nvSpPr>
                <p:spPr>
                  <a:xfrm flipV="1">
                    <a:off x="7400160" y="261072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9" name=""/>
                  <p:cNvSpPr/>
                  <p:nvPr/>
                </p:nvSpPr>
                <p:spPr>
                  <a:xfrm flipV="1">
                    <a:off x="7413120" y="257688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0" name=""/>
                  <p:cNvSpPr/>
                  <p:nvPr/>
                </p:nvSpPr>
                <p:spPr>
                  <a:xfrm flipV="1">
                    <a:off x="7431120" y="258516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1" name=""/>
                <p:cNvGrpSpPr/>
                <p:nvPr/>
              </p:nvGrpSpPr>
              <p:grpSpPr>
                <a:xfrm>
                  <a:off x="7178760" y="2315880"/>
                  <a:ext cx="96840" cy="156600"/>
                  <a:chOff x="7178760" y="2315880"/>
                  <a:chExt cx="96840" cy="156600"/>
                </a:xfrm>
              </p:grpSpPr>
              <p:sp>
                <p:nvSpPr>
                  <p:cNvPr id="8032" name=""/>
                  <p:cNvSpPr/>
                  <p:nvPr/>
                </p:nvSpPr>
                <p:spPr>
                  <a:xfrm rot="21420000">
                    <a:off x="7182360" y="23180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3" name=""/>
                  <p:cNvSpPr/>
                  <p:nvPr/>
                </p:nvSpPr>
                <p:spPr>
                  <a:xfrm flipH="1" flipV="1">
                    <a:off x="7208280" y="237168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4" name=""/>
                  <p:cNvSpPr/>
                  <p:nvPr/>
                </p:nvSpPr>
                <p:spPr>
                  <a:xfrm flipH="1" flipV="1">
                    <a:off x="7245720" y="240372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5" name=""/>
                  <p:cNvSpPr/>
                  <p:nvPr/>
                </p:nvSpPr>
                <p:spPr>
                  <a:xfrm flipH="1" flipV="1">
                    <a:off x="7215840" y="24051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6" name=""/>
                  <p:cNvSpPr/>
                  <p:nvPr/>
                </p:nvSpPr>
                <p:spPr>
                  <a:xfrm flipH="1" flipV="1">
                    <a:off x="7220880" y="237780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37" name=""/>
                <p:cNvGrpSpPr/>
                <p:nvPr/>
              </p:nvGrpSpPr>
              <p:grpSpPr>
                <a:xfrm>
                  <a:off x="7439760" y="2242440"/>
                  <a:ext cx="139320" cy="111960"/>
                  <a:chOff x="7439760" y="2242440"/>
                  <a:chExt cx="139320" cy="111960"/>
                </a:xfrm>
              </p:grpSpPr>
              <p:sp>
                <p:nvSpPr>
                  <p:cNvPr id="8038" name=""/>
                  <p:cNvSpPr/>
                  <p:nvPr/>
                </p:nvSpPr>
                <p:spPr>
                  <a:xfrm rot="5650200">
                    <a:off x="7458120" y="2232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9" name=""/>
                  <p:cNvSpPr/>
                  <p:nvPr/>
                </p:nvSpPr>
                <p:spPr>
                  <a:xfrm flipV="1">
                    <a:off x="7450200" y="228060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0" name=""/>
                  <p:cNvSpPr/>
                  <p:nvPr/>
                </p:nvSpPr>
                <p:spPr>
                  <a:xfrm flipV="1">
                    <a:off x="7480800" y="231912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1" name=""/>
                  <p:cNvSpPr/>
                  <p:nvPr/>
                </p:nvSpPr>
                <p:spPr>
                  <a:xfrm flipV="1">
                    <a:off x="7493760" y="228492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2" name=""/>
                  <p:cNvSpPr/>
                  <p:nvPr/>
                </p:nvSpPr>
                <p:spPr>
                  <a:xfrm flipV="1">
                    <a:off x="7512120" y="229356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3" name=""/>
                <p:cNvGrpSpPr/>
                <p:nvPr/>
              </p:nvGrpSpPr>
              <p:grpSpPr>
                <a:xfrm>
                  <a:off x="7372440" y="2626920"/>
                  <a:ext cx="139320" cy="111960"/>
                  <a:chOff x="7372440" y="2626920"/>
                  <a:chExt cx="139320" cy="111960"/>
                </a:xfrm>
              </p:grpSpPr>
              <p:sp>
                <p:nvSpPr>
                  <p:cNvPr id="8044" name=""/>
                  <p:cNvSpPr/>
                  <p:nvPr/>
                </p:nvSpPr>
                <p:spPr>
                  <a:xfrm rot="5650200">
                    <a:off x="7390800" y="2616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5" name=""/>
                  <p:cNvSpPr/>
                  <p:nvPr/>
                </p:nvSpPr>
                <p:spPr>
                  <a:xfrm flipV="1">
                    <a:off x="7382520" y="266472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6" name=""/>
                  <p:cNvSpPr/>
                  <p:nvPr/>
                </p:nvSpPr>
                <p:spPr>
                  <a:xfrm flipV="1">
                    <a:off x="7413480" y="270324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7" name=""/>
                  <p:cNvSpPr/>
                  <p:nvPr/>
                </p:nvSpPr>
                <p:spPr>
                  <a:xfrm flipV="1">
                    <a:off x="7426440" y="26690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8" name=""/>
                  <p:cNvSpPr/>
                  <p:nvPr/>
                </p:nvSpPr>
                <p:spPr>
                  <a:xfrm flipV="1">
                    <a:off x="7444800" y="267768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9" name=""/>
                <p:cNvGrpSpPr/>
                <p:nvPr/>
              </p:nvGrpSpPr>
              <p:grpSpPr>
                <a:xfrm>
                  <a:off x="7474680" y="2313720"/>
                  <a:ext cx="139320" cy="111960"/>
                  <a:chOff x="7474680" y="2313720"/>
                  <a:chExt cx="139320" cy="111960"/>
                </a:xfrm>
              </p:grpSpPr>
              <p:sp>
                <p:nvSpPr>
                  <p:cNvPr id="8050" name=""/>
                  <p:cNvSpPr/>
                  <p:nvPr/>
                </p:nvSpPr>
                <p:spPr>
                  <a:xfrm rot="5650200">
                    <a:off x="7493040" y="23036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1" name=""/>
                  <p:cNvSpPr/>
                  <p:nvPr/>
                </p:nvSpPr>
                <p:spPr>
                  <a:xfrm flipV="1">
                    <a:off x="7484760" y="235152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2" name=""/>
                  <p:cNvSpPr/>
                  <p:nvPr/>
                </p:nvSpPr>
                <p:spPr>
                  <a:xfrm flipV="1">
                    <a:off x="7515720" y="239004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3" name=""/>
                  <p:cNvSpPr/>
                  <p:nvPr/>
                </p:nvSpPr>
                <p:spPr>
                  <a:xfrm flipV="1">
                    <a:off x="7528680" y="23558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4" name=""/>
                  <p:cNvSpPr/>
                  <p:nvPr/>
                </p:nvSpPr>
                <p:spPr>
                  <a:xfrm flipV="1">
                    <a:off x="7547040" y="236448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5" name=""/>
                <p:cNvGrpSpPr/>
                <p:nvPr/>
              </p:nvGrpSpPr>
              <p:grpSpPr>
                <a:xfrm>
                  <a:off x="7093080" y="2511000"/>
                  <a:ext cx="119880" cy="168120"/>
                  <a:chOff x="7093080" y="2511000"/>
                  <a:chExt cx="119880" cy="168120"/>
                </a:xfrm>
              </p:grpSpPr>
              <p:sp>
                <p:nvSpPr>
                  <p:cNvPr id="8056" name=""/>
                  <p:cNvSpPr/>
                  <p:nvPr/>
                </p:nvSpPr>
                <p:spPr>
                  <a:xfrm rot="20848800">
                    <a:off x="7108200" y="2518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7" name=""/>
                  <p:cNvSpPr/>
                  <p:nvPr/>
                </p:nvSpPr>
                <p:spPr>
                  <a:xfrm flipH="1" flipV="1">
                    <a:off x="7130520" y="2576160"/>
                    <a:ext cx="7668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8" name=""/>
                  <p:cNvSpPr/>
                  <p:nvPr/>
                </p:nvSpPr>
                <p:spPr>
                  <a:xfrm flipH="1" flipV="1">
                    <a:off x="7173000" y="260172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9" name=""/>
                  <p:cNvSpPr/>
                  <p:nvPr/>
                </p:nvSpPr>
                <p:spPr>
                  <a:xfrm flipH="1" flipV="1">
                    <a:off x="7143480" y="2607840"/>
                    <a:ext cx="18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0" name=""/>
                  <p:cNvSpPr/>
                  <p:nvPr/>
                </p:nvSpPr>
                <p:spPr>
                  <a:xfrm flipH="1" flipV="1">
                    <a:off x="7144200" y="2580120"/>
                    <a:ext cx="82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1" name=""/>
                <p:cNvGrpSpPr/>
                <p:nvPr/>
              </p:nvGrpSpPr>
              <p:grpSpPr>
                <a:xfrm>
                  <a:off x="7107120" y="2394720"/>
                  <a:ext cx="147600" cy="175680"/>
                  <a:chOff x="7107120" y="2394720"/>
                  <a:chExt cx="147600" cy="175680"/>
                </a:xfrm>
              </p:grpSpPr>
              <p:sp>
                <p:nvSpPr>
                  <p:cNvPr id="8062" name=""/>
                  <p:cNvSpPr/>
                  <p:nvPr/>
                </p:nvSpPr>
                <p:spPr>
                  <a:xfrm rot="20009400">
                    <a:off x="7136280" y="24062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3" name=""/>
                  <p:cNvSpPr/>
                  <p:nvPr/>
                </p:nvSpPr>
                <p:spPr>
                  <a:xfrm flipH="1" flipV="1">
                    <a:off x="7154640" y="2469600"/>
                    <a:ext cx="9180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4" name=""/>
                  <p:cNvSpPr/>
                  <p:nvPr/>
                </p:nvSpPr>
                <p:spPr>
                  <a:xfrm flipH="1" flipV="1">
                    <a:off x="7201800" y="248436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5" name=""/>
                  <p:cNvSpPr/>
                  <p:nvPr/>
                </p:nvSpPr>
                <p:spPr>
                  <a:xfrm flipH="1">
                    <a:off x="7175160" y="24955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6" name=""/>
                  <p:cNvSpPr/>
                  <p:nvPr/>
                </p:nvSpPr>
                <p:spPr>
                  <a:xfrm flipH="1" flipV="1">
                    <a:off x="7168680" y="247032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67" name=""/>
                <p:cNvGrpSpPr/>
                <p:nvPr/>
              </p:nvGrpSpPr>
              <p:grpSpPr>
                <a:xfrm>
                  <a:off x="7331400" y="2168640"/>
                  <a:ext cx="91440" cy="153720"/>
                  <a:chOff x="7331400" y="2168640"/>
                  <a:chExt cx="91440" cy="153720"/>
                </a:xfrm>
              </p:grpSpPr>
              <p:sp>
                <p:nvSpPr>
                  <p:cNvPr id="8068" name=""/>
                  <p:cNvSpPr/>
                  <p:nvPr/>
                </p:nvSpPr>
                <p:spPr>
                  <a:xfrm rot="60600">
                    <a:off x="7332480" y="2169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9" name=""/>
                  <p:cNvSpPr/>
                  <p:nvPr/>
                </p:nvSpPr>
                <p:spPr>
                  <a:xfrm flipH="1" flipV="1">
                    <a:off x="7359840" y="2221920"/>
                    <a:ext cx="568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0" name=""/>
                  <p:cNvSpPr/>
                  <p:nvPr/>
                </p:nvSpPr>
                <p:spPr>
                  <a:xfrm flipH="1" flipV="1">
                    <a:off x="7394760" y="225648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1" name=""/>
                  <p:cNvSpPr/>
                  <p:nvPr/>
                </p:nvSpPr>
                <p:spPr>
                  <a:xfrm flipH="1" flipV="1">
                    <a:off x="7364880" y="225576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2" name=""/>
                  <p:cNvSpPr/>
                  <p:nvPr/>
                </p:nvSpPr>
                <p:spPr>
                  <a:xfrm flipH="1" flipV="1">
                    <a:off x="7371720" y="222876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3" name=""/>
                <p:cNvGrpSpPr/>
                <p:nvPr/>
              </p:nvGrpSpPr>
              <p:grpSpPr>
                <a:xfrm>
                  <a:off x="7230600" y="2175840"/>
                  <a:ext cx="131040" cy="172440"/>
                  <a:chOff x="7230600" y="2175840"/>
                  <a:chExt cx="131040" cy="172440"/>
                </a:xfrm>
              </p:grpSpPr>
              <p:sp>
                <p:nvSpPr>
                  <p:cNvPr id="8074" name=""/>
                  <p:cNvSpPr/>
                  <p:nvPr/>
                </p:nvSpPr>
                <p:spPr>
                  <a:xfrm rot="20532600">
                    <a:off x="7251480" y="2185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5" name=""/>
                  <p:cNvSpPr/>
                  <p:nvPr/>
                </p:nvSpPr>
                <p:spPr>
                  <a:xfrm flipH="1" flipV="1">
                    <a:off x="7272360" y="224496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6" name=""/>
                  <p:cNvSpPr/>
                  <p:nvPr/>
                </p:nvSpPr>
                <p:spPr>
                  <a:xfrm flipH="1" flipV="1">
                    <a:off x="7316640" y="226656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7" name=""/>
                  <p:cNvSpPr/>
                  <p:nvPr/>
                </p:nvSpPr>
                <p:spPr>
                  <a:xfrm flipH="1" flipV="1">
                    <a:off x="7288200" y="227556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8" name=""/>
                  <p:cNvSpPr/>
                  <p:nvPr/>
                </p:nvSpPr>
                <p:spPr>
                  <a:xfrm flipH="1" flipV="1">
                    <a:off x="7286040" y="224784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9" name=""/>
                <p:cNvGrpSpPr/>
                <p:nvPr/>
              </p:nvGrpSpPr>
              <p:grpSpPr>
                <a:xfrm>
                  <a:off x="7251840" y="2295360"/>
                  <a:ext cx="111960" cy="164520"/>
                  <a:chOff x="7251840" y="2295360"/>
                  <a:chExt cx="111960" cy="164520"/>
                </a:xfrm>
              </p:grpSpPr>
              <p:sp>
                <p:nvSpPr>
                  <p:cNvPr id="8080" name=""/>
                  <p:cNvSpPr/>
                  <p:nvPr/>
                </p:nvSpPr>
                <p:spPr>
                  <a:xfrm rot="21052200">
                    <a:off x="7263360" y="23011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1" name=""/>
                  <p:cNvSpPr/>
                  <p:nvPr/>
                </p:nvSpPr>
                <p:spPr>
                  <a:xfrm flipH="1" flipV="1">
                    <a:off x="7286760" y="2356920"/>
                    <a:ext cx="7200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2" name=""/>
                  <p:cNvSpPr/>
                  <p:nvPr/>
                </p:nvSpPr>
                <p:spPr>
                  <a:xfrm flipH="1" flipV="1">
                    <a:off x="7327440" y="23850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3" name=""/>
                  <p:cNvSpPr/>
                  <p:nvPr/>
                </p:nvSpPr>
                <p:spPr>
                  <a:xfrm flipH="1" flipV="1">
                    <a:off x="7297560" y="238932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4" name=""/>
                  <p:cNvSpPr/>
                  <p:nvPr/>
                </p:nvSpPr>
                <p:spPr>
                  <a:xfrm flipH="1" flipV="1">
                    <a:off x="7299720" y="236160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85" name=""/>
                <p:cNvGrpSpPr/>
                <p:nvPr/>
              </p:nvGrpSpPr>
              <p:grpSpPr>
                <a:xfrm>
                  <a:off x="7383960" y="2256120"/>
                  <a:ext cx="130320" cy="171720"/>
                  <a:chOff x="7383960" y="2256120"/>
                  <a:chExt cx="130320" cy="171720"/>
                </a:xfrm>
              </p:grpSpPr>
              <p:sp>
                <p:nvSpPr>
                  <p:cNvPr id="8086" name=""/>
                  <p:cNvSpPr/>
                  <p:nvPr/>
                </p:nvSpPr>
                <p:spPr>
                  <a:xfrm rot="1035600">
                    <a:off x="7404480" y="22658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7" name=""/>
                  <p:cNvSpPr/>
                  <p:nvPr/>
                </p:nvSpPr>
                <p:spPr>
                  <a:xfrm flipH="1" flipV="1">
                    <a:off x="7439400" y="2314080"/>
                    <a:ext cx="29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8" name=""/>
                  <p:cNvSpPr/>
                  <p:nvPr/>
                </p:nvSpPr>
                <p:spPr>
                  <a:xfrm flipV="1">
                    <a:off x="7462800" y="2357280"/>
                    <a:ext cx="36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9" name=""/>
                  <p:cNvSpPr/>
                  <p:nvPr/>
                </p:nvSpPr>
                <p:spPr>
                  <a:xfrm flipH="1" flipV="1">
                    <a:off x="7435080" y="234828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0" name=""/>
                  <p:cNvSpPr/>
                  <p:nvPr/>
                </p:nvSpPr>
                <p:spPr>
                  <a:xfrm flipH="1" flipV="1">
                    <a:off x="7449120" y="232452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1" name=""/>
                <p:cNvGrpSpPr/>
                <p:nvPr/>
              </p:nvGrpSpPr>
              <p:grpSpPr>
                <a:xfrm>
                  <a:off x="7305840" y="2506680"/>
                  <a:ext cx="167400" cy="162720"/>
                  <a:chOff x="7305840" y="2506680"/>
                  <a:chExt cx="167400" cy="162720"/>
                </a:xfrm>
              </p:grpSpPr>
              <p:sp>
                <p:nvSpPr>
                  <p:cNvPr id="8092" name=""/>
                  <p:cNvSpPr/>
                  <p:nvPr/>
                </p:nvSpPr>
                <p:spPr>
                  <a:xfrm rot="3086400">
                    <a:off x="7337880" y="25218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3" name=""/>
                  <p:cNvSpPr/>
                  <p:nvPr/>
                </p:nvSpPr>
                <p:spPr>
                  <a:xfrm flipV="1">
                    <a:off x="7375680" y="255960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4" name=""/>
                  <p:cNvSpPr/>
                  <p:nvPr/>
                </p:nvSpPr>
                <p:spPr>
                  <a:xfrm flipV="1">
                    <a:off x="7386120" y="260964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5" name=""/>
                  <p:cNvSpPr/>
                  <p:nvPr/>
                </p:nvSpPr>
                <p:spPr>
                  <a:xfrm flipH="1" flipV="1">
                    <a:off x="7374240" y="258336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6" name=""/>
                  <p:cNvSpPr/>
                  <p:nvPr/>
                </p:nvSpPr>
                <p:spPr>
                  <a:xfrm flipV="1">
                    <a:off x="7391880" y="257400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7" name=""/>
                <p:cNvGrpSpPr/>
                <p:nvPr/>
              </p:nvGrpSpPr>
              <p:grpSpPr>
                <a:xfrm>
                  <a:off x="7391880" y="2714760"/>
                  <a:ext cx="126000" cy="170280"/>
                  <a:chOff x="7391880" y="2714760"/>
                  <a:chExt cx="126000" cy="170280"/>
                </a:xfrm>
              </p:grpSpPr>
              <p:sp>
                <p:nvSpPr>
                  <p:cNvPr id="8098" name=""/>
                  <p:cNvSpPr/>
                  <p:nvPr/>
                </p:nvSpPr>
                <p:spPr>
                  <a:xfrm rot="9883800">
                    <a:off x="7410240" y="2723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9" name=""/>
                  <p:cNvSpPr/>
                  <p:nvPr/>
                </p:nvSpPr>
                <p:spPr>
                  <a:xfrm>
                    <a:off x="7398360" y="274860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0" name=""/>
                  <p:cNvSpPr/>
                  <p:nvPr/>
                </p:nvSpPr>
                <p:spPr>
                  <a:xfrm>
                    <a:off x="7423920" y="277668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1" name=""/>
                  <p:cNvSpPr/>
                  <p:nvPr/>
                </p:nvSpPr>
                <p:spPr>
                  <a:xfrm>
                    <a:off x="7444800" y="27853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2" name=""/>
                  <p:cNvSpPr/>
                  <p:nvPr/>
                </p:nvSpPr>
                <p:spPr>
                  <a:xfrm>
                    <a:off x="7455600" y="2803680"/>
                    <a:ext cx="9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3" name=""/>
                <p:cNvGrpSpPr/>
                <p:nvPr/>
              </p:nvGrpSpPr>
              <p:grpSpPr>
                <a:xfrm>
                  <a:off x="7288920" y="2799000"/>
                  <a:ext cx="121680" cy="168840"/>
                  <a:chOff x="7288920" y="2799000"/>
                  <a:chExt cx="121680" cy="168840"/>
                </a:xfrm>
              </p:grpSpPr>
              <p:sp>
                <p:nvSpPr>
                  <p:cNvPr id="8104" name=""/>
                  <p:cNvSpPr/>
                  <p:nvPr/>
                </p:nvSpPr>
                <p:spPr>
                  <a:xfrm rot="10003800">
                    <a:off x="7305120" y="28072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5" name=""/>
                  <p:cNvSpPr/>
                  <p:nvPr/>
                </p:nvSpPr>
                <p:spPr>
                  <a:xfrm>
                    <a:off x="7294680" y="283032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6" name=""/>
                  <p:cNvSpPr/>
                  <p:nvPr/>
                </p:nvSpPr>
                <p:spPr>
                  <a:xfrm>
                    <a:off x="7319160" y="285912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7" name=""/>
                  <p:cNvSpPr/>
                  <p:nvPr/>
                </p:nvSpPr>
                <p:spPr>
                  <a:xfrm>
                    <a:off x="7340040" y="28684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8" name=""/>
                  <p:cNvSpPr/>
                  <p:nvPr/>
                </p:nvSpPr>
                <p:spPr>
                  <a:xfrm>
                    <a:off x="7350120" y="288720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9" name=""/>
                <p:cNvGrpSpPr/>
                <p:nvPr/>
              </p:nvGrpSpPr>
              <p:grpSpPr>
                <a:xfrm>
                  <a:off x="7167960" y="2499840"/>
                  <a:ext cx="165960" cy="155520"/>
                  <a:chOff x="7167960" y="2499840"/>
                  <a:chExt cx="165960" cy="155520"/>
                </a:xfrm>
              </p:grpSpPr>
              <p:sp>
                <p:nvSpPr>
                  <p:cNvPr id="8110" name=""/>
                  <p:cNvSpPr/>
                  <p:nvPr/>
                </p:nvSpPr>
                <p:spPr>
                  <a:xfrm rot="3576600">
                    <a:off x="7199640" y="2511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1" name=""/>
                  <p:cNvSpPr/>
                  <p:nvPr/>
                </p:nvSpPr>
                <p:spPr>
                  <a:xfrm flipV="1">
                    <a:off x="7227360" y="255060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2" name=""/>
                  <p:cNvSpPr/>
                  <p:nvPr/>
                </p:nvSpPr>
                <p:spPr>
                  <a:xfrm flipV="1">
                    <a:off x="7242480" y="260028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3" name=""/>
                  <p:cNvSpPr/>
                  <p:nvPr/>
                </p:nvSpPr>
                <p:spPr>
                  <a:xfrm flipH="1" flipV="1">
                    <a:off x="7236720" y="2571120"/>
                    <a:ext cx="50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4" name=""/>
                  <p:cNvSpPr/>
                  <p:nvPr/>
                </p:nvSpPr>
                <p:spPr>
                  <a:xfrm flipV="1">
                    <a:off x="7253640" y="256500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5" name=""/>
                <p:cNvGrpSpPr/>
                <p:nvPr/>
              </p:nvGrpSpPr>
              <p:grpSpPr>
                <a:xfrm>
                  <a:off x="7199640" y="2315160"/>
                  <a:ext cx="173160" cy="167040"/>
                  <a:chOff x="7199640" y="2315160"/>
                  <a:chExt cx="173160" cy="167040"/>
                </a:xfrm>
              </p:grpSpPr>
              <p:sp>
                <p:nvSpPr>
                  <p:cNvPr id="8116" name=""/>
                  <p:cNvSpPr/>
                  <p:nvPr/>
                </p:nvSpPr>
                <p:spPr>
                  <a:xfrm rot="2940600">
                    <a:off x="7241400" y="2322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7" name=""/>
                  <p:cNvSpPr/>
                  <p:nvPr/>
                </p:nvSpPr>
                <p:spPr>
                  <a:xfrm flipV="1">
                    <a:off x="7264440" y="2369880"/>
                    <a:ext cx="2808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8" name=""/>
                  <p:cNvSpPr/>
                  <p:nvPr/>
                </p:nvSpPr>
                <p:spPr>
                  <a:xfrm flipV="1">
                    <a:off x="7278480" y="241920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9" name=""/>
                  <p:cNvSpPr/>
                  <p:nvPr/>
                </p:nvSpPr>
                <p:spPr>
                  <a:xfrm flipH="1" flipV="1">
                    <a:off x="7270560" y="239652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0" name=""/>
                  <p:cNvSpPr/>
                  <p:nvPr/>
                </p:nvSpPr>
                <p:spPr>
                  <a:xfrm flipV="1">
                    <a:off x="7288920" y="238356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1" name=""/>
                <p:cNvGrpSpPr/>
                <p:nvPr/>
              </p:nvGrpSpPr>
              <p:grpSpPr>
                <a:xfrm>
                  <a:off x="7290720" y="2161080"/>
                  <a:ext cx="171720" cy="169560"/>
                  <a:chOff x="7290720" y="2161080"/>
                  <a:chExt cx="171720" cy="169560"/>
                </a:xfrm>
              </p:grpSpPr>
              <p:sp>
                <p:nvSpPr>
                  <p:cNvPr id="8122" name=""/>
                  <p:cNvSpPr/>
                  <p:nvPr/>
                </p:nvSpPr>
                <p:spPr>
                  <a:xfrm rot="2781000">
                    <a:off x="7331760" y="2169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3" name=""/>
                  <p:cNvSpPr/>
                  <p:nvPr/>
                </p:nvSpPr>
                <p:spPr>
                  <a:xfrm flipV="1">
                    <a:off x="7358400" y="2216880"/>
                    <a:ext cx="2304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4" name=""/>
                  <p:cNvSpPr/>
                  <p:nvPr/>
                </p:nvSpPr>
                <p:spPr>
                  <a:xfrm flipV="1">
                    <a:off x="7371000" y="22662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5" name=""/>
                  <p:cNvSpPr/>
                  <p:nvPr/>
                </p:nvSpPr>
                <p:spPr>
                  <a:xfrm flipH="1" flipV="1">
                    <a:off x="7360920" y="2244240"/>
                    <a:ext cx="75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6" name=""/>
                  <p:cNvSpPr/>
                  <p:nvPr/>
                </p:nvSpPr>
                <p:spPr>
                  <a:xfrm flipV="1">
                    <a:off x="7379280" y="223020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7" name=""/>
                <p:cNvGrpSpPr/>
                <p:nvPr/>
              </p:nvGrpSpPr>
              <p:grpSpPr>
                <a:xfrm>
                  <a:off x="7372080" y="2147400"/>
                  <a:ext cx="166320" cy="157680"/>
                  <a:chOff x="7372080" y="2147400"/>
                  <a:chExt cx="166320" cy="157680"/>
                </a:xfrm>
              </p:grpSpPr>
              <p:sp>
                <p:nvSpPr>
                  <p:cNvPr id="8128" name=""/>
                  <p:cNvSpPr/>
                  <p:nvPr/>
                </p:nvSpPr>
                <p:spPr>
                  <a:xfrm rot="3412800">
                    <a:off x="7403760" y="2160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9" name=""/>
                  <p:cNvSpPr/>
                  <p:nvPr/>
                </p:nvSpPr>
                <p:spPr>
                  <a:xfrm flipV="1">
                    <a:off x="7434000" y="219852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0" name=""/>
                  <p:cNvSpPr/>
                  <p:nvPr/>
                </p:nvSpPr>
                <p:spPr>
                  <a:xfrm flipV="1">
                    <a:off x="7448040" y="224856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1" name=""/>
                  <p:cNvSpPr/>
                  <p:nvPr/>
                </p:nvSpPr>
                <p:spPr>
                  <a:xfrm flipH="1" flipV="1">
                    <a:off x="7440480" y="2220480"/>
                    <a:ext cx="612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2" name=""/>
                  <p:cNvSpPr/>
                  <p:nvPr/>
                </p:nvSpPr>
                <p:spPr>
                  <a:xfrm flipV="1">
                    <a:off x="7457400" y="2213640"/>
                    <a:ext cx="6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33" name=""/>
              <p:cNvGrpSpPr/>
              <p:nvPr/>
            </p:nvGrpSpPr>
            <p:grpSpPr>
              <a:xfrm>
                <a:off x="7148520" y="4054320"/>
                <a:ext cx="569520" cy="808920"/>
                <a:chOff x="7148520" y="4054320"/>
                <a:chExt cx="569520" cy="808920"/>
              </a:xfrm>
            </p:grpSpPr>
            <p:grpSp>
              <p:nvGrpSpPr>
                <p:cNvPr id="8134" name=""/>
                <p:cNvGrpSpPr/>
                <p:nvPr/>
              </p:nvGrpSpPr>
              <p:grpSpPr>
                <a:xfrm>
                  <a:off x="7483680" y="4351320"/>
                  <a:ext cx="172440" cy="168120"/>
                  <a:chOff x="7483680" y="4351320"/>
                  <a:chExt cx="172440" cy="168120"/>
                </a:xfrm>
              </p:grpSpPr>
              <p:sp>
                <p:nvSpPr>
                  <p:cNvPr id="8135" name=""/>
                  <p:cNvSpPr/>
                  <p:nvPr/>
                </p:nvSpPr>
                <p:spPr>
                  <a:xfrm rot="7935000">
                    <a:off x="7525080" y="4358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6" name=""/>
                  <p:cNvSpPr/>
                  <p:nvPr/>
                </p:nvSpPr>
                <p:spPr>
                  <a:xfrm>
                    <a:off x="7494480" y="4422600"/>
                    <a:ext cx="104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7" name=""/>
                  <p:cNvSpPr/>
                  <p:nvPr/>
                </p:nvSpPr>
                <p:spPr>
                  <a:xfrm>
                    <a:off x="7531200" y="4432320"/>
                    <a:ext cx="1872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8" name=""/>
                  <p:cNvSpPr/>
                  <p:nvPr/>
                </p:nvSpPr>
                <p:spPr>
                  <a:xfrm flipV="1">
                    <a:off x="7553160" y="4420080"/>
                    <a:ext cx="17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9" name=""/>
                  <p:cNvSpPr/>
                  <p:nvPr/>
                </p:nvSpPr>
                <p:spPr>
                  <a:xfrm>
                    <a:off x="7572240" y="4438080"/>
                    <a:ext cx="136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40" name=""/>
                <p:cNvSpPr/>
                <p:nvPr/>
              </p:nvSpPr>
              <p:spPr>
                <a:xfrm flipH="1" flipV="1">
                  <a:off x="7317360" y="4428360"/>
                  <a:ext cx="119880" cy="19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1" name=""/>
                <p:cNvSpPr/>
                <p:nvPr/>
              </p:nvSpPr>
              <p:spPr>
                <a:xfrm rot="4120200">
                  <a:off x="7086960" y="4412160"/>
                  <a:ext cx="57024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2" name=""/>
                <p:cNvSpPr/>
                <p:nvPr/>
              </p:nvSpPr>
              <p:spPr>
                <a:xfrm flipV="1">
                  <a:off x="7434360" y="4320720"/>
                  <a:ext cx="95760" cy="13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3" name=""/>
                <p:cNvSpPr/>
                <p:nvPr/>
              </p:nvSpPr>
              <p:spPr>
                <a:xfrm flipV="1">
                  <a:off x="7367040" y="4611240"/>
                  <a:ext cx="171000" cy="21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4" name=""/>
                <p:cNvSpPr/>
                <p:nvPr/>
              </p:nvSpPr>
              <p:spPr>
                <a:xfrm flipH="1" flipV="1">
                  <a:off x="7323840" y="4498920"/>
                  <a:ext cx="52920" cy="2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5" name=""/>
                <p:cNvSpPr/>
                <p:nvPr/>
              </p:nvSpPr>
              <p:spPr>
                <a:xfrm flipH="1" flipV="1">
                  <a:off x="7414560" y="4512600"/>
                  <a:ext cx="6480" cy="70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6" name=""/>
                <p:cNvSpPr/>
                <p:nvPr/>
              </p:nvSpPr>
              <p:spPr>
                <a:xfrm flipV="1">
                  <a:off x="7473240" y="4284720"/>
                  <a:ext cx="21960" cy="10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7" name=""/>
                <p:cNvSpPr/>
                <p:nvPr/>
              </p:nvSpPr>
              <p:spPr>
                <a:xfrm>
                  <a:off x="7463160" y="4419720"/>
                  <a:ext cx="63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8" name=""/>
                <p:cNvSpPr/>
                <p:nvPr/>
              </p:nvSpPr>
              <p:spPr>
                <a:xfrm flipH="1" flipV="1">
                  <a:off x="7341120" y="4271040"/>
                  <a:ext cx="61560" cy="48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9" name=""/>
                <p:cNvSpPr/>
                <p:nvPr/>
              </p:nvSpPr>
              <p:spPr>
                <a:xfrm flipV="1">
                  <a:off x="7452360" y="4533480"/>
                  <a:ext cx="34200" cy="18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0" name=""/>
                <p:cNvSpPr/>
                <p:nvPr/>
              </p:nvSpPr>
              <p:spPr>
                <a:xfrm flipV="1">
                  <a:off x="7474680" y="4575960"/>
                  <a:ext cx="2844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1" name=""/>
                <p:cNvSpPr/>
                <p:nvPr/>
              </p:nvSpPr>
              <p:spPr>
                <a:xfrm flipV="1">
                  <a:off x="7423920" y="4746240"/>
                  <a:ext cx="8172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2" name=""/>
                <p:cNvSpPr/>
                <p:nvPr/>
              </p:nvSpPr>
              <p:spPr>
                <a:xfrm flipV="1">
                  <a:off x="7509600" y="4625640"/>
                  <a:ext cx="5508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3" name=""/>
                <p:cNvSpPr/>
                <p:nvPr/>
              </p:nvSpPr>
              <p:spPr>
                <a:xfrm flipH="1" flipV="1">
                  <a:off x="7355160" y="4633920"/>
                  <a:ext cx="51480" cy="77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4" name=""/>
                <p:cNvSpPr/>
                <p:nvPr/>
              </p:nvSpPr>
              <p:spPr>
                <a:xfrm flipH="1" flipV="1">
                  <a:off x="7374960" y="4356720"/>
                  <a:ext cx="428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5" name=""/>
                <p:cNvSpPr/>
                <p:nvPr/>
              </p:nvSpPr>
              <p:spPr>
                <a:xfrm flipV="1">
                  <a:off x="7405560" y="4235400"/>
                  <a:ext cx="28080" cy="3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156" name=""/>
                <p:cNvGrpSpPr/>
                <p:nvPr/>
              </p:nvGrpSpPr>
              <p:grpSpPr>
                <a:xfrm>
                  <a:off x="7508880" y="4246560"/>
                  <a:ext cx="144720" cy="119160"/>
                  <a:chOff x="7508880" y="4246560"/>
                  <a:chExt cx="144720" cy="119160"/>
                </a:xfrm>
              </p:grpSpPr>
              <p:sp>
                <p:nvSpPr>
                  <p:cNvPr id="8157" name=""/>
                  <p:cNvSpPr/>
                  <p:nvPr/>
                </p:nvSpPr>
                <p:spPr>
                  <a:xfrm rot="5865000">
                    <a:off x="7529760" y="42397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8" name=""/>
                  <p:cNvSpPr/>
                  <p:nvPr/>
                </p:nvSpPr>
                <p:spPr>
                  <a:xfrm flipV="1">
                    <a:off x="7519320" y="4289400"/>
                    <a:ext cx="84600" cy="56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9" name=""/>
                  <p:cNvSpPr/>
                  <p:nvPr/>
                </p:nvSpPr>
                <p:spPr>
                  <a:xfrm flipV="1">
                    <a:off x="7551360" y="432576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0" name=""/>
                  <p:cNvSpPr/>
                  <p:nvPr/>
                </p:nvSpPr>
                <p:spPr>
                  <a:xfrm flipV="1">
                    <a:off x="7565400" y="429192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1" name=""/>
                  <p:cNvSpPr/>
                  <p:nvPr/>
                </p:nvSpPr>
                <p:spPr>
                  <a:xfrm flipV="1">
                    <a:off x="7583760" y="4301640"/>
                    <a:ext cx="126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2" name=""/>
                <p:cNvGrpSpPr/>
                <p:nvPr/>
              </p:nvGrpSpPr>
              <p:grpSpPr>
                <a:xfrm>
                  <a:off x="7339320" y="4359600"/>
                  <a:ext cx="165960" cy="165960"/>
                  <a:chOff x="7339320" y="4359600"/>
                  <a:chExt cx="165960" cy="165960"/>
                </a:xfrm>
              </p:grpSpPr>
              <p:sp>
                <p:nvSpPr>
                  <p:cNvPr id="8163" name=""/>
                  <p:cNvSpPr/>
                  <p:nvPr/>
                </p:nvSpPr>
                <p:spPr>
                  <a:xfrm rot="2706600">
                    <a:off x="7371000" y="43761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4" name=""/>
                  <p:cNvSpPr/>
                  <p:nvPr/>
                </p:nvSpPr>
                <p:spPr>
                  <a:xfrm flipV="1">
                    <a:off x="7416360" y="4414320"/>
                    <a:ext cx="64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5" name=""/>
                  <p:cNvSpPr/>
                  <p:nvPr/>
                </p:nvSpPr>
                <p:spPr>
                  <a:xfrm flipV="1">
                    <a:off x="7422840" y="446364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6" name=""/>
                  <p:cNvSpPr/>
                  <p:nvPr/>
                </p:nvSpPr>
                <p:spPr>
                  <a:xfrm flipH="1" flipV="1">
                    <a:off x="7406280" y="443988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7" name=""/>
                  <p:cNvSpPr/>
                  <p:nvPr/>
                </p:nvSpPr>
                <p:spPr>
                  <a:xfrm flipV="1">
                    <a:off x="7424280" y="442800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8" name=""/>
                <p:cNvGrpSpPr/>
                <p:nvPr/>
              </p:nvGrpSpPr>
              <p:grpSpPr>
                <a:xfrm>
                  <a:off x="7440120" y="4405680"/>
                  <a:ext cx="160560" cy="143640"/>
                  <a:chOff x="7440120" y="4405680"/>
                  <a:chExt cx="160560" cy="143640"/>
                </a:xfrm>
              </p:grpSpPr>
              <p:sp>
                <p:nvSpPr>
                  <p:cNvPr id="8169" name=""/>
                  <p:cNvSpPr/>
                  <p:nvPr/>
                </p:nvSpPr>
                <p:spPr>
                  <a:xfrm rot="4120200">
                    <a:off x="7468920" y="44114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0" name=""/>
                  <p:cNvSpPr/>
                  <p:nvPr/>
                </p:nvSpPr>
                <p:spPr>
                  <a:xfrm flipV="1">
                    <a:off x="7485840" y="4451760"/>
                    <a:ext cx="4644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1" name=""/>
                  <p:cNvSpPr/>
                  <p:nvPr/>
                </p:nvSpPr>
                <p:spPr>
                  <a:xfrm flipV="1">
                    <a:off x="7505640" y="45003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2" name=""/>
                  <p:cNvSpPr/>
                  <p:nvPr/>
                </p:nvSpPr>
                <p:spPr>
                  <a:xfrm flipH="1" flipV="1">
                    <a:off x="7507080" y="446868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3" name=""/>
                  <p:cNvSpPr/>
                  <p:nvPr/>
                </p:nvSpPr>
                <p:spPr>
                  <a:xfrm flipV="1">
                    <a:off x="7522920" y="446652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74" name=""/>
                <p:cNvGrpSpPr/>
                <p:nvPr/>
              </p:nvGrpSpPr>
              <p:grpSpPr>
                <a:xfrm>
                  <a:off x="7178760" y="4299120"/>
                  <a:ext cx="150840" cy="176400"/>
                  <a:chOff x="7178760" y="4299120"/>
                  <a:chExt cx="150840" cy="176400"/>
                </a:xfrm>
              </p:grpSpPr>
              <p:sp>
                <p:nvSpPr>
                  <p:cNvPr id="8175" name=""/>
                  <p:cNvSpPr/>
                  <p:nvPr/>
                </p:nvSpPr>
                <p:spPr>
                  <a:xfrm rot="19889400">
                    <a:off x="7209360" y="43110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6" name=""/>
                  <p:cNvSpPr/>
                  <p:nvPr/>
                </p:nvSpPr>
                <p:spPr>
                  <a:xfrm flipH="1" flipV="1">
                    <a:off x="7227360" y="4374720"/>
                    <a:ext cx="93600" cy="49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7" name=""/>
                  <p:cNvSpPr/>
                  <p:nvPr/>
                </p:nvSpPr>
                <p:spPr>
                  <a:xfrm flipH="1" flipV="1">
                    <a:off x="7274880" y="438768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8" name=""/>
                  <p:cNvSpPr/>
                  <p:nvPr/>
                </p:nvSpPr>
                <p:spPr>
                  <a:xfrm flipH="1">
                    <a:off x="7248600" y="43992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9" name=""/>
                  <p:cNvSpPr/>
                  <p:nvPr/>
                </p:nvSpPr>
                <p:spPr>
                  <a:xfrm flipH="1" flipV="1">
                    <a:off x="7241400" y="437508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0" name=""/>
                <p:cNvGrpSpPr/>
                <p:nvPr/>
              </p:nvGrpSpPr>
              <p:grpSpPr>
                <a:xfrm>
                  <a:off x="7387560" y="4107600"/>
                  <a:ext cx="160560" cy="143640"/>
                  <a:chOff x="7387560" y="4107600"/>
                  <a:chExt cx="160560" cy="143640"/>
                </a:xfrm>
              </p:grpSpPr>
              <p:sp>
                <p:nvSpPr>
                  <p:cNvPr id="8181" name=""/>
                  <p:cNvSpPr/>
                  <p:nvPr/>
                </p:nvSpPr>
                <p:spPr>
                  <a:xfrm rot="4120200">
                    <a:off x="7416360" y="41133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2" name=""/>
                  <p:cNvSpPr/>
                  <p:nvPr/>
                </p:nvSpPr>
                <p:spPr>
                  <a:xfrm flipV="1">
                    <a:off x="7432920" y="4153680"/>
                    <a:ext cx="464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3" name=""/>
                  <p:cNvSpPr/>
                  <p:nvPr/>
                </p:nvSpPr>
                <p:spPr>
                  <a:xfrm flipV="1">
                    <a:off x="7453080" y="420228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4" name=""/>
                  <p:cNvSpPr/>
                  <p:nvPr/>
                </p:nvSpPr>
                <p:spPr>
                  <a:xfrm flipH="1" flipV="1">
                    <a:off x="7454160" y="417024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5" name=""/>
                  <p:cNvSpPr/>
                  <p:nvPr/>
                </p:nvSpPr>
                <p:spPr>
                  <a:xfrm flipV="1">
                    <a:off x="7470360" y="4168080"/>
                    <a:ext cx="82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6" name=""/>
                <p:cNvGrpSpPr/>
                <p:nvPr/>
              </p:nvGrpSpPr>
              <p:grpSpPr>
                <a:xfrm>
                  <a:off x="7491960" y="4483080"/>
                  <a:ext cx="160560" cy="143640"/>
                  <a:chOff x="7491960" y="4483080"/>
                  <a:chExt cx="160560" cy="143640"/>
                </a:xfrm>
              </p:grpSpPr>
              <p:sp>
                <p:nvSpPr>
                  <p:cNvPr id="8187" name=""/>
                  <p:cNvSpPr/>
                  <p:nvPr/>
                </p:nvSpPr>
                <p:spPr>
                  <a:xfrm rot="4120200">
                    <a:off x="7520760" y="44888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8" name=""/>
                  <p:cNvSpPr/>
                  <p:nvPr/>
                </p:nvSpPr>
                <p:spPr>
                  <a:xfrm flipV="1">
                    <a:off x="7537680" y="4529520"/>
                    <a:ext cx="464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9" name=""/>
                  <p:cNvSpPr/>
                  <p:nvPr/>
                </p:nvSpPr>
                <p:spPr>
                  <a:xfrm flipV="1">
                    <a:off x="7557840" y="457776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0" name=""/>
                  <p:cNvSpPr/>
                  <p:nvPr/>
                </p:nvSpPr>
                <p:spPr>
                  <a:xfrm flipH="1" flipV="1">
                    <a:off x="7558920" y="4546080"/>
                    <a:ext cx="216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1" name=""/>
                  <p:cNvSpPr/>
                  <p:nvPr/>
                </p:nvSpPr>
                <p:spPr>
                  <a:xfrm flipV="1">
                    <a:off x="7574760" y="4543920"/>
                    <a:ext cx="86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2" name=""/>
                <p:cNvGrpSpPr/>
                <p:nvPr/>
              </p:nvGrpSpPr>
              <p:grpSpPr>
                <a:xfrm>
                  <a:off x="7449480" y="4156560"/>
                  <a:ext cx="160560" cy="143640"/>
                  <a:chOff x="7449480" y="4156560"/>
                  <a:chExt cx="160560" cy="143640"/>
                </a:xfrm>
              </p:grpSpPr>
              <p:sp>
                <p:nvSpPr>
                  <p:cNvPr id="8193" name=""/>
                  <p:cNvSpPr/>
                  <p:nvPr/>
                </p:nvSpPr>
                <p:spPr>
                  <a:xfrm rot="4120200">
                    <a:off x="7478280" y="416232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4" name=""/>
                  <p:cNvSpPr/>
                  <p:nvPr/>
                </p:nvSpPr>
                <p:spPr>
                  <a:xfrm flipV="1">
                    <a:off x="7495200" y="4202640"/>
                    <a:ext cx="4644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5" name=""/>
                  <p:cNvSpPr/>
                  <p:nvPr/>
                </p:nvSpPr>
                <p:spPr>
                  <a:xfrm flipV="1">
                    <a:off x="7515000" y="425124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6" name=""/>
                  <p:cNvSpPr/>
                  <p:nvPr/>
                </p:nvSpPr>
                <p:spPr>
                  <a:xfrm flipH="1" flipV="1">
                    <a:off x="7516440" y="42195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7" name=""/>
                  <p:cNvSpPr/>
                  <p:nvPr/>
                </p:nvSpPr>
                <p:spPr>
                  <a:xfrm flipV="1">
                    <a:off x="7532280" y="421740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8" name=""/>
                <p:cNvGrpSpPr/>
                <p:nvPr/>
              </p:nvGrpSpPr>
              <p:grpSpPr>
                <a:xfrm>
                  <a:off x="7191720" y="4512960"/>
                  <a:ext cx="163800" cy="174600"/>
                  <a:chOff x="7191720" y="4512960"/>
                  <a:chExt cx="163800" cy="174600"/>
                </a:xfrm>
              </p:grpSpPr>
              <p:sp>
                <p:nvSpPr>
                  <p:cNvPr id="8199" name=""/>
                  <p:cNvSpPr/>
                  <p:nvPr/>
                </p:nvSpPr>
                <p:spPr>
                  <a:xfrm rot="19318200">
                    <a:off x="7229160" y="45237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0" name=""/>
                  <p:cNvSpPr/>
                  <p:nvPr/>
                </p:nvSpPr>
                <p:spPr>
                  <a:xfrm flipH="1" flipV="1">
                    <a:off x="7245360" y="4592880"/>
                    <a:ext cx="100440" cy="33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1" name=""/>
                  <p:cNvSpPr/>
                  <p:nvPr/>
                </p:nvSpPr>
                <p:spPr>
                  <a:xfrm flipH="1" flipV="1">
                    <a:off x="7294320" y="4597560"/>
                    <a:ext cx="172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2" name=""/>
                  <p:cNvSpPr/>
                  <p:nvPr/>
                </p:nvSpPr>
                <p:spPr>
                  <a:xfrm flipH="1">
                    <a:off x="7270560" y="461052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3" name=""/>
                  <p:cNvSpPr/>
                  <p:nvPr/>
                </p:nvSpPr>
                <p:spPr>
                  <a:xfrm flipH="1" flipV="1">
                    <a:off x="7259040" y="459072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04" name=""/>
                <p:cNvGrpSpPr/>
                <p:nvPr/>
              </p:nvGrpSpPr>
              <p:grpSpPr>
                <a:xfrm>
                  <a:off x="7163280" y="4404960"/>
                  <a:ext cx="174600" cy="163800"/>
                  <a:chOff x="7163280" y="4404960"/>
                  <a:chExt cx="174600" cy="163800"/>
                </a:xfrm>
              </p:grpSpPr>
              <p:sp>
                <p:nvSpPr>
                  <p:cNvPr id="8205" name=""/>
                  <p:cNvSpPr/>
                  <p:nvPr/>
                </p:nvSpPr>
                <p:spPr>
                  <a:xfrm rot="18478800">
                    <a:off x="7206120" y="44107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6" name=""/>
                  <p:cNvSpPr/>
                  <p:nvPr/>
                </p:nvSpPr>
                <p:spPr>
                  <a:xfrm flipH="1" flipV="1">
                    <a:off x="7221240" y="4486320"/>
                    <a:ext cx="1054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7" name=""/>
                  <p:cNvSpPr/>
                  <p:nvPr/>
                </p:nvSpPr>
                <p:spPr>
                  <a:xfrm flipH="1" flipV="1">
                    <a:off x="7270200" y="4479120"/>
                    <a:ext cx="19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8" name=""/>
                  <p:cNvSpPr/>
                  <p:nvPr/>
                </p:nvSpPr>
                <p:spPr>
                  <a:xfrm flipH="1">
                    <a:off x="7251480" y="449280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9" name=""/>
                  <p:cNvSpPr/>
                  <p:nvPr/>
                </p:nvSpPr>
                <p:spPr>
                  <a:xfrm flipH="1" flipV="1">
                    <a:off x="7234200" y="448092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0" name=""/>
                <p:cNvGrpSpPr/>
                <p:nvPr/>
              </p:nvGrpSpPr>
              <p:grpSpPr>
                <a:xfrm>
                  <a:off x="7253280" y="4100760"/>
                  <a:ext cx="144000" cy="175320"/>
                  <a:chOff x="7253280" y="4100760"/>
                  <a:chExt cx="144000" cy="175320"/>
                </a:xfrm>
              </p:grpSpPr>
              <p:sp>
                <p:nvSpPr>
                  <p:cNvPr id="8211" name=""/>
                  <p:cNvSpPr/>
                  <p:nvPr/>
                </p:nvSpPr>
                <p:spPr>
                  <a:xfrm rot="20130000">
                    <a:off x="7280640" y="4111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2" name=""/>
                  <p:cNvSpPr/>
                  <p:nvPr/>
                </p:nvSpPr>
                <p:spPr>
                  <a:xfrm flipH="1" flipV="1">
                    <a:off x="7299360" y="4174200"/>
                    <a:ext cx="9000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3" name=""/>
                  <p:cNvSpPr/>
                  <p:nvPr/>
                </p:nvSpPr>
                <p:spPr>
                  <a:xfrm flipH="1" flipV="1">
                    <a:off x="7346160" y="4190760"/>
                    <a:ext cx="136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4" name=""/>
                  <p:cNvSpPr/>
                  <p:nvPr/>
                </p:nvSpPr>
                <p:spPr>
                  <a:xfrm flipH="1">
                    <a:off x="7318800" y="420156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5" name=""/>
                  <p:cNvSpPr/>
                  <p:nvPr/>
                </p:nvSpPr>
                <p:spPr>
                  <a:xfrm flipH="1" flipV="1">
                    <a:off x="7313400" y="4175640"/>
                    <a:ext cx="108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6" name=""/>
                <p:cNvGrpSpPr/>
                <p:nvPr/>
              </p:nvGrpSpPr>
              <p:grpSpPr>
                <a:xfrm>
                  <a:off x="7174800" y="4152240"/>
                  <a:ext cx="169200" cy="171720"/>
                  <a:chOff x="7174800" y="4152240"/>
                  <a:chExt cx="169200" cy="171720"/>
                </a:xfrm>
              </p:grpSpPr>
              <p:sp>
                <p:nvSpPr>
                  <p:cNvPr id="8217" name=""/>
                  <p:cNvSpPr/>
                  <p:nvPr/>
                </p:nvSpPr>
                <p:spPr>
                  <a:xfrm rot="19002000">
                    <a:off x="7214760" y="4161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8" name=""/>
                  <p:cNvSpPr/>
                  <p:nvPr/>
                </p:nvSpPr>
                <p:spPr>
                  <a:xfrm flipH="1" flipV="1">
                    <a:off x="7230600" y="4232880"/>
                    <a:ext cx="10332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9" name=""/>
                  <p:cNvSpPr/>
                  <p:nvPr/>
                </p:nvSpPr>
                <p:spPr>
                  <a:xfrm flipH="1" flipV="1">
                    <a:off x="7279920" y="4233240"/>
                    <a:ext cx="180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0" name=""/>
                  <p:cNvSpPr/>
                  <p:nvPr/>
                </p:nvSpPr>
                <p:spPr>
                  <a:xfrm flipH="1">
                    <a:off x="7257960" y="424656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1" name=""/>
                  <p:cNvSpPr/>
                  <p:nvPr/>
                </p:nvSpPr>
                <p:spPr>
                  <a:xfrm flipH="1" flipV="1">
                    <a:off x="7244280" y="4229640"/>
                    <a:ext cx="133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2" name=""/>
                <p:cNvGrpSpPr/>
                <p:nvPr/>
              </p:nvGrpSpPr>
              <p:grpSpPr>
                <a:xfrm>
                  <a:off x="7239600" y="4249440"/>
                  <a:ext cx="159840" cy="175680"/>
                  <a:chOff x="7239600" y="4249440"/>
                  <a:chExt cx="159840" cy="175680"/>
                </a:xfrm>
              </p:grpSpPr>
              <p:sp>
                <p:nvSpPr>
                  <p:cNvPr id="8223" name=""/>
                  <p:cNvSpPr/>
                  <p:nvPr/>
                </p:nvSpPr>
                <p:spPr>
                  <a:xfrm rot="19521600">
                    <a:off x="7274880" y="4260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4" name=""/>
                  <p:cNvSpPr/>
                  <p:nvPr/>
                </p:nvSpPr>
                <p:spPr>
                  <a:xfrm flipH="1" flipV="1">
                    <a:off x="7291800" y="4327920"/>
                    <a:ext cx="9828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5" name=""/>
                  <p:cNvSpPr/>
                  <p:nvPr/>
                </p:nvSpPr>
                <p:spPr>
                  <a:xfrm flipH="1" flipV="1">
                    <a:off x="7340400" y="4335480"/>
                    <a:ext cx="162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6" name=""/>
                  <p:cNvSpPr/>
                  <p:nvPr/>
                </p:nvSpPr>
                <p:spPr>
                  <a:xfrm flipH="1">
                    <a:off x="7315560" y="4348080"/>
                    <a:ext cx="187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7" name=""/>
                  <p:cNvSpPr/>
                  <p:nvPr/>
                </p:nvSpPr>
                <p:spPr>
                  <a:xfrm flipH="1" flipV="1">
                    <a:off x="7305840" y="4326480"/>
                    <a:ext cx="122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8" name=""/>
                <p:cNvGrpSpPr/>
                <p:nvPr/>
              </p:nvGrpSpPr>
              <p:grpSpPr>
                <a:xfrm>
                  <a:off x="7377120" y="4162680"/>
                  <a:ext cx="109800" cy="163440"/>
                  <a:chOff x="7377120" y="4162680"/>
                  <a:chExt cx="109800" cy="163440"/>
                </a:xfrm>
              </p:grpSpPr>
              <p:sp>
                <p:nvSpPr>
                  <p:cNvPr id="8229" name=""/>
                  <p:cNvSpPr/>
                  <p:nvPr/>
                </p:nvSpPr>
                <p:spPr>
                  <a:xfrm rot="21105000">
                    <a:off x="7387560" y="4168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0" name=""/>
                  <p:cNvSpPr/>
                  <p:nvPr/>
                </p:nvSpPr>
                <p:spPr>
                  <a:xfrm flipH="1" flipV="1">
                    <a:off x="7411320" y="4223520"/>
                    <a:ext cx="7056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1" name=""/>
                  <p:cNvSpPr/>
                  <p:nvPr/>
                </p:nvSpPr>
                <p:spPr>
                  <a:xfrm flipH="1" flipV="1">
                    <a:off x="7451280" y="425232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2" name=""/>
                  <p:cNvSpPr/>
                  <p:nvPr/>
                </p:nvSpPr>
                <p:spPr>
                  <a:xfrm flipH="1" flipV="1">
                    <a:off x="7421760" y="425628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3" name=""/>
                  <p:cNvSpPr/>
                  <p:nvPr/>
                </p:nvSpPr>
                <p:spPr>
                  <a:xfrm flipH="1" flipV="1">
                    <a:off x="7424280" y="4228560"/>
                    <a:ext cx="75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4" name=""/>
                <p:cNvGrpSpPr/>
                <p:nvPr/>
              </p:nvGrpSpPr>
              <p:grpSpPr>
                <a:xfrm>
                  <a:off x="7409160" y="4410000"/>
                  <a:ext cx="149760" cy="163800"/>
                  <a:chOff x="7409160" y="4410000"/>
                  <a:chExt cx="149760" cy="163800"/>
                </a:xfrm>
              </p:grpSpPr>
              <p:sp>
                <p:nvSpPr>
                  <p:cNvPr id="8235" name=""/>
                  <p:cNvSpPr/>
                  <p:nvPr/>
                </p:nvSpPr>
                <p:spPr>
                  <a:xfrm rot="1555800">
                    <a:off x="7432560" y="44254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6" name=""/>
                  <p:cNvSpPr/>
                  <p:nvPr/>
                </p:nvSpPr>
                <p:spPr>
                  <a:xfrm flipH="1" flipV="1">
                    <a:off x="7475400" y="4465080"/>
                    <a:ext cx="27360" cy="9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7" name=""/>
                  <p:cNvSpPr/>
                  <p:nvPr/>
                </p:nvSpPr>
                <p:spPr>
                  <a:xfrm flipV="1">
                    <a:off x="7497360" y="45090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8" name=""/>
                  <p:cNvSpPr/>
                  <p:nvPr/>
                </p:nvSpPr>
                <p:spPr>
                  <a:xfrm flipH="1" flipV="1">
                    <a:off x="7468200" y="4494240"/>
                    <a:ext cx="154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9" name=""/>
                  <p:cNvSpPr/>
                  <p:nvPr/>
                </p:nvSpPr>
                <p:spPr>
                  <a:xfrm flipH="1" flipV="1">
                    <a:off x="7484760" y="4476240"/>
                    <a:ext cx="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0" name=""/>
                <p:cNvGrpSpPr/>
                <p:nvPr/>
              </p:nvGrpSpPr>
              <p:grpSpPr>
                <a:xfrm>
                  <a:off x="7551360" y="4568760"/>
                  <a:ext cx="166680" cy="173160"/>
                  <a:chOff x="7551360" y="4568760"/>
                  <a:chExt cx="166680" cy="173160"/>
                </a:xfrm>
              </p:grpSpPr>
              <p:sp>
                <p:nvSpPr>
                  <p:cNvPr id="8241" name=""/>
                  <p:cNvSpPr/>
                  <p:nvPr/>
                </p:nvSpPr>
                <p:spPr>
                  <a:xfrm rot="8353200">
                    <a:off x="7589880" y="45792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2" name=""/>
                  <p:cNvSpPr/>
                  <p:nvPr/>
                </p:nvSpPr>
                <p:spPr>
                  <a:xfrm>
                    <a:off x="7561080" y="4633200"/>
                    <a:ext cx="102240" cy="28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3" name=""/>
                  <p:cNvSpPr/>
                  <p:nvPr/>
                </p:nvSpPr>
                <p:spPr>
                  <a:xfrm>
                    <a:off x="7596360" y="4647600"/>
                    <a:ext cx="17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4" name=""/>
                  <p:cNvSpPr/>
                  <p:nvPr/>
                </p:nvSpPr>
                <p:spPr>
                  <a:xfrm flipV="1">
                    <a:off x="7619040" y="463968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5" name=""/>
                  <p:cNvSpPr/>
                  <p:nvPr/>
                </p:nvSpPr>
                <p:spPr>
                  <a:xfrm>
                    <a:off x="7636320" y="4658040"/>
                    <a:ext cx="133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6" name=""/>
                <p:cNvGrpSpPr/>
                <p:nvPr/>
              </p:nvGrpSpPr>
              <p:grpSpPr>
                <a:xfrm>
                  <a:off x="7493040" y="4688640"/>
                  <a:ext cx="164880" cy="174600"/>
                  <a:chOff x="7493040" y="4688640"/>
                  <a:chExt cx="164880" cy="174600"/>
                </a:xfrm>
              </p:grpSpPr>
              <p:sp>
                <p:nvSpPr>
                  <p:cNvPr id="8247" name=""/>
                  <p:cNvSpPr/>
                  <p:nvPr/>
                </p:nvSpPr>
                <p:spPr>
                  <a:xfrm rot="8473200">
                    <a:off x="7530840" y="46998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8" name=""/>
                  <p:cNvSpPr/>
                  <p:nvPr/>
                </p:nvSpPr>
                <p:spPr>
                  <a:xfrm>
                    <a:off x="7502760" y="4751640"/>
                    <a:ext cx="10116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9" name=""/>
                  <p:cNvSpPr/>
                  <p:nvPr/>
                </p:nvSpPr>
                <p:spPr>
                  <a:xfrm>
                    <a:off x="7537680" y="4767120"/>
                    <a:ext cx="16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0" name=""/>
                  <p:cNvSpPr/>
                  <p:nvPr/>
                </p:nvSpPr>
                <p:spPr>
                  <a:xfrm flipV="1">
                    <a:off x="7560360" y="476064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1" name=""/>
                  <p:cNvSpPr/>
                  <p:nvPr/>
                </p:nvSpPr>
                <p:spPr>
                  <a:xfrm>
                    <a:off x="7577280" y="4779000"/>
                    <a:ext cx="12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2" name=""/>
                <p:cNvGrpSpPr/>
                <p:nvPr/>
              </p:nvGrpSpPr>
              <p:grpSpPr>
                <a:xfrm>
                  <a:off x="7275240" y="4458600"/>
                  <a:ext cx="159120" cy="167040"/>
                  <a:chOff x="7275240" y="4458600"/>
                  <a:chExt cx="159120" cy="167040"/>
                </a:xfrm>
              </p:grpSpPr>
              <p:sp>
                <p:nvSpPr>
                  <p:cNvPr id="8253" name=""/>
                  <p:cNvSpPr/>
                  <p:nvPr/>
                </p:nvSpPr>
                <p:spPr>
                  <a:xfrm rot="2046000">
                    <a:off x="7303320" y="44758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4" name=""/>
                  <p:cNvSpPr/>
                  <p:nvPr/>
                </p:nvSpPr>
                <p:spPr>
                  <a:xfrm flipH="1" flipV="1">
                    <a:off x="7350120" y="4514400"/>
                    <a:ext cx="1332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5" name=""/>
                  <p:cNvSpPr/>
                  <p:nvPr/>
                </p:nvSpPr>
                <p:spPr>
                  <a:xfrm flipV="1">
                    <a:off x="7362720" y="45615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6" name=""/>
                  <p:cNvSpPr/>
                  <p:nvPr/>
                </p:nvSpPr>
                <p:spPr>
                  <a:xfrm flipH="1" flipV="1">
                    <a:off x="7338960" y="454248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7" name=""/>
                  <p:cNvSpPr/>
                  <p:nvPr/>
                </p:nvSpPr>
                <p:spPr>
                  <a:xfrm flipV="1">
                    <a:off x="7356600" y="4527000"/>
                    <a:ext cx="1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8" name=""/>
                <p:cNvGrpSpPr/>
                <p:nvPr/>
              </p:nvGrpSpPr>
              <p:grpSpPr>
                <a:xfrm>
                  <a:off x="7238160" y="4278240"/>
                  <a:ext cx="142560" cy="174960"/>
                  <a:chOff x="7238160" y="4278240"/>
                  <a:chExt cx="142560" cy="174960"/>
                </a:xfrm>
              </p:grpSpPr>
              <p:sp>
                <p:nvSpPr>
                  <p:cNvPr id="8259" name=""/>
                  <p:cNvSpPr/>
                  <p:nvPr/>
                </p:nvSpPr>
                <p:spPr>
                  <a:xfrm rot="1410000">
                    <a:off x="7264800" y="42894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0" name=""/>
                  <p:cNvSpPr/>
                  <p:nvPr/>
                </p:nvSpPr>
                <p:spPr>
                  <a:xfrm flipH="1" flipV="1">
                    <a:off x="7302600" y="4337280"/>
                    <a:ext cx="18720" cy="10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1" name=""/>
                  <p:cNvSpPr/>
                  <p:nvPr/>
                </p:nvSpPr>
                <p:spPr>
                  <a:xfrm flipV="1">
                    <a:off x="7318800" y="4382640"/>
                    <a:ext cx="288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2" name=""/>
                  <p:cNvSpPr/>
                  <p:nvPr/>
                </p:nvSpPr>
                <p:spPr>
                  <a:xfrm flipH="1" flipV="1">
                    <a:off x="7294320" y="437040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3" name=""/>
                  <p:cNvSpPr/>
                  <p:nvPr/>
                </p:nvSpPr>
                <p:spPr>
                  <a:xfrm flipV="1">
                    <a:off x="7310880" y="4348440"/>
                    <a:ext cx="3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64" name=""/>
                <p:cNvGrpSpPr/>
                <p:nvPr/>
              </p:nvGrpSpPr>
              <p:grpSpPr>
                <a:xfrm>
                  <a:off x="7256520" y="4101840"/>
                  <a:ext cx="137160" cy="173880"/>
                  <a:chOff x="7256520" y="4101840"/>
                  <a:chExt cx="137160" cy="173880"/>
                </a:xfrm>
              </p:grpSpPr>
              <p:sp>
                <p:nvSpPr>
                  <p:cNvPr id="8265" name=""/>
                  <p:cNvSpPr/>
                  <p:nvPr/>
                </p:nvSpPr>
                <p:spPr>
                  <a:xfrm rot="1250400">
                    <a:off x="7280280" y="4112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6" name=""/>
                  <p:cNvSpPr/>
                  <p:nvPr/>
                </p:nvSpPr>
                <p:spPr>
                  <a:xfrm flipH="1" flipV="1">
                    <a:off x="7317000" y="4160520"/>
                    <a:ext cx="2376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7" name=""/>
                  <p:cNvSpPr/>
                  <p:nvPr/>
                </p:nvSpPr>
                <p:spPr>
                  <a:xfrm flipV="1">
                    <a:off x="7336440" y="4205160"/>
                    <a:ext cx="18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8" name=""/>
                  <p:cNvSpPr/>
                  <p:nvPr/>
                </p:nvSpPr>
                <p:spPr>
                  <a:xfrm flipH="1" flipV="1">
                    <a:off x="7310520" y="4194000"/>
                    <a:ext cx="140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9" name=""/>
                  <p:cNvSpPr/>
                  <p:nvPr/>
                </p:nvSpPr>
                <p:spPr>
                  <a:xfrm flipH="1" flipV="1">
                    <a:off x="7326000" y="4171320"/>
                    <a:ext cx="7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0" name=""/>
                <p:cNvGrpSpPr/>
                <p:nvPr/>
              </p:nvGrpSpPr>
              <p:grpSpPr>
                <a:xfrm>
                  <a:off x="7309800" y="4054320"/>
                  <a:ext cx="155880" cy="165960"/>
                  <a:chOff x="7309800" y="4054320"/>
                  <a:chExt cx="155880" cy="165960"/>
                </a:xfrm>
              </p:grpSpPr>
              <p:sp>
                <p:nvSpPr>
                  <p:cNvPr id="8271" name=""/>
                  <p:cNvSpPr/>
                  <p:nvPr/>
                </p:nvSpPr>
                <p:spPr>
                  <a:xfrm rot="1882200">
                    <a:off x="7336440" y="4071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2" name=""/>
                  <p:cNvSpPr/>
                  <p:nvPr/>
                </p:nvSpPr>
                <p:spPr>
                  <a:xfrm flipH="1" flipV="1">
                    <a:off x="7381080" y="4109760"/>
                    <a:ext cx="17640" cy="10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3" name=""/>
                  <p:cNvSpPr/>
                  <p:nvPr/>
                </p:nvSpPr>
                <p:spPr>
                  <a:xfrm flipV="1">
                    <a:off x="7397280" y="415584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4" name=""/>
                  <p:cNvSpPr/>
                  <p:nvPr/>
                </p:nvSpPr>
                <p:spPr>
                  <a:xfrm flipH="1" flipV="1">
                    <a:off x="7371720" y="413856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5" name=""/>
                  <p:cNvSpPr/>
                  <p:nvPr/>
                </p:nvSpPr>
                <p:spPr>
                  <a:xfrm flipV="1">
                    <a:off x="7389360" y="4122000"/>
                    <a:ext cx="3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76" name=""/>
              <p:cNvGrpSpPr/>
              <p:nvPr/>
            </p:nvGrpSpPr>
            <p:grpSpPr>
              <a:xfrm>
                <a:off x="7443000" y="3509640"/>
                <a:ext cx="547560" cy="820800"/>
                <a:chOff x="7443000" y="3509640"/>
                <a:chExt cx="547560" cy="820800"/>
              </a:xfrm>
            </p:grpSpPr>
            <p:grpSp>
              <p:nvGrpSpPr>
                <p:cNvPr id="8277" name=""/>
                <p:cNvGrpSpPr/>
                <p:nvPr/>
              </p:nvGrpSpPr>
              <p:grpSpPr>
                <a:xfrm>
                  <a:off x="7771320" y="3848760"/>
                  <a:ext cx="140040" cy="174600"/>
                  <a:chOff x="7771320" y="3848760"/>
                  <a:chExt cx="140040" cy="174600"/>
                </a:xfrm>
              </p:grpSpPr>
              <p:sp>
                <p:nvSpPr>
                  <p:cNvPr id="8278" name=""/>
                  <p:cNvSpPr/>
                  <p:nvPr/>
                </p:nvSpPr>
                <p:spPr>
                  <a:xfrm rot="9465600">
                    <a:off x="7796880" y="38599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9" name=""/>
                  <p:cNvSpPr/>
                  <p:nvPr/>
                </p:nvSpPr>
                <p:spPr>
                  <a:xfrm>
                    <a:off x="7778880" y="3891960"/>
                    <a:ext cx="8748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0" name=""/>
                  <p:cNvSpPr/>
                  <p:nvPr/>
                </p:nvSpPr>
                <p:spPr>
                  <a:xfrm>
                    <a:off x="7807680" y="3916800"/>
                    <a:ext cx="129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1" name=""/>
                  <p:cNvSpPr/>
                  <p:nvPr/>
                </p:nvSpPr>
                <p:spPr>
                  <a:xfrm flipV="1">
                    <a:off x="7829280" y="3922200"/>
                    <a:ext cx="190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2" name=""/>
                  <p:cNvSpPr/>
                  <p:nvPr/>
                </p:nvSpPr>
                <p:spPr>
                  <a:xfrm>
                    <a:off x="7842240" y="3939480"/>
                    <a:ext cx="100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83" name=""/>
                <p:cNvSpPr/>
                <p:nvPr/>
              </p:nvSpPr>
              <p:spPr>
                <a:xfrm flipH="1" flipV="1">
                  <a:off x="7616520" y="3821040"/>
                  <a:ext cx="22680" cy="23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4" name=""/>
                <p:cNvSpPr/>
                <p:nvPr/>
              </p:nvSpPr>
              <p:spPr>
                <a:xfrm rot="5650200">
                  <a:off x="7331760" y="3817800"/>
                  <a:ext cx="570600" cy="2574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5" name=""/>
                <p:cNvSpPr/>
                <p:nvPr/>
              </p:nvSpPr>
              <p:spPr>
                <a:xfrm flipV="1">
                  <a:off x="7710120" y="3815280"/>
                  <a:ext cx="14472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6" name=""/>
                <p:cNvSpPr/>
                <p:nvPr/>
              </p:nvSpPr>
              <p:spPr>
                <a:xfrm flipV="1">
                  <a:off x="7490160" y="4081320"/>
                  <a:ext cx="246600" cy="11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7" name=""/>
                <p:cNvSpPr/>
                <p:nvPr/>
              </p:nvSpPr>
              <p:spPr>
                <a:xfrm flipH="1" flipV="1">
                  <a:off x="7591680" y="3887280"/>
                  <a:ext cx="3600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8" name=""/>
                <p:cNvSpPr/>
                <p:nvPr/>
              </p:nvSpPr>
              <p:spPr>
                <a:xfrm flipV="1">
                  <a:off x="7643160" y="3938760"/>
                  <a:ext cx="2448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9" name=""/>
                <p:cNvSpPr/>
                <p:nvPr/>
              </p:nvSpPr>
              <p:spPr>
                <a:xfrm flipV="1">
                  <a:off x="7773120" y="3768120"/>
                  <a:ext cx="6552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0" name=""/>
                <p:cNvSpPr/>
                <p:nvPr/>
              </p:nvSpPr>
              <p:spPr>
                <a:xfrm>
                  <a:off x="7751880" y="3876120"/>
                  <a:ext cx="568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1" name=""/>
                <p:cNvSpPr/>
                <p:nvPr/>
              </p:nvSpPr>
              <p:spPr>
                <a:xfrm flipH="1" flipV="1">
                  <a:off x="7705440" y="3689640"/>
                  <a:ext cx="34560" cy="70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2" name=""/>
                <p:cNvSpPr/>
                <p:nvPr/>
              </p:nvSpPr>
              <p:spPr>
                <a:xfrm flipV="1">
                  <a:off x="7613280" y="3988800"/>
                  <a:ext cx="110520" cy="15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3" name=""/>
                <p:cNvSpPr/>
                <p:nvPr/>
              </p:nvSpPr>
              <p:spPr>
                <a:xfrm flipV="1">
                  <a:off x="7679520" y="4034520"/>
                  <a:ext cx="406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4" name=""/>
                <p:cNvSpPr/>
                <p:nvPr/>
              </p:nvSpPr>
              <p:spPr>
                <a:xfrm>
                  <a:off x="7572600" y="4160880"/>
                  <a:ext cx="77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5" name=""/>
                <p:cNvSpPr/>
                <p:nvPr/>
              </p:nvSpPr>
              <p:spPr>
                <a:xfrm>
                  <a:off x="7695720" y="4101120"/>
                  <a:ext cx="586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6" name=""/>
                <p:cNvSpPr/>
                <p:nvPr/>
              </p:nvSpPr>
              <p:spPr>
                <a:xfrm flipH="1" flipV="1">
                  <a:off x="7562160" y="4023000"/>
                  <a:ext cx="1296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7" name=""/>
                <p:cNvSpPr/>
                <p:nvPr/>
              </p:nvSpPr>
              <p:spPr>
                <a:xfrm flipH="1" flipV="1">
                  <a:off x="7698960" y="3781080"/>
                  <a:ext cx="1440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8" name=""/>
                <p:cNvSpPr/>
                <p:nvPr/>
              </p:nvSpPr>
              <p:spPr>
                <a:xfrm flipV="1">
                  <a:off x="7763760" y="3697200"/>
                  <a:ext cx="4068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299" name=""/>
                <p:cNvGrpSpPr/>
                <p:nvPr/>
              </p:nvGrpSpPr>
              <p:grpSpPr>
                <a:xfrm>
                  <a:off x="7823880" y="3745440"/>
                  <a:ext cx="166680" cy="158040"/>
                  <a:chOff x="7823880" y="3745440"/>
                  <a:chExt cx="166680" cy="158040"/>
                </a:xfrm>
              </p:grpSpPr>
              <p:sp>
                <p:nvSpPr>
                  <p:cNvPr id="8300" name=""/>
                  <p:cNvSpPr/>
                  <p:nvPr/>
                </p:nvSpPr>
                <p:spPr>
                  <a:xfrm rot="7395600">
                    <a:off x="7855560" y="37584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1" name=""/>
                  <p:cNvSpPr/>
                  <p:nvPr/>
                </p:nvSpPr>
                <p:spPr>
                  <a:xfrm flipV="1">
                    <a:off x="7833960" y="3819240"/>
                    <a:ext cx="10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2" name=""/>
                  <p:cNvSpPr/>
                  <p:nvPr/>
                </p:nvSpPr>
                <p:spPr>
                  <a:xfrm>
                    <a:off x="7869960" y="3832920"/>
                    <a:ext cx="183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3" name=""/>
                  <p:cNvSpPr/>
                  <p:nvPr/>
                </p:nvSpPr>
                <p:spPr>
                  <a:xfrm flipV="1">
                    <a:off x="7890840" y="380844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4" name=""/>
                  <p:cNvSpPr/>
                  <p:nvPr/>
                </p:nvSpPr>
                <p:spPr>
                  <a:xfrm>
                    <a:off x="7909200" y="382608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5" name=""/>
                <p:cNvGrpSpPr/>
                <p:nvPr/>
              </p:nvGrpSpPr>
              <p:grpSpPr>
                <a:xfrm>
                  <a:off x="7625520" y="3808800"/>
                  <a:ext cx="158760" cy="140760"/>
                  <a:chOff x="7625520" y="3808800"/>
                  <a:chExt cx="158760" cy="140760"/>
                </a:xfrm>
              </p:grpSpPr>
              <p:sp>
                <p:nvSpPr>
                  <p:cNvPr id="8306" name=""/>
                  <p:cNvSpPr/>
                  <p:nvPr/>
                </p:nvSpPr>
                <p:spPr>
                  <a:xfrm rot="4237200">
                    <a:off x="7653240" y="38127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7" name=""/>
                  <p:cNvSpPr/>
                  <p:nvPr/>
                </p:nvSpPr>
                <p:spPr>
                  <a:xfrm flipV="1">
                    <a:off x="7668000" y="3853800"/>
                    <a:ext cx="496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8" name=""/>
                  <p:cNvSpPr/>
                  <p:nvPr/>
                </p:nvSpPr>
                <p:spPr>
                  <a:xfrm flipV="1">
                    <a:off x="7688880" y="390168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9" name=""/>
                  <p:cNvSpPr/>
                  <p:nvPr/>
                </p:nvSpPr>
                <p:spPr>
                  <a:xfrm flipH="1" flipV="1">
                    <a:off x="7691760" y="3869640"/>
                    <a:ext cx="144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0" name=""/>
                  <p:cNvSpPr/>
                  <p:nvPr/>
                </p:nvSpPr>
                <p:spPr>
                  <a:xfrm flipV="1">
                    <a:off x="7707600" y="3868200"/>
                    <a:ext cx="86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1" name=""/>
                <p:cNvGrpSpPr/>
                <p:nvPr/>
              </p:nvGrpSpPr>
              <p:grpSpPr>
                <a:xfrm>
                  <a:off x="7708680" y="3896640"/>
                  <a:ext cx="139320" cy="111960"/>
                  <a:chOff x="7708680" y="3896640"/>
                  <a:chExt cx="139320" cy="111960"/>
                </a:xfrm>
              </p:grpSpPr>
              <p:sp>
                <p:nvSpPr>
                  <p:cNvPr id="8312" name=""/>
                  <p:cNvSpPr/>
                  <p:nvPr/>
                </p:nvSpPr>
                <p:spPr>
                  <a:xfrm rot="5650200">
                    <a:off x="7727040" y="388656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3" name=""/>
                  <p:cNvSpPr/>
                  <p:nvPr/>
                </p:nvSpPr>
                <p:spPr>
                  <a:xfrm flipV="1">
                    <a:off x="7719120" y="393480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4" name=""/>
                  <p:cNvSpPr/>
                  <p:nvPr/>
                </p:nvSpPr>
                <p:spPr>
                  <a:xfrm flipV="1">
                    <a:off x="7750080" y="397296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5" name=""/>
                  <p:cNvSpPr/>
                  <p:nvPr/>
                </p:nvSpPr>
                <p:spPr>
                  <a:xfrm flipV="1">
                    <a:off x="7763040" y="3939120"/>
                    <a:ext cx="720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6" name=""/>
                  <p:cNvSpPr/>
                  <p:nvPr/>
                </p:nvSpPr>
                <p:spPr>
                  <a:xfrm flipV="1">
                    <a:off x="7781040" y="394740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7" name=""/>
                <p:cNvGrpSpPr/>
                <p:nvPr/>
              </p:nvGrpSpPr>
              <p:grpSpPr>
                <a:xfrm>
                  <a:off x="7528680" y="3678480"/>
                  <a:ext cx="96840" cy="156600"/>
                  <a:chOff x="7528680" y="3678480"/>
                  <a:chExt cx="96840" cy="156600"/>
                </a:xfrm>
              </p:grpSpPr>
              <p:sp>
                <p:nvSpPr>
                  <p:cNvPr id="8318" name=""/>
                  <p:cNvSpPr/>
                  <p:nvPr/>
                </p:nvSpPr>
                <p:spPr>
                  <a:xfrm rot="21420000">
                    <a:off x="7532280" y="368064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9" name=""/>
                  <p:cNvSpPr/>
                  <p:nvPr/>
                </p:nvSpPr>
                <p:spPr>
                  <a:xfrm flipH="1" flipV="1">
                    <a:off x="7558200" y="3734280"/>
                    <a:ext cx="6336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0" name=""/>
                  <p:cNvSpPr/>
                  <p:nvPr/>
                </p:nvSpPr>
                <p:spPr>
                  <a:xfrm flipH="1" flipV="1">
                    <a:off x="7595640" y="3766320"/>
                    <a:ext cx="684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1" name=""/>
                  <p:cNvSpPr/>
                  <p:nvPr/>
                </p:nvSpPr>
                <p:spPr>
                  <a:xfrm flipH="1" flipV="1">
                    <a:off x="7565760" y="3767760"/>
                    <a:ext cx="1800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2" name=""/>
                  <p:cNvSpPr/>
                  <p:nvPr/>
                </p:nvSpPr>
                <p:spPr>
                  <a:xfrm flipH="1" flipV="1">
                    <a:off x="7570800" y="374040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3" name=""/>
                <p:cNvGrpSpPr/>
                <p:nvPr/>
              </p:nvGrpSpPr>
              <p:grpSpPr>
                <a:xfrm>
                  <a:off x="7789680" y="3604680"/>
                  <a:ext cx="139320" cy="111960"/>
                  <a:chOff x="7789680" y="3604680"/>
                  <a:chExt cx="139320" cy="111960"/>
                </a:xfrm>
              </p:grpSpPr>
              <p:sp>
                <p:nvSpPr>
                  <p:cNvPr id="8324" name=""/>
                  <p:cNvSpPr/>
                  <p:nvPr/>
                </p:nvSpPr>
                <p:spPr>
                  <a:xfrm rot="5650200">
                    <a:off x="7808040" y="3594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5" name=""/>
                  <p:cNvSpPr/>
                  <p:nvPr/>
                </p:nvSpPr>
                <p:spPr>
                  <a:xfrm flipV="1">
                    <a:off x="7800120" y="3642840"/>
                    <a:ext cx="8100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6" name=""/>
                  <p:cNvSpPr/>
                  <p:nvPr/>
                </p:nvSpPr>
                <p:spPr>
                  <a:xfrm flipV="1">
                    <a:off x="7831080" y="368136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7" name=""/>
                  <p:cNvSpPr/>
                  <p:nvPr/>
                </p:nvSpPr>
                <p:spPr>
                  <a:xfrm flipV="1">
                    <a:off x="7844040" y="364716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8" name=""/>
                  <p:cNvSpPr/>
                  <p:nvPr/>
                </p:nvSpPr>
                <p:spPr>
                  <a:xfrm flipV="1">
                    <a:off x="7862040" y="365580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9" name=""/>
                <p:cNvGrpSpPr/>
                <p:nvPr/>
              </p:nvGrpSpPr>
              <p:grpSpPr>
                <a:xfrm>
                  <a:off x="7722360" y="3989160"/>
                  <a:ext cx="139320" cy="111960"/>
                  <a:chOff x="7722360" y="3989160"/>
                  <a:chExt cx="139320" cy="111960"/>
                </a:xfrm>
              </p:grpSpPr>
              <p:sp>
                <p:nvSpPr>
                  <p:cNvPr id="8330" name=""/>
                  <p:cNvSpPr/>
                  <p:nvPr/>
                </p:nvSpPr>
                <p:spPr>
                  <a:xfrm rot="5650200">
                    <a:off x="7740720" y="397908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1" name=""/>
                  <p:cNvSpPr/>
                  <p:nvPr/>
                </p:nvSpPr>
                <p:spPr>
                  <a:xfrm flipV="1">
                    <a:off x="7732440" y="402696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2" name=""/>
                  <p:cNvSpPr/>
                  <p:nvPr/>
                </p:nvSpPr>
                <p:spPr>
                  <a:xfrm flipV="1">
                    <a:off x="7763400" y="4065480"/>
                    <a:ext cx="183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3" name=""/>
                  <p:cNvSpPr/>
                  <p:nvPr/>
                </p:nvSpPr>
                <p:spPr>
                  <a:xfrm flipV="1">
                    <a:off x="7776360" y="4031280"/>
                    <a:ext cx="756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4" name=""/>
                  <p:cNvSpPr/>
                  <p:nvPr/>
                </p:nvSpPr>
                <p:spPr>
                  <a:xfrm flipV="1">
                    <a:off x="7794720" y="403992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5" name=""/>
                <p:cNvGrpSpPr/>
                <p:nvPr/>
              </p:nvGrpSpPr>
              <p:grpSpPr>
                <a:xfrm>
                  <a:off x="7824600" y="3676320"/>
                  <a:ext cx="139320" cy="111960"/>
                  <a:chOff x="7824600" y="3676320"/>
                  <a:chExt cx="139320" cy="111960"/>
                </a:xfrm>
              </p:grpSpPr>
              <p:sp>
                <p:nvSpPr>
                  <p:cNvPr id="8336" name=""/>
                  <p:cNvSpPr/>
                  <p:nvPr/>
                </p:nvSpPr>
                <p:spPr>
                  <a:xfrm rot="5650200">
                    <a:off x="7842960" y="36662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7" name=""/>
                  <p:cNvSpPr/>
                  <p:nvPr/>
                </p:nvSpPr>
                <p:spPr>
                  <a:xfrm flipV="1">
                    <a:off x="7834680" y="3714120"/>
                    <a:ext cx="8136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8" name=""/>
                  <p:cNvSpPr/>
                  <p:nvPr/>
                </p:nvSpPr>
                <p:spPr>
                  <a:xfrm flipV="1">
                    <a:off x="7865640" y="3752640"/>
                    <a:ext cx="18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9" name=""/>
                  <p:cNvSpPr/>
                  <p:nvPr/>
                </p:nvSpPr>
                <p:spPr>
                  <a:xfrm flipV="1">
                    <a:off x="7878600" y="371844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0" name=""/>
                  <p:cNvSpPr/>
                  <p:nvPr/>
                </p:nvSpPr>
                <p:spPr>
                  <a:xfrm flipV="1">
                    <a:off x="7896960" y="3727080"/>
                    <a:ext cx="118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1" name=""/>
                <p:cNvGrpSpPr/>
                <p:nvPr/>
              </p:nvGrpSpPr>
              <p:grpSpPr>
                <a:xfrm>
                  <a:off x="7443000" y="3873240"/>
                  <a:ext cx="119880" cy="168120"/>
                  <a:chOff x="7443000" y="3873240"/>
                  <a:chExt cx="119880" cy="168120"/>
                </a:xfrm>
              </p:grpSpPr>
              <p:sp>
                <p:nvSpPr>
                  <p:cNvPr id="8342" name=""/>
                  <p:cNvSpPr/>
                  <p:nvPr/>
                </p:nvSpPr>
                <p:spPr>
                  <a:xfrm rot="20848800">
                    <a:off x="7458120" y="3881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3" name=""/>
                  <p:cNvSpPr/>
                  <p:nvPr/>
                </p:nvSpPr>
                <p:spPr>
                  <a:xfrm flipH="1" flipV="1">
                    <a:off x="7480440" y="3938400"/>
                    <a:ext cx="7668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4" name=""/>
                  <p:cNvSpPr/>
                  <p:nvPr/>
                </p:nvSpPr>
                <p:spPr>
                  <a:xfrm flipH="1" flipV="1">
                    <a:off x="7522920" y="3963960"/>
                    <a:ext cx="9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5" name=""/>
                  <p:cNvSpPr/>
                  <p:nvPr/>
                </p:nvSpPr>
                <p:spPr>
                  <a:xfrm flipH="1" flipV="1">
                    <a:off x="7493400" y="3970080"/>
                    <a:ext cx="187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6" name=""/>
                  <p:cNvSpPr/>
                  <p:nvPr/>
                </p:nvSpPr>
                <p:spPr>
                  <a:xfrm flipH="1" flipV="1">
                    <a:off x="7494120" y="3942360"/>
                    <a:ext cx="82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7" name=""/>
                <p:cNvGrpSpPr/>
                <p:nvPr/>
              </p:nvGrpSpPr>
              <p:grpSpPr>
                <a:xfrm>
                  <a:off x="7457040" y="3756960"/>
                  <a:ext cx="147600" cy="175680"/>
                  <a:chOff x="7457040" y="3756960"/>
                  <a:chExt cx="147600" cy="175680"/>
                </a:xfrm>
              </p:grpSpPr>
              <p:sp>
                <p:nvSpPr>
                  <p:cNvPr id="8348" name=""/>
                  <p:cNvSpPr/>
                  <p:nvPr/>
                </p:nvSpPr>
                <p:spPr>
                  <a:xfrm rot="20009400">
                    <a:off x="7486200" y="37684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9" name=""/>
                  <p:cNvSpPr/>
                  <p:nvPr/>
                </p:nvSpPr>
                <p:spPr>
                  <a:xfrm flipH="1" flipV="1">
                    <a:off x="7504560" y="3831840"/>
                    <a:ext cx="9216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0" name=""/>
                  <p:cNvSpPr/>
                  <p:nvPr/>
                </p:nvSpPr>
                <p:spPr>
                  <a:xfrm flipH="1" flipV="1">
                    <a:off x="7551720" y="384660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1" name=""/>
                  <p:cNvSpPr/>
                  <p:nvPr/>
                </p:nvSpPr>
                <p:spPr>
                  <a:xfrm flipH="1">
                    <a:off x="7525080" y="385776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2" name=""/>
                  <p:cNvSpPr/>
                  <p:nvPr/>
                </p:nvSpPr>
                <p:spPr>
                  <a:xfrm flipH="1" flipV="1">
                    <a:off x="7518600" y="3832560"/>
                    <a:ext cx="111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3" name=""/>
                <p:cNvGrpSpPr/>
                <p:nvPr/>
              </p:nvGrpSpPr>
              <p:grpSpPr>
                <a:xfrm>
                  <a:off x="7681320" y="3530880"/>
                  <a:ext cx="91440" cy="153720"/>
                  <a:chOff x="7681320" y="3530880"/>
                  <a:chExt cx="91440" cy="153720"/>
                </a:xfrm>
              </p:grpSpPr>
              <p:sp>
                <p:nvSpPr>
                  <p:cNvPr id="8354" name=""/>
                  <p:cNvSpPr/>
                  <p:nvPr/>
                </p:nvSpPr>
                <p:spPr>
                  <a:xfrm rot="60600">
                    <a:off x="7682400" y="3531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5" name=""/>
                  <p:cNvSpPr/>
                  <p:nvPr/>
                </p:nvSpPr>
                <p:spPr>
                  <a:xfrm flipH="1" flipV="1">
                    <a:off x="7709760" y="3584160"/>
                    <a:ext cx="568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6" name=""/>
                  <p:cNvSpPr/>
                  <p:nvPr/>
                </p:nvSpPr>
                <p:spPr>
                  <a:xfrm flipH="1" flipV="1">
                    <a:off x="7744680" y="3618720"/>
                    <a:ext cx="540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7" name=""/>
                  <p:cNvSpPr/>
                  <p:nvPr/>
                </p:nvSpPr>
                <p:spPr>
                  <a:xfrm flipH="1" flipV="1">
                    <a:off x="7714800" y="361800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8" name=""/>
                  <p:cNvSpPr/>
                  <p:nvPr/>
                </p:nvSpPr>
                <p:spPr>
                  <a:xfrm flipH="1" flipV="1">
                    <a:off x="7721640" y="3591000"/>
                    <a:ext cx="57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59" name=""/>
                <p:cNvGrpSpPr/>
                <p:nvPr/>
              </p:nvGrpSpPr>
              <p:grpSpPr>
                <a:xfrm>
                  <a:off x="7580520" y="3538080"/>
                  <a:ext cx="131040" cy="172440"/>
                  <a:chOff x="7580520" y="3538080"/>
                  <a:chExt cx="131040" cy="172440"/>
                </a:xfrm>
              </p:grpSpPr>
              <p:sp>
                <p:nvSpPr>
                  <p:cNvPr id="8360" name=""/>
                  <p:cNvSpPr/>
                  <p:nvPr/>
                </p:nvSpPr>
                <p:spPr>
                  <a:xfrm rot="20532600">
                    <a:off x="7601400" y="35481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1" name=""/>
                  <p:cNvSpPr/>
                  <p:nvPr/>
                </p:nvSpPr>
                <p:spPr>
                  <a:xfrm flipH="1" flipV="1">
                    <a:off x="7622280" y="3607200"/>
                    <a:ext cx="8280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2" name=""/>
                  <p:cNvSpPr/>
                  <p:nvPr/>
                </p:nvSpPr>
                <p:spPr>
                  <a:xfrm flipH="1" flipV="1">
                    <a:off x="7666560" y="3628800"/>
                    <a:ext cx="11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3" name=""/>
                  <p:cNvSpPr/>
                  <p:nvPr/>
                </p:nvSpPr>
                <p:spPr>
                  <a:xfrm flipH="1" flipV="1">
                    <a:off x="7638120" y="3637800"/>
                    <a:ext cx="190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4" name=""/>
                  <p:cNvSpPr/>
                  <p:nvPr/>
                </p:nvSpPr>
                <p:spPr>
                  <a:xfrm flipH="1" flipV="1">
                    <a:off x="7635960" y="3610080"/>
                    <a:ext cx="97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5" name=""/>
                <p:cNvGrpSpPr/>
                <p:nvPr/>
              </p:nvGrpSpPr>
              <p:grpSpPr>
                <a:xfrm>
                  <a:off x="7601760" y="3657960"/>
                  <a:ext cx="111960" cy="164520"/>
                  <a:chOff x="7601760" y="3657960"/>
                  <a:chExt cx="111960" cy="164520"/>
                </a:xfrm>
              </p:grpSpPr>
              <p:sp>
                <p:nvSpPr>
                  <p:cNvPr id="8366" name=""/>
                  <p:cNvSpPr/>
                  <p:nvPr/>
                </p:nvSpPr>
                <p:spPr>
                  <a:xfrm rot="21052200">
                    <a:off x="7613280" y="366372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7" name=""/>
                  <p:cNvSpPr/>
                  <p:nvPr/>
                </p:nvSpPr>
                <p:spPr>
                  <a:xfrm flipH="1" flipV="1">
                    <a:off x="7636680" y="3719520"/>
                    <a:ext cx="7200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8" name=""/>
                  <p:cNvSpPr/>
                  <p:nvPr/>
                </p:nvSpPr>
                <p:spPr>
                  <a:xfrm flipH="1" flipV="1">
                    <a:off x="7677360" y="37476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9" name=""/>
                  <p:cNvSpPr/>
                  <p:nvPr/>
                </p:nvSpPr>
                <p:spPr>
                  <a:xfrm flipH="1" flipV="1">
                    <a:off x="7647480" y="3751920"/>
                    <a:ext cx="187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0" name=""/>
                  <p:cNvSpPr/>
                  <p:nvPr/>
                </p:nvSpPr>
                <p:spPr>
                  <a:xfrm flipH="1" flipV="1">
                    <a:off x="7649640" y="3724200"/>
                    <a:ext cx="79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1" name=""/>
                <p:cNvGrpSpPr/>
                <p:nvPr/>
              </p:nvGrpSpPr>
              <p:grpSpPr>
                <a:xfrm>
                  <a:off x="7733880" y="3618360"/>
                  <a:ext cx="130320" cy="171720"/>
                  <a:chOff x="7733880" y="3618360"/>
                  <a:chExt cx="130320" cy="171720"/>
                </a:xfrm>
              </p:grpSpPr>
              <p:sp>
                <p:nvSpPr>
                  <p:cNvPr id="8372" name=""/>
                  <p:cNvSpPr/>
                  <p:nvPr/>
                </p:nvSpPr>
                <p:spPr>
                  <a:xfrm rot="1035600">
                    <a:off x="7754400" y="36280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3" name=""/>
                  <p:cNvSpPr/>
                  <p:nvPr/>
                </p:nvSpPr>
                <p:spPr>
                  <a:xfrm flipH="1" flipV="1">
                    <a:off x="7789320" y="3676320"/>
                    <a:ext cx="2988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4" name=""/>
                  <p:cNvSpPr/>
                  <p:nvPr/>
                </p:nvSpPr>
                <p:spPr>
                  <a:xfrm flipV="1">
                    <a:off x="7812720" y="3719520"/>
                    <a:ext cx="72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5" name=""/>
                  <p:cNvSpPr/>
                  <p:nvPr/>
                </p:nvSpPr>
                <p:spPr>
                  <a:xfrm flipH="1" flipV="1">
                    <a:off x="7785000" y="371052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6" name=""/>
                  <p:cNvSpPr/>
                  <p:nvPr/>
                </p:nvSpPr>
                <p:spPr>
                  <a:xfrm flipH="1" flipV="1">
                    <a:off x="7799040" y="3686760"/>
                    <a:ext cx="14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7" name=""/>
                <p:cNvGrpSpPr/>
                <p:nvPr/>
              </p:nvGrpSpPr>
              <p:grpSpPr>
                <a:xfrm>
                  <a:off x="7655760" y="3868920"/>
                  <a:ext cx="167400" cy="162720"/>
                  <a:chOff x="7655760" y="3868920"/>
                  <a:chExt cx="167400" cy="162720"/>
                </a:xfrm>
              </p:grpSpPr>
              <p:sp>
                <p:nvSpPr>
                  <p:cNvPr id="8378" name=""/>
                  <p:cNvSpPr/>
                  <p:nvPr/>
                </p:nvSpPr>
                <p:spPr>
                  <a:xfrm rot="3086400">
                    <a:off x="7687800" y="388404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9" name=""/>
                  <p:cNvSpPr/>
                  <p:nvPr/>
                </p:nvSpPr>
                <p:spPr>
                  <a:xfrm flipV="1">
                    <a:off x="7725600" y="3921840"/>
                    <a:ext cx="17640" cy="10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0" name=""/>
                  <p:cNvSpPr/>
                  <p:nvPr/>
                </p:nvSpPr>
                <p:spPr>
                  <a:xfrm flipV="1">
                    <a:off x="7736040" y="397188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1" name=""/>
                  <p:cNvSpPr/>
                  <p:nvPr/>
                </p:nvSpPr>
                <p:spPr>
                  <a:xfrm flipH="1" flipV="1">
                    <a:off x="7724160" y="3945600"/>
                    <a:ext cx="792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2" name=""/>
                  <p:cNvSpPr/>
                  <p:nvPr/>
                </p:nvSpPr>
                <p:spPr>
                  <a:xfrm flipV="1">
                    <a:off x="7741800" y="3936240"/>
                    <a:ext cx="5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3" name=""/>
                <p:cNvGrpSpPr/>
                <p:nvPr/>
              </p:nvGrpSpPr>
              <p:grpSpPr>
                <a:xfrm>
                  <a:off x="7741800" y="4077360"/>
                  <a:ext cx="126000" cy="170280"/>
                  <a:chOff x="7741800" y="4077360"/>
                  <a:chExt cx="126000" cy="170280"/>
                </a:xfrm>
              </p:grpSpPr>
              <p:sp>
                <p:nvSpPr>
                  <p:cNvPr id="8384" name=""/>
                  <p:cNvSpPr/>
                  <p:nvPr/>
                </p:nvSpPr>
                <p:spPr>
                  <a:xfrm rot="9883800">
                    <a:off x="7760160" y="40863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5" name=""/>
                  <p:cNvSpPr/>
                  <p:nvPr/>
                </p:nvSpPr>
                <p:spPr>
                  <a:xfrm>
                    <a:off x="7748280" y="4111200"/>
                    <a:ext cx="799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6" name=""/>
                  <p:cNvSpPr/>
                  <p:nvPr/>
                </p:nvSpPr>
                <p:spPr>
                  <a:xfrm>
                    <a:off x="7773840" y="4139280"/>
                    <a:ext cx="10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7" name=""/>
                  <p:cNvSpPr/>
                  <p:nvPr/>
                </p:nvSpPr>
                <p:spPr>
                  <a:xfrm>
                    <a:off x="7794720" y="41479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8" name=""/>
                  <p:cNvSpPr/>
                  <p:nvPr/>
                </p:nvSpPr>
                <p:spPr>
                  <a:xfrm>
                    <a:off x="7805520" y="4166280"/>
                    <a:ext cx="90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89" name=""/>
                <p:cNvGrpSpPr/>
                <p:nvPr/>
              </p:nvGrpSpPr>
              <p:grpSpPr>
                <a:xfrm>
                  <a:off x="7638840" y="4161600"/>
                  <a:ext cx="121680" cy="168840"/>
                  <a:chOff x="7638840" y="4161600"/>
                  <a:chExt cx="121680" cy="168840"/>
                </a:xfrm>
              </p:grpSpPr>
              <p:sp>
                <p:nvSpPr>
                  <p:cNvPr id="8390" name=""/>
                  <p:cNvSpPr/>
                  <p:nvPr/>
                </p:nvSpPr>
                <p:spPr>
                  <a:xfrm rot="10003800">
                    <a:off x="7655040" y="416988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1" name=""/>
                  <p:cNvSpPr/>
                  <p:nvPr/>
                </p:nvSpPr>
                <p:spPr>
                  <a:xfrm>
                    <a:off x="7644600" y="4192920"/>
                    <a:ext cx="7740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2" name=""/>
                  <p:cNvSpPr/>
                  <p:nvPr/>
                </p:nvSpPr>
                <p:spPr>
                  <a:xfrm>
                    <a:off x="7669080" y="4221720"/>
                    <a:ext cx="10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3" name=""/>
                  <p:cNvSpPr/>
                  <p:nvPr/>
                </p:nvSpPr>
                <p:spPr>
                  <a:xfrm>
                    <a:off x="7689960" y="42310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4" name=""/>
                  <p:cNvSpPr/>
                  <p:nvPr/>
                </p:nvSpPr>
                <p:spPr>
                  <a:xfrm>
                    <a:off x="7700040" y="4249800"/>
                    <a:ext cx="86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5" name=""/>
                <p:cNvGrpSpPr/>
                <p:nvPr/>
              </p:nvGrpSpPr>
              <p:grpSpPr>
                <a:xfrm>
                  <a:off x="7518240" y="3862080"/>
                  <a:ext cx="165960" cy="155520"/>
                  <a:chOff x="7518240" y="3862080"/>
                  <a:chExt cx="165960" cy="155520"/>
                </a:xfrm>
              </p:grpSpPr>
              <p:sp>
                <p:nvSpPr>
                  <p:cNvPr id="8396" name=""/>
                  <p:cNvSpPr/>
                  <p:nvPr/>
                </p:nvSpPr>
                <p:spPr>
                  <a:xfrm rot="3576600">
                    <a:off x="7549920" y="3873600"/>
                    <a:ext cx="10260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7" name=""/>
                  <p:cNvSpPr/>
                  <p:nvPr/>
                </p:nvSpPr>
                <p:spPr>
                  <a:xfrm flipV="1">
                    <a:off x="7577280" y="3912840"/>
                    <a:ext cx="31680" cy="9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8" name=""/>
                  <p:cNvSpPr/>
                  <p:nvPr/>
                </p:nvSpPr>
                <p:spPr>
                  <a:xfrm flipV="1">
                    <a:off x="7592400" y="39625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9" name=""/>
                  <p:cNvSpPr/>
                  <p:nvPr/>
                </p:nvSpPr>
                <p:spPr>
                  <a:xfrm flipH="1" flipV="1">
                    <a:off x="7586640" y="3933360"/>
                    <a:ext cx="540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0" name=""/>
                  <p:cNvSpPr/>
                  <p:nvPr/>
                </p:nvSpPr>
                <p:spPr>
                  <a:xfrm flipV="1">
                    <a:off x="7603560" y="3927240"/>
                    <a:ext cx="68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1" name=""/>
                <p:cNvGrpSpPr/>
                <p:nvPr/>
              </p:nvGrpSpPr>
              <p:grpSpPr>
                <a:xfrm>
                  <a:off x="7549560" y="3677760"/>
                  <a:ext cx="173160" cy="167040"/>
                  <a:chOff x="7549560" y="3677760"/>
                  <a:chExt cx="173160" cy="167040"/>
                </a:xfrm>
              </p:grpSpPr>
              <p:sp>
                <p:nvSpPr>
                  <p:cNvPr id="8402" name=""/>
                  <p:cNvSpPr/>
                  <p:nvPr/>
                </p:nvSpPr>
                <p:spPr>
                  <a:xfrm rot="2940600">
                    <a:off x="7591320" y="368496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3" name=""/>
                  <p:cNvSpPr/>
                  <p:nvPr/>
                </p:nvSpPr>
                <p:spPr>
                  <a:xfrm flipV="1">
                    <a:off x="7614360" y="3732480"/>
                    <a:ext cx="28080" cy="10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4" name=""/>
                  <p:cNvSpPr/>
                  <p:nvPr/>
                </p:nvSpPr>
                <p:spPr>
                  <a:xfrm flipV="1">
                    <a:off x="7628400" y="3781800"/>
                    <a:ext cx="11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5" name=""/>
                  <p:cNvSpPr/>
                  <p:nvPr/>
                </p:nvSpPr>
                <p:spPr>
                  <a:xfrm flipH="1" flipV="1">
                    <a:off x="7620480" y="3759120"/>
                    <a:ext cx="64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6" name=""/>
                  <p:cNvSpPr/>
                  <p:nvPr/>
                </p:nvSpPr>
                <p:spPr>
                  <a:xfrm flipV="1">
                    <a:off x="7638840" y="3746160"/>
                    <a:ext cx="64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7" name=""/>
                <p:cNvGrpSpPr/>
                <p:nvPr/>
              </p:nvGrpSpPr>
              <p:grpSpPr>
                <a:xfrm>
                  <a:off x="7640640" y="3523320"/>
                  <a:ext cx="171720" cy="169560"/>
                  <a:chOff x="7640640" y="3523320"/>
                  <a:chExt cx="171720" cy="169560"/>
                </a:xfrm>
              </p:grpSpPr>
              <p:sp>
                <p:nvSpPr>
                  <p:cNvPr id="8408" name=""/>
                  <p:cNvSpPr/>
                  <p:nvPr/>
                </p:nvSpPr>
                <p:spPr>
                  <a:xfrm rot="2781000">
                    <a:off x="7681680" y="3531600"/>
                    <a:ext cx="889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9" name=""/>
                  <p:cNvSpPr/>
                  <p:nvPr/>
                </p:nvSpPr>
                <p:spPr>
                  <a:xfrm flipV="1">
                    <a:off x="7708320" y="3579120"/>
                    <a:ext cx="23400" cy="10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0" name=""/>
                  <p:cNvSpPr/>
                  <p:nvPr/>
                </p:nvSpPr>
                <p:spPr>
                  <a:xfrm flipV="1">
                    <a:off x="7720920" y="362844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1" name=""/>
                  <p:cNvSpPr/>
                  <p:nvPr/>
                </p:nvSpPr>
                <p:spPr>
                  <a:xfrm flipH="1" flipV="1">
                    <a:off x="7711200" y="360648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2" name=""/>
                  <p:cNvSpPr/>
                  <p:nvPr/>
                </p:nvSpPr>
                <p:spPr>
                  <a:xfrm flipV="1">
                    <a:off x="7729560" y="3592800"/>
                    <a:ext cx="540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13" name=""/>
                <p:cNvGrpSpPr/>
                <p:nvPr/>
              </p:nvGrpSpPr>
              <p:grpSpPr>
                <a:xfrm>
                  <a:off x="7722000" y="3509640"/>
                  <a:ext cx="166320" cy="157680"/>
                  <a:chOff x="7722000" y="3509640"/>
                  <a:chExt cx="166320" cy="157680"/>
                </a:xfrm>
              </p:grpSpPr>
              <p:sp>
                <p:nvSpPr>
                  <p:cNvPr id="8414" name=""/>
                  <p:cNvSpPr/>
                  <p:nvPr/>
                </p:nvSpPr>
                <p:spPr>
                  <a:xfrm rot="3412800">
                    <a:off x="7753680" y="3522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5" name=""/>
                  <p:cNvSpPr/>
                  <p:nvPr/>
                </p:nvSpPr>
                <p:spPr>
                  <a:xfrm flipV="1">
                    <a:off x="7783920" y="3560760"/>
                    <a:ext cx="27000" cy="9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6" name=""/>
                  <p:cNvSpPr/>
                  <p:nvPr/>
                </p:nvSpPr>
                <p:spPr>
                  <a:xfrm flipV="1">
                    <a:off x="7797960" y="361080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7" name=""/>
                  <p:cNvSpPr/>
                  <p:nvPr/>
                </p:nvSpPr>
                <p:spPr>
                  <a:xfrm flipH="1" flipV="1">
                    <a:off x="7790400" y="3582720"/>
                    <a:ext cx="612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8" name=""/>
                  <p:cNvSpPr/>
                  <p:nvPr/>
                </p:nvSpPr>
                <p:spPr>
                  <a:xfrm flipV="1">
                    <a:off x="7807680" y="357588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9" name=""/>
              <p:cNvGrpSpPr/>
              <p:nvPr/>
            </p:nvGrpSpPr>
            <p:grpSpPr>
              <a:xfrm>
                <a:off x="6454440" y="2711880"/>
                <a:ext cx="653400" cy="724320"/>
                <a:chOff x="6454440" y="2711880"/>
                <a:chExt cx="653400" cy="724320"/>
              </a:xfrm>
            </p:grpSpPr>
            <p:grpSp>
              <p:nvGrpSpPr>
                <p:cNvPr id="8420" name=""/>
                <p:cNvGrpSpPr/>
                <p:nvPr/>
              </p:nvGrpSpPr>
              <p:grpSpPr>
                <a:xfrm>
                  <a:off x="6815160" y="2886480"/>
                  <a:ext cx="153360" cy="131760"/>
                  <a:chOff x="6815160" y="2886480"/>
                  <a:chExt cx="153360" cy="131760"/>
                </a:xfrm>
              </p:grpSpPr>
              <p:sp>
                <p:nvSpPr>
                  <p:cNvPr id="8421" name=""/>
                  <p:cNvSpPr/>
                  <p:nvPr/>
                </p:nvSpPr>
                <p:spPr>
                  <a:xfrm rot="6258600">
                    <a:off x="6840720" y="28861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2" name=""/>
                  <p:cNvSpPr/>
                  <p:nvPr/>
                </p:nvSpPr>
                <p:spPr>
                  <a:xfrm flipV="1">
                    <a:off x="6825960" y="2937960"/>
                    <a:ext cx="90360" cy="46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3" name=""/>
                  <p:cNvSpPr/>
                  <p:nvPr/>
                </p:nvSpPr>
                <p:spPr>
                  <a:xfrm flipV="1">
                    <a:off x="6859440" y="2970720"/>
                    <a:ext cx="187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4" name=""/>
                  <p:cNvSpPr/>
                  <p:nvPr/>
                </p:nvSpPr>
                <p:spPr>
                  <a:xfrm flipV="1">
                    <a:off x="6875640" y="293796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5" name=""/>
                  <p:cNvSpPr/>
                  <p:nvPr/>
                </p:nvSpPr>
                <p:spPr>
                  <a:xfrm flipV="1">
                    <a:off x="6894360" y="295020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26" name=""/>
                <p:cNvSpPr/>
                <p:nvPr/>
              </p:nvSpPr>
              <p:spPr>
                <a:xfrm flipH="1" flipV="1">
                  <a:off x="6652440" y="3099600"/>
                  <a:ext cx="180000" cy="9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7" name=""/>
                <p:cNvSpPr/>
                <p:nvPr/>
              </p:nvSpPr>
              <p:spPr>
                <a:xfrm rot="2443800">
                  <a:off x="6494760" y="301428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8" name=""/>
                <p:cNvSpPr/>
                <p:nvPr/>
              </p:nvSpPr>
              <p:spPr>
                <a:xfrm flipV="1">
                  <a:off x="6771600" y="2879640"/>
                  <a:ext cx="43920" cy="172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9" name=""/>
                <p:cNvSpPr/>
                <p:nvPr/>
              </p:nvSpPr>
              <p:spPr>
                <a:xfrm flipV="1">
                  <a:off x="6833880" y="3121200"/>
                  <a:ext cx="87840" cy="28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0" name=""/>
                <p:cNvSpPr/>
                <p:nvPr/>
              </p:nvSpPr>
              <p:spPr>
                <a:xfrm flipH="1">
                  <a:off x="6682680" y="3146760"/>
                  <a:ext cx="5904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1" name=""/>
                <p:cNvSpPr/>
                <p:nvPr/>
              </p:nvSpPr>
              <p:spPr>
                <a:xfrm flipH="1" flipV="1">
                  <a:off x="6771600" y="3112200"/>
                  <a:ext cx="30240" cy="56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2" name=""/>
                <p:cNvSpPr/>
                <p:nvPr/>
              </p:nvSpPr>
              <p:spPr>
                <a:xfrm flipH="1" flipV="1">
                  <a:off x="6770520" y="2870280"/>
                  <a:ext cx="15840" cy="10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3" name=""/>
                <p:cNvSpPr/>
                <p:nvPr/>
              </p:nvSpPr>
              <p:spPr>
                <a:xfrm flipV="1">
                  <a:off x="6786720" y="2965680"/>
                  <a:ext cx="5940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4" name=""/>
                <p:cNvSpPr/>
                <p:nvPr/>
              </p:nvSpPr>
              <p:spPr>
                <a:xfrm flipH="1" flipV="1">
                  <a:off x="6621480" y="2953080"/>
                  <a:ext cx="7416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5" name=""/>
                <p:cNvSpPr/>
                <p:nvPr/>
              </p:nvSpPr>
              <p:spPr>
                <a:xfrm flipH="1" flipV="1">
                  <a:off x="6846480" y="3087000"/>
                  <a:ext cx="31320" cy="17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6" name=""/>
                <p:cNvSpPr/>
                <p:nvPr/>
              </p:nvSpPr>
              <p:spPr>
                <a:xfrm flipV="1">
                  <a:off x="6862320" y="3112560"/>
                  <a:ext cx="14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7" name=""/>
                <p:cNvSpPr/>
                <p:nvPr/>
              </p:nvSpPr>
              <p:spPr>
                <a:xfrm flipV="1">
                  <a:off x="6863040" y="3254760"/>
                  <a:ext cx="74160" cy="5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8" name=""/>
                <p:cNvSpPr/>
                <p:nvPr/>
              </p:nvSpPr>
              <p:spPr>
                <a:xfrm flipV="1">
                  <a:off x="6907320" y="3116520"/>
                  <a:ext cx="44280" cy="5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9" name=""/>
                <p:cNvSpPr/>
                <p:nvPr/>
              </p:nvSpPr>
              <p:spPr>
                <a:xfrm flipH="1" flipV="1">
                  <a:off x="6757920" y="3250440"/>
                  <a:ext cx="74520" cy="34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0" name=""/>
                <p:cNvSpPr/>
                <p:nvPr/>
              </p:nvSpPr>
              <p:spPr>
                <a:xfrm flipH="1" flipV="1">
                  <a:off x="6681960" y="3004200"/>
                  <a:ext cx="5940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1" name=""/>
                <p:cNvSpPr/>
                <p:nvPr/>
              </p:nvSpPr>
              <p:spPr>
                <a:xfrm flipV="1">
                  <a:off x="6681240" y="2866320"/>
                  <a:ext cx="14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42" name=""/>
                <p:cNvGrpSpPr/>
                <p:nvPr/>
              </p:nvGrpSpPr>
              <p:grpSpPr>
                <a:xfrm>
                  <a:off x="6771960" y="2768760"/>
                  <a:ext cx="173160" cy="135720"/>
                  <a:chOff x="6771960" y="2768760"/>
                  <a:chExt cx="173160" cy="135720"/>
                </a:xfrm>
              </p:grpSpPr>
              <p:sp>
                <p:nvSpPr>
                  <p:cNvPr id="8443" name=""/>
                  <p:cNvSpPr/>
                  <p:nvPr/>
                </p:nvSpPr>
                <p:spPr>
                  <a:xfrm rot="4188600">
                    <a:off x="6814080" y="2760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4" name=""/>
                  <p:cNvSpPr/>
                  <p:nvPr/>
                </p:nvSpPr>
                <p:spPr>
                  <a:xfrm flipV="1">
                    <a:off x="6811920" y="2812320"/>
                    <a:ext cx="62280" cy="85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5" name=""/>
                  <p:cNvSpPr/>
                  <p:nvPr/>
                </p:nvSpPr>
                <p:spPr>
                  <a:xfrm flipV="1">
                    <a:off x="6837840" y="2857320"/>
                    <a:ext cx="16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6" name=""/>
                  <p:cNvSpPr/>
                  <p:nvPr/>
                </p:nvSpPr>
                <p:spPr>
                  <a:xfrm flipV="1">
                    <a:off x="6844320" y="2829240"/>
                    <a:ext cx="3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7" name=""/>
                  <p:cNvSpPr/>
                  <p:nvPr/>
                </p:nvSpPr>
                <p:spPr>
                  <a:xfrm flipV="1">
                    <a:off x="6861960" y="2826000"/>
                    <a:ext cx="104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48" name=""/>
                <p:cNvGrpSpPr/>
                <p:nvPr/>
              </p:nvGrpSpPr>
              <p:grpSpPr>
                <a:xfrm>
                  <a:off x="6690600" y="2962800"/>
                  <a:ext cx="129960" cy="171360"/>
                  <a:chOff x="6690600" y="2962800"/>
                  <a:chExt cx="129960" cy="171360"/>
                </a:xfrm>
              </p:grpSpPr>
              <p:sp>
                <p:nvSpPr>
                  <p:cNvPr id="8449" name=""/>
                  <p:cNvSpPr/>
                  <p:nvPr/>
                </p:nvSpPr>
                <p:spPr>
                  <a:xfrm rot="1030200">
                    <a:off x="6711120" y="2972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0" name=""/>
                  <p:cNvSpPr/>
                  <p:nvPr/>
                </p:nvSpPr>
                <p:spPr>
                  <a:xfrm flipH="1" flipV="1">
                    <a:off x="6745680" y="3021120"/>
                    <a:ext cx="3024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1" name=""/>
                  <p:cNvSpPr/>
                  <p:nvPr/>
                </p:nvSpPr>
                <p:spPr>
                  <a:xfrm flipV="1">
                    <a:off x="6769440" y="3063960"/>
                    <a:ext cx="36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2" name=""/>
                  <p:cNvSpPr/>
                  <p:nvPr/>
                </p:nvSpPr>
                <p:spPr>
                  <a:xfrm flipH="1" flipV="1">
                    <a:off x="6741360" y="3054960"/>
                    <a:ext cx="14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3" name=""/>
                  <p:cNvSpPr/>
                  <p:nvPr/>
                </p:nvSpPr>
                <p:spPr>
                  <a:xfrm flipH="1" flipV="1">
                    <a:off x="6755400" y="3031200"/>
                    <a:ext cx="1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4" name=""/>
                <p:cNvGrpSpPr/>
                <p:nvPr/>
              </p:nvGrpSpPr>
              <p:grpSpPr>
                <a:xfrm>
                  <a:off x="6777000" y="2931840"/>
                  <a:ext cx="166320" cy="173160"/>
                  <a:chOff x="6777000" y="2931840"/>
                  <a:chExt cx="166320" cy="173160"/>
                </a:xfrm>
              </p:grpSpPr>
              <p:sp>
                <p:nvSpPr>
                  <p:cNvPr id="8455" name=""/>
                  <p:cNvSpPr/>
                  <p:nvPr/>
                </p:nvSpPr>
                <p:spPr>
                  <a:xfrm rot="2443800">
                    <a:off x="6815520" y="2942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6" name=""/>
                  <p:cNvSpPr/>
                  <p:nvPr/>
                </p:nvSpPr>
                <p:spPr>
                  <a:xfrm flipV="1">
                    <a:off x="6849000" y="298944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7" name=""/>
                  <p:cNvSpPr/>
                  <p:nvPr/>
                </p:nvSpPr>
                <p:spPr>
                  <a:xfrm flipV="1">
                    <a:off x="6858000" y="303840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8" name=""/>
                  <p:cNvSpPr/>
                  <p:nvPr/>
                </p:nvSpPr>
                <p:spPr>
                  <a:xfrm flipH="1" flipV="1">
                    <a:off x="6844320" y="301860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9" name=""/>
                  <p:cNvSpPr/>
                  <p:nvPr/>
                </p:nvSpPr>
                <p:spPr>
                  <a:xfrm flipV="1">
                    <a:off x="6862680" y="300240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0" name=""/>
                <p:cNvGrpSpPr/>
                <p:nvPr/>
              </p:nvGrpSpPr>
              <p:grpSpPr>
                <a:xfrm>
                  <a:off x="6495480" y="3024720"/>
                  <a:ext cx="166680" cy="158400"/>
                  <a:chOff x="6495480" y="3024720"/>
                  <a:chExt cx="166680" cy="158400"/>
                </a:xfrm>
              </p:grpSpPr>
              <p:sp>
                <p:nvSpPr>
                  <p:cNvPr id="8461" name=""/>
                  <p:cNvSpPr/>
                  <p:nvPr/>
                </p:nvSpPr>
                <p:spPr>
                  <a:xfrm rot="18213000">
                    <a:off x="6527520" y="30376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2" name=""/>
                  <p:cNvSpPr/>
                  <p:nvPr/>
                </p:nvSpPr>
                <p:spPr>
                  <a:xfrm flipH="1">
                    <a:off x="6550560" y="3095640"/>
                    <a:ext cx="1008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3" name=""/>
                  <p:cNvSpPr/>
                  <p:nvPr/>
                </p:nvSpPr>
                <p:spPr>
                  <a:xfrm flipH="1" flipV="1">
                    <a:off x="6597720" y="3091320"/>
                    <a:ext cx="180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4" name=""/>
                  <p:cNvSpPr/>
                  <p:nvPr/>
                </p:nvSpPr>
                <p:spPr>
                  <a:xfrm flipH="1">
                    <a:off x="6579360" y="3106080"/>
                    <a:ext cx="158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5" name=""/>
                  <p:cNvSpPr/>
                  <p:nvPr/>
                </p:nvSpPr>
                <p:spPr>
                  <a:xfrm flipH="1" flipV="1">
                    <a:off x="6563520" y="310104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66" name=""/>
                <p:cNvGrpSpPr/>
                <p:nvPr/>
              </p:nvGrpSpPr>
              <p:grpSpPr>
                <a:xfrm>
                  <a:off x="6625440" y="2711880"/>
                  <a:ext cx="166320" cy="173160"/>
                  <a:chOff x="6625440" y="2711880"/>
                  <a:chExt cx="166320" cy="173160"/>
                </a:xfrm>
              </p:grpSpPr>
              <p:sp>
                <p:nvSpPr>
                  <p:cNvPr id="8467" name=""/>
                  <p:cNvSpPr/>
                  <p:nvPr/>
                </p:nvSpPr>
                <p:spPr>
                  <a:xfrm rot="2443800">
                    <a:off x="6663960" y="27223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8" name=""/>
                  <p:cNvSpPr/>
                  <p:nvPr/>
                </p:nvSpPr>
                <p:spPr>
                  <a:xfrm flipV="1">
                    <a:off x="6697800" y="2769480"/>
                    <a:ext cx="1260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9" name=""/>
                  <p:cNvSpPr/>
                  <p:nvPr/>
                </p:nvSpPr>
                <p:spPr>
                  <a:xfrm flipV="1">
                    <a:off x="6706800" y="2818440"/>
                    <a:ext cx="864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0" name=""/>
                  <p:cNvSpPr/>
                  <p:nvPr/>
                </p:nvSpPr>
                <p:spPr>
                  <a:xfrm flipH="1" flipV="1">
                    <a:off x="6693120" y="279864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1" name=""/>
                  <p:cNvSpPr/>
                  <p:nvPr/>
                </p:nvSpPr>
                <p:spPr>
                  <a:xfrm flipV="1">
                    <a:off x="6711120" y="278244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2" name=""/>
                <p:cNvGrpSpPr/>
                <p:nvPr/>
              </p:nvGrpSpPr>
              <p:grpSpPr>
                <a:xfrm>
                  <a:off x="6851880" y="2966040"/>
                  <a:ext cx="166320" cy="173160"/>
                  <a:chOff x="6851880" y="2966040"/>
                  <a:chExt cx="166320" cy="173160"/>
                </a:xfrm>
              </p:grpSpPr>
              <p:sp>
                <p:nvSpPr>
                  <p:cNvPr id="8473" name=""/>
                  <p:cNvSpPr/>
                  <p:nvPr/>
                </p:nvSpPr>
                <p:spPr>
                  <a:xfrm rot="2443800">
                    <a:off x="6890400" y="2976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4" name=""/>
                  <p:cNvSpPr/>
                  <p:nvPr/>
                </p:nvSpPr>
                <p:spPr>
                  <a:xfrm flipV="1">
                    <a:off x="6923880" y="302364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5" name=""/>
                  <p:cNvSpPr/>
                  <p:nvPr/>
                </p:nvSpPr>
                <p:spPr>
                  <a:xfrm flipV="1">
                    <a:off x="6932880" y="307260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6" name=""/>
                  <p:cNvSpPr/>
                  <p:nvPr/>
                </p:nvSpPr>
                <p:spPr>
                  <a:xfrm flipH="1" flipV="1">
                    <a:off x="6919200" y="305280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7" name=""/>
                  <p:cNvSpPr/>
                  <p:nvPr/>
                </p:nvSpPr>
                <p:spPr>
                  <a:xfrm flipV="1">
                    <a:off x="6937560" y="303660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8" name=""/>
                <p:cNvGrpSpPr/>
                <p:nvPr/>
              </p:nvGrpSpPr>
              <p:grpSpPr>
                <a:xfrm>
                  <a:off x="6700680" y="2716200"/>
                  <a:ext cx="166320" cy="173160"/>
                  <a:chOff x="6700680" y="2716200"/>
                  <a:chExt cx="166320" cy="173160"/>
                </a:xfrm>
              </p:grpSpPr>
              <p:sp>
                <p:nvSpPr>
                  <p:cNvPr id="8479" name=""/>
                  <p:cNvSpPr/>
                  <p:nvPr/>
                </p:nvSpPr>
                <p:spPr>
                  <a:xfrm rot="2443800">
                    <a:off x="6739200" y="27266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0" name=""/>
                  <p:cNvSpPr/>
                  <p:nvPr/>
                </p:nvSpPr>
                <p:spPr>
                  <a:xfrm flipV="1">
                    <a:off x="6772680" y="2773800"/>
                    <a:ext cx="12960" cy="10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1" name=""/>
                  <p:cNvSpPr/>
                  <p:nvPr/>
                </p:nvSpPr>
                <p:spPr>
                  <a:xfrm flipV="1">
                    <a:off x="6781680" y="2822760"/>
                    <a:ext cx="900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2" name=""/>
                  <p:cNvSpPr/>
                  <p:nvPr/>
                </p:nvSpPr>
                <p:spPr>
                  <a:xfrm flipH="1" flipV="1">
                    <a:off x="6768360" y="280296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3" name=""/>
                  <p:cNvSpPr/>
                  <p:nvPr/>
                </p:nvSpPr>
                <p:spPr>
                  <a:xfrm flipV="1">
                    <a:off x="6786360" y="278676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4" name=""/>
                <p:cNvGrpSpPr/>
                <p:nvPr/>
              </p:nvGrpSpPr>
              <p:grpSpPr>
                <a:xfrm>
                  <a:off x="6588720" y="3199320"/>
                  <a:ext cx="162360" cy="146880"/>
                  <a:chOff x="6588720" y="3199320"/>
                  <a:chExt cx="162360" cy="146880"/>
                </a:xfrm>
              </p:grpSpPr>
              <p:sp>
                <p:nvSpPr>
                  <p:cNvPr id="8485" name=""/>
                  <p:cNvSpPr/>
                  <p:nvPr/>
                </p:nvSpPr>
                <p:spPr>
                  <a:xfrm rot="17641800">
                    <a:off x="6618600" y="3206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6" name=""/>
                  <p:cNvSpPr/>
                  <p:nvPr/>
                </p:nvSpPr>
                <p:spPr>
                  <a:xfrm flipH="1">
                    <a:off x="6643080" y="3252240"/>
                    <a:ext cx="96840" cy="30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7" name=""/>
                  <p:cNvSpPr/>
                  <p:nvPr/>
                </p:nvSpPr>
                <p:spPr>
                  <a:xfrm flipH="1" flipV="1">
                    <a:off x="6686280" y="325692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8" name=""/>
                  <p:cNvSpPr/>
                  <p:nvPr/>
                </p:nvSpPr>
                <p:spPr>
                  <a:xfrm flipH="1">
                    <a:off x="6672960" y="3272040"/>
                    <a:ext cx="133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9" name=""/>
                  <p:cNvSpPr/>
                  <p:nvPr/>
                </p:nvSpPr>
                <p:spPr>
                  <a:xfrm flipH="1">
                    <a:off x="6654240" y="3270960"/>
                    <a:ext cx="133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0" name=""/>
                <p:cNvGrpSpPr/>
                <p:nvPr/>
              </p:nvGrpSpPr>
              <p:grpSpPr>
                <a:xfrm>
                  <a:off x="6535080" y="3128400"/>
                  <a:ext cx="147960" cy="123840"/>
                  <a:chOff x="6535080" y="3128400"/>
                  <a:chExt cx="147960" cy="123840"/>
                </a:xfrm>
              </p:grpSpPr>
              <p:sp>
                <p:nvSpPr>
                  <p:cNvPr id="8491" name=""/>
                  <p:cNvSpPr/>
                  <p:nvPr/>
                </p:nvSpPr>
                <p:spPr>
                  <a:xfrm rot="16802400">
                    <a:off x="6557760" y="3124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2" name=""/>
                  <p:cNvSpPr/>
                  <p:nvPr/>
                </p:nvSpPr>
                <p:spPr>
                  <a:xfrm flipH="1">
                    <a:off x="6585840" y="3153600"/>
                    <a:ext cx="86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3" name=""/>
                  <p:cNvSpPr/>
                  <p:nvPr/>
                </p:nvSpPr>
                <p:spPr>
                  <a:xfrm flipH="1">
                    <a:off x="6621480" y="3168000"/>
                    <a:ext cx="187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4" name=""/>
                  <p:cNvSpPr/>
                  <p:nvPr/>
                </p:nvSpPr>
                <p:spPr>
                  <a:xfrm flipH="1">
                    <a:off x="6616080" y="3186000"/>
                    <a:ext cx="90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5" name=""/>
                  <p:cNvSpPr/>
                  <p:nvPr/>
                </p:nvSpPr>
                <p:spPr>
                  <a:xfrm flipH="1">
                    <a:off x="6594120" y="3189600"/>
                    <a:ext cx="126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96" name=""/>
                <p:cNvGrpSpPr/>
                <p:nvPr/>
              </p:nvGrpSpPr>
              <p:grpSpPr>
                <a:xfrm>
                  <a:off x="6494400" y="2811960"/>
                  <a:ext cx="167040" cy="161640"/>
                  <a:chOff x="6494400" y="2811960"/>
                  <a:chExt cx="167040" cy="161640"/>
                </a:xfrm>
              </p:grpSpPr>
              <p:sp>
                <p:nvSpPr>
                  <p:cNvPr id="8497" name=""/>
                  <p:cNvSpPr/>
                  <p:nvPr/>
                </p:nvSpPr>
                <p:spPr>
                  <a:xfrm rot="18454200">
                    <a:off x="6526800" y="2826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8" name=""/>
                  <p:cNvSpPr/>
                  <p:nvPr/>
                </p:nvSpPr>
                <p:spPr>
                  <a:xfrm flipH="1">
                    <a:off x="6549480" y="2889720"/>
                    <a:ext cx="1015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9" name=""/>
                  <p:cNvSpPr/>
                  <p:nvPr/>
                </p:nvSpPr>
                <p:spPr>
                  <a:xfrm flipH="1" flipV="1">
                    <a:off x="6597720" y="2881800"/>
                    <a:ext cx="180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0" name=""/>
                  <p:cNvSpPr/>
                  <p:nvPr/>
                </p:nvSpPr>
                <p:spPr>
                  <a:xfrm flipH="1">
                    <a:off x="6577200" y="2896200"/>
                    <a:ext cx="169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1" name=""/>
                  <p:cNvSpPr/>
                  <p:nvPr/>
                </p:nvSpPr>
                <p:spPr>
                  <a:xfrm flipH="1" flipV="1">
                    <a:off x="6562800" y="2889000"/>
                    <a:ext cx="133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2" name=""/>
                <p:cNvGrpSpPr/>
                <p:nvPr/>
              </p:nvGrpSpPr>
              <p:grpSpPr>
                <a:xfrm>
                  <a:off x="6454440" y="2904840"/>
                  <a:ext cx="158040" cy="139320"/>
                  <a:chOff x="6454440" y="2904840"/>
                  <a:chExt cx="158040" cy="139320"/>
                </a:xfrm>
              </p:grpSpPr>
              <p:sp>
                <p:nvSpPr>
                  <p:cNvPr id="8503" name=""/>
                  <p:cNvSpPr/>
                  <p:nvPr/>
                </p:nvSpPr>
                <p:spPr>
                  <a:xfrm rot="17325000">
                    <a:off x="6482160" y="29084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4" name=""/>
                  <p:cNvSpPr/>
                  <p:nvPr/>
                </p:nvSpPr>
                <p:spPr>
                  <a:xfrm flipH="1">
                    <a:off x="6507720" y="2947680"/>
                    <a:ext cx="93600" cy="39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5" name=""/>
                  <p:cNvSpPr/>
                  <p:nvPr/>
                </p:nvSpPr>
                <p:spPr>
                  <a:xfrm flipH="1">
                    <a:off x="6548400" y="295704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6" name=""/>
                  <p:cNvSpPr/>
                  <p:nvPr/>
                </p:nvSpPr>
                <p:spPr>
                  <a:xfrm flipH="1">
                    <a:off x="6537960" y="297252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7" name=""/>
                  <p:cNvSpPr/>
                  <p:nvPr/>
                </p:nvSpPr>
                <p:spPr>
                  <a:xfrm flipH="1">
                    <a:off x="6517800" y="2973240"/>
                    <a:ext cx="129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08" name=""/>
                <p:cNvGrpSpPr/>
                <p:nvPr/>
              </p:nvGrpSpPr>
              <p:grpSpPr>
                <a:xfrm>
                  <a:off x="6541560" y="2946240"/>
                  <a:ext cx="164520" cy="151560"/>
                  <a:chOff x="6541560" y="2946240"/>
                  <a:chExt cx="164520" cy="151560"/>
                </a:xfrm>
              </p:grpSpPr>
              <p:sp>
                <p:nvSpPr>
                  <p:cNvPr id="8509" name=""/>
                  <p:cNvSpPr/>
                  <p:nvPr/>
                </p:nvSpPr>
                <p:spPr>
                  <a:xfrm rot="17845200">
                    <a:off x="6572520" y="29556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0" name=""/>
                  <p:cNvSpPr/>
                  <p:nvPr/>
                </p:nvSpPr>
                <p:spPr>
                  <a:xfrm flipH="1">
                    <a:off x="6596280" y="3005640"/>
                    <a:ext cx="9864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1" name=""/>
                  <p:cNvSpPr/>
                  <p:nvPr/>
                </p:nvSpPr>
                <p:spPr>
                  <a:xfrm flipH="1" flipV="1">
                    <a:off x="6640920" y="30074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2" name=""/>
                  <p:cNvSpPr/>
                  <p:nvPr/>
                </p:nvSpPr>
                <p:spPr>
                  <a:xfrm flipH="1">
                    <a:off x="6625800" y="3022200"/>
                    <a:ext cx="14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3" name=""/>
                  <p:cNvSpPr/>
                  <p:nvPr/>
                </p:nvSpPr>
                <p:spPr>
                  <a:xfrm flipH="1">
                    <a:off x="6608160" y="3020400"/>
                    <a:ext cx="133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4" name=""/>
                <p:cNvGrpSpPr/>
                <p:nvPr/>
              </p:nvGrpSpPr>
              <p:grpSpPr>
                <a:xfrm>
                  <a:off x="6616800" y="2791800"/>
                  <a:ext cx="160560" cy="167040"/>
                  <a:chOff x="6616800" y="2791800"/>
                  <a:chExt cx="160560" cy="167040"/>
                </a:xfrm>
              </p:grpSpPr>
              <p:sp>
                <p:nvSpPr>
                  <p:cNvPr id="8515" name=""/>
                  <p:cNvSpPr/>
                  <p:nvPr/>
                </p:nvSpPr>
                <p:spPr>
                  <a:xfrm rot="19429200">
                    <a:off x="6645600" y="2809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6" name=""/>
                  <p:cNvSpPr/>
                  <p:nvPr/>
                </p:nvSpPr>
                <p:spPr>
                  <a:xfrm flipH="1" flipV="1">
                    <a:off x="6669000" y="2870640"/>
                    <a:ext cx="99360" cy="21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7" name=""/>
                  <p:cNvSpPr/>
                  <p:nvPr/>
                </p:nvSpPr>
                <p:spPr>
                  <a:xfrm flipH="1" flipV="1">
                    <a:off x="6719040" y="286992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8" name=""/>
                  <p:cNvSpPr/>
                  <p:nvPr/>
                </p:nvSpPr>
                <p:spPr>
                  <a:xfrm flipH="1">
                    <a:off x="6692040" y="2882880"/>
                    <a:ext cx="198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9" name=""/>
                  <p:cNvSpPr/>
                  <p:nvPr/>
                </p:nvSpPr>
                <p:spPr>
                  <a:xfrm flipH="1" flipV="1">
                    <a:off x="6683760" y="2867400"/>
                    <a:ext cx="118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0" name=""/>
                <p:cNvGrpSpPr/>
                <p:nvPr/>
              </p:nvGrpSpPr>
              <p:grpSpPr>
                <a:xfrm>
                  <a:off x="6783480" y="2974680"/>
                  <a:ext cx="94320" cy="155160"/>
                  <a:chOff x="6783480" y="2974680"/>
                  <a:chExt cx="94320" cy="155160"/>
                </a:xfrm>
              </p:grpSpPr>
              <p:sp>
                <p:nvSpPr>
                  <p:cNvPr id="8521" name=""/>
                  <p:cNvSpPr/>
                  <p:nvPr/>
                </p:nvSpPr>
                <p:spPr>
                  <a:xfrm rot="21480000">
                    <a:off x="6786000" y="29761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2" name=""/>
                  <p:cNvSpPr/>
                  <p:nvPr/>
                </p:nvSpPr>
                <p:spPr>
                  <a:xfrm flipH="1" flipV="1">
                    <a:off x="6812280" y="3030120"/>
                    <a:ext cx="6156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3" name=""/>
                  <p:cNvSpPr/>
                  <p:nvPr/>
                </p:nvSpPr>
                <p:spPr>
                  <a:xfrm flipH="1" flipV="1">
                    <a:off x="6849000" y="3062520"/>
                    <a:ext cx="648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4" name=""/>
                  <p:cNvSpPr/>
                  <p:nvPr/>
                </p:nvSpPr>
                <p:spPr>
                  <a:xfrm flipH="1" flipV="1">
                    <a:off x="6819120" y="3063240"/>
                    <a:ext cx="1800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5" name=""/>
                  <p:cNvSpPr/>
                  <p:nvPr/>
                </p:nvSpPr>
                <p:spPr>
                  <a:xfrm flipH="1" flipV="1">
                    <a:off x="6824520" y="3036240"/>
                    <a:ext cx="64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6" name=""/>
                <p:cNvGrpSpPr/>
                <p:nvPr/>
              </p:nvGrpSpPr>
              <p:grpSpPr>
                <a:xfrm>
                  <a:off x="6947640" y="3027600"/>
                  <a:ext cx="160200" cy="143280"/>
                  <a:chOff x="6947640" y="3027600"/>
                  <a:chExt cx="160200" cy="143280"/>
                </a:xfrm>
              </p:grpSpPr>
              <p:sp>
                <p:nvSpPr>
                  <p:cNvPr id="8527" name=""/>
                  <p:cNvSpPr/>
                  <p:nvPr/>
                </p:nvSpPr>
                <p:spPr>
                  <a:xfrm rot="6676200">
                    <a:off x="6976440" y="3033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8" name=""/>
                  <p:cNvSpPr/>
                  <p:nvPr/>
                </p:nvSpPr>
                <p:spPr>
                  <a:xfrm flipV="1">
                    <a:off x="6958440" y="3088080"/>
                    <a:ext cx="9540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9" name=""/>
                  <p:cNvSpPr/>
                  <p:nvPr/>
                </p:nvSpPr>
                <p:spPr>
                  <a:xfrm>
                    <a:off x="6993000" y="311544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0" name=""/>
                  <p:cNvSpPr/>
                  <p:nvPr/>
                </p:nvSpPr>
                <p:spPr>
                  <a:xfrm flipV="1">
                    <a:off x="7011000" y="3084120"/>
                    <a:ext cx="126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1" name=""/>
                  <p:cNvSpPr/>
                  <p:nvPr/>
                </p:nvSpPr>
                <p:spPr>
                  <a:xfrm flipV="1">
                    <a:off x="7030080" y="3098880"/>
                    <a:ext cx="129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2" name=""/>
                <p:cNvGrpSpPr/>
                <p:nvPr/>
              </p:nvGrpSpPr>
              <p:grpSpPr>
                <a:xfrm>
                  <a:off x="6932160" y="3164400"/>
                  <a:ext cx="161640" cy="146160"/>
                  <a:chOff x="6932160" y="3164400"/>
                  <a:chExt cx="161640" cy="146160"/>
                </a:xfrm>
              </p:grpSpPr>
              <p:sp>
                <p:nvSpPr>
                  <p:cNvPr id="8533" name=""/>
                  <p:cNvSpPr/>
                  <p:nvPr/>
                </p:nvSpPr>
                <p:spPr>
                  <a:xfrm rot="6796200">
                    <a:off x="6961680" y="31712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4" name=""/>
                  <p:cNvSpPr/>
                  <p:nvPr/>
                </p:nvSpPr>
                <p:spPr>
                  <a:xfrm flipV="1">
                    <a:off x="6942960" y="3227040"/>
                    <a:ext cx="9648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5" name=""/>
                  <p:cNvSpPr/>
                  <p:nvPr/>
                </p:nvSpPr>
                <p:spPr>
                  <a:xfrm>
                    <a:off x="6977880" y="32518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6" name=""/>
                  <p:cNvSpPr/>
                  <p:nvPr/>
                </p:nvSpPr>
                <p:spPr>
                  <a:xfrm flipV="1">
                    <a:off x="6996240" y="3221640"/>
                    <a:ext cx="133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7" name=""/>
                  <p:cNvSpPr/>
                  <p:nvPr/>
                </p:nvSpPr>
                <p:spPr>
                  <a:xfrm flipV="1">
                    <a:off x="7015320" y="32374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38" name=""/>
                <p:cNvGrpSpPr/>
                <p:nvPr/>
              </p:nvGrpSpPr>
              <p:grpSpPr>
                <a:xfrm>
                  <a:off x="6674040" y="3093120"/>
                  <a:ext cx="104760" cy="160560"/>
                  <a:chOff x="6674040" y="3093120"/>
                  <a:chExt cx="104760" cy="160560"/>
                </a:xfrm>
              </p:grpSpPr>
              <p:sp>
                <p:nvSpPr>
                  <p:cNvPr id="8539" name=""/>
                  <p:cNvSpPr/>
                  <p:nvPr/>
                </p:nvSpPr>
                <p:spPr>
                  <a:xfrm rot="369000">
                    <a:off x="6681600" y="3097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0" name=""/>
                  <p:cNvSpPr/>
                  <p:nvPr/>
                </p:nvSpPr>
                <p:spPr>
                  <a:xfrm flipH="1" flipV="1">
                    <a:off x="6711480" y="3148560"/>
                    <a:ext cx="4896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1" name=""/>
                  <p:cNvSpPr/>
                  <p:nvPr/>
                </p:nvSpPr>
                <p:spPr>
                  <a:xfrm flipH="1" flipV="1">
                    <a:off x="6743160" y="3186000"/>
                    <a:ext cx="360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2" name=""/>
                  <p:cNvSpPr/>
                  <p:nvPr/>
                </p:nvSpPr>
                <p:spPr>
                  <a:xfrm flipH="1" flipV="1">
                    <a:off x="6713640" y="3182400"/>
                    <a:ext cx="16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3" name=""/>
                  <p:cNvSpPr/>
                  <p:nvPr/>
                </p:nvSpPr>
                <p:spPr>
                  <a:xfrm flipH="1" flipV="1">
                    <a:off x="6723000" y="3156480"/>
                    <a:ext cx="43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4" name=""/>
                <p:cNvGrpSpPr/>
                <p:nvPr/>
              </p:nvGrpSpPr>
              <p:grpSpPr>
                <a:xfrm>
                  <a:off x="6567120" y="2982240"/>
                  <a:ext cx="112320" cy="139680"/>
                  <a:chOff x="6567120" y="2982240"/>
                  <a:chExt cx="112320" cy="139680"/>
                </a:xfrm>
              </p:grpSpPr>
              <p:sp>
                <p:nvSpPr>
                  <p:cNvPr id="8545" name=""/>
                  <p:cNvSpPr/>
                  <p:nvPr/>
                </p:nvSpPr>
                <p:spPr>
                  <a:xfrm rot="21334200">
                    <a:off x="6571800" y="2985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6" name=""/>
                  <p:cNvSpPr/>
                  <p:nvPr/>
                </p:nvSpPr>
                <p:spPr>
                  <a:xfrm flipH="1" flipV="1">
                    <a:off x="6601680" y="3033360"/>
                    <a:ext cx="72720" cy="70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7" name=""/>
                  <p:cNvSpPr/>
                  <p:nvPr/>
                </p:nvSpPr>
                <p:spPr>
                  <a:xfrm flipH="1" flipV="1">
                    <a:off x="6644880" y="305928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8" name=""/>
                  <p:cNvSpPr/>
                  <p:nvPr/>
                </p:nvSpPr>
                <p:spPr>
                  <a:xfrm flipH="1" flipV="1">
                    <a:off x="6611040" y="3062160"/>
                    <a:ext cx="2052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9" name=""/>
                  <p:cNvSpPr/>
                  <p:nvPr/>
                </p:nvSpPr>
                <p:spPr>
                  <a:xfrm flipH="1" flipV="1">
                    <a:off x="6616080" y="303840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0" name=""/>
                <p:cNvGrpSpPr/>
                <p:nvPr/>
              </p:nvGrpSpPr>
              <p:grpSpPr>
                <a:xfrm>
                  <a:off x="6518880" y="2820960"/>
                  <a:ext cx="117720" cy="143640"/>
                  <a:chOff x="6518880" y="2820960"/>
                  <a:chExt cx="117720" cy="143640"/>
                </a:xfrm>
              </p:grpSpPr>
              <p:sp>
                <p:nvSpPr>
                  <p:cNvPr id="8551" name=""/>
                  <p:cNvSpPr/>
                  <p:nvPr/>
                </p:nvSpPr>
                <p:spPr>
                  <a:xfrm rot="21174000">
                    <a:off x="6526440" y="28267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2" name=""/>
                  <p:cNvSpPr/>
                  <p:nvPr/>
                </p:nvSpPr>
                <p:spPr>
                  <a:xfrm flipH="1" flipV="1">
                    <a:off x="6555240" y="2875320"/>
                    <a:ext cx="7632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3" name=""/>
                  <p:cNvSpPr/>
                  <p:nvPr/>
                </p:nvSpPr>
                <p:spPr>
                  <a:xfrm flipH="1" flipV="1">
                    <a:off x="6599520" y="289908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4" name=""/>
                  <p:cNvSpPr/>
                  <p:nvPr/>
                </p:nvSpPr>
                <p:spPr>
                  <a:xfrm flipH="1" flipV="1">
                    <a:off x="6566040" y="2903760"/>
                    <a:ext cx="2088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5" name=""/>
                  <p:cNvSpPr/>
                  <p:nvPr/>
                </p:nvSpPr>
                <p:spPr>
                  <a:xfrm flipH="1" flipV="1">
                    <a:off x="6570000" y="2879640"/>
                    <a:ext cx="79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6" name=""/>
                <p:cNvGrpSpPr/>
                <p:nvPr/>
              </p:nvGrpSpPr>
              <p:grpSpPr>
                <a:xfrm>
                  <a:off x="6570720" y="2732760"/>
                  <a:ext cx="97920" cy="156960"/>
                  <a:chOff x="6570720" y="2732760"/>
                  <a:chExt cx="97920" cy="156960"/>
                </a:xfrm>
              </p:grpSpPr>
              <p:sp>
                <p:nvSpPr>
                  <p:cNvPr id="8557" name=""/>
                  <p:cNvSpPr/>
                  <p:nvPr/>
                </p:nvSpPr>
                <p:spPr>
                  <a:xfrm rot="205800">
                    <a:off x="6575040" y="27352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8" name=""/>
                  <p:cNvSpPr/>
                  <p:nvPr/>
                </p:nvSpPr>
                <p:spPr>
                  <a:xfrm flipH="1" flipV="1">
                    <a:off x="6603480" y="2787120"/>
                    <a:ext cx="53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9" name=""/>
                  <p:cNvSpPr/>
                  <p:nvPr/>
                </p:nvSpPr>
                <p:spPr>
                  <a:xfrm flipH="1" flipV="1">
                    <a:off x="6637320" y="2823120"/>
                    <a:ext cx="432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0" name=""/>
                  <p:cNvSpPr/>
                  <p:nvPr/>
                </p:nvSpPr>
                <p:spPr>
                  <a:xfrm flipH="1" flipV="1">
                    <a:off x="6607440" y="2820960"/>
                    <a:ext cx="172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1" name=""/>
                  <p:cNvSpPr/>
                  <p:nvPr/>
                </p:nvSpPr>
                <p:spPr>
                  <a:xfrm flipH="1" flipV="1">
                    <a:off x="6615360" y="2794320"/>
                    <a:ext cx="50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62" name=""/>
              <p:cNvGrpSpPr/>
              <p:nvPr/>
            </p:nvGrpSpPr>
            <p:grpSpPr>
              <a:xfrm>
                <a:off x="5823720" y="2574720"/>
                <a:ext cx="747720" cy="621360"/>
                <a:chOff x="5823720" y="2574720"/>
                <a:chExt cx="747720" cy="621360"/>
              </a:xfrm>
            </p:grpSpPr>
            <p:grpSp>
              <p:nvGrpSpPr>
                <p:cNvPr id="8563" name=""/>
                <p:cNvGrpSpPr/>
                <p:nvPr/>
              </p:nvGrpSpPr>
              <p:grpSpPr>
                <a:xfrm>
                  <a:off x="6059520" y="2650680"/>
                  <a:ext cx="159120" cy="166680"/>
                  <a:chOff x="6059520" y="2650680"/>
                  <a:chExt cx="159120" cy="166680"/>
                </a:xfrm>
              </p:grpSpPr>
              <p:sp>
                <p:nvSpPr>
                  <p:cNvPr id="8564" name=""/>
                  <p:cNvSpPr/>
                  <p:nvPr/>
                </p:nvSpPr>
                <p:spPr>
                  <a:xfrm rot="2086800">
                    <a:off x="6087600" y="26679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5" name=""/>
                  <p:cNvSpPr/>
                  <p:nvPr/>
                </p:nvSpPr>
                <p:spPr>
                  <a:xfrm flipH="1" flipV="1">
                    <a:off x="6134040" y="2705760"/>
                    <a:ext cx="1188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6" name=""/>
                  <p:cNvSpPr/>
                  <p:nvPr/>
                </p:nvSpPr>
                <p:spPr>
                  <a:xfrm flipV="1">
                    <a:off x="6146280" y="27532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7" name=""/>
                  <p:cNvSpPr/>
                  <p:nvPr/>
                </p:nvSpPr>
                <p:spPr>
                  <a:xfrm flipH="1" flipV="1">
                    <a:off x="6123240" y="2734200"/>
                    <a:ext cx="13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8" name=""/>
                  <p:cNvSpPr/>
                  <p:nvPr/>
                </p:nvSpPr>
                <p:spPr>
                  <a:xfrm flipV="1">
                    <a:off x="6140880" y="271908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69" name=""/>
                <p:cNvSpPr/>
                <p:nvPr/>
              </p:nvSpPr>
              <p:spPr>
                <a:xfrm flipH="1">
                  <a:off x="6193080" y="2874240"/>
                  <a:ext cx="151920" cy="13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0" name=""/>
                <p:cNvSpPr/>
                <p:nvPr/>
              </p:nvSpPr>
              <p:spPr>
                <a:xfrm rot="19871400">
                  <a:off x="6035040" y="2799000"/>
                  <a:ext cx="495360" cy="29592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1" name=""/>
                <p:cNvSpPr/>
                <p:nvPr/>
              </p:nvSpPr>
              <p:spPr>
                <a:xfrm flipH="1" flipV="1">
                  <a:off x="6044040" y="2779920"/>
                  <a:ext cx="14616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2" name=""/>
                <p:cNvSpPr/>
                <p:nvPr/>
              </p:nvSpPr>
              <p:spPr>
                <a:xfrm flipH="1" flipV="1">
                  <a:off x="6307560" y="2765160"/>
                  <a:ext cx="235800" cy="18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3" name=""/>
                <p:cNvSpPr/>
                <p:nvPr/>
              </p:nvSpPr>
              <p:spPr>
                <a:xfrm flipH="1">
                  <a:off x="6256080" y="2942640"/>
                  <a:ext cx="1260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4" name=""/>
                <p:cNvSpPr/>
                <p:nvPr/>
              </p:nvSpPr>
              <p:spPr>
                <a:xfrm flipH="1">
                  <a:off x="6246720" y="2894040"/>
                  <a:ext cx="6300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5" name=""/>
                <p:cNvSpPr/>
                <p:nvPr/>
              </p:nvSpPr>
              <p:spPr>
                <a:xfrm flipH="1" flipV="1">
                  <a:off x="6019560" y="2819160"/>
                  <a:ext cx="10260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6" name=""/>
                <p:cNvSpPr/>
                <p:nvPr/>
              </p:nvSpPr>
              <p:spPr>
                <a:xfrm flipH="1" flipV="1">
                  <a:off x="6135120" y="2781360"/>
                  <a:ext cx="1548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7" name=""/>
                <p:cNvSpPr/>
                <p:nvPr/>
              </p:nvSpPr>
              <p:spPr>
                <a:xfrm flipH="1">
                  <a:off x="6044760" y="2919240"/>
                  <a:ext cx="29880" cy="6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8" name=""/>
                <p:cNvSpPr/>
                <p:nvPr/>
              </p:nvSpPr>
              <p:spPr>
                <a:xfrm flipH="1" flipV="1">
                  <a:off x="6249240" y="2823480"/>
                  <a:ext cx="17640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9" name=""/>
                <p:cNvSpPr/>
                <p:nvPr/>
              </p:nvSpPr>
              <p:spPr>
                <a:xfrm flipH="1" flipV="1">
                  <a:off x="6283800" y="2804040"/>
                  <a:ext cx="3852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0" name=""/>
                <p:cNvSpPr/>
                <p:nvPr/>
              </p:nvSpPr>
              <p:spPr>
                <a:xfrm flipH="1" flipV="1">
                  <a:off x="6437880" y="2797200"/>
                  <a:ext cx="26640" cy="88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1" name=""/>
                <p:cNvSpPr/>
                <p:nvPr/>
              </p:nvSpPr>
              <p:spPr>
                <a:xfrm flipH="1" flipV="1">
                  <a:off x="6313680" y="2735280"/>
                  <a:ext cx="327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2" name=""/>
                <p:cNvSpPr/>
                <p:nvPr/>
              </p:nvSpPr>
              <p:spPr>
                <a:xfrm flipH="1">
                  <a:off x="6371280" y="2905920"/>
                  <a:ext cx="57960" cy="57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3" name=""/>
                <p:cNvSpPr/>
                <p:nvPr/>
              </p:nvSpPr>
              <p:spPr>
                <a:xfrm flipH="1">
                  <a:off x="6113880" y="2900520"/>
                  <a:ext cx="4140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4" name=""/>
                <p:cNvSpPr/>
                <p:nvPr/>
              </p:nvSpPr>
              <p:spPr>
                <a:xfrm flipH="1" flipV="1">
                  <a:off x="5989320" y="2887920"/>
                  <a:ext cx="3924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85" name=""/>
                <p:cNvGrpSpPr/>
                <p:nvPr/>
              </p:nvGrpSpPr>
              <p:grpSpPr>
                <a:xfrm>
                  <a:off x="5973840" y="2648520"/>
                  <a:ext cx="89640" cy="152280"/>
                  <a:chOff x="5973840" y="2648520"/>
                  <a:chExt cx="89640" cy="152280"/>
                </a:xfrm>
              </p:grpSpPr>
              <p:sp>
                <p:nvSpPr>
                  <p:cNvPr id="8586" name=""/>
                  <p:cNvSpPr/>
                  <p:nvPr/>
                </p:nvSpPr>
                <p:spPr>
                  <a:xfrm rot="16800">
                    <a:off x="5973840" y="264852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7" name=""/>
                  <p:cNvSpPr/>
                  <p:nvPr/>
                </p:nvSpPr>
                <p:spPr>
                  <a:xfrm flipH="1" flipV="1">
                    <a:off x="6001200" y="2701440"/>
                    <a:ext cx="5832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8" name=""/>
                  <p:cNvSpPr/>
                  <p:nvPr/>
                </p:nvSpPr>
                <p:spPr>
                  <a:xfrm flipH="1" flipV="1">
                    <a:off x="6036840" y="27356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9" name=""/>
                  <p:cNvSpPr/>
                  <p:nvPr/>
                </p:nvSpPr>
                <p:spPr>
                  <a:xfrm flipH="1" flipV="1">
                    <a:off x="6006960" y="2734920"/>
                    <a:ext cx="176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0" name=""/>
                  <p:cNvSpPr/>
                  <p:nvPr/>
                </p:nvSpPr>
                <p:spPr>
                  <a:xfrm flipH="1" flipV="1">
                    <a:off x="6013440" y="2707920"/>
                    <a:ext cx="57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91" name=""/>
                <p:cNvGrpSpPr/>
                <p:nvPr/>
              </p:nvGrpSpPr>
              <p:grpSpPr>
                <a:xfrm>
                  <a:off x="6094080" y="2813400"/>
                  <a:ext cx="174600" cy="163440"/>
                  <a:chOff x="6094080" y="2813400"/>
                  <a:chExt cx="174600" cy="163440"/>
                </a:xfrm>
              </p:grpSpPr>
              <p:sp>
                <p:nvSpPr>
                  <p:cNvPr id="8592" name=""/>
                  <p:cNvSpPr/>
                  <p:nvPr/>
                </p:nvSpPr>
                <p:spPr>
                  <a:xfrm rot="18458400">
                    <a:off x="6136920" y="281916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3" name=""/>
                  <p:cNvSpPr/>
                  <p:nvPr/>
                </p:nvSpPr>
                <p:spPr>
                  <a:xfrm flipH="1" flipV="1">
                    <a:off x="6152400" y="2895120"/>
                    <a:ext cx="10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4" name=""/>
                  <p:cNvSpPr/>
                  <p:nvPr/>
                </p:nvSpPr>
                <p:spPr>
                  <a:xfrm flipH="1" flipV="1">
                    <a:off x="6200640" y="2887560"/>
                    <a:ext cx="1980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5" name=""/>
                  <p:cNvSpPr/>
                  <p:nvPr/>
                </p:nvSpPr>
                <p:spPr>
                  <a:xfrm flipH="1">
                    <a:off x="6182280" y="290124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6" name=""/>
                  <p:cNvSpPr/>
                  <p:nvPr/>
                </p:nvSpPr>
                <p:spPr>
                  <a:xfrm flipH="1" flipV="1">
                    <a:off x="6165000" y="2889360"/>
                    <a:ext cx="140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97" name=""/>
                <p:cNvGrpSpPr/>
                <p:nvPr/>
              </p:nvGrpSpPr>
              <p:grpSpPr>
                <a:xfrm>
                  <a:off x="6113880" y="2698920"/>
                  <a:ext cx="151200" cy="176040"/>
                  <a:chOff x="6113880" y="2698920"/>
                  <a:chExt cx="151200" cy="176040"/>
                </a:xfrm>
              </p:grpSpPr>
              <p:sp>
                <p:nvSpPr>
                  <p:cNvPr id="8598" name=""/>
                  <p:cNvSpPr/>
                  <p:nvPr/>
                </p:nvSpPr>
                <p:spPr>
                  <a:xfrm rot="19871400">
                    <a:off x="6144840" y="27108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9" name=""/>
                  <p:cNvSpPr/>
                  <p:nvPr/>
                </p:nvSpPr>
                <p:spPr>
                  <a:xfrm flipH="1" flipV="1">
                    <a:off x="6162840" y="2775240"/>
                    <a:ext cx="939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0" name=""/>
                  <p:cNvSpPr/>
                  <p:nvPr/>
                </p:nvSpPr>
                <p:spPr>
                  <a:xfrm flipH="1" flipV="1">
                    <a:off x="6210360" y="278748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1" name=""/>
                  <p:cNvSpPr/>
                  <p:nvPr/>
                </p:nvSpPr>
                <p:spPr>
                  <a:xfrm flipH="1">
                    <a:off x="6184080" y="27990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2" name=""/>
                  <p:cNvSpPr/>
                  <p:nvPr/>
                </p:nvSpPr>
                <p:spPr>
                  <a:xfrm flipH="1" flipV="1">
                    <a:off x="6176880" y="277488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3" name=""/>
                <p:cNvGrpSpPr/>
                <p:nvPr/>
              </p:nvGrpSpPr>
              <p:grpSpPr>
                <a:xfrm>
                  <a:off x="6087600" y="3000240"/>
                  <a:ext cx="167040" cy="160200"/>
                  <a:chOff x="6087600" y="3000240"/>
                  <a:chExt cx="167040" cy="160200"/>
                </a:xfrm>
              </p:grpSpPr>
              <p:sp>
                <p:nvSpPr>
                  <p:cNvPr id="8604" name=""/>
                  <p:cNvSpPr/>
                  <p:nvPr/>
                </p:nvSpPr>
                <p:spPr>
                  <a:xfrm rot="14040600">
                    <a:off x="6120000" y="30139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5" name=""/>
                  <p:cNvSpPr/>
                  <p:nvPr/>
                </p:nvSpPr>
                <p:spPr>
                  <a:xfrm flipH="1">
                    <a:off x="6166440" y="3009240"/>
                    <a:ext cx="22320" cy="9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6" name=""/>
                  <p:cNvSpPr/>
                  <p:nvPr/>
                </p:nvSpPr>
                <p:spPr>
                  <a:xfrm flipH="1">
                    <a:off x="6166080" y="304272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7" name=""/>
                  <p:cNvSpPr/>
                  <p:nvPr/>
                </p:nvSpPr>
                <p:spPr>
                  <a:xfrm>
                    <a:off x="6179040" y="3065760"/>
                    <a:ext cx="7200" cy="19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8" name=""/>
                  <p:cNvSpPr/>
                  <p:nvPr/>
                </p:nvSpPr>
                <p:spPr>
                  <a:xfrm flipH="1">
                    <a:off x="6163200" y="308160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9" name=""/>
                <p:cNvGrpSpPr/>
                <p:nvPr/>
              </p:nvGrpSpPr>
              <p:grpSpPr>
                <a:xfrm>
                  <a:off x="5854680" y="2763720"/>
                  <a:ext cx="151200" cy="176040"/>
                  <a:chOff x="5854680" y="2763720"/>
                  <a:chExt cx="151200" cy="176040"/>
                </a:xfrm>
              </p:grpSpPr>
              <p:sp>
                <p:nvSpPr>
                  <p:cNvPr id="8610" name=""/>
                  <p:cNvSpPr/>
                  <p:nvPr/>
                </p:nvSpPr>
                <p:spPr>
                  <a:xfrm rot="19871400">
                    <a:off x="5885640" y="27756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1" name=""/>
                  <p:cNvSpPr/>
                  <p:nvPr/>
                </p:nvSpPr>
                <p:spPr>
                  <a:xfrm flipH="1" flipV="1">
                    <a:off x="5904000" y="2839680"/>
                    <a:ext cx="9360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2" name=""/>
                  <p:cNvSpPr/>
                  <p:nvPr/>
                </p:nvSpPr>
                <p:spPr>
                  <a:xfrm flipH="1" flipV="1">
                    <a:off x="5951520" y="2852280"/>
                    <a:ext cx="147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3" name=""/>
                  <p:cNvSpPr/>
                  <p:nvPr/>
                </p:nvSpPr>
                <p:spPr>
                  <a:xfrm flipH="1">
                    <a:off x="5925240" y="286380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4" name=""/>
                  <p:cNvSpPr/>
                  <p:nvPr/>
                </p:nvSpPr>
                <p:spPr>
                  <a:xfrm flipH="1" flipV="1">
                    <a:off x="5917680" y="283968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15" name=""/>
                <p:cNvGrpSpPr/>
                <p:nvPr/>
              </p:nvGrpSpPr>
              <p:grpSpPr>
                <a:xfrm>
                  <a:off x="6172200" y="2640600"/>
                  <a:ext cx="151200" cy="176040"/>
                  <a:chOff x="6172200" y="2640600"/>
                  <a:chExt cx="151200" cy="176040"/>
                </a:xfrm>
              </p:grpSpPr>
              <p:sp>
                <p:nvSpPr>
                  <p:cNvPr id="8616" name=""/>
                  <p:cNvSpPr/>
                  <p:nvPr/>
                </p:nvSpPr>
                <p:spPr>
                  <a:xfrm rot="19871400">
                    <a:off x="6203160" y="26524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7" name=""/>
                  <p:cNvSpPr/>
                  <p:nvPr/>
                </p:nvSpPr>
                <p:spPr>
                  <a:xfrm flipH="1" flipV="1">
                    <a:off x="6221160" y="2716560"/>
                    <a:ext cx="93960" cy="48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8" name=""/>
                  <p:cNvSpPr/>
                  <p:nvPr/>
                </p:nvSpPr>
                <p:spPr>
                  <a:xfrm flipH="1" flipV="1">
                    <a:off x="6268680" y="272916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9" name=""/>
                  <p:cNvSpPr/>
                  <p:nvPr/>
                </p:nvSpPr>
                <p:spPr>
                  <a:xfrm flipH="1">
                    <a:off x="6242400" y="27406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0" name=""/>
                  <p:cNvSpPr/>
                  <p:nvPr/>
                </p:nvSpPr>
                <p:spPr>
                  <a:xfrm flipH="1" flipV="1">
                    <a:off x="6235200" y="2716560"/>
                    <a:ext cx="115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21" name=""/>
                <p:cNvGrpSpPr/>
                <p:nvPr/>
              </p:nvGrpSpPr>
              <p:grpSpPr>
                <a:xfrm>
                  <a:off x="5885280" y="2694960"/>
                  <a:ext cx="151200" cy="176040"/>
                  <a:chOff x="5885280" y="2694960"/>
                  <a:chExt cx="151200" cy="176040"/>
                </a:xfrm>
              </p:grpSpPr>
              <p:sp>
                <p:nvSpPr>
                  <p:cNvPr id="8622" name=""/>
                  <p:cNvSpPr/>
                  <p:nvPr/>
                </p:nvSpPr>
                <p:spPr>
                  <a:xfrm rot="19871400">
                    <a:off x="5916240" y="27068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3" name=""/>
                  <p:cNvSpPr/>
                  <p:nvPr/>
                </p:nvSpPr>
                <p:spPr>
                  <a:xfrm flipH="1" flipV="1">
                    <a:off x="5934240" y="2770920"/>
                    <a:ext cx="939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4" name=""/>
                  <p:cNvSpPr/>
                  <p:nvPr/>
                </p:nvSpPr>
                <p:spPr>
                  <a:xfrm flipH="1" flipV="1">
                    <a:off x="5981760" y="2783520"/>
                    <a:ext cx="147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5" name=""/>
                  <p:cNvSpPr/>
                  <p:nvPr/>
                </p:nvSpPr>
                <p:spPr>
                  <a:xfrm flipH="1">
                    <a:off x="5955480" y="279504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6" name=""/>
                  <p:cNvSpPr/>
                  <p:nvPr/>
                </p:nvSpPr>
                <p:spPr>
                  <a:xfrm flipH="1" flipV="1">
                    <a:off x="5948280" y="2770920"/>
                    <a:ext cx="115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27" name=""/>
                <p:cNvGrpSpPr/>
                <p:nvPr/>
              </p:nvGrpSpPr>
              <p:grpSpPr>
                <a:xfrm>
                  <a:off x="6278400" y="2971080"/>
                  <a:ext cx="165600" cy="165960"/>
                  <a:chOff x="6278400" y="2971080"/>
                  <a:chExt cx="165600" cy="165960"/>
                </a:xfrm>
              </p:grpSpPr>
              <p:sp>
                <p:nvSpPr>
                  <p:cNvPr id="8628" name=""/>
                  <p:cNvSpPr/>
                  <p:nvPr/>
                </p:nvSpPr>
                <p:spPr>
                  <a:xfrm rot="13469400">
                    <a:off x="6310080" y="29880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9" name=""/>
                  <p:cNvSpPr/>
                  <p:nvPr/>
                </p:nvSpPr>
                <p:spPr>
                  <a:xfrm flipH="1">
                    <a:off x="6361200" y="2981160"/>
                    <a:ext cx="540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0" name=""/>
                  <p:cNvSpPr/>
                  <p:nvPr/>
                </p:nvSpPr>
                <p:spPr>
                  <a:xfrm flipH="1">
                    <a:off x="6352200" y="301608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1" name=""/>
                  <p:cNvSpPr/>
                  <p:nvPr/>
                </p:nvSpPr>
                <p:spPr>
                  <a:xfrm>
                    <a:off x="6366240" y="30384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2" name=""/>
                  <p:cNvSpPr/>
                  <p:nvPr/>
                </p:nvSpPr>
                <p:spPr>
                  <a:xfrm flipH="1">
                    <a:off x="6355440" y="305568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3" name=""/>
                <p:cNvGrpSpPr/>
                <p:nvPr/>
              </p:nvGrpSpPr>
              <p:grpSpPr>
                <a:xfrm>
                  <a:off x="6185160" y="2999520"/>
                  <a:ext cx="155160" cy="165600"/>
                  <a:chOff x="6185160" y="2999520"/>
                  <a:chExt cx="155160" cy="165600"/>
                </a:xfrm>
              </p:grpSpPr>
              <p:sp>
                <p:nvSpPr>
                  <p:cNvPr id="8634" name=""/>
                  <p:cNvSpPr/>
                  <p:nvPr/>
                </p:nvSpPr>
                <p:spPr>
                  <a:xfrm rot="12630000">
                    <a:off x="6211440" y="30160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5" name=""/>
                  <p:cNvSpPr/>
                  <p:nvPr/>
                </p:nvSpPr>
                <p:spPr>
                  <a:xfrm>
                    <a:off x="6250680" y="3009960"/>
                    <a:ext cx="19080" cy="9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6" name=""/>
                  <p:cNvSpPr/>
                  <p:nvPr/>
                </p:nvSpPr>
                <p:spPr>
                  <a:xfrm flipH="1">
                    <a:off x="6249240" y="3045240"/>
                    <a:ext cx="36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7" name=""/>
                  <p:cNvSpPr/>
                  <p:nvPr/>
                </p:nvSpPr>
                <p:spPr>
                  <a:xfrm>
                    <a:off x="6264360" y="3065400"/>
                    <a:ext cx="144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8" name=""/>
                  <p:cNvSpPr/>
                  <p:nvPr/>
                </p:nvSpPr>
                <p:spPr>
                  <a:xfrm>
                    <a:off x="6261120" y="3084120"/>
                    <a:ext cx="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9" name=""/>
                <p:cNvGrpSpPr/>
                <p:nvPr/>
              </p:nvGrpSpPr>
              <p:grpSpPr>
                <a:xfrm>
                  <a:off x="5890320" y="2928960"/>
                  <a:ext cx="165960" cy="156600"/>
                  <a:chOff x="5890320" y="2928960"/>
                  <a:chExt cx="165960" cy="156600"/>
                </a:xfrm>
              </p:grpSpPr>
              <p:sp>
                <p:nvSpPr>
                  <p:cNvPr id="8640" name=""/>
                  <p:cNvSpPr/>
                  <p:nvPr/>
                </p:nvSpPr>
                <p:spPr>
                  <a:xfrm rot="14281800">
                    <a:off x="5922000" y="2940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1" name=""/>
                  <p:cNvSpPr/>
                  <p:nvPr/>
                </p:nvSpPr>
                <p:spPr>
                  <a:xfrm flipH="1">
                    <a:off x="5966640" y="2937600"/>
                    <a:ext cx="29160" cy="9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2" name=""/>
                  <p:cNvSpPr/>
                  <p:nvPr/>
                </p:nvSpPr>
                <p:spPr>
                  <a:xfrm flipH="1">
                    <a:off x="5969520" y="297000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3" name=""/>
                  <p:cNvSpPr/>
                  <p:nvPr/>
                </p:nvSpPr>
                <p:spPr>
                  <a:xfrm>
                    <a:off x="5982120" y="2993040"/>
                    <a:ext cx="5760" cy="20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4" name=""/>
                  <p:cNvSpPr/>
                  <p:nvPr/>
                </p:nvSpPr>
                <p:spPr>
                  <a:xfrm flipH="1">
                    <a:off x="5964480" y="3008160"/>
                    <a:ext cx="61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45" name=""/>
                <p:cNvGrpSpPr/>
                <p:nvPr/>
              </p:nvGrpSpPr>
              <p:grpSpPr>
                <a:xfrm>
                  <a:off x="5952600" y="2994120"/>
                  <a:ext cx="162720" cy="167040"/>
                  <a:chOff x="5952600" y="2994120"/>
                  <a:chExt cx="162720" cy="167040"/>
                </a:xfrm>
              </p:grpSpPr>
              <p:sp>
                <p:nvSpPr>
                  <p:cNvPr id="8646" name=""/>
                  <p:cNvSpPr/>
                  <p:nvPr/>
                </p:nvSpPr>
                <p:spPr>
                  <a:xfrm rot="13153200">
                    <a:off x="5982840" y="301140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7" name=""/>
                  <p:cNvSpPr/>
                  <p:nvPr/>
                </p:nvSpPr>
                <p:spPr>
                  <a:xfrm>
                    <a:off x="6032880" y="3004560"/>
                    <a:ext cx="3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8" name=""/>
                  <p:cNvSpPr/>
                  <p:nvPr/>
                </p:nvSpPr>
                <p:spPr>
                  <a:xfrm flipH="1">
                    <a:off x="6023520" y="30398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9" name=""/>
                  <p:cNvSpPr/>
                  <p:nvPr/>
                </p:nvSpPr>
                <p:spPr>
                  <a:xfrm>
                    <a:off x="6037920" y="3061440"/>
                    <a:ext cx="118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0" name=""/>
                  <p:cNvSpPr/>
                  <p:nvPr/>
                </p:nvSpPr>
                <p:spPr>
                  <a:xfrm flipH="1">
                    <a:off x="6030000" y="3079440"/>
                    <a:ext cx="21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51" name=""/>
                <p:cNvGrpSpPr/>
                <p:nvPr/>
              </p:nvGrpSpPr>
              <p:grpSpPr>
                <a:xfrm>
                  <a:off x="6027120" y="2927160"/>
                  <a:ext cx="166320" cy="164520"/>
                  <a:chOff x="6027120" y="2927160"/>
                  <a:chExt cx="166320" cy="164520"/>
                </a:xfrm>
              </p:grpSpPr>
              <p:sp>
                <p:nvSpPr>
                  <p:cNvPr id="8652" name=""/>
                  <p:cNvSpPr/>
                  <p:nvPr/>
                </p:nvSpPr>
                <p:spPr>
                  <a:xfrm rot="13672800">
                    <a:off x="6058800" y="294336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3" name=""/>
                  <p:cNvSpPr/>
                  <p:nvPr/>
                </p:nvSpPr>
                <p:spPr>
                  <a:xfrm flipH="1">
                    <a:off x="6108480" y="2936880"/>
                    <a:ext cx="11520" cy="10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4" name=""/>
                  <p:cNvSpPr/>
                  <p:nvPr/>
                </p:nvSpPr>
                <p:spPr>
                  <a:xfrm flipH="1">
                    <a:off x="6102720" y="297144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5" name=""/>
                  <p:cNvSpPr/>
                  <p:nvPr/>
                </p:nvSpPr>
                <p:spPr>
                  <a:xfrm>
                    <a:off x="6116400" y="2994120"/>
                    <a:ext cx="9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6" name=""/>
                  <p:cNvSpPr/>
                  <p:nvPr/>
                </p:nvSpPr>
                <p:spPr>
                  <a:xfrm flipH="1">
                    <a:off x="6103800" y="301104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57" name=""/>
                <p:cNvGrpSpPr/>
                <p:nvPr/>
              </p:nvGrpSpPr>
              <p:grpSpPr>
                <a:xfrm>
                  <a:off x="5921280" y="2822400"/>
                  <a:ext cx="154800" cy="134280"/>
                  <a:chOff x="5921280" y="2822400"/>
                  <a:chExt cx="154800" cy="134280"/>
                </a:xfrm>
              </p:grpSpPr>
              <p:sp>
                <p:nvSpPr>
                  <p:cNvPr id="8658" name=""/>
                  <p:cNvSpPr/>
                  <p:nvPr/>
                </p:nvSpPr>
                <p:spPr>
                  <a:xfrm rot="15256800">
                    <a:off x="5947560" y="28234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9" name=""/>
                  <p:cNvSpPr/>
                  <p:nvPr/>
                </p:nvSpPr>
                <p:spPr>
                  <a:xfrm flipH="1">
                    <a:off x="5984280" y="2828880"/>
                    <a:ext cx="55080" cy="85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0" name=""/>
                  <p:cNvSpPr/>
                  <p:nvPr/>
                </p:nvSpPr>
                <p:spPr>
                  <a:xfrm flipH="1">
                    <a:off x="6001200" y="285588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1" name=""/>
                  <p:cNvSpPr/>
                  <p:nvPr/>
                </p:nvSpPr>
                <p:spPr>
                  <a:xfrm>
                    <a:off x="6010920" y="2878560"/>
                    <a:ext cx="0" cy="20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2" name=""/>
                  <p:cNvSpPr/>
                  <p:nvPr/>
                </p:nvSpPr>
                <p:spPr>
                  <a:xfrm flipH="1">
                    <a:off x="5986440" y="2889720"/>
                    <a:ext cx="93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3" name=""/>
                <p:cNvGrpSpPr/>
                <p:nvPr/>
              </p:nvGrpSpPr>
              <p:grpSpPr>
                <a:xfrm>
                  <a:off x="6124680" y="2760480"/>
                  <a:ext cx="172080" cy="132480"/>
                  <a:chOff x="6124680" y="2760480"/>
                  <a:chExt cx="172080" cy="132480"/>
                </a:xfrm>
              </p:grpSpPr>
              <p:sp>
                <p:nvSpPr>
                  <p:cNvPr id="8664" name=""/>
                  <p:cNvSpPr/>
                  <p:nvPr/>
                </p:nvSpPr>
                <p:spPr>
                  <a:xfrm rot="17308200">
                    <a:off x="6166080" y="275040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5" name=""/>
                  <p:cNvSpPr/>
                  <p:nvPr/>
                </p:nvSpPr>
                <p:spPr>
                  <a:xfrm flipH="1">
                    <a:off x="6183720" y="2808000"/>
                    <a:ext cx="101880" cy="27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6" name=""/>
                  <p:cNvSpPr/>
                  <p:nvPr/>
                </p:nvSpPr>
                <p:spPr>
                  <a:xfrm flipH="1" flipV="1">
                    <a:off x="6227280" y="2812680"/>
                    <a:ext cx="20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7" name=""/>
                  <p:cNvSpPr/>
                  <p:nvPr/>
                </p:nvSpPr>
                <p:spPr>
                  <a:xfrm flipH="1">
                    <a:off x="6217200" y="28263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8" name=""/>
                  <p:cNvSpPr/>
                  <p:nvPr/>
                </p:nvSpPr>
                <p:spPr>
                  <a:xfrm flipH="1">
                    <a:off x="6193800" y="2824920"/>
                    <a:ext cx="1440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9" name=""/>
                <p:cNvGrpSpPr/>
                <p:nvPr/>
              </p:nvGrpSpPr>
              <p:grpSpPr>
                <a:xfrm>
                  <a:off x="6242040" y="2574720"/>
                  <a:ext cx="164160" cy="166680"/>
                  <a:chOff x="6242040" y="2574720"/>
                  <a:chExt cx="164160" cy="166680"/>
                </a:xfrm>
              </p:grpSpPr>
              <p:sp>
                <p:nvSpPr>
                  <p:cNvPr id="8670" name=""/>
                  <p:cNvSpPr/>
                  <p:nvPr/>
                </p:nvSpPr>
                <p:spPr>
                  <a:xfrm rot="2504400">
                    <a:off x="6272640" y="25916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1" name=""/>
                  <p:cNvSpPr/>
                  <p:nvPr/>
                </p:nvSpPr>
                <p:spPr>
                  <a:xfrm flipV="1">
                    <a:off x="6321960" y="2629440"/>
                    <a:ext cx="720" cy="10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2" name=""/>
                  <p:cNvSpPr/>
                  <p:nvPr/>
                </p:nvSpPr>
                <p:spPr>
                  <a:xfrm flipV="1">
                    <a:off x="6327000" y="2678760"/>
                    <a:ext cx="68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3" name=""/>
                  <p:cNvSpPr/>
                  <p:nvPr/>
                </p:nvSpPr>
                <p:spPr>
                  <a:xfrm flipH="1" flipV="1">
                    <a:off x="6308280" y="2656440"/>
                    <a:ext cx="11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4" name=""/>
                  <p:cNvSpPr/>
                  <p:nvPr/>
                </p:nvSpPr>
                <p:spPr>
                  <a:xfrm flipV="1">
                    <a:off x="6326280" y="2643480"/>
                    <a:ext cx="25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75" name=""/>
                <p:cNvGrpSpPr/>
                <p:nvPr/>
              </p:nvGrpSpPr>
              <p:grpSpPr>
                <a:xfrm>
                  <a:off x="6365520" y="2637360"/>
                  <a:ext cx="165240" cy="166320"/>
                  <a:chOff x="6365520" y="2637360"/>
                  <a:chExt cx="165240" cy="166320"/>
                </a:xfrm>
              </p:grpSpPr>
              <p:sp>
                <p:nvSpPr>
                  <p:cNvPr id="8676" name=""/>
                  <p:cNvSpPr/>
                  <p:nvPr/>
                </p:nvSpPr>
                <p:spPr>
                  <a:xfrm rot="2624400">
                    <a:off x="6396840" y="265428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7" name=""/>
                  <p:cNvSpPr/>
                  <p:nvPr/>
                </p:nvSpPr>
                <p:spPr>
                  <a:xfrm flipV="1">
                    <a:off x="6443640" y="2691720"/>
                    <a:ext cx="3960" cy="10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8" name=""/>
                  <p:cNvSpPr/>
                  <p:nvPr/>
                </p:nvSpPr>
                <p:spPr>
                  <a:xfrm flipV="1">
                    <a:off x="6449400" y="274104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9" name=""/>
                  <p:cNvSpPr/>
                  <p:nvPr/>
                </p:nvSpPr>
                <p:spPr>
                  <a:xfrm flipH="1" flipV="1">
                    <a:off x="6432480" y="2718000"/>
                    <a:ext cx="10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0" name=""/>
                  <p:cNvSpPr/>
                  <p:nvPr/>
                </p:nvSpPr>
                <p:spPr>
                  <a:xfrm flipV="1">
                    <a:off x="6450120" y="2705760"/>
                    <a:ext cx="32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81" name=""/>
                <p:cNvGrpSpPr/>
                <p:nvPr/>
              </p:nvGrpSpPr>
              <p:grpSpPr>
                <a:xfrm>
                  <a:off x="6200280" y="2892240"/>
                  <a:ext cx="175680" cy="147600"/>
                  <a:chOff x="6200280" y="2892240"/>
                  <a:chExt cx="175680" cy="147600"/>
                </a:xfrm>
              </p:grpSpPr>
              <p:sp>
                <p:nvSpPr>
                  <p:cNvPr id="8682" name=""/>
                  <p:cNvSpPr/>
                  <p:nvPr/>
                </p:nvSpPr>
                <p:spPr>
                  <a:xfrm rot="17797200">
                    <a:off x="6243480" y="289008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3" name=""/>
                  <p:cNvSpPr/>
                  <p:nvPr/>
                </p:nvSpPr>
                <p:spPr>
                  <a:xfrm flipH="1">
                    <a:off x="6259680" y="2958480"/>
                    <a:ext cx="1047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4" name=""/>
                  <p:cNvSpPr/>
                  <p:nvPr/>
                </p:nvSpPr>
                <p:spPr>
                  <a:xfrm flipH="1" flipV="1">
                    <a:off x="6305760" y="2954880"/>
                    <a:ext cx="205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5" name=""/>
                  <p:cNvSpPr/>
                  <p:nvPr/>
                </p:nvSpPr>
                <p:spPr>
                  <a:xfrm flipH="1">
                    <a:off x="6292080" y="2968560"/>
                    <a:ext cx="140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6" name=""/>
                  <p:cNvSpPr/>
                  <p:nvPr/>
                </p:nvSpPr>
                <p:spPr>
                  <a:xfrm flipH="1" flipV="1">
                    <a:off x="6270840" y="2963520"/>
                    <a:ext cx="144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87" name=""/>
                <p:cNvGrpSpPr/>
                <p:nvPr/>
              </p:nvGrpSpPr>
              <p:grpSpPr>
                <a:xfrm>
                  <a:off x="6060600" y="2953440"/>
                  <a:ext cx="155160" cy="134640"/>
                  <a:chOff x="6060600" y="2953440"/>
                  <a:chExt cx="155160" cy="134640"/>
                </a:xfrm>
              </p:grpSpPr>
              <p:sp>
                <p:nvSpPr>
                  <p:cNvPr id="8688" name=""/>
                  <p:cNvSpPr/>
                  <p:nvPr/>
                </p:nvSpPr>
                <p:spPr>
                  <a:xfrm rot="17161800">
                    <a:off x="6086880" y="295452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9" name=""/>
                  <p:cNvSpPr/>
                  <p:nvPr/>
                </p:nvSpPr>
                <p:spPr>
                  <a:xfrm flipH="1">
                    <a:off x="6113160" y="2990520"/>
                    <a:ext cx="91800" cy="43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0" name=""/>
                  <p:cNvSpPr/>
                  <p:nvPr/>
                </p:nvSpPr>
                <p:spPr>
                  <a:xfrm flipH="1">
                    <a:off x="6152400" y="300168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1" name=""/>
                  <p:cNvSpPr/>
                  <p:nvPr/>
                </p:nvSpPr>
                <p:spPr>
                  <a:xfrm flipH="1">
                    <a:off x="6143400" y="3017880"/>
                    <a:ext cx="11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2" name=""/>
                  <p:cNvSpPr/>
                  <p:nvPr/>
                </p:nvSpPr>
                <p:spPr>
                  <a:xfrm flipH="1">
                    <a:off x="6122880" y="3019320"/>
                    <a:ext cx="12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3" name=""/>
                <p:cNvGrpSpPr/>
                <p:nvPr/>
              </p:nvGrpSpPr>
              <p:grpSpPr>
                <a:xfrm>
                  <a:off x="5897160" y="2942280"/>
                  <a:ext cx="152280" cy="129960"/>
                  <a:chOff x="5897160" y="2942280"/>
                  <a:chExt cx="152280" cy="129960"/>
                </a:xfrm>
              </p:grpSpPr>
              <p:sp>
                <p:nvSpPr>
                  <p:cNvPr id="8694" name=""/>
                  <p:cNvSpPr/>
                  <p:nvPr/>
                </p:nvSpPr>
                <p:spPr>
                  <a:xfrm rot="17001600">
                    <a:off x="5922000" y="2940840"/>
                    <a:ext cx="1022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5" name=""/>
                  <p:cNvSpPr/>
                  <p:nvPr/>
                </p:nvSpPr>
                <p:spPr>
                  <a:xfrm flipH="1">
                    <a:off x="5948640" y="2974320"/>
                    <a:ext cx="90000" cy="47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6" name=""/>
                  <p:cNvSpPr/>
                  <p:nvPr/>
                </p:nvSpPr>
                <p:spPr>
                  <a:xfrm flipH="1">
                    <a:off x="5986800" y="2986920"/>
                    <a:ext cx="183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7" name=""/>
                  <p:cNvSpPr/>
                  <p:nvPr/>
                </p:nvSpPr>
                <p:spPr>
                  <a:xfrm flipH="1">
                    <a:off x="5979240" y="3003840"/>
                    <a:ext cx="10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8" name=""/>
                  <p:cNvSpPr/>
                  <p:nvPr/>
                </p:nvSpPr>
                <p:spPr>
                  <a:xfrm flipH="1">
                    <a:off x="5958000" y="3006360"/>
                    <a:ext cx="126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9" name=""/>
                <p:cNvGrpSpPr/>
                <p:nvPr/>
              </p:nvGrpSpPr>
              <p:grpSpPr>
                <a:xfrm>
                  <a:off x="5823720" y="2868120"/>
                  <a:ext cx="174960" cy="142920"/>
                  <a:chOff x="5823720" y="2868120"/>
                  <a:chExt cx="174960" cy="142920"/>
                </a:xfrm>
              </p:grpSpPr>
              <p:sp>
                <p:nvSpPr>
                  <p:cNvPr id="8700" name=""/>
                  <p:cNvSpPr/>
                  <p:nvPr/>
                </p:nvSpPr>
                <p:spPr>
                  <a:xfrm rot="17634600">
                    <a:off x="5866560" y="2863440"/>
                    <a:ext cx="8892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1" name=""/>
                  <p:cNvSpPr/>
                  <p:nvPr/>
                </p:nvSpPr>
                <p:spPr>
                  <a:xfrm flipH="1">
                    <a:off x="5883120" y="2928240"/>
                    <a:ext cx="104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2" name=""/>
                  <p:cNvSpPr/>
                  <p:nvPr/>
                </p:nvSpPr>
                <p:spPr>
                  <a:xfrm flipH="1" flipV="1">
                    <a:off x="5928480" y="2927520"/>
                    <a:ext cx="2088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3" name=""/>
                  <p:cNvSpPr/>
                  <p:nvPr/>
                </p:nvSpPr>
                <p:spPr>
                  <a:xfrm flipH="1">
                    <a:off x="5916240" y="294120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4" name=""/>
                  <p:cNvSpPr/>
                  <p:nvPr/>
                </p:nvSpPr>
                <p:spPr>
                  <a:xfrm flipH="1" flipV="1">
                    <a:off x="5894280" y="2937600"/>
                    <a:ext cx="144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705" name=""/>
          <p:cNvGrpSpPr/>
          <p:nvPr/>
        </p:nvGrpSpPr>
        <p:grpSpPr>
          <a:xfrm>
            <a:off x="2232720" y="810720"/>
            <a:ext cx="2451240" cy="4037040"/>
            <a:chOff x="2232720" y="810720"/>
            <a:chExt cx="2451240" cy="4037040"/>
          </a:xfrm>
        </p:grpSpPr>
        <p:grpSp>
          <p:nvGrpSpPr>
            <p:cNvPr id="8706" name=""/>
            <p:cNvGrpSpPr/>
            <p:nvPr/>
          </p:nvGrpSpPr>
          <p:grpSpPr>
            <a:xfrm>
              <a:off x="3630240" y="810720"/>
              <a:ext cx="460080" cy="716400"/>
              <a:chOff x="3630240" y="810720"/>
              <a:chExt cx="460080" cy="716400"/>
            </a:xfrm>
          </p:grpSpPr>
          <p:grpSp>
            <p:nvGrpSpPr>
              <p:cNvPr id="8707" name=""/>
              <p:cNvGrpSpPr/>
              <p:nvPr/>
            </p:nvGrpSpPr>
            <p:grpSpPr>
              <a:xfrm>
                <a:off x="3898440" y="1080000"/>
                <a:ext cx="145800" cy="146160"/>
                <a:chOff x="3898440" y="1080000"/>
                <a:chExt cx="145800" cy="146160"/>
              </a:xfrm>
            </p:grpSpPr>
            <p:sp>
              <p:nvSpPr>
                <p:cNvPr id="8708" name=""/>
                <p:cNvSpPr/>
                <p:nvPr/>
              </p:nvSpPr>
              <p:spPr>
                <a:xfrm rot="8101200">
                  <a:off x="3935160" y="108576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9" name=""/>
                <p:cNvSpPr/>
                <p:nvPr/>
              </p:nvSpPr>
              <p:spPr>
                <a:xfrm>
                  <a:off x="3907440" y="1136160"/>
                  <a:ext cx="8856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0" name=""/>
                <p:cNvSpPr/>
                <p:nvPr/>
              </p:nvSpPr>
              <p:spPr>
                <a:xfrm>
                  <a:off x="3939120" y="1147680"/>
                  <a:ext cx="1584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1" name=""/>
                <p:cNvSpPr/>
                <p:nvPr/>
              </p:nvSpPr>
              <p:spPr>
                <a:xfrm flipV="1">
                  <a:off x="3957480" y="1139760"/>
                  <a:ext cx="14040" cy="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2" name=""/>
                <p:cNvSpPr/>
                <p:nvPr/>
              </p:nvSpPr>
              <p:spPr>
                <a:xfrm>
                  <a:off x="3973320" y="1155240"/>
                  <a:ext cx="1152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3" name=""/>
              <p:cNvSpPr/>
              <p:nvPr/>
            </p:nvSpPr>
            <p:spPr>
              <a:xfrm flipH="1" flipV="1">
                <a:off x="3765600" y="1129680"/>
                <a:ext cx="94320" cy="181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 rot="4285800">
                <a:off x="3556440" y="1128600"/>
                <a:ext cx="504360" cy="20736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 flipV="1">
                <a:off x="3861360" y="1049760"/>
                <a:ext cx="79560" cy="111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 flipV="1">
                <a:off x="3800160" y="1304280"/>
                <a:ext cx="142560" cy="1760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 flipH="1" flipV="1">
                <a:off x="3769920" y="1192320"/>
                <a:ext cx="42480" cy="27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 flipH="1" flipV="1">
                <a:off x="3843000" y="1210320"/>
                <a:ext cx="4320" cy="62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 flipV="1">
                <a:off x="3893400" y="1015920"/>
                <a:ext cx="19080" cy="92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3884760" y="1132560"/>
                <a:ext cx="51480" cy="3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 flipH="1" flipV="1">
                <a:off x="3787560" y="994320"/>
                <a:ext cx="48960" cy="46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 flipV="1">
                <a:off x="3871080" y="1232640"/>
                <a:ext cx="30240" cy="159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 flipV="1">
                <a:off x="3890880" y="1271520"/>
                <a:ext cx="23400" cy="28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 flipV="1">
                <a:off x="3847320" y="1420560"/>
                <a:ext cx="666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 flipV="1">
                <a:off x="3918600" y="1319040"/>
                <a:ext cx="45360" cy="15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 flipH="1" flipV="1">
                <a:off x="3793320" y="1312200"/>
                <a:ext cx="40680" cy="70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 flipH="1" flipV="1">
                <a:off x="3813480" y="1071360"/>
                <a:ext cx="34200" cy="52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 flipV="1">
                <a:off x="3840120" y="969120"/>
                <a:ext cx="23400" cy="29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29" name=""/>
              <p:cNvGrpSpPr/>
              <p:nvPr/>
            </p:nvGrpSpPr>
            <p:grpSpPr>
              <a:xfrm>
                <a:off x="3921840" y="986400"/>
                <a:ext cx="121320" cy="108720"/>
                <a:chOff x="3921840" y="986400"/>
                <a:chExt cx="121320" cy="108720"/>
              </a:xfrm>
            </p:grpSpPr>
            <p:sp>
              <p:nvSpPr>
                <p:cNvPr id="8730" name=""/>
                <p:cNvSpPr/>
                <p:nvPr/>
              </p:nvSpPr>
              <p:spPr>
                <a:xfrm rot="6031200">
                  <a:off x="3936960" y="98712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1" name=""/>
                <p:cNvSpPr/>
                <p:nvPr/>
              </p:nvSpPr>
              <p:spPr>
                <a:xfrm flipV="1">
                  <a:off x="3930480" y="1026360"/>
                  <a:ext cx="7128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2" name=""/>
                <p:cNvSpPr/>
                <p:nvPr/>
              </p:nvSpPr>
              <p:spPr>
                <a:xfrm flipV="1">
                  <a:off x="3957120" y="1057680"/>
                  <a:ext cx="147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3" name=""/>
                <p:cNvSpPr/>
                <p:nvPr/>
              </p:nvSpPr>
              <p:spPr>
                <a:xfrm flipV="1">
                  <a:off x="3969360" y="1028160"/>
                  <a:ext cx="792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4" name=""/>
                <p:cNvSpPr/>
                <p:nvPr/>
              </p:nvSpPr>
              <p:spPr>
                <a:xfrm flipV="1">
                  <a:off x="3984480" y="1037520"/>
                  <a:ext cx="1008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5" name=""/>
              <p:cNvGrpSpPr/>
              <p:nvPr/>
            </p:nvGrpSpPr>
            <p:grpSpPr>
              <a:xfrm>
                <a:off x="3780360" y="1079640"/>
                <a:ext cx="140040" cy="138600"/>
                <a:chOff x="3780360" y="1079640"/>
                <a:chExt cx="140040" cy="138600"/>
              </a:xfrm>
            </p:grpSpPr>
            <p:sp>
              <p:nvSpPr>
                <p:cNvPr id="8736" name=""/>
                <p:cNvSpPr/>
                <p:nvPr/>
              </p:nvSpPr>
              <p:spPr>
                <a:xfrm rot="2872800">
                  <a:off x="3804840" y="109548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7" name=""/>
                <p:cNvSpPr/>
                <p:nvPr/>
              </p:nvSpPr>
              <p:spPr>
                <a:xfrm flipV="1">
                  <a:off x="3845520" y="1125000"/>
                  <a:ext cx="540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8" name=""/>
                <p:cNvSpPr/>
                <p:nvPr/>
              </p:nvSpPr>
              <p:spPr>
                <a:xfrm flipV="1">
                  <a:off x="3850920" y="1167840"/>
                  <a:ext cx="648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9" name=""/>
                <p:cNvSpPr/>
                <p:nvPr/>
              </p:nvSpPr>
              <p:spPr>
                <a:xfrm flipH="1" flipV="1">
                  <a:off x="3837600" y="1145520"/>
                  <a:ext cx="864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0" name=""/>
                <p:cNvSpPr/>
                <p:nvPr/>
              </p:nvSpPr>
              <p:spPr>
                <a:xfrm flipV="1">
                  <a:off x="3852360" y="1137600"/>
                  <a:ext cx="324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1" name=""/>
              <p:cNvGrpSpPr/>
              <p:nvPr/>
            </p:nvGrpSpPr>
            <p:grpSpPr>
              <a:xfrm>
                <a:off x="3865320" y="1126800"/>
                <a:ext cx="129960" cy="119880"/>
                <a:chOff x="3865320" y="1126800"/>
                <a:chExt cx="129960" cy="119880"/>
              </a:xfrm>
            </p:grpSpPr>
            <p:sp>
              <p:nvSpPr>
                <p:cNvPr id="8742" name=""/>
                <p:cNvSpPr/>
                <p:nvPr/>
              </p:nvSpPr>
              <p:spPr>
                <a:xfrm rot="4285800">
                  <a:off x="3884760" y="113328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3" name=""/>
                <p:cNvSpPr/>
                <p:nvPr/>
              </p:nvSpPr>
              <p:spPr>
                <a:xfrm flipV="1">
                  <a:off x="3900960" y="1164600"/>
                  <a:ext cx="39600" cy="76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4" name=""/>
                <p:cNvSpPr/>
                <p:nvPr/>
              </p:nvSpPr>
              <p:spPr>
                <a:xfrm flipV="1">
                  <a:off x="3917880" y="1206360"/>
                  <a:ext cx="115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5" name=""/>
                <p:cNvSpPr/>
                <p:nvPr/>
              </p:nvSpPr>
              <p:spPr>
                <a:xfrm flipH="1" flipV="1">
                  <a:off x="3920040" y="1177920"/>
                  <a:ext cx="108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6" name=""/>
                <p:cNvSpPr/>
                <p:nvPr/>
              </p:nvSpPr>
              <p:spPr>
                <a:xfrm flipV="1">
                  <a:off x="3932640" y="1177920"/>
                  <a:ext cx="684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7" name=""/>
              <p:cNvGrpSpPr/>
              <p:nvPr/>
            </p:nvGrpSpPr>
            <p:grpSpPr>
              <a:xfrm>
                <a:off x="3652920" y="1014120"/>
                <a:ext cx="123120" cy="152280"/>
                <a:chOff x="3652920" y="1014120"/>
                <a:chExt cx="123120" cy="152280"/>
              </a:xfrm>
            </p:grpSpPr>
            <p:sp>
              <p:nvSpPr>
                <p:cNvPr id="8748" name=""/>
                <p:cNvSpPr/>
                <p:nvPr/>
              </p:nvSpPr>
              <p:spPr>
                <a:xfrm rot="20055000">
                  <a:off x="3678480" y="102276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9" name=""/>
                <p:cNvSpPr/>
                <p:nvPr/>
              </p:nvSpPr>
              <p:spPr>
                <a:xfrm flipH="1" flipV="1">
                  <a:off x="3692880" y="1077840"/>
                  <a:ext cx="7632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0" name=""/>
                <p:cNvSpPr/>
                <p:nvPr/>
              </p:nvSpPr>
              <p:spPr>
                <a:xfrm flipH="1" flipV="1">
                  <a:off x="3731400" y="1091880"/>
                  <a:ext cx="11880" cy="1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1" name=""/>
                <p:cNvSpPr/>
                <p:nvPr/>
              </p:nvSpPr>
              <p:spPr>
                <a:xfrm flipH="1">
                  <a:off x="3710160" y="1101600"/>
                  <a:ext cx="15120" cy="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2" name=""/>
                <p:cNvSpPr/>
                <p:nvPr/>
              </p:nvSpPr>
              <p:spPr>
                <a:xfrm flipH="1" flipV="1">
                  <a:off x="3704400" y="1078560"/>
                  <a:ext cx="936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3" name=""/>
              <p:cNvGrpSpPr/>
              <p:nvPr/>
            </p:nvGrpSpPr>
            <p:grpSpPr>
              <a:xfrm>
                <a:off x="3826800" y="862200"/>
                <a:ext cx="129960" cy="119880"/>
                <a:chOff x="3826800" y="862200"/>
                <a:chExt cx="129960" cy="119880"/>
              </a:xfrm>
            </p:grpSpPr>
            <p:sp>
              <p:nvSpPr>
                <p:cNvPr id="8754" name=""/>
                <p:cNvSpPr/>
                <p:nvPr/>
              </p:nvSpPr>
              <p:spPr>
                <a:xfrm rot="4285800">
                  <a:off x="3846240" y="86868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5" name=""/>
                <p:cNvSpPr/>
                <p:nvPr/>
              </p:nvSpPr>
              <p:spPr>
                <a:xfrm flipV="1">
                  <a:off x="3862800" y="900360"/>
                  <a:ext cx="39240" cy="76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6" name=""/>
                <p:cNvSpPr/>
                <p:nvPr/>
              </p:nvSpPr>
              <p:spPr>
                <a:xfrm flipV="1">
                  <a:off x="3879720" y="942120"/>
                  <a:ext cx="1152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7" name=""/>
                <p:cNvSpPr/>
                <p:nvPr/>
              </p:nvSpPr>
              <p:spPr>
                <a:xfrm flipH="1" flipV="1">
                  <a:off x="3881520" y="913680"/>
                  <a:ext cx="1440" cy="1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8" name=""/>
                <p:cNvSpPr/>
                <p:nvPr/>
              </p:nvSpPr>
              <p:spPr>
                <a:xfrm flipV="1">
                  <a:off x="3894120" y="913320"/>
                  <a:ext cx="720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59" name=""/>
              <p:cNvGrpSpPr/>
              <p:nvPr/>
            </p:nvGrpSpPr>
            <p:grpSpPr>
              <a:xfrm>
                <a:off x="3906360" y="1197720"/>
                <a:ext cx="129960" cy="119880"/>
                <a:chOff x="3906360" y="1197720"/>
                <a:chExt cx="129960" cy="119880"/>
              </a:xfrm>
            </p:grpSpPr>
            <p:sp>
              <p:nvSpPr>
                <p:cNvPr id="8760" name=""/>
                <p:cNvSpPr/>
                <p:nvPr/>
              </p:nvSpPr>
              <p:spPr>
                <a:xfrm rot="4285800">
                  <a:off x="3925800" y="120420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1" name=""/>
                <p:cNvSpPr/>
                <p:nvPr/>
              </p:nvSpPr>
              <p:spPr>
                <a:xfrm flipV="1">
                  <a:off x="3942000" y="1235520"/>
                  <a:ext cx="39240" cy="76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2" name=""/>
                <p:cNvSpPr/>
                <p:nvPr/>
              </p:nvSpPr>
              <p:spPr>
                <a:xfrm flipV="1">
                  <a:off x="3958920" y="1277280"/>
                  <a:ext cx="115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3" name=""/>
                <p:cNvSpPr/>
                <p:nvPr/>
              </p:nvSpPr>
              <p:spPr>
                <a:xfrm flipH="1" flipV="1">
                  <a:off x="3960720" y="1248840"/>
                  <a:ext cx="144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4" name=""/>
                <p:cNvSpPr/>
                <p:nvPr/>
              </p:nvSpPr>
              <p:spPr>
                <a:xfrm flipV="1">
                  <a:off x="3973320" y="1248840"/>
                  <a:ext cx="720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5" name=""/>
              <p:cNvGrpSpPr/>
              <p:nvPr/>
            </p:nvGrpSpPr>
            <p:grpSpPr>
              <a:xfrm>
                <a:off x="3876840" y="909720"/>
                <a:ext cx="129960" cy="119880"/>
                <a:chOff x="3876840" y="909720"/>
                <a:chExt cx="129960" cy="119880"/>
              </a:xfrm>
            </p:grpSpPr>
            <p:sp>
              <p:nvSpPr>
                <p:cNvPr id="8766" name=""/>
                <p:cNvSpPr/>
                <p:nvPr/>
              </p:nvSpPr>
              <p:spPr>
                <a:xfrm rot="4285800">
                  <a:off x="3896280" y="91620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7" name=""/>
                <p:cNvSpPr/>
                <p:nvPr/>
              </p:nvSpPr>
              <p:spPr>
                <a:xfrm flipV="1">
                  <a:off x="3912480" y="947880"/>
                  <a:ext cx="39240" cy="75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8" name=""/>
                <p:cNvSpPr/>
                <p:nvPr/>
              </p:nvSpPr>
              <p:spPr>
                <a:xfrm flipV="1">
                  <a:off x="3929400" y="989280"/>
                  <a:ext cx="115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9" name=""/>
                <p:cNvSpPr/>
                <p:nvPr/>
              </p:nvSpPr>
              <p:spPr>
                <a:xfrm flipH="1" flipV="1">
                  <a:off x="3931200" y="961200"/>
                  <a:ext cx="1440" cy="1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0" name=""/>
                <p:cNvSpPr/>
                <p:nvPr/>
              </p:nvSpPr>
              <p:spPr>
                <a:xfrm flipV="1">
                  <a:off x="3943800" y="960840"/>
                  <a:ext cx="720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1" name=""/>
              <p:cNvGrpSpPr/>
              <p:nvPr/>
            </p:nvGrpSpPr>
            <p:grpSpPr>
              <a:xfrm>
                <a:off x="3659040" y="1202400"/>
                <a:ext cx="136080" cy="151200"/>
                <a:chOff x="3659040" y="1202400"/>
                <a:chExt cx="136080" cy="151200"/>
              </a:xfrm>
            </p:grpSpPr>
            <p:sp>
              <p:nvSpPr>
                <p:cNvPr id="8772" name=""/>
                <p:cNvSpPr/>
                <p:nvPr/>
              </p:nvSpPr>
              <p:spPr>
                <a:xfrm rot="19484400">
                  <a:off x="3691080" y="121068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3" name=""/>
                <p:cNvSpPr/>
                <p:nvPr/>
              </p:nvSpPr>
              <p:spPr>
                <a:xfrm flipH="1" flipV="1">
                  <a:off x="3703680" y="1269360"/>
                  <a:ext cx="83520" cy="36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4" name=""/>
                <p:cNvSpPr/>
                <p:nvPr/>
              </p:nvSpPr>
              <p:spPr>
                <a:xfrm flipH="1" flipV="1">
                  <a:off x="3744000" y="1277280"/>
                  <a:ext cx="1404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5" name=""/>
                <p:cNvSpPr/>
                <p:nvPr/>
              </p:nvSpPr>
              <p:spPr>
                <a:xfrm flipH="1">
                  <a:off x="3724920" y="1287720"/>
                  <a:ext cx="1476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6" name=""/>
                <p:cNvSpPr/>
                <p:nvPr/>
              </p:nvSpPr>
              <p:spPr>
                <a:xfrm flipH="1" flipV="1">
                  <a:off x="3715200" y="1268640"/>
                  <a:ext cx="1044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7" name=""/>
              <p:cNvGrpSpPr/>
              <p:nvPr/>
            </p:nvGrpSpPr>
            <p:grpSpPr>
              <a:xfrm>
                <a:off x="3635640" y="1105920"/>
                <a:ext cx="148680" cy="142200"/>
                <a:chOff x="3635640" y="1105920"/>
                <a:chExt cx="148680" cy="142200"/>
              </a:xfrm>
            </p:grpSpPr>
            <p:sp>
              <p:nvSpPr>
                <p:cNvPr id="8778" name=""/>
                <p:cNvSpPr/>
                <p:nvPr/>
              </p:nvSpPr>
              <p:spPr>
                <a:xfrm rot="18645000">
                  <a:off x="3674160" y="110952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9" name=""/>
                <p:cNvSpPr/>
                <p:nvPr/>
              </p:nvSpPr>
              <p:spPr>
                <a:xfrm flipH="1" flipV="1">
                  <a:off x="3685320" y="1174320"/>
                  <a:ext cx="8964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0" name=""/>
                <p:cNvSpPr/>
                <p:nvPr/>
              </p:nvSpPr>
              <p:spPr>
                <a:xfrm flipH="1" flipV="1">
                  <a:off x="3726000" y="1172160"/>
                  <a:ext cx="1656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1" name=""/>
                <p:cNvSpPr/>
                <p:nvPr/>
              </p:nvSpPr>
              <p:spPr>
                <a:xfrm flipH="1">
                  <a:off x="3710880" y="1183320"/>
                  <a:ext cx="1368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2" name=""/>
                <p:cNvSpPr/>
                <p:nvPr/>
              </p:nvSpPr>
              <p:spPr>
                <a:xfrm flipH="1" flipV="1">
                  <a:off x="3696120" y="1170720"/>
                  <a:ext cx="1188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3" name=""/>
              <p:cNvGrpSpPr/>
              <p:nvPr/>
            </p:nvGrpSpPr>
            <p:grpSpPr>
              <a:xfrm>
                <a:off x="3717720" y="845280"/>
                <a:ext cx="116280" cy="151560"/>
                <a:chOff x="3717720" y="845280"/>
                <a:chExt cx="116280" cy="151560"/>
              </a:xfrm>
            </p:grpSpPr>
            <p:sp>
              <p:nvSpPr>
                <p:cNvPr id="8784" name=""/>
                <p:cNvSpPr/>
                <p:nvPr/>
              </p:nvSpPr>
              <p:spPr>
                <a:xfrm rot="20296200">
                  <a:off x="3740040" y="85356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5" name=""/>
                <p:cNvSpPr/>
                <p:nvPr/>
              </p:nvSpPr>
              <p:spPr>
                <a:xfrm flipH="1" flipV="1">
                  <a:off x="3755160" y="907200"/>
                  <a:ext cx="72720" cy="54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6" name=""/>
                <p:cNvSpPr/>
                <p:nvPr/>
              </p:nvSpPr>
              <p:spPr>
                <a:xfrm flipH="1" flipV="1">
                  <a:off x="3792600" y="924120"/>
                  <a:ext cx="1080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7" name=""/>
                <p:cNvSpPr/>
                <p:nvPr/>
              </p:nvSpPr>
              <p:spPr>
                <a:xfrm flipH="1" flipV="1">
                  <a:off x="3770640" y="933120"/>
                  <a:ext cx="1512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8" name=""/>
                <p:cNvSpPr/>
                <p:nvPr/>
              </p:nvSpPr>
              <p:spPr>
                <a:xfrm flipH="1" flipV="1">
                  <a:off x="3766320" y="909000"/>
                  <a:ext cx="864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89" name=""/>
              <p:cNvGrpSpPr/>
              <p:nvPr/>
            </p:nvGrpSpPr>
            <p:grpSpPr>
              <a:xfrm>
                <a:off x="3650400" y="885960"/>
                <a:ext cx="141840" cy="148680"/>
                <a:chOff x="3650400" y="885960"/>
                <a:chExt cx="141840" cy="148680"/>
              </a:xfrm>
            </p:grpSpPr>
            <p:sp>
              <p:nvSpPr>
                <p:cNvPr id="8790" name=""/>
                <p:cNvSpPr/>
                <p:nvPr/>
              </p:nvSpPr>
              <p:spPr>
                <a:xfrm rot="19168200">
                  <a:off x="3685320" y="89280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1" name=""/>
                <p:cNvSpPr/>
                <p:nvPr/>
              </p:nvSpPr>
              <p:spPr>
                <a:xfrm flipH="1" flipV="1">
                  <a:off x="3697560" y="953640"/>
                  <a:ext cx="86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2" name=""/>
                <p:cNvSpPr/>
                <p:nvPr/>
              </p:nvSpPr>
              <p:spPr>
                <a:xfrm flipH="1" flipV="1">
                  <a:off x="3738240" y="957600"/>
                  <a:ext cx="1512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3" name=""/>
                <p:cNvSpPr/>
                <p:nvPr/>
              </p:nvSpPr>
              <p:spPr>
                <a:xfrm flipH="1">
                  <a:off x="3720240" y="968760"/>
                  <a:ext cx="1440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4" name=""/>
                <p:cNvSpPr/>
                <p:nvPr/>
              </p:nvSpPr>
              <p:spPr>
                <a:xfrm flipH="1" flipV="1">
                  <a:off x="3708360" y="951840"/>
                  <a:ext cx="1152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5" name=""/>
              <p:cNvGrpSpPr/>
              <p:nvPr/>
            </p:nvGrpSpPr>
            <p:grpSpPr>
              <a:xfrm>
                <a:off x="3703320" y="974880"/>
                <a:ext cx="132120" cy="152280"/>
                <a:chOff x="3703320" y="974880"/>
                <a:chExt cx="132120" cy="152280"/>
              </a:xfrm>
            </p:grpSpPr>
            <p:sp>
              <p:nvSpPr>
                <p:cNvPr id="8796" name=""/>
                <p:cNvSpPr/>
                <p:nvPr/>
              </p:nvSpPr>
              <p:spPr>
                <a:xfrm rot="19687800">
                  <a:off x="3733200" y="98352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7" name=""/>
                <p:cNvSpPr/>
                <p:nvPr/>
              </p:nvSpPr>
              <p:spPr>
                <a:xfrm flipH="1" flipV="1">
                  <a:off x="3746160" y="1041120"/>
                  <a:ext cx="81000" cy="41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8" name=""/>
                <p:cNvSpPr/>
                <p:nvPr/>
              </p:nvSpPr>
              <p:spPr>
                <a:xfrm flipH="1" flipV="1">
                  <a:off x="3786120" y="1050840"/>
                  <a:ext cx="1296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9" name=""/>
                <p:cNvSpPr/>
                <p:nvPr/>
              </p:nvSpPr>
              <p:spPr>
                <a:xfrm flipH="1">
                  <a:off x="3765960" y="1061280"/>
                  <a:ext cx="1512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0" name=""/>
                <p:cNvSpPr/>
                <p:nvPr/>
              </p:nvSpPr>
              <p:spPr>
                <a:xfrm flipH="1" flipV="1">
                  <a:off x="3757680" y="1040760"/>
                  <a:ext cx="1008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1" name=""/>
              <p:cNvGrpSpPr/>
              <p:nvPr/>
            </p:nvGrpSpPr>
            <p:grpSpPr>
              <a:xfrm>
                <a:off x="3819960" y="906120"/>
                <a:ext cx="84240" cy="140760"/>
                <a:chOff x="3819960" y="906120"/>
                <a:chExt cx="84240" cy="140760"/>
              </a:xfrm>
            </p:grpSpPr>
            <p:sp>
              <p:nvSpPr>
                <p:cNvPr id="8802" name=""/>
                <p:cNvSpPr/>
                <p:nvPr/>
              </p:nvSpPr>
              <p:spPr>
                <a:xfrm rot="21271200">
                  <a:off x="3826080" y="90900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3" name=""/>
                <p:cNvSpPr/>
                <p:nvPr/>
              </p:nvSpPr>
              <p:spPr>
                <a:xfrm flipH="1" flipV="1">
                  <a:off x="3845880" y="957960"/>
                  <a:ext cx="54360" cy="72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4" name=""/>
                <p:cNvSpPr/>
                <p:nvPr/>
              </p:nvSpPr>
              <p:spPr>
                <a:xfrm flipH="1" flipV="1">
                  <a:off x="3876840" y="984600"/>
                  <a:ext cx="648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5" name=""/>
                <p:cNvSpPr/>
                <p:nvPr/>
              </p:nvSpPr>
              <p:spPr>
                <a:xfrm flipH="1" flipV="1">
                  <a:off x="3853440" y="987120"/>
                  <a:ext cx="144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6" name=""/>
                <p:cNvSpPr/>
                <p:nvPr/>
              </p:nvSpPr>
              <p:spPr>
                <a:xfrm flipH="1" flipV="1">
                  <a:off x="3855960" y="962640"/>
                  <a:ext cx="576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7" name=""/>
              <p:cNvGrpSpPr/>
              <p:nvPr/>
            </p:nvGrpSpPr>
            <p:grpSpPr>
              <a:xfrm>
                <a:off x="3835080" y="1128240"/>
                <a:ext cx="130680" cy="137160"/>
                <a:chOff x="3835080" y="1128240"/>
                <a:chExt cx="130680" cy="137160"/>
              </a:xfrm>
            </p:grpSpPr>
            <p:sp>
              <p:nvSpPr>
                <p:cNvPr id="8808" name=""/>
                <p:cNvSpPr/>
                <p:nvPr/>
              </p:nvSpPr>
              <p:spPr>
                <a:xfrm rot="1722000">
                  <a:off x="3854880" y="114336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9" name=""/>
                <p:cNvSpPr/>
                <p:nvPr/>
              </p:nvSpPr>
              <p:spPr>
                <a:xfrm flipH="1" flipV="1">
                  <a:off x="3892680" y="1173600"/>
                  <a:ext cx="23040" cy="82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0" name=""/>
                <p:cNvSpPr/>
                <p:nvPr/>
              </p:nvSpPr>
              <p:spPr>
                <a:xfrm flipV="1">
                  <a:off x="3911400" y="1211760"/>
                  <a:ext cx="144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 flipH="1" flipV="1">
                  <a:off x="3886920" y="1197360"/>
                  <a:ext cx="1332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2" name=""/>
                <p:cNvSpPr/>
                <p:nvPr/>
              </p:nvSpPr>
              <p:spPr>
                <a:xfrm flipH="1" flipV="1">
                  <a:off x="3900960" y="1184040"/>
                  <a:ext cx="72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3" name=""/>
              <p:cNvGrpSpPr/>
              <p:nvPr/>
            </p:nvGrpSpPr>
            <p:grpSpPr>
              <a:xfrm>
                <a:off x="3951000" y="1274400"/>
                <a:ext cx="139320" cy="150480"/>
                <a:chOff x="3951000" y="1274400"/>
                <a:chExt cx="139320" cy="150480"/>
              </a:xfrm>
            </p:grpSpPr>
            <p:sp>
              <p:nvSpPr>
                <p:cNvPr id="8814" name=""/>
                <p:cNvSpPr/>
                <p:nvPr/>
              </p:nvSpPr>
              <p:spPr>
                <a:xfrm rot="8518800">
                  <a:off x="3984480" y="128196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5" name=""/>
                <p:cNvSpPr/>
                <p:nvPr/>
              </p:nvSpPr>
              <p:spPr>
                <a:xfrm>
                  <a:off x="3959280" y="1324800"/>
                  <a:ext cx="85320" cy="32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6" name=""/>
                <p:cNvSpPr/>
                <p:nvPr/>
              </p:nvSpPr>
              <p:spPr>
                <a:xfrm>
                  <a:off x="3989520" y="1340280"/>
                  <a:ext cx="1440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7" name=""/>
                <p:cNvSpPr/>
                <p:nvPr/>
              </p:nvSpPr>
              <p:spPr>
                <a:xfrm flipV="1">
                  <a:off x="4007880" y="1336320"/>
                  <a:ext cx="144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8" name=""/>
                <p:cNvSpPr/>
                <p:nvPr/>
              </p:nvSpPr>
              <p:spPr>
                <a:xfrm>
                  <a:off x="4022280" y="1352160"/>
                  <a:ext cx="1116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9" name=""/>
              <p:cNvGrpSpPr/>
              <p:nvPr/>
            </p:nvGrpSpPr>
            <p:grpSpPr>
              <a:xfrm>
                <a:off x="3902040" y="1376280"/>
                <a:ext cx="137160" cy="150840"/>
                <a:chOff x="3902040" y="1376280"/>
                <a:chExt cx="137160" cy="150840"/>
              </a:xfrm>
            </p:grpSpPr>
            <p:sp>
              <p:nvSpPr>
                <p:cNvPr id="8820" name=""/>
                <p:cNvSpPr/>
                <p:nvPr/>
              </p:nvSpPr>
              <p:spPr>
                <a:xfrm rot="8638800">
                  <a:off x="3934800" y="138420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1" name=""/>
                <p:cNvSpPr/>
                <p:nvPr/>
              </p:nvSpPr>
              <p:spPr>
                <a:xfrm>
                  <a:off x="3910320" y="1424520"/>
                  <a:ext cx="83880" cy="35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2" name=""/>
                <p:cNvSpPr/>
                <p:nvPr/>
              </p:nvSpPr>
              <p:spPr>
                <a:xfrm>
                  <a:off x="3939480" y="1441080"/>
                  <a:ext cx="1440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3" name=""/>
                <p:cNvSpPr/>
                <p:nvPr/>
              </p:nvSpPr>
              <p:spPr>
                <a:xfrm flipV="1">
                  <a:off x="3958200" y="1438200"/>
                  <a:ext cx="147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4" name=""/>
                <p:cNvSpPr/>
                <p:nvPr/>
              </p:nvSpPr>
              <p:spPr>
                <a:xfrm>
                  <a:off x="3972240" y="1454040"/>
                  <a:ext cx="1080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5" name=""/>
              <p:cNvGrpSpPr/>
              <p:nvPr/>
            </p:nvGrpSpPr>
            <p:grpSpPr>
              <a:xfrm>
                <a:off x="3725640" y="1162440"/>
                <a:ext cx="136800" cy="139680"/>
                <a:chOff x="3725640" y="1162440"/>
                <a:chExt cx="136800" cy="139680"/>
              </a:xfrm>
            </p:grpSpPr>
            <p:sp>
              <p:nvSpPr>
                <p:cNvPr id="8826" name=""/>
                <p:cNvSpPr/>
                <p:nvPr/>
              </p:nvSpPr>
              <p:spPr>
                <a:xfrm rot="2211600">
                  <a:off x="3748680" y="1178640"/>
                  <a:ext cx="9072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7" name=""/>
                <p:cNvSpPr/>
                <p:nvPr/>
              </p:nvSpPr>
              <p:spPr>
                <a:xfrm flipH="1" flipV="1">
                  <a:off x="3790080" y="1208520"/>
                  <a:ext cx="10800" cy="8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8" name=""/>
                <p:cNvSpPr/>
                <p:nvPr/>
              </p:nvSpPr>
              <p:spPr>
                <a:xfrm flipV="1">
                  <a:off x="3800880" y="1249200"/>
                  <a:ext cx="360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9" name=""/>
                <p:cNvSpPr/>
                <p:nvPr/>
              </p:nvSpPr>
              <p:spPr>
                <a:xfrm flipH="1" flipV="1">
                  <a:off x="3780720" y="1231200"/>
                  <a:ext cx="1152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0" name=""/>
                <p:cNvSpPr/>
                <p:nvPr/>
              </p:nvSpPr>
              <p:spPr>
                <a:xfrm flipV="1">
                  <a:off x="3795840" y="1220040"/>
                  <a:ext cx="108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1" name=""/>
              <p:cNvGrpSpPr/>
              <p:nvPr/>
            </p:nvGrpSpPr>
            <p:grpSpPr>
              <a:xfrm>
                <a:off x="3698280" y="999000"/>
                <a:ext cx="123840" cy="152280"/>
                <a:chOff x="3698280" y="999000"/>
                <a:chExt cx="123840" cy="152280"/>
              </a:xfrm>
            </p:grpSpPr>
            <p:sp>
              <p:nvSpPr>
                <p:cNvPr id="8832" name=""/>
                <p:cNvSpPr/>
                <p:nvPr/>
              </p:nvSpPr>
              <p:spPr>
                <a:xfrm rot="1576200">
                  <a:off x="3724200" y="100764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3" name=""/>
                <p:cNvSpPr/>
                <p:nvPr/>
              </p:nvSpPr>
              <p:spPr>
                <a:xfrm flipH="1" flipV="1">
                  <a:off x="3756240" y="1050120"/>
                  <a:ext cx="7920" cy="90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4" name=""/>
                <p:cNvSpPr/>
                <p:nvPr/>
              </p:nvSpPr>
              <p:spPr>
                <a:xfrm flipV="1">
                  <a:off x="3765240" y="1089360"/>
                  <a:ext cx="360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5" name=""/>
                <p:cNvSpPr/>
                <p:nvPr/>
              </p:nvSpPr>
              <p:spPr>
                <a:xfrm flipH="1" flipV="1">
                  <a:off x="3747240" y="1079280"/>
                  <a:ext cx="1008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6" name=""/>
                <p:cNvSpPr/>
                <p:nvPr/>
              </p:nvSpPr>
              <p:spPr>
                <a:xfrm flipV="1">
                  <a:off x="3761640" y="1059840"/>
                  <a:ext cx="10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7" name=""/>
              <p:cNvGrpSpPr/>
              <p:nvPr/>
            </p:nvGrpSpPr>
            <p:grpSpPr>
              <a:xfrm>
                <a:off x="3715920" y="845280"/>
                <a:ext cx="119520" cy="151920"/>
                <a:chOff x="3715920" y="845280"/>
                <a:chExt cx="119520" cy="151920"/>
              </a:xfrm>
            </p:grpSpPr>
            <p:sp>
              <p:nvSpPr>
                <p:cNvPr id="8838" name=""/>
                <p:cNvSpPr/>
                <p:nvPr/>
              </p:nvSpPr>
              <p:spPr>
                <a:xfrm rot="1416000">
                  <a:off x="3739680" y="853920"/>
                  <a:ext cx="71640" cy="13464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9" name=""/>
                <p:cNvSpPr/>
                <p:nvPr/>
              </p:nvSpPr>
              <p:spPr>
                <a:xfrm flipH="1" flipV="1">
                  <a:off x="3771360" y="896760"/>
                  <a:ext cx="11880" cy="9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0" name=""/>
                <p:cNvSpPr/>
                <p:nvPr/>
              </p:nvSpPr>
              <p:spPr>
                <a:xfrm flipV="1">
                  <a:off x="3782520" y="934920"/>
                  <a:ext cx="2880" cy="1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1" name=""/>
                <p:cNvSpPr/>
                <p:nvPr/>
              </p:nvSpPr>
              <p:spPr>
                <a:xfrm flipH="1" flipV="1">
                  <a:off x="3763440" y="925920"/>
                  <a:ext cx="1080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2" name=""/>
                <p:cNvSpPr/>
                <p:nvPr/>
              </p:nvSpPr>
              <p:spPr>
                <a:xfrm flipV="1">
                  <a:off x="3777480" y="905760"/>
                  <a:ext cx="36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43" name=""/>
              <p:cNvGrpSpPr/>
              <p:nvPr/>
            </p:nvGrpSpPr>
            <p:grpSpPr>
              <a:xfrm>
                <a:off x="3760200" y="810720"/>
                <a:ext cx="134640" cy="138960"/>
                <a:chOff x="3760200" y="810720"/>
                <a:chExt cx="134640" cy="138960"/>
              </a:xfrm>
            </p:grpSpPr>
            <p:sp>
              <p:nvSpPr>
                <p:cNvPr id="8844" name=""/>
                <p:cNvSpPr/>
                <p:nvPr/>
              </p:nvSpPr>
              <p:spPr>
                <a:xfrm rot="2048400">
                  <a:off x="3782160" y="826560"/>
                  <a:ext cx="903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5" name=""/>
                <p:cNvSpPr/>
                <p:nvPr/>
              </p:nvSpPr>
              <p:spPr>
                <a:xfrm flipH="1" flipV="1">
                  <a:off x="3822120" y="856440"/>
                  <a:ext cx="14760" cy="84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6" name=""/>
                <p:cNvSpPr/>
                <p:nvPr/>
              </p:nvSpPr>
              <p:spPr>
                <a:xfrm flipV="1">
                  <a:off x="3835800" y="896760"/>
                  <a:ext cx="324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7" name=""/>
                <p:cNvSpPr/>
                <p:nvPr/>
              </p:nvSpPr>
              <p:spPr>
                <a:xfrm flipH="1" flipV="1">
                  <a:off x="3813840" y="879840"/>
                  <a:ext cx="1188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8" name=""/>
                <p:cNvSpPr/>
                <p:nvPr/>
              </p:nvSpPr>
              <p:spPr>
                <a:xfrm flipV="1">
                  <a:off x="3828960" y="867600"/>
                  <a:ext cx="36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49" name=""/>
            <p:cNvGrpSpPr/>
            <p:nvPr/>
          </p:nvGrpSpPr>
          <p:grpSpPr>
            <a:xfrm>
              <a:off x="2232720" y="1021320"/>
              <a:ext cx="2451240" cy="3826440"/>
              <a:chOff x="2232720" y="1021320"/>
              <a:chExt cx="2451240" cy="3826440"/>
            </a:xfrm>
          </p:grpSpPr>
          <p:sp>
            <p:nvSpPr>
              <p:cNvPr id="8850" name=""/>
              <p:cNvSpPr/>
              <p:nvPr/>
            </p:nvSpPr>
            <p:spPr>
              <a:xfrm>
                <a:off x="2702160" y="1340640"/>
                <a:ext cx="1401120" cy="350712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851" name=""/>
              <p:cNvGrpSpPr/>
              <p:nvPr/>
            </p:nvGrpSpPr>
            <p:grpSpPr>
              <a:xfrm>
                <a:off x="2950920" y="3003840"/>
                <a:ext cx="651600" cy="525600"/>
                <a:chOff x="2950920" y="3003840"/>
                <a:chExt cx="651600" cy="525600"/>
              </a:xfrm>
            </p:grpSpPr>
            <p:grpSp>
              <p:nvGrpSpPr>
                <p:cNvPr id="8852" name=""/>
                <p:cNvGrpSpPr/>
                <p:nvPr/>
              </p:nvGrpSpPr>
              <p:grpSpPr>
                <a:xfrm>
                  <a:off x="3215160" y="3071520"/>
                  <a:ext cx="144360" cy="131040"/>
                  <a:chOff x="3215160" y="3071520"/>
                  <a:chExt cx="144360" cy="131040"/>
                </a:xfrm>
              </p:grpSpPr>
              <p:sp>
                <p:nvSpPr>
                  <p:cNvPr id="8853" name=""/>
                  <p:cNvSpPr/>
                  <p:nvPr/>
                </p:nvSpPr>
                <p:spPr>
                  <a:xfrm rot="3815400">
                    <a:off x="3242880" y="3078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4" name=""/>
                  <p:cNvSpPr/>
                  <p:nvPr/>
                </p:nvSpPr>
                <p:spPr>
                  <a:xfrm flipV="1">
                    <a:off x="3260880" y="311364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5" name=""/>
                  <p:cNvSpPr/>
                  <p:nvPr/>
                </p:nvSpPr>
                <p:spPr>
                  <a:xfrm flipV="1">
                    <a:off x="3276720" y="315684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6" name=""/>
                  <p:cNvSpPr/>
                  <p:nvPr/>
                </p:nvSpPr>
                <p:spPr>
                  <a:xfrm flipH="1" flipV="1">
                    <a:off x="3274920" y="313056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7" name=""/>
                  <p:cNvSpPr/>
                  <p:nvPr/>
                </p:nvSpPr>
                <p:spPr>
                  <a:xfrm flipV="1">
                    <a:off x="3289680" y="312660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58" name=""/>
                <p:cNvSpPr/>
                <p:nvPr/>
              </p:nvSpPr>
              <p:spPr>
                <a:xfrm flipH="1">
                  <a:off x="3210480" y="332856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9" name=""/>
                <p:cNvSpPr/>
                <p:nvPr/>
              </p:nvSpPr>
              <p:spPr>
                <a:xfrm>
                  <a:off x="3087360" y="323028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0" name=""/>
                <p:cNvSpPr/>
                <p:nvPr/>
              </p:nvSpPr>
              <p:spPr>
                <a:xfrm flipH="1" flipV="1">
                  <a:off x="3192840" y="313236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1" name=""/>
                <p:cNvSpPr/>
                <p:nvPr/>
              </p:nvSpPr>
              <p:spPr>
                <a:xfrm flipH="1" flipV="1">
                  <a:off x="3404520" y="322992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2" name=""/>
                <p:cNvSpPr/>
                <p:nvPr/>
              </p:nvSpPr>
              <p:spPr>
                <a:xfrm flipH="1">
                  <a:off x="3263400" y="334836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3" name=""/>
                <p:cNvSpPr/>
                <p:nvPr/>
              </p:nvSpPr>
              <p:spPr>
                <a:xfrm flipH="1" flipV="1">
                  <a:off x="3298680" y="330840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4" name=""/>
                <p:cNvSpPr/>
                <p:nvPr/>
              </p:nvSpPr>
              <p:spPr>
                <a:xfrm flipH="1" flipV="1">
                  <a:off x="3157560" y="315180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5" name=""/>
                <p:cNvSpPr/>
                <p:nvPr/>
              </p:nvSpPr>
              <p:spPr>
                <a:xfrm flipV="1">
                  <a:off x="3245760" y="317124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6" name=""/>
                <p:cNvSpPr/>
                <p:nvPr/>
              </p:nvSpPr>
              <p:spPr>
                <a:xfrm flipH="1">
                  <a:off x="3105000" y="325008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7" name=""/>
                <p:cNvSpPr/>
                <p:nvPr/>
              </p:nvSpPr>
              <p:spPr>
                <a:xfrm flipH="1" flipV="1">
                  <a:off x="3333960" y="325008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8" name=""/>
                <p:cNvSpPr/>
                <p:nvPr/>
              </p:nvSpPr>
              <p:spPr>
                <a:xfrm flipH="1" flipV="1">
                  <a:off x="3369240" y="325008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9" name=""/>
                <p:cNvSpPr/>
                <p:nvPr/>
              </p:nvSpPr>
              <p:spPr>
                <a:xfrm flipV="1">
                  <a:off x="3474720" y="330840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0" name=""/>
                <p:cNvSpPr/>
                <p:nvPr/>
              </p:nvSpPr>
              <p:spPr>
                <a:xfrm flipV="1">
                  <a:off x="3421800" y="321048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1" name=""/>
                <p:cNvSpPr/>
                <p:nvPr/>
              </p:nvSpPr>
              <p:spPr>
                <a:xfrm flipH="1">
                  <a:off x="3369240" y="338724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2" name=""/>
                <p:cNvSpPr/>
                <p:nvPr/>
              </p:nvSpPr>
              <p:spPr>
                <a:xfrm flipH="1">
                  <a:off x="3175560" y="326952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3" name=""/>
                <p:cNvSpPr/>
                <p:nvPr/>
              </p:nvSpPr>
              <p:spPr>
                <a:xfrm flipH="1" flipV="1">
                  <a:off x="3104640" y="319140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74" name=""/>
                <p:cNvGrpSpPr/>
                <p:nvPr/>
              </p:nvGrpSpPr>
              <p:grpSpPr>
                <a:xfrm>
                  <a:off x="3130560" y="3003840"/>
                  <a:ext cx="132480" cy="153000"/>
                  <a:chOff x="3130560" y="3003840"/>
                  <a:chExt cx="132480" cy="153000"/>
                </a:xfrm>
              </p:grpSpPr>
              <p:sp>
                <p:nvSpPr>
                  <p:cNvPr id="8875" name=""/>
                  <p:cNvSpPr/>
                  <p:nvPr/>
                </p:nvSpPr>
                <p:spPr>
                  <a:xfrm rot="1745400">
                    <a:off x="3157200" y="30146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6" name=""/>
                  <p:cNvSpPr/>
                  <p:nvPr/>
                </p:nvSpPr>
                <p:spPr>
                  <a:xfrm flipH="1" flipV="1">
                    <a:off x="3193560" y="305532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7" name=""/>
                  <p:cNvSpPr/>
                  <p:nvPr/>
                </p:nvSpPr>
                <p:spPr>
                  <a:xfrm flipV="1">
                    <a:off x="3202560" y="309600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8" name=""/>
                  <p:cNvSpPr/>
                  <p:nvPr/>
                </p:nvSpPr>
                <p:spPr>
                  <a:xfrm flipH="1" flipV="1">
                    <a:off x="3183480" y="308304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9" name=""/>
                  <p:cNvSpPr/>
                  <p:nvPr/>
                </p:nvSpPr>
                <p:spPr>
                  <a:xfrm flipV="1">
                    <a:off x="3198240" y="306576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0" name=""/>
                <p:cNvGrpSpPr/>
                <p:nvPr/>
              </p:nvGrpSpPr>
              <p:grpSpPr>
                <a:xfrm>
                  <a:off x="3187800" y="3200400"/>
                  <a:ext cx="124560" cy="151920"/>
                  <a:chOff x="3187800" y="3200400"/>
                  <a:chExt cx="124560" cy="151920"/>
                </a:xfrm>
              </p:grpSpPr>
              <p:sp>
                <p:nvSpPr>
                  <p:cNvPr id="8881" name=""/>
                  <p:cNvSpPr/>
                  <p:nvPr/>
                </p:nvSpPr>
                <p:spPr>
                  <a:xfrm rot="20187000">
                    <a:off x="3210480" y="3210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2" name=""/>
                  <p:cNvSpPr/>
                  <p:nvPr/>
                </p:nvSpPr>
                <p:spPr>
                  <a:xfrm flipH="1" flipV="1">
                    <a:off x="3228120" y="326376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3" name=""/>
                  <p:cNvSpPr/>
                  <p:nvPr/>
                </p:nvSpPr>
                <p:spPr>
                  <a:xfrm flipH="1" flipV="1">
                    <a:off x="3268440" y="327816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4" name=""/>
                  <p:cNvSpPr/>
                  <p:nvPr/>
                </p:nvSpPr>
                <p:spPr>
                  <a:xfrm flipH="1">
                    <a:off x="3244320" y="328788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5" name=""/>
                  <p:cNvSpPr/>
                  <p:nvPr/>
                </p:nvSpPr>
                <p:spPr>
                  <a:xfrm flipH="1" flipV="1">
                    <a:off x="3240360" y="326520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86" name=""/>
                <p:cNvGrpSpPr/>
                <p:nvPr/>
              </p:nvGrpSpPr>
              <p:grpSpPr>
                <a:xfrm>
                  <a:off x="3263760" y="3132360"/>
                  <a:ext cx="78840" cy="130680"/>
                  <a:chOff x="3263760" y="3132360"/>
                  <a:chExt cx="78840" cy="130680"/>
                </a:xfrm>
              </p:grpSpPr>
              <p:sp>
                <p:nvSpPr>
                  <p:cNvPr id="8887" name=""/>
                  <p:cNvSpPr/>
                  <p:nvPr/>
                </p:nvSpPr>
                <p:spPr>
                  <a:xfrm>
                    <a:off x="3263760" y="31323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8" name=""/>
                  <p:cNvSpPr/>
                  <p:nvPr/>
                </p:nvSpPr>
                <p:spPr>
                  <a:xfrm flipH="1" flipV="1">
                    <a:off x="3287880" y="31777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9" name=""/>
                  <p:cNvSpPr/>
                  <p:nvPr/>
                </p:nvSpPr>
                <p:spPr>
                  <a:xfrm flipH="1" flipV="1">
                    <a:off x="3319200" y="32068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0" name=""/>
                  <p:cNvSpPr/>
                  <p:nvPr/>
                </p:nvSpPr>
                <p:spPr>
                  <a:xfrm flipH="1" flipV="1">
                    <a:off x="3292920" y="32068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1" name=""/>
                  <p:cNvSpPr/>
                  <p:nvPr/>
                </p:nvSpPr>
                <p:spPr>
                  <a:xfrm flipH="1" flipV="1">
                    <a:off x="3298320" y="31834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2" name=""/>
                <p:cNvGrpSpPr/>
                <p:nvPr/>
              </p:nvGrpSpPr>
              <p:grpSpPr>
                <a:xfrm>
                  <a:off x="3099960" y="3360240"/>
                  <a:ext cx="127440" cy="102240"/>
                  <a:chOff x="3099960" y="3360240"/>
                  <a:chExt cx="127440" cy="102240"/>
                </a:xfrm>
              </p:grpSpPr>
              <p:sp>
                <p:nvSpPr>
                  <p:cNvPr id="8893" name=""/>
                  <p:cNvSpPr/>
                  <p:nvPr/>
                </p:nvSpPr>
                <p:spPr>
                  <a:xfrm rot="15769200">
                    <a:off x="3119400" y="33526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4" name=""/>
                  <p:cNvSpPr/>
                  <p:nvPr/>
                </p:nvSpPr>
                <p:spPr>
                  <a:xfrm flipH="1">
                    <a:off x="3147840" y="336528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5" name=""/>
                  <p:cNvSpPr/>
                  <p:nvPr/>
                </p:nvSpPr>
                <p:spPr>
                  <a:xfrm flipH="1">
                    <a:off x="3169440" y="338508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6" name=""/>
                  <p:cNvSpPr/>
                  <p:nvPr/>
                </p:nvSpPr>
                <p:spPr>
                  <a:xfrm flipH="1">
                    <a:off x="3173400" y="340416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7" name=""/>
                  <p:cNvSpPr/>
                  <p:nvPr/>
                </p:nvSpPr>
                <p:spPr>
                  <a:xfrm flipH="1">
                    <a:off x="3151440" y="341136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8" name=""/>
                <p:cNvGrpSpPr/>
                <p:nvPr/>
              </p:nvGrpSpPr>
              <p:grpSpPr>
                <a:xfrm>
                  <a:off x="3034800" y="3073680"/>
                  <a:ext cx="78840" cy="131040"/>
                  <a:chOff x="3034800" y="3073680"/>
                  <a:chExt cx="78840" cy="131040"/>
                </a:xfrm>
              </p:grpSpPr>
              <p:sp>
                <p:nvSpPr>
                  <p:cNvPr id="8899" name=""/>
                  <p:cNvSpPr/>
                  <p:nvPr/>
                </p:nvSpPr>
                <p:spPr>
                  <a:xfrm>
                    <a:off x="3034800" y="3073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0" name=""/>
                  <p:cNvSpPr/>
                  <p:nvPr/>
                </p:nvSpPr>
                <p:spPr>
                  <a:xfrm flipH="1" flipV="1">
                    <a:off x="3058920" y="31190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1" name=""/>
                  <p:cNvSpPr/>
                  <p:nvPr/>
                </p:nvSpPr>
                <p:spPr>
                  <a:xfrm flipH="1" flipV="1">
                    <a:off x="3090240" y="31482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2" name=""/>
                  <p:cNvSpPr/>
                  <p:nvPr/>
                </p:nvSpPr>
                <p:spPr>
                  <a:xfrm flipH="1" flipV="1">
                    <a:off x="3063960" y="31482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3" name=""/>
                  <p:cNvSpPr/>
                  <p:nvPr/>
                </p:nvSpPr>
                <p:spPr>
                  <a:xfrm flipH="1" flipV="1">
                    <a:off x="3069360" y="31251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4" name=""/>
                <p:cNvGrpSpPr/>
                <p:nvPr/>
              </p:nvGrpSpPr>
              <p:grpSpPr>
                <a:xfrm>
                  <a:off x="3333960" y="3112560"/>
                  <a:ext cx="78840" cy="131040"/>
                  <a:chOff x="3333960" y="3112560"/>
                  <a:chExt cx="78840" cy="131040"/>
                </a:xfrm>
              </p:grpSpPr>
              <p:sp>
                <p:nvSpPr>
                  <p:cNvPr id="8905" name=""/>
                  <p:cNvSpPr/>
                  <p:nvPr/>
                </p:nvSpPr>
                <p:spPr>
                  <a:xfrm>
                    <a:off x="3333960" y="3112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6" name=""/>
                  <p:cNvSpPr/>
                  <p:nvPr/>
                </p:nvSpPr>
                <p:spPr>
                  <a:xfrm flipH="1" flipV="1">
                    <a:off x="3358080" y="31579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7" name=""/>
                  <p:cNvSpPr/>
                  <p:nvPr/>
                </p:nvSpPr>
                <p:spPr>
                  <a:xfrm flipH="1" flipV="1">
                    <a:off x="3389400" y="31870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8" name=""/>
                  <p:cNvSpPr/>
                  <p:nvPr/>
                </p:nvSpPr>
                <p:spPr>
                  <a:xfrm flipH="1" flipV="1">
                    <a:off x="3363120" y="31870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9" name=""/>
                  <p:cNvSpPr/>
                  <p:nvPr/>
                </p:nvSpPr>
                <p:spPr>
                  <a:xfrm flipH="1" flipV="1">
                    <a:off x="3368520" y="31640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0" name=""/>
                <p:cNvGrpSpPr/>
                <p:nvPr/>
              </p:nvGrpSpPr>
              <p:grpSpPr>
                <a:xfrm>
                  <a:off x="3087360" y="3034440"/>
                  <a:ext cx="78840" cy="130680"/>
                  <a:chOff x="3087360" y="3034440"/>
                  <a:chExt cx="78840" cy="130680"/>
                </a:xfrm>
              </p:grpSpPr>
              <p:sp>
                <p:nvSpPr>
                  <p:cNvPr id="8911" name=""/>
                  <p:cNvSpPr/>
                  <p:nvPr/>
                </p:nvSpPr>
                <p:spPr>
                  <a:xfrm>
                    <a:off x="3087360" y="30344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2" name=""/>
                  <p:cNvSpPr/>
                  <p:nvPr/>
                </p:nvSpPr>
                <p:spPr>
                  <a:xfrm flipH="1" flipV="1">
                    <a:off x="3111480" y="30798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3" name=""/>
                  <p:cNvSpPr/>
                  <p:nvPr/>
                </p:nvSpPr>
                <p:spPr>
                  <a:xfrm flipH="1" flipV="1">
                    <a:off x="3142800" y="31089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4" name=""/>
                  <p:cNvSpPr/>
                  <p:nvPr/>
                </p:nvSpPr>
                <p:spPr>
                  <a:xfrm flipH="1" flipV="1">
                    <a:off x="3116520" y="31089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5" name=""/>
                  <p:cNvSpPr/>
                  <p:nvPr/>
                </p:nvSpPr>
                <p:spPr>
                  <a:xfrm flipH="1" flipV="1">
                    <a:off x="3121920" y="30855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16" name=""/>
                <p:cNvGrpSpPr/>
                <p:nvPr/>
              </p:nvGrpSpPr>
              <p:grpSpPr>
                <a:xfrm>
                  <a:off x="3253680" y="3411720"/>
                  <a:ext cx="137520" cy="117720"/>
                  <a:chOff x="3253680" y="3411720"/>
                  <a:chExt cx="137520" cy="117720"/>
                </a:xfrm>
              </p:grpSpPr>
              <p:sp>
                <p:nvSpPr>
                  <p:cNvPr id="8917" name=""/>
                  <p:cNvSpPr/>
                  <p:nvPr/>
                </p:nvSpPr>
                <p:spPr>
                  <a:xfrm rot="15198000">
                    <a:off x="3278520" y="34117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8" name=""/>
                  <p:cNvSpPr/>
                  <p:nvPr/>
                </p:nvSpPr>
                <p:spPr>
                  <a:xfrm flipH="1">
                    <a:off x="3310200" y="341712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9" name=""/>
                  <p:cNvSpPr/>
                  <p:nvPr/>
                </p:nvSpPr>
                <p:spPr>
                  <a:xfrm flipH="1">
                    <a:off x="3324960" y="34408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0" name=""/>
                  <p:cNvSpPr/>
                  <p:nvPr/>
                </p:nvSpPr>
                <p:spPr>
                  <a:xfrm>
                    <a:off x="3333600" y="346068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1" name=""/>
                  <p:cNvSpPr/>
                  <p:nvPr/>
                </p:nvSpPr>
                <p:spPr>
                  <a:xfrm flipH="1">
                    <a:off x="3311640" y="347148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2" name=""/>
                <p:cNvGrpSpPr/>
                <p:nvPr/>
              </p:nvGrpSpPr>
              <p:grpSpPr>
                <a:xfrm>
                  <a:off x="3161160" y="3382920"/>
                  <a:ext cx="145800" cy="135720"/>
                  <a:chOff x="3161160" y="3382920"/>
                  <a:chExt cx="145800" cy="135720"/>
                </a:xfrm>
              </p:grpSpPr>
              <p:sp>
                <p:nvSpPr>
                  <p:cNvPr id="8923" name=""/>
                  <p:cNvSpPr/>
                  <p:nvPr/>
                </p:nvSpPr>
                <p:spPr>
                  <a:xfrm rot="14358600">
                    <a:off x="3189960" y="33919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4" name=""/>
                  <p:cNvSpPr/>
                  <p:nvPr/>
                </p:nvSpPr>
                <p:spPr>
                  <a:xfrm flipH="1">
                    <a:off x="3227760" y="339048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5" name=""/>
                  <p:cNvSpPr/>
                  <p:nvPr/>
                </p:nvSpPr>
                <p:spPr>
                  <a:xfrm flipH="1">
                    <a:off x="3231720" y="34185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6" name=""/>
                  <p:cNvSpPr/>
                  <p:nvPr/>
                </p:nvSpPr>
                <p:spPr>
                  <a:xfrm>
                    <a:off x="3242520" y="343872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7" name=""/>
                  <p:cNvSpPr/>
                  <p:nvPr/>
                </p:nvSpPr>
                <p:spPr>
                  <a:xfrm flipH="1">
                    <a:off x="3225600" y="345168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8" name=""/>
                <p:cNvGrpSpPr/>
                <p:nvPr/>
              </p:nvGrpSpPr>
              <p:grpSpPr>
                <a:xfrm>
                  <a:off x="2980080" y="3227040"/>
                  <a:ext cx="122040" cy="94320"/>
                  <a:chOff x="2980080" y="3227040"/>
                  <a:chExt cx="122040" cy="94320"/>
                </a:xfrm>
              </p:grpSpPr>
              <p:sp>
                <p:nvSpPr>
                  <p:cNvPr id="8929" name=""/>
                  <p:cNvSpPr/>
                  <p:nvPr/>
                </p:nvSpPr>
                <p:spPr>
                  <a:xfrm rot="16010400">
                    <a:off x="2997000" y="32155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0" name=""/>
                  <p:cNvSpPr/>
                  <p:nvPr/>
                </p:nvSpPr>
                <p:spPr>
                  <a:xfrm flipH="1">
                    <a:off x="3024000" y="323100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1" name=""/>
                  <p:cNvSpPr/>
                  <p:nvPr/>
                </p:nvSpPr>
                <p:spPr>
                  <a:xfrm flipH="1">
                    <a:off x="3047760" y="324936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2" name=""/>
                  <p:cNvSpPr/>
                  <p:nvPr/>
                </p:nvSpPr>
                <p:spPr>
                  <a:xfrm flipH="1">
                    <a:off x="3049920" y="326736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3" name=""/>
                  <p:cNvSpPr/>
                  <p:nvPr/>
                </p:nvSpPr>
                <p:spPr>
                  <a:xfrm flipH="1">
                    <a:off x="3028320" y="327456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34" name=""/>
                <p:cNvGrpSpPr/>
                <p:nvPr/>
              </p:nvGrpSpPr>
              <p:grpSpPr>
                <a:xfrm>
                  <a:off x="2986920" y="3289680"/>
                  <a:ext cx="141840" cy="125640"/>
                  <a:chOff x="2986920" y="3289680"/>
                  <a:chExt cx="141840" cy="125640"/>
                </a:xfrm>
              </p:grpSpPr>
              <p:sp>
                <p:nvSpPr>
                  <p:cNvPr id="8935" name=""/>
                  <p:cNvSpPr/>
                  <p:nvPr/>
                </p:nvSpPr>
                <p:spPr>
                  <a:xfrm rot="14881800">
                    <a:off x="3013560" y="32936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6" name=""/>
                  <p:cNvSpPr/>
                  <p:nvPr/>
                </p:nvSpPr>
                <p:spPr>
                  <a:xfrm flipH="1">
                    <a:off x="3048120" y="329652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7" name=""/>
                  <p:cNvSpPr/>
                  <p:nvPr/>
                </p:nvSpPr>
                <p:spPr>
                  <a:xfrm flipH="1">
                    <a:off x="3058920" y="332172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8" name=""/>
                  <p:cNvSpPr/>
                  <p:nvPr/>
                </p:nvSpPr>
                <p:spPr>
                  <a:xfrm>
                    <a:off x="3068280" y="334188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9" name=""/>
                  <p:cNvSpPr/>
                  <p:nvPr/>
                </p:nvSpPr>
                <p:spPr>
                  <a:xfrm flipH="1">
                    <a:off x="3048120" y="335304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0" name=""/>
                <p:cNvGrpSpPr/>
                <p:nvPr/>
              </p:nvGrpSpPr>
              <p:grpSpPr>
                <a:xfrm>
                  <a:off x="3078720" y="3276720"/>
                  <a:ext cx="134280" cy="112320"/>
                  <a:chOff x="3078720" y="3276720"/>
                  <a:chExt cx="134280" cy="112320"/>
                </a:xfrm>
              </p:grpSpPr>
              <p:sp>
                <p:nvSpPr>
                  <p:cNvPr id="8941" name=""/>
                  <p:cNvSpPr/>
                  <p:nvPr/>
                </p:nvSpPr>
                <p:spPr>
                  <a:xfrm rot="15401400">
                    <a:off x="3101760" y="32738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2" name=""/>
                  <p:cNvSpPr/>
                  <p:nvPr/>
                </p:nvSpPr>
                <p:spPr>
                  <a:xfrm flipH="1">
                    <a:off x="3132360" y="328176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3" name=""/>
                  <p:cNvSpPr/>
                  <p:nvPr/>
                </p:nvSpPr>
                <p:spPr>
                  <a:xfrm flipH="1">
                    <a:off x="3149640" y="330444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4" name=""/>
                  <p:cNvSpPr/>
                  <p:nvPr/>
                </p:nvSpPr>
                <p:spPr>
                  <a:xfrm flipH="1">
                    <a:off x="3156840" y="332388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5" name=""/>
                  <p:cNvSpPr/>
                  <p:nvPr/>
                </p:nvSpPr>
                <p:spPr>
                  <a:xfrm flipH="1">
                    <a:off x="3134880" y="333396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46" name=""/>
                <p:cNvGrpSpPr/>
                <p:nvPr/>
              </p:nvGrpSpPr>
              <p:grpSpPr>
                <a:xfrm>
                  <a:off x="3043800" y="3139920"/>
                  <a:ext cx="134280" cy="112320"/>
                  <a:chOff x="3043800" y="3139920"/>
                  <a:chExt cx="134280" cy="112320"/>
                </a:xfrm>
              </p:grpSpPr>
              <p:sp>
                <p:nvSpPr>
                  <p:cNvPr id="8947" name=""/>
                  <p:cNvSpPr/>
                  <p:nvPr/>
                </p:nvSpPr>
                <p:spPr>
                  <a:xfrm rot="16985400">
                    <a:off x="3066840" y="3137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8" name=""/>
                  <p:cNvSpPr/>
                  <p:nvPr/>
                </p:nvSpPr>
                <p:spPr>
                  <a:xfrm flipH="1">
                    <a:off x="3089160" y="316764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9" name=""/>
                  <p:cNvSpPr/>
                  <p:nvPr/>
                </p:nvSpPr>
                <p:spPr>
                  <a:xfrm flipH="1">
                    <a:off x="3122640" y="317808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0" name=""/>
                  <p:cNvSpPr/>
                  <p:nvPr/>
                </p:nvSpPr>
                <p:spPr>
                  <a:xfrm flipH="1">
                    <a:off x="3116160" y="319320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1" name=""/>
                  <p:cNvSpPr/>
                  <p:nvPr/>
                </p:nvSpPr>
                <p:spPr>
                  <a:xfrm flipH="1">
                    <a:off x="3096720" y="31957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2" name=""/>
                <p:cNvGrpSpPr/>
                <p:nvPr/>
              </p:nvGrpSpPr>
              <p:grpSpPr>
                <a:xfrm>
                  <a:off x="3229920" y="3161880"/>
                  <a:ext cx="146520" cy="149760"/>
                  <a:chOff x="3229920" y="3161880"/>
                  <a:chExt cx="146520" cy="149760"/>
                </a:xfrm>
              </p:grpSpPr>
              <p:sp>
                <p:nvSpPr>
                  <p:cNvPr id="8953" name=""/>
                  <p:cNvSpPr/>
                  <p:nvPr/>
                </p:nvSpPr>
                <p:spPr>
                  <a:xfrm rot="19036200">
                    <a:off x="3263760" y="31712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4" name=""/>
                  <p:cNvSpPr/>
                  <p:nvPr/>
                </p:nvSpPr>
                <p:spPr>
                  <a:xfrm flipH="1" flipV="1">
                    <a:off x="3278520" y="323244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5" name=""/>
                  <p:cNvSpPr/>
                  <p:nvPr/>
                </p:nvSpPr>
                <p:spPr>
                  <a:xfrm flipH="1" flipV="1">
                    <a:off x="3321360" y="323280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6" name=""/>
                  <p:cNvSpPr/>
                  <p:nvPr/>
                </p:nvSpPr>
                <p:spPr>
                  <a:xfrm flipH="1">
                    <a:off x="3301920" y="32443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7" name=""/>
                  <p:cNvSpPr/>
                  <p:nvPr/>
                </p:nvSpPr>
                <p:spPr>
                  <a:xfrm flipH="1" flipV="1">
                    <a:off x="3290040" y="32295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8" name=""/>
                <p:cNvGrpSpPr/>
                <p:nvPr/>
              </p:nvGrpSpPr>
              <p:grpSpPr>
                <a:xfrm>
                  <a:off x="3393360" y="3095640"/>
                  <a:ext cx="140040" cy="122400"/>
                  <a:chOff x="3393360" y="3095640"/>
                  <a:chExt cx="140040" cy="122400"/>
                </a:xfrm>
              </p:grpSpPr>
              <p:sp>
                <p:nvSpPr>
                  <p:cNvPr id="8959" name=""/>
                  <p:cNvSpPr/>
                  <p:nvPr/>
                </p:nvSpPr>
                <p:spPr>
                  <a:xfrm rot="4233000">
                    <a:off x="3418920" y="3097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0" name=""/>
                  <p:cNvSpPr/>
                  <p:nvPr/>
                </p:nvSpPr>
                <p:spPr>
                  <a:xfrm flipV="1">
                    <a:off x="3430080" y="313416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1" name=""/>
                  <p:cNvSpPr/>
                  <p:nvPr/>
                </p:nvSpPr>
                <p:spPr>
                  <a:xfrm flipV="1">
                    <a:off x="3449160" y="317592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2" name=""/>
                  <p:cNvSpPr/>
                  <p:nvPr/>
                </p:nvSpPr>
                <p:spPr>
                  <a:xfrm flipH="1" flipV="1">
                    <a:off x="3451680" y="314856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3" name=""/>
                  <p:cNvSpPr/>
                  <p:nvPr/>
                </p:nvSpPr>
                <p:spPr>
                  <a:xfrm flipV="1">
                    <a:off x="3465720" y="314748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64" name=""/>
                <p:cNvGrpSpPr/>
                <p:nvPr/>
              </p:nvGrpSpPr>
              <p:grpSpPr>
                <a:xfrm>
                  <a:off x="3464280" y="3195360"/>
                  <a:ext cx="138240" cy="119160"/>
                  <a:chOff x="3464280" y="3195360"/>
                  <a:chExt cx="138240" cy="119160"/>
                </a:xfrm>
              </p:grpSpPr>
              <p:sp>
                <p:nvSpPr>
                  <p:cNvPr id="8965" name=""/>
                  <p:cNvSpPr/>
                  <p:nvPr/>
                </p:nvSpPr>
                <p:spPr>
                  <a:xfrm rot="4353000">
                    <a:off x="3489120" y="3196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6" name=""/>
                  <p:cNvSpPr/>
                  <p:nvPr/>
                </p:nvSpPr>
                <p:spPr>
                  <a:xfrm flipV="1">
                    <a:off x="3498120" y="323280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7" name=""/>
                  <p:cNvSpPr/>
                  <p:nvPr/>
                </p:nvSpPr>
                <p:spPr>
                  <a:xfrm flipV="1">
                    <a:off x="3518280" y="327420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8" name=""/>
                  <p:cNvSpPr/>
                  <p:nvPr/>
                </p:nvSpPr>
                <p:spPr>
                  <a:xfrm flipH="1" flipV="1">
                    <a:off x="3522240" y="324648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9" name=""/>
                  <p:cNvSpPr/>
                  <p:nvPr/>
                </p:nvSpPr>
                <p:spPr>
                  <a:xfrm flipV="1">
                    <a:off x="3535920" y="324612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0" name=""/>
                <p:cNvGrpSpPr/>
                <p:nvPr/>
              </p:nvGrpSpPr>
              <p:grpSpPr>
                <a:xfrm>
                  <a:off x="3233520" y="3297960"/>
                  <a:ext cx="139320" cy="152640"/>
                  <a:chOff x="3233520" y="3297960"/>
                  <a:chExt cx="139320" cy="152640"/>
                </a:xfrm>
              </p:grpSpPr>
              <p:sp>
                <p:nvSpPr>
                  <p:cNvPr id="8971" name=""/>
                  <p:cNvSpPr/>
                  <p:nvPr/>
                </p:nvSpPr>
                <p:spPr>
                  <a:xfrm rot="19525800">
                    <a:off x="3263400" y="3308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2" name=""/>
                  <p:cNvSpPr/>
                  <p:nvPr/>
                </p:nvSpPr>
                <p:spPr>
                  <a:xfrm flipH="1" flipV="1">
                    <a:off x="3279240" y="336636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3" name=""/>
                  <p:cNvSpPr/>
                  <p:nvPr/>
                </p:nvSpPr>
                <p:spPr>
                  <a:xfrm flipH="1" flipV="1">
                    <a:off x="3321360" y="337248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4" name=""/>
                  <p:cNvSpPr/>
                  <p:nvPr/>
                </p:nvSpPr>
                <p:spPr>
                  <a:xfrm flipH="1">
                    <a:off x="3299760" y="33832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5" name=""/>
                  <p:cNvSpPr/>
                  <p:nvPr/>
                </p:nvSpPr>
                <p:spPr>
                  <a:xfrm flipH="1" flipV="1">
                    <a:off x="3291120" y="336528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76" name=""/>
                <p:cNvGrpSpPr/>
                <p:nvPr/>
              </p:nvGrpSpPr>
              <p:grpSpPr>
                <a:xfrm>
                  <a:off x="3090960" y="3279960"/>
                  <a:ext cx="145440" cy="145440"/>
                  <a:chOff x="3090960" y="3279960"/>
                  <a:chExt cx="145440" cy="145440"/>
                </a:xfrm>
              </p:grpSpPr>
              <p:sp>
                <p:nvSpPr>
                  <p:cNvPr id="8977" name=""/>
                  <p:cNvSpPr/>
                  <p:nvPr/>
                </p:nvSpPr>
                <p:spPr>
                  <a:xfrm rot="18890400">
                    <a:off x="3119400" y="32940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8" name=""/>
                  <p:cNvSpPr/>
                  <p:nvPr/>
                </p:nvSpPr>
                <p:spPr>
                  <a:xfrm flipH="1" flipV="1">
                    <a:off x="3138840" y="335232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9" name=""/>
                  <p:cNvSpPr/>
                  <p:nvPr/>
                </p:nvSpPr>
                <p:spPr>
                  <a:xfrm flipH="1" flipV="1">
                    <a:off x="3182040" y="334548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0" name=""/>
                  <p:cNvSpPr/>
                  <p:nvPr/>
                </p:nvSpPr>
                <p:spPr>
                  <a:xfrm flipH="1">
                    <a:off x="3161520" y="335772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1" name=""/>
                  <p:cNvSpPr/>
                  <p:nvPr/>
                </p:nvSpPr>
                <p:spPr>
                  <a:xfrm flipH="1" flipV="1">
                    <a:off x="3151080" y="334728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2" name=""/>
                <p:cNvGrpSpPr/>
                <p:nvPr/>
              </p:nvGrpSpPr>
              <p:grpSpPr>
                <a:xfrm>
                  <a:off x="2967840" y="3202200"/>
                  <a:ext cx="145800" cy="144000"/>
                  <a:chOff x="2967840" y="3202200"/>
                  <a:chExt cx="145800" cy="144000"/>
                </a:xfrm>
              </p:grpSpPr>
              <p:sp>
                <p:nvSpPr>
                  <p:cNvPr id="8983" name=""/>
                  <p:cNvSpPr/>
                  <p:nvPr/>
                </p:nvSpPr>
                <p:spPr>
                  <a:xfrm rot="18730200">
                    <a:off x="2996640" y="32155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4" name=""/>
                  <p:cNvSpPr/>
                  <p:nvPr/>
                </p:nvSpPr>
                <p:spPr>
                  <a:xfrm flipH="1" flipV="1">
                    <a:off x="3016080" y="327492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5" name=""/>
                  <p:cNvSpPr/>
                  <p:nvPr/>
                </p:nvSpPr>
                <p:spPr>
                  <a:xfrm flipH="1" flipV="1">
                    <a:off x="3058920" y="326628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6" name=""/>
                  <p:cNvSpPr/>
                  <p:nvPr/>
                </p:nvSpPr>
                <p:spPr>
                  <a:xfrm flipH="1">
                    <a:off x="3039480" y="327852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7" name=""/>
                  <p:cNvSpPr/>
                  <p:nvPr/>
                </p:nvSpPr>
                <p:spPr>
                  <a:xfrm flipH="1" flipV="1">
                    <a:off x="3027600" y="326988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8" name=""/>
                <p:cNvGrpSpPr/>
                <p:nvPr/>
              </p:nvGrpSpPr>
              <p:grpSpPr>
                <a:xfrm>
                  <a:off x="2950920" y="3121560"/>
                  <a:ext cx="141840" cy="151920"/>
                  <a:chOff x="2950920" y="3121560"/>
                  <a:chExt cx="141840" cy="151920"/>
                </a:xfrm>
              </p:grpSpPr>
              <p:sp>
                <p:nvSpPr>
                  <p:cNvPr id="8989" name=""/>
                  <p:cNvSpPr/>
                  <p:nvPr/>
                </p:nvSpPr>
                <p:spPr>
                  <a:xfrm rot="19362600">
                    <a:off x="2982240" y="31320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0" name=""/>
                  <p:cNvSpPr/>
                  <p:nvPr/>
                </p:nvSpPr>
                <p:spPr>
                  <a:xfrm flipH="1" flipV="1">
                    <a:off x="2997360" y="319104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1" name=""/>
                  <p:cNvSpPr/>
                  <p:nvPr/>
                </p:nvSpPr>
                <p:spPr>
                  <a:xfrm flipH="1" flipV="1">
                    <a:off x="3040200" y="319500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2" name=""/>
                  <p:cNvSpPr/>
                  <p:nvPr/>
                </p:nvSpPr>
                <p:spPr>
                  <a:xfrm flipH="1">
                    <a:off x="3018960" y="320616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3" name=""/>
                  <p:cNvSpPr/>
                  <p:nvPr/>
                </p:nvSpPr>
                <p:spPr>
                  <a:xfrm flipH="1" flipV="1">
                    <a:off x="3009240" y="318924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94" name=""/>
              <p:cNvGrpSpPr/>
              <p:nvPr/>
            </p:nvGrpSpPr>
            <p:grpSpPr>
              <a:xfrm>
                <a:off x="2237040" y="1438920"/>
                <a:ext cx="651600" cy="525600"/>
                <a:chOff x="2237040" y="1438920"/>
                <a:chExt cx="651600" cy="525600"/>
              </a:xfrm>
            </p:grpSpPr>
            <p:grpSp>
              <p:nvGrpSpPr>
                <p:cNvPr id="8995" name=""/>
                <p:cNvGrpSpPr/>
                <p:nvPr/>
              </p:nvGrpSpPr>
              <p:grpSpPr>
                <a:xfrm>
                  <a:off x="2501280" y="1506600"/>
                  <a:ext cx="144360" cy="131040"/>
                  <a:chOff x="2501280" y="1506600"/>
                  <a:chExt cx="144360" cy="131040"/>
                </a:xfrm>
              </p:grpSpPr>
              <p:sp>
                <p:nvSpPr>
                  <p:cNvPr id="8996" name=""/>
                  <p:cNvSpPr/>
                  <p:nvPr/>
                </p:nvSpPr>
                <p:spPr>
                  <a:xfrm rot="3815400">
                    <a:off x="2529000" y="15134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7" name=""/>
                  <p:cNvSpPr/>
                  <p:nvPr/>
                </p:nvSpPr>
                <p:spPr>
                  <a:xfrm flipV="1">
                    <a:off x="2547000" y="154872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8" name=""/>
                  <p:cNvSpPr/>
                  <p:nvPr/>
                </p:nvSpPr>
                <p:spPr>
                  <a:xfrm flipV="1">
                    <a:off x="2562840" y="159192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9" name=""/>
                  <p:cNvSpPr/>
                  <p:nvPr/>
                </p:nvSpPr>
                <p:spPr>
                  <a:xfrm flipH="1" flipV="1">
                    <a:off x="2561040" y="156564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0" name=""/>
                  <p:cNvSpPr/>
                  <p:nvPr/>
                </p:nvSpPr>
                <p:spPr>
                  <a:xfrm flipV="1">
                    <a:off x="2575800" y="156168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01" name=""/>
                <p:cNvSpPr/>
                <p:nvPr/>
              </p:nvSpPr>
              <p:spPr>
                <a:xfrm flipH="1">
                  <a:off x="2496600" y="176364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2" name=""/>
                <p:cNvSpPr/>
                <p:nvPr/>
              </p:nvSpPr>
              <p:spPr>
                <a:xfrm>
                  <a:off x="2373480" y="166536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3" name=""/>
                <p:cNvSpPr/>
                <p:nvPr/>
              </p:nvSpPr>
              <p:spPr>
                <a:xfrm flipH="1" flipV="1">
                  <a:off x="2478960" y="156744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4" name=""/>
                <p:cNvSpPr/>
                <p:nvPr/>
              </p:nvSpPr>
              <p:spPr>
                <a:xfrm flipH="1" flipV="1">
                  <a:off x="2690640" y="166500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5" name=""/>
                <p:cNvSpPr/>
                <p:nvPr/>
              </p:nvSpPr>
              <p:spPr>
                <a:xfrm flipH="1">
                  <a:off x="2549520" y="178344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6" name=""/>
                <p:cNvSpPr/>
                <p:nvPr/>
              </p:nvSpPr>
              <p:spPr>
                <a:xfrm flipH="1" flipV="1">
                  <a:off x="2584800" y="174348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7" name=""/>
                <p:cNvSpPr/>
                <p:nvPr/>
              </p:nvSpPr>
              <p:spPr>
                <a:xfrm flipH="1" flipV="1">
                  <a:off x="2443680" y="158688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8" name=""/>
                <p:cNvSpPr/>
                <p:nvPr/>
              </p:nvSpPr>
              <p:spPr>
                <a:xfrm flipV="1">
                  <a:off x="2531880" y="160632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9" name=""/>
                <p:cNvSpPr/>
                <p:nvPr/>
              </p:nvSpPr>
              <p:spPr>
                <a:xfrm flipH="1">
                  <a:off x="2391120" y="168516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0" name=""/>
                <p:cNvSpPr/>
                <p:nvPr/>
              </p:nvSpPr>
              <p:spPr>
                <a:xfrm flipH="1" flipV="1">
                  <a:off x="2620080" y="168516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1" name=""/>
                <p:cNvSpPr/>
                <p:nvPr/>
              </p:nvSpPr>
              <p:spPr>
                <a:xfrm flipH="1" flipV="1">
                  <a:off x="2655360" y="168516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2" name=""/>
                <p:cNvSpPr/>
                <p:nvPr/>
              </p:nvSpPr>
              <p:spPr>
                <a:xfrm flipV="1">
                  <a:off x="2760840" y="174348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3" name=""/>
                <p:cNvSpPr/>
                <p:nvPr/>
              </p:nvSpPr>
              <p:spPr>
                <a:xfrm flipV="1">
                  <a:off x="2707920" y="164556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4" name=""/>
                <p:cNvSpPr/>
                <p:nvPr/>
              </p:nvSpPr>
              <p:spPr>
                <a:xfrm flipH="1">
                  <a:off x="2655360" y="182232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5" name=""/>
                <p:cNvSpPr/>
                <p:nvPr/>
              </p:nvSpPr>
              <p:spPr>
                <a:xfrm flipH="1">
                  <a:off x="2461680" y="170460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6" name=""/>
                <p:cNvSpPr/>
                <p:nvPr/>
              </p:nvSpPr>
              <p:spPr>
                <a:xfrm flipH="1" flipV="1">
                  <a:off x="2390760" y="162648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17" name=""/>
                <p:cNvGrpSpPr/>
                <p:nvPr/>
              </p:nvGrpSpPr>
              <p:grpSpPr>
                <a:xfrm>
                  <a:off x="2416680" y="1438920"/>
                  <a:ext cx="132480" cy="153000"/>
                  <a:chOff x="2416680" y="1438920"/>
                  <a:chExt cx="132480" cy="153000"/>
                </a:xfrm>
              </p:grpSpPr>
              <p:sp>
                <p:nvSpPr>
                  <p:cNvPr id="9018" name=""/>
                  <p:cNvSpPr/>
                  <p:nvPr/>
                </p:nvSpPr>
                <p:spPr>
                  <a:xfrm rot="1745400">
                    <a:off x="2443320" y="1449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9" name=""/>
                  <p:cNvSpPr/>
                  <p:nvPr/>
                </p:nvSpPr>
                <p:spPr>
                  <a:xfrm flipH="1" flipV="1">
                    <a:off x="2479680" y="149040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0" name=""/>
                  <p:cNvSpPr/>
                  <p:nvPr/>
                </p:nvSpPr>
                <p:spPr>
                  <a:xfrm flipV="1">
                    <a:off x="2488680" y="153108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1" name=""/>
                  <p:cNvSpPr/>
                  <p:nvPr/>
                </p:nvSpPr>
                <p:spPr>
                  <a:xfrm flipH="1" flipV="1">
                    <a:off x="2469600" y="151812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2" name=""/>
                  <p:cNvSpPr/>
                  <p:nvPr/>
                </p:nvSpPr>
                <p:spPr>
                  <a:xfrm flipV="1">
                    <a:off x="2484360" y="150084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3" name=""/>
                <p:cNvGrpSpPr/>
                <p:nvPr/>
              </p:nvGrpSpPr>
              <p:grpSpPr>
                <a:xfrm>
                  <a:off x="2473920" y="1635480"/>
                  <a:ext cx="124560" cy="151920"/>
                  <a:chOff x="2473920" y="1635480"/>
                  <a:chExt cx="124560" cy="151920"/>
                </a:xfrm>
              </p:grpSpPr>
              <p:sp>
                <p:nvSpPr>
                  <p:cNvPr id="9024" name=""/>
                  <p:cNvSpPr/>
                  <p:nvPr/>
                </p:nvSpPr>
                <p:spPr>
                  <a:xfrm rot="20187000">
                    <a:off x="2496600" y="1645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5" name=""/>
                  <p:cNvSpPr/>
                  <p:nvPr/>
                </p:nvSpPr>
                <p:spPr>
                  <a:xfrm flipH="1" flipV="1">
                    <a:off x="2514240" y="169884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6" name=""/>
                  <p:cNvSpPr/>
                  <p:nvPr/>
                </p:nvSpPr>
                <p:spPr>
                  <a:xfrm flipH="1" flipV="1">
                    <a:off x="2554560" y="17132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7" name=""/>
                  <p:cNvSpPr/>
                  <p:nvPr/>
                </p:nvSpPr>
                <p:spPr>
                  <a:xfrm flipH="1">
                    <a:off x="2530440" y="17229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8" name=""/>
                  <p:cNvSpPr/>
                  <p:nvPr/>
                </p:nvSpPr>
                <p:spPr>
                  <a:xfrm flipH="1" flipV="1">
                    <a:off x="2526480" y="17002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9" name=""/>
                <p:cNvGrpSpPr/>
                <p:nvPr/>
              </p:nvGrpSpPr>
              <p:grpSpPr>
                <a:xfrm>
                  <a:off x="2549880" y="1567440"/>
                  <a:ext cx="78840" cy="130680"/>
                  <a:chOff x="2549880" y="1567440"/>
                  <a:chExt cx="78840" cy="130680"/>
                </a:xfrm>
              </p:grpSpPr>
              <p:sp>
                <p:nvSpPr>
                  <p:cNvPr id="9030" name=""/>
                  <p:cNvSpPr/>
                  <p:nvPr/>
                </p:nvSpPr>
                <p:spPr>
                  <a:xfrm>
                    <a:off x="2549880" y="15674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1" name=""/>
                  <p:cNvSpPr/>
                  <p:nvPr/>
                </p:nvSpPr>
                <p:spPr>
                  <a:xfrm flipH="1" flipV="1">
                    <a:off x="2574000" y="16128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2" name=""/>
                  <p:cNvSpPr/>
                  <p:nvPr/>
                </p:nvSpPr>
                <p:spPr>
                  <a:xfrm flipH="1" flipV="1">
                    <a:off x="2605320" y="16419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3" name=""/>
                  <p:cNvSpPr/>
                  <p:nvPr/>
                </p:nvSpPr>
                <p:spPr>
                  <a:xfrm flipH="1" flipV="1">
                    <a:off x="2579040" y="16419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4" name=""/>
                  <p:cNvSpPr/>
                  <p:nvPr/>
                </p:nvSpPr>
                <p:spPr>
                  <a:xfrm flipH="1" flipV="1">
                    <a:off x="2584440" y="16185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5" name=""/>
                <p:cNvGrpSpPr/>
                <p:nvPr/>
              </p:nvGrpSpPr>
              <p:grpSpPr>
                <a:xfrm>
                  <a:off x="2386080" y="1795320"/>
                  <a:ext cx="127440" cy="102240"/>
                  <a:chOff x="2386080" y="1795320"/>
                  <a:chExt cx="127440" cy="102240"/>
                </a:xfrm>
              </p:grpSpPr>
              <p:sp>
                <p:nvSpPr>
                  <p:cNvPr id="9036" name=""/>
                  <p:cNvSpPr/>
                  <p:nvPr/>
                </p:nvSpPr>
                <p:spPr>
                  <a:xfrm rot="15769200">
                    <a:off x="2405520" y="17877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7" name=""/>
                  <p:cNvSpPr/>
                  <p:nvPr/>
                </p:nvSpPr>
                <p:spPr>
                  <a:xfrm flipH="1">
                    <a:off x="2433960" y="180036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8" name=""/>
                  <p:cNvSpPr/>
                  <p:nvPr/>
                </p:nvSpPr>
                <p:spPr>
                  <a:xfrm flipH="1">
                    <a:off x="2455560" y="182016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9" name=""/>
                  <p:cNvSpPr/>
                  <p:nvPr/>
                </p:nvSpPr>
                <p:spPr>
                  <a:xfrm flipH="1">
                    <a:off x="2459520" y="18392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0" name=""/>
                  <p:cNvSpPr/>
                  <p:nvPr/>
                </p:nvSpPr>
                <p:spPr>
                  <a:xfrm flipH="1">
                    <a:off x="2437560" y="184644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1" name=""/>
                <p:cNvGrpSpPr/>
                <p:nvPr/>
              </p:nvGrpSpPr>
              <p:grpSpPr>
                <a:xfrm>
                  <a:off x="2320920" y="1508760"/>
                  <a:ext cx="78840" cy="131040"/>
                  <a:chOff x="2320920" y="1508760"/>
                  <a:chExt cx="78840" cy="131040"/>
                </a:xfrm>
              </p:grpSpPr>
              <p:sp>
                <p:nvSpPr>
                  <p:cNvPr id="9042" name=""/>
                  <p:cNvSpPr/>
                  <p:nvPr/>
                </p:nvSpPr>
                <p:spPr>
                  <a:xfrm>
                    <a:off x="2320920" y="1508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3" name=""/>
                  <p:cNvSpPr/>
                  <p:nvPr/>
                </p:nvSpPr>
                <p:spPr>
                  <a:xfrm flipH="1" flipV="1">
                    <a:off x="2345040" y="15541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4" name=""/>
                  <p:cNvSpPr/>
                  <p:nvPr/>
                </p:nvSpPr>
                <p:spPr>
                  <a:xfrm flipH="1" flipV="1">
                    <a:off x="2376360" y="15832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5" name=""/>
                  <p:cNvSpPr/>
                  <p:nvPr/>
                </p:nvSpPr>
                <p:spPr>
                  <a:xfrm flipH="1" flipV="1">
                    <a:off x="2350080" y="15832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6" name=""/>
                  <p:cNvSpPr/>
                  <p:nvPr/>
                </p:nvSpPr>
                <p:spPr>
                  <a:xfrm flipH="1" flipV="1">
                    <a:off x="2355480" y="15602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7" name=""/>
                <p:cNvGrpSpPr/>
                <p:nvPr/>
              </p:nvGrpSpPr>
              <p:grpSpPr>
                <a:xfrm>
                  <a:off x="2620080" y="1547640"/>
                  <a:ext cx="78840" cy="131040"/>
                  <a:chOff x="2620080" y="1547640"/>
                  <a:chExt cx="78840" cy="131040"/>
                </a:xfrm>
              </p:grpSpPr>
              <p:sp>
                <p:nvSpPr>
                  <p:cNvPr id="9048" name=""/>
                  <p:cNvSpPr/>
                  <p:nvPr/>
                </p:nvSpPr>
                <p:spPr>
                  <a:xfrm>
                    <a:off x="2620080" y="15476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9" name=""/>
                  <p:cNvSpPr/>
                  <p:nvPr/>
                </p:nvSpPr>
                <p:spPr>
                  <a:xfrm flipH="1" flipV="1">
                    <a:off x="2644200" y="15930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0" name=""/>
                  <p:cNvSpPr/>
                  <p:nvPr/>
                </p:nvSpPr>
                <p:spPr>
                  <a:xfrm flipH="1" flipV="1">
                    <a:off x="2675520" y="16221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1" name=""/>
                  <p:cNvSpPr/>
                  <p:nvPr/>
                </p:nvSpPr>
                <p:spPr>
                  <a:xfrm flipH="1" flipV="1">
                    <a:off x="2649240" y="16221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2" name=""/>
                  <p:cNvSpPr/>
                  <p:nvPr/>
                </p:nvSpPr>
                <p:spPr>
                  <a:xfrm flipH="1" flipV="1">
                    <a:off x="2654640" y="159912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3" name=""/>
                <p:cNvGrpSpPr/>
                <p:nvPr/>
              </p:nvGrpSpPr>
              <p:grpSpPr>
                <a:xfrm>
                  <a:off x="2373480" y="1469520"/>
                  <a:ext cx="78840" cy="130680"/>
                  <a:chOff x="2373480" y="1469520"/>
                  <a:chExt cx="78840" cy="130680"/>
                </a:xfrm>
              </p:grpSpPr>
              <p:sp>
                <p:nvSpPr>
                  <p:cNvPr id="9054" name=""/>
                  <p:cNvSpPr/>
                  <p:nvPr/>
                </p:nvSpPr>
                <p:spPr>
                  <a:xfrm>
                    <a:off x="2373480" y="14695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5" name=""/>
                  <p:cNvSpPr/>
                  <p:nvPr/>
                </p:nvSpPr>
                <p:spPr>
                  <a:xfrm flipH="1" flipV="1">
                    <a:off x="2397600" y="151488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6" name=""/>
                  <p:cNvSpPr/>
                  <p:nvPr/>
                </p:nvSpPr>
                <p:spPr>
                  <a:xfrm flipH="1" flipV="1">
                    <a:off x="2428920" y="154404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7" name=""/>
                  <p:cNvSpPr/>
                  <p:nvPr/>
                </p:nvSpPr>
                <p:spPr>
                  <a:xfrm flipH="1" flipV="1">
                    <a:off x="2402640" y="15440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8" name=""/>
                  <p:cNvSpPr/>
                  <p:nvPr/>
                </p:nvSpPr>
                <p:spPr>
                  <a:xfrm flipH="1" flipV="1">
                    <a:off x="2408040" y="15206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9" name=""/>
                <p:cNvGrpSpPr/>
                <p:nvPr/>
              </p:nvGrpSpPr>
              <p:grpSpPr>
                <a:xfrm>
                  <a:off x="2539800" y="1846800"/>
                  <a:ext cx="137520" cy="117720"/>
                  <a:chOff x="2539800" y="1846800"/>
                  <a:chExt cx="137520" cy="117720"/>
                </a:xfrm>
              </p:grpSpPr>
              <p:sp>
                <p:nvSpPr>
                  <p:cNvPr id="9060" name=""/>
                  <p:cNvSpPr/>
                  <p:nvPr/>
                </p:nvSpPr>
                <p:spPr>
                  <a:xfrm rot="15198000">
                    <a:off x="2564640" y="18468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1" name=""/>
                  <p:cNvSpPr/>
                  <p:nvPr/>
                </p:nvSpPr>
                <p:spPr>
                  <a:xfrm flipH="1">
                    <a:off x="2596320" y="185220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2" name=""/>
                  <p:cNvSpPr/>
                  <p:nvPr/>
                </p:nvSpPr>
                <p:spPr>
                  <a:xfrm flipH="1">
                    <a:off x="2611080" y="18759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3" name=""/>
                  <p:cNvSpPr/>
                  <p:nvPr/>
                </p:nvSpPr>
                <p:spPr>
                  <a:xfrm>
                    <a:off x="2619720" y="189576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4" name=""/>
                  <p:cNvSpPr/>
                  <p:nvPr/>
                </p:nvSpPr>
                <p:spPr>
                  <a:xfrm flipH="1">
                    <a:off x="2597760" y="190656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5" name=""/>
                <p:cNvGrpSpPr/>
                <p:nvPr/>
              </p:nvGrpSpPr>
              <p:grpSpPr>
                <a:xfrm>
                  <a:off x="2447280" y="1818000"/>
                  <a:ext cx="145800" cy="135720"/>
                  <a:chOff x="2447280" y="1818000"/>
                  <a:chExt cx="145800" cy="135720"/>
                </a:xfrm>
              </p:grpSpPr>
              <p:sp>
                <p:nvSpPr>
                  <p:cNvPr id="9066" name=""/>
                  <p:cNvSpPr/>
                  <p:nvPr/>
                </p:nvSpPr>
                <p:spPr>
                  <a:xfrm rot="14358600">
                    <a:off x="2476080" y="18270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7" name=""/>
                  <p:cNvSpPr/>
                  <p:nvPr/>
                </p:nvSpPr>
                <p:spPr>
                  <a:xfrm flipH="1">
                    <a:off x="2513880" y="182556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8" name=""/>
                  <p:cNvSpPr/>
                  <p:nvPr/>
                </p:nvSpPr>
                <p:spPr>
                  <a:xfrm flipH="1">
                    <a:off x="2517840" y="18536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9" name=""/>
                  <p:cNvSpPr/>
                  <p:nvPr/>
                </p:nvSpPr>
                <p:spPr>
                  <a:xfrm>
                    <a:off x="2528640" y="187380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0" name=""/>
                  <p:cNvSpPr/>
                  <p:nvPr/>
                </p:nvSpPr>
                <p:spPr>
                  <a:xfrm flipH="1">
                    <a:off x="2511720" y="188676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1" name=""/>
                <p:cNvGrpSpPr/>
                <p:nvPr/>
              </p:nvGrpSpPr>
              <p:grpSpPr>
                <a:xfrm>
                  <a:off x="2266200" y="1662120"/>
                  <a:ext cx="122040" cy="94320"/>
                  <a:chOff x="2266200" y="1662120"/>
                  <a:chExt cx="122040" cy="94320"/>
                </a:xfrm>
              </p:grpSpPr>
              <p:sp>
                <p:nvSpPr>
                  <p:cNvPr id="9072" name=""/>
                  <p:cNvSpPr/>
                  <p:nvPr/>
                </p:nvSpPr>
                <p:spPr>
                  <a:xfrm rot="16010400">
                    <a:off x="2283120" y="16506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3" name=""/>
                  <p:cNvSpPr/>
                  <p:nvPr/>
                </p:nvSpPr>
                <p:spPr>
                  <a:xfrm flipH="1">
                    <a:off x="2310120" y="16660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4" name=""/>
                  <p:cNvSpPr/>
                  <p:nvPr/>
                </p:nvSpPr>
                <p:spPr>
                  <a:xfrm flipH="1">
                    <a:off x="2333880" y="16844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5" name=""/>
                  <p:cNvSpPr/>
                  <p:nvPr/>
                </p:nvSpPr>
                <p:spPr>
                  <a:xfrm flipH="1">
                    <a:off x="2336040" y="17024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6" name=""/>
                  <p:cNvSpPr/>
                  <p:nvPr/>
                </p:nvSpPr>
                <p:spPr>
                  <a:xfrm flipH="1">
                    <a:off x="2314440" y="170964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7" name=""/>
                <p:cNvGrpSpPr/>
                <p:nvPr/>
              </p:nvGrpSpPr>
              <p:grpSpPr>
                <a:xfrm>
                  <a:off x="2273040" y="1724760"/>
                  <a:ext cx="141840" cy="125640"/>
                  <a:chOff x="2273040" y="1724760"/>
                  <a:chExt cx="141840" cy="125640"/>
                </a:xfrm>
              </p:grpSpPr>
              <p:sp>
                <p:nvSpPr>
                  <p:cNvPr id="9078" name=""/>
                  <p:cNvSpPr/>
                  <p:nvPr/>
                </p:nvSpPr>
                <p:spPr>
                  <a:xfrm rot="14881800">
                    <a:off x="2299680" y="17287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9" name=""/>
                  <p:cNvSpPr/>
                  <p:nvPr/>
                </p:nvSpPr>
                <p:spPr>
                  <a:xfrm flipH="1">
                    <a:off x="2334240" y="173160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0" name=""/>
                  <p:cNvSpPr/>
                  <p:nvPr/>
                </p:nvSpPr>
                <p:spPr>
                  <a:xfrm flipH="1">
                    <a:off x="2345040" y="17568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1" name=""/>
                  <p:cNvSpPr/>
                  <p:nvPr/>
                </p:nvSpPr>
                <p:spPr>
                  <a:xfrm>
                    <a:off x="2354400" y="177696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2" name=""/>
                  <p:cNvSpPr/>
                  <p:nvPr/>
                </p:nvSpPr>
                <p:spPr>
                  <a:xfrm flipH="1">
                    <a:off x="2334240" y="178812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3" name=""/>
                <p:cNvGrpSpPr/>
                <p:nvPr/>
              </p:nvGrpSpPr>
              <p:grpSpPr>
                <a:xfrm>
                  <a:off x="2364840" y="1711800"/>
                  <a:ext cx="134280" cy="112320"/>
                  <a:chOff x="2364840" y="1711800"/>
                  <a:chExt cx="134280" cy="112320"/>
                </a:xfrm>
              </p:grpSpPr>
              <p:sp>
                <p:nvSpPr>
                  <p:cNvPr id="9084" name=""/>
                  <p:cNvSpPr/>
                  <p:nvPr/>
                </p:nvSpPr>
                <p:spPr>
                  <a:xfrm rot="15401400">
                    <a:off x="2387880" y="17089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5" name=""/>
                  <p:cNvSpPr/>
                  <p:nvPr/>
                </p:nvSpPr>
                <p:spPr>
                  <a:xfrm flipH="1">
                    <a:off x="2418480" y="171684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6" name=""/>
                  <p:cNvSpPr/>
                  <p:nvPr/>
                </p:nvSpPr>
                <p:spPr>
                  <a:xfrm flipH="1">
                    <a:off x="2435760" y="17395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7" name=""/>
                  <p:cNvSpPr/>
                  <p:nvPr/>
                </p:nvSpPr>
                <p:spPr>
                  <a:xfrm flipH="1">
                    <a:off x="2442960" y="175896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8" name=""/>
                  <p:cNvSpPr/>
                  <p:nvPr/>
                </p:nvSpPr>
                <p:spPr>
                  <a:xfrm flipH="1">
                    <a:off x="2421000" y="176904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9" name=""/>
                <p:cNvGrpSpPr/>
                <p:nvPr/>
              </p:nvGrpSpPr>
              <p:grpSpPr>
                <a:xfrm>
                  <a:off x="2329920" y="1575000"/>
                  <a:ext cx="134280" cy="112320"/>
                  <a:chOff x="2329920" y="1575000"/>
                  <a:chExt cx="134280" cy="112320"/>
                </a:xfrm>
              </p:grpSpPr>
              <p:sp>
                <p:nvSpPr>
                  <p:cNvPr id="9090" name=""/>
                  <p:cNvSpPr/>
                  <p:nvPr/>
                </p:nvSpPr>
                <p:spPr>
                  <a:xfrm rot="16985400">
                    <a:off x="2352960" y="15724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1" name=""/>
                  <p:cNvSpPr/>
                  <p:nvPr/>
                </p:nvSpPr>
                <p:spPr>
                  <a:xfrm flipH="1">
                    <a:off x="2375280" y="160272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2" name=""/>
                  <p:cNvSpPr/>
                  <p:nvPr/>
                </p:nvSpPr>
                <p:spPr>
                  <a:xfrm flipH="1">
                    <a:off x="2408760" y="16131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3" name=""/>
                  <p:cNvSpPr/>
                  <p:nvPr/>
                </p:nvSpPr>
                <p:spPr>
                  <a:xfrm flipH="1">
                    <a:off x="2402280" y="16282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4" name=""/>
                  <p:cNvSpPr/>
                  <p:nvPr/>
                </p:nvSpPr>
                <p:spPr>
                  <a:xfrm flipH="1">
                    <a:off x="2382840" y="16308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5" name=""/>
                <p:cNvGrpSpPr/>
                <p:nvPr/>
              </p:nvGrpSpPr>
              <p:grpSpPr>
                <a:xfrm>
                  <a:off x="2516040" y="1596960"/>
                  <a:ext cx="146520" cy="149760"/>
                  <a:chOff x="2516040" y="1596960"/>
                  <a:chExt cx="146520" cy="149760"/>
                </a:xfrm>
              </p:grpSpPr>
              <p:sp>
                <p:nvSpPr>
                  <p:cNvPr id="9096" name=""/>
                  <p:cNvSpPr/>
                  <p:nvPr/>
                </p:nvSpPr>
                <p:spPr>
                  <a:xfrm rot="19036200">
                    <a:off x="2549880" y="16063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7" name=""/>
                  <p:cNvSpPr/>
                  <p:nvPr/>
                </p:nvSpPr>
                <p:spPr>
                  <a:xfrm flipH="1" flipV="1">
                    <a:off x="2564640" y="166752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8" name=""/>
                  <p:cNvSpPr/>
                  <p:nvPr/>
                </p:nvSpPr>
                <p:spPr>
                  <a:xfrm flipH="1" flipV="1">
                    <a:off x="2607480" y="166788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9" name=""/>
                  <p:cNvSpPr/>
                  <p:nvPr/>
                </p:nvSpPr>
                <p:spPr>
                  <a:xfrm flipH="1">
                    <a:off x="2588040" y="16794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0" name=""/>
                  <p:cNvSpPr/>
                  <p:nvPr/>
                </p:nvSpPr>
                <p:spPr>
                  <a:xfrm flipH="1" flipV="1">
                    <a:off x="2576160" y="16646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1" name=""/>
                <p:cNvGrpSpPr/>
                <p:nvPr/>
              </p:nvGrpSpPr>
              <p:grpSpPr>
                <a:xfrm>
                  <a:off x="2679480" y="1530720"/>
                  <a:ext cx="140040" cy="122400"/>
                  <a:chOff x="2679480" y="1530720"/>
                  <a:chExt cx="140040" cy="122400"/>
                </a:xfrm>
              </p:grpSpPr>
              <p:sp>
                <p:nvSpPr>
                  <p:cNvPr id="9102" name=""/>
                  <p:cNvSpPr/>
                  <p:nvPr/>
                </p:nvSpPr>
                <p:spPr>
                  <a:xfrm rot="4233000">
                    <a:off x="2705040" y="1532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3" name=""/>
                  <p:cNvSpPr/>
                  <p:nvPr/>
                </p:nvSpPr>
                <p:spPr>
                  <a:xfrm flipV="1">
                    <a:off x="2716200" y="156924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4" name=""/>
                  <p:cNvSpPr/>
                  <p:nvPr/>
                </p:nvSpPr>
                <p:spPr>
                  <a:xfrm flipV="1">
                    <a:off x="2735280" y="16110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5" name=""/>
                  <p:cNvSpPr/>
                  <p:nvPr/>
                </p:nvSpPr>
                <p:spPr>
                  <a:xfrm flipH="1" flipV="1">
                    <a:off x="2737800" y="158364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6" name=""/>
                  <p:cNvSpPr/>
                  <p:nvPr/>
                </p:nvSpPr>
                <p:spPr>
                  <a:xfrm flipV="1">
                    <a:off x="2751840" y="15825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7" name=""/>
                <p:cNvGrpSpPr/>
                <p:nvPr/>
              </p:nvGrpSpPr>
              <p:grpSpPr>
                <a:xfrm>
                  <a:off x="2750400" y="1630440"/>
                  <a:ext cx="138240" cy="119160"/>
                  <a:chOff x="2750400" y="1630440"/>
                  <a:chExt cx="138240" cy="119160"/>
                </a:xfrm>
              </p:grpSpPr>
              <p:sp>
                <p:nvSpPr>
                  <p:cNvPr id="9108" name=""/>
                  <p:cNvSpPr/>
                  <p:nvPr/>
                </p:nvSpPr>
                <p:spPr>
                  <a:xfrm rot="4353000">
                    <a:off x="2775240" y="1631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9" name=""/>
                  <p:cNvSpPr/>
                  <p:nvPr/>
                </p:nvSpPr>
                <p:spPr>
                  <a:xfrm flipV="1">
                    <a:off x="2784240" y="166788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0" name=""/>
                  <p:cNvSpPr/>
                  <p:nvPr/>
                </p:nvSpPr>
                <p:spPr>
                  <a:xfrm flipV="1">
                    <a:off x="2804400" y="17092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1" name=""/>
                  <p:cNvSpPr/>
                  <p:nvPr/>
                </p:nvSpPr>
                <p:spPr>
                  <a:xfrm flipH="1" flipV="1">
                    <a:off x="2808360" y="168156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2" name=""/>
                  <p:cNvSpPr/>
                  <p:nvPr/>
                </p:nvSpPr>
                <p:spPr>
                  <a:xfrm flipV="1">
                    <a:off x="2822040" y="16812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3" name=""/>
                <p:cNvGrpSpPr/>
                <p:nvPr/>
              </p:nvGrpSpPr>
              <p:grpSpPr>
                <a:xfrm>
                  <a:off x="2519640" y="1733040"/>
                  <a:ext cx="139320" cy="152640"/>
                  <a:chOff x="2519640" y="1733040"/>
                  <a:chExt cx="139320" cy="152640"/>
                </a:xfrm>
              </p:grpSpPr>
              <p:sp>
                <p:nvSpPr>
                  <p:cNvPr id="9114" name=""/>
                  <p:cNvSpPr/>
                  <p:nvPr/>
                </p:nvSpPr>
                <p:spPr>
                  <a:xfrm rot="19525800">
                    <a:off x="2549520" y="1743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5" name=""/>
                  <p:cNvSpPr/>
                  <p:nvPr/>
                </p:nvSpPr>
                <p:spPr>
                  <a:xfrm flipH="1" flipV="1">
                    <a:off x="2565360" y="180144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6" name=""/>
                  <p:cNvSpPr/>
                  <p:nvPr/>
                </p:nvSpPr>
                <p:spPr>
                  <a:xfrm flipH="1" flipV="1">
                    <a:off x="2607480" y="180756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7" name=""/>
                  <p:cNvSpPr/>
                  <p:nvPr/>
                </p:nvSpPr>
                <p:spPr>
                  <a:xfrm flipH="1">
                    <a:off x="2585880" y="18183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8" name=""/>
                  <p:cNvSpPr/>
                  <p:nvPr/>
                </p:nvSpPr>
                <p:spPr>
                  <a:xfrm flipH="1" flipV="1">
                    <a:off x="2577240" y="18003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9" name=""/>
                <p:cNvGrpSpPr/>
                <p:nvPr/>
              </p:nvGrpSpPr>
              <p:grpSpPr>
                <a:xfrm>
                  <a:off x="2377080" y="1715040"/>
                  <a:ext cx="145440" cy="145440"/>
                  <a:chOff x="2377080" y="1715040"/>
                  <a:chExt cx="145440" cy="145440"/>
                </a:xfrm>
              </p:grpSpPr>
              <p:sp>
                <p:nvSpPr>
                  <p:cNvPr id="9120" name=""/>
                  <p:cNvSpPr/>
                  <p:nvPr/>
                </p:nvSpPr>
                <p:spPr>
                  <a:xfrm rot="18890400">
                    <a:off x="2405520" y="1729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1" name=""/>
                  <p:cNvSpPr/>
                  <p:nvPr/>
                </p:nvSpPr>
                <p:spPr>
                  <a:xfrm flipH="1" flipV="1">
                    <a:off x="2424960" y="178740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2" name=""/>
                  <p:cNvSpPr/>
                  <p:nvPr/>
                </p:nvSpPr>
                <p:spPr>
                  <a:xfrm flipH="1" flipV="1">
                    <a:off x="2468160" y="17805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3" name=""/>
                  <p:cNvSpPr/>
                  <p:nvPr/>
                </p:nvSpPr>
                <p:spPr>
                  <a:xfrm flipH="1">
                    <a:off x="2447640" y="179280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4" name=""/>
                  <p:cNvSpPr/>
                  <p:nvPr/>
                </p:nvSpPr>
                <p:spPr>
                  <a:xfrm flipH="1" flipV="1">
                    <a:off x="2437200" y="17823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5" name=""/>
                <p:cNvGrpSpPr/>
                <p:nvPr/>
              </p:nvGrpSpPr>
              <p:grpSpPr>
                <a:xfrm>
                  <a:off x="2253960" y="1637280"/>
                  <a:ext cx="145800" cy="144000"/>
                  <a:chOff x="2253960" y="1637280"/>
                  <a:chExt cx="145800" cy="144000"/>
                </a:xfrm>
              </p:grpSpPr>
              <p:sp>
                <p:nvSpPr>
                  <p:cNvPr id="9126" name=""/>
                  <p:cNvSpPr/>
                  <p:nvPr/>
                </p:nvSpPr>
                <p:spPr>
                  <a:xfrm rot="18730200">
                    <a:off x="2282760" y="16506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7" name=""/>
                  <p:cNvSpPr/>
                  <p:nvPr/>
                </p:nvSpPr>
                <p:spPr>
                  <a:xfrm flipH="1" flipV="1">
                    <a:off x="2302200" y="171000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8" name=""/>
                  <p:cNvSpPr/>
                  <p:nvPr/>
                </p:nvSpPr>
                <p:spPr>
                  <a:xfrm flipH="1" flipV="1">
                    <a:off x="2345040" y="170136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9" name=""/>
                  <p:cNvSpPr/>
                  <p:nvPr/>
                </p:nvSpPr>
                <p:spPr>
                  <a:xfrm flipH="1">
                    <a:off x="2325600" y="171360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0" name=""/>
                  <p:cNvSpPr/>
                  <p:nvPr/>
                </p:nvSpPr>
                <p:spPr>
                  <a:xfrm flipH="1" flipV="1">
                    <a:off x="2313720" y="170496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1" name=""/>
                <p:cNvGrpSpPr/>
                <p:nvPr/>
              </p:nvGrpSpPr>
              <p:grpSpPr>
                <a:xfrm>
                  <a:off x="2237040" y="1556640"/>
                  <a:ext cx="141840" cy="151920"/>
                  <a:chOff x="2237040" y="1556640"/>
                  <a:chExt cx="141840" cy="151920"/>
                </a:xfrm>
              </p:grpSpPr>
              <p:sp>
                <p:nvSpPr>
                  <p:cNvPr id="9132" name=""/>
                  <p:cNvSpPr/>
                  <p:nvPr/>
                </p:nvSpPr>
                <p:spPr>
                  <a:xfrm rot="19362600">
                    <a:off x="2268360" y="15670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3" name=""/>
                  <p:cNvSpPr/>
                  <p:nvPr/>
                </p:nvSpPr>
                <p:spPr>
                  <a:xfrm flipH="1" flipV="1">
                    <a:off x="2283480" y="162612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4" name=""/>
                  <p:cNvSpPr/>
                  <p:nvPr/>
                </p:nvSpPr>
                <p:spPr>
                  <a:xfrm flipH="1" flipV="1">
                    <a:off x="2326320" y="163008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5" name=""/>
                  <p:cNvSpPr/>
                  <p:nvPr/>
                </p:nvSpPr>
                <p:spPr>
                  <a:xfrm flipH="1">
                    <a:off x="2305080" y="16412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6" name=""/>
                  <p:cNvSpPr/>
                  <p:nvPr/>
                </p:nvSpPr>
                <p:spPr>
                  <a:xfrm flipH="1" flipV="1">
                    <a:off x="2295360" y="16243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37" name=""/>
              <p:cNvGrpSpPr/>
              <p:nvPr/>
            </p:nvGrpSpPr>
            <p:grpSpPr>
              <a:xfrm>
                <a:off x="2795400" y="1395720"/>
                <a:ext cx="651600" cy="525600"/>
                <a:chOff x="2795400" y="1395720"/>
                <a:chExt cx="651600" cy="525600"/>
              </a:xfrm>
            </p:grpSpPr>
            <p:grpSp>
              <p:nvGrpSpPr>
                <p:cNvPr id="9138" name=""/>
                <p:cNvGrpSpPr/>
                <p:nvPr/>
              </p:nvGrpSpPr>
              <p:grpSpPr>
                <a:xfrm>
                  <a:off x="3059640" y="1463400"/>
                  <a:ext cx="144360" cy="131040"/>
                  <a:chOff x="3059640" y="1463400"/>
                  <a:chExt cx="144360" cy="131040"/>
                </a:xfrm>
              </p:grpSpPr>
              <p:sp>
                <p:nvSpPr>
                  <p:cNvPr id="9139" name=""/>
                  <p:cNvSpPr/>
                  <p:nvPr/>
                </p:nvSpPr>
                <p:spPr>
                  <a:xfrm rot="3815400">
                    <a:off x="3087360" y="14702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0" name=""/>
                  <p:cNvSpPr/>
                  <p:nvPr/>
                </p:nvSpPr>
                <p:spPr>
                  <a:xfrm flipV="1">
                    <a:off x="3105360" y="150552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1" name=""/>
                  <p:cNvSpPr/>
                  <p:nvPr/>
                </p:nvSpPr>
                <p:spPr>
                  <a:xfrm flipV="1">
                    <a:off x="3121200" y="154872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2" name=""/>
                  <p:cNvSpPr/>
                  <p:nvPr/>
                </p:nvSpPr>
                <p:spPr>
                  <a:xfrm flipH="1" flipV="1">
                    <a:off x="3119400" y="152244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3" name=""/>
                  <p:cNvSpPr/>
                  <p:nvPr/>
                </p:nvSpPr>
                <p:spPr>
                  <a:xfrm flipV="1">
                    <a:off x="3134160" y="151848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44" name=""/>
                <p:cNvSpPr/>
                <p:nvPr/>
              </p:nvSpPr>
              <p:spPr>
                <a:xfrm flipH="1">
                  <a:off x="3054960" y="172044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5" name=""/>
                <p:cNvSpPr/>
                <p:nvPr/>
              </p:nvSpPr>
              <p:spPr>
                <a:xfrm>
                  <a:off x="2931840" y="162216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6" name=""/>
                <p:cNvSpPr/>
                <p:nvPr/>
              </p:nvSpPr>
              <p:spPr>
                <a:xfrm flipH="1" flipV="1">
                  <a:off x="3037320" y="152424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7" name=""/>
                <p:cNvSpPr/>
                <p:nvPr/>
              </p:nvSpPr>
              <p:spPr>
                <a:xfrm flipH="1" flipV="1">
                  <a:off x="3249000" y="162180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8" name=""/>
                <p:cNvSpPr/>
                <p:nvPr/>
              </p:nvSpPr>
              <p:spPr>
                <a:xfrm flipH="1">
                  <a:off x="3107880" y="174024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9" name=""/>
                <p:cNvSpPr/>
                <p:nvPr/>
              </p:nvSpPr>
              <p:spPr>
                <a:xfrm flipH="1" flipV="1">
                  <a:off x="3143160" y="170028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0" name=""/>
                <p:cNvSpPr/>
                <p:nvPr/>
              </p:nvSpPr>
              <p:spPr>
                <a:xfrm flipH="1" flipV="1">
                  <a:off x="3002040" y="154368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1" name=""/>
                <p:cNvSpPr/>
                <p:nvPr/>
              </p:nvSpPr>
              <p:spPr>
                <a:xfrm flipV="1">
                  <a:off x="3090240" y="156312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2" name=""/>
                <p:cNvSpPr/>
                <p:nvPr/>
              </p:nvSpPr>
              <p:spPr>
                <a:xfrm flipH="1">
                  <a:off x="2949480" y="164196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3" name=""/>
                <p:cNvSpPr/>
                <p:nvPr/>
              </p:nvSpPr>
              <p:spPr>
                <a:xfrm flipH="1" flipV="1">
                  <a:off x="3178440" y="164196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4" name=""/>
                <p:cNvSpPr/>
                <p:nvPr/>
              </p:nvSpPr>
              <p:spPr>
                <a:xfrm flipH="1" flipV="1">
                  <a:off x="3213720" y="164196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5" name=""/>
                <p:cNvSpPr/>
                <p:nvPr/>
              </p:nvSpPr>
              <p:spPr>
                <a:xfrm flipV="1">
                  <a:off x="3319200" y="170028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6" name=""/>
                <p:cNvSpPr/>
                <p:nvPr/>
              </p:nvSpPr>
              <p:spPr>
                <a:xfrm flipV="1">
                  <a:off x="3266280" y="160236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7" name=""/>
                <p:cNvSpPr/>
                <p:nvPr/>
              </p:nvSpPr>
              <p:spPr>
                <a:xfrm flipH="1">
                  <a:off x="3213720" y="177912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8" name=""/>
                <p:cNvSpPr/>
                <p:nvPr/>
              </p:nvSpPr>
              <p:spPr>
                <a:xfrm flipH="1">
                  <a:off x="3020040" y="166140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9" name=""/>
                <p:cNvSpPr/>
                <p:nvPr/>
              </p:nvSpPr>
              <p:spPr>
                <a:xfrm flipH="1" flipV="1">
                  <a:off x="2949120" y="158328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0" name=""/>
                <p:cNvGrpSpPr/>
                <p:nvPr/>
              </p:nvGrpSpPr>
              <p:grpSpPr>
                <a:xfrm>
                  <a:off x="2975040" y="1395720"/>
                  <a:ext cx="132480" cy="153000"/>
                  <a:chOff x="2975040" y="1395720"/>
                  <a:chExt cx="132480" cy="153000"/>
                </a:xfrm>
              </p:grpSpPr>
              <p:sp>
                <p:nvSpPr>
                  <p:cNvPr id="9161" name=""/>
                  <p:cNvSpPr/>
                  <p:nvPr/>
                </p:nvSpPr>
                <p:spPr>
                  <a:xfrm rot="1745400">
                    <a:off x="3001680" y="1406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2" name=""/>
                  <p:cNvSpPr/>
                  <p:nvPr/>
                </p:nvSpPr>
                <p:spPr>
                  <a:xfrm flipH="1" flipV="1">
                    <a:off x="3038040" y="144720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3" name=""/>
                  <p:cNvSpPr/>
                  <p:nvPr/>
                </p:nvSpPr>
                <p:spPr>
                  <a:xfrm flipV="1">
                    <a:off x="3047040" y="148788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4" name=""/>
                  <p:cNvSpPr/>
                  <p:nvPr/>
                </p:nvSpPr>
                <p:spPr>
                  <a:xfrm flipH="1" flipV="1">
                    <a:off x="3027960" y="147492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5" name=""/>
                  <p:cNvSpPr/>
                  <p:nvPr/>
                </p:nvSpPr>
                <p:spPr>
                  <a:xfrm flipV="1">
                    <a:off x="3042720" y="145764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6" name=""/>
                <p:cNvGrpSpPr/>
                <p:nvPr/>
              </p:nvGrpSpPr>
              <p:grpSpPr>
                <a:xfrm>
                  <a:off x="3032280" y="1592280"/>
                  <a:ext cx="124560" cy="151920"/>
                  <a:chOff x="3032280" y="1592280"/>
                  <a:chExt cx="124560" cy="151920"/>
                </a:xfrm>
              </p:grpSpPr>
              <p:sp>
                <p:nvSpPr>
                  <p:cNvPr id="9167" name=""/>
                  <p:cNvSpPr/>
                  <p:nvPr/>
                </p:nvSpPr>
                <p:spPr>
                  <a:xfrm rot="20187000">
                    <a:off x="3054960" y="1602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8" name=""/>
                  <p:cNvSpPr/>
                  <p:nvPr/>
                </p:nvSpPr>
                <p:spPr>
                  <a:xfrm flipH="1" flipV="1">
                    <a:off x="3072600" y="165564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9" name=""/>
                  <p:cNvSpPr/>
                  <p:nvPr/>
                </p:nvSpPr>
                <p:spPr>
                  <a:xfrm flipH="1" flipV="1">
                    <a:off x="3112920" y="16700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0" name=""/>
                  <p:cNvSpPr/>
                  <p:nvPr/>
                </p:nvSpPr>
                <p:spPr>
                  <a:xfrm flipH="1">
                    <a:off x="3088800" y="16797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1" name=""/>
                  <p:cNvSpPr/>
                  <p:nvPr/>
                </p:nvSpPr>
                <p:spPr>
                  <a:xfrm flipH="1" flipV="1">
                    <a:off x="3084840" y="16570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2" name=""/>
                <p:cNvGrpSpPr/>
                <p:nvPr/>
              </p:nvGrpSpPr>
              <p:grpSpPr>
                <a:xfrm>
                  <a:off x="3108240" y="1524240"/>
                  <a:ext cx="78840" cy="130680"/>
                  <a:chOff x="3108240" y="1524240"/>
                  <a:chExt cx="78840" cy="130680"/>
                </a:xfrm>
              </p:grpSpPr>
              <p:sp>
                <p:nvSpPr>
                  <p:cNvPr id="9173" name=""/>
                  <p:cNvSpPr/>
                  <p:nvPr/>
                </p:nvSpPr>
                <p:spPr>
                  <a:xfrm>
                    <a:off x="3108240" y="15242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4" name=""/>
                  <p:cNvSpPr/>
                  <p:nvPr/>
                </p:nvSpPr>
                <p:spPr>
                  <a:xfrm flipH="1" flipV="1">
                    <a:off x="3132360" y="15696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5" name=""/>
                  <p:cNvSpPr/>
                  <p:nvPr/>
                </p:nvSpPr>
                <p:spPr>
                  <a:xfrm flipH="1" flipV="1">
                    <a:off x="3163680" y="15987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6" name=""/>
                  <p:cNvSpPr/>
                  <p:nvPr/>
                </p:nvSpPr>
                <p:spPr>
                  <a:xfrm flipH="1" flipV="1">
                    <a:off x="3137400" y="15987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7" name=""/>
                  <p:cNvSpPr/>
                  <p:nvPr/>
                </p:nvSpPr>
                <p:spPr>
                  <a:xfrm flipH="1" flipV="1">
                    <a:off x="3142800" y="15753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8" name=""/>
                <p:cNvGrpSpPr/>
                <p:nvPr/>
              </p:nvGrpSpPr>
              <p:grpSpPr>
                <a:xfrm>
                  <a:off x="2944440" y="1752120"/>
                  <a:ext cx="127440" cy="102240"/>
                  <a:chOff x="2944440" y="1752120"/>
                  <a:chExt cx="127440" cy="102240"/>
                </a:xfrm>
              </p:grpSpPr>
              <p:sp>
                <p:nvSpPr>
                  <p:cNvPr id="9179" name=""/>
                  <p:cNvSpPr/>
                  <p:nvPr/>
                </p:nvSpPr>
                <p:spPr>
                  <a:xfrm rot="15769200">
                    <a:off x="2963880" y="17445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0" name=""/>
                  <p:cNvSpPr/>
                  <p:nvPr/>
                </p:nvSpPr>
                <p:spPr>
                  <a:xfrm flipH="1">
                    <a:off x="2992320" y="175716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1" name=""/>
                  <p:cNvSpPr/>
                  <p:nvPr/>
                </p:nvSpPr>
                <p:spPr>
                  <a:xfrm flipH="1">
                    <a:off x="3013920" y="177696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2" name=""/>
                  <p:cNvSpPr/>
                  <p:nvPr/>
                </p:nvSpPr>
                <p:spPr>
                  <a:xfrm flipH="1">
                    <a:off x="3017880" y="17960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3" name=""/>
                  <p:cNvSpPr/>
                  <p:nvPr/>
                </p:nvSpPr>
                <p:spPr>
                  <a:xfrm flipH="1">
                    <a:off x="2995920" y="180324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4" name=""/>
                <p:cNvGrpSpPr/>
                <p:nvPr/>
              </p:nvGrpSpPr>
              <p:grpSpPr>
                <a:xfrm>
                  <a:off x="2879280" y="1465560"/>
                  <a:ext cx="78840" cy="131040"/>
                  <a:chOff x="2879280" y="1465560"/>
                  <a:chExt cx="78840" cy="131040"/>
                </a:xfrm>
              </p:grpSpPr>
              <p:sp>
                <p:nvSpPr>
                  <p:cNvPr id="9185" name=""/>
                  <p:cNvSpPr/>
                  <p:nvPr/>
                </p:nvSpPr>
                <p:spPr>
                  <a:xfrm>
                    <a:off x="2879280" y="1465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6" name=""/>
                  <p:cNvSpPr/>
                  <p:nvPr/>
                </p:nvSpPr>
                <p:spPr>
                  <a:xfrm flipH="1" flipV="1">
                    <a:off x="2903400" y="15109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7" name=""/>
                  <p:cNvSpPr/>
                  <p:nvPr/>
                </p:nvSpPr>
                <p:spPr>
                  <a:xfrm flipH="1" flipV="1">
                    <a:off x="2934720" y="15400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8" name=""/>
                  <p:cNvSpPr/>
                  <p:nvPr/>
                </p:nvSpPr>
                <p:spPr>
                  <a:xfrm flipH="1" flipV="1">
                    <a:off x="2908440" y="15400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9" name=""/>
                  <p:cNvSpPr/>
                  <p:nvPr/>
                </p:nvSpPr>
                <p:spPr>
                  <a:xfrm flipH="1" flipV="1">
                    <a:off x="2913840" y="15170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0" name=""/>
                <p:cNvGrpSpPr/>
                <p:nvPr/>
              </p:nvGrpSpPr>
              <p:grpSpPr>
                <a:xfrm>
                  <a:off x="3178440" y="1504440"/>
                  <a:ext cx="78840" cy="131040"/>
                  <a:chOff x="3178440" y="1504440"/>
                  <a:chExt cx="78840" cy="131040"/>
                </a:xfrm>
              </p:grpSpPr>
              <p:sp>
                <p:nvSpPr>
                  <p:cNvPr id="9191" name=""/>
                  <p:cNvSpPr/>
                  <p:nvPr/>
                </p:nvSpPr>
                <p:spPr>
                  <a:xfrm>
                    <a:off x="3178440" y="1504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2" name=""/>
                  <p:cNvSpPr/>
                  <p:nvPr/>
                </p:nvSpPr>
                <p:spPr>
                  <a:xfrm flipH="1" flipV="1">
                    <a:off x="3202560" y="15498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3" name=""/>
                  <p:cNvSpPr/>
                  <p:nvPr/>
                </p:nvSpPr>
                <p:spPr>
                  <a:xfrm flipH="1" flipV="1">
                    <a:off x="3233880" y="15789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4" name=""/>
                  <p:cNvSpPr/>
                  <p:nvPr/>
                </p:nvSpPr>
                <p:spPr>
                  <a:xfrm flipH="1" flipV="1">
                    <a:off x="3207600" y="15789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5" name=""/>
                  <p:cNvSpPr/>
                  <p:nvPr/>
                </p:nvSpPr>
                <p:spPr>
                  <a:xfrm flipH="1" flipV="1">
                    <a:off x="3213000" y="155592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6" name=""/>
                <p:cNvGrpSpPr/>
                <p:nvPr/>
              </p:nvGrpSpPr>
              <p:grpSpPr>
                <a:xfrm>
                  <a:off x="2931840" y="1426320"/>
                  <a:ext cx="78840" cy="130680"/>
                  <a:chOff x="2931840" y="1426320"/>
                  <a:chExt cx="78840" cy="130680"/>
                </a:xfrm>
              </p:grpSpPr>
              <p:sp>
                <p:nvSpPr>
                  <p:cNvPr id="9197" name=""/>
                  <p:cNvSpPr/>
                  <p:nvPr/>
                </p:nvSpPr>
                <p:spPr>
                  <a:xfrm>
                    <a:off x="2931840" y="14263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8" name=""/>
                  <p:cNvSpPr/>
                  <p:nvPr/>
                </p:nvSpPr>
                <p:spPr>
                  <a:xfrm flipH="1" flipV="1">
                    <a:off x="2955960" y="147168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9" name=""/>
                  <p:cNvSpPr/>
                  <p:nvPr/>
                </p:nvSpPr>
                <p:spPr>
                  <a:xfrm flipH="1" flipV="1">
                    <a:off x="2987280" y="150084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0" name=""/>
                  <p:cNvSpPr/>
                  <p:nvPr/>
                </p:nvSpPr>
                <p:spPr>
                  <a:xfrm flipH="1" flipV="1">
                    <a:off x="2961000" y="15008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1" name=""/>
                  <p:cNvSpPr/>
                  <p:nvPr/>
                </p:nvSpPr>
                <p:spPr>
                  <a:xfrm flipH="1" flipV="1">
                    <a:off x="2966400" y="14774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2" name=""/>
                <p:cNvGrpSpPr/>
                <p:nvPr/>
              </p:nvGrpSpPr>
              <p:grpSpPr>
                <a:xfrm>
                  <a:off x="3098160" y="1803600"/>
                  <a:ext cx="137520" cy="117720"/>
                  <a:chOff x="3098160" y="1803600"/>
                  <a:chExt cx="137520" cy="117720"/>
                </a:xfrm>
              </p:grpSpPr>
              <p:sp>
                <p:nvSpPr>
                  <p:cNvPr id="9203" name=""/>
                  <p:cNvSpPr/>
                  <p:nvPr/>
                </p:nvSpPr>
                <p:spPr>
                  <a:xfrm rot="15198000">
                    <a:off x="3123000" y="18036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4" name=""/>
                  <p:cNvSpPr/>
                  <p:nvPr/>
                </p:nvSpPr>
                <p:spPr>
                  <a:xfrm flipH="1">
                    <a:off x="3154680" y="180900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5" name=""/>
                  <p:cNvSpPr/>
                  <p:nvPr/>
                </p:nvSpPr>
                <p:spPr>
                  <a:xfrm flipH="1">
                    <a:off x="3169440" y="18327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6" name=""/>
                  <p:cNvSpPr/>
                  <p:nvPr/>
                </p:nvSpPr>
                <p:spPr>
                  <a:xfrm>
                    <a:off x="3178080" y="185256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7" name=""/>
                  <p:cNvSpPr/>
                  <p:nvPr/>
                </p:nvSpPr>
                <p:spPr>
                  <a:xfrm flipH="1">
                    <a:off x="3156120" y="186336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8" name=""/>
                <p:cNvGrpSpPr/>
                <p:nvPr/>
              </p:nvGrpSpPr>
              <p:grpSpPr>
                <a:xfrm>
                  <a:off x="3005640" y="1774800"/>
                  <a:ext cx="145800" cy="135720"/>
                  <a:chOff x="3005640" y="1774800"/>
                  <a:chExt cx="145800" cy="135720"/>
                </a:xfrm>
              </p:grpSpPr>
              <p:sp>
                <p:nvSpPr>
                  <p:cNvPr id="9209" name=""/>
                  <p:cNvSpPr/>
                  <p:nvPr/>
                </p:nvSpPr>
                <p:spPr>
                  <a:xfrm rot="14358600">
                    <a:off x="3034440" y="1783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0" name=""/>
                  <p:cNvSpPr/>
                  <p:nvPr/>
                </p:nvSpPr>
                <p:spPr>
                  <a:xfrm flipH="1">
                    <a:off x="3072240" y="178236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1" name=""/>
                  <p:cNvSpPr/>
                  <p:nvPr/>
                </p:nvSpPr>
                <p:spPr>
                  <a:xfrm flipH="1">
                    <a:off x="3076200" y="18104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2" name=""/>
                  <p:cNvSpPr/>
                  <p:nvPr/>
                </p:nvSpPr>
                <p:spPr>
                  <a:xfrm>
                    <a:off x="3087000" y="183060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3" name=""/>
                  <p:cNvSpPr/>
                  <p:nvPr/>
                </p:nvSpPr>
                <p:spPr>
                  <a:xfrm flipH="1">
                    <a:off x="3070080" y="184356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14" name=""/>
                <p:cNvGrpSpPr/>
                <p:nvPr/>
              </p:nvGrpSpPr>
              <p:grpSpPr>
                <a:xfrm>
                  <a:off x="2824560" y="1618920"/>
                  <a:ext cx="122040" cy="94320"/>
                  <a:chOff x="2824560" y="1618920"/>
                  <a:chExt cx="122040" cy="94320"/>
                </a:xfrm>
              </p:grpSpPr>
              <p:sp>
                <p:nvSpPr>
                  <p:cNvPr id="9215" name=""/>
                  <p:cNvSpPr/>
                  <p:nvPr/>
                </p:nvSpPr>
                <p:spPr>
                  <a:xfrm rot="16010400">
                    <a:off x="2841480" y="1607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6" name=""/>
                  <p:cNvSpPr/>
                  <p:nvPr/>
                </p:nvSpPr>
                <p:spPr>
                  <a:xfrm flipH="1">
                    <a:off x="2868480" y="16228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7" name=""/>
                  <p:cNvSpPr/>
                  <p:nvPr/>
                </p:nvSpPr>
                <p:spPr>
                  <a:xfrm flipH="1">
                    <a:off x="2892240" y="16412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8" name=""/>
                  <p:cNvSpPr/>
                  <p:nvPr/>
                </p:nvSpPr>
                <p:spPr>
                  <a:xfrm flipH="1">
                    <a:off x="2894400" y="16592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9" name=""/>
                  <p:cNvSpPr/>
                  <p:nvPr/>
                </p:nvSpPr>
                <p:spPr>
                  <a:xfrm flipH="1">
                    <a:off x="2872800" y="166644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0" name=""/>
                <p:cNvGrpSpPr/>
                <p:nvPr/>
              </p:nvGrpSpPr>
              <p:grpSpPr>
                <a:xfrm>
                  <a:off x="2831400" y="1681560"/>
                  <a:ext cx="141840" cy="125640"/>
                  <a:chOff x="2831400" y="1681560"/>
                  <a:chExt cx="141840" cy="125640"/>
                </a:xfrm>
              </p:grpSpPr>
              <p:sp>
                <p:nvSpPr>
                  <p:cNvPr id="9221" name=""/>
                  <p:cNvSpPr/>
                  <p:nvPr/>
                </p:nvSpPr>
                <p:spPr>
                  <a:xfrm rot="14881800">
                    <a:off x="2858040" y="1685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2" name=""/>
                  <p:cNvSpPr/>
                  <p:nvPr/>
                </p:nvSpPr>
                <p:spPr>
                  <a:xfrm flipH="1">
                    <a:off x="2892600" y="168840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3" name=""/>
                  <p:cNvSpPr/>
                  <p:nvPr/>
                </p:nvSpPr>
                <p:spPr>
                  <a:xfrm flipH="1">
                    <a:off x="2903400" y="17136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4" name=""/>
                  <p:cNvSpPr/>
                  <p:nvPr/>
                </p:nvSpPr>
                <p:spPr>
                  <a:xfrm>
                    <a:off x="2912760" y="173376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5" name=""/>
                  <p:cNvSpPr/>
                  <p:nvPr/>
                </p:nvSpPr>
                <p:spPr>
                  <a:xfrm flipH="1">
                    <a:off x="2892600" y="174492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6" name=""/>
                <p:cNvGrpSpPr/>
                <p:nvPr/>
              </p:nvGrpSpPr>
              <p:grpSpPr>
                <a:xfrm>
                  <a:off x="2923200" y="1668600"/>
                  <a:ext cx="134280" cy="112320"/>
                  <a:chOff x="2923200" y="1668600"/>
                  <a:chExt cx="134280" cy="112320"/>
                </a:xfrm>
              </p:grpSpPr>
              <p:sp>
                <p:nvSpPr>
                  <p:cNvPr id="9227" name=""/>
                  <p:cNvSpPr/>
                  <p:nvPr/>
                </p:nvSpPr>
                <p:spPr>
                  <a:xfrm rot="15401400">
                    <a:off x="2946240" y="16657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8" name=""/>
                  <p:cNvSpPr/>
                  <p:nvPr/>
                </p:nvSpPr>
                <p:spPr>
                  <a:xfrm flipH="1">
                    <a:off x="2976840" y="167364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9" name=""/>
                  <p:cNvSpPr/>
                  <p:nvPr/>
                </p:nvSpPr>
                <p:spPr>
                  <a:xfrm flipH="1">
                    <a:off x="2994120" y="16963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0" name=""/>
                  <p:cNvSpPr/>
                  <p:nvPr/>
                </p:nvSpPr>
                <p:spPr>
                  <a:xfrm flipH="1">
                    <a:off x="3001320" y="171576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1" name=""/>
                  <p:cNvSpPr/>
                  <p:nvPr/>
                </p:nvSpPr>
                <p:spPr>
                  <a:xfrm flipH="1">
                    <a:off x="2979360" y="172584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2" name=""/>
                <p:cNvGrpSpPr/>
                <p:nvPr/>
              </p:nvGrpSpPr>
              <p:grpSpPr>
                <a:xfrm>
                  <a:off x="2888280" y="1531800"/>
                  <a:ext cx="134280" cy="112320"/>
                  <a:chOff x="2888280" y="1531800"/>
                  <a:chExt cx="134280" cy="112320"/>
                </a:xfrm>
              </p:grpSpPr>
              <p:sp>
                <p:nvSpPr>
                  <p:cNvPr id="9233" name=""/>
                  <p:cNvSpPr/>
                  <p:nvPr/>
                </p:nvSpPr>
                <p:spPr>
                  <a:xfrm rot="16985400">
                    <a:off x="2911320" y="15292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4" name=""/>
                  <p:cNvSpPr/>
                  <p:nvPr/>
                </p:nvSpPr>
                <p:spPr>
                  <a:xfrm flipH="1">
                    <a:off x="2933640" y="155952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5" name=""/>
                  <p:cNvSpPr/>
                  <p:nvPr/>
                </p:nvSpPr>
                <p:spPr>
                  <a:xfrm flipH="1">
                    <a:off x="2967120" y="15699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6" name=""/>
                  <p:cNvSpPr/>
                  <p:nvPr/>
                </p:nvSpPr>
                <p:spPr>
                  <a:xfrm flipH="1">
                    <a:off x="2960640" y="15850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7" name=""/>
                  <p:cNvSpPr/>
                  <p:nvPr/>
                </p:nvSpPr>
                <p:spPr>
                  <a:xfrm flipH="1">
                    <a:off x="2941200" y="15876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8" name=""/>
                <p:cNvGrpSpPr/>
                <p:nvPr/>
              </p:nvGrpSpPr>
              <p:grpSpPr>
                <a:xfrm>
                  <a:off x="3074400" y="1553760"/>
                  <a:ext cx="146520" cy="149760"/>
                  <a:chOff x="3074400" y="1553760"/>
                  <a:chExt cx="146520" cy="149760"/>
                </a:xfrm>
              </p:grpSpPr>
              <p:sp>
                <p:nvSpPr>
                  <p:cNvPr id="9239" name=""/>
                  <p:cNvSpPr/>
                  <p:nvPr/>
                </p:nvSpPr>
                <p:spPr>
                  <a:xfrm rot="19036200">
                    <a:off x="3108240" y="15631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0" name=""/>
                  <p:cNvSpPr/>
                  <p:nvPr/>
                </p:nvSpPr>
                <p:spPr>
                  <a:xfrm flipH="1" flipV="1">
                    <a:off x="3123000" y="162432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1" name=""/>
                  <p:cNvSpPr/>
                  <p:nvPr/>
                </p:nvSpPr>
                <p:spPr>
                  <a:xfrm flipH="1" flipV="1">
                    <a:off x="3165840" y="162468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2" name=""/>
                  <p:cNvSpPr/>
                  <p:nvPr/>
                </p:nvSpPr>
                <p:spPr>
                  <a:xfrm flipH="1">
                    <a:off x="3146400" y="16362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3" name=""/>
                  <p:cNvSpPr/>
                  <p:nvPr/>
                </p:nvSpPr>
                <p:spPr>
                  <a:xfrm flipH="1" flipV="1">
                    <a:off x="3134520" y="16214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44" name=""/>
                <p:cNvGrpSpPr/>
                <p:nvPr/>
              </p:nvGrpSpPr>
              <p:grpSpPr>
                <a:xfrm>
                  <a:off x="3237840" y="1487520"/>
                  <a:ext cx="140040" cy="122400"/>
                  <a:chOff x="3237840" y="1487520"/>
                  <a:chExt cx="140040" cy="122400"/>
                </a:xfrm>
              </p:grpSpPr>
              <p:sp>
                <p:nvSpPr>
                  <p:cNvPr id="9245" name=""/>
                  <p:cNvSpPr/>
                  <p:nvPr/>
                </p:nvSpPr>
                <p:spPr>
                  <a:xfrm rot="4233000">
                    <a:off x="3263400" y="14896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6" name=""/>
                  <p:cNvSpPr/>
                  <p:nvPr/>
                </p:nvSpPr>
                <p:spPr>
                  <a:xfrm flipV="1">
                    <a:off x="3274560" y="152604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7" name=""/>
                  <p:cNvSpPr/>
                  <p:nvPr/>
                </p:nvSpPr>
                <p:spPr>
                  <a:xfrm flipV="1">
                    <a:off x="3293640" y="15678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8" name=""/>
                  <p:cNvSpPr/>
                  <p:nvPr/>
                </p:nvSpPr>
                <p:spPr>
                  <a:xfrm flipH="1" flipV="1">
                    <a:off x="3296160" y="154044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9" name=""/>
                  <p:cNvSpPr/>
                  <p:nvPr/>
                </p:nvSpPr>
                <p:spPr>
                  <a:xfrm flipV="1">
                    <a:off x="3310200" y="15393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0" name=""/>
                <p:cNvGrpSpPr/>
                <p:nvPr/>
              </p:nvGrpSpPr>
              <p:grpSpPr>
                <a:xfrm>
                  <a:off x="3308760" y="1587240"/>
                  <a:ext cx="138240" cy="119160"/>
                  <a:chOff x="3308760" y="1587240"/>
                  <a:chExt cx="138240" cy="119160"/>
                </a:xfrm>
              </p:grpSpPr>
              <p:sp>
                <p:nvSpPr>
                  <p:cNvPr id="9251" name=""/>
                  <p:cNvSpPr/>
                  <p:nvPr/>
                </p:nvSpPr>
                <p:spPr>
                  <a:xfrm rot="4353000">
                    <a:off x="3333600" y="1587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2" name=""/>
                  <p:cNvSpPr/>
                  <p:nvPr/>
                </p:nvSpPr>
                <p:spPr>
                  <a:xfrm flipV="1">
                    <a:off x="3342600" y="162468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3" name=""/>
                  <p:cNvSpPr/>
                  <p:nvPr/>
                </p:nvSpPr>
                <p:spPr>
                  <a:xfrm flipV="1">
                    <a:off x="3362760" y="16660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4" name=""/>
                  <p:cNvSpPr/>
                  <p:nvPr/>
                </p:nvSpPr>
                <p:spPr>
                  <a:xfrm flipH="1" flipV="1">
                    <a:off x="3366720" y="163836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5" name=""/>
                  <p:cNvSpPr/>
                  <p:nvPr/>
                </p:nvSpPr>
                <p:spPr>
                  <a:xfrm flipV="1">
                    <a:off x="3380400" y="16380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6" name=""/>
                <p:cNvGrpSpPr/>
                <p:nvPr/>
              </p:nvGrpSpPr>
              <p:grpSpPr>
                <a:xfrm>
                  <a:off x="3078000" y="1689840"/>
                  <a:ext cx="139320" cy="152640"/>
                  <a:chOff x="3078000" y="1689840"/>
                  <a:chExt cx="139320" cy="152640"/>
                </a:xfrm>
              </p:grpSpPr>
              <p:sp>
                <p:nvSpPr>
                  <p:cNvPr id="9257" name=""/>
                  <p:cNvSpPr/>
                  <p:nvPr/>
                </p:nvSpPr>
                <p:spPr>
                  <a:xfrm rot="19525800">
                    <a:off x="3107880" y="1700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8" name=""/>
                  <p:cNvSpPr/>
                  <p:nvPr/>
                </p:nvSpPr>
                <p:spPr>
                  <a:xfrm flipH="1" flipV="1">
                    <a:off x="3123720" y="175824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9" name=""/>
                  <p:cNvSpPr/>
                  <p:nvPr/>
                </p:nvSpPr>
                <p:spPr>
                  <a:xfrm flipH="1" flipV="1">
                    <a:off x="3165840" y="176436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0" name=""/>
                  <p:cNvSpPr/>
                  <p:nvPr/>
                </p:nvSpPr>
                <p:spPr>
                  <a:xfrm flipH="1">
                    <a:off x="3144240" y="17751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1" name=""/>
                  <p:cNvSpPr/>
                  <p:nvPr/>
                </p:nvSpPr>
                <p:spPr>
                  <a:xfrm flipH="1" flipV="1">
                    <a:off x="3135600" y="17571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2" name=""/>
                <p:cNvGrpSpPr/>
                <p:nvPr/>
              </p:nvGrpSpPr>
              <p:grpSpPr>
                <a:xfrm>
                  <a:off x="2935440" y="1671840"/>
                  <a:ext cx="145440" cy="145440"/>
                  <a:chOff x="2935440" y="1671840"/>
                  <a:chExt cx="145440" cy="145440"/>
                </a:xfrm>
              </p:grpSpPr>
              <p:sp>
                <p:nvSpPr>
                  <p:cNvPr id="9263" name=""/>
                  <p:cNvSpPr/>
                  <p:nvPr/>
                </p:nvSpPr>
                <p:spPr>
                  <a:xfrm rot="18890400">
                    <a:off x="2963880" y="1685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4" name=""/>
                  <p:cNvSpPr/>
                  <p:nvPr/>
                </p:nvSpPr>
                <p:spPr>
                  <a:xfrm flipH="1" flipV="1">
                    <a:off x="2983320" y="174420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5" name=""/>
                  <p:cNvSpPr/>
                  <p:nvPr/>
                </p:nvSpPr>
                <p:spPr>
                  <a:xfrm flipH="1" flipV="1">
                    <a:off x="3026520" y="17373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6" name=""/>
                  <p:cNvSpPr/>
                  <p:nvPr/>
                </p:nvSpPr>
                <p:spPr>
                  <a:xfrm flipH="1">
                    <a:off x="3006000" y="174960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7" name=""/>
                  <p:cNvSpPr/>
                  <p:nvPr/>
                </p:nvSpPr>
                <p:spPr>
                  <a:xfrm flipH="1" flipV="1">
                    <a:off x="2995560" y="17391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8" name=""/>
                <p:cNvGrpSpPr/>
                <p:nvPr/>
              </p:nvGrpSpPr>
              <p:grpSpPr>
                <a:xfrm>
                  <a:off x="2812320" y="1594080"/>
                  <a:ext cx="145800" cy="144000"/>
                  <a:chOff x="2812320" y="1594080"/>
                  <a:chExt cx="145800" cy="144000"/>
                </a:xfrm>
              </p:grpSpPr>
              <p:sp>
                <p:nvSpPr>
                  <p:cNvPr id="9269" name=""/>
                  <p:cNvSpPr/>
                  <p:nvPr/>
                </p:nvSpPr>
                <p:spPr>
                  <a:xfrm rot="18730200">
                    <a:off x="2841120" y="1607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0" name=""/>
                  <p:cNvSpPr/>
                  <p:nvPr/>
                </p:nvSpPr>
                <p:spPr>
                  <a:xfrm flipH="1" flipV="1">
                    <a:off x="2860560" y="166680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1" name=""/>
                  <p:cNvSpPr/>
                  <p:nvPr/>
                </p:nvSpPr>
                <p:spPr>
                  <a:xfrm flipH="1" flipV="1">
                    <a:off x="2903400" y="165816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2" name=""/>
                  <p:cNvSpPr/>
                  <p:nvPr/>
                </p:nvSpPr>
                <p:spPr>
                  <a:xfrm flipH="1">
                    <a:off x="2883960" y="167040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3" name=""/>
                  <p:cNvSpPr/>
                  <p:nvPr/>
                </p:nvSpPr>
                <p:spPr>
                  <a:xfrm flipH="1" flipV="1">
                    <a:off x="2872080" y="166176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74" name=""/>
                <p:cNvGrpSpPr/>
                <p:nvPr/>
              </p:nvGrpSpPr>
              <p:grpSpPr>
                <a:xfrm>
                  <a:off x="2795400" y="1513440"/>
                  <a:ext cx="141840" cy="151920"/>
                  <a:chOff x="2795400" y="1513440"/>
                  <a:chExt cx="141840" cy="151920"/>
                </a:xfrm>
              </p:grpSpPr>
              <p:sp>
                <p:nvSpPr>
                  <p:cNvPr id="9275" name=""/>
                  <p:cNvSpPr/>
                  <p:nvPr/>
                </p:nvSpPr>
                <p:spPr>
                  <a:xfrm rot="19362600">
                    <a:off x="2826720" y="15238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6" name=""/>
                  <p:cNvSpPr/>
                  <p:nvPr/>
                </p:nvSpPr>
                <p:spPr>
                  <a:xfrm flipH="1" flipV="1">
                    <a:off x="2841840" y="158292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7" name=""/>
                  <p:cNvSpPr/>
                  <p:nvPr/>
                </p:nvSpPr>
                <p:spPr>
                  <a:xfrm flipH="1" flipV="1">
                    <a:off x="2884680" y="158688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8" name=""/>
                  <p:cNvSpPr/>
                  <p:nvPr/>
                </p:nvSpPr>
                <p:spPr>
                  <a:xfrm flipH="1">
                    <a:off x="2863440" y="15980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9" name=""/>
                  <p:cNvSpPr/>
                  <p:nvPr/>
                </p:nvSpPr>
                <p:spPr>
                  <a:xfrm flipH="1" flipV="1">
                    <a:off x="2853720" y="15811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80" name=""/>
              <p:cNvGrpSpPr/>
              <p:nvPr/>
            </p:nvGrpSpPr>
            <p:grpSpPr>
              <a:xfrm>
                <a:off x="2678040" y="1021320"/>
                <a:ext cx="651600" cy="525600"/>
                <a:chOff x="2678040" y="1021320"/>
                <a:chExt cx="651600" cy="525600"/>
              </a:xfrm>
            </p:grpSpPr>
            <p:grpSp>
              <p:nvGrpSpPr>
                <p:cNvPr id="9281" name=""/>
                <p:cNvGrpSpPr/>
                <p:nvPr/>
              </p:nvGrpSpPr>
              <p:grpSpPr>
                <a:xfrm>
                  <a:off x="2942280" y="1089000"/>
                  <a:ext cx="144360" cy="131040"/>
                  <a:chOff x="2942280" y="1089000"/>
                  <a:chExt cx="144360" cy="131040"/>
                </a:xfrm>
              </p:grpSpPr>
              <p:sp>
                <p:nvSpPr>
                  <p:cNvPr id="9282" name=""/>
                  <p:cNvSpPr/>
                  <p:nvPr/>
                </p:nvSpPr>
                <p:spPr>
                  <a:xfrm rot="3815400">
                    <a:off x="2970000" y="1095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3" name=""/>
                  <p:cNvSpPr/>
                  <p:nvPr/>
                </p:nvSpPr>
                <p:spPr>
                  <a:xfrm flipV="1">
                    <a:off x="2988000" y="113112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4" name=""/>
                  <p:cNvSpPr/>
                  <p:nvPr/>
                </p:nvSpPr>
                <p:spPr>
                  <a:xfrm flipV="1">
                    <a:off x="3003840" y="117432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5" name=""/>
                  <p:cNvSpPr/>
                  <p:nvPr/>
                </p:nvSpPr>
                <p:spPr>
                  <a:xfrm flipH="1" flipV="1">
                    <a:off x="3002040" y="114804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6" name=""/>
                  <p:cNvSpPr/>
                  <p:nvPr/>
                </p:nvSpPr>
                <p:spPr>
                  <a:xfrm flipV="1">
                    <a:off x="3016800" y="114408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87" name=""/>
                <p:cNvSpPr/>
                <p:nvPr/>
              </p:nvSpPr>
              <p:spPr>
                <a:xfrm flipH="1">
                  <a:off x="2937600" y="134604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8" name=""/>
                <p:cNvSpPr/>
                <p:nvPr/>
              </p:nvSpPr>
              <p:spPr>
                <a:xfrm>
                  <a:off x="2814480" y="124776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9" name=""/>
                <p:cNvSpPr/>
                <p:nvPr/>
              </p:nvSpPr>
              <p:spPr>
                <a:xfrm flipH="1" flipV="1">
                  <a:off x="2919960" y="114984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0" name=""/>
                <p:cNvSpPr/>
                <p:nvPr/>
              </p:nvSpPr>
              <p:spPr>
                <a:xfrm flipH="1" flipV="1">
                  <a:off x="3131640" y="124740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1" name=""/>
                <p:cNvSpPr/>
                <p:nvPr/>
              </p:nvSpPr>
              <p:spPr>
                <a:xfrm flipH="1">
                  <a:off x="2990520" y="136584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2" name=""/>
                <p:cNvSpPr/>
                <p:nvPr/>
              </p:nvSpPr>
              <p:spPr>
                <a:xfrm flipH="1" flipV="1">
                  <a:off x="3025800" y="132588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3" name=""/>
                <p:cNvSpPr/>
                <p:nvPr/>
              </p:nvSpPr>
              <p:spPr>
                <a:xfrm flipH="1" flipV="1">
                  <a:off x="2884680" y="116928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4" name=""/>
                <p:cNvSpPr/>
                <p:nvPr/>
              </p:nvSpPr>
              <p:spPr>
                <a:xfrm flipV="1">
                  <a:off x="2972880" y="118872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5" name=""/>
                <p:cNvSpPr/>
                <p:nvPr/>
              </p:nvSpPr>
              <p:spPr>
                <a:xfrm flipH="1">
                  <a:off x="2832120" y="126756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6" name=""/>
                <p:cNvSpPr/>
                <p:nvPr/>
              </p:nvSpPr>
              <p:spPr>
                <a:xfrm flipH="1" flipV="1">
                  <a:off x="3061080" y="126756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7" name=""/>
                <p:cNvSpPr/>
                <p:nvPr/>
              </p:nvSpPr>
              <p:spPr>
                <a:xfrm flipH="1" flipV="1">
                  <a:off x="3096360" y="126756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8" name=""/>
                <p:cNvSpPr/>
                <p:nvPr/>
              </p:nvSpPr>
              <p:spPr>
                <a:xfrm flipV="1">
                  <a:off x="3201840" y="132588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9" name=""/>
                <p:cNvSpPr/>
                <p:nvPr/>
              </p:nvSpPr>
              <p:spPr>
                <a:xfrm flipV="1">
                  <a:off x="3148920" y="122796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0" name=""/>
                <p:cNvSpPr/>
                <p:nvPr/>
              </p:nvSpPr>
              <p:spPr>
                <a:xfrm flipH="1">
                  <a:off x="3096360" y="140472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1" name=""/>
                <p:cNvSpPr/>
                <p:nvPr/>
              </p:nvSpPr>
              <p:spPr>
                <a:xfrm flipH="1">
                  <a:off x="2902680" y="128700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2" name=""/>
                <p:cNvSpPr/>
                <p:nvPr/>
              </p:nvSpPr>
              <p:spPr>
                <a:xfrm flipH="1" flipV="1">
                  <a:off x="2831760" y="120888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303" name=""/>
                <p:cNvGrpSpPr/>
                <p:nvPr/>
              </p:nvGrpSpPr>
              <p:grpSpPr>
                <a:xfrm>
                  <a:off x="2857680" y="1021320"/>
                  <a:ext cx="132480" cy="153000"/>
                  <a:chOff x="2857680" y="1021320"/>
                  <a:chExt cx="132480" cy="153000"/>
                </a:xfrm>
              </p:grpSpPr>
              <p:sp>
                <p:nvSpPr>
                  <p:cNvPr id="9304" name=""/>
                  <p:cNvSpPr/>
                  <p:nvPr/>
                </p:nvSpPr>
                <p:spPr>
                  <a:xfrm rot="1745400">
                    <a:off x="2884320" y="1032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5" name=""/>
                  <p:cNvSpPr/>
                  <p:nvPr/>
                </p:nvSpPr>
                <p:spPr>
                  <a:xfrm flipH="1" flipV="1">
                    <a:off x="2920680" y="107280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6" name=""/>
                  <p:cNvSpPr/>
                  <p:nvPr/>
                </p:nvSpPr>
                <p:spPr>
                  <a:xfrm flipV="1">
                    <a:off x="2929680" y="111348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7" name=""/>
                  <p:cNvSpPr/>
                  <p:nvPr/>
                </p:nvSpPr>
                <p:spPr>
                  <a:xfrm flipH="1" flipV="1">
                    <a:off x="2910600" y="110052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8" name=""/>
                  <p:cNvSpPr/>
                  <p:nvPr/>
                </p:nvSpPr>
                <p:spPr>
                  <a:xfrm flipV="1">
                    <a:off x="2925360" y="108324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09" name=""/>
                <p:cNvGrpSpPr/>
                <p:nvPr/>
              </p:nvGrpSpPr>
              <p:grpSpPr>
                <a:xfrm>
                  <a:off x="2914920" y="1217880"/>
                  <a:ext cx="124560" cy="151920"/>
                  <a:chOff x="2914920" y="1217880"/>
                  <a:chExt cx="124560" cy="151920"/>
                </a:xfrm>
              </p:grpSpPr>
              <p:sp>
                <p:nvSpPr>
                  <p:cNvPr id="9310" name=""/>
                  <p:cNvSpPr/>
                  <p:nvPr/>
                </p:nvSpPr>
                <p:spPr>
                  <a:xfrm rot="20187000">
                    <a:off x="2937600" y="1228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1" name=""/>
                  <p:cNvSpPr/>
                  <p:nvPr/>
                </p:nvSpPr>
                <p:spPr>
                  <a:xfrm flipH="1" flipV="1">
                    <a:off x="2955240" y="128124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2" name=""/>
                  <p:cNvSpPr/>
                  <p:nvPr/>
                </p:nvSpPr>
                <p:spPr>
                  <a:xfrm flipH="1" flipV="1">
                    <a:off x="2995560" y="12956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3" name=""/>
                  <p:cNvSpPr/>
                  <p:nvPr/>
                </p:nvSpPr>
                <p:spPr>
                  <a:xfrm flipH="1">
                    <a:off x="2971440" y="13053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4" name=""/>
                  <p:cNvSpPr/>
                  <p:nvPr/>
                </p:nvSpPr>
                <p:spPr>
                  <a:xfrm flipH="1" flipV="1">
                    <a:off x="2967480" y="12826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5" name=""/>
                <p:cNvGrpSpPr/>
                <p:nvPr/>
              </p:nvGrpSpPr>
              <p:grpSpPr>
                <a:xfrm>
                  <a:off x="2990880" y="1149840"/>
                  <a:ext cx="78840" cy="130680"/>
                  <a:chOff x="2990880" y="1149840"/>
                  <a:chExt cx="78840" cy="130680"/>
                </a:xfrm>
              </p:grpSpPr>
              <p:sp>
                <p:nvSpPr>
                  <p:cNvPr id="9316" name=""/>
                  <p:cNvSpPr/>
                  <p:nvPr/>
                </p:nvSpPr>
                <p:spPr>
                  <a:xfrm>
                    <a:off x="2990880" y="11498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7" name=""/>
                  <p:cNvSpPr/>
                  <p:nvPr/>
                </p:nvSpPr>
                <p:spPr>
                  <a:xfrm flipH="1" flipV="1">
                    <a:off x="3015000" y="11952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8" name=""/>
                  <p:cNvSpPr/>
                  <p:nvPr/>
                </p:nvSpPr>
                <p:spPr>
                  <a:xfrm flipH="1" flipV="1">
                    <a:off x="3046320" y="12243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9" name=""/>
                  <p:cNvSpPr/>
                  <p:nvPr/>
                </p:nvSpPr>
                <p:spPr>
                  <a:xfrm flipH="1" flipV="1">
                    <a:off x="3020040" y="12243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0" name=""/>
                  <p:cNvSpPr/>
                  <p:nvPr/>
                </p:nvSpPr>
                <p:spPr>
                  <a:xfrm flipH="1" flipV="1">
                    <a:off x="3025440" y="12009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1" name=""/>
                <p:cNvGrpSpPr/>
                <p:nvPr/>
              </p:nvGrpSpPr>
              <p:grpSpPr>
                <a:xfrm>
                  <a:off x="2827080" y="1377720"/>
                  <a:ext cx="127440" cy="102240"/>
                  <a:chOff x="2827080" y="1377720"/>
                  <a:chExt cx="127440" cy="102240"/>
                </a:xfrm>
              </p:grpSpPr>
              <p:sp>
                <p:nvSpPr>
                  <p:cNvPr id="9322" name=""/>
                  <p:cNvSpPr/>
                  <p:nvPr/>
                </p:nvSpPr>
                <p:spPr>
                  <a:xfrm rot="15769200">
                    <a:off x="2846520" y="1370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3" name=""/>
                  <p:cNvSpPr/>
                  <p:nvPr/>
                </p:nvSpPr>
                <p:spPr>
                  <a:xfrm flipH="1">
                    <a:off x="2874960" y="138276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4" name=""/>
                  <p:cNvSpPr/>
                  <p:nvPr/>
                </p:nvSpPr>
                <p:spPr>
                  <a:xfrm flipH="1">
                    <a:off x="2896560" y="140256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5" name=""/>
                  <p:cNvSpPr/>
                  <p:nvPr/>
                </p:nvSpPr>
                <p:spPr>
                  <a:xfrm flipH="1">
                    <a:off x="2900520" y="14216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6" name=""/>
                  <p:cNvSpPr/>
                  <p:nvPr/>
                </p:nvSpPr>
                <p:spPr>
                  <a:xfrm flipH="1">
                    <a:off x="2878560" y="142884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27" name=""/>
                <p:cNvGrpSpPr/>
                <p:nvPr/>
              </p:nvGrpSpPr>
              <p:grpSpPr>
                <a:xfrm>
                  <a:off x="2761920" y="1091160"/>
                  <a:ext cx="78840" cy="131040"/>
                  <a:chOff x="2761920" y="1091160"/>
                  <a:chExt cx="78840" cy="131040"/>
                </a:xfrm>
              </p:grpSpPr>
              <p:sp>
                <p:nvSpPr>
                  <p:cNvPr id="9328" name=""/>
                  <p:cNvSpPr/>
                  <p:nvPr/>
                </p:nvSpPr>
                <p:spPr>
                  <a:xfrm>
                    <a:off x="2761920" y="1091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9" name=""/>
                  <p:cNvSpPr/>
                  <p:nvPr/>
                </p:nvSpPr>
                <p:spPr>
                  <a:xfrm flipH="1" flipV="1">
                    <a:off x="2786040" y="11365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0" name=""/>
                  <p:cNvSpPr/>
                  <p:nvPr/>
                </p:nvSpPr>
                <p:spPr>
                  <a:xfrm flipH="1" flipV="1">
                    <a:off x="2817360" y="11656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1" name=""/>
                  <p:cNvSpPr/>
                  <p:nvPr/>
                </p:nvSpPr>
                <p:spPr>
                  <a:xfrm flipH="1" flipV="1">
                    <a:off x="2791080" y="11656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2" name=""/>
                  <p:cNvSpPr/>
                  <p:nvPr/>
                </p:nvSpPr>
                <p:spPr>
                  <a:xfrm flipH="1" flipV="1">
                    <a:off x="2796480" y="11426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3" name=""/>
                <p:cNvGrpSpPr/>
                <p:nvPr/>
              </p:nvGrpSpPr>
              <p:grpSpPr>
                <a:xfrm>
                  <a:off x="3061080" y="1130040"/>
                  <a:ext cx="78840" cy="131040"/>
                  <a:chOff x="3061080" y="1130040"/>
                  <a:chExt cx="78840" cy="131040"/>
                </a:xfrm>
              </p:grpSpPr>
              <p:sp>
                <p:nvSpPr>
                  <p:cNvPr id="9334" name=""/>
                  <p:cNvSpPr/>
                  <p:nvPr/>
                </p:nvSpPr>
                <p:spPr>
                  <a:xfrm>
                    <a:off x="3061080" y="11300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5" name=""/>
                  <p:cNvSpPr/>
                  <p:nvPr/>
                </p:nvSpPr>
                <p:spPr>
                  <a:xfrm flipH="1" flipV="1">
                    <a:off x="3085200" y="11754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6" name=""/>
                  <p:cNvSpPr/>
                  <p:nvPr/>
                </p:nvSpPr>
                <p:spPr>
                  <a:xfrm flipH="1" flipV="1">
                    <a:off x="3116520" y="12045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7" name=""/>
                  <p:cNvSpPr/>
                  <p:nvPr/>
                </p:nvSpPr>
                <p:spPr>
                  <a:xfrm flipH="1" flipV="1">
                    <a:off x="3090240" y="12045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8" name=""/>
                  <p:cNvSpPr/>
                  <p:nvPr/>
                </p:nvSpPr>
                <p:spPr>
                  <a:xfrm flipH="1" flipV="1">
                    <a:off x="3095640" y="118152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9" name=""/>
                <p:cNvGrpSpPr/>
                <p:nvPr/>
              </p:nvGrpSpPr>
              <p:grpSpPr>
                <a:xfrm>
                  <a:off x="2814480" y="1051920"/>
                  <a:ext cx="78840" cy="130680"/>
                  <a:chOff x="2814480" y="1051920"/>
                  <a:chExt cx="78840" cy="130680"/>
                </a:xfrm>
              </p:grpSpPr>
              <p:sp>
                <p:nvSpPr>
                  <p:cNvPr id="9340" name=""/>
                  <p:cNvSpPr/>
                  <p:nvPr/>
                </p:nvSpPr>
                <p:spPr>
                  <a:xfrm>
                    <a:off x="2814480" y="10519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1" name=""/>
                  <p:cNvSpPr/>
                  <p:nvPr/>
                </p:nvSpPr>
                <p:spPr>
                  <a:xfrm flipH="1" flipV="1">
                    <a:off x="2838600" y="109728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2" name=""/>
                  <p:cNvSpPr/>
                  <p:nvPr/>
                </p:nvSpPr>
                <p:spPr>
                  <a:xfrm flipH="1" flipV="1">
                    <a:off x="2869920" y="112644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3" name=""/>
                  <p:cNvSpPr/>
                  <p:nvPr/>
                </p:nvSpPr>
                <p:spPr>
                  <a:xfrm flipH="1" flipV="1">
                    <a:off x="2843640" y="11264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4" name=""/>
                  <p:cNvSpPr/>
                  <p:nvPr/>
                </p:nvSpPr>
                <p:spPr>
                  <a:xfrm flipH="1" flipV="1">
                    <a:off x="2849040" y="11030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45" name=""/>
                <p:cNvGrpSpPr/>
                <p:nvPr/>
              </p:nvGrpSpPr>
              <p:grpSpPr>
                <a:xfrm>
                  <a:off x="2980800" y="1429200"/>
                  <a:ext cx="137520" cy="117720"/>
                  <a:chOff x="2980800" y="1429200"/>
                  <a:chExt cx="137520" cy="117720"/>
                </a:xfrm>
              </p:grpSpPr>
              <p:sp>
                <p:nvSpPr>
                  <p:cNvPr id="9346" name=""/>
                  <p:cNvSpPr/>
                  <p:nvPr/>
                </p:nvSpPr>
                <p:spPr>
                  <a:xfrm rot="15198000">
                    <a:off x="3005640" y="14292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7" name=""/>
                  <p:cNvSpPr/>
                  <p:nvPr/>
                </p:nvSpPr>
                <p:spPr>
                  <a:xfrm flipH="1">
                    <a:off x="3037320" y="143460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8" name=""/>
                  <p:cNvSpPr/>
                  <p:nvPr/>
                </p:nvSpPr>
                <p:spPr>
                  <a:xfrm flipH="1">
                    <a:off x="3052080" y="14583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9" name=""/>
                  <p:cNvSpPr/>
                  <p:nvPr/>
                </p:nvSpPr>
                <p:spPr>
                  <a:xfrm>
                    <a:off x="3060720" y="147816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0" name=""/>
                  <p:cNvSpPr/>
                  <p:nvPr/>
                </p:nvSpPr>
                <p:spPr>
                  <a:xfrm flipH="1">
                    <a:off x="3038760" y="148896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1" name=""/>
                <p:cNvGrpSpPr/>
                <p:nvPr/>
              </p:nvGrpSpPr>
              <p:grpSpPr>
                <a:xfrm>
                  <a:off x="2888280" y="1400400"/>
                  <a:ext cx="145800" cy="135720"/>
                  <a:chOff x="2888280" y="1400400"/>
                  <a:chExt cx="145800" cy="135720"/>
                </a:xfrm>
              </p:grpSpPr>
              <p:sp>
                <p:nvSpPr>
                  <p:cNvPr id="9352" name=""/>
                  <p:cNvSpPr/>
                  <p:nvPr/>
                </p:nvSpPr>
                <p:spPr>
                  <a:xfrm rot="14358600">
                    <a:off x="2917080" y="1409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3" name=""/>
                  <p:cNvSpPr/>
                  <p:nvPr/>
                </p:nvSpPr>
                <p:spPr>
                  <a:xfrm flipH="1">
                    <a:off x="2954880" y="140796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4" name=""/>
                  <p:cNvSpPr/>
                  <p:nvPr/>
                </p:nvSpPr>
                <p:spPr>
                  <a:xfrm flipH="1">
                    <a:off x="2958840" y="14360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5" name=""/>
                  <p:cNvSpPr/>
                  <p:nvPr/>
                </p:nvSpPr>
                <p:spPr>
                  <a:xfrm>
                    <a:off x="2969640" y="145620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6" name=""/>
                  <p:cNvSpPr/>
                  <p:nvPr/>
                </p:nvSpPr>
                <p:spPr>
                  <a:xfrm flipH="1">
                    <a:off x="2952720" y="146916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57" name=""/>
                <p:cNvGrpSpPr/>
                <p:nvPr/>
              </p:nvGrpSpPr>
              <p:grpSpPr>
                <a:xfrm>
                  <a:off x="2707200" y="1244520"/>
                  <a:ext cx="122040" cy="94320"/>
                  <a:chOff x="2707200" y="1244520"/>
                  <a:chExt cx="122040" cy="94320"/>
                </a:xfrm>
              </p:grpSpPr>
              <p:sp>
                <p:nvSpPr>
                  <p:cNvPr id="9358" name=""/>
                  <p:cNvSpPr/>
                  <p:nvPr/>
                </p:nvSpPr>
                <p:spPr>
                  <a:xfrm rot="16010400">
                    <a:off x="2724120" y="12330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9" name=""/>
                  <p:cNvSpPr/>
                  <p:nvPr/>
                </p:nvSpPr>
                <p:spPr>
                  <a:xfrm flipH="1">
                    <a:off x="2751120" y="12484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0" name=""/>
                  <p:cNvSpPr/>
                  <p:nvPr/>
                </p:nvSpPr>
                <p:spPr>
                  <a:xfrm flipH="1">
                    <a:off x="2774880" y="1266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1" name=""/>
                  <p:cNvSpPr/>
                  <p:nvPr/>
                </p:nvSpPr>
                <p:spPr>
                  <a:xfrm flipH="1">
                    <a:off x="2777040" y="12848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2" name=""/>
                  <p:cNvSpPr/>
                  <p:nvPr/>
                </p:nvSpPr>
                <p:spPr>
                  <a:xfrm flipH="1">
                    <a:off x="2755440" y="129204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3" name=""/>
                <p:cNvGrpSpPr/>
                <p:nvPr/>
              </p:nvGrpSpPr>
              <p:grpSpPr>
                <a:xfrm>
                  <a:off x="2714040" y="1307160"/>
                  <a:ext cx="141840" cy="125640"/>
                  <a:chOff x="2714040" y="1307160"/>
                  <a:chExt cx="141840" cy="125640"/>
                </a:xfrm>
              </p:grpSpPr>
              <p:sp>
                <p:nvSpPr>
                  <p:cNvPr id="9364" name=""/>
                  <p:cNvSpPr/>
                  <p:nvPr/>
                </p:nvSpPr>
                <p:spPr>
                  <a:xfrm rot="14881800">
                    <a:off x="2740680" y="1311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5" name=""/>
                  <p:cNvSpPr/>
                  <p:nvPr/>
                </p:nvSpPr>
                <p:spPr>
                  <a:xfrm flipH="1">
                    <a:off x="2775240" y="131400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6" name=""/>
                  <p:cNvSpPr/>
                  <p:nvPr/>
                </p:nvSpPr>
                <p:spPr>
                  <a:xfrm flipH="1">
                    <a:off x="2786040" y="13392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7" name=""/>
                  <p:cNvSpPr/>
                  <p:nvPr/>
                </p:nvSpPr>
                <p:spPr>
                  <a:xfrm>
                    <a:off x="2795400" y="135936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8" name=""/>
                  <p:cNvSpPr/>
                  <p:nvPr/>
                </p:nvSpPr>
                <p:spPr>
                  <a:xfrm flipH="1">
                    <a:off x="2775240" y="137052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9" name=""/>
                <p:cNvGrpSpPr/>
                <p:nvPr/>
              </p:nvGrpSpPr>
              <p:grpSpPr>
                <a:xfrm>
                  <a:off x="2805840" y="1294200"/>
                  <a:ext cx="134280" cy="112320"/>
                  <a:chOff x="2805840" y="1294200"/>
                  <a:chExt cx="134280" cy="112320"/>
                </a:xfrm>
              </p:grpSpPr>
              <p:sp>
                <p:nvSpPr>
                  <p:cNvPr id="9370" name=""/>
                  <p:cNvSpPr/>
                  <p:nvPr/>
                </p:nvSpPr>
                <p:spPr>
                  <a:xfrm rot="15401400">
                    <a:off x="2828880" y="12913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1" name=""/>
                  <p:cNvSpPr/>
                  <p:nvPr/>
                </p:nvSpPr>
                <p:spPr>
                  <a:xfrm flipH="1">
                    <a:off x="2859480" y="129924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2" name=""/>
                  <p:cNvSpPr/>
                  <p:nvPr/>
                </p:nvSpPr>
                <p:spPr>
                  <a:xfrm flipH="1">
                    <a:off x="2876760" y="13219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3" name=""/>
                  <p:cNvSpPr/>
                  <p:nvPr/>
                </p:nvSpPr>
                <p:spPr>
                  <a:xfrm flipH="1">
                    <a:off x="2883960" y="134136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4" name=""/>
                  <p:cNvSpPr/>
                  <p:nvPr/>
                </p:nvSpPr>
                <p:spPr>
                  <a:xfrm flipH="1">
                    <a:off x="2862000" y="135144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5" name=""/>
                <p:cNvGrpSpPr/>
                <p:nvPr/>
              </p:nvGrpSpPr>
              <p:grpSpPr>
                <a:xfrm>
                  <a:off x="2770920" y="1157400"/>
                  <a:ext cx="134280" cy="112320"/>
                  <a:chOff x="2770920" y="1157400"/>
                  <a:chExt cx="134280" cy="112320"/>
                </a:xfrm>
              </p:grpSpPr>
              <p:sp>
                <p:nvSpPr>
                  <p:cNvPr id="9376" name=""/>
                  <p:cNvSpPr/>
                  <p:nvPr/>
                </p:nvSpPr>
                <p:spPr>
                  <a:xfrm rot="16985400">
                    <a:off x="2793960" y="11548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7" name=""/>
                  <p:cNvSpPr/>
                  <p:nvPr/>
                </p:nvSpPr>
                <p:spPr>
                  <a:xfrm flipH="1">
                    <a:off x="2816280" y="118512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8" name=""/>
                  <p:cNvSpPr/>
                  <p:nvPr/>
                </p:nvSpPr>
                <p:spPr>
                  <a:xfrm flipH="1">
                    <a:off x="2849760" y="11955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9" name=""/>
                  <p:cNvSpPr/>
                  <p:nvPr/>
                </p:nvSpPr>
                <p:spPr>
                  <a:xfrm flipH="1">
                    <a:off x="2843280" y="12106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0" name=""/>
                  <p:cNvSpPr/>
                  <p:nvPr/>
                </p:nvSpPr>
                <p:spPr>
                  <a:xfrm flipH="1">
                    <a:off x="2823840" y="12132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1" name=""/>
                <p:cNvGrpSpPr/>
                <p:nvPr/>
              </p:nvGrpSpPr>
              <p:grpSpPr>
                <a:xfrm>
                  <a:off x="2957040" y="1179360"/>
                  <a:ext cx="146520" cy="149760"/>
                  <a:chOff x="2957040" y="1179360"/>
                  <a:chExt cx="146520" cy="149760"/>
                </a:xfrm>
              </p:grpSpPr>
              <p:sp>
                <p:nvSpPr>
                  <p:cNvPr id="9382" name=""/>
                  <p:cNvSpPr/>
                  <p:nvPr/>
                </p:nvSpPr>
                <p:spPr>
                  <a:xfrm rot="19036200">
                    <a:off x="2990880" y="11887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3" name=""/>
                  <p:cNvSpPr/>
                  <p:nvPr/>
                </p:nvSpPr>
                <p:spPr>
                  <a:xfrm flipH="1" flipV="1">
                    <a:off x="3005640" y="124992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4" name=""/>
                  <p:cNvSpPr/>
                  <p:nvPr/>
                </p:nvSpPr>
                <p:spPr>
                  <a:xfrm flipH="1" flipV="1">
                    <a:off x="3048480" y="125028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5" name=""/>
                  <p:cNvSpPr/>
                  <p:nvPr/>
                </p:nvSpPr>
                <p:spPr>
                  <a:xfrm flipH="1">
                    <a:off x="3029040" y="12618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6" name=""/>
                  <p:cNvSpPr/>
                  <p:nvPr/>
                </p:nvSpPr>
                <p:spPr>
                  <a:xfrm flipH="1" flipV="1">
                    <a:off x="3017160" y="12470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7" name=""/>
                <p:cNvGrpSpPr/>
                <p:nvPr/>
              </p:nvGrpSpPr>
              <p:grpSpPr>
                <a:xfrm>
                  <a:off x="3120480" y="1113120"/>
                  <a:ext cx="140040" cy="122400"/>
                  <a:chOff x="3120480" y="1113120"/>
                  <a:chExt cx="140040" cy="122400"/>
                </a:xfrm>
              </p:grpSpPr>
              <p:sp>
                <p:nvSpPr>
                  <p:cNvPr id="9388" name=""/>
                  <p:cNvSpPr/>
                  <p:nvPr/>
                </p:nvSpPr>
                <p:spPr>
                  <a:xfrm rot="4233000">
                    <a:off x="3146040" y="11152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9" name=""/>
                  <p:cNvSpPr/>
                  <p:nvPr/>
                </p:nvSpPr>
                <p:spPr>
                  <a:xfrm flipV="1">
                    <a:off x="3157200" y="115164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0" name=""/>
                  <p:cNvSpPr/>
                  <p:nvPr/>
                </p:nvSpPr>
                <p:spPr>
                  <a:xfrm flipV="1">
                    <a:off x="3176280" y="11934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1" name=""/>
                  <p:cNvSpPr/>
                  <p:nvPr/>
                </p:nvSpPr>
                <p:spPr>
                  <a:xfrm flipH="1" flipV="1">
                    <a:off x="3178800" y="116604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2" name=""/>
                  <p:cNvSpPr/>
                  <p:nvPr/>
                </p:nvSpPr>
                <p:spPr>
                  <a:xfrm flipV="1">
                    <a:off x="3192840" y="11649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3" name=""/>
                <p:cNvGrpSpPr/>
                <p:nvPr/>
              </p:nvGrpSpPr>
              <p:grpSpPr>
                <a:xfrm>
                  <a:off x="3191400" y="1212840"/>
                  <a:ext cx="138240" cy="119160"/>
                  <a:chOff x="3191400" y="1212840"/>
                  <a:chExt cx="138240" cy="119160"/>
                </a:xfrm>
              </p:grpSpPr>
              <p:sp>
                <p:nvSpPr>
                  <p:cNvPr id="9394" name=""/>
                  <p:cNvSpPr/>
                  <p:nvPr/>
                </p:nvSpPr>
                <p:spPr>
                  <a:xfrm rot="4353000">
                    <a:off x="3216240" y="12135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5" name=""/>
                  <p:cNvSpPr/>
                  <p:nvPr/>
                </p:nvSpPr>
                <p:spPr>
                  <a:xfrm flipV="1">
                    <a:off x="3225240" y="125028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6" name=""/>
                  <p:cNvSpPr/>
                  <p:nvPr/>
                </p:nvSpPr>
                <p:spPr>
                  <a:xfrm flipV="1">
                    <a:off x="3245400" y="12916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7" name=""/>
                  <p:cNvSpPr/>
                  <p:nvPr/>
                </p:nvSpPr>
                <p:spPr>
                  <a:xfrm flipH="1" flipV="1">
                    <a:off x="3249360" y="126396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8" name=""/>
                  <p:cNvSpPr/>
                  <p:nvPr/>
                </p:nvSpPr>
                <p:spPr>
                  <a:xfrm flipV="1">
                    <a:off x="3263040" y="12636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9" name=""/>
                <p:cNvGrpSpPr/>
                <p:nvPr/>
              </p:nvGrpSpPr>
              <p:grpSpPr>
                <a:xfrm>
                  <a:off x="2960640" y="1315440"/>
                  <a:ext cx="139320" cy="152640"/>
                  <a:chOff x="2960640" y="1315440"/>
                  <a:chExt cx="139320" cy="152640"/>
                </a:xfrm>
              </p:grpSpPr>
              <p:sp>
                <p:nvSpPr>
                  <p:cNvPr id="9400" name=""/>
                  <p:cNvSpPr/>
                  <p:nvPr/>
                </p:nvSpPr>
                <p:spPr>
                  <a:xfrm rot="19525800">
                    <a:off x="2990520" y="1325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1" name=""/>
                  <p:cNvSpPr/>
                  <p:nvPr/>
                </p:nvSpPr>
                <p:spPr>
                  <a:xfrm flipH="1" flipV="1">
                    <a:off x="3006360" y="138384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2" name=""/>
                  <p:cNvSpPr/>
                  <p:nvPr/>
                </p:nvSpPr>
                <p:spPr>
                  <a:xfrm flipH="1" flipV="1">
                    <a:off x="3048480" y="138996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3" name=""/>
                  <p:cNvSpPr/>
                  <p:nvPr/>
                </p:nvSpPr>
                <p:spPr>
                  <a:xfrm flipH="1">
                    <a:off x="3026880" y="14007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4" name=""/>
                  <p:cNvSpPr/>
                  <p:nvPr/>
                </p:nvSpPr>
                <p:spPr>
                  <a:xfrm flipH="1" flipV="1">
                    <a:off x="3018240" y="13827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5" name=""/>
                <p:cNvGrpSpPr/>
                <p:nvPr/>
              </p:nvGrpSpPr>
              <p:grpSpPr>
                <a:xfrm>
                  <a:off x="2818080" y="1297440"/>
                  <a:ext cx="145440" cy="145440"/>
                  <a:chOff x="2818080" y="1297440"/>
                  <a:chExt cx="145440" cy="145440"/>
                </a:xfrm>
              </p:grpSpPr>
              <p:sp>
                <p:nvSpPr>
                  <p:cNvPr id="9406" name=""/>
                  <p:cNvSpPr/>
                  <p:nvPr/>
                </p:nvSpPr>
                <p:spPr>
                  <a:xfrm rot="18890400">
                    <a:off x="2846520" y="1311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7" name=""/>
                  <p:cNvSpPr/>
                  <p:nvPr/>
                </p:nvSpPr>
                <p:spPr>
                  <a:xfrm flipH="1" flipV="1">
                    <a:off x="2865960" y="136980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8" name=""/>
                  <p:cNvSpPr/>
                  <p:nvPr/>
                </p:nvSpPr>
                <p:spPr>
                  <a:xfrm flipH="1" flipV="1">
                    <a:off x="2909160" y="13629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9" name=""/>
                  <p:cNvSpPr/>
                  <p:nvPr/>
                </p:nvSpPr>
                <p:spPr>
                  <a:xfrm flipH="1">
                    <a:off x="2888640" y="137520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0" name=""/>
                  <p:cNvSpPr/>
                  <p:nvPr/>
                </p:nvSpPr>
                <p:spPr>
                  <a:xfrm flipH="1" flipV="1">
                    <a:off x="2878200" y="13647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1" name=""/>
                <p:cNvGrpSpPr/>
                <p:nvPr/>
              </p:nvGrpSpPr>
              <p:grpSpPr>
                <a:xfrm>
                  <a:off x="2694960" y="1219680"/>
                  <a:ext cx="145800" cy="144000"/>
                  <a:chOff x="2694960" y="1219680"/>
                  <a:chExt cx="145800" cy="144000"/>
                </a:xfrm>
              </p:grpSpPr>
              <p:sp>
                <p:nvSpPr>
                  <p:cNvPr id="9412" name=""/>
                  <p:cNvSpPr/>
                  <p:nvPr/>
                </p:nvSpPr>
                <p:spPr>
                  <a:xfrm rot="18730200">
                    <a:off x="2723760" y="12330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3" name=""/>
                  <p:cNvSpPr/>
                  <p:nvPr/>
                </p:nvSpPr>
                <p:spPr>
                  <a:xfrm flipH="1" flipV="1">
                    <a:off x="2743200" y="129240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4" name=""/>
                  <p:cNvSpPr/>
                  <p:nvPr/>
                </p:nvSpPr>
                <p:spPr>
                  <a:xfrm flipH="1" flipV="1">
                    <a:off x="2786040" y="128376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5" name=""/>
                  <p:cNvSpPr/>
                  <p:nvPr/>
                </p:nvSpPr>
                <p:spPr>
                  <a:xfrm flipH="1">
                    <a:off x="2766600" y="129600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6" name=""/>
                  <p:cNvSpPr/>
                  <p:nvPr/>
                </p:nvSpPr>
                <p:spPr>
                  <a:xfrm flipH="1" flipV="1">
                    <a:off x="2754720" y="128736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7" name=""/>
                <p:cNvGrpSpPr/>
                <p:nvPr/>
              </p:nvGrpSpPr>
              <p:grpSpPr>
                <a:xfrm>
                  <a:off x="2678040" y="1139040"/>
                  <a:ext cx="141840" cy="151920"/>
                  <a:chOff x="2678040" y="1139040"/>
                  <a:chExt cx="141840" cy="151920"/>
                </a:xfrm>
              </p:grpSpPr>
              <p:sp>
                <p:nvSpPr>
                  <p:cNvPr id="9418" name=""/>
                  <p:cNvSpPr/>
                  <p:nvPr/>
                </p:nvSpPr>
                <p:spPr>
                  <a:xfrm rot="19362600">
                    <a:off x="2709360" y="11494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9" name=""/>
                  <p:cNvSpPr/>
                  <p:nvPr/>
                </p:nvSpPr>
                <p:spPr>
                  <a:xfrm flipH="1" flipV="1">
                    <a:off x="2724480" y="120852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0" name=""/>
                  <p:cNvSpPr/>
                  <p:nvPr/>
                </p:nvSpPr>
                <p:spPr>
                  <a:xfrm flipH="1" flipV="1">
                    <a:off x="2767320" y="121248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1" name=""/>
                  <p:cNvSpPr/>
                  <p:nvPr/>
                </p:nvSpPr>
                <p:spPr>
                  <a:xfrm flipH="1">
                    <a:off x="2746080" y="12236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2" name=""/>
                  <p:cNvSpPr/>
                  <p:nvPr/>
                </p:nvSpPr>
                <p:spPr>
                  <a:xfrm flipH="1" flipV="1">
                    <a:off x="2736360" y="12067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3" name=""/>
              <p:cNvGrpSpPr/>
              <p:nvPr/>
            </p:nvGrpSpPr>
            <p:grpSpPr>
              <a:xfrm>
                <a:off x="3222720" y="1021320"/>
                <a:ext cx="651600" cy="525600"/>
                <a:chOff x="3222720" y="1021320"/>
                <a:chExt cx="651600" cy="525600"/>
              </a:xfrm>
            </p:grpSpPr>
            <p:grpSp>
              <p:nvGrpSpPr>
                <p:cNvPr id="9424" name=""/>
                <p:cNvGrpSpPr/>
                <p:nvPr/>
              </p:nvGrpSpPr>
              <p:grpSpPr>
                <a:xfrm>
                  <a:off x="3486960" y="1089000"/>
                  <a:ext cx="144360" cy="131040"/>
                  <a:chOff x="3486960" y="1089000"/>
                  <a:chExt cx="144360" cy="131040"/>
                </a:xfrm>
              </p:grpSpPr>
              <p:sp>
                <p:nvSpPr>
                  <p:cNvPr id="9425" name=""/>
                  <p:cNvSpPr/>
                  <p:nvPr/>
                </p:nvSpPr>
                <p:spPr>
                  <a:xfrm rot="3815400">
                    <a:off x="3514680" y="1095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6" name=""/>
                  <p:cNvSpPr/>
                  <p:nvPr/>
                </p:nvSpPr>
                <p:spPr>
                  <a:xfrm flipV="1">
                    <a:off x="3532680" y="113112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7" name=""/>
                  <p:cNvSpPr/>
                  <p:nvPr/>
                </p:nvSpPr>
                <p:spPr>
                  <a:xfrm flipV="1">
                    <a:off x="3548520" y="117432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8" name=""/>
                  <p:cNvSpPr/>
                  <p:nvPr/>
                </p:nvSpPr>
                <p:spPr>
                  <a:xfrm flipH="1" flipV="1">
                    <a:off x="3546720" y="114804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9" name=""/>
                  <p:cNvSpPr/>
                  <p:nvPr/>
                </p:nvSpPr>
                <p:spPr>
                  <a:xfrm flipV="1">
                    <a:off x="3561480" y="114408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30" name=""/>
                <p:cNvSpPr/>
                <p:nvPr/>
              </p:nvSpPr>
              <p:spPr>
                <a:xfrm flipH="1">
                  <a:off x="3482280" y="134604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1" name=""/>
                <p:cNvSpPr/>
                <p:nvPr/>
              </p:nvSpPr>
              <p:spPr>
                <a:xfrm>
                  <a:off x="3359160" y="124776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2" name=""/>
                <p:cNvSpPr/>
                <p:nvPr/>
              </p:nvSpPr>
              <p:spPr>
                <a:xfrm flipH="1" flipV="1">
                  <a:off x="3464640" y="114984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3" name=""/>
                <p:cNvSpPr/>
                <p:nvPr/>
              </p:nvSpPr>
              <p:spPr>
                <a:xfrm flipH="1" flipV="1">
                  <a:off x="3676320" y="124740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4" name=""/>
                <p:cNvSpPr/>
                <p:nvPr/>
              </p:nvSpPr>
              <p:spPr>
                <a:xfrm flipH="1">
                  <a:off x="3535200" y="136584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5" name=""/>
                <p:cNvSpPr/>
                <p:nvPr/>
              </p:nvSpPr>
              <p:spPr>
                <a:xfrm flipH="1" flipV="1">
                  <a:off x="3570480" y="132588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6" name=""/>
                <p:cNvSpPr/>
                <p:nvPr/>
              </p:nvSpPr>
              <p:spPr>
                <a:xfrm flipH="1" flipV="1">
                  <a:off x="3429360" y="116928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7" name=""/>
                <p:cNvSpPr/>
                <p:nvPr/>
              </p:nvSpPr>
              <p:spPr>
                <a:xfrm flipV="1">
                  <a:off x="3517560" y="118872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8" name=""/>
                <p:cNvSpPr/>
                <p:nvPr/>
              </p:nvSpPr>
              <p:spPr>
                <a:xfrm flipH="1">
                  <a:off x="3376800" y="126756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9" name=""/>
                <p:cNvSpPr/>
                <p:nvPr/>
              </p:nvSpPr>
              <p:spPr>
                <a:xfrm flipH="1" flipV="1">
                  <a:off x="3605760" y="126756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0" name=""/>
                <p:cNvSpPr/>
                <p:nvPr/>
              </p:nvSpPr>
              <p:spPr>
                <a:xfrm flipH="1" flipV="1">
                  <a:off x="3641040" y="126756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1" name=""/>
                <p:cNvSpPr/>
                <p:nvPr/>
              </p:nvSpPr>
              <p:spPr>
                <a:xfrm flipV="1">
                  <a:off x="3746520" y="132588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2" name=""/>
                <p:cNvSpPr/>
                <p:nvPr/>
              </p:nvSpPr>
              <p:spPr>
                <a:xfrm flipV="1">
                  <a:off x="3693600" y="122796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3" name=""/>
                <p:cNvSpPr/>
                <p:nvPr/>
              </p:nvSpPr>
              <p:spPr>
                <a:xfrm flipH="1">
                  <a:off x="3641040" y="140472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4" name=""/>
                <p:cNvSpPr/>
                <p:nvPr/>
              </p:nvSpPr>
              <p:spPr>
                <a:xfrm flipH="1">
                  <a:off x="3447360" y="128700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5" name=""/>
                <p:cNvSpPr/>
                <p:nvPr/>
              </p:nvSpPr>
              <p:spPr>
                <a:xfrm flipH="1" flipV="1">
                  <a:off x="3376440" y="120888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446" name=""/>
                <p:cNvGrpSpPr/>
                <p:nvPr/>
              </p:nvGrpSpPr>
              <p:grpSpPr>
                <a:xfrm>
                  <a:off x="3402360" y="1021320"/>
                  <a:ext cx="132480" cy="153000"/>
                  <a:chOff x="3402360" y="1021320"/>
                  <a:chExt cx="132480" cy="153000"/>
                </a:xfrm>
              </p:grpSpPr>
              <p:sp>
                <p:nvSpPr>
                  <p:cNvPr id="9447" name=""/>
                  <p:cNvSpPr/>
                  <p:nvPr/>
                </p:nvSpPr>
                <p:spPr>
                  <a:xfrm rot="1745400">
                    <a:off x="3429000" y="1032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8" name=""/>
                  <p:cNvSpPr/>
                  <p:nvPr/>
                </p:nvSpPr>
                <p:spPr>
                  <a:xfrm flipH="1" flipV="1">
                    <a:off x="3465360" y="107280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9" name=""/>
                  <p:cNvSpPr/>
                  <p:nvPr/>
                </p:nvSpPr>
                <p:spPr>
                  <a:xfrm flipV="1">
                    <a:off x="3474360" y="111348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0" name=""/>
                  <p:cNvSpPr/>
                  <p:nvPr/>
                </p:nvSpPr>
                <p:spPr>
                  <a:xfrm flipH="1" flipV="1">
                    <a:off x="3455280" y="110052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1" name=""/>
                  <p:cNvSpPr/>
                  <p:nvPr/>
                </p:nvSpPr>
                <p:spPr>
                  <a:xfrm flipV="1">
                    <a:off x="3470040" y="108324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2" name=""/>
                <p:cNvGrpSpPr/>
                <p:nvPr/>
              </p:nvGrpSpPr>
              <p:grpSpPr>
                <a:xfrm>
                  <a:off x="3459600" y="1217880"/>
                  <a:ext cx="124560" cy="151920"/>
                  <a:chOff x="3459600" y="1217880"/>
                  <a:chExt cx="124560" cy="151920"/>
                </a:xfrm>
              </p:grpSpPr>
              <p:sp>
                <p:nvSpPr>
                  <p:cNvPr id="9453" name=""/>
                  <p:cNvSpPr/>
                  <p:nvPr/>
                </p:nvSpPr>
                <p:spPr>
                  <a:xfrm rot="20187000">
                    <a:off x="3482280" y="1228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4" name=""/>
                  <p:cNvSpPr/>
                  <p:nvPr/>
                </p:nvSpPr>
                <p:spPr>
                  <a:xfrm flipH="1" flipV="1">
                    <a:off x="3499920" y="128124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5" name=""/>
                  <p:cNvSpPr/>
                  <p:nvPr/>
                </p:nvSpPr>
                <p:spPr>
                  <a:xfrm flipH="1" flipV="1">
                    <a:off x="3540240" y="12956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6" name=""/>
                  <p:cNvSpPr/>
                  <p:nvPr/>
                </p:nvSpPr>
                <p:spPr>
                  <a:xfrm flipH="1">
                    <a:off x="3516120" y="13053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7" name=""/>
                  <p:cNvSpPr/>
                  <p:nvPr/>
                </p:nvSpPr>
                <p:spPr>
                  <a:xfrm flipH="1" flipV="1">
                    <a:off x="3512160" y="12826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8" name=""/>
                <p:cNvGrpSpPr/>
                <p:nvPr/>
              </p:nvGrpSpPr>
              <p:grpSpPr>
                <a:xfrm>
                  <a:off x="3535560" y="1149840"/>
                  <a:ext cx="78840" cy="130680"/>
                  <a:chOff x="3535560" y="1149840"/>
                  <a:chExt cx="78840" cy="130680"/>
                </a:xfrm>
              </p:grpSpPr>
              <p:sp>
                <p:nvSpPr>
                  <p:cNvPr id="9459" name=""/>
                  <p:cNvSpPr/>
                  <p:nvPr/>
                </p:nvSpPr>
                <p:spPr>
                  <a:xfrm>
                    <a:off x="3535560" y="11498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0" name=""/>
                  <p:cNvSpPr/>
                  <p:nvPr/>
                </p:nvSpPr>
                <p:spPr>
                  <a:xfrm flipH="1" flipV="1">
                    <a:off x="3559680" y="11952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1" name=""/>
                  <p:cNvSpPr/>
                  <p:nvPr/>
                </p:nvSpPr>
                <p:spPr>
                  <a:xfrm flipH="1" flipV="1">
                    <a:off x="3591000" y="12243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2" name=""/>
                  <p:cNvSpPr/>
                  <p:nvPr/>
                </p:nvSpPr>
                <p:spPr>
                  <a:xfrm flipH="1" flipV="1">
                    <a:off x="3564720" y="12243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3" name=""/>
                  <p:cNvSpPr/>
                  <p:nvPr/>
                </p:nvSpPr>
                <p:spPr>
                  <a:xfrm flipH="1" flipV="1">
                    <a:off x="3570120" y="12009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64" name=""/>
                <p:cNvGrpSpPr/>
                <p:nvPr/>
              </p:nvGrpSpPr>
              <p:grpSpPr>
                <a:xfrm>
                  <a:off x="3371760" y="1377720"/>
                  <a:ext cx="127440" cy="102240"/>
                  <a:chOff x="3371760" y="1377720"/>
                  <a:chExt cx="127440" cy="102240"/>
                </a:xfrm>
              </p:grpSpPr>
              <p:sp>
                <p:nvSpPr>
                  <p:cNvPr id="9465" name=""/>
                  <p:cNvSpPr/>
                  <p:nvPr/>
                </p:nvSpPr>
                <p:spPr>
                  <a:xfrm rot="15769200">
                    <a:off x="3391200" y="1370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6" name=""/>
                  <p:cNvSpPr/>
                  <p:nvPr/>
                </p:nvSpPr>
                <p:spPr>
                  <a:xfrm flipH="1">
                    <a:off x="3419640" y="138276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7" name=""/>
                  <p:cNvSpPr/>
                  <p:nvPr/>
                </p:nvSpPr>
                <p:spPr>
                  <a:xfrm flipH="1">
                    <a:off x="3441240" y="140256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8" name=""/>
                  <p:cNvSpPr/>
                  <p:nvPr/>
                </p:nvSpPr>
                <p:spPr>
                  <a:xfrm flipH="1">
                    <a:off x="3445200" y="14216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9" name=""/>
                  <p:cNvSpPr/>
                  <p:nvPr/>
                </p:nvSpPr>
                <p:spPr>
                  <a:xfrm flipH="1">
                    <a:off x="3423240" y="142884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0" name=""/>
                <p:cNvGrpSpPr/>
                <p:nvPr/>
              </p:nvGrpSpPr>
              <p:grpSpPr>
                <a:xfrm>
                  <a:off x="3306600" y="1091160"/>
                  <a:ext cx="78840" cy="131040"/>
                  <a:chOff x="3306600" y="1091160"/>
                  <a:chExt cx="78840" cy="131040"/>
                </a:xfrm>
              </p:grpSpPr>
              <p:sp>
                <p:nvSpPr>
                  <p:cNvPr id="9471" name=""/>
                  <p:cNvSpPr/>
                  <p:nvPr/>
                </p:nvSpPr>
                <p:spPr>
                  <a:xfrm>
                    <a:off x="3306600" y="1091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2" name=""/>
                  <p:cNvSpPr/>
                  <p:nvPr/>
                </p:nvSpPr>
                <p:spPr>
                  <a:xfrm flipH="1" flipV="1">
                    <a:off x="3330720" y="11365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3" name=""/>
                  <p:cNvSpPr/>
                  <p:nvPr/>
                </p:nvSpPr>
                <p:spPr>
                  <a:xfrm flipH="1" flipV="1">
                    <a:off x="3362040" y="11656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4" name=""/>
                  <p:cNvSpPr/>
                  <p:nvPr/>
                </p:nvSpPr>
                <p:spPr>
                  <a:xfrm flipH="1" flipV="1">
                    <a:off x="3335760" y="11656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5" name=""/>
                  <p:cNvSpPr/>
                  <p:nvPr/>
                </p:nvSpPr>
                <p:spPr>
                  <a:xfrm flipH="1" flipV="1">
                    <a:off x="3341160" y="11426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6" name=""/>
                <p:cNvGrpSpPr/>
                <p:nvPr/>
              </p:nvGrpSpPr>
              <p:grpSpPr>
                <a:xfrm>
                  <a:off x="3605760" y="1130040"/>
                  <a:ext cx="78840" cy="131040"/>
                  <a:chOff x="3605760" y="1130040"/>
                  <a:chExt cx="78840" cy="131040"/>
                </a:xfrm>
              </p:grpSpPr>
              <p:sp>
                <p:nvSpPr>
                  <p:cNvPr id="9477" name=""/>
                  <p:cNvSpPr/>
                  <p:nvPr/>
                </p:nvSpPr>
                <p:spPr>
                  <a:xfrm>
                    <a:off x="3605760" y="11300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8" name=""/>
                  <p:cNvSpPr/>
                  <p:nvPr/>
                </p:nvSpPr>
                <p:spPr>
                  <a:xfrm flipH="1" flipV="1">
                    <a:off x="3629880" y="117540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9" name=""/>
                  <p:cNvSpPr/>
                  <p:nvPr/>
                </p:nvSpPr>
                <p:spPr>
                  <a:xfrm flipH="1" flipV="1">
                    <a:off x="3661200" y="12045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0" name=""/>
                  <p:cNvSpPr/>
                  <p:nvPr/>
                </p:nvSpPr>
                <p:spPr>
                  <a:xfrm flipH="1" flipV="1">
                    <a:off x="3634920" y="12045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1" name=""/>
                  <p:cNvSpPr/>
                  <p:nvPr/>
                </p:nvSpPr>
                <p:spPr>
                  <a:xfrm flipH="1" flipV="1">
                    <a:off x="3640320" y="118152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2" name=""/>
                <p:cNvGrpSpPr/>
                <p:nvPr/>
              </p:nvGrpSpPr>
              <p:grpSpPr>
                <a:xfrm>
                  <a:off x="3359160" y="1051920"/>
                  <a:ext cx="78840" cy="130680"/>
                  <a:chOff x="3359160" y="1051920"/>
                  <a:chExt cx="78840" cy="130680"/>
                </a:xfrm>
              </p:grpSpPr>
              <p:sp>
                <p:nvSpPr>
                  <p:cNvPr id="9483" name=""/>
                  <p:cNvSpPr/>
                  <p:nvPr/>
                </p:nvSpPr>
                <p:spPr>
                  <a:xfrm>
                    <a:off x="3359160" y="10519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4" name=""/>
                  <p:cNvSpPr/>
                  <p:nvPr/>
                </p:nvSpPr>
                <p:spPr>
                  <a:xfrm flipH="1" flipV="1">
                    <a:off x="3383280" y="109728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5" name=""/>
                  <p:cNvSpPr/>
                  <p:nvPr/>
                </p:nvSpPr>
                <p:spPr>
                  <a:xfrm flipH="1" flipV="1">
                    <a:off x="3414600" y="112644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6" name=""/>
                  <p:cNvSpPr/>
                  <p:nvPr/>
                </p:nvSpPr>
                <p:spPr>
                  <a:xfrm flipH="1" flipV="1">
                    <a:off x="3388320" y="11264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7" name=""/>
                  <p:cNvSpPr/>
                  <p:nvPr/>
                </p:nvSpPr>
                <p:spPr>
                  <a:xfrm flipH="1" flipV="1">
                    <a:off x="3393720" y="11030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8" name=""/>
                <p:cNvGrpSpPr/>
                <p:nvPr/>
              </p:nvGrpSpPr>
              <p:grpSpPr>
                <a:xfrm>
                  <a:off x="3525480" y="1429200"/>
                  <a:ext cx="137520" cy="117720"/>
                  <a:chOff x="3525480" y="1429200"/>
                  <a:chExt cx="137520" cy="117720"/>
                </a:xfrm>
              </p:grpSpPr>
              <p:sp>
                <p:nvSpPr>
                  <p:cNvPr id="9489" name=""/>
                  <p:cNvSpPr/>
                  <p:nvPr/>
                </p:nvSpPr>
                <p:spPr>
                  <a:xfrm rot="15198000">
                    <a:off x="3550320" y="14292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0" name=""/>
                  <p:cNvSpPr/>
                  <p:nvPr/>
                </p:nvSpPr>
                <p:spPr>
                  <a:xfrm flipH="1">
                    <a:off x="3582000" y="143460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1" name=""/>
                  <p:cNvSpPr/>
                  <p:nvPr/>
                </p:nvSpPr>
                <p:spPr>
                  <a:xfrm flipH="1">
                    <a:off x="3596760" y="14583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2" name=""/>
                  <p:cNvSpPr/>
                  <p:nvPr/>
                </p:nvSpPr>
                <p:spPr>
                  <a:xfrm>
                    <a:off x="3605400" y="147816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3" name=""/>
                  <p:cNvSpPr/>
                  <p:nvPr/>
                </p:nvSpPr>
                <p:spPr>
                  <a:xfrm flipH="1">
                    <a:off x="3583440" y="148896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94" name=""/>
                <p:cNvGrpSpPr/>
                <p:nvPr/>
              </p:nvGrpSpPr>
              <p:grpSpPr>
                <a:xfrm>
                  <a:off x="3432960" y="1400400"/>
                  <a:ext cx="145800" cy="135720"/>
                  <a:chOff x="3432960" y="1400400"/>
                  <a:chExt cx="145800" cy="135720"/>
                </a:xfrm>
              </p:grpSpPr>
              <p:sp>
                <p:nvSpPr>
                  <p:cNvPr id="9495" name=""/>
                  <p:cNvSpPr/>
                  <p:nvPr/>
                </p:nvSpPr>
                <p:spPr>
                  <a:xfrm rot="14358600">
                    <a:off x="3461760" y="1409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6" name=""/>
                  <p:cNvSpPr/>
                  <p:nvPr/>
                </p:nvSpPr>
                <p:spPr>
                  <a:xfrm flipH="1">
                    <a:off x="3499560" y="140796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7" name=""/>
                  <p:cNvSpPr/>
                  <p:nvPr/>
                </p:nvSpPr>
                <p:spPr>
                  <a:xfrm flipH="1">
                    <a:off x="3503520" y="14360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8" name=""/>
                  <p:cNvSpPr/>
                  <p:nvPr/>
                </p:nvSpPr>
                <p:spPr>
                  <a:xfrm>
                    <a:off x="3514320" y="145620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9" name=""/>
                  <p:cNvSpPr/>
                  <p:nvPr/>
                </p:nvSpPr>
                <p:spPr>
                  <a:xfrm flipH="1">
                    <a:off x="3497400" y="146916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0" name=""/>
                <p:cNvGrpSpPr/>
                <p:nvPr/>
              </p:nvGrpSpPr>
              <p:grpSpPr>
                <a:xfrm>
                  <a:off x="3251880" y="1244520"/>
                  <a:ext cx="122040" cy="94320"/>
                  <a:chOff x="3251880" y="1244520"/>
                  <a:chExt cx="122040" cy="94320"/>
                </a:xfrm>
              </p:grpSpPr>
              <p:sp>
                <p:nvSpPr>
                  <p:cNvPr id="9501" name=""/>
                  <p:cNvSpPr/>
                  <p:nvPr/>
                </p:nvSpPr>
                <p:spPr>
                  <a:xfrm rot="16010400">
                    <a:off x="3268800" y="12330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2" name=""/>
                  <p:cNvSpPr/>
                  <p:nvPr/>
                </p:nvSpPr>
                <p:spPr>
                  <a:xfrm flipH="1">
                    <a:off x="3295800" y="12484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3" name=""/>
                  <p:cNvSpPr/>
                  <p:nvPr/>
                </p:nvSpPr>
                <p:spPr>
                  <a:xfrm flipH="1">
                    <a:off x="3319560" y="1266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4" name=""/>
                  <p:cNvSpPr/>
                  <p:nvPr/>
                </p:nvSpPr>
                <p:spPr>
                  <a:xfrm flipH="1">
                    <a:off x="3321720" y="12848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5" name=""/>
                  <p:cNvSpPr/>
                  <p:nvPr/>
                </p:nvSpPr>
                <p:spPr>
                  <a:xfrm flipH="1">
                    <a:off x="3300120" y="129204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06" name=""/>
                <p:cNvGrpSpPr/>
                <p:nvPr/>
              </p:nvGrpSpPr>
              <p:grpSpPr>
                <a:xfrm>
                  <a:off x="3258720" y="1307160"/>
                  <a:ext cx="141840" cy="125640"/>
                  <a:chOff x="3258720" y="1307160"/>
                  <a:chExt cx="141840" cy="125640"/>
                </a:xfrm>
              </p:grpSpPr>
              <p:sp>
                <p:nvSpPr>
                  <p:cNvPr id="9507" name=""/>
                  <p:cNvSpPr/>
                  <p:nvPr/>
                </p:nvSpPr>
                <p:spPr>
                  <a:xfrm rot="14881800">
                    <a:off x="3285360" y="1311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8" name=""/>
                  <p:cNvSpPr/>
                  <p:nvPr/>
                </p:nvSpPr>
                <p:spPr>
                  <a:xfrm flipH="1">
                    <a:off x="3319920" y="131400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9" name=""/>
                  <p:cNvSpPr/>
                  <p:nvPr/>
                </p:nvSpPr>
                <p:spPr>
                  <a:xfrm flipH="1">
                    <a:off x="3330720" y="13392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0" name=""/>
                  <p:cNvSpPr/>
                  <p:nvPr/>
                </p:nvSpPr>
                <p:spPr>
                  <a:xfrm>
                    <a:off x="3340080" y="135936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1" name=""/>
                  <p:cNvSpPr/>
                  <p:nvPr/>
                </p:nvSpPr>
                <p:spPr>
                  <a:xfrm flipH="1">
                    <a:off x="3319920" y="137052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2" name=""/>
                <p:cNvGrpSpPr/>
                <p:nvPr/>
              </p:nvGrpSpPr>
              <p:grpSpPr>
                <a:xfrm>
                  <a:off x="3350520" y="1294200"/>
                  <a:ext cx="134280" cy="112320"/>
                  <a:chOff x="3350520" y="1294200"/>
                  <a:chExt cx="134280" cy="112320"/>
                </a:xfrm>
              </p:grpSpPr>
              <p:sp>
                <p:nvSpPr>
                  <p:cNvPr id="9513" name=""/>
                  <p:cNvSpPr/>
                  <p:nvPr/>
                </p:nvSpPr>
                <p:spPr>
                  <a:xfrm rot="15401400">
                    <a:off x="3373560" y="12913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4" name=""/>
                  <p:cNvSpPr/>
                  <p:nvPr/>
                </p:nvSpPr>
                <p:spPr>
                  <a:xfrm flipH="1">
                    <a:off x="3404160" y="129924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5" name=""/>
                  <p:cNvSpPr/>
                  <p:nvPr/>
                </p:nvSpPr>
                <p:spPr>
                  <a:xfrm flipH="1">
                    <a:off x="3421440" y="13219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6" name=""/>
                  <p:cNvSpPr/>
                  <p:nvPr/>
                </p:nvSpPr>
                <p:spPr>
                  <a:xfrm flipH="1">
                    <a:off x="3428640" y="134136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7" name=""/>
                  <p:cNvSpPr/>
                  <p:nvPr/>
                </p:nvSpPr>
                <p:spPr>
                  <a:xfrm flipH="1">
                    <a:off x="3406680" y="135144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8" name=""/>
                <p:cNvGrpSpPr/>
                <p:nvPr/>
              </p:nvGrpSpPr>
              <p:grpSpPr>
                <a:xfrm>
                  <a:off x="3315600" y="1157400"/>
                  <a:ext cx="134280" cy="112320"/>
                  <a:chOff x="3315600" y="1157400"/>
                  <a:chExt cx="134280" cy="112320"/>
                </a:xfrm>
              </p:grpSpPr>
              <p:sp>
                <p:nvSpPr>
                  <p:cNvPr id="9519" name=""/>
                  <p:cNvSpPr/>
                  <p:nvPr/>
                </p:nvSpPr>
                <p:spPr>
                  <a:xfrm rot="16985400">
                    <a:off x="3338640" y="11548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0" name=""/>
                  <p:cNvSpPr/>
                  <p:nvPr/>
                </p:nvSpPr>
                <p:spPr>
                  <a:xfrm flipH="1">
                    <a:off x="3360960" y="118512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1" name=""/>
                  <p:cNvSpPr/>
                  <p:nvPr/>
                </p:nvSpPr>
                <p:spPr>
                  <a:xfrm flipH="1">
                    <a:off x="3394440" y="11955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2" name=""/>
                  <p:cNvSpPr/>
                  <p:nvPr/>
                </p:nvSpPr>
                <p:spPr>
                  <a:xfrm flipH="1">
                    <a:off x="3387960" y="12106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3" name=""/>
                  <p:cNvSpPr/>
                  <p:nvPr/>
                </p:nvSpPr>
                <p:spPr>
                  <a:xfrm flipH="1">
                    <a:off x="3368520" y="12132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24" name=""/>
                <p:cNvGrpSpPr/>
                <p:nvPr/>
              </p:nvGrpSpPr>
              <p:grpSpPr>
                <a:xfrm>
                  <a:off x="3501720" y="1179360"/>
                  <a:ext cx="146520" cy="149760"/>
                  <a:chOff x="3501720" y="1179360"/>
                  <a:chExt cx="146520" cy="149760"/>
                </a:xfrm>
              </p:grpSpPr>
              <p:sp>
                <p:nvSpPr>
                  <p:cNvPr id="9525" name=""/>
                  <p:cNvSpPr/>
                  <p:nvPr/>
                </p:nvSpPr>
                <p:spPr>
                  <a:xfrm rot="19036200">
                    <a:off x="3535560" y="11887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6" name=""/>
                  <p:cNvSpPr/>
                  <p:nvPr/>
                </p:nvSpPr>
                <p:spPr>
                  <a:xfrm flipH="1" flipV="1">
                    <a:off x="3550320" y="124992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7" name=""/>
                  <p:cNvSpPr/>
                  <p:nvPr/>
                </p:nvSpPr>
                <p:spPr>
                  <a:xfrm flipH="1" flipV="1">
                    <a:off x="3593160" y="125028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8" name=""/>
                  <p:cNvSpPr/>
                  <p:nvPr/>
                </p:nvSpPr>
                <p:spPr>
                  <a:xfrm flipH="1">
                    <a:off x="3573720" y="12618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9" name=""/>
                  <p:cNvSpPr/>
                  <p:nvPr/>
                </p:nvSpPr>
                <p:spPr>
                  <a:xfrm flipH="1" flipV="1">
                    <a:off x="3561840" y="12470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0" name=""/>
                <p:cNvGrpSpPr/>
                <p:nvPr/>
              </p:nvGrpSpPr>
              <p:grpSpPr>
                <a:xfrm>
                  <a:off x="3665160" y="1113120"/>
                  <a:ext cx="140040" cy="122400"/>
                  <a:chOff x="3665160" y="1113120"/>
                  <a:chExt cx="140040" cy="122400"/>
                </a:xfrm>
              </p:grpSpPr>
              <p:sp>
                <p:nvSpPr>
                  <p:cNvPr id="9531" name=""/>
                  <p:cNvSpPr/>
                  <p:nvPr/>
                </p:nvSpPr>
                <p:spPr>
                  <a:xfrm rot="4233000">
                    <a:off x="3690720" y="11152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2" name=""/>
                  <p:cNvSpPr/>
                  <p:nvPr/>
                </p:nvSpPr>
                <p:spPr>
                  <a:xfrm flipV="1">
                    <a:off x="3701880" y="115164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3" name=""/>
                  <p:cNvSpPr/>
                  <p:nvPr/>
                </p:nvSpPr>
                <p:spPr>
                  <a:xfrm flipV="1">
                    <a:off x="3720960" y="11934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4" name=""/>
                  <p:cNvSpPr/>
                  <p:nvPr/>
                </p:nvSpPr>
                <p:spPr>
                  <a:xfrm flipH="1" flipV="1">
                    <a:off x="3723480" y="116604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5" name=""/>
                  <p:cNvSpPr/>
                  <p:nvPr/>
                </p:nvSpPr>
                <p:spPr>
                  <a:xfrm flipV="1">
                    <a:off x="3737520" y="11649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6" name=""/>
                <p:cNvGrpSpPr/>
                <p:nvPr/>
              </p:nvGrpSpPr>
              <p:grpSpPr>
                <a:xfrm>
                  <a:off x="3736080" y="1212840"/>
                  <a:ext cx="138240" cy="119160"/>
                  <a:chOff x="3736080" y="1212840"/>
                  <a:chExt cx="138240" cy="119160"/>
                </a:xfrm>
              </p:grpSpPr>
              <p:sp>
                <p:nvSpPr>
                  <p:cNvPr id="9537" name=""/>
                  <p:cNvSpPr/>
                  <p:nvPr/>
                </p:nvSpPr>
                <p:spPr>
                  <a:xfrm rot="4353000">
                    <a:off x="3760920" y="12135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8" name=""/>
                  <p:cNvSpPr/>
                  <p:nvPr/>
                </p:nvSpPr>
                <p:spPr>
                  <a:xfrm flipV="1">
                    <a:off x="3769920" y="125028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9" name=""/>
                  <p:cNvSpPr/>
                  <p:nvPr/>
                </p:nvSpPr>
                <p:spPr>
                  <a:xfrm flipV="1">
                    <a:off x="3790080" y="12916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0" name=""/>
                  <p:cNvSpPr/>
                  <p:nvPr/>
                </p:nvSpPr>
                <p:spPr>
                  <a:xfrm flipH="1" flipV="1">
                    <a:off x="3794040" y="126396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1" name=""/>
                  <p:cNvSpPr/>
                  <p:nvPr/>
                </p:nvSpPr>
                <p:spPr>
                  <a:xfrm flipV="1">
                    <a:off x="3807720" y="12636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2" name=""/>
                <p:cNvGrpSpPr/>
                <p:nvPr/>
              </p:nvGrpSpPr>
              <p:grpSpPr>
                <a:xfrm>
                  <a:off x="3505320" y="1315440"/>
                  <a:ext cx="139320" cy="152640"/>
                  <a:chOff x="3505320" y="1315440"/>
                  <a:chExt cx="139320" cy="152640"/>
                </a:xfrm>
              </p:grpSpPr>
              <p:sp>
                <p:nvSpPr>
                  <p:cNvPr id="9543" name=""/>
                  <p:cNvSpPr/>
                  <p:nvPr/>
                </p:nvSpPr>
                <p:spPr>
                  <a:xfrm rot="19525800">
                    <a:off x="3535200" y="1325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4" name=""/>
                  <p:cNvSpPr/>
                  <p:nvPr/>
                </p:nvSpPr>
                <p:spPr>
                  <a:xfrm flipH="1" flipV="1">
                    <a:off x="3551040" y="138384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5" name=""/>
                  <p:cNvSpPr/>
                  <p:nvPr/>
                </p:nvSpPr>
                <p:spPr>
                  <a:xfrm flipH="1" flipV="1">
                    <a:off x="3593160" y="138996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6" name=""/>
                  <p:cNvSpPr/>
                  <p:nvPr/>
                </p:nvSpPr>
                <p:spPr>
                  <a:xfrm flipH="1">
                    <a:off x="3571560" y="14007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7" name=""/>
                  <p:cNvSpPr/>
                  <p:nvPr/>
                </p:nvSpPr>
                <p:spPr>
                  <a:xfrm flipH="1" flipV="1">
                    <a:off x="3562920" y="138276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8" name=""/>
                <p:cNvGrpSpPr/>
                <p:nvPr/>
              </p:nvGrpSpPr>
              <p:grpSpPr>
                <a:xfrm>
                  <a:off x="3362760" y="1297440"/>
                  <a:ext cx="145440" cy="145440"/>
                  <a:chOff x="3362760" y="1297440"/>
                  <a:chExt cx="145440" cy="145440"/>
                </a:xfrm>
              </p:grpSpPr>
              <p:sp>
                <p:nvSpPr>
                  <p:cNvPr id="9549" name=""/>
                  <p:cNvSpPr/>
                  <p:nvPr/>
                </p:nvSpPr>
                <p:spPr>
                  <a:xfrm rot="18890400">
                    <a:off x="3391200" y="1311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0" name=""/>
                  <p:cNvSpPr/>
                  <p:nvPr/>
                </p:nvSpPr>
                <p:spPr>
                  <a:xfrm flipH="1" flipV="1">
                    <a:off x="3410640" y="136980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1" name=""/>
                  <p:cNvSpPr/>
                  <p:nvPr/>
                </p:nvSpPr>
                <p:spPr>
                  <a:xfrm flipH="1" flipV="1">
                    <a:off x="3453840" y="13629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2" name=""/>
                  <p:cNvSpPr/>
                  <p:nvPr/>
                </p:nvSpPr>
                <p:spPr>
                  <a:xfrm flipH="1">
                    <a:off x="3433320" y="137520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3" name=""/>
                  <p:cNvSpPr/>
                  <p:nvPr/>
                </p:nvSpPr>
                <p:spPr>
                  <a:xfrm flipH="1" flipV="1">
                    <a:off x="3422880" y="13647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54" name=""/>
                <p:cNvGrpSpPr/>
                <p:nvPr/>
              </p:nvGrpSpPr>
              <p:grpSpPr>
                <a:xfrm>
                  <a:off x="3239640" y="1219680"/>
                  <a:ext cx="145800" cy="144000"/>
                  <a:chOff x="3239640" y="1219680"/>
                  <a:chExt cx="145800" cy="144000"/>
                </a:xfrm>
              </p:grpSpPr>
              <p:sp>
                <p:nvSpPr>
                  <p:cNvPr id="9555" name=""/>
                  <p:cNvSpPr/>
                  <p:nvPr/>
                </p:nvSpPr>
                <p:spPr>
                  <a:xfrm rot="18730200">
                    <a:off x="3268440" y="12330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6" name=""/>
                  <p:cNvSpPr/>
                  <p:nvPr/>
                </p:nvSpPr>
                <p:spPr>
                  <a:xfrm flipH="1" flipV="1">
                    <a:off x="3287880" y="129240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7" name=""/>
                  <p:cNvSpPr/>
                  <p:nvPr/>
                </p:nvSpPr>
                <p:spPr>
                  <a:xfrm flipH="1" flipV="1">
                    <a:off x="3330720" y="128376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8" name=""/>
                  <p:cNvSpPr/>
                  <p:nvPr/>
                </p:nvSpPr>
                <p:spPr>
                  <a:xfrm flipH="1">
                    <a:off x="3311280" y="129600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9" name=""/>
                  <p:cNvSpPr/>
                  <p:nvPr/>
                </p:nvSpPr>
                <p:spPr>
                  <a:xfrm flipH="1" flipV="1">
                    <a:off x="3299400" y="128736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60" name=""/>
                <p:cNvGrpSpPr/>
                <p:nvPr/>
              </p:nvGrpSpPr>
              <p:grpSpPr>
                <a:xfrm>
                  <a:off x="3222720" y="1139040"/>
                  <a:ext cx="141840" cy="151920"/>
                  <a:chOff x="3222720" y="1139040"/>
                  <a:chExt cx="141840" cy="151920"/>
                </a:xfrm>
              </p:grpSpPr>
              <p:sp>
                <p:nvSpPr>
                  <p:cNvPr id="9561" name=""/>
                  <p:cNvSpPr/>
                  <p:nvPr/>
                </p:nvSpPr>
                <p:spPr>
                  <a:xfrm rot="19362600">
                    <a:off x="3254040" y="11494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2" name=""/>
                  <p:cNvSpPr/>
                  <p:nvPr/>
                </p:nvSpPr>
                <p:spPr>
                  <a:xfrm flipH="1" flipV="1">
                    <a:off x="3269160" y="120852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3" name=""/>
                  <p:cNvSpPr/>
                  <p:nvPr/>
                </p:nvSpPr>
                <p:spPr>
                  <a:xfrm flipH="1" flipV="1">
                    <a:off x="3312000" y="121248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4" name=""/>
                  <p:cNvSpPr/>
                  <p:nvPr/>
                </p:nvSpPr>
                <p:spPr>
                  <a:xfrm flipH="1">
                    <a:off x="3290760" y="12236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5" name=""/>
                  <p:cNvSpPr/>
                  <p:nvPr/>
                </p:nvSpPr>
                <p:spPr>
                  <a:xfrm flipH="1" flipV="1">
                    <a:off x="3281040" y="120672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66" name=""/>
              <p:cNvGrpSpPr/>
              <p:nvPr/>
            </p:nvGrpSpPr>
            <p:grpSpPr>
              <a:xfrm>
                <a:off x="3145680" y="2482560"/>
                <a:ext cx="651600" cy="525600"/>
                <a:chOff x="3145680" y="2482560"/>
                <a:chExt cx="651600" cy="525600"/>
              </a:xfrm>
            </p:grpSpPr>
            <p:grpSp>
              <p:nvGrpSpPr>
                <p:cNvPr id="9567" name=""/>
                <p:cNvGrpSpPr/>
                <p:nvPr/>
              </p:nvGrpSpPr>
              <p:grpSpPr>
                <a:xfrm>
                  <a:off x="3409920" y="2550240"/>
                  <a:ext cx="144360" cy="131040"/>
                  <a:chOff x="3409920" y="2550240"/>
                  <a:chExt cx="144360" cy="131040"/>
                </a:xfrm>
              </p:grpSpPr>
              <p:sp>
                <p:nvSpPr>
                  <p:cNvPr id="9568" name=""/>
                  <p:cNvSpPr/>
                  <p:nvPr/>
                </p:nvSpPr>
                <p:spPr>
                  <a:xfrm rot="3815400">
                    <a:off x="3437640" y="2557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9" name=""/>
                  <p:cNvSpPr/>
                  <p:nvPr/>
                </p:nvSpPr>
                <p:spPr>
                  <a:xfrm flipV="1">
                    <a:off x="3455640" y="259236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0" name=""/>
                  <p:cNvSpPr/>
                  <p:nvPr/>
                </p:nvSpPr>
                <p:spPr>
                  <a:xfrm flipV="1">
                    <a:off x="3471480" y="263556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1" name=""/>
                  <p:cNvSpPr/>
                  <p:nvPr/>
                </p:nvSpPr>
                <p:spPr>
                  <a:xfrm flipH="1" flipV="1">
                    <a:off x="3469680" y="260928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2" name=""/>
                  <p:cNvSpPr/>
                  <p:nvPr/>
                </p:nvSpPr>
                <p:spPr>
                  <a:xfrm flipV="1">
                    <a:off x="3484440" y="260532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573" name=""/>
                <p:cNvSpPr/>
                <p:nvPr/>
              </p:nvSpPr>
              <p:spPr>
                <a:xfrm flipH="1">
                  <a:off x="3405240" y="280728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4" name=""/>
                <p:cNvSpPr/>
                <p:nvPr/>
              </p:nvSpPr>
              <p:spPr>
                <a:xfrm>
                  <a:off x="3282120" y="270900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5" name=""/>
                <p:cNvSpPr/>
                <p:nvPr/>
              </p:nvSpPr>
              <p:spPr>
                <a:xfrm flipH="1" flipV="1">
                  <a:off x="3387600" y="261108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6" name=""/>
                <p:cNvSpPr/>
                <p:nvPr/>
              </p:nvSpPr>
              <p:spPr>
                <a:xfrm flipH="1" flipV="1">
                  <a:off x="3599280" y="270864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7" name=""/>
                <p:cNvSpPr/>
                <p:nvPr/>
              </p:nvSpPr>
              <p:spPr>
                <a:xfrm flipH="1">
                  <a:off x="3458160" y="282708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8" name=""/>
                <p:cNvSpPr/>
                <p:nvPr/>
              </p:nvSpPr>
              <p:spPr>
                <a:xfrm flipH="1" flipV="1">
                  <a:off x="3493440" y="278712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9" name=""/>
                <p:cNvSpPr/>
                <p:nvPr/>
              </p:nvSpPr>
              <p:spPr>
                <a:xfrm flipH="1" flipV="1">
                  <a:off x="3352320" y="263052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0" name=""/>
                <p:cNvSpPr/>
                <p:nvPr/>
              </p:nvSpPr>
              <p:spPr>
                <a:xfrm flipV="1">
                  <a:off x="3440520" y="264996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1" name=""/>
                <p:cNvSpPr/>
                <p:nvPr/>
              </p:nvSpPr>
              <p:spPr>
                <a:xfrm flipH="1">
                  <a:off x="3299760" y="272880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2" name=""/>
                <p:cNvSpPr/>
                <p:nvPr/>
              </p:nvSpPr>
              <p:spPr>
                <a:xfrm flipH="1" flipV="1">
                  <a:off x="3528720" y="272880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3" name=""/>
                <p:cNvSpPr/>
                <p:nvPr/>
              </p:nvSpPr>
              <p:spPr>
                <a:xfrm flipH="1" flipV="1">
                  <a:off x="3564000" y="272880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4" name=""/>
                <p:cNvSpPr/>
                <p:nvPr/>
              </p:nvSpPr>
              <p:spPr>
                <a:xfrm flipV="1">
                  <a:off x="3669480" y="278712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5" name=""/>
                <p:cNvSpPr/>
                <p:nvPr/>
              </p:nvSpPr>
              <p:spPr>
                <a:xfrm flipV="1">
                  <a:off x="3616560" y="268920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6" name=""/>
                <p:cNvSpPr/>
                <p:nvPr/>
              </p:nvSpPr>
              <p:spPr>
                <a:xfrm flipH="1">
                  <a:off x="3564000" y="286596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7" name=""/>
                <p:cNvSpPr/>
                <p:nvPr/>
              </p:nvSpPr>
              <p:spPr>
                <a:xfrm flipH="1">
                  <a:off x="3370320" y="274824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8" name=""/>
                <p:cNvSpPr/>
                <p:nvPr/>
              </p:nvSpPr>
              <p:spPr>
                <a:xfrm flipH="1" flipV="1">
                  <a:off x="3299400" y="267012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89" name=""/>
                <p:cNvGrpSpPr/>
                <p:nvPr/>
              </p:nvGrpSpPr>
              <p:grpSpPr>
                <a:xfrm>
                  <a:off x="3325320" y="2482560"/>
                  <a:ext cx="132480" cy="153000"/>
                  <a:chOff x="3325320" y="2482560"/>
                  <a:chExt cx="132480" cy="153000"/>
                </a:xfrm>
              </p:grpSpPr>
              <p:sp>
                <p:nvSpPr>
                  <p:cNvPr id="9590" name=""/>
                  <p:cNvSpPr/>
                  <p:nvPr/>
                </p:nvSpPr>
                <p:spPr>
                  <a:xfrm rot="1745400">
                    <a:off x="3351960" y="24933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1" name=""/>
                  <p:cNvSpPr/>
                  <p:nvPr/>
                </p:nvSpPr>
                <p:spPr>
                  <a:xfrm flipH="1" flipV="1">
                    <a:off x="3388320" y="253404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2" name=""/>
                  <p:cNvSpPr/>
                  <p:nvPr/>
                </p:nvSpPr>
                <p:spPr>
                  <a:xfrm flipV="1">
                    <a:off x="3397320" y="257472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3" name=""/>
                  <p:cNvSpPr/>
                  <p:nvPr/>
                </p:nvSpPr>
                <p:spPr>
                  <a:xfrm flipH="1" flipV="1">
                    <a:off x="3378240" y="256176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4" name=""/>
                  <p:cNvSpPr/>
                  <p:nvPr/>
                </p:nvSpPr>
                <p:spPr>
                  <a:xfrm flipV="1">
                    <a:off x="3393000" y="254448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95" name=""/>
                <p:cNvGrpSpPr/>
                <p:nvPr/>
              </p:nvGrpSpPr>
              <p:grpSpPr>
                <a:xfrm>
                  <a:off x="3382560" y="2679120"/>
                  <a:ext cx="124560" cy="151920"/>
                  <a:chOff x="3382560" y="2679120"/>
                  <a:chExt cx="124560" cy="151920"/>
                </a:xfrm>
              </p:grpSpPr>
              <p:sp>
                <p:nvSpPr>
                  <p:cNvPr id="9596" name=""/>
                  <p:cNvSpPr/>
                  <p:nvPr/>
                </p:nvSpPr>
                <p:spPr>
                  <a:xfrm rot="20187000">
                    <a:off x="3405240" y="2689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7" name=""/>
                  <p:cNvSpPr/>
                  <p:nvPr/>
                </p:nvSpPr>
                <p:spPr>
                  <a:xfrm flipH="1" flipV="1">
                    <a:off x="3422880" y="274248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8" name=""/>
                  <p:cNvSpPr/>
                  <p:nvPr/>
                </p:nvSpPr>
                <p:spPr>
                  <a:xfrm flipH="1" flipV="1">
                    <a:off x="3463200" y="275688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9" name=""/>
                  <p:cNvSpPr/>
                  <p:nvPr/>
                </p:nvSpPr>
                <p:spPr>
                  <a:xfrm flipH="1">
                    <a:off x="3439080" y="27666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0" name=""/>
                  <p:cNvSpPr/>
                  <p:nvPr/>
                </p:nvSpPr>
                <p:spPr>
                  <a:xfrm flipH="1" flipV="1">
                    <a:off x="3435120" y="274392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1" name=""/>
                <p:cNvGrpSpPr/>
                <p:nvPr/>
              </p:nvGrpSpPr>
              <p:grpSpPr>
                <a:xfrm>
                  <a:off x="3458520" y="2611080"/>
                  <a:ext cx="78840" cy="130680"/>
                  <a:chOff x="3458520" y="2611080"/>
                  <a:chExt cx="78840" cy="130680"/>
                </a:xfrm>
              </p:grpSpPr>
              <p:sp>
                <p:nvSpPr>
                  <p:cNvPr id="9602" name=""/>
                  <p:cNvSpPr/>
                  <p:nvPr/>
                </p:nvSpPr>
                <p:spPr>
                  <a:xfrm>
                    <a:off x="3458520" y="26110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3" name=""/>
                  <p:cNvSpPr/>
                  <p:nvPr/>
                </p:nvSpPr>
                <p:spPr>
                  <a:xfrm flipH="1" flipV="1">
                    <a:off x="3482640" y="26564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4" name=""/>
                  <p:cNvSpPr/>
                  <p:nvPr/>
                </p:nvSpPr>
                <p:spPr>
                  <a:xfrm flipH="1" flipV="1">
                    <a:off x="3513960" y="26856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5" name=""/>
                  <p:cNvSpPr/>
                  <p:nvPr/>
                </p:nvSpPr>
                <p:spPr>
                  <a:xfrm flipH="1" flipV="1">
                    <a:off x="3487680" y="26856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6" name=""/>
                  <p:cNvSpPr/>
                  <p:nvPr/>
                </p:nvSpPr>
                <p:spPr>
                  <a:xfrm flipH="1" flipV="1">
                    <a:off x="3493080" y="266220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7" name=""/>
                <p:cNvGrpSpPr/>
                <p:nvPr/>
              </p:nvGrpSpPr>
              <p:grpSpPr>
                <a:xfrm>
                  <a:off x="3294720" y="2838960"/>
                  <a:ext cx="127440" cy="102240"/>
                  <a:chOff x="3294720" y="2838960"/>
                  <a:chExt cx="127440" cy="102240"/>
                </a:xfrm>
              </p:grpSpPr>
              <p:sp>
                <p:nvSpPr>
                  <p:cNvPr id="9608" name=""/>
                  <p:cNvSpPr/>
                  <p:nvPr/>
                </p:nvSpPr>
                <p:spPr>
                  <a:xfrm rot="15769200">
                    <a:off x="3314160" y="2831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9" name=""/>
                  <p:cNvSpPr/>
                  <p:nvPr/>
                </p:nvSpPr>
                <p:spPr>
                  <a:xfrm flipH="1">
                    <a:off x="3342600" y="284400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0" name=""/>
                  <p:cNvSpPr/>
                  <p:nvPr/>
                </p:nvSpPr>
                <p:spPr>
                  <a:xfrm flipH="1">
                    <a:off x="3364200" y="286380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1" name=""/>
                  <p:cNvSpPr/>
                  <p:nvPr/>
                </p:nvSpPr>
                <p:spPr>
                  <a:xfrm flipH="1">
                    <a:off x="3368160" y="288288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2" name=""/>
                  <p:cNvSpPr/>
                  <p:nvPr/>
                </p:nvSpPr>
                <p:spPr>
                  <a:xfrm flipH="1">
                    <a:off x="3346200" y="289008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3" name=""/>
                <p:cNvGrpSpPr/>
                <p:nvPr/>
              </p:nvGrpSpPr>
              <p:grpSpPr>
                <a:xfrm>
                  <a:off x="3229560" y="2552400"/>
                  <a:ext cx="78840" cy="131040"/>
                  <a:chOff x="3229560" y="2552400"/>
                  <a:chExt cx="78840" cy="131040"/>
                </a:xfrm>
              </p:grpSpPr>
              <p:sp>
                <p:nvSpPr>
                  <p:cNvPr id="9614" name=""/>
                  <p:cNvSpPr/>
                  <p:nvPr/>
                </p:nvSpPr>
                <p:spPr>
                  <a:xfrm>
                    <a:off x="3229560" y="2552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5" name=""/>
                  <p:cNvSpPr/>
                  <p:nvPr/>
                </p:nvSpPr>
                <p:spPr>
                  <a:xfrm flipH="1" flipV="1">
                    <a:off x="3253680" y="259776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6" name=""/>
                  <p:cNvSpPr/>
                  <p:nvPr/>
                </p:nvSpPr>
                <p:spPr>
                  <a:xfrm flipH="1" flipV="1">
                    <a:off x="3285000" y="262692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7" name=""/>
                  <p:cNvSpPr/>
                  <p:nvPr/>
                </p:nvSpPr>
                <p:spPr>
                  <a:xfrm flipH="1" flipV="1">
                    <a:off x="3258720" y="262692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8" name=""/>
                  <p:cNvSpPr/>
                  <p:nvPr/>
                </p:nvSpPr>
                <p:spPr>
                  <a:xfrm flipH="1" flipV="1">
                    <a:off x="3264120" y="26038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19" name=""/>
                <p:cNvGrpSpPr/>
                <p:nvPr/>
              </p:nvGrpSpPr>
              <p:grpSpPr>
                <a:xfrm>
                  <a:off x="3528720" y="2591280"/>
                  <a:ext cx="78840" cy="131040"/>
                  <a:chOff x="3528720" y="2591280"/>
                  <a:chExt cx="78840" cy="131040"/>
                </a:xfrm>
              </p:grpSpPr>
              <p:sp>
                <p:nvSpPr>
                  <p:cNvPr id="9620" name=""/>
                  <p:cNvSpPr/>
                  <p:nvPr/>
                </p:nvSpPr>
                <p:spPr>
                  <a:xfrm>
                    <a:off x="3528720" y="2591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1" name=""/>
                  <p:cNvSpPr/>
                  <p:nvPr/>
                </p:nvSpPr>
                <p:spPr>
                  <a:xfrm flipH="1" flipV="1">
                    <a:off x="3552840" y="26366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2" name=""/>
                  <p:cNvSpPr/>
                  <p:nvPr/>
                </p:nvSpPr>
                <p:spPr>
                  <a:xfrm flipH="1" flipV="1">
                    <a:off x="3584160" y="26658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3" name=""/>
                  <p:cNvSpPr/>
                  <p:nvPr/>
                </p:nvSpPr>
                <p:spPr>
                  <a:xfrm flipH="1" flipV="1">
                    <a:off x="3557880" y="26658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4" name=""/>
                  <p:cNvSpPr/>
                  <p:nvPr/>
                </p:nvSpPr>
                <p:spPr>
                  <a:xfrm flipH="1" flipV="1">
                    <a:off x="3563280" y="26427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5" name=""/>
                <p:cNvGrpSpPr/>
                <p:nvPr/>
              </p:nvGrpSpPr>
              <p:grpSpPr>
                <a:xfrm>
                  <a:off x="3282120" y="2513160"/>
                  <a:ext cx="78840" cy="130680"/>
                  <a:chOff x="3282120" y="2513160"/>
                  <a:chExt cx="78840" cy="130680"/>
                </a:xfrm>
              </p:grpSpPr>
              <p:sp>
                <p:nvSpPr>
                  <p:cNvPr id="9626" name=""/>
                  <p:cNvSpPr/>
                  <p:nvPr/>
                </p:nvSpPr>
                <p:spPr>
                  <a:xfrm>
                    <a:off x="3282120" y="25131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7" name=""/>
                  <p:cNvSpPr/>
                  <p:nvPr/>
                </p:nvSpPr>
                <p:spPr>
                  <a:xfrm flipH="1" flipV="1">
                    <a:off x="3306240" y="25585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8" name=""/>
                  <p:cNvSpPr/>
                  <p:nvPr/>
                </p:nvSpPr>
                <p:spPr>
                  <a:xfrm flipH="1" flipV="1">
                    <a:off x="3337560" y="25876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9" name=""/>
                  <p:cNvSpPr/>
                  <p:nvPr/>
                </p:nvSpPr>
                <p:spPr>
                  <a:xfrm flipH="1" flipV="1">
                    <a:off x="3311280" y="25876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0" name=""/>
                  <p:cNvSpPr/>
                  <p:nvPr/>
                </p:nvSpPr>
                <p:spPr>
                  <a:xfrm flipH="1" flipV="1">
                    <a:off x="3316680" y="25642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1" name=""/>
                <p:cNvGrpSpPr/>
                <p:nvPr/>
              </p:nvGrpSpPr>
              <p:grpSpPr>
                <a:xfrm>
                  <a:off x="3448440" y="2890440"/>
                  <a:ext cx="137520" cy="117720"/>
                  <a:chOff x="3448440" y="2890440"/>
                  <a:chExt cx="137520" cy="117720"/>
                </a:xfrm>
              </p:grpSpPr>
              <p:sp>
                <p:nvSpPr>
                  <p:cNvPr id="9632" name=""/>
                  <p:cNvSpPr/>
                  <p:nvPr/>
                </p:nvSpPr>
                <p:spPr>
                  <a:xfrm rot="15198000">
                    <a:off x="3473280" y="28904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3" name=""/>
                  <p:cNvSpPr/>
                  <p:nvPr/>
                </p:nvSpPr>
                <p:spPr>
                  <a:xfrm flipH="1">
                    <a:off x="3504960" y="289584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4" name=""/>
                  <p:cNvSpPr/>
                  <p:nvPr/>
                </p:nvSpPr>
                <p:spPr>
                  <a:xfrm flipH="1">
                    <a:off x="3519720" y="291960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5" name=""/>
                  <p:cNvSpPr/>
                  <p:nvPr/>
                </p:nvSpPr>
                <p:spPr>
                  <a:xfrm>
                    <a:off x="3528360" y="293940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6" name=""/>
                  <p:cNvSpPr/>
                  <p:nvPr/>
                </p:nvSpPr>
                <p:spPr>
                  <a:xfrm flipH="1">
                    <a:off x="3506400" y="295020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7" name=""/>
                <p:cNvGrpSpPr/>
                <p:nvPr/>
              </p:nvGrpSpPr>
              <p:grpSpPr>
                <a:xfrm>
                  <a:off x="3355920" y="2861640"/>
                  <a:ext cx="145800" cy="135720"/>
                  <a:chOff x="3355920" y="2861640"/>
                  <a:chExt cx="145800" cy="135720"/>
                </a:xfrm>
              </p:grpSpPr>
              <p:sp>
                <p:nvSpPr>
                  <p:cNvPr id="9638" name=""/>
                  <p:cNvSpPr/>
                  <p:nvPr/>
                </p:nvSpPr>
                <p:spPr>
                  <a:xfrm rot="14358600">
                    <a:off x="3384720" y="28706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9" name=""/>
                  <p:cNvSpPr/>
                  <p:nvPr/>
                </p:nvSpPr>
                <p:spPr>
                  <a:xfrm flipH="1">
                    <a:off x="3422520" y="286920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0" name=""/>
                  <p:cNvSpPr/>
                  <p:nvPr/>
                </p:nvSpPr>
                <p:spPr>
                  <a:xfrm flipH="1">
                    <a:off x="3426480" y="289728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1" name=""/>
                  <p:cNvSpPr/>
                  <p:nvPr/>
                </p:nvSpPr>
                <p:spPr>
                  <a:xfrm>
                    <a:off x="3437280" y="291744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2" name=""/>
                  <p:cNvSpPr/>
                  <p:nvPr/>
                </p:nvSpPr>
                <p:spPr>
                  <a:xfrm flipH="1">
                    <a:off x="3420360" y="29304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3" name=""/>
                <p:cNvGrpSpPr/>
                <p:nvPr/>
              </p:nvGrpSpPr>
              <p:grpSpPr>
                <a:xfrm>
                  <a:off x="3174840" y="2705760"/>
                  <a:ext cx="122040" cy="94320"/>
                  <a:chOff x="3174840" y="2705760"/>
                  <a:chExt cx="122040" cy="94320"/>
                </a:xfrm>
              </p:grpSpPr>
              <p:sp>
                <p:nvSpPr>
                  <p:cNvPr id="9644" name=""/>
                  <p:cNvSpPr/>
                  <p:nvPr/>
                </p:nvSpPr>
                <p:spPr>
                  <a:xfrm rot="16010400">
                    <a:off x="3191760" y="26942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5" name=""/>
                  <p:cNvSpPr/>
                  <p:nvPr/>
                </p:nvSpPr>
                <p:spPr>
                  <a:xfrm flipH="1">
                    <a:off x="3218760" y="270972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6" name=""/>
                  <p:cNvSpPr/>
                  <p:nvPr/>
                </p:nvSpPr>
                <p:spPr>
                  <a:xfrm flipH="1">
                    <a:off x="3242520" y="27280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7" name=""/>
                  <p:cNvSpPr/>
                  <p:nvPr/>
                </p:nvSpPr>
                <p:spPr>
                  <a:xfrm flipH="1">
                    <a:off x="3244680" y="274608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8" name=""/>
                  <p:cNvSpPr/>
                  <p:nvPr/>
                </p:nvSpPr>
                <p:spPr>
                  <a:xfrm flipH="1">
                    <a:off x="3223080" y="275328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49" name=""/>
                <p:cNvGrpSpPr/>
                <p:nvPr/>
              </p:nvGrpSpPr>
              <p:grpSpPr>
                <a:xfrm>
                  <a:off x="3181680" y="2768400"/>
                  <a:ext cx="141840" cy="125640"/>
                  <a:chOff x="3181680" y="2768400"/>
                  <a:chExt cx="141840" cy="125640"/>
                </a:xfrm>
              </p:grpSpPr>
              <p:sp>
                <p:nvSpPr>
                  <p:cNvPr id="9650" name=""/>
                  <p:cNvSpPr/>
                  <p:nvPr/>
                </p:nvSpPr>
                <p:spPr>
                  <a:xfrm rot="14881800">
                    <a:off x="3208320" y="2772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1" name=""/>
                  <p:cNvSpPr/>
                  <p:nvPr/>
                </p:nvSpPr>
                <p:spPr>
                  <a:xfrm flipH="1">
                    <a:off x="3242880" y="277524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2" name=""/>
                  <p:cNvSpPr/>
                  <p:nvPr/>
                </p:nvSpPr>
                <p:spPr>
                  <a:xfrm flipH="1">
                    <a:off x="3253680" y="2800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3" name=""/>
                  <p:cNvSpPr/>
                  <p:nvPr/>
                </p:nvSpPr>
                <p:spPr>
                  <a:xfrm>
                    <a:off x="3263040" y="282060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4" name=""/>
                  <p:cNvSpPr/>
                  <p:nvPr/>
                </p:nvSpPr>
                <p:spPr>
                  <a:xfrm flipH="1">
                    <a:off x="3242880" y="283176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5" name=""/>
                <p:cNvGrpSpPr/>
                <p:nvPr/>
              </p:nvGrpSpPr>
              <p:grpSpPr>
                <a:xfrm>
                  <a:off x="3273480" y="2755440"/>
                  <a:ext cx="134280" cy="112320"/>
                  <a:chOff x="3273480" y="2755440"/>
                  <a:chExt cx="134280" cy="112320"/>
                </a:xfrm>
              </p:grpSpPr>
              <p:sp>
                <p:nvSpPr>
                  <p:cNvPr id="9656" name=""/>
                  <p:cNvSpPr/>
                  <p:nvPr/>
                </p:nvSpPr>
                <p:spPr>
                  <a:xfrm rot="15401400">
                    <a:off x="3296520" y="27525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7" name=""/>
                  <p:cNvSpPr/>
                  <p:nvPr/>
                </p:nvSpPr>
                <p:spPr>
                  <a:xfrm flipH="1">
                    <a:off x="3327120" y="276048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8" name=""/>
                  <p:cNvSpPr/>
                  <p:nvPr/>
                </p:nvSpPr>
                <p:spPr>
                  <a:xfrm flipH="1">
                    <a:off x="3344400" y="278316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9" name=""/>
                  <p:cNvSpPr/>
                  <p:nvPr/>
                </p:nvSpPr>
                <p:spPr>
                  <a:xfrm flipH="1">
                    <a:off x="3351600" y="280260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0" name=""/>
                  <p:cNvSpPr/>
                  <p:nvPr/>
                </p:nvSpPr>
                <p:spPr>
                  <a:xfrm flipH="1">
                    <a:off x="3329640" y="281268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61" name=""/>
                <p:cNvGrpSpPr/>
                <p:nvPr/>
              </p:nvGrpSpPr>
              <p:grpSpPr>
                <a:xfrm>
                  <a:off x="3238560" y="2618640"/>
                  <a:ext cx="134280" cy="112320"/>
                  <a:chOff x="3238560" y="2618640"/>
                  <a:chExt cx="134280" cy="112320"/>
                </a:xfrm>
              </p:grpSpPr>
              <p:sp>
                <p:nvSpPr>
                  <p:cNvPr id="9662" name=""/>
                  <p:cNvSpPr/>
                  <p:nvPr/>
                </p:nvSpPr>
                <p:spPr>
                  <a:xfrm rot="16985400">
                    <a:off x="3261600" y="26161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3" name=""/>
                  <p:cNvSpPr/>
                  <p:nvPr/>
                </p:nvSpPr>
                <p:spPr>
                  <a:xfrm flipH="1">
                    <a:off x="3283920" y="264636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4" name=""/>
                  <p:cNvSpPr/>
                  <p:nvPr/>
                </p:nvSpPr>
                <p:spPr>
                  <a:xfrm flipH="1">
                    <a:off x="3317400" y="265680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5" name=""/>
                  <p:cNvSpPr/>
                  <p:nvPr/>
                </p:nvSpPr>
                <p:spPr>
                  <a:xfrm flipH="1">
                    <a:off x="3310920" y="267192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6" name=""/>
                  <p:cNvSpPr/>
                  <p:nvPr/>
                </p:nvSpPr>
                <p:spPr>
                  <a:xfrm flipH="1">
                    <a:off x="3291480" y="267444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67" name=""/>
                <p:cNvGrpSpPr/>
                <p:nvPr/>
              </p:nvGrpSpPr>
              <p:grpSpPr>
                <a:xfrm>
                  <a:off x="3424680" y="2640600"/>
                  <a:ext cx="146520" cy="149760"/>
                  <a:chOff x="3424680" y="2640600"/>
                  <a:chExt cx="146520" cy="149760"/>
                </a:xfrm>
              </p:grpSpPr>
              <p:sp>
                <p:nvSpPr>
                  <p:cNvPr id="9668" name=""/>
                  <p:cNvSpPr/>
                  <p:nvPr/>
                </p:nvSpPr>
                <p:spPr>
                  <a:xfrm rot="19036200">
                    <a:off x="3458520" y="26499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9" name=""/>
                  <p:cNvSpPr/>
                  <p:nvPr/>
                </p:nvSpPr>
                <p:spPr>
                  <a:xfrm flipH="1" flipV="1">
                    <a:off x="3473280" y="271116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0" name=""/>
                  <p:cNvSpPr/>
                  <p:nvPr/>
                </p:nvSpPr>
                <p:spPr>
                  <a:xfrm flipH="1" flipV="1">
                    <a:off x="3516120" y="271152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1" name=""/>
                  <p:cNvSpPr/>
                  <p:nvPr/>
                </p:nvSpPr>
                <p:spPr>
                  <a:xfrm flipH="1">
                    <a:off x="3496680" y="2723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2" name=""/>
                  <p:cNvSpPr/>
                  <p:nvPr/>
                </p:nvSpPr>
                <p:spPr>
                  <a:xfrm flipH="1" flipV="1">
                    <a:off x="3484800" y="270828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3" name=""/>
                <p:cNvGrpSpPr/>
                <p:nvPr/>
              </p:nvGrpSpPr>
              <p:grpSpPr>
                <a:xfrm>
                  <a:off x="3588120" y="2574360"/>
                  <a:ext cx="140040" cy="122400"/>
                  <a:chOff x="3588120" y="2574360"/>
                  <a:chExt cx="140040" cy="122400"/>
                </a:xfrm>
              </p:grpSpPr>
              <p:sp>
                <p:nvSpPr>
                  <p:cNvPr id="9674" name=""/>
                  <p:cNvSpPr/>
                  <p:nvPr/>
                </p:nvSpPr>
                <p:spPr>
                  <a:xfrm rot="4233000">
                    <a:off x="3613680" y="2576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5" name=""/>
                  <p:cNvSpPr/>
                  <p:nvPr/>
                </p:nvSpPr>
                <p:spPr>
                  <a:xfrm flipV="1">
                    <a:off x="3624840" y="261288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6" name=""/>
                  <p:cNvSpPr/>
                  <p:nvPr/>
                </p:nvSpPr>
                <p:spPr>
                  <a:xfrm flipV="1">
                    <a:off x="3643920" y="265464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7" name=""/>
                  <p:cNvSpPr/>
                  <p:nvPr/>
                </p:nvSpPr>
                <p:spPr>
                  <a:xfrm flipH="1" flipV="1">
                    <a:off x="3646440" y="262728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8" name=""/>
                  <p:cNvSpPr/>
                  <p:nvPr/>
                </p:nvSpPr>
                <p:spPr>
                  <a:xfrm flipV="1">
                    <a:off x="3660480" y="26262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79" name=""/>
                <p:cNvGrpSpPr/>
                <p:nvPr/>
              </p:nvGrpSpPr>
              <p:grpSpPr>
                <a:xfrm>
                  <a:off x="3659040" y="2674080"/>
                  <a:ext cx="138240" cy="119160"/>
                  <a:chOff x="3659040" y="2674080"/>
                  <a:chExt cx="138240" cy="119160"/>
                </a:xfrm>
              </p:grpSpPr>
              <p:sp>
                <p:nvSpPr>
                  <p:cNvPr id="9680" name=""/>
                  <p:cNvSpPr/>
                  <p:nvPr/>
                </p:nvSpPr>
                <p:spPr>
                  <a:xfrm rot="4353000">
                    <a:off x="3683880" y="2674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1" name=""/>
                  <p:cNvSpPr/>
                  <p:nvPr/>
                </p:nvSpPr>
                <p:spPr>
                  <a:xfrm flipV="1">
                    <a:off x="3692880" y="271152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2" name=""/>
                  <p:cNvSpPr/>
                  <p:nvPr/>
                </p:nvSpPr>
                <p:spPr>
                  <a:xfrm flipV="1">
                    <a:off x="3713040" y="275292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3" name=""/>
                  <p:cNvSpPr/>
                  <p:nvPr/>
                </p:nvSpPr>
                <p:spPr>
                  <a:xfrm flipH="1" flipV="1">
                    <a:off x="3717000" y="272520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4" name=""/>
                  <p:cNvSpPr/>
                  <p:nvPr/>
                </p:nvSpPr>
                <p:spPr>
                  <a:xfrm flipV="1">
                    <a:off x="3730680" y="272484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5" name=""/>
                <p:cNvGrpSpPr/>
                <p:nvPr/>
              </p:nvGrpSpPr>
              <p:grpSpPr>
                <a:xfrm>
                  <a:off x="3428280" y="2776680"/>
                  <a:ext cx="139320" cy="152640"/>
                  <a:chOff x="3428280" y="2776680"/>
                  <a:chExt cx="139320" cy="152640"/>
                </a:xfrm>
              </p:grpSpPr>
              <p:sp>
                <p:nvSpPr>
                  <p:cNvPr id="9686" name=""/>
                  <p:cNvSpPr/>
                  <p:nvPr/>
                </p:nvSpPr>
                <p:spPr>
                  <a:xfrm rot="19525800">
                    <a:off x="3458160" y="2787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7" name=""/>
                  <p:cNvSpPr/>
                  <p:nvPr/>
                </p:nvSpPr>
                <p:spPr>
                  <a:xfrm flipH="1" flipV="1">
                    <a:off x="3474000" y="284508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8" name=""/>
                  <p:cNvSpPr/>
                  <p:nvPr/>
                </p:nvSpPr>
                <p:spPr>
                  <a:xfrm flipH="1" flipV="1">
                    <a:off x="3516120" y="285120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9" name=""/>
                  <p:cNvSpPr/>
                  <p:nvPr/>
                </p:nvSpPr>
                <p:spPr>
                  <a:xfrm flipH="1">
                    <a:off x="3494520" y="28620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0" name=""/>
                  <p:cNvSpPr/>
                  <p:nvPr/>
                </p:nvSpPr>
                <p:spPr>
                  <a:xfrm flipH="1" flipV="1">
                    <a:off x="3485880" y="284400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1" name=""/>
                <p:cNvGrpSpPr/>
                <p:nvPr/>
              </p:nvGrpSpPr>
              <p:grpSpPr>
                <a:xfrm>
                  <a:off x="3285720" y="2758680"/>
                  <a:ext cx="145440" cy="145440"/>
                  <a:chOff x="3285720" y="2758680"/>
                  <a:chExt cx="145440" cy="145440"/>
                </a:xfrm>
              </p:grpSpPr>
              <p:sp>
                <p:nvSpPr>
                  <p:cNvPr id="9692" name=""/>
                  <p:cNvSpPr/>
                  <p:nvPr/>
                </p:nvSpPr>
                <p:spPr>
                  <a:xfrm rot="18890400">
                    <a:off x="3314160" y="27727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3" name=""/>
                  <p:cNvSpPr/>
                  <p:nvPr/>
                </p:nvSpPr>
                <p:spPr>
                  <a:xfrm flipH="1" flipV="1">
                    <a:off x="3333600" y="283104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4" name=""/>
                  <p:cNvSpPr/>
                  <p:nvPr/>
                </p:nvSpPr>
                <p:spPr>
                  <a:xfrm flipH="1" flipV="1">
                    <a:off x="3376800" y="28242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5" name=""/>
                  <p:cNvSpPr/>
                  <p:nvPr/>
                </p:nvSpPr>
                <p:spPr>
                  <a:xfrm flipH="1">
                    <a:off x="3356280" y="283644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6" name=""/>
                  <p:cNvSpPr/>
                  <p:nvPr/>
                </p:nvSpPr>
                <p:spPr>
                  <a:xfrm flipH="1" flipV="1">
                    <a:off x="3345840" y="282600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7" name=""/>
                <p:cNvGrpSpPr/>
                <p:nvPr/>
              </p:nvGrpSpPr>
              <p:grpSpPr>
                <a:xfrm>
                  <a:off x="3162600" y="2680920"/>
                  <a:ext cx="145800" cy="144000"/>
                  <a:chOff x="3162600" y="2680920"/>
                  <a:chExt cx="145800" cy="144000"/>
                </a:xfrm>
              </p:grpSpPr>
              <p:sp>
                <p:nvSpPr>
                  <p:cNvPr id="9698" name=""/>
                  <p:cNvSpPr/>
                  <p:nvPr/>
                </p:nvSpPr>
                <p:spPr>
                  <a:xfrm rot="18730200">
                    <a:off x="3191400" y="26942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9" name=""/>
                  <p:cNvSpPr/>
                  <p:nvPr/>
                </p:nvSpPr>
                <p:spPr>
                  <a:xfrm flipH="1" flipV="1">
                    <a:off x="3210840" y="275364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0" name=""/>
                  <p:cNvSpPr/>
                  <p:nvPr/>
                </p:nvSpPr>
                <p:spPr>
                  <a:xfrm flipH="1" flipV="1">
                    <a:off x="3253680" y="274500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1" name=""/>
                  <p:cNvSpPr/>
                  <p:nvPr/>
                </p:nvSpPr>
                <p:spPr>
                  <a:xfrm flipH="1">
                    <a:off x="3234240" y="275724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2" name=""/>
                  <p:cNvSpPr/>
                  <p:nvPr/>
                </p:nvSpPr>
                <p:spPr>
                  <a:xfrm flipH="1" flipV="1">
                    <a:off x="3222360" y="274860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3" name=""/>
                <p:cNvGrpSpPr/>
                <p:nvPr/>
              </p:nvGrpSpPr>
              <p:grpSpPr>
                <a:xfrm>
                  <a:off x="3145680" y="2600280"/>
                  <a:ext cx="141840" cy="151920"/>
                  <a:chOff x="3145680" y="2600280"/>
                  <a:chExt cx="141840" cy="151920"/>
                </a:xfrm>
              </p:grpSpPr>
              <p:sp>
                <p:nvSpPr>
                  <p:cNvPr id="9704" name=""/>
                  <p:cNvSpPr/>
                  <p:nvPr/>
                </p:nvSpPr>
                <p:spPr>
                  <a:xfrm rot="19362600">
                    <a:off x="3177000" y="26107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5" name=""/>
                  <p:cNvSpPr/>
                  <p:nvPr/>
                </p:nvSpPr>
                <p:spPr>
                  <a:xfrm flipH="1" flipV="1">
                    <a:off x="3192120" y="266976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6" name=""/>
                  <p:cNvSpPr/>
                  <p:nvPr/>
                </p:nvSpPr>
                <p:spPr>
                  <a:xfrm flipH="1" flipV="1">
                    <a:off x="3234960" y="267372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7" name=""/>
                  <p:cNvSpPr/>
                  <p:nvPr/>
                </p:nvSpPr>
                <p:spPr>
                  <a:xfrm flipH="1">
                    <a:off x="3213720" y="26848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8" name=""/>
                  <p:cNvSpPr/>
                  <p:nvPr/>
                </p:nvSpPr>
                <p:spPr>
                  <a:xfrm flipH="1" flipV="1">
                    <a:off x="3204000" y="266796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09" name=""/>
              <p:cNvGrpSpPr/>
              <p:nvPr/>
            </p:nvGrpSpPr>
            <p:grpSpPr>
              <a:xfrm>
                <a:off x="3828240" y="1331280"/>
                <a:ext cx="609840" cy="637200"/>
                <a:chOff x="3828240" y="1331280"/>
                <a:chExt cx="609840" cy="637200"/>
              </a:xfrm>
            </p:grpSpPr>
            <p:grpSp>
              <p:nvGrpSpPr>
                <p:cNvPr id="9710" name=""/>
                <p:cNvGrpSpPr/>
                <p:nvPr/>
              </p:nvGrpSpPr>
              <p:grpSpPr>
                <a:xfrm>
                  <a:off x="4188960" y="1653120"/>
                  <a:ext cx="93960" cy="139680"/>
                  <a:chOff x="4188960" y="1653120"/>
                  <a:chExt cx="93960" cy="139680"/>
                </a:xfrm>
              </p:grpSpPr>
              <p:sp>
                <p:nvSpPr>
                  <p:cNvPr id="9711" name=""/>
                  <p:cNvSpPr/>
                  <p:nvPr/>
                </p:nvSpPr>
                <p:spPr>
                  <a:xfrm rot="11212800">
                    <a:off x="4196160" y="1657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2" name=""/>
                  <p:cNvSpPr/>
                  <p:nvPr/>
                </p:nvSpPr>
                <p:spPr>
                  <a:xfrm>
                    <a:off x="4206240" y="1663200"/>
                    <a:ext cx="4248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3" name=""/>
                  <p:cNvSpPr/>
                  <p:nvPr/>
                </p:nvSpPr>
                <p:spPr>
                  <a:xfrm>
                    <a:off x="4218120" y="169416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4" name=""/>
                  <p:cNvSpPr/>
                  <p:nvPr/>
                </p:nvSpPr>
                <p:spPr>
                  <a:xfrm>
                    <a:off x="4232520" y="170748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5" name=""/>
                  <p:cNvSpPr/>
                  <p:nvPr/>
                </p:nvSpPr>
                <p:spPr>
                  <a:xfrm>
                    <a:off x="4235400" y="172512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16" name=""/>
                <p:cNvSpPr/>
                <p:nvPr/>
              </p:nvSpPr>
              <p:spPr>
                <a:xfrm flipV="1">
                  <a:off x="4031280" y="1537920"/>
                  <a:ext cx="78840" cy="18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7" name=""/>
                <p:cNvSpPr/>
                <p:nvPr/>
              </p:nvSpPr>
              <p:spPr>
                <a:xfrm rot="7397400">
                  <a:off x="3812760" y="151920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8" name=""/>
                <p:cNvSpPr/>
                <p:nvPr/>
              </p:nvSpPr>
              <p:spPr>
                <a:xfrm>
                  <a:off x="4151520" y="1635480"/>
                  <a:ext cx="145800" cy="1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9" name=""/>
                <p:cNvSpPr/>
                <p:nvPr/>
              </p:nvSpPr>
              <p:spPr>
                <a:xfrm>
                  <a:off x="3853800" y="1769760"/>
                  <a:ext cx="2408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0" name=""/>
                <p:cNvSpPr/>
                <p:nvPr/>
              </p:nvSpPr>
              <p:spPr>
                <a:xfrm flipH="1" flipV="1">
                  <a:off x="4063320" y="1577880"/>
                  <a:ext cx="756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1" name=""/>
                <p:cNvSpPr/>
                <p:nvPr/>
              </p:nvSpPr>
              <p:spPr>
                <a:xfrm flipV="1">
                  <a:off x="4053960" y="1648800"/>
                  <a:ext cx="4680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2" name=""/>
                <p:cNvSpPr/>
                <p:nvPr/>
              </p:nvSpPr>
              <p:spPr>
                <a:xfrm flipV="1">
                  <a:off x="4217040" y="1594080"/>
                  <a:ext cx="87120" cy="37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3" name=""/>
                <p:cNvSpPr/>
                <p:nvPr/>
              </p:nvSpPr>
              <p:spPr>
                <a:xfrm>
                  <a:off x="4191480" y="1638360"/>
                  <a:ext cx="33120" cy="45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4" name=""/>
                <p:cNvSpPr/>
                <p:nvPr/>
              </p:nvSpPr>
              <p:spPr>
                <a:xfrm flipV="1">
                  <a:off x="4230720" y="1477440"/>
                  <a:ext cx="3240" cy="68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5" name=""/>
                <p:cNvSpPr/>
                <p:nvPr/>
              </p:nvSpPr>
              <p:spPr>
                <a:xfrm flipV="1">
                  <a:off x="3973680" y="1710720"/>
                  <a:ext cx="14904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6" name=""/>
                <p:cNvSpPr/>
                <p:nvPr/>
              </p:nvSpPr>
              <p:spPr>
                <a:xfrm>
                  <a:off x="4061520" y="1740960"/>
                  <a:ext cx="3960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7" name=""/>
                <p:cNvSpPr/>
                <p:nvPr/>
              </p:nvSpPr>
              <p:spPr>
                <a:xfrm>
                  <a:off x="3933720" y="1775160"/>
                  <a:ext cx="47880" cy="54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8" name=""/>
                <p:cNvSpPr/>
                <p:nvPr/>
              </p:nvSpPr>
              <p:spPr>
                <a:xfrm>
                  <a:off x="4054320" y="1783440"/>
                  <a:ext cx="43920" cy="28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9" name=""/>
                <p:cNvSpPr/>
                <p:nvPr/>
              </p:nvSpPr>
              <p:spPr>
                <a:xfrm flipV="1">
                  <a:off x="3955680" y="1666080"/>
                  <a:ext cx="2808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0" name=""/>
                <p:cNvSpPr/>
                <p:nvPr/>
              </p:nvSpPr>
              <p:spPr>
                <a:xfrm flipV="1">
                  <a:off x="4173120" y="154368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1" name=""/>
                <p:cNvSpPr/>
                <p:nvPr/>
              </p:nvSpPr>
              <p:spPr>
                <a:xfrm>
                  <a:off x="4267080" y="1523160"/>
                  <a:ext cx="3996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32" name=""/>
                <p:cNvGrpSpPr/>
                <p:nvPr/>
              </p:nvGrpSpPr>
              <p:grpSpPr>
                <a:xfrm>
                  <a:off x="4267440" y="1594080"/>
                  <a:ext cx="132480" cy="145080"/>
                  <a:chOff x="4267440" y="1594080"/>
                  <a:chExt cx="132480" cy="145080"/>
                </a:xfrm>
              </p:grpSpPr>
              <p:sp>
                <p:nvSpPr>
                  <p:cNvPr id="9733" name=""/>
                  <p:cNvSpPr/>
                  <p:nvPr/>
                </p:nvSpPr>
                <p:spPr>
                  <a:xfrm rot="9142800">
                    <a:off x="4289400" y="16077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4" name=""/>
                  <p:cNvSpPr/>
                  <p:nvPr/>
                </p:nvSpPr>
                <p:spPr>
                  <a:xfrm>
                    <a:off x="4274640" y="1641240"/>
                    <a:ext cx="82800" cy="33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5" name=""/>
                  <p:cNvSpPr/>
                  <p:nvPr/>
                </p:nvSpPr>
                <p:spPr>
                  <a:xfrm>
                    <a:off x="4302000" y="165672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6" name=""/>
                  <p:cNvSpPr/>
                  <p:nvPr/>
                </p:nvSpPr>
                <p:spPr>
                  <a:xfrm flipV="1">
                    <a:off x="4322160" y="1653840"/>
                    <a:ext cx="17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7" name=""/>
                  <p:cNvSpPr/>
                  <p:nvPr/>
                </p:nvSpPr>
                <p:spPr>
                  <a:xfrm>
                    <a:off x="4334400" y="1668960"/>
                    <a:ext cx="97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8" name=""/>
                <p:cNvGrpSpPr/>
                <p:nvPr/>
              </p:nvGrpSpPr>
              <p:grpSpPr>
                <a:xfrm>
                  <a:off x="4088880" y="1566360"/>
                  <a:ext cx="130680" cy="106560"/>
                  <a:chOff x="4088880" y="1566360"/>
                  <a:chExt cx="130680" cy="106560"/>
                </a:xfrm>
              </p:grpSpPr>
              <p:sp>
                <p:nvSpPr>
                  <p:cNvPr id="9739" name=""/>
                  <p:cNvSpPr/>
                  <p:nvPr/>
                </p:nvSpPr>
                <p:spPr>
                  <a:xfrm rot="5984400">
                    <a:off x="4110120" y="1560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0" name=""/>
                  <p:cNvSpPr/>
                  <p:nvPr/>
                </p:nvSpPr>
                <p:spPr>
                  <a:xfrm flipV="1">
                    <a:off x="4098600" y="1605600"/>
                    <a:ext cx="76320" cy="45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1" name=""/>
                  <p:cNvSpPr/>
                  <p:nvPr/>
                </p:nvSpPr>
                <p:spPr>
                  <a:xfrm flipV="1">
                    <a:off x="4127400" y="163620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2" name=""/>
                  <p:cNvSpPr/>
                  <p:nvPr/>
                </p:nvSpPr>
                <p:spPr>
                  <a:xfrm flipV="1">
                    <a:off x="4140360" y="1607400"/>
                    <a:ext cx="75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3" name=""/>
                  <p:cNvSpPr/>
                  <p:nvPr/>
                </p:nvSpPr>
                <p:spPr>
                  <a:xfrm flipV="1">
                    <a:off x="4156560" y="1616760"/>
                    <a:ext cx="115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4" name=""/>
                <p:cNvGrpSpPr/>
                <p:nvPr/>
              </p:nvGrpSpPr>
              <p:grpSpPr>
                <a:xfrm>
                  <a:off x="4107600" y="1639080"/>
                  <a:ext cx="146160" cy="137880"/>
                  <a:chOff x="4107600" y="1639080"/>
                  <a:chExt cx="146160" cy="137880"/>
                </a:xfrm>
              </p:grpSpPr>
              <p:sp>
                <p:nvSpPr>
                  <p:cNvPr id="9745" name=""/>
                  <p:cNvSpPr/>
                  <p:nvPr/>
                </p:nvSpPr>
                <p:spPr>
                  <a:xfrm rot="7397400">
                    <a:off x="4136400" y="164916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6" name=""/>
                  <p:cNvSpPr/>
                  <p:nvPr/>
                </p:nvSpPr>
                <p:spPr>
                  <a:xfrm flipV="1">
                    <a:off x="4116600" y="1702800"/>
                    <a:ext cx="885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7" name=""/>
                  <p:cNvSpPr/>
                  <p:nvPr/>
                </p:nvSpPr>
                <p:spPr>
                  <a:xfrm>
                    <a:off x="4148280" y="171468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8" name=""/>
                  <p:cNvSpPr/>
                  <p:nvPr/>
                </p:nvSpPr>
                <p:spPr>
                  <a:xfrm flipV="1">
                    <a:off x="4166280" y="1693800"/>
                    <a:ext cx="13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9" name=""/>
                  <p:cNvSpPr/>
                  <p:nvPr/>
                </p:nvSpPr>
                <p:spPr>
                  <a:xfrm>
                    <a:off x="4182480" y="17096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0" name=""/>
                <p:cNvGrpSpPr/>
                <p:nvPr/>
              </p:nvGrpSpPr>
              <p:grpSpPr>
                <a:xfrm>
                  <a:off x="4041720" y="1396080"/>
                  <a:ext cx="128520" cy="152280"/>
                  <a:chOff x="4041720" y="1396080"/>
                  <a:chExt cx="128520" cy="152280"/>
                </a:xfrm>
              </p:grpSpPr>
              <p:sp>
                <p:nvSpPr>
                  <p:cNvPr id="9751" name=""/>
                  <p:cNvSpPr/>
                  <p:nvPr/>
                </p:nvSpPr>
                <p:spPr>
                  <a:xfrm rot="1566600">
                    <a:off x="4066200" y="1406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2" name=""/>
                  <p:cNvSpPr/>
                  <p:nvPr/>
                </p:nvSpPr>
                <p:spPr>
                  <a:xfrm flipH="1" flipV="1">
                    <a:off x="4101120" y="1447560"/>
                    <a:ext cx="1332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3" name=""/>
                  <p:cNvSpPr/>
                  <p:nvPr/>
                </p:nvSpPr>
                <p:spPr>
                  <a:xfrm flipV="1">
                    <a:off x="4113360" y="1487520"/>
                    <a:ext cx="32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4" name=""/>
                  <p:cNvSpPr/>
                  <p:nvPr/>
                </p:nvSpPr>
                <p:spPr>
                  <a:xfrm flipH="1" flipV="1">
                    <a:off x="4092840" y="147600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5" name=""/>
                  <p:cNvSpPr/>
                  <p:nvPr/>
                </p:nvSpPr>
                <p:spPr>
                  <a:xfrm flipV="1">
                    <a:off x="4107240" y="145764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6" name=""/>
                <p:cNvGrpSpPr/>
                <p:nvPr/>
              </p:nvGrpSpPr>
              <p:grpSpPr>
                <a:xfrm>
                  <a:off x="4291560" y="1453680"/>
                  <a:ext cx="146520" cy="138240"/>
                  <a:chOff x="4291560" y="1453680"/>
                  <a:chExt cx="146520" cy="138240"/>
                </a:xfrm>
              </p:grpSpPr>
              <p:sp>
                <p:nvSpPr>
                  <p:cNvPr id="9757" name=""/>
                  <p:cNvSpPr/>
                  <p:nvPr/>
                </p:nvSpPr>
                <p:spPr>
                  <a:xfrm rot="7397400">
                    <a:off x="4320720" y="14637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8" name=""/>
                  <p:cNvSpPr/>
                  <p:nvPr/>
                </p:nvSpPr>
                <p:spPr>
                  <a:xfrm flipV="1">
                    <a:off x="4300920" y="1518120"/>
                    <a:ext cx="885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9" name=""/>
                  <p:cNvSpPr/>
                  <p:nvPr/>
                </p:nvSpPr>
                <p:spPr>
                  <a:xfrm>
                    <a:off x="4332240" y="152964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0" name=""/>
                  <p:cNvSpPr/>
                  <p:nvPr/>
                </p:nvSpPr>
                <p:spPr>
                  <a:xfrm flipV="1">
                    <a:off x="4350240" y="1508760"/>
                    <a:ext cx="13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1" name=""/>
                  <p:cNvSpPr/>
                  <p:nvPr/>
                </p:nvSpPr>
                <p:spPr>
                  <a:xfrm>
                    <a:off x="4366440" y="152460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2" name=""/>
                <p:cNvGrpSpPr/>
                <p:nvPr/>
              </p:nvGrpSpPr>
              <p:grpSpPr>
                <a:xfrm>
                  <a:off x="4078800" y="1713960"/>
                  <a:ext cx="146520" cy="138240"/>
                  <a:chOff x="4078800" y="1713960"/>
                  <a:chExt cx="146520" cy="138240"/>
                </a:xfrm>
              </p:grpSpPr>
              <p:sp>
                <p:nvSpPr>
                  <p:cNvPr id="9763" name=""/>
                  <p:cNvSpPr/>
                  <p:nvPr/>
                </p:nvSpPr>
                <p:spPr>
                  <a:xfrm rot="7397400">
                    <a:off x="4107960" y="17240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4" name=""/>
                  <p:cNvSpPr/>
                  <p:nvPr/>
                </p:nvSpPr>
                <p:spPr>
                  <a:xfrm flipV="1">
                    <a:off x="4088520" y="1778400"/>
                    <a:ext cx="88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5" name=""/>
                  <p:cNvSpPr/>
                  <p:nvPr/>
                </p:nvSpPr>
                <p:spPr>
                  <a:xfrm>
                    <a:off x="4119840" y="178992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6" name=""/>
                  <p:cNvSpPr/>
                  <p:nvPr/>
                </p:nvSpPr>
                <p:spPr>
                  <a:xfrm flipV="1">
                    <a:off x="4137840" y="176904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7" name=""/>
                  <p:cNvSpPr/>
                  <p:nvPr/>
                </p:nvSpPr>
                <p:spPr>
                  <a:xfrm>
                    <a:off x="4154040" y="178488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8" name=""/>
                <p:cNvGrpSpPr/>
                <p:nvPr/>
              </p:nvGrpSpPr>
              <p:grpSpPr>
                <a:xfrm>
                  <a:off x="4289040" y="1522800"/>
                  <a:ext cx="146160" cy="137880"/>
                  <a:chOff x="4289040" y="1522800"/>
                  <a:chExt cx="146160" cy="137880"/>
                </a:xfrm>
              </p:grpSpPr>
              <p:sp>
                <p:nvSpPr>
                  <p:cNvPr id="9769" name=""/>
                  <p:cNvSpPr/>
                  <p:nvPr/>
                </p:nvSpPr>
                <p:spPr>
                  <a:xfrm rot="7397400">
                    <a:off x="4317840" y="15328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0" name=""/>
                  <p:cNvSpPr/>
                  <p:nvPr/>
                </p:nvSpPr>
                <p:spPr>
                  <a:xfrm flipV="1">
                    <a:off x="4298040" y="1586880"/>
                    <a:ext cx="885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1" name=""/>
                  <p:cNvSpPr/>
                  <p:nvPr/>
                </p:nvSpPr>
                <p:spPr>
                  <a:xfrm>
                    <a:off x="4329720" y="159876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2" name=""/>
                  <p:cNvSpPr/>
                  <p:nvPr/>
                </p:nvSpPr>
                <p:spPr>
                  <a:xfrm flipV="1">
                    <a:off x="4347720" y="157788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3" name=""/>
                  <p:cNvSpPr/>
                  <p:nvPr/>
                </p:nvSpPr>
                <p:spPr>
                  <a:xfrm>
                    <a:off x="4363920" y="159372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4" name=""/>
                <p:cNvGrpSpPr/>
                <p:nvPr/>
              </p:nvGrpSpPr>
              <p:grpSpPr>
                <a:xfrm>
                  <a:off x="3908160" y="1517400"/>
                  <a:ext cx="113040" cy="147960"/>
                  <a:chOff x="3908160" y="1517400"/>
                  <a:chExt cx="113040" cy="147960"/>
                </a:xfrm>
              </p:grpSpPr>
              <p:sp>
                <p:nvSpPr>
                  <p:cNvPr id="9775" name=""/>
                  <p:cNvSpPr/>
                  <p:nvPr/>
                </p:nvSpPr>
                <p:spPr>
                  <a:xfrm rot="995400">
                    <a:off x="3925080" y="1525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6" name=""/>
                  <p:cNvSpPr/>
                  <p:nvPr/>
                </p:nvSpPr>
                <p:spPr>
                  <a:xfrm flipH="1" flipV="1">
                    <a:off x="3956040" y="1567800"/>
                    <a:ext cx="2808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7" name=""/>
                  <p:cNvSpPr/>
                  <p:nvPr/>
                </p:nvSpPr>
                <p:spPr>
                  <a:xfrm flipV="1">
                    <a:off x="3977640" y="160488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8" name=""/>
                  <p:cNvSpPr/>
                  <p:nvPr/>
                </p:nvSpPr>
                <p:spPr>
                  <a:xfrm flipH="1" flipV="1">
                    <a:off x="3952440" y="159732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9" name=""/>
                  <p:cNvSpPr/>
                  <p:nvPr/>
                </p:nvSpPr>
                <p:spPr>
                  <a:xfrm flipH="1" flipV="1">
                    <a:off x="3964320" y="157680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0" name=""/>
                <p:cNvGrpSpPr/>
                <p:nvPr/>
              </p:nvGrpSpPr>
              <p:grpSpPr>
                <a:xfrm>
                  <a:off x="3990960" y="1451880"/>
                  <a:ext cx="84960" cy="134640"/>
                  <a:chOff x="3990960" y="1451880"/>
                  <a:chExt cx="84960" cy="134640"/>
                </a:xfrm>
              </p:grpSpPr>
              <p:sp>
                <p:nvSpPr>
                  <p:cNvPr id="9781" name=""/>
                  <p:cNvSpPr/>
                  <p:nvPr/>
                </p:nvSpPr>
                <p:spPr>
                  <a:xfrm rot="156000">
                    <a:off x="3993840" y="1453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2" name=""/>
                  <p:cNvSpPr/>
                  <p:nvPr/>
                </p:nvSpPr>
                <p:spPr>
                  <a:xfrm flipH="1" flipV="1">
                    <a:off x="4019400" y="1498320"/>
                    <a:ext cx="482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3" name=""/>
                  <p:cNvSpPr/>
                  <p:nvPr/>
                </p:nvSpPr>
                <p:spPr>
                  <a:xfrm flipH="1" flipV="1">
                    <a:off x="4049280" y="1528920"/>
                    <a:ext cx="43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4" name=""/>
                  <p:cNvSpPr/>
                  <p:nvPr/>
                </p:nvSpPr>
                <p:spPr>
                  <a:xfrm flipH="1" flipV="1">
                    <a:off x="4023000" y="15274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5" name=""/>
                  <p:cNvSpPr/>
                  <p:nvPr/>
                </p:nvSpPr>
                <p:spPr>
                  <a:xfrm flipH="1" flipV="1">
                    <a:off x="4029480" y="150480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6" name=""/>
                <p:cNvGrpSpPr/>
                <p:nvPr/>
              </p:nvGrpSpPr>
              <p:grpSpPr>
                <a:xfrm>
                  <a:off x="4217400" y="1348920"/>
                  <a:ext cx="133920" cy="153000"/>
                  <a:chOff x="4217400" y="1348920"/>
                  <a:chExt cx="133920" cy="153000"/>
                </a:xfrm>
              </p:grpSpPr>
              <p:sp>
                <p:nvSpPr>
                  <p:cNvPr id="9787" name=""/>
                  <p:cNvSpPr/>
                  <p:nvPr/>
                </p:nvSpPr>
                <p:spPr>
                  <a:xfrm rot="1807800">
                    <a:off x="4244760" y="1359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8" name=""/>
                  <p:cNvSpPr/>
                  <p:nvPr/>
                </p:nvSpPr>
                <p:spPr>
                  <a:xfrm flipH="1" flipV="1">
                    <a:off x="4281480" y="1400400"/>
                    <a:ext cx="684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9" name=""/>
                  <p:cNvSpPr/>
                  <p:nvPr/>
                </p:nvSpPr>
                <p:spPr>
                  <a:xfrm flipV="1">
                    <a:off x="4289760" y="144144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0" name=""/>
                  <p:cNvSpPr/>
                  <p:nvPr/>
                </p:nvSpPr>
                <p:spPr>
                  <a:xfrm flipH="1" flipV="1">
                    <a:off x="4271040" y="1428120"/>
                    <a:ext cx="108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1" name=""/>
                  <p:cNvSpPr/>
                  <p:nvPr/>
                </p:nvSpPr>
                <p:spPr>
                  <a:xfrm flipV="1">
                    <a:off x="4285800" y="14108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2" name=""/>
                <p:cNvGrpSpPr/>
                <p:nvPr/>
              </p:nvGrpSpPr>
              <p:grpSpPr>
                <a:xfrm>
                  <a:off x="4163760" y="1331280"/>
                  <a:ext cx="102960" cy="144000"/>
                  <a:chOff x="4163760" y="1331280"/>
                  <a:chExt cx="102960" cy="144000"/>
                </a:xfrm>
              </p:grpSpPr>
              <p:sp>
                <p:nvSpPr>
                  <p:cNvPr id="9793" name=""/>
                  <p:cNvSpPr/>
                  <p:nvPr/>
                </p:nvSpPr>
                <p:spPr>
                  <a:xfrm rot="679200">
                    <a:off x="4175640" y="1337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4" name=""/>
                  <p:cNvSpPr/>
                  <p:nvPr/>
                </p:nvSpPr>
                <p:spPr>
                  <a:xfrm flipH="1" flipV="1">
                    <a:off x="4203720" y="1380240"/>
                    <a:ext cx="3600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5" name=""/>
                  <p:cNvSpPr/>
                  <p:nvPr/>
                </p:nvSpPr>
                <p:spPr>
                  <a:xfrm flipH="1" flipV="1">
                    <a:off x="4228920" y="1415160"/>
                    <a:ext cx="14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6" name=""/>
                  <p:cNvSpPr/>
                  <p:nvPr/>
                </p:nvSpPr>
                <p:spPr>
                  <a:xfrm flipH="1" flipV="1">
                    <a:off x="4203000" y="140976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7" name=""/>
                  <p:cNvSpPr/>
                  <p:nvPr/>
                </p:nvSpPr>
                <p:spPr>
                  <a:xfrm flipH="1" flipV="1">
                    <a:off x="4213080" y="1388520"/>
                    <a:ext cx="25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98" name=""/>
                <p:cNvGrpSpPr/>
                <p:nvPr/>
              </p:nvGrpSpPr>
              <p:grpSpPr>
                <a:xfrm>
                  <a:off x="4116240" y="1419840"/>
                  <a:ext cx="118800" cy="150120"/>
                  <a:chOff x="4116240" y="1419840"/>
                  <a:chExt cx="118800" cy="150120"/>
                </a:xfrm>
              </p:grpSpPr>
              <p:sp>
                <p:nvSpPr>
                  <p:cNvPr id="9799" name=""/>
                  <p:cNvSpPr/>
                  <p:nvPr/>
                </p:nvSpPr>
                <p:spPr>
                  <a:xfrm rot="1198800">
                    <a:off x="4136040" y="1429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0" name=""/>
                  <p:cNvSpPr/>
                  <p:nvPr/>
                </p:nvSpPr>
                <p:spPr>
                  <a:xfrm flipH="1" flipV="1">
                    <a:off x="4168080" y="1470600"/>
                    <a:ext cx="230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1" name=""/>
                  <p:cNvSpPr/>
                  <p:nvPr/>
                </p:nvSpPr>
                <p:spPr>
                  <a:xfrm flipV="1">
                    <a:off x="4186440" y="1508760"/>
                    <a:ext cx="1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2" name=""/>
                  <p:cNvSpPr/>
                  <p:nvPr/>
                </p:nvSpPr>
                <p:spPr>
                  <a:xfrm flipH="1" flipV="1">
                    <a:off x="4163040" y="149976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3" name=""/>
                  <p:cNvSpPr/>
                  <p:nvPr/>
                </p:nvSpPr>
                <p:spPr>
                  <a:xfrm flipH="1" flipV="1">
                    <a:off x="4176000" y="147996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4" name=""/>
                <p:cNvGrpSpPr/>
                <p:nvPr/>
              </p:nvGrpSpPr>
              <p:grpSpPr>
                <a:xfrm>
                  <a:off x="4225320" y="1455480"/>
                  <a:ext cx="149400" cy="147600"/>
                  <a:chOff x="4225320" y="1455480"/>
                  <a:chExt cx="149400" cy="147600"/>
                </a:xfrm>
              </p:grpSpPr>
              <p:sp>
                <p:nvSpPr>
                  <p:cNvPr id="9805" name=""/>
                  <p:cNvSpPr/>
                  <p:nvPr/>
                </p:nvSpPr>
                <p:spPr>
                  <a:xfrm rot="2782800">
                    <a:off x="4260600" y="1463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6" name=""/>
                  <p:cNvSpPr/>
                  <p:nvPr/>
                </p:nvSpPr>
                <p:spPr>
                  <a:xfrm flipV="1">
                    <a:off x="4285080" y="1504440"/>
                    <a:ext cx="1908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7" name=""/>
                  <p:cNvSpPr/>
                  <p:nvPr/>
                </p:nvSpPr>
                <p:spPr>
                  <a:xfrm flipV="1">
                    <a:off x="4295520" y="15469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8" name=""/>
                  <p:cNvSpPr/>
                  <p:nvPr/>
                </p:nvSpPr>
                <p:spPr>
                  <a:xfrm flipH="1" flipV="1">
                    <a:off x="4286520" y="152820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9" name=""/>
                  <p:cNvSpPr/>
                  <p:nvPr/>
                </p:nvSpPr>
                <p:spPr>
                  <a:xfrm flipV="1">
                    <a:off x="4302000" y="151596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0" name=""/>
                <p:cNvGrpSpPr/>
                <p:nvPr/>
              </p:nvGrpSpPr>
              <p:grpSpPr>
                <a:xfrm>
                  <a:off x="4086360" y="1635480"/>
                  <a:ext cx="129960" cy="106200"/>
                  <a:chOff x="4086360" y="1635480"/>
                  <a:chExt cx="129960" cy="106200"/>
                </a:xfrm>
              </p:grpSpPr>
              <p:sp>
                <p:nvSpPr>
                  <p:cNvPr id="9811" name=""/>
                  <p:cNvSpPr/>
                  <p:nvPr/>
                </p:nvSpPr>
                <p:spPr>
                  <a:xfrm rot="4833600">
                    <a:off x="4107240" y="16297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2" name=""/>
                  <p:cNvSpPr/>
                  <p:nvPr/>
                </p:nvSpPr>
                <p:spPr>
                  <a:xfrm flipV="1">
                    <a:off x="4109040" y="1668600"/>
                    <a:ext cx="57240" cy="68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3" name=""/>
                  <p:cNvSpPr/>
                  <p:nvPr/>
                </p:nvSpPr>
                <p:spPr>
                  <a:xfrm flipV="1">
                    <a:off x="4132440" y="1707480"/>
                    <a:ext cx="144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4" name=""/>
                  <p:cNvSpPr/>
                  <p:nvPr/>
                </p:nvSpPr>
                <p:spPr>
                  <a:xfrm flipV="1">
                    <a:off x="4139640" y="1679040"/>
                    <a:ext cx="2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5" name=""/>
                  <p:cNvSpPr/>
                  <p:nvPr/>
                </p:nvSpPr>
                <p:spPr>
                  <a:xfrm flipV="1">
                    <a:off x="4154400" y="1681560"/>
                    <a:ext cx="93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6" name=""/>
                <p:cNvGrpSpPr/>
                <p:nvPr/>
              </p:nvGrpSpPr>
              <p:grpSpPr>
                <a:xfrm>
                  <a:off x="4059000" y="1803960"/>
                  <a:ext cx="108000" cy="146160"/>
                  <a:chOff x="4059000" y="1803960"/>
                  <a:chExt cx="108000" cy="146160"/>
                </a:xfrm>
              </p:grpSpPr>
              <p:sp>
                <p:nvSpPr>
                  <p:cNvPr id="9817" name=""/>
                  <p:cNvSpPr/>
                  <p:nvPr/>
                </p:nvSpPr>
                <p:spPr>
                  <a:xfrm rot="11631000">
                    <a:off x="4073400" y="1811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8" name=""/>
                  <p:cNvSpPr/>
                  <p:nvPr/>
                </p:nvSpPr>
                <p:spPr>
                  <a:xfrm>
                    <a:off x="4091040" y="1814760"/>
                    <a:ext cx="3240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9" name=""/>
                  <p:cNvSpPr/>
                  <p:nvPr/>
                </p:nvSpPr>
                <p:spPr>
                  <a:xfrm>
                    <a:off x="4098960" y="184680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0" name=""/>
                  <p:cNvSpPr/>
                  <p:nvPr/>
                </p:nvSpPr>
                <p:spPr>
                  <a:xfrm>
                    <a:off x="4111560" y="186192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1" name=""/>
                  <p:cNvSpPr/>
                  <p:nvPr/>
                </p:nvSpPr>
                <p:spPr>
                  <a:xfrm>
                    <a:off x="4112640" y="1879920"/>
                    <a:ext cx="18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2" name=""/>
                <p:cNvGrpSpPr/>
                <p:nvPr/>
              </p:nvGrpSpPr>
              <p:grpSpPr>
                <a:xfrm>
                  <a:off x="3940920" y="1820880"/>
                  <a:ext cx="111600" cy="147600"/>
                  <a:chOff x="3940920" y="1820880"/>
                  <a:chExt cx="111600" cy="147600"/>
                </a:xfrm>
              </p:grpSpPr>
              <p:sp>
                <p:nvSpPr>
                  <p:cNvPr id="9823" name=""/>
                  <p:cNvSpPr/>
                  <p:nvPr/>
                </p:nvSpPr>
                <p:spPr>
                  <a:xfrm rot="11751000">
                    <a:off x="3957120" y="1829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4" name=""/>
                  <p:cNvSpPr/>
                  <p:nvPr/>
                </p:nvSpPr>
                <p:spPr>
                  <a:xfrm>
                    <a:off x="3976560" y="1831320"/>
                    <a:ext cx="2952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5" name=""/>
                  <p:cNvSpPr/>
                  <p:nvPr/>
                </p:nvSpPr>
                <p:spPr>
                  <a:xfrm>
                    <a:off x="3983760" y="186372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6" name=""/>
                  <p:cNvSpPr/>
                  <p:nvPr/>
                </p:nvSpPr>
                <p:spPr>
                  <a:xfrm>
                    <a:off x="3995640" y="187920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7" name=""/>
                  <p:cNvSpPr/>
                  <p:nvPr/>
                </p:nvSpPr>
                <p:spPr>
                  <a:xfrm>
                    <a:off x="3996000" y="189720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28" name=""/>
                <p:cNvGrpSpPr/>
                <p:nvPr/>
              </p:nvGrpSpPr>
              <p:grpSpPr>
                <a:xfrm>
                  <a:off x="3988800" y="1575360"/>
                  <a:ext cx="119160" cy="90720"/>
                  <a:chOff x="3988800" y="1575360"/>
                  <a:chExt cx="119160" cy="90720"/>
                </a:xfrm>
              </p:grpSpPr>
              <p:sp>
                <p:nvSpPr>
                  <p:cNvPr id="9829" name=""/>
                  <p:cNvSpPr/>
                  <p:nvPr/>
                </p:nvSpPr>
                <p:spPr>
                  <a:xfrm rot="5323200">
                    <a:off x="4004280" y="15620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0" name=""/>
                  <p:cNvSpPr/>
                  <p:nvPr/>
                </p:nvSpPr>
                <p:spPr>
                  <a:xfrm flipV="1">
                    <a:off x="3999600" y="1603080"/>
                    <a:ext cx="6660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1" name=""/>
                  <p:cNvSpPr/>
                  <p:nvPr/>
                </p:nvSpPr>
                <p:spPr>
                  <a:xfrm flipV="1">
                    <a:off x="4025520" y="163908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2" name=""/>
                  <p:cNvSpPr/>
                  <p:nvPr/>
                </p:nvSpPr>
                <p:spPr>
                  <a:xfrm flipV="1">
                    <a:off x="4035240" y="160992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3" name=""/>
                  <p:cNvSpPr/>
                  <p:nvPr/>
                </p:nvSpPr>
                <p:spPr>
                  <a:xfrm flipV="1">
                    <a:off x="4051080" y="1615320"/>
                    <a:ext cx="1044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34" name=""/>
                <p:cNvGrpSpPr/>
                <p:nvPr/>
              </p:nvGrpSpPr>
              <p:grpSpPr>
                <a:xfrm>
                  <a:off x="4078080" y="1449360"/>
                  <a:ext cx="144360" cy="104040"/>
                  <a:chOff x="4078080" y="1449360"/>
                  <a:chExt cx="144360" cy="104040"/>
                </a:xfrm>
              </p:grpSpPr>
              <p:sp>
                <p:nvSpPr>
                  <p:cNvPr id="9835" name=""/>
                  <p:cNvSpPr/>
                  <p:nvPr/>
                </p:nvSpPr>
                <p:spPr>
                  <a:xfrm rot="4687800">
                    <a:off x="4110480" y="1435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6" name=""/>
                  <p:cNvSpPr/>
                  <p:nvPr/>
                </p:nvSpPr>
                <p:spPr>
                  <a:xfrm flipV="1">
                    <a:off x="4103280" y="1482480"/>
                    <a:ext cx="63360" cy="66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7" name=""/>
                  <p:cNvSpPr/>
                  <p:nvPr/>
                </p:nvSpPr>
                <p:spPr>
                  <a:xfrm flipV="1">
                    <a:off x="4128840" y="1519200"/>
                    <a:ext cx="158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8" name=""/>
                  <p:cNvSpPr/>
                  <p:nvPr/>
                </p:nvSpPr>
                <p:spPr>
                  <a:xfrm flipV="1">
                    <a:off x="4136760" y="1493280"/>
                    <a:ext cx="25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9" name=""/>
                  <p:cNvSpPr/>
                  <p:nvPr/>
                </p:nvSpPr>
                <p:spPr>
                  <a:xfrm flipV="1">
                    <a:off x="4152600" y="1494000"/>
                    <a:ext cx="1044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0" name=""/>
                <p:cNvGrpSpPr/>
                <p:nvPr/>
              </p:nvGrpSpPr>
              <p:grpSpPr>
                <a:xfrm>
                  <a:off x="4211280" y="1370880"/>
                  <a:ext cx="146520" cy="109080"/>
                  <a:chOff x="4211280" y="1370880"/>
                  <a:chExt cx="146520" cy="109080"/>
                </a:xfrm>
              </p:grpSpPr>
              <p:sp>
                <p:nvSpPr>
                  <p:cNvPr id="9841" name=""/>
                  <p:cNvSpPr/>
                  <p:nvPr/>
                </p:nvSpPr>
                <p:spPr>
                  <a:xfrm rot="4527600">
                    <a:off x="4244760" y="1359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2" name=""/>
                  <p:cNvSpPr/>
                  <p:nvPr/>
                </p:nvSpPr>
                <p:spPr>
                  <a:xfrm flipV="1">
                    <a:off x="4240080" y="1405800"/>
                    <a:ext cx="6012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3" name=""/>
                  <p:cNvSpPr/>
                  <p:nvPr/>
                </p:nvSpPr>
                <p:spPr>
                  <a:xfrm flipV="1">
                    <a:off x="4264200" y="144360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4" name=""/>
                  <p:cNvSpPr/>
                  <p:nvPr/>
                </p:nvSpPr>
                <p:spPr>
                  <a:xfrm flipV="1">
                    <a:off x="4271400" y="1418040"/>
                    <a:ext cx="18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5" name=""/>
                  <p:cNvSpPr/>
                  <p:nvPr/>
                </p:nvSpPr>
                <p:spPr>
                  <a:xfrm flipV="1">
                    <a:off x="4286880" y="141732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6" name=""/>
                <p:cNvGrpSpPr/>
                <p:nvPr/>
              </p:nvGrpSpPr>
              <p:grpSpPr>
                <a:xfrm>
                  <a:off x="4291920" y="1397160"/>
                  <a:ext cx="122760" cy="96120"/>
                  <a:chOff x="4291920" y="1397160"/>
                  <a:chExt cx="122760" cy="96120"/>
                </a:xfrm>
              </p:grpSpPr>
              <p:sp>
                <p:nvSpPr>
                  <p:cNvPr id="9847" name=""/>
                  <p:cNvSpPr/>
                  <p:nvPr/>
                </p:nvSpPr>
                <p:spPr>
                  <a:xfrm rot="5160000">
                    <a:off x="4308840" y="13867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8" name=""/>
                  <p:cNvSpPr/>
                  <p:nvPr/>
                </p:nvSpPr>
                <p:spPr>
                  <a:xfrm flipV="1">
                    <a:off x="4306320" y="1426680"/>
                    <a:ext cx="63360" cy="62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9" name=""/>
                  <p:cNvSpPr/>
                  <p:nvPr/>
                </p:nvSpPr>
                <p:spPr>
                  <a:xfrm flipV="1">
                    <a:off x="4331880" y="1463400"/>
                    <a:ext cx="14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0" name=""/>
                  <p:cNvSpPr/>
                  <p:nvPr/>
                </p:nvSpPr>
                <p:spPr>
                  <a:xfrm flipV="1">
                    <a:off x="4340520" y="143460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1" name=""/>
                  <p:cNvSpPr/>
                  <p:nvPr/>
                </p:nvSpPr>
                <p:spPr>
                  <a:xfrm flipV="1">
                    <a:off x="4356000" y="143892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52" name=""/>
              <p:cNvGrpSpPr/>
              <p:nvPr/>
            </p:nvGrpSpPr>
            <p:grpSpPr>
              <a:xfrm>
                <a:off x="3774240" y="2066400"/>
                <a:ext cx="565920" cy="657360"/>
                <a:chOff x="3774240" y="2066400"/>
                <a:chExt cx="565920" cy="657360"/>
              </a:xfrm>
            </p:grpSpPr>
            <p:grpSp>
              <p:nvGrpSpPr>
                <p:cNvPr id="9853" name=""/>
                <p:cNvGrpSpPr/>
                <p:nvPr/>
              </p:nvGrpSpPr>
              <p:grpSpPr>
                <a:xfrm>
                  <a:off x="4124520" y="2377080"/>
                  <a:ext cx="85320" cy="135000"/>
                  <a:chOff x="4124520" y="2377080"/>
                  <a:chExt cx="85320" cy="135000"/>
                </a:xfrm>
              </p:grpSpPr>
              <p:sp>
                <p:nvSpPr>
                  <p:cNvPr id="9854" name=""/>
                  <p:cNvSpPr/>
                  <p:nvPr/>
                </p:nvSpPr>
                <p:spPr>
                  <a:xfrm rot="10627200">
                    <a:off x="4127400" y="2378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5" name=""/>
                  <p:cNvSpPr/>
                  <p:nvPr/>
                </p:nvSpPr>
                <p:spPr>
                  <a:xfrm>
                    <a:off x="4127760" y="2390760"/>
                    <a:ext cx="55440" cy="73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6" name=""/>
                  <p:cNvSpPr/>
                  <p:nvPr/>
                </p:nvSpPr>
                <p:spPr>
                  <a:xfrm>
                    <a:off x="4144680" y="2419200"/>
                    <a:ext cx="57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7" name=""/>
                  <p:cNvSpPr/>
                  <p:nvPr/>
                </p:nvSpPr>
                <p:spPr>
                  <a:xfrm>
                    <a:off x="4161240" y="2430000"/>
                    <a:ext cx="154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8" name=""/>
                  <p:cNvSpPr/>
                  <p:nvPr/>
                </p:nvSpPr>
                <p:spPr>
                  <a:xfrm>
                    <a:off x="4167000" y="2446920"/>
                    <a:ext cx="57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59" name=""/>
                <p:cNvSpPr/>
                <p:nvPr/>
              </p:nvSpPr>
              <p:spPr>
                <a:xfrm flipV="1">
                  <a:off x="3965400" y="2283840"/>
                  <a:ext cx="46440" cy="194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0" name=""/>
                <p:cNvSpPr/>
                <p:nvPr/>
              </p:nvSpPr>
              <p:spPr>
                <a:xfrm rot="6811800">
                  <a:off x="3731400" y="227196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1" name=""/>
                <p:cNvSpPr/>
                <p:nvPr/>
              </p:nvSpPr>
              <p:spPr>
                <a:xfrm flipV="1">
                  <a:off x="4069080" y="2349720"/>
                  <a:ext cx="144000" cy="23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2" name=""/>
                <p:cNvSpPr/>
                <p:nvPr/>
              </p:nvSpPr>
              <p:spPr>
                <a:xfrm flipV="1">
                  <a:off x="3798360" y="2531160"/>
                  <a:ext cx="24012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3" name=""/>
                <p:cNvSpPr/>
                <p:nvPr/>
              </p:nvSpPr>
              <p:spPr>
                <a:xfrm flipH="1" flipV="1">
                  <a:off x="3972240" y="2331000"/>
                  <a:ext cx="1620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4" name=""/>
                <p:cNvSpPr/>
                <p:nvPr/>
              </p:nvSpPr>
              <p:spPr>
                <a:xfrm flipV="1">
                  <a:off x="3981600" y="2394360"/>
                  <a:ext cx="396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5" name=""/>
                <p:cNvSpPr/>
                <p:nvPr/>
              </p:nvSpPr>
              <p:spPr>
                <a:xfrm flipV="1">
                  <a:off x="4132800" y="2305800"/>
                  <a:ext cx="7992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6" name=""/>
                <p:cNvSpPr/>
                <p:nvPr/>
              </p:nvSpPr>
              <p:spPr>
                <a:xfrm>
                  <a:off x="4109040" y="2368800"/>
                  <a:ext cx="4032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7" name=""/>
                <p:cNvSpPr/>
                <p:nvPr/>
              </p:nvSpPr>
              <p:spPr>
                <a:xfrm flipH="1" flipV="1">
                  <a:off x="4123440" y="2203200"/>
                  <a:ext cx="8640" cy="67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8" name=""/>
                <p:cNvSpPr/>
                <p:nvPr/>
              </p:nvSpPr>
              <p:spPr>
                <a:xfrm flipV="1">
                  <a:off x="3917880" y="2451600"/>
                  <a:ext cx="13536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9" name=""/>
                <p:cNvSpPr/>
                <p:nvPr/>
              </p:nvSpPr>
              <p:spPr>
                <a:xfrm flipV="1">
                  <a:off x="3998160" y="2487600"/>
                  <a:ext cx="396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0" name=""/>
                <p:cNvSpPr/>
                <p:nvPr/>
              </p:nvSpPr>
              <p:spPr>
                <a:xfrm>
                  <a:off x="3878280" y="2547000"/>
                  <a:ext cx="56160" cy="4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1" name=""/>
                <p:cNvSpPr/>
                <p:nvPr/>
              </p:nvSpPr>
              <p:spPr>
                <a:xfrm>
                  <a:off x="3998160" y="2534760"/>
                  <a:ext cx="4824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2" name=""/>
                <p:cNvSpPr/>
                <p:nvPr/>
              </p:nvSpPr>
              <p:spPr>
                <a:xfrm flipV="1">
                  <a:off x="3894120" y="2431440"/>
                  <a:ext cx="1476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3" name=""/>
                <p:cNvSpPr/>
                <p:nvPr/>
              </p:nvSpPr>
              <p:spPr>
                <a:xfrm flipV="1">
                  <a:off x="4084560" y="2275560"/>
                  <a:ext cx="792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4" name=""/>
                <p:cNvSpPr/>
                <p:nvPr/>
              </p:nvSpPr>
              <p:spPr>
                <a:xfrm flipV="1">
                  <a:off x="4164120" y="2238120"/>
                  <a:ext cx="396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75" name=""/>
                <p:cNvGrpSpPr/>
                <p:nvPr/>
              </p:nvGrpSpPr>
              <p:grpSpPr>
                <a:xfrm>
                  <a:off x="4183200" y="2298960"/>
                  <a:ext cx="141480" cy="146880"/>
                  <a:chOff x="4183200" y="2298960"/>
                  <a:chExt cx="141480" cy="146880"/>
                </a:xfrm>
              </p:grpSpPr>
              <p:sp>
                <p:nvSpPr>
                  <p:cNvPr id="9876" name=""/>
                  <p:cNvSpPr/>
                  <p:nvPr/>
                </p:nvSpPr>
                <p:spPr>
                  <a:xfrm rot="8557200">
                    <a:off x="4209840" y="2313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7" name=""/>
                  <p:cNvSpPr/>
                  <p:nvPr/>
                </p:nvSpPr>
                <p:spPr>
                  <a:xfrm>
                    <a:off x="4191480" y="2357280"/>
                    <a:ext cx="871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8" name=""/>
                  <p:cNvSpPr/>
                  <p:nvPr/>
                </p:nvSpPr>
                <p:spPr>
                  <a:xfrm>
                    <a:off x="4221000" y="236808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9" name=""/>
                  <p:cNvSpPr/>
                  <p:nvPr/>
                </p:nvSpPr>
                <p:spPr>
                  <a:xfrm flipV="1">
                    <a:off x="4241160" y="2358720"/>
                    <a:ext cx="16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0" name=""/>
                  <p:cNvSpPr/>
                  <p:nvPr/>
                </p:nvSpPr>
                <p:spPr>
                  <a:xfrm>
                    <a:off x="4254840" y="2374560"/>
                    <a:ext cx="1116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1" name=""/>
                <p:cNvGrpSpPr/>
                <p:nvPr/>
              </p:nvGrpSpPr>
              <p:grpSpPr>
                <a:xfrm>
                  <a:off x="4010760" y="2312640"/>
                  <a:ext cx="117360" cy="88200"/>
                  <a:chOff x="4010760" y="2312640"/>
                  <a:chExt cx="117360" cy="88200"/>
                </a:xfrm>
              </p:grpSpPr>
              <p:sp>
                <p:nvSpPr>
                  <p:cNvPr id="9882" name=""/>
                  <p:cNvSpPr/>
                  <p:nvPr/>
                </p:nvSpPr>
                <p:spPr>
                  <a:xfrm rot="5398800">
                    <a:off x="4025160" y="2297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3" name=""/>
                  <p:cNvSpPr/>
                  <p:nvPr/>
                </p:nvSpPr>
                <p:spPr>
                  <a:xfrm flipV="1">
                    <a:off x="4019400" y="2339280"/>
                    <a:ext cx="6768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4" name=""/>
                  <p:cNvSpPr/>
                  <p:nvPr/>
                </p:nvSpPr>
                <p:spPr>
                  <a:xfrm flipV="1">
                    <a:off x="4045680" y="237456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5" name=""/>
                  <p:cNvSpPr/>
                  <p:nvPr/>
                </p:nvSpPr>
                <p:spPr>
                  <a:xfrm flipV="1">
                    <a:off x="4055760" y="23454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6" name=""/>
                  <p:cNvSpPr/>
                  <p:nvPr/>
                </p:nvSpPr>
                <p:spPr>
                  <a:xfrm flipV="1">
                    <a:off x="4071600" y="2351520"/>
                    <a:ext cx="104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87" name=""/>
                <p:cNvGrpSpPr/>
                <p:nvPr/>
              </p:nvGrpSpPr>
              <p:grpSpPr>
                <a:xfrm>
                  <a:off x="4038840" y="2374920"/>
                  <a:ext cx="142560" cy="127800"/>
                  <a:chOff x="4038840" y="2374920"/>
                  <a:chExt cx="142560" cy="127800"/>
                </a:xfrm>
              </p:grpSpPr>
              <p:sp>
                <p:nvSpPr>
                  <p:cNvPr id="9888" name=""/>
                  <p:cNvSpPr/>
                  <p:nvPr/>
                </p:nvSpPr>
                <p:spPr>
                  <a:xfrm rot="6811800">
                    <a:off x="4065840" y="237996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9" name=""/>
                  <p:cNvSpPr/>
                  <p:nvPr/>
                </p:nvSpPr>
                <p:spPr>
                  <a:xfrm flipV="1">
                    <a:off x="4048200" y="2430000"/>
                    <a:ext cx="853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0" name=""/>
                  <p:cNvSpPr/>
                  <p:nvPr/>
                </p:nvSpPr>
                <p:spPr>
                  <a:xfrm>
                    <a:off x="4079520" y="245124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1" name=""/>
                  <p:cNvSpPr/>
                  <p:nvPr/>
                </p:nvSpPr>
                <p:spPr>
                  <a:xfrm flipV="1">
                    <a:off x="4095720" y="242532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2" name=""/>
                  <p:cNvSpPr/>
                  <p:nvPr/>
                </p:nvSpPr>
                <p:spPr>
                  <a:xfrm flipV="1">
                    <a:off x="4112280" y="243936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93" name=""/>
                <p:cNvGrpSpPr/>
                <p:nvPr/>
              </p:nvGrpSpPr>
              <p:grpSpPr>
                <a:xfrm>
                  <a:off x="3940560" y="2145600"/>
                  <a:ext cx="112320" cy="147960"/>
                  <a:chOff x="3940560" y="2145600"/>
                  <a:chExt cx="112320" cy="147960"/>
                </a:xfrm>
              </p:grpSpPr>
              <p:sp>
                <p:nvSpPr>
                  <p:cNvPr id="9894" name=""/>
                  <p:cNvSpPr/>
                  <p:nvPr/>
                </p:nvSpPr>
                <p:spPr>
                  <a:xfrm rot="981000">
                    <a:off x="3957120" y="2153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5" name=""/>
                  <p:cNvSpPr/>
                  <p:nvPr/>
                </p:nvSpPr>
                <p:spPr>
                  <a:xfrm flipH="1" flipV="1">
                    <a:off x="3987720" y="2196000"/>
                    <a:ext cx="2844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6" name=""/>
                  <p:cNvSpPr/>
                  <p:nvPr/>
                </p:nvSpPr>
                <p:spPr>
                  <a:xfrm flipV="1">
                    <a:off x="4009320" y="223272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7" name=""/>
                  <p:cNvSpPr/>
                  <p:nvPr/>
                </p:nvSpPr>
                <p:spPr>
                  <a:xfrm flipH="1" flipV="1">
                    <a:off x="3984120" y="222552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8" name=""/>
                  <p:cNvSpPr/>
                  <p:nvPr/>
                </p:nvSpPr>
                <p:spPr>
                  <a:xfrm flipH="1" flipV="1">
                    <a:off x="3996000" y="220500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99" name=""/>
                <p:cNvGrpSpPr/>
                <p:nvPr/>
              </p:nvGrpSpPr>
              <p:grpSpPr>
                <a:xfrm>
                  <a:off x="4188600" y="2161800"/>
                  <a:ext cx="142920" cy="127800"/>
                  <a:chOff x="4188600" y="2161800"/>
                  <a:chExt cx="142920" cy="127800"/>
                </a:xfrm>
              </p:grpSpPr>
              <p:sp>
                <p:nvSpPr>
                  <p:cNvPr id="9900" name=""/>
                  <p:cNvSpPr/>
                  <p:nvPr/>
                </p:nvSpPr>
                <p:spPr>
                  <a:xfrm rot="6811800">
                    <a:off x="4215960" y="2166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1" name=""/>
                  <p:cNvSpPr/>
                  <p:nvPr/>
                </p:nvSpPr>
                <p:spPr>
                  <a:xfrm flipV="1">
                    <a:off x="4198320" y="2216520"/>
                    <a:ext cx="8532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2" name=""/>
                  <p:cNvSpPr/>
                  <p:nvPr/>
                </p:nvSpPr>
                <p:spPr>
                  <a:xfrm>
                    <a:off x="4229280" y="223776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3" name=""/>
                  <p:cNvSpPr/>
                  <p:nvPr/>
                </p:nvSpPr>
                <p:spPr>
                  <a:xfrm flipV="1">
                    <a:off x="4245480" y="22118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4" name=""/>
                  <p:cNvSpPr/>
                  <p:nvPr/>
                </p:nvSpPr>
                <p:spPr>
                  <a:xfrm flipV="1">
                    <a:off x="4262400" y="22258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05" name=""/>
                <p:cNvGrpSpPr/>
                <p:nvPr/>
              </p:nvGrpSpPr>
              <p:grpSpPr>
                <a:xfrm>
                  <a:off x="4023360" y="2454120"/>
                  <a:ext cx="142920" cy="127800"/>
                  <a:chOff x="4023360" y="2454120"/>
                  <a:chExt cx="142920" cy="127800"/>
                </a:xfrm>
              </p:grpSpPr>
              <p:sp>
                <p:nvSpPr>
                  <p:cNvPr id="9906" name=""/>
                  <p:cNvSpPr/>
                  <p:nvPr/>
                </p:nvSpPr>
                <p:spPr>
                  <a:xfrm rot="6811800">
                    <a:off x="4050720" y="2459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7" name=""/>
                  <p:cNvSpPr/>
                  <p:nvPr/>
                </p:nvSpPr>
                <p:spPr>
                  <a:xfrm flipV="1">
                    <a:off x="4033080" y="2509200"/>
                    <a:ext cx="85320" cy="25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8" name=""/>
                  <p:cNvSpPr/>
                  <p:nvPr/>
                </p:nvSpPr>
                <p:spPr>
                  <a:xfrm>
                    <a:off x="4064040" y="253008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9" name=""/>
                  <p:cNvSpPr/>
                  <p:nvPr/>
                </p:nvSpPr>
                <p:spPr>
                  <a:xfrm flipV="1">
                    <a:off x="4080240" y="250416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0" name=""/>
                  <p:cNvSpPr/>
                  <p:nvPr/>
                </p:nvSpPr>
                <p:spPr>
                  <a:xfrm flipV="1">
                    <a:off x="4096800" y="251820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1" name=""/>
                <p:cNvGrpSpPr/>
                <p:nvPr/>
              </p:nvGrpSpPr>
              <p:grpSpPr>
                <a:xfrm>
                  <a:off x="4197600" y="2229840"/>
                  <a:ext cx="142560" cy="127800"/>
                  <a:chOff x="4197600" y="2229840"/>
                  <a:chExt cx="142560" cy="127800"/>
                </a:xfrm>
              </p:grpSpPr>
              <p:sp>
                <p:nvSpPr>
                  <p:cNvPr id="9912" name=""/>
                  <p:cNvSpPr/>
                  <p:nvPr/>
                </p:nvSpPr>
                <p:spPr>
                  <a:xfrm rot="6811800">
                    <a:off x="4224600" y="22348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3" name=""/>
                  <p:cNvSpPr/>
                  <p:nvPr/>
                </p:nvSpPr>
                <p:spPr>
                  <a:xfrm flipV="1">
                    <a:off x="4207320" y="2284920"/>
                    <a:ext cx="84960" cy="26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4" name=""/>
                  <p:cNvSpPr/>
                  <p:nvPr/>
                </p:nvSpPr>
                <p:spPr>
                  <a:xfrm>
                    <a:off x="4238280" y="23061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5" name=""/>
                  <p:cNvSpPr/>
                  <p:nvPr/>
                </p:nvSpPr>
                <p:spPr>
                  <a:xfrm flipV="1">
                    <a:off x="4254840" y="228024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6" name=""/>
                  <p:cNvSpPr/>
                  <p:nvPr/>
                </p:nvSpPr>
                <p:spPr>
                  <a:xfrm flipV="1">
                    <a:off x="4271400" y="22942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7" name=""/>
                <p:cNvGrpSpPr/>
                <p:nvPr/>
              </p:nvGrpSpPr>
              <p:grpSpPr>
                <a:xfrm>
                  <a:off x="3830760" y="2291400"/>
                  <a:ext cx="93600" cy="139320"/>
                  <a:chOff x="3830760" y="2291400"/>
                  <a:chExt cx="93600" cy="139320"/>
                </a:xfrm>
              </p:grpSpPr>
              <p:sp>
                <p:nvSpPr>
                  <p:cNvPr id="9918" name=""/>
                  <p:cNvSpPr/>
                  <p:nvPr/>
                </p:nvSpPr>
                <p:spPr>
                  <a:xfrm rot="409800">
                    <a:off x="3837960" y="22953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9" name=""/>
                  <p:cNvSpPr/>
                  <p:nvPr/>
                </p:nvSpPr>
                <p:spPr>
                  <a:xfrm flipH="1" flipV="1">
                    <a:off x="3864960" y="2339280"/>
                    <a:ext cx="4248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0" name=""/>
                  <p:cNvSpPr/>
                  <p:nvPr/>
                </p:nvSpPr>
                <p:spPr>
                  <a:xfrm flipH="1" flipV="1">
                    <a:off x="3892680" y="237204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1" name=""/>
                  <p:cNvSpPr/>
                  <p:nvPr/>
                </p:nvSpPr>
                <p:spPr>
                  <a:xfrm flipH="1" flipV="1">
                    <a:off x="3866400" y="236880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2" name=""/>
                  <p:cNvSpPr/>
                  <p:nvPr/>
                </p:nvSpPr>
                <p:spPr>
                  <a:xfrm flipH="1" flipV="1">
                    <a:off x="3874680" y="234648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3" name=""/>
                <p:cNvGrpSpPr/>
                <p:nvPr/>
              </p:nvGrpSpPr>
              <p:grpSpPr>
                <a:xfrm>
                  <a:off x="3885840" y="2208240"/>
                  <a:ext cx="94680" cy="139680"/>
                  <a:chOff x="3885840" y="2208240"/>
                  <a:chExt cx="94680" cy="139680"/>
                </a:xfrm>
              </p:grpSpPr>
              <p:sp>
                <p:nvSpPr>
                  <p:cNvPr id="9924" name=""/>
                  <p:cNvSpPr/>
                  <p:nvPr/>
                </p:nvSpPr>
                <p:spPr>
                  <a:xfrm rot="21171000">
                    <a:off x="3893400" y="2212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5" name=""/>
                  <p:cNvSpPr/>
                  <p:nvPr/>
                </p:nvSpPr>
                <p:spPr>
                  <a:xfrm flipH="1" flipV="1">
                    <a:off x="3915360" y="2259720"/>
                    <a:ext cx="60840" cy="68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6" name=""/>
                  <p:cNvSpPr/>
                  <p:nvPr/>
                </p:nvSpPr>
                <p:spPr>
                  <a:xfrm flipH="1" flipV="1">
                    <a:off x="3950280" y="2284920"/>
                    <a:ext cx="7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7" name=""/>
                  <p:cNvSpPr/>
                  <p:nvPr/>
                </p:nvSpPr>
                <p:spPr>
                  <a:xfrm flipH="1" flipV="1">
                    <a:off x="3924000" y="228816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8" name=""/>
                  <p:cNvSpPr/>
                  <p:nvPr/>
                </p:nvSpPr>
                <p:spPr>
                  <a:xfrm flipH="1" flipV="1">
                    <a:off x="3926520" y="2264760"/>
                    <a:ext cx="64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9" name=""/>
                <p:cNvGrpSpPr/>
                <p:nvPr/>
              </p:nvGrpSpPr>
              <p:grpSpPr>
                <a:xfrm>
                  <a:off x="4104720" y="2067840"/>
                  <a:ext cx="119520" cy="150120"/>
                  <a:chOff x="4104720" y="2067840"/>
                  <a:chExt cx="119520" cy="150120"/>
                </a:xfrm>
              </p:grpSpPr>
              <p:sp>
                <p:nvSpPr>
                  <p:cNvPr id="9930" name=""/>
                  <p:cNvSpPr/>
                  <p:nvPr/>
                </p:nvSpPr>
                <p:spPr>
                  <a:xfrm rot="1222200">
                    <a:off x="4124880" y="2077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1" name=""/>
                  <p:cNvSpPr/>
                  <p:nvPr/>
                </p:nvSpPr>
                <p:spPr>
                  <a:xfrm flipH="1" flipV="1">
                    <a:off x="4157280" y="2118960"/>
                    <a:ext cx="223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2" name=""/>
                  <p:cNvSpPr/>
                  <p:nvPr/>
                </p:nvSpPr>
                <p:spPr>
                  <a:xfrm flipV="1">
                    <a:off x="4175280" y="215712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3" name=""/>
                  <p:cNvSpPr/>
                  <p:nvPr/>
                </p:nvSpPr>
                <p:spPr>
                  <a:xfrm flipH="1" flipV="1">
                    <a:off x="4151880" y="214812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4" name=""/>
                  <p:cNvSpPr/>
                  <p:nvPr/>
                </p:nvSpPr>
                <p:spPr>
                  <a:xfrm flipH="1" flipV="1">
                    <a:off x="4164840" y="212832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35" name=""/>
                <p:cNvGrpSpPr/>
                <p:nvPr/>
              </p:nvGrpSpPr>
              <p:grpSpPr>
                <a:xfrm>
                  <a:off x="4051080" y="2066400"/>
                  <a:ext cx="82440" cy="133200"/>
                  <a:chOff x="4051080" y="2066400"/>
                  <a:chExt cx="82440" cy="133200"/>
                </a:xfrm>
              </p:grpSpPr>
              <p:sp>
                <p:nvSpPr>
                  <p:cNvPr id="9936" name=""/>
                  <p:cNvSpPr/>
                  <p:nvPr/>
                </p:nvSpPr>
                <p:spPr>
                  <a:xfrm rot="93600">
                    <a:off x="4052880" y="2067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7" name=""/>
                  <p:cNvSpPr/>
                  <p:nvPr/>
                </p:nvSpPr>
                <p:spPr>
                  <a:xfrm flipH="1" flipV="1">
                    <a:off x="4077360" y="2112120"/>
                    <a:ext cx="4968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8" name=""/>
                  <p:cNvSpPr/>
                  <p:nvPr/>
                </p:nvSpPr>
                <p:spPr>
                  <a:xfrm flipH="1" flipV="1">
                    <a:off x="4107960" y="214236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9" name=""/>
                  <p:cNvSpPr/>
                  <p:nvPr/>
                </p:nvSpPr>
                <p:spPr>
                  <a:xfrm flipH="1" flipV="1">
                    <a:off x="4081680" y="2141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0" name=""/>
                  <p:cNvSpPr/>
                  <p:nvPr/>
                </p:nvSpPr>
                <p:spPr>
                  <a:xfrm flipH="1" flipV="1">
                    <a:off x="4087800" y="211860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1" name=""/>
                <p:cNvGrpSpPr/>
                <p:nvPr/>
              </p:nvGrpSpPr>
              <p:grpSpPr>
                <a:xfrm>
                  <a:off x="4018680" y="2158560"/>
                  <a:ext cx="101160" cy="142920"/>
                  <a:chOff x="4018680" y="2158560"/>
                  <a:chExt cx="101160" cy="142920"/>
                </a:xfrm>
              </p:grpSpPr>
              <p:sp>
                <p:nvSpPr>
                  <p:cNvPr id="9942" name=""/>
                  <p:cNvSpPr/>
                  <p:nvPr/>
                </p:nvSpPr>
                <p:spPr>
                  <a:xfrm rot="613200">
                    <a:off x="4029480" y="2164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3" name=""/>
                  <p:cNvSpPr/>
                  <p:nvPr/>
                </p:nvSpPr>
                <p:spPr>
                  <a:xfrm flipH="1" flipV="1">
                    <a:off x="4057560" y="2207520"/>
                    <a:ext cx="3780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4" name=""/>
                  <p:cNvSpPr/>
                  <p:nvPr/>
                </p:nvSpPr>
                <p:spPr>
                  <a:xfrm flipH="1" flipV="1">
                    <a:off x="4083120" y="2241720"/>
                    <a:ext cx="21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5" name=""/>
                  <p:cNvSpPr/>
                  <p:nvPr/>
                </p:nvSpPr>
                <p:spPr>
                  <a:xfrm flipH="1" flipV="1">
                    <a:off x="4057560" y="2237040"/>
                    <a:ext cx="140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6" name=""/>
                  <p:cNvSpPr/>
                  <p:nvPr/>
                </p:nvSpPr>
                <p:spPr>
                  <a:xfrm flipH="1" flipV="1">
                    <a:off x="4066920" y="221544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47" name=""/>
                <p:cNvGrpSpPr/>
                <p:nvPr/>
              </p:nvGrpSpPr>
              <p:grpSpPr>
                <a:xfrm>
                  <a:off x="4126680" y="2166840"/>
                  <a:ext cx="141480" cy="152280"/>
                  <a:chOff x="4126680" y="2166840"/>
                  <a:chExt cx="141480" cy="152280"/>
                </a:xfrm>
              </p:grpSpPr>
              <p:sp>
                <p:nvSpPr>
                  <p:cNvPr id="9948" name=""/>
                  <p:cNvSpPr/>
                  <p:nvPr/>
                </p:nvSpPr>
                <p:spPr>
                  <a:xfrm rot="2197200">
                    <a:off x="4157640" y="2177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9" name=""/>
                  <p:cNvSpPr/>
                  <p:nvPr/>
                </p:nvSpPr>
                <p:spPr>
                  <a:xfrm flipV="1">
                    <a:off x="4193640" y="2217600"/>
                    <a:ext cx="360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0" name=""/>
                  <p:cNvSpPr/>
                  <p:nvPr/>
                </p:nvSpPr>
                <p:spPr>
                  <a:xfrm flipV="1">
                    <a:off x="4198680" y="225972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1" name=""/>
                  <p:cNvSpPr/>
                  <p:nvPr/>
                </p:nvSpPr>
                <p:spPr>
                  <a:xfrm flipH="1" flipV="1">
                    <a:off x="4183920" y="2243880"/>
                    <a:ext cx="90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2" name=""/>
                  <p:cNvSpPr/>
                  <p:nvPr/>
                </p:nvSpPr>
                <p:spPr>
                  <a:xfrm flipV="1">
                    <a:off x="4199040" y="222876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3" name=""/>
                <p:cNvGrpSpPr/>
                <p:nvPr/>
              </p:nvGrpSpPr>
              <p:grpSpPr>
                <a:xfrm>
                  <a:off x="4008240" y="2364120"/>
                  <a:ext cx="139680" cy="121680"/>
                  <a:chOff x="4008240" y="2364120"/>
                  <a:chExt cx="139680" cy="121680"/>
                </a:xfrm>
              </p:grpSpPr>
              <p:sp>
                <p:nvSpPr>
                  <p:cNvPr id="9954" name=""/>
                  <p:cNvSpPr/>
                  <p:nvPr/>
                </p:nvSpPr>
                <p:spPr>
                  <a:xfrm rot="4248000">
                    <a:off x="4033800" y="23662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5" name=""/>
                  <p:cNvSpPr/>
                  <p:nvPr/>
                </p:nvSpPr>
                <p:spPr>
                  <a:xfrm flipV="1">
                    <a:off x="4044600" y="2402640"/>
                    <a:ext cx="4464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6" name=""/>
                  <p:cNvSpPr/>
                  <p:nvPr/>
                </p:nvSpPr>
                <p:spPr>
                  <a:xfrm flipV="1">
                    <a:off x="4064040" y="24444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7" name=""/>
                  <p:cNvSpPr/>
                  <p:nvPr/>
                </p:nvSpPr>
                <p:spPr>
                  <a:xfrm flipH="1" flipV="1">
                    <a:off x="4066920" y="241704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8" name=""/>
                  <p:cNvSpPr/>
                  <p:nvPr/>
                </p:nvSpPr>
                <p:spPr>
                  <a:xfrm flipV="1">
                    <a:off x="4080960" y="2415960"/>
                    <a:ext cx="792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9" name=""/>
                <p:cNvGrpSpPr/>
                <p:nvPr/>
              </p:nvGrpSpPr>
              <p:grpSpPr>
                <a:xfrm>
                  <a:off x="4028400" y="2549160"/>
                  <a:ext cx="87840" cy="136440"/>
                  <a:chOff x="4028400" y="2549160"/>
                  <a:chExt cx="87840" cy="136440"/>
                </a:xfrm>
              </p:grpSpPr>
              <p:sp>
                <p:nvSpPr>
                  <p:cNvPr id="9960" name=""/>
                  <p:cNvSpPr/>
                  <p:nvPr/>
                </p:nvSpPr>
                <p:spPr>
                  <a:xfrm rot="11045400">
                    <a:off x="4032720" y="2551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1" name=""/>
                  <p:cNvSpPr/>
                  <p:nvPr/>
                </p:nvSpPr>
                <p:spPr>
                  <a:xfrm>
                    <a:off x="4039920" y="2559600"/>
                    <a:ext cx="4644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2" name=""/>
                  <p:cNvSpPr/>
                  <p:nvPr/>
                </p:nvSpPr>
                <p:spPr>
                  <a:xfrm>
                    <a:off x="4053240" y="25898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3" name=""/>
                  <p:cNvSpPr/>
                  <p:nvPr/>
                </p:nvSpPr>
                <p:spPr>
                  <a:xfrm>
                    <a:off x="4068360" y="2602440"/>
                    <a:ext cx="147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4" name=""/>
                  <p:cNvSpPr/>
                  <p:nvPr/>
                </p:nvSpPr>
                <p:spPr>
                  <a:xfrm>
                    <a:off x="4071960" y="26200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65" name=""/>
                <p:cNvGrpSpPr/>
                <p:nvPr/>
              </p:nvGrpSpPr>
              <p:grpSpPr>
                <a:xfrm>
                  <a:off x="3914280" y="2585160"/>
                  <a:ext cx="92520" cy="138600"/>
                  <a:chOff x="3914280" y="2585160"/>
                  <a:chExt cx="92520" cy="138600"/>
                </a:xfrm>
              </p:grpSpPr>
              <p:sp>
                <p:nvSpPr>
                  <p:cNvPr id="9966" name=""/>
                  <p:cNvSpPr/>
                  <p:nvPr/>
                </p:nvSpPr>
                <p:spPr>
                  <a:xfrm rot="11165400">
                    <a:off x="3920760" y="2588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7" name=""/>
                  <p:cNvSpPr/>
                  <p:nvPr/>
                </p:nvSpPr>
                <p:spPr>
                  <a:xfrm>
                    <a:off x="3930120" y="2595600"/>
                    <a:ext cx="4356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8" name=""/>
                  <p:cNvSpPr/>
                  <p:nvPr/>
                </p:nvSpPr>
                <p:spPr>
                  <a:xfrm>
                    <a:off x="3942360" y="2626200"/>
                    <a:ext cx="32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9" name=""/>
                  <p:cNvSpPr/>
                  <p:nvPr/>
                </p:nvSpPr>
                <p:spPr>
                  <a:xfrm>
                    <a:off x="3956760" y="263916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0" name=""/>
                  <p:cNvSpPr/>
                  <p:nvPr/>
                </p:nvSpPr>
                <p:spPr>
                  <a:xfrm>
                    <a:off x="3960000" y="265680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1" name=""/>
                <p:cNvGrpSpPr/>
                <p:nvPr/>
              </p:nvGrpSpPr>
              <p:grpSpPr>
                <a:xfrm>
                  <a:off x="3899160" y="2321280"/>
                  <a:ext cx="132120" cy="109080"/>
                  <a:chOff x="3899160" y="2321280"/>
                  <a:chExt cx="132120" cy="109080"/>
                </a:xfrm>
              </p:grpSpPr>
              <p:sp>
                <p:nvSpPr>
                  <p:cNvPr id="9972" name=""/>
                  <p:cNvSpPr/>
                  <p:nvPr/>
                </p:nvSpPr>
                <p:spPr>
                  <a:xfrm rot="4737600">
                    <a:off x="3920760" y="2316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3" name=""/>
                  <p:cNvSpPr/>
                  <p:nvPr/>
                </p:nvSpPr>
                <p:spPr>
                  <a:xfrm flipV="1">
                    <a:off x="3924000" y="2355120"/>
                    <a:ext cx="5544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4" name=""/>
                  <p:cNvSpPr/>
                  <p:nvPr/>
                </p:nvSpPr>
                <p:spPr>
                  <a:xfrm flipV="1">
                    <a:off x="3946680" y="239472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5" name=""/>
                  <p:cNvSpPr/>
                  <p:nvPr/>
                </p:nvSpPr>
                <p:spPr>
                  <a:xfrm flipV="1">
                    <a:off x="3953160" y="236628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6" name=""/>
                  <p:cNvSpPr/>
                  <p:nvPr/>
                </p:nvSpPr>
                <p:spPr>
                  <a:xfrm flipV="1">
                    <a:off x="3967560" y="2368080"/>
                    <a:ext cx="93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77" name=""/>
                <p:cNvGrpSpPr/>
                <p:nvPr/>
              </p:nvGrpSpPr>
              <p:grpSpPr>
                <a:xfrm>
                  <a:off x="3969720" y="2180160"/>
                  <a:ext cx="150840" cy="121680"/>
                  <a:chOff x="3969720" y="2180160"/>
                  <a:chExt cx="150840" cy="121680"/>
                </a:xfrm>
              </p:grpSpPr>
              <p:sp>
                <p:nvSpPr>
                  <p:cNvPr id="9978" name=""/>
                  <p:cNvSpPr/>
                  <p:nvPr/>
                </p:nvSpPr>
                <p:spPr>
                  <a:xfrm rot="4102200">
                    <a:off x="4005360" y="2175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9" name=""/>
                  <p:cNvSpPr/>
                  <p:nvPr/>
                </p:nvSpPr>
                <p:spPr>
                  <a:xfrm flipV="1">
                    <a:off x="4007160" y="2219400"/>
                    <a:ext cx="51120" cy="75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0" name=""/>
                  <p:cNvSpPr/>
                  <p:nvPr/>
                </p:nvSpPr>
                <p:spPr>
                  <a:xfrm flipV="1">
                    <a:off x="4028400" y="2259000"/>
                    <a:ext cx="140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1" name=""/>
                  <p:cNvSpPr/>
                  <p:nvPr/>
                </p:nvSpPr>
                <p:spPr>
                  <a:xfrm flipH="1" flipV="1">
                    <a:off x="4033080" y="2234880"/>
                    <a:ext cx="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2" name=""/>
                  <p:cNvSpPr/>
                  <p:nvPr/>
                </p:nvSpPr>
                <p:spPr>
                  <a:xfrm flipV="1">
                    <a:off x="4047480" y="223128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3" name=""/>
                <p:cNvGrpSpPr/>
                <p:nvPr/>
              </p:nvGrpSpPr>
              <p:grpSpPr>
                <a:xfrm>
                  <a:off x="4088520" y="2080440"/>
                  <a:ext cx="151920" cy="125640"/>
                  <a:chOff x="4088520" y="2080440"/>
                  <a:chExt cx="151920" cy="125640"/>
                </a:xfrm>
              </p:grpSpPr>
              <p:sp>
                <p:nvSpPr>
                  <p:cNvPr id="9984" name=""/>
                  <p:cNvSpPr/>
                  <p:nvPr/>
                </p:nvSpPr>
                <p:spPr>
                  <a:xfrm rot="3942000">
                    <a:off x="4124880" y="2077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5" name=""/>
                  <p:cNvSpPr/>
                  <p:nvPr/>
                </p:nvSpPr>
                <p:spPr>
                  <a:xfrm flipV="1">
                    <a:off x="4129200" y="2121120"/>
                    <a:ext cx="4752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6" name=""/>
                  <p:cNvSpPr/>
                  <p:nvPr/>
                </p:nvSpPr>
                <p:spPr>
                  <a:xfrm flipV="1">
                    <a:off x="4149360" y="216180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7" name=""/>
                  <p:cNvSpPr/>
                  <p:nvPr/>
                </p:nvSpPr>
                <p:spPr>
                  <a:xfrm flipH="1" flipV="1">
                    <a:off x="4152240" y="2137680"/>
                    <a:ext cx="10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8" name=""/>
                  <p:cNvSpPr/>
                  <p:nvPr/>
                </p:nvSpPr>
                <p:spPr>
                  <a:xfrm flipV="1">
                    <a:off x="4167000" y="2133000"/>
                    <a:ext cx="82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9" name=""/>
                <p:cNvGrpSpPr/>
                <p:nvPr/>
              </p:nvGrpSpPr>
              <p:grpSpPr>
                <a:xfrm>
                  <a:off x="4168080" y="2094120"/>
                  <a:ext cx="134640" cy="113400"/>
                  <a:chOff x="4168080" y="2094120"/>
                  <a:chExt cx="134640" cy="113400"/>
                </a:xfrm>
              </p:grpSpPr>
              <p:sp>
                <p:nvSpPr>
                  <p:cNvPr id="9990" name=""/>
                  <p:cNvSpPr/>
                  <p:nvPr/>
                </p:nvSpPr>
                <p:spPr>
                  <a:xfrm rot="4574400">
                    <a:off x="4191120" y="20923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1" name=""/>
                  <p:cNvSpPr/>
                  <p:nvPr/>
                </p:nvSpPr>
                <p:spPr>
                  <a:xfrm flipV="1">
                    <a:off x="4196880" y="2129760"/>
                    <a:ext cx="5184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2" name=""/>
                  <p:cNvSpPr/>
                  <p:nvPr/>
                </p:nvSpPr>
                <p:spPr>
                  <a:xfrm flipV="1">
                    <a:off x="4218840" y="2170080"/>
                    <a:ext cx="136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3" name=""/>
                  <p:cNvSpPr/>
                  <p:nvPr/>
                </p:nvSpPr>
                <p:spPr>
                  <a:xfrm flipV="1">
                    <a:off x="4224240" y="2142000"/>
                    <a:ext cx="7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4" name=""/>
                  <p:cNvSpPr/>
                  <p:nvPr/>
                </p:nvSpPr>
                <p:spPr>
                  <a:xfrm flipV="1">
                    <a:off x="4238280" y="214272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95" name=""/>
              <p:cNvGrpSpPr/>
              <p:nvPr/>
            </p:nvGrpSpPr>
            <p:grpSpPr>
              <a:xfrm>
                <a:off x="4029480" y="2069640"/>
                <a:ext cx="654480" cy="524520"/>
                <a:chOff x="4029480" y="2069640"/>
                <a:chExt cx="654480" cy="524520"/>
              </a:xfrm>
            </p:grpSpPr>
            <p:grpSp>
              <p:nvGrpSpPr>
                <p:cNvPr id="9996" name=""/>
                <p:cNvGrpSpPr/>
                <p:nvPr/>
              </p:nvGrpSpPr>
              <p:grpSpPr>
                <a:xfrm>
                  <a:off x="4317840" y="2395800"/>
                  <a:ext cx="142920" cy="146520"/>
                  <a:chOff x="4317840" y="2395800"/>
                  <a:chExt cx="142920" cy="146520"/>
                </a:xfrm>
              </p:grpSpPr>
              <p:sp>
                <p:nvSpPr>
                  <p:cNvPr id="9997" name=""/>
                  <p:cNvSpPr/>
                  <p:nvPr/>
                </p:nvSpPr>
                <p:spPr>
                  <a:xfrm rot="13188000">
                    <a:off x="4344840" y="24102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8" name=""/>
                  <p:cNvSpPr/>
                  <p:nvPr/>
                </p:nvSpPr>
                <p:spPr>
                  <a:xfrm>
                    <a:off x="4389840" y="2404800"/>
                    <a:ext cx="14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9" name=""/>
                  <p:cNvSpPr/>
                  <p:nvPr/>
                </p:nvSpPr>
                <p:spPr>
                  <a:xfrm flipH="1">
                    <a:off x="4380480" y="2435760"/>
                    <a:ext cx="57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0" name=""/>
                  <p:cNvSpPr/>
                  <p:nvPr/>
                </p:nvSpPr>
                <p:spPr>
                  <a:xfrm>
                    <a:off x="4393080" y="245484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1" name=""/>
                  <p:cNvSpPr/>
                  <p:nvPr/>
                </p:nvSpPr>
                <p:spPr>
                  <a:xfrm flipH="1">
                    <a:off x="4385160" y="2470320"/>
                    <a:ext cx="21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02" name=""/>
                <p:cNvSpPr/>
                <p:nvPr/>
              </p:nvSpPr>
              <p:spPr>
                <a:xfrm flipV="1">
                  <a:off x="4221360" y="2226600"/>
                  <a:ext cx="14508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3" name=""/>
                <p:cNvSpPr/>
                <p:nvPr/>
              </p:nvSpPr>
              <p:spPr>
                <a:xfrm rot="9372600">
                  <a:off x="4062240" y="214740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4" name=""/>
                <p:cNvSpPr/>
                <p:nvPr/>
              </p:nvSpPr>
              <p:spPr>
                <a:xfrm>
                  <a:off x="4358160" y="2338200"/>
                  <a:ext cx="119520" cy="9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5" name=""/>
                <p:cNvSpPr/>
                <p:nvPr/>
              </p:nvSpPr>
              <p:spPr>
                <a:xfrm>
                  <a:off x="4052880" y="2258640"/>
                  <a:ext cx="191520" cy="172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6" name=""/>
                <p:cNvSpPr/>
                <p:nvPr/>
              </p:nvSpPr>
              <p:spPr>
                <a:xfrm flipV="1">
                  <a:off x="4294080" y="2230200"/>
                  <a:ext cx="1620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7" name=""/>
                <p:cNvSpPr/>
                <p:nvPr/>
              </p:nvSpPr>
              <p:spPr>
                <a:xfrm flipV="1">
                  <a:off x="4253760" y="2316600"/>
                  <a:ext cx="5616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8" name=""/>
                <p:cNvSpPr/>
                <p:nvPr/>
              </p:nvSpPr>
              <p:spPr>
                <a:xfrm>
                  <a:off x="4413960" y="2377800"/>
                  <a:ext cx="882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09" name=""/>
                <p:cNvSpPr/>
                <p:nvPr/>
              </p:nvSpPr>
              <p:spPr>
                <a:xfrm>
                  <a:off x="4389840" y="2367000"/>
                  <a:ext cx="7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0" name=""/>
                <p:cNvSpPr/>
                <p:nvPr/>
              </p:nvSpPr>
              <p:spPr>
                <a:xfrm flipV="1">
                  <a:off x="4462560" y="2256120"/>
                  <a:ext cx="3204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1" name=""/>
                <p:cNvSpPr/>
                <p:nvPr/>
              </p:nvSpPr>
              <p:spPr>
                <a:xfrm>
                  <a:off x="4149000" y="2344320"/>
                  <a:ext cx="15192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2" name=""/>
                <p:cNvSpPr/>
                <p:nvPr/>
              </p:nvSpPr>
              <p:spPr>
                <a:xfrm>
                  <a:off x="4237200" y="2369880"/>
                  <a:ext cx="31680" cy="28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3" name=""/>
                <p:cNvSpPr/>
                <p:nvPr/>
              </p:nvSpPr>
              <p:spPr>
                <a:xfrm>
                  <a:off x="4117320" y="2316240"/>
                  <a:ext cx="1548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4" name=""/>
                <p:cNvSpPr/>
                <p:nvPr/>
              </p:nvSpPr>
              <p:spPr>
                <a:xfrm>
                  <a:off x="4213080" y="2402280"/>
                  <a:ext cx="23400" cy="53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5" name=""/>
                <p:cNvSpPr/>
                <p:nvPr/>
              </p:nvSpPr>
              <p:spPr>
                <a:xfrm flipV="1">
                  <a:off x="4149360" y="2255040"/>
                  <a:ext cx="5616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6" name=""/>
                <p:cNvSpPr/>
                <p:nvPr/>
              </p:nvSpPr>
              <p:spPr>
                <a:xfrm flipV="1">
                  <a:off x="4389840" y="2284920"/>
                  <a:ext cx="403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7" name=""/>
                <p:cNvSpPr/>
                <p:nvPr/>
              </p:nvSpPr>
              <p:spPr>
                <a:xfrm>
                  <a:off x="4502520" y="2316960"/>
                  <a:ext cx="32040" cy="28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018" name=""/>
                <p:cNvGrpSpPr/>
                <p:nvPr/>
              </p:nvGrpSpPr>
              <p:grpSpPr>
                <a:xfrm>
                  <a:off x="4449600" y="2415240"/>
                  <a:ext cx="90720" cy="137880"/>
                  <a:chOff x="4449600" y="2415240"/>
                  <a:chExt cx="90720" cy="137880"/>
                </a:xfrm>
              </p:grpSpPr>
              <p:sp>
                <p:nvSpPr>
                  <p:cNvPr id="10019" name=""/>
                  <p:cNvSpPr/>
                  <p:nvPr/>
                </p:nvSpPr>
                <p:spPr>
                  <a:xfrm rot="11118000">
                    <a:off x="4455360" y="2418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0" name=""/>
                  <p:cNvSpPr/>
                  <p:nvPr/>
                </p:nvSpPr>
                <p:spPr>
                  <a:xfrm>
                    <a:off x="4463640" y="2425680"/>
                    <a:ext cx="44640" cy="80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1" name=""/>
                  <p:cNvSpPr/>
                  <p:nvPr/>
                </p:nvSpPr>
                <p:spPr>
                  <a:xfrm>
                    <a:off x="4476240" y="2456280"/>
                    <a:ext cx="36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2" name=""/>
                  <p:cNvSpPr/>
                  <p:nvPr/>
                </p:nvSpPr>
                <p:spPr>
                  <a:xfrm>
                    <a:off x="4491000" y="2469240"/>
                    <a:ext cx="14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3" name=""/>
                  <p:cNvSpPr/>
                  <p:nvPr/>
                </p:nvSpPr>
                <p:spPr>
                  <a:xfrm>
                    <a:off x="4494600" y="2486880"/>
                    <a:ext cx="39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24" name=""/>
                <p:cNvGrpSpPr/>
                <p:nvPr/>
              </p:nvGrpSpPr>
              <p:grpSpPr>
                <a:xfrm>
                  <a:off x="4292280" y="2252880"/>
                  <a:ext cx="149760" cy="146880"/>
                  <a:chOff x="4292280" y="2252880"/>
                  <a:chExt cx="149760" cy="146880"/>
                </a:xfrm>
              </p:grpSpPr>
              <p:sp>
                <p:nvSpPr>
                  <p:cNvPr id="10025" name=""/>
                  <p:cNvSpPr/>
                  <p:nvPr/>
                </p:nvSpPr>
                <p:spPr>
                  <a:xfrm rot="7959600">
                    <a:off x="4327560" y="22608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6" name=""/>
                  <p:cNvSpPr/>
                  <p:nvPr/>
                </p:nvSpPr>
                <p:spPr>
                  <a:xfrm>
                    <a:off x="4301640" y="2315880"/>
                    <a:ext cx="90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7" name=""/>
                  <p:cNvSpPr/>
                  <p:nvPr/>
                </p:nvSpPr>
                <p:spPr>
                  <a:xfrm>
                    <a:off x="4333320" y="2324160"/>
                    <a:ext cx="162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8" name=""/>
                  <p:cNvSpPr/>
                  <p:nvPr/>
                </p:nvSpPr>
                <p:spPr>
                  <a:xfrm flipV="1">
                    <a:off x="4352760" y="231300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9" name=""/>
                  <p:cNvSpPr/>
                  <p:nvPr/>
                </p:nvSpPr>
                <p:spPr>
                  <a:xfrm>
                    <a:off x="4368600" y="2328480"/>
                    <a:ext cx="118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0" name=""/>
                <p:cNvGrpSpPr/>
                <p:nvPr/>
              </p:nvGrpSpPr>
              <p:grpSpPr>
                <a:xfrm>
                  <a:off x="4287960" y="2344320"/>
                  <a:ext cx="124920" cy="151200"/>
                  <a:chOff x="4287960" y="2344320"/>
                  <a:chExt cx="124920" cy="151200"/>
                </a:xfrm>
              </p:grpSpPr>
              <p:sp>
                <p:nvSpPr>
                  <p:cNvPr id="10031" name=""/>
                  <p:cNvSpPr/>
                  <p:nvPr/>
                </p:nvSpPr>
                <p:spPr>
                  <a:xfrm rot="9372600">
                    <a:off x="4311000" y="23544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2" name=""/>
                  <p:cNvSpPr/>
                  <p:nvPr/>
                </p:nvSpPr>
                <p:spPr>
                  <a:xfrm>
                    <a:off x="4294440" y="2383560"/>
                    <a:ext cx="7776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3" name=""/>
                  <p:cNvSpPr/>
                  <p:nvPr/>
                </p:nvSpPr>
                <p:spPr>
                  <a:xfrm>
                    <a:off x="4320360" y="240408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4" name=""/>
                  <p:cNvSpPr/>
                  <p:nvPr/>
                </p:nvSpPr>
                <p:spPr>
                  <a:xfrm flipV="1">
                    <a:off x="4339440" y="240732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5" name=""/>
                  <p:cNvSpPr/>
                  <p:nvPr/>
                </p:nvSpPr>
                <p:spPr>
                  <a:xfrm>
                    <a:off x="4351320" y="2422440"/>
                    <a:ext cx="90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36" name=""/>
                <p:cNvGrpSpPr/>
                <p:nvPr/>
              </p:nvGrpSpPr>
              <p:grpSpPr>
                <a:xfrm>
                  <a:off x="4318560" y="2099880"/>
                  <a:ext cx="146160" cy="136080"/>
                  <a:chOff x="4318560" y="2099880"/>
                  <a:chExt cx="146160" cy="136080"/>
                </a:xfrm>
              </p:grpSpPr>
              <p:sp>
                <p:nvSpPr>
                  <p:cNvPr id="10037" name=""/>
                  <p:cNvSpPr/>
                  <p:nvPr/>
                </p:nvSpPr>
                <p:spPr>
                  <a:xfrm rot="3541800">
                    <a:off x="4347360" y="2108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8" name=""/>
                  <p:cNvSpPr/>
                  <p:nvPr/>
                </p:nvSpPr>
                <p:spPr>
                  <a:xfrm flipV="1">
                    <a:off x="4370040" y="2143800"/>
                    <a:ext cx="2808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9" name=""/>
                  <p:cNvSpPr/>
                  <p:nvPr/>
                </p:nvSpPr>
                <p:spPr>
                  <a:xfrm flipV="1">
                    <a:off x="4383720" y="218736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0" name=""/>
                  <p:cNvSpPr/>
                  <p:nvPr/>
                </p:nvSpPr>
                <p:spPr>
                  <a:xfrm flipH="1" flipV="1">
                    <a:off x="4378680" y="216252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1" name=""/>
                  <p:cNvSpPr/>
                  <p:nvPr/>
                </p:nvSpPr>
                <p:spPr>
                  <a:xfrm flipV="1">
                    <a:off x="4394160" y="2156760"/>
                    <a:ext cx="61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2" name=""/>
                <p:cNvGrpSpPr/>
                <p:nvPr/>
              </p:nvGrpSpPr>
              <p:grpSpPr>
                <a:xfrm>
                  <a:off x="4520880" y="2305080"/>
                  <a:ext cx="124920" cy="151560"/>
                  <a:chOff x="4520880" y="2305080"/>
                  <a:chExt cx="124920" cy="151560"/>
                </a:xfrm>
              </p:grpSpPr>
              <p:sp>
                <p:nvSpPr>
                  <p:cNvPr id="10043" name=""/>
                  <p:cNvSpPr/>
                  <p:nvPr/>
                </p:nvSpPr>
                <p:spPr>
                  <a:xfrm rot="9372600">
                    <a:off x="4543560" y="2315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4" name=""/>
                  <p:cNvSpPr/>
                  <p:nvPr/>
                </p:nvSpPr>
                <p:spPr>
                  <a:xfrm>
                    <a:off x="4527720" y="2345040"/>
                    <a:ext cx="7776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5" name=""/>
                  <p:cNvSpPr/>
                  <p:nvPr/>
                </p:nvSpPr>
                <p:spPr>
                  <a:xfrm>
                    <a:off x="4553640" y="236556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6" name=""/>
                  <p:cNvSpPr/>
                  <p:nvPr/>
                </p:nvSpPr>
                <p:spPr>
                  <a:xfrm flipV="1">
                    <a:off x="4572720" y="236844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7" name=""/>
                  <p:cNvSpPr/>
                  <p:nvPr/>
                </p:nvSpPr>
                <p:spPr>
                  <a:xfrm>
                    <a:off x="4584240" y="23832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8" name=""/>
                <p:cNvGrpSpPr/>
                <p:nvPr/>
              </p:nvGrpSpPr>
              <p:grpSpPr>
                <a:xfrm>
                  <a:off x="4231440" y="2390400"/>
                  <a:ext cx="124920" cy="151560"/>
                  <a:chOff x="4231440" y="2390400"/>
                  <a:chExt cx="124920" cy="151560"/>
                </a:xfrm>
              </p:grpSpPr>
              <p:sp>
                <p:nvSpPr>
                  <p:cNvPr id="10049" name=""/>
                  <p:cNvSpPr/>
                  <p:nvPr/>
                </p:nvSpPr>
                <p:spPr>
                  <a:xfrm rot="9372600">
                    <a:off x="4254120" y="2400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0" name=""/>
                  <p:cNvSpPr/>
                  <p:nvPr/>
                </p:nvSpPr>
                <p:spPr>
                  <a:xfrm>
                    <a:off x="4238280" y="2430000"/>
                    <a:ext cx="77760" cy="48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1" name=""/>
                  <p:cNvSpPr/>
                  <p:nvPr/>
                </p:nvSpPr>
                <p:spPr>
                  <a:xfrm>
                    <a:off x="4264200" y="245052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2" name=""/>
                  <p:cNvSpPr/>
                  <p:nvPr/>
                </p:nvSpPr>
                <p:spPr>
                  <a:xfrm flipV="1">
                    <a:off x="4283280" y="245376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3" name=""/>
                  <p:cNvSpPr/>
                  <p:nvPr/>
                </p:nvSpPr>
                <p:spPr>
                  <a:xfrm>
                    <a:off x="4294800" y="246852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54" name=""/>
                <p:cNvGrpSpPr/>
                <p:nvPr/>
              </p:nvGrpSpPr>
              <p:grpSpPr>
                <a:xfrm>
                  <a:off x="4488840" y="2362680"/>
                  <a:ext cx="124920" cy="151200"/>
                  <a:chOff x="4488840" y="2362680"/>
                  <a:chExt cx="124920" cy="151200"/>
                </a:xfrm>
              </p:grpSpPr>
              <p:sp>
                <p:nvSpPr>
                  <p:cNvPr id="10055" name=""/>
                  <p:cNvSpPr/>
                  <p:nvPr/>
                </p:nvSpPr>
                <p:spPr>
                  <a:xfrm rot="9372600">
                    <a:off x="4511880" y="23727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6" name=""/>
                  <p:cNvSpPr/>
                  <p:nvPr/>
                </p:nvSpPr>
                <p:spPr>
                  <a:xfrm>
                    <a:off x="4495320" y="240192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7" name=""/>
                  <p:cNvSpPr/>
                  <p:nvPr/>
                </p:nvSpPr>
                <p:spPr>
                  <a:xfrm>
                    <a:off x="4521240" y="2422440"/>
                    <a:ext cx="115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8" name=""/>
                  <p:cNvSpPr/>
                  <p:nvPr/>
                </p:nvSpPr>
                <p:spPr>
                  <a:xfrm flipV="1">
                    <a:off x="4540320" y="24256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9" name=""/>
                  <p:cNvSpPr/>
                  <p:nvPr/>
                </p:nvSpPr>
                <p:spPr>
                  <a:xfrm>
                    <a:off x="4552200" y="244080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0" name=""/>
                <p:cNvGrpSpPr/>
                <p:nvPr/>
              </p:nvGrpSpPr>
              <p:grpSpPr>
                <a:xfrm>
                  <a:off x="4149360" y="2106360"/>
                  <a:ext cx="146160" cy="142920"/>
                  <a:chOff x="4149360" y="2106360"/>
                  <a:chExt cx="146160" cy="142920"/>
                </a:xfrm>
              </p:grpSpPr>
              <p:sp>
                <p:nvSpPr>
                  <p:cNvPr id="10061" name=""/>
                  <p:cNvSpPr/>
                  <p:nvPr/>
                </p:nvSpPr>
                <p:spPr>
                  <a:xfrm rot="2970600">
                    <a:off x="4178520" y="21189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2" name=""/>
                  <p:cNvSpPr/>
                  <p:nvPr/>
                </p:nvSpPr>
                <p:spPr>
                  <a:xfrm flipV="1">
                    <a:off x="4211280" y="2153160"/>
                    <a:ext cx="1368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3" name=""/>
                  <p:cNvSpPr/>
                  <p:nvPr/>
                </p:nvSpPr>
                <p:spPr>
                  <a:xfrm flipV="1">
                    <a:off x="4220280" y="219672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4" name=""/>
                  <p:cNvSpPr/>
                  <p:nvPr/>
                </p:nvSpPr>
                <p:spPr>
                  <a:xfrm flipH="1" flipV="1">
                    <a:off x="4209120" y="2174760"/>
                    <a:ext cx="7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5" name=""/>
                  <p:cNvSpPr/>
                  <p:nvPr/>
                </p:nvSpPr>
                <p:spPr>
                  <a:xfrm flipV="1">
                    <a:off x="4224240" y="216540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66" name=""/>
                <p:cNvGrpSpPr/>
                <p:nvPr/>
              </p:nvGrpSpPr>
              <p:grpSpPr>
                <a:xfrm>
                  <a:off x="4241520" y="2086920"/>
                  <a:ext cx="139680" cy="146880"/>
                  <a:chOff x="4241520" y="2086920"/>
                  <a:chExt cx="139680" cy="146880"/>
                </a:xfrm>
              </p:grpSpPr>
              <p:sp>
                <p:nvSpPr>
                  <p:cNvPr id="10067" name=""/>
                  <p:cNvSpPr/>
                  <p:nvPr/>
                </p:nvSpPr>
                <p:spPr>
                  <a:xfrm rot="2131200">
                    <a:off x="4267080" y="21013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8" name=""/>
                  <p:cNvSpPr/>
                  <p:nvPr/>
                </p:nvSpPr>
                <p:spPr>
                  <a:xfrm flipH="1" flipV="1">
                    <a:off x="4307760" y="2135520"/>
                    <a:ext cx="756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9" name=""/>
                  <p:cNvSpPr/>
                  <p:nvPr/>
                </p:nvSpPr>
                <p:spPr>
                  <a:xfrm flipV="1">
                    <a:off x="4317120" y="2177280"/>
                    <a:ext cx="39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0" name=""/>
                  <p:cNvSpPr/>
                  <p:nvPr/>
                </p:nvSpPr>
                <p:spPr>
                  <a:xfrm flipH="1" flipV="1">
                    <a:off x="4297320" y="2160360"/>
                    <a:ext cx="11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1" name=""/>
                  <p:cNvSpPr/>
                  <p:nvPr/>
                </p:nvSpPr>
                <p:spPr>
                  <a:xfrm flipV="1">
                    <a:off x="4313160" y="2146680"/>
                    <a:ext cx="14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2" name=""/>
                <p:cNvGrpSpPr/>
                <p:nvPr/>
              </p:nvGrpSpPr>
              <p:grpSpPr>
                <a:xfrm>
                  <a:off x="4487040" y="2178360"/>
                  <a:ext cx="144720" cy="131400"/>
                  <a:chOff x="4487040" y="2178360"/>
                  <a:chExt cx="144720" cy="131400"/>
                </a:xfrm>
              </p:grpSpPr>
              <p:sp>
                <p:nvSpPr>
                  <p:cNvPr id="10073" name=""/>
                  <p:cNvSpPr/>
                  <p:nvPr/>
                </p:nvSpPr>
                <p:spPr>
                  <a:xfrm rot="3783000">
                    <a:off x="4515120" y="21852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4" name=""/>
                  <p:cNvSpPr/>
                  <p:nvPr/>
                </p:nvSpPr>
                <p:spPr>
                  <a:xfrm flipV="1">
                    <a:off x="4533480" y="2220480"/>
                    <a:ext cx="3420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5" name=""/>
                  <p:cNvSpPr/>
                  <p:nvPr/>
                </p:nvSpPr>
                <p:spPr>
                  <a:xfrm flipV="1">
                    <a:off x="4549320" y="226368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6" name=""/>
                  <p:cNvSpPr/>
                  <p:nvPr/>
                </p:nvSpPr>
                <p:spPr>
                  <a:xfrm flipH="1" flipV="1">
                    <a:off x="4546800" y="2237760"/>
                    <a:ext cx="36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7" name=""/>
                  <p:cNvSpPr/>
                  <p:nvPr/>
                </p:nvSpPr>
                <p:spPr>
                  <a:xfrm flipV="1">
                    <a:off x="4561560" y="2233080"/>
                    <a:ext cx="68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8" name=""/>
                <p:cNvGrpSpPr/>
                <p:nvPr/>
              </p:nvGrpSpPr>
              <p:grpSpPr>
                <a:xfrm>
                  <a:off x="4439880" y="2106360"/>
                  <a:ext cx="145080" cy="145440"/>
                  <a:chOff x="4439880" y="2106360"/>
                  <a:chExt cx="145080" cy="145440"/>
                </a:xfrm>
              </p:grpSpPr>
              <p:sp>
                <p:nvSpPr>
                  <p:cNvPr id="10079" name=""/>
                  <p:cNvSpPr/>
                  <p:nvPr/>
                </p:nvSpPr>
                <p:spPr>
                  <a:xfrm rot="2654400">
                    <a:off x="4467960" y="2120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0" name=""/>
                  <p:cNvSpPr/>
                  <p:nvPr/>
                </p:nvSpPr>
                <p:spPr>
                  <a:xfrm flipV="1">
                    <a:off x="4506480" y="2154240"/>
                    <a:ext cx="576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1" name=""/>
                  <p:cNvSpPr/>
                  <p:nvPr/>
                </p:nvSpPr>
                <p:spPr>
                  <a:xfrm flipV="1">
                    <a:off x="4512600" y="219744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2" name=""/>
                  <p:cNvSpPr/>
                  <p:nvPr/>
                </p:nvSpPr>
                <p:spPr>
                  <a:xfrm flipH="1" flipV="1">
                    <a:off x="4498200" y="217728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3" name=""/>
                  <p:cNvSpPr/>
                  <p:nvPr/>
                </p:nvSpPr>
                <p:spPr>
                  <a:xfrm flipV="1">
                    <a:off x="4514040" y="216648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84" name=""/>
                <p:cNvGrpSpPr/>
                <p:nvPr/>
              </p:nvGrpSpPr>
              <p:grpSpPr>
                <a:xfrm>
                  <a:off x="4366440" y="2162160"/>
                  <a:ext cx="146520" cy="140760"/>
                  <a:chOff x="4366440" y="2162160"/>
                  <a:chExt cx="146520" cy="140760"/>
                </a:xfrm>
              </p:grpSpPr>
              <p:sp>
                <p:nvSpPr>
                  <p:cNvPr id="10085" name=""/>
                  <p:cNvSpPr/>
                  <p:nvPr/>
                </p:nvSpPr>
                <p:spPr>
                  <a:xfrm rot="3174000">
                    <a:off x="4395600" y="21736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6" name=""/>
                  <p:cNvSpPr/>
                  <p:nvPr/>
                </p:nvSpPr>
                <p:spPr>
                  <a:xfrm flipV="1">
                    <a:off x="4424400" y="2208240"/>
                    <a:ext cx="19080" cy="86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7" name=""/>
                  <p:cNvSpPr/>
                  <p:nvPr/>
                </p:nvSpPr>
                <p:spPr>
                  <a:xfrm flipV="1">
                    <a:off x="4435200" y="2251800"/>
                    <a:ext cx="90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8" name=""/>
                  <p:cNvSpPr/>
                  <p:nvPr/>
                </p:nvSpPr>
                <p:spPr>
                  <a:xfrm flipH="1" flipV="1">
                    <a:off x="4426200" y="2228760"/>
                    <a:ext cx="64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9" name=""/>
                  <p:cNvSpPr/>
                  <p:nvPr/>
                </p:nvSpPr>
                <p:spPr>
                  <a:xfrm flipV="1">
                    <a:off x="4441320" y="2220480"/>
                    <a:ext cx="50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0" name=""/>
                <p:cNvGrpSpPr/>
                <p:nvPr/>
              </p:nvGrpSpPr>
              <p:grpSpPr>
                <a:xfrm>
                  <a:off x="4461120" y="2289600"/>
                  <a:ext cx="131400" cy="108000"/>
                  <a:chOff x="4461120" y="2289600"/>
                  <a:chExt cx="131400" cy="108000"/>
                </a:xfrm>
              </p:grpSpPr>
              <p:sp>
                <p:nvSpPr>
                  <p:cNvPr id="10091" name=""/>
                  <p:cNvSpPr/>
                  <p:nvPr/>
                </p:nvSpPr>
                <p:spPr>
                  <a:xfrm rot="4758000">
                    <a:off x="4482720" y="22849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2" name=""/>
                  <p:cNvSpPr/>
                  <p:nvPr/>
                </p:nvSpPr>
                <p:spPr>
                  <a:xfrm flipV="1">
                    <a:off x="4485600" y="2323440"/>
                    <a:ext cx="5580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3" name=""/>
                  <p:cNvSpPr/>
                  <p:nvPr/>
                </p:nvSpPr>
                <p:spPr>
                  <a:xfrm flipV="1">
                    <a:off x="4508280" y="236268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4" name=""/>
                  <p:cNvSpPr/>
                  <p:nvPr/>
                </p:nvSpPr>
                <p:spPr>
                  <a:xfrm flipV="1">
                    <a:off x="4515120" y="233424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5" name=""/>
                  <p:cNvSpPr/>
                  <p:nvPr/>
                </p:nvSpPr>
                <p:spPr>
                  <a:xfrm flipV="1">
                    <a:off x="4529520" y="2335680"/>
                    <a:ext cx="90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96" name=""/>
                <p:cNvGrpSpPr/>
                <p:nvPr/>
              </p:nvGrpSpPr>
              <p:grpSpPr>
                <a:xfrm>
                  <a:off x="4258800" y="2321640"/>
                  <a:ext cx="151200" cy="124560"/>
                  <a:chOff x="4258800" y="2321640"/>
                  <a:chExt cx="151200" cy="124560"/>
                </a:xfrm>
              </p:grpSpPr>
              <p:sp>
                <p:nvSpPr>
                  <p:cNvPr id="10097" name=""/>
                  <p:cNvSpPr/>
                  <p:nvPr/>
                </p:nvSpPr>
                <p:spPr>
                  <a:xfrm rot="6808800">
                    <a:off x="4294800" y="23184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8" name=""/>
                  <p:cNvSpPr/>
                  <p:nvPr/>
                </p:nvSpPr>
                <p:spPr>
                  <a:xfrm flipV="1">
                    <a:off x="4268880" y="2378160"/>
                    <a:ext cx="900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9" name=""/>
                  <p:cNvSpPr/>
                  <p:nvPr/>
                </p:nvSpPr>
                <p:spPr>
                  <a:xfrm>
                    <a:off x="4301640" y="2392920"/>
                    <a:ext cx="18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0" name=""/>
                  <p:cNvSpPr/>
                  <p:nvPr/>
                </p:nvSpPr>
                <p:spPr>
                  <a:xfrm flipV="1">
                    <a:off x="4318560" y="237096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1" name=""/>
                  <p:cNvSpPr/>
                  <p:nvPr/>
                </p:nvSpPr>
                <p:spPr>
                  <a:xfrm>
                    <a:off x="4336920" y="2385360"/>
                    <a:ext cx="126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2" name=""/>
                <p:cNvGrpSpPr/>
                <p:nvPr/>
              </p:nvGrpSpPr>
              <p:grpSpPr>
                <a:xfrm>
                  <a:off x="4147200" y="2449440"/>
                  <a:ext cx="145800" cy="144720"/>
                  <a:chOff x="4147200" y="2449440"/>
                  <a:chExt cx="145800" cy="144720"/>
                </a:xfrm>
              </p:grpSpPr>
              <p:sp>
                <p:nvSpPr>
                  <p:cNvPr id="10103" name=""/>
                  <p:cNvSpPr/>
                  <p:nvPr/>
                </p:nvSpPr>
                <p:spPr>
                  <a:xfrm rot="13605600">
                    <a:off x="4176000" y="2463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4" name=""/>
                  <p:cNvSpPr/>
                  <p:nvPr/>
                </p:nvSpPr>
                <p:spPr>
                  <a:xfrm flipH="1">
                    <a:off x="4219200" y="2458440"/>
                    <a:ext cx="97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5" name=""/>
                  <p:cNvSpPr/>
                  <p:nvPr/>
                </p:nvSpPr>
                <p:spPr>
                  <a:xfrm flipH="1">
                    <a:off x="4213800" y="24886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6" name=""/>
                  <p:cNvSpPr/>
                  <p:nvPr/>
                </p:nvSpPr>
                <p:spPr>
                  <a:xfrm>
                    <a:off x="4226040" y="2508480"/>
                    <a:ext cx="82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7" name=""/>
                  <p:cNvSpPr/>
                  <p:nvPr/>
                </p:nvSpPr>
                <p:spPr>
                  <a:xfrm flipH="1">
                    <a:off x="4214520" y="2523240"/>
                    <a:ext cx="36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8" name=""/>
                <p:cNvGrpSpPr/>
                <p:nvPr/>
              </p:nvGrpSpPr>
              <p:grpSpPr>
                <a:xfrm>
                  <a:off x="4043160" y="2388600"/>
                  <a:ext cx="146520" cy="143640"/>
                  <a:chOff x="4043160" y="2388600"/>
                  <a:chExt cx="146520" cy="143640"/>
                </a:xfrm>
              </p:grpSpPr>
              <p:sp>
                <p:nvSpPr>
                  <p:cNvPr id="10109" name=""/>
                  <p:cNvSpPr/>
                  <p:nvPr/>
                </p:nvSpPr>
                <p:spPr>
                  <a:xfrm rot="13725600">
                    <a:off x="4072320" y="24015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0" name=""/>
                  <p:cNvSpPr/>
                  <p:nvPr/>
                </p:nvSpPr>
                <p:spPr>
                  <a:xfrm flipH="1">
                    <a:off x="4114440" y="2397240"/>
                    <a:ext cx="1260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1" name=""/>
                  <p:cNvSpPr/>
                  <p:nvPr/>
                </p:nvSpPr>
                <p:spPr>
                  <a:xfrm flipH="1">
                    <a:off x="4110840" y="242712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2" name=""/>
                  <p:cNvSpPr/>
                  <p:nvPr/>
                </p:nvSpPr>
                <p:spPr>
                  <a:xfrm>
                    <a:off x="4122720" y="2446920"/>
                    <a:ext cx="75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3" name=""/>
                  <p:cNvSpPr/>
                  <p:nvPr/>
                </p:nvSpPr>
                <p:spPr>
                  <a:xfrm flipH="1">
                    <a:off x="4110120" y="2461680"/>
                    <a:ext cx="39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14" name=""/>
                <p:cNvGrpSpPr/>
                <p:nvPr/>
              </p:nvGrpSpPr>
              <p:grpSpPr>
                <a:xfrm>
                  <a:off x="4202640" y="2190240"/>
                  <a:ext cx="153000" cy="135720"/>
                  <a:chOff x="4202640" y="2190240"/>
                  <a:chExt cx="153000" cy="135720"/>
                </a:xfrm>
              </p:grpSpPr>
              <p:sp>
                <p:nvSpPr>
                  <p:cNvPr id="10115" name=""/>
                  <p:cNvSpPr/>
                  <p:nvPr/>
                </p:nvSpPr>
                <p:spPr>
                  <a:xfrm rot="7298400">
                    <a:off x="4239720" y="2192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6" name=""/>
                  <p:cNvSpPr/>
                  <p:nvPr/>
                </p:nvSpPr>
                <p:spPr>
                  <a:xfrm flipV="1">
                    <a:off x="4212720" y="2255760"/>
                    <a:ext cx="914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7" name=""/>
                  <p:cNvSpPr/>
                  <p:nvPr/>
                </p:nvSpPr>
                <p:spPr>
                  <a:xfrm>
                    <a:off x="4245840" y="2262600"/>
                    <a:ext cx="1728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8" name=""/>
                  <p:cNvSpPr/>
                  <p:nvPr/>
                </p:nvSpPr>
                <p:spPr>
                  <a:xfrm flipV="1">
                    <a:off x="4263840" y="22449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9" name=""/>
                  <p:cNvSpPr/>
                  <p:nvPr/>
                </p:nvSpPr>
                <p:spPr>
                  <a:xfrm>
                    <a:off x="4281120" y="225972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0" name=""/>
                <p:cNvGrpSpPr/>
                <p:nvPr/>
              </p:nvGrpSpPr>
              <p:grpSpPr>
                <a:xfrm>
                  <a:off x="4344840" y="2159640"/>
                  <a:ext cx="141120" cy="124560"/>
                  <a:chOff x="4344840" y="2159640"/>
                  <a:chExt cx="141120" cy="124560"/>
                </a:xfrm>
              </p:grpSpPr>
              <p:sp>
                <p:nvSpPr>
                  <p:cNvPr id="10121" name=""/>
                  <p:cNvSpPr/>
                  <p:nvPr/>
                </p:nvSpPr>
                <p:spPr>
                  <a:xfrm rot="6663000">
                    <a:off x="4371120" y="2162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2" name=""/>
                  <p:cNvSpPr/>
                  <p:nvPr/>
                </p:nvSpPr>
                <p:spPr>
                  <a:xfrm flipV="1">
                    <a:off x="4354560" y="2212200"/>
                    <a:ext cx="83880" cy="29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3" name=""/>
                  <p:cNvSpPr/>
                  <p:nvPr/>
                </p:nvSpPr>
                <p:spPr>
                  <a:xfrm>
                    <a:off x="4385160" y="2235600"/>
                    <a:ext cx="165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4" name=""/>
                  <p:cNvSpPr/>
                  <p:nvPr/>
                </p:nvSpPr>
                <p:spPr>
                  <a:xfrm flipV="1">
                    <a:off x="4400640" y="2208240"/>
                    <a:ext cx="1116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5" name=""/>
                  <p:cNvSpPr/>
                  <p:nvPr/>
                </p:nvSpPr>
                <p:spPr>
                  <a:xfrm flipV="1">
                    <a:off x="4417560" y="2221560"/>
                    <a:ext cx="1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6" name=""/>
                <p:cNvGrpSpPr/>
                <p:nvPr/>
              </p:nvGrpSpPr>
              <p:grpSpPr>
                <a:xfrm>
                  <a:off x="4489920" y="2183760"/>
                  <a:ext cx="138960" cy="120600"/>
                  <a:chOff x="4489920" y="2183760"/>
                  <a:chExt cx="138960" cy="120600"/>
                </a:xfrm>
              </p:grpSpPr>
              <p:sp>
                <p:nvSpPr>
                  <p:cNvPr id="10127" name=""/>
                  <p:cNvSpPr/>
                  <p:nvPr/>
                </p:nvSpPr>
                <p:spPr>
                  <a:xfrm rot="6502800">
                    <a:off x="4515120" y="21852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8" name=""/>
                  <p:cNvSpPr/>
                  <p:nvPr/>
                </p:nvSpPr>
                <p:spPr>
                  <a:xfrm flipV="1">
                    <a:off x="4499280" y="2233440"/>
                    <a:ext cx="82800" cy="33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9" name=""/>
                  <p:cNvSpPr/>
                  <p:nvPr/>
                </p:nvSpPr>
                <p:spPr>
                  <a:xfrm flipV="1">
                    <a:off x="4529520" y="22586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0" name=""/>
                  <p:cNvSpPr/>
                  <p:nvPr/>
                </p:nvSpPr>
                <p:spPr>
                  <a:xfrm flipV="1">
                    <a:off x="4545000" y="223092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1" name=""/>
                  <p:cNvSpPr/>
                  <p:nvPr/>
                </p:nvSpPr>
                <p:spPr>
                  <a:xfrm flipV="1">
                    <a:off x="4561920" y="2242800"/>
                    <a:ext cx="115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2" name=""/>
                <p:cNvGrpSpPr/>
                <p:nvPr/>
              </p:nvGrpSpPr>
              <p:grpSpPr>
                <a:xfrm>
                  <a:off x="4531320" y="2240280"/>
                  <a:ext cx="152640" cy="132480"/>
                  <a:chOff x="4531320" y="2240280"/>
                  <a:chExt cx="152640" cy="132480"/>
                </a:xfrm>
              </p:grpSpPr>
              <p:sp>
                <p:nvSpPr>
                  <p:cNvPr id="10133" name=""/>
                  <p:cNvSpPr/>
                  <p:nvPr/>
                </p:nvSpPr>
                <p:spPr>
                  <a:xfrm rot="7135200">
                    <a:off x="4568040" y="22410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4" name=""/>
                  <p:cNvSpPr/>
                  <p:nvPr/>
                </p:nvSpPr>
                <p:spPr>
                  <a:xfrm flipV="1">
                    <a:off x="4541400" y="2302560"/>
                    <a:ext cx="914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5" name=""/>
                  <p:cNvSpPr/>
                  <p:nvPr/>
                </p:nvSpPr>
                <p:spPr>
                  <a:xfrm>
                    <a:off x="4574520" y="2311920"/>
                    <a:ext cx="176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6" name=""/>
                  <p:cNvSpPr/>
                  <p:nvPr/>
                </p:nvSpPr>
                <p:spPr>
                  <a:xfrm flipV="1">
                    <a:off x="4592160" y="229284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7" name=""/>
                  <p:cNvSpPr/>
                  <p:nvPr/>
                </p:nvSpPr>
                <p:spPr>
                  <a:xfrm>
                    <a:off x="4610160" y="230796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38" name=""/>
              <p:cNvGrpSpPr/>
              <p:nvPr/>
            </p:nvGrpSpPr>
            <p:grpSpPr>
              <a:xfrm>
                <a:off x="3456000" y="1822680"/>
                <a:ext cx="571320" cy="637200"/>
                <a:chOff x="3456000" y="1822680"/>
                <a:chExt cx="571320" cy="637200"/>
              </a:xfrm>
            </p:grpSpPr>
            <p:grpSp>
              <p:nvGrpSpPr>
                <p:cNvPr id="10139" name=""/>
                <p:cNvGrpSpPr/>
                <p:nvPr/>
              </p:nvGrpSpPr>
              <p:grpSpPr>
                <a:xfrm>
                  <a:off x="3772440" y="1983240"/>
                  <a:ext cx="138240" cy="118800"/>
                  <a:chOff x="3772440" y="1983240"/>
                  <a:chExt cx="138240" cy="118800"/>
                </a:xfrm>
              </p:grpSpPr>
              <p:sp>
                <p:nvSpPr>
                  <p:cNvPr id="10140" name=""/>
                  <p:cNvSpPr/>
                  <p:nvPr/>
                </p:nvSpPr>
                <p:spPr>
                  <a:xfrm rot="6426000">
                    <a:off x="3797280" y="1983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1" name=""/>
                  <p:cNvSpPr/>
                  <p:nvPr/>
                </p:nvSpPr>
                <p:spPr>
                  <a:xfrm flipV="1">
                    <a:off x="3782160" y="2031120"/>
                    <a:ext cx="81720" cy="35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2" name=""/>
                  <p:cNvSpPr/>
                  <p:nvPr/>
                </p:nvSpPr>
                <p:spPr>
                  <a:xfrm flipV="1">
                    <a:off x="3812040" y="20574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3" name=""/>
                  <p:cNvSpPr/>
                  <p:nvPr/>
                </p:nvSpPr>
                <p:spPr>
                  <a:xfrm flipV="1">
                    <a:off x="3826800" y="2029320"/>
                    <a:ext cx="100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4" name=""/>
                  <p:cNvSpPr/>
                  <p:nvPr/>
                </p:nvSpPr>
                <p:spPr>
                  <a:xfrm flipV="1">
                    <a:off x="3843720" y="2041200"/>
                    <a:ext cx="11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45" name=""/>
                <p:cNvSpPr/>
                <p:nvPr/>
              </p:nvSpPr>
              <p:spPr>
                <a:xfrm flipH="1" flipV="1">
                  <a:off x="3627000" y="2157120"/>
                  <a:ext cx="154800" cy="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6" name=""/>
                <p:cNvSpPr/>
                <p:nvPr/>
              </p:nvSpPr>
              <p:spPr>
                <a:xfrm rot="2610600">
                  <a:off x="3484080" y="208872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7" name=""/>
                <p:cNvSpPr/>
                <p:nvPr/>
              </p:nvSpPr>
              <p:spPr>
                <a:xfrm flipV="1">
                  <a:off x="3732840" y="1973880"/>
                  <a:ext cx="43560" cy="14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8" name=""/>
                <p:cNvSpPr/>
                <p:nvPr/>
              </p:nvSpPr>
              <p:spPr>
                <a:xfrm flipV="1">
                  <a:off x="3777480" y="2190600"/>
                  <a:ext cx="8532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9" name=""/>
                <p:cNvSpPr/>
                <p:nvPr/>
              </p:nvSpPr>
              <p:spPr>
                <a:xfrm flipH="1">
                  <a:off x="3651840" y="2203200"/>
                  <a:ext cx="522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0" name=""/>
                <p:cNvSpPr/>
                <p:nvPr/>
              </p:nvSpPr>
              <p:spPr>
                <a:xfrm flipH="1" flipV="1">
                  <a:off x="3731760" y="2174760"/>
                  <a:ext cx="2448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1" name=""/>
                <p:cNvSpPr/>
                <p:nvPr/>
              </p:nvSpPr>
              <p:spPr>
                <a:xfrm flipH="1" flipV="1">
                  <a:off x="3737160" y="1963800"/>
                  <a:ext cx="10800" cy="91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2" name=""/>
                <p:cNvSpPr/>
                <p:nvPr/>
              </p:nvSpPr>
              <p:spPr>
                <a:xfrm flipV="1">
                  <a:off x="3747600" y="2050920"/>
                  <a:ext cx="52920" cy="30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3" name=""/>
                <p:cNvSpPr/>
                <p:nvPr/>
              </p:nvSpPr>
              <p:spPr>
                <a:xfrm flipH="1" flipV="1">
                  <a:off x="3604680" y="2027520"/>
                  <a:ext cx="6480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4" name=""/>
                <p:cNvSpPr/>
                <p:nvPr/>
              </p:nvSpPr>
              <p:spPr>
                <a:xfrm flipH="1" flipV="1">
                  <a:off x="3797640" y="2156400"/>
                  <a:ext cx="21960" cy="155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5" name=""/>
                <p:cNvSpPr/>
                <p:nvPr/>
              </p:nvSpPr>
              <p:spPr>
                <a:xfrm flipV="1">
                  <a:off x="3808800" y="2180880"/>
                  <a:ext cx="1440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6" name=""/>
                <p:cNvSpPr/>
                <p:nvPr/>
              </p:nvSpPr>
              <p:spPr>
                <a:xfrm flipV="1">
                  <a:off x="3805560" y="2307600"/>
                  <a:ext cx="66600" cy="45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7" name=""/>
                <p:cNvSpPr/>
                <p:nvPr/>
              </p:nvSpPr>
              <p:spPr>
                <a:xfrm flipV="1">
                  <a:off x="3848040" y="2188440"/>
                  <a:ext cx="40680" cy="42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8" name=""/>
                <p:cNvSpPr/>
                <p:nvPr/>
              </p:nvSpPr>
              <p:spPr>
                <a:xfrm flipH="1" flipV="1">
                  <a:off x="3715200" y="2294640"/>
                  <a:ext cx="64080" cy="33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9" name=""/>
                <p:cNvSpPr/>
                <p:nvPr/>
              </p:nvSpPr>
              <p:spPr>
                <a:xfrm flipH="1" flipV="1">
                  <a:off x="3655800" y="2075760"/>
                  <a:ext cx="5148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0" name=""/>
                <p:cNvSpPr/>
                <p:nvPr/>
              </p:nvSpPr>
              <p:spPr>
                <a:xfrm flipV="1">
                  <a:off x="3657600" y="1956240"/>
                  <a:ext cx="140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61" name=""/>
                <p:cNvGrpSpPr/>
                <p:nvPr/>
              </p:nvGrpSpPr>
              <p:grpSpPr>
                <a:xfrm>
                  <a:off x="3740760" y="1881720"/>
                  <a:ext cx="148320" cy="114480"/>
                  <a:chOff x="3740760" y="1881720"/>
                  <a:chExt cx="148320" cy="114480"/>
                </a:xfrm>
              </p:grpSpPr>
              <p:sp>
                <p:nvSpPr>
                  <p:cNvPr id="10162" name=""/>
                  <p:cNvSpPr/>
                  <p:nvPr/>
                </p:nvSpPr>
                <p:spPr>
                  <a:xfrm rot="4356000">
                    <a:off x="3775320" y="18730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3" name=""/>
                  <p:cNvSpPr/>
                  <p:nvPr/>
                </p:nvSpPr>
                <p:spPr>
                  <a:xfrm flipV="1">
                    <a:off x="3773160" y="1918440"/>
                    <a:ext cx="5652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4" name=""/>
                  <p:cNvSpPr/>
                  <p:nvPr/>
                </p:nvSpPr>
                <p:spPr>
                  <a:xfrm flipV="1">
                    <a:off x="3796200" y="1956960"/>
                    <a:ext cx="15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5" name=""/>
                  <p:cNvSpPr/>
                  <p:nvPr/>
                </p:nvSpPr>
                <p:spPr>
                  <a:xfrm flipV="1">
                    <a:off x="3802680" y="1932120"/>
                    <a:ext cx="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6" name=""/>
                  <p:cNvSpPr/>
                  <p:nvPr/>
                </p:nvSpPr>
                <p:spPr>
                  <a:xfrm flipV="1">
                    <a:off x="3817440" y="193032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7" name=""/>
                <p:cNvGrpSpPr/>
                <p:nvPr/>
              </p:nvGrpSpPr>
              <p:grpSpPr>
                <a:xfrm>
                  <a:off x="3659400" y="2043000"/>
                  <a:ext cx="118800" cy="150120"/>
                  <a:chOff x="3659400" y="2043000"/>
                  <a:chExt cx="118800" cy="150120"/>
                </a:xfrm>
              </p:grpSpPr>
              <p:sp>
                <p:nvSpPr>
                  <p:cNvPr id="10168" name=""/>
                  <p:cNvSpPr/>
                  <p:nvPr/>
                </p:nvSpPr>
                <p:spPr>
                  <a:xfrm rot="1197600">
                    <a:off x="3679200" y="20523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9" name=""/>
                  <p:cNvSpPr/>
                  <p:nvPr/>
                </p:nvSpPr>
                <p:spPr>
                  <a:xfrm flipH="1" flipV="1">
                    <a:off x="3711240" y="2093760"/>
                    <a:ext cx="230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0" name=""/>
                  <p:cNvSpPr/>
                  <p:nvPr/>
                </p:nvSpPr>
                <p:spPr>
                  <a:xfrm flipV="1">
                    <a:off x="3729600" y="213192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1" name=""/>
                  <p:cNvSpPr/>
                  <p:nvPr/>
                </p:nvSpPr>
                <p:spPr>
                  <a:xfrm flipH="1" flipV="1">
                    <a:off x="3706200" y="212292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2" name=""/>
                  <p:cNvSpPr/>
                  <p:nvPr/>
                </p:nvSpPr>
                <p:spPr>
                  <a:xfrm flipH="1" flipV="1">
                    <a:off x="3719160" y="210312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3" name=""/>
                <p:cNvGrpSpPr/>
                <p:nvPr/>
              </p:nvGrpSpPr>
              <p:grpSpPr>
                <a:xfrm>
                  <a:off x="3737880" y="2022840"/>
                  <a:ext cx="147240" cy="149040"/>
                  <a:chOff x="3737880" y="2022840"/>
                  <a:chExt cx="147240" cy="149040"/>
                </a:xfrm>
              </p:grpSpPr>
              <p:sp>
                <p:nvSpPr>
                  <p:cNvPr id="10174" name=""/>
                  <p:cNvSpPr/>
                  <p:nvPr/>
                </p:nvSpPr>
                <p:spPr>
                  <a:xfrm rot="2610600">
                    <a:off x="3771720" y="20318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5" name=""/>
                  <p:cNvSpPr/>
                  <p:nvPr/>
                </p:nvSpPr>
                <p:spPr>
                  <a:xfrm flipV="1">
                    <a:off x="3799440" y="2072520"/>
                    <a:ext cx="14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6" name=""/>
                  <p:cNvSpPr/>
                  <p:nvPr/>
                </p:nvSpPr>
                <p:spPr>
                  <a:xfrm flipV="1">
                    <a:off x="3808440" y="2115000"/>
                    <a:ext cx="82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7" name=""/>
                  <p:cNvSpPr/>
                  <p:nvPr/>
                </p:nvSpPr>
                <p:spPr>
                  <a:xfrm flipH="1" flipV="1">
                    <a:off x="3797640" y="2097000"/>
                    <a:ext cx="72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8" name=""/>
                  <p:cNvSpPr/>
                  <p:nvPr/>
                </p:nvSpPr>
                <p:spPr>
                  <a:xfrm flipV="1">
                    <a:off x="3813480" y="2083680"/>
                    <a:ext cx="39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9" name=""/>
                <p:cNvGrpSpPr/>
                <p:nvPr/>
              </p:nvGrpSpPr>
              <p:grpSpPr>
                <a:xfrm>
                  <a:off x="3489840" y="2086200"/>
                  <a:ext cx="146880" cy="140400"/>
                  <a:chOff x="3489840" y="2086200"/>
                  <a:chExt cx="146880" cy="140400"/>
                </a:xfrm>
              </p:grpSpPr>
              <p:sp>
                <p:nvSpPr>
                  <p:cNvPr id="10180" name=""/>
                  <p:cNvSpPr/>
                  <p:nvPr/>
                </p:nvSpPr>
                <p:spPr>
                  <a:xfrm rot="18379800">
                    <a:off x="3519000" y="2097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1" name=""/>
                  <p:cNvSpPr/>
                  <p:nvPr/>
                </p:nvSpPr>
                <p:spPr>
                  <a:xfrm flipH="1">
                    <a:off x="3538080" y="2153160"/>
                    <a:ext cx="889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2" name=""/>
                  <p:cNvSpPr/>
                  <p:nvPr/>
                </p:nvSpPr>
                <p:spPr>
                  <a:xfrm flipH="1" flipV="1">
                    <a:off x="3579840" y="21466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3" name=""/>
                  <p:cNvSpPr/>
                  <p:nvPr/>
                </p:nvSpPr>
                <p:spPr>
                  <a:xfrm flipH="1">
                    <a:off x="3562920" y="215964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4" name=""/>
                  <p:cNvSpPr/>
                  <p:nvPr/>
                </p:nvSpPr>
                <p:spPr>
                  <a:xfrm flipH="1" flipV="1">
                    <a:off x="3549240" y="2152800"/>
                    <a:ext cx="1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5" name=""/>
                <p:cNvGrpSpPr/>
                <p:nvPr/>
              </p:nvGrpSpPr>
              <p:grpSpPr>
                <a:xfrm>
                  <a:off x="3611520" y="1822680"/>
                  <a:ext cx="147600" cy="149400"/>
                  <a:chOff x="3611520" y="1822680"/>
                  <a:chExt cx="147600" cy="149400"/>
                </a:xfrm>
              </p:grpSpPr>
              <p:sp>
                <p:nvSpPr>
                  <p:cNvPr id="10186" name=""/>
                  <p:cNvSpPr/>
                  <p:nvPr/>
                </p:nvSpPr>
                <p:spPr>
                  <a:xfrm rot="2610600">
                    <a:off x="3645720" y="1831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7" name=""/>
                  <p:cNvSpPr/>
                  <p:nvPr/>
                </p:nvSpPr>
                <p:spPr>
                  <a:xfrm flipV="1">
                    <a:off x="3673800" y="1872360"/>
                    <a:ext cx="14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8" name=""/>
                  <p:cNvSpPr/>
                  <p:nvPr/>
                </p:nvSpPr>
                <p:spPr>
                  <a:xfrm flipV="1">
                    <a:off x="3682800" y="1914840"/>
                    <a:ext cx="82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9" name=""/>
                  <p:cNvSpPr/>
                  <p:nvPr/>
                </p:nvSpPr>
                <p:spPr>
                  <a:xfrm flipH="1" flipV="1">
                    <a:off x="3672000" y="1896840"/>
                    <a:ext cx="720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0" name=""/>
                  <p:cNvSpPr/>
                  <p:nvPr/>
                </p:nvSpPr>
                <p:spPr>
                  <a:xfrm flipV="1">
                    <a:off x="3687480" y="18838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1" name=""/>
                <p:cNvGrpSpPr/>
                <p:nvPr/>
              </p:nvGrpSpPr>
              <p:grpSpPr>
                <a:xfrm>
                  <a:off x="3801960" y="2056680"/>
                  <a:ext cx="147600" cy="149400"/>
                  <a:chOff x="3801960" y="2056680"/>
                  <a:chExt cx="147600" cy="149400"/>
                </a:xfrm>
              </p:grpSpPr>
              <p:sp>
                <p:nvSpPr>
                  <p:cNvPr id="10192" name=""/>
                  <p:cNvSpPr/>
                  <p:nvPr/>
                </p:nvSpPr>
                <p:spPr>
                  <a:xfrm rot="2610600">
                    <a:off x="3836160" y="2065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3" name=""/>
                  <p:cNvSpPr/>
                  <p:nvPr/>
                </p:nvSpPr>
                <p:spPr>
                  <a:xfrm flipV="1">
                    <a:off x="3864240" y="2106360"/>
                    <a:ext cx="14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4" name=""/>
                  <p:cNvSpPr/>
                  <p:nvPr/>
                </p:nvSpPr>
                <p:spPr>
                  <a:xfrm flipV="1">
                    <a:off x="3872880" y="2149200"/>
                    <a:ext cx="82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5" name=""/>
                  <p:cNvSpPr/>
                  <p:nvPr/>
                </p:nvSpPr>
                <p:spPr>
                  <a:xfrm flipH="1" flipV="1">
                    <a:off x="3862080" y="2130840"/>
                    <a:ext cx="72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6" name=""/>
                  <p:cNvSpPr/>
                  <p:nvPr/>
                </p:nvSpPr>
                <p:spPr>
                  <a:xfrm flipV="1">
                    <a:off x="3877560" y="21178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7" name=""/>
                <p:cNvGrpSpPr/>
                <p:nvPr/>
              </p:nvGrpSpPr>
              <p:grpSpPr>
                <a:xfrm>
                  <a:off x="3677040" y="1830240"/>
                  <a:ext cx="147240" cy="149040"/>
                  <a:chOff x="3677040" y="1830240"/>
                  <a:chExt cx="147240" cy="149040"/>
                </a:xfrm>
              </p:grpSpPr>
              <p:sp>
                <p:nvSpPr>
                  <p:cNvPr id="10198" name=""/>
                  <p:cNvSpPr/>
                  <p:nvPr/>
                </p:nvSpPr>
                <p:spPr>
                  <a:xfrm rot="2610600">
                    <a:off x="3710880" y="18392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9" name=""/>
                  <p:cNvSpPr/>
                  <p:nvPr/>
                </p:nvSpPr>
                <p:spPr>
                  <a:xfrm flipV="1">
                    <a:off x="3738960" y="1879920"/>
                    <a:ext cx="14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0" name=""/>
                  <p:cNvSpPr/>
                  <p:nvPr/>
                </p:nvSpPr>
                <p:spPr>
                  <a:xfrm flipV="1">
                    <a:off x="3747960" y="1922760"/>
                    <a:ext cx="82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1" name=""/>
                  <p:cNvSpPr/>
                  <p:nvPr/>
                </p:nvSpPr>
                <p:spPr>
                  <a:xfrm flipH="1" flipV="1">
                    <a:off x="3737160" y="1904400"/>
                    <a:ext cx="72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2" name=""/>
                  <p:cNvSpPr/>
                  <p:nvPr/>
                </p:nvSpPr>
                <p:spPr>
                  <a:xfrm flipV="1">
                    <a:off x="3752640" y="1891440"/>
                    <a:ext cx="43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3" name=""/>
                <p:cNvGrpSpPr/>
                <p:nvPr/>
              </p:nvGrpSpPr>
              <p:grpSpPr>
                <a:xfrm>
                  <a:off x="3565440" y="2242800"/>
                  <a:ext cx="144360" cy="131400"/>
                  <a:chOff x="3565440" y="2242800"/>
                  <a:chExt cx="144360" cy="131400"/>
                </a:xfrm>
              </p:grpSpPr>
              <p:sp>
                <p:nvSpPr>
                  <p:cNvPr id="10204" name=""/>
                  <p:cNvSpPr/>
                  <p:nvPr/>
                </p:nvSpPr>
                <p:spPr>
                  <a:xfrm rot="17808600">
                    <a:off x="3593520" y="22496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5" name=""/>
                  <p:cNvSpPr/>
                  <p:nvPr/>
                </p:nvSpPr>
                <p:spPr>
                  <a:xfrm flipH="1">
                    <a:off x="3613680" y="2294640"/>
                    <a:ext cx="86400" cy="21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6" name=""/>
                  <p:cNvSpPr/>
                  <p:nvPr/>
                </p:nvSpPr>
                <p:spPr>
                  <a:xfrm flipH="1" flipV="1">
                    <a:off x="3652560" y="229608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7" name=""/>
                  <p:cNvSpPr/>
                  <p:nvPr/>
                </p:nvSpPr>
                <p:spPr>
                  <a:xfrm flipH="1">
                    <a:off x="3639960" y="2309040"/>
                    <a:ext cx="122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8" name=""/>
                  <p:cNvSpPr/>
                  <p:nvPr/>
                </p:nvSpPr>
                <p:spPr>
                  <a:xfrm flipH="1">
                    <a:off x="3623400" y="2307600"/>
                    <a:ext cx="1188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9" name=""/>
                <p:cNvGrpSpPr/>
                <p:nvPr/>
              </p:nvGrpSpPr>
              <p:grpSpPr>
                <a:xfrm>
                  <a:off x="3520080" y="2177280"/>
                  <a:ext cx="133920" cy="111960"/>
                  <a:chOff x="3520080" y="2177280"/>
                  <a:chExt cx="133920" cy="111960"/>
                </a:xfrm>
              </p:grpSpPr>
              <p:sp>
                <p:nvSpPr>
                  <p:cNvPr id="10210" name=""/>
                  <p:cNvSpPr/>
                  <p:nvPr/>
                </p:nvSpPr>
                <p:spPr>
                  <a:xfrm rot="16969200">
                    <a:off x="3542760" y="2174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1" name=""/>
                  <p:cNvSpPr/>
                  <p:nvPr/>
                </p:nvSpPr>
                <p:spPr>
                  <a:xfrm flipH="1">
                    <a:off x="3565440" y="2205000"/>
                    <a:ext cx="7884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2" name=""/>
                  <p:cNvSpPr/>
                  <p:nvPr/>
                </p:nvSpPr>
                <p:spPr>
                  <a:xfrm flipH="1">
                    <a:off x="3598560" y="221580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3" name=""/>
                  <p:cNvSpPr/>
                  <p:nvPr/>
                </p:nvSpPr>
                <p:spPr>
                  <a:xfrm flipH="1">
                    <a:off x="3592440" y="223056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4" name=""/>
                  <p:cNvSpPr/>
                  <p:nvPr/>
                </p:nvSpPr>
                <p:spPr>
                  <a:xfrm flipH="1">
                    <a:off x="3573360" y="22323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5" name=""/>
                <p:cNvGrpSpPr/>
                <p:nvPr/>
              </p:nvGrpSpPr>
              <p:grpSpPr>
                <a:xfrm>
                  <a:off x="3495240" y="1900800"/>
                  <a:ext cx="146160" cy="142920"/>
                  <a:chOff x="3495240" y="1900800"/>
                  <a:chExt cx="146160" cy="142920"/>
                </a:xfrm>
              </p:grpSpPr>
              <p:sp>
                <p:nvSpPr>
                  <p:cNvPr id="10216" name=""/>
                  <p:cNvSpPr/>
                  <p:nvPr/>
                </p:nvSpPr>
                <p:spPr>
                  <a:xfrm rot="18621600">
                    <a:off x="3524400" y="1913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7" name=""/>
                  <p:cNvSpPr/>
                  <p:nvPr/>
                </p:nvSpPr>
                <p:spPr>
                  <a:xfrm flipH="1">
                    <a:off x="3543480" y="1973520"/>
                    <a:ext cx="892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8" name=""/>
                  <p:cNvSpPr/>
                  <p:nvPr/>
                </p:nvSpPr>
                <p:spPr>
                  <a:xfrm flipH="1" flipV="1">
                    <a:off x="3585960" y="196380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9" name=""/>
                  <p:cNvSpPr/>
                  <p:nvPr/>
                </p:nvSpPr>
                <p:spPr>
                  <a:xfrm flipH="1">
                    <a:off x="3567600" y="1976400"/>
                    <a:ext cx="151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0" name=""/>
                  <p:cNvSpPr/>
                  <p:nvPr/>
                </p:nvSpPr>
                <p:spPr>
                  <a:xfrm flipH="1" flipV="1">
                    <a:off x="3555000" y="1968480"/>
                    <a:ext cx="111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1" name=""/>
                <p:cNvGrpSpPr/>
                <p:nvPr/>
              </p:nvGrpSpPr>
              <p:grpSpPr>
                <a:xfrm>
                  <a:off x="3456000" y="1978200"/>
                  <a:ext cx="141480" cy="125280"/>
                  <a:chOff x="3456000" y="1978200"/>
                  <a:chExt cx="141480" cy="125280"/>
                </a:xfrm>
              </p:grpSpPr>
              <p:sp>
                <p:nvSpPr>
                  <p:cNvPr id="10222" name=""/>
                  <p:cNvSpPr/>
                  <p:nvPr/>
                </p:nvSpPr>
                <p:spPr>
                  <a:xfrm rot="17492400">
                    <a:off x="3482640" y="1981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3" name=""/>
                  <p:cNvSpPr/>
                  <p:nvPr/>
                </p:nvSpPr>
                <p:spPr>
                  <a:xfrm flipH="1">
                    <a:off x="3503880" y="2021400"/>
                    <a:ext cx="8424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4" name=""/>
                  <p:cNvSpPr/>
                  <p:nvPr/>
                </p:nvSpPr>
                <p:spPr>
                  <a:xfrm flipH="1" flipV="1">
                    <a:off x="3540960" y="20271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5" name=""/>
                  <p:cNvSpPr/>
                  <p:nvPr/>
                </p:nvSpPr>
                <p:spPr>
                  <a:xfrm flipH="1">
                    <a:off x="3530520" y="204048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6" name=""/>
                  <p:cNvSpPr/>
                  <p:nvPr/>
                </p:nvSpPr>
                <p:spPr>
                  <a:xfrm flipH="1">
                    <a:off x="3512880" y="2039400"/>
                    <a:ext cx="1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7" name=""/>
                <p:cNvGrpSpPr/>
                <p:nvPr/>
              </p:nvGrpSpPr>
              <p:grpSpPr>
                <a:xfrm>
                  <a:off x="3531240" y="2019600"/>
                  <a:ext cx="145440" cy="135000"/>
                  <a:chOff x="3531240" y="2019600"/>
                  <a:chExt cx="145440" cy="135000"/>
                </a:xfrm>
              </p:grpSpPr>
              <p:sp>
                <p:nvSpPr>
                  <p:cNvPr id="10228" name=""/>
                  <p:cNvSpPr/>
                  <p:nvPr/>
                </p:nvSpPr>
                <p:spPr>
                  <a:xfrm rot="18012000">
                    <a:off x="3560040" y="20282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9" name=""/>
                  <p:cNvSpPr/>
                  <p:nvPr/>
                </p:nvSpPr>
                <p:spPr>
                  <a:xfrm flipH="1">
                    <a:off x="3580200" y="2077200"/>
                    <a:ext cx="874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0" name=""/>
                  <p:cNvSpPr/>
                  <p:nvPr/>
                </p:nvSpPr>
                <p:spPr>
                  <a:xfrm flipH="1" flipV="1">
                    <a:off x="3620160" y="207576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1" name=""/>
                  <p:cNvSpPr/>
                  <p:nvPr/>
                </p:nvSpPr>
                <p:spPr>
                  <a:xfrm flipH="1">
                    <a:off x="3605760" y="2088720"/>
                    <a:ext cx="12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2" name=""/>
                  <p:cNvSpPr/>
                  <p:nvPr/>
                </p:nvSpPr>
                <p:spPr>
                  <a:xfrm flipH="1" flipV="1">
                    <a:off x="3590280" y="2085840"/>
                    <a:ext cx="115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3" name=""/>
                <p:cNvGrpSpPr/>
                <p:nvPr/>
              </p:nvGrpSpPr>
              <p:grpSpPr>
                <a:xfrm>
                  <a:off x="3603960" y="1890720"/>
                  <a:ext cx="137880" cy="146160"/>
                  <a:chOff x="3603960" y="1890720"/>
                  <a:chExt cx="137880" cy="146160"/>
                </a:xfrm>
              </p:grpSpPr>
              <p:sp>
                <p:nvSpPr>
                  <p:cNvPr id="10234" name=""/>
                  <p:cNvSpPr/>
                  <p:nvPr/>
                </p:nvSpPr>
                <p:spPr>
                  <a:xfrm rot="19596600">
                    <a:off x="3628800" y="19047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5" name=""/>
                  <p:cNvSpPr/>
                  <p:nvPr/>
                </p:nvSpPr>
                <p:spPr>
                  <a:xfrm flipH="1" flipV="1">
                    <a:off x="3648600" y="1958400"/>
                    <a:ext cx="85680" cy="24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6" name=""/>
                  <p:cNvSpPr/>
                  <p:nvPr/>
                </p:nvSpPr>
                <p:spPr>
                  <a:xfrm flipH="1" flipV="1">
                    <a:off x="3692160" y="196056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7" name=""/>
                  <p:cNvSpPr/>
                  <p:nvPr/>
                </p:nvSpPr>
                <p:spPr>
                  <a:xfrm flipH="1">
                    <a:off x="3668040" y="1971360"/>
                    <a:ext cx="172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8" name=""/>
                  <p:cNvSpPr/>
                  <p:nvPr/>
                </p:nvSpPr>
                <p:spPr>
                  <a:xfrm flipH="1" flipV="1">
                    <a:off x="3660840" y="1956240"/>
                    <a:ext cx="104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9" name=""/>
                <p:cNvGrpSpPr/>
                <p:nvPr/>
              </p:nvGrpSpPr>
              <p:grpSpPr>
                <a:xfrm>
                  <a:off x="3744000" y="2059920"/>
                  <a:ext cx="80640" cy="131760"/>
                  <a:chOff x="3744000" y="2059920"/>
                  <a:chExt cx="80640" cy="131760"/>
                </a:xfrm>
              </p:grpSpPr>
              <p:sp>
                <p:nvSpPr>
                  <p:cNvPr id="10240" name=""/>
                  <p:cNvSpPr/>
                  <p:nvPr/>
                </p:nvSpPr>
                <p:spPr>
                  <a:xfrm rot="46800">
                    <a:off x="3744720" y="20602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1" name=""/>
                  <p:cNvSpPr/>
                  <p:nvPr/>
                </p:nvSpPr>
                <p:spPr>
                  <a:xfrm flipH="1" flipV="1">
                    <a:off x="3769560" y="2105640"/>
                    <a:ext cx="5076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2" name=""/>
                  <p:cNvSpPr/>
                  <p:nvPr/>
                </p:nvSpPr>
                <p:spPr>
                  <a:xfrm flipH="1" flipV="1">
                    <a:off x="3800520" y="213516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3" name=""/>
                  <p:cNvSpPr/>
                  <p:nvPr/>
                </p:nvSpPr>
                <p:spPr>
                  <a:xfrm flipH="1" flipV="1">
                    <a:off x="3774240" y="213480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4" name=""/>
                  <p:cNvSpPr/>
                  <p:nvPr/>
                </p:nvSpPr>
                <p:spPr>
                  <a:xfrm flipH="1" flipV="1">
                    <a:off x="3779640" y="211140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5" name=""/>
                <p:cNvGrpSpPr/>
                <p:nvPr/>
              </p:nvGrpSpPr>
              <p:grpSpPr>
                <a:xfrm>
                  <a:off x="3884040" y="2113560"/>
                  <a:ext cx="143280" cy="128520"/>
                  <a:chOff x="3884040" y="2113560"/>
                  <a:chExt cx="143280" cy="128520"/>
                </a:xfrm>
              </p:grpSpPr>
              <p:sp>
                <p:nvSpPr>
                  <p:cNvPr id="10246" name=""/>
                  <p:cNvSpPr/>
                  <p:nvPr/>
                </p:nvSpPr>
                <p:spPr>
                  <a:xfrm rot="6843600">
                    <a:off x="3911400" y="2118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7" name=""/>
                  <p:cNvSpPr/>
                  <p:nvPr/>
                </p:nvSpPr>
                <p:spPr>
                  <a:xfrm flipV="1">
                    <a:off x="3893760" y="2169360"/>
                    <a:ext cx="85320" cy="25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8" name=""/>
                  <p:cNvSpPr/>
                  <p:nvPr/>
                </p:nvSpPr>
                <p:spPr>
                  <a:xfrm>
                    <a:off x="3924720" y="21898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9" name=""/>
                  <p:cNvSpPr/>
                  <p:nvPr/>
                </p:nvSpPr>
                <p:spPr>
                  <a:xfrm flipV="1">
                    <a:off x="3940920" y="2163960"/>
                    <a:ext cx="118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0" name=""/>
                  <p:cNvSpPr/>
                  <p:nvPr/>
                </p:nvSpPr>
                <p:spPr>
                  <a:xfrm flipV="1">
                    <a:off x="3957840" y="217836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1" name=""/>
                <p:cNvGrpSpPr/>
                <p:nvPr/>
              </p:nvGrpSpPr>
              <p:grpSpPr>
                <a:xfrm>
                  <a:off x="3867120" y="2232360"/>
                  <a:ext cx="144000" cy="130680"/>
                  <a:chOff x="3867120" y="2232360"/>
                  <a:chExt cx="144000" cy="130680"/>
                </a:xfrm>
              </p:grpSpPr>
              <p:sp>
                <p:nvSpPr>
                  <p:cNvPr id="10252" name=""/>
                  <p:cNvSpPr/>
                  <p:nvPr/>
                </p:nvSpPr>
                <p:spPr>
                  <a:xfrm rot="6963600">
                    <a:off x="3894840" y="2238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3" name=""/>
                  <p:cNvSpPr/>
                  <p:nvPr/>
                </p:nvSpPr>
                <p:spPr>
                  <a:xfrm flipV="1">
                    <a:off x="3876480" y="2289600"/>
                    <a:ext cx="8640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4" name=""/>
                  <p:cNvSpPr/>
                  <p:nvPr/>
                </p:nvSpPr>
                <p:spPr>
                  <a:xfrm>
                    <a:off x="3907440" y="230832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5" name=""/>
                  <p:cNvSpPr/>
                  <p:nvPr/>
                </p:nvSpPr>
                <p:spPr>
                  <a:xfrm flipV="1">
                    <a:off x="3924360" y="228348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6" name=""/>
                  <p:cNvSpPr/>
                  <p:nvPr/>
                </p:nvSpPr>
                <p:spPr>
                  <a:xfrm flipV="1">
                    <a:off x="3940920" y="2298600"/>
                    <a:ext cx="118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7" name=""/>
                <p:cNvGrpSpPr/>
                <p:nvPr/>
              </p:nvGrpSpPr>
              <p:grpSpPr>
                <a:xfrm>
                  <a:off x="3640680" y="2154600"/>
                  <a:ext cx="98280" cy="141840"/>
                  <a:chOff x="3640680" y="2154600"/>
                  <a:chExt cx="98280" cy="141840"/>
                </a:xfrm>
              </p:grpSpPr>
              <p:sp>
                <p:nvSpPr>
                  <p:cNvPr id="10258" name=""/>
                  <p:cNvSpPr/>
                  <p:nvPr/>
                </p:nvSpPr>
                <p:spPr>
                  <a:xfrm rot="536400">
                    <a:off x="3650400" y="21596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9" name=""/>
                  <p:cNvSpPr/>
                  <p:nvPr/>
                </p:nvSpPr>
                <p:spPr>
                  <a:xfrm flipH="1" flipV="1">
                    <a:off x="3677760" y="2203200"/>
                    <a:ext cx="3960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0" name=""/>
                  <p:cNvSpPr/>
                  <p:nvPr/>
                </p:nvSpPr>
                <p:spPr>
                  <a:xfrm flipH="1" flipV="1">
                    <a:off x="3704040" y="2236680"/>
                    <a:ext cx="25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1" name=""/>
                  <p:cNvSpPr/>
                  <p:nvPr/>
                </p:nvSpPr>
                <p:spPr>
                  <a:xfrm flipH="1" flipV="1">
                    <a:off x="3678120" y="223272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2" name=""/>
                  <p:cNvSpPr/>
                  <p:nvPr/>
                </p:nvSpPr>
                <p:spPr>
                  <a:xfrm flipH="1" flipV="1">
                    <a:off x="3687120" y="2210760"/>
                    <a:ext cx="32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3" name=""/>
                <p:cNvGrpSpPr/>
                <p:nvPr/>
              </p:nvGrpSpPr>
              <p:grpSpPr>
                <a:xfrm>
                  <a:off x="3557520" y="2053800"/>
                  <a:ext cx="91440" cy="119880"/>
                  <a:chOff x="3557520" y="2053800"/>
                  <a:chExt cx="91440" cy="119880"/>
                </a:xfrm>
              </p:grpSpPr>
              <p:sp>
                <p:nvSpPr>
                  <p:cNvPr id="10264" name=""/>
                  <p:cNvSpPr/>
                  <p:nvPr/>
                </p:nvSpPr>
                <p:spPr>
                  <a:xfrm rot="21501600">
                    <a:off x="3558960" y="2054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5" name=""/>
                  <p:cNvSpPr/>
                  <p:nvPr/>
                </p:nvSpPr>
                <p:spPr>
                  <a:xfrm flipH="1" flipV="1">
                    <a:off x="3585600" y="2096280"/>
                    <a:ext cx="5976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6" name=""/>
                  <p:cNvSpPr/>
                  <p:nvPr/>
                </p:nvSpPr>
                <p:spPr>
                  <a:xfrm flipH="1" flipV="1">
                    <a:off x="3621600" y="212112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7" name=""/>
                  <p:cNvSpPr/>
                  <p:nvPr/>
                </p:nvSpPr>
                <p:spPr>
                  <a:xfrm flipH="1" flipV="1">
                    <a:off x="3592440" y="2122200"/>
                    <a:ext cx="176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8" name=""/>
                  <p:cNvSpPr/>
                  <p:nvPr/>
                </p:nvSpPr>
                <p:spPr>
                  <a:xfrm flipH="1" flipV="1">
                    <a:off x="3598200" y="21009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9" name=""/>
                <p:cNvGrpSpPr/>
                <p:nvPr/>
              </p:nvGrpSpPr>
              <p:grpSpPr>
                <a:xfrm>
                  <a:off x="3520080" y="1910520"/>
                  <a:ext cx="96480" cy="123480"/>
                  <a:chOff x="3520080" y="1910520"/>
                  <a:chExt cx="96480" cy="123480"/>
                </a:xfrm>
              </p:grpSpPr>
              <p:sp>
                <p:nvSpPr>
                  <p:cNvPr id="10270" name=""/>
                  <p:cNvSpPr/>
                  <p:nvPr/>
                </p:nvSpPr>
                <p:spPr>
                  <a:xfrm rot="21341400">
                    <a:off x="3524040" y="1913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1" name=""/>
                  <p:cNvSpPr/>
                  <p:nvPr/>
                </p:nvSpPr>
                <p:spPr>
                  <a:xfrm flipH="1" flipV="1">
                    <a:off x="3549960" y="1955520"/>
                    <a:ext cx="6264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2" name=""/>
                  <p:cNvSpPr/>
                  <p:nvPr/>
                </p:nvSpPr>
                <p:spPr>
                  <a:xfrm flipH="1" flipV="1">
                    <a:off x="3587040" y="19789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3" name=""/>
                  <p:cNvSpPr/>
                  <p:nvPr/>
                </p:nvSpPr>
                <p:spPr>
                  <a:xfrm flipH="1" flipV="1">
                    <a:off x="3557880" y="1981440"/>
                    <a:ext cx="17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4" name=""/>
                  <p:cNvSpPr/>
                  <p:nvPr/>
                </p:nvSpPr>
                <p:spPr>
                  <a:xfrm flipH="1" flipV="1">
                    <a:off x="3561840" y="195984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5" name=""/>
                <p:cNvGrpSpPr/>
                <p:nvPr/>
              </p:nvGrpSpPr>
              <p:grpSpPr>
                <a:xfrm>
                  <a:off x="3561120" y="1834200"/>
                  <a:ext cx="92520" cy="138600"/>
                  <a:chOff x="3561120" y="1834200"/>
                  <a:chExt cx="92520" cy="138600"/>
                </a:xfrm>
              </p:grpSpPr>
              <p:sp>
                <p:nvSpPr>
                  <p:cNvPr id="10276" name=""/>
                  <p:cNvSpPr/>
                  <p:nvPr/>
                </p:nvSpPr>
                <p:spPr>
                  <a:xfrm rot="373200">
                    <a:off x="3567600" y="183780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7" name=""/>
                  <p:cNvSpPr/>
                  <p:nvPr/>
                </p:nvSpPr>
                <p:spPr>
                  <a:xfrm flipH="1" flipV="1">
                    <a:off x="3594240" y="1882080"/>
                    <a:ext cx="4320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8" name=""/>
                  <p:cNvSpPr/>
                  <p:nvPr/>
                </p:nvSpPr>
                <p:spPr>
                  <a:xfrm flipH="1" flipV="1">
                    <a:off x="3622320" y="191448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9" name=""/>
                  <p:cNvSpPr/>
                  <p:nvPr/>
                </p:nvSpPr>
                <p:spPr>
                  <a:xfrm flipH="1" flipV="1">
                    <a:off x="3596040" y="1911600"/>
                    <a:ext cx="14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0" name=""/>
                  <p:cNvSpPr/>
                  <p:nvPr/>
                </p:nvSpPr>
                <p:spPr>
                  <a:xfrm flipH="1" flipV="1">
                    <a:off x="3603960" y="1888920"/>
                    <a:ext cx="39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81" name=""/>
              <p:cNvGrpSpPr/>
              <p:nvPr/>
            </p:nvGrpSpPr>
            <p:grpSpPr>
              <a:xfrm>
                <a:off x="3976560" y="1594080"/>
                <a:ext cx="472680" cy="720000"/>
                <a:chOff x="3976560" y="1594080"/>
                <a:chExt cx="472680" cy="720000"/>
              </a:xfrm>
            </p:grpSpPr>
            <p:grpSp>
              <p:nvGrpSpPr>
                <p:cNvPr id="10282" name=""/>
                <p:cNvGrpSpPr/>
                <p:nvPr/>
              </p:nvGrpSpPr>
              <p:grpSpPr>
                <a:xfrm>
                  <a:off x="4265280" y="1882080"/>
                  <a:ext cx="133200" cy="153000"/>
                  <a:chOff x="4265280" y="1882080"/>
                  <a:chExt cx="133200" cy="153000"/>
                </a:xfrm>
              </p:grpSpPr>
              <p:sp>
                <p:nvSpPr>
                  <p:cNvPr id="10283" name=""/>
                  <p:cNvSpPr/>
                  <p:nvPr/>
                </p:nvSpPr>
                <p:spPr>
                  <a:xfrm rot="9030000">
                    <a:off x="4292280" y="1892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4" name=""/>
                  <p:cNvSpPr/>
                  <p:nvPr/>
                </p:nvSpPr>
                <p:spPr>
                  <a:xfrm>
                    <a:off x="4272840" y="1928160"/>
                    <a:ext cx="82440" cy="40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5" name=""/>
                  <p:cNvSpPr/>
                  <p:nvPr/>
                </p:nvSpPr>
                <p:spPr>
                  <a:xfrm>
                    <a:off x="4300560" y="1945800"/>
                    <a:ext cx="12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6" name=""/>
                  <p:cNvSpPr/>
                  <p:nvPr/>
                </p:nvSpPr>
                <p:spPr>
                  <a:xfrm flipV="1">
                    <a:off x="4320000" y="1945440"/>
                    <a:ext cx="165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7" name=""/>
                  <p:cNvSpPr/>
                  <p:nvPr/>
                </p:nvSpPr>
                <p:spPr>
                  <a:xfrm>
                    <a:off x="4332960" y="1960560"/>
                    <a:ext cx="100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88" name=""/>
                <p:cNvSpPr/>
                <p:nvPr/>
              </p:nvSpPr>
              <p:spPr>
                <a:xfrm flipH="1" flipV="1">
                  <a:off x="4121280" y="1884240"/>
                  <a:ext cx="45360" cy="19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9" name=""/>
                <p:cNvSpPr/>
                <p:nvPr/>
              </p:nvSpPr>
              <p:spPr>
                <a:xfrm rot="5215200">
                  <a:off x="3890520" y="187740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0" name=""/>
                <p:cNvSpPr/>
                <p:nvPr/>
              </p:nvSpPr>
              <p:spPr>
                <a:xfrm flipV="1">
                  <a:off x="4212360" y="1853280"/>
                  <a:ext cx="118440" cy="8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1" name=""/>
                <p:cNvSpPr/>
                <p:nvPr/>
              </p:nvSpPr>
              <p:spPr>
                <a:xfrm flipV="1">
                  <a:off x="4052160" y="2093760"/>
                  <a:ext cx="203760" cy="12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2" name=""/>
                <p:cNvSpPr/>
                <p:nvPr/>
              </p:nvSpPr>
              <p:spPr>
                <a:xfrm flipH="1" flipV="1">
                  <a:off x="4107240" y="1944000"/>
                  <a:ext cx="36360" cy="37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3" name=""/>
                <p:cNvSpPr/>
                <p:nvPr/>
              </p:nvSpPr>
              <p:spPr>
                <a:xfrm flipV="1">
                  <a:off x="4164840" y="1978920"/>
                  <a:ext cx="1440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4" name=""/>
                <p:cNvSpPr/>
                <p:nvPr/>
              </p:nvSpPr>
              <p:spPr>
                <a:xfrm flipV="1">
                  <a:off x="4262400" y="1814040"/>
                  <a:ext cx="48240" cy="81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5" name=""/>
                <p:cNvSpPr/>
                <p:nvPr/>
              </p:nvSpPr>
              <p:spPr>
                <a:xfrm>
                  <a:off x="4246200" y="1917000"/>
                  <a:ext cx="536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6" name=""/>
                <p:cNvSpPr/>
                <p:nvPr/>
              </p:nvSpPr>
              <p:spPr>
                <a:xfrm flipH="1" flipV="1">
                  <a:off x="4185000" y="1762200"/>
                  <a:ext cx="3780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7" name=""/>
                <p:cNvSpPr/>
                <p:nvPr/>
              </p:nvSpPr>
              <p:spPr>
                <a:xfrm flipV="1">
                  <a:off x="4153320" y="2016000"/>
                  <a:ext cx="8028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8" name=""/>
                <p:cNvSpPr/>
                <p:nvPr/>
              </p:nvSpPr>
              <p:spPr>
                <a:xfrm flipV="1">
                  <a:off x="4202280" y="2055240"/>
                  <a:ext cx="33480" cy="21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9" name=""/>
                <p:cNvSpPr/>
                <p:nvPr/>
              </p:nvSpPr>
              <p:spPr>
                <a:xfrm>
                  <a:off x="4119840" y="2179800"/>
                  <a:ext cx="7056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0" name=""/>
                <p:cNvSpPr/>
                <p:nvPr/>
              </p:nvSpPr>
              <p:spPr>
                <a:xfrm flipV="1">
                  <a:off x="4221720" y="2112120"/>
                  <a:ext cx="5220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1" name=""/>
                <p:cNvSpPr/>
                <p:nvPr/>
              </p:nvSpPr>
              <p:spPr>
                <a:xfrm flipH="1" flipV="1">
                  <a:off x="4095360" y="2062440"/>
                  <a:ext cx="21960" cy="77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2" name=""/>
                <p:cNvSpPr/>
                <p:nvPr/>
              </p:nvSpPr>
              <p:spPr>
                <a:xfrm flipH="1" flipV="1">
                  <a:off x="4189320" y="1841040"/>
                  <a:ext cx="20520" cy="5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3" name=""/>
                <p:cNvSpPr/>
                <p:nvPr/>
              </p:nvSpPr>
              <p:spPr>
                <a:xfrm flipV="1">
                  <a:off x="4238640" y="1757520"/>
                  <a:ext cx="3348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304" name=""/>
                <p:cNvGrpSpPr/>
                <p:nvPr/>
              </p:nvGrpSpPr>
              <p:grpSpPr>
                <a:xfrm>
                  <a:off x="4305240" y="1789920"/>
                  <a:ext cx="144000" cy="130680"/>
                  <a:chOff x="4305240" y="1789920"/>
                  <a:chExt cx="144000" cy="130680"/>
                </a:xfrm>
              </p:grpSpPr>
              <p:sp>
                <p:nvSpPr>
                  <p:cNvPr id="10305" name=""/>
                  <p:cNvSpPr/>
                  <p:nvPr/>
                </p:nvSpPr>
                <p:spPr>
                  <a:xfrm rot="6960000">
                    <a:off x="4332960" y="17964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6" name=""/>
                  <p:cNvSpPr/>
                  <p:nvPr/>
                </p:nvSpPr>
                <p:spPr>
                  <a:xfrm flipV="1">
                    <a:off x="4314960" y="1847160"/>
                    <a:ext cx="86040" cy="22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7" name=""/>
                  <p:cNvSpPr/>
                  <p:nvPr/>
                </p:nvSpPr>
                <p:spPr>
                  <a:xfrm>
                    <a:off x="4345920" y="186588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8" name=""/>
                  <p:cNvSpPr/>
                  <p:nvPr/>
                </p:nvSpPr>
                <p:spPr>
                  <a:xfrm flipV="1">
                    <a:off x="4362840" y="1841400"/>
                    <a:ext cx="118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9" name=""/>
                  <p:cNvSpPr/>
                  <p:nvPr/>
                </p:nvSpPr>
                <p:spPr>
                  <a:xfrm flipV="1">
                    <a:off x="4379400" y="185616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0" name=""/>
                <p:cNvGrpSpPr/>
                <p:nvPr/>
              </p:nvGrpSpPr>
              <p:grpSpPr>
                <a:xfrm>
                  <a:off x="4133160" y="1858320"/>
                  <a:ext cx="144360" cy="131400"/>
                  <a:chOff x="4133160" y="1858320"/>
                  <a:chExt cx="144360" cy="131400"/>
                </a:xfrm>
              </p:grpSpPr>
              <p:sp>
                <p:nvSpPr>
                  <p:cNvPr id="10311" name=""/>
                  <p:cNvSpPr/>
                  <p:nvPr/>
                </p:nvSpPr>
                <p:spPr>
                  <a:xfrm rot="3801600">
                    <a:off x="4160880" y="1865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2" name=""/>
                  <p:cNvSpPr/>
                  <p:nvPr/>
                </p:nvSpPr>
                <p:spPr>
                  <a:xfrm flipV="1">
                    <a:off x="4178880" y="1900080"/>
                    <a:ext cx="34560" cy="82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3" name=""/>
                  <p:cNvSpPr/>
                  <p:nvPr/>
                </p:nvSpPr>
                <p:spPr>
                  <a:xfrm flipV="1">
                    <a:off x="4194720" y="1943280"/>
                    <a:ext cx="115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4" name=""/>
                  <p:cNvSpPr/>
                  <p:nvPr/>
                </p:nvSpPr>
                <p:spPr>
                  <a:xfrm flipH="1" flipV="1">
                    <a:off x="4192560" y="1917360"/>
                    <a:ext cx="32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5" name=""/>
                  <p:cNvSpPr/>
                  <p:nvPr/>
                </p:nvSpPr>
                <p:spPr>
                  <a:xfrm flipV="1">
                    <a:off x="4207680" y="191340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6" name=""/>
                <p:cNvGrpSpPr/>
                <p:nvPr/>
              </p:nvGrpSpPr>
              <p:grpSpPr>
                <a:xfrm>
                  <a:off x="4217760" y="1931760"/>
                  <a:ext cx="121680" cy="94320"/>
                  <a:chOff x="4217760" y="1931760"/>
                  <a:chExt cx="121680" cy="94320"/>
                </a:xfrm>
              </p:grpSpPr>
              <p:sp>
                <p:nvSpPr>
                  <p:cNvPr id="10317" name=""/>
                  <p:cNvSpPr/>
                  <p:nvPr/>
                </p:nvSpPr>
                <p:spPr>
                  <a:xfrm rot="5215200">
                    <a:off x="4234320" y="19202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8" name=""/>
                  <p:cNvSpPr/>
                  <p:nvPr/>
                </p:nvSpPr>
                <p:spPr>
                  <a:xfrm flipV="1">
                    <a:off x="4231080" y="196056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9" name=""/>
                  <p:cNvSpPr/>
                  <p:nvPr/>
                </p:nvSpPr>
                <p:spPr>
                  <a:xfrm flipV="1">
                    <a:off x="4256640" y="19972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0" name=""/>
                  <p:cNvSpPr/>
                  <p:nvPr/>
                </p:nvSpPr>
                <p:spPr>
                  <a:xfrm flipV="1">
                    <a:off x="4265640" y="1968120"/>
                    <a:ext cx="43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1" name=""/>
                  <p:cNvSpPr/>
                  <p:nvPr/>
                </p:nvSpPr>
                <p:spPr>
                  <a:xfrm flipV="1">
                    <a:off x="4281120" y="1973160"/>
                    <a:ext cx="104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2" name=""/>
                <p:cNvGrpSpPr/>
                <p:nvPr/>
              </p:nvGrpSpPr>
              <p:grpSpPr>
                <a:xfrm>
                  <a:off x="4028400" y="1762560"/>
                  <a:ext cx="100800" cy="142920"/>
                  <a:chOff x="4028400" y="1762560"/>
                  <a:chExt cx="100800" cy="142920"/>
                </a:xfrm>
              </p:grpSpPr>
              <p:sp>
                <p:nvSpPr>
                  <p:cNvPr id="10323" name=""/>
                  <p:cNvSpPr/>
                  <p:nvPr/>
                </p:nvSpPr>
                <p:spPr>
                  <a:xfrm rot="20984400">
                    <a:off x="4039200" y="1768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4" name=""/>
                  <p:cNvSpPr/>
                  <p:nvPr/>
                </p:nvSpPr>
                <p:spPr>
                  <a:xfrm flipH="1" flipV="1">
                    <a:off x="4060440" y="1816920"/>
                    <a:ext cx="6444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5" name=""/>
                  <p:cNvSpPr/>
                  <p:nvPr/>
                </p:nvSpPr>
                <p:spPr>
                  <a:xfrm flipH="1" flipV="1">
                    <a:off x="4096440" y="1839960"/>
                    <a:ext cx="79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6" name=""/>
                  <p:cNvSpPr/>
                  <p:nvPr/>
                </p:nvSpPr>
                <p:spPr>
                  <a:xfrm flipH="1" flipV="1">
                    <a:off x="4070520" y="184464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7" name=""/>
                  <p:cNvSpPr/>
                  <p:nvPr/>
                </p:nvSpPr>
                <p:spPr>
                  <a:xfrm flipH="1" flipV="1">
                    <a:off x="4071600" y="1820880"/>
                    <a:ext cx="72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8" name=""/>
                <p:cNvGrpSpPr/>
                <p:nvPr/>
              </p:nvGrpSpPr>
              <p:grpSpPr>
                <a:xfrm>
                  <a:off x="4255920" y="1674000"/>
                  <a:ext cx="122040" cy="94320"/>
                  <a:chOff x="4255920" y="1674000"/>
                  <a:chExt cx="122040" cy="94320"/>
                </a:xfrm>
              </p:grpSpPr>
              <p:sp>
                <p:nvSpPr>
                  <p:cNvPr id="10329" name=""/>
                  <p:cNvSpPr/>
                  <p:nvPr/>
                </p:nvSpPr>
                <p:spPr>
                  <a:xfrm rot="5215200">
                    <a:off x="4272840" y="1662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0" name=""/>
                  <p:cNvSpPr/>
                  <p:nvPr/>
                </p:nvSpPr>
                <p:spPr>
                  <a:xfrm flipV="1">
                    <a:off x="4269600" y="1702800"/>
                    <a:ext cx="64440" cy="61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1" name=""/>
                  <p:cNvSpPr/>
                  <p:nvPr/>
                </p:nvSpPr>
                <p:spPr>
                  <a:xfrm flipV="1">
                    <a:off x="4295160" y="17391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2" name=""/>
                  <p:cNvSpPr/>
                  <p:nvPr/>
                </p:nvSpPr>
                <p:spPr>
                  <a:xfrm flipV="1">
                    <a:off x="4304160" y="171000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3" name=""/>
                  <p:cNvSpPr/>
                  <p:nvPr/>
                </p:nvSpPr>
                <p:spPr>
                  <a:xfrm flipV="1">
                    <a:off x="4319640" y="17150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34" name=""/>
                <p:cNvGrpSpPr/>
                <p:nvPr/>
              </p:nvGrpSpPr>
              <p:grpSpPr>
                <a:xfrm>
                  <a:off x="4239000" y="2009160"/>
                  <a:ext cx="122040" cy="94320"/>
                  <a:chOff x="4239000" y="2009160"/>
                  <a:chExt cx="122040" cy="94320"/>
                </a:xfrm>
              </p:grpSpPr>
              <p:sp>
                <p:nvSpPr>
                  <p:cNvPr id="10335" name=""/>
                  <p:cNvSpPr/>
                  <p:nvPr/>
                </p:nvSpPr>
                <p:spPr>
                  <a:xfrm rot="5215200">
                    <a:off x="4255920" y="19976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6" name=""/>
                  <p:cNvSpPr/>
                  <p:nvPr/>
                </p:nvSpPr>
                <p:spPr>
                  <a:xfrm flipV="1">
                    <a:off x="4252680" y="203796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7" name=""/>
                  <p:cNvSpPr/>
                  <p:nvPr/>
                </p:nvSpPr>
                <p:spPr>
                  <a:xfrm flipV="1">
                    <a:off x="4278240" y="20746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8" name=""/>
                  <p:cNvSpPr/>
                  <p:nvPr/>
                </p:nvSpPr>
                <p:spPr>
                  <a:xfrm flipV="1">
                    <a:off x="4287240" y="204552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9" name=""/>
                  <p:cNvSpPr/>
                  <p:nvPr/>
                </p:nvSpPr>
                <p:spPr>
                  <a:xfrm flipV="1">
                    <a:off x="4302720" y="205056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0" name=""/>
                <p:cNvGrpSpPr/>
                <p:nvPr/>
              </p:nvGrpSpPr>
              <p:grpSpPr>
                <a:xfrm>
                  <a:off x="4294800" y="1730880"/>
                  <a:ext cx="121680" cy="94320"/>
                  <a:chOff x="4294800" y="1730880"/>
                  <a:chExt cx="121680" cy="94320"/>
                </a:xfrm>
              </p:grpSpPr>
              <p:sp>
                <p:nvSpPr>
                  <p:cNvPr id="10341" name=""/>
                  <p:cNvSpPr/>
                  <p:nvPr/>
                </p:nvSpPr>
                <p:spPr>
                  <a:xfrm rot="5215200">
                    <a:off x="4311360" y="171936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2" name=""/>
                  <p:cNvSpPr/>
                  <p:nvPr/>
                </p:nvSpPr>
                <p:spPr>
                  <a:xfrm flipV="1">
                    <a:off x="4308120" y="175968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3" name=""/>
                  <p:cNvSpPr/>
                  <p:nvPr/>
                </p:nvSpPr>
                <p:spPr>
                  <a:xfrm flipV="1">
                    <a:off x="4333680" y="179640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4" name=""/>
                  <p:cNvSpPr/>
                  <p:nvPr/>
                </p:nvSpPr>
                <p:spPr>
                  <a:xfrm flipV="1">
                    <a:off x="4343040" y="176724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5" name=""/>
                  <p:cNvSpPr/>
                  <p:nvPr/>
                </p:nvSpPr>
                <p:spPr>
                  <a:xfrm flipV="1">
                    <a:off x="4358520" y="177228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46" name=""/>
                <p:cNvGrpSpPr/>
                <p:nvPr/>
              </p:nvGrpSpPr>
              <p:grpSpPr>
                <a:xfrm>
                  <a:off x="3976560" y="1938600"/>
                  <a:ext cx="118440" cy="150120"/>
                  <a:chOff x="3976560" y="1938600"/>
                  <a:chExt cx="118440" cy="150120"/>
                </a:xfrm>
              </p:grpSpPr>
              <p:sp>
                <p:nvSpPr>
                  <p:cNvPr id="10347" name=""/>
                  <p:cNvSpPr/>
                  <p:nvPr/>
                </p:nvSpPr>
                <p:spPr>
                  <a:xfrm rot="20413200">
                    <a:off x="3996360" y="1947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8" name=""/>
                  <p:cNvSpPr/>
                  <p:nvPr/>
                </p:nvSpPr>
                <p:spPr>
                  <a:xfrm flipH="1" flipV="1">
                    <a:off x="4014720" y="1999800"/>
                    <a:ext cx="74520" cy="53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9" name=""/>
                  <p:cNvSpPr/>
                  <p:nvPr/>
                </p:nvSpPr>
                <p:spPr>
                  <a:xfrm flipH="1" flipV="1">
                    <a:off x="4053960" y="2016720"/>
                    <a:ext cx="10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0" name=""/>
                  <p:cNvSpPr/>
                  <p:nvPr/>
                </p:nvSpPr>
                <p:spPr>
                  <a:xfrm flipH="1" flipV="1">
                    <a:off x="4029480" y="20253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1" name=""/>
                  <p:cNvSpPr/>
                  <p:nvPr/>
                </p:nvSpPr>
                <p:spPr>
                  <a:xfrm flipH="1" flipV="1">
                    <a:off x="4026600" y="200196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2" name=""/>
                <p:cNvGrpSpPr/>
                <p:nvPr/>
              </p:nvGrpSpPr>
              <p:grpSpPr>
                <a:xfrm>
                  <a:off x="3979080" y="1837800"/>
                  <a:ext cx="138240" cy="153000"/>
                  <a:chOff x="3979080" y="1837800"/>
                  <a:chExt cx="138240" cy="153000"/>
                </a:xfrm>
              </p:grpSpPr>
              <p:sp>
                <p:nvSpPr>
                  <p:cNvPr id="10353" name=""/>
                  <p:cNvSpPr/>
                  <p:nvPr/>
                </p:nvSpPr>
                <p:spPr>
                  <a:xfrm rot="19573800">
                    <a:off x="4008600" y="1848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4" name=""/>
                  <p:cNvSpPr/>
                  <p:nvPr/>
                </p:nvSpPr>
                <p:spPr>
                  <a:xfrm flipH="1" flipV="1">
                    <a:off x="4024440" y="1906200"/>
                    <a:ext cx="84960" cy="33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5" name=""/>
                  <p:cNvSpPr/>
                  <p:nvPr/>
                </p:nvSpPr>
                <p:spPr>
                  <a:xfrm flipH="1" flipV="1">
                    <a:off x="4066560" y="191304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6" name=""/>
                  <p:cNvSpPr/>
                  <p:nvPr/>
                </p:nvSpPr>
                <p:spPr>
                  <a:xfrm flipH="1">
                    <a:off x="4044600" y="192384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7" name=""/>
                  <p:cNvSpPr/>
                  <p:nvPr/>
                </p:nvSpPr>
                <p:spPr>
                  <a:xfrm flipH="1" flipV="1">
                    <a:off x="4036320" y="190548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8" name=""/>
                <p:cNvGrpSpPr/>
                <p:nvPr/>
              </p:nvGrpSpPr>
              <p:grpSpPr>
                <a:xfrm>
                  <a:off x="4148640" y="1620720"/>
                  <a:ext cx="92520" cy="138960"/>
                  <a:chOff x="4148640" y="1620720"/>
                  <a:chExt cx="92520" cy="138960"/>
                </a:xfrm>
              </p:grpSpPr>
              <p:sp>
                <p:nvSpPr>
                  <p:cNvPr id="10359" name=""/>
                  <p:cNvSpPr/>
                  <p:nvPr/>
                </p:nvSpPr>
                <p:spPr>
                  <a:xfrm rot="21225000">
                    <a:off x="4155480" y="1624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0" name=""/>
                  <p:cNvSpPr/>
                  <p:nvPr/>
                </p:nvSpPr>
                <p:spPr>
                  <a:xfrm flipH="1" flipV="1">
                    <a:off x="4177440" y="1671840"/>
                    <a:ext cx="5976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1" name=""/>
                  <p:cNvSpPr/>
                  <p:nvPr/>
                </p:nvSpPr>
                <p:spPr>
                  <a:xfrm flipH="1" flipV="1">
                    <a:off x="4211640" y="169740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2" name=""/>
                  <p:cNvSpPr/>
                  <p:nvPr/>
                </p:nvSpPr>
                <p:spPr>
                  <a:xfrm flipH="1" flipV="1">
                    <a:off x="4185720" y="1700280"/>
                    <a:ext cx="158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3" name=""/>
                  <p:cNvSpPr/>
                  <p:nvPr/>
                </p:nvSpPr>
                <p:spPr>
                  <a:xfrm flipH="1" flipV="1">
                    <a:off x="4188600" y="1676880"/>
                    <a:ext cx="6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64" name=""/>
                <p:cNvGrpSpPr/>
                <p:nvPr/>
              </p:nvGrpSpPr>
              <p:grpSpPr>
                <a:xfrm>
                  <a:off x="4061880" y="1637280"/>
                  <a:ext cx="127080" cy="152280"/>
                  <a:chOff x="4061880" y="1637280"/>
                  <a:chExt cx="127080" cy="152280"/>
                </a:xfrm>
              </p:grpSpPr>
              <p:sp>
                <p:nvSpPr>
                  <p:cNvPr id="10365" name=""/>
                  <p:cNvSpPr/>
                  <p:nvPr/>
                </p:nvSpPr>
                <p:spPr>
                  <a:xfrm rot="20097000">
                    <a:off x="4085640" y="1647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6" name=""/>
                  <p:cNvSpPr/>
                  <p:nvPr/>
                </p:nvSpPr>
                <p:spPr>
                  <a:xfrm flipH="1" flipV="1">
                    <a:off x="4102920" y="1701720"/>
                    <a:ext cx="79200" cy="46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7" name=""/>
                  <p:cNvSpPr/>
                  <p:nvPr/>
                </p:nvSpPr>
                <p:spPr>
                  <a:xfrm flipH="1" flipV="1">
                    <a:off x="4143600" y="1714680"/>
                    <a:ext cx="118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8" name=""/>
                  <p:cNvSpPr/>
                  <p:nvPr/>
                </p:nvSpPr>
                <p:spPr>
                  <a:xfrm flipH="1">
                    <a:off x="4119840" y="172476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9" name=""/>
                  <p:cNvSpPr/>
                  <p:nvPr/>
                </p:nvSpPr>
                <p:spPr>
                  <a:xfrm flipH="1" flipV="1">
                    <a:off x="4115160" y="170280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70" name=""/>
                <p:cNvGrpSpPr/>
                <p:nvPr/>
              </p:nvGrpSpPr>
              <p:grpSpPr>
                <a:xfrm>
                  <a:off x="4092120" y="1736640"/>
                  <a:ext cx="112680" cy="147960"/>
                  <a:chOff x="4092120" y="1736640"/>
                  <a:chExt cx="112680" cy="147960"/>
                </a:xfrm>
              </p:grpSpPr>
              <p:sp>
                <p:nvSpPr>
                  <p:cNvPr id="10371" name=""/>
                  <p:cNvSpPr/>
                  <p:nvPr/>
                </p:nvSpPr>
                <p:spPr>
                  <a:xfrm rot="20616600">
                    <a:off x="4108680" y="1744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2" name=""/>
                  <p:cNvSpPr/>
                  <p:nvPr/>
                </p:nvSpPr>
                <p:spPr>
                  <a:xfrm flipH="1" flipV="1">
                    <a:off x="4128120" y="1795680"/>
                    <a:ext cx="70920" cy="57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3" name=""/>
                  <p:cNvSpPr/>
                  <p:nvPr/>
                </p:nvSpPr>
                <p:spPr>
                  <a:xfrm flipH="1" flipV="1">
                    <a:off x="4166280" y="1814760"/>
                    <a:ext cx="97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4" name=""/>
                  <p:cNvSpPr/>
                  <p:nvPr/>
                </p:nvSpPr>
                <p:spPr>
                  <a:xfrm flipH="1" flipV="1">
                    <a:off x="4141080" y="182232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5" name=""/>
                  <p:cNvSpPr/>
                  <p:nvPr/>
                </p:nvSpPr>
                <p:spPr>
                  <a:xfrm flipH="1" flipV="1">
                    <a:off x="4139640" y="1798560"/>
                    <a:ext cx="82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76" name=""/>
                <p:cNvGrpSpPr/>
                <p:nvPr/>
              </p:nvGrpSpPr>
              <p:grpSpPr>
                <a:xfrm>
                  <a:off x="4218480" y="1693080"/>
                  <a:ext cx="100440" cy="142560"/>
                  <a:chOff x="4218480" y="1693080"/>
                  <a:chExt cx="100440" cy="142560"/>
                </a:xfrm>
              </p:grpSpPr>
              <p:sp>
                <p:nvSpPr>
                  <p:cNvPr id="10377" name=""/>
                  <p:cNvSpPr/>
                  <p:nvPr/>
                </p:nvSpPr>
                <p:spPr>
                  <a:xfrm rot="600000">
                    <a:off x="4228920" y="1698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8" name=""/>
                  <p:cNvSpPr/>
                  <p:nvPr/>
                </p:nvSpPr>
                <p:spPr>
                  <a:xfrm flipH="1" flipV="1">
                    <a:off x="4257360" y="1742040"/>
                    <a:ext cx="3780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9" name=""/>
                  <p:cNvSpPr/>
                  <p:nvPr/>
                </p:nvSpPr>
                <p:spPr>
                  <a:xfrm flipH="1" flipV="1">
                    <a:off x="4282920" y="1776240"/>
                    <a:ext cx="21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0" name=""/>
                  <p:cNvSpPr/>
                  <p:nvPr/>
                </p:nvSpPr>
                <p:spPr>
                  <a:xfrm flipH="1" flipV="1">
                    <a:off x="4257000" y="177156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1" name=""/>
                  <p:cNvSpPr/>
                  <p:nvPr/>
                </p:nvSpPr>
                <p:spPr>
                  <a:xfrm flipH="1" flipV="1">
                    <a:off x="4266360" y="174996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2" name=""/>
                <p:cNvGrpSpPr/>
                <p:nvPr/>
              </p:nvGrpSpPr>
              <p:grpSpPr>
                <a:xfrm>
                  <a:off x="4171680" y="1908360"/>
                  <a:ext cx="144720" cy="145440"/>
                  <a:chOff x="4171680" y="1908360"/>
                  <a:chExt cx="144720" cy="145440"/>
                </a:xfrm>
              </p:grpSpPr>
              <p:sp>
                <p:nvSpPr>
                  <p:cNvPr id="10383" name=""/>
                  <p:cNvSpPr/>
                  <p:nvPr/>
                </p:nvSpPr>
                <p:spPr>
                  <a:xfrm rot="2650800">
                    <a:off x="4199760" y="19224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4" name=""/>
                  <p:cNvSpPr/>
                  <p:nvPr/>
                </p:nvSpPr>
                <p:spPr>
                  <a:xfrm flipV="1">
                    <a:off x="4238280" y="1956240"/>
                    <a:ext cx="540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5" name=""/>
                  <p:cNvSpPr/>
                  <p:nvPr/>
                </p:nvSpPr>
                <p:spPr>
                  <a:xfrm flipV="1">
                    <a:off x="4244760" y="199908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6" name=""/>
                  <p:cNvSpPr/>
                  <p:nvPr/>
                </p:nvSpPr>
                <p:spPr>
                  <a:xfrm flipH="1" flipV="1">
                    <a:off x="4230000" y="19789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7" name=""/>
                  <p:cNvSpPr/>
                  <p:nvPr/>
                </p:nvSpPr>
                <p:spPr>
                  <a:xfrm flipV="1">
                    <a:off x="4246200" y="196812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88" name=""/>
                <p:cNvGrpSpPr/>
                <p:nvPr/>
              </p:nvGrpSpPr>
              <p:grpSpPr>
                <a:xfrm>
                  <a:off x="4263120" y="2080080"/>
                  <a:ext cx="123120" cy="151200"/>
                  <a:chOff x="4263120" y="2080080"/>
                  <a:chExt cx="123120" cy="151200"/>
                </a:xfrm>
              </p:grpSpPr>
              <p:sp>
                <p:nvSpPr>
                  <p:cNvPr id="10389" name=""/>
                  <p:cNvSpPr/>
                  <p:nvPr/>
                </p:nvSpPr>
                <p:spPr>
                  <a:xfrm rot="9448200">
                    <a:off x="4285080" y="20898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0" name=""/>
                  <p:cNvSpPr/>
                  <p:nvPr/>
                </p:nvSpPr>
                <p:spPr>
                  <a:xfrm>
                    <a:off x="4269960" y="2118600"/>
                    <a:ext cx="76680" cy="49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1" name=""/>
                  <p:cNvSpPr/>
                  <p:nvPr/>
                </p:nvSpPr>
                <p:spPr>
                  <a:xfrm>
                    <a:off x="4295520" y="213948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2" name=""/>
                  <p:cNvSpPr/>
                  <p:nvPr/>
                </p:nvSpPr>
                <p:spPr>
                  <a:xfrm flipV="1">
                    <a:off x="4314240" y="21434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3" name=""/>
                  <p:cNvSpPr/>
                  <p:nvPr/>
                </p:nvSpPr>
                <p:spPr>
                  <a:xfrm>
                    <a:off x="4325760" y="215820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4" name=""/>
                <p:cNvGrpSpPr/>
                <p:nvPr/>
              </p:nvGrpSpPr>
              <p:grpSpPr>
                <a:xfrm>
                  <a:off x="4181760" y="2163600"/>
                  <a:ext cx="119880" cy="150480"/>
                  <a:chOff x="4181760" y="2163600"/>
                  <a:chExt cx="119880" cy="150480"/>
                </a:xfrm>
              </p:grpSpPr>
              <p:sp>
                <p:nvSpPr>
                  <p:cNvPr id="10395" name=""/>
                  <p:cNvSpPr/>
                  <p:nvPr/>
                </p:nvSpPr>
                <p:spPr>
                  <a:xfrm rot="9568200">
                    <a:off x="4202280" y="2172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6" name=""/>
                  <p:cNvSpPr/>
                  <p:nvPr/>
                </p:nvSpPr>
                <p:spPr>
                  <a:xfrm>
                    <a:off x="4187880" y="2199600"/>
                    <a:ext cx="7488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7" name=""/>
                  <p:cNvSpPr/>
                  <p:nvPr/>
                </p:nvSpPr>
                <p:spPr>
                  <a:xfrm>
                    <a:off x="4212360" y="2221560"/>
                    <a:ext cx="10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8" name=""/>
                  <p:cNvSpPr/>
                  <p:nvPr/>
                </p:nvSpPr>
                <p:spPr>
                  <a:xfrm>
                    <a:off x="4231440" y="2226600"/>
                    <a:ext cx="165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9" name=""/>
                  <p:cNvSpPr/>
                  <p:nvPr/>
                </p:nvSpPr>
                <p:spPr>
                  <a:xfrm>
                    <a:off x="4242240" y="224100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00" name=""/>
                <p:cNvGrpSpPr/>
                <p:nvPr/>
              </p:nvGrpSpPr>
              <p:grpSpPr>
                <a:xfrm>
                  <a:off x="4047480" y="1916640"/>
                  <a:ext cx="146880" cy="141480"/>
                  <a:chOff x="4047480" y="1916640"/>
                  <a:chExt cx="146880" cy="141480"/>
                </a:xfrm>
              </p:grpSpPr>
              <p:sp>
                <p:nvSpPr>
                  <p:cNvPr id="10401" name=""/>
                  <p:cNvSpPr/>
                  <p:nvPr/>
                </p:nvSpPr>
                <p:spPr>
                  <a:xfrm rot="3141000">
                    <a:off x="4076640" y="1928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2" name=""/>
                  <p:cNvSpPr/>
                  <p:nvPr/>
                </p:nvSpPr>
                <p:spPr>
                  <a:xfrm flipV="1">
                    <a:off x="4106160" y="1962720"/>
                    <a:ext cx="1800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3" name=""/>
                  <p:cNvSpPr/>
                  <p:nvPr/>
                </p:nvSpPr>
                <p:spPr>
                  <a:xfrm flipV="1">
                    <a:off x="4116600" y="2006640"/>
                    <a:ext cx="86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4" name=""/>
                  <p:cNvSpPr/>
                  <p:nvPr/>
                </p:nvSpPr>
                <p:spPr>
                  <a:xfrm flipH="1" flipV="1">
                    <a:off x="4107240" y="1983600"/>
                    <a:ext cx="64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5" name=""/>
                  <p:cNvSpPr/>
                  <p:nvPr/>
                </p:nvSpPr>
                <p:spPr>
                  <a:xfrm flipV="1">
                    <a:off x="4123080" y="197568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06" name=""/>
                <p:cNvGrpSpPr/>
                <p:nvPr/>
              </p:nvGrpSpPr>
              <p:grpSpPr>
                <a:xfrm>
                  <a:off x="4058640" y="1756080"/>
                  <a:ext cx="145800" cy="150120"/>
                  <a:chOff x="4058640" y="1756080"/>
                  <a:chExt cx="145800" cy="150120"/>
                </a:xfrm>
              </p:grpSpPr>
              <p:sp>
                <p:nvSpPr>
                  <p:cNvPr id="10407" name=""/>
                  <p:cNvSpPr/>
                  <p:nvPr/>
                </p:nvSpPr>
                <p:spPr>
                  <a:xfrm rot="2505000">
                    <a:off x="4092120" y="1765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8" name=""/>
                  <p:cNvSpPr/>
                  <p:nvPr/>
                </p:nvSpPr>
                <p:spPr>
                  <a:xfrm flipV="1">
                    <a:off x="4122000" y="1806120"/>
                    <a:ext cx="1188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9" name=""/>
                  <p:cNvSpPr/>
                  <p:nvPr/>
                </p:nvSpPr>
                <p:spPr>
                  <a:xfrm flipV="1">
                    <a:off x="4129920" y="1848600"/>
                    <a:ext cx="79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0" name=""/>
                  <p:cNvSpPr/>
                  <p:nvPr/>
                </p:nvSpPr>
                <p:spPr>
                  <a:xfrm flipH="1" flipV="1">
                    <a:off x="4118040" y="183096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1" name=""/>
                  <p:cNvSpPr/>
                  <p:nvPr/>
                </p:nvSpPr>
                <p:spPr>
                  <a:xfrm flipV="1">
                    <a:off x="4133520" y="1817640"/>
                    <a:ext cx="39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2" name=""/>
                <p:cNvGrpSpPr/>
                <p:nvPr/>
              </p:nvGrpSpPr>
              <p:grpSpPr>
                <a:xfrm>
                  <a:off x="4123080" y="1614600"/>
                  <a:ext cx="143640" cy="151560"/>
                  <a:chOff x="4123080" y="1614600"/>
                  <a:chExt cx="143640" cy="151560"/>
                </a:xfrm>
              </p:grpSpPr>
              <p:sp>
                <p:nvSpPr>
                  <p:cNvPr id="10413" name=""/>
                  <p:cNvSpPr/>
                  <p:nvPr/>
                </p:nvSpPr>
                <p:spPr>
                  <a:xfrm rot="2345400">
                    <a:off x="4155120" y="1624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4" name=""/>
                  <p:cNvSpPr/>
                  <p:nvPr/>
                </p:nvSpPr>
                <p:spPr>
                  <a:xfrm flipV="1">
                    <a:off x="4188240" y="1665000"/>
                    <a:ext cx="756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5" name=""/>
                  <p:cNvSpPr/>
                  <p:nvPr/>
                </p:nvSpPr>
                <p:spPr>
                  <a:xfrm flipV="1">
                    <a:off x="4194720" y="170748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6" name=""/>
                  <p:cNvSpPr/>
                  <p:nvPr/>
                </p:nvSpPr>
                <p:spPr>
                  <a:xfrm flipH="1" flipV="1">
                    <a:off x="4181040" y="1690920"/>
                    <a:ext cx="86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7" name=""/>
                  <p:cNvSpPr/>
                  <p:nvPr/>
                </p:nvSpPr>
                <p:spPr>
                  <a:xfrm flipV="1">
                    <a:off x="4196520" y="1676520"/>
                    <a:ext cx="32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18" name=""/>
                <p:cNvGrpSpPr/>
                <p:nvPr/>
              </p:nvGrpSpPr>
              <p:grpSpPr>
                <a:xfrm>
                  <a:off x="4188600" y="1594080"/>
                  <a:ext cx="146520" cy="142920"/>
                  <a:chOff x="4188600" y="1594080"/>
                  <a:chExt cx="146520" cy="142920"/>
                </a:xfrm>
              </p:grpSpPr>
              <p:sp>
                <p:nvSpPr>
                  <p:cNvPr id="10419" name=""/>
                  <p:cNvSpPr/>
                  <p:nvPr/>
                </p:nvSpPr>
                <p:spPr>
                  <a:xfrm rot="2977200">
                    <a:off x="4217760" y="16070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0" name=""/>
                  <p:cNvSpPr/>
                  <p:nvPr/>
                </p:nvSpPr>
                <p:spPr>
                  <a:xfrm flipV="1">
                    <a:off x="4250160" y="1640520"/>
                    <a:ext cx="1404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1" name=""/>
                  <p:cNvSpPr/>
                  <p:nvPr/>
                </p:nvSpPr>
                <p:spPr>
                  <a:xfrm flipV="1">
                    <a:off x="4259520" y="168408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2" name=""/>
                  <p:cNvSpPr/>
                  <p:nvPr/>
                </p:nvSpPr>
                <p:spPr>
                  <a:xfrm flipH="1" flipV="1">
                    <a:off x="4248360" y="1661760"/>
                    <a:ext cx="7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3" name=""/>
                  <p:cNvSpPr/>
                  <p:nvPr/>
                </p:nvSpPr>
                <p:spPr>
                  <a:xfrm flipV="1">
                    <a:off x="4264200" y="1652760"/>
                    <a:ext cx="43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24" name=""/>
              <p:cNvGrpSpPr/>
              <p:nvPr/>
            </p:nvGrpSpPr>
            <p:grpSpPr>
              <a:xfrm>
                <a:off x="2727360" y="2442960"/>
                <a:ext cx="484560" cy="707760"/>
                <a:chOff x="2727360" y="2442960"/>
                <a:chExt cx="484560" cy="707760"/>
              </a:xfrm>
            </p:grpSpPr>
            <p:grpSp>
              <p:nvGrpSpPr>
                <p:cNvPr id="10425" name=""/>
                <p:cNvGrpSpPr/>
                <p:nvPr/>
              </p:nvGrpSpPr>
              <p:grpSpPr>
                <a:xfrm>
                  <a:off x="2797560" y="2706480"/>
                  <a:ext cx="122760" cy="151200"/>
                  <a:chOff x="2797560" y="2706480"/>
                  <a:chExt cx="122760" cy="151200"/>
                </a:xfrm>
              </p:grpSpPr>
              <p:sp>
                <p:nvSpPr>
                  <p:cNvPr id="10426" name=""/>
                  <p:cNvSpPr/>
                  <p:nvPr/>
                </p:nvSpPr>
                <p:spPr>
                  <a:xfrm rot="20265000">
                    <a:off x="2819160" y="2716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7" name=""/>
                  <p:cNvSpPr/>
                  <p:nvPr/>
                </p:nvSpPr>
                <p:spPr>
                  <a:xfrm flipH="1" flipV="1">
                    <a:off x="2837160" y="2769480"/>
                    <a:ext cx="76680" cy="50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8" name=""/>
                  <p:cNvSpPr/>
                  <p:nvPr/>
                </p:nvSpPr>
                <p:spPr>
                  <a:xfrm flipH="1" flipV="1">
                    <a:off x="2877120" y="278460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9" name=""/>
                  <p:cNvSpPr/>
                  <p:nvPr/>
                </p:nvSpPr>
                <p:spPr>
                  <a:xfrm flipH="1">
                    <a:off x="2852640" y="27939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0" name=""/>
                  <p:cNvSpPr/>
                  <p:nvPr/>
                </p:nvSpPr>
                <p:spPr>
                  <a:xfrm flipH="1" flipV="1">
                    <a:off x="2849040" y="27712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31" name=""/>
                <p:cNvSpPr/>
                <p:nvPr/>
              </p:nvSpPr>
              <p:spPr>
                <a:xfrm>
                  <a:off x="3037680" y="2683800"/>
                  <a:ext cx="20520" cy="19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2" name=""/>
                <p:cNvSpPr/>
                <p:nvPr/>
              </p:nvSpPr>
              <p:spPr>
                <a:xfrm rot="16449600">
                  <a:off x="2811600" y="265968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3" name=""/>
                <p:cNvSpPr/>
                <p:nvPr/>
              </p:nvSpPr>
              <p:spPr>
                <a:xfrm flipH="1">
                  <a:off x="2847240" y="2817720"/>
                  <a:ext cx="12780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4" name=""/>
                <p:cNvSpPr/>
                <p:nvPr/>
              </p:nvSpPr>
              <p:spPr>
                <a:xfrm flipH="1">
                  <a:off x="2951640" y="2555280"/>
                  <a:ext cx="218160" cy="10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5" name=""/>
                <p:cNvSpPr/>
                <p:nvPr/>
              </p:nvSpPr>
              <p:spPr>
                <a:xfrm>
                  <a:off x="3048480" y="2783520"/>
                  <a:ext cx="316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6" name=""/>
                <p:cNvSpPr/>
                <p:nvPr/>
              </p:nvSpPr>
              <p:spPr>
                <a:xfrm flipH="1">
                  <a:off x="3012840" y="2724120"/>
                  <a:ext cx="21960" cy="57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7" name=""/>
                <p:cNvSpPr/>
                <p:nvPr/>
              </p:nvSpPr>
              <p:spPr>
                <a:xfrm flipH="1">
                  <a:off x="2862000" y="2853360"/>
                  <a:ext cx="5796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8" name=""/>
                <p:cNvSpPr/>
                <p:nvPr/>
              </p:nvSpPr>
              <p:spPr>
                <a:xfrm flipH="1" flipV="1">
                  <a:off x="2887560" y="2810880"/>
                  <a:ext cx="5112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9" name=""/>
                <p:cNvSpPr/>
                <p:nvPr/>
              </p:nvSpPr>
              <p:spPr>
                <a:xfrm>
                  <a:off x="2949480" y="2934360"/>
                  <a:ext cx="3060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0" name=""/>
                <p:cNvSpPr/>
                <p:nvPr/>
              </p:nvSpPr>
              <p:spPr>
                <a:xfrm flipH="1">
                  <a:off x="2963880" y="2607120"/>
                  <a:ext cx="97560" cy="13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1" name=""/>
                <p:cNvSpPr/>
                <p:nvPr/>
              </p:nvSpPr>
              <p:spPr>
                <a:xfrm flipH="1">
                  <a:off x="2966760" y="2681640"/>
                  <a:ext cx="356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2" name=""/>
                <p:cNvSpPr/>
                <p:nvPr/>
              </p:nvSpPr>
              <p:spPr>
                <a:xfrm flipH="1" flipV="1">
                  <a:off x="3029040" y="2565360"/>
                  <a:ext cx="6804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3" name=""/>
                <p:cNvSpPr/>
                <p:nvPr/>
              </p:nvSpPr>
              <p:spPr>
                <a:xfrm flipH="1" flipV="1">
                  <a:off x="2935800" y="263700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4" name=""/>
                <p:cNvSpPr/>
                <p:nvPr/>
              </p:nvSpPr>
              <p:spPr>
                <a:xfrm>
                  <a:off x="3094200" y="2629800"/>
                  <a:ext cx="11880" cy="79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5" name=""/>
                <p:cNvSpPr/>
                <p:nvPr/>
              </p:nvSpPr>
              <p:spPr>
                <a:xfrm>
                  <a:off x="2972520" y="2856960"/>
                  <a:ext cx="1296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6" name=""/>
                <p:cNvSpPr/>
                <p:nvPr/>
              </p:nvSpPr>
              <p:spPr>
                <a:xfrm flipH="1">
                  <a:off x="2892240" y="2971800"/>
                  <a:ext cx="360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447" name=""/>
                <p:cNvGrpSpPr/>
                <p:nvPr/>
              </p:nvGrpSpPr>
              <p:grpSpPr>
                <a:xfrm>
                  <a:off x="2727360" y="2810160"/>
                  <a:ext cx="146160" cy="137880"/>
                  <a:chOff x="2727360" y="2810160"/>
                  <a:chExt cx="146160" cy="137880"/>
                </a:xfrm>
              </p:grpSpPr>
              <p:sp>
                <p:nvSpPr>
                  <p:cNvPr id="10448" name=""/>
                  <p:cNvSpPr/>
                  <p:nvPr/>
                </p:nvSpPr>
                <p:spPr>
                  <a:xfrm rot="18195000">
                    <a:off x="2756160" y="28206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9" name=""/>
                  <p:cNvSpPr/>
                  <p:nvPr/>
                </p:nvSpPr>
                <p:spPr>
                  <a:xfrm flipH="1">
                    <a:off x="2776320" y="2872800"/>
                    <a:ext cx="882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0" name=""/>
                  <p:cNvSpPr/>
                  <p:nvPr/>
                </p:nvSpPr>
                <p:spPr>
                  <a:xfrm flipH="1" flipV="1">
                    <a:off x="2817000" y="286848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1" name=""/>
                  <p:cNvSpPr/>
                  <p:nvPr/>
                </p:nvSpPr>
                <p:spPr>
                  <a:xfrm flipH="1">
                    <a:off x="2801160" y="2881440"/>
                    <a:ext cx="13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2" name=""/>
                  <p:cNvSpPr/>
                  <p:nvPr/>
                </p:nvSpPr>
                <p:spPr>
                  <a:xfrm flipH="1" flipV="1">
                    <a:off x="2786760" y="287640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3" name=""/>
                <p:cNvGrpSpPr/>
                <p:nvPr/>
              </p:nvGrpSpPr>
              <p:grpSpPr>
                <a:xfrm>
                  <a:off x="2910240" y="2771640"/>
                  <a:ext cx="139680" cy="122040"/>
                  <a:chOff x="2910240" y="2771640"/>
                  <a:chExt cx="139680" cy="122040"/>
                </a:xfrm>
              </p:grpSpPr>
              <p:sp>
                <p:nvSpPr>
                  <p:cNvPr id="10454" name=""/>
                  <p:cNvSpPr/>
                  <p:nvPr/>
                </p:nvSpPr>
                <p:spPr>
                  <a:xfrm rot="15036600">
                    <a:off x="2935800" y="27738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5" name=""/>
                  <p:cNvSpPr/>
                  <p:nvPr/>
                </p:nvSpPr>
                <p:spPr>
                  <a:xfrm flipH="1">
                    <a:off x="2968920" y="2777760"/>
                    <a:ext cx="4464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6" name=""/>
                  <p:cNvSpPr/>
                  <p:nvPr/>
                </p:nvSpPr>
                <p:spPr>
                  <a:xfrm flipH="1">
                    <a:off x="2981520" y="280260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7" name=""/>
                  <p:cNvSpPr/>
                  <p:nvPr/>
                </p:nvSpPr>
                <p:spPr>
                  <a:xfrm>
                    <a:off x="2990520" y="282240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8" name=""/>
                  <p:cNvSpPr/>
                  <p:nvPr/>
                </p:nvSpPr>
                <p:spPr>
                  <a:xfrm flipH="1">
                    <a:off x="2969280" y="283284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59" name=""/>
                <p:cNvGrpSpPr/>
                <p:nvPr/>
              </p:nvGrpSpPr>
              <p:grpSpPr>
                <a:xfrm>
                  <a:off x="2853000" y="2720520"/>
                  <a:ext cx="123120" cy="96480"/>
                  <a:chOff x="2853000" y="2720520"/>
                  <a:chExt cx="123120" cy="96480"/>
                </a:xfrm>
              </p:grpSpPr>
              <p:sp>
                <p:nvSpPr>
                  <p:cNvPr id="10460" name=""/>
                  <p:cNvSpPr/>
                  <p:nvPr/>
                </p:nvSpPr>
                <p:spPr>
                  <a:xfrm rot="16449600">
                    <a:off x="2870280" y="27100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1" name=""/>
                  <p:cNvSpPr/>
                  <p:nvPr/>
                </p:nvSpPr>
                <p:spPr>
                  <a:xfrm flipH="1">
                    <a:off x="2895480" y="273168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2" name=""/>
                  <p:cNvSpPr/>
                  <p:nvPr/>
                </p:nvSpPr>
                <p:spPr>
                  <a:xfrm flipH="1">
                    <a:off x="2923560" y="27468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3" name=""/>
                  <p:cNvSpPr/>
                  <p:nvPr/>
                </p:nvSpPr>
                <p:spPr>
                  <a:xfrm flipH="1">
                    <a:off x="2921760" y="276372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4" name=""/>
                  <p:cNvSpPr/>
                  <p:nvPr/>
                </p:nvSpPr>
                <p:spPr>
                  <a:xfrm flipH="1">
                    <a:off x="2900880" y="276804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65" name=""/>
                <p:cNvGrpSpPr/>
                <p:nvPr/>
              </p:nvGrpSpPr>
              <p:grpSpPr>
                <a:xfrm>
                  <a:off x="3051000" y="2870640"/>
                  <a:ext cx="85680" cy="135000"/>
                  <a:chOff x="3051000" y="2870640"/>
                  <a:chExt cx="85680" cy="135000"/>
                </a:xfrm>
              </p:grpSpPr>
              <p:sp>
                <p:nvSpPr>
                  <p:cNvPr id="10466" name=""/>
                  <p:cNvSpPr/>
                  <p:nvPr/>
                </p:nvSpPr>
                <p:spPr>
                  <a:xfrm rot="10618800">
                    <a:off x="3054240" y="2872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7" name=""/>
                  <p:cNvSpPr/>
                  <p:nvPr/>
                </p:nvSpPr>
                <p:spPr>
                  <a:xfrm>
                    <a:off x="3054240" y="2884320"/>
                    <a:ext cx="55800" cy="72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8" name=""/>
                  <p:cNvSpPr/>
                  <p:nvPr/>
                </p:nvSpPr>
                <p:spPr>
                  <a:xfrm>
                    <a:off x="3071160" y="291276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9" name=""/>
                  <p:cNvSpPr/>
                  <p:nvPr/>
                </p:nvSpPr>
                <p:spPr>
                  <a:xfrm>
                    <a:off x="3087720" y="292320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0" name=""/>
                  <p:cNvSpPr/>
                  <p:nvPr/>
                </p:nvSpPr>
                <p:spPr>
                  <a:xfrm>
                    <a:off x="3093840" y="294048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1" name=""/>
                <p:cNvGrpSpPr/>
                <p:nvPr/>
              </p:nvGrpSpPr>
              <p:grpSpPr>
                <a:xfrm>
                  <a:off x="2781720" y="2971800"/>
                  <a:ext cx="123120" cy="96480"/>
                  <a:chOff x="2781720" y="2971800"/>
                  <a:chExt cx="123120" cy="96480"/>
                </a:xfrm>
              </p:grpSpPr>
              <p:sp>
                <p:nvSpPr>
                  <p:cNvPr id="10472" name=""/>
                  <p:cNvSpPr/>
                  <p:nvPr/>
                </p:nvSpPr>
                <p:spPr>
                  <a:xfrm rot="16449600">
                    <a:off x="2799000" y="296136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3" name=""/>
                  <p:cNvSpPr/>
                  <p:nvPr/>
                </p:nvSpPr>
                <p:spPr>
                  <a:xfrm flipH="1">
                    <a:off x="2824560" y="298296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4" name=""/>
                  <p:cNvSpPr/>
                  <p:nvPr/>
                </p:nvSpPr>
                <p:spPr>
                  <a:xfrm flipH="1">
                    <a:off x="2852280" y="2998080"/>
                    <a:ext cx="158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5" name=""/>
                  <p:cNvSpPr/>
                  <p:nvPr/>
                </p:nvSpPr>
                <p:spPr>
                  <a:xfrm flipH="1">
                    <a:off x="2850840" y="301464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6" name=""/>
                  <p:cNvSpPr/>
                  <p:nvPr/>
                </p:nvSpPr>
                <p:spPr>
                  <a:xfrm flipH="1">
                    <a:off x="2829960" y="30189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7" name=""/>
                <p:cNvGrpSpPr/>
                <p:nvPr/>
              </p:nvGrpSpPr>
              <p:grpSpPr>
                <a:xfrm>
                  <a:off x="2841120" y="2640960"/>
                  <a:ext cx="123120" cy="96480"/>
                  <a:chOff x="2841120" y="2640960"/>
                  <a:chExt cx="123120" cy="96480"/>
                </a:xfrm>
              </p:grpSpPr>
              <p:sp>
                <p:nvSpPr>
                  <p:cNvPr id="10478" name=""/>
                  <p:cNvSpPr/>
                  <p:nvPr/>
                </p:nvSpPr>
                <p:spPr>
                  <a:xfrm rot="16449600">
                    <a:off x="2858400" y="26305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9" name=""/>
                  <p:cNvSpPr/>
                  <p:nvPr/>
                </p:nvSpPr>
                <p:spPr>
                  <a:xfrm flipH="1">
                    <a:off x="2883600" y="265212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0" name=""/>
                  <p:cNvSpPr/>
                  <p:nvPr/>
                </p:nvSpPr>
                <p:spPr>
                  <a:xfrm flipH="1">
                    <a:off x="2911680" y="26672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1" name=""/>
                  <p:cNvSpPr/>
                  <p:nvPr/>
                </p:nvSpPr>
                <p:spPr>
                  <a:xfrm flipH="1">
                    <a:off x="2909880" y="268416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2" name=""/>
                  <p:cNvSpPr/>
                  <p:nvPr/>
                </p:nvSpPr>
                <p:spPr>
                  <a:xfrm flipH="1">
                    <a:off x="2889000" y="268848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3" name=""/>
                <p:cNvGrpSpPr/>
                <p:nvPr/>
              </p:nvGrpSpPr>
              <p:grpSpPr>
                <a:xfrm>
                  <a:off x="2751120" y="2910240"/>
                  <a:ext cx="123120" cy="96480"/>
                  <a:chOff x="2751120" y="2910240"/>
                  <a:chExt cx="123120" cy="96480"/>
                </a:xfrm>
              </p:grpSpPr>
              <p:sp>
                <p:nvSpPr>
                  <p:cNvPr id="10484" name=""/>
                  <p:cNvSpPr/>
                  <p:nvPr/>
                </p:nvSpPr>
                <p:spPr>
                  <a:xfrm rot="16449600">
                    <a:off x="2768400" y="28998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5" name=""/>
                  <p:cNvSpPr/>
                  <p:nvPr/>
                </p:nvSpPr>
                <p:spPr>
                  <a:xfrm flipH="1">
                    <a:off x="2793600" y="292140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6" name=""/>
                  <p:cNvSpPr/>
                  <p:nvPr/>
                </p:nvSpPr>
                <p:spPr>
                  <a:xfrm flipH="1">
                    <a:off x="2821680" y="293652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7" name=""/>
                  <p:cNvSpPr/>
                  <p:nvPr/>
                </p:nvSpPr>
                <p:spPr>
                  <a:xfrm flipH="1">
                    <a:off x="2819880" y="295344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8" name=""/>
                  <p:cNvSpPr/>
                  <p:nvPr/>
                </p:nvSpPr>
                <p:spPr>
                  <a:xfrm flipH="1">
                    <a:off x="2799000" y="29574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89" name=""/>
                <p:cNvGrpSpPr/>
                <p:nvPr/>
              </p:nvGrpSpPr>
              <p:grpSpPr>
                <a:xfrm>
                  <a:off x="3106440" y="2692440"/>
                  <a:ext cx="105480" cy="145080"/>
                  <a:chOff x="3106440" y="2692440"/>
                  <a:chExt cx="105480" cy="145080"/>
                </a:xfrm>
              </p:grpSpPr>
              <p:sp>
                <p:nvSpPr>
                  <p:cNvPr id="10490" name=""/>
                  <p:cNvSpPr/>
                  <p:nvPr/>
                </p:nvSpPr>
                <p:spPr>
                  <a:xfrm rot="10047600">
                    <a:off x="3119760" y="2699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1" name=""/>
                  <p:cNvSpPr/>
                  <p:nvPr/>
                </p:nvSpPr>
                <p:spPr>
                  <a:xfrm>
                    <a:off x="3111480" y="2718720"/>
                    <a:ext cx="669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2" name=""/>
                  <p:cNvSpPr/>
                  <p:nvPr/>
                </p:nvSpPr>
                <p:spPr>
                  <a:xfrm>
                    <a:off x="3132720" y="274392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3" name=""/>
                  <p:cNvSpPr/>
                  <p:nvPr/>
                </p:nvSpPr>
                <p:spPr>
                  <a:xfrm>
                    <a:off x="3150720" y="275184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4" name=""/>
                  <p:cNvSpPr/>
                  <p:nvPr/>
                </p:nvSpPr>
                <p:spPr>
                  <a:xfrm>
                    <a:off x="3159360" y="276732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95" name=""/>
                <p:cNvGrpSpPr/>
                <p:nvPr/>
              </p:nvGrpSpPr>
              <p:grpSpPr>
                <a:xfrm>
                  <a:off x="3070080" y="2785680"/>
                  <a:ext cx="129240" cy="152640"/>
                  <a:chOff x="3070080" y="2785680"/>
                  <a:chExt cx="129240" cy="152640"/>
                </a:xfrm>
              </p:grpSpPr>
              <p:sp>
                <p:nvSpPr>
                  <p:cNvPr id="10496" name=""/>
                  <p:cNvSpPr/>
                  <p:nvPr/>
                </p:nvSpPr>
                <p:spPr>
                  <a:xfrm rot="9208200">
                    <a:off x="3095280" y="2796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7" name=""/>
                  <p:cNvSpPr/>
                  <p:nvPr/>
                </p:nvSpPr>
                <p:spPr>
                  <a:xfrm>
                    <a:off x="3077280" y="2828520"/>
                    <a:ext cx="79920" cy="44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8" name=""/>
                  <p:cNvSpPr/>
                  <p:nvPr/>
                </p:nvSpPr>
                <p:spPr>
                  <a:xfrm>
                    <a:off x="3103920" y="284760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9" name=""/>
                  <p:cNvSpPr/>
                  <p:nvPr/>
                </p:nvSpPr>
                <p:spPr>
                  <a:xfrm flipV="1">
                    <a:off x="3123360" y="284904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0" name=""/>
                  <p:cNvSpPr/>
                  <p:nvPr/>
                </p:nvSpPr>
                <p:spPr>
                  <a:xfrm>
                    <a:off x="3135600" y="2864160"/>
                    <a:ext cx="97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1" name=""/>
                <p:cNvGrpSpPr/>
                <p:nvPr/>
              </p:nvGrpSpPr>
              <p:grpSpPr>
                <a:xfrm>
                  <a:off x="2920320" y="2999520"/>
                  <a:ext cx="81000" cy="132480"/>
                  <a:chOff x="2920320" y="2999520"/>
                  <a:chExt cx="81000" cy="132480"/>
                </a:xfrm>
              </p:grpSpPr>
              <p:sp>
                <p:nvSpPr>
                  <p:cNvPr id="10502" name=""/>
                  <p:cNvSpPr/>
                  <p:nvPr/>
                </p:nvSpPr>
                <p:spPr>
                  <a:xfrm rot="10860000">
                    <a:off x="2921400" y="30002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3" name=""/>
                  <p:cNvSpPr/>
                  <p:nvPr/>
                </p:nvSpPr>
                <p:spPr>
                  <a:xfrm>
                    <a:off x="2925360" y="3009600"/>
                    <a:ext cx="5076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4" name=""/>
                  <p:cNvSpPr/>
                  <p:nvPr/>
                </p:nvSpPr>
                <p:spPr>
                  <a:xfrm>
                    <a:off x="2940480" y="303912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5" name=""/>
                  <p:cNvSpPr/>
                  <p:nvPr/>
                </p:nvSpPr>
                <p:spPr>
                  <a:xfrm>
                    <a:off x="2955960" y="3050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6" name=""/>
                  <p:cNvSpPr/>
                  <p:nvPr/>
                </p:nvSpPr>
                <p:spPr>
                  <a:xfrm>
                    <a:off x="2960640" y="30682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07" name=""/>
                <p:cNvGrpSpPr/>
                <p:nvPr/>
              </p:nvGrpSpPr>
              <p:grpSpPr>
                <a:xfrm>
                  <a:off x="2975040" y="2976840"/>
                  <a:ext cx="115200" cy="149040"/>
                  <a:chOff x="2975040" y="2976840"/>
                  <a:chExt cx="115200" cy="149040"/>
                </a:xfrm>
              </p:grpSpPr>
              <p:sp>
                <p:nvSpPr>
                  <p:cNvPr id="10508" name=""/>
                  <p:cNvSpPr/>
                  <p:nvPr/>
                </p:nvSpPr>
                <p:spPr>
                  <a:xfrm rot="9731400">
                    <a:off x="2993040" y="2985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9" name=""/>
                  <p:cNvSpPr/>
                  <p:nvPr/>
                </p:nvSpPr>
                <p:spPr>
                  <a:xfrm>
                    <a:off x="2981160" y="3009960"/>
                    <a:ext cx="7236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0" name=""/>
                  <p:cNvSpPr/>
                  <p:nvPr/>
                </p:nvSpPr>
                <p:spPr>
                  <a:xfrm>
                    <a:off x="3004560" y="303300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1" name=""/>
                  <p:cNvSpPr/>
                  <p:nvPr/>
                </p:nvSpPr>
                <p:spPr>
                  <a:xfrm>
                    <a:off x="3023280" y="303912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2" name=""/>
                  <p:cNvSpPr/>
                  <p:nvPr/>
                </p:nvSpPr>
                <p:spPr>
                  <a:xfrm>
                    <a:off x="3033360" y="3053880"/>
                    <a:ext cx="82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3" name=""/>
                <p:cNvGrpSpPr/>
                <p:nvPr/>
              </p:nvGrpSpPr>
              <p:grpSpPr>
                <a:xfrm>
                  <a:off x="2972520" y="2881440"/>
                  <a:ext cx="98640" cy="141840"/>
                  <a:chOff x="2972520" y="2881440"/>
                  <a:chExt cx="98640" cy="141840"/>
                </a:xfrm>
              </p:grpSpPr>
              <p:sp>
                <p:nvSpPr>
                  <p:cNvPr id="10514" name=""/>
                  <p:cNvSpPr/>
                  <p:nvPr/>
                </p:nvSpPr>
                <p:spPr>
                  <a:xfrm rot="10251000">
                    <a:off x="2982240" y="2886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5" name=""/>
                  <p:cNvSpPr/>
                  <p:nvPr/>
                </p:nvSpPr>
                <p:spPr>
                  <a:xfrm>
                    <a:off x="2977200" y="2903040"/>
                    <a:ext cx="630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6" name=""/>
                  <p:cNvSpPr/>
                  <p:nvPr/>
                </p:nvSpPr>
                <p:spPr>
                  <a:xfrm>
                    <a:off x="2997000" y="2929320"/>
                    <a:ext cx="75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7" name=""/>
                  <p:cNvSpPr/>
                  <p:nvPr/>
                </p:nvSpPr>
                <p:spPr>
                  <a:xfrm>
                    <a:off x="3014640" y="2938320"/>
                    <a:ext cx="16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8" name=""/>
                  <p:cNvSpPr/>
                  <p:nvPr/>
                </p:nvSpPr>
                <p:spPr>
                  <a:xfrm>
                    <a:off x="3022200" y="2954520"/>
                    <a:ext cx="6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19" name=""/>
                <p:cNvGrpSpPr/>
                <p:nvPr/>
              </p:nvGrpSpPr>
              <p:grpSpPr>
                <a:xfrm>
                  <a:off x="2840040" y="2908080"/>
                  <a:ext cx="114120" cy="148680"/>
                  <a:chOff x="2840040" y="2908080"/>
                  <a:chExt cx="114120" cy="148680"/>
                </a:xfrm>
              </p:grpSpPr>
              <p:sp>
                <p:nvSpPr>
                  <p:cNvPr id="10520" name=""/>
                  <p:cNvSpPr/>
                  <p:nvPr/>
                </p:nvSpPr>
                <p:spPr>
                  <a:xfrm rot="11835000">
                    <a:off x="2857320" y="2916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1" name=""/>
                  <p:cNvSpPr/>
                  <p:nvPr/>
                </p:nvSpPr>
                <p:spPr>
                  <a:xfrm>
                    <a:off x="2878560" y="2918880"/>
                    <a:ext cx="2700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2" name=""/>
                  <p:cNvSpPr/>
                  <p:nvPr/>
                </p:nvSpPr>
                <p:spPr>
                  <a:xfrm flipH="1">
                    <a:off x="2884320" y="295128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3" name=""/>
                  <p:cNvSpPr/>
                  <p:nvPr/>
                </p:nvSpPr>
                <p:spPr>
                  <a:xfrm>
                    <a:off x="2896560" y="296712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4" name=""/>
                  <p:cNvSpPr/>
                  <p:nvPr/>
                </p:nvSpPr>
                <p:spPr>
                  <a:xfrm>
                    <a:off x="2896200" y="298512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5" name=""/>
                <p:cNvGrpSpPr/>
                <p:nvPr/>
              </p:nvGrpSpPr>
              <p:grpSpPr>
                <a:xfrm>
                  <a:off x="2875680" y="2700360"/>
                  <a:ext cx="146520" cy="141840"/>
                  <a:chOff x="2875680" y="2700360"/>
                  <a:chExt cx="146520" cy="141840"/>
                </a:xfrm>
              </p:grpSpPr>
              <p:sp>
                <p:nvSpPr>
                  <p:cNvPr id="10526" name=""/>
                  <p:cNvSpPr/>
                  <p:nvPr/>
                </p:nvSpPr>
                <p:spPr>
                  <a:xfrm rot="13885800">
                    <a:off x="2904840" y="27126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7" name=""/>
                  <p:cNvSpPr/>
                  <p:nvPr/>
                </p:nvSpPr>
                <p:spPr>
                  <a:xfrm flipH="1">
                    <a:off x="2945880" y="2708280"/>
                    <a:ext cx="1692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8" name=""/>
                  <p:cNvSpPr/>
                  <p:nvPr/>
                </p:nvSpPr>
                <p:spPr>
                  <a:xfrm flipH="1">
                    <a:off x="2944080" y="2738160"/>
                    <a:ext cx="82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9" name=""/>
                  <p:cNvSpPr/>
                  <p:nvPr/>
                </p:nvSpPr>
                <p:spPr>
                  <a:xfrm>
                    <a:off x="2955600" y="275832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0" name=""/>
                  <p:cNvSpPr/>
                  <p:nvPr/>
                </p:nvSpPr>
                <p:spPr>
                  <a:xfrm flipH="1">
                    <a:off x="2941920" y="2772360"/>
                    <a:ext cx="46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1" name=""/>
                <p:cNvGrpSpPr/>
                <p:nvPr/>
              </p:nvGrpSpPr>
              <p:grpSpPr>
                <a:xfrm>
                  <a:off x="2835720" y="2514240"/>
                  <a:ext cx="110520" cy="147240"/>
                  <a:chOff x="2835720" y="2514240"/>
                  <a:chExt cx="110520" cy="147240"/>
                </a:xfrm>
              </p:grpSpPr>
              <p:sp>
                <p:nvSpPr>
                  <p:cNvPr id="10532" name=""/>
                  <p:cNvSpPr/>
                  <p:nvPr/>
                </p:nvSpPr>
                <p:spPr>
                  <a:xfrm rot="20683200">
                    <a:off x="2851560" y="2522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3" name=""/>
                  <p:cNvSpPr/>
                  <p:nvPr/>
                </p:nvSpPr>
                <p:spPr>
                  <a:xfrm flipH="1" flipV="1">
                    <a:off x="2870640" y="2572200"/>
                    <a:ext cx="69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4" name=""/>
                  <p:cNvSpPr/>
                  <p:nvPr/>
                </p:nvSpPr>
                <p:spPr>
                  <a:xfrm flipH="1" flipV="1">
                    <a:off x="2908440" y="2592000"/>
                    <a:ext cx="93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5" name=""/>
                  <p:cNvSpPr/>
                  <p:nvPr/>
                </p:nvSpPr>
                <p:spPr>
                  <a:xfrm flipH="1" flipV="1">
                    <a:off x="2883240" y="259884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6" name=""/>
                  <p:cNvSpPr/>
                  <p:nvPr/>
                </p:nvSpPr>
                <p:spPr>
                  <a:xfrm flipH="1" flipV="1">
                    <a:off x="2882160" y="257544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37" name=""/>
                <p:cNvGrpSpPr/>
                <p:nvPr/>
              </p:nvGrpSpPr>
              <p:grpSpPr>
                <a:xfrm>
                  <a:off x="2930400" y="2442960"/>
                  <a:ext cx="106920" cy="145440"/>
                  <a:chOff x="2930400" y="2442960"/>
                  <a:chExt cx="106920" cy="145440"/>
                </a:xfrm>
              </p:grpSpPr>
              <p:sp>
                <p:nvSpPr>
                  <p:cNvPr id="10538" name=""/>
                  <p:cNvSpPr/>
                  <p:nvPr/>
                </p:nvSpPr>
                <p:spPr>
                  <a:xfrm rot="20803200">
                    <a:off x="2944080" y="24498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9" name=""/>
                  <p:cNvSpPr/>
                  <p:nvPr/>
                </p:nvSpPr>
                <p:spPr>
                  <a:xfrm flipH="1" flipV="1">
                    <a:off x="2964600" y="2499480"/>
                    <a:ext cx="6768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0" name=""/>
                  <p:cNvSpPr/>
                  <p:nvPr/>
                </p:nvSpPr>
                <p:spPr>
                  <a:xfrm flipH="1" flipV="1">
                    <a:off x="3001680" y="25207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1" name=""/>
                  <p:cNvSpPr/>
                  <p:nvPr/>
                </p:nvSpPr>
                <p:spPr>
                  <a:xfrm flipH="1" flipV="1">
                    <a:off x="2976120" y="252684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2" name=""/>
                  <p:cNvSpPr/>
                  <p:nvPr/>
                </p:nvSpPr>
                <p:spPr>
                  <a:xfrm flipH="1" flipV="1">
                    <a:off x="2976120" y="250308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3" name=""/>
                <p:cNvGrpSpPr/>
                <p:nvPr/>
              </p:nvGrpSpPr>
              <p:grpSpPr>
                <a:xfrm>
                  <a:off x="2999160" y="2712240"/>
                  <a:ext cx="145440" cy="135360"/>
                  <a:chOff x="2999160" y="2712240"/>
                  <a:chExt cx="145440" cy="135360"/>
                </a:xfrm>
              </p:grpSpPr>
              <p:sp>
                <p:nvSpPr>
                  <p:cNvPr id="10544" name=""/>
                  <p:cNvSpPr/>
                  <p:nvPr/>
                </p:nvSpPr>
                <p:spPr>
                  <a:xfrm rot="14375400">
                    <a:off x="3027600" y="27212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5" name=""/>
                  <p:cNvSpPr/>
                  <p:nvPr/>
                </p:nvSpPr>
                <p:spPr>
                  <a:xfrm flipH="1">
                    <a:off x="3065400" y="2719800"/>
                    <a:ext cx="2916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6" name=""/>
                  <p:cNvSpPr/>
                  <p:nvPr/>
                </p:nvSpPr>
                <p:spPr>
                  <a:xfrm flipH="1">
                    <a:off x="3069360" y="274788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7" name=""/>
                  <p:cNvSpPr/>
                  <p:nvPr/>
                </p:nvSpPr>
                <p:spPr>
                  <a:xfrm>
                    <a:off x="3080160" y="2768400"/>
                    <a:ext cx="43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8" name=""/>
                  <p:cNvSpPr/>
                  <p:nvPr/>
                </p:nvSpPr>
                <p:spPr>
                  <a:xfrm flipH="1">
                    <a:off x="3063240" y="27810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49" name=""/>
                <p:cNvGrpSpPr/>
                <p:nvPr/>
              </p:nvGrpSpPr>
              <p:grpSpPr>
                <a:xfrm>
                  <a:off x="2966040" y="2861280"/>
                  <a:ext cx="150840" cy="145440"/>
                  <a:chOff x="2966040" y="2861280"/>
                  <a:chExt cx="150840" cy="145440"/>
                </a:xfrm>
              </p:grpSpPr>
              <p:sp>
                <p:nvSpPr>
                  <p:cNvPr id="10550" name=""/>
                  <p:cNvSpPr/>
                  <p:nvPr/>
                </p:nvSpPr>
                <p:spPr>
                  <a:xfrm rot="13740000">
                    <a:off x="3002040" y="2868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1" name=""/>
                  <p:cNvSpPr/>
                  <p:nvPr/>
                </p:nvSpPr>
                <p:spPr>
                  <a:xfrm flipH="1">
                    <a:off x="3036240" y="2869920"/>
                    <a:ext cx="230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2" name=""/>
                  <p:cNvSpPr/>
                  <p:nvPr/>
                </p:nvSpPr>
                <p:spPr>
                  <a:xfrm flipH="1">
                    <a:off x="3037680" y="2900880"/>
                    <a:ext cx="97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3" name=""/>
                  <p:cNvSpPr/>
                  <p:nvPr/>
                </p:nvSpPr>
                <p:spPr>
                  <a:xfrm>
                    <a:off x="3049200" y="2920320"/>
                    <a:ext cx="57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4" name=""/>
                  <p:cNvSpPr/>
                  <p:nvPr/>
                </p:nvSpPr>
                <p:spPr>
                  <a:xfrm flipH="1">
                    <a:off x="3034080" y="293544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55" name=""/>
                <p:cNvGrpSpPr/>
                <p:nvPr/>
              </p:nvGrpSpPr>
              <p:grpSpPr>
                <a:xfrm>
                  <a:off x="2886840" y="2991600"/>
                  <a:ext cx="149040" cy="147600"/>
                  <a:chOff x="2886840" y="2991600"/>
                  <a:chExt cx="149040" cy="147600"/>
                </a:xfrm>
              </p:grpSpPr>
              <p:sp>
                <p:nvSpPr>
                  <p:cNvPr id="10556" name=""/>
                  <p:cNvSpPr/>
                  <p:nvPr/>
                </p:nvSpPr>
                <p:spPr>
                  <a:xfrm rot="13579800">
                    <a:off x="2921760" y="29998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7" name=""/>
                  <p:cNvSpPr/>
                  <p:nvPr/>
                </p:nvSpPr>
                <p:spPr>
                  <a:xfrm flipH="1">
                    <a:off x="2957040" y="3000960"/>
                    <a:ext cx="1872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8" name=""/>
                  <p:cNvSpPr/>
                  <p:nvPr/>
                </p:nvSpPr>
                <p:spPr>
                  <a:xfrm flipH="1">
                    <a:off x="2956680" y="30322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9" name=""/>
                  <p:cNvSpPr/>
                  <p:nvPr/>
                </p:nvSpPr>
                <p:spPr>
                  <a:xfrm>
                    <a:off x="2968200" y="305172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0" name=""/>
                  <p:cNvSpPr/>
                  <p:nvPr/>
                </p:nvSpPr>
                <p:spPr>
                  <a:xfrm flipH="1">
                    <a:off x="2954160" y="306720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61" name=""/>
                <p:cNvGrpSpPr/>
                <p:nvPr/>
              </p:nvGrpSpPr>
              <p:grpSpPr>
                <a:xfrm>
                  <a:off x="2818440" y="3012840"/>
                  <a:ext cx="146160" cy="137880"/>
                  <a:chOff x="2818440" y="3012840"/>
                  <a:chExt cx="146160" cy="137880"/>
                </a:xfrm>
              </p:grpSpPr>
              <p:sp>
                <p:nvSpPr>
                  <p:cNvPr id="10562" name=""/>
                  <p:cNvSpPr/>
                  <p:nvPr/>
                </p:nvSpPr>
                <p:spPr>
                  <a:xfrm rot="14212200">
                    <a:off x="2847240" y="30232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3" name=""/>
                  <p:cNvSpPr/>
                  <p:nvPr/>
                </p:nvSpPr>
                <p:spPr>
                  <a:xfrm flipH="1">
                    <a:off x="2886120" y="3020760"/>
                    <a:ext cx="2484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4" name=""/>
                  <p:cNvSpPr/>
                  <p:nvPr/>
                </p:nvSpPr>
                <p:spPr>
                  <a:xfrm flipH="1">
                    <a:off x="2888280" y="3049560"/>
                    <a:ext cx="9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5" name=""/>
                  <p:cNvSpPr/>
                  <p:nvPr/>
                </p:nvSpPr>
                <p:spPr>
                  <a:xfrm>
                    <a:off x="2899080" y="3069720"/>
                    <a:ext cx="54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6" name=""/>
                  <p:cNvSpPr/>
                  <p:nvPr/>
                </p:nvSpPr>
                <p:spPr>
                  <a:xfrm flipH="1">
                    <a:off x="2883240" y="308304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67" name=""/>
              <p:cNvGrpSpPr/>
              <p:nvPr/>
            </p:nvGrpSpPr>
            <p:grpSpPr>
              <a:xfrm>
                <a:off x="2457720" y="2127960"/>
                <a:ext cx="648360" cy="564120"/>
                <a:chOff x="2457720" y="2127960"/>
                <a:chExt cx="648360" cy="564120"/>
              </a:xfrm>
            </p:grpSpPr>
            <p:grpSp>
              <p:nvGrpSpPr>
                <p:cNvPr id="10568" name=""/>
                <p:cNvGrpSpPr/>
                <p:nvPr/>
              </p:nvGrpSpPr>
              <p:grpSpPr>
                <a:xfrm>
                  <a:off x="2637000" y="2223000"/>
                  <a:ext cx="129600" cy="143640"/>
                  <a:chOff x="2637000" y="2223000"/>
                  <a:chExt cx="129600" cy="143640"/>
                </a:xfrm>
              </p:grpSpPr>
              <p:sp>
                <p:nvSpPr>
                  <p:cNvPr id="10569" name=""/>
                  <p:cNvSpPr/>
                  <p:nvPr/>
                </p:nvSpPr>
                <p:spPr>
                  <a:xfrm rot="1519200">
                    <a:off x="2657520" y="2235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0" name=""/>
                  <p:cNvSpPr/>
                  <p:nvPr/>
                </p:nvSpPr>
                <p:spPr>
                  <a:xfrm flipH="1" flipV="1">
                    <a:off x="2693880" y="2271240"/>
                    <a:ext cx="23400" cy="86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1" name=""/>
                  <p:cNvSpPr/>
                  <p:nvPr/>
                </p:nvSpPr>
                <p:spPr>
                  <a:xfrm flipV="1">
                    <a:off x="2713320" y="2309760"/>
                    <a:ext cx="14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2" name=""/>
                  <p:cNvSpPr/>
                  <p:nvPr/>
                </p:nvSpPr>
                <p:spPr>
                  <a:xfrm flipH="1" flipV="1">
                    <a:off x="2688120" y="2297880"/>
                    <a:ext cx="13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3" name=""/>
                  <p:cNvSpPr/>
                  <p:nvPr/>
                </p:nvSpPr>
                <p:spPr>
                  <a:xfrm flipH="1" flipV="1">
                    <a:off x="2702520" y="228132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74" name=""/>
                <p:cNvSpPr/>
                <p:nvPr/>
              </p:nvSpPr>
              <p:spPr>
                <a:xfrm flipH="1">
                  <a:off x="2784600" y="2383920"/>
                  <a:ext cx="113760" cy="13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5" name=""/>
                <p:cNvSpPr/>
                <p:nvPr/>
              </p:nvSpPr>
              <p:spPr>
                <a:xfrm rot="19303800">
                  <a:off x="2634120" y="2328120"/>
                  <a:ext cx="43992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6" name=""/>
                <p:cNvSpPr/>
                <p:nvPr/>
              </p:nvSpPr>
              <p:spPr>
                <a:xfrm flipH="1" flipV="1">
                  <a:off x="2625120" y="2349720"/>
                  <a:ext cx="14004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7" name=""/>
                <p:cNvSpPr/>
                <p:nvPr/>
              </p:nvSpPr>
              <p:spPr>
                <a:xfrm flipH="1" flipV="1">
                  <a:off x="2851560" y="2295000"/>
                  <a:ext cx="228960" cy="119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8" name=""/>
                <p:cNvSpPr/>
                <p:nvPr/>
              </p:nvSpPr>
              <p:spPr>
                <a:xfrm flipH="1">
                  <a:off x="2837880" y="2454120"/>
                  <a:ext cx="360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9" name=""/>
                <p:cNvSpPr/>
                <p:nvPr/>
              </p:nvSpPr>
              <p:spPr>
                <a:xfrm flipH="1">
                  <a:off x="2817000" y="2405520"/>
                  <a:ext cx="5328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0" name=""/>
                <p:cNvSpPr/>
                <p:nvPr/>
              </p:nvSpPr>
              <p:spPr>
                <a:xfrm flipH="1" flipV="1">
                  <a:off x="2609280" y="2386800"/>
                  <a:ext cx="9180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1" name=""/>
                <p:cNvSpPr/>
                <p:nvPr/>
              </p:nvSpPr>
              <p:spPr>
                <a:xfrm flipH="1" flipV="1">
                  <a:off x="2704320" y="2336760"/>
                  <a:ext cx="22320" cy="5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2" name=""/>
                <p:cNvSpPr/>
                <p:nvPr/>
              </p:nvSpPr>
              <p:spPr>
                <a:xfrm flipH="1">
                  <a:off x="2652840" y="2464200"/>
                  <a:ext cx="1728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3" name=""/>
                <p:cNvSpPr/>
                <p:nvPr/>
              </p:nvSpPr>
              <p:spPr>
                <a:xfrm flipH="1" flipV="1">
                  <a:off x="2808360" y="2355120"/>
                  <a:ext cx="15732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4" name=""/>
                <p:cNvSpPr/>
                <p:nvPr/>
              </p:nvSpPr>
              <p:spPr>
                <a:xfrm flipH="1" flipV="1">
                  <a:off x="2836080" y="2332800"/>
                  <a:ext cx="3780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5" name=""/>
                <p:cNvSpPr/>
                <p:nvPr/>
              </p:nvSpPr>
              <p:spPr>
                <a:xfrm flipH="1" flipV="1">
                  <a:off x="2968920" y="2302560"/>
                  <a:ext cx="34920" cy="7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6" name=""/>
                <p:cNvSpPr/>
                <p:nvPr/>
              </p:nvSpPr>
              <p:spPr>
                <a:xfrm flipH="1" flipV="1">
                  <a:off x="2853360" y="2269080"/>
                  <a:ext cx="3600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7" name=""/>
                <p:cNvSpPr/>
                <p:nvPr/>
              </p:nvSpPr>
              <p:spPr>
                <a:xfrm flipH="1">
                  <a:off x="2932920" y="2397240"/>
                  <a:ext cx="43200" cy="59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8" name=""/>
                <p:cNvSpPr/>
                <p:nvPr/>
              </p:nvSpPr>
              <p:spPr>
                <a:xfrm flipH="1">
                  <a:off x="2708280" y="2435760"/>
                  <a:ext cx="2916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9" name=""/>
                <p:cNvSpPr/>
                <p:nvPr/>
              </p:nvSpPr>
              <p:spPr>
                <a:xfrm flipH="1" flipV="1">
                  <a:off x="2592000" y="2450880"/>
                  <a:ext cx="381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0" name=""/>
                <p:cNvGrpSpPr/>
                <p:nvPr/>
              </p:nvGrpSpPr>
              <p:grpSpPr>
                <a:xfrm>
                  <a:off x="2546280" y="2234880"/>
                  <a:ext cx="99000" cy="141840"/>
                  <a:chOff x="2546280" y="2234880"/>
                  <a:chExt cx="99000" cy="141840"/>
                </a:xfrm>
              </p:grpSpPr>
              <p:sp>
                <p:nvSpPr>
                  <p:cNvPr id="10591" name=""/>
                  <p:cNvSpPr/>
                  <p:nvPr/>
                </p:nvSpPr>
                <p:spPr>
                  <a:xfrm rot="21049200">
                    <a:off x="2556000" y="224028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2" name=""/>
                  <p:cNvSpPr/>
                  <p:nvPr/>
                </p:nvSpPr>
                <p:spPr>
                  <a:xfrm flipH="1" flipV="1">
                    <a:off x="2577600" y="2288520"/>
                    <a:ext cx="63720" cy="66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3" name=""/>
                  <p:cNvSpPr/>
                  <p:nvPr/>
                </p:nvSpPr>
                <p:spPr>
                  <a:xfrm flipH="1" flipV="1">
                    <a:off x="2613600" y="231228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4" name=""/>
                  <p:cNvSpPr/>
                  <p:nvPr/>
                </p:nvSpPr>
                <p:spPr>
                  <a:xfrm flipH="1" flipV="1">
                    <a:off x="2587320" y="231660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5" name=""/>
                  <p:cNvSpPr/>
                  <p:nvPr/>
                </p:nvSpPr>
                <p:spPr>
                  <a:xfrm flipH="1" flipV="1">
                    <a:off x="2589120" y="2292840"/>
                    <a:ext cx="6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96" name=""/>
                <p:cNvGrpSpPr/>
                <p:nvPr/>
              </p:nvGrpSpPr>
              <p:grpSpPr>
                <a:xfrm>
                  <a:off x="2682720" y="2361240"/>
                  <a:ext cx="153000" cy="131760"/>
                  <a:chOff x="2682720" y="2361240"/>
                  <a:chExt cx="153000" cy="131760"/>
                </a:xfrm>
              </p:grpSpPr>
              <p:sp>
                <p:nvSpPr>
                  <p:cNvPr id="10597" name=""/>
                  <p:cNvSpPr/>
                  <p:nvPr/>
                </p:nvSpPr>
                <p:spPr>
                  <a:xfrm rot="17890800">
                    <a:off x="2719440" y="236124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8" name=""/>
                  <p:cNvSpPr/>
                  <p:nvPr/>
                </p:nvSpPr>
                <p:spPr>
                  <a:xfrm flipH="1">
                    <a:off x="2734200" y="2421000"/>
                    <a:ext cx="910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9" name=""/>
                  <p:cNvSpPr/>
                  <p:nvPr/>
                </p:nvSpPr>
                <p:spPr>
                  <a:xfrm flipH="1" flipV="1">
                    <a:off x="2774880" y="2417040"/>
                    <a:ext cx="176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0" name=""/>
                  <p:cNvSpPr/>
                  <p:nvPr/>
                </p:nvSpPr>
                <p:spPr>
                  <a:xfrm flipH="1">
                    <a:off x="2762280" y="2429640"/>
                    <a:ext cx="122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1" name=""/>
                  <p:cNvSpPr/>
                  <p:nvPr/>
                </p:nvSpPr>
                <p:spPr>
                  <a:xfrm flipH="1" flipV="1">
                    <a:off x="2744640" y="242460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2" name=""/>
                <p:cNvGrpSpPr/>
                <p:nvPr/>
              </p:nvGrpSpPr>
              <p:grpSpPr>
                <a:xfrm>
                  <a:off x="2680560" y="2256840"/>
                  <a:ext cx="143280" cy="151560"/>
                  <a:chOff x="2680560" y="2256840"/>
                  <a:chExt cx="143280" cy="151560"/>
                </a:xfrm>
              </p:grpSpPr>
              <p:sp>
                <p:nvSpPr>
                  <p:cNvPr id="10603" name=""/>
                  <p:cNvSpPr/>
                  <p:nvPr/>
                </p:nvSpPr>
                <p:spPr>
                  <a:xfrm rot="19303800">
                    <a:off x="2712240" y="2266920"/>
                    <a:ext cx="792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4" name=""/>
                  <p:cNvSpPr/>
                  <p:nvPr/>
                </p:nvSpPr>
                <p:spPr>
                  <a:xfrm flipH="1" flipV="1">
                    <a:off x="2727360" y="2326680"/>
                    <a:ext cx="8784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5" name=""/>
                  <p:cNvSpPr/>
                  <p:nvPr/>
                </p:nvSpPr>
                <p:spPr>
                  <a:xfrm flipH="1" flipV="1">
                    <a:off x="2770560" y="2329920"/>
                    <a:ext cx="144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6" name=""/>
                  <p:cNvSpPr/>
                  <p:nvPr/>
                </p:nvSpPr>
                <p:spPr>
                  <a:xfrm flipH="1">
                    <a:off x="2749320" y="23410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7" name=""/>
                  <p:cNvSpPr/>
                  <p:nvPr/>
                </p:nvSpPr>
                <p:spPr>
                  <a:xfrm flipH="1" flipV="1">
                    <a:off x="2739600" y="232452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08" name=""/>
                <p:cNvGrpSpPr/>
                <p:nvPr/>
              </p:nvGrpSpPr>
              <p:grpSpPr>
                <a:xfrm>
                  <a:off x="2702160" y="2514240"/>
                  <a:ext cx="145440" cy="145440"/>
                  <a:chOff x="2702160" y="2514240"/>
                  <a:chExt cx="145440" cy="145440"/>
                </a:xfrm>
              </p:grpSpPr>
              <p:sp>
                <p:nvSpPr>
                  <p:cNvPr id="10609" name=""/>
                  <p:cNvSpPr/>
                  <p:nvPr/>
                </p:nvSpPr>
                <p:spPr>
                  <a:xfrm rot="13473000">
                    <a:off x="2730600" y="25279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0" name=""/>
                  <p:cNvSpPr/>
                  <p:nvPr/>
                </p:nvSpPr>
                <p:spPr>
                  <a:xfrm flipH="1">
                    <a:off x="2774520" y="2523240"/>
                    <a:ext cx="61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1" name=""/>
                  <p:cNvSpPr/>
                  <p:nvPr/>
                </p:nvSpPr>
                <p:spPr>
                  <a:xfrm flipH="1">
                    <a:off x="2767680" y="255384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2" name=""/>
                  <p:cNvSpPr/>
                  <p:nvPr/>
                </p:nvSpPr>
                <p:spPr>
                  <a:xfrm>
                    <a:off x="2779920" y="257328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3" name=""/>
                  <p:cNvSpPr/>
                  <p:nvPr/>
                </p:nvSpPr>
                <p:spPr>
                  <a:xfrm flipH="1">
                    <a:off x="2769480" y="258840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14" name=""/>
                <p:cNvGrpSpPr/>
                <p:nvPr/>
              </p:nvGrpSpPr>
              <p:grpSpPr>
                <a:xfrm>
                  <a:off x="2464200" y="2352600"/>
                  <a:ext cx="143280" cy="151920"/>
                  <a:chOff x="2464200" y="2352600"/>
                  <a:chExt cx="143280" cy="151920"/>
                </a:xfrm>
              </p:grpSpPr>
              <p:sp>
                <p:nvSpPr>
                  <p:cNvPr id="10615" name=""/>
                  <p:cNvSpPr/>
                  <p:nvPr/>
                </p:nvSpPr>
                <p:spPr>
                  <a:xfrm rot="19303800">
                    <a:off x="2496240" y="236268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6" name=""/>
                  <p:cNvSpPr/>
                  <p:nvPr/>
                </p:nvSpPr>
                <p:spPr>
                  <a:xfrm flipH="1" flipV="1">
                    <a:off x="2511360" y="2422080"/>
                    <a:ext cx="8784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7" name=""/>
                  <p:cNvSpPr/>
                  <p:nvPr/>
                </p:nvSpPr>
                <p:spPr>
                  <a:xfrm flipH="1" flipV="1">
                    <a:off x="2554200" y="2425680"/>
                    <a:ext cx="14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8" name=""/>
                  <p:cNvSpPr/>
                  <p:nvPr/>
                </p:nvSpPr>
                <p:spPr>
                  <a:xfrm flipH="1">
                    <a:off x="2533320" y="24368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9" name=""/>
                  <p:cNvSpPr/>
                  <p:nvPr/>
                </p:nvSpPr>
                <p:spPr>
                  <a:xfrm flipH="1" flipV="1">
                    <a:off x="2523600" y="24202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0" name=""/>
                <p:cNvGrpSpPr/>
                <p:nvPr/>
              </p:nvGrpSpPr>
              <p:grpSpPr>
                <a:xfrm>
                  <a:off x="2723400" y="2197800"/>
                  <a:ext cx="143280" cy="151920"/>
                  <a:chOff x="2723400" y="2197800"/>
                  <a:chExt cx="143280" cy="151920"/>
                </a:xfrm>
              </p:grpSpPr>
              <p:sp>
                <p:nvSpPr>
                  <p:cNvPr id="10621" name=""/>
                  <p:cNvSpPr/>
                  <p:nvPr/>
                </p:nvSpPr>
                <p:spPr>
                  <a:xfrm rot="19303800">
                    <a:off x="2755440" y="220788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2" name=""/>
                  <p:cNvSpPr/>
                  <p:nvPr/>
                </p:nvSpPr>
                <p:spPr>
                  <a:xfrm flipH="1" flipV="1">
                    <a:off x="2770200" y="2267640"/>
                    <a:ext cx="8784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3" name=""/>
                  <p:cNvSpPr/>
                  <p:nvPr/>
                </p:nvSpPr>
                <p:spPr>
                  <a:xfrm flipH="1" flipV="1">
                    <a:off x="2813400" y="2270880"/>
                    <a:ext cx="144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4" name=""/>
                  <p:cNvSpPr/>
                  <p:nvPr/>
                </p:nvSpPr>
                <p:spPr>
                  <a:xfrm flipH="1">
                    <a:off x="2792160" y="228204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5" name=""/>
                  <p:cNvSpPr/>
                  <p:nvPr/>
                </p:nvSpPr>
                <p:spPr>
                  <a:xfrm flipH="1" flipV="1">
                    <a:off x="2782440" y="22654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26" name=""/>
                <p:cNvGrpSpPr/>
                <p:nvPr/>
              </p:nvGrpSpPr>
              <p:grpSpPr>
                <a:xfrm>
                  <a:off x="2481480" y="2288880"/>
                  <a:ext cx="143280" cy="151560"/>
                  <a:chOff x="2481480" y="2288880"/>
                  <a:chExt cx="143280" cy="151560"/>
                </a:xfrm>
              </p:grpSpPr>
              <p:sp>
                <p:nvSpPr>
                  <p:cNvPr id="10627" name=""/>
                  <p:cNvSpPr/>
                  <p:nvPr/>
                </p:nvSpPr>
                <p:spPr>
                  <a:xfrm rot="19303800">
                    <a:off x="2513160" y="2298960"/>
                    <a:ext cx="792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8" name=""/>
                  <p:cNvSpPr/>
                  <p:nvPr/>
                </p:nvSpPr>
                <p:spPr>
                  <a:xfrm flipH="1" flipV="1">
                    <a:off x="2528640" y="2358720"/>
                    <a:ext cx="87840" cy="27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9" name=""/>
                  <p:cNvSpPr/>
                  <p:nvPr/>
                </p:nvSpPr>
                <p:spPr>
                  <a:xfrm flipH="1" flipV="1">
                    <a:off x="2571480" y="2361960"/>
                    <a:ext cx="14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0" name=""/>
                  <p:cNvSpPr/>
                  <p:nvPr/>
                </p:nvSpPr>
                <p:spPr>
                  <a:xfrm flipH="1">
                    <a:off x="2550600" y="23734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1" name=""/>
                  <p:cNvSpPr/>
                  <p:nvPr/>
                </p:nvSpPr>
                <p:spPr>
                  <a:xfrm flipH="1" flipV="1">
                    <a:off x="2540520" y="235656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32" name=""/>
                <p:cNvGrpSpPr/>
                <p:nvPr/>
              </p:nvGrpSpPr>
              <p:grpSpPr>
                <a:xfrm>
                  <a:off x="2866320" y="2461680"/>
                  <a:ext cx="139320" cy="146520"/>
                  <a:chOff x="2866320" y="2461680"/>
                  <a:chExt cx="139320" cy="146520"/>
                </a:xfrm>
              </p:grpSpPr>
              <p:sp>
                <p:nvSpPr>
                  <p:cNvPr id="10633" name=""/>
                  <p:cNvSpPr/>
                  <p:nvPr/>
                </p:nvSpPr>
                <p:spPr>
                  <a:xfrm rot="12901800">
                    <a:off x="2891880" y="24760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4" name=""/>
                  <p:cNvSpPr/>
                  <p:nvPr/>
                </p:nvSpPr>
                <p:spPr>
                  <a:xfrm>
                    <a:off x="2931120" y="2471040"/>
                    <a:ext cx="86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5" name=""/>
                  <p:cNvSpPr/>
                  <p:nvPr/>
                </p:nvSpPr>
                <p:spPr>
                  <a:xfrm flipH="1">
                    <a:off x="2925720" y="250200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6" name=""/>
                  <p:cNvSpPr/>
                  <p:nvPr/>
                </p:nvSpPr>
                <p:spPr>
                  <a:xfrm>
                    <a:off x="2938680" y="252036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7" name=""/>
                  <p:cNvSpPr/>
                  <p:nvPr/>
                </p:nvSpPr>
                <p:spPr>
                  <a:xfrm flipH="1">
                    <a:off x="2933280" y="2537280"/>
                    <a:ext cx="14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38" name=""/>
                <p:cNvGrpSpPr/>
                <p:nvPr/>
              </p:nvGrpSpPr>
              <p:grpSpPr>
                <a:xfrm>
                  <a:off x="2792160" y="2503800"/>
                  <a:ext cx="124560" cy="141120"/>
                  <a:chOff x="2792160" y="2503800"/>
                  <a:chExt cx="124560" cy="141120"/>
                </a:xfrm>
              </p:grpSpPr>
              <p:sp>
                <p:nvSpPr>
                  <p:cNvPr id="10639" name=""/>
                  <p:cNvSpPr/>
                  <p:nvPr/>
                </p:nvSpPr>
                <p:spPr>
                  <a:xfrm rot="12062400">
                    <a:off x="2810160" y="25153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0" name=""/>
                  <p:cNvSpPr/>
                  <p:nvPr/>
                </p:nvSpPr>
                <p:spPr>
                  <a:xfrm>
                    <a:off x="2834640" y="2513160"/>
                    <a:ext cx="2952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1" name=""/>
                  <p:cNvSpPr/>
                  <p:nvPr/>
                </p:nvSpPr>
                <p:spPr>
                  <a:xfrm>
                    <a:off x="2840760" y="2543760"/>
                    <a:ext cx="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2" name=""/>
                  <p:cNvSpPr/>
                  <p:nvPr/>
                </p:nvSpPr>
                <p:spPr>
                  <a:xfrm>
                    <a:off x="2853720" y="255960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3" name=""/>
                  <p:cNvSpPr/>
                  <p:nvPr/>
                </p:nvSpPr>
                <p:spPr>
                  <a:xfrm>
                    <a:off x="2853000" y="2576520"/>
                    <a:ext cx="18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44" name=""/>
                <p:cNvGrpSpPr/>
                <p:nvPr/>
              </p:nvGrpSpPr>
              <p:grpSpPr>
                <a:xfrm>
                  <a:off x="2520360" y="2483280"/>
                  <a:ext cx="145800" cy="143640"/>
                  <a:chOff x="2520360" y="2483280"/>
                  <a:chExt cx="145800" cy="143640"/>
                </a:xfrm>
              </p:grpSpPr>
              <p:sp>
                <p:nvSpPr>
                  <p:cNvPr id="10645" name=""/>
                  <p:cNvSpPr/>
                  <p:nvPr/>
                </p:nvSpPr>
                <p:spPr>
                  <a:xfrm rot="13714200">
                    <a:off x="2549160" y="24962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6" name=""/>
                  <p:cNvSpPr/>
                  <p:nvPr/>
                </p:nvSpPr>
                <p:spPr>
                  <a:xfrm flipH="1">
                    <a:off x="2591280" y="2491920"/>
                    <a:ext cx="1224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7" name=""/>
                  <p:cNvSpPr/>
                  <p:nvPr/>
                </p:nvSpPr>
                <p:spPr>
                  <a:xfrm flipH="1">
                    <a:off x="2587320" y="252180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8" name=""/>
                  <p:cNvSpPr/>
                  <p:nvPr/>
                </p:nvSpPr>
                <p:spPr>
                  <a:xfrm>
                    <a:off x="2599200" y="254196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9" name=""/>
                  <p:cNvSpPr/>
                  <p:nvPr/>
                </p:nvSpPr>
                <p:spPr>
                  <a:xfrm flipH="1">
                    <a:off x="2587320" y="2557080"/>
                    <a:ext cx="43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0" name=""/>
                <p:cNvGrpSpPr/>
                <p:nvPr/>
              </p:nvGrpSpPr>
              <p:grpSpPr>
                <a:xfrm>
                  <a:off x="2587680" y="2533320"/>
                  <a:ext cx="135000" cy="145800"/>
                  <a:chOff x="2587680" y="2533320"/>
                  <a:chExt cx="135000" cy="145800"/>
                </a:xfrm>
              </p:grpSpPr>
              <p:sp>
                <p:nvSpPr>
                  <p:cNvPr id="10651" name=""/>
                  <p:cNvSpPr/>
                  <p:nvPr/>
                </p:nvSpPr>
                <p:spPr>
                  <a:xfrm rot="12585600">
                    <a:off x="2611080" y="2547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2" name=""/>
                  <p:cNvSpPr/>
                  <p:nvPr/>
                </p:nvSpPr>
                <p:spPr>
                  <a:xfrm>
                    <a:off x="2644920" y="2542680"/>
                    <a:ext cx="1656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3" name=""/>
                  <p:cNvSpPr/>
                  <p:nvPr/>
                </p:nvSpPr>
                <p:spPr>
                  <a:xfrm flipH="1">
                    <a:off x="2643840" y="2574000"/>
                    <a:ext cx="25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4" name=""/>
                  <p:cNvSpPr/>
                  <p:nvPr/>
                </p:nvSpPr>
                <p:spPr>
                  <a:xfrm>
                    <a:off x="2656800" y="2591640"/>
                    <a:ext cx="126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5" name=""/>
                  <p:cNvSpPr/>
                  <p:nvPr/>
                </p:nvSpPr>
                <p:spPr>
                  <a:xfrm>
                    <a:off x="2653560" y="2607840"/>
                    <a:ext cx="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56" name=""/>
                <p:cNvGrpSpPr/>
                <p:nvPr/>
              </p:nvGrpSpPr>
              <p:grpSpPr>
                <a:xfrm>
                  <a:off x="2641320" y="2462760"/>
                  <a:ext cx="141840" cy="146520"/>
                  <a:chOff x="2641320" y="2462760"/>
                  <a:chExt cx="141840" cy="146520"/>
                </a:xfrm>
              </p:grpSpPr>
              <p:sp>
                <p:nvSpPr>
                  <p:cNvPr id="10657" name=""/>
                  <p:cNvSpPr/>
                  <p:nvPr/>
                </p:nvSpPr>
                <p:spPr>
                  <a:xfrm rot="13105200">
                    <a:off x="2667960" y="24771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8" name=""/>
                  <p:cNvSpPr/>
                  <p:nvPr/>
                </p:nvSpPr>
                <p:spPr>
                  <a:xfrm>
                    <a:off x="2711520" y="2471760"/>
                    <a:ext cx="32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9" name=""/>
                  <p:cNvSpPr/>
                  <p:nvPr/>
                </p:nvSpPr>
                <p:spPr>
                  <a:xfrm flipH="1">
                    <a:off x="2703240" y="2502720"/>
                    <a:ext cx="50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0" name=""/>
                  <p:cNvSpPr/>
                  <p:nvPr/>
                </p:nvSpPr>
                <p:spPr>
                  <a:xfrm>
                    <a:off x="2715840" y="2521800"/>
                    <a:ext cx="10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1" name=""/>
                  <p:cNvSpPr/>
                  <p:nvPr/>
                </p:nvSpPr>
                <p:spPr>
                  <a:xfrm flipH="1">
                    <a:off x="2709000" y="2538000"/>
                    <a:ext cx="21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2" name=""/>
                <p:cNvGrpSpPr/>
                <p:nvPr/>
              </p:nvGrpSpPr>
              <p:grpSpPr>
                <a:xfrm>
                  <a:off x="2528280" y="2385360"/>
                  <a:ext cx="143640" cy="129600"/>
                  <a:chOff x="2528280" y="2385360"/>
                  <a:chExt cx="143640" cy="129600"/>
                </a:xfrm>
              </p:grpSpPr>
              <p:sp>
                <p:nvSpPr>
                  <p:cNvPr id="10663" name=""/>
                  <p:cNvSpPr/>
                  <p:nvPr/>
                </p:nvSpPr>
                <p:spPr>
                  <a:xfrm rot="14689200">
                    <a:off x="2556000" y="23914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4" name=""/>
                  <p:cNvSpPr/>
                  <p:nvPr/>
                </p:nvSpPr>
                <p:spPr>
                  <a:xfrm flipH="1">
                    <a:off x="2591280" y="2392560"/>
                    <a:ext cx="3636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5" name=""/>
                  <p:cNvSpPr/>
                  <p:nvPr/>
                </p:nvSpPr>
                <p:spPr>
                  <a:xfrm flipH="1">
                    <a:off x="2599560" y="241884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6" name=""/>
                  <p:cNvSpPr/>
                  <p:nvPr/>
                </p:nvSpPr>
                <p:spPr>
                  <a:xfrm>
                    <a:off x="2609640" y="2439360"/>
                    <a:ext cx="25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7" name=""/>
                  <p:cNvSpPr/>
                  <p:nvPr/>
                </p:nvSpPr>
                <p:spPr>
                  <a:xfrm flipH="1">
                    <a:off x="2590920" y="2451960"/>
                    <a:ext cx="68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68" name=""/>
                <p:cNvGrpSpPr/>
                <p:nvPr/>
              </p:nvGrpSpPr>
              <p:grpSpPr>
                <a:xfrm>
                  <a:off x="2705760" y="2314080"/>
                  <a:ext cx="141480" cy="98640"/>
                  <a:chOff x="2705760" y="2314080"/>
                  <a:chExt cx="141480" cy="98640"/>
                </a:xfrm>
              </p:grpSpPr>
              <p:sp>
                <p:nvSpPr>
                  <p:cNvPr id="10669" name=""/>
                  <p:cNvSpPr/>
                  <p:nvPr/>
                </p:nvSpPr>
                <p:spPr>
                  <a:xfrm rot="16740000">
                    <a:off x="2736720" y="2297880"/>
                    <a:ext cx="7920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0" name=""/>
                  <p:cNvSpPr/>
                  <p:nvPr/>
                </p:nvSpPr>
                <p:spPr>
                  <a:xfrm flipH="1">
                    <a:off x="2754360" y="2335680"/>
                    <a:ext cx="82800" cy="39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1" name=""/>
                  <p:cNvSpPr/>
                  <p:nvPr/>
                </p:nvSpPr>
                <p:spPr>
                  <a:xfrm flipH="1">
                    <a:off x="2787840" y="2346480"/>
                    <a:ext cx="180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2" name=""/>
                  <p:cNvSpPr/>
                  <p:nvPr/>
                </p:nvSpPr>
                <p:spPr>
                  <a:xfrm flipH="1">
                    <a:off x="2783880" y="236052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3" name=""/>
                  <p:cNvSpPr/>
                  <p:nvPr/>
                </p:nvSpPr>
                <p:spPr>
                  <a:xfrm flipH="1">
                    <a:off x="2761560" y="236268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74" name=""/>
                <p:cNvGrpSpPr/>
                <p:nvPr/>
              </p:nvGrpSpPr>
              <p:grpSpPr>
                <a:xfrm>
                  <a:off x="2783880" y="2127960"/>
                  <a:ext cx="137160" cy="146160"/>
                  <a:chOff x="2783880" y="2127960"/>
                  <a:chExt cx="137160" cy="146160"/>
                </a:xfrm>
              </p:grpSpPr>
              <p:sp>
                <p:nvSpPr>
                  <p:cNvPr id="10675" name=""/>
                  <p:cNvSpPr/>
                  <p:nvPr/>
                </p:nvSpPr>
                <p:spPr>
                  <a:xfrm rot="1936800">
                    <a:off x="2808360" y="2142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6" name=""/>
                  <p:cNvSpPr/>
                  <p:nvPr/>
                </p:nvSpPr>
                <p:spPr>
                  <a:xfrm flipH="1" flipV="1">
                    <a:off x="2847240" y="2176560"/>
                    <a:ext cx="12960" cy="88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7" name=""/>
                  <p:cNvSpPr/>
                  <p:nvPr/>
                </p:nvSpPr>
                <p:spPr>
                  <a:xfrm flipV="1">
                    <a:off x="2859840" y="2217240"/>
                    <a:ext cx="32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8" name=""/>
                  <p:cNvSpPr/>
                  <p:nvPr/>
                </p:nvSpPr>
                <p:spPr>
                  <a:xfrm flipH="1" flipV="1">
                    <a:off x="2838240" y="220212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9" name=""/>
                  <p:cNvSpPr/>
                  <p:nvPr/>
                </p:nvSpPr>
                <p:spPr>
                  <a:xfrm flipV="1">
                    <a:off x="2854080" y="2187360"/>
                    <a:ext cx="7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0" name=""/>
                <p:cNvGrpSpPr/>
                <p:nvPr/>
              </p:nvGrpSpPr>
              <p:grpSpPr>
                <a:xfrm>
                  <a:off x="2898720" y="2161440"/>
                  <a:ext cx="138960" cy="146520"/>
                  <a:chOff x="2898720" y="2161440"/>
                  <a:chExt cx="138960" cy="146520"/>
                </a:xfrm>
              </p:grpSpPr>
              <p:sp>
                <p:nvSpPr>
                  <p:cNvPr id="10681" name=""/>
                  <p:cNvSpPr/>
                  <p:nvPr/>
                </p:nvSpPr>
                <p:spPr>
                  <a:xfrm rot="2057400">
                    <a:off x="2923920" y="2175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2" name=""/>
                  <p:cNvSpPr/>
                  <p:nvPr/>
                </p:nvSpPr>
                <p:spPr>
                  <a:xfrm flipH="1" flipV="1">
                    <a:off x="2964240" y="2210040"/>
                    <a:ext cx="97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3" name=""/>
                  <p:cNvSpPr/>
                  <p:nvPr/>
                </p:nvSpPr>
                <p:spPr>
                  <a:xfrm flipV="1">
                    <a:off x="2974680" y="2251440"/>
                    <a:ext cx="39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4" name=""/>
                  <p:cNvSpPr/>
                  <p:nvPr/>
                </p:nvSpPr>
                <p:spPr>
                  <a:xfrm flipH="1" flipV="1">
                    <a:off x="2954520" y="223524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5" name=""/>
                  <p:cNvSpPr/>
                  <p:nvPr/>
                </p:nvSpPr>
                <p:spPr>
                  <a:xfrm flipV="1">
                    <a:off x="2970360" y="222120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6" name=""/>
                <p:cNvGrpSpPr/>
                <p:nvPr/>
              </p:nvGrpSpPr>
              <p:grpSpPr>
                <a:xfrm>
                  <a:off x="2787120" y="2414160"/>
                  <a:ext cx="148680" cy="114120"/>
                  <a:chOff x="2787120" y="2414160"/>
                  <a:chExt cx="148680" cy="114120"/>
                </a:xfrm>
              </p:grpSpPr>
              <p:sp>
                <p:nvSpPr>
                  <p:cNvPr id="10687" name=""/>
                  <p:cNvSpPr/>
                  <p:nvPr/>
                </p:nvSpPr>
                <p:spPr>
                  <a:xfrm rot="17229600">
                    <a:off x="2821680" y="2405520"/>
                    <a:ext cx="7920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8" name=""/>
                  <p:cNvSpPr/>
                  <p:nvPr/>
                </p:nvSpPr>
                <p:spPr>
                  <a:xfrm flipH="1">
                    <a:off x="2837520" y="2452680"/>
                    <a:ext cx="8748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9" name=""/>
                  <p:cNvSpPr/>
                  <p:nvPr/>
                </p:nvSpPr>
                <p:spPr>
                  <a:xfrm flipH="1" flipV="1">
                    <a:off x="2874600" y="2458440"/>
                    <a:ext cx="1800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0" name=""/>
                  <p:cNvSpPr/>
                  <p:nvPr/>
                </p:nvSpPr>
                <p:spPr>
                  <a:xfrm flipH="1">
                    <a:off x="2867040" y="2470680"/>
                    <a:ext cx="10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1" name=""/>
                  <p:cNvSpPr/>
                  <p:nvPr/>
                </p:nvSpPr>
                <p:spPr>
                  <a:xfrm flipH="1">
                    <a:off x="2846520" y="247032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2" name=""/>
                <p:cNvGrpSpPr/>
                <p:nvPr/>
              </p:nvGrpSpPr>
              <p:grpSpPr>
                <a:xfrm>
                  <a:off x="2675160" y="2490480"/>
                  <a:ext cx="126720" cy="100800"/>
                  <a:chOff x="2675160" y="2490480"/>
                  <a:chExt cx="126720" cy="100800"/>
                </a:xfrm>
              </p:grpSpPr>
              <p:sp>
                <p:nvSpPr>
                  <p:cNvPr id="10693" name=""/>
                  <p:cNvSpPr/>
                  <p:nvPr/>
                </p:nvSpPr>
                <p:spPr>
                  <a:xfrm rot="16594200">
                    <a:off x="2694240" y="24818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4" name=""/>
                  <p:cNvSpPr/>
                  <p:nvPr/>
                </p:nvSpPr>
                <p:spPr>
                  <a:xfrm flipH="1">
                    <a:off x="2718360" y="2505960"/>
                    <a:ext cx="73800" cy="50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5" name=""/>
                  <p:cNvSpPr/>
                  <p:nvPr/>
                </p:nvSpPr>
                <p:spPr>
                  <a:xfrm flipH="1">
                    <a:off x="2748240" y="25200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6" name=""/>
                  <p:cNvSpPr/>
                  <p:nvPr/>
                </p:nvSpPr>
                <p:spPr>
                  <a:xfrm flipH="1">
                    <a:off x="2745360" y="253620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7" name=""/>
                  <p:cNvSpPr/>
                  <p:nvPr/>
                </p:nvSpPr>
                <p:spPr>
                  <a:xfrm flipH="1">
                    <a:off x="2724840" y="2539800"/>
                    <a:ext cx="1116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98" name=""/>
                <p:cNvGrpSpPr/>
                <p:nvPr/>
              </p:nvGrpSpPr>
              <p:grpSpPr>
                <a:xfrm>
                  <a:off x="2531880" y="2507760"/>
                  <a:ext cx="123120" cy="95400"/>
                  <a:chOff x="2531880" y="2507760"/>
                  <a:chExt cx="123120" cy="95400"/>
                </a:xfrm>
              </p:grpSpPr>
              <p:sp>
                <p:nvSpPr>
                  <p:cNvPr id="10699" name=""/>
                  <p:cNvSpPr/>
                  <p:nvPr/>
                </p:nvSpPr>
                <p:spPr>
                  <a:xfrm rot="16434000">
                    <a:off x="2549160" y="24966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0" name=""/>
                  <p:cNvSpPr/>
                  <p:nvPr/>
                </p:nvSpPr>
                <p:spPr>
                  <a:xfrm flipH="1">
                    <a:off x="2574360" y="2517840"/>
                    <a:ext cx="71280" cy="53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1" name=""/>
                  <p:cNvSpPr/>
                  <p:nvPr/>
                </p:nvSpPr>
                <p:spPr>
                  <a:xfrm flipH="1">
                    <a:off x="2602440" y="25329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2" name=""/>
                  <p:cNvSpPr/>
                  <p:nvPr/>
                </p:nvSpPr>
                <p:spPr>
                  <a:xfrm flipH="1">
                    <a:off x="2601000" y="254988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3" name=""/>
                  <p:cNvSpPr/>
                  <p:nvPr/>
                </p:nvSpPr>
                <p:spPr>
                  <a:xfrm flipH="1">
                    <a:off x="2580120" y="255528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4" name=""/>
                <p:cNvGrpSpPr/>
                <p:nvPr/>
              </p:nvGrpSpPr>
              <p:grpSpPr>
                <a:xfrm>
                  <a:off x="2457720" y="2452320"/>
                  <a:ext cx="146160" cy="109080"/>
                  <a:chOff x="2457720" y="2452320"/>
                  <a:chExt cx="146160" cy="109080"/>
                </a:xfrm>
              </p:grpSpPr>
              <p:sp>
                <p:nvSpPr>
                  <p:cNvPr id="10705" name=""/>
                  <p:cNvSpPr/>
                  <p:nvPr/>
                </p:nvSpPr>
                <p:spPr>
                  <a:xfrm rot="17066400">
                    <a:off x="2491200" y="24411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6" name=""/>
                  <p:cNvSpPr/>
                  <p:nvPr/>
                </p:nvSpPr>
                <p:spPr>
                  <a:xfrm flipH="1">
                    <a:off x="2507760" y="2485440"/>
                    <a:ext cx="8604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7" name=""/>
                  <p:cNvSpPr/>
                  <p:nvPr/>
                </p:nvSpPr>
                <p:spPr>
                  <a:xfrm flipH="1">
                    <a:off x="2543760" y="2493000"/>
                    <a:ext cx="18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8" name=""/>
                  <p:cNvSpPr/>
                  <p:nvPr/>
                </p:nvSpPr>
                <p:spPr>
                  <a:xfrm flipH="1">
                    <a:off x="2537280" y="2505600"/>
                    <a:ext cx="93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9" name=""/>
                  <p:cNvSpPr/>
                  <p:nvPr/>
                </p:nvSpPr>
                <p:spPr>
                  <a:xfrm flipH="1">
                    <a:off x="2515680" y="2505960"/>
                    <a:ext cx="126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0" name=""/>
              <p:cNvGrpSpPr/>
              <p:nvPr/>
            </p:nvGrpSpPr>
            <p:grpSpPr>
              <a:xfrm>
                <a:off x="2912400" y="1830960"/>
                <a:ext cx="651600" cy="525600"/>
                <a:chOff x="2912400" y="1830960"/>
                <a:chExt cx="651600" cy="525600"/>
              </a:xfrm>
            </p:grpSpPr>
            <p:grpSp>
              <p:nvGrpSpPr>
                <p:cNvPr id="10711" name=""/>
                <p:cNvGrpSpPr/>
                <p:nvPr/>
              </p:nvGrpSpPr>
              <p:grpSpPr>
                <a:xfrm>
                  <a:off x="3176640" y="1898640"/>
                  <a:ext cx="144360" cy="131040"/>
                  <a:chOff x="3176640" y="1898640"/>
                  <a:chExt cx="144360" cy="131040"/>
                </a:xfrm>
              </p:grpSpPr>
              <p:sp>
                <p:nvSpPr>
                  <p:cNvPr id="10712" name=""/>
                  <p:cNvSpPr/>
                  <p:nvPr/>
                </p:nvSpPr>
                <p:spPr>
                  <a:xfrm rot="3815400">
                    <a:off x="3204360" y="1905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3" name=""/>
                  <p:cNvSpPr/>
                  <p:nvPr/>
                </p:nvSpPr>
                <p:spPr>
                  <a:xfrm flipV="1">
                    <a:off x="3222360" y="1940760"/>
                    <a:ext cx="34560" cy="82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4" name=""/>
                  <p:cNvSpPr/>
                  <p:nvPr/>
                </p:nvSpPr>
                <p:spPr>
                  <a:xfrm flipV="1">
                    <a:off x="3238200" y="198396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5" name=""/>
                  <p:cNvSpPr/>
                  <p:nvPr/>
                </p:nvSpPr>
                <p:spPr>
                  <a:xfrm flipH="1" flipV="1">
                    <a:off x="3236400" y="1957680"/>
                    <a:ext cx="28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6" name=""/>
                  <p:cNvSpPr/>
                  <p:nvPr/>
                </p:nvSpPr>
                <p:spPr>
                  <a:xfrm flipV="1">
                    <a:off x="3251160" y="195372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7" name=""/>
                <p:cNvSpPr/>
                <p:nvPr/>
              </p:nvSpPr>
              <p:spPr>
                <a:xfrm flipH="1">
                  <a:off x="3171960" y="2155680"/>
                  <a:ext cx="17604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8" name=""/>
                <p:cNvSpPr/>
                <p:nvPr/>
              </p:nvSpPr>
              <p:spPr>
                <a:xfrm>
                  <a:off x="3048840" y="205740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9" name=""/>
                <p:cNvSpPr/>
                <p:nvPr/>
              </p:nvSpPr>
              <p:spPr>
                <a:xfrm flipH="1" flipV="1">
                  <a:off x="3154320" y="1959480"/>
                  <a:ext cx="70200" cy="13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0" name=""/>
                <p:cNvSpPr/>
                <p:nvPr/>
              </p:nvSpPr>
              <p:spPr>
                <a:xfrm flipH="1" flipV="1">
                  <a:off x="3366000" y="2057040"/>
                  <a:ext cx="105840" cy="23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1" name=""/>
                <p:cNvSpPr/>
                <p:nvPr/>
              </p:nvSpPr>
              <p:spPr>
                <a:xfrm flipH="1">
                  <a:off x="3224880" y="2175480"/>
                  <a:ext cx="3492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2" name=""/>
                <p:cNvSpPr/>
                <p:nvPr/>
              </p:nvSpPr>
              <p:spPr>
                <a:xfrm flipH="1" flipV="1">
                  <a:off x="3260160" y="213552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3" name=""/>
                <p:cNvSpPr/>
                <p:nvPr/>
              </p:nvSpPr>
              <p:spPr>
                <a:xfrm flipH="1" flipV="1">
                  <a:off x="3119040" y="1978920"/>
                  <a:ext cx="705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4" name=""/>
                <p:cNvSpPr/>
                <p:nvPr/>
              </p:nvSpPr>
              <p:spPr>
                <a:xfrm flipV="1">
                  <a:off x="3207240" y="1998360"/>
                  <a:ext cx="1764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5" name=""/>
                <p:cNvSpPr/>
                <p:nvPr/>
              </p:nvSpPr>
              <p:spPr>
                <a:xfrm flipH="1">
                  <a:off x="3066480" y="2077200"/>
                  <a:ext cx="52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6" name=""/>
                <p:cNvSpPr/>
                <p:nvPr/>
              </p:nvSpPr>
              <p:spPr>
                <a:xfrm flipH="1" flipV="1">
                  <a:off x="3295440" y="2077200"/>
                  <a:ext cx="123120" cy="9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7" name=""/>
                <p:cNvSpPr/>
                <p:nvPr/>
              </p:nvSpPr>
              <p:spPr>
                <a:xfrm flipH="1" flipV="1">
                  <a:off x="3330720" y="2077200"/>
                  <a:ext cx="1728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8" name=""/>
                <p:cNvSpPr/>
                <p:nvPr/>
              </p:nvSpPr>
              <p:spPr>
                <a:xfrm flipV="1">
                  <a:off x="3436200" y="2135520"/>
                  <a:ext cx="1728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9" name=""/>
                <p:cNvSpPr/>
                <p:nvPr/>
              </p:nvSpPr>
              <p:spPr>
                <a:xfrm flipV="1">
                  <a:off x="3383280" y="2037600"/>
                  <a:ext cx="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0" name=""/>
                <p:cNvSpPr/>
                <p:nvPr/>
              </p:nvSpPr>
              <p:spPr>
                <a:xfrm flipH="1">
                  <a:off x="3330720" y="2214360"/>
                  <a:ext cx="6984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1" name=""/>
                <p:cNvSpPr/>
                <p:nvPr/>
              </p:nvSpPr>
              <p:spPr>
                <a:xfrm flipH="1">
                  <a:off x="3137040" y="2096640"/>
                  <a:ext cx="5256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2" name=""/>
                <p:cNvSpPr/>
                <p:nvPr/>
              </p:nvSpPr>
              <p:spPr>
                <a:xfrm flipH="1" flipV="1">
                  <a:off x="3066120" y="2018520"/>
                  <a:ext cx="17640" cy="38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33" name=""/>
                <p:cNvGrpSpPr/>
                <p:nvPr/>
              </p:nvGrpSpPr>
              <p:grpSpPr>
                <a:xfrm>
                  <a:off x="3092040" y="1830960"/>
                  <a:ext cx="132480" cy="153000"/>
                  <a:chOff x="3092040" y="1830960"/>
                  <a:chExt cx="132480" cy="153000"/>
                </a:xfrm>
              </p:grpSpPr>
              <p:sp>
                <p:nvSpPr>
                  <p:cNvPr id="10734" name=""/>
                  <p:cNvSpPr/>
                  <p:nvPr/>
                </p:nvSpPr>
                <p:spPr>
                  <a:xfrm rot="1745400">
                    <a:off x="3118680" y="1841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5" name=""/>
                  <p:cNvSpPr/>
                  <p:nvPr/>
                </p:nvSpPr>
                <p:spPr>
                  <a:xfrm flipH="1" flipV="1">
                    <a:off x="3155040" y="1882440"/>
                    <a:ext cx="82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6" name=""/>
                  <p:cNvSpPr/>
                  <p:nvPr/>
                </p:nvSpPr>
                <p:spPr>
                  <a:xfrm flipV="1">
                    <a:off x="3164040" y="1923120"/>
                    <a:ext cx="39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7" name=""/>
                  <p:cNvSpPr/>
                  <p:nvPr/>
                </p:nvSpPr>
                <p:spPr>
                  <a:xfrm flipH="1" flipV="1">
                    <a:off x="3144960" y="191016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8" name=""/>
                  <p:cNvSpPr/>
                  <p:nvPr/>
                </p:nvSpPr>
                <p:spPr>
                  <a:xfrm flipV="1">
                    <a:off x="3159720" y="189288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39" name=""/>
                <p:cNvGrpSpPr/>
                <p:nvPr/>
              </p:nvGrpSpPr>
              <p:grpSpPr>
                <a:xfrm>
                  <a:off x="3149280" y="2027520"/>
                  <a:ext cx="124560" cy="151920"/>
                  <a:chOff x="3149280" y="2027520"/>
                  <a:chExt cx="124560" cy="151920"/>
                </a:xfrm>
              </p:grpSpPr>
              <p:sp>
                <p:nvSpPr>
                  <p:cNvPr id="10740" name=""/>
                  <p:cNvSpPr/>
                  <p:nvPr/>
                </p:nvSpPr>
                <p:spPr>
                  <a:xfrm rot="20187000">
                    <a:off x="3171960" y="2037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1" name=""/>
                  <p:cNvSpPr/>
                  <p:nvPr/>
                </p:nvSpPr>
                <p:spPr>
                  <a:xfrm flipH="1" flipV="1">
                    <a:off x="3189600" y="2090880"/>
                    <a:ext cx="7776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2" name=""/>
                  <p:cNvSpPr/>
                  <p:nvPr/>
                </p:nvSpPr>
                <p:spPr>
                  <a:xfrm flipH="1" flipV="1">
                    <a:off x="3229920" y="210528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3" name=""/>
                  <p:cNvSpPr/>
                  <p:nvPr/>
                </p:nvSpPr>
                <p:spPr>
                  <a:xfrm flipH="1">
                    <a:off x="3205800" y="21150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4" name=""/>
                  <p:cNvSpPr/>
                  <p:nvPr/>
                </p:nvSpPr>
                <p:spPr>
                  <a:xfrm flipH="1" flipV="1">
                    <a:off x="3201840" y="209232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45" name=""/>
                <p:cNvGrpSpPr/>
                <p:nvPr/>
              </p:nvGrpSpPr>
              <p:grpSpPr>
                <a:xfrm>
                  <a:off x="3225240" y="1959480"/>
                  <a:ext cx="78840" cy="130680"/>
                  <a:chOff x="3225240" y="1959480"/>
                  <a:chExt cx="78840" cy="130680"/>
                </a:xfrm>
              </p:grpSpPr>
              <p:sp>
                <p:nvSpPr>
                  <p:cNvPr id="10746" name=""/>
                  <p:cNvSpPr/>
                  <p:nvPr/>
                </p:nvSpPr>
                <p:spPr>
                  <a:xfrm>
                    <a:off x="3225240" y="195948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7" name=""/>
                  <p:cNvSpPr/>
                  <p:nvPr/>
                </p:nvSpPr>
                <p:spPr>
                  <a:xfrm flipH="1" flipV="1">
                    <a:off x="3249360" y="20048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8" name=""/>
                  <p:cNvSpPr/>
                  <p:nvPr/>
                </p:nvSpPr>
                <p:spPr>
                  <a:xfrm flipH="1" flipV="1">
                    <a:off x="3280680" y="20340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9" name=""/>
                  <p:cNvSpPr/>
                  <p:nvPr/>
                </p:nvSpPr>
                <p:spPr>
                  <a:xfrm flipH="1" flipV="1">
                    <a:off x="3254400" y="20340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0" name=""/>
                  <p:cNvSpPr/>
                  <p:nvPr/>
                </p:nvSpPr>
                <p:spPr>
                  <a:xfrm flipH="1" flipV="1">
                    <a:off x="3259800" y="201060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1" name=""/>
                <p:cNvGrpSpPr/>
                <p:nvPr/>
              </p:nvGrpSpPr>
              <p:grpSpPr>
                <a:xfrm>
                  <a:off x="3061440" y="2187360"/>
                  <a:ext cx="127440" cy="102240"/>
                  <a:chOff x="3061440" y="2187360"/>
                  <a:chExt cx="127440" cy="102240"/>
                </a:xfrm>
              </p:grpSpPr>
              <p:sp>
                <p:nvSpPr>
                  <p:cNvPr id="10752" name=""/>
                  <p:cNvSpPr/>
                  <p:nvPr/>
                </p:nvSpPr>
                <p:spPr>
                  <a:xfrm rot="15769200">
                    <a:off x="3080880" y="2179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3" name=""/>
                  <p:cNvSpPr/>
                  <p:nvPr/>
                </p:nvSpPr>
                <p:spPr>
                  <a:xfrm flipH="1">
                    <a:off x="3109320" y="2192400"/>
                    <a:ext cx="60120" cy="65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4" name=""/>
                  <p:cNvSpPr/>
                  <p:nvPr/>
                </p:nvSpPr>
                <p:spPr>
                  <a:xfrm flipH="1">
                    <a:off x="3130920" y="221220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5" name=""/>
                  <p:cNvSpPr/>
                  <p:nvPr/>
                </p:nvSpPr>
                <p:spPr>
                  <a:xfrm flipH="1">
                    <a:off x="3134880" y="2231280"/>
                    <a:ext cx="28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6" name=""/>
                  <p:cNvSpPr/>
                  <p:nvPr/>
                </p:nvSpPr>
                <p:spPr>
                  <a:xfrm flipH="1">
                    <a:off x="3112920" y="223848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57" name=""/>
                <p:cNvGrpSpPr/>
                <p:nvPr/>
              </p:nvGrpSpPr>
              <p:grpSpPr>
                <a:xfrm>
                  <a:off x="2996280" y="1900800"/>
                  <a:ext cx="78840" cy="131040"/>
                  <a:chOff x="2996280" y="1900800"/>
                  <a:chExt cx="78840" cy="131040"/>
                </a:xfrm>
              </p:grpSpPr>
              <p:sp>
                <p:nvSpPr>
                  <p:cNvPr id="10758" name=""/>
                  <p:cNvSpPr/>
                  <p:nvPr/>
                </p:nvSpPr>
                <p:spPr>
                  <a:xfrm>
                    <a:off x="2996280" y="19008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9" name=""/>
                  <p:cNvSpPr/>
                  <p:nvPr/>
                </p:nvSpPr>
                <p:spPr>
                  <a:xfrm flipH="1" flipV="1">
                    <a:off x="3020400" y="194616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0" name=""/>
                  <p:cNvSpPr/>
                  <p:nvPr/>
                </p:nvSpPr>
                <p:spPr>
                  <a:xfrm flipH="1" flipV="1">
                    <a:off x="3051720" y="197532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1" name=""/>
                  <p:cNvSpPr/>
                  <p:nvPr/>
                </p:nvSpPr>
                <p:spPr>
                  <a:xfrm flipH="1" flipV="1">
                    <a:off x="3025440" y="197532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2" name=""/>
                  <p:cNvSpPr/>
                  <p:nvPr/>
                </p:nvSpPr>
                <p:spPr>
                  <a:xfrm flipH="1" flipV="1">
                    <a:off x="3030840" y="19522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3" name=""/>
                <p:cNvGrpSpPr/>
                <p:nvPr/>
              </p:nvGrpSpPr>
              <p:grpSpPr>
                <a:xfrm>
                  <a:off x="3295440" y="1939680"/>
                  <a:ext cx="78840" cy="131040"/>
                  <a:chOff x="3295440" y="1939680"/>
                  <a:chExt cx="78840" cy="131040"/>
                </a:xfrm>
              </p:grpSpPr>
              <p:sp>
                <p:nvSpPr>
                  <p:cNvPr id="10764" name=""/>
                  <p:cNvSpPr/>
                  <p:nvPr/>
                </p:nvSpPr>
                <p:spPr>
                  <a:xfrm>
                    <a:off x="3295440" y="1939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5" name=""/>
                  <p:cNvSpPr/>
                  <p:nvPr/>
                </p:nvSpPr>
                <p:spPr>
                  <a:xfrm flipH="1" flipV="1">
                    <a:off x="3319560" y="198504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6" name=""/>
                  <p:cNvSpPr/>
                  <p:nvPr/>
                </p:nvSpPr>
                <p:spPr>
                  <a:xfrm flipH="1" flipV="1">
                    <a:off x="3350880" y="20142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7" name=""/>
                  <p:cNvSpPr/>
                  <p:nvPr/>
                </p:nvSpPr>
                <p:spPr>
                  <a:xfrm flipH="1" flipV="1">
                    <a:off x="3324600" y="20142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8" name=""/>
                  <p:cNvSpPr/>
                  <p:nvPr/>
                </p:nvSpPr>
                <p:spPr>
                  <a:xfrm flipH="1" flipV="1">
                    <a:off x="3330000" y="19911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69" name=""/>
                <p:cNvGrpSpPr/>
                <p:nvPr/>
              </p:nvGrpSpPr>
              <p:grpSpPr>
                <a:xfrm>
                  <a:off x="3048840" y="1861560"/>
                  <a:ext cx="78840" cy="130680"/>
                  <a:chOff x="3048840" y="1861560"/>
                  <a:chExt cx="78840" cy="130680"/>
                </a:xfrm>
              </p:grpSpPr>
              <p:sp>
                <p:nvSpPr>
                  <p:cNvPr id="10770" name=""/>
                  <p:cNvSpPr/>
                  <p:nvPr/>
                </p:nvSpPr>
                <p:spPr>
                  <a:xfrm>
                    <a:off x="3048840" y="18615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1" name=""/>
                  <p:cNvSpPr/>
                  <p:nvPr/>
                </p:nvSpPr>
                <p:spPr>
                  <a:xfrm flipH="1" flipV="1">
                    <a:off x="3072960" y="1906920"/>
                    <a:ext cx="5184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2" name=""/>
                  <p:cNvSpPr/>
                  <p:nvPr/>
                </p:nvSpPr>
                <p:spPr>
                  <a:xfrm flipH="1" flipV="1">
                    <a:off x="3104280" y="193608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3" name=""/>
                  <p:cNvSpPr/>
                  <p:nvPr/>
                </p:nvSpPr>
                <p:spPr>
                  <a:xfrm flipH="1" flipV="1">
                    <a:off x="3078000" y="19360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4" name=""/>
                  <p:cNvSpPr/>
                  <p:nvPr/>
                </p:nvSpPr>
                <p:spPr>
                  <a:xfrm flipH="1" flipV="1">
                    <a:off x="3083400" y="19126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5" name=""/>
                <p:cNvGrpSpPr/>
                <p:nvPr/>
              </p:nvGrpSpPr>
              <p:grpSpPr>
                <a:xfrm>
                  <a:off x="3215160" y="2238840"/>
                  <a:ext cx="137520" cy="117720"/>
                  <a:chOff x="3215160" y="2238840"/>
                  <a:chExt cx="137520" cy="117720"/>
                </a:xfrm>
              </p:grpSpPr>
              <p:sp>
                <p:nvSpPr>
                  <p:cNvPr id="10776" name=""/>
                  <p:cNvSpPr/>
                  <p:nvPr/>
                </p:nvSpPr>
                <p:spPr>
                  <a:xfrm rot="15198000">
                    <a:off x="3240000" y="22388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7" name=""/>
                  <p:cNvSpPr/>
                  <p:nvPr/>
                </p:nvSpPr>
                <p:spPr>
                  <a:xfrm flipH="1">
                    <a:off x="3271680" y="2244240"/>
                    <a:ext cx="4824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8" name=""/>
                  <p:cNvSpPr/>
                  <p:nvPr/>
                </p:nvSpPr>
                <p:spPr>
                  <a:xfrm flipH="1">
                    <a:off x="3286440" y="226800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9" name=""/>
                  <p:cNvSpPr/>
                  <p:nvPr/>
                </p:nvSpPr>
                <p:spPr>
                  <a:xfrm>
                    <a:off x="3295080" y="228780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0" name=""/>
                  <p:cNvSpPr/>
                  <p:nvPr/>
                </p:nvSpPr>
                <p:spPr>
                  <a:xfrm flipH="1">
                    <a:off x="3273120" y="229860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1" name=""/>
                <p:cNvGrpSpPr/>
                <p:nvPr/>
              </p:nvGrpSpPr>
              <p:grpSpPr>
                <a:xfrm>
                  <a:off x="3122640" y="2210040"/>
                  <a:ext cx="145800" cy="135720"/>
                  <a:chOff x="3122640" y="2210040"/>
                  <a:chExt cx="145800" cy="135720"/>
                </a:xfrm>
              </p:grpSpPr>
              <p:sp>
                <p:nvSpPr>
                  <p:cNvPr id="10782" name=""/>
                  <p:cNvSpPr/>
                  <p:nvPr/>
                </p:nvSpPr>
                <p:spPr>
                  <a:xfrm rot="14358600">
                    <a:off x="3151440" y="22190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3" name=""/>
                  <p:cNvSpPr/>
                  <p:nvPr/>
                </p:nvSpPr>
                <p:spPr>
                  <a:xfrm flipH="1">
                    <a:off x="3189240" y="2217600"/>
                    <a:ext cx="2844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4" name=""/>
                  <p:cNvSpPr/>
                  <p:nvPr/>
                </p:nvSpPr>
                <p:spPr>
                  <a:xfrm flipH="1">
                    <a:off x="3193200" y="224568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5" name=""/>
                  <p:cNvSpPr/>
                  <p:nvPr/>
                </p:nvSpPr>
                <p:spPr>
                  <a:xfrm>
                    <a:off x="3204000" y="2265840"/>
                    <a:ext cx="46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6" name=""/>
                  <p:cNvSpPr/>
                  <p:nvPr/>
                </p:nvSpPr>
                <p:spPr>
                  <a:xfrm flipH="1">
                    <a:off x="3187080" y="22788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87" name=""/>
                <p:cNvGrpSpPr/>
                <p:nvPr/>
              </p:nvGrpSpPr>
              <p:grpSpPr>
                <a:xfrm>
                  <a:off x="2941560" y="2054160"/>
                  <a:ext cx="122040" cy="94320"/>
                  <a:chOff x="2941560" y="2054160"/>
                  <a:chExt cx="122040" cy="94320"/>
                </a:xfrm>
              </p:grpSpPr>
              <p:sp>
                <p:nvSpPr>
                  <p:cNvPr id="10788" name=""/>
                  <p:cNvSpPr/>
                  <p:nvPr/>
                </p:nvSpPr>
                <p:spPr>
                  <a:xfrm rot="16010400">
                    <a:off x="2958480" y="20426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9" name=""/>
                  <p:cNvSpPr/>
                  <p:nvPr/>
                </p:nvSpPr>
                <p:spPr>
                  <a:xfrm flipH="1">
                    <a:off x="2985480" y="2058120"/>
                    <a:ext cx="644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0" name=""/>
                  <p:cNvSpPr/>
                  <p:nvPr/>
                </p:nvSpPr>
                <p:spPr>
                  <a:xfrm flipH="1">
                    <a:off x="3009240" y="20764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1" name=""/>
                  <p:cNvSpPr/>
                  <p:nvPr/>
                </p:nvSpPr>
                <p:spPr>
                  <a:xfrm flipH="1">
                    <a:off x="3011400" y="209448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2" name=""/>
                  <p:cNvSpPr/>
                  <p:nvPr/>
                </p:nvSpPr>
                <p:spPr>
                  <a:xfrm flipH="1">
                    <a:off x="2989800" y="210168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3" name=""/>
                <p:cNvGrpSpPr/>
                <p:nvPr/>
              </p:nvGrpSpPr>
              <p:grpSpPr>
                <a:xfrm>
                  <a:off x="2948400" y="2116800"/>
                  <a:ext cx="141840" cy="125640"/>
                  <a:chOff x="2948400" y="2116800"/>
                  <a:chExt cx="141840" cy="125640"/>
                </a:xfrm>
              </p:grpSpPr>
              <p:sp>
                <p:nvSpPr>
                  <p:cNvPr id="10794" name=""/>
                  <p:cNvSpPr/>
                  <p:nvPr/>
                </p:nvSpPr>
                <p:spPr>
                  <a:xfrm rot="14881800">
                    <a:off x="2975040" y="21207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5" name=""/>
                  <p:cNvSpPr/>
                  <p:nvPr/>
                </p:nvSpPr>
                <p:spPr>
                  <a:xfrm flipH="1">
                    <a:off x="3009600" y="2123640"/>
                    <a:ext cx="4104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6" name=""/>
                  <p:cNvSpPr/>
                  <p:nvPr/>
                </p:nvSpPr>
                <p:spPr>
                  <a:xfrm flipH="1">
                    <a:off x="3020400" y="21488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7" name=""/>
                  <p:cNvSpPr/>
                  <p:nvPr/>
                </p:nvSpPr>
                <p:spPr>
                  <a:xfrm>
                    <a:off x="3029760" y="216900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8" name=""/>
                  <p:cNvSpPr/>
                  <p:nvPr/>
                </p:nvSpPr>
                <p:spPr>
                  <a:xfrm flipH="1">
                    <a:off x="3009600" y="218016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9" name=""/>
                <p:cNvGrpSpPr/>
                <p:nvPr/>
              </p:nvGrpSpPr>
              <p:grpSpPr>
                <a:xfrm>
                  <a:off x="3040200" y="2103840"/>
                  <a:ext cx="134280" cy="112320"/>
                  <a:chOff x="3040200" y="2103840"/>
                  <a:chExt cx="134280" cy="112320"/>
                </a:xfrm>
              </p:grpSpPr>
              <p:sp>
                <p:nvSpPr>
                  <p:cNvPr id="10800" name=""/>
                  <p:cNvSpPr/>
                  <p:nvPr/>
                </p:nvSpPr>
                <p:spPr>
                  <a:xfrm rot="15401400">
                    <a:off x="3063240" y="21009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1" name=""/>
                  <p:cNvSpPr/>
                  <p:nvPr/>
                </p:nvSpPr>
                <p:spPr>
                  <a:xfrm flipH="1">
                    <a:off x="3093840" y="2108880"/>
                    <a:ext cx="5256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2" name=""/>
                  <p:cNvSpPr/>
                  <p:nvPr/>
                </p:nvSpPr>
                <p:spPr>
                  <a:xfrm flipH="1">
                    <a:off x="3111120" y="213156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3" name=""/>
                  <p:cNvSpPr/>
                  <p:nvPr/>
                </p:nvSpPr>
                <p:spPr>
                  <a:xfrm flipH="1">
                    <a:off x="3118320" y="2151000"/>
                    <a:ext cx="7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4" name=""/>
                  <p:cNvSpPr/>
                  <p:nvPr/>
                </p:nvSpPr>
                <p:spPr>
                  <a:xfrm flipH="1">
                    <a:off x="3096360" y="2161080"/>
                    <a:ext cx="86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05" name=""/>
                <p:cNvGrpSpPr/>
                <p:nvPr/>
              </p:nvGrpSpPr>
              <p:grpSpPr>
                <a:xfrm>
                  <a:off x="3005280" y="1967040"/>
                  <a:ext cx="134280" cy="112320"/>
                  <a:chOff x="3005280" y="1967040"/>
                  <a:chExt cx="134280" cy="112320"/>
                </a:xfrm>
              </p:grpSpPr>
              <p:sp>
                <p:nvSpPr>
                  <p:cNvPr id="10806" name=""/>
                  <p:cNvSpPr/>
                  <p:nvPr/>
                </p:nvSpPr>
                <p:spPr>
                  <a:xfrm rot="16985400">
                    <a:off x="3028320" y="19645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7" name=""/>
                  <p:cNvSpPr/>
                  <p:nvPr/>
                </p:nvSpPr>
                <p:spPr>
                  <a:xfrm flipH="1">
                    <a:off x="3050640" y="1994760"/>
                    <a:ext cx="7920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8" name=""/>
                  <p:cNvSpPr/>
                  <p:nvPr/>
                </p:nvSpPr>
                <p:spPr>
                  <a:xfrm flipH="1">
                    <a:off x="3084120" y="200520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9" name=""/>
                  <p:cNvSpPr/>
                  <p:nvPr/>
                </p:nvSpPr>
                <p:spPr>
                  <a:xfrm flipH="1">
                    <a:off x="3077640" y="202032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0" name=""/>
                  <p:cNvSpPr/>
                  <p:nvPr/>
                </p:nvSpPr>
                <p:spPr>
                  <a:xfrm flipH="1">
                    <a:off x="3058200" y="202284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1" name=""/>
                <p:cNvGrpSpPr/>
                <p:nvPr/>
              </p:nvGrpSpPr>
              <p:grpSpPr>
                <a:xfrm>
                  <a:off x="3191400" y="1989000"/>
                  <a:ext cx="146520" cy="149760"/>
                  <a:chOff x="3191400" y="1989000"/>
                  <a:chExt cx="146520" cy="149760"/>
                </a:xfrm>
              </p:grpSpPr>
              <p:sp>
                <p:nvSpPr>
                  <p:cNvPr id="10812" name=""/>
                  <p:cNvSpPr/>
                  <p:nvPr/>
                </p:nvSpPr>
                <p:spPr>
                  <a:xfrm rot="19036200">
                    <a:off x="3225240" y="19983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3" name=""/>
                  <p:cNvSpPr/>
                  <p:nvPr/>
                </p:nvSpPr>
                <p:spPr>
                  <a:xfrm flipH="1" flipV="1">
                    <a:off x="3240000" y="2059560"/>
                    <a:ext cx="8928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4" name=""/>
                  <p:cNvSpPr/>
                  <p:nvPr/>
                </p:nvSpPr>
                <p:spPr>
                  <a:xfrm flipH="1" flipV="1">
                    <a:off x="3282840" y="205992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5" name=""/>
                  <p:cNvSpPr/>
                  <p:nvPr/>
                </p:nvSpPr>
                <p:spPr>
                  <a:xfrm flipH="1">
                    <a:off x="3263400" y="20714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6" name=""/>
                  <p:cNvSpPr/>
                  <p:nvPr/>
                </p:nvSpPr>
                <p:spPr>
                  <a:xfrm flipH="1" flipV="1">
                    <a:off x="3251520" y="205668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17" name=""/>
                <p:cNvGrpSpPr/>
                <p:nvPr/>
              </p:nvGrpSpPr>
              <p:grpSpPr>
                <a:xfrm>
                  <a:off x="3354840" y="1922760"/>
                  <a:ext cx="140040" cy="122400"/>
                  <a:chOff x="3354840" y="1922760"/>
                  <a:chExt cx="140040" cy="122400"/>
                </a:xfrm>
              </p:grpSpPr>
              <p:sp>
                <p:nvSpPr>
                  <p:cNvPr id="10818" name=""/>
                  <p:cNvSpPr/>
                  <p:nvPr/>
                </p:nvSpPr>
                <p:spPr>
                  <a:xfrm rot="4233000">
                    <a:off x="3380400" y="19249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9" name=""/>
                  <p:cNvSpPr/>
                  <p:nvPr/>
                </p:nvSpPr>
                <p:spPr>
                  <a:xfrm flipV="1">
                    <a:off x="3391560" y="1961280"/>
                    <a:ext cx="4428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0" name=""/>
                  <p:cNvSpPr/>
                  <p:nvPr/>
                </p:nvSpPr>
                <p:spPr>
                  <a:xfrm flipV="1">
                    <a:off x="3410640" y="200304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1" name=""/>
                  <p:cNvSpPr/>
                  <p:nvPr/>
                </p:nvSpPr>
                <p:spPr>
                  <a:xfrm flipH="1" flipV="1">
                    <a:off x="3413160" y="197568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2" name=""/>
                  <p:cNvSpPr/>
                  <p:nvPr/>
                </p:nvSpPr>
                <p:spPr>
                  <a:xfrm flipV="1">
                    <a:off x="3427200" y="19746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23" name=""/>
                <p:cNvGrpSpPr/>
                <p:nvPr/>
              </p:nvGrpSpPr>
              <p:grpSpPr>
                <a:xfrm>
                  <a:off x="3425760" y="2022480"/>
                  <a:ext cx="138240" cy="119160"/>
                  <a:chOff x="3425760" y="2022480"/>
                  <a:chExt cx="138240" cy="119160"/>
                </a:xfrm>
              </p:grpSpPr>
              <p:sp>
                <p:nvSpPr>
                  <p:cNvPr id="10824" name=""/>
                  <p:cNvSpPr/>
                  <p:nvPr/>
                </p:nvSpPr>
                <p:spPr>
                  <a:xfrm rot="4353000">
                    <a:off x="3450600" y="20232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5" name=""/>
                  <p:cNvSpPr/>
                  <p:nvPr/>
                </p:nvSpPr>
                <p:spPr>
                  <a:xfrm flipV="1">
                    <a:off x="3459600" y="2059920"/>
                    <a:ext cx="4716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6" name=""/>
                  <p:cNvSpPr/>
                  <p:nvPr/>
                </p:nvSpPr>
                <p:spPr>
                  <a:xfrm flipV="1">
                    <a:off x="3479760" y="210132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7" name=""/>
                  <p:cNvSpPr/>
                  <p:nvPr/>
                </p:nvSpPr>
                <p:spPr>
                  <a:xfrm flipH="1" flipV="1">
                    <a:off x="3483720" y="207360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8" name=""/>
                  <p:cNvSpPr/>
                  <p:nvPr/>
                </p:nvSpPr>
                <p:spPr>
                  <a:xfrm flipV="1">
                    <a:off x="3497400" y="207324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29" name=""/>
                <p:cNvGrpSpPr/>
                <p:nvPr/>
              </p:nvGrpSpPr>
              <p:grpSpPr>
                <a:xfrm>
                  <a:off x="3195000" y="2125080"/>
                  <a:ext cx="139320" cy="152640"/>
                  <a:chOff x="3195000" y="2125080"/>
                  <a:chExt cx="139320" cy="152640"/>
                </a:xfrm>
              </p:grpSpPr>
              <p:sp>
                <p:nvSpPr>
                  <p:cNvPr id="10830" name=""/>
                  <p:cNvSpPr/>
                  <p:nvPr/>
                </p:nvSpPr>
                <p:spPr>
                  <a:xfrm rot="19525800">
                    <a:off x="3224880" y="2135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1" name=""/>
                  <p:cNvSpPr/>
                  <p:nvPr/>
                </p:nvSpPr>
                <p:spPr>
                  <a:xfrm flipH="1" flipV="1">
                    <a:off x="3240720" y="2193480"/>
                    <a:ext cx="8532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2" name=""/>
                  <p:cNvSpPr/>
                  <p:nvPr/>
                </p:nvSpPr>
                <p:spPr>
                  <a:xfrm flipH="1" flipV="1">
                    <a:off x="3282840" y="2199600"/>
                    <a:ext cx="14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3" name=""/>
                  <p:cNvSpPr/>
                  <p:nvPr/>
                </p:nvSpPr>
                <p:spPr>
                  <a:xfrm flipH="1">
                    <a:off x="3261240" y="22104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4" name=""/>
                  <p:cNvSpPr/>
                  <p:nvPr/>
                </p:nvSpPr>
                <p:spPr>
                  <a:xfrm flipH="1" flipV="1">
                    <a:off x="3252600" y="219240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35" name=""/>
                <p:cNvGrpSpPr/>
                <p:nvPr/>
              </p:nvGrpSpPr>
              <p:grpSpPr>
                <a:xfrm>
                  <a:off x="3052440" y="2107080"/>
                  <a:ext cx="145440" cy="145440"/>
                  <a:chOff x="3052440" y="2107080"/>
                  <a:chExt cx="145440" cy="145440"/>
                </a:xfrm>
              </p:grpSpPr>
              <p:sp>
                <p:nvSpPr>
                  <p:cNvPr id="10836" name=""/>
                  <p:cNvSpPr/>
                  <p:nvPr/>
                </p:nvSpPr>
                <p:spPr>
                  <a:xfrm rot="18890400">
                    <a:off x="3080880" y="2121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7" name=""/>
                  <p:cNvSpPr/>
                  <p:nvPr/>
                </p:nvSpPr>
                <p:spPr>
                  <a:xfrm flipH="1" flipV="1">
                    <a:off x="3100320" y="2179440"/>
                    <a:ext cx="88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8" name=""/>
                  <p:cNvSpPr/>
                  <p:nvPr/>
                </p:nvSpPr>
                <p:spPr>
                  <a:xfrm flipH="1" flipV="1">
                    <a:off x="3143520" y="21726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9" name=""/>
                  <p:cNvSpPr/>
                  <p:nvPr/>
                </p:nvSpPr>
                <p:spPr>
                  <a:xfrm flipH="1">
                    <a:off x="3123000" y="2184840"/>
                    <a:ext cx="158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0" name=""/>
                  <p:cNvSpPr/>
                  <p:nvPr/>
                </p:nvSpPr>
                <p:spPr>
                  <a:xfrm flipH="1" flipV="1">
                    <a:off x="3112560" y="217440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1" name=""/>
                <p:cNvGrpSpPr/>
                <p:nvPr/>
              </p:nvGrpSpPr>
              <p:grpSpPr>
                <a:xfrm>
                  <a:off x="2929320" y="2029320"/>
                  <a:ext cx="145800" cy="144000"/>
                  <a:chOff x="2929320" y="2029320"/>
                  <a:chExt cx="145800" cy="144000"/>
                </a:xfrm>
              </p:grpSpPr>
              <p:sp>
                <p:nvSpPr>
                  <p:cNvPr id="10842" name=""/>
                  <p:cNvSpPr/>
                  <p:nvPr/>
                </p:nvSpPr>
                <p:spPr>
                  <a:xfrm rot="18730200">
                    <a:off x="2958120" y="20426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3" name=""/>
                  <p:cNvSpPr/>
                  <p:nvPr/>
                </p:nvSpPr>
                <p:spPr>
                  <a:xfrm flipH="1" flipV="1">
                    <a:off x="2977560" y="2102040"/>
                    <a:ext cx="889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4" name=""/>
                  <p:cNvSpPr/>
                  <p:nvPr/>
                </p:nvSpPr>
                <p:spPr>
                  <a:xfrm flipH="1" flipV="1">
                    <a:off x="3020400" y="209340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5" name=""/>
                  <p:cNvSpPr/>
                  <p:nvPr/>
                </p:nvSpPr>
                <p:spPr>
                  <a:xfrm flipH="1">
                    <a:off x="3000960" y="2105640"/>
                    <a:ext cx="15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6" name=""/>
                  <p:cNvSpPr/>
                  <p:nvPr/>
                </p:nvSpPr>
                <p:spPr>
                  <a:xfrm flipH="1" flipV="1">
                    <a:off x="2989080" y="2097000"/>
                    <a:ext cx="111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7" name=""/>
                <p:cNvGrpSpPr/>
                <p:nvPr/>
              </p:nvGrpSpPr>
              <p:grpSpPr>
                <a:xfrm>
                  <a:off x="2912400" y="1948680"/>
                  <a:ext cx="141840" cy="151920"/>
                  <a:chOff x="2912400" y="1948680"/>
                  <a:chExt cx="141840" cy="151920"/>
                </a:xfrm>
              </p:grpSpPr>
              <p:sp>
                <p:nvSpPr>
                  <p:cNvPr id="10848" name=""/>
                  <p:cNvSpPr/>
                  <p:nvPr/>
                </p:nvSpPr>
                <p:spPr>
                  <a:xfrm rot="19362600">
                    <a:off x="2943720" y="19591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9" name=""/>
                  <p:cNvSpPr/>
                  <p:nvPr/>
                </p:nvSpPr>
                <p:spPr>
                  <a:xfrm flipH="1" flipV="1">
                    <a:off x="2958840" y="2018160"/>
                    <a:ext cx="8712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0" name=""/>
                  <p:cNvSpPr/>
                  <p:nvPr/>
                </p:nvSpPr>
                <p:spPr>
                  <a:xfrm flipH="1" flipV="1">
                    <a:off x="3001680" y="202212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1" name=""/>
                  <p:cNvSpPr/>
                  <p:nvPr/>
                </p:nvSpPr>
                <p:spPr>
                  <a:xfrm flipH="1">
                    <a:off x="2980440" y="20332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2" name=""/>
                  <p:cNvSpPr/>
                  <p:nvPr/>
                </p:nvSpPr>
                <p:spPr>
                  <a:xfrm flipH="1" flipV="1">
                    <a:off x="2970720" y="201636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53" name=""/>
              <p:cNvGrpSpPr/>
              <p:nvPr/>
            </p:nvGrpSpPr>
            <p:grpSpPr>
              <a:xfrm>
                <a:off x="3356280" y="1344240"/>
                <a:ext cx="484920" cy="707760"/>
                <a:chOff x="3356280" y="1344240"/>
                <a:chExt cx="484920" cy="707760"/>
              </a:xfrm>
            </p:grpSpPr>
            <p:grpSp>
              <p:nvGrpSpPr>
                <p:cNvPr id="10854" name=""/>
                <p:cNvGrpSpPr/>
                <p:nvPr/>
              </p:nvGrpSpPr>
              <p:grpSpPr>
                <a:xfrm>
                  <a:off x="3648600" y="1637280"/>
                  <a:ext cx="122400" cy="151200"/>
                  <a:chOff x="3648600" y="1637280"/>
                  <a:chExt cx="122400" cy="151200"/>
                </a:xfrm>
              </p:grpSpPr>
              <p:sp>
                <p:nvSpPr>
                  <p:cNvPr id="10855" name=""/>
                  <p:cNvSpPr/>
                  <p:nvPr/>
                </p:nvSpPr>
                <p:spPr>
                  <a:xfrm rot="9465600">
                    <a:off x="3670200" y="16470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6" name=""/>
                  <p:cNvSpPr/>
                  <p:nvPr/>
                </p:nvSpPr>
                <p:spPr>
                  <a:xfrm>
                    <a:off x="3654720" y="1675080"/>
                    <a:ext cx="76680" cy="50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7" name=""/>
                  <p:cNvSpPr/>
                  <p:nvPr/>
                </p:nvSpPr>
                <p:spPr>
                  <a:xfrm>
                    <a:off x="3680280" y="169632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8" name=""/>
                  <p:cNvSpPr/>
                  <p:nvPr/>
                </p:nvSpPr>
                <p:spPr>
                  <a:xfrm flipV="1">
                    <a:off x="3699360" y="170028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9" name=""/>
                  <p:cNvSpPr/>
                  <p:nvPr/>
                </p:nvSpPr>
                <p:spPr>
                  <a:xfrm>
                    <a:off x="3710520" y="171504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0" name=""/>
                <p:cNvSpPr/>
                <p:nvPr/>
              </p:nvSpPr>
              <p:spPr>
                <a:xfrm flipH="1" flipV="1">
                  <a:off x="3510000" y="1612440"/>
                  <a:ext cx="20520" cy="19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1" name=""/>
                <p:cNvSpPr/>
                <p:nvPr/>
              </p:nvSpPr>
              <p:spPr>
                <a:xfrm rot="5650200">
                  <a:off x="3265560" y="160668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2" name=""/>
                <p:cNvSpPr/>
                <p:nvPr/>
              </p:nvSpPr>
              <p:spPr>
                <a:xfrm flipV="1">
                  <a:off x="3593520" y="1608120"/>
                  <a:ext cx="12816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3" name=""/>
                <p:cNvSpPr/>
                <p:nvPr/>
              </p:nvSpPr>
              <p:spPr>
                <a:xfrm flipV="1">
                  <a:off x="3398760" y="1837080"/>
                  <a:ext cx="218520" cy="10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4" name=""/>
                <p:cNvSpPr/>
                <p:nvPr/>
              </p:nvSpPr>
              <p:spPr>
                <a:xfrm flipH="1" flipV="1">
                  <a:off x="3488400" y="1670040"/>
                  <a:ext cx="316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5" name=""/>
                <p:cNvSpPr/>
                <p:nvPr/>
              </p:nvSpPr>
              <p:spPr>
                <a:xfrm flipV="1">
                  <a:off x="3533760" y="1713600"/>
                  <a:ext cx="21960" cy="57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6" name=""/>
                <p:cNvSpPr/>
                <p:nvPr/>
              </p:nvSpPr>
              <p:spPr>
                <a:xfrm flipV="1">
                  <a:off x="3648600" y="1566720"/>
                  <a:ext cx="5832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7" name=""/>
                <p:cNvSpPr/>
                <p:nvPr/>
              </p:nvSpPr>
              <p:spPr>
                <a:xfrm>
                  <a:off x="3629880" y="1660680"/>
                  <a:ext cx="5112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8" name=""/>
                <p:cNvSpPr/>
                <p:nvPr/>
              </p:nvSpPr>
              <p:spPr>
                <a:xfrm flipH="1" flipV="1">
                  <a:off x="3588480" y="1499400"/>
                  <a:ext cx="3060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9" name=""/>
                <p:cNvSpPr/>
                <p:nvPr/>
              </p:nvSpPr>
              <p:spPr>
                <a:xfrm flipV="1">
                  <a:off x="3507120" y="1757160"/>
                  <a:ext cx="97560" cy="13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0" name=""/>
                <p:cNvSpPr/>
                <p:nvPr/>
              </p:nvSpPr>
              <p:spPr>
                <a:xfrm flipV="1">
                  <a:off x="3566160" y="1796400"/>
                  <a:ext cx="356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1" name=""/>
                <p:cNvSpPr/>
                <p:nvPr/>
              </p:nvSpPr>
              <p:spPr>
                <a:xfrm>
                  <a:off x="3471120" y="1905120"/>
                  <a:ext cx="6840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2" name=""/>
                <p:cNvSpPr/>
                <p:nvPr/>
              </p:nvSpPr>
              <p:spPr>
                <a:xfrm>
                  <a:off x="3580560" y="185400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3" name=""/>
                <p:cNvSpPr/>
                <p:nvPr/>
              </p:nvSpPr>
              <p:spPr>
                <a:xfrm flipH="1" flipV="1">
                  <a:off x="3462120" y="1785960"/>
                  <a:ext cx="11880" cy="79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4" name=""/>
                <p:cNvSpPr/>
                <p:nvPr/>
              </p:nvSpPr>
              <p:spPr>
                <a:xfrm flipH="1" flipV="1">
                  <a:off x="3583080" y="1578240"/>
                  <a:ext cx="129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5" name=""/>
                <p:cNvSpPr/>
                <p:nvPr/>
              </p:nvSpPr>
              <p:spPr>
                <a:xfrm flipV="1">
                  <a:off x="3639960" y="1505880"/>
                  <a:ext cx="360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76" name=""/>
                <p:cNvGrpSpPr/>
                <p:nvPr/>
              </p:nvGrpSpPr>
              <p:grpSpPr>
                <a:xfrm>
                  <a:off x="3694680" y="1546920"/>
                  <a:ext cx="146520" cy="138240"/>
                  <a:chOff x="3694680" y="1546920"/>
                  <a:chExt cx="146520" cy="138240"/>
                </a:xfrm>
              </p:grpSpPr>
              <p:sp>
                <p:nvSpPr>
                  <p:cNvPr id="10877" name=""/>
                  <p:cNvSpPr/>
                  <p:nvPr/>
                </p:nvSpPr>
                <p:spPr>
                  <a:xfrm rot="7395600">
                    <a:off x="3723840" y="15573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8" name=""/>
                  <p:cNvSpPr/>
                  <p:nvPr/>
                </p:nvSpPr>
                <p:spPr>
                  <a:xfrm flipV="1">
                    <a:off x="3704040" y="1611000"/>
                    <a:ext cx="882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9" name=""/>
                  <p:cNvSpPr/>
                  <p:nvPr/>
                </p:nvSpPr>
                <p:spPr>
                  <a:xfrm>
                    <a:off x="3735360" y="162288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0" name=""/>
                  <p:cNvSpPr/>
                  <p:nvPr/>
                </p:nvSpPr>
                <p:spPr>
                  <a:xfrm flipV="1">
                    <a:off x="3753360" y="160200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1" name=""/>
                  <p:cNvSpPr/>
                  <p:nvPr/>
                </p:nvSpPr>
                <p:spPr>
                  <a:xfrm>
                    <a:off x="3769560" y="161784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2" name=""/>
                <p:cNvGrpSpPr/>
                <p:nvPr/>
              </p:nvGrpSpPr>
              <p:grpSpPr>
                <a:xfrm>
                  <a:off x="3518280" y="1601280"/>
                  <a:ext cx="140040" cy="122040"/>
                  <a:chOff x="3518280" y="1601280"/>
                  <a:chExt cx="140040" cy="122040"/>
                </a:xfrm>
              </p:grpSpPr>
              <p:sp>
                <p:nvSpPr>
                  <p:cNvPr id="10883" name=""/>
                  <p:cNvSpPr/>
                  <p:nvPr/>
                </p:nvSpPr>
                <p:spPr>
                  <a:xfrm rot="4237200">
                    <a:off x="3544200" y="16034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4" name=""/>
                  <p:cNvSpPr/>
                  <p:nvPr/>
                </p:nvSpPr>
                <p:spPr>
                  <a:xfrm flipV="1">
                    <a:off x="3555000" y="1639800"/>
                    <a:ext cx="4464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5" name=""/>
                  <p:cNvSpPr/>
                  <p:nvPr/>
                </p:nvSpPr>
                <p:spPr>
                  <a:xfrm flipV="1">
                    <a:off x="3574080" y="168192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6" name=""/>
                  <p:cNvSpPr/>
                  <p:nvPr/>
                </p:nvSpPr>
                <p:spPr>
                  <a:xfrm flipH="1" flipV="1">
                    <a:off x="3576600" y="165456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7" name=""/>
                  <p:cNvSpPr/>
                  <p:nvPr/>
                </p:nvSpPr>
                <p:spPr>
                  <a:xfrm flipV="1">
                    <a:off x="3591000" y="165312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88" name=""/>
                <p:cNvGrpSpPr/>
                <p:nvPr/>
              </p:nvGrpSpPr>
              <p:grpSpPr>
                <a:xfrm>
                  <a:off x="3592440" y="1677960"/>
                  <a:ext cx="123120" cy="96480"/>
                  <a:chOff x="3592440" y="1677960"/>
                  <a:chExt cx="123120" cy="96480"/>
                </a:xfrm>
              </p:grpSpPr>
              <p:sp>
                <p:nvSpPr>
                  <p:cNvPr id="10889" name=""/>
                  <p:cNvSpPr/>
                  <p:nvPr/>
                </p:nvSpPr>
                <p:spPr>
                  <a:xfrm rot="5650200">
                    <a:off x="3609720" y="16675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0" name=""/>
                  <p:cNvSpPr/>
                  <p:nvPr/>
                </p:nvSpPr>
                <p:spPr>
                  <a:xfrm flipV="1">
                    <a:off x="3601440" y="171036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1" name=""/>
                  <p:cNvSpPr/>
                  <p:nvPr/>
                </p:nvSpPr>
                <p:spPr>
                  <a:xfrm flipV="1">
                    <a:off x="3629160" y="17434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2" name=""/>
                  <p:cNvSpPr/>
                  <p:nvPr/>
                </p:nvSpPr>
                <p:spPr>
                  <a:xfrm flipV="1">
                    <a:off x="3640680" y="171432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3" name=""/>
                  <p:cNvSpPr/>
                  <p:nvPr/>
                </p:nvSpPr>
                <p:spPr>
                  <a:xfrm flipV="1">
                    <a:off x="3656880" y="172224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94" name=""/>
                <p:cNvGrpSpPr/>
                <p:nvPr/>
              </p:nvGrpSpPr>
              <p:grpSpPr>
                <a:xfrm>
                  <a:off x="3431520" y="1489680"/>
                  <a:ext cx="85680" cy="134640"/>
                  <a:chOff x="3431520" y="1489680"/>
                  <a:chExt cx="85680" cy="134640"/>
                </a:xfrm>
              </p:grpSpPr>
              <p:sp>
                <p:nvSpPr>
                  <p:cNvPr id="10895" name=""/>
                  <p:cNvSpPr/>
                  <p:nvPr/>
                </p:nvSpPr>
                <p:spPr>
                  <a:xfrm rot="21420000">
                    <a:off x="3434760" y="1491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6" name=""/>
                  <p:cNvSpPr/>
                  <p:nvPr/>
                </p:nvSpPr>
                <p:spPr>
                  <a:xfrm flipH="1" flipV="1">
                    <a:off x="3458160" y="1537920"/>
                    <a:ext cx="55800" cy="72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7" name=""/>
                  <p:cNvSpPr/>
                  <p:nvPr/>
                </p:nvSpPr>
                <p:spPr>
                  <a:xfrm flipH="1" flipV="1">
                    <a:off x="3490920" y="156528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8" name=""/>
                  <p:cNvSpPr/>
                  <p:nvPr/>
                </p:nvSpPr>
                <p:spPr>
                  <a:xfrm flipH="1" flipV="1">
                    <a:off x="3464640" y="156672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9" name=""/>
                  <p:cNvSpPr/>
                  <p:nvPr/>
                </p:nvSpPr>
                <p:spPr>
                  <a:xfrm flipH="1" flipV="1">
                    <a:off x="3468960" y="154332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0" name=""/>
                <p:cNvGrpSpPr/>
                <p:nvPr/>
              </p:nvGrpSpPr>
              <p:grpSpPr>
                <a:xfrm>
                  <a:off x="3663360" y="1427040"/>
                  <a:ext cx="123480" cy="96480"/>
                  <a:chOff x="3663360" y="1427040"/>
                  <a:chExt cx="123480" cy="96480"/>
                </a:xfrm>
              </p:grpSpPr>
              <p:sp>
                <p:nvSpPr>
                  <p:cNvPr id="10901" name=""/>
                  <p:cNvSpPr/>
                  <p:nvPr/>
                </p:nvSpPr>
                <p:spPr>
                  <a:xfrm rot="5650200">
                    <a:off x="3681000" y="14166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2" name=""/>
                  <p:cNvSpPr/>
                  <p:nvPr/>
                </p:nvSpPr>
                <p:spPr>
                  <a:xfrm flipV="1">
                    <a:off x="3672360" y="1459080"/>
                    <a:ext cx="7200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3" name=""/>
                  <p:cNvSpPr/>
                  <p:nvPr/>
                </p:nvSpPr>
                <p:spPr>
                  <a:xfrm flipV="1">
                    <a:off x="3700080" y="14925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4" name=""/>
                  <p:cNvSpPr/>
                  <p:nvPr/>
                </p:nvSpPr>
                <p:spPr>
                  <a:xfrm flipV="1">
                    <a:off x="3711240" y="1463400"/>
                    <a:ext cx="64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5" name=""/>
                  <p:cNvSpPr/>
                  <p:nvPr/>
                </p:nvSpPr>
                <p:spPr>
                  <a:xfrm flipV="1">
                    <a:off x="3727440" y="14709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06" name=""/>
                <p:cNvGrpSpPr/>
                <p:nvPr/>
              </p:nvGrpSpPr>
              <p:grpSpPr>
                <a:xfrm>
                  <a:off x="3603960" y="1757520"/>
                  <a:ext cx="123480" cy="96480"/>
                  <a:chOff x="3603960" y="1757520"/>
                  <a:chExt cx="123480" cy="96480"/>
                </a:xfrm>
              </p:grpSpPr>
              <p:sp>
                <p:nvSpPr>
                  <p:cNvPr id="10907" name=""/>
                  <p:cNvSpPr/>
                  <p:nvPr/>
                </p:nvSpPr>
                <p:spPr>
                  <a:xfrm rot="5650200">
                    <a:off x="3621600" y="1747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8" name=""/>
                  <p:cNvSpPr/>
                  <p:nvPr/>
                </p:nvSpPr>
                <p:spPr>
                  <a:xfrm flipV="1">
                    <a:off x="3613320" y="178992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9" name=""/>
                  <p:cNvSpPr/>
                  <p:nvPr/>
                </p:nvSpPr>
                <p:spPr>
                  <a:xfrm flipV="1">
                    <a:off x="3640680" y="18230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0" name=""/>
                  <p:cNvSpPr/>
                  <p:nvPr/>
                </p:nvSpPr>
                <p:spPr>
                  <a:xfrm flipV="1">
                    <a:off x="3652200" y="179388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1" name=""/>
                  <p:cNvSpPr/>
                  <p:nvPr/>
                </p:nvSpPr>
                <p:spPr>
                  <a:xfrm flipV="1">
                    <a:off x="3668400" y="180180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12" name=""/>
                <p:cNvGrpSpPr/>
                <p:nvPr/>
              </p:nvGrpSpPr>
              <p:grpSpPr>
                <a:xfrm>
                  <a:off x="3694320" y="1488240"/>
                  <a:ext cx="123120" cy="96480"/>
                  <a:chOff x="3694320" y="1488240"/>
                  <a:chExt cx="123120" cy="96480"/>
                </a:xfrm>
              </p:grpSpPr>
              <p:sp>
                <p:nvSpPr>
                  <p:cNvPr id="10913" name=""/>
                  <p:cNvSpPr/>
                  <p:nvPr/>
                </p:nvSpPr>
                <p:spPr>
                  <a:xfrm rot="5650200">
                    <a:off x="3711600" y="14778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4" name=""/>
                  <p:cNvSpPr/>
                  <p:nvPr/>
                </p:nvSpPr>
                <p:spPr>
                  <a:xfrm flipV="1">
                    <a:off x="3703320" y="152064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5" name=""/>
                  <p:cNvSpPr/>
                  <p:nvPr/>
                </p:nvSpPr>
                <p:spPr>
                  <a:xfrm flipV="1">
                    <a:off x="3731040" y="15537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6" name=""/>
                  <p:cNvSpPr/>
                  <p:nvPr/>
                </p:nvSpPr>
                <p:spPr>
                  <a:xfrm flipV="1">
                    <a:off x="3742560" y="1524960"/>
                    <a:ext cx="61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7" name=""/>
                  <p:cNvSpPr/>
                  <p:nvPr/>
                </p:nvSpPr>
                <p:spPr>
                  <a:xfrm flipV="1">
                    <a:off x="3758760" y="15325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18" name=""/>
                <p:cNvGrpSpPr/>
                <p:nvPr/>
              </p:nvGrpSpPr>
              <p:grpSpPr>
                <a:xfrm>
                  <a:off x="3356280" y="1657080"/>
                  <a:ext cx="105480" cy="145080"/>
                  <a:chOff x="3356280" y="1657080"/>
                  <a:chExt cx="105480" cy="145080"/>
                </a:xfrm>
              </p:grpSpPr>
              <p:sp>
                <p:nvSpPr>
                  <p:cNvPr id="10919" name=""/>
                  <p:cNvSpPr/>
                  <p:nvPr/>
                </p:nvSpPr>
                <p:spPr>
                  <a:xfrm rot="20848800">
                    <a:off x="3369240" y="1663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0" name=""/>
                  <p:cNvSpPr/>
                  <p:nvPr/>
                </p:nvSpPr>
                <p:spPr>
                  <a:xfrm flipH="1" flipV="1">
                    <a:off x="3389760" y="1713600"/>
                    <a:ext cx="669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1" name=""/>
                  <p:cNvSpPr/>
                  <p:nvPr/>
                </p:nvSpPr>
                <p:spPr>
                  <a:xfrm flipH="1" flipV="1">
                    <a:off x="3426840" y="173520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2" name=""/>
                  <p:cNvSpPr/>
                  <p:nvPr/>
                </p:nvSpPr>
                <p:spPr>
                  <a:xfrm flipH="1" flipV="1">
                    <a:off x="3401280" y="17409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3" name=""/>
                  <p:cNvSpPr/>
                  <p:nvPr/>
                </p:nvSpPr>
                <p:spPr>
                  <a:xfrm flipH="1" flipV="1">
                    <a:off x="3401280" y="171720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24" name=""/>
                <p:cNvGrpSpPr/>
                <p:nvPr/>
              </p:nvGrpSpPr>
              <p:grpSpPr>
                <a:xfrm>
                  <a:off x="3369240" y="1556640"/>
                  <a:ext cx="128880" cy="152640"/>
                  <a:chOff x="3369240" y="1556640"/>
                  <a:chExt cx="128880" cy="152640"/>
                </a:xfrm>
              </p:grpSpPr>
              <p:sp>
                <p:nvSpPr>
                  <p:cNvPr id="10925" name=""/>
                  <p:cNvSpPr/>
                  <p:nvPr/>
                </p:nvSpPr>
                <p:spPr>
                  <a:xfrm rot="20009400">
                    <a:off x="3394080" y="15670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6" name=""/>
                  <p:cNvSpPr/>
                  <p:nvPr/>
                </p:nvSpPr>
                <p:spPr>
                  <a:xfrm flipH="1" flipV="1">
                    <a:off x="3411360" y="1621800"/>
                    <a:ext cx="79920" cy="44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7" name=""/>
                  <p:cNvSpPr/>
                  <p:nvPr/>
                </p:nvSpPr>
                <p:spPr>
                  <a:xfrm flipH="1" flipV="1">
                    <a:off x="3452400" y="163404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8" name=""/>
                  <p:cNvSpPr/>
                  <p:nvPr/>
                </p:nvSpPr>
                <p:spPr>
                  <a:xfrm flipH="1">
                    <a:off x="3428640" y="164412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9" name=""/>
                  <p:cNvSpPr/>
                  <p:nvPr/>
                </p:nvSpPr>
                <p:spPr>
                  <a:xfrm flipH="1" flipV="1">
                    <a:off x="3423240" y="1622880"/>
                    <a:ext cx="97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0" name=""/>
                <p:cNvGrpSpPr/>
                <p:nvPr/>
              </p:nvGrpSpPr>
              <p:grpSpPr>
                <a:xfrm>
                  <a:off x="3567240" y="1362960"/>
                  <a:ext cx="81000" cy="132480"/>
                  <a:chOff x="3567240" y="1362960"/>
                  <a:chExt cx="81000" cy="132480"/>
                </a:xfrm>
              </p:grpSpPr>
              <p:sp>
                <p:nvSpPr>
                  <p:cNvPr id="10931" name=""/>
                  <p:cNvSpPr/>
                  <p:nvPr/>
                </p:nvSpPr>
                <p:spPr>
                  <a:xfrm rot="60600">
                    <a:off x="3567960" y="1363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2" name=""/>
                  <p:cNvSpPr/>
                  <p:nvPr/>
                </p:nvSpPr>
                <p:spPr>
                  <a:xfrm flipH="1" flipV="1">
                    <a:off x="3592800" y="1409040"/>
                    <a:ext cx="5040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3" name=""/>
                  <p:cNvSpPr/>
                  <p:nvPr/>
                </p:nvSpPr>
                <p:spPr>
                  <a:xfrm flipH="1" flipV="1">
                    <a:off x="3623400" y="143856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4" name=""/>
                  <p:cNvSpPr/>
                  <p:nvPr/>
                </p:nvSpPr>
                <p:spPr>
                  <a:xfrm flipH="1" flipV="1">
                    <a:off x="3597120" y="14382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5" name=""/>
                  <p:cNvSpPr/>
                  <p:nvPr/>
                </p:nvSpPr>
                <p:spPr>
                  <a:xfrm flipH="1" flipV="1">
                    <a:off x="3602880" y="14151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36" name=""/>
                <p:cNvGrpSpPr/>
                <p:nvPr/>
              </p:nvGrpSpPr>
              <p:grpSpPr>
                <a:xfrm>
                  <a:off x="3478320" y="1369080"/>
                  <a:ext cx="115200" cy="149040"/>
                  <a:chOff x="3478320" y="1369080"/>
                  <a:chExt cx="115200" cy="149040"/>
                </a:xfrm>
              </p:grpSpPr>
              <p:sp>
                <p:nvSpPr>
                  <p:cNvPr id="10937" name=""/>
                  <p:cNvSpPr/>
                  <p:nvPr/>
                </p:nvSpPr>
                <p:spPr>
                  <a:xfrm rot="20532600">
                    <a:off x="3496320" y="13777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8" name=""/>
                  <p:cNvSpPr/>
                  <p:nvPr/>
                </p:nvSpPr>
                <p:spPr>
                  <a:xfrm flipH="1" flipV="1">
                    <a:off x="3515040" y="1428840"/>
                    <a:ext cx="7236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9" name=""/>
                  <p:cNvSpPr/>
                  <p:nvPr/>
                </p:nvSpPr>
                <p:spPr>
                  <a:xfrm flipH="1" flipV="1">
                    <a:off x="3553920" y="144720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0" name=""/>
                  <p:cNvSpPr/>
                  <p:nvPr/>
                </p:nvSpPr>
                <p:spPr>
                  <a:xfrm flipH="1" flipV="1">
                    <a:off x="3528720" y="145512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1" name=""/>
                  <p:cNvSpPr/>
                  <p:nvPr/>
                </p:nvSpPr>
                <p:spPr>
                  <a:xfrm flipH="1" flipV="1">
                    <a:off x="3526920" y="1431720"/>
                    <a:ext cx="82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2" name=""/>
                <p:cNvGrpSpPr/>
                <p:nvPr/>
              </p:nvGrpSpPr>
              <p:grpSpPr>
                <a:xfrm>
                  <a:off x="3497040" y="1471680"/>
                  <a:ext cx="98640" cy="141840"/>
                  <a:chOff x="3497040" y="1471680"/>
                  <a:chExt cx="98640" cy="141840"/>
                </a:xfrm>
              </p:grpSpPr>
              <p:sp>
                <p:nvSpPr>
                  <p:cNvPr id="10943" name=""/>
                  <p:cNvSpPr/>
                  <p:nvPr/>
                </p:nvSpPr>
                <p:spPr>
                  <a:xfrm rot="21052200">
                    <a:off x="3506760" y="14770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4" name=""/>
                  <p:cNvSpPr/>
                  <p:nvPr/>
                </p:nvSpPr>
                <p:spPr>
                  <a:xfrm flipH="1" flipV="1">
                    <a:off x="3528000" y="1525320"/>
                    <a:ext cx="630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5" name=""/>
                  <p:cNvSpPr/>
                  <p:nvPr/>
                </p:nvSpPr>
                <p:spPr>
                  <a:xfrm flipH="1" flipV="1">
                    <a:off x="3563640" y="154908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6" name=""/>
                  <p:cNvSpPr/>
                  <p:nvPr/>
                </p:nvSpPr>
                <p:spPr>
                  <a:xfrm flipH="1" flipV="1">
                    <a:off x="3537720" y="1553400"/>
                    <a:ext cx="16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7" name=""/>
                  <p:cNvSpPr/>
                  <p:nvPr/>
                </p:nvSpPr>
                <p:spPr>
                  <a:xfrm flipH="1" flipV="1">
                    <a:off x="3539160" y="1529640"/>
                    <a:ext cx="6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48" name=""/>
                <p:cNvGrpSpPr/>
                <p:nvPr/>
              </p:nvGrpSpPr>
              <p:grpSpPr>
                <a:xfrm>
                  <a:off x="3614400" y="1438200"/>
                  <a:ext cx="114120" cy="148680"/>
                  <a:chOff x="3614400" y="1438200"/>
                  <a:chExt cx="114120" cy="148680"/>
                </a:xfrm>
              </p:grpSpPr>
              <p:sp>
                <p:nvSpPr>
                  <p:cNvPr id="10949" name=""/>
                  <p:cNvSpPr/>
                  <p:nvPr/>
                </p:nvSpPr>
                <p:spPr>
                  <a:xfrm rot="1035600">
                    <a:off x="3632040" y="1446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0" name=""/>
                  <p:cNvSpPr/>
                  <p:nvPr/>
                </p:nvSpPr>
                <p:spPr>
                  <a:xfrm flipH="1" flipV="1">
                    <a:off x="3663000" y="1488600"/>
                    <a:ext cx="2700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1" name=""/>
                  <p:cNvSpPr/>
                  <p:nvPr/>
                </p:nvSpPr>
                <p:spPr>
                  <a:xfrm flipV="1">
                    <a:off x="3683880" y="152568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2" name=""/>
                  <p:cNvSpPr/>
                  <p:nvPr/>
                </p:nvSpPr>
                <p:spPr>
                  <a:xfrm flipH="1" flipV="1">
                    <a:off x="3659040" y="151776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3" name=""/>
                  <p:cNvSpPr/>
                  <p:nvPr/>
                </p:nvSpPr>
                <p:spPr>
                  <a:xfrm flipH="1" flipV="1">
                    <a:off x="3670920" y="149760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4" name=""/>
                <p:cNvGrpSpPr/>
                <p:nvPr/>
              </p:nvGrpSpPr>
              <p:grpSpPr>
                <a:xfrm>
                  <a:off x="3546360" y="1652760"/>
                  <a:ext cx="146520" cy="141840"/>
                  <a:chOff x="3546360" y="1652760"/>
                  <a:chExt cx="146520" cy="141840"/>
                </a:xfrm>
              </p:grpSpPr>
              <p:sp>
                <p:nvSpPr>
                  <p:cNvPr id="10955" name=""/>
                  <p:cNvSpPr/>
                  <p:nvPr/>
                </p:nvSpPr>
                <p:spPr>
                  <a:xfrm rot="3086400">
                    <a:off x="3575160" y="16650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6" name=""/>
                  <p:cNvSpPr/>
                  <p:nvPr/>
                </p:nvSpPr>
                <p:spPr>
                  <a:xfrm flipV="1">
                    <a:off x="3605760" y="1699200"/>
                    <a:ext cx="1692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7" name=""/>
                  <p:cNvSpPr/>
                  <p:nvPr/>
                </p:nvSpPr>
                <p:spPr>
                  <a:xfrm flipV="1">
                    <a:off x="3616200" y="1742760"/>
                    <a:ext cx="82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8" name=""/>
                  <p:cNvSpPr/>
                  <p:nvPr/>
                </p:nvSpPr>
                <p:spPr>
                  <a:xfrm flipH="1" flipV="1">
                    <a:off x="3606120" y="172008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9" name=""/>
                  <p:cNvSpPr/>
                  <p:nvPr/>
                </p:nvSpPr>
                <p:spPr>
                  <a:xfrm flipV="1">
                    <a:off x="3621960" y="171180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0" name=""/>
                <p:cNvGrpSpPr/>
                <p:nvPr/>
              </p:nvGrpSpPr>
              <p:grpSpPr>
                <a:xfrm>
                  <a:off x="3622320" y="1833840"/>
                  <a:ext cx="110520" cy="147240"/>
                  <a:chOff x="3622320" y="1833840"/>
                  <a:chExt cx="110520" cy="147240"/>
                </a:xfrm>
              </p:grpSpPr>
              <p:sp>
                <p:nvSpPr>
                  <p:cNvPr id="10961" name=""/>
                  <p:cNvSpPr/>
                  <p:nvPr/>
                </p:nvSpPr>
                <p:spPr>
                  <a:xfrm rot="9883800">
                    <a:off x="3637800" y="1841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2" name=""/>
                  <p:cNvSpPr/>
                  <p:nvPr/>
                </p:nvSpPr>
                <p:spPr>
                  <a:xfrm>
                    <a:off x="3628080" y="1863360"/>
                    <a:ext cx="69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3" name=""/>
                  <p:cNvSpPr/>
                  <p:nvPr/>
                </p:nvSpPr>
                <p:spPr>
                  <a:xfrm>
                    <a:off x="3650400" y="1887480"/>
                    <a:ext cx="97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4" name=""/>
                  <p:cNvSpPr/>
                  <p:nvPr/>
                </p:nvSpPr>
                <p:spPr>
                  <a:xfrm>
                    <a:off x="3668760" y="189468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5" name=""/>
                  <p:cNvSpPr/>
                  <p:nvPr/>
                </p:nvSpPr>
                <p:spPr>
                  <a:xfrm>
                    <a:off x="3678120" y="190980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66" name=""/>
                <p:cNvGrpSpPr/>
                <p:nvPr/>
              </p:nvGrpSpPr>
              <p:grpSpPr>
                <a:xfrm>
                  <a:off x="3531240" y="1906560"/>
                  <a:ext cx="106920" cy="145440"/>
                  <a:chOff x="3531240" y="1906560"/>
                  <a:chExt cx="106920" cy="145440"/>
                </a:xfrm>
              </p:grpSpPr>
              <p:sp>
                <p:nvSpPr>
                  <p:cNvPr id="10967" name=""/>
                  <p:cNvSpPr/>
                  <p:nvPr/>
                </p:nvSpPr>
                <p:spPr>
                  <a:xfrm rot="10003800">
                    <a:off x="3545280" y="1913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8" name=""/>
                  <p:cNvSpPr/>
                  <p:nvPr/>
                </p:nvSpPr>
                <p:spPr>
                  <a:xfrm>
                    <a:off x="3536280" y="1933560"/>
                    <a:ext cx="6768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9" name=""/>
                  <p:cNvSpPr/>
                  <p:nvPr/>
                </p:nvSpPr>
                <p:spPr>
                  <a:xfrm>
                    <a:off x="3557880" y="195840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0" name=""/>
                  <p:cNvSpPr/>
                  <p:nvPr/>
                </p:nvSpPr>
                <p:spPr>
                  <a:xfrm>
                    <a:off x="3575880" y="196596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1" name=""/>
                  <p:cNvSpPr/>
                  <p:nvPr/>
                </p:nvSpPr>
                <p:spPr>
                  <a:xfrm>
                    <a:off x="3584880" y="198180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2" name=""/>
                <p:cNvGrpSpPr/>
                <p:nvPr/>
              </p:nvGrpSpPr>
              <p:grpSpPr>
                <a:xfrm>
                  <a:off x="3423600" y="1647000"/>
                  <a:ext cx="145800" cy="135360"/>
                  <a:chOff x="3423600" y="1647000"/>
                  <a:chExt cx="145800" cy="135360"/>
                </a:xfrm>
              </p:grpSpPr>
              <p:sp>
                <p:nvSpPr>
                  <p:cNvPr id="10973" name=""/>
                  <p:cNvSpPr/>
                  <p:nvPr/>
                </p:nvSpPr>
                <p:spPr>
                  <a:xfrm rot="3576600">
                    <a:off x="3452040" y="16560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4" name=""/>
                  <p:cNvSpPr/>
                  <p:nvPr/>
                </p:nvSpPr>
                <p:spPr>
                  <a:xfrm flipV="1">
                    <a:off x="3474000" y="1690560"/>
                    <a:ext cx="2916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5" name=""/>
                  <p:cNvSpPr/>
                  <p:nvPr/>
                </p:nvSpPr>
                <p:spPr>
                  <a:xfrm flipV="1">
                    <a:off x="3488040" y="173412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6" name=""/>
                  <p:cNvSpPr/>
                  <p:nvPr/>
                </p:nvSpPr>
                <p:spPr>
                  <a:xfrm flipH="1" flipV="1">
                    <a:off x="3483720" y="1709280"/>
                    <a:ext cx="43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7" name=""/>
                  <p:cNvSpPr/>
                  <p:nvPr/>
                </p:nvSpPr>
                <p:spPr>
                  <a:xfrm flipV="1">
                    <a:off x="3498840" y="170388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78" name=""/>
                <p:cNvGrpSpPr/>
                <p:nvPr/>
              </p:nvGrpSpPr>
              <p:grpSpPr>
                <a:xfrm>
                  <a:off x="3451680" y="1488240"/>
                  <a:ext cx="150840" cy="145440"/>
                  <a:chOff x="3451680" y="1488240"/>
                  <a:chExt cx="150840" cy="145440"/>
                </a:xfrm>
              </p:grpSpPr>
              <p:sp>
                <p:nvSpPr>
                  <p:cNvPr id="10979" name=""/>
                  <p:cNvSpPr/>
                  <p:nvPr/>
                </p:nvSpPr>
                <p:spPr>
                  <a:xfrm rot="2940600">
                    <a:off x="3487320" y="1495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0" name=""/>
                  <p:cNvSpPr/>
                  <p:nvPr/>
                </p:nvSpPr>
                <p:spPr>
                  <a:xfrm flipV="1">
                    <a:off x="3509280" y="1536480"/>
                    <a:ext cx="230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1" name=""/>
                  <p:cNvSpPr/>
                  <p:nvPr/>
                </p:nvSpPr>
                <p:spPr>
                  <a:xfrm flipV="1">
                    <a:off x="3521160" y="1578960"/>
                    <a:ext cx="97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2" name=""/>
                  <p:cNvSpPr/>
                  <p:nvPr/>
                </p:nvSpPr>
                <p:spPr>
                  <a:xfrm flipH="1" flipV="1">
                    <a:off x="3513600" y="1559160"/>
                    <a:ext cx="57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3" name=""/>
                  <p:cNvSpPr/>
                  <p:nvPr/>
                </p:nvSpPr>
                <p:spPr>
                  <a:xfrm flipV="1">
                    <a:off x="3529080" y="154836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84" name=""/>
                <p:cNvGrpSpPr/>
                <p:nvPr/>
              </p:nvGrpSpPr>
              <p:grpSpPr>
                <a:xfrm>
                  <a:off x="3533040" y="1355760"/>
                  <a:ext cx="149040" cy="147600"/>
                  <a:chOff x="3533040" y="1355760"/>
                  <a:chExt cx="149040" cy="147600"/>
                </a:xfrm>
              </p:grpSpPr>
              <p:sp>
                <p:nvSpPr>
                  <p:cNvPr id="10985" name=""/>
                  <p:cNvSpPr/>
                  <p:nvPr/>
                </p:nvSpPr>
                <p:spPr>
                  <a:xfrm rot="2781000">
                    <a:off x="3567960" y="13636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6" name=""/>
                  <p:cNvSpPr/>
                  <p:nvPr/>
                </p:nvSpPr>
                <p:spPr>
                  <a:xfrm flipV="1">
                    <a:off x="3592800" y="1404360"/>
                    <a:ext cx="1872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7" name=""/>
                  <p:cNvSpPr/>
                  <p:nvPr/>
                </p:nvSpPr>
                <p:spPr>
                  <a:xfrm flipV="1">
                    <a:off x="3603240" y="144720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8" name=""/>
                  <p:cNvSpPr/>
                  <p:nvPr/>
                </p:nvSpPr>
                <p:spPr>
                  <a:xfrm flipH="1" flipV="1">
                    <a:off x="3593880" y="1428120"/>
                    <a:ext cx="648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9" name=""/>
                  <p:cNvSpPr/>
                  <p:nvPr/>
                </p:nvSpPr>
                <p:spPr>
                  <a:xfrm flipV="1">
                    <a:off x="3609360" y="141624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90" name=""/>
                <p:cNvGrpSpPr/>
                <p:nvPr/>
              </p:nvGrpSpPr>
              <p:grpSpPr>
                <a:xfrm>
                  <a:off x="3604320" y="1344240"/>
                  <a:ext cx="146160" cy="137880"/>
                  <a:chOff x="3604320" y="1344240"/>
                  <a:chExt cx="146160" cy="137880"/>
                </a:xfrm>
              </p:grpSpPr>
              <p:sp>
                <p:nvSpPr>
                  <p:cNvPr id="10991" name=""/>
                  <p:cNvSpPr/>
                  <p:nvPr/>
                </p:nvSpPr>
                <p:spPr>
                  <a:xfrm rot="3412800">
                    <a:off x="3633120" y="13543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2" name=""/>
                  <p:cNvSpPr/>
                  <p:nvPr/>
                </p:nvSpPr>
                <p:spPr>
                  <a:xfrm flipV="1">
                    <a:off x="3657600" y="1388520"/>
                    <a:ext cx="2484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3" name=""/>
                  <p:cNvSpPr/>
                  <p:nvPr/>
                </p:nvSpPr>
                <p:spPr>
                  <a:xfrm flipV="1">
                    <a:off x="3670560" y="1432080"/>
                    <a:ext cx="9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4" name=""/>
                  <p:cNvSpPr/>
                  <p:nvPr/>
                </p:nvSpPr>
                <p:spPr>
                  <a:xfrm flipH="1" flipV="1">
                    <a:off x="3664080" y="1407960"/>
                    <a:ext cx="54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5" name=""/>
                  <p:cNvSpPr/>
                  <p:nvPr/>
                </p:nvSpPr>
                <p:spPr>
                  <a:xfrm flipV="1">
                    <a:off x="3679560" y="140148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6" name=""/>
              <p:cNvGrpSpPr/>
              <p:nvPr/>
            </p:nvGrpSpPr>
            <p:grpSpPr>
              <a:xfrm>
                <a:off x="3407760" y="2984400"/>
                <a:ext cx="498960" cy="699480"/>
                <a:chOff x="3407760" y="2984400"/>
                <a:chExt cx="498960" cy="699480"/>
              </a:xfrm>
            </p:grpSpPr>
            <p:grpSp>
              <p:nvGrpSpPr>
                <p:cNvPr id="10997" name=""/>
                <p:cNvGrpSpPr/>
                <p:nvPr/>
              </p:nvGrpSpPr>
              <p:grpSpPr>
                <a:xfrm>
                  <a:off x="3704400" y="3240360"/>
                  <a:ext cx="150120" cy="146520"/>
                  <a:chOff x="3704400" y="3240360"/>
                  <a:chExt cx="150120" cy="146520"/>
                </a:xfrm>
              </p:grpSpPr>
              <p:sp>
                <p:nvSpPr>
                  <p:cNvPr id="10998" name=""/>
                  <p:cNvSpPr/>
                  <p:nvPr/>
                </p:nvSpPr>
                <p:spPr>
                  <a:xfrm rot="7935000">
                    <a:off x="3740040" y="3247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9" name=""/>
                  <p:cNvSpPr/>
                  <p:nvPr/>
                </p:nvSpPr>
                <p:spPr>
                  <a:xfrm>
                    <a:off x="3713760" y="3303360"/>
                    <a:ext cx="90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0" name=""/>
                  <p:cNvSpPr/>
                  <p:nvPr/>
                </p:nvSpPr>
                <p:spPr>
                  <a:xfrm>
                    <a:off x="3745440" y="3311640"/>
                    <a:ext cx="162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1" name=""/>
                  <p:cNvSpPr/>
                  <p:nvPr/>
                </p:nvSpPr>
                <p:spPr>
                  <a:xfrm flipV="1">
                    <a:off x="3764880" y="330012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2" name=""/>
                  <p:cNvSpPr/>
                  <p:nvPr/>
                </p:nvSpPr>
                <p:spPr>
                  <a:xfrm>
                    <a:off x="3781080" y="3315600"/>
                    <a:ext cx="1188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03" name=""/>
                <p:cNvSpPr/>
                <p:nvPr/>
              </p:nvSpPr>
              <p:spPr>
                <a:xfrm flipH="1" flipV="1">
                  <a:off x="3555720" y="3309120"/>
                  <a:ext cx="104040" cy="170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4" name=""/>
                <p:cNvSpPr/>
                <p:nvPr/>
              </p:nvSpPr>
              <p:spPr>
                <a:xfrm rot="4120200">
                  <a:off x="3357720" y="329220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5" name=""/>
                <p:cNvSpPr/>
                <p:nvPr/>
              </p:nvSpPr>
              <p:spPr>
                <a:xfrm flipV="1">
                  <a:off x="3659400" y="3214080"/>
                  <a:ext cx="85680" cy="117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6" name=""/>
                <p:cNvSpPr/>
                <p:nvPr/>
              </p:nvSpPr>
              <p:spPr>
                <a:xfrm flipV="1">
                  <a:off x="3596400" y="3465720"/>
                  <a:ext cx="153000" cy="18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7" name=""/>
                <p:cNvSpPr/>
                <p:nvPr/>
              </p:nvSpPr>
              <p:spPr>
                <a:xfrm flipH="1" flipV="1">
                  <a:off x="3561120" y="3370680"/>
                  <a:ext cx="4644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8" name=""/>
                <p:cNvSpPr/>
                <p:nvPr/>
              </p:nvSpPr>
              <p:spPr>
                <a:xfrm flipH="1" flipV="1">
                  <a:off x="3640680" y="3380760"/>
                  <a:ext cx="504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9" name=""/>
                <p:cNvSpPr/>
                <p:nvPr/>
              </p:nvSpPr>
              <p:spPr>
                <a:xfrm flipV="1">
                  <a:off x="3693600" y="3183480"/>
                  <a:ext cx="20160" cy="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0" name=""/>
                <p:cNvSpPr/>
                <p:nvPr/>
              </p:nvSpPr>
              <p:spPr>
                <a:xfrm flipV="1">
                  <a:off x="3684960" y="3300480"/>
                  <a:ext cx="5616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1" name=""/>
                <p:cNvSpPr/>
                <p:nvPr/>
              </p:nvSpPr>
              <p:spPr>
                <a:xfrm flipH="1" flipV="1">
                  <a:off x="3578040" y="3173400"/>
                  <a:ext cx="54000" cy="4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2" name=""/>
                <p:cNvSpPr/>
                <p:nvPr/>
              </p:nvSpPr>
              <p:spPr>
                <a:xfrm flipV="1">
                  <a:off x="3672000" y="3399120"/>
                  <a:ext cx="31680" cy="160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3" name=""/>
                <p:cNvSpPr/>
                <p:nvPr/>
              </p:nvSpPr>
              <p:spPr>
                <a:xfrm flipV="1">
                  <a:off x="3692880" y="3435480"/>
                  <a:ext cx="2520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4" name=""/>
                <p:cNvSpPr/>
                <p:nvPr/>
              </p:nvSpPr>
              <p:spPr>
                <a:xfrm flipV="1">
                  <a:off x="3647160" y="3582720"/>
                  <a:ext cx="7200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5" name=""/>
                <p:cNvSpPr/>
                <p:nvPr/>
              </p:nvSpPr>
              <p:spPr>
                <a:xfrm flipV="1">
                  <a:off x="3723480" y="3477960"/>
                  <a:ext cx="489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6" name=""/>
                <p:cNvSpPr/>
                <p:nvPr/>
              </p:nvSpPr>
              <p:spPr>
                <a:xfrm flipH="1" flipV="1">
                  <a:off x="3587040" y="3486240"/>
                  <a:ext cx="45000" cy="66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7" name=""/>
                <p:cNvSpPr/>
                <p:nvPr/>
              </p:nvSpPr>
              <p:spPr>
                <a:xfrm flipH="1" flipV="1">
                  <a:off x="3607200" y="3246840"/>
                  <a:ext cx="37440" cy="48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8" name=""/>
                <p:cNvSpPr/>
                <p:nvPr/>
              </p:nvSpPr>
              <p:spPr>
                <a:xfrm flipV="1">
                  <a:off x="3634560" y="3141720"/>
                  <a:ext cx="2520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19" name=""/>
                <p:cNvGrpSpPr/>
                <p:nvPr/>
              </p:nvGrpSpPr>
              <p:grpSpPr>
                <a:xfrm>
                  <a:off x="3726000" y="3150000"/>
                  <a:ext cx="128160" cy="103320"/>
                  <a:chOff x="3726000" y="3150000"/>
                  <a:chExt cx="128160" cy="103320"/>
                </a:xfrm>
              </p:grpSpPr>
              <p:sp>
                <p:nvSpPr>
                  <p:cNvPr id="11020" name=""/>
                  <p:cNvSpPr/>
                  <p:nvPr/>
                </p:nvSpPr>
                <p:spPr>
                  <a:xfrm rot="5865000">
                    <a:off x="3745800" y="3142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1" name=""/>
                  <p:cNvSpPr/>
                  <p:nvPr/>
                </p:nvSpPr>
                <p:spPr>
                  <a:xfrm flipV="1">
                    <a:off x="3735360" y="3186360"/>
                    <a:ext cx="74880" cy="48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2" name=""/>
                  <p:cNvSpPr/>
                  <p:nvPr/>
                </p:nvSpPr>
                <p:spPr>
                  <a:xfrm flipV="1">
                    <a:off x="3763440" y="321804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3" name=""/>
                  <p:cNvSpPr/>
                  <p:nvPr/>
                </p:nvSpPr>
                <p:spPr>
                  <a:xfrm flipV="1">
                    <a:off x="3776040" y="3188880"/>
                    <a:ext cx="72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4" name=""/>
                  <p:cNvSpPr/>
                  <p:nvPr/>
                </p:nvSpPr>
                <p:spPr>
                  <a:xfrm flipV="1">
                    <a:off x="3792240" y="3197880"/>
                    <a:ext cx="111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25" name=""/>
                <p:cNvGrpSpPr/>
                <p:nvPr/>
              </p:nvGrpSpPr>
              <p:grpSpPr>
                <a:xfrm>
                  <a:off x="3575520" y="3247920"/>
                  <a:ext cx="145440" cy="145440"/>
                  <a:chOff x="3575520" y="3247920"/>
                  <a:chExt cx="145440" cy="145440"/>
                </a:xfrm>
              </p:grpSpPr>
              <p:sp>
                <p:nvSpPr>
                  <p:cNvPr id="11026" name=""/>
                  <p:cNvSpPr/>
                  <p:nvPr/>
                </p:nvSpPr>
                <p:spPr>
                  <a:xfrm rot="2706600">
                    <a:off x="3603960" y="32616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7" name=""/>
                  <p:cNvSpPr/>
                  <p:nvPr/>
                </p:nvSpPr>
                <p:spPr>
                  <a:xfrm flipV="1">
                    <a:off x="3641400" y="3295440"/>
                    <a:ext cx="720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8" name=""/>
                  <p:cNvSpPr/>
                  <p:nvPr/>
                </p:nvSpPr>
                <p:spPr>
                  <a:xfrm flipV="1">
                    <a:off x="3648240" y="333864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9" name=""/>
                  <p:cNvSpPr/>
                  <p:nvPr/>
                </p:nvSpPr>
                <p:spPr>
                  <a:xfrm flipH="1" flipV="1">
                    <a:off x="3634200" y="331848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0" name=""/>
                  <p:cNvSpPr/>
                  <p:nvPr/>
                </p:nvSpPr>
                <p:spPr>
                  <a:xfrm flipV="1">
                    <a:off x="3650400" y="330768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1" name=""/>
                <p:cNvGrpSpPr/>
                <p:nvPr/>
              </p:nvGrpSpPr>
              <p:grpSpPr>
                <a:xfrm>
                  <a:off x="3664440" y="3287520"/>
                  <a:ext cx="141120" cy="124560"/>
                  <a:chOff x="3664440" y="3287520"/>
                  <a:chExt cx="141120" cy="124560"/>
                </a:xfrm>
              </p:grpSpPr>
              <p:sp>
                <p:nvSpPr>
                  <p:cNvPr id="11032" name=""/>
                  <p:cNvSpPr/>
                  <p:nvPr/>
                </p:nvSpPr>
                <p:spPr>
                  <a:xfrm rot="4120200">
                    <a:off x="3690720" y="32911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3" name=""/>
                  <p:cNvSpPr/>
                  <p:nvPr/>
                </p:nvSpPr>
                <p:spPr>
                  <a:xfrm flipV="1">
                    <a:off x="3703320" y="3327120"/>
                    <a:ext cx="4212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4" name=""/>
                  <p:cNvSpPr/>
                  <p:nvPr/>
                </p:nvSpPr>
                <p:spPr>
                  <a:xfrm flipV="1">
                    <a:off x="3722040" y="33692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5" name=""/>
                  <p:cNvSpPr/>
                  <p:nvPr/>
                </p:nvSpPr>
                <p:spPr>
                  <a:xfrm flipH="1" flipV="1">
                    <a:off x="3723480" y="3342240"/>
                    <a:ext cx="1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6" name=""/>
                  <p:cNvSpPr/>
                  <p:nvPr/>
                </p:nvSpPr>
                <p:spPr>
                  <a:xfrm flipV="1">
                    <a:off x="3737880" y="334044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37" name=""/>
                <p:cNvGrpSpPr/>
                <p:nvPr/>
              </p:nvGrpSpPr>
              <p:grpSpPr>
                <a:xfrm>
                  <a:off x="3434040" y="3198240"/>
                  <a:ext cx="131760" cy="153000"/>
                  <a:chOff x="3434040" y="3198240"/>
                  <a:chExt cx="131760" cy="153000"/>
                </a:xfrm>
              </p:grpSpPr>
              <p:sp>
                <p:nvSpPr>
                  <p:cNvPr id="11038" name=""/>
                  <p:cNvSpPr/>
                  <p:nvPr/>
                </p:nvSpPr>
                <p:spPr>
                  <a:xfrm rot="19889400">
                    <a:off x="3460320" y="32090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9" name=""/>
                  <p:cNvSpPr/>
                  <p:nvPr/>
                </p:nvSpPr>
                <p:spPr>
                  <a:xfrm flipH="1" flipV="1">
                    <a:off x="3476880" y="3264120"/>
                    <a:ext cx="81720" cy="41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0" name=""/>
                  <p:cNvSpPr/>
                  <p:nvPr/>
                </p:nvSpPr>
                <p:spPr>
                  <a:xfrm flipH="1" flipV="1">
                    <a:off x="3518280" y="3274920"/>
                    <a:ext cx="12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1" name=""/>
                  <p:cNvSpPr/>
                  <p:nvPr/>
                </p:nvSpPr>
                <p:spPr>
                  <a:xfrm flipH="1">
                    <a:off x="3495240" y="3285000"/>
                    <a:ext cx="162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2" name=""/>
                  <p:cNvSpPr/>
                  <p:nvPr/>
                </p:nvSpPr>
                <p:spPr>
                  <a:xfrm flipH="1" flipV="1">
                    <a:off x="3489120" y="3264480"/>
                    <a:ext cx="97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43" name=""/>
                <p:cNvGrpSpPr/>
                <p:nvPr/>
              </p:nvGrpSpPr>
              <p:grpSpPr>
                <a:xfrm>
                  <a:off x="3619800" y="3030480"/>
                  <a:ext cx="141480" cy="124920"/>
                  <a:chOff x="3619800" y="3030480"/>
                  <a:chExt cx="141480" cy="124920"/>
                </a:xfrm>
              </p:grpSpPr>
              <p:sp>
                <p:nvSpPr>
                  <p:cNvPr id="11044" name=""/>
                  <p:cNvSpPr/>
                  <p:nvPr/>
                </p:nvSpPr>
                <p:spPr>
                  <a:xfrm rot="4120200">
                    <a:off x="3646440" y="3034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5" name=""/>
                  <p:cNvSpPr/>
                  <p:nvPr/>
                </p:nvSpPr>
                <p:spPr>
                  <a:xfrm flipV="1">
                    <a:off x="3659400" y="3070080"/>
                    <a:ext cx="4176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6" name=""/>
                  <p:cNvSpPr/>
                  <p:nvPr/>
                </p:nvSpPr>
                <p:spPr>
                  <a:xfrm flipV="1">
                    <a:off x="3677760" y="31122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7" name=""/>
                  <p:cNvSpPr/>
                  <p:nvPr/>
                </p:nvSpPr>
                <p:spPr>
                  <a:xfrm flipH="1" flipV="1">
                    <a:off x="3678840" y="308520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8" name=""/>
                  <p:cNvSpPr/>
                  <p:nvPr/>
                </p:nvSpPr>
                <p:spPr>
                  <a:xfrm flipV="1">
                    <a:off x="3693240" y="30834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49" name=""/>
                <p:cNvGrpSpPr/>
                <p:nvPr/>
              </p:nvGrpSpPr>
              <p:grpSpPr>
                <a:xfrm>
                  <a:off x="3709080" y="3354480"/>
                  <a:ext cx="141480" cy="124920"/>
                  <a:chOff x="3709080" y="3354480"/>
                  <a:chExt cx="141480" cy="124920"/>
                </a:xfrm>
              </p:grpSpPr>
              <p:sp>
                <p:nvSpPr>
                  <p:cNvPr id="11050" name=""/>
                  <p:cNvSpPr/>
                  <p:nvPr/>
                </p:nvSpPr>
                <p:spPr>
                  <a:xfrm rot="4120200">
                    <a:off x="3735720" y="33580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1" name=""/>
                  <p:cNvSpPr/>
                  <p:nvPr/>
                </p:nvSpPr>
                <p:spPr>
                  <a:xfrm flipV="1">
                    <a:off x="3748320" y="3394080"/>
                    <a:ext cx="4212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2" name=""/>
                  <p:cNvSpPr/>
                  <p:nvPr/>
                </p:nvSpPr>
                <p:spPr>
                  <a:xfrm flipV="1">
                    <a:off x="3766680" y="34362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3" name=""/>
                  <p:cNvSpPr/>
                  <p:nvPr/>
                </p:nvSpPr>
                <p:spPr>
                  <a:xfrm flipH="1" flipV="1">
                    <a:off x="3768120" y="3409200"/>
                    <a:ext cx="1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4" name=""/>
                  <p:cNvSpPr/>
                  <p:nvPr/>
                </p:nvSpPr>
                <p:spPr>
                  <a:xfrm flipV="1">
                    <a:off x="3782520" y="3407040"/>
                    <a:ext cx="7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5" name=""/>
                <p:cNvGrpSpPr/>
                <p:nvPr/>
              </p:nvGrpSpPr>
              <p:grpSpPr>
                <a:xfrm>
                  <a:off x="3674520" y="3072600"/>
                  <a:ext cx="141120" cy="124560"/>
                  <a:chOff x="3674520" y="3072600"/>
                  <a:chExt cx="141120" cy="124560"/>
                </a:xfrm>
              </p:grpSpPr>
              <p:sp>
                <p:nvSpPr>
                  <p:cNvPr id="11056" name=""/>
                  <p:cNvSpPr/>
                  <p:nvPr/>
                </p:nvSpPr>
                <p:spPr>
                  <a:xfrm rot="4120200">
                    <a:off x="3700800" y="30762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7" name=""/>
                  <p:cNvSpPr/>
                  <p:nvPr/>
                </p:nvSpPr>
                <p:spPr>
                  <a:xfrm flipV="1">
                    <a:off x="3713760" y="3112200"/>
                    <a:ext cx="4176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8" name=""/>
                  <p:cNvSpPr/>
                  <p:nvPr/>
                </p:nvSpPr>
                <p:spPr>
                  <a:xfrm flipV="1">
                    <a:off x="3732120" y="3154320"/>
                    <a:ext cx="126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9" name=""/>
                  <p:cNvSpPr/>
                  <p:nvPr/>
                </p:nvSpPr>
                <p:spPr>
                  <a:xfrm flipH="1" flipV="1">
                    <a:off x="3733560" y="3127320"/>
                    <a:ext cx="18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0" name=""/>
                  <p:cNvSpPr/>
                  <p:nvPr/>
                </p:nvSpPr>
                <p:spPr>
                  <a:xfrm flipV="1">
                    <a:off x="3747960" y="3125160"/>
                    <a:ext cx="7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1" name=""/>
                <p:cNvGrpSpPr/>
                <p:nvPr/>
              </p:nvGrpSpPr>
              <p:grpSpPr>
                <a:xfrm>
                  <a:off x="3443760" y="3382920"/>
                  <a:ext cx="142920" cy="151920"/>
                  <a:chOff x="3443760" y="3382920"/>
                  <a:chExt cx="142920" cy="151920"/>
                </a:xfrm>
              </p:grpSpPr>
              <p:sp>
                <p:nvSpPr>
                  <p:cNvPr id="11062" name=""/>
                  <p:cNvSpPr/>
                  <p:nvPr/>
                </p:nvSpPr>
                <p:spPr>
                  <a:xfrm rot="19318200">
                    <a:off x="3475440" y="33930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3" name=""/>
                  <p:cNvSpPr/>
                  <p:nvPr/>
                </p:nvSpPr>
                <p:spPr>
                  <a:xfrm flipH="1" flipV="1">
                    <a:off x="3490920" y="3452400"/>
                    <a:ext cx="8748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4" name=""/>
                  <p:cNvSpPr/>
                  <p:nvPr/>
                </p:nvSpPr>
                <p:spPr>
                  <a:xfrm flipH="1" flipV="1">
                    <a:off x="3533760" y="3456000"/>
                    <a:ext cx="144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5" name=""/>
                  <p:cNvSpPr/>
                  <p:nvPr/>
                </p:nvSpPr>
                <p:spPr>
                  <a:xfrm flipH="1">
                    <a:off x="3512880" y="346716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6" name=""/>
                  <p:cNvSpPr/>
                  <p:nvPr/>
                </p:nvSpPr>
                <p:spPr>
                  <a:xfrm flipH="1" flipV="1">
                    <a:off x="3502800" y="34506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7" name=""/>
                <p:cNvGrpSpPr/>
                <p:nvPr/>
              </p:nvGrpSpPr>
              <p:grpSpPr>
                <a:xfrm>
                  <a:off x="3420000" y="3289320"/>
                  <a:ext cx="151920" cy="142920"/>
                  <a:chOff x="3420000" y="3289320"/>
                  <a:chExt cx="151920" cy="142920"/>
                </a:xfrm>
              </p:grpSpPr>
              <p:sp>
                <p:nvSpPr>
                  <p:cNvPr id="11068" name=""/>
                  <p:cNvSpPr/>
                  <p:nvPr/>
                </p:nvSpPr>
                <p:spPr>
                  <a:xfrm rot="18478800">
                    <a:off x="3456360" y="32950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9" name=""/>
                  <p:cNvSpPr/>
                  <p:nvPr/>
                </p:nvSpPr>
                <p:spPr>
                  <a:xfrm flipH="1" flipV="1">
                    <a:off x="3470760" y="3360240"/>
                    <a:ext cx="914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0" name=""/>
                  <p:cNvSpPr/>
                  <p:nvPr/>
                </p:nvSpPr>
                <p:spPr>
                  <a:xfrm flipH="1" flipV="1">
                    <a:off x="3512880" y="3353760"/>
                    <a:ext cx="169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1" name=""/>
                  <p:cNvSpPr/>
                  <p:nvPr/>
                </p:nvSpPr>
                <p:spPr>
                  <a:xfrm flipH="1">
                    <a:off x="3497040" y="336564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2" name=""/>
                  <p:cNvSpPr/>
                  <p:nvPr/>
                </p:nvSpPr>
                <p:spPr>
                  <a:xfrm flipH="1" flipV="1">
                    <a:off x="3481920" y="3355920"/>
                    <a:ext cx="122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73" name=""/>
                <p:cNvGrpSpPr/>
                <p:nvPr/>
              </p:nvGrpSpPr>
              <p:grpSpPr>
                <a:xfrm>
                  <a:off x="3502080" y="3025800"/>
                  <a:ext cx="126000" cy="151920"/>
                  <a:chOff x="3502080" y="3025800"/>
                  <a:chExt cx="126000" cy="151920"/>
                </a:xfrm>
              </p:grpSpPr>
              <p:sp>
                <p:nvSpPr>
                  <p:cNvPr id="11074" name=""/>
                  <p:cNvSpPr/>
                  <p:nvPr/>
                </p:nvSpPr>
                <p:spPr>
                  <a:xfrm rot="20130000">
                    <a:off x="3525480" y="30362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5" name=""/>
                  <p:cNvSpPr/>
                  <p:nvPr/>
                </p:nvSpPr>
                <p:spPr>
                  <a:xfrm flipH="1" flipV="1">
                    <a:off x="3542760" y="3089880"/>
                    <a:ext cx="7848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6" name=""/>
                  <p:cNvSpPr/>
                  <p:nvPr/>
                </p:nvSpPr>
                <p:spPr>
                  <a:xfrm flipH="1" flipV="1">
                    <a:off x="3583440" y="3103560"/>
                    <a:ext cx="1188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7" name=""/>
                  <p:cNvSpPr/>
                  <p:nvPr/>
                </p:nvSpPr>
                <p:spPr>
                  <a:xfrm flipH="1">
                    <a:off x="3559320" y="31132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8" name=""/>
                  <p:cNvSpPr/>
                  <p:nvPr/>
                </p:nvSpPr>
                <p:spPr>
                  <a:xfrm flipH="1" flipV="1">
                    <a:off x="3555000" y="3091320"/>
                    <a:ext cx="936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79" name=""/>
                <p:cNvGrpSpPr/>
                <p:nvPr/>
              </p:nvGrpSpPr>
              <p:grpSpPr>
                <a:xfrm>
                  <a:off x="3432960" y="3071160"/>
                  <a:ext cx="147240" cy="149400"/>
                  <a:chOff x="3432960" y="3071160"/>
                  <a:chExt cx="147240" cy="149400"/>
                </a:xfrm>
              </p:grpSpPr>
              <p:sp>
                <p:nvSpPr>
                  <p:cNvPr id="11080" name=""/>
                  <p:cNvSpPr/>
                  <p:nvPr/>
                </p:nvSpPr>
                <p:spPr>
                  <a:xfrm rot="19002000">
                    <a:off x="3467160" y="3080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1" name=""/>
                  <p:cNvSpPr/>
                  <p:nvPr/>
                </p:nvSpPr>
                <p:spPr>
                  <a:xfrm flipH="1" flipV="1">
                    <a:off x="3481560" y="3141360"/>
                    <a:ext cx="89640" cy="19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2" name=""/>
                  <p:cNvSpPr/>
                  <p:nvPr/>
                </p:nvSpPr>
                <p:spPr>
                  <a:xfrm flipH="1" flipV="1">
                    <a:off x="3524400" y="3141360"/>
                    <a:ext cx="154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3" name=""/>
                  <p:cNvSpPr/>
                  <p:nvPr/>
                </p:nvSpPr>
                <p:spPr>
                  <a:xfrm flipH="1">
                    <a:off x="3504960" y="315288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4" name=""/>
                  <p:cNvSpPr/>
                  <p:nvPr/>
                </p:nvSpPr>
                <p:spPr>
                  <a:xfrm flipH="1" flipV="1">
                    <a:off x="3493080" y="313884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85" name=""/>
                <p:cNvGrpSpPr/>
                <p:nvPr/>
              </p:nvGrpSpPr>
              <p:grpSpPr>
                <a:xfrm>
                  <a:off x="3488760" y="3154320"/>
                  <a:ext cx="139320" cy="152640"/>
                  <a:chOff x="3488760" y="3154320"/>
                  <a:chExt cx="139320" cy="152640"/>
                </a:xfrm>
              </p:grpSpPr>
              <p:sp>
                <p:nvSpPr>
                  <p:cNvPr id="11086" name=""/>
                  <p:cNvSpPr/>
                  <p:nvPr/>
                </p:nvSpPr>
                <p:spPr>
                  <a:xfrm rot="19521600">
                    <a:off x="3519000" y="31651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7" name=""/>
                  <p:cNvSpPr/>
                  <p:nvPr/>
                </p:nvSpPr>
                <p:spPr>
                  <a:xfrm flipH="1" flipV="1">
                    <a:off x="3534480" y="3223080"/>
                    <a:ext cx="85680" cy="32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8" name=""/>
                  <p:cNvSpPr/>
                  <p:nvPr/>
                </p:nvSpPr>
                <p:spPr>
                  <a:xfrm flipH="1" flipV="1">
                    <a:off x="3576960" y="3229200"/>
                    <a:ext cx="140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9" name=""/>
                  <p:cNvSpPr/>
                  <p:nvPr/>
                </p:nvSpPr>
                <p:spPr>
                  <a:xfrm flipH="1">
                    <a:off x="3555360" y="3240000"/>
                    <a:ext cx="1584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0" name=""/>
                  <p:cNvSpPr/>
                  <p:nvPr/>
                </p:nvSpPr>
                <p:spPr>
                  <a:xfrm flipH="1" flipV="1">
                    <a:off x="3546720" y="3222000"/>
                    <a:ext cx="104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91" name=""/>
                <p:cNvGrpSpPr/>
                <p:nvPr/>
              </p:nvGrpSpPr>
              <p:grpSpPr>
                <a:xfrm>
                  <a:off x="3610080" y="3079080"/>
                  <a:ext cx="96840" cy="140760"/>
                  <a:chOff x="3610080" y="3079080"/>
                  <a:chExt cx="96840" cy="140760"/>
                </a:xfrm>
              </p:grpSpPr>
              <p:sp>
                <p:nvSpPr>
                  <p:cNvPr id="11092" name=""/>
                  <p:cNvSpPr/>
                  <p:nvPr/>
                </p:nvSpPr>
                <p:spPr>
                  <a:xfrm rot="21105000">
                    <a:off x="3618720" y="30837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3" name=""/>
                  <p:cNvSpPr/>
                  <p:nvPr/>
                </p:nvSpPr>
                <p:spPr>
                  <a:xfrm flipH="1" flipV="1">
                    <a:off x="3640680" y="3131640"/>
                    <a:ext cx="61920" cy="67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4" name=""/>
                  <p:cNvSpPr/>
                  <p:nvPr/>
                </p:nvSpPr>
                <p:spPr>
                  <a:xfrm flipH="1" flipV="1">
                    <a:off x="3675600" y="315612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5" name=""/>
                  <p:cNvSpPr/>
                  <p:nvPr/>
                </p:nvSpPr>
                <p:spPr>
                  <a:xfrm flipH="1" flipV="1">
                    <a:off x="3649680" y="315972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6" name=""/>
                  <p:cNvSpPr/>
                  <p:nvPr/>
                </p:nvSpPr>
                <p:spPr>
                  <a:xfrm flipH="1" flipV="1">
                    <a:off x="3651840" y="3136320"/>
                    <a:ext cx="648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97" name=""/>
                <p:cNvGrpSpPr/>
                <p:nvPr/>
              </p:nvGrpSpPr>
              <p:grpSpPr>
                <a:xfrm>
                  <a:off x="3637440" y="3290760"/>
                  <a:ext cx="130320" cy="143640"/>
                  <a:chOff x="3637440" y="3290760"/>
                  <a:chExt cx="130320" cy="143640"/>
                </a:xfrm>
              </p:grpSpPr>
              <p:sp>
                <p:nvSpPr>
                  <p:cNvPr id="11098" name=""/>
                  <p:cNvSpPr/>
                  <p:nvPr/>
                </p:nvSpPr>
                <p:spPr>
                  <a:xfrm rot="1555800">
                    <a:off x="3658320" y="330408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9" name=""/>
                  <p:cNvSpPr/>
                  <p:nvPr/>
                </p:nvSpPr>
                <p:spPr>
                  <a:xfrm flipH="1" flipV="1">
                    <a:off x="3694680" y="3339000"/>
                    <a:ext cx="2268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0" name=""/>
                  <p:cNvSpPr/>
                  <p:nvPr/>
                </p:nvSpPr>
                <p:spPr>
                  <a:xfrm flipV="1">
                    <a:off x="3713760" y="3377520"/>
                    <a:ext cx="14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1" name=""/>
                  <p:cNvSpPr/>
                  <p:nvPr/>
                </p:nvSpPr>
                <p:spPr>
                  <a:xfrm flipH="1" flipV="1">
                    <a:off x="3688920" y="3364920"/>
                    <a:ext cx="13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2" name=""/>
                  <p:cNvSpPr/>
                  <p:nvPr/>
                </p:nvSpPr>
                <p:spPr>
                  <a:xfrm flipH="1" flipV="1">
                    <a:off x="3703680" y="3348720"/>
                    <a:ext cx="7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3" name=""/>
                <p:cNvGrpSpPr/>
                <p:nvPr/>
              </p:nvGrpSpPr>
              <p:grpSpPr>
                <a:xfrm>
                  <a:off x="3761280" y="3427560"/>
                  <a:ext cx="145440" cy="150840"/>
                  <a:chOff x="3761280" y="3427560"/>
                  <a:chExt cx="145440" cy="150840"/>
                </a:xfrm>
              </p:grpSpPr>
              <p:sp>
                <p:nvSpPr>
                  <p:cNvPr id="11104" name=""/>
                  <p:cNvSpPr/>
                  <p:nvPr/>
                </p:nvSpPr>
                <p:spPr>
                  <a:xfrm rot="8353200">
                    <a:off x="3794400" y="3437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5" name=""/>
                  <p:cNvSpPr/>
                  <p:nvPr/>
                </p:nvSpPr>
                <p:spPr>
                  <a:xfrm>
                    <a:off x="3770280" y="3485160"/>
                    <a:ext cx="8892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6" name=""/>
                  <p:cNvSpPr/>
                  <p:nvPr/>
                </p:nvSpPr>
                <p:spPr>
                  <a:xfrm>
                    <a:off x="3801240" y="3497040"/>
                    <a:ext cx="151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7" name=""/>
                  <p:cNvSpPr/>
                  <p:nvPr/>
                </p:nvSpPr>
                <p:spPr>
                  <a:xfrm flipV="1">
                    <a:off x="3820680" y="34894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8" name=""/>
                  <p:cNvSpPr/>
                  <p:nvPr/>
                </p:nvSpPr>
                <p:spPr>
                  <a:xfrm>
                    <a:off x="3835800" y="3505320"/>
                    <a:ext cx="1152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09" name=""/>
                <p:cNvGrpSpPr/>
                <p:nvPr/>
              </p:nvGrpSpPr>
              <p:grpSpPr>
                <a:xfrm>
                  <a:off x="3709440" y="3532320"/>
                  <a:ext cx="143640" cy="151560"/>
                  <a:chOff x="3709440" y="3532320"/>
                  <a:chExt cx="143640" cy="151560"/>
                </a:xfrm>
              </p:grpSpPr>
              <p:sp>
                <p:nvSpPr>
                  <p:cNvPr id="11110" name=""/>
                  <p:cNvSpPr/>
                  <p:nvPr/>
                </p:nvSpPr>
                <p:spPr>
                  <a:xfrm rot="8473200">
                    <a:off x="3741840" y="35424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1" name=""/>
                  <p:cNvSpPr/>
                  <p:nvPr/>
                </p:nvSpPr>
                <p:spPr>
                  <a:xfrm>
                    <a:off x="3717720" y="3587760"/>
                    <a:ext cx="8784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2" name=""/>
                  <p:cNvSpPr/>
                  <p:nvPr/>
                </p:nvSpPr>
                <p:spPr>
                  <a:xfrm>
                    <a:off x="3748320" y="3601080"/>
                    <a:ext cx="14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3" name=""/>
                  <p:cNvSpPr/>
                  <p:nvPr/>
                </p:nvSpPr>
                <p:spPr>
                  <a:xfrm flipV="1">
                    <a:off x="3767760" y="3594600"/>
                    <a:ext cx="154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4" name=""/>
                  <p:cNvSpPr/>
                  <p:nvPr/>
                </p:nvSpPr>
                <p:spPr>
                  <a:xfrm>
                    <a:off x="3782520" y="3610440"/>
                    <a:ext cx="1116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15" name=""/>
                <p:cNvGrpSpPr/>
                <p:nvPr/>
              </p:nvGrpSpPr>
              <p:grpSpPr>
                <a:xfrm>
                  <a:off x="3518280" y="3334320"/>
                  <a:ext cx="138960" cy="146520"/>
                  <a:chOff x="3518280" y="3334320"/>
                  <a:chExt cx="138960" cy="146520"/>
                </a:xfrm>
              </p:grpSpPr>
              <p:sp>
                <p:nvSpPr>
                  <p:cNvPr id="11116" name=""/>
                  <p:cNvSpPr/>
                  <p:nvPr/>
                </p:nvSpPr>
                <p:spPr>
                  <a:xfrm rot="2046000">
                    <a:off x="3543480" y="33487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7" name=""/>
                  <p:cNvSpPr/>
                  <p:nvPr/>
                </p:nvSpPr>
                <p:spPr>
                  <a:xfrm flipH="1" flipV="1">
                    <a:off x="3583440" y="3382920"/>
                    <a:ext cx="1008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8" name=""/>
                  <p:cNvSpPr/>
                  <p:nvPr/>
                </p:nvSpPr>
                <p:spPr>
                  <a:xfrm flipV="1">
                    <a:off x="3594240" y="342396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9" name=""/>
                  <p:cNvSpPr/>
                  <p:nvPr/>
                </p:nvSpPr>
                <p:spPr>
                  <a:xfrm flipH="1" flipV="1">
                    <a:off x="3573720" y="340812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0" name=""/>
                  <p:cNvSpPr/>
                  <p:nvPr/>
                </p:nvSpPr>
                <p:spPr>
                  <a:xfrm flipV="1">
                    <a:off x="3589560" y="339372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21" name=""/>
                <p:cNvGrpSpPr/>
                <p:nvPr/>
              </p:nvGrpSpPr>
              <p:grpSpPr>
                <a:xfrm>
                  <a:off x="3486960" y="3179880"/>
                  <a:ext cx="124560" cy="151560"/>
                  <a:chOff x="3486960" y="3179880"/>
                  <a:chExt cx="124560" cy="151560"/>
                </a:xfrm>
              </p:grpSpPr>
              <p:sp>
                <p:nvSpPr>
                  <p:cNvPr id="11122" name=""/>
                  <p:cNvSpPr/>
                  <p:nvPr/>
                </p:nvSpPr>
                <p:spPr>
                  <a:xfrm rot="1410000">
                    <a:off x="3509640" y="3189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3" name=""/>
                  <p:cNvSpPr/>
                  <p:nvPr/>
                </p:nvSpPr>
                <p:spPr>
                  <a:xfrm flipH="1" flipV="1">
                    <a:off x="3543120" y="3231000"/>
                    <a:ext cx="1764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4" name=""/>
                  <p:cNvSpPr/>
                  <p:nvPr/>
                </p:nvSpPr>
                <p:spPr>
                  <a:xfrm flipV="1">
                    <a:off x="3558240" y="3270240"/>
                    <a:ext cx="21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5" name=""/>
                  <p:cNvSpPr/>
                  <p:nvPr/>
                </p:nvSpPr>
                <p:spPr>
                  <a:xfrm flipH="1" flipV="1">
                    <a:off x="3536280" y="3259800"/>
                    <a:ext cx="118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6" name=""/>
                  <p:cNvSpPr/>
                  <p:nvPr/>
                </p:nvSpPr>
                <p:spPr>
                  <a:xfrm flipV="1">
                    <a:off x="3550320" y="3240720"/>
                    <a:ext cx="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27" name=""/>
                <p:cNvGrpSpPr/>
                <p:nvPr/>
              </p:nvGrpSpPr>
              <p:grpSpPr>
                <a:xfrm>
                  <a:off x="3504960" y="3026880"/>
                  <a:ext cx="120240" cy="150480"/>
                  <a:chOff x="3504960" y="3026880"/>
                  <a:chExt cx="120240" cy="150480"/>
                </a:xfrm>
              </p:grpSpPr>
              <p:sp>
                <p:nvSpPr>
                  <p:cNvPr id="11128" name=""/>
                  <p:cNvSpPr/>
                  <p:nvPr/>
                </p:nvSpPr>
                <p:spPr>
                  <a:xfrm rot="1250400">
                    <a:off x="3525480" y="3036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9" name=""/>
                  <p:cNvSpPr/>
                  <p:nvPr/>
                </p:nvSpPr>
                <p:spPr>
                  <a:xfrm flipH="1" flipV="1">
                    <a:off x="3557880" y="3077640"/>
                    <a:ext cx="2160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0" name=""/>
                  <p:cNvSpPr/>
                  <p:nvPr/>
                </p:nvSpPr>
                <p:spPr>
                  <a:xfrm flipV="1">
                    <a:off x="3575520" y="3116160"/>
                    <a:ext cx="14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1" name=""/>
                  <p:cNvSpPr/>
                  <p:nvPr/>
                </p:nvSpPr>
                <p:spPr>
                  <a:xfrm flipH="1" flipV="1">
                    <a:off x="3552120" y="310680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2" name=""/>
                  <p:cNvSpPr/>
                  <p:nvPr/>
                </p:nvSpPr>
                <p:spPr>
                  <a:xfrm flipH="1" flipV="1">
                    <a:off x="3565440" y="3087360"/>
                    <a:ext cx="72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3" name=""/>
                <p:cNvGrpSpPr/>
                <p:nvPr/>
              </p:nvGrpSpPr>
              <p:grpSpPr>
                <a:xfrm>
                  <a:off x="3552840" y="2984400"/>
                  <a:ext cx="136080" cy="145800"/>
                  <a:chOff x="3552840" y="2984400"/>
                  <a:chExt cx="136080" cy="145800"/>
                </a:xfrm>
              </p:grpSpPr>
              <p:sp>
                <p:nvSpPr>
                  <p:cNvPr id="11134" name=""/>
                  <p:cNvSpPr/>
                  <p:nvPr/>
                </p:nvSpPr>
                <p:spPr>
                  <a:xfrm rot="1882200">
                    <a:off x="3576600" y="299880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5" name=""/>
                  <p:cNvSpPr/>
                  <p:nvPr/>
                </p:nvSpPr>
                <p:spPr>
                  <a:xfrm flipH="1" flipV="1">
                    <a:off x="3615120" y="3033000"/>
                    <a:ext cx="1440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6" name=""/>
                  <p:cNvSpPr/>
                  <p:nvPr/>
                </p:nvSpPr>
                <p:spPr>
                  <a:xfrm flipV="1">
                    <a:off x="3628800" y="3073320"/>
                    <a:ext cx="32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7" name=""/>
                  <p:cNvSpPr/>
                  <p:nvPr/>
                </p:nvSpPr>
                <p:spPr>
                  <a:xfrm flipH="1" flipV="1">
                    <a:off x="3606840" y="305820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8" name=""/>
                  <p:cNvSpPr/>
                  <p:nvPr/>
                </p:nvSpPr>
                <p:spPr>
                  <a:xfrm flipV="1">
                    <a:off x="3622680" y="304344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39" name=""/>
              <p:cNvGrpSpPr/>
              <p:nvPr/>
            </p:nvGrpSpPr>
            <p:grpSpPr>
              <a:xfrm>
                <a:off x="3666600" y="2516760"/>
                <a:ext cx="484920" cy="707760"/>
                <a:chOff x="3666600" y="2516760"/>
                <a:chExt cx="484920" cy="707760"/>
              </a:xfrm>
            </p:grpSpPr>
            <p:grpSp>
              <p:nvGrpSpPr>
                <p:cNvPr id="11140" name=""/>
                <p:cNvGrpSpPr/>
                <p:nvPr/>
              </p:nvGrpSpPr>
              <p:grpSpPr>
                <a:xfrm>
                  <a:off x="3958920" y="2809800"/>
                  <a:ext cx="122400" cy="151200"/>
                  <a:chOff x="3958920" y="2809800"/>
                  <a:chExt cx="122400" cy="151200"/>
                </a:xfrm>
              </p:grpSpPr>
              <p:sp>
                <p:nvSpPr>
                  <p:cNvPr id="11141" name=""/>
                  <p:cNvSpPr/>
                  <p:nvPr/>
                </p:nvSpPr>
                <p:spPr>
                  <a:xfrm rot="9465600">
                    <a:off x="3980520" y="2819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2" name=""/>
                  <p:cNvSpPr/>
                  <p:nvPr/>
                </p:nvSpPr>
                <p:spPr>
                  <a:xfrm>
                    <a:off x="3965040" y="2847600"/>
                    <a:ext cx="76680" cy="50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3" name=""/>
                  <p:cNvSpPr/>
                  <p:nvPr/>
                </p:nvSpPr>
                <p:spPr>
                  <a:xfrm>
                    <a:off x="3990600" y="286884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4" name=""/>
                  <p:cNvSpPr/>
                  <p:nvPr/>
                </p:nvSpPr>
                <p:spPr>
                  <a:xfrm flipV="1">
                    <a:off x="4009680" y="28728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5" name=""/>
                  <p:cNvSpPr/>
                  <p:nvPr/>
                </p:nvSpPr>
                <p:spPr>
                  <a:xfrm>
                    <a:off x="4020840" y="288756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46" name=""/>
                <p:cNvSpPr/>
                <p:nvPr/>
              </p:nvSpPr>
              <p:spPr>
                <a:xfrm flipH="1" flipV="1">
                  <a:off x="3820320" y="2784960"/>
                  <a:ext cx="20520" cy="19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7" name=""/>
                <p:cNvSpPr/>
                <p:nvPr/>
              </p:nvSpPr>
              <p:spPr>
                <a:xfrm rot="5650200">
                  <a:off x="3575880" y="2779200"/>
                  <a:ext cx="491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8" name=""/>
                <p:cNvSpPr/>
                <p:nvPr/>
              </p:nvSpPr>
              <p:spPr>
                <a:xfrm flipV="1">
                  <a:off x="3903840" y="2780640"/>
                  <a:ext cx="12816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9" name=""/>
                <p:cNvSpPr/>
                <p:nvPr/>
              </p:nvSpPr>
              <p:spPr>
                <a:xfrm flipV="1">
                  <a:off x="3709080" y="3009600"/>
                  <a:ext cx="218520" cy="10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0" name=""/>
                <p:cNvSpPr/>
                <p:nvPr/>
              </p:nvSpPr>
              <p:spPr>
                <a:xfrm flipH="1" flipV="1">
                  <a:off x="3798720" y="2842560"/>
                  <a:ext cx="316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1" name=""/>
                <p:cNvSpPr/>
                <p:nvPr/>
              </p:nvSpPr>
              <p:spPr>
                <a:xfrm flipV="1">
                  <a:off x="3844080" y="2886120"/>
                  <a:ext cx="21960" cy="57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2" name=""/>
                <p:cNvSpPr/>
                <p:nvPr/>
              </p:nvSpPr>
              <p:spPr>
                <a:xfrm flipV="1">
                  <a:off x="3958920" y="2739240"/>
                  <a:ext cx="58320" cy="74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3" name=""/>
                <p:cNvSpPr/>
                <p:nvPr/>
              </p:nvSpPr>
              <p:spPr>
                <a:xfrm>
                  <a:off x="3940200" y="2833200"/>
                  <a:ext cx="51120" cy="23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4" name=""/>
                <p:cNvSpPr/>
                <p:nvPr/>
              </p:nvSpPr>
              <p:spPr>
                <a:xfrm flipH="1" flipV="1">
                  <a:off x="3898800" y="2671920"/>
                  <a:ext cx="30600" cy="6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5" name=""/>
                <p:cNvSpPr/>
                <p:nvPr/>
              </p:nvSpPr>
              <p:spPr>
                <a:xfrm flipV="1">
                  <a:off x="3817440" y="2929680"/>
                  <a:ext cx="97560" cy="13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6" name=""/>
                <p:cNvSpPr/>
                <p:nvPr/>
              </p:nvSpPr>
              <p:spPr>
                <a:xfrm flipV="1">
                  <a:off x="3876480" y="2968920"/>
                  <a:ext cx="3564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7" name=""/>
                <p:cNvSpPr/>
                <p:nvPr/>
              </p:nvSpPr>
              <p:spPr>
                <a:xfrm>
                  <a:off x="3781440" y="3077640"/>
                  <a:ext cx="68400" cy="24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8" name=""/>
                <p:cNvSpPr/>
                <p:nvPr/>
              </p:nvSpPr>
              <p:spPr>
                <a:xfrm>
                  <a:off x="3890880" y="302652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9" name=""/>
                <p:cNvSpPr/>
                <p:nvPr/>
              </p:nvSpPr>
              <p:spPr>
                <a:xfrm flipH="1" flipV="1">
                  <a:off x="3772440" y="2958480"/>
                  <a:ext cx="11880" cy="79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0" name=""/>
                <p:cNvSpPr/>
                <p:nvPr/>
              </p:nvSpPr>
              <p:spPr>
                <a:xfrm flipH="1" flipV="1">
                  <a:off x="3893400" y="2750760"/>
                  <a:ext cx="129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1" name=""/>
                <p:cNvSpPr/>
                <p:nvPr/>
              </p:nvSpPr>
              <p:spPr>
                <a:xfrm flipV="1">
                  <a:off x="3950280" y="2678400"/>
                  <a:ext cx="360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62" name=""/>
                <p:cNvGrpSpPr/>
                <p:nvPr/>
              </p:nvGrpSpPr>
              <p:grpSpPr>
                <a:xfrm>
                  <a:off x="4005000" y="2719440"/>
                  <a:ext cx="146520" cy="138240"/>
                  <a:chOff x="4005000" y="2719440"/>
                  <a:chExt cx="146520" cy="138240"/>
                </a:xfrm>
              </p:grpSpPr>
              <p:sp>
                <p:nvSpPr>
                  <p:cNvPr id="11163" name=""/>
                  <p:cNvSpPr/>
                  <p:nvPr/>
                </p:nvSpPr>
                <p:spPr>
                  <a:xfrm rot="7395600">
                    <a:off x="4034160" y="2729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4" name=""/>
                  <p:cNvSpPr/>
                  <p:nvPr/>
                </p:nvSpPr>
                <p:spPr>
                  <a:xfrm flipV="1">
                    <a:off x="4014360" y="2783520"/>
                    <a:ext cx="882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5" name=""/>
                  <p:cNvSpPr/>
                  <p:nvPr/>
                </p:nvSpPr>
                <p:spPr>
                  <a:xfrm>
                    <a:off x="4045680" y="279540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6" name=""/>
                  <p:cNvSpPr/>
                  <p:nvPr/>
                </p:nvSpPr>
                <p:spPr>
                  <a:xfrm flipV="1">
                    <a:off x="4063680" y="2774520"/>
                    <a:ext cx="13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7" name=""/>
                  <p:cNvSpPr/>
                  <p:nvPr/>
                </p:nvSpPr>
                <p:spPr>
                  <a:xfrm>
                    <a:off x="4079880" y="279036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68" name=""/>
                <p:cNvGrpSpPr/>
                <p:nvPr/>
              </p:nvGrpSpPr>
              <p:grpSpPr>
                <a:xfrm>
                  <a:off x="3828600" y="2773800"/>
                  <a:ext cx="140040" cy="122040"/>
                  <a:chOff x="3828600" y="2773800"/>
                  <a:chExt cx="140040" cy="122040"/>
                </a:xfrm>
              </p:grpSpPr>
              <p:sp>
                <p:nvSpPr>
                  <p:cNvPr id="11169" name=""/>
                  <p:cNvSpPr/>
                  <p:nvPr/>
                </p:nvSpPr>
                <p:spPr>
                  <a:xfrm rot="4237200">
                    <a:off x="3854520" y="2775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0" name=""/>
                  <p:cNvSpPr/>
                  <p:nvPr/>
                </p:nvSpPr>
                <p:spPr>
                  <a:xfrm flipV="1">
                    <a:off x="3865320" y="2812320"/>
                    <a:ext cx="44640" cy="77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1" name=""/>
                  <p:cNvSpPr/>
                  <p:nvPr/>
                </p:nvSpPr>
                <p:spPr>
                  <a:xfrm flipV="1">
                    <a:off x="3884400" y="285444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2" name=""/>
                  <p:cNvSpPr/>
                  <p:nvPr/>
                </p:nvSpPr>
                <p:spPr>
                  <a:xfrm flipH="1" flipV="1">
                    <a:off x="3886920" y="2827080"/>
                    <a:ext cx="10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3" name=""/>
                  <p:cNvSpPr/>
                  <p:nvPr/>
                </p:nvSpPr>
                <p:spPr>
                  <a:xfrm flipV="1">
                    <a:off x="3901320" y="282564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74" name=""/>
                <p:cNvGrpSpPr/>
                <p:nvPr/>
              </p:nvGrpSpPr>
              <p:grpSpPr>
                <a:xfrm>
                  <a:off x="3902760" y="2850480"/>
                  <a:ext cx="123120" cy="96480"/>
                  <a:chOff x="3902760" y="2850480"/>
                  <a:chExt cx="123120" cy="96480"/>
                </a:xfrm>
              </p:grpSpPr>
              <p:sp>
                <p:nvSpPr>
                  <p:cNvPr id="11175" name=""/>
                  <p:cNvSpPr/>
                  <p:nvPr/>
                </p:nvSpPr>
                <p:spPr>
                  <a:xfrm rot="5650200">
                    <a:off x="3920040" y="28400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6" name=""/>
                  <p:cNvSpPr/>
                  <p:nvPr/>
                </p:nvSpPr>
                <p:spPr>
                  <a:xfrm flipV="1">
                    <a:off x="3911760" y="288288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7" name=""/>
                  <p:cNvSpPr/>
                  <p:nvPr/>
                </p:nvSpPr>
                <p:spPr>
                  <a:xfrm flipV="1">
                    <a:off x="3939480" y="29160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8" name=""/>
                  <p:cNvSpPr/>
                  <p:nvPr/>
                </p:nvSpPr>
                <p:spPr>
                  <a:xfrm flipV="1">
                    <a:off x="3951000" y="288684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9" name=""/>
                  <p:cNvSpPr/>
                  <p:nvPr/>
                </p:nvSpPr>
                <p:spPr>
                  <a:xfrm flipV="1">
                    <a:off x="3967200" y="28947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0" name=""/>
                <p:cNvGrpSpPr/>
                <p:nvPr/>
              </p:nvGrpSpPr>
              <p:grpSpPr>
                <a:xfrm>
                  <a:off x="3741840" y="2662200"/>
                  <a:ext cx="85680" cy="134640"/>
                  <a:chOff x="3741840" y="2662200"/>
                  <a:chExt cx="85680" cy="134640"/>
                </a:xfrm>
              </p:grpSpPr>
              <p:sp>
                <p:nvSpPr>
                  <p:cNvPr id="11181" name=""/>
                  <p:cNvSpPr/>
                  <p:nvPr/>
                </p:nvSpPr>
                <p:spPr>
                  <a:xfrm rot="21420000">
                    <a:off x="3745080" y="26636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2" name=""/>
                  <p:cNvSpPr/>
                  <p:nvPr/>
                </p:nvSpPr>
                <p:spPr>
                  <a:xfrm flipH="1" flipV="1">
                    <a:off x="3768480" y="2710440"/>
                    <a:ext cx="55800" cy="72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3" name=""/>
                  <p:cNvSpPr/>
                  <p:nvPr/>
                </p:nvSpPr>
                <p:spPr>
                  <a:xfrm flipH="1" flipV="1">
                    <a:off x="3801240" y="273780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4" name=""/>
                  <p:cNvSpPr/>
                  <p:nvPr/>
                </p:nvSpPr>
                <p:spPr>
                  <a:xfrm flipH="1" flipV="1">
                    <a:off x="3774960" y="27392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5" name=""/>
                  <p:cNvSpPr/>
                  <p:nvPr/>
                </p:nvSpPr>
                <p:spPr>
                  <a:xfrm flipH="1" flipV="1">
                    <a:off x="3779280" y="271584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86" name=""/>
                <p:cNvGrpSpPr/>
                <p:nvPr/>
              </p:nvGrpSpPr>
              <p:grpSpPr>
                <a:xfrm>
                  <a:off x="3973680" y="2599560"/>
                  <a:ext cx="123480" cy="96480"/>
                  <a:chOff x="3973680" y="2599560"/>
                  <a:chExt cx="123480" cy="96480"/>
                </a:xfrm>
              </p:grpSpPr>
              <p:sp>
                <p:nvSpPr>
                  <p:cNvPr id="11187" name=""/>
                  <p:cNvSpPr/>
                  <p:nvPr/>
                </p:nvSpPr>
                <p:spPr>
                  <a:xfrm rot="5650200">
                    <a:off x="3991320" y="25891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8" name=""/>
                  <p:cNvSpPr/>
                  <p:nvPr/>
                </p:nvSpPr>
                <p:spPr>
                  <a:xfrm flipV="1">
                    <a:off x="3982680" y="2631600"/>
                    <a:ext cx="7200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9" name=""/>
                  <p:cNvSpPr/>
                  <p:nvPr/>
                </p:nvSpPr>
                <p:spPr>
                  <a:xfrm flipV="1">
                    <a:off x="4010400" y="26650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0" name=""/>
                  <p:cNvSpPr/>
                  <p:nvPr/>
                </p:nvSpPr>
                <p:spPr>
                  <a:xfrm flipV="1">
                    <a:off x="4021560" y="2635920"/>
                    <a:ext cx="64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1" name=""/>
                  <p:cNvSpPr/>
                  <p:nvPr/>
                </p:nvSpPr>
                <p:spPr>
                  <a:xfrm flipV="1">
                    <a:off x="4037760" y="264348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2" name=""/>
                <p:cNvGrpSpPr/>
                <p:nvPr/>
              </p:nvGrpSpPr>
              <p:grpSpPr>
                <a:xfrm>
                  <a:off x="3914280" y="2930040"/>
                  <a:ext cx="123480" cy="96480"/>
                  <a:chOff x="3914280" y="2930040"/>
                  <a:chExt cx="123480" cy="96480"/>
                </a:xfrm>
              </p:grpSpPr>
              <p:sp>
                <p:nvSpPr>
                  <p:cNvPr id="11193" name=""/>
                  <p:cNvSpPr/>
                  <p:nvPr/>
                </p:nvSpPr>
                <p:spPr>
                  <a:xfrm rot="5650200">
                    <a:off x="3931920" y="29196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4" name=""/>
                  <p:cNvSpPr/>
                  <p:nvPr/>
                </p:nvSpPr>
                <p:spPr>
                  <a:xfrm flipV="1">
                    <a:off x="3923640" y="296244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5" name=""/>
                  <p:cNvSpPr/>
                  <p:nvPr/>
                </p:nvSpPr>
                <p:spPr>
                  <a:xfrm flipV="1">
                    <a:off x="3951000" y="29955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6" name=""/>
                  <p:cNvSpPr/>
                  <p:nvPr/>
                </p:nvSpPr>
                <p:spPr>
                  <a:xfrm flipV="1">
                    <a:off x="3962520" y="2966400"/>
                    <a:ext cx="61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7" name=""/>
                  <p:cNvSpPr/>
                  <p:nvPr/>
                </p:nvSpPr>
                <p:spPr>
                  <a:xfrm flipV="1">
                    <a:off x="3978720" y="297432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98" name=""/>
                <p:cNvGrpSpPr/>
                <p:nvPr/>
              </p:nvGrpSpPr>
              <p:grpSpPr>
                <a:xfrm>
                  <a:off x="4004640" y="2660760"/>
                  <a:ext cx="123120" cy="96480"/>
                  <a:chOff x="4004640" y="2660760"/>
                  <a:chExt cx="123120" cy="96480"/>
                </a:xfrm>
              </p:grpSpPr>
              <p:sp>
                <p:nvSpPr>
                  <p:cNvPr id="11199" name=""/>
                  <p:cNvSpPr/>
                  <p:nvPr/>
                </p:nvSpPr>
                <p:spPr>
                  <a:xfrm rot="5650200">
                    <a:off x="4021920" y="26503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0" name=""/>
                  <p:cNvSpPr/>
                  <p:nvPr/>
                </p:nvSpPr>
                <p:spPr>
                  <a:xfrm flipV="1">
                    <a:off x="4013640" y="2693160"/>
                    <a:ext cx="7164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1" name=""/>
                  <p:cNvSpPr/>
                  <p:nvPr/>
                </p:nvSpPr>
                <p:spPr>
                  <a:xfrm flipV="1">
                    <a:off x="4041360" y="27262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2" name=""/>
                  <p:cNvSpPr/>
                  <p:nvPr/>
                </p:nvSpPr>
                <p:spPr>
                  <a:xfrm flipV="1">
                    <a:off x="4052880" y="2697480"/>
                    <a:ext cx="612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3" name=""/>
                  <p:cNvSpPr/>
                  <p:nvPr/>
                </p:nvSpPr>
                <p:spPr>
                  <a:xfrm flipV="1">
                    <a:off x="4069080" y="270504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4" name=""/>
                <p:cNvGrpSpPr/>
                <p:nvPr/>
              </p:nvGrpSpPr>
              <p:grpSpPr>
                <a:xfrm>
                  <a:off x="3666600" y="2829600"/>
                  <a:ext cx="105480" cy="145080"/>
                  <a:chOff x="3666600" y="2829600"/>
                  <a:chExt cx="105480" cy="145080"/>
                </a:xfrm>
              </p:grpSpPr>
              <p:sp>
                <p:nvSpPr>
                  <p:cNvPr id="11205" name=""/>
                  <p:cNvSpPr/>
                  <p:nvPr/>
                </p:nvSpPr>
                <p:spPr>
                  <a:xfrm rot="20848800">
                    <a:off x="3679560" y="28364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6" name=""/>
                  <p:cNvSpPr/>
                  <p:nvPr/>
                </p:nvSpPr>
                <p:spPr>
                  <a:xfrm flipH="1" flipV="1">
                    <a:off x="3700080" y="2886120"/>
                    <a:ext cx="669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7" name=""/>
                  <p:cNvSpPr/>
                  <p:nvPr/>
                </p:nvSpPr>
                <p:spPr>
                  <a:xfrm flipH="1" flipV="1">
                    <a:off x="3737160" y="2907720"/>
                    <a:ext cx="86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8" name=""/>
                  <p:cNvSpPr/>
                  <p:nvPr/>
                </p:nvSpPr>
                <p:spPr>
                  <a:xfrm flipH="1" flipV="1">
                    <a:off x="3711600" y="291348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9" name=""/>
                  <p:cNvSpPr/>
                  <p:nvPr/>
                </p:nvSpPr>
                <p:spPr>
                  <a:xfrm flipH="1" flipV="1">
                    <a:off x="3711600" y="288972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0" name=""/>
                <p:cNvGrpSpPr/>
                <p:nvPr/>
              </p:nvGrpSpPr>
              <p:grpSpPr>
                <a:xfrm>
                  <a:off x="3679560" y="2729160"/>
                  <a:ext cx="128880" cy="152640"/>
                  <a:chOff x="3679560" y="2729160"/>
                  <a:chExt cx="128880" cy="152640"/>
                </a:xfrm>
              </p:grpSpPr>
              <p:sp>
                <p:nvSpPr>
                  <p:cNvPr id="11211" name=""/>
                  <p:cNvSpPr/>
                  <p:nvPr/>
                </p:nvSpPr>
                <p:spPr>
                  <a:xfrm rot="20009400">
                    <a:off x="3704400" y="2739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2" name=""/>
                  <p:cNvSpPr/>
                  <p:nvPr/>
                </p:nvSpPr>
                <p:spPr>
                  <a:xfrm flipH="1" flipV="1">
                    <a:off x="3721680" y="2794320"/>
                    <a:ext cx="79920" cy="44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3" name=""/>
                  <p:cNvSpPr/>
                  <p:nvPr/>
                </p:nvSpPr>
                <p:spPr>
                  <a:xfrm flipH="1" flipV="1">
                    <a:off x="3762720" y="280656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4" name=""/>
                  <p:cNvSpPr/>
                  <p:nvPr/>
                </p:nvSpPr>
                <p:spPr>
                  <a:xfrm flipH="1">
                    <a:off x="3738960" y="281664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5" name=""/>
                  <p:cNvSpPr/>
                  <p:nvPr/>
                </p:nvSpPr>
                <p:spPr>
                  <a:xfrm flipH="1" flipV="1">
                    <a:off x="3733560" y="2795400"/>
                    <a:ext cx="972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16" name=""/>
                <p:cNvGrpSpPr/>
                <p:nvPr/>
              </p:nvGrpSpPr>
              <p:grpSpPr>
                <a:xfrm>
                  <a:off x="3877560" y="2535480"/>
                  <a:ext cx="81000" cy="132480"/>
                  <a:chOff x="3877560" y="2535480"/>
                  <a:chExt cx="81000" cy="132480"/>
                </a:xfrm>
              </p:grpSpPr>
              <p:sp>
                <p:nvSpPr>
                  <p:cNvPr id="11217" name=""/>
                  <p:cNvSpPr/>
                  <p:nvPr/>
                </p:nvSpPr>
                <p:spPr>
                  <a:xfrm rot="60600">
                    <a:off x="3878280" y="2535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8" name=""/>
                  <p:cNvSpPr/>
                  <p:nvPr/>
                </p:nvSpPr>
                <p:spPr>
                  <a:xfrm flipH="1" flipV="1">
                    <a:off x="3903120" y="2581560"/>
                    <a:ext cx="5040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9" name=""/>
                  <p:cNvSpPr/>
                  <p:nvPr/>
                </p:nvSpPr>
                <p:spPr>
                  <a:xfrm flipH="1" flipV="1">
                    <a:off x="3933720" y="2611080"/>
                    <a:ext cx="46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0" name=""/>
                  <p:cNvSpPr/>
                  <p:nvPr/>
                </p:nvSpPr>
                <p:spPr>
                  <a:xfrm flipH="1" flipV="1">
                    <a:off x="3907440" y="2610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1" name=""/>
                  <p:cNvSpPr/>
                  <p:nvPr/>
                </p:nvSpPr>
                <p:spPr>
                  <a:xfrm flipH="1" flipV="1">
                    <a:off x="3913200" y="258768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2" name=""/>
                <p:cNvGrpSpPr/>
                <p:nvPr/>
              </p:nvGrpSpPr>
              <p:grpSpPr>
                <a:xfrm>
                  <a:off x="3788640" y="2541600"/>
                  <a:ext cx="115200" cy="149040"/>
                  <a:chOff x="3788640" y="2541600"/>
                  <a:chExt cx="115200" cy="149040"/>
                </a:xfrm>
              </p:grpSpPr>
              <p:sp>
                <p:nvSpPr>
                  <p:cNvPr id="11223" name=""/>
                  <p:cNvSpPr/>
                  <p:nvPr/>
                </p:nvSpPr>
                <p:spPr>
                  <a:xfrm rot="20532600">
                    <a:off x="3806640" y="25502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4" name=""/>
                  <p:cNvSpPr/>
                  <p:nvPr/>
                </p:nvSpPr>
                <p:spPr>
                  <a:xfrm flipH="1" flipV="1">
                    <a:off x="3825360" y="2601360"/>
                    <a:ext cx="7236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5" name=""/>
                  <p:cNvSpPr/>
                  <p:nvPr/>
                </p:nvSpPr>
                <p:spPr>
                  <a:xfrm flipH="1" flipV="1">
                    <a:off x="3864240" y="261972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6" name=""/>
                  <p:cNvSpPr/>
                  <p:nvPr/>
                </p:nvSpPr>
                <p:spPr>
                  <a:xfrm flipH="1" flipV="1">
                    <a:off x="3839040" y="26276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7" name=""/>
                  <p:cNvSpPr/>
                  <p:nvPr/>
                </p:nvSpPr>
                <p:spPr>
                  <a:xfrm flipH="1" flipV="1">
                    <a:off x="3837240" y="2604240"/>
                    <a:ext cx="82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8" name=""/>
                <p:cNvGrpSpPr/>
                <p:nvPr/>
              </p:nvGrpSpPr>
              <p:grpSpPr>
                <a:xfrm>
                  <a:off x="3807360" y="2644200"/>
                  <a:ext cx="98640" cy="141840"/>
                  <a:chOff x="3807360" y="2644200"/>
                  <a:chExt cx="98640" cy="141840"/>
                </a:xfrm>
              </p:grpSpPr>
              <p:sp>
                <p:nvSpPr>
                  <p:cNvPr id="11229" name=""/>
                  <p:cNvSpPr/>
                  <p:nvPr/>
                </p:nvSpPr>
                <p:spPr>
                  <a:xfrm rot="21052200">
                    <a:off x="3817080" y="2649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0" name=""/>
                  <p:cNvSpPr/>
                  <p:nvPr/>
                </p:nvSpPr>
                <p:spPr>
                  <a:xfrm flipH="1" flipV="1">
                    <a:off x="3838320" y="2697840"/>
                    <a:ext cx="6300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1" name=""/>
                  <p:cNvSpPr/>
                  <p:nvPr/>
                </p:nvSpPr>
                <p:spPr>
                  <a:xfrm flipH="1" flipV="1">
                    <a:off x="3873960" y="272160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2" name=""/>
                  <p:cNvSpPr/>
                  <p:nvPr/>
                </p:nvSpPr>
                <p:spPr>
                  <a:xfrm flipH="1" flipV="1">
                    <a:off x="3848040" y="2725920"/>
                    <a:ext cx="16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3" name=""/>
                  <p:cNvSpPr/>
                  <p:nvPr/>
                </p:nvSpPr>
                <p:spPr>
                  <a:xfrm flipH="1" flipV="1">
                    <a:off x="3849480" y="2702160"/>
                    <a:ext cx="68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34" name=""/>
                <p:cNvGrpSpPr/>
                <p:nvPr/>
              </p:nvGrpSpPr>
              <p:grpSpPr>
                <a:xfrm>
                  <a:off x="3924720" y="2610720"/>
                  <a:ext cx="114120" cy="148680"/>
                  <a:chOff x="3924720" y="2610720"/>
                  <a:chExt cx="114120" cy="148680"/>
                </a:xfrm>
              </p:grpSpPr>
              <p:sp>
                <p:nvSpPr>
                  <p:cNvPr id="11235" name=""/>
                  <p:cNvSpPr/>
                  <p:nvPr/>
                </p:nvSpPr>
                <p:spPr>
                  <a:xfrm rot="1035600">
                    <a:off x="3942360" y="26193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6" name=""/>
                  <p:cNvSpPr/>
                  <p:nvPr/>
                </p:nvSpPr>
                <p:spPr>
                  <a:xfrm flipH="1" flipV="1">
                    <a:off x="3973320" y="2661120"/>
                    <a:ext cx="2700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7" name=""/>
                  <p:cNvSpPr/>
                  <p:nvPr/>
                </p:nvSpPr>
                <p:spPr>
                  <a:xfrm flipV="1">
                    <a:off x="3994200" y="269820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8" name=""/>
                  <p:cNvSpPr/>
                  <p:nvPr/>
                </p:nvSpPr>
                <p:spPr>
                  <a:xfrm flipH="1" flipV="1">
                    <a:off x="3969360" y="26902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9" name=""/>
                  <p:cNvSpPr/>
                  <p:nvPr/>
                </p:nvSpPr>
                <p:spPr>
                  <a:xfrm flipH="1" flipV="1">
                    <a:off x="3981240" y="2670120"/>
                    <a:ext cx="14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0" name=""/>
                <p:cNvGrpSpPr/>
                <p:nvPr/>
              </p:nvGrpSpPr>
              <p:grpSpPr>
                <a:xfrm>
                  <a:off x="3856680" y="2825280"/>
                  <a:ext cx="146520" cy="141840"/>
                  <a:chOff x="3856680" y="2825280"/>
                  <a:chExt cx="146520" cy="141840"/>
                </a:xfrm>
              </p:grpSpPr>
              <p:sp>
                <p:nvSpPr>
                  <p:cNvPr id="11241" name=""/>
                  <p:cNvSpPr/>
                  <p:nvPr/>
                </p:nvSpPr>
                <p:spPr>
                  <a:xfrm rot="3086400">
                    <a:off x="3885480" y="283752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2" name=""/>
                  <p:cNvSpPr/>
                  <p:nvPr/>
                </p:nvSpPr>
                <p:spPr>
                  <a:xfrm flipV="1">
                    <a:off x="3916080" y="2871720"/>
                    <a:ext cx="1692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3" name=""/>
                  <p:cNvSpPr/>
                  <p:nvPr/>
                </p:nvSpPr>
                <p:spPr>
                  <a:xfrm flipV="1">
                    <a:off x="3926520" y="2915280"/>
                    <a:ext cx="82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4" name=""/>
                  <p:cNvSpPr/>
                  <p:nvPr/>
                </p:nvSpPr>
                <p:spPr>
                  <a:xfrm flipH="1" flipV="1">
                    <a:off x="3916440" y="2892600"/>
                    <a:ext cx="68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5" name=""/>
                  <p:cNvSpPr/>
                  <p:nvPr/>
                </p:nvSpPr>
                <p:spPr>
                  <a:xfrm flipV="1">
                    <a:off x="3932280" y="288432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46" name=""/>
                <p:cNvGrpSpPr/>
                <p:nvPr/>
              </p:nvGrpSpPr>
              <p:grpSpPr>
                <a:xfrm>
                  <a:off x="3932640" y="3006360"/>
                  <a:ext cx="110520" cy="147240"/>
                  <a:chOff x="3932640" y="3006360"/>
                  <a:chExt cx="110520" cy="147240"/>
                </a:xfrm>
              </p:grpSpPr>
              <p:sp>
                <p:nvSpPr>
                  <p:cNvPr id="11247" name=""/>
                  <p:cNvSpPr/>
                  <p:nvPr/>
                </p:nvSpPr>
                <p:spPr>
                  <a:xfrm rot="9883800">
                    <a:off x="3948120" y="3014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8" name=""/>
                  <p:cNvSpPr/>
                  <p:nvPr/>
                </p:nvSpPr>
                <p:spPr>
                  <a:xfrm>
                    <a:off x="3938400" y="3035880"/>
                    <a:ext cx="69840" cy="59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9" name=""/>
                  <p:cNvSpPr/>
                  <p:nvPr/>
                </p:nvSpPr>
                <p:spPr>
                  <a:xfrm>
                    <a:off x="3960720" y="3060000"/>
                    <a:ext cx="97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0" name=""/>
                  <p:cNvSpPr/>
                  <p:nvPr/>
                </p:nvSpPr>
                <p:spPr>
                  <a:xfrm>
                    <a:off x="3979080" y="306720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1" name=""/>
                  <p:cNvSpPr/>
                  <p:nvPr/>
                </p:nvSpPr>
                <p:spPr>
                  <a:xfrm>
                    <a:off x="3988440" y="3082320"/>
                    <a:ext cx="79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2" name=""/>
                <p:cNvGrpSpPr/>
                <p:nvPr/>
              </p:nvGrpSpPr>
              <p:grpSpPr>
                <a:xfrm>
                  <a:off x="3841560" y="3079080"/>
                  <a:ext cx="106920" cy="145440"/>
                  <a:chOff x="3841560" y="3079080"/>
                  <a:chExt cx="106920" cy="145440"/>
                </a:xfrm>
              </p:grpSpPr>
              <p:sp>
                <p:nvSpPr>
                  <p:cNvPr id="11253" name=""/>
                  <p:cNvSpPr/>
                  <p:nvPr/>
                </p:nvSpPr>
                <p:spPr>
                  <a:xfrm rot="10003800">
                    <a:off x="3855600" y="3086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4" name=""/>
                  <p:cNvSpPr/>
                  <p:nvPr/>
                </p:nvSpPr>
                <p:spPr>
                  <a:xfrm>
                    <a:off x="3846600" y="3106080"/>
                    <a:ext cx="6768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5" name=""/>
                  <p:cNvSpPr/>
                  <p:nvPr/>
                </p:nvSpPr>
                <p:spPr>
                  <a:xfrm>
                    <a:off x="3868200" y="31309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6" name=""/>
                  <p:cNvSpPr/>
                  <p:nvPr/>
                </p:nvSpPr>
                <p:spPr>
                  <a:xfrm>
                    <a:off x="3886200" y="313848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7" name=""/>
                  <p:cNvSpPr/>
                  <p:nvPr/>
                </p:nvSpPr>
                <p:spPr>
                  <a:xfrm>
                    <a:off x="3895200" y="3154320"/>
                    <a:ext cx="75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58" name=""/>
                <p:cNvGrpSpPr/>
                <p:nvPr/>
              </p:nvGrpSpPr>
              <p:grpSpPr>
                <a:xfrm>
                  <a:off x="3733920" y="2819520"/>
                  <a:ext cx="145800" cy="135360"/>
                  <a:chOff x="3733920" y="2819520"/>
                  <a:chExt cx="145800" cy="135360"/>
                </a:xfrm>
              </p:grpSpPr>
              <p:sp>
                <p:nvSpPr>
                  <p:cNvPr id="11259" name=""/>
                  <p:cNvSpPr/>
                  <p:nvPr/>
                </p:nvSpPr>
                <p:spPr>
                  <a:xfrm rot="3576600">
                    <a:off x="3762360" y="2828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0" name=""/>
                  <p:cNvSpPr/>
                  <p:nvPr/>
                </p:nvSpPr>
                <p:spPr>
                  <a:xfrm flipV="1">
                    <a:off x="3784320" y="2863080"/>
                    <a:ext cx="2916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1" name=""/>
                  <p:cNvSpPr/>
                  <p:nvPr/>
                </p:nvSpPr>
                <p:spPr>
                  <a:xfrm flipV="1">
                    <a:off x="3798360" y="29066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2" name=""/>
                  <p:cNvSpPr/>
                  <p:nvPr/>
                </p:nvSpPr>
                <p:spPr>
                  <a:xfrm flipH="1" flipV="1">
                    <a:off x="3794040" y="2881800"/>
                    <a:ext cx="43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3" name=""/>
                  <p:cNvSpPr/>
                  <p:nvPr/>
                </p:nvSpPr>
                <p:spPr>
                  <a:xfrm flipV="1">
                    <a:off x="3809160" y="28764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64" name=""/>
                <p:cNvGrpSpPr/>
                <p:nvPr/>
              </p:nvGrpSpPr>
              <p:grpSpPr>
                <a:xfrm>
                  <a:off x="3762000" y="2660760"/>
                  <a:ext cx="150840" cy="145440"/>
                  <a:chOff x="3762000" y="2660760"/>
                  <a:chExt cx="150840" cy="145440"/>
                </a:xfrm>
              </p:grpSpPr>
              <p:sp>
                <p:nvSpPr>
                  <p:cNvPr id="11265" name=""/>
                  <p:cNvSpPr/>
                  <p:nvPr/>
                </p:nvSpPr>
                <p:spPr>
                  <a:xfrm rot="2940600">
                    <a:off x="3797640" y="26679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6" name=""/>
                  <p:cNvSpPr/>
                  <p:nvPr/>
                </p:nvSpPr>
                <p:spPr>
                  <a:xfrm flipV="1">
                    <a:off x="3819600" y="2709000"/>
                    <a:ext cx="230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7" name=""/>
                  <p:cNvSpPr/>
                  <p:nvPr/>
                </p:nvSpPr>
                <p:spPr>
                  <a:xfrm flipV="1">
                    <a:off x="3831480" y="2751480"/>
                    <a:ext cx="97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8" name=""/>
                  <p:cNvSpPr/>
                  <p:nvPr/>
                </p:nvSpPr>
                <p:spPr>
                  <a:xfrm flipH="1" flipV="1">
                    <a:off x="3823920" y="2731680"/>
                    <a:ext cx="576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9" name=""/>
                  <p:cNvSpPr/>
                  <p:nvPr/>
                </p:nvSpPr>
                <p:spPr>
                  <a:xfrm flipV="1">
                    <a:off x="3839400" y="272088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70" name=""/>
                <p:cNvGrpSpPr/>
                <p:nvPr/>
              </p:nvGrpSpPr>
              <p:grpSpPr>
                <a:xfrm>
                  <a:off x="3843360" y="2528280"/>
                  <a:ext cx="149040" cy="147600"/>
                  <a:chOff x="3843360" y="2528280"/>
                  <a:chExt cx="149040" cy="147600"/>
                </a:xfrm>
              </p:grpSpPr>
              <p:sp>
                <p:nvSpPr>
                  <p:cNvPr id="11271" name=""/>
                  <p:cNvSpPr/>
                  <p:nvPr/>
                </p:nvSpPr>
                <p:spPr>
                  <a:xfrm rot="2781000">
                    <a:off x="3878280" y="25362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2" name=""/>
                  <p:cNvSpPr/>
                  <p:nvPr/>
                </p:nvSpPr>
                <p:spPr>
                  <a:xfrm flipV="1">
                    <a:off x="3903120" y="2576880"/>
                    <a:ext cx="1872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3" name=""/>
                  <p:cNvSpPr/>
                  <p:nvPr/>
                </p:nvSpPr>
                <p:spPr>
                  <a:xfrm flipV="1">
                    <a:off x="3913560" y="261972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4" name=""/>
                  <p:cNvSpPr/>
                  <p:nvPr/>
                </p:nvSpPr>
                <p:spPr>
                  <a:xfrm flipH="1" flipV="1">
                    <a:off x="3904200" y="2600640"/>
                    <a:ext cx="648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5" name=""/>
                  <p:cNvSpPr/>
                  <p:nvPr/>
                </p:nvSpPr>
                <p:spPr>
                  <a:xfrm flipV="1">
                    <a:off x="3919680" y="2588760"/>
                    <a:ext cx="50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76" name=""/>
                <p:cNvGrpSpPr/>
                <p:nvPr/>
              </p:nvGrpSpPr>
              <p:grpSpPr>
                <a:xfrm>
                  <a:off x="3914640" y="2516760"/>
                  <a:ext cx="146160" cy="137880"/>
                  <a:chOff x="3914640" y="2516760"/>
                  <a:chExt cx="146160" cy="137880"/>
                </a:xfrm>
              </p:grpSpPr>
              <p:sp>
                <p:nvSpPr>
                  <p:cNvPr id="11277" name=""/>
                  <p:cNvSpPr/>
                  <p:nvPr/>
                </p:nvSpPr>
                <p:spPr>
                  <a:xfrm rot="3412800">
                    <a:off x="3943440" y="2526840"/>
                    <a:ext cx="8820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8" name=""/>
                  <p:cNvSpPr/>
                  <p:nvPr/>
                </p:nvSpPr>
                <p:spPr>
                  <a:xfrm flipV="1">
                    <a:off x="3967920" y="2561040"/>
                    <a:ext cx="2484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9" name=""/>
                  <p:cNvSpPr/>
                  <p:nvPr/>
                </p:nvSpPr>
                <p:spPr>
                  <a:xfrm flipV="1">
                    <a:off x="3980880" y="2604600"/>
                    <a:ext cx="9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0" name=""/>
                  <p:cNvSpPr/>
                  <p:nvPr/>
                </p:nvSpPr>
                <p:spPr>
                  <a:xfrm flipH="1" flipV="1">
                    <a:off x="3974400" y="2580480"/>
                    <a:ext cx="54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1" name=""/>
                  <p:cNvSpPr/>
                  <p:nvPr/>
                </p:nvSpPr>
                <p:spPr>
                  <a:xfrm flipV="1">
                    <a:off x="3989880" y="257400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82" name=""/>
              <p:cNvGrpSpPr/>
              <p:nvPr/>
            </p:nvGrpSpPr>
            <p:grpSpPr>
              <a:xfrm>
                <a:off x="2791440" y="1825560"/>
                <a:ext cx="575280" cy="632880"/>
                <a:chOff x="2791440" y="1825560"/>
                <a:chExt cx="575280" cy="632880"/>
              </a:xfrm>
            </p:grpSpPr>
            <p:grpSp>
              <p:nvGrpSpPr>
                <p:cNvPr id="11283" name=""/>
                <p:cNvGrpSpPr/>
                <p:nvPr/>
              </p:nvGrpSpPr>
              <p:grpSpPr>
                <a:xfrm>
                  <a:off x="3107880" y="1981080"/>
                  <a:ext cx="135360" cy="114480"/>
                  <a:chOff x="3107880" y="1981080"/>
                  <a:chExt cx="135360" cy="114480"/>
                </a:xfrm>
              </p:grpSpPr>
              <p:sp>
                <p:nvSpPr>
                  <p:cNvPr id="11284" name=""/>
                  <p:cNvSpPr/>
                  <p:nvPr/>
                </p:nvSpPr>
                <p:spPr>
                  <a:xfrm rot="6258600">
                    <a:off x="3131280" y="19796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5" name=""/>
                  <p:cNvSpPr/>
                  <p:nvPr/>
                </p:nvSpPr>
                <p:spPr>
                  <a:xfrm flipV="1">
                    <a:off x="3117240" y="2026080"/>
                    <a:ext cx="79920" cy="39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6" name=""/>
                  <p:cNvSpPr/>
                  <p:nvPr/>
                </p:nvSpPr>
                <p:spPr>
                  <a:xfrm flipV="1">
                    <a:off x="3147120" y="205380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7" name=""/>
                  <p:cNvSpPr/>
                  <p:nvPr/>
                </p:nvSpPr>
                <p:spPr>
                  <a:xfrm flipV="1">
                    <a:off x="3161160" y="202536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8" name=""/>
                  <p:cNvSpPr/>
                  <p:nvPr/>
                </p:nvSpPr>
                <p:spPr>
                  <a:xfrm flipV="1">
                    <a:off x="3177720" y="20365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9" name=""/>
                <p:cNvSpPr/>
                <p:nvPr/>
              </p:nvSpPr>
              <p:spPr>
                <a:xfrm flipH="1" flipV="1">
                  <a:off x="2966760" y="2163240"/>
                  <a:ext cx="159120" cy="84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0" name=""/>
                <p:cNvSpPr/>
                <p:nvPr/>
              </p:nvSpPr>
              <p:spPr>
                <a:xfrm rot="2443800">
                  <a:off x="2826720" y="209088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1" name=""/>
                <p:cNvSpPr/>
                <p:nvPr/>
              </p:nvSpPr>
              <p:spPr>
                <a:xfrm flipV="1">
                  <a:off x="3071160" y="1973160"/>
                  <a:ext cx="36000" cy="14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2" name=""/>
                <p:cNvSpPr/>
                <p:nvPr/>
              </p:nvSpPr>
              <p:spPr>
                <a:xfrm flipV="1">
                  <a:off x="3130920" y="2185200"/>
                  <a:ext cx="73080" cy="247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3" name=""/>
                <p:cNvSpPr/>
                <p:nvPr/>
              </p:nvSpPr>
              <p:spPr>
                <a:xfrm flipH="1">
                  <a:off x="2994480" y="2205720"/>
                  <a:ext cx="5148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4" name=""/>
                <p:cNvSpPr/>
                <p:nvPr/>
              </p:nvSpPr>
              <p:spPr>
                <a:xfrm flipH="1" flipV="1">
                  <a:off x="3072600" y="2175480"/>
                  <a:ext cx="26640" cy="49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5" name=""/>
                <p:cNvSpPr/>
                <p:nvPr/>
              </p:nvSpPr>
              <p:spPr>
                <a:xfrm flipH="1" flipV="1">
                  <a:off x="3067560" y="1964880"/>
                  <a:ext cx="15480" cy="90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6" name=""/>
                <p:cNvSpPr/>
                <p:nvPr/>
              </p:nvSpPr>
              <p:spPr>
                <a:xfrm flipV="1">
                  <a:off x="3083400" y="2048760"/>
                  <a:ext cx="51840" cy="32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7" name=""/>
                <p:cNvSpPr/>
                <p:nvPr/>
              </p:nvSpPr>
              <p:spPr>
                <a:xfrm flipH="1" flipV="1">
                  <a:off x="2937960" y="2034720"/>
                  <a:ext cx="6552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8" name=""/>
                <p:cNvSpPr/>
                <p:nvPr/>
              </p:nvSpPr>
              <p:spPr>
                <a:xfrm flipH="1" flipV="1">
                  <a:off x="3137400" y="2154240"/>
                  <a:ext cx="29160" cy="15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9" name=""/>
                <p:cNvSpPr/>
                <p:nvPr/>
              </p:nvSpPr>
              <p:spPr>
                <a:xfrm flipV="1">
                  <a:off x="3151800" y="2177280"/>
                  <a:ext cx="12240" cy="41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0" name=""/>
                <p:cNvSpPr/>
                <p:nvPr/>
              </p:nvSpPr>
              <p:spPr>
                <a:xfrm flipV="1">
                  <a:off x="3155040" y="2301840"/>
                  <a:ext cx="6408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1" name=""/>
                <p:cNvSpPr/>
                <p:nvPr/>
              </p:nvSpPr>
              <p:spPr>
                <a:xfrm flipV="1">
                  <a:off x="3191400" y="2181600"/>
                  <a:ext cx="38160" cy="44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2" name=""/>
                <p:cNvSpPr/>
                <p:nvPr/>
              </p:nvSpPr>
              <p:spPr>
                <a:xfrm flipH="1" flipV="1">
                  <a:off x="3061440" y="2296440"/>
                  <a:ext cx="65880" cy="3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3" name=""/>
                <p:cNvSpPr/>
                <p:nvPr/>
              </p:nvSpPr>
              <p:spPr>
                <a:xfrm flipH="1" flipV="1">
                  <a:off x="2991960" y="2080440"/>
                  <a:ext cx="52560" cy="19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4" name=""/>
                <p:cNvSpPr/>
                <p:nvPr/>
              </p:nvSpPr>
              <p:spPr>
                <a:xfrm flipV="1">
                  <a:off x="2989800" y="1960200"/>
                  <a:ext cx="11880" cy="41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05" name=""/>
                <p:cNvGrpSpPr/>
                <p:nvPr/>
              </p:nvGrpSpPr>
              <p:grpSpPr>
                <a:xfrm>
                  <a:off x="3069000" y="1876680"/>
                  <a:ext cx="150480" cy="119160"/>
                  <a:chOff x="3069000" y="1876680"/>
                  <a:chExt cx="150480" cy="119160"/>
                </a:xfrm>
              </p:grpSpPr>
              <p:sp>
                <p:nvSpPr>
                  <p:cNvPr id="11306" name=""/>
                  <p:cNvSpPr/>
                  <p:nvPr/>
                </p:nvSpPr>
                <p:spPr>
                  <a:xfrm rot="4188600">
                    <a:off x="3104640" y="18705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7" name=""/>
                  <p:cNvSpPr/>
                  <p:nvPr/>
                </p:nvSpPr>
                <p:spPr>
                  <a:xfrm flipV="1">
                    <a:off x="3104640" y="1914840"/>
                    <a:ext cx="53280" cy="74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8" name=""/>
                  <p:cNvSpPr/>
                  <p:nvPr/>
                </p:nvSpPr>
                <p:spPr>
                  <a:xfrm flipV="1">
                    <a:off x="3126960" y="1954440"/>
                    <a:ext cx="144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9" name=""/>
                  <p:cNvSpPr/>
                  <p:nvPr/>
                </p:nvSpPr>
                <p:spPr>
                  <a:xfrm flipV="1">
                    <a:off x="3132000" y="1929960"/>
                    <a:ext cx="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0" name=""/>
                  <p:cNvSpPr/>
                  <p:nvPr/>
                </p:nvSpPr>
                <p:spPr>
                  <a:xfrm flipV="1">
                    <a:off x="3146760" y="1927080"/>
                    <a:ext cx="90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1" name=""/>
                <p:cNvGrpSpPr/>
                <p:nvPr/>
              </p:nvGrpSpPr>
              <p:grpSpPr>
                <a:xfrm>
                  <a:off x="2999880" y="2045520"/>
                  <a:ext cx="113760" cy="148320"/>
                  <a:chOff x="2999880" y="2045520"/>
                  <a:chExt cx="113760" cy="148320"/>
                </a:xfrm>
              </p:grpSpPr>
              <p:sp>
                <p:nvSpPr>
                  <p:cNvPr id="11312" name=""/>
                  <p:cNvSpPr/>
                  <p:nvPr/>
                </p:nvSpPr>
                <p:spPr>
                  <a:xfrm rot="1030200">
                    <a:off x="3017160" y="205416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3" name=""/>
                  <p:cNvSpPr/>
                  <p:nvPr/>
                </p:nvSpPr>
                <p:spPr>
                  <a:xfrm flipH="1" flipV="1">
                    <a:off x="3048120" y="2095920"/>
                    <a:ext cx="2700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4" name=""/>
                  <p:cNvSpPr/>
                  <p:nvPr/>
                </p:nvSpPr>
                <p:spPr>
                  <a:xfrm flipV="1">
                    <a:off x="3069000" y="2133000"/>
                    <a:ext cx="3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5" name=""/>
                  <p:cNvSpPr/>
                  <p:nvPr/>
                </p:nvSpPr>
                <p:spPr>
                  <a:xfrm flipH="1" flipV="1">
                    <a:off x="3044160" y="212508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6" name=""/>
                  <p:cNvSpPr/>
                  <p:nvPr/>
                </p:nvSpPr>
                <p:spPr>
                  <a:xfrm flipH="1" flipV="1">
                    <a:off x="3056400" y="2104920"/>
                    <a:ext cx="10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17" name=""/>
                <p:cNvGrpSpPr/>
                <p:nvPr/>
              </p:nvGrpSpPr>
              <p:grpSpPr>
                <a:xfrm>
                  <a:off x="3075480" y="2019240"/>
                  <a:ext cx="145080" cy="150480"/>
                  <a:chOff x="3075480" y="2019240"/>
                  <a:chExt cx="145080" cy="150480"/>
                </a:xfrm>
              </p:grpSpPr>
              <p:sp>
                <p:nvSpPr>
                  <p:cNvPr id="11318" name=""/>
                  <p:cNvSpPr/>
                  <p:nvPr/>
                </p:nvSpPr>
                <p:spPr>
                  <a:xfrm rot="2443800">
                    <a:off x="3108600" y="20289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9" name=""/>
                  <p:cNvSpPr/>
                  <p:nvPr/>
                </p:nvSpPr>
                <p:spPr>
                  <a:xfrm flipV="1">
                    <a:off x="3139560" y="2069640"/>
                    <a:ext cx="100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0" name=""/>
                  <p:cNvSpPr/>
                  <p:nvPr/>
                </p:nvSpPr>
                <p:spPr>
                  <a:xfrm flipV="1">
                    <a:off x="3146760" y="211212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1" name=""/>
                  <p:cNvSpPr/>
                  <p:nvPr/>
                </p:nvSpPr>
                <p:spPr>
                  <a:xfrm flipH="1" flipV="1">
                    <a:off x="3134520" y="209484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2" name=""/>
                  <p:cNvSpPr/>
                  <p:nvPr/>
                </p:nvSpPr>
                <p:spPr>
                  <a:xfrm flipV="1">
                    <a:off x="3150000" y="208080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3" name=""/>
                <p:cNvGrpSpPr/>
                <p:nvPr/>
              </p:nvGrpSpPr>
              <p:grpSpPr>
                <a:xfrm>
                  <a:off x="2829960" y="2096640"/>
                  <a:ext cx="146520" cy="138240"/>
                  <a:chOff x="2829960" y="2096640"/>
                  <a:chExt cx="146520" cy="138240"/>
                </a:xfrm>
              </p:grpSpPr>
              <p:sp>
                <p:nvSpPr>
                  <p:cNvPr id="11324" name=""/>
                  <p:cNvSpPr/>
                  <p:nvPr/>
                </p:nvSpPr>
                <p:spPr>
                  <a:xfrm rot="18213000">
                    <a:off x="2859120" y="21067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5" name=""/>
                  <p:cNvSpPr/>
                  <p:nvPr/>
                </p:nvSpPr>
                <p:spPr>
                  <a:xfrm flipH="1">
                    <a:off x="2878200" y="2159280"/>
                    <a:ext cx="885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6" name=""/>
                  <p:cNvSpPr/>
                  <p:nvPr/>
                </p:nvSpPr>
                <p:spPr>
                  <a:xfrm flipH="1" flipV="1">
                    <a:off x="2919240" y="215532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7" name=""/>
                  <p:cNvSpPr/>
                  <p:nvPr/>
                </p:nvSpPr>
                <p:spPr>
                  <a:xfrm flipH="1">
                    <a:off x="2903400" y="2167920"/>
                    <a:ext cx="13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8" name=""/>
                  <p:cNvSpPr/>
                  <p:nvPr/>
                </p:nvSpPr>
                <p:spPr>
                  <a:xfrm flipH="1" flipV="1">
                    <a:off x="2889000" y="21628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29" name=""/>
                <p:cNvGrpSpPr/>
                <p:nvPr/>
              </p:nvGrpSpPr>
              <p:grpSpPr>
                <a:xfrm>
                  <a:off x="2940120" y="1825560"/>
                  <a:ext cx="145080" cy="150840"/>
                  <a:chOff x="2940120" y="1825560"/>
                  <a:chExt cx="145080" cy="150840"/>
                </a:xfrm>
              </p:grpSpPr>
              <p:sp>
                <p:nvSpPr>
                  <p:cNvPr id="11330" name=""/>
                  <p:cNvSpPr/>
                  <p:nvPr/>
                </p:nvSpPr>
                <p:spPr>
                  <a:xfrm rot="2443800">
                    <a:off x="2972880" y="18352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1" name=""/>
                  <p:cNvSpPr/>
                  <p:nvPr/>
                </p:nvSpPr>
                <p:spPr>
                  <a:xfrm flipV="1">
                    <a:off x="3004200" y="1875600"/>
                    <a:ext cx="100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2" name=""/>
                  <p:cNvSpPr/>
                  <p:nvPr/>
                </p:nvSpPr>
                <p:spPr>
                  <a:xfrm flipV="1">
                    <a:off x="3011400" y="1918080"/>
                    <a:ext cx="75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3" name=""/>
                  <p:cNvSpPr/>
                  <p:nvPr/>
                </p:nvSpPr>
                <p:spPr>
                  <a:xfrm flipH="1" flipV="1">
                    <a:off x="2999160" y="190116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4" name=""/>
                  <p:cNvSpPr/>
                  <p:nvPr/>
                </p:nvSpPr>
                <p:spPr>
                  <a:xfrm flipV="1">
                    <a:off x="3014640" y="188712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35" name=""/>
                <p:cNvGrpSpPr/>
                <p:nvPr/>
              </p:nvGrpSpPr>
              <p:grpSpPr>
                <a:xfrm>
                  <a:off x="3141720" y="2050200"/>
                  <a:ext cx="145080" cy="150840"/>
                  <a:chOff x="3141720" y="2050200"/>
                  <a:chExt cx="145080" cy="150840"/>
                </a:xfrm>
              </p:grpSpPr>
              <p:sp>
                <p:nvSpPr>
                  <p:cNvPr id="11336" name=""/>
                  <p:cNvSpPr/>
                  <p:nvPr/>
                </p:nvSpPr>
                <p:spPr>
                  <a:xfrm rot="2443800">
                    <a:off x="3174480" y="20599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7" name=""/>
                  <p:cNvSpPr/>
                  <p:nvPr/>
                </p:nvSpPr>
                <p:spPr>
                  <a:xfrm flipV="1">
                    <a:off x="3205800" y="2100240"/>
                    <a:ext cx="972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8" name=""/>
                  <p:cNvSpPr/>
                  <p:nvPr/>
                </p:nvSpPr>
                <p:spPr>
                  <a:xfrm flipV="1">
                    <a:off x="3213000" y="2142720"/>
                    <a:ext cx="75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9" name=""/>
                  <p:cNvSpPr/>
                  <p:nvPr/>
                </p:nvSpPr>
                <p:spPr>
                  <a:xfrm flipH="1" flipV="1">
                    <a:off x="3200400" y="212580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0" name=""/>
                  <p:cNvSpPr/>
                  <p:nvPr/>
                </p:nvSpPr>
                <p:spPr>
                  <a:xfrm flipV="1">
                    <a:off x="3215880" y="211176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1" name=""/>
                <p:cNvGrpSpPr/>
                <p:nvPr/>
              </p:nvGrpSpPr>
              <p:grpSpPr>
                <a:xfrm>
                  <a:off x="3005640" y="1830240"/>
                  <a:ext cx="145080" cy="150480"/>
                  <a:chOff x="3005640" y="1830240"/>
                  <a:chExt cx="145080" cy="150480"/>
                </a:xfrm>
              </p:grpSpPr>
              <p:sp>
                <p:nvSpPr>
                  <p:cNvPr id="11342" name=""/>
                  <p:cNvSpPr/>
                  <p:nvPr/>
                </p:nvSpPr>
                <p:spPr>
                  <a:xfrm rot="2443800">
                    <a:off x="3038760" y="18399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3" name=""/>
                  <p:cNvSpPr/>
                  <p:nvPr/>
                </p:nvSpPr>
                <p:spPr>
                  <a:xfrm flipV="1">
                    <a:off x="3069720" y="1880280"/>
                    <a:ext cx="10080" cy="9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4" name=""/>
                  <p:cNvSpPr/>
                  <p:nvPr/>
                </p:nvSpPr>
                <p:spPr>
                  <a:xfrm flipV="1">
                    <a:off x="3076920" y="1922760"/>
                    <a:ext cx="75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5" name=""/>
                  <p:cNvSpPr/>
                  <p:nvPr/>
                </p:nvSpPr>
                <p:spPr>
                  <a:xfrm flipH="1" flipV="1">
                    <a:off x="3064680" y="190548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6" name=""/>
                  <p:cNvSpPr/>
                  <p:nvPr/>
                </p:nvSpPr>
                <p:spPr>
                  <a:xfrm flipV="1">
                    <a:off x="3080160" y="189144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47" name=""/>
                <p:cNvGrpSpPr/>
                <p:nvPr/>
              </p:nvGrpSpPr>
              <p:grpSpPr>
                <a:xfrm>
                  <a:off x="2913120" y="2250000"/>
                  <a:ext cx="142920" cy="128160"/>
                  <a:chOff x="2913120" y="2250000"/>
                  <a:chExt cx="142920" cy="128160"/>
                </a:xfrm>
              </p:grpSpPr>
              <p:sp>
                <p:nvSpPr>
                  <p:cNvPr id="11348" name=""/>
                  <p:cNvSpPr/>
                  <p:nvPr/>
                </p:nvSpPr>
                <p:spPr>
                  <a:xfrm rot="17641800">
                    <a:off x="2940480" y="22550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9" name=""/>
                  <p:cNvSpPr/>
                  <p:nvPr/>
                </p:nvSpPr>
                <p:spPr>
                  <a:xfrm flipH="1">
                    <a:off x="2961360" y="2296800"/>
                    <a:ext cx="85320" cy="25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0" name=""/>
                  <p:cNvSpPr/>
                  <p:nvPr/>
                </p:nvSpPr>
                <p:spPr>
                  <a:xfrm flipH="1" flipV="1">
                    <a:off x="2999520" y="230076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1" name=""/>
                  <p:cNvSpPr/>
                  <p:nvPr/>
                </p:nvSpPr>
                <p:spPr>
                  <a:xfrm flipH="1">
                    <a:off x="2988000" y="2313720"/>
                    <a:ext cx="115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2" name=""/>
                  <p:cNvSpPr/>
                  <p:nvPr/>
                </p:nvSpPr>
                <p:spPr>
                  <a:xfrm flipH="1">
                    <a:off x="2970720" y="2313360"/>
                    <a:ext cx="115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3" name=""/>
                <p:cNvGrpSpPr/>
                <p:nvPr/>
              </p:nvGrpSpPr>
              <p:grpSpPr>
                <a:xfrm>
                  <a:off x="2865240" y="2187720"/>
                  <a:ext cx="131040" cy="107280"/>
                  <a:chOff x="2865240" y="2187720"/>
                  <a:chExt cx="131040" cy="107280"/>
                </a:xfrm>
              </p:grpSpPr>
              <p:sp>
                <p:nvSpPr>
                  <p:cNvPr id="11354" name=""/>
                  <p:cNvSpPr/>
                  <p:nvPr/>
                </p:nvSpPr>
                <p:spPr>
                  <a:xfrm rot="16802400">
                    <a:off x="2886480" y="21823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5" name=""/>
                  <p:cNvSpPr/>
                  <p:nvPr/>
                </p:nvSpPr>
                <p:spPr>
                  <a:xfrm flipH="1">
                    <a:off x="2909880" y="2210040"/>
                    <a:ext cx="76680" cy="45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6" name=""/>
                  <p:cNvSpPr/>
                  <p:nvPr/>
                </p:nvSpPr>
                <p:spPr>
                  <a:xfrm flipH="1">
                    <a:off x="2941560" y="222228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7" name=""/>
                  <p:cNvSpPr/>
                  <p:nvPr/>
                </p:nvSpPr>
                <p:spPr>
                  <a:xfrm flipH="1">
                    <a:off x="2936880" y="2237760"/>
                    <a:ext cx="79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8" name=""/>
                  <p:cNvSpPr/>
                  <p:nvPr/>
                </p:nvSpPr>
                <p:spPr>
                  <a:xfrm flipH="1">
                    <a:off x="2917080" y="2240640"/>
                    <a:ext cx="111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9" name=""/>
                <p:cNvGrpSpPr/>
                <p:nvPr/>
              </p:nvGrpSpPr>
              <p:grpSpPr>
                <a:xfrm>
                  <a:off x="2826000" y="1911240"/>
                  <a:ext cx="146520" cy="141120"/>
                  <a:chOff x="2826000" y="1911240"/>
                  <a:chExt cx="146520" cy="141120"/>
                </a:xfrm>
              </p:grpSpPr>
              <p:sp>
                <p:nvSpPr>
                  <p:cNvPr id="11360" name=""/>
                  <p:cNvSpPr/>
                  <p:nvPr/>
                </p:nvSpPr>
                <p:spPr>
                  <a:xfrm rot="18454200">
                    <a:off x="2855160" y="19227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1" name=""/>
                  <p:cNvSpPr/>
                  <p:nvPr/>
                </p:nvSpPr>
                <p:spPr>
                  <a:xfrm flipH="1">
                    <a:off x="2874600" y="1979640"/>
                    <a:ext cx="8892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2" name=""/>
                  <p:cNvSpPr/>
                  <p:nvPr/>
                </p:nvSpPr>
                <p:spPr>
                  <a:xfrm flipH="1" flipV="1">
                    <a:off x="2916720" y="19720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3" name=""/>
                  <p:cNvSpPr/>
                  <p:nvPr/>
                </p:nvSpPr>
                <p:spPr>
                  <a:xfrm flipH="1">
                    <a:off x="2899080" y="1984680"/>
                    <a:ext cx="147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4" name=""/>
                  <p:cNvSpPr/>
                  <p:nvPr/>
                </p:nvSpPr>
                <p:spPr>
                  <a:xfrm flipH="1" flipV="1">
                    <a:off x="2885760" y="1978200"/>
                    <a:ext cx="115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65" name=""/>
                <p:cNvGrpSpPr/>
                <p:nvPr/>
              </p:nvGrpSpPr>
              <p:grpSpPr>
                <a:xfrm>
                  <a:off x="2791440" y="1991520"/>
                  <a:ext cx="139320" cy="121320"/>
                  <a:chOff x="2791440" y="1991520"/>
                  <a:chExt cx="139320" cy="121320"/>
                </a:xfrm>
              </p:grpSpPr>
              <p:sp>
                <p:nvSpPr>
                  <p:cNvPr id="11366" name=""/>
                  <p:cNvSpPr/>
                  <p:nvPr/>
                </p:nvSpPr>
                <p:spPr>
                  <a:xfrm rot="17325000">
                    <a:off x="2817000" y="19933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7" name=""/>
                  <p:cNvSpPr/>
                  <p:nvPr/>
                </p:nvSpPr>
                <p:spPr>
                  <a:xfrm flipH="1">
                    <a:off x="2838600" y="2029680"/>
                    <a:ext cx="82800" cy="33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8" name=""/>
                  <p:cNvSpPr/>
                  <p:nvPr/>
                </p:nvSpPr>
                <p:spPr>
                  <a:xfrm flipH="1">
                    <a:off x="2874600" y="20372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9" name=""/>
                  <p:cNvSpPr/>
                  <p:nvPr/>
                </p:nvSpPr>
                <p:spPr>
                  <a:xfrm flipH="1">
                    <a:off x="2865600" y="2050920"/>
                    <a:ext cx="104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0" name=""/>
                  <p:cNvSpPr/>
                  <p:nvPr/>
                </p:nvSpPr>
                <p:spPr>
                  <a:xfrm flipH="1">
                    <a:off x="2847600" y="2050920"/>
                    <a:ext cx="115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1" name=""/>
                <p:cNvGrpSpPr/>
                <p:nvPr/>
              </p:nvGrpSpPr>
              <p:grpSpPr>
                <a:xfrm>
                  <a:off x="2868480" y="2028240"/>
                  <a:ext cx="144720" cy="132120"/>
                  <a:chOff x="2868480" y="2028240"/>
                  <a:chExt cx="144720" cy="132120"/>
                </a:xfrm>
              </p:grpSpPr>
              <p:sp>
                <p:nvSpPr>
                  <p:cNvPr id="11372" name=""/>
                  <p:cNvSpPr/>
                  <p:nvPr/>
                </p:nvSpPr>
                <p:spPr>
                  <a:xfrm rot="17845200">
                    <a:off x="2896560" y="20354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3" name=""/>
                  <p:cNvSpPr/>
                  <p:nvPr/>
                </p:nvSpPr>
                <p:spPr>
                  <a:xfrm flipH="1">
                    <a:off x="2916720" y="2081160"/>
                    <a:ext cx="8676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4" name=""/>
                  <p:cNvSpPr/>
                  <p:nvPr/>
                </p:nvSpPr>
                <p:spPr>
                  <a:xfrm flipH="1" flipV="1">
                    <a:off x="2955960" y="208224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5" name=""/>
                  <p:cNvSpPr/>
                  <p:nvPr/>
                </p:nvSpPr>
                <p:spPr>
                  <a:xfrm flipH="1">
                    <a:off x="2943000" y="2095200"/>
                    <a:ext cx="1260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6" name=""/>
                  <p:cNvSpPr/>
                  <p:nvPr/>
                </p:nvSpPr>
                <p:spPr>
                  <a:xfrm flipH="1">
                    <a:off x="2926800" y="2093760"/>
                    <a:ext cx="1152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77" name=""/>
                <p:cNvGrpSpPr/>
                <p:nvPr/>
              </p:nvGrpSpPr>
              <p:grpSpPr>
                <a:xfrm>
                  <a:off x="2933280" y="1894680"/>
                  <a:ext cx="140040" cy="146520"/>
                  <a:chOff x="2933280" y="1894680"/>
                  <a:chExt cx="140040" cy="146520"/>
                </a:xfrm>
              </p:grpSpPr>
              <p:sp>
                <p:nvSpPr>
                  <p:cNvPr id="11378" name=""/>
                  <p:cNvSpPr/>
                  <p:nvPr/>
                </p:nvSpPr>
                <p:spPr>
                  <a:xfrm rot="19429200">
                    <a:off x="2959200" y="19090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9" name=""/>
                  <p:cNvSpPr/>
                  <p:nvPr/>
                </p:nvSpPr>
                <p:spPr>
                  <a:xfrm flipH="1" flipV="1">
                    <a:off x="2978640" y="1963440"/>
                    <a:ext cx="86760" cy="20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0" name=""/>
                  <p:cNvSpPr/>
                  <p:nvPr/>
                </p:nvSpPr>
                <p:spPr>
                  <a:xfrm flipH="1" flipV="1">
                    <a:off x="3022560" y="196380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1" name=""/>
                  <p:cNvSpPr/>
                  <p:nvPr/>
                </p:nvSpPr>
                <p:spPr>
                  <a:xfrm flipH="1">
                    <a:off x="2999160" y="1974960"/>
                    <a:ext cx="169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2" name=""/>
                  <p:cNvSpPr/>
                  <p:nvPr/>
                </p:nvSpPr>
                <p:spPr>
                  <a:xfrm flipH="1" flipV="1">
                    <a:off x="2990880" y="19609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3" name=""/>
                <p:cNvGrpSpPr/>
                <p:nvPr/>
              </p:nvGrpSpPr>
              <p:grpSpPr>
                <a:xfrm>
                  <a:off x="3080880" y="2057400"/>
                  <a:ext cx="83520" cy="133560"/>
                  <a:chOff x="3080880" y="2057400"/>
                  <a:chExt cx="83520" cy="133560"/>
                </a:xfrm>
              </p:grpSpPr>
              <p:sp>
                <p:nvSpPr>
                  <p:cNvPr id="11384" name=""/>
                  <p:cNvSpPr/>
                  <p:nvPr/>
                </p:nvSpPr>
                <p:spPr>
                  <a:xfrm rot="21480000">
                    <a:off x="3083040" y="20588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5" name=""/>
                  <p:cNvSpPr/>
                  <p:nvPr/>
                </p:nvSpPr>
                <p:spPr>
                  <a:xfrm flipH="1" flipV="1">
                    <a:off x="3106800" y="2104920"/>
                    <a:ext cx="54360" cy="73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6" name=""/>
                  <p:cNvSpPr/>
                  <p:nvPr/>
                </p:nvSpPr>
                <p:spPr>
                  <a:xfrm flipH="1" flipV="1">
                    <a:off x="3138840" y="2133000"/>
                    <a:ext cx="57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7" name=""/>
                  <p:cNvSpPr/>
                  <p:nvPr/>
                </p:nvSpPr>
                <p:spPr>
                  <a:xfrm flipH="1" flipV="1">
                    <a:off x="3112920" y="2133720"/>
                    <a:ext cx="1548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8" name=""/>
                  <p:cNvSpPr/>
                  <p:nvPr/>
                </p:nvSpPr>
                <p:spPr>
                  <a:xfrm flipH="1" flipV="1">
                    <a:off x="3117240" y="2110320"/>
                    <a:ext cx="54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89" name=""/>
                <p:cNvGrpSpPr/>
                <p:nvPr/>
              </p:nvGrpSpPr>
              <p:grpSpPr>
                <a:xfrm>
                  <a:off x="3225240" y="2105640"/>
                  <a:ext cx="141480" cy="124560"/>
                  <a:chOff x="3225240" y="2105640"/>
                  <a:chExt cx="141480" cy="124560"/>
                </a:xfrm>
              </p:grpSpPr>
              <p:sp>
                <p:nvSpPr>
                  <p:cNvPr id="11390" name=""/>
                  <p:cNvSpPr/>
                  <p:nvPr/>
                </p:nvSpPr>
                <p:spPr>
                  <a:xfrm rot="6676200">
                    <a:off x="3251880" y="21092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1" name=""/>
                  <p:cNvSpPr/>
                  <p:nvPr/>
                </p:nvSpPr>
                <p:spPr>
                  <a:xfrm flipV="1">
                    <a:off x="3235320" y="2158200"/>
                    <a:ext cx="83880" cy="29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2" name=""/>
                  <p:cNvSpPr/>
                  <p:nvPr/>
                </p:nvSpPr>
                <p:spPr>
                  <a:xfrm>
                    <a:off x="3265920" y="2181600"/>
                    <a:ext cx="165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3" name=""/>
                  <p:cNvSpPr/>
                  <p:nvPr/>
                </p:nvSpPr>
                <p:spPr>
                  <a:xfrm flipV="1">
                    <a:off x="3281760" y="2154240"/>
                    <a:ext cx="1080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4" name=""/>
                  <p:cNvSpPr/>
                  <p:nvPr/>
                </p:nvSpPr>
                <p:spPr>
                  <a:xfrm flipV="1">
                    <a:off x="3298320" y="216792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95" name=""/>
                <p:cNvGrpSpPr/>
                <p:nvPr/>
              </p:nvGrpSpPr>
              <p:grpSpPr>
                <a:xfrm>
                  <a:off x="3214080" y="2224440"/>
                  <a:ext cx="142560" cy="127440"/>
                  <a:chOff x="3214080" y="2224440"/>
                  <a:chExt cx="142560" cy="127440"/>
                </a:xfrm>
              </p:grpSpPr>
              <p:sp>
                <p:nvSpPr>
                  <p:cNvPr id="11396" name=""/>
                  <p:cNvSpPr/>
                  <p:nvPr/>
                </p:nvSpPr>
                <p:spPr>
                  <a:xfrm rot="6796200">
                    <a:off x="3241080" y="22294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7" name=""/>
                  <p:cNvSpPr/>
                  <p:nvPr/>
                </p:nvSpPr>
                <p:spPr>
                  <a:xfrm flipV="1">
                    <a:off x="3223800" y="2279160"/>
                    <a:ext cx="8496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8" name=""/>
                  <p:cNvSpPr/>
                  <p:nvPr/>
                </p:nvSpPr>
                <p:spPr>
                  <a:xfrm>
                    <a:off x="3254400" y="23007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9" name=""/>
                  <p:cNvSpPr/>
                  <p:nvPr/>
                </p:nvSpPr>
                <p:spPr>
                  <a:xfrm flipV="1">
                    <a:off x="3270600" y="2274480"/>
                    <a:ext cx="1152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0" name=""/>
                  <p:cNvSpPr/>
                  <p:nvPr/>
                </p:nvSpPr>
                <p:spPr>
                  <a:xfrm flipV="1">
                    <a:off x="3287520" y="228852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1" name=""/>
                <p:cNvGrpSpPr/>
                <p:nvPr/>
              </p:nvGrpSpPr>
              <p:grpSpPr>
                <a:xfrm>
                  <a:off x="2986920" y="2158920"/>
                  <a:ext cx="92520" cy="138600"/>
                  <a:chOff x="2986920" y="2158920"/>
                  <a:chExt cx="92520" cy="138600"/>
                </a:xfrm>
              </p:grpSpPr>
              <p:sp>
                <p:nvSpPr>
                  <p:cNvPr id="11402" name=""/>
                  <p:cNvSpPr/>
                  <p:nvPr/>
                </p:nvSpPr>
                <p:spPr>
                  <a:xfrm rot="369000">
                    <a:off x="2993400" y="21625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3" name=""/>
                  <p:cNvSpPr/>
                  <p:nvPr/>
                </p:nvSpPr>
                <p:spPr>
                  <a:xfrm flipH="1" flipV="1">
                    <a:off x="3020040" y="2206800"/>
                    <a:ext cx="4320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4" name=""/>
                  <p:cNvSpPr/>
                  <p:nvPr/>
                </p:nvSpPr>
                <p:spPr>
                  <a:xfrm flipH="1" flipV="1">
                    <a:off x="3047760" y="2239200"/>
                    <a:ext cx="32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5" name=""/>
                  <p:cNvSpPr/>
                  <p:nvPr/>
                </p:nvSpPr>
                <p:spPr>
                  <a:xfrm flipH="1" flipV="1">
                    <a:off x="3021840" y="2236320"/>
                    <a:ext cx="14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6" name=""/>
                  <p:cNvSpPr/>
                  <p:nvPr/>
                </p:nvSpPr>
                <p:spPr>
                  <a:xfrm flipH="1" flipV="1">
                    <a:off x="3029760" y="2214000"/>
                    <a:ext cx="36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07" name=""/>
                <p:cNvGrpSpPr/>
                <p:nvPr/>
              </p:nvGrpSpPr>
              <p:grpSpPr>
                <a:xfrm>
                  <a:off x="2892600" y="2059200"/>
                  <a:ext cx="97200" cy="123840"/>
                  <a:chOff x="2892600" y="2059200"/>
                  <a:chExt cx="97200" cy="123840"/>
                </a:xfrm>
              </p:grpSpPr>
              <p:sp>
                <p:nvSpPr>
                  <p:cNvPr id="11408" name=""/>
                  <p:cNvSpPr/>
                  <p:nvPr/>
                </p:nvSpPr>
                <p:spPr>
                  <a:xfrm rot="21334200">
                    <a:off x="2896920" y="20624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9" name=""/>
                  <p:cNvSpPr/>
                  <p:nvPr/>
                </p:nvSpPr>
                <p:spPr>
                  <a:xfrm flipH="1" flipV="1">
                    <a:off x="2922480" y="2104560"/>
                    <a:ext cx="6336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0" name=""/>
                  <p:cNvSpPr/>
                  <p:nvPr/>
                </p:nvSpPr>
                <p:spPr>
                  <a:xfrm flipH="1" flipV="1">
                    <a:off x="2959920" y="212760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1" name=""/>
                  <p:cNvSpPr/>
                  <p:nvPr/>
                </p:nvSpPr>
                <p:spPr>
                  <a:xfrm flipH="1" flipV="1">
                    <a:off x="2930760" y="2130120"/>
                    <a:ext cx="176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2" name=""/>
                  <p:cNvSpPr/>
                  <p:nvPr/>
                </p:nvSpPr>
                <p:spPr>
                  <a:xfrm flipH="1" flipV="1">
                    <a:off x="2935080" y="2108520"/>
                    <a:ext cx="6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3" name=""/>
                <p:cNvGrpSpPr/>
                <p:nvPr/>
              </p:nvGrpSpPr>
              <p:grpSpPr>
                <a:xfrm>
                  <a:off x="2848680" y="1917720"/>
                  <a:ext cx="101520" cy="127080"/>
                  <a:chOff x="2848680" y="1917720"/>
                  <a:chExt cx="101520" cy="127080"/>
                </a:xfrm>
              </p:grpSpPr>
              <p:sp>
                <p:nvSpPr>
                  <p:cNvPr id="11414" name=""/>
                  <p:cNvSpPr/>
                  <p:nvPr/>
                </p:nvSpPr>
                <p:spPr>
                  <a:xfrm rot="21174000">
                    <a:off x="2855520" y="192240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5" name=""/>
                  <p:cNvSpPr/>
                  <p:nvPr/>
                </p:nvSpPr>
                <p:spPr>
                  <a:xfrm flipH="1" flipV="1">
                    <a:off x="2880000" y="1965960"/>
                    <a:ext cx="65880" cy="59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6" name=""/>
                  <p:cNvSpPr/>
                  <p:nvPr/>
                </p:nvSpPr>
                <p:spPr>
                  <a:xfrm flipH="1" flipV="1">
                    <a:off x="2918160" y="198720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7" name=""/>
                  <p:cNvSpPr/>
                  <p:nvPr/>
                </p:nvSpPr>
                <p:spPr>
                  <a:xfrm flipH="1" flipV="1">
                    <a:off x="2889360" y="1991160"/>
                    <a:ext cx="176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8" name=""/>
                  <p:cNvSpPr/>
                  <p:nvPr/>
                </p:nvSpPr>
                <p:spPr>
                  <a:xfrm flipH="1" flipV="1">
                    <a:off x="2892240" y="1969560"/>
                    <a:ext cx="64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19" name=""/>
                <p:cNvGrpSpPr/>
                <p:nvPr/>
              </p:nvGrpSpPr>
              <p:grpSpPr>
                <a:xfrm>
                  <a:off x="2891520" y="1843560"/>
                  <a:ext cx="86760" cy="135000"/>
                  <a:chOff x="2891520" y="1843560"/>
                  <a:chExt cx="86760" cy="135000"/>
                </a:xfrm>
              </p:grpSpPr>
              <p:sp>
                <p:nvSpPr>
                  <p:cNvPr id="11420" name=""/>
                  <p:cNvSpPr/>
                  <p:nvPr/>
                </p:nvSpPr>
                <p:spPr>
                  <a:xfrm rot="205800">
                    <a:off x="2895120" y="18457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1" name=""/>
                  <p:cNvSpPr/>
                  <p:nvPr/>
                </p:nvSpPr>
                <p:spPr>
                  <a:xfrm flipH="1" flipV="1">
                    <a:off x="2920680" y="1890000"/>
                    <a:ext cx="4752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2" name=""/>
                  <p:cNvSpPr/>
                  <p:nvPr/>
                </p:nvSpPr>
                <p:spPr>
                  <a:xfrm flipH="1" flipV="1">
                    <a:off x="2950200" y="1920960"/>
                    <a:ext cx="396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3" name=""/>
                  <p:cNvSpPr/>
                  <p:nvPr/>
                </p:nvSpPr>
                <p:spPr>
                  <a:xfrm flipH="1" flipV="1">
                    <a:off x="2923920" y="191952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4" name=""/>
                  <p:cNvSpPr/>
                  <p:nvPr/>
                </p:nvSpPr>
                <p:spPr>
                  <a:xfrm flipH="1" flipV="1">
                    <a:off x="2930760" y="18964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25" name=""/>
              <p:cNvGrpSpPr/>
              <p:nvPr/>
            </p:nvGrpSpPr>
            <p:grpSpPr>
              <a:xfrm>
                <a:off x="2232720" y="1708560"/>
                <a:ext cx="657000" cy="541800"/>
                <a:chOff x="2232720" y="1708560"/>
                <a:chExt cx="657000" cy="541800"/>
              </a:xfrm>
            </p:grpSpPr>
            <p:grpSp>
              <p:nvGrpSpPr>
                <p:cNvPr id="11426" name=""/>
                <p:cNvGrpSpPr/>
                <p:nvPr/>
              </p:nvGrpSpPr>
              <p:grpSpPr>
                <a:xfrm>
                  <a:off x="2442240" y="1775880"/>
                  <a:ext cx="139320" cy="146880"/>
                  <a:chOff x="2442240" y="1775880"/>
                  <a:chExt cx="139320" cy="146880"/>
                </a:xfrm>
              </p:grpSpPr>
              <p:sp>
                <p:nvSpPr>
                  <p:cNvPr id="11427" name=""/>
                  <p:cNvSpPr/>
                  <p:nvPr/>
                </p:nvSpPr>
                <p:spPr>
                  <a:xfrm rot="2086800">
                    <a:off x="2467800" y="17902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8" name=""/>
                  <p:cNvSpPr/>
                  <p:nvPr/>
                </p:nvSpPr>
                <p:spPr>
                  <a:xfrm flipH="1" flipV="1">
                    <a:off x="2508120" y="1824480"/>
                    <a:ext cx="864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9" name=""/>
                  <p:cNvSpPr/>
                  <p:nvPr/>
                </p:nvSpPr>
                <p:spPr>
                  <a:xfrm flipV="1">
                    <a:off x="2518200" y="186588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0" name=""/>
                  <p:cNvSpPr/>
                  <p:nvPr/>
                </p:nvSpPr>
                <p:spPr>
                  <a:xfrm flipH="1" flipV="1">
                    <a:off x="2498040" y="1849680"/>
                    <a:ext cx="1116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1" name=""/>
                  <p:cNvSpPr/>
                  <p:nvPr/>
                </p:nvSpPr>
                <p:spPr>
                  <a:xfrm flipV="1">
                    <a:off x="2513880" y="183564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2" name=""/>
                <p:cNvSpPr/>
                <p:nvPr/>
              </p:nvSpPr>
              <p:spPr>
                <a:xfrm flipH="1">
                  <a:off x="2556000" y="1969200"/>
                  <a:ext cx="135360" cy="119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3" name=""/>
                <p:cNvSpPr/>
                <p:nvPr/>
              </p:nvSpPr>
              <p:spPr>
                <a:xfrm rot="19871400">
                  <a:off x="2415960" y="1905120"/>
                  <a:ext cx="439560" cy="25488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4" name=""/>
                <p:cNvSpPr/>
                <p:nvPr/>
              </p:nvSpPr>
              <p:spPr>
                <a:xfrm flipH="1" flipV="1">
                  <a:off x="2427120" y="1890720"/>
                  <a:ext cx="127440" cy="86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5" name=""/>
                <p:cNvSpPr/>
                <p:nvPr/>
              </p:nvSpPr>
              <p:spPr>
                <a:xfrm flipH="1" flipV="1">
                  <a:off x="2659320" y="1874160"/>
                  <a:ext cx="206280" cy="15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6" name=""/>
                <p:cNvSpPr/>
                <p:nvPr/>
              </p:nvSpPr>
              <p:spPr>
                <a:xfrm flipH="1">
                  <a:off x="2611440" y="2028960"/>
                  <a:ext cx="11880" cy="51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7" name=""/>
                <p:cNvSpPr/>
                <p:nvPr/>
              </p:nvSpPr>
              <p:spPr>
                <a:xfrm flipH="1">
                  <a:off x="2604600" y="1985760"/>
                  <a:ext cx="554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8" name=""/>
                <p:cNvSpPr/>
                <p:nvPr/>
              </p:nvSpPr>
              <p:spPr>
                <a:xfrm flipH="1" flipV="1">
                  <a:off x="2405520" y="1924560"/>
                  <a:ext cx="9000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9" name=""/>
                <p:cNvSpPr/>
                <p:nvPr/>
              </p:nvSpPr>
              <p:spPr>
                <a:xfrm flipH="1" flipV="1">
                  <a:off x="2507400" y="1890720"/>
                  <a:ext cx="1296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0" name=""/>
                <p:cNvSpPr/>
                <p:nvPr/>
              </p:nvSpPr>
              <p:spPr>
                <a:xfrm flipH="1">
                  <a:off x="2425680" y="2010600"/>
                  <a:ext cx="2700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1" name=""/>
                <p:cNvSpPr/>
                <p:nvPr/>
              </p:nvSpPr>
              <p:spPr>
                <a:xfrm flipH="1" flipV="1">
                  <a:off x="2607480" y="1925640"/>
                  <a:ext cx="154800" cy="26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2" name=""/>
                <p:cNvSpPr/>
                <p:nvPr/>
              </p:nvSpPr>
              <p:spPr>
                <a:xfrm flipH="1" flipV="1">
                  <a:off x="2638440" y="1908720"/>
                  <a:ext cx="33840" cy="2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3" name=""/>
                <p:cNvSpPr/>
                <p:nvPr/>
              </p:nvSpPr>
              <p:spPr>
                <a:xfrm flipH="1" flipV="1">
                  <a:off x="2773800" y="1900800"/>
                  <a:ext cx="22680" cy="76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4" name=""/>
                <p:cNvSpPr/>
                <p:nvPr/>
              </p:nvSpPr>
              <p:spPr>
                <a:xfrm flipH="1" flipV="1">
                  <a:off x="2665080" y="1848600"/>
                  <a:ext cx="28440" cy="51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5" name=""/>
                <p:cNvSpPr/>
                <p:nvPr/>
              </p:nvSpPr>
              <p:spPr>
                <a:xfrm flipH="1">
                  <a:off x="2714040" y="1995120"/>
                  <a:ext cx="51480" cy="51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6" name=""/>
                <p:cNvSpPr/>
                <p:nvPr/>
              </p:nvSpPr>
              <p:spPr>
                <a:xfrm flipH="1">
                  <a:off x="2487240" y="1993680"/>
                  <a:ext cx="36720" cy="42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7" name=""/>
                <p:cNvSpPr/>
                <p:nvPr/>
              </p:nvSpPr>
              <p:spPr>
                <a:xfrm flipH="1" flipV="1">
                  <a:off x="2378160" y="1984680"/>
                  <a:ext cx="342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448" name=""/>
                <p:cNvGrpSpPr/>
                <p:nvPr/>
              </p:nvGrpSpPr>
              <p:grpSpPr>
                <a:xfrm>
                  <a:off x="2365560" y="1777320"/>
                  <a:ext cx="79560" cy="131400"/>
                  <a:chOff x="2365560" y="1777320"/>
                  <a:chExt cx="79560" cy="131400"/>
                </a:xfrm>
              </p:grpSpPr>
              <p:sp>
                <p:nvSpPr>
                  <p:cNvPr id="11449" name=""/>
                  <p:cNvSpPr/>
                  <p:nvPr/>
                </p:nvSpPr>
                <p:spPr>
                  <a:xfrm rot="16800">
                    <a:off x="2365920" y="177732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0" name=""/>
                  <p:cNvSpPr/>
                  <p:nvPr/>
                </p:nvSpPr>
                <p:spPr>
                  <a:xfrm flipH="1" flipV="1">
                    <a:off x="2390400" y="1822680"/>
                    <a:ext cx="51480" cy="75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1" name=""/>
                  <p:cNvSpPr/>
                  <p:nvPr/>
                </p:nvSpPr>
                <p:spPr>
                  <a:xfrm flipH="1" flipV="1">
                    <a:off x="2421360" y="185220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2" name=""/>
                  <p:cNvSpPr/>
                  <p:nvPr/>
                </p:nvSpPr>
                <p:spPr>
                  <a:xfrm flipH="1" flipV="1">
                    <a:off x="2395080" y="185184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3" name=""/>
                  <p:cNvSpPr/>
                  <p:nvPr/>
                </p:nvSpPr>
                <p:spPr>
                  <a:xfrm flipH="1" flipV="1">
                    <a:off x="2400840" y="1828800"/>
                    <a:ext cx="46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54" name=""/>
                <p:cNvGrpSpPr/>
                <p:nvPr/>
              </p:nvGrpSpPr>
              <p:grpSpPr>
                <a:xfrm>
                  <a:off x="2470680" y="1918080"/>
                  <a:ext cx="151920" cy="142200"/>
                  <a:chOff x="2470680" y="1918080"/>
                  <a:chExt cx="151920" cy="142200"/>
                </a:xfrm>
              </p:grpSpPr>
              <p:sp>
                <p:nvSpPr>
                  <p:cNvPr id="11455" name=""/>
                  <p:cNvSpPr/>
                  <p:nvPr/>
                </p:nvSpPr>
                <p:spPr>
                  <a:xfrm rot="18458400">
                    <a:off x="2507040" y="192348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6" name=""/>
                  <p:cNvSpPr/>
                  <p:nvPr/>
                </p:nvSpPr>
                <p:spPr>
                  <a:xfrm flipH="1" flipV="1">
                    <a:off x="2521440" y="1989000"/>
                    <a:ext cx="914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7" name=""/>
                  <p:cNvSpPr/>
                  <p:nvPr/>
                </p:nvSpPr>
                <p:spPr>
                  <a:xfrm flipH="1" flipV="1">
                    <a:off x="2563560" y="1981800"/>
                    <a:ext cx="165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8" name=""/>
                  <p:cNvSpPr/>
                  <p:nvPr/>
                </p:nvSpPr>
                <p:spPr>
                  <a:xfrm flipH="1">
                    <a:off x="2547360" y="199404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9" name=""/>
                  <p:cNvSpPr/>
                  <p:nvPr/>
                </p:nvSpPr>
                <p:spPr>
                  <a:xfrm flipH="1" flipV="1">
                    <a:off x="2532600" y="1984320"/>
                    <a:ext cx="1224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0" name=""/>
                <p:cNvGrpSpPr/>
                <p:nvPr/>
              </p:nvGrpSpPr>
              <p:grpSpPr>
                <a:xfrm>
                  <a:off x="2489040" y="1818360"/>
                  <a:ext cx="132120" cy="152640"/>
                  <a:chOff x="2489040" y="1818360"/>
                  <a:chExt cx="132120" cy="152640"/>
                </a:xfrm>
              </p:grpSpPr>
              <p:sp>
                <p:nvSpPr>
                  <p:cNvPr id="11461" name=""/>
                  <p:cNvSpPr/>
                  <p:nvPr/>
                </p:nvSpPr>
                <p:spPr>
                  <a:xfrm rot="19871400">
                    <a:off x="2515320" y="18291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2" name=""/>
                  <p:cNvSpPr/>
                  <p:nvPr/>
                </p:nvSpPr>
                <p:spPr>
                  <a:xfrm flipH="1" flipV="1">
                    <a:off x="2532240" y="1884600"/>
                    <a:ext cx="8172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3" name=""/>
                  <p:cNvSpPr/>
                  <p:nvPr/>
                </p:nvSpPr>
                <p:spPr>
                  <a:xfrm flipH="1" flipV="1">
                    <a:off x="2573640" y="1895040"/>
                    <a:ext cx="12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4" name=""/>
                  <p:cNvSpPr/>
                  <p:nvPr/>
                </p:nvSpPr>
                <p:spPr>
                  <a:xfrm flipH="1">
                    <a:off x="2550600" y="1905120"/>
                    <a:ext cx="162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5" name=""/>
                  <p:cNvSpPr/>
                  <p:nvPr/>
                </p:nvSpPr>
                <p:spPr>
                  <a:xfrm flipH="1" flipV="1">
                    <a:off x="2544120" y="1884600"/>
                    <a:ext cx="97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66" name=""/>
                <p:cNvGrpSpPr/>
                <p:nvPr/>
              </p:nvGrpSpPr>
              <p:grpSpPr>
                <a:xfrm>
                  <a:off x="2462760" y="2079000"/>
                  <a:ext cx="146880" cy="140400"/>
                  <a:chOff x="2462760" y="2079000"/>
                  <a:chExt cx="146880" cy="140400"/>
                </a:xfrm>
              </p:grpSpPr>
              <p:sp>
                <p:nvSpPr>
                  <p:cNvPr id="11467" name=""/>
                  <p:cNvSpPr/>
                  <p:nvPr/>
                </p:nvSpPr>
                <p:spPr>
                  <a:xfrm rot="14040600">
                    <a:off x="2491920" y="209052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8" name=""/>
                  <p:cNvSpPr/>
                  <p:nvPr/>
                </p:nvSpPr>
                <p:spPr>
                  <a:xfrm flipH="1">
                    <a:off x="2531520" y="2087280"/>
                    <a:ext cx="20880" cy="86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9" name=""/>
                  <p:cNvSpPr/>
                  <p:nvPr/>
                </p:nvSpPr>
                <p:spPr>
                  <a:xfrm flipH="1">
                    <a:off x="2531880" y="2116440"/>
                    <a:ext cx="90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0" name=""/>
                  <p:cNvSpPr/>
                  <p:nvPr/>
                </p:nvSpPr>
                <p:spPr>
                  <a:xfrm>
                    <a:off x="2543400" y="2136600"/>
                    <a:ext cx="57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1" name=""/>
                  <p:cNvSpPr/>
                  <p:nvPr/>
                </p:nvSpPr>
                <p:spPr>
                  <a:xfrm flipH="1">
                    <a:off x="2528640" y="2150280"/>
                    <a:ext cx="50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72" name=""/>
                <p:cNvGrpSpPr/>
                <p:nvPr/>
              </p:nvGrpSpPr>
              <p:grpSpPr>
                <a:xfrm>
                  <a:off x="2260080" y="1877040"/>
                  <a:ext cx="132120" cy="153000"/>
                  <a:chOff x="2260080" y="1877040"/>
                  <a:chExt cx="132120" cy="153000"/>
                </a:xfrm>
              </p:grpSpPr>
              <p:sp>
                <p:nvSpPr>
                  <p:cNvPr id="11473" name=""/>
                  <p:cNvSpPr/>
                  <p:nvPr/>
                </p:nvSpPr>
                <p:spPr>
                  <a:xfrm rot="19871400">
                    <a:off x="2286720" y="18878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4" name=""/>
                  <p:cNvSpPr/>
                  <p:nvPr/>
                </p:nvSpPr>
                <p:spPr>
                  <a:xfrm flipH="1" flipV="1">
                    <a:off x="2303280" y="1943640"/>
                    <a:ext cx="8172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5" name=""/>
                  <p:cNvSpPr/>
                  <p:nvPr/>
                </p:nvSpPr>
                <p:spPr>
                  <a:xfrm flipH="1" flipV="1">
                    <a:off x="2344680" y="1954080"/>
                    <a:ext cx="12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6" name=""/>
                  <p:cNvSpPr/>
                  <p:nvPr/>
                </p:nvSpPr>
                <p:spPr>
                  <a:xfrm flipH="1">
                    <a:off x="2321640" y="1964160"/>
                    <a:ext cx="162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7" name=""/>
                  <p:cNvSpPr/>
                  <p:nvPr/>
                </p:nvSpPr>
                <p:spPr>
                  <a:xfrm flipH="1" flipV="1">
                    <a:off x="2315160" y="194364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78" name=""/>
                <p:cNvGrpSpPr/>
                <p:nvPr/>
              </p:nvGrpSpPr>
              <p:grpSpPr>
                <a:xfrm>
                  <a:off x="2541240" y="1767240"/>
                  <a:ext cx="132120" cy="153000"/>
                  <a:chOff x="2541240" y="1767240"/>
                  <a:chExt cx="132120" cy="153000"/>
                </a:xfrm>
              </p:grpSpPr>
              <p:sp>
                <p:nvSpPr>
                  <p:cNvPr id="11479" name=""/>
                  <p:cNvSpPr/>
                  <p:nvPr/>
                </p:nvSpPr>
                <p:spPr>
                  <a:xfrm rot="19871400">
                    <a:off x="2567880" y="177804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0" name=""/>
                  <p:cNvSpPr/>
                  <p:nvPr/>
                </p:nvSpPr>
                <p:spPr>
                  <a:xfrm flipH="1" flipV="1">
                    <a:off x="2584080" y="1833480"/>
                    <a:ext cx="8172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1" name=""/>
                  <p:cNvSpPr/>
                  <p:nvPr/>
                </p:nvSpPr>
                <p:spPr>
                  <a:xfrm flipH="1" flipV="1">
                    <a:off x="2625480" y="1843920"/>
                    <a:ext cx="12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2" name=""/>
                  <p:cNvSpPr/>
                  <p:nvPr/>
                </p:nvSpPr>
                <p:spPr>
                  <a:xfrm flipH="1">
                    <a:off x="2602440" y="185400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3" name=""/>
                  <p:cNvSpPr/>
                  <p:nvPr/>
                </p:nvSpPr>
                <p:spPr>
                  <a:xfrm flipH="1" flipV="1">
                    <a:off x="2596320" y="1833840"/>
                    <a:ext cx="972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84" name=""/>
                <p:cNvGrpSpPr/>
                <p:nvPr/>
              </p:nvGrpSpPr>
              <p:grpSpPr>
                <a:xfrm>
                  <a:off x="2287440" y="1817640"/>
                  <a:ext cx="132120" cy="152640"/>
                  <a:chOff x="2287440" y="1817640"/>
                  <a:chExt cx="132120" cy="152640"/>
                </a:xfrm>
              </p:grpSpPr>
              <p:sp>
                <p:nvSpPr>
                  <p:cNvPr id="11485" name=""/>
                  <p:cNvSpPr/>
                  <p:nvPr/>
                </p:nvSpPr>
                <p:spPr>
                  <a:xfrm rot="19871400">
                    <a:off x="2313720" y="182844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6" name=""/>
                  <p:cNvSpPr/>
                  <p:nvPr/>
                </p:nvSpPr>
                <p:spPr>
                  <a:xfrm flipH="1" flipV="1">
                    <a:off x="2330280" y="1883880"/>
                    <a:ext cx="82080" cy="41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7" name=""/>
                  <p:cNvSpPr/>
                  <p:nvPr/>
                </p:nvSpPr>
                <p:spPr>
                  <a:xfrm flipH="1" flipV="1">
                    <a:off x="2371680" y="1894320"/>
                    <a:ext cx="12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8" name=""/>
                  <p:cNvSpPr/>
                  <p:nvPr/>
                </p:nvSpPr>
                <p:spPr>
                  <a:xfrm flipH="1">
                    <a:off x="2348640" y="190440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9" name=""/>
                  <p:cNvSpPr/>
                  <p:nvPr/>
                </p:nvSpPr>
                <p:spPr>
                  <a:xfrm flipH="1" flipV="1">
                    <a:off x="2342160" y="1883880"/>
                    <a:ext cx="1008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0" name=""/>
                <p:cNvGrpSpPr/>
                <p:nvPr/>
              </p:nvGrpSpPr>
              <p:grpSpPr>
                <a:xfrm>
                  <a:off x="2631240" y="2051640"/>
                  <a:ext cx="144720" cy="145440"/>
                  <a:chOff x="2631240" y="2051640"/>
                  <a:chExt cx="144720" cy="145440"/>
                </a:xfrm>
              </p:grpSpPr>
              <p:sp>
                <p:nvSpPr>
                  <p:cNvPr id="11491" name=""/>
                  <p:cNvSpPr/>
                  <p:nvPr/>
                </p:nvSpPr>
                <p:spPr>
                  <a:xfrm rot="13469400">
                    <a:off x="2659680" y="20656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2" name=""/>
                  <p:cNvSpPr/>
                  <p:nvPr/>
                </p:nvSpPr>
                <p:spPr>
                  <a:xfrm flipH="1">
                    <a:off x="2703240" y="2060280"/>
                    <a:ext cx="61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3" name=""/>
                  <p:cNvSpPr/>
                  <p:nvPr/>
                </p:nvSpPr>
                <p:spPr>
                  <a:xfrm flipH="1">
                    <a:off x="2696040" y="209088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4" name=""/>
                  <p:cNvSpPr/>
                  <p:nvPr/>
                </p:nvSpPr>
                <p:spPr>
                  <a:xfrm>
                    <a:off x="2708280" y="211068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5" name=""/>
                  <p:cNvSpPr/>
                  <p:nvPr/>
                </p:nvSpPr>
                <p:spPr>
                  <a:xfrm flipH="1">
                    <a:off x="2698560" y="2126520"/>
                    <a:ext cx="3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96" name=""/>
                <p:cNvGrpSpPr/>
                <p:nvPr/>
              </p:nvGrpSpPr>
              <p:grpSpPr>
                <a:xfrm>
                  <a:off x="2548800" y="2076840"/>
                  <a:ext cx="135360" cy="145800"/>
                  <a:chOff x="2548800" y="2076840"/>
                  <a:chExt cx="135360" cy="145800"/>
                </a:xfrm>
              </p:grpSpPr>
              <p:sp>
                <p:nvSpPr>
                  <p:cNvPr id="11497" name=""/>
                  <p:cNvSpPr/>
                  <p:nvPr/>
                </p:nvSpPr>
                <p:spPr>
                  <a:xfrm rot="12630000">
                    <a:off x="2572200" y="209088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8" name=""/>
                  <p:cNvSpPr/>
                  <p:nvPr/>
                </p:nvSpPr>
                <p:spPr>
                  <a:xfrm>
                    <a:off x="2606760" y="2086200"/>
                    <a:ext cx="15840" cy="87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9" name=""/>
                  <p:cNvSpPr/>
                  <p:nvPr/>
                </p:nvSpPr>
                <p:spPr>
                  <a:xfrm flipH="1">
                    <a:off x="2605320" y="2117520"/>
                    <a:ext cx="28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0" name=""/>
                  <p:cNvSpPr/>
                  <p:nvPr/>
                </p:nvSpPr>
                <p:spPr>
                  <a:xfrm>
                    <a:off x="2618280" y="2135160"/>
                    <a:ext cx="122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1" name=""/>
                  <p:cNvSpPr/>
                  <p:nvPr/>
                </p:nvSpPr>
                <p:spPr>
                  <a:xfrm flipH="1">
                    <a:off x="2614680" y="215172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02" name=""/>
                <p:cNvGrpSpPr/>
                <p:nvPr/>
              </p:nvGrpSpPr>
              <p:grpSpPr>
                <a:xfrm>
                  <a:off x="2289240" y="2019600"/>
                  <a:ext cx="146160" cy="136800"/>
                  <a:chOff x="2289240" y="2019600"/>
                  <a:chExt cx="146160" cy="136800"/>
                </a:xfrm>
              </p:grpSpPr>
              <p:sp>
                <p:nvSpPr>
                  <p:cNvPr id="11503" name=""/>
                  <p:cNvSpPr/>
                  <p:nvPr/>
                </p:nvSpPr>
                <p:spPr>
                  <a:xfrm rot="14281800">
                    <a:off x="2318040" y="202932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4" name=""/>
                  <p:cNvSpPr/>
                  <p:nvPr/>
                </p:nvSpPr>
                <p:spPr>
                  <a:xfrm flipH="1">
                    <a:off x="2356200" y="2027160"/>
                    <a:ext cx="26640" cy="84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5" name=""/>
                  <p:cNvSpPr/>
                  <p:nvPr/>
                </p:nvSpPr>
                <p:spPr>
                  <a:xfrm flipH="1">
                    <a:off x="2359440" y="2055600"/>
                    <a:ext cx="10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6" name=""/>
                  <p:cNvSpPr/>
                  <p:nvPr/>
                </p:nvSpPr>
                <p:spPr>
                  <a:xfrm>
                    <a:off x="2370240" y="2075760"/>
                    <a:ext cx="504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7" name=""/>
                  <p:cNvSpPr/>
                  <p:nvPr/>
                </p:nvSpPr>
                <p:spPr>
                  <a:xfrm flipH="1">
                    <a:off x="2354400" y="208980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08" name=""/>
                <p:cNvGrpSpPr/>
                <p:nvPr/>
              </p:nvGrpSpPr>
              <p:grpSpPr>
                <a:xfrm>
                  <a:off x="2343600" y="2075400"/>
                  <a:ext cx="142560" cy="146520"/>
                  <a:chOff x="2343600" y="2075400"/>
                  <a:chExt cx="142560" cy="146520"/>
                </a:xfrm>
              </p:grpSpPr>
              <p:sp>
                <p:nvSpPr>
                  <p:cNvPr id="11509" name=""/>
                  <p:cNvSpPr/>
                  <p:nvPr/>
                </p:nvSpPr>
                <p:spPr>
                  <a:xfrm rot="13153200">
                    <a:off x="2370600" y="208980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0" name=""/>
                  <p:cNvSpPr/>
                  <p:nvPr/>
                </p:nvSpPr>
                <p:spPr>
                  <a:xfrm>
                    <a:off x="2415240" y="2084400"/>
                    <a:ext cx="180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1" name=""/>
                  <p:cNvSpPr/>
                  <p:nvPr/>
                </p:nvSpPr>
                <p:spPr>
                  <a:xfrm flipH="1">
                    <a:off x="2406240" y="2115360"/>
                    <a:ext cx="54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2" name=""/>
                  <p:cNvSpPr/>
                  <p:nvPr/>
                </p:nvSpPr>
                <p:spPr>
                  <a:xfrm>
                    <a:off x="2418840" y="2134440"/>
                    <a:ext cx="100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3" name=""/>
                  <p:cNvSpPr/>
                  <p:nvPr/>
                </p:nvSpPr>
                <p:spPr>
                  <a:xfrm flipH="1">
                    <a:off x="2410920" y="2149920"/>
                    <a:ext cx="21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14" name=""/>
                <p:cNvGrpSpPr/>
                <p:nvPr/>
              </p:nvGrpSpPr>
              <p:grpSpPr>
                <a:xfrm>
                  <a:off x="2409120" y="2016720"/>
                  <a:ext cx="146160" cy="144000"/>
                  <a:chOff x="2409120" y="2016720"/>
                  <a:chExt cx="146160" cy="144000"/>
                </a:xfrm>
              </p:grpSpPr>
              <p:sp>
                <p:nvSpPr>
                  <p:cNvPr id="11515" name=""/>
                  <p:cNvSpPr/>
                  <p:nvPr/>
                </p:nvSpPr>
                <p:spPr>
                  <a:xfrm rot="13672800">
                    <a:off x="2438280" y="203004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6" name=""/>
                  <p:cNvSpPr/>
                  <p:nvPr/>
                </p:nvSpPr>
                <p:spPr>
                  <a:xfrm flipH="1">
                    <a:off x="2480760" y="2025360"/>
                    <a:ext cx="115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7" name=""/>
                  <p:cNvSpPr/>
                  <p:nvPr/>
                </p:nvSpPr>
                <p:spPr>
                  <a:xfrm flipH="1">
                    <a:off x="2476440" y="205560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8" name=""/>
                  <p:cNvSpPr/>
                  <p:nvPr/>
                </p:nvSpPr>
                <p:spPr>
                  <a:xfrm>
                    <a:off x="2488320" y="2075400"/>
                    <a:ext cx="79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9" name=""/>
                  <p:cNvSpPr/>
                  <p:nvPr/>
                </p:nvSpPr>
                <p:spPr>
                  <a:xfrm flipH="1">
                    <a:off x="2476800" y="2090880"/>
                    <a:ext cx="43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20" name=""/>
                <p:cNvGrpSpPr/>
                <p:nvPr/>
              </p:nvGrpSpPr>
              <p:grpSpPr>
                <a:xfrm>
                  <a:off x="2317680" y="1927800"/>
                  <a:ext cx="136800" cy="116280"/>
                  <a:chOff x="2317680" y="1927800"/>
                  <a:chExt cx="136800" cy="116280"/>
                </a:xfrm>
              </p:grpSpPr>
              <p:sp>
                <p:nvSpPr>
                  <p:cNvPr id="11521" name=""/>
                  <p:cNvSpPr/>
                  <p:nvPr/>
                </p:nvSpPr>
                <p:spPr>
                  <a:xfrm rot="15256800">
                    <a:off x="2341800" y="192708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2" name=""/>
                  <p:cNvSpPr/>
                  <p:nvPr/>
                </p:nvSpPr>
                <p:spPr>
                  <a:xfrm flipH="1">
                    <a:off x="2373120" y="1933200"/>
                    <a:ext cx="4932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3" name=""/>
                  <p:cNvSpPr/>
                  <p:nvPr/>
                </p:nvSpPr>
                <p:spPr>
                  <a:xfrm flipH="1">
                    <a:off x="2388600" y="195696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4" name=""/>
                  <p:cNvSpPr/>
                  <p:nvPr/>
                </p:nvSpPr>
                <p:spPr>
                  <a:xfrm>
                    <a:off x="2396880" y="1976400"/>
                    <a:ext cx="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5" name=""/>
                  <p:cNvSpPr/>
                  <p:nvPr/>
                </p:nvSpPr>
                <p:spPr>
                  <a:xfrm flipH="1">
                    <a:off x="2374920" y="1987200"/>
                    <a:ext cx="86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26" name=""/>
                <p:cNvGrpSpPr/>
                <p:nvPr/>
              </p:nvGrpSpPr>
              <p:grpSpPr>
                <a:xfrm>
                  <a:off x="2499480" y="1870560"/>
                  <a:ext cx="149040" cy="116280"/>
                  <a:chOff x="2499480" y="1870560"/>
                  <a:chExt cx="149040" cy="116280"/>
                </a:xfrm>
              </p:grpSpPr>
              <p:sp>
                <p:nvSpPr>
                  <p:cNvPr id="11527" name=""/>
                  <p:cNvSpPr/>
                  <p:nvPr/>
                </p:nvSpPr>
                <p:spPr>
                  <a:xfrm rot="17308200">
                    <a:off x="2534400" y="186336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8" name=""/>
                  <p:cNvSpPr/>
                  <p:nvPr/>
                </p:nvSpPr>
                <p:spPr>
                  <a:xfrm flipH="1">
                    <a:off x="2550240" y="1911960"/>
                    <a:ext cx="88200" cy="25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9" name=""/>
                  <p:cNvSpPr/>
                  <p:nvPr/>
                </p:nvSpPr>
                <p:spPr>
                  <a:xfrm flipH="1" flipV="1">
                    <a:off x="2587680" y="1916640"/>
                    <a:ext cx="180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0" name=""/>
                  <p:cNvSpPr/>
                  <p:nvPr/>
                </p:nvSpPr>
                <p:spPr>
                  <a:xfrm flipH="1">
                    <a:off x="2579400" y="192852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1" name=""/>
                  <p:cNvSpPr/>
                  <p:nvPr/>
                </p:nvSpPr>
                <p:spPr>
                  <a:xfrm flipH="1">
                    <a:off x="2558880" y="1927800"/>
                    <a:ext cx="126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2" name=""/>
                <p:cNvGrpSpPr/>
                <p:nvPr/>
              </p:nvGrpSpPr>
              <p:grpSpPr>
                <a:xfrm>
                  <a:off x="2603520" y="1708560"/>
                  <a:ext cx="144000" cy="146160"/>
                  <a:chOff x="2603520" y="1708560"/>
                  <a:chExt cx="144000" cy="146160"/>
                </a:xfrm>
              </p:grpSpPr>
              <p:sp>
                <p:nvSpPr>
                  <p:cNvPr id="11533" name=""/>
                  <p:cNvSpPr/>
                  <p:nvPr/>
                </p:nvSpPr>
                <p:spPr>
                  <a:xfrm rot="2504400">
                    <a:off x="2631240" y="17229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4" name=""/>
                  <p:cNvSpPr/>
                  <p:nvPr/>
                </p:nvSpPr>
                <p:spPr>
                  <a:xfrm flipV="1">
                    <a:off x="2672640" y="1756440"/>
                    <a:ext cx="180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5" name=""/>
                  <p:cNvSpPr/>
                  <p:nvPr/>
                </p:nvSpPr>
                <p:spPr>
                  <a:xfrm flipV="1">
                    <a:off x="2677680" y="179928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6" name=""/>
                  <p:cNvSpPr/>
                  <p:nvPr/>
                </p:nvSpPr>
                <p:spPr>
                  <a:xfrm flipH="1" flipV="1">
                    <a:off x="2661480" y="1780200"/>
                    <a:ext cx="97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7" name=""/>
                  <p:cNvSpPr/>
                  <p:nvPr/>
                </p:nvSpPr>
                <p:spPr>
                  <a:xfrm flipV="1">
                    <a:off x="2677680" y="1768320"/>
                    <a:ext cx="2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38" name=""/>
                <p:cNvGrpSpPr/>
                <p:nvPr/>
              </p:nvGrpSpPr>
              <p:grpSpPr>
                <a:xfrm>
                  <a:off x="2712240" y="1761120"/>
                  <a:ext cx="144720" cy="145800"/>
                  <a:chOff x="2712240" y="1761120"/>
                  <a:chExt cx="144720" cy="145800"/>
                </a:xfrm>
              </p:grpSpPr>
              <p:sp>
                <p:nvSpPr>
                  <p:cNvPr id="11539" name=""/>
                  <p:cNvSpPr/>
                  <p:nvPr/>
                </p:nvSpPr>
                <p:spPr>
                  <a:xfrm rot="2624400">
                    <a:off x="2740320" y="177516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0" name=""/>
                  <p:cNvSpPr/>
                  <p:nvPr/>
                </p:nvSpPr>
                <p:spPr>
                  <a:xfrm flipV="1">
                    <a:off x="2779560" y="1808640"/>
                    <a:ext cx="46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1" name=""/>
                  <p:cNvSpPr/>
                  <p:nvPr/>
                </p:nvSpPr>
                <p:spPr>
                  <a:xfrm flipV="1">
                    <a:off x="2785320" y="185184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2" name=""/>
                  <p:cNvSpPr/>
                  <p:nvPr/>
                </p:nvSpPr>
                <p:spPr>
                  <a:xfrm flipH="1" flipV="1">
                    <a:off x="2770560" y="1832040"/>
                    <a:ext cx="90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3" name=""/>
                  <p:cNvSpPr/>
                  <p:nvPr/>
                </p:nvSpPr>
                <p:spPr>
                  <a:xfrm flipV="1">
                    <a:off x="2786760" y="1820880"/>
                    <a:ext cx="28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44" name=""/>
                <p:cNvGrpSpPr/>
                <p:nvPr/>
              </p:nvGrpSpPr>
              <p:grpSpPr>
                <a:xfrm>
                  <a:off x="2563920" y="1984680"/>
                  <a:ext cx="152640" cy="129240"/>
                  <a:chOff x="2563920" y="1984680"/>
                  <a:chExt cx="152640" cy="129240"/>
                </a:xfrm>
              </p:grpSpPr>
              <p:sp>
                <p:nvSpPr>
                  <p:cNvPr id="11545" name=""/>
                  <p:cNvSpPr/>
                  <p:nvPr/>
                </p:nvSpPr>
                <p:spPr>
                  <a:xfrm rot="17797200">
                    <a:off x="2600640" y="1983600"/>
                    <a:ext cx="78840" cy="131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6" name=""/>
                  <p:cNvSpPr/>
                  <p:nvPr/>
                </p:nvSpPr>
                <p:spPr>
                  <a:xfrm flipH="1">
                    <a:off x="2615400" y="2041560"/>
                    <a:ext cx="907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7" name=""/>
                  <p:cNvSpPr/>
                  <p:nvPr/>
                </p:nvSpPr>
                <p:spPr>
                  <a:xfrm flipH="1" flipV="1">
                    <a:off x="2655360" y="2039040"/>
                    <a:ext cx="1764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8" name=""/>
                  <p:cNvSpPr/>
                  <p:nvPr/>
                </p:nvSpPr>
                <p:spPr>
                  <a:xfrm flipH="1">
                    <a:off x="2643480" y="205128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9" name=""/>
                  <p:cNvSpPr/>
                  <p:nvPr/>
                </p:nvSpPr>
                <p:spPr>
                  <a:xfrm flipH="1" flipV="1">
                    <a:off x="2625480" y="2047320"/>
                    <a:ext cx="126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50" name=""/>
                <p:cNvGrpSpPr/>
                <p:nvPr/>
              </p:nvGrpSpPr>
              <p:grpSpPr>
                <a:xfrm>
                  <a:off x="2439000" y="2039400"/>
                  <a:ext cx="137160" cy="117000"/>
                  <a:chOff x="2439000" y="2039400"/>
                  <a:chExt cx="137160" cy="117000"/>
                </a:xfrm>
              </p:grpSpPr>
              <p:sp>
                <p:nvSpPr>
                  <p:cNvPr id="11551" name=""/>
                  <p:cNvSpPr/>
                  <p:nvPr/>
                </p:nvSpPr>
                <p:spPr>
                  <a:xfrm rot="17161800">
                    <a:off x="2463120" y="2039040"/>
                    <a:ext cx="8820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2" name=""/>
                  <p:cNvSpPr/>
                  <p:nvPr/>
                </p:nvSpPr>
                <p:spPr>
                  <a:xfrm flipH="1">
                    <a:off x="2485440" y="2072160"/>
                    <a:ext cx="81000" cy="37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3" name=""/>
                  <p:cNvSpPr/>
                  <p:nvPr/>
                </p:nvSpPr>
                <p:spPr>
                  <a:xfrm flipH="1">
                    <a:off x="2520000" y="208116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4" name=""/>
                  <p:cNvSpPr/>
                  <p:nvPr/>
                </p:nvSpPr>
                <p:spPr>
                  <a:xfrm flipH="1">
                    <a:off x="2512440" y="2095560"/>
                    <a:ext cx="97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5" name=""/>
                  <p:cNvSpPr/>
                  <p:nvPr/>
                </p:nvSpPr>
                <p:spPr>
                  <a:xfrm flipH="1">
                    <a:off x="2493720" y="2096280"/>
                    <a:ext cx="11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56" name=""/>
                <p:cNvGrpSpPr/>
                <p:nvPr/>
              </p:nvGrpSpPr>
              <p:grpSpPr>
                <a:xfrm>
                  <a:off x="2295000" y="2031840"/>
                  <a:ext cx="134640" cy="112320"/>
                  <a:chOff x="2295000" y="2031840"/>
                  <a:chExt cx="134640" cy="112320"/>
                </a:xfrm>
              </p:grpSpPr>
              <p:sp>
                <p:nvSpPr>
                  <p:cNvPr id="11557" name=""/>
                  <p:cNvSpPr/>
                  <p:nvPr/>
                </p:nvSpPr>
                <p:spPr>
                  <a:xfrm rot="17001600">
                    <a:off x="2318040" y="2028960"/>
                    <a:ext cx="878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8" name=""/>
                  <p:cNvSpPr/>
                  <p:nvPr/>
                </p:nvSpPr>
                <p:spPr>
                  <a:xfrm flipH="1">
                    <a:off x="2340720" y="2059920"/>
                    <a:ext cx="79200" cy="40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9" name=""/>
                  <p:cNvSpPr/>
                  <p:nvPr/>
                </p:nvSpPr>
                <p:spPr>
                  <a:xfrm flipH="1">
                    <a:off x="2374200" y="207036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0" name=""/>
                  <p:cNvSpPr/>
                  <p:nvPr/>
                </p:nvSpPr>
                <p:spPr>
                  <a:xfrm flipH="1">
                    <a:off x="2367720" y="2085120"/>
                    <a:ext cx="90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1" name=""/>
                  <p:cNvSpPr/>
                  <p:nvPr/>
                </p:nvSpPr>
                <p:spPr>
                  <a:xfrm flipH="1">
                    <a:off x="2348280" y="20880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62" name=""/>
                <p:cNvGrpSpPr/>
                <p:nvPr/>
              </p:nvGrpSpPr>
              <p:grpSpPr>
                <a:xfrm>
                  <a:off x="2232720" y="1967760"/>
                  <a:ext cx="151560" cy="124920"/>
                  <a:chOff x="2232720" y="1967760"/>
                  <a:chExt cx="151560" cy="124920"/>
                </a:xfrm>
              </p:grpSpPr>
              <p:sp>
                <p:nvSpPr>
                  <p:cNvPr id="11563" name=""/>
                  <p:cNvSpPr/>
                  <p:nvPr/>
                </p:nvSpPr>
                <p:spPr>
                  <a:xfrm rot="17634600">
                    <a:off x="2268720" y="1964520"/>
                    <a:ext cx="7884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4" name=""/>
                  <p:cNvSpPr/>
                  <p:nvPr/>
                </p:nvSpPr>
                <p:spPr>
                  <a:xfrm flipH="1">
                    <a:off x="2283840" y="2019240"/>
                    <a:ext cx="903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5" name=""/>
                  <p:cNvSpPr/>
                  <p:nvPr/>
                </p:nvSpPr>
                <p:spPr>
                  <a:xfrm flipH="1" flipV="1">
                    <a:off x="2323440" y="2019240"/>
                    <a:ext cx="1764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6" name=""/>
                  <p:cNvSpPr/>
                  <p:nvPr/>
                </p:nvSpPr>
                <p:spPr>
                  <a:xfrm flipH="1">
                    <a:off x="2312640" y="203148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7" name=""/>
                  <p:cNvSpPr/>
                  <p:nvPr/>
                </p:nvSpPr>
                <p:spPr>
                  <a:xfrm flipH="1">
                    <a:off x="2293560" y="2028960"/>
                    <a:ext cx="1260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1568" name=""/>
          <p:cNvGrpSpPr/>
          <p:nvPr/>
        </p:nvGrpSpPr>
        <p:grpSpPr>
          <a:xfrm>
            <a:off x="3596040" y="1964520"/>
            <a:ext cx="2459880" cy="4180320"/>
            <a:chOff x="3596040" y="1964520"/>
            <a:chExt cx="2459880" cy="4180320"/>
          </a:xfrm>
        </p:grpSpPr>
        <p:grpSp>
          <p:nvGrpSpPr>
            <p:cNvPr id="11569" name=""/>
            <p:cNvGrpSpPr/>
            <p:nvPr/>
          </p:nvGrpSpPr>
          <p:grpSpPr>
            <a:xfrm>
              <a:off x="4994640" y="1964520"/>
              <a:ext cx="467280" cy="738360"/>
              <a:chOff x="4994640" y="1964520"/>
              <a:chExt cx="467280" cy="738360"/>
            </a:xfrm>
          </p:grpSpPr>
          <p:grpSp>
            <p:nvGrpSpPr>
              <p:cNvPr id="11570" name=""/>
              <p:cNvGrpSpPr/>
              <p:nvPr/>
            </p:nvGrpSpPr>
            <p:grpSpPr>
              <a:xfrm>
                <a:off x="5264640" y="2243160"/>
                <a:ext cx="149040" cy="149400"/>
                <a:chOff x="5264640" y="2243160"/>
                <a:chExt cx="149040" cy="149400"/>
              </a:xfrm>
            </p:grpSpPr>
            <p:sp>
              <p:nvSpPr>
                <p:cNvPr id="11571" name=""/>
                <p:cNvSpPr/>
                <p:nvPr/>
              </p:nvSpPr>
              <p:spPr>
                <a:xfrm rot="8101200">
                  <a:off x="5303160" y="224784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2" name=""/>
                <p:cNvSpPr/>
                <p:nvPr/>
              </p:nvSpPr>
              <p:spPr>
                <a:xfrm>
                  <a:off x="5273640" y="2299320"/>
                  <a:ext cx="90360" cy="23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3" name=""/>
                <p:cNvSpPr/>
                <p:nvPr/>
              </p:nvSpPr>
              <p:spPr>
                <a:xfrm>
                  <a:off x="5305680" y="2311560"/>
                  <a:ext cx="1620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4" name=""/>
                <p:cNvSpPr/>
                <p:nvPr/>
              </p:nvSpPr>
              <p:spPr>
                <a:xfrm flipV="1">
                  <a:off x="5324400" y="2304360"/>
                  <a:ext cx="1440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5" name=""/>
                <p:cNvSpPr/>
                <p:nvPr/>
              </p:nvSpPr>
              <p:spPr>
                <a:xfrm>
                  <a:off x="5340600" y="2319840"/>
                  <a:ext cx="1188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6" name=""/>
              <p:cNvSpPr/>
              <p:nvPr/>
            </p:nvSpPr>
            <p:spPr>
              <a:xfrm flipH="1" flipV="1">
                <a:off x="5132520" y="2291760"/>
                <a:ext cx="96480" cy="188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 rot="4285800">
                <a:off x="4915080" y="2294640"/>
                <a:ext cx="522360" cy="207720"/>
              </a:xfrm>
              <a:custGeom>
                <a:avLst/>
                <a:gdLst/>
                <a:ahLst/>
                <a:rect l="l" t="t" r="r" b="b"/>
                <a:pathLst>
                  <a:path w="1134" h="590">
                    <a:moveTo>
                      <a:pt x="1134" y="590"/>
                    </a:moveTo>
                    <a:cubicBezTo>
                      <a:pt x="1001" y="435"/>
                      <a:pt x="869" y="280"/>
                      <a:pt x="680" y="182"/>
                    </a:cubicBezTo>
                    <a:cubicBezTo>
                      <a:pt x="491" y="84"/>
                      <a:pt x="245" y="42"/>
                      <a:pt x="0" y="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 flipV="1">
                <a:off x="5227920" y="2211120"/>
                <a:ext cx="79200" cy="114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 flipV="1">
                <a:off x="5169960" y="2474280"/>
                <a:ext cx="141480" cy="180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 flipH="1" flipV="1">
                <a:off x="5137200" y="2356560"/>
                <a:ext cx="43200" cy="29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 flipH="1" flipV="1">
                <a:off x="5211000" y="2375640"/>
                <a:ext cx="4680" cy="64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 flipV="1">
                <a:off x="5260320" y="2175840"/>
                <a:ext cx="18000" cy="94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5252040" y="2295720"/>
                <a:ext cx="51840" cy="4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 flipH="1" flipV="1">
                <a:off x="5152680" y="2152080"/>
                <a:ext cx="50040" cy="48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 flipV="1">
                <a:off x="5240520" y="2400120"/>
                <a:ext cx="28800" cy="164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 flipV="1">
                <a:off x="5259240" y="2439720"/>
                <a:ext cx="23400" cy="29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 flipV="1">
                <a:off x="5217480" y="2593440"/>
                <a:ext cx="6660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 flipV="1">
                <a:off x="5288040" y="2489040"/>
                <a:ext cx="45360" cy="15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 flipH="1" flipV="1">
                <a:off x="5162040" y="2480040"/>
                <a:ext cx="41400" cy="73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 flipH="1" flipV="1">
                <a:off x="5179680" y="2232000"/>
                <a:ext cx="34920" cy="54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 flipV="1">
                <a:off x="5204880" y="2127240"/>
                <a:ext cx="23400" cy="29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92" name=""/>
              <p:cNvGrpSpPr/>
              <p:nvPr/>
            </p:nvGrpSpPr>
            <p:grpSpPr>
              <a:xfrm>
                <a:off x="5288040" y="2145960"/>
                <a:ext cx="122040" cy="111960"/>
                <a:chOff x="5288040" y="2145960"/>
                <a:chExt cx="122040" cy="111960"/>
              </a:xfrm>
            </p:grpSpPr>
            <p:sp>
              <p:nvSpPr>
                <p:cNvPr id="11593" name=""/>
                <p:cNvSpPr/>
                <p:nvPr/>
              </p:nvSpPr>
              <p:spPr>
                <a:xfrm rot="6031200">
                  <a:off x="5302080" y="214848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4" name=""/>
                <p:cNvSpPr/>
                <p:nvPr/>
              </p:nvSpPr>
              <p:spPr>
                <a:xfrm flipV="1">
                  <a:off x="5297040" y="2187360"/>
                  <a:ext cx="71640" cy="49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5" name=""/>
                <p:cNvSpPr/>
                <p:nvPr/>
              </p:nvSpPr>
              <p:spPr>
                <a:xfrm flipV="1">
                  <a:off x="5323680" y="2219400"/>
                  <a:ext cx="147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6" name=""/>
                <p:cNvSpPr/>
                <p:nvPr/>
              </p:nvSpPr>
              <p:spPr>
                <a:xfrm flipV="1">
                  <a:off x="5336280" y="2188800"/>
                  <a:ext cx="792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7" name=""/>
                <p:cNvSpPr/>
                <p:nvPr/>
              </p:nvSpPr>
              <p:spPr>
                <a:xfrm flipV="1">
                  <a:off x="5351040" y="2198520"/>
                  <a:ext cx="1044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8" name=""/>
              <p:cNvGrpSpPr/>
              <p:nvPr/>
            </p:nvGrpSpPr>
            <p:grpSpPr>
              <a:xfrm>
                <a:off x="5146920" y="2242440"/>
                <a:ext cx="142200" cy="141120"/>
                <a:chOff x="5146920" y="2242440"/>
                <a:chExt cx="142200" cy="141120"/>
              </a:xfrm>
            </p:grpSpPr>
            <p:sp>
              <p:nvSpPr>
                <p:cNvPr id="11599" name=""/>
                <p:cNvSpPr/>
                <p:nvPr/>
              </p:nvSpPr>
              <p:spPr>
                <a:xfrm rot="2872800">
                  <a:off x="5171040" y="225972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0" name=""/>
                <p:cNvSpPr/>
                <p:nvPr/>
              </p:nvSpPr>
              <p:spPr>
                <a:xfrm flipV="1">
                  <a:off x="5213880" y="2288520"/>
                  <a:ext cx="3960" cy="87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1" name=""/>
                <p:cNvSpPr/>
                <p:nvPr/>
              </p:nvSpPr>
              <p:spPr>
                <a:xfrm flipV="1">
                  <a:off x="5218920" y="2332080"/>
                  <a:ext cx="6480" cy="13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2" name=""/>
                <p:cNvSpPr/>
                <p:nvPr/>
              </p:nvSpPr>
              <p:spPr>
                <a:xfrm flipH="1" flipV="1">
                  <a:off x="5204160" y="2308680"/>
                  <a:ext cx="9000" cy="1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3" name=""/>
                <p:cNvSpPr/>
                <p:nvPr/>
              </p:nvSpPr>
              <p:spPr>
                <a:xfrm flipV="1">
                  <a:off x="5219640" y="2301120"/>
                  <a:ext cx="288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4" name=""/>
              <p:cNvGrpSpPr/>
              <p:nvPr/>
            </p:nvGrpSpPr>
            <p:grpSpPr>
              <a:xfrm>
                <a:off x="5232600" y="2290680"/>
                <a:ext cx="131040" cy="123120"/>
                <a:chOff x="5232600" y="2290680"/>
                <a:chExt cx="131040" cy="123120"/>
              </a:xfrm>
            </p:grpSpPr>
            <p:sp>
              <p:nvSpPr>
                <p:cNvPr id="11605" name=""/>
                <p:cNvSpPr/>
                <p:nvPr/>
              </p:nvSpPr>
              <p:spPr>
                <a:xfrm rot="4285800">
                  <a:off x="5250960" y="229860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6" name=""/>
                <p:cNvSpPr/>
                <p:nvPr/>
              </p:nvSpPr>
              <p:spPr>
                <a:xfrm flipV="1">
                  <a:off x="5269320" y="2329560"/>
                  <a:ext cx="3888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7" name=""/>
                <p:cNvSpPr/>
                <p:nvPr/>
              </p:nvSpPr>
              <p:spPr>
                <a:xfrm flipV="1">
                  <a:off x="5285880" y="2372400"/>
                  <a:ext cx="11520" cy="1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8" name=""/>
                <p:cNvSpPr/>
                <p:nvPr/>
              </p:nvSpPr>
              <p:spPr>
                <a:xfrm flipH="1" flipV="1">
                  <a:off x="5287320" y="2342880"/>
                  <a:ext cx="144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9" name=""/>
                <p:cNvSpPr/>
                <p:nvPr/>
              </p:nvSpPr>
              <p:spPr>
                <a:xfrm flipV="1">
                  <a:off x="5300280" y="2342880"/>
                  <a:ext cx="684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0" name=""/>
              <p:cNvGrpSpPr/>
              <p:nvPr/>
            </p:nvGrpSpPr>
            <p:grpSpPr>
              <a:xfrm>
                <a:off x="5018400" y="2171880"/>
                <a:ext cx="124920" cy="156600"/>
                <a:chOff x="5018400" y="2171880"/>
                <a:chExt cx="124920" cy="156600"/>
              </a:xfrm>
            </p:grpSpPr>
            <p:sp>
              <p:nvSpPr>
                <p:cNvPr id="11611" name=""/>
                <p:cNvSpPr/>
                <p:nvPr/>
              </p:nvSpPr>
              <p:spPr>
                <a:xfrm rot="20055000">
                  <a:off x="5045040" y="218016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2" name=""/>
                <p:cNvSpPr/>
                <p:nvPr/>
              </p:nvSpPr>
              <p:spPr>
                <a:xfrm flipH="1" flipV="1">
                  <a:off x="5058720" y="2237040"/>
                  <a:ext cx="7740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3" name=""/>
                <p:cNvSpPr/>
                <p:nvPr/>
              </p:nvSpPr>
              <p:spPr>
                <a:xfrm flipH="1" flipV="1">
                  <a:off x="5097600" y="2252520"/>
                  <a:ext cx="1224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4" name=""/>
                <p:cNvSpPr/>
                <p:nvPr/>
              </p:nvSpPr>
              <p:spPr>
                <a:xfrm flipH="1">
                  <a:off x="5076360" y="2262240"/>
                  <a:ext cx="15120" cy="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5" name=""/>
                <p:cNvSpPr/>
                <p:nvPr/>
              </p:nvSpPr>
              <p:spPr>
                <a:xfrm flipH="1" flipV="1">
                  <a:off x="5070240" y="2238840"/>
                  <a:ext cx="9360" cy="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6" name=""/>
              <p:cNvGrpSpPr/>
              <p:nvPr/>
            </p:nvGrpSpPr>
            <p:grpSpPr>
              <a:xfrm>
                <a:off x="5191560" y="2017440"/>
                <a:ext cx="131040" cy="123120"/>
                <a:chOff x="5191560" y="2017440"/>
                <a:chExt cx="131040" cy="123120"/>
              </a:xfrm>
            </p:grpSpPr>
            <p:sp>
              <p:nvSpPr>
                <p:cNvPr id="11617" name=""/>
                <p:cNvSpPr/>
                <p:nvPr/>
              </p:nvSpPr>
              <p:spPr>
                <a:xfrm rot="4285800">
                  <a:off x="5209920" y="202536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8" name=""/>
                <p:cNvSpPr/>
                <p:nvPr/>
              </p:nvSpPr>
              <p:spPr>
                <a:xfrm flipV="1">
                  <a:off x="5228640" y="2056320"/>
                  <a:ext cx="3852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9" name=""/>
                <p:cNvSpPr/>
                <p:nvPr/>
              </p:nvSpPr>
              <p:spPr>
                <a:xfrm flipV="1">
                  <a:off x="5245200" y="2099160"/>
                  <a:ext cx="111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0" name=""/>
                <p:cNvSpPr/>
                <p:nvPr/>
              </p:nvSpPr>
              <p:spPr>
                <a:xfrm flipH="1" flipV="1">
                  <a:off x="5246640" y="2069280"/>
                  <a:ext cx="108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1" name=""/>
                <p:cNvSpPr/>
                <p:nvPr/>
              </p:nvSpPr>
              <p:spPr>
                <a:xfrm flipV="1">
                  <a:off x="5259240" y="2069640"/>
                  <a:ext cx="720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2" name=""/>
              <p:cNvGrpSpPr/>
              <p:nvPr/>
            </p:nvGrpSpPr>
            <p:grpSpPr>
              <a:xfrm>
                <a:off x="5274720" y="2364840"/>
                <a:ext cx="131040" cy="123120"/>
                <a:chOff x="5274720" y="2364840"/>
                <a:chExt cx="131040" cy="123120"/>
              </a:xfrm>
            </p:grpSpPr>
            <p:sp>
              <p:nvSpPr>
                <p:cNvPr id="11623" name=""/>
                <p:cNvSpPr/>
                <p:nvPr/>
              </p:nvSpPr>
              <p:spPr>
                <a:xfrm rot="4285800">
                  <a:off x="5293080" y="237276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4" name=""/>
                <p:cNvSpPr/>
                <p:nvPr/>
              </p:nvSpPr>
              <p:spPr>
                <a:xfrm flipV="1">
                  <a:off x="5311440" y="2403720"/>
                  <a:ext cx="38520" cy="78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5" name=""/>
                <p:cNvSpPr/>
                <p:nvPr/>
              </p:nvSpPr>
              <p:spPr>
                <a:xfrm flipV="1">
                  <a:off x="5328000" y="2446560"/>
                  <a:ext cx="1152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6" name=""/>
                <p:cNvSpPr/>
                <p:nvPr/>
              </p:nvSpPr>
              <p:spPr>
                <a:xfrm flipH="1" flipV="1">
                  <a:off x="5329440" y="2416680"/>
                  <a:ext cx="144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7" name=""/>
                <p:cNvSpPr/>
                <p:nvPr/>
              </p:nvSpPr>
              <p:spPr>
                <a:xfrm flipV="1">
                  <a:off x="5342400" y="2417040"/>
                  <a:ext cx="684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8" name=""/>
              <p:cNvGrpSpPr/>
              <p:nvPr/>
            </p:nvGrpSpPr>
            <p:grpSpPr>
              <a:xfrm>
                <a:off x="5241600" y="2067120"/>
                <a:ext cx="131040" cy="123120"/>
                <a:chOff x="5241600" y="2067120"/>
                <a:chExt cx="131040" cy="123120"/>
              </a:xfrm>
            </p:grpSpPr>
            <p:sp>
              <p:nvSpPr>
                <p:cNvPr id="11629" name=""/>
                <p:cNvSpPr/>
                <p:nvPr/>
              </p:nvSpPr>
              <p:spPr>
                <a:xfrm rot="4285800">
                  <a:off x="5259960" y="207504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0" name=""/>
                <p:cNvSpPr/>
                <p:nvPr/>
              </p:nvSpPr>
              <p:spPr>
                <a:xfrm flipV="1">
                  <a:off x="5278680" y="2106000"/>
                  <a:ext cx="38520" cy="78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1" name=""/>
                <p:cNvSpPr/>
                <p:nvPr/>
              </p:nvSpPr>
              <p:spPr>
                <a:xfrm flipV="1">
                  <a:off x="5295240" y="2148840"/>
                  <a:ext cx="11160" cy="10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2" name=""/>
                <p:cNvSpPr/>
                <p:nvPr/>
              </p:nvSpPr>
              <p:spPr>
                <a:xfrm flipH="1" flipV="1">
                  <a:off x="5296680" y="2118960"/>
                  <a:ext cx="144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3" name=""/>
                <p:cNvSpPr/>
                <p:nvPr/>
              </p:nvSpPr>
              <p:spPr>
                <a:xfrm flipV="1">
                  <a:off x="5309280" y="2119320"/>
                  <a:ext cx="7200" cy="8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4" name=""/>
              <p:cNvGrpSpPr/>
              <p:nvPr/>
            </p:nvGrpSpPr>
            <p:grpSpPr>
              <a:xfrm>
                <a:off x="5025960" y="2366640"/>
                <a:ext cx="138960" cy="155160"/>
                <a:chOff x="5025960" y="2366640"/>
                <a:chExt cx="138960" cy="155160"/>
              </a:xfrm>
            </p:grpSpPr>
            <p:sp>
              <p:nvSpPr>
                <p:cNvPr id="11635" name=""/>
                <p:cNvSpPr/>
                <p:nvPr/>
              </p:nvSpPr>
              <p:spPr>
                <a:xfrm rot="19484400">
                  <a:off x="5059440" y="237456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6" name=""/>
                <p:cNvSpPr/>
                <p:nvPr/>
              </p:nvSpPr>
              <p:spPr>
                <a:xfrm flipH="1" flipV="1">
                  <a:off x="5071320" y="2435040"/>
                  <a:ext cx="85320" cy="38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7" name=""/>
                <p:cNvSpPr/>
                <p:nvPr/>
              </p:nvSpPr>
              <p:spPr>
                <a:xfrm flipH="1" flipV="1">
                  <a:off x="5112360" y="2443680"/>
                  <a:ext cx="14760" cy="1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8" name=""/>
                <p:cNvSpPr/>
                <p:nvPr/>
              </p:nvSpPr>
              <p:spPr>
                <a:xfrm flipH="1">
                  <a:off x="5093280" y="2454480"/>
                  <a:ext cx="147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9" name=""/>
                <p:cNvSpPr/>
                <p:nvPr/>
              </p:nvSpPr>
              <p:spPr>
                <a:xfrm flipH="1" flipV="1">
                  <a:off x="5083200" y="2434680"/>
                  <a:ext cx="108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0" name=""/>
              <p:cNvGrpSpPr/>
              <p:nvPr/>
            </p:nvGrpSpPr>
            <p:grpSpPr>
              <a:xfrm>
                <a:off x="5000760" y="2267280"/>
                <a:ext cx="152280" cy="145440"/>
                <a:chOff x="5000760" y="2267280"/>
                <a:chExt cx="152280" cy="145440"/>
              </a:xfrm>
            </p:grpSpPr>
            <p:sp>
              <p:nvSpPr>
                <p:cNvPr id="11641" name=""/>
                <p:cNvSpPr/>
                <p:nvPr/>
              </p:nvSpPr>
              <p:spPr>
                <a:xfrm rot="18645000">
                  <a:off x="5041080" y="227016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2" name=""/>
                <p:cNvSpPr/>
                <p:nvPr/>
              </p:nvSpPr>
              <p:spPr>
                <a:xfrm flipH="1" flipV="1">
                  <a:off x="5051520" y="2336760"/>
                  <a:ext cx="9180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3" name=""/>
                <p:cNvSpPr/>
                <p:nvPr/>
              </p:nvSpPr>
              <p:spPr>
                <a:xfrm flipH="1" flipV="1">
                  <a:off x="5093640" y="2335320"/>
                  <a:ext cx="16920" cy="8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4" name=""/>
                <p:cNvSpPr/>
                <p:nvPr/>
              </p:nvSpPr>
              <p:spPr>
                <a:xfrm flipH="1">
                  <a:off x="5078160" y="2346480"/>
                  <a:ext cx="1368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5" name=""/>
                <p:cNvSpPr/>
                <p:nvPr/>
              </p:nvSpPr>
              <p:spPr>
                <a:xfrm flipH="1" flipV="1">
                  <a:off x="5062680" y="2333520"/>
                  <a:ext cx="126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6" name=""/>
              <p:cNvGrpSpPr/>
              <p:nvPr/>
            </p:nvGrpSpPr>
            <p:grpSpPr>
              <a:xfrm>
                <a:off x="5081400" y="1998360"/>
                <a:ext cx="118080" cy="155880"/>
                <a:chOff x="5081400" y="1998360"/>
                <a:chExt cx="118080" cy="155880"/>
              </a:xfrm>
            </p:grpSpPr>
            <p:sp>
              <p:nvSpPr>
                <p:cNvPr id="11647" name=""/>
                <p:cNvSpPr/>
                <p:nvPr/>
              </p:nvSpPr>
              <p:spPr>
                <a:xfrm rot="20296200">
                  <a:off x="5104440" y="200664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8" name=""/>
                <p:cNvSpPr/>
                <p:nvPr/>
              </p:nvSpPr>
              <p:spPr>
                <a:xfrm flipH="1" flipV="1">
                  <a:off x="5119200" y="2061720"/>
                  <a:ext cx="73800" cy="57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9" name=""/>
                <p:cNvSpPr/>
                <p:nvPr/>
              </p:nvSpPr>
              <p:spPr>
                <a:xfrm flipH="1" flipV="1">
                  <a:off x="5157000" y="2080080"/>
                  <a:ext cx="1116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0" name=""/>
                <p:cNvSpPr/>
                <p:nvPr/>
              </p:nvSpPr>
              <p:spPr>
                <a:xfrm flipH="1" flipV="1">
                  <a:off x="5135040" y="2088720"/>
                  <a:ext cx="1548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1" name=""/>
                <p:cNvSpPr/>
                <p:nvPr/>
              </p:nvSpPr>
              <p:spPr>
                <a:xfrm flipH="1" flipV="1">
                  <a:off x="5130720" y="2064240"/>
                  <a:ext cx="9000" cy="9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2" name=""/>
              <p:cNvGrpSpPr/>
              <p:nvPr/>
            </p:nvGrpSpPr>
            <p:grpSpPr>
              <a:xfrm>
                <a:off x="5013720" y="2040120"/>
                <a:ext cx="145080" cy="152280"/>
                <a:chOff x="5013720" y="2040120"/>
                <a:chExt cx="145080" cy="152280"/>
              </a:xfrm>
            </p:grpSpPr>
            <p:sp>
              <p:nvSpPr>
                <p:cNvPr id="11653" name=""/>
                <p:cNvSpPr/>
                <p:nvPr/>
              </p:nvSpPr>
              <p:spPr>
                <a:xfrm rot="19168200">
                  <a:off x="5050080" y="204624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4" name=""/>
                <p:cNvSpPr/>
                <p:nvPr/>
              </p:nvSpPr>
              <p:spPr>
                <a:xfrm flipH="1" flipV="1">
                  <a:off x="5061600" y="2109240"/>
                  <a:ext cx="88200" cy="3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5" name=""/>
                <p:cNvSpPr/>
                <p:nvPr/>
              </p:nvSpPr>
              <p:spPr>
                <a:xfrm flipH="1" flipV="1">
                  <a:off x="5103360" y="2114280"/>
                  <a:ext cx="15480" cy="10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6" name=""/>
                <p:cNvSpPr/>
                <p:nvPr/>
              </p:nvSpPr>
              <p:spPr>
                <a:xfrm flipH="1">
                  <a:off x="5085000" y="2125080"/>
                  <a:ext cx="1476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7" name=""/>
                <p:cNvSpPr/>
                <p:nvPr/>
              </p:nvSpPr>
              <p:spPr>
                <a:xfrm flipH="1" flipV="1">
                  <a:off x="5073120" y="2107800"/>
                  <a:ext cx="1152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8" name=""/>
              <p:cNvGrpSpPr/>
              <p:nvPr/>
            </p:nvGrpSpPr>
            <p:grpSpPr>
              <a:xfrm>
                <a:off x="5067720" y="2132280"/>
                <a:ext cx="134280" cy="156240"/>
                <a:chOff x="5067720" y="2132280"/>
                <a:chExt cx="134280" cy="156240"/>
              </a:xfrm>
            </p:grpSpPr>
            <p:sp>
              <p:nvSpPr>
                <p:cNvPr id="11659" name=""/>
                <p:cNvSpPr/>
                <p:nvPr/>
              </p:nvSpPr>
              <p:spPr>
                <a:xfrm rot="19687800">
                  <a:off x="5099040" y="214056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0" name=""/>
                <p:cNvSpPr/>
                <p:nvPr/>
              </p:nvSpPr>
              <p:spPr>
                <a:xfrm flipH="1" flipV="1">
                  <a:off x="5111640" y="2199600"/>
                  <a:ext cx="82440" cy="43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1" name=""/>
                <p:cNvSpPr/>
                <p:nvPr/>
              </p:nvSpPr>
              <p:spPr>
                <a:xfrm flipH="1" flipV="1">
                  <a:off x="5151960" y="2210760"/>
                  <a:ext cx="13680" cy="13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2" name=""/>
                <p:cNvSpPr/>
                <p:nvPr/>
              </p:nvSpPr>
              <p:spPr>
                <a:xfrm flipH="1">
                  <a:off x="5131800" y="2221200"/>
                  <a:ext cx="1512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3" name=""/>
                <p:cNvSpPr/>
                <p:nvPr/>
              </p:nvSpPr>
              <p:spPr>
                <a:xfrm flipH="1" flipV="1">
                  <a:off x="5123160" y="2199960"/>
                  <a:ext cx="10440" cy="7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4" name=""/>
              <p:cNvGrpSpPr/>
              <p:nvPr/>
            </p:nvGrpSpPr>
            <p:grpSpPr>
              <a:xfrm>
                <a:off x="5184720" y="2062440"/>
                <a:ext cx="84600" cy="145440"/>
                <a:chOff x="5184720" y="2062440"/>
                <a:chExt cx="84600" cy="145440"/>
              </a:xfrm>
            </p:grpSpPr>
            <p:sp>
              <p:nvSpPr>
                <p:cNvPr id="11665" name=""/>
                <p:cNvSpPr/>
                <p:nvPr/>
              </p:nvSpPr>
              <p:spPr>
                <a:xfrm rot="21271200">
                  <a:off x="5191200" y="206532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6" name=""/>
                <p:cNvSpPr/>
                <p:nvPr/>
              </p:nvSpPr>
              <p:spPr>
                <a:xfrm flipH="1" flipV="1">
                  <a:off x="5211000" y="2115000"/>
                  <a:ext cx="54720" cy="75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7" name=""/>
                <p:cNvSpPr/>
                <p:nvPr/>
              </p:nvSpPr>
              <p:spPr>
                <a:xfrm flipH="1" flipV="1">
                  <a:off x="5242320" y="2143080"/>
                  <a:ext cx="648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8" name=""/>
                <p:cNvSpPr/>
                <p:nvPr/>
              </p:nvSpPr>
              <p:spPr>
                <a:xfrm flipH="1" flipV="1">
                  <a:off x="5218560" y="2145240"/>
                  <a:ext cx="1476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9" name=""/>
                <p:cNvSpPr/>
                <p:nvPr/>
              </p:nvSpPr>
              <p:spPr>
                <a:xfrm flipH="1" flipV="1">
                  <a:off x="5221440" y="2120400"/>
                  <a:ext cx="576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0" name=""/>
              <p:cNvGrpSpPr/>
              <p:nvPr/>
            </p:nvGrpSpPr>
            <p:grpSpPr>
              <a:xfrm>
                <a:off x="5201640" y="2292840"/>
                <a:ext cx="133560" cy="138600"/>
                <a:chOff x="5201640" y="2292840"/>
                <a:chExt cx="133560" cy="138600"/>
              </a:xfrm>
            </p:grpSpPr>
            <p:sp>
              <p:nvSpPr>
                <p:cNvPr id="11671" name=""/>
                <p:cNvSpPr/>
                <p:nvPr/>
              </p:nvSpPr>
              <p:spPr>
                <a:xfrm rot="1722000">
                  <a:off x="5221080" y="230868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2" name=""/>
                <p:cNvSpPr/>
                <p:nvPr/>
              </p:nvSpPr>
              <p:spPr>
                <a:xfrm flipH="1" flipV="1">
                  <a:off x="5260320" y="2338920"/>
                  <a:ext cx="24840" cy="83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3" name=""/>
                <p:cNvSpPr/>
                <p:nvPr/>
              </p:nvSpPr>
              <p:spPr>
                <a:xfrm flipV="1">
                  <a:off x="5280120" y="2377440"/>
                  <a:ext cx="1440" cy="15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4" name=""/>
                <p:cNvSpPr/>
                <p:nvPr/>
              </p:nvSpPr>
              <p:spPr>
                <a:xfrm flipH="1" flipV="1">
                  <a:off x="5253840" y="2362680"/>
                  <a:ext cx="1404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5" name=""/>
                <p:cNvSpPr/>
                <p:nvPr/>
              </p:nvSpPr>
              <p:spPr>
                <a:xfrm flipH="1" flipV="1">
                  <a:off x="5268600" y="2349360"/>
                  <a:ext cx="72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76" name=""/>
              <p:cNvGrpSpPr/>
              <p:nvPr/>
            </p:nvGrpSpPr>
            <p:grpSpPr>
              <a:xfrm>
                <a:off x="5319720" y="2444400"/>
                <a:ext cx="142200" cy="154080"/>
                <a:chOff x="5319720" y="2444400"/>
                <a:chExt cx="142200" cy="154080"/>
              </a:xfrm>
            </p:grpSpPr>
            <p:sp>
              <p:nvSpPr>
                <p:cNvPr id="11677" name=""/>
                <p:cNvSpPr/>
                <p:nvPr/>
              </p:nvSpPr>
              <p:spPr>
                <a:xfrm rot="8518800">
                  <a:off x="5354640" y="245160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8" name=""/>
                <p:cNvSpPr/>
                <p:nvPr/>
              </p:nvSpPr>
              <p:spPr>
                <a:xfrm>
                  <a:off x="5328000" y="2495160"/>
                  <a:ext cx="86760" cy="34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9" name=""/>
                <p:cNvSpPr/>
                <p:nvPr/>
              </p:nvSpPr>
              <p:spPr>
                <a:xfrm>
                  <a:off x="5358600" y="2511000"/>
                  <a:ext cx="1476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0" name=""/>
                <p:cNvSpPr/>
                <p:nvPr/>
              </p:nvSpPr>
              <p:spPr>
                <a:xfrm flipV="1">
                  <a:off x="5377320" y="2508120"/>
                  <a:ext cx="1476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1" name=""/>
                <p:cNvSpPr/>
                <p:nvPr/>
              </p:nvSpPr>
              <p:spPr>
                <a:xfrm>
                  <a:off x="5392080" y="2523600"/>
                  <a:ext cx="1116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2" name=""/>
              <p:cNvGrpSpPr/>
              <p:nvPr/>
            </p:nvGrpSpPr>
            <p:grpSpPr>
              <a:xfrm>
                <a:off x="5271120" y="2548080"/>
                <a:ext cx="140040" cy="154800"/>
                <a:chOff x="5271120" y="2548080"/>
                <a:chExt cx="140040" cy="154800"/>
              </a:xfrm>
            </p:grpSpPr>
            <p:sp>
              <p:nvSpPr>
                <p:cNvPr id="11683" name=""/>
                <p:cNvSpPr/>
                <p:nvPr/>
              </p:nvSpPr>
              <p:spPr>
                <a:xfrm rot="8638800">
                  <a:off x="5305320" y="255564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4" name=""/>
                <p:cNvSpPr/>
                <p:nvPr/>
              </p:nvSpPr>
              <p:spPr>
                <a:xfrm>
                  <a:off x="5279760" y="2597040"/>
                  <a:ext cx="85680" cy="37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5" name=""/>
                <p:cNvSpPr/>
                <p:nvPr/>
              </p:nvSpPr>
              <p:spPr>
                <a:xfrm>
                  <a:off x="5309640" y="2614320"/>
                  <a:ext cx="14400" cy="11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6" name=""/>
                <p:cNvSpPr/>
                <p:nvPr/>
              </p:nvSpPr>
              <p:spPr>
                <a:xfrm flipV="1">
                  <a:off x="5328360" y="2612520"/>
                  <a:ext cx="1512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7" name=""/>
                <p:cNvSpPr/>
                <p:nvPr/>
              </p:nvSpPr>
              <p:spPr>
                <a:xfrm>
                  <a:off x="5342760" y="2628000"/>
                  <a:ext cx="10800" cy="7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88" name=""/>
              <p:cNvGrpSpPr/>
              <p:nvPr/>
            </p:nvGrpSpPr>
            <p:grpSpPr>
              <a:xfrm>
                <a:off x="5092560" y="2327040"/>
                <a:ext cx="139320" cy="141480"/>
                <a:chOff x="5092560" y="2327040"/>
                <a:chExt cx="139320" cy="141480"/>
              </a:xfrm>
            </p:grpSpPr>
            <p:sp>
              <p:nvSpPr>
                <p:cNvPr id="11689" name=""/>
                <p:cNvSpPr/>
                <p:nvPr/>
              </p:nvSpPr>
              <p:spPr>
                <a:xfrm rot="2211600">
                  <a:off x="5115240" y="234432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0" name=""/>
                <p:cNvSpPr/>
                <p:nvPr/>
              </p:nvSpPr>
              <p:spPr>
                <a:xfrm flipH="1" flipV="1">
                  <a:off x="5157360" y="2373840"/>
                  <a:ext cx="12600" cy="86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1" name=""/>
                <p:cNvSpPr/>
                <p:nvPr/>
              </p:nvSpPr>
              <p:spPr>
                <a:xfrm flipV="1">
                  <a:off x="5169240" y="2414880"/>
                  <a:ext cx="360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2" name=""/>
                <p:cNvSpPr/>
                <p:nvPr/>
              </p:nvSpPr>
              <p:spPr>
                <a:xfrm flipH="1" flipV="1">
                  <a:off x="5148000" y="2396160"/>
                  <a:ext cx="11880" cy="14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3" name=""/>
                <p:cNvSpPr/>
                <p:nvPr/>
              </p:nvSpPr>
              <p:spPr>
                <a:xfrm flipV="1">
                  <a:off x="5163480" y="2385000"/>
                  <a:ext cx="72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4" name=""/>
              <p:cNvGrpSpPr/>
              <p:nvPr/>
            </p:nvGrpSpPr>
            <p:grpSpPr>
              <a:xfrm>
                <a:off x="5063040" y="2156760"/>
                <a:ext cx="125640" cy="156600"/>
                <a:chOff x="5063040" y="2156760"/>
                <a:chExt cx="125640" cy="156600"/>
              </a:xfrm>
            </p:grpSpPr>
            <p:sp>
              <p:nvSpPr>
                <p:cNvPr id="11695" name=""/>
                <p:cNvSpPr/>
                <p:nvPr/>
              </p:nvSpPr>
              <p:spPr>
                <a:xfrm rot="1576200">
                  <a:off x="5090040" y="216540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6" name=""/>
                <p:cNvSpPr/>
                <p:nvPr/>
              </p:nvSpPr>
              <p:spPr>
                <a:xfrm flipH="1" flipV="1">
                  <a:off x="5122800" y="2209680"/>
                  <a:ext cx="6480" cy="9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7" name=""/>
                <p:cNvSpPr/>
                <p:nvPr/>
              </p:nvSpPr>
              <p:spPr>
                <a:xfrm flipV="1">
                  <a:off x="5130360" y="2250000"/>
                  <a:ext cx="3960" cy="1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8" name=""/>
                <p:cNvSpPr/>
                <p:nvPr/>
              </p:nvSpPr>
              <p:spPr>
                <a:xfrm flipH="1" flipV="1">
                  <a:off x="5113080" y="2239560"/>
                  <a:ext cx="10080" cy="1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9" name=""/>
                <p:cNvSpPr/>
                <p:nvPr/>
              </p:nvSpPr>
              <p:spPr>
                <a:xfrm flipV="1">
                  <a:off x="5127120" y="2219760"/>
                  <a:ext cx="144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00" name=""/>
              <p:cNvGrpSpPr/>
              <p:nvPr/>
            </p:nvGrpSpPr>
            <p:grpSpPr>
              <a:xfrm>
                <a:off x="5079240" y="1998000"/>
                <a:ext cx="121320" cy="156240"/>
                <a:chOff x="5079240" y="1998000"/>
                <a:chExt cx="121320" cy="156240"/>
              </a:xfrm>
            </p:grpSpPr>
            <p:sp>
              <p:nvSpPr>
                <p:cNvPr id="11701" name=""/>
                <p:cNvSpPr/>
                <p:nvPr/>
              </p:nvSpPr>
              <p:spPr>
                <a:xfrm rot="1416000">
                  <a:off x="5104080" y="2006280"/>
                  <a:ext cx="71640" cy="13932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2" name=""/>
                <p:cNvSpPr/>
                <p:nvPr/>
              </p:nvSpPr>
              <p:spPr>
                <a:xfrm flipH="1" flipV="1">
                  <a:off x="5135760" y="2051280"/>
                  <a:ext cx="10800" cy="9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3" name=""/>
                <p:cNvSpPr/>
                <p:nvPr/>
              </p:nvSpPr>
              <p:spPr>
                <a:xfrm flipV="1">
                  <a:off x="5146560" y="2090880"/>
                  <a:ext cx="288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4" name=""/>
                <p:cNvSpPr/>
                <p:nvPr/>
              </p:nvSpPr>
              <p:spPr>
                <a:xfrm flipH="1" flipV="1">
                  <a:off x="5127840" y="2081520"/>
                  <a:ext cx="1044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5" name=""/>
                <p:cNvSpPr/>
                <p:nvPr/>
              </p:nvSpPr>
              <p:spPr>
                <a:xfrm flipV="1">
                  <a:off x="5141520" y="2061000"/>
                  <a:ext cx="720" cy="12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06" name=""/>
              <p:cNvGrpSpPr/>
              <p:nvPr/>
            </p:nvGrpSpPr>
            <p:grpSpPr>
              <a:xfrm>
                <a:off x="5123160" y="1964520"/>
                <a:ext cx="137520" cy="140760"/>
                <a:chOff x="5123160" y="1964520"/>
                <a:chExt cx="137520" cy="140760"/>
              </a:xfrm>
            </p:grpSpPr>
            <p:sp>
              <p:nvSpPr>
                <p:cNvPr id="11707" name=""/>
                <p:cNvSpPr/>
                <p:nvPr/>
              </p:nvSpPr>
              <p:spPr>
                <a:xfrm rot="2048400">
                  <a:off x="5144760" y="1981440"/>
                  <a:ext cx="93960" cy="106560"/>
                </a:xfrm>
                <a:custGeom>
                  <a:avLst/>
                  <a:gdLst/>
                  <a:ahLst/>
                  <a:rect l="l" t="t" r="r" b="b"/>
                  <a:pathLst>
                    <a:path w="688" h="1021">
                      <a:moveTo>
                        <a:pt x="673" y="1005"/>
                      </a:moveTo>
                      <a:cubicBezTo>
                        <a:pt x="664" y="994"/>
                        <a:pt x="682" y="1000"/>
                        <a:pt x="620" y="945"/>
                      </a:cubicBezTo>
                      <a:cubicBezTo>
                        <a:pt x="558" y="890"/>
                        <a:pt x="401" y="817"/>
                        <a:pt x="303" y="673"/>
                      </a:cubicBezTo>
                      <a:cubicBezTo>
                        <a:pt x="205" y="529"/>
                        <a:pt x="60" y="166"/>
                        <a:pt x="30" y="83"/>
                      </a:cubicBezTo>
                      <a:cubicBezTo>
                        <a:pt x="0" y="0"/>
                        <a:pt x="38" y="98"/>
                        <a:pt x="121" y="174"/>
                      </a:cubicBezTo>
                      <a:cubicBezTo>
                        <a:pt x="204" y="250"/>
                        <a:pt x="438" y="408"/>
                        <a:pt x="529" y="537"/>
                      </a:cubicBezTo>
                      <a:cubicBezTo>
                        <a:pt x="620" y="666"/>
                        <a:pt x="642" y="869"/>
                        <a:pt x="665" y="945"/>
                      </a:cubicBezTo>
                      <a:cubicBezTo>
                        <a:pt x="688" y="1021"/>
                        <a:pt x="676" y="1006"/>
                        <a:pt x="665" y="991"/>
                      </a:cubicBezTo>
                      <a:cubicBezTo>
                        <a:pt x="665" y="991"/>
                        <a:pt x="673" y="1005"/>
                        <a:pt x="673" y="100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56b13"/>
                    </a:gs>
                    <a:gs pos="100000">
                      <a:srgbClr val="ddeb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8" name=""/>
                <p:cNvSpPr/>
                <p:nvPr/>
              </p:nvSpPr>
              <p:spPr>
                <a:xfrm flipH="1" flipV="1">
                  <a:off x="5186160" y="2011320"/>
                  <a:ext cx="16560" cy="85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9" name=""/>
                <p:cNvSpPr/>
                <p:nvPr/>
              </p:nvSpPr>
              <p:spPr>
                <a:xfrm flipV="1">
                  <a:off x="5200560" y="2051640"/>
                  <a:ext cx="2880" cy="15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0" name=""/>
                <p:cNvSpPr/>
                <p:nvPr/>
              </p:nvSpPr>
              <p:spPr>
                <a:xfrm flipH="1" flipV="1">
                  <a:off x="5177520" y="2034000"/>
                  <a:ext cx="12600" cy="14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1" name=""/>
                <p:cNvSpPr/>
                <p:nvPr/>
              </p:nvSpPr>
              <p:spPr>
                <a:xfrm flipV="1">
                  <a:off x="5193000" y="2022120"/>
                  <a:ext cx="36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12" name=""/>
            <p:cNvGrpSpPr/>
            <p:nvPr/>
          </p:nvGrpSpPr>
          <p:grpSpPr>
            <a:xfrm>
              <a:off x="3596040" y="2180880"/>
              <a:ext cx="2459880" cy="3963960"/>
              <a:chOff x="3596040" y="2180880"/>
              <a:chExt cx="2459880" cy="3963960"/>
            </a:xfrm>
          </p:grpSpPr>
          <p:sp>
            <p:nvSpPr>
              <p:cNvPr id="11713" name=""/>
              <p:cNvSpPr/>
              <p:nvPr/>
            </p:nvSpPr>
            <p:spPr>
              <a:xfrm>
                <a:off x="4069440" y="2511360"/>
                <a:ext cx="1402200" cy="3633480"/>
              </a:xfrm>
              <a:custGeom>
                <a:avLst/>
                <a:gdLst/>
                <a:ahLst/>
                <a:rect l="l" t="t" r="r" b="b"/>
                <a:pathLst>
                  <a:path w="1633" h="3660">
                    <a:moveTo>
                      <a:pt x="553" y="3380"/>
                    </a:moveTo>
                    <a:cubicBezTo>
                      <a:pt x="591" y="3320"/>
                      <a:pt x="773" y="3176"/>
                      <a:pt x="825" y="3063"/>
                    </a:cubicBezTo>
                    <a:cubicBezTo>
                      <a:pt x="877" y="2950"/>
                      <a:pt x="852" y="2843"/>
                      <a:pt x="867" y="2699"/>
                    </a:cubicBezTo>
                    <a:cubicBezTo>
                      <a:pt x="882" y="2555"/>
                      <a:pt x="906" y="2324"/>
                      <a:pt x="914" y="2199"/>
                    </a:cubicBezTo>
                    <a:cubicBezTo>
                      <a:pt x="922" y="2074"/>
                      <a:pt x="943" y="2058"/>
                      <a:pt x="914" y="1947"/>
                    </a:cubicBezTo>
                    <a:cubicBezTo>
                      <a:pt x="885" y="1836"/>
                      <a:pt x="874" y="1765"/>
                      <a:pt x="738" y="1535"/>
                    </a:cubicBezTo>
                    <a:cubicBezTo>
                      <a:pt x="602" y="1305"/>
                      <a:pt x="198" y="722"/>
                      <a:pt x="99" y="568"/>
                    </a:cubicBezTo>
                    <a:cubicBezTo>
                      <a:pt x="0" y="414"/>
                      <a:pt x="36" y="463"/>
                      <a:pt x="145" y="613"/>
                    </a:cubicBezTo>
                    <a:cubicBezTo>
                      <a:pt x="254" y="763"/>
                      <a:pt x="630" y="1298"/>
                      <a:pt x="755" y="1471"/>
                    </a:cubicBezTo>
                    <a:cubicBezTo>
                      <a:pt x="880" y="1644"/>
                      <a:pt x="866" y="1661"/>
                      <a:pt x="896" y="1653"/>
                    </a:cubicBezTo>
                    <a:cubicBezTo>
                      <a:pt x="926" y="1645"/>
                      <a:pt x="941" y="1552"/>
                      <a:pt x="937" y="1424"/>
                    </a:cubicBezTo>
                    <a:cubicBezTo>
                      <a:pt x="933" y="1296"/>
                      <a:pt x="926" y="1103"/>
                      <a:pt x="870" y="885"/>
                    </a:cubicBezTo>
                    <a:cubicBezTo>
                      <a:pt x="814" y="667"/>
                      <a:pt x="637" y="228"/>
                      <a:pt x="598" y="114"/>
                    </a:cubicBezTo>
                    <a:cubicBezTo>
                      <a:pt x="559" y="0"/>
                      <a:pt x="590" y="80"/>
                      <a:pt x="638" y="201"/>
                    </a:cubicBezTo>
                    <a:cubicBezTo>
                      <a:pt x="686" y="322"/>
                      <a:pt x="834" y="687"/>
                      <a:pt x="884" y="842"/>
                    </a:cubicBezTo>
                    <a:cubicBezTo>
                      <a:pt x="934" y="997"/>
                      <a:pt x="922" y="1056"/>
                      <a:pt x="937" y="1130"/>
                    </a:cubicBezTo>
                    <a:cubicBezTo>
                      <a:pt x="952" y="1204"/>
                      <a:pt x="940" y="1348"/>
                      <a:pt x="973" y="1288"/>
                    </a:cubicBezTo>
                    <a:cubicBezTo>
                      <a:pt x="1006" y="1228"/>
                      <a:pt x="1079" y="906"/>
                      <a:pt x="1137" y="771"/>
                    </a:cubicBezTo>
                    <a:cubicBezTo>
                      <a:pt x="1195" y="636"/>
                      <a:pt x="1300" y="579"/>
                      <a:pt x="1324" y="477"/>
                    </a:cubicBezTo>
                    <a:cubicBezTo>
                      <a:pt x="1348" y="375"/>
                      <a:pt x="1277" y="181"/>
                      <a:pt x="1279" y="160"/>
                    </a:cubicBezTo>
                    <a:cubicBezTo>
                      <a:pt x="1281" y="139"/>
                      <a:pt x="1328" y="286"/>
                      <a:pt x="1337" y="348"/>
                    </a:cubicBezTo>
                    <a:cubicBezTo>
                      <a:pt x="1346" y="410"/>
                      <a:pt x="1364" y="448"/>
                      <a:pt x="1331" y="530"/>
                    </a:cubicBezTo>
                    <a:cubicBezTo>
                      <a:pt x="1298" y="612"/>
                      <a:pt x="1196" y="682"/>
                      <a:pt x="1142" y="840"/>
                    </a:cubicBezTo>
                    <a:cubicBezTo>
                      <a:pt x="1088" y="998"/>
                      <a:pt x="1021" y="1301"/>
                      <a:pt x="1006" y="1475"/>
                    </a:cubicBezTo>
                    <a:cubicBezTo>
                      <a:pt x="991" y="1649"/>
                      <a:pt x="1018" y="1862"/>
                      <a:pt x="1052" y="1883"/>
                    </a:cubicBezTo>
                    <a:cubicBezTo>
                      <a:pt x="1086" y="1904"/>
                      <a:pt x="1170" y="1721"/>
                      <a:pt x="1208" y="1600"/>
                    </a:cubicBezTo>
                    <a:cubicBezTo>
                      <a:pt x="1246" y="1479"/>
                      <a:pt x="1214" y="1270"/>
                      <a:pt x="1279" y="1158"/>
                    </a:cubicBezTo>
                    <a:cubicBezTo>
                      <a:pt x="1344" y="1046"/>
                      <a:pt x="1559" y="961"/>
                      <a:pt x="1596" y="931"/>
                    </a:cubicBezTo>
                    <a:cubicBezTo>
                      <a:pt x="1633" y="901"/>
                      <a:pt x="1555" y="938"/>
                      <a:pt x="1505" y="976"/>
                    </a:cubicBezTo>
                    <a:cubicBezTo>
                      <a:pt x="1455" y="1014"/>
                      <a:pt x="1337" y="1095"/>
                      <a:pt x="1296" y="1159"/>
                    </a:cubicBezTo>
                    <a:cubicBezTo>
                      <a:pt x="1255" y="1223"/>
                      <a:pt x="1272" y="1276"/>
                      <a:pt x="1261" y="1359"/>
                    </a:cubicBezTo>
                    <a:cubicBezTo>
                      <a:pt x="1250" y="1442"/>
                      <a:pt x="1253" y="1570"/>
                      <a:pt x="1233" y="1657"/>
                    </a:cubicBezTo>
                    <a:cubicBezTo>
                      <a:pt x="1213" y="1744"/>
                      <a:pt x="1172" y="1823"/>
                      <a:pt x="1142" y="1883"/>
                    </a:cubicBezTo>
                    <a:cubicBezTo>
                      <a:pt x="1112" y="1943"/>
                      <a:pt x="1067" y="1919"/>
                      <a:pt x="1052" y="2019"/>
                    </a:cubicBezTo>
                    <a:cubicBezTo>
                      <a:pt x="1037" y="2119"/>
                      <a:pt x="1049" y="2338"/>
                      <a:pt x="1049" y="2482"/>
                    </a:cubicBezTo>
                    <a:cubicBezTo>
                      <a:pt x="1049" y="2626"/>
                      <a:pt x="1037" y="2754"/>
                      <a:pt x="1052" y="2881"/>
                    </a:cubicBezTo>
                    <a:cubicBezTo>
                      <a:pt x="1067" y="3008"/>
                      <a:pt x="1097" y="3138"/>
                      <a:pt x="1142" y="3244"/>
                    </a:cubicBezTo>
                    <a:cubicBezTo>
                      <a:pt x="1187" y="3350"/>
                      <a:pt x="1309" y="3478"/>
                      <a:pt x="1324" y="3516"/>
                    </a:cubicBezTo>
                    <a:cubicBezTo>
                      <a:pt x="1339" y="3554"/>
                      <a:pt x="1278" y="3501"/>
                      <a:pt x="1233" y="3471"/>
                    </a:cubicBezTo>
                    <a:cubicBezTo>
                      <a:pt x="1188" y="3441"/>
                      <a:pt x="1067" y="3312"/>
                      <a:pt x="1052" y="3335"/>
                    </a:cubicBezTo>
                    <a:cubicBezTo>
                      <a:pt x="1037" y="3358"/>
                      <a:pt x="1135" y="3562"/>
                      <a:pt x="1142" y="3607"/>
                    </a:cubicBezTo>
                    <a:cubicBezTo>
                      <a:pt x="1149" y="3652"/>
                      <a:pt x="1127" y="3645"/>
                      <a:pt x="1097" y="3607"/>
                    </a:cubicBezTo>
                    <a:cubicBezTo>
                      <a:pt x="1067" y="3569"/>
                      <a:pt x="1006" y="3373"/>
                      <a:pt x="961" y="3380"/>
                    </a:cubicBezTo>
                    <a:cubicBezTo>
                      <a:pt x="916" y="3387"/>
                      <a:pt x="840" y="3644"/>
                      <a:pt x="825" y="3652"/>
                    </a:cubicBezTo>
                    <a:cubicBezTo>
                      <a:pt x="810" y="3660"/>
                      <a:pt x="885" y="3471"/>
                      <a:pt x="870" y="3426"/>
                    </a:cubicBezTo>
                    <a:cubicBezTo>
                      <a:pt x="855" y="3381"/>
                      <a:pt x="802" y="3357"/>
                      <a:pt x="734" y="3380"/>
                    </a:cubicBezTo>
                    <a:cubicBezTo>
                      <a:pt x="666" y="3403"/>
                      <a:pt x="485" y="3554"/>
                      <a:pt x="462" y="3562"/>
                    </a:cubicBezTo>
                    <a:cubicBezTo>
                      <a:pt x="439" y="3570"/>
                      <a:pt x="583" y="3456"/>
                      <a:pt x="598" y="3426"/>
                    </a:cubicBezTo>
                    <a:cubicBezTo>
                      <a:pt x="613" y="3396"/>
                      <a:pt x="515" y="3440"/>
                      <a:pt x="553" y="338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4" name=""/>
              <p:cNvGrpSpPr/>
              <p:nvPr/>
            </p:nvGrpSpPr>
            <p:grpSpPr>
              <a:xfrm>
                <a:off x="4316400" y="4234680"/>
                <a:ext cx="654480" cy="543600"/>
                <a:chOff x="4316400" y="4234680"/>
                <a:chExt cx="654480" cy="543600"/>
              </a:xfrm>
            </p:grpSpPr>
            <p:grpSp>
              <p:nvGrpSpPr>
                <p:cNvPr id="11715" name=""/>
                <p:cNvGrpSpPr/>
                <p:nvPr/>
              </p:nvGrpSpPr>
              <p:grpSpPr>
                <a:xfrm>
                  <a:off x="4581720" y="4305600"/>
                  <a:ext cx="145800" cy="133920"/>
                  <a:chOff x="4581720" y="4305600"/>
                  <a:chExt cx="145800" cy="133920"/>
                </a:xfrm>
              </p:grpSpPr>
              <p:sp>
                <p:nvSpPr>
                  <p:cNvPr id="11716" name=""/>
                  <p:cNvSpPr/>
                  <p:nvPr/>
                </p:nvSpPr>
                <p:spPr>
                  <a:xfrm rot="3815400">
                    <a:off x="4608720" y="4313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7" name=""/>
                  <p:cNvSpPr/>
                  <p:nvPr/>
                </p:nvSpPr>
                <p:spPr>
                  <a:xfrm flipV="1">
                    <a:off x="4628880" y="43484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8" name=""/>
                  <p:cNvSpPr/>
                  <p:nvPr/>
                </p:nvSpPr>
                <p:spPr>
                  <a:xfrm flipV="1">
                    <a:off x="4644360" y="43923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9" name=""/>
                  <p:cNvSpPr/>
                  <p:nvPr/>
                </p:nvSpPr>
                <p:spPr>
                  <a:xfrm flipH="1" flipV="1">
                    <a:off x="4641840" y="43657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0" name=""/>
                  <p:cNvSpPr/>
                  <p:nvPr/>
                </p:nvSpPr>
                <p:spPr>
                  <a:xfrm flipV="1">
                    <a:off x="4656960" y="43617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21" name=""/>
                <p:cNvSpPr/>
                <p:nvPr/>
              </p:nvSpPr>
              <p:spPr>
                <a:xfrm flipH="1">
                  <a:off x="4577760" y="45705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2" name=""/>
                <p:cNvSpPr/>
                <p:nvPr/>
              </p:nvSpPr>
              <p:spPr>
                <a:xfrm>
                  <a:off x="4455000" y="44690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3" name=""/>
                <p:cNvSpPr/>
                <p:nvPr/>
              </p:nvSpPr>
              <p:spPr>
                <a:xfrm flipH="1" flipV="1">
                  <a:off x="4560480" y="43675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4" name=""/>
                <p:cNvSpPr/>
                <p:nvPr/>
              </p:nvSpPr>
              <p:spPr>
                <a:xfrm flipH="1" flipV="1">
                  <a:off x="4772160" y="44690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5" name=""/>
                <p:cNvSpPr/>
                <p:nvPr/>
              </p:nvSpPr>
              <p:spPr>
                <a:xfrm flipH="1">
                  <a:off x="4630680" y="45910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6" name=""/>
                <p:cNvSpPr/>
                <p:nvPr/>
              </p:nvSpPr>
              <p:spPr>
                <a:xfrm flipH="1" flipV="1">
                  <a:off x="4665960" y="45500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7" name=""/>
                <p:cNvSpPr/>
                <p:nvPr/>
              </p:nvSpPr>
              <p:spPr>
                <a:xfrm flipH="1" flipV="1">
                  <a:off x="4525200" y="43873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8" name=""/>
                <p:cNvSpPr/>
                <p:nvPr/>
              </p:nvSpPr>
              <p:spPr>
                <a:xfrm flipV="1">
                  <a:off x="4613040" y="44074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9" name=""/>
                <p:cNvSpPr/>
                <p:nvPr/>
              </p:nvSpPr>
              <p:spPr>
                <a:xfrm flipH="1">
                  <a:off x="4472280" y="44895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0" name=""/>
                <p:cNvSpPr/>
                <p:nvPr/>
              </p:nvSpPr>
              <p:spPr>
                <a:xfrm flipH="1" flipV="1">
                  <a:off x="4700880" y="44895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1" name=""/>
                <p:cNvSpPr/>
                <p:nvPr/>
              </p:nvSpPr>
              <p:spPr>
                <a:xfrm flipH="1" flipV="1">
                  <a:off x="4736520" y="44895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2" name=""/>
                <p:cNvSpPr/>
                <p:nvPr/>
              </p:nvSpPr>
              <p:spPr>
                <a:xfrm flipV="1">
                  <a:off x="4842360" y="45500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3" name=""/>
                <p:cNvSpPr/>
                <p:nvPr/>
              </p:nvSpPr>
              <p:spPr>
                <a:xfrm flipV="1">
                  <a:off x="4789440" y="44481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4" name=""/>
                <p:cNvSpPr/>
                <p:nvPr/>
              </p:nvSpPr>
              <p:spPr>
                <a:xfrm flipH="1">
                  <a:off x="4736160" y="46314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5" name=""/>
                <p:cNvSpPr/>
                <p:nvPr/>
              </p:nvSpPr>
              <p:spPr>
                <a:xfrm flipH="1">
                  <a:off x="4542840" y="45097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6" name=""/>
                <p:cNvSpPr/>
                <p:nvPr/>
              </p:nvSpPr>
              <p:spPr>
                <a:xfrm flipH="1" flipV="1">
                  <a:off x="4471920" y="44287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737" name=""/>
                <p:cNvGrpSpPr/>
                <p:nvPr/>
              </p:nvGrpSpPr>
              <p:grpSpPr>
                <a:xfrm>
                  <a:off x="4497120" y="4234680"/>
                  <a:ext cx="135000" cy="156960"/>
                  <a:chOff x="4497120" y="4234680"/>
                  <a:chExt cx="135000" cy="156960"/>
                </a:xfrm>
              </p:grpSpPr>
              <p:sp>
                <p:nvSpPr>
                  <p:cNvPr id="11738" name=""/>
                  <p:cNvSpPr/>
                  <p:nvPr/>
                </p:nvSpPr>
                <p:spPr>
                  <a:xfrm rot="1745400">
                    <a:off x="4524840" y="4245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9" name=""/>
                  <p:cNvSpPr/>
                  <p:nvPr/>
                </p:nvSpPr>
                <p:spPr>
                  <a:xfrm flipH="1" flipV="1">
                    <a:off x="4561200" y="42876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0" name=""/>
                  <p:cNvSpPr/>
                  <p:nvPr/>
                </p:nvSpPr>
                <p:spPr>
                  <a:xfrm flipV="1">
                    <a:off x="4569840" y="43293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1" name=""/>
                  <p:cNvSpPr/>
                  <p:nvPr/>
                </p:nvSpPr>
                <p:spPr>
                  <a:xfrm flipH="1" flipV="1">
                    <a:off x="4551120" y="43164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2" name=""/>
                  <p:cNvSpPr/>
                  <p:nvPr/>
                </p:nvSpPr>
                <p:spPr>
                  <a:xfrm flipV="1">
                    <a:off x="4566600" y="42980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3" name=""/>
                <p:cNvGrpSpPr/>
                <p:nvPr/>
              </p:nvGrpSpPr>
              <p:grpSpPr>
                <a:xfrm>
                  <a:off x="4554360" y="4438440"/>
                  <a:ext cx="126720" cy="156240"/>
                  <a:chOff x="4554360" y="4438440"/>
                  <a:chExt cx="126720" cy="156240"/>
                </a:xfrm>
              </p:grpSpPr>
              <p:sp>
                <p:nvSpPr>
                  <p:cNvPr id="11744" name=""/>
                  <p:cNvSpPr/>
                  <p:nvPr/>
                </p:nvSpPr>
                <p:spPr>
                  <a:xfrm rot="20187000">
                    <a:off x="4578120" y="4448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5" name=""/>
                  <p:cNvSpPr/>
                  <p:nvPr/>
                </p:nvSpPr>
                <p:spPr>
                  <a:xfrm flipH="1" flipV="1">
                    <a:off x="4595400" y="45036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6" name=""/>
                  <p:cNvSpPr/>
                  <p:nvPr/>
                </p:nvSpPr>
                <p:spPr>
                  <a:xfrm flipH="1" flipV="1">
                    <a:off x="4636440" y="45187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7" name=""/>
                  <p:cNvSpPr/>
                  <p:nvPr/>
                </p:nvSpPr>
                <p:spPr>
                  <a:xfrm flipH="1">
                    <a:off x="4611960" y="45284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8" name=""/>
                  <p:cNvSpPr/>
                  <p:nvPr/>
                </p:nvSpPr>
                <p:spPr>
                  <a:xfrm flipH="1" flipV="1">
                    <a:off x="4607640" y="45046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9" name=""/>
                <p:cNvGrpSpPr/>
                <p:nvPr/>
              </p:nvGrpSpPr>
              <p:grpSpPr>
                <a:xfrm>
                  <a:off x="4631040" y="4367520"/>
                  <a:ext cx="79200" cy="135720"/>
                  <a:chOff x="4631040" y="4367520"/>
                  <a:chExt cx="79200" cy="135720"/>
                </a:xfrm>
              </p:grpSpPr>
              <p:sp>
                <p:nvSpPr>
                  <p:cNvPr id="11750" name=""/>
                  <p:cNvSpPr/>
                  <p:nvPr/>
                </p:nvSpPr>
                <p:spPr>
                  <a:xfrm>
                    <a:off x="4631040" y="4367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1" name=""/>
                  <p:cNvSpPr/>
                  <p:nvPr/>
                </p:nvSpPr>
                <p:spPr>
                  <a:xfrm flipH="1" flipV="1">
                    <a:off x="4655160" y="44146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2" name=""/>
                  <p:cNvSpPr/>
                  <p:nvPr/>
                </p:nvSpPr>
                <p:spPr>
                  <a:xfrm flipH="1" flipV="1">
                    <a:off x="4686840" y="44449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3" name=""/>
                  <p:cNvSpPr/>
                  <p:nvPr/>
                </p:nvSpPr>
                <p:spPr>
                  <a:xfrm flipH="1" flipV="1">
                    <a:off x="4660200" y="44445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4" name=""/>
                  <p:cNvSpPr/>
                  <p:nvPr/>
                </p:nvSpPr>
                <p:spPr>
                  <a:xfrm flipH="1" flipV="1">
                    <a:off x="4665960" y="44204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5" name=""/>
                <p:cNvGrpSpPr/>
                <p:nvPr/>
              </p:nvGrpSpPr>
              <p:grpSpPr>
                <a:xfrm>
                  <a:off x="4466880" y="4603680"/>
                  <a:ext cx="127800" cy="105120"/>
                  <a:chOff x="4466880" y="4603680"/>
                  <a:chExt cx="127800" cy="105120"/>
                </a:xfrm>
              </p:grpSpPr>
              <p:sp>
                <p:nvSpPr>
                  <p:cNvPr id="11756" name=""/>
                  <p:cNvSpPr/>
                  <p:nvPr/>
                </p:nvSpPr>
                <p:spPr>
                  <a:xfrm rot="15769200">
                    <a:off x="4485240" y="4597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7" name=""/>
                  <p:cNvSpPr/>
                  <p:nvPr/>
                </p:nvSpPr>
                <p:spPr>
                  <a:xfrm flipH="1">
                    <a:off x="4515480" y="46083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8" name=""/>
                  <p:cNvSpPr/>
                  <p:nvPr/>
                </p:nvSpPr>
                <p:spPr>
                  <a:xfrm flipH="1">
                    <a:off x="4536360" y="46292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9" name=""/>
                  <p:cNvSpPr/>
                  <p:nvPr/>
                </p:nvSpPr>
                <p:spPr>
                  <a:xfrm flipH="1">
                    <a:off x="4540680" y="46486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0" name=""/>
                  <p:cNvSpPr/>
                  <p:nvPr/>
                </p:nvSpPr>
                <p:spPr>
                  <a:xfrm flipH="1">
                    <a:off x="4518720" y="46566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61" name=""/>
                <p:cNvGrpSpPr/>
                <p:nvPr/>
              </p:nvGrpSpPr>
              <p:grpSpPr>
                <a:xfrm>
                  <a:off x="4402080" y="4306680"/>
                  <a:ext cx="79200" cy="135720"/>
                  <a:chOff x="4402080" y="4306680"/>
                  <a:chExt cx="79200" cy="135720"/>
                </a:xfrm>
              </p:grpSpPr>
              <p:sp>
                <p:nvSpPr>
                  <p:cNvPr id="11762" name=""/>
                  <p:cNvSpPr/>
                  <p:nvPr/>
                </p:nvSpPr>
                <p:spPr>
                  <a:xfrm>
                    <a:off x="4402080" y="4306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3" name=""/>
                  <p:cNvSpPr/>
                  <p:nvPr/>
                </p:nvSpPr>
                <p:spPr>
                  <a:xfrm flipH="1" flipV="1">
                    <a:off x="4426200" y="43538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4" name=""/>
                  <p:cNvSpPr/>
                  <p:nvPr/>
                </p:nvSpPr>
                <p:spPr>
                  <a:xfrm flipH="1" flipV="1">
                    <a:off x="4457880" y="43840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5" name=""/>
                  <p:cNvSpPr/>
                  <p:nvPr/>
                </p:nvSpPr>
                <p:spPr>
                  <a:xfrm flipH="1" flipV="1">
                    <a:off x="4431240" y="4383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6" name=""/>
                  <p:cNvSpPr/>
                  <p:nvPr/>
                </p:nvSpPr>
                <p:spPr>
                  <a:xfrm flipH="1" flipV="1">
                    <a:off x="4437000" y="43596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67" name=""/>
                <p:cNvGrpSpPr/>
                <p:nvPr/>
              </p:nvGrpSpPr>
              <p:grpSpPr>
                <a:xfrm>
                  <a:off x="4701240" y="4347000"/>
                  <a:ext cx="79200" cy="135720"/>
                  <a:chOff x="4701240" y="4347000"/>
                  <a:chExt cx="79200" cy="135720"/>
                </a:xfrm>
              </p:grpSpPr>
              <p:sp>
                <p:nvSpPr>
                  <p:cNvPr id="11768" name=""/>
                  <p:cNvSpPr/>
                  <p:nvPr/>
                </p:nvSpPr>
                <p:spPr>
                  <a:xfrm>
                    <a:off x="4701240" y="4347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9" name=""/>
                  <p:cNvSpPr/>
                  <p:nvPr/>
                </p:nvSpPr>
                <p:spPr>
                  <a:xfrm flipH="1" flipV="1">
                    <a:off x="4725360" y="4394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0" name=""/>
                  <p:cNvSpPr/>
                  <p:nvPr/>
                </p:nvSpPr>
                <p:spPr>
                  <a:xfrm flipH="1" flipV="1">
                    <a:off x="4757040" y="4424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1" name=""/>
                  <p:cNvSpPr/>
                  <p:nvPr/>
                </p:nvSpPr>
                <p:spPr>
                  <a:xfrm flipH="1" flipV="1">
                    <a:off x="4730400" y="4424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2" name=""/>
                  <p:cNvSpPr/>
                  <p:nvPr/>
                </p:nvSpPr>
                <p:spPr>
                  <a:xfrm flipH="1" flipV="1">
                    <a:off x="4736160" y="4399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3" name=""/>
                <p:cNvGrpSpPr/>
                <p:nvPr/>
              </p:nvGrpSpPr>
              <p:grpSpPr>
                <a:xfrm>
                  <a:off x="4455000" y="4266000"/>
                  <a:ext cx="79200" cy="135720"/>
                  <a:chOff x="4455000" y="4266000"/>
                  <a:chExt cx="79200" cy="135720"/>
                </a:xfrm>
              </p:grpSpPr>
              <p:sp>
                <p:nvSpPr>
                  <p:cNvPr id="11774" name=""/>
                  <p:cNvSpPr/>
                  <p:nvPr/>
                </p:nvSpPr>
                <p:spPr>
                  <a:xfrm>
                    <a:off x="4455000" y="4266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5" name=""/>
                  <p:cNvSpPr/>
                  <p:nvPr/>
                </p:nvSpPr>
                <p:spPr>
                  <a:xfrm flipH="1" flipV="1">
                    <a:off x="4479120" y="4313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6" name=""/>
                  <p:cNvSpPr/>
                  <p:nvPr/>
                </p:nvSpPr>
                <p:spPr>
                  <a:xfrm flipH="1" flipV="1">
                    <a:off x="4510800" y="4343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7" name=""/>
                  <p:cNvSpPr/>
                  <p:nvPr/>
                </p:nvSpPr>
                <p:spPr>
                  <a:xfrm flipH="1" flipV="1">
                    <a:off x="4484160" y="4343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8" name=""/>
                  <p:cNvSpPr/>
                  <p:nvPr/>
                </p:nvSpPr>
                <p:spPr>
                  <a:xfrm flipH="1" flipV="1">
                    <a:off x="4489920" y="4318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9" name=""/>
                <p:cNvGrpSpPr/>
                <p:nvPr/>
              </p:nvGrpSpPr>
              <p:grpSpPr>
                <a:xfrm>
                  <a:off x="4620240" y="4657320"/>
                  <a:ext cx="138600" cy="120960"/>
                  <a:chOff x="4620240" y="4657320"/>
                  <a:chExt cx="138600" cy="120960"/>
                </a:xfrm>
              </p:grpSpPr>
              <p:sp>
                <p:nvSpPr>
                  <p:cNvPr id="11780" name=""/>
                  <p:cNvSpPr/>
                  <p:nvPr/>
                </p:nvSpPr>
                <p:spPr>
                  <a:xfrm rot="15198000">
                    <a:off x="4644000" y="4658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1" name=""/>
                  <p:cNvSpPr/>
                  <p:nvPr/>
                </p:nvSpPr>
                <p:spPr>
                  <a:xfrm flipH="1">
                    <a:off x="4677480" y="46627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2" name=""/>
                  <p:cNvSpPr/>
                  <p:nvPr/>
                </p:nvSpPr>
                <p:spPr>
                  <a:xfrm flipH="1">
                    <a:off x="4691880" y="46875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3" name=""/>
                  <p:cNvSpPr/>
                  <p:nvPr/>
                </p:nvSpPr>
                <p:spPr>
                  <a:xfrm>
                    <a:off x="4700520" y="47077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4" name=""/>
                  <p:cNvSpPr/>
                  <p:nvPr/>
                </p:nvSpPr>
                <p:spPr>
                  <a:xfrm flipH="1">
                    <a:off x="4678920" y="47181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5" name=""/>
                <p:cNvGrpSpPr/>
                <p:nvPr/>
              </p:nvGrpSpPr>
              <p:grpSpPr>
                <a:xfrm>
                  <a:off x="4527720" y="4628160"/>
                  <a:ext cx="147240" cy="138240"/>
                  <a:chOff x="4527720" y="4628160"/>
                  <a:chExt cx="147240" cy="138240"/>
                </a:xfrm>
              </p:grpSpPr>
              <p:sp>
                <p:nvSpPr>
                  <p:cNvPr id="11786" name=""/>
                  <p:cNvSpPr/>
                  <p:nvPr/>
                </p:nvSpPr>
                <p:spPr>
                  <a:xfrm rot="14358600">
                    <a:off x="4555800" y="4638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7" name=""/>
                  <p:cNvSpPr/>
                  <p:nvPr/>
                </p:nvSpPr>
                <p:spPr>
                  <a:xfrm flipH="1">
                    <a:off x="4595040" y="46353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8" name=""/>
                  <p:cNvSpPr/>
                  <p:nvPr/>
                </p:nvSpPr>
                <p:spPr>
                  <a:xfrm flipH="1">
                    <a:off x="4598640" y="46641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9" name=""/>
                  <p:cNvSpPr/>
                  <p:nvPr/>
                </p:nvSpPr>
                <p:spPr>
                  <a:xfrm>
                    <a:off x="4609800" y="46850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0" name=""/>
                  <p:cNvSpPr/>
                  <p:nvPr/>
                </p:nvSpPr>
                <p:spPr>
                  <a:xfrm flipH="1">
                    <a:off x="4593240" y="46983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91" name=""/>
                <p:cNvGrpSpPr/>
                <p:nvPr/>
              </p:nvGrpSpPr>
              <p:grpSpPr>
                <a:xfrm>
                  <a:off x="4347000" y="4465440"/>
                  <a:ext cx="122400" cy="97560"/>
                  <a:chOff x="4347000" y="4465440"/>
                  <a:chExt cx="122400" cy="97560"/>
                </a:xfrm>
              </p:grpSpPr>
              <p:sp>
                <p:nvSpPr>
                  <p:cNvPr id="11792" name=""/>
                  <p:cNvSpPr/>
                  <p:nvPr/>
                </p:nvSpPr>
                <p:spPr>
                  <a:xfrm rot="16010400">
                    <a:off x="4362480" y="445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3" name=""/>
                  <p:cNvSpPr/>
                  <p:nvPr/>
                </p:nvSpPr>
                <p:spPr>
                  <a:xfrm flipH="1">
                    <a:off x="4391280" y="44694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4" name=""/>
                  <p:cNvSpPr/>
                  <p:nvPr/>
                </p:nvSpPr>
                <p:spPr>
                  <a:xfrm flipH="1">
                    <a:off x="4415040" y="4488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5" name=""/>
                  <p:cNvSpPr/>
                  <p:nvPr/>
                </p:nvSpPr>
                <p:spPr>
                  <a:xfrm flipH="1">
                    <a:off x="4417200" y="45072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6" name=""/>
                  <p:cNvSpPr/>
                  <p:nvPr/>
                </p:nvSpPr>
                <p:spPr>
                  <a:xfrm flipH="1">
                    <a:off x="4395600" y="45140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97" name=""/>
                <p:cNvGrpSpPr/>
                <p:nvPr/>
              </p:nvGrpSpPr>
              <p:grpSpPr>
                <a:xfrm>
                  <a:off x="4353840" y="4531320"/>
                  <a:ext cx="142920" cy="128520"/>
                  <a:chOff x="4353840" y="4531320"/>
                  <a:chExt cx="142920" cy="128520"/>
                </a:xfrm>
              </p:grpSpPr>
              <p:sp>
                <p:nvSpPr>
                  <p:cNvPr id="11798" name=""/>
                  <p:cNvSpPr/>
                  <p:nvPr/>
                </p:nvSpPr>
                <p:spPr>
                  <a:xfrm rot="14881800">
                    <a:off x="4379760" y="4536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9" name=""/>
                  <p:cNvSpPr/>
                  <p:nvPr/>
                </p:nvSpPr>
                <p:spPr>
                  <a:xfrm flipH="1">
                    <a:off x="4415400" y="45378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0" name=""/>
                  <p:cNvSpPr/>
                  <p:nvPr/>
                </p:nvSpPr>
                <p:spPr>
                  <a:xfrm flipH="1">
                    <a:off x="4425840" y="4564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1" name=""/>
                  <p:cNvSpPr/>
                  <p:nvPr/>
                </p:nvSpPr>
                <p:spPr>
                  <a:xfrm>
                    <a:off x="4435560" y="45846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2" name=""/>
                  <p:cNvSpPr/>
                  <p:nvPr/>
                </p:nvSpPr>
                <p:spPr>
                  <a:xfrm flipH="1">
                    <a:off x="4415400" y="45964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3" name=""/>
                <p:cNvGrpSpPr/>
                <p:nvPr/>
              </p:nvGrpSpPr>
              <p:grpSpPr>
                <a:xfrm>
                  <a:off x="4446000" y="4517280"/>
                  <a:ext cx="135000" cy="115560"/>
                  <a:chOff x="4446000" y="4517280"/>
                  <a:chExt cx="135000" cy="115560"/>
                </a:xfrm>
              </p:grpSpPr>
              <p:sp>
                <p:nvSpPr>
                  <p:cNvPr id="11804" name=""/>
                  <p:cNvSpPr/>
                  <p:nvPr/>
                </p:nvSpPr>
                <p:spPr>
                  <a:xfrm rot="15401400">
                    <a:off x="4467600" y="4516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5" name=""/>
                  <p:cNvSpPr/>
                  <p:nvPr/>
                </p:nvSpPr>
                <p:spPr>
                  <a:xfrm flipH="1">
                    <a:off x="4500360" y="45223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6" name=""/>
                  <p:cNvSpPr/>
                  <p:nvPr/>
                </p:nvSpPr>
                <p:spPr>
                  <a:xfrm flipH="1">
                    <a:off x="4516920" y="45460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7" name=""/>
                  <p:cNvSpPr/>
                  <p:nvPr/>
                </p:nvSpPr>
                <p:spPr>
                  <a:xfrm flipH="1">
                    <a:off x="4524480" y="4565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8" name=""/>
                  <p:cNvSpPr/>
                  <p:nvPr/>
                </p:nvSpPr>
                <p:spPr>
                  <a:xfrm flipH="1">
                    <a:off x="4502160" y="45756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9" name=""/>
                <p:cNvGrpSpPr/>
                <p:nvPr/>
              </p:nvGrpSpPr>
              <p:grpSpPr>
                <a:xfrm>
                  <a:off x="4411080" y="4375440"/>
                  <a:ext cx="135000" cy="115200"/>
                  <a:chOff x="4411080" y="4375440"/>
                  <a:chExt cx="135000" cy="115200"/>
                </a:xfrm>
              </p:grpSpPr>
              <p:sp>
                <p:nvSpPr>
                  <p:cNvPr id="11810" name=""/>
                  <p:cNvSpPr/>
                  <p:nvPr/>
                </p:nvSpPr>
                <p:spPr>
                  <a:xfrm rot="16985400">
                    <a:off x="4432680" y="4374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1" name=""/>
                  <p:cNvSpPr/>
                  <p:nvPr/>
                </p:nvSpPr>
                <p:spPr>
                  <a:xfrm flipH="1">
                    <a:off x="4456800" y="44028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2" name=""/>
                  <p:cNvSpPr/>
                  <p:nvPr/>
                </p:nvSpPr>
                <p:spPr>
                  <a:xfrm flipH="1">
                    <a:off x="4490280" y="44143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3" name=""/>
                  <p:cNvSpPr/>
                  <p:nvPr/>
                </p:nvSpPr>
                <p:spPr>
                  <a:xfrm flipH="1">
                    <a:off x="4483800" y="44298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4" name=""/>
                  <p:cNvSpPr/>
                  <p:nvPr/>
                </p:nvSpPr>
                <p:spPr>
                  <a:xfrm flipH="1">
                    <a:off x="4464720" y="44319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5" name=""/>
                <p:cNvGrpSpPr/>
                <p:nvPr/>
              </p:nvGrpSpPr>
              <p:grpSpPr>
                <a:xfrm>
                  <a:off x="4595760" y="4399200"/>
                  <a:ext cx="150120" cy="153360"/>
                  <a:chOff x="4595760" y="4399200"/>
                  <a:chExt cx="150120" cy="153360"/>
                </a:xfrm>
              </p:grpSpPr>
              <p:sp>
                <p:nvSpPr>
                  <p:cNvPr id="11816" name=""/>
                  <p:cNvSpPr/>
                  <p:nvPr/>
                </p:nvSpPr>
                <p:spPr>
                  <a:xfrm rot="19036200">
                    <a:off x="4631040" y="44078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7" name=""/>
                  <p:cNvSpPr/>
                  <p:nvPr/>
                </p:nvSpPr>
                <p:spPr>
                  <a:xfrm flipH="1" flipV="1">
                    <a:off x="4645440" y="44708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8" name=""/>
                  <p:cNvSpPr/>
                  <p:nvPr/>
                </p:nvSpPr>
                <p:spPr>
                  <a:xfrm flipH="1" flipV="1">
                    <a:off x="4689000" y="44715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9" name=""/>
                  <p:cNvSpPr/>
                  <p:nvPr/>
                </p:nvSpPr>
                <p:spPr>
                  <a:xfrm flipH="1">
                    <a:off x="4669200" y="44834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0" name=""/>
                  <p:cNvSpPr/>
                  <p:nvPr/>
                </p:nvSpPr>
                <p:spPr>
                  <a:xfrm flipH="1" flipV="1">
                    <a:off x="4657320" y="44679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1" name=""/>
                <p:cNvGrpSpPr/>
                <p:nvPr/>
              </p:nvGrpSpPr>
              <p:grpSpPr>
                <a:xfrm>
                  <a:off x="4760640" y="4330080"/>
                  <a:ext cx="140760" cy="124920"/>
                  <a:chOff x="4760640" y="4330080"/>
                  <a:chExt cx="140760" cy="124920"/>
                </a:xfrm>
              </p:grpSpPr>
              <p:sp>
                <p:nvSpPr>
                  <p:cNvPr id="11822" name=""/>
                  <p:cNvSpPr/>
                  <p:nvPr/>
                </p:nvSpPr>
                <p:spPr>
                  <a:xfrm rot="4233000">
                    <a:off x="4785120" y="4333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3" name=""/>
                  <p:cNvSpPr/>
                  <p:nvPr/>
                </p:nvSpPr>
                <p:spPr>
                  <a:xfrm flipV="1">
                    <a:off x="4798080" y="4369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4" name=""/>
                  <p:cNvSpPr/>
                  <p:nvPr/>
                </p:nvSpPr>
                <p:spPr>
                  <a:xfrm flipV="1">
                    <a:off x="4816800" y="44125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5" name=""/>
                  <p:cNvSpPr/>
                  <p:nvPr/>
                </p:nvSpPr>
                <p:spPr>
                  <a:xfrm flipH="1" flipV="1">
                    <a:off x="4819320" y="43840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6" name=""/>
                  <p:cNvSpPr/>
                  <p:nvPr/>
                </p:nvSpPr>
                <p:spPr>
                  <a:xfrm flipV="1">
                    <a:off x="4833360" y="43830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27" name=""/>
                <p:cNvGrpSpPr/>
                <p:nvPr/>
              </p:nvGrpSpPr>
              <p:grpSpPr>
                <a:xfrm>
                  <a:off x="4831560" y="4433040"/>
                  <a:ext cx="139320" cy="122040"/>
                  <a:chOff x="4831560" y="4433040"/>
                  <a:chExt cx="139320" cy="122040"/>
                </a:xfrm>
              </p:grpSpPr>
              <p:sp>
                <p:nvSpPr>
                  <p:cNvPr id="11828" name=""/>
                  <p:cNvSpPr/>
                  <p:nvPr/>
                </p:nvSpPr>
                <p:spPr>
                  <a:xfrm rot="4353000">
                    <a:off x="4855320" y="4435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9" name=""/>
                  <p:cNvSpPr/>
                  <p:nvPr/>
                </p:nvSpPr>
                <p:spPr>
                  <a:xfrm flipV="1">
                    <a:off x="4866480" y="44715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0" name=""/>
                  <p:cNvSpPr/>
                  <p:nvPr/>
                </p:nvSpPr>
                <p:spPr>
                  <a:xfrm flipV="1">
                    <a:off x="4885920" y="45140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1" name=""/>
                  <p:cNvSpPr/>
                  <p:nvPr/>
                </p:nvSpPr>
                <p:spPr>
                  <a:xfrm flipH="1" flipV="1">
                    <a:off x="4889520" y="44852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2" name=""/>
                  <p:cNvSpPr/>
                  <p:nvPr/>
                </p:nvSpPr>
                <p:spPr>
                  <a:xfrm flipV="1">
                    <a:off x="4903560" y="44848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3" name=""/>
                <p:cNvGrpSpPr/>
                <p:nvPr/>
              </p:nvGrpSpPr>
              <p:grpSpPr>
                <a:xfrm>
                  <a:off x="4599720" y="4539960"/>
                  <a:ext cx="142200" cy="156600"/>
                  <a:chOff x="4599720" y="4539960"/>
                  <a:chExt cx="142200" cy="156600"/>
                </a:xfrm>
              </p:grpSpPr>
              <p:sp>
                <p:nvSpPr>
                  <p:cNvPr id="11834" name=""/>
                  <p:cNvSpPr/>
                  <p:nvPr/>
                </p:nvSpPr>
                <p:spPr>
                  <a:xfrm rot="19525800">
                    <a:off x="4631040" y="4550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5" name=""/>
                  <p:cNvSpPr/>
                  <p:nvPr/>
                </p:nvSpPr>
                <p:spPr>
                  <a:xfrm flipH="1" flipV="1">
                    <a:off x="4646160" y="46098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6" name=""/>
                  <p:cNvSpPr/>
                  <p:nvPr/>
                </p:nvSpPr>
                <p:spPr>
                  <a:xfrm flipH="1" flipV="1">
                    <a:off x="4689360" y="46170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7" name=""/>
                  <p:cNvSpPr/>
                  <p:nvPr/>
                </p:nvSpPr>
                <p:spPr>
                  <a:xfrm flipH="1">
                    <a:off x="4667400" y="46278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8" name=""/>
                  <p:cNvSpPr/>
                  <p:nvPr/>
                </p:nvSpPr>
                <p:spPr>
                  <a:xfrm flipH="1" flipV="1">
                    <a:off x="4658400" y="46087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9" name=""/>
                <p:cNvGrpSpPr/>
                <p:nvPr/>
              </p:nvGrpSpPr>
              <p:grpSpPr>
                <a:xfrm>
                  <a:off x="4457520" y="4521960"/>
                  <a:ext cx="147600" cy="147240"/>
                  <a:chOff x="4457520" y="4521960"/>
                  <a:chExt cx="147600" cy="147240"/>
                </a:xfrm>
              </p:grpSpPr>
              <p:sp>
                <p:nvSpPr>
                  <p:cNvPr id="11840" name=""/>
                  <p:cNvSpPr/>
                  <p:nvPr/>
                </p:nvSpPr>
                <p:spPr>
                  <a:xfrm rot="18890400">
                    <a:off x="4485600" y="4536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1" name=""/>
                  <p:cNvSpPr/>
                  <p:nvPr/>
                </p:nvSpPr>
                <p:spPr>
                  <a:xfrm flipH="1" flipV="1">
                    <a:off x="4505760" y="45954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2" name=""/>
                  <p:cNvSpPr/>
                  <p:nvPr/>
                </p:nvSpPr>
                <p:spPr>
                  <a:xfrm flipH="1" flipV="1">
                    <a:off x="4549680" y="45882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3" name=""/>
                  <p:cNvSpPr/>
                  <p:nvPr/>
                </p:nvSpPr>
                <p:spPr>
                  <a:xfrm flipH="1">
                    <a:off x="4528800" y="46004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4" name=""/>
                  <p:cNvSpPr/>
                  <p:nvPr/>
                </p:nvSpPr>
                <p:spPr>
                  <a:xfrm flipH="1" flipV="1">
                    <a:off x="4518000" y="45903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5" name=""/>
                <p:cNvGrpSpPr/>
                <p:nvPr/>
              </p:nvGrpSpPr>
              <p:grpSpPr>
                <a:xfrm>
                  <a:off x="4334400" y="4440960"/>
                  <a:ext cx="147960" cy="146520"/>
                  <a:chOff x="4334400" y="4440960"/>
                  <a:chExt cx="147960" cy="146520"/>
                </a:xfrm>
              </p:grpSpPr>
              <p:sp>
                <p:nvSpPr>
                  <p:cNvPr id="11846" name=""/>
                  <p:cNvSpPr/>
                  <p:nvPr/>
                </p:nvSpPr>
                <p:spPr>
                  <a:xfrm rot="18730200">
                    <a:off x="4362840" y="445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7" name=""/>
                  <p:cNvSpPr/>
                  <p:nvPr/>
                </p:nvSpPr>
                <p:spPr>
                  <a:xfrm flipH="1" flipV="1">
                    <a:off x="4383000" y="45154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8" name=""/>
                  <p:cNvSpPr/>
                  <p:nvPr/>
                </p:nvSpPr>
                <p:spPr>
                  <a:xfrm flipH="1" flipV="1">
                    <a:off x="4426560" y="4505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9" name=""/>
                  <p:cNvSpPr/>
                  <p:nvPr/>
                </p:nvSpPr>
                <p:spPr>
                  <a:xfrm flipH="1">
                    <a:off x="4406760" y="45183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0" name=""/>
                  <p:cNvSpPr/>
                  <p:nvPr/>
                </p:nvSpPr>
                <p:spPr>
                  <a:xfrm flipH="1" flipV="1">
                    <a:off x="4394880" y="45097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51" name=""/>
                <p:cNvGrpSpPr/>
                <p:nvPr/>
              </p:nvGrpSpPr>
              <p:grpSpPr>
                <a:xfrm>
                  <a:off x="4316400" y="4357080"/>
                  <a:ext cx="145080" cy="155880"/>
                  <a:chOff x="4316400" y="4357080"/>
                  <a:chExt cx="145080" cy="155880"/>
                </a:xfrm>
              </p:grpSpPr>
              <p:sp>
                <p:nvSpPr>
                  <p:cNvPr id="11852" name=""/>
                  <p:cNvSpPr/>
                  <p:nvPr/>
                </p:nvSpPr>
                <p:spPr>
                  <a:xfrm rot="19362600">
                    <a:off x="4349160" y="436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3" name=""/>
                  <p:cNvSpPr/>
                  <p:nvPr/>
                </p:nvSpPr>
                <p:spPr>
                  <a:xfrm flipH="1" flipV="1">
                    <a:off x="4364280" y="44280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4" name=""/>
                  <p:cNvSpPr/>
                  <p:nvPr/>
                </p:nvSpPr>
                <p:spPr>
                  <a:xfrm flipH="1" flipV="1">
                    <a:off x="4407480" y="44330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5" name=""/>
                  <p:cNvSpPr/>
                  <p:nvPr/>
                </p:nvSpPr>
                <p:spPr>
                  <a:xfrm flipH="1">
                    <a:off x="4386240" y="44442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6" name=""/>
                  <p:cNvSpPr/>
                  <p:nvPr/>
                </p:nvSpPr>
                <p:spPr>
                  <a:xfrm flipH="1" flipV="1">
                    <a:off x="4376160" y="44262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857" name=""/>
              <p:cNvGrpSpPr/>
              <p:nvPr/>
            </p:nvGrpSpPr>
            <p:grpSpPr>
              <a:xfrm>
                <a:off x="3602160" y="2613600"/>
                <a:ext cx="654480" cy="543600"/>
                <a:chOff x="3602160" y="2613600"/>
                <a:chExt cx="654480" cy="543600"/>
              </a:xfrm>
            </p:grpSpPr>
            <p:grpSp>
              <p:nvGrpSpPr>
                <p:cNvPr id="11858" name=""/>
                <p:cNvGrpSpPr/>
                <p:nvPr/>
              </p:nvGrpSpPr>
              <p:grpSpPr>
                <a:xfrm>
                  <a:off x="3867480" y="2684520"/>
                  <a:ext cx="145800" cy="133920"/>
                  <a:chOff x="3867480" y="2684520"/>
                  <a:chExt cx="145800" cy="133920"/>
                </a:xfrm>
              </p:grpSpPr>
              <p:sp>
                <p:nvSpPr>
                  <p:cNvPr id="11859" name=""/>
                  <p:cNvSpPr/>
                  <p:nvPr/>
                </p:nvSpPr>
                <p:spPr>
                  <a:xfrm rot="3815400">
                    <a:off x="3894480" y="26924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0" name=""/>
                  <p:cNvSpPr/>
                  <p:nvPr/>
                </p:nvSpPr>
                <p:spPr>
                  <a:xfrm flipV="1">
                    <a:off x="3914640" y="272736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1" name=""/>
                  <p:cNvSpPr/>
                  <p:nvPr/>
                </p:nvSpPr>
                <p:spPr>
                  <a:xfrm flipV="1">
                    <a:off x="3930120" y="277128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2" name=""/>
                  <p:cNvSpPr/>
                  <p:nvPr/>
                </p:nvSpPr>
                <p:spPr>
                  <a:xfrm flipH="1" flipV="1">
                    <a:off x="3927600" y="274464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3" name=""/>
                  <p:cNvSpPr/>
                  <p:nvPr/>
                </p:nvSpPr>
                <p:spPr>
                  <a:xfrm flipV="1">
                    <a:off x="3942720" y="274068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4" name=""/>
                <p:cNvSpPr/>
                <p:nvPr/>
              </p:nvSpPr>
              <p:spPr>
                <a:xfrm flipH="1">
                  <a:off x="3863520" y="294948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5" name=""/>
                <p:cNvSpPr/>
                <p:nvPr/>
              </p:nvSpPr>
              <p:spPr>
                <a:xfrm>
                  <a:off x="3740760" y="284796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6" name=""/>
                <p:cNvSpPr/>
                <p:nvPr/>
              </p:nvSpPr>
              <p:spPr>
                <a:xfrm flipH="1" flipV="1">
                  <a:off x="3846240" y="274644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7" name=""/>
                <p:cNvSpPr/>
                <p:nvPr/>
              </p:nvSpPr>
              <p:spPr>
                <a:xfrm flipH="1" flipV="1">
                  <a:off x="4057920" y="284796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8" name=""/>
                <p:cNvSpPr/>
                <p:nvPr/>
              </p:nvSpPr>
              <p:spPr>
                <a:xfrm flipH="1">
                  <a:off x="3916440" y="297000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9" name=""/>
                <p:cNvSpPr/>
                <p:nvPr/>
              </p:nvSpPr>
              <p:spPr>
                <a:xfrm flipH="1" flipV="1">
                  <a:off x="3951720" y="292896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0" name=""/>
                <p:cNvSpPr/>
                <p:nvPr/>
              </p:nvSpPr>
              <p:spPr>
                <a:xfrm flipH="1" flipV="1">
                  <a:off x="3810960" y="276624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1" name=""/>
                <p:cNvSpPr/>
                <p:nvPr/>
              </p:nvSpPr>
              <p:spPr>
                <a:xfrm flipV="1">
                  <a:off x="3898800" y="278640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2" name=""/>
                <p:cNvSpPr/>
                <p:nvPr/>
              </p:nvSpPr>
              <p:spPr>
                <a:xfrm flipH="1">
                  <a:off x="3758040" y="286848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3" name=""/>
                <p:cNvSpPr/>
                <p:nvPr/>
              </p:nvSpPr>
              <p:spPr>
                <a:xfrm flipH="1" flipV="1">
                  <a:off x="3986640" y="286848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4" name=""/>
                <p:cNvSpPr/>
                <p:nvPr/>
              </p:nvSpPr>
              <p:spPr>
                <a:xfrm flipH="1" flipV="1">
                  <a:off x="4022280" y="286848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5" name=""/>
                <p:cNvSpPr/>
                <p:nvPr/>
              </p:nvSpPr>
              <p:spPr>
                <a:xfrm flipV="1">
                  <a:off x="4128120" y="292896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6" name=""/>
                <p:cNvSpPr/>
                <p:nvPr/>
              </p:nvSpPr>
              <p:spPr>
                <a:xfrm flipV="1">
                  <a:off x="4075200" y="282708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7" name=""/>
                <p:cNvSpPr/>
                <p:nvPr/>
              </p:nvSpPr>
              <p:spPr>
                <a:xfrm flipH="1">
                  <a:off x="4021920" y="301032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8" name=""/>
                <p:cNvSpPr/>
                <p:nvPr/>
              </p:nvSpPr>
              <p:spPr>
                <a:xfrm flipH="1">
                  <a:off x="3828600" y="288864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9" name=""/>
                <p:cNvSpPr/>
                <p:nvPr/>
              </p:nvSpPr>
              <p:spPr>
                <a:xfrm flipH="1" flipV="1">
                  <a:off x="3757680" y="280764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880" name=""/>
                <p:cNvGrpSpPr/>
                <p:nvPr/>
              </p:nvGrpSpPr>
              <p:grpSpPr>
                <a:xfrm>
                  <a:off x="3782880" y="2613600"/>
                  <a:ext cx="135000" cy="156960"/>
                  <a:chOff x="3782880" y="2613600"/>
                  <a:chExt cx="135000" cy="156960"/>
                </a:xfrm>
              </p:grpSpPr>
              <p:sp>
                <p:nvSpPr>
                  <p:cNvPr id="11881" name=""/>
                  <p:cNvSpPr/>
                  <p:nvPr/>
                </p:nvSpPr>
                <p:spPr>
                  <a:xfrm rot="1745400">
                    <a:off x="3810600" y="2624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2" name=""/>
                  <p:cNvSpPr/>
                  <p:nvPr/>
                </p:nvSpPr>
                <p:spPr>
                  <a:xfrm flipH="1" flipV="1">
                    <a:off x="3846960" y="266652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3" name=""/>
                  <p:cNvSpPr/>
                  <p:nvPr/>
                </p:nvSpPr>
                <p:spPr>
                  <a:xfrm flipV="1">
                    <a:off x="3855600" y="270828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4" name=""/>
                  <p:cNvSpPr/>
                  <p:nvPr/>
                </p:nvSpPr>
                <p:spPr>
                  <a:xfrm flipH="1" flipV="1">
                    <a:off x="3836880" y="269532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5" name=""/>
                  <p:cNvSpPr/>
                  <p:nvPr/>
                </p:nvSpPr>
                <p:spPr>
                  <a:xfrm flipV="1">
                    <a:off x="3852360" y="267696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86" name=""/>
                <p:cNvGrpSpPr/>
                <p:nvPr/>
              </p:nvGrpSpPr>
              <p:grpSpPr>
                <a:xfrm>
                  <a:off x="3840120" y="2817360"/>
                  <a:ext cx="126720" cy="156240"/>
                  <a:chOff x="3840120" y="2817360"/>
                  <a:chExt cx="126720" cy="156240"/>
                </a:xfrm>
              </p:grpSpPr>
              <p:sp>
                <p:nvSpPr>
                  <p:cNvPr id="11887" name=""/>
                  <p:cNvSpPr/>
                  <p:nvPr/>
                </p:nvSpPr>
                <p:spPr>
                  <a:xfrm rot="20187000">
                    <a:off x="3863880" y="28274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8" name=""/>
                  <p:cNvSpPr/>
                  <p:nvPr/>
                </p:nvSpPr>
                <p:spPr>
                  <a:xfrm flipH="1" flipV="1">
                    <a:off x="3881160" y="288252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9" name=""/>
                  <p:cNvSpPr/>
                  <p:nvPr/>
                </p:nvSpPr>
                <p:spPr>
                  <a:xfrm flipH="1" flipV="1">
                    <a:off x="3922200" y="28976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0" name=""/>
                  <p:cNvSpPr/>
                  <p:nvPr/>
                </p:nvSpPr>
                <p:spPr>
                  <a:xfrm flipH="1">
                    <a:off x="3897720" y="29073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1" name=""/>
                  <p:cNvSpPr/>
                  <p:nvPr/>
                </p:nvSpPr>
                <p:spPr>
                  <a:xfrm flipH="1" flipV="1">
                    <a:off x="3893400" y="28836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2" name=""/>
                <p:cNvGrpSpPr/>
                <p:nvPr/>
              </p:nvGrpSpPr>
              <p:grpSpPr>
                <a:xfrm>
                  <a:off x="3916800" y="2746440"/>
                  <a:ext cx="79200" cy="135720"/>
                  <a:chOff x="3916800" y="2746440"/>
                  <a:chExt cx="79200" cy="135720"/>
                </a:xfrm>
              </p:grpSpPr>
              <p:sp>
                <p:nvSpPr>
                  <p:cNvPr id="11893" name=""/>
                  <p:cNvSpPr/>
                  <p:nvPr/>
                </p:nvSpPr>
                <p:spPr>
                  <a:xfrm>
                    <a:off x="3916800" y="27464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4" name=""/>
                  <p:cNvSpPr/>
                  <p:nvPr/>
                </p:nvSpPr>
                <p:spPr>
                  <a:xfrm flipH="1" flipV="1">
                    <a:off x="3940920" y="279360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5" name=""/>
                  <p:cNvSpPr/>
                  <p:nvPr/>
                </p:nvSpPr>
                <p:spPr>
                  <a:xfrm flipH="1" flipV="1">
                    <a:off x="3972600" y="282384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6" name=""/>
                  <p:cNvSpPr/>
                  <p:nvPr/>
                </p:nvSpPr>
                <p:spPr>
                  <a:xfrm flipH="1" flipV="1">
                    <a:off x="3945960" y="282348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7" name=""/>
                  <p:cNvSpPr/>
                  <p:nvPr/>
                </p:nvSpPr>
                <p:spPr>
                  <a:xfrm flipH="1" flipV="1">
                    <a:off x="3951720" y="279936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8" name=""/>
                <p:cNvGrpSpPr/>
                <p:nvPr/>
              </p:nvGrpSpPr>
              <p:grpSpPr>
                <a:xfrm>
                  <a:off x="3752640" y="2982600"/>
                  <a:ext cx="127800" cy="105120"/>
                  <a:chOff x="3752640" y="2982600"/>
                  <a:chExt cx="127800" cy="105120"/>
                </a:xfrm>
              </p:grpSpPr>
              <p:sp>
                <p:nvSpPr>
                  <p:cNvPr id="11899" name=""/>
                  <p:cNvSpPr/>
                  <p:nvPr/>
                </p:nvSpPr>
                <p:spPr>
                  <a:xfrm rot="15769200">
                    <a:off x="3771000" y="2976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0" name=""/>
                  <p:cNvSpPr/>
                  <p:nvPr/>
                </p:nvSpPr>
                <p:spPr>
                  <a:xfrm flipH="1">
                    <a:off x="3801240" y="298728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1" name=""/>
                  <p:cNvSpPr/>
                  <p:nvPr/>
                </p:nvSpPr>
                <p:spPr>
                  <a:xfrm flipH="1">
                    <a:off x="3822120" y="300816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2" name=""/>
                  <p:cNvSpPr/>
                  <p:nvPr/>
                </p:nvSpPr>
                <p:spPr>
                  <a:xfrm flipH="1">
                    <a:off x="3826440" y="302760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3" name=""/>
                  <p:cNvSpPr/>
                  <p:nvPr/>
                </p:nvSpPr>
                <p:spPr>
                  <a:xfrm flipH="1">
                    <a:off x="3804480" y="303552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4" name=""/>
                <p:cNvGrpSpPr/>
                <p:nvPr/>
              </p:nvGrpSpPr>
              <p:grpSpPr>
                <a:xfrm>
                  <a:off x="3687840" y="2685600"/>
                  <a:ext cx="79200" cy="135720"/>
                  <a:chOff x="3687840" y="2685600"/>
                  <a:chExt cx="79200" cy="135720"/>
                </a:xfrm>
              </p:grpSpPr>
              <p:sp>
                <p:nvSpPr>
                  <p:cNvPr id="11905" name=""/>
                  <p:cNvSpPr/>
                  <p:nvPr/>
                </p:nvSpPr>
                <p:spPr>
                  <a:xfrm>
                    <a:off x="3687840" y="26856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6" name=""/>
                  <p:cNvSpPr/>
                  <p:nvPr/>
                </p:nvSpPr>
                <p:spPr>
                  <a:xfrm flipH="1" flipV="1">
                    <a:off x="3711960" y="27327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7" name=""/>
                  <p:cNvSpPr/>
                  <p:nvPr/>
                </p:nvSpPr>
                <p:spPr>
                  <a:xfrm flipH="1" flipV="1">
                    <a:off x="3743640" y="27630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8" name=""/>
                  <p:cNvSpPr/>
                  <p:nvPr/>
                </p:nvSpPr>
                <p:spPr>
                  <a:xfrm flipH="1" flipV="1">
                    <a:off x="3717000" y="2762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9" name=""/>
                  <p:cNvSpPr/>
                  <p:nvPr/>
                </p:nvSpPr>
                <p:spPr>
                  <a:xfrm flipH="1" flipV="1">
                    <a:off x="3722760" y="27385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10" name=""/>
                <p:cNvGrpSpPr/>
                <p:nvPr/>
              </p:nvGrpSpPr>
              <p:grpSpPr>
                <a:xfrm>
                  <a:off x="3987000" y="2725920"/>
                  <a:ext cx="79200" cy="135720"/>
                  <a:chOff x="3987000" y="2725920"/>
                  <a:chExt cx="79200" cy="135720"/>
                </a:xfrm>
              </p:grpSpPr>
              <p:sp>
                <p:nvSpPr>
                  <p:cNvPr id="11911" name=""/>
                  <p:cNvSpPr/>
                  <p:nvPr/>
                </p:nvSpPr>
                <p:spPr>
                  <a:xfrm>
                    <a:off x="3987000" y="2725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2" name=""/>
                  <p:cNvSpPr/>
                  <p:nvPr/>
                </p:nvSpPr>
                <p:spPr>
                  <a:xfrm flipH="1" flipV="1">
                    <a:off x="4011120" y="27730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3" name=""/>
                  <p:cNvSpPr/>
                  <p:nvPr/>
                </p:nvSpPr>
                <p:spPr>
                  <a:xfrm flipH="1" flipV="1">
                    <a:off x="4042800" y="28033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4" name=""/>
                  <p:cNvSpPr/>
                  <p:nvPr/>
                </p:nvSpPr>
                <p:spPr>
                  <a:xfrm flipH="1" flipV="1">
                    <a:off x="4016160" y="28029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5" name=""/>
                  <p:cNvSpPr/>
                  <p:nvPr/>
                </p:nvSpPr>
                <p:spPr>
                  <a:xfrm flipH="1" flipV="1">
                    <a:off x="4021920" y="27788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16" name=""/>
                <p:cNvGrpSpPr/>
                <p:nvPr/>
              </p:nvGrpSpPr>
              <p:grpSpPr>
                <a:xfrm>
                  <a:off x="3740760" y="2644920"/>
                  <a:ext cx="79200" cy="135720"/>
                  <a:chOff x="3740760" y="2644920"/>
                  <a:chExt cx="79200" cy="135720"/>
                </a:xfrm>
              </p:grpSpPr>
              <p:sp>
                <p:nvSpPr>
                  <p:cNvPr id="11917" name=""/>
                  <p:cNvSpPr/>
                  <p:nvPr/>
                </p:nvSpPr>
                <p:spPr>
                  <a:xfrm>
                    <a:off x="3740760" y="2644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8" name=""/>
                  <p:cNvSpPr/>
                  <p:nvPr/>
                </p:nvSpPr>
                <p:spPr>
                  <a:xfrm flipH="1" flipV="1">
                    <a:off x="3764880" y="26920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9" name=""/>
                  <p:cNvSpPr/>
                  <p:nvPr/>
                </p:nvSpPr>
                <p:spPr>
                  <a:xfrm flipH="1" flipV="1">
                    <a:off x="3796560" y="27223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0" name=""/>
                  <p:cNvSpPr/>
                  <p:nvPr/>
                </p:nvSpPr>
                <p:spPr>
                  <a:xfrm flipH="1" flipV="1">
                    <a:off x="3769920" y="27219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1" name=""/>
                  <p:cNvSpPr/>
                  <p:nvPr/>
                </p:nvSpPr>
                <p:spPr>
                  <a:xfrm flipH="1" flipV="1">
                    <a:off x="3775680" y="26978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2" name=""/>
                <p:cNvGrpSpPr/>
                <p:nvPr/>
              </p:nvGrpSpPr>
              <p:grpSpPr>
                <a:xfrm>
                  <a:off x="3906000" y="3036240"/>
                  <a:ext cx="138600" cy="120960"/>
                  <a:chOff x="3906000" y="3036240"/>
                  <a:chExt cx="138600" cy="120960"/>
                </a:xfrm>
              </p:grpSpPr>
              <p:sp>
                <p:nvSpPr>
                  <p:cNvPr id="11923" name=""/>
                  <p:cNvSpPr/>
                  <p:nvPr/>
                </p:nvSpPr>
                <p:spPr>
                  <a:xfrm rot="15198000">
                    <a:off x="3929760" y="3037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4" name=""/>
                  <p:cNvSpPr/>
                  <p:nvPr/>
                </p:nvSpPr>
                <p:spPr>
                  <a:xfrm flipH="1">
                    <a:off x="3963240" y="304164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5" name=""/>
                  <p:cNvSpPr/>
                  <p:nvPr/>
                </p:nvSpPr>
                <p:spPr>
                  <a:xfrm flipH="1">
                    <a:off x="3977640" y="306648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6" name=""/>
                  <p:cNvSpPr/>
                  <p:nvPr/>
                </p:nvSpPr>
                <p:spPr>
                  <a:xfrm>
                    <a:off x="3986280" y="308664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7" name=""/>
                  <p:cNvSpPr/>
                  <p:nvPr/>
                </p:nvSpPr>
                <p:spPr>
                  <a:xfrm flipH="1">
                    <a:off x="3964680" y="30970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28" name=""/>
                <p:cNvGrpSpPr/>
                <p:nvPr/>
              </p:nvGrpSpPr>
              <p:grpSpPr>
                <a:xfrm>
                  <a:off x="3813480" y="3007080"/>
                  <a:ext cx="147240" cy="138240"/>
                  <a:chOff x="3813480" y="3007080"/>
                  <a:chExt cx="147240" cy="138240"/>
                </a:xfrm>
              </p:grpSpPr>
              <p:sp>
                <p:nvSpPr>
                  <p:cNvPr id="11929" name=""/>
                  <p:cNvSpPr/>
                  <p:nvPr/>
                </p:nvSpPr>
                <p:spPr>
                  <a:xfrm rot="14358600">
                    <a:off x="3841560" y="3017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0" name=""/>
                  <p:cNvSpPr/>
                  <p:nvPr/>
                </p:nvSpPr>
                <p:spPr>
                  <a:xfrm flipH="1">
                    <a:off x="3880800" y="301428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1" name=""/>
                  <p:cNvSpPr/>
                  <p:nvPr/>
                </p:nvSpPr>
                <p:spPr>
                  <a:xfrm flipH="1">
                    <a:off x="3884400" y="304308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2" name=""/>
                  <p:cNvSpPr/>
                  <p:nvPr/>
                </p:nvSpPr>
                <p:spPr>
                  <a:xfrm>
                    <a:off x="3895560" y="30639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3" name=""/>
                  <p:cNvSpPr/>
                  <p:nvPr/>
                </p:nvSpPr>
                <p:spPr>
                  <a:xfrm flipH="1">
                    <a:off x="3879000" y="307728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4" name=""/>
                <p:cNvGrpSpPr/>
                <p:nvPr/>
              </p:nvGrpSpPr>
              <p:grpSpPr>
                <a:xfrm>
                  <a:off x="3632760" y="2844360"/>
                  <a:ext cx="122400" cy="97560"/>
                  <a:chOff x="3632760" y="2844360"/>
                  <a:chExt cx="122400" cy="97560"/>
                </a:xfrm>
              </p:grpSpPr>
              <p:sp>
                <p:nvSpPr>
                  <p:cNvPr id="11935" name=""/>
                  <p:cNvSpPr/>
                  <p:nvPr/>
                </p:nvSpPr>
                <p:spPr>
                  <a:xfrm rot="16010400">
                    <a:off x="3648240" y="2834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6" name=""/>
                  <p:cNvSpPr/>
                  <p:nvPr/>
                </p:nvSpPr>
                <p:spPr>
                  <a:xfrm flipH="1">
                    <a:off x="3677040" y="284832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7" name=""/>
                  <p:cNvSpPr/>
                  <p:nvPr/>
                </p:nvSpPr>
                <p:spPr>
                  <a:xfrm flipH="1">
                    <a:off x="3700800" y="286776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8" name=""/>
                  <p:cNvSpPr/>
                  <p:nvPr/>
                </p:nvSpPr>
                <p:spPr>
                  <a:xfrm flipH="1">
                    <a:off x="3702960" y="288612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9" name=""/>
                  <p:cNvSpPr/>
                  <p:nvPr/>
                </p:nvSpPr>
                <p:spPr>
                  <a:xfrm flipH="1">
                    <a:off x="3681360" y="289296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0" name=""/>
                <p:cNvGrpSpPr/>
                <p:nvPr/>
              </p:nvGrpSpPr>
              <p:grpSpPr>
                <a:xfrm>
                  <a:off x="3639600" y="2910240"/>
                  <a:ext cx="142920" cy="128520"/>
                  <a:chOff x="3639600" y="2910240"/>
                  <a:chExt cx="142920" cy="128520"/>
                </a:xfrm>
              </p:grpSpPr>
              <p:sp>
                <p:nvSpPr>
                  <p:cNvPr id="11941" name=""/>
                  <p:cNvSpPr/>
                  <p:nvPr/>
                </p:nvSpPr>
                <p:spPr>
                  <a:xfrm rot="14881800">
                    <a:off x="3665520" y="2915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2" name=""/>
                  <p:cNvSpPr/>
                  <p:nvPr/>
                </p:nvSpPr>
                <p:spPr>
                  <a:xfrm flipH="1">
                    <a:off x="3701160" y="291672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3" name=""/>
                  <p:cNvSpPr/>
                  <p:nvPr/>
                </p:nvSpPr>
                <p:spPr>
                  <a:xfrm flipH="1">
                    <a:off x="3711600" y="294336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4" name=""/>
                  <p:cNvSpPr/>
                  <p:nvPr/>
                </p:nvSpPr>
                <p:spPr>
                  <a:xfrm>
                    <a:off x="3721320" y="296352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5" name=""/>
                  <p:cNvSpPr/>
                  <p:nvPr/>
                </p:nvSpPr>
                <p:spPr>
                  <a:xfrm flipH="1">
                    <a:off x="3701160" y="297540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6" name=""/>
                <p:cNvGrpSpPr/>
                <p:nvPr/>
              </p:nvGrpSpPr>
              <p:grpSpPr>
                <a:xfrm>
                  <a:off x="3731760" y="2896200"/>
                  <a:ext cx="135000" cy="115560"/>
                  <a:chOff x="3731760" y="2896200"/>
                  <a:chExt cx="135000" cy="115560"/>
                </a:xfrm>
              </p:grpSpPr>
              <p:sp>
                <p:nvSpPr>
                  <p:cNvPr id="11947" name=""/>
                  <p:cNvSpPr/>
                  <p:nvPr/>
                </p:nvSpPr>
                <p:spPr>
                  <a:xfrm rot="15401400">
                    <a:off x="3753360" y="2895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8" name=""/>
                  <p:cNvSpPr/>
                  <p:nvPr/>
                </p:nvSpPr>
                <p:spPr>
                  <a:xfrm flipH="1">
                    <a:off x="3786120" y="290124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9" name=""/>
                  <p:cNvSpPr/>
                  <p:nvPr/>
                </p:nvSpPr>
                <p:spPr>
                  <a:xfrm flipH="1">
                    <a:off x="3802680" y="292500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0" name=""/>
                  <p:cNvSpPr/>
                  <p:nvPr/>
                </p:nvSpPr>
                <p:spPr>
                  <a:xfrm flipH="1">
                    <a:off x="3810240" y="294480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1" name=""/>
                  <p:cNvSpPr/>
                  <p:nvPr/>
                </p:nvSpPr>
                <p:spPr>
                  <a:xfrm flipH="1">
                    <a:off x="3787920" y="295452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2" name=""/>
                <p:cNvGrpSpPr/>
                <p:nvPr/>
              </p:nvGrpSpPr>
              <p:grpSpPr>
                <a:xfrm>
                  <a:off x="3696840" y="2754360"/>
                  <a:ext cx="135000" cy="115200"/>
                  <a:chOff x="3696840" y="2754360"/>
                  <a:chExt cx="135000" cy="115200"/>
                </a:xfrm>
              </p:grpSpPr>
              <p:sp>
                <p:nvSpPr>
                  <p:cNvPr id="11953" name=""/>
                  <p:cNvSpPr/>
                  <p:nvPr/>
                </p:nvSpPr>
                <p:spPr>
                  <a:xfrm rot="16985400">
                    <a:off x="3718440" y="275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4" name=""/>
                  <p:cNvSpPr/>
                  <p:nvPr/>
                </p:nvSpPr>
                <p:spPr>
                  <a:xfrm flipH="1">
                    <a:off x="3742560" y="278172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5" name=""/>
                  <p:cNvSpPr/>
                  <p:nvPr/>
                </p:nvSpPr>
                <p:spPr>
                  <a:xfrm flipH="1">
                    <a:off x="3776040" y="279324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6" name=""/>
                  <p:cNvSpPr/>
                  <p:nvPr/>
                </p:nvSpPr>
                <p:spPr>
                  <a:xfrm flipH="1">
                    <a:off x="3769560" y="280872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7" name=""/>
                  <p:cNvSpPr/>
                  <p:nvPr/>
                </p:nvSpPr>
                <p:spPr>
                  <a:xfrm flipH="1">
                    <a:off x="3750480" y="281088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8" name=""/>
                <p:cNvGrpSpPr/>
                <p:nvPr/>
              </p:nvGrpSpPr>
              <p:grpSpPr>
                <a:xfrm>
                  <a:off x="3881520" y="2778120"/>
                  <a:ext cx="150120" cy="153360"/>
                  <a:chOff x="3881520" y="2778120"/>
                  <a:chExt cx="150120" cy="153360"/>
                </a:xfrm>
              </p:grpSpPr>
              <p:sp>
                <p:nvSpPr>
                  <p:cNvPr id="11959" name=""/>
                  <p:cNvSpPr/>
                  <p:nvPr/>
                </p:nvSpPr>
                <p:spPr>
                  <a:xfrm rot="19036200">
                    <a:off x="3916800" y="27867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0" name=""/>
                  <p:cNvSpPr/>
                  <p:nvPr/>
                </p:nvSpPr>
                <p:spPr>
                  <a:xfrm flipH="1" flipV="1">
                    <a:off x="3931200" y="284976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1" name=""/>
                  <p:cNvSpPr/>
                  <p:nvPr/>
                </p:nvSpPr>
                <p:spPr>
                  <a:xfrm flipH="1" flipV="1">
                    <a:off x="3974760" y="285048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2" name=""/>
                  <p:cNvSpPr/>
                  <p:nvPr/>
                </p:nvSpPr>
                <p:spPr>
                  <a:xfrm flipH="1">
                    <a:off x="3954960" y="28623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3" name=""/>
                  <p:cNvSpPr/>
                  <p:nvPr/>
                </p:nvSpPr>
                <p:spPr>
                  <a:xfrm flipH="1" flipV="1">
                    <a:off x="3943080" y="284688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4" name=""/>
                <p:cNvGrpSpPr/>
                <p:nvPr/>
              </p:nvGrpSpPr>
              <p:grpSpPr>
                <a:xfrm>
                  <a:off x="4046400" y="2709000"/>
                  <a:ext cx="140760" cy="124920"/>
                  <a:chOff x="4046400" y="2709000"/>
                  <a:chExt cx="140760" cy="124920"/>
                </a:xfrm>
              </p:grpSpPr>
              <p:sp>
                <p:nvSpPr>
                  <p:cNvPr id="11965" name=""/>
                  <p:cNvSpPr/>
                  <p:nvPr/>
                </p:nvSpPr>
                <p:spPr>
                  <a:xfrm rot="4233000">
                    <a:off x="4070880" y="2712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6" name=""/>
                  <p:cNvSpPr/>
                  <p:nvPr/>
                </p:nvSpPr>
                <p:spPr>
                  <a:xfrm flipV="1">
                    <a:off x="4083840" y="274860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7" name=""/>
                  <p:cNvSpPr/>
                  <p:nvPr/>
                </p:nvSpPr>
                <p:spPr>
                  <a:xfrm flipV="1">
                    <a:off x="4102560" y="279144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8" name=""/>
                  <p:cNvSpPr/>
                  <p:nvPr/>
                </p:nvSpPr>
                <p:spPr>
                  <a:xfrm flipH="1" flipV="1">
                    <a:off x="4105080" y="276300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9" name=""/>
                  <p:cNvSpPr/>
                  <p:nvPr/>
                </p:nvSpPr>
                <p:spPr>
                  <a:xfrm flipV="1">
                    <a:off x="4119120" y="276192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70" name=""/>
                <p:cNvGrpSpPr/>
                <p:nvPr/>
              </p:nvGrpSpPr>
              <p:grpSpPr>
                <a:xfrm>
                  <a:off x="4117320" y="2811960"/>
                  <a:ext cx="139320" cy="122040"/>
                  <a:chOff x="4117320" y="2811960"/>
                  <a:chExt cx="139320" cy="122040"/>
                </a:xfrm>
              </p:grpSpPr>
              <p:sp>
                <p:nvSpPr>
                  <p:cNvPr id="11971" name=""/>
                  <p:cNvSpPr/>
                  <p:nvPr/>
                </p:nvSpPr>
                <p:spPr>
                  <a:xfrm rot="4353000">
                    <a:off x="4141080" y="2814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2" name=""/>
                  <p:cNvSpPr/>
                  <p:nvPr/>
                </p:nvSpPr>
                <p:spPr>
                  <a:xfrm flipV="1">
                    <a:off x="4152240" y="285048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3" name=""/>
                  <p:cNvSpPr/>
                  <p:nvPr/>
                </p:nvSpPr>
                <p:spPr>
                  <a:xfrm flipV="1">
                    <a:off x="4171680" y="28929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4" name=""/>
                  <p:cNvSpPr/>
                  <p:nvPr/>
                </p:nvSpPr>
                <p:spPr>
                  <a:xfrm flipH="1" flipV="1">
                    <a:off x="4175280" y="286416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5" name=""/>
                  <p:cNvSpPr/>
                  <p:nvPr/>
                </p:nvSpPr>
                <p:spPr>
                  <a:xfrm flipV="1">
                    <a:off x="4189320" y="286380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76" name=""/>
                <p:cNvGrpSpPr/>
                <p:nvPr/>
              </p:nvGrpSpPr>
              <p:grpSpPr>
                <a:xfrm>
                  <a:off x="3885480" y="2918880"/>
                  <a:ext cx="142200" cy="156600"/>
                  <a:chOff x="3885480" y="2918880"/>
                  <a:chExt cx="142200" cy="156600"/>
                </a:xfrm>
              </p:grpSpPr>
              <p:sp>
                <p:nvSpPr>
                  <p:cNvPr id="11977" name=""/>
                  <p:cNvSpPr/>
                  <p:nvPr/>
                </p:nvSpPr>
                <p:spPr>
                  <a:xfrm rot="19525800">
                    <a:off x="3916800" y="29293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8" name=""/>
                  <p:cNvSpPr/>
                  <p:nvPr/>
                </p:nvSpPr>
                <p:spPr>
                  <a:xfrm flipH="1" flipV="1">
                    <a:off x="3931920" y="298872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9" name=""/>
                  <p:cNvSpPr/>
                  <p:nvPr/>
                </p:nvSpPr>
                <p:spPr>
                  <a:xfrm flipH="1" flipV="1">
                    <a:off x="3975120" y="299592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0" name=""/>
                  <p:cNvSpPr/>
                  <p:nvPr/>
                </p:nvSpPr>
                <p:spPr>
                  <a:xfrm flipH="1">
                    <a:off x="3953160" y="300672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1" name=""/>
                  <p:cNvSpPr/>
                  <p:nvPr/>
                </p:nvSpPr>
                <p:spPr>
                  <a:xfrm flipH="1" flipV="1">
                    <a:off x="3944160" y="298764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2" name=""/>
                <p:cNvGrpSpPr/>
                <p:nvPr/>
              </p:nvGrpSpPr>
              <p:grpSpPr>
                <a:xfrm>
                  <a:off x="3743280" y="2900880"/>
                  <a:ext cx="147600" cy="147240"/>
                  <a:chOff x="3743280" y="2900880"/>
                  <a:chExt cx="147600" cy="147240"/>
                </a:xfrm>
              </p:grpSpPr>
              <p:sp>
                <p:nvSpPr>
                  <p:cNvPr id="11983" name=""/>
                  <p:cNvSpPr/>
                  <p:nvPr/>
                </p:nvSpPr>
                <p:spPr>
                  <a:xfrm rot="18890400">
                    <a:off x="3771360" y="2915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4" name=""/>
                  <p:cNvSpPr/>
                  <p:nvPr/>
                </p:nvSpPr>
                <p:spPr>
                  <a:xfrm flipH="1" flipV="1">
                    <a:off x="3791520" y="297432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5" name=""/>
                  <p:cNvSpPr/>
                  <p:nvPr/>
                </p:nvSpPr>
                <p:spPr>
                  <a:xfrm flipH="1" flipV="1">
                    <a:off x="3835440" y="296712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6" name=""/>
                  <p:cNvSpPr/>
                  <p:nvPr/>
                </p:nvSpPr>
                <p:spPr>
                  <a:xfrm flipH="1">
                    <a:off x="3814560" y="297936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7" name=""/>
                  <p:cNvSpPr/>
                  <p:nvPr/>
                </p:nvSpPr>
                <p:spPr>
                  <a:xfrm flipH="1" flipV="1">
                    <a:off x="3803760" y="296928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88" name=""/>
                <p:cNvGrpSpPr/>
                <p:nvPr/>
              </p:nvGrpSpPr>
              <p:grpSpPr>
                <a:xfrm>
                  <a:off x="3620160" y="2819880"/>
                  <a:ext cx="147960" cy="146520"/>
                  <a:chOff x="3620160" y="2819880"/>
                  <a:chExt cx="147960" cy="146520"/>
                </a:xfrm>
              </p:grpSpPr>
              <p:sp>
                <p:nvSpPr>
                  <p:cNvPr id="11989" name=""/>
                  <p:cNvSpPr/>
                  <p:nvPr/>
                </p:nvSpPr>
                <p:spPr>
                  <a:xfrm rot="18730200">
                    <a:off x="3648600" y="2834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0" name=""/>
                  <p:cNvSpPr/>
                  <p:nvPr/>
                </p:nvSpPr>
                <p:spPr>
                  <a:xfrm flipH="1" flipV="1">
                    <a:off x="3668760" y="289440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1" name=""/>
                  <p:cNvSpPr/>
                  <p:nvPr/>
                </p:nvSpPr>
                <p:spPr>
                  <a:xfrm flipH="1" flipV="1">
                    <a:off x="3712320" y="288468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2" name=""/>
                  <p:cNvSpPr/>
                  <p:nvPr/>
                </p:nvSpPr>
                <p:spPr>
                  <a:xfrm flipH="1">
                    <a:off x="3692520" y="289728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3" name=""/>
                  <p:cNvSpPr/>
                  <p:nvPr/>
                </p:nvSpPr>
                <p:spPr>
                  <a:xfrm flipH="1" flipV="1">
                    <a:off x="3680640" y="288864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94" name=""/>
                <p:cNvGrpSpPr/>
                <p:nvPr/>
              </p:nvGrpSpPr>
              <p:grpSpPr>
                <a:xfrm>
                  <a:off x="3602160" y="2736000"/>
                  <a:ext cx="145080" cy="155880"/>
                  <a:chOff x="3602160" y="2736000"/>
                  <a:chExt cx="145080" cy="155880"/>
                </a:xfrm>
              </p:grpSpPr>
              <p:sp>
                <p:nvSpPr>
                  <p:cNvPr id="11995" name=""/>
                  <p:cNvSpPr/>
                  <p:nvPr/>
                </p:nvSpPr>
                <p:spPr>
                  <a:xfrm rot="19362600">
                    <a:off x="3634920" y="27460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6" name=""/>
                  <p:cNvSpPr/>
                  <p:nvPr/>
                </p:nvSpPr>
                <p:spPr>
                  <a:xfrm flipH="1" flipV="1">
                    <a:off x="3650040" y="280692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7" name=""/>
                  <p:cNvSpPr/>
                  <p:nvPr/>
                </p:nvSpPr>
                <p:spPr>
                  <a:xfrm flipH="1" flipV="1">
                    <a:off x="3693240" y="281196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8" name=""/>
                  <p:cNvSpPr/>
                  <p:nvPr/>
                </p:nvSpPr>
                <p:spPr>
                  <a:xfrm flipH="1">
                    <a:off x="3672000" y="282312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9" name=""/>
                  <p:cNvSpPr/>
                  <p:nvPr/>
                </p:nvSpPr>
                <p:spPr>
                  <a:xfrm flipH="1" flipV="1">
                    <a:off x="3661920" y="280512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00" name=""/>
              <p:cNvGrpSpPr/>
              <p:nvPr/>
            </p:nvGrpSpPr>
            <p:grpSpPr>
              <a:xfrm>
                <a:off x="4160880" y="2568960"/>
                <a:ext cx="654480" cy="543600"/>
                <a:chOff x="4160880" y="2568960"/>
                <a:chExt cx="654480" cy="543600"/>
              </a:xfrm>
            </p:grpSpPr>
            <p:grpSp>
              <p:nvGrpSpPr>
                <p:cNvPr id="12001" name=""/>
                <p:cNvGrpSpPr/>
                <p:nvPr/>
              </p:nvGrpSpPr>
              <p:grpSpPr>
                <a:xfrm>
                  <a:off x="4426200" y="2639880"/>
                  <a:ext cx="145800" cy="133920"/>
                  <a:chOff x="4426200" y="2639880"/>
                  <a:chExt cx="145800" cy="133920"/>
                </a:xfrm>
              </p:grpSpPr>
              <p:sp>
                <p:nvSpPr>
                  <p:cNvPr id="12002" name=""/>
                  <p:cNvSpPr/>
                  <p:nvPr/>
                </p:nvSpPr>
                <p:spPr>
                  <a:xfrm rot="3815400">
                    <a:off x="4453200" y="26478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3" name=""/>
                  <p:cNvSpPr/>
                  <p:nvPr/>
                </p:nvSpPr>
                <p:spPr>
                  <a:xfrm flipV="1">
                    <a:off x="4473360" y="268272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4" name=""/>
                  <p:cNvSpPr/>
                  <p:nvPr/>
                </p:nvSpPr>
                <p:spPr>
                  <a:xfrm flipV="1">
                    <a:off x="4488840" y="272664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5" name=""/>
                  <p:cNvSpPr/>
                  <p:nvPr/>
                </p:nvSpPr>
                <p:spPr>
                  <a:xfrm flipH="1" flipV="1">
                    <a:off x="4486320" y="270000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6" name=""/>
                  <p:cNvSpPr/>
                  <p:nvPr/>
                </p:nvSpPr>
                <p:spPr>
                  <a:xfrm flipV="1">
                    <a:off x="4501440" y="269604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7" name=""/>
                <p:cNvSpPr/>
                <p:nvPr/>
              </p:nvSpPr>
              <p:spPr>
                <a:xfrm flipH="1">
                  <a:off x="4422240" y="290484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8" name=""/>
                <p:cNvSpPr/>
                <p:nvPr/>
              </p:nvSpPr>
              <p:spPr>
                <a:xfrm>
                  <a:off x="4299480" y="280332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9" name=""/>
                <p:cNvSpPr/>
                <p:nvPr/>
              </p:nvSpPr>
              <p:spPr>
                <a:xfrm flipH="1" flipV="1">
                  <a:off x="4404960" y="270180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0" name=""/>
                <p:cNvSpPr/>
                <p:nvPr/>
              </p:nvSpPr>
              <p:spPr>
                <a:xfrm flipH="1" flipV="1">
                  <a:off x="4616640" y="280332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1" name=""/>
                <p:cNvSpPr/>
                <p:nvPr/>
              </p:nvSpPr>
              <p:spPr>
                <a:xfrm flipH="1">
                  <a:off x="4475160" y="292536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2" name=""/>
                <p:cNvSpPr/>
                <p:nvPr/>
              </p:nvSpPr>
              <p:spPr>
                <a:xfrm flipH="1" flipV="1">
                  <a:off x="4510440" y="288432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3" name=""/>
                <p:cNvSpPr/>
                <p:nvPr/>
              </p:nvSpPr>
              <p:spPr>
                <a:xfrm flipH="1" flipV="1">
                  <a:off x="4369680" y="272160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4" name=""/>
                <p:cNvSpPr/>
                <p:nvPr/>
              </p:nvSpPr>
              <p:spPr>
                <a:xfrm flipV="1">
                  <a:off x="4457520" y="274176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5" name=""/>
                <p:cNvSpPr/>
                <p:nvPr/>
              </p:nvSpPr>
              <p:spPr>
                <a:xfrm flipH="1">
                  <a:off x="4316760" y="282384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6" name=""/>
                <p:cNvSpPr/>
                <p:nvPr/>
              </p:nvSpPr>
              <p:spPr>
                <a:xfrm flipH="1" flipV="1">
                  <a:off x="4545360" y="282384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7" name=""/>
                <p:cNvSpPr/>
                <p:nvPr/>
              </p:nvSpPr>
              <p:spPr>
                <a:xfrm flipH="1" flipV="1">
                  <a:off x="4581000" y="282384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8" name=""/>
                <p:cNvSpPr/>
                <p:nvPr/>
              </p:nvSpPr>
              <p:spPr>
                <a:xfrm flipV="1">
                  <a:off x="4686840" y="288432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9" name=""/>
                <p:cNvSpPr/>
                <p:nvPr/>
              </p:nvSpPr>
              <p:spPr>
                <a:xfrm flipV="1">
                  <a:off x="4633920" y="278244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0" name=""/>
                <p:cNvSpPr/>
                <p:nvPr/>
              </p:nvSpPr>
              <p:spPr>
                <a:xfrm flipH="1">
                  <a:off x="4580640" y="296568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1" name=""/>
                <p:cNvSpPr/>
                <p:nvPr/>
              </p:nvSpPr>
              <p:spPr>
                <a:xfrm flipH="1">
                  <a:off x="4387320" y="284400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2" name=""/>
                <p:cNvSpPr/>
                <p:nvPr/>
              </p:nvSpPr>
              <p:spPr>
                <a:xfrm flipH="1" flipV="1">
                  <a:off x="4316400" y="276300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23" name=""/>
                <p:cNvGrpSpPr/>
                <p:nvPr/>
              </p:nvGrpSpPr>
              <p:grpSpPr>
                <a:xfrm>
                  <a:off x="4341600" y="2568960"/>
                  <a:ext cx="135000" cy="156960"/>
                  <a:chOff x="4341600" y="2568960"/>
                  <a:chExt cx="135000" cy="156960"/>
                </a:xfrm>
              </p:grpSpPr>
              <p:sp>
                <p:nvSpPr>
                  <p:cNvPr id="12024" name=""/>
                  <p:cNvSpPr/>
                  <p:nvPr/>
                </p:nvSpPr>
                <p:spPr>
                  <a:xfrm rot="1745400">
                    <a:off x="4369320" y="2579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5" name=""/>
                  <p:cNvSpPr/>
                  <p:nvPr/>
                </p:nvSpPr>
                <p:spPr>
                  <a:xfrm flipH="1" flipV="1">
                    <a:off x="4405680" y="262188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6" name=""/>
                  <p:cNvSpPr/>
                  <p:nvPr/>
                </p:nvSpPr>
                <p:spPr>
                  <a:xfrm flipV="1">
                    <a:off x="4414320" y="266364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7" name=""/>
                  <p:cNvSpPr/>
                  <p:nvPr/>
                </p:nvSpPr>
                <p:spPr>
                  <a:xfrm flipH="1" flipV="1">
                    <a:off x="4395600" y="265068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8" name=""/>
                  <p:cNvSpPr/>
                  <p:nvPr/>
                </p:nvSpPr>
                <p:spPr>
                  <a:xfrm flipV="1">
                    <a:off x="4411080" y="263232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9" name=""/>
                <p:cNvGrpSpPr/>
                <p:nvPr/>
              </p:nvGrpSpPr>
              <p:grpSpPr>
                <a:xfrm>
                  <a:off x="4398840" y="2772720"/>
                  <a:ext cx="126720" cy="156240"/>
                  <a:chOff x="4398840" y="2772720"/>
                  <a:chExt cx="126720" cy="156240"/>
                </a:xfrm>
              </p:grpSpPr>
              <p:sp>
                <p:nvSpPr>
                  <p:cNvPr id="12030" name=""/>
                  <p:cNvSpPr/>
                  <p:nvPr/>
                </p:nvSpPr>
                <p:spPr>
                  <a:xfrm rot="20187000">
                    <a:off x="4422600" y="27828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1" name=""/>
                  <p:cNvSpPr/>
                  <p:nvPr/>
                </p:nvSpPr>
                <p:spPr>
                  <a:xfrm flipH="1" flipV="1">
                    <a:off x="4439880" y="283788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2" name=""/>
                  <p:cNvSpPr/>
                  <p:nvPr/>
                </p:nvSpPr>
                <p:spPr>
                  <a:xfrm flipH="1" flipV="1">
                    <a:off x="4480920" y="28530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3" name=""/>
                  <p:cNvSpPr/>
                  <p:nvPr/>
                </p:nvSpPr>
                <p:spPr>
                  <a:xfrm flipH="1">
                    <a:off x="4456440" y="286272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4" name=""/>
                  <p:cNvSpPr/>
                  <p:nvPr/>
                </p:nvSpPr>
                <p:spPr>
                  <a:xfrm flipH="1" flipV="1">
                    <a:off x="4452120" y="283896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35" name=""/>
                <p:cNvGrpSpPr/>
                <p:nvPr/>
              </p:nvGrpSpPr>
              <p:grpSpPr>
                <a:xfrm>
                  <a:off x="4475520" y="2701800"/>
                  <a:ext cx="79200" cy="135720"/>
                  <a:chOff x="4475520" y="2701800"/>
                  <a:chExt cx="79200" cy="135720"/>
                </a:xfrm>
              </p:grpSpPr>
              <p:sp>
                <p:nvSpPr>
                  <p:cNvPr id="12036" name=""/>
                  <p:cNvSpPr/>
                  <p:nvPr/>
                </p:nvSpPr>
                <p:spPr>
                  <a:xfrm>
                    <a:off x="4475520" y="27018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7" name=""/>
                  <p:cNvSpPr/>
                  <p:nvPr/>
                </p:nvSpPr>
                <p:spPr>
                  <a:xfrm flipH="1" flipV="1">
                    <a:off x="4499640" y="27489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8" name=""/>
                  <p:cNvSpPr/>
                  <p:nvPr/>
                </p:nvSpPr>
                <p:spPr>
                  <a:xfrm flipH="1" flipV="1">
                    <a:off x="4531320" y="27792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9" name=""/>
                  <p:cNvSpPr/>
                  <p:nvPr/>
                </p:nvSpPr>
                <p:spPr>
                  <a:xfrm flipH="1" flipV="1">
                    <a:off x="4504680" y="27788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0" name=""/>
                  <p:cNvSpPr/>
                  <p:nvPr/>
                </p:nvSpPr>
                <p:spPr>
                  <a:xfrm flipH="1" flipV="1">
                    <a:off x="4510440" y="27547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1" name=""/>
                <p:cNvGrpSpPr/>
                <p:nvPr/>
              </p:nvGrpSpPr>
              <p:grpSpPr>
                <a:xfrm>
                  <a:off x="4311360" y="2937960"/>
                  <a:ext cx="127800" cy="105120"/>
                  <a:chOff x="4311360" y="2937960"/>
                  <a:chExt cx="127800" cy="105120"/>
                </a:xfrm>
              </p:grpSpPr>
              <p:sp>
                <p:nvSpPr>
                  <p:cNvPr id="12042" name=""/>
                  <p:cNvSpPr/>
                  <p:nvPr/>
                </p:nvSpPr>
                <p:spPr>
                  <a:xfrm rot="15769200">
                    <a:off x="4329720" y="29318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3" name=""/>
                  <p:cNvSpPr/>
                  <p:nvPr/>
                </p:nvSpPr>
                <p:spPr>
                  <a:xfrm flipH="1">
                    <a:off x="4359960" y="294264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4" name=""/>
                  <p:cNvSpPr/>
                  <p:nvPr/>
                </p:nvSpPr>
                <p:spPr>
                  <a:xfrm flipH="1">
                    <a:off x="4380840" y="296352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5" name=""/>
                  <p:cNvSpPr/>
                  <p:nvPr/>
                </p:nvSpPr>
                <p:spPr>
                  <a:xfrm flipH="1">
                    <a:off x="4385160" y="298296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6" name=""/>
                  <p:cNvSpPr/>
                  <p:nvPr/>
                </p:nvSpPr>
                <p:spPr>
                  <a:xfrm flipH="1">
                    <a:off x="4363200" y="299088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47" name=""/>
                <p:cNvGrpSpPr/>
                <p:nvPr/>
              </p:nvGrpSpPr>
              <p:grpSpPr>
                <a:xfrm>
                  <a:off x="4246560" y="2640960"/>
                  <a:ext cx="79200" cy="135720"/>
                  <a:chOff x="4246560" y="2640960"/>
                  <a:chExt cx="79200" cy="135720"/>
                </a:xfrm>
              </p:grpSpPr>
              <p:sp>
                <p:nvSpPr>
                  <p:cNvPr id="12048" name=""/>
                  <p:cNvSpPr/>
                  <p:nvPr/>
                </p:nvSpPr>
                <p:spPr>
                  <a:xfrm>
                    <a:off x="4246560" y="26409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9" name=""/>
                  <p:cNvSpPr/>
                  <p:nvPr/>
                </p:nvSpPr>
                <p:spPr>
                  <a:xfrm flipH="1" flipV="1">
                    <a:off x="4270680" y="268812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0" name=""/>
                  <p:cNvSpPr/>
                  <p:nvPr/>
                </p:nvSpPr>
                <p:spPr>
                  <a:xfrm flipH="1" flipV="1">
                    <a:off x="4302360" y="271836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1" name=""/>
                  <p:cNvSpPr/>
                  <p:nvPr/>
                </p:nvSpPr>
                <p:spPr>
                  <a:xfrm flipH="1" flipV="1">
                    <a:off x="4275720" y="27180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2" name=""/>
                  <p:cNvSpPr/>
                  <p:nvPr/>
                </p:nvSpPr>
                <p:spPr>
                  <a:xfrm flipH="1" flipV="1">
                    <a:off x="4281480" y="26938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3" name=""/>
                <p:cNvGrpSpPr/>
                <p:nvPr/>
              </p:nvGrpSpPr>
              <p:grpSpPr>
                <a:xfrm>
                  <a:off x="4545720" y="2681280"/>
                  <a:ext cx="79200" cy="135720"/>
                  <a:chOff x="4545720" y="2681280"/>
                  <a:chExt cx="79200" cy="135720"/>
                </a:xfrm>
              </p:grpSpPr>
              <p:sp>
                <p:nvSpPr>
                  <p:cNvPr id="12054" name=""/>
                  <p:cNvSpPr/>
                  <p:nvPr/>
                </p:nvSpPr>
                <p:spPr>
                  <a:xfrm>
                    <a:off x="4545720" y="26812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5" name=""/>
                  <p:cNvSpPr/>
                  <p:nvPr/>
                </p:nvSpPr>
                <p:spPr>
                  <a:xfrm flipH="1" flipV="1">
                    <a:off x="4569840" y="27284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6" name=""/>
                  <p:cNvSpPr/>
                  <p:nvPr/>
                </p:nvSpPr>
                <p:spPr>
                  <a:xfrm flipH="1" flipV="1">
                    <a:off x="4601520" y="27586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7" name=""/>
                  <p:cNvSpPr/>
                  <p:nvPr/>
                </p:nvSpPr>
                <p:spPr>
                  <a:xfrm flipH="1" flipV="1">
                    <a:off x="4574880" y="27583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8" name=""/>
                  <p:cNvSpPr/>
                  <p:nvPr/>
                </p:nvSpPr>
                <p:spPr>
                  <a:xfrm flipH="1" flipV="1">
                    <a:off x="4580640" y="27342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59" name=""/>
                <p:cNvGrpSpPr/>
                <p:nvPr/>
              </p:nvGrpSpPr>
              <p:grpSpPr>
                <a:xfrm>
                  <a:off x="4299480" y="2600280"/>
                  <a:ext cx="79200" cy="135720"/>
                  <a:chOff x="4299480" y="2600280"/>
                  <a:chExt cx="79200" cy="135720"/>
                </a:xfrm>
              </p:grpSpPr>
              <p:sp>
                <p:nvSpPr>
                  <p:cNvPr id="12060" name=""/>
                  <p:cNvSpPr/>
                  <p:nvPr/>
                </p:nvSpPr>
                <p:spPr>
                  <a:xfrm>
                    <a:off x="4299480" y="26002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1" name=""/>
                  <p:cNvSpPr/>
                  <p:nvPr/>
                </p:nvSpPr>
                <p:spPr>
                  <a:xfrm flipH="1" flipV="1">
                    <a:off x="4323600" y="26474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2" name=""/>
                  <p:cNvSpPr/>
                  <p:nvPr/>
                </p:nvSpPr>
                <p:spPr>
                  <a:xfrm flipH="1" flipV="1">
                    <a:off x="4355280" y="26776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3" name=""/>
                  <p:cNvSpPr/>
                  <p:nvPr/>
                </p:nvSpPr>
                <p:spPr>
                  <a:xfrm flipH="1" flipV="1">
                    <a:off x="4328640" y="26773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4" name=""/>
                  <p:cNvSpPr/>
                  <p:nvPr/>
                </p:nvSpPr>
                <p:spPr>
                  <a:xfrm flipH="1" flipV="1">
                    <a:off x="4334400" y="26532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65" name=""/>
                <p:cNvGrpSpPr/>
                <p:nvPr/>
              </p:nvGrpSpPr>
              <p:grpSpPr>
                <a:xfrm>
                  <a:off x="4464720" y="2991600"/>
                  <a:ext cx="138600" cy="120960"/>
                  <a:chOff x="4464720" y="2991600"/>
                  <a:chExt cx="138600" cy="120960"/>
                </a:xfrm>
              </p:grpSpPr>
              <p:sp>
                <p:nvSpPr>
                  <p:cNvPr id="12066" name=""/>
                  <p:cNvSpPr/>
                  <p:nvPr/>
                </p:nvSpPr>
                <p:spPr>
                  <a:xfrm rot="15198000">
                    <a:off x="4488480" y="29930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7" name=""/>
                  <p:cNvSpPr/>
                  <p:nvPr/>
                </p:nvSpPr>
                <p:spPr>
                  <a:xfrm flipH="1">
                    <a:off x="4521960" y="299700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8" name=""/>
                  <p:cNvSpPr/>
                  <p:nvPr/>
                </p:nvSpPr>
                <p:spPr>
                  <a:xfrm flipH="1">
                    <a:off x="4536360" y="30218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9" name=""/>
                  <p:cNvSpPr/>
                  <p:nvPr/>
                </p:nvSpPr>
                <p:spPr>
                  <a:xfrm>
                    <a:off x="4545000" y="304200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0" name=""/>
                  <p:cNvSpPr/>
                  <p:nvPr/>
                </p:nvSpPr>
                <p:spPr>
                  <a:xfrm flipH="1">
                    <a:off x="4523400" y="305244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71" name=""/>
                <p:cNvGrpSpPr/>
                <p:nvPr/>
              </p:nvGrpSpPr>
              <p:grpSpPr>
                <a:xfrm>
                  <a:off x="4372200" y="2962440"/>
                  <a:ext cx="147240" cy="138240"/>
                  <a:chOff x="4372200" y="2962440"/>
                  <a:chExt cx="147240" cy="138240"/>
                </a:xfrm>
              </p:grpSpPr>
              <p:sp>
                <p:nvSpPr>
                  <p:cNvPr id="12072" name=""/>
                  <p:cNvSpPr/>
                  <p:nvPr/>
                </p:nvSpPr>
                <p:spPr>
                  <a:xfrm rot="14358600">
                    <a:off x="4400280" y="2972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3" name=""/>
                  <p:cNvSpPr/>
                  <p:nvPr/>
                </p:nvSpPr>
                <p:spPr>
                  <a:xfrm flipH="1">
                    <a:off x="4439520" y="296964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4" name=""/>
                  <p:cNvSpPr/>
                  <p:nvPr/>
                </p:nvSpPr>
                <p:spPr>
                  <a:xfrm flipH="1">
                    <a:off x="4443120" y="299844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5" name=""/>
                  <p:cNvSpPr/>
                  <p:nvPr/>
                </p:nvSpPr>
                <p:spPr>
                  <a:xfrm>
                    <a:off x="4454280" y="301932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6" name=""/>
                  <p:cNvSpPr/>
                  <p:nvPr/>
                </p:nvSpPr>
                <p:spPr>
                  <a:xfrm flipH="1">
                    <a:off x="4437720" y="303264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77" name=""/>
                <p:cNvGrpSpPr/>
                <p:nvPr/>
              </p:nvGrpSpPr>
              <p:grpSpPr>
                <a:xfrm>
                  <a:off x="4191480" y="2799720"/>
                  <a:ext cx="122400" cy="97560"/>
                  <a:chOff x="4191480" y="2799720"/>
                  <a:chExt cx="122400" cy="97560"/>
                </a:xfrm>
              </p:grpSpPr>
              <p:sp>
                <p:nvSpPr>
                  <p:cNvPr id="12078" name=""/>
                  <p:cNvSpPr/>
                  <p:nvPr/>
                </p:nvSpPr>
                <p:spPr>
                  <a:xfrm rot="16010400">
                    <a:off x="4206960" y="2789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9" name=""/>
                  <p:cNvSpPr/>
                  <p:nvPr/>
                </p:nvSpPr>
                <p:spPr>
                  <a:xfrm flipH="1">
                    <a:off x="4235760" y="280368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0" name=""/>
                  <p:cNvSpPr/>
                  <p:nvPr/>
                </p:nvSpPr>
                <p:spPr>
                  <a:xfrm flipH="1">
                    <a:off x="4259520" y="282312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1" name=""/>
                  <p:cNvSpPr/>
                  <p:nvPr/>
                </p:nvSpPr>
                <p:spPr>
                  <a:xfrm flipH="1">
                    <a:off x="4261680" y="284148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2" name=""/>
                  <p:cNvSpPr/>
                  <p:nvPr/>
                </p:nvSpPr>
                <p:spPr>
                  <a:xfrm flipH="1">
                    <a:off x="4240080" y="284832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3" name=""/>
                <p:cNvGrpSpPr/>
                <p:nvPr/>
              </p:nvGrpSpPr>
              <p:grpSpPr>
                <a:xfrm>
                  <a:off x="4198320" y="2865600"/>
                  <a:ext cx="142920" cy="128520"/>
                  <a:chOff x="4198320" y="2865600"/>
                  <a:chExt cx="142920" cy="128520"/>
                </a:xfrm>
              </p:grpSpPr>
              <p:sp>
                <p:nvSpPr>
                  <p:cNvPr id="12084" name=""/>
                  <p:cNvSpPr/>
                  <p:nvPr/>
                </p:nvSpPr>
                <p:spPr>
                  <a:xfrm rot="14881800">
                    <a:off x="4224240" y="2871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5" name=""/>
                  <p:cNvSpPr/>
                  <p:nvPr/>
                </p:nvSpPr>
                <p:spPr>
                  <a:xfrm flipH="1">
                    <a:off x="4259880" y="287208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6" name=""/>
                  <p:cNvSpPr/>
                  <p:nvPr/>
                </p:nvSpPr>
                <p:spPr>
                  <a:xfrm flipH="1">
                    <a:off x="4270320" y="289872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7" name=""/>
                  <p:cNvSpPr/>
                  <p:nvPr/>
                </p:nvSpPr>
                <p:spPr>
                  <a:xfrm>
                    <a:off x="4280040" y="291888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8" name=""/>
                  <p:cNvSpPr/>
                  <p:nvPr/>
                </p:nvSpPr>
                <p:spPr>
                  <a:xfrm flipH="1">
                    <a:off x="4259880" y="293076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89" name=""/>
                <p:cNvGrpSpPr/>
                <p:nvPr/>
              </p:nvGrpSpPr>
              <p:grpSpPr>
                <a:xfrm>
                  <a:off x="4290480" y="2851560"/>
                  <a:ext cx="135000" cy="115560"/>
                  <a:chOff x="4290480" y="2851560"/>
                  <a:chExt cx="135000" cy="115560"/>
                </a:xfrm>
              </p:grpSpPr>
              <p:sp>
                <p:nvSpPr>
                  <p:cNvPr id="12090" name=""/>
                  <p:cNvSpPr/>
                  <p:nvPr/>
                </p:nvSpPr>
                <p:spPr>
                  <a:xfrm rot="15401400">
                    <a:off x="4312080" y="2850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1" name=""/>
                  <p:cNvSpPr/>
                  <p:nvPr/>
                </p:nvSpPr>
                <p:spPr>
                  <a:xfrm flipH="1">
                    <a:off x="4344840" y="285660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2" name=""/>
                  <p:cNvSpPr/>
                  <p:nvPr/>
                </p:nvSpPr>
                <p:spPr>
                  <a:xfrm flipH="1">
                    <a:off x="4361400" y="288036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3" name=""/>
                  <p:cNvSpPr/>
                  <p:nvPr/>
                </p:nvSpPr>
                <p:spPr>
                  <a:xfrm flipH="1">
                    <a:off x="4368960" y="290016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4" name=""/>
                  <p:cNvSpPr/>
                  <p:nvPr/>
                </p:nvSpPr>
                <p:spPr>
                  <a:xfrm flipH="1">
                    <a:off x="4346640" y="290988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95" name=""/>
                <p:cNvGrpSpPr/>
                <p:nvPr/>
              </p:nvGrpSpPr>
              <p:grpSpPr>
                <a:xfrm>
                  <a:off x="4255560" y="2709720"/>
                  <a:ext cx="135000" cy="115200"/>
                  <a:chOff x="4255560" y="2709720"/>
                  <a:chExt cx="135000" cy="115200"/>
                </a:xfrm>
              </p:grpSpPr>
              <p:sp>
                <p:nvSpPr>
                  <p:cNvPr id="12096" name=""/>
                  <p:cNvSpPr/>
                  <p:nvPr/>
                </p:nvSpPr>
                <p:spPr>
                  <a:xfrm rot="16985400">
                    <a:off x="4277160" y="2708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7" name=""/>
                  <p:cNvSpPr/>
                  <p:nvPr/>
                </p:nvSpPr>
                <p:spPr>
                  <a:xfrm flipH="1">
                    <a:off x="4301280" y="273708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8" name=""/>
                  <p:cNvSpPr/>
                  <p:nvPr/>
                </p:nvSpPr>
                <p:spPr>
                  <a:xfrm flipH="1">
                    <a:off x="4334760" y="274860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9" name=""/>
                  <p:cNvSpPr/>
                  <p:nvPr/>
                </p:nvSpPr>
                <p:spPr>
                  <a:xfrm flipH="1">
                    <a:off x="4328280" y="276408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0" name=""/>
                  <p:cNvSpPr/>
                  <p:nvPr/>
                </p:nvSpPr>
                <p:spPr>
                  <a:xfrm flipH="1">
                    <a:off x="4309200" y="276624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01" name=""/>
                <p:cNvGrpSpPr/>
                <p:nvPr/>
              </p:nvGrpSpPr>
              <p:grpSpPr>
                <a:xfrm>
                  <a:off x="4440240" y="2733480"/>
                  <a:ext cx="150120" cy="153360"/>
                  <a:chOff x="4440240" y="2733480"/>
                  <a:chExt cx="150120" cy="153360"/>
                </a:xfrm>
              </p:grpSpPr>
              <p:sp>
                <p:nvSpPr>
                  <p:cNvPr id="12102" name=""/>
                  <p:cNvSpPr/>
                  <p:nvPr/>
                </p:nvSpPr>
                <p:spPr>
                  <a:xfrm rot="19036200">
                    <a:off x="4475520" y="2742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3" name=""/>
                  <p:cNvSpPr/>
                  <p:nvPr/>
                </p:nvSpPr>
                <p:spPr>
                  <a:xfrm flipH="1" flipV="1">
                    <a:off x="4489920" y="280512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4" name=""/>
                  <p:cNvSpPr/>
                  <p:nvPr/>
                </p:nvSpPr>
                <p:spPr>
                  <a:xfrm flipH="1" flipV="1">
                    <a:off x="4533480" y="280584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5" name=""/>
                  <p:cNvSpPr/>
                  <p:nvPr/>
                </p:nvSpPr>
                <p:spPr>
                  <a:xfrm flipH="1">
                    <a:off x="4513680" y="2817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6" name=""/>
                  <p:cNvSpPr/>
                  <p:nvPr/>
                </p:nvSpPr>
                <p:spPr>
                  <a:xfrm flipH="1" flipV="1">
                    <a:off x="4501800" y="280224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07" name=""/>
                <p:cNvGrpSpPr/>
                <p:nvPr/>
              </p:nvGrpSpPr>
              <p:grpSpPr>
                <a:xfrm>
                  <a:off x="4605120" y="2664360"/>
                  <a:ext cx="140760" cy="124920"/>
                  <a:chOff x="4605120" y="2664360"/>
                  <a:chExt cx="140760" cy="124920"/>
                </a:xfrm>
              </p:grpSpPr>
              <p:sp>
                <p:nvSpPr>
                  <p:cNvPr id="12108" name=""/>
                  <p:cNvSpPr/>
                  <p:nvPr/>
                </p:nvSpPr>
                <p:spPr>
                  <a:xfrm rot="4233000">
                    <a:off x="4629600" y="2667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9" name=""/>
                  <p:cNvSpPr/>
                  <p:nvPr/>
                </p:nvSpPr>
                <p:spPr>
                  <a:xfrm flipV="1">
                    <a:off x="4642560" y="270396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0" name=""/>
                  <p:cNvSpPr/>
                  <p:nvPr/>
                </p:nvSpPr>
                <p:spPr>
                  <a:xfrm flipV="1">
                    <a:off x="4661280" y="274680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1" name=""/>
                  <p:cNvSpPr/>
                  <p:nvPr/>
                </p:nvSpPr>
                <p:spPr>
                  <a:xfrm flipH="1" flipV="1">
                    <a:off x="4663800" y="271836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2" name=""/>
                  <p:cNvSpPr/>
                  <p:nvPr/>
                </p:nvSpPr>
                <p:spPr>
                  <a:xfrm flipV="1">
                    <a:off x="4677840" y="271728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3" name=""/>
                <p:cNvGrpSpPr/>
                <p:nvPr/>
              </p:nvGrpSpPr>
              <p:grpSpPr>
                <a:xfrm>
                  <a:off x="4676040" y="2767320"/>
                  <a:ext cx="139320" cy="122040"/>
                  <a:chOff x="4676040" y="2767320"/>
                  <a:chExt cx="139320" cy="122040"/>
                </a:xfrm>
              </p:grpSpPr>
              <p:sp>
                <p:nvSpPr>
                  <p:cNvPr id="12114" name=""/>
                  <p:cNvSpPr/>
                  <p:nvPr/>
                </p:nvSpPr>
                <p:spPr>
                  <a:xfrm rot="4353000">
                    <a:off x="4699800" y="2769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5" name=""/>
                  <p:cNvSpPr/>
                  <p:nvPr/>
                </p:nvSpPr>
                <p:spPr>
                  <a:xfrm flipV="1">
                    <a:off x="4710960" y="280584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6" name=""/>
                  <p:cNvSpPr/>
                  <p:nvPr/>
                </p:nvSpPr>
                <p:spPr>
                  <a:xfrm flipV="1">
                    <a:off x="4730400" y="284832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7" name=""/>
                  <p:cNvSpPr/>
                  <p:nvPr/>
                </p:nvSpPr>
                <p:spPr>
                  <a:xfrm flipH="1" flipV="1">
                    <a:off x="4734000" y="281952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8" name=""/>
                  <p:cNvSpPr/>
                  <p:nvPr/>
                </p:nvSpPr>
                <p:spPr>
                  <a:xfrm flipV="1">
                    <a:off x="4748040" y="28191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19" name=""/>
                <p:cNvGrpSpPr/>
                <p:nvPr/>
              </p:nvGrpSpPr>
              <p:grpSpPr>
                <a:xfrm>
                  <a:off x="4444200" y="2874240"/>
                  <a:ext cx="142200" cy="156600"/>
                  <a:chOff x="4444200" y="2874240"/>
                  <a:chExt cx="142200" cy="156600"/>
                </a:xfrm>
              </p:grpSpPr>
              <p:sp>
                <p:nvSpPr>
                  <p:cNvPr id="12120" name=""/>
                  <p:cNvSpPr/>
                  <p:nvPr/>
                </p:nvSpPr>
                <p:spPr>
                  <a:xfrm rot="19525800">
                    <a:off x="4475520" y="2884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1" name=""/>
                  <p:cNvSpPr/>
                  <p:nvPr/>
                </p:nvSpPr>
                <p:spPr>
                  <a:xfrm flipH="1" flipV="1">
                    <a:off x="4490640" y="294408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2" name=""/>
                  <p:cNvSpPr/>
                  <p:nvPr/>
                </p:nvSpPr>
                <p:spPr>
                  <a:xfrm flipH="1" flipV="1">
                    <a:off x="4533840" y="295128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3" name=""/>
                  <p:cNvSpPr/>
                  <p:nvPr/>
                </p:nvSpPr>
                <p:spPr>
                  <a:xfrm flipH="1">
                    <a:off x="4511880" y="29620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4" name=""/>
                  <p:cNvSpPr/>
                  <p:nvPr/>
                </p:nvSpPr>
                <p:spPr>
                  <a:xfrm flipH="1" flipV="1">
                    <a:off x="4502880" y="294300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25" name=""/>
                <p:cNvGrpSpPr/>
                <p:nvPr/>
              </p:nvGrpSpPr>
              <p:grpSpPr>
                <a:xfrm>
                  <a:off x="4302000" y="2856240"/>
                  <a:ext cx="147600" cy="147240"/>
                  <a:chOff x="4302000" y="2856240"/>
                  <a:chExt cx="147600" cy="147240"/>
                </a:xfrm>
              </p:grpSpPr>
              <p:sp>
                <p:nvSpPr>
                  <p:cNvPr id="12126" name=""/>
                  <p:cNvSpPr/>
                  <p:nvPr/>
                </p:nvSpPr>
                <p:spPr>
                  <a:xfrm rot="18890400">
                    <a:off x="4330080" y="2871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7" name=""/>
                  <p:cNvSpPr/>
                  <p:nvPr/>
                </p:nvSpPr>
                <p:spPr>
                  <a:xfrm flipH="1" flipV="1">
                    <a:off x="4350240" y="292968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8" name=""/>
                  <p:cNvSpPr/>
                  <p:nvPr/>
                </p:nvSpPr>
                <p:spPr>
                  <a:xfrm flipH="1" flipV="1">
                    <a:off x="4394160" y="292248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9" name=""/>
                  <p:cNvSpPr/>
                  <p:nvPr/>
                </p:nvSpPr>
                <p:spPr>
                  <a:xfrm flipH="1">
                    <a:off x="4373280" y="293472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0" name=""/>
                  <p:cNvSpPr/>
                  <p:nvPr/>
                </p:nvSpPr>
                <p:spPr>
                  <a:xfrm flipH="1" flipV="1">
                    <a:off x="4362480" y="292464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1" name=""/>
                <p:cNvGrpSpPr/>
                <p:nvPr/>
              </p:nvGrpSpPr>
              <p:grpSpPr>
                <a:xfrm>
                  <a:off x="4178880" y="2775240"/>
                  <a:ext cx="147960" cy="146520"/>
                  <a:chOff x="4178880" y="2775240"/>
                  <a:chExt cx="147960" cy="146520"/>
                </a:xfrm>
              </p:grpSpPr>
              <p:sp>
                <p:nvSpPr>
                  <p:cNvPr id="12132" name=""/>
                  <p:cNvSpPr/>
                  <p:nvPr/>
                </p:nvSpPr>
                <p:spPr>
                  <a:xfrm rot="18730200">
                    <a:off x="4207320" y="2789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3" name=""/>
                  <p:cNvSpPr/>
                  <p:nvPr/>
                </p:nvSpPr>
                <p:spPr>
                  <a:xfrm flipH="1" flipV="1">
                    <a:off x="4227480" y="284976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4" name=""/>
                  <p:cNvSpPr/>
                  <p:nvPr/>
                </p:nvSpPr>
                <p:spPr>
                  <a:xfrm flipH="1" flipV="1">
                    <a:off x="4271040" y="2840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5" name=""/>
                  <p:cNvSpPr/>
                  <p:nvPr/>
                </p:nvSpPr>
                <p:spPr>
                  <a:xfrm flipH="1">
                    <a:off x="4251240" y="285264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6" name=""/>
                  <p:cNvSpPr/>
                  <p:nvPr/>
                </p:nvSpPr>
                <p:spPr>
                  <a:xfrm flipH="1" flipV="1">
                    <a:off x="4239360" y="284400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7" name=""/>
                <p:cNvGrpSpPr/>
                <p:nvPr/>
              </p:nvGrpSpPr>
              <p:grpSpPr>
                <a:xfrm>
                  <a:off x="4160880" y="2691360"/>
                  <a:ext cx="145080" cy="155880"/>
                  <a:chOff x="4160880" y="2691360"/>
                  <a:chExt cx="145080" cy="155880"/>
                </a:xfrm>
              </p:grpSpPr>
              <p:sp>
                <p:nvSpPr>
                  <p:cNvPr id="12138" name=""/>
                  <p:cNvSpPr/>
                  <p:nvPr/>
                </p:nvSpPr>
                <p:spPr>
                  <a:xfrm rot="19362600">
                    <a:off x="4193640" y="2701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9" name=""/>
                  <p:cNvSpPr/>
                  <p:nvPr/>
                </p:nvSpPr>
                <p:spPr>
                  <a:xfrm flipH="1" flipV="1">
                    <a:off x="4208760" y="276228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0" name=""/>
                  <p:cNvSpPr/>
                  <p:nvPr/>
                </p:nvSpPr>
                <p:spPr>
                  <a:xfrm flipH="1" flipV="1">
                    <a:off x="4251960" y="276732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1" name=""/>
                  <p:cNvSpPr/>
                  <p:nvPr/>
                </p:nvSpPr>
                <p:spPr>
                  <a:xfrm flipH="1">
                    <a:off x="4230720" y="277848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2" name=""/>
                  <p:cNvSpPr/>
                  <p:nvPr/>
                </p:nvSpPr>
                <p:spPr>
                  <a:xfrm flipH="1" flipV="1">
                    <a:off x="4220640" y="276048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43" name=""/>
              <p:cNvGrpSpPr/>
              <p:nvPr/>
            </p:nvGrpSpPr>
            <p:grpSpPr>
              <a:xfrm>
                <a:off x="4043520" y="2180880"/>
                <a:ext cx="654480" cy="543600"/>
                <a:chOff x="4043520" y="2180880"/>
                <a:chExt cx="654480" cy="543600"/>
              </a:xfrm>
            </p:grpSpPr>
            <p:grpSp>
              <p:nvGrpSpPr>
                <p:cNvPr id="12144" name=""/>
                <p:cNvGrpSpPr/>
                <p:nvPr/>
              </p:nvGrpSpPr>
              <p:grpSpPr>
                <a:xfrm>
                  <a:off x="4308840" y="2251800"/>
                  <a:ext cx="145800" cy="133920"/>
                  <a:chOff x="4308840" y="2251800"/>
                  <a:chExt cx="145800" cy="133920"/>
                </a:xfrm>
              </p:grpSpPr>
              <p:sp>
                <p:nvSpPr>
                  <p:cNvPr id="12145" name=""/>
                  <p:cNvSpPr/>
                  <p:nvPr/>
                </p:nvSpPr>
                <p:spPr>
                  <a:xfrm rot="3815400">
                    <a:off x="4335840" y="2259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6" name=""/>
                  <p:cNvSpPr/>
                  <p:nvPr/>
                </p:nvSpPr>
                <p:spPr>
                  <a:xfrm flipV="1">
                    <a:off x="4356000" y="22946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7" name=""/>
                  <p:cNvSpPr/>
                  <p:nvPr/>
                </p:nvSpPr>
                <p:spPr>
                  <a:xfrm flipV="1">
                    <a:off x="4371480" y="23385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8" name=""/>
                  <p:cNvSpPr/>
                  <p:nvPr/>
                </p:nvSpPr>
                <p:spPr>
                  <a:xfrm flipH="1" flipV="1">
                    <a:off x="4368960" y="23119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9" name=""/>
                  <p:cNvSpPr/>
                  <p:nvPr/>
                </p:nvSpPr>
                <p:spPr>
                  <a:xfrm flipV="1">
                    <a:off x="4384080" y="23079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50" name=""/>
                <p:cNvSpPr/>
                <p:nvPr/>
              </p:nvSpPr>
              <p:spPr>
                <a:xfrm flipH="1">
                  <a:off x="4304880" y="25167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1" name=""/>
                <p:cNvSpPr/>
                <p:nvPr/>
              </p:nvSpPr>
              <p:spPr>
                <a:xfrm>
                  <a:off x="4182120" y="24152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2" name=""/>
                <p:cNvSpPr/>
                <p:nvPr/>
              </p:nvSpPr>
              <p:spPr>
                <a:xfrm flipH="1" flipV="1">
                  <a:off x="4287600" y="23137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3" name=""/>
                <p:cNvSpPr/>
                <p:nvPr/>
              </p:nvSpPr>
              <p:spPr>
                <a:xfrm flipH="1" flipV="1">
                  <a:off x="4499280" y="24152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4" name=""/>
                <p:cNvSpPr/>
                <p:nvPr/>
              </p:nvSpPr>
              <p:spPr>
                <a:xfrm flipH="1">
                  <a:off x="4357800" y="25372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5" name=""/>
                <p:cNvSpPr/>
                <p:nvPr/>
              </p:nvSpPr>
              <p:spPr>
                <a:xfrm flipH="1" flipV="1">
                  <a:off x="4393080" y="24962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6" name=""/>
                <p:cNvSpPr/>
                <p:nvPr/>
              </p:nvSpPr>
              <p:spPr>
                <a:xfrm flipH="1" flipV="1">
                  <a:off x="4252320" y="23335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7" name=""/>
                <p:cNvSpPr/>
                <p:nvPr/>
              </p:nvSpPr>
              <p:spPr>
                <a:xfrm flipV="1">
                  <a:off x="4340160" y="23536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8" name=""/>
                <p:cNvSpPr/>
                <p:nvPr/>
              </p:nvSpPr>
              <p:spPr>
                <a:xfrm flipH="1">
                  <a:off x="4199400" y="24357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9" name=""/>
                <p:cNvSpPr/>
                <p:nvPr/>
              </p:nvSpPr>
              <p:spPr>
                <a:xfrm flipH="1" flipV="1">
                  <a:off x="4428000" y="24357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0" name=""/>
                <p:cNvSpPr/>
                <p:nvPr/>
              </p:nvSpPr>
              <p:spPr>
                <a:xfrm flipH="1" flipV="1">
                  <a:off x="4463640" y="24357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1" name=""/>
                <p:cNvSpPr/>
                <p:nvPr/>
              </p:nvSpPr>
              <p:spPr>
                <a:xfrm flipV="1">
                  <a:off x="4569480" y="24962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2" name=""/>
                <p:cNvSpPr/>
                <p:nvPr/>
              </p:nvSpPr>
              <p:spPr>
                <a:xfrm flipV="1">
                  <a:off x="4516560" y="23943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3" name=""/>
                <p:cNvSpPr/>
                <p:nvPr/>
              </p:nvSpPr>
              <p:spPr>
                <a:xfrm flipH="1">
                  <a:off x="4463280" y="25776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4" name=""/>
                <p:cNvSpPr/>
                <p:nvPr/>
              </p:nvSpPr>
              <p:spPr>
                <a:xfrm flipH="1">
                  <a:off x="4269960" y="24559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5" name=""/>
                <p:cNvSpPr/>
                <p:nvPr/>
              </p:nvSpPr>
              <p:spPr>
                <a:xfrm flipH="1" flipV="1">
                  <a:off x="4199040" y="23749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166" name=""/>
                <p:cNvGrpSpPr/>
                <p:nvPr/>
              </p:nvGrpSpPr>
              <p:grpSpPr>
                <a:xfrm>
                  <a:off x="4224240" y="2180880"/>
                  <a:ext cx="135000" cy="156960"/>
                  <a:chOff x="4224240" y="2180880"/>
                  <a:chExt cx="135000" cy="156960"/>
                </a:xfrm>
              </p:grpSpPr>
              <p:sp>
                <p:nvSpPr>
                  <p:cNvPr id="12167" name=""/>
                  <p:cNvSpPr/>
                  <p:nvPr/>
                </p:nvSpPr>
                <p:spPr>
                  <a:xfrm rot="1745400">
                    <a:off x="4251960" y="21913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8" name=""/>
                  <p:cNvSpPr/>
                  <p:nvPr/>
                </p:nvSpPr>
                <p:spPr>
                  <a:xfrm flipH="1" flipV="1">
                    <a:off x="4288320" y="22338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9" name=""/>
                  <p:cNvSpPr/>
                  <p:nvPr/>
                </p:nvSpPr>
                <p:spPr>
                  <a:xfrm flipV="1">
                    <a:off x="4296960" y="22755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0" name=""/>
                  <p:cNvSpPr/>
                  <p:nvPr/>
                </p:nvSpPr>
                <p:spPr>
                  <a:xfrm flipH="1" flipV="1">
                    <a:off x="4278240" y="22626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1" name=""/>
                  <p:cNvSpPr/>
                  <p:nvPr/>
                </p:nvSpPr>
                <p:spPr>
                  <a:xfrm flipV="1">
                    <a:off x="4293720" y="22442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2" name=""/>
                <p:cNvGrpSpPr/>
                <p:nvPr/>
              </p:nvGrpSpPr>
              <p:grpSpPr>
                <a:xfrm>
                  <a:off x="4281480" y="2384640"/>
                  <a:ext cx="126720" cy="156240"/>
                  <a:chOff x="4281480" y="2384640"/>
                  <a:chExt cx="126720" cy="156240"/>
                </a:xfrm>
              </p:grpSpPr>
              <p:sp>
                <p:nvSpPr>
                  <p:cNvPr id="12173" name=""/>
                  <p:cNvSpPr/>
                  <p:nvPr/>
                </p:nvSpPr>
                <p:spPr>
                  <a:xfrm rot="20187000">
                    <a:off x="4305240" y="2394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4" name=""/>
                  <p:cNvSpPr/>
                  <p:nvPr/>
                </p:nvSpPr>
                <p:spPr>
                  <a:xfrm flipH="1" flipV="1">
                    <a:off x="4322520" y="24498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5" name=""/>
                  <p:cNvSpPr/>
                  <p:nvPr/>
                </p:nvSpPr>
                <p:spPr>
                  <a:xfrm flipH="1" flipV="1">
                    <a:off x="4363560" y="24649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6" name=""/>
                  <p:cNvSpPr/>
                  <p:nvPr/>
                </p:nvSpPr>
                <p:spPr>
                  <a:xfrm flipH="1">
                    <a:off x="4339080" y="24746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7" name=""/>
                  <p:cNvSpPr/>
                  <p:nvPr/>
                </p:nvSpPr>
                <p:spPr>
                  <a:xfrm flipH="1" flipV="1">
                    <a:off x="4334760" y="24508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78" name=""/>
                <p:cNvGrpSpPr/>
                <p:nvPr/>
              </p:nvGrpSpPr>
              <p:grpSpPr>
                <a:xfrm>
                  <a:off x="4358160" y="2313720"/>
                  <a:ext cx="79200" cy="135720"/>
                  <a:chOff x="4358160" y="2313720"/>
                  <a:chExt cx="79200" cy="135720"/>
                </a:xfrm>
              </p:grpSpPr>
              <p:sp>
                <p:nvSpPr>
                  <p:cNvPr id="12179" name=""/>
                  <p:cNvSpPr/>
                  <p:nvPr/>
                </p:nvSpPr>
                <p:spPr>
                  <a:xfrm>
                    <a:off x="4358160" y="2313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0" name=""/>
                  <p:cNvSpPr/>
                  <p:nvPr/>
                </p:nvSpPr>
                <p:spPr>
                  <a:xfrm flipH="1" flipV="1">
                    <a:off x="4382280" y="23608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1" name=""/>
                  <p:cNvSpPr/>
                  <p:nvPr/>
                </p:nvSpPr>
                <p:spPr>
                  <a:xfrm flipH="1" flipV="1">
                    <a:off x="4413960" y="23911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2" name=""/>
                  <p:cNvSpPr/>
                  <p:nvPr/>
                </p:nvSpPr>
                <p:spPr>
                  <a:xfrm flipH="1" flipV="1">
                    <a:off x="4387320" y="2390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3" name=""/>
                  <p:cNvSpPr/>
                  <p:nvPr/>
                </p:nvSpPr>
                <p:spPr>
                  <a:xfrm flipH="1" flipV="1">
                    <a:off x="4393080" y="2366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84" name=""/>
                <p:cNvGrpSpPr/>
                <p:nvPr/>
              </p:nvGrpSpPr>
              <p:grpSpPr>
                <a:xfrm>
                  <a:off x="4194000" y="2549880"/>
                  <a:ext cx="127800" cy="105120"/>
                  <a:chOff x="4194000" y="2549880"/>
                  <a:chExt cx="127800" cy="105120"/>
                </a:xfrm>
              </p:grpSpPr>
              <p:sp>
                <p:nvSpPr>
                  <p:cNvPr id="12185" name=""/>
                  <p:cNvSpPr/>
                  <p:nvPr/>
                </p:nvSpPr>
                <p:spPr>
                  <a:xfrm rot="15769200">
                    <a:off x="4212360" y="2543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6" name=""/>
                  <p:cNvSpPr/>
                  <p:nvPr/>
                </p:nvSpPr>
                <p:spPr>
                  <a:xfrm flipH="1">
                    <a:off x="4242600" y="25545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7" name=""/>
                  <p:cNvSpPr/>
                  <p:nvPr/>
                </p:nvSpPr>
                <p:spPr>
                  <a:xfrm flipH="1">
                    <a:off x="4263480" y="25754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8" name=""/>
                  <p:cNvSpPr/>
                  <p:nvPr/>
                </p:nvSpPr>
                <p:spPr>
                  <a:xfrm flipH="1">
                    <a:off x="4267800" y="25948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9" name=""/>
                  <p:cNvSpPr/>
                  <p:nvPr/>
                </p:nvSpPr>
                <p:spPr>
                  <a:xfrm flipH="1">
                    <a:off x="4245840" y="26028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0" name=""/>
                <p:cNvGrpSpPr/>
                <p:nvPr/>
              </p:nvGrpSpPr>
              <p:grpSpPr>
                <a:xfrm>
                  <a:off x="4129200" y="2252880"/>
                  <a:ext cx="79200" cy="135720"/>
                  <a:chOff x="4129200" y="2252880"/>
                  <a:chExt cx="79200" cy="135720"/>
                </a:xfrm>
              </p:grpSpPr>
              <p:sp>
                <p:nvSpPr>
                  <p:cNvPr id="12191" name=""/>
                  <p:cNvSpPr/>
                  <p:nvPr/>
                </p:nvSpPr>
                <p:spPr>
                  <a:xfrm>
                    <a:off x="4129200" y="22528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2" name=""/>
                  <p:cNvSpPr/>
                  <p:nvPr/>
                </p:nvSpPr>
                <p:spPr>
                  <a:xfrm flipH="1" flipV="1">
                    <a:off x="4153320" y="23000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3" name=""/>
                  <p:cNvSpPr/>
                  <p:nvPr/>
                </p:nvSpPr>
                <p:spPr>
                  <a:xfrm flipH="1" flipV="1">
                    <a:off x="4185000" y="23302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4" name=""/>
                  <p:cNvSpPr/>
                  <p:nvPr/>
                </p:nvSpPr>
                <p:spPr>
                  <a:xfrm flipH="1" flipV="1">
                    <a:off x="4158360" y="23299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5" name=""/>
                  <p:cNvSpPr/>
                  <p:nvPr/>
                </p:nvSpPr>
                <p:spPr>
                  <a:xfrm flipH="1" flipV="1">
                    <a:off x="4164120" y="23058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6" name=""/>
                <p:cNvGrpSpPr/>
                <p:nvPr/>
              </p:nvGrpSpPr>
              <p:grpSpPr>
                <a:xfrm>
                  <a:off x="4428360" y="2293200"/>
                  <a:ext cx="79200" cy="135720"/>
                  <a:chOff x="4428360" y="2293200"/>
                  <a:chExt cx="79200" cy="135720"/>
                </a:xfrm>
              </p:grpSpPr>
              <p:sp>
                <p:nvSpPr>
                  <p:cNvPr id="12197" name=""/>
                  <p:cNvSpPr/>
                  <p:nvPr/>
                </p:nvSpPr>
                <p:spPr>
                  <a:xfrm>
                    <a:off x="4428360" y="22932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8" name=""/>
                  <p:cNvSpPr/>
                  <p:nvPr/>
                </p:nvSpPr>
                <p:spPr>
                  <a:xfrm flipH="1" flipV="1">
                    <a:off x="4452480" y="23403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9" name=""/>
                  <p:cNvSpPr/>
                  <p:nvPr/>
                </p:nvSpPr>
                <p:spPr>
                  <a:xfrm flipH="1" flipV="1">
                    <a:off x="4484160" y="23706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0" name=""/>
                  <p:cNvSpPr/>
                  <p:nvPr/>
                </p:nvSpPr>
                <p:spPr>
                  <a:xfrm flipH="1" flipV="1">
                    <a:off x="4457520" y="23702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1" name=""/>
                  <p:cNvSpPr/>
                  <p:nvPr/>
                </p:nvSpPr>
                <p:spPr>
                  <a:xfrm flipH="1" flipV="1">
                    <a:off x="4463280" y="23461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2" name=""/>
                <p:cNvGrpSpPr/>
                <p:nvPr/>
              </p:nvGrpSpPr>
              <p:grpSpPr>
                <a:xfrm>
                  <a:off x="4182120" y="2212200"/>
                  <a:ext cx="79200" cy="135720"/>
                  <a:chOff x="4182120" y="2212200"/>
                  <a:chExt cx="79200" cy="135720"/>
                </a:xfrm>
              </p:grpSpPr>
              <p:sp>
                <p:nvSpPr>
                  <p:cNvPr id="12203" name=""/>
                  <p:cNvSpPr/>
                  <p:nvPr/>
                </p:nvSpPr>
                <p:spPr>
                  <a:xfrm>
                    <a:off x="4182120" y="22122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4" name=""/>
                  <p:cNvSpPr/>
                  <p:nvPr/>
                </p:nvSpPr>
                <p:spPr>
                  <a:xfrm flipH="1" flipV="1">
                    <a:off x="4206240" y="22593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5" name=""/>
                  <p:cNvSpPr/>
                  <p:nvPr/>
                </p:nvSpPr>
                <p:spPr>
                  <a:xfrm flipH="1" flipV="1">
                    <a:off x="4237920" y="22896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6" name=""/>
                  <p:cNvSpPr/>
                  <p:nvPr/>
                </p:nvSpPr>
                <p:spPr>
                  <a:xfrm flipH="1" flipV="1">
                    <a:off x="4211280" y="22892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7" name=""/>
                  <p:cNvSpPr/>
                  <p:nvPr/>
                </p:nvSpPr>
                <p:spPr>
                  <a:xfrm flipH="1" flipV="1">
                    <a:off x="4217040" y="22651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8" name=""/>
                <p:cNvGrpSpPr/>
                <p:nvPr/>
              </p:nvGrpSpPr>
              <p:grpSpPr>
                <a:xfrm>
                  <a:off x="4347360" y="2603520"/>
                  <a:ext cx="138600" cy="120960"/>
                  <a:chOff x="4347360" y="2603520"/>
                  <a:chExt cx="138600" cy="120960"/>
                </a:xfrm>
              </p:grpSpPr>
              <p:sp>
                <p:nvSpPr>
                  <p:cNvPr id="12209" name=""/>
                  <p:cNvSpPr/>
                  <p:nvPr/>
                </p:nvSpPr>
                <p:spPr>
                  <a:xfrm rot="15198000">
                    <a:off x="4371120" y="2604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0" name=""/>
                  <p:cNvSpPr/>
                  <p:nvPr/>
                </p:nvSpPr>
                <p:spPr>
                  <a:xfrm flipH="1">
                    <a:off x="4404600" y="26089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1" name=""/>
                  <p:cNvSpPr/>
                  <p:nvPr/>
                </p:nvSpPr>
                <p:spPr>
                  <a:xfrm flipH="1">
                    <a:off x="4419000" y="26337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2" name=""/>
                  <p:cNvSpPr/>
                  <p:nvPr/>
                </p:nvSpPr>
                <p:spPr>
                  <a:xfrm>
                    <a:off x="4427640" y="26539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3" name=""/>
                  <p:cNvSpPr/>
                  <p:nvPr/>
                </p:nvSpPr>
                <p:spPr>
                  <a:xfrm flipH="1">
                    <a:off x="4406040" y="26643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14" name=""/>
                <p:cNvGrpSpPr/>
                <p:nvPr/>
              </p:nvGrpSpPr>
              <p:grpSpPr>
                <a:xfrm>
                  <a:off x="4254840" y="2574360"/>
                  <a:ext cx="147240" cy="138240"/>
                  <a:chOff x="4254840" y="2574360"/>
                  <a:chExt cx="147240" cy="138240"/>
                </a:xfrm>
              </p:grpSpPr>
              <p:sp>
                <p:nvSpPr>
                  <p:cNvPr id="12215" name=""/>
                  <p:cNvSpPr/>
                  <p:nvPr/>
                </p:nvSpPr>
                <p:spPr>
                  <a:xfrm rot="14358600">
                    <a:off x="4282920" y="25848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6" name=""/>
                  <p:cNvSpPr/>
                  <p:nvPr/>
                </p:nvSpPr>
                <p:spPr>
                  <a:xfrm flipH="1">
                    <a:off x="4322160" y="25815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7" name=""/>
                  <p:cNvSpPr/>
                  <p:nvPr/>
                </p:nvSpPr>
                <p:spPr>
                  <a:xfrm flipH="1">
                    <a:off x="4325760" y="26103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8" name=""/>
                  <p:cNvSpPr/>
                  <p:nvPr/>
                </p:nvSpPr>
                <p:spPr>
                  <a:xfrm>
                    <a:off x="4336920" y="26312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9" name=""/>
                  <p:cNvSpPr/>
                  <p:nvPr/>
                </p:nvSpPr>
                <p:spPr>
                  <a:xfrm flipH="1">
                    <a:off x="4320360" y="26445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20" name=""/>
                <p:cNvGrpSpPr/>
                <p:nvPr/>
              </p:nvGrpSpPr>
              <p:grpSpPr>
                <a:xfrm>
                  <a:off x="4074120" y="2411640"/>
                  <a:ext cx="122400" cy="97560"/>
                  <a:chOff x="4074120" y="2411640"/>
                  <a:chExt cx="122400" cy="97560"/>
                </a:xfrm>
              </p:grpSpPr>
              <p:sp>
                <p:nvSpPr>
                  <p:cNvPr id="12221" name=""/>
                  <p:cNvSpPr/>
                  <p:nvPr/>
                </p:nvSpPr>
                <p:spPr>
                  <a:xfrm rot="16010400">
                    <a:off x="4089600" y="2401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2" name=""/>
                  <p:cNvSpPr/>
                  <p:nvPr/>
                </p:nvSpPr>
                <p:spPr>
                  <a:xfrm flipH="1">
                    <a:off x="4118400" y="24156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3" name=""/>
                  <p:cNvSpPr/>
                  <p:nvPr/>
                </p:nvSpPr>
                <p:spPr>
                  <a:xfrm flipH="1">
                    <a:off x="4142160" y="24350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4" name=""/>
                  <p:cNvSpPr/>
                  <p:nvPr/>
                </p:nvSpPr>
                <p:spPr>
                  <a:xfrm flipH="1">
                    <a:off x="4144320" y="24534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5" name=""/>
                  <p:cNvSpPr/>
                  <p:nvPr/>
                </p:nvSpPr>
                <p:spPr>
                  <a:xfrm flipH="1">
                    <a:off x="4122720" y="24602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26" name=""/>
                <p:cNvGrpSpPr/>
                <p:nvPr/>
              </p:nvGrpSpPr>
              <p:grpSpPr>
                <a:xfrm>
                  <a:off x="4080960" y="2477520"/>
                  <a:ext cx="142920" cy="128520"/>
                  <a:chOff x="4080960" y="2477520"/>
                  <a:chExt cx="142920" cy="128520"/>
                </a:xfrm>
              </p:grpSpPr>
              <p:sp>
                <p:nvSpPr>
                  <p:cNvPr id="12227" name=""/>
                  <p:cNvSpPr/>
                  <p:nvPr/>
                </p:nvSpPr>
                <p:spPr>
                  <a:xfrm rot="14881800">
                    <a:off x="4106880" y="248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8" name=""/>
                  <p:cNvSpPr/>
                  <p:nvPr/>
                </p:nvSpPr>
                <p:spPr>
                  <a:xfrm flipH="1">
                    <a:off x="4142520" y="24840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9" name=""/>
                  <p:cNvSpPr/>
                  <p:nvPr/>
                </p:nvSpPr>
                <p:spPr>
                  <a:xfrm flipH="1">
                    <a:off x="4152960" y="25106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0" name=""/>
                  <p:cNvSpPr/>
                  <p:nvPr/>
                </p:nvSpPr>
                <p:spPr>
                  <a:xfrm>
                    <a:off x="4162680" y="25308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1" name=""/>
                  <p:cNvSpPr/>
                  <p:nvPr/>
                </p:nvSpPr>
                <p:spPr>
                  <a:xfrm flipH="1">
                    <a:off x="4142520" y="25426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2" name=""/>
                <p:cNvGrpSpPr/>
                <p:nvPr/>
              </p:nvGrpSpPr>
              <p:grpSpPr>
                <a:xfrm>
                  <a:off x="4173120" y="2463480"/>
                  <a:ext cx="135000" cy="115560"/>
                  <a:chOff x="4173120" y="2463480"/>
                  <a:chExt cx="135000" cy="115560"/>
                </a:xfrm>
              </p:grpSpPr>
              <p:sp>
                <p:nvSpPr>
                  <p:cNvPr id="12233" name=""/>
                  <p:cNvSpPr/>
                  <p:nvPr/>
                </p:nvSpPr>
                <p:spPr>
                  <a:xfrm rot="15401400">
                    <a:off x="4194720" y="24624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4" name=""/>
                  <p:cNvSpPr/>
                  <p:nvPr/>
                </p:nvSpPr>
                <p:spPr>
                  <a:xfrm flipH="1">
                    <a:off x="4227480" y="24685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5" name=""/>
                  <p:cNvSpPr/>
                  <p:nvPr/>
                </p:nvSpPr>
                <p:spPr>
                  <a:xfrm flipH="1">
                    <a:off x="4244040" y="24922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6" name=""/>
                  <p:cNvSpPr/>
                  <p:nvPr/>
                </p:nvSpPr>
                <p:spPr>
                  <a:xfrm flipH="1">
                    <a:off x="4251600" y="25120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7" name=""/>
                  <p:cNvSpPr/>
                  <p:nvPr/>
                </p:nvSpPr>
                <p:spPr>
                  <a:xfrm flipH="1">
                    <a:off x="4229280" y="25218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8" name=""/>
                <p:cNvGrpSpPr/>
                <p:nvPr/>
              </p:nvGrpSpPr>
              <p:grpSpPr>
                <a:xfrm>
                  <a:off x="4138200" y="2321640"/>
                  <a:ext cx="135000" cy="115200"/>
                  <a:chOff x="4138200" y="2321640"/>
                  <a:chExt cx="135000" cy="115200"/>
                </a:xfrm>
              </p:grpSpPr>
              <p:sp>
                <p:nvSpPr>
                  <p:cNvPr id="12239" name=""/>
                  <p:cNvSpPr/>
                  <p:nvPr/>
                </p:nvSpPr>
                <p:spPr>
                  <a:xfrm rot="16985400">
                    <a:off x="4159800" y="2320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0" name=""/>
                  <p:cNvSpPr/>
                  <p:nvPr/>
                </p:nvSpPr>
                <p:spPr>
                  <a:xfrm flipH="1">
                    <a:off x="4183920" y="23490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1" name=""/>
                  <p:cNvSpPr/>
                  <p:nvPr/>
                </p:nvSpPr>
                <p:spPr>
                  <a:xfrm flipH="1">
                    <a:off x="4217400" y="23605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2" name=""/>
                  <p:cNvSpPr/>
                  <p:nvPr/>
                </p:nvSpPr>
                <p:spPr>
                  <a:xfrm flipH="1">
                    <a:off x="4210920" y="23760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3" name=""/>
                  <p:cNvSpPr/>
                  <p:nvPr/>
                </p:nvSpPr>
                <p:spPr>
                  <a:xfrm flipH="1">
                    <a:off x="4191840" y="23781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44" name=""/>
                <p:cNvGrpSpPr/>
                <p:nvPr/>
              </p:nvGrpSpPr>
              <p:grpSpPr>
                <a:xfrm>
                  <a:off x="4322880" y="2345400"/>
                  <a:ext cx="150120" cy="153360"/>
                  <a:chOff x="4322880" y="2345400"/>
                  <a:chExt cx="150120" cy="153360"/>
                </a:xfrm>
              </p:grpSpPr>
              <p:sp>
                <p:nvSpPr>
                  <p:cNvPr id="12245" name=""/>
                  <p:cNvSpPr/>
                  <p:nvPr/>
                </p:nvSpPr>
                <p:spPr>
                  <a:xfrm rot="19036200">
                    <a:off x="4358160" y="2354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6" name=""/>
                  <p:cNvSpPr/>
                  <p:nvPr/>
                </p:nvSpPr>
                <p:spPr>
                  <a:xfrm flipH="1" flipV="1">
                    <a:off x="4372560" y="24170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7" name=""/>
                  <p:cNvSpPr/>
                  <p:nvPr/>
                </p:nvSpPr>
                <p:spPr>
                  <a:xfrm flipH="1" flipV="1">
                    <a:off x="4416120" y="24177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8" name=""/>
                  <p:cNvSpPr/>
                  <p:nvPr/>
                </p:nvSpPr>
                <p:spPr>
                  <a:xfrm flipH="1">
                    <a:off x="4396320" y="2429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9" name=""/>
                  <p:cNvSpPr/>
                  <p:nvPr/>
                </p:nvSpPr>
                <p:spPr>
                  <a:xfrm flipH="1" flipV="1">
                    <a:off x="4384440" y="24141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0" name=""/>
                <p:cNvGrpSpPr/>
                <p:nvPr/>
              </p:nvGrpSpPr>
              <p:grpSpPr>
                <a:xfrm>
                  <a:off x="4487760" y="2276280"/>
                  <a:ext cx="140760" cy="124920"/>
                  <a:chOff x="4487760" y="2276280"/>
                  <a:chExt cx="140760" cy="124920"/>
                </a:xfrm>
              </p:grpSpPr>
              <p:sp>
                <p:nvSpPr>
                  <p:cNvPr id="12251" name=""/>
                  <p:cNvSpPr/>
                  <p:nvPr/>
                </p:nvSpPr>
                <p:spPr>
                  <a:xfrm rot="4233000">
                    <a:off x="4512240" y="2279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2" name=""/>
                  <p:cNvSpPr/>
                  <p:nvPr/>
                </p:nvSpPr>
                <p:spPr>
                  <a:xfrm flipV="1">
                    <a:off x="4525200" y="23158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3" name=""/>
                  <p:cNvSpPr/>
                  <p:nvPr/>
                </p:nvSpPr>
                <p:spPr>
                  <a:xfrm flipV="1">
                    <a:off x="4543920" y="23587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4" name=""/>
                  <p:cNvSpPr/>
                  <p:nvPr/>
                </p:nvSpPr>
                <p:spPr>
                  <a:xfrm flipH="1" flipV="1">
                    <a:off x="4546440" y="23302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5" name=""/>
                  <p:cNvSpPr/>
                  <p:nvPr/>
                </p:nvSpPr>
                <p:spPr>
                  <a:xfrm flipV="1">
                    <a:off x="4560480" y="23292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6" name=""/>
                <p:cNvGrpSpPr/>
                <p:nvPr/>
              </p:nvGrpSpPr>
              <p:grpSpPr>
                <a:xfrm>
                  <a:off x="4558680" y="2379240"/>
                  <a:ext cx="139320" cy="122040"/>
                  <a:chOff x="4558680" y="2379240"/>
                  <a:chExt cx="139320" cy="122040"/>
                </a:xfrm>
              </p:grpSpPr>
              <p:sp>
                <p:nvSpPr>
                  <p:cNvPr id="12257" name=""/>
                  <p:cNvSpPr/>
                  <p:nvPr/>
                </p:nvSpPr>
                <p:spPr>
                  <a:xfrm rot="4353000">
                    <a:off x="4582440" y="23814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8" name=""/>
                  <p:cNvSpPr/>
                  <p:nvPr/>
                </p:nvSpPr>
                <p:spPr>
                  <a:xfrm flipV="1">
                    <a:off x="4593600" y="24177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9" name=""/>
                  <p:cNvSpPr/>
                  <p:nvPr/>
                </p:nvSpPr>
                <p:spPr>
                  <a:xfrm flipV="1">
                    <a:off x="4613040" y="24602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0" name=""/>
                  <p:cNvSpPr/>
                  <p:nvPr/>
                </p:nvSpPr>
                <p:spPr>
                  <a:xfrm flipH="1" flipV="1">
                    <a:off x="4616640" y="24314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1" name=""/>
                  <p:cNvSpPr/>
                  <p:nvPr/>
                </p:nvSpPr>
                <p:spPr>
                  <a:xfrm flipV="1">
                    <a:off x="4630680" y="24310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2" name=""/>
                <p:cNvGrpSpPr/>
                <p:nvPr/>
              </p:nvGrpSpPr>
              <p:grpSpPr>
                <a:xfrm>
                  <a:off x="4326840" y="2486160"/>
                  <a:ext cx="142200" cy="156600"/>
                  <a:chOff x="4326840" y="2486160"/>
                  <a:chExt cx="142200" cy="156600"/>
                </a:xfrm>
              </p:grpSpPr>
              <p:sp>
                <p:nvSpPr>
                  <p:cNvPr id="12263" name=""/>
                  <p:cNvSpPr/>
                  <p:nvPr/>
                </p:nvSpPr>
                <p:spPr>
                  <a:xfrm rot="19525800">
                    <a:off x="4358160" y="24966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4" name=""/>
                  <p:cNvSpPr/>
                  <p:nvPr/>
                </p:nvSpPr>
                <p:spPr>
                  <a:xfrm flipH="1" flipV="1">
                    <a:off x="4373280" y="25560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5" name=""/>
                  <p:cNvSpPr/>
                  <p:nvPr/>
                </p:nvSpPr>
                <p:spPr>
                  <a:xfrm flipH="1" flipV="1">
                    <a:off x="4416480" y="25632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6" name=""/>
                  <p:cNvSpPr/>
                  <p:nvPr/>
                </p:nvSpPr>
                <p:spPr>
                  <a:xfrm flipH="1">
                    <a:off x="4394520" y="25740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7" name=""/>
                  <p:cNvSpPr/>
                  <p:nvPr/>
                </p:nvSpPr>
                <p:spPr>
                  <a:xfrm flipH="1" flipV="1">
                    <a:off x="4385520" y="25549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68" name=""/>
                <p:cNvGrpSpPr/>
                <p:nvPr/>
              </p:nvGrpSpPr>
              <p:grpSpPr>
                <a:xfrm>
                  <a:off x="4184640" y="2468160"/>
                  <a:ext cx="147600" cy="147240"/>
                  <a:chOff x="4184640" y="2468160"/>
                  <a:chExt cx="147600" cy="147240"/>
                </a:xfrm>
              </p:grpSpPr>
              <p:sp>
                <p:nvSpPr>
                  <p:cNvPr id="12269" name=""/>
                  <p:cNvSpPr/>
                  <p:nvPr/>
                </p:nvSpPr>
                <p:spPr>
                  <a:xfrm rot="18890400">
                    <a:off x="4212720" y="248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0" name=""/>
                  <p:cNvSpPr/>
                  <p:nvPr/>
                </p:nvSpPr>
                <p:spPr>
                  <a:xfrm flipH="1" flipV="1">
                    <a:off x="4232880" y="25416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1" name=""/>
                  <p:cNvSpPr/>
                  <p:nvPr/>
                </p:nvSpPr>
                <p:spPr>
                  <a:xfrm flipH="1" flipV="1">
                    <a:off x="4276800" y="25344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2" name=""/>
                  <p:cNvSpPr/>
                  <p:nvPr/>
                </p:nvSpPr>
                <p:spPr>
                  <a:xfrm flipH="1">
                    <a:off x="4255920" y="25466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3" name=""/>
                  <p:cNvSpPr/>
                  <p:nvPr/>
                </p:nvSpPr>
                <p:spPr>
                  <a:xfrm flipH="1" flipV="1">
                    <a:off x="4245120" y="25365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74" name=""/>
                <p:cNvGrpSpPr/>
                <p:nvPr/>
              </p:nvGrpSpPr>
              <p:grpSpPr>
                <a:xfrm>
                  <a:off x="4061520" y="2387160"/>
                  <a:ext cx="147960" cy="146520"/>
                  <a:chOff x="4061520" y="2387160"/>
                  <a:chExt cx="147960" cy="146520"/>
                </a:xfrm>
              </p:grpSpPr>
              <p:sp>
                <p:nvSpPr>
                  <p:cNvPr id="12275" name=""/>
                  <p:cNvSpPr/>
                  <p:nvPr/>
                </p:nvSpPr>
                <p:spPr>
                  <a:xfrm rot="18730200">
                    <a:off x="4089960" y="2401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6" name=""/>
                  <p:cNvSpPr/>
                  <p:nvPr/>
                </p:nvSpPr>
                <p:spPr>
                  <a:xfrm flipH="1" flipV="1">
                    <a:off x="4110120" y="24616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7" name=""/>
                  <p:cNvSpPr/>
                  <p:nvPr/>
                </p:nvSpPr>
                <p:spPr>
                  <a:xfrm flipH="1" flipV="1">
                    <a:off x="4153680" y="24519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8" name=""/>
                  <p:cNvSpPr/>
                  <p:nvPr/>
                </p:nvSpPr>
                <p:spPr>
                  <a:xfrm flipH="1">
                    <a:off x="4133880" y="24645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9" name=""/>
                  <p:cNvSpPr/>
                  <p:nvPr/>
                </p:nvSpPr>
                <p:spPr>
                  <a:xfrm flipH="1" flipV="1">
                    <a:off x="4122000" y="24559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0" name=""/>
                <p:cNvGrpSpPr/>
                <p:nvPr/>
              </p:nvGrpSpPr>
              <p:grpSpPr>
                <a:xfrm>
                  <a:off x="4043520" y="2303280"/>
                  <a:ext cx="145080" cy="155880"/>
                  <a:chOff x="4043520" y="2303280"/>
                  <a:chExt cx="145080" cy="155880"/>
                </a:xfrm>
              </p:grpSpPr>
              <p:sp>
                <p:nvSpPr>
                  <p:cNvPr id="12281" name=""/>
                  <p:cNvSpPr/>
                  <p:nvPr/>
                </p:nvSpPr>
                <p:spPr>
                  <a:xfrm rot="19362600">
                    <a:off x="4076280" y="23133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2" name=""/>
                  <p:cNvSpPr/>
                  <p:nvPr/>
                </p:nvSpPr>
                <p:spPr>
                  <a:xfrm flipH="1" flipV="1">
                    <a:off x="4091400" y="23742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3" name=""/>
                  <p:cNvSpPr/>
                  <p:nvPr/>
                </p:nvSpPr>
                <p:spPr>
                  <a:xfrm flipH="1" flipV="1">
                    <a:off x="4134600" y="23792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4" name=""/>
                  <p:cNvSpPr/>
                  <p:nvPr/>
                </p:nvSpPr>
                <p:spPr>
                  <a:xfrm flipH="1">
                    <a:off x="4113360" y="23904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5" name=""/>
                  <p:cNvSpPr/>
                  <p:nvPr/>
                </p:nvSpPr>
                <p:spPr>
                  <a:xfrm flipH="1" flipV="1">
                    <a:off x="4103280" y="23724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6" name=""/>
              <p:cNvGrpSpPr/>
              <p:nvPr/>
            </p:nvGrpSpPr>
            <p:grpSpPr>
              <a:xfrm>
                <a:off x="4588560" y="2180880"/>
                <a:ext cx="654480" cy="543600"/>
                <a:chOff x="4588560" y="2180880"/>
                <a:chExt cx="654480" cy="543600"/>
              </a:xfrm>
            </p:grpSpPr>
            <p:grpSp>
              <p:nvGrpSpPr>
                <p:cNvPr id="12287" name=""/>
                <p:cNvGrpSpPr/>
                <p:nvPr/>
              </p:nvGrpSpPr>
              <p:grpSpPr>
                <a:xfrm>
                  <a:off x="4853880" y="2251800"/>
                  <a:ext cx="145800" cy="133920"/>
                  <a:chOff x="4853880" y="2251800"/>
                  <a:chExt cx="145800" cy="133920"/>
                </a:xfrm>
              </p:grpSpPr>
              <p:sp>
                <p:nvSpPr>
                  <p:cNvPr id="12288" name=""/>
                  <p:cNvSpPr/>
                  <p:nvPr/>
                </p:nvSpPr>
                <p:spPr>
                  <a:xfrm rot="3815400">
                    <a:off x="4880880" y="2259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9" name=""/>
                  <p:cNvSpPr/>
                  <p:nvPr/>
                </p:nvSpPr>
                <p:spPr>
                  <a:xfrm flipV="1">
                    <a:off x="4901040" y="22946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0" name=""/>
                  <p:cNvSpPr/>
                  <p:nvPr/>
                </p:nvSpPr>
                <p:spPr>
                  <a:xfrm flipV="1">
                    <a:off x="4916520" y="23385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1" name=""/>
                  <p:cNvSpPr/>
                  <p:nvPr/>
                </p:nvSpPr>
                <p:spPr>
                  <a:xfrm flipH="1" flipV="1">
                    <a:off x="4914000" y="23119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2" name=""/>
                  <p:cNvSpPr/>
                  <p:nvPr/>
                </p:nvSpPr>
                <p:spPr>
                  <a:xfrm flipV="1">
                    <a:off x="4929120" y="23079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93" name=""/>
                <p:cNvSpPr/>
                <p:nvPr/>
              </p:nvSpPr>
              <p:spPr>
                <a:xfrm flipH="1">
                  <a:off x="4849920" y="25167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4" name=""/>
                <p:cNvSpPr/>
                <p:nvPr/>
              </p:nvSpPr>
              <p:spPr>
                <a:xfrm>
                  <a:off x="4727160" y="24152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5" name=""/>
                <p:cNvSpPr/>
                <p:nvPr/>
              </p:nvSpPr>
              <p:spPr>
                <a:xfrm flipH="1" flipV="1">
                  <a:off x="4832640" y="23137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6" name=""/>
                <p:cNvSpPr/>
                <p:nvPr/>
              </p:nvSpPr>
              <p:spPr>
                <a:xfrm flipH="1" flipV="1">
                  <a:off x="5044320" y="24152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7" name=""/>
                <p:cNvSpPr/>
                <p:nvPr/>
              </p:nvSpPr>
              <p:spPr>
                <a:xfrm flipH="1">
                  <a:off x="4902840" y="25372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8" name=""/>
                <p:cNvSpPr/>
                <p:nvPr/>
              </p:nvSpPr>
              <p:spPr>
                <a:xfrm flipH="1" flipV="1">
                  <a:off x="4938120" y="24962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9" name=""/>
                <p:cNvSpPr/>
                <p:nvPr/>
              </p:nvSpPr>
              <p:spPr>
                <a:xfrm flipH="1" flipV="1">
                  <a:off x="4797360" y="23335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0" name=""/>
                <p:cNvSpPr/>
                <p:nvPr/>
              </p:nvSpPr>
              <p:spPr>
                <a:xfrm flipV="1">
                  <a:off x="4885200" y="23536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1" name=""/>
                <p:cNvSpPr/>
                <p:nvPr/>
              </p:nvSpPr>
              <p:spPr>
                <a:xfrm flipH="1">
                  <a:off x="4744440" y="24357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2" name=""/>
                <p:cNvSpPr/>
                <p:nvPr/>
              </p:nvSpPr>
              <p:spPr>
                <a:xfrm flipH="1" flipV="1">
                  <a:off x="4973040" y="24357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3" name=""/>
                <p:cNvSpPr/>
                <p:nvPr/>
              </p:nvSpPr>
              <p:spPr>
                <a:xfrm flipH="1" flipV="1">
                  <a:off x="5008680" y="24357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4" name=""/>
                <p:cNvSpPr/>
                <p:nvPr/>
              </p:nvSpPr>
              <p:spPr>
                <a:xfrm flipV="1">
                  <a:off x="5114520" y="24962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5" name=""/>
                <p:cNvSpPr/>
                <p:nvPr/>
              </p:nvSpPr>
              <p:spPr>
                <a:xfrm flipV="1">
                  <a:off x="5061600" y="23943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6" name=""/>
                <p:cNvSpPr/>
                <p:nvPr/>
              </p:nvSpPr>
              <p:spPr>
                <a:xfrm flipH="1">
                  <a:off x="5008320" y="25776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7" name=""/>
                <p:cNvSpPr/>
                <p:nvPr/>
              </p:nvSpPr>
              <p:spPr>
                <a:xfrm flipH="1">
                  <a:off x="4815000" y="24559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8" name=""/>
                <p:cNvSpPr/>
                <p:nvPr/>
              </p:nvSpPr>
              <p:spPr>
                <a:xfrm flipH="1" flipV="1">
                  <a:off x="4744080" y="23749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09" name=""/>
                <p:cNvGrpSpPr/>
                <p:nvPr/>
              </p:nvGrpSpPr>
              <p:grpSpPr>
                <a:xfrm>
                  <a:off x="4769280" y="2180880"/>
                  <a:ext cx="135000" cy="156960"/>
                  <a:chOff x="4769280" y="2180880"/>
                  <a:chExt cx="135000" cy="156960"/>
                </a:xfrm>
              </p:grpSpPr>
              <p:sp>
                <p:nvSpPr>
                  <p:cNvPr id="12310" name=""/>
                  <p:cNvSpPr/>
                  <p:nvPr/>
                </p:nvSpPr>
                <p:spPr>
                  <a:xfrm rot="1745400">
                    <a:off x="4797000" y="21913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1" name=""/>
                  <p:cNvSpPr/>
                  <p:nvPr/>
                </p:nvSpPr>
                <p:spPr>
                  <a:xfrm flipH="1" flipV="1">
                    <a:off x="4833360" y="22338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2" name=""/>
                  <p:cNvSpPr/>
                  <p:nvPr/>
                </p:nvSpPr>
                <p:spPr>
                  <a:xfrm flipV="1">
                    <a:off x="4842000" y="22755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3" name=""/>
                  <p:cNvSpPr/>
                  <p:nvPr/>
                </p:nvSpPr>
                <p:spPr>
                  <a:xfrm flipH="1" flipV="1">
                    <a:off x="4823280" y="22626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4" name=""/>
                  <p:cNvSpPr/>
                  <p:nvPr/>
                </p:nvSpPr>
                <p:spPr>
                  <a:xfrm flipV="1">
                    <a:off x="4838760" y="22442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5" name=""/>
                <p:cNvGrpSpPr/>
                <p:nvPr/>
              </p:nvGrpSpPr>
              <p:grpSpPr>
                <a:xfrm>
                  <a:off x="4826520" y="2384640"/>
                  <a:ext cx="126720" cy="156240"/>
                  <a:chOff x="4826520" y="2384640"/>
                  <a:chExt cx="126720" cy="156240"/>
                </a:xfrm>
              </p:grpSpPr>
              <p:sp>
                <p:nvSpPr>
                  <p:cNvPr id="12316" name=""/>
                  <p:cNvSpPr/>
                  <p:nvPr/>
                </p:nvSpPr>
                <p:spPr>
                  <a:xfrm rot="20187000">
                    <a:off x="4850280" y="2394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7" name=""/>
                  <p:cNvSpPr/>
                  <p:nvPr/>
                </p:nvSpPr>
                <p:spPr>
                  <a:xfrm flipH="1" flipV="1">
                    <a:off x="4867560" y="24498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8" name=""/>
                  <p:cNvSpPr/>
                  <p:nvPr/>
                </p:nvSpPr>
                <p:spPr>
                  <a:xfrm flipH="1" flipV="1">
                    <a:off x="4908600" y="24649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9" name=""/>
                  <p:cNvSpPr/>
                  <p:nvPr/>
                </p:nvSpPr>
                <p:spPr>
                  <a:xfrm flipH="1">
                    <a:off x="4884120" y="24746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0" name=""/>
                  <p:cNvSpPr/>
                  <p:nvPr/>
                </p:nvSpPr>
                <p:spPr>
                  <a:xfrm flipH="1" flipV="1">
                    <a:off x="4879800" y="24508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1" name=""/>
                <p:cNvGrpSpPr/>
                <p:nvPr/>
              </p:nvGrpSpPr>
              <p:grpSpPr>
                <a:xfrm>
                  <a:off x="4903200" y="2313720"/>
                  <a:ext cx="79200" cy="135720"/>
                  <a:chOff x="4903200" y="2313720"/>
                  <a:chExt cx="79200" cy="135720"/>
                </a:xfrm>
              </p:grpSpPr>
              <p:sp>
                <p:nvSpPr>
                  <p:cNvPr id="12322" name=""/>
                  <p:cNvSpPr/>
                  <p:nvPr/>
                </p:nvSpPr>
                <p:spPr>
                  <a:xfrm>
                    <a:off x="4903200" y="2313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3" name=""/>
                  <p:cNvSpPr/>
                  <p:nvPr/>
                </p:nvSpPr>
                <p:spPr>
                  <a:xfrm flipH="1" flipV="1">
                    <a:off x="4927320" y="23608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4" name=""/>
                  <p:cNvSpPr/>
                  <p:nvPr/>
                </p:nvSpPr>
                <p:spPr>
                  <a:xfrm flipH="1" flipV="1">
                    <a:off x="4959000" y="23911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5" name=""/>
                  <p:cNvSpPr/>
                  <p:nvPr/>
                </p:nvSpPr>
                <p:spPr>
                  <a:xfrm flipH="1" flipV="1">
                    <a:off x="4932360" y="2390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6" name=""/>
                  <p:cNvSpPr/>
                  <p:nvPr/>
                </p:nvSpPr>
                <p:spPr>
                  <a:xfrm flipH="1" flipV="1">
                    <a:off x="4938120" y="2366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27" name=""/>
                <p:cNvGrpSpPr/>
                <p:nvPr/>
              </p:nvGrpSpPr>
              <p:grpSpPr>
                <a:xfrm>
                  <a:off x="4739040" y="2549880"/>
                  <a:ext cx="127800" cy="105120"/>
                  <a:chOff x="4739040" y="2549880"/>
                  <a:chExt cx="127800" cy="105120"/>
                </a:xfrm>
              </p:grpSpPr>
              <p:sp>
                <p:nvSpPr>
                  <p:cNvPr id="12328" name=""/>
                  <p:cNvSpPr/>
                  <p:nvPr/>
                </p:nvSpPr>
                <p:spPr>
                  <a:xfrm rot="15769200">
                    <a:off x="4757400" y="2543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9" name=""/>
                  <p:cNvSpPr/>
                  <p:nvPr/>
                </p:nvSpPr>
                <p:spPr>
                  <a:xfrm flipH="1">
                    <a:off x="4787640" y="25545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0" name=""/>
                  <p:cNvSpPr/>
                  <p:nvPr/>
                </p:nvSpPr>
                <p:spPr>
                  <a:xfrm flipH="1">
                    <a:off x="4808520" y="25754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1" name=""/>
                  <p:cNvSpPr/>
                  <p:nvPr/>
                </p:nvSpPr>
                <p:spPr>
                  <a:xfrm flipH="1">
                    <a:off x="4812840" y="25948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2" name=""/>
                  <p:cNvSpPr/>
                  <p:nvPr/>
                </p:nvSpPr>
                <p:spPr>
                  <a:xfrm flipH="1">
                    <a:off x="4790880" y="26028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3" name=""/>
                <p:cNvGrpSpPr/>
                <p:nvPr/>
              </p:nvGrpSpPr>
              <p:grpSpPr>
                <a:xfrm>
                  <a:off x="4674240" y="2252880"/>
                  <a:ext cx="79200" cy="135720"/>
                  <a:chOff x="4674240" y="2252880"/>
                  <a:chExt cx="79200" cy="135720"/>
                </a:xfrm>
              </p:grpSpPr>
              <p:sp>
                <p:nvSpPr>
                  <p:cNvPr id="12334" name=""/>
                  <p:cNvSpPr/>
                  <p:nvPr/>
                </p:nvSpPr>
                <p:spPr>
                  <a:xfrm>
                    <a:off x="4674240" y="22528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5" name=""/>
                  <p:cNvSpPr/>
                  <p:nvPr/>
                </p:nvSpPr>
                <p:spPr>
                  <a:xfrm flipH="1" flipV="1">
                    <a:off x="4698360" y="23000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6" name=""/>
                  <p:cNvSpPr/>
                  <p:nvPr/>
                </p:nvSpPr>
                <p:spPr>
                  <a:xfrm flipH="1" flipV="1">
                    <a:off x="4730040" y="23302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7" name=""/>
                  <p:cNvSpPr/>
                  <p:nvPr/>
                </p:nvSpPr>
                <p:spPr>
                  <a:xfrm flipH="1" flipV="1">
                    <a:off x="4703400" y="23299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8" name=""/>
                  <p:cNvSpPr/>
                  <p:nvPr/>
                </p:nvSpPr>
                <p:spPr>
                  <a:xfrm flipH="1" flipV="1">
                    <a:off x="4709160" y="23058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39" name=""/>
                <p:cNvGrpSpPr/>
                <p:nvPr/>
              </p:nvGrpSpPr>
              <p:grpSpPr>
                <a:xfrm>
                  <a:off x="4973400" y="2293200"/>
                  <a:ext cx="79200" cy="135720"/>
                  <a:chOff x="4973400" y="2293200"/>
                  <a:chExt cx="79200" cy="135720"/>
                </a:xfrm>
              </p:grpSpPr>
              <p:sp>
                <p:nvSpPr>
                  <p:cNvPr id="12340" name=""/>
                  <p:cNvSpPr/>
                  <p:nvPr/>
                </p:nvSpPr>
                <p:spPr>
                  <a:xfrm>
                    <a:off x="4973400" y="22932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1" name=""/>
                  <p:cNvSpPr/>
                  <p:nvPr/>
                </p:nvSpPr>
                <p:spPr>
                  <a:xfrm flipH="1" flipV="1">
                    <a:off x="4997520" y="23403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2" name=""/>
                  <p:cNvSpPr/>
                  <p:nvPr/>
                </p:nvSpPr>
                <p:spPr>
                  <a:xfrm flipH="1" flipV="1">
                    <a:off x="5029200" y="23706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3" name=""/>
                  <p:cNvSpPr/>
                  <p:nvPr/>
                </p:nvSpPr>
                <p:spPr>
                  <a:xfrm flipH="1" flipV="1">
                    <a:off x="5002560" y="23702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4" name=""/>
                  <p:cNvSpPr/>
                  <p:nvPr/>
                </p:nvSpPr>
                <p:spPr>
                  <a:xfrm flipH="1" flipV="1">
                    <a:off x="5008320" y="23461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45" name=""/>
                <p:cNvGrpSpPr/>
                <p:nvPr/>
              </p:nvGrpSpPr>
              <p:grpSpPr>
                <a:xfrm>
                  <a:off x="4727160" y="2212200"/>
                  <a:ext cx="79200" cy="135720"/>
                  <a:chOff x="4727160" y="2212200"/>
                  <a:chExt cx="79200" cy="135720"/>
                </a:xfrm>
              </p:grpSpPr>
              <p:sp>
                <p:nvSpPr>
                  <p:cNvPr id="12346" name=""/>
                  <p:cNvSpPr/>
                  <p:nvPr/>
                </p:nvSpPr>
                <p:spPr>
                  <a:xfrm>
                    <a:off x="4727160" y="22122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7" name=""/>
                  <p:cNvSpPr/>
                  <p:nvPr/>
                </p:nvSpPr>
                <p:spPr>
                  <a:xfrm flipH="1" flipV="1">
                    <a:off x="4751280" y="22593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8" name=""/>
                  <p:cNvSpPr/>
                  <p:nvPr/>
                </p:nvSpPr>
                <p:spPr>
                  <a:xfrm flipH="1" flipV="1">
                    <a:off x="4782960" y="22896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9" name=""/>
                  <p:cNvSpPr/>
                  <p:nvPr/>
                </p:nvSpPr>
                <p:spPr>
                  <a:xfrm flipH="1" flipV="1">
                    <a:off x="4756320" y="22892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0" name=""/>
                  <p:cNvSpPr/>
                  <p:nvPr/>
                </p:nvSpPr>
                <p:spPr>
                  <a:xfrm flipH="1" flipV="1">
                    <a:off x="4762080" y="22651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1" name=""/>
                <p:cNvGrpSpPr/>
                <p:nvPr/>
              </p:nvGrpSpPr>
              <p:grpSpPr>
                <a:xfrm>
                  <a:off x="4892400" y="2603520"/>
                  <a:ext cx="138600" cy="120960"/>
                  <a:chOff x="4892400" y="2603520"/>
                  <a:chExt cx="138600" cy="120960"/>
                </a:xfrm>
              </p:grpSpPr>
              <p:sp>
                <p:nvSpPr>
                  <p:cNvPr id="12352" name=""/>
                  <p:cNvSpPr/>
                  <p:nvPr/>
                </p:nvSpPr>
                <p:spPr>
                  <a:xfrm rot="15198000">
                    <a:off x="4916160" y="2604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3" name=""/>
                  <p:cNvSpPr/>
                  <p:nvPr/>
                </p:nvSpPr>
                <p:spPr>
                  <a:xfrm flipH="1">
                    <a:off x="4949640" y="26089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4" name=""/>
                  <p:cNvSpPr/>
                  <p:nvPr/>
                </p:nvSpPr>
                <p:spPr>
                  <a:xfrm flipH="1">
                    <a:off x="4964040" y="26337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5" name=""/>
                  <p:cNvSpPr/>
                  <p:nvPr/>
                </p:nvSpPr>
                <p:spPr>
                  <a:xfrm>
                    <a:off x="4972680" y="26539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6" name=""/>
                  <p:cNvSpPr/>
                  <p:nvPr/>
                </p:nvSpPr>
                <p:spPr>
                  <a:xfrm flipH="1">
                    <a:off x="4951080" y="26643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57" name=""/>
                <p:cNvGrpSpPr/>
                <p:nvPr/>
              </p:nvGrpSpPr>
              <p:grpSpPr>
                <a:xfrm>
                  <a:off x="4799880" y="2574360"/>
                  <a:ext cx="147240" cy="138240"/>
                  <a:chOff x="4799880" y="2574360"/>
                  <a:chExt cx="147240" cy="138240"/>
                </a:xfrm>
              </p:grpSpPr>
              <p:sp>
                <p:nvSpPr>
                  <p:cNvPr id="12358" name=""/>
                  <p:cNvSpPr/>
                  <p:nvPr/>
                </p:nvSpPr>
                <p:spPr>
                  <a:xfrm rot="14358600">
                    <a:off x="4827960" y="25848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9" name=""/>
                  <p:cNvSpPr/>
                  <p:nvPr/>
                </p:nvSpPr>
                <p:spPr>
                  <a:xfrm flipH="1">
                    <a:off x="4867200" y="25815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0" name=""/>
                  <p:cNvSpPr/>
                  <p:nvPr/>
                </p:nvSpPr>
                <p:spPr>
                  <a:xfrm flipH="1">
                    <a:off x="4870800" y="26103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1" name=""/>
                  <p:cNvSpPr/>
                  <p:nvPr/>
                </p:nvSpPr>
                <p:spPr>
                  <a:xfrm>
                    <a:off x="4881960" y="26312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2" name=""/>
                  <p:cNvSpPr/>
                  <p:nvPr/>
                </p:nvSpPr>
                <p:spPr>
                  <a:xfrm flipH="1">
                    <a:off x="4865400" y="26445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63" name=""/>
                <p:cNvGrpSpPr/>
                <p:nvPr/>
              </p:nvGrpSpPr>
              <p:grpSpPr>
                <a:xfrm>
                  <a:off x="4619160" y="2411640"/>
                  <a:ext cx="122400" cy="97560"/>
                  <a:chOff x="4619160" y="2411640"/>
                  <a:chExt cx="122400" cy="97560"/>
                </a:xfrm>
              </p:grpSpPr>
              <p:sp>
                <p:nvSpPr>
                  <p:cNvPr id="12364" name=""/>
                  <p:cNvSpPr/>
                  <p:nvPr/>
                </p:nvSpPr>
                <p:spPr>
                  <a:xfrm rot="16010400">
                    <a:off x="4634640" y="2401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5" name=""/>
                  <p:cNvSpPr/>
                  <p:nvPr/>
                </p:nvSpPr>
                <p:spPr>
                  <a:xfrm flipH="1">
                    <a:off x="4663440" y="24156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6" name=""/>
                  <p:cNvSpPr/>
                  <p:nvPr/>
                </p:nvSpPr>
                <p:spPr>
                  <a:xfrm flipH="1">
                    <a:off x="4687200" y="24350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7" name=""/>
                  <p:cNvSpPr/>
                  <p:nvPr/>
                </p:nvSpPr>
                <p:spPr>
                  <a:xfrm flipH="1">
                    <a:off x="4689360" y="24534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8" name=""/>
                  <p:cNvSpPr/>
                  <p:nvPr/>
                </p:nvSpPr>
                <p:spPr>
                  <a:xfrm flipH="1">
                    <a:off x="4667760" y="24602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69" name=""/>
                <p:cNvGrpSpPr/>
                <p:nvPr/>
              </p:nvGrpSpPr>
              <p:grpSpPr>
                <a:xfrm>
                  <a:off x="4626000" y="2477520"/>
                  <a:ext cx="142920" cy="128520"/>
                  <a:chOff x="4626000" y="2477520"/>
                  <a:chExt cx="142920" cy="128520"/>
                </a:xfrm>
              </p:grpSpPr>
              <p:sp>
                <p:nvSpPr>
                  <p:cNvPr id="12370" name=""/>
                  <p:cNvSpPr/>
                  <p:nvPr/>
                </p:nvSpPr>
                <p:spPr>
                  <a:xfrm rot="14881800">
                    <a:off x="4651920" y="248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1" name=""/>
                  <p:cNvSpPr/>
                  <p:nvPr/>
                </p:nvSpPr>
                <p:spPr>
                  <a:xfrm flipH="1">
                    <a:off x="4687560" y="24840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2" name=""/>
                  <p:cNvSpPr/>
                  <p:nvPr/>
                </p:nvSpPr>
                <p:spPr>
                  <a:xfrm flipH="1">
                    <a:off x="4698000" y="25106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3" name=""/>
                  <p:cNvSpPr/>
                  <p:nvPr/>
                </p:nvSpPr>
                <p:spPr>
                  <a:xfrm>
                    <a:off x="4707720" y="25308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4" name=""/>
                  <p:cNvSpPr/>
                  <p:nvPr/>
                </p:nvSpPr>
                <p:spPr>
                  <a:xfrm flipH="1">
                    <a:off x="4687560" y="25426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75" name=""/>
                <p:cNvGrpSpPr/>
                <p:nvPr/>
              </p:nvGrpSpPr>
              <p:grpSpPr>
                <a:xfrm>
                  <a:off x="4718160" y="2463480"/>
                  <a:ext cx="135000" cy="115560"/>
                  <a:chOff x="4718160" y="2463480"/>
                  <a:chExt cx="135000" cy="115560"/>
                </a:xfrm>
              </p:grpSpPr>
              <p:sp>
                <p:nvSpPr>
                  <p:cNvPr id="12376" name=""/>
                  <p:cNvSpPr/>
                  <p:nvPr/>
                </p:nvSpPr>
                <p:spPr>
                  <a:xfrm rot="15401400">
                    <a:off x="4739760" y="24624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7" name=""/>
                  <p:cNvSpPr/>
                  <p:nvPr/>
                </p:nvSpPr>
                <p:spPr>
                  <a:xfrm flipH="1">
                    <a:off x="4772520" y="24685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8" name=""/>
                  <p:cNvSpPr/>
                  <p:nvPr/>
                </p:nvSpPr>
                <p:spPr>
                  <a:xfrm flipH="1">
                    <a:off x="4789080" y="24922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9" name=""/>
                  <p:cNvSpPr/>
                  <p:nvPr/>
                </p:nvSpPr>
                <p:spPr>
                  <a:xfrm flipH="1">
                    <a:off x="4796640" y="25120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0" name=""/>
                  <p:cNvSpPr/>
                  <p:nvPr/>
                </p:nvSpPr>
                <p:spPr>
                  <a:xfrm flipH="1">
                    <a:off x="4774320" y="25218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81" name=""/>
                <p:cNvGrpSpPr/>
                <p:nvPr/>
              </p:nvGrpSpPr>
              <p:grpSpPr>
                <a:xfrm>
                  <a:off x="4683240" y="2321640"/>
                  <a:ext cx="135000" cy="115200"/>
                  <a:chOff x="4683240" y="2321640"/>
                  <a:chExt cx="135000" cy="115200"/>
                </a:xfrm>
              </p:grpSpPr>
              <p:sp>
                <p:nvSpPr>
                  <p:cNvPr id="12382" name=""/>
                  <p:cNvSpPr/>
                  <p:nvPr/>
                </p:nvSpPr>
                <p:spPr>
                  <a:xfrm rot="16985400">
                    <a:off x="4704840" y="2320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3" name=""/>
                  <p:cNvSpPr/>
                  <p:nvPr/>
                </p:nvSpPr>
                <p:spPr>
                  <a:xfrm flipH="1">
                    <a:off x="4728960" y="23490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4" name=""/>
                  <p:cNvSpPr/>
                  <p:nvPr/>
                </p:nvSpPr>
                <p:spPr>
                  <a:xfrm flipH="1">
                    <a:off x="4762440" y="23605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5" name=""/>
                  <p:cNvSpPr/>
                  <p:nvPr/>
                </p:nvSpPr>
                <p:spPr>
                  <a:xfrm flipH="1">
                    <a:off x="4755960" y="23760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6" name=""/>
                  <p:cNvSpPr/>
                  <p:nvPr/>
                </p:nvSpPr>
                <p:spPr>
                  <a:xfrm flipH="1">
                    <a:off x="4736880" y="23781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87" name=""/>
                <p:cNvGrpSpPr/>
                <p:nvPr/>
              </p:nvGrpSpPr>
              <p:grpSpPr>
                <a:xfrm>
                  <a:off x="4867920" y="2345400"/>
                  <a:ext cx="150120" cy="153360"/>
                  <a:chOff x="4867920" y="2345400"/>
                  <a:chExt cx="150120" cy="153360"/>
                </a:xfrm>
              </p:grpSpPr>
              <p:sp>
                <p:nvSpPr>
                  <p:cNvPr id="12388" name=""/>
                  <p:cNvSpPr/>
                  <p:nvPr/>
                </p:nvSpPr>
                <p:spPr>
                  <a:xfrm rot="19036200">
                    <a:off x="4903200" y="2354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9" name=""/>
                  <p:cNvSpPr/>
                  <p:nvPr/>
                </p:nvSpPr>
                <p:spPr>
                  <a:xfrm flipH="1" flipV="1">
                    <a:off x="4917600" y="24170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0" name=""/>
                  <p:cNvSpPr/>
                  <p:nvPr/>
                </p:nvSpPr>
                <p:spPr>
                  <a:xfrm flipH="1" flipV="1">
                    <a:off x="4961160" y="24177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1" name=""/>
                  <p:cNvSpPr/>
                  <p:nvPr/>
                </p:nvSpPr>
                <p:spPr>
                  <a:xfrm flipH="1">
                    <a:off x="4941360" y="24296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2" name=""/>
                  <p:cNvSpPr/>
                  <p:nvPr/>
                </p:nvSpPr>
                <p:spPr>
                  <a:xfrm flipH="1" flipV="1">
                    <a:off x="4929480" y="24141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3" name=""/>
                <p:cNvGrpSpPr/>
                <p:nvPr/>
              </p:nvGrpSpPr>
              <p:grpSpPr>
                <a:xfrm>
                  <a:off x="5032800" y="2276280"/>
                  <a:ext cx="140760" cy="124920"/>
                  <a:chOff x="5032800" y="2276280"/>
                  <a:chExt cx="140760" cy="124920"/>
                </a:xfrm>
              </p:grpSpPr>
              <p:sp>
                <p:nvSpPr>
                  <p:cNvPr id="12394" name=""/>
                  <p:cNvSpPr/>
                  <p:nvPr/>
                </p:nvSpPr>
                <p:spPr>
                  <a:xfrm rot="4233000">
                    <a:off x="5057280" y="2279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5" name=""/>
                  <p:cNvSpPr/>
                  <p:nvPr/>
                </p:nvSpPr>
                <p:spPr>
                  <a:xfrm flipV="1">
                    <a:off x="5070240" y="23158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6" name=""/>
                  <p:cNvSpPr/>
                  <p:nvPr/>
                </p:nvSpPr>
                <p:spPr>
                  <a:xfrm flipV="1">
                    <a:off x="5088960" y="23587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7" name=""/>
                  <p:cNvSpPr/>
                  <p:nvPr/>
                </p:nvSpPr>
                <p:spPr>
                  <a:xfrm flipH="1" flipV="1">
                    <a:off x="5091480" y="23302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8" name=""/>
                  <p:cNvSpPr/>
                  <p:nvPr/>
                </p:nvSpPr>
                <p:spPr>
                  <a:xfrm flipV="1">
                    <a:off x="5105520" y="23292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99" name=""/>
                <p:cNvGrpSpPr/>
                <p:nvPr/>
              </p:nvGrpSpPr>
              <p:grpSpPr>
                <a:xfrm>
                  <a:off x="5103720" y="2379240"/>
                  <a:ext cx="139320" cy="122040"/>
                  <a:chOff x="5103720" y="2379240"/>
                  <a:chExt cx="139320" cy="122040"/>
                </a:xfrm>
              </p:grpSpPr>
              <p:sp>
                <p:nvSpPr>
                  <p:cNvPr id="12400" name=""/>
                  <p:cNvSpPr/>
                  <p:nvPr/>
                </p:nvSpPr>
                <p:spPr>
                  <a:xfrm rot="4353000">
                    <a:off x="5127480" y="23814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1" name=""/>
                  <p:cNvSpPr/>
                  <p:nvPr/>
                </p:nvSpPr>
                <p:spPr>
                  <a:xfrm flipV="1">
                    <a:off x="5138640" y="24177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2" name=""/>
                  <p:cNvSpPr/>
                  <p:nvPr/>
                </p:nvSpPr>
                <p:spPr>
                  <a:xfrm flipV="1">
                    <a:off x="5158080" y="24602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3" name=""/>
                  <p:cNvSpPr/>
                  <p:nvPr/>
                </p:nvSpPr>
                <p:spPr>
                  <a:xfrm flipH="1" flipV="1">
                    <a:off x="5161680" y="24314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4" name=""/>
                  <p:cNvSpPr/>
                  <p:nvPr/>
                </p:nvSpPr>
                <p:spPr>
                  <a:xfrm flipV="1">
                    <a:off x="5175720" y="24310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5" name=""/>
                <p:cNvGrpSpPr/>
                <p:nvPr/>
              </p:nvGrpSpPr>
              <p:grpSpPr>
                <a:xfrm>
                  <a:off x="4871880" y="2486160"/>
                  <a:ext cx="142200" cy="156600"/>
                  <a:chOff x="4871880" y="2486160"/>
                  <a:chExt cx="142200" cy="156600"/>
                </a:xfrm>
              </p:grpSpPr>
              <p:sp>
                <p:nvSpPr>
                  <p:cNvPr id="12406" name=""/>
                  <p:cNvSpPr/>
                  <p:nvPr/>
                </p:nvSpPr>
                <p:spPr>
                  <a:xfrm rot="19525800">
                    <a:off x="4903200" y="24966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7" name=""/>
                  <p:cNvSpPr/>
                  <p:nvPr/>
                </p:nvSpPr>
                <p:spPr>
                  <a:xfrm flipH="1" flipV="1">
                    <a:off x="4918320" y="25560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8" name=""/>
                  <p:cNvSpPr/>
                  <p:nvPr/>
                </p:nvSpPr>
                <p:spPr>
                  <a:xfrm flipH="1" flipV="1">
                    <a:off x="4961520" y="25632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9" name=""/>
                  <p:cNvSpPr/>
                  <p:nvPr/>
                </p:nvSpPr>
                <p:spPr>
                  <a:xfrm flipH="1">
                    <a:off x="4939560" y="25740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0" name=""/>
                  <p:cNvSpPr/>
                  <p:nvPr/>
                </p:nvSpPr>
                <p:spPr>
                  <a:xfrm flipH="1" flipV="1">
                    <a:off x="4930560" y="25549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11" name=""/>
                <p:cNvGrpSpPr/>
                <p:nvPr/>
              </p:nvGrpSpPr>
              <p:grpSpPr>
                <a:xfrm>
                  <a:off x="4729680" y="2468160"/>
                  <a:ext cx="147600" cy="147240"/>
                  <a:chOff x="4729680" y="2468160"/>
                  <a:chExt cx="147600" cy="147240"/>
                </a:xfrm>
              </p:grpSpPr>
              <p:sp>
                <p:nvSpPr>
                  <p:cNvPr id="12412" name=""/>
                  <p:cNvSpPr/>
                  <p:nvPr/>
                </p:nvSpPr>
                <p:spPr>
                  <a:xfrm rot="18890400">
                    <a:off x="4757760" y="248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3" name=""/>
                  <p:cNvSpPr/>
                  <p:nvPr/>
                </p:nvSpPr>
                <p:spPr>
                  <a:xfrm flipH="1" flipV="1">
                    <a:off x="4777920" y="25416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4" name=""/>
                  <p:cNvSpPr/>
                  <p:nvPr/>
                </p:nvSpPr>
                <p:spPr>
                  <a:xfrm flipH="1" flipV="1">
                    <a:off x="4821840" y="25344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5" name=""/>
                  <p:cNvSpPr/>
                  <p:nvPr/>
                </p:nvSpPr>
                <p:spPr>
                  <a:xfrm flipH="1">
                    <a:off x="4800960" y="25466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6" name=""/>
                  <p:cNvSpPr/>
                  <p:nvPr/>
                </p:nvSpPr>
                <p:spPr>
                  <a:xfrm flipH="1" flipV="1">
                    <a:off x="4790160" y="25365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17" name=""/>
                <p:cNvGrpSpPr/>
                <p:nvPr/>
              </p:nvGrpSpPr>
              <p:grpSpPr>
                <a:xfrm>
                  <a:off x="4606560" y="2387160"/>
                  <a:ext cx="147960" cy="146520"/>
                  <a:chOff x="4606560" y="2387160"/>
                  <a:chExt cx="147960" cy="146520"/>
                </a:xfrm>
              </p:grpSpPr>
              <p:sp>
                <p:nvSpPr>
                  <p:cNvPr id="12418" name=""/>
                  <p:cNvSpPr/>
                  <p:nvPr/>
                </p:nvSpPr>
                <p:spPr>
                  <a:xfrm rot="18730200">
                    <a:off x="4635000" y="2401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9" name=""/>
                  <p:cNvSpPr/>
                  <p:nvPr/>
                </p:nvSpPr>
                <p:spPr>
                  <a:xfrm flipH="1" flipV="1">
                    <a:off x="4655160" y="24616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0" name=""/>
                  <p:cNvSpPr/>
                  <p:nvPr/>
                </p:nvSpPr>
                <p:spPr>
                  <a:xfrm flipH="1" flipV="1">
                    <a:off x="4698720" y="24519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1" name=""/>
                  <p:cNvSpPr/>
                  <p:nvPr/>
                </p:nvSpPr>
                <p:spPr>
                  <a:xfrm flipH="1">
                    <a:off x="4678920" y="24645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2" name=""/>
                  <p:cNvSpPr/>
                  <p:nvPr/>
                </p:nvSpPr>
                <p:spPr>
                  <a:xfrm flipH="1" flipV="1">
                    <a:off x="4667040" y="24559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23" name=""/>
                <p:cNvGrpSpPr/>
                <p:nvPr/>
              </p:nvGrpSpPr>
              <p:grpSpPr>
                <a:xfrm>
                  <a:off x="4588560" y="2303280"/>
                  <a:ext cx="145080" cy="155880"/>
                  <a:chOff x="4588560" y="2303280"/>
                  <a:chExt cx="145080" cy="155880"/>
                </a:xfrm>
              </p:grpSpPr>
              <p:sp>
                <p:nvSpPr>
                  <p:cNvPr id="12424" name=""/>
                  <p:cNvSpPr/>
                  <p:nvPr/>
                </p:nvSpPr>
                <p:spPr>
                  <a:xfrm rot="19362600">
                    <a:off x="4621320" y="23133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5" name=""/>
                  <p:cNvSpPr/>
                  <p:nvPr/>
                </p:nvSpPr>
                <p:spPr>
                  <a:xfrm flipH="1" flipV="1">
                    <a:off x="4636440" y="23742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6" name=""/>
                  <p:cNvSpPr/>
                  <p:nvPr/>
                </p:nvSpPr>
                <p:spPr>
                  <a:xfrm flipH="1" flipV="1">
                    <a:off x="4679640" y="23792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7" name=""/>
                  <p:cNvSpPr/>
                  <p:nvPr/>
                </p:nvSpPr>
                <p:spPr>
                  <a:xfrm flipH="1">
                    <a:off x="4658400" y="23904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8" name=""/>
                  <p:cNvSpPr/>
                  <p:nvPr/>
                </p:nvSpPr>
                <p:spPr>
                  <a:xfrm flipH="1" flipV="1">
                    <a:off x="4648320" y="23724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29" name=""/>
              <p:cNvGrpSpPr/>
              <p:nvPr/>
            </p:nvGrpSpPr>
            <p:grpSpPr>
              <a:xfrm>
                <a:off x="4511520" y="3694680"/>
                <a:ext cx="654480" cy="543600"/>
                <a:chOff x="4511520" y="3694680"/>
                <a:chExt cx="654480" cy="543600"/>
              </a:xfrm>
            </p:grpSpPr>
            <p:grpSp>
              <p:nvGrpSpPr>
                <p:cNvPr id="12430" name=""/>
                <p:cNvGrpSpPr/>
                <p:nvPr/>
              </p:nvGrpSpPr>
              <p:grpSpPr>
                <a:xfrm>
                  <a:off x="4776840" y="3765600"/>
                  <a:ext cx="145800" cy="133920"/>
                  <a:chOff x="4776840" y="3765600"/>
                  <a:chExt cx="145800" cy="133920"/>
                </a:xfrm>
              </p:grpSpPr>
              <p:sp>
                <p:nvSpPr>
                  <p:cNvPr id="12431" name=""/>
                  <p:cNvSpPr/>
                  <p:nvPr/>
                </p:nvSpPr>
                <p:spPr>
                  <a:xfrm rot="3815400">
                    <a:off x="4803840" y="3773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2" name=""/>
                  <p:cNvSpPr/>
                  <p:nvPr/>
                </p:nvSpPr>
                <p:spPr>
                  <a:xfrm flipV="1">
                    <a:off x="4824000" y="38084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3" name=""/>
                  <p:cNvSpPr/>
                  <p:nvPr/>
                </p:nvSpPr>
                <p:spPr>
                  <a:xfrm flipV="1">
                    <a:off x="4839480" y="38523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4" name=""/>
                  <p:cNvSpPr/>
                  <p:nvPr/>
                </p:nvSpPr>
                <p:spPr>
                  <a:xfrm flipH="1" flipV="1">
                    <a:off x="4836960" y="38257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5" name=""/>
                  <p:cNvSpPr/>
                  <p:nvPr/>
                </p:nvSpPr>
                <p:spPr>
                  <a:xfrm flipV="1">
                    <a:off x="4852080" y="38217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36" name=""/>
                <p:cNvSpPr/>
                <p:nvPr/>
              </p:nvSpPr>
              <p:spPr>
                <a:xfrm flipH="1">
                  <a:off x="4772880" y="40305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7" name=""/>
                <p:cNvSpPr/>
                <p:nvPr/>
              </p:nvSpPr>
              <p:spPr>
                <a:xfrm>
                  <a:off x="4650120" y="39290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8" name=""/>
                <p:cNvSpPr/>
                <p:nvPr/>
              </p:nvSpPr>
              <p:spPr>
                <a:xfrm flipH="1" flipV="1">
                  <a:off x="4755600" y="38275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9" name=""/>
                <p:cNvSpPr/>
                <p:nvPr/>
              </p:nvSpPr>
              <p:spPr>
                <a:xfrm flipH="1" flipV="1">
                  <a:off x="4967280" y="39290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0" name=""/>
                <p:cNvSpPr/>
                <p:nvPr/>
              </p:nvSpPr>
              <p:spPr>
                <a:xfrm flipH="1">
                  <a:off x="4825800" y="40510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1" name=""/>
                <p:cNvSpPr/>
                <p:nvPr/>
              </p:nvSpPr>
              <p:spPr>
                <a:xfrm flipH="1" flipV="1">
                  <a:off x="4861080" y="40100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2" name=""/>
                <p:cNvSpPr/>
                <p:nvPr/>
              </p:nvSpPr>
              <p:spPr>
                <a:xfrm flipH="1" flipV="1">
                  <a:off x="4720320" y="38473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3" name=""/>
                <p:cNvSpPr/>
                <p:nvPr/>
              </p:nvSpPr>
              <p:spPr>
                <a:xfrm flipV="1">
                  <a:off x="4808160" y="38674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4" name=""/>
                <p:cNvSpPr/>
                <p:nvPr/>
              </p:nvSpPr>
              <p:spPr>
                <a:xfrm flipH="1">
                  <a:off x="4667400" y="39495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5" name=""/>
                <p:cNvSpPr/>
                <p:nvPr/>
              </p:nvSpPr>
              <p:spPr>
                <a:xfrm flipH="1" flipV="1">
                  <a:off x="4896000" y="39495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6" name=""/>
                <p:cNvSpPr/>
                <p:nvPr/>
              </p:nvSpPr>
              <p:spPr>
                <a:xfrm flipH="1" flipV="1">
                  <a:off x="4931640" y="39495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7" name=""/>
                <p:cNvSpPr/>
                <p:nvPr/>
              </p:nvSpPr>
              <p:spPr>
                <a:xfrm flipV="1">
                  <a:off x="5037480" y="40100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8" name=""/>
                <p:cNvSpPr/>
                <p:nvPr/>
              </p:nvSpPr>
              <p:spPr>
                <a:xfrm flipV="1">
                  <a:off x="4984560" y="39081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9" name=""/>
                <p:cNvSpPr/>
                <p:nvPr/>
              </p:nvSpPr>
              <p:spPr>
                <a:xfrm flipH="1">
                  <a:off x="4931280" y="40914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0" name=""/>
                <p:cNvSpPr/>
                <p:nvPr/>
              </p:nvSpPr>
              <p:spPr>
                <a:xfrm flipH="1">
                  <a:off x="4737960" y="39697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1" name=""/>
                <p:cNvSpPr/>
                <p:nvPr/>
              </p:nvSpPr>
              <p:spPr>
                <a:xfrm flipH="1" flipV="1">
                  <a:off x="4667040" y="38887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452" name=""/>
                <p:cNvGrpSpPr/>
                <p:nvPr/>
              </p:nvGrpSpPr>
              <p:grpSpPr>
                <a:xfrm>
                  <a:off x="4692240" y="3694680"/>
                  <a:ext cx="135000" cy="156960"/>
                  <a:chOff x="4692240" y="3694680"/>
                  <a:chExt cx="135000" cy="156960"/>
                </a:xfrm>
              </p:grpSpPr>
              <p:sp>
                <p:nvSpPr>
                  <p:cNvPr id="12453" name=""/>
                  <p:cNvSpPr/>
                  <p:nvPr/>
                </p:nvSpPr>
                <p:spPr>
                  <a:xfrm rot="1745400">
                    <a:off x="4719960" y="3705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4" name=""/>
                  <p:cNvSpPr/>
                  <p:nvPr/>
                </p:nvSpPr>
                <p:spPr>
                  <a:xfrm flipH="1" flipV="1">
                    <a:off x="4756320" y="37476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5" name=""/>
                  <p:cNvSpPr/>
                  <p:nvPr/>
                </p:nvSpPr>
                <p:spPr>
                  <a:xfrm flipV="1">
                    <a:off x="4764960" y="37893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6" name=""/>
                  <p:cNvSpPr/>
                  <p:nvPr/>
                </p:nvSpPr>
                <p:spPr>
                  <a:xfrm flipH="1" flipV="1">
                    <a:off x="4746240" y="37764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7" name=""/>
                  <p:cNvSpPr/>
                  <p:nvPr/>
                </p:nvSpPr>
                <p:spPr>
                  <a:xfrm flipV="1">
                    <a:off x="4761720" y="37580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58" name=""/>
                <p:cNvGrpSpPr/>
                <p:nvPr/>
              </p:nvGrpSpPr>
              <p:grpSpPr>
                <a:xfrm>
                  <a:off x="4749480" y="3898440"/>
                  <a:ext cx="126720" cy="156240"/>
                  <a:chOff x="4749480" y="3898440"/>
                  <a:chExt cx="126720" cy="156240"/>
                </a:xfrm>
              </p:grpSpPr>
              <p:sp>
                <p:nvSpPr>
                  <p:cNvPr id="12459" name=""/>
                  <p:cNvSpPr/>
                  <p:nvPr/>
                </p:nvSpPr>
                <p:spPr>
                  <a:xfrm rot="20187000">
                    <a:off x="4773240" y="3908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0" name=""/>
                  <p:cNvSpPr/>
                  <p:nvPr/>
                </p:nvSpPr>
                <p:spPr>
                  <a:xfrm flipH="1" flipV="1">
                    <a:off x="4790520" y="39636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1" name=""/>
                  <p:cNvSpPr/>
                  <p:nvPr/>
                </p:nvSpPr>
                <p:spPr>
                  <a:xfrm flipH="1" flipV="1">
                    <a:off x="4831560" y="39787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2" name=""/>
                  <p:cNvSpPr/>
                  <p:nvPr/>
                </p:nvSpPr>
                <p:spPr>
                  <a:xfrm flipH="1">
                    <a:off x="4807080" y="39884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3" name=""/>
                  <p:cNvSpPr/>
                  <p:nvPr/>
                </p:nvSpPr>
                <p:spPr>
                  <a:xfrm flipH="1" flipV="1">
                    <a:off x="4802760" y="39646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64" name=""/>
                <p:cNvGrpSpPr/>
                <p:nvPr/>
              </p:nvGrpSpPr>
              <p:grpSpPr>
                <a:xfrm>
                  <a:off x="4826160" y="3827520"/>
                  <a:ext cx="79200" cy="135720"/>
                  <a:chOff x="4826160" y="3827520"/>
                  <a:chExt cx="79200" cy="135720"/>
                </a:xfrm>
              </p:grpSpPr>
              <p:sp>
                <p:nvSpPr>
                  <p:cNvPr id="12465" name=""/>
                  <p:cNvSpPr/>
                  <p:nvPr/>
                </p:nvSpPr>
                <p:spPr>
                  <a:xfrm>
                    <a:off x="4826160" y="3827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6" name=""/>
                  <p:cNvSpPr/>
                  <p:nvPr/>
                </p:nvSpPr>
                <p:spPr>
                  <a:xfrm flipH="1" flipV="1">
                    <a:off x="4850280" y="38746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7" name=""/>
                  <p:cNvSpPr/>
                  <p:nvPr/>
                </p:nvSpPr>
                <p:spPr>
                  <a:xfrm flipH="1" flipV="1">
                    <a:off x="4881960" y="39049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8" name=""/>
                  <p:cNvSpPr/>
                  <p:nvPr/>
                </p:nvSpPr>
                <p:spPr>
                  <a:xfrm flipH="1" flipV="1">
                    <a:off x="4855320" y="39045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9" name=""/>
                  <p:cNvSpPr/>
                  <p:nvPr/>
                </p:nvSpPr>
                <p:spPr>
                  <a:xfrm flipH="1" flipV="1">
                    <a:off x="4861080" y="38804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70" name=""/>
                <p:cNvGrpSpPr/>
                <p:nvPr/>
              </p:nvGrpSpPr>
              <p:grpSpPr>
                <a:xfrm>
                  <a:off x="4662000" y="4063680"/>
                  <a:ext cx="127800" cy="105120"/>
                  <a:chOff x="4662000" y="4063680"/>
                  <a:chExt cx="127800" cy="105120"/>
                </a:xfrm>
              </p:grpSpPr>
              <p:sp>
                <p:nvSpPr>
                  <p:cNvPr id="12471" name=""/>
                  <p:cNvSpPr/>
                  <p:nvPr/>
                </p:nvSpPr>
                <p:spPr>
                  <a:xfrm rot="15769200">
                    <a:off x="4680360" y="4057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2" name=""/>
                  <p:cNvSpPr/>
                  <p:nvPr/>
                </p:nvSpPr>
                <p:spPr>
                  <a:xfrm flipH="1">
                    <a:off x="4710600" y="40683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3" name=""/>
                  <p:cNvSpPr/>
                  <p:nvPr/>
                </p:nvSpPr>
                <p:spPr>
                  <a:xfrm flipH="1">
                    <a:off x="4731480" y="40892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4" name=""/>
                  <p:cNvSpPr/>
                  <p:nvPr/>
                </p:nvSpPr>
                <p:spPr>
                  <a:xfrm flipH="1">
                    <a:off x="4735800" y="41086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5" name=""/>
                  <p:cNvSpPr/>
                  <p:nvPr/>
                </p:nvSpPr>
                <p:spPr>
                  <a:xfrm flipH="1">
                    <a:off x="4713840" y="41166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76" name=""/>
                <p:cNvGrpSpPr/>
                <p:nvPr/>
              </p:nvGrpSpPr>
              <p:grpSpPr>
                <a:xfrm>
                  <a:off x="4597200" y="3766680"/>
                  <a:ext cx="79200" cy="135720"/>
                  <a:chOff x="4597200" y="3766680"/>
                  <a:chExt cx="79200" cy="135720"/>
                </a:xfrm>
              </p:grpSpPr>
              <p:sp>
                <p:nvSpPr>
                  <p:cNvPr id="12477" name=""/>
                  <p:cNvSpPr/>
                  <p:nvPr/>
                </p:nvSpPr>
                <p:spPr>
                  <a:xfrm>
                    <a:off x="4597200" y="3766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8" name=""/>
                  <p:cNvSpPr/>
                  <p:nvPr/>
                </p:nvSpPr>
                <p:spPr>
                  <a:xfrm flipH="1" flipV="1">
                    <a:off x="4621320" y="38138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9" name=""/>
                  <p:cNvSpPr/>
                  <p:nvPr/>
                </p:nvSpPr>
                <p:spPr>
                  <a:xfrm flipH="1" flipV="1">
                    <a:off x="4653000" y="38440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0" name=""/>
                  <p:cNvSpPr/>
                  <p:nvPr/>
                </p:nvSpPr>
                <p:spPr>
                  <a:xfrm flipH="1" flipV="1">
                    <a:off x="4626360" y="3843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1" name=""/>
                  <p:cNvSpPr/>
                  <p:nvPr/>
                </p:nvSpPr>
                <p:spPr>
                  <a:xfrm flipH="1" flipV="1">
                    <a:off x="4632120" y="38196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82" name=""/>
                <p:cNvGrpSpPr/>
                <p:nvPr/>
              </p:nvGrpSpPr>
              <p:grpSpPr>
                <a:xfrm>
                  <a:off x="4896360" y="3807000"/>
                  <a:ext cx="79200" cy="135720"/>
                  <a:chOff x="4896360" y="3807000"/>
                  <a:chExt cx="79200" cy="135720"/>
                </a:xfrm>
              </p:grpSpPr>
              <p:sp>
                <p:nvSpPr>
                  <p:cNvPr id="12483" name=""/>
                  <p:cNvSpPr/>
                  <p:nvPr/>
                </p:nvSpPr>
                <p:spPr>
                  <a:xfrm>
                    <a:off x="4896360" y="3807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4" name=""/>
                  <p:cNvSpPr/>
                  <p:nvPr/>
                </p:nvSpPr>
                <p:spPr>
                  <a:xfrm flipH="1" flipV="1">
                    <a:off x="4920480" y="3854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5" name=""/>
                  <p:cNvSpPr/>
                  <p:nvPr/>
                </p:nvSpPr>
                <p:spPr>
                  <a:xfrm flipH="1" flipV="1">
                    <a:off x="4952160" y="3884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6" name=""/>
                  <p:cNvSpPr/>
                  <p:nvPr/>
                </p:nvSpPr>
                <p:spPr>
                  <a:xfrm flipH="1" flipV="1">
                    <a:off x="4925520" y="3884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7" name=""/>
                  <p:cNvSpPr/>
                  <p:nvPr/>
                </p:nvSpPr>
                <p:spPr>
                  <a:xfrm flipH="1" flipV="1">
                    <a:off x="4931280" y="3859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88" name=""/>
                <p:cNvGrpSpPr/>
                <p:nvPr/>
              </p:nvGrpSpPr>
              <p:grpSpPr>
                <a:xfrm>
                  <a:off x="4650120" y="3726000"/>
                  <a:ext cx="79200" cy="135720"/>
                  <a:chOff x="4650120" y="3726000"/>
                  <a:chExt cx="79200" cy="135720"/>
                </a:xfrm>
              </p:grpSpPr>
              <p:sp>
                <p:nvSpPr>
                  <p:cNvPr id="12489" name=""/>
                  <p:cNvSpPr/>
                  <p:nvPr/>
                </p:nvSpPr>
                <p:spPr>
                  <a:xfrm>
                    <a:off x="4650120" y="3726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0" name=""/>
                  <p:cNvSpPr/>
                  <p:nvPr/>
                </p:nvSpPr>
                <p:spPr>
                  <a:xfrm flipH="1" flipV="1">
                    <a:off x="4674240" y="3773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1" name=""/>
                  <p:cNvSpPr/>
                  <p:nvPr/>
                </p:nvSpPr>
                <p:spPr>
                  <a:xfrm flipH="1" flipV="1">
                    <a:off x="4705920" y="3803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2" name=""/>
                  <p:cNvSpPr/>
                  <p:nvPr/>
                </p:nvSpPr>
                <p:spPr>
                  <a:xfrm flipH="1" flipV="1">
                    <a:off x="4679280" y="3803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3" name=""/>
                  <p:cNvSpPr/>
                  <p:nvPr/>
                </p:nvSpPr>
                <p:spPr>
                  <a:xfrm flipH="1" flipV="1">
                    <a:off x="4685040" y="3778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94" name=""/>
                <p:cNvGrpSpPr/>
                <p:nvPr/>
              </p:nvGrpSpPr>
              <p:grpSpPr>
                <a:xfrm>
                  <a:off x="4815360" y="4117320"/>
                  <a:ext cx="138600" cy="120960"/>
                  <a:chOff x="4815360" y="4117320"/>
                  <a:chExt cx="138600" cy="120960"/>
                </a:xfrm>
              </p:grpSpPr>
              <p:sp>
                <p:nvSpPr>
                  <p:cNvPr id="12495" name=""/>
                  <p:cNvSpPr/>
                  <p:nvPr/>
                </p:nvSpPr>
                <p:spPr>
                  <a:xfrm rot="15198000">
                    <a:off x="4839120" y="4118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6" name=""/>
                  <p:cNvSpPr/>
                  <p:nvPr/>
                </p:nvSpPr>
                <p:spPr>
                  <a:xfrm flipH="1">
                    <a:off x="4872600" y="41227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7" name=""/>
                  <p:cNvSpPr/>
                  <p:nvPr/>
                </p:nvSpPr>
                <p:spPr>
                  <a:xfrm flipH="1">
                    <a:off x="4887000" y="41475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8" name=""/>
                  <p:cNvSpPr/>
                  <p:nvPr/>
                </p:nvSpPr>
                <p:spPr>
                  <a:xfrm>
                    <a:off x="4895640" y="41677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9" name=""/>
                  <p:cNvSpPr/>
                  <p:nvPr/>
                </p:nvSpPr>
                <p:spPr>
                  <a:xfrm flipH="1">
                    <a:off x="4874040" y="41781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0" name=""/>
                <p:cNvGrpSpPr/>
                <p:nvPr/>
              </p:nvGrpSpPr>
              <p:grpSpPr>
                <a:xfrm>
                  <a:off x="4722840" y="4088160"/>
                  <a:ext cx="147240" cy="138240"/>
                  <a:chOff x="4722840" y="4088160"/>
                  <a:chExt cx="147240" cy="138240"/>
                </a:xfrm>
              </p:grpSpPr>
              <p:sp>
                <p:nvSpPr>
                  <p:cNvPr id="12501" name=""/>
                  <p:cNvSpPr/>
                  <p:nvPr/>
                </p:nvSpPr>
                <p:spPr>
                  <a:xfrm rot="14358600">
                    <a:off x="4750920" y="4098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2" name=""/>
                  <p:cNvSpPr/>
                  <p:nvPr/>
                </p:nvSpPr>
                <p:spPr>
                  <a:xfrm flipH="1">
                    <a:off x="4790160" y="40953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3" name=""/>
                  <p:cNvSpPr/>
                  <p:nvPr/>
                </p:nvSpPr>
                <p:spPr>
                  <a:xfrm flipH="1">
                    <a:off x="4793760" y="41241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4" name=""/>
                  <p:cNvSpPr/>
                  <p:nvPr/>
                </p:nvSpPr>
                <p:spPr>
                  <a:xfrm>
                    <a:off x="4804920" y="41450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5" name=""/>
                  <p:cNvSpPr/>
                  <p:nvPr/>
                </p:nvSpPr>
                <p:spPr>
                  <a:xfrm flipH="1">
                    <a:off x="4788360" y="41583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6" name=""/>
                <p:cNvGrpSpPr/>
                <p:nvPr/>
              </p:nvGrpSpPr>
              <p:grpSpPr>
                <a:xfrm>
                  <a:off x="4542120" y="3925440"/>
                  <a:ext cx="122400" cy="97560"/>
                  <a:chOff x="4542120" y="3925440"/>
                  <a:chExt cx="122400" cy="97560"/>
                </a:xfrm>
              </p:grpSpPr>
              <p:sp>
                <p:nvSpPr>
                  <p:cNvPr id="12507" name=""/>
                  <p:cNvSpPr/>
                  <p:nvPr/>
                </p:nvSpPr>
                <p:spPr>
                  <a:xfrm rot="16010400">
                    <a:off x="4557600" y="391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8" name=""/>
                  <p:cNvSpPr/>
                  <p:nvPr/>
                </p:nvSpPr>
                <p:spPr>
                  <a:xfrm flipH="1">
                    <a:off x="4586400" y="39294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9" name=""/>
                  <p:cNvSpPr/>
                  <p:nvPr/>
                </p:nvSpPr>
                <p:spPr>
                  <a:xfrm flipH="1">
                    <a:off x="4610160" y="3948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0" name=""/>
                  <p:cNvSpPr/>
                  <p:nvPr/>
                </p:nvSpPr>
                <p:spPr>
                  <a:xfrm flipH="1">
                    <a:off x="4612320" y="39672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1" name=""/>
                  <p:cNvSpPr/>
                  <p:nvPr/>
                </p:nvSpPr>
                <p:spPr>
                  <a:xfrm flipH="1">
                    <a:off x="4590720" y="39740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2" name=""/>
                <p:cNvGrpSpPr/>
                <p:nvPr/>
              </p:nvGrpSpPr>
              <p:grpSpPr>
                <a:xfrm>
                  <a:off x="4548960" y="3991320"/>
                  <a:ext cx="142920" cy="128520"/>
                  <a:chOff x="4548960" y="3991320"/>
                  <a:chExt cx="142920" cy="128520"/>
                </a:xfrm>
              </p:grpSpPr>
              <p:sp>
                <p:nvSpPr>
                  <p:cNvPr id="12513" name=""/>
                  <p:cNvSpPr/>
                  <p:nvPr/>
                </p:nvSpPr>
                <p:spPr>
                  <a:xfrm rot="14881800">
                    <a:off x="4574880" y="3996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4" name=""/>
                  <p:cNvSpPr/>
                  <p:nvPr/>
                </p:nvSpPr>
                <p:spPr>
                  <a:xfrm flipH="1">
                    <a:off x="4610520" y="39978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5" name=""/>
                  <p:cNvSpPr/>
                  <p:nvPr/>
                </p:nvSpPr>
                <p:spPr>
                  <a:xfrm flipH="1">
                    <a:off x="4620960" y="4024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6" name=""/>
                  <p:cNvSpPr/>
                  <p:nvPr/>
                </p:nvSpPr>
                <p:spPr>
                  <a:xfrm>
                    <a:off x="4630680" y="40446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7" name=""/>
                  <p:cNvSpPr/>
                  <p:nvPr/>
                </p:nvSpPr>
                <p:spPr>
                  <a:xfrm flipH="1">
                    <a:off x="4610520" y="40564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18" name=""/>
                <p:cNvGrpSpPr/>
                <p:nvPr/>
              </p:nvGrpSpPr>
              <p:grpSpPr>
                <a:xfrm>
                  <a:off x="4641120" y="3977280"/>
                  <a:ext cx="135000" cy="115560"/>
                  <a:chOff x="4641120" y="3977280"/>
                  <a:chExt cx="135000" cy="115560"/>
                </a:xfrm>
              </p:grpSpPr>
              <p:sp>
                <p:nvSpPr>
                  <p:cNvPr id="12519" name=""/>
                  <p:cNvSpPr/>
                  <p:nvPr/>
                </p:nvSpPr>
                <p:spPr>
                  <a:xfrm rot="15401400">
                    <a:off x="4662720" y="3976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0" name=""/>
                  <p:cNvSpPr/>
                  <p:nvPr/>
                </p:nvSpPr>
                <p:spPr>
                  <a:xfrm flipH="1">
                    <a:off x="4695480" y="39823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1" name=""/>
                  <p:cNvSpPr/>
                  <p:nvPr/>
                </p:nvSpPr>
                <p:spPr>
                  <a:xfrm flipH="1">
                    <a:off x="4712040" y="40060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2" name=""/>
                  <p:cNvSpPr/>
                  <p:nvPr/>
                </p:nvSpPr>
                <p:spPr>
                  <a:xfrm flipH="1">
                    <a:off x="4719600" y="4025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3" name=""/>
                  <p:cNvSpPr/>
                  <p:nvPr/>
                </p:nvSpPr>
                <p:spPr>
                  <a:xfrm flipH="1">
                    <a:off x="4697280" y="40356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24" name=""/>
                <p:cNvGrpSpPr/>
                <p:nvPr/>
              </p:nvGrpSpPr>
              <p:grpSpPr>
                <a:xfrm>
                  <a:off x="4606200" y="3835440"/>
                  <a:ext cx="135000" cy="115200"/>
                  <a:chOff x="4606200" y="3835440"/>
                  <a:chExt cx="135000" cy="115200"/>
                </a:xfrm>
              </p:grpSpPr>
              <p:sp>
                <p:nvSpPr>
                  <p:cNvPr id="12525" name=""/>
                  <p:cNvSpPr/>
                  <p:nvPr/>
                </p:nvSpPr>
                <p:spPr>
                  <a:xfrm rot="16985400">
                    <a:off x="4627800" y="3834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6" name=""/>
                  <p:cNvSpPr/>
                  <p:nvPr/>
                </p:nvSpPr>
                <p:spPr>
                  <a:xfrm flipH="1">
                    <a:off x="4651920" y="38628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7" name=""/>
                  <p:cNvSpPr/>
                  <p:nvPr/>
                </p:nvSpPr>
                <p:spPr>
                  <a:xfrm flipH="1">
                    <a:off x="4685400" y="38743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8" name=""/>
                  <p:cNvSpPr/>
                  <p:nvPr/>
                </p:nvSpPr>
                <p:spPr>
                  <a:xfrm flipH="1">
                    <a:off x="4678920" y="38898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9" name=""/>
                  <p:cNvSpPr/>
                  <p:nvPr/>
                </p:nvSpPr>
                <p:spPr>
                  <a:xfrm flipH="1">
                    <a:off x="4659840" y="38919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30" name=""/>
                <p:cNvGrpSpPr/>
                <p:nvPr/>
              </p:nvGrpSpPr>
              <p:grpSpPr>
                <a:xfrm>
                  <a:off x="4790880" y="3859200"/>
                  <a:ext cx="150120" cy="153360"/>
                  <a:chOff x="4790880" y="3859200"/>
                  <a:chExt cx="150120" cy="153360"/>
                </a:xfrm>
              </p:grpSpPr>
              <p:sp>
                <p:nvSpPr>
                  <p:cNvPr id="12531" name=""/>
                  <p:cNvSpPr/>
                  <p:nvPr/>
                </p:nvSpPr>
                <p:spPr>
                  <a:xfrm rot="19036200">
                    <a:off x="4826160" y="38678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2" name=""/>
                  <p:cNvSpPr/>
                  <p:nvPr/>
                </p:nvSpPr>
                <p:spPr>
                  <a:xfrm flipH="1" flipV="1">
                    <a:off x="4840560" y="39308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3" name=""/>
                  <p:cNvSpPr/>
                  <p:nvPr/>
                </p:nvSpPr>
                <p:spPr>
                  <a:xfrm flipH="1" flipV="1">
                    <a:off x="4884120" y="39315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4" name=""/>
                  <p:cNvSpPr/>
                  <p:nvPr/>
                </p:nvSpPr>
                <p:spPr>
                  <a:xfrm flipH="1">
                    <a:off x="4864320" y="39434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5" name=""/>
                  <p:cNvSpPr/>
                  <p:nvPr/>
                </p:nvSpPr>
                <p:spPr>
                  <a:xfrm flipH="1" flipV="1">
                    <a:off x="4852440" y="39279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36" name=""/>
                <p:cNvGrpSpPr/>
                <p:nvPr/>
              </p:nvGrpSpPr>
              <p:grpSpPr>
                <a:xfrm>
                  <a:off x="4955760" y="3790080"/>
                  <a:ext cx="140760" cy="124920"/>
                  <a:chOff x="4955760" y="3790080"/>
                  <a:chExt cx="140760" cy="124920"/>
                </a:xfrm>
              </p:grpSpPr>
              <p:sp>
                <p:nvSpPr>
                  <p:cNvPr id="12537" name=""/>
                  <p:cNvSpPr/>
                  <p:nvPr/>
                </p:nvSpPr>
                <p:spPr>
                  <a:xfrm rot="4233000">
                    <a:off x="4980240" y="3793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8" name=""/>
                  <p:cNvSpPr/>
                  <p:nvPr/>
                </p:nvSpPr>
                <p:spPr>
                  <a:xfrm flipV="1">
                    <a:off x="4993200" y="3829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9" name=""/>
                  <p:cNvSpPr/>
                  <p:nvPr/>
                </p:nvSpPr>
                <p:spPr>
                  <a:xfrm flipV="1">
                    <a:off x="5011920" y="38725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0" name=""/>
                  <p:cNvSpPr/>
                  <p:nvPr/>
                </p:nvSpPr>
                <p:spPr>
                  <a:xfrm flipH="1" flipV="1">
                    <a:off x="5014440" y="38440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1" name=""/>
                  <p:cNvSpPr/>
                  <p:nvPr/>
                </p:nvSpPr>
                <p:spPr>
                  <a:xfrm flipV="1">
                    <a:off x="5028480" y="38430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42" name=""/>
                <p:cNvGrpSpPr/>
                <p:nvPr/>
              </p:nvGrpSpPr>
              <p:grpSpPr>
                <a:xfrm>
                  <a:off x="5026680" y="3893040"/>
                  <a:ext cx="139320" cy="122040"/>
                  <a:chOff x="5026680" y="3893040"/>
                  <a:chExt cx="139320" cy="122040"/>
                </a:xfrm>
              </p:grpSpPr>
              <p:sp>
                <p:nvSpPr>
                  <p:cNvPr id="12543" name=""/>
                  <p:cNvSpPr/>
                  <p:nvPr/>
                </p:nvSpPr>
                <p:spPr>
                  <a:xfrm rot="4353000">
                    <a:off x="5050440" y="3895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4" name=""/>
                  <p:cNvSpPr/>
                  <p:nvPr/>
                </p:nvSpPr>
                <p:spPr>
                  <a:xfrm flipV="1">
                    <a:off x="5061600" y="39315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5" name=""/>
                  <p:cNvSpPr/>
                  <p:nvPr/>
                </p:nvSpPr>
                <p:spPr>
                  <a:xfrm flipV="1">
                    <a:off x="5081040" y="39740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6" name=""/>
                  <p:cNvSpPr/>
                  <p:nvPr/>
                </p:nvSpPr>
                <p:spPr>
                  <a:xfrm flipH="1" flipV="1">
                    <a:off x="5084640" y="39452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7" name=""/>
                  <p:cNvSpPr/>
                  <p:nvPr/>
                </p:nvSpPr>
                <p:spPr>
                  <a:xfrm flipV="1">
                    <a:off x="5098680" y="39448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48" name=""/>
                <p:cNvGrpSpPr/>
                <p:nvPr/>
              </p:nvGrpSpPr>
              <p:grpSpPr>
                <a:xfrm>
                  <a:off x="4794840" y="3999960"/>
                  <a:ext cx="142200" cy="156600"/>
                  <a:chOff x="4794840" y="3999960"/>
                  <a:chExt cx="142200" cy="156600"/>
                </a:xfrm>
              </p:grpSpPr>
              <p:sp>
                <p:nvSpPr>
                  <p:cNvPr id="12549" name=""/>
                  <p:cNvSpPr/>
                  <p:nvPr/>
                </p:nvSpPr>
                <p:spPr>
                  <a:xfrm rot="19525800">
                    <a:off x="4826160" y="4010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0" name=""/>
                  <p:cNvSpPr/>
                  <p:nvPr/>
                </p:nvSpPr>
                <p:spPr>
                  <a:xfrm flipH="1" flipV="1">
                    <a:off x="4841280" y="40698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1" name=""/>
                  <p:cNvSpPr/>
                  <p:nvPr/>
                </p:nvSpPr>
                <p:spPr>
                  <a:xfrm flipH="1" flipV="1">
                    <a:off x="4884480" y="40770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2" name=""/>
                  <p:cNvSpPr/>
                  <p:nvPr/>
                </p:nvSpPr>
                <p:spPr>
                  <a:xfrm flipH="1">
                    <a:off x="4862520" y="40878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3" name=""/>
                  <p:cNvSpPr/>
                  <p:nvPr/>
                </p:nvSpPr>
                <p:spPr>
                  <a:xfrm flipH="1" flipV="1">
                    <a:off x="4853520" y="40687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4" name=""/>
                <p:cNvGrpSpPr/>
                <p:nvPr/>
              </p:nvGrpSpPr>
              <p:grpSpPr>
                <a:xfrm>
                  <a:off x="4652640" y="3981960"/>
                  <a:ext cx="147600" cy="147240"/>
                  <a:chOff x="4652640" y="3981960"/>
                  <a:chExt cx="147600" cy="147240"/>
                </a:xfrm>
              </p:grpSpPr>
              <p:sp>
                <p:nvSpPr>
                  <p:cNvPr id="12555" name=""/>
                  <p:cNvSpPr/>
                  <p:nvPr/>
                </p:nvSpPr>
                <p:spPr>
                  <a:xfrm rot="18890400">
                    <a:off x="4680720" y="3996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6" name=""/>
                  <p:cNvSpPr/>
                  <p:nvPr/>
                </p:nvSpPr>
                <p:spPr>
                  <a:xfrm flipH="1" flipV="1">
                    <a:off x="4700880" y="40554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7" name=""/>
                  <p:cNvSpPr/>
                  <p:nvPr/>
                </p:nvSpPr>
                <p:spPr>
                  <a:xfrm flipH="1" flipV="1">
                    <a:off x="4744800" y="40482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8" name=""/>
                  <p:cNvSpPr/>
                  <p:nvPr/>
                </p:nvSpPr>
                <p:spPr>
                  <a:xfrm flipH="1">
                    <a:off x="4723920" y="40604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9" name=""/>
                  <p:cNvSpPr/>
                  <p:nvPr/>
                </p:nvSpPr>
                <p:spPr>
                  <a:xfrm flipH="1" flipV="1">
                    <a:off x="4713120" y="40503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60" name=""/>
                <p:cNvGrpSpPr/>
                <p:nvPr/>
              </p:nvGrpSpPr>
              <p:grpSpPr>
                <a:xfrm>
                  <a:off x="4529520" y="3900960"/>
                  <a:ext cx="147960" cy="146520"/>
                  <a:chOff x="4529520" y="3900960"/>
                  <a:chExt cx="147960" cy="146520"/>
                </a:xfrm>
              </p:grpSpPr>
              <p:sp>
                <p:nvSpPr>
                  <p:cNvPr id="12561" name=""/>
                  <p:cNvSpPr/>
                  <p:nvPr/>
                </p:nvSpPr>
                <p:spPr>
                  <a:xfrm rot="18730200">
                    <a:off x="4557960" y="391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2" name=""/>
                  <p:cNvSpPr/>
                  <p:nvPr/>
                </p:nvSpPr>
                <p:spPr>
                  <a:xfrm flipH="1" flipV="1">
                    <a:off x="4578120" y="39754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3" name=""/>
                  <p:cNvSpPr/>
                  <p:nvPr/>
                </p:nvSpPr>
                <p:spPr>
                  <a:xfrm flipH="1" flipV="1">
                    <a:off x="4621680" y="3965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4" name=""/>
                  <p:cNvSpPr/>
                  <p:nvPr/>
                </p:nvSpPr>
                <p:spPr>
                  <a:xfrm flipH="1">
                    <a:off x="4601880" y="39783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5" name=""/>
                  <p:cNvSpPr/>
                  <p:nvPr/>
                </p:nvSpPr>
                <p:spPr>
                  <a:xfrm flipH="1" flipV="1">
                    <a:off x="4590000" y="39697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66" name=""/>
                <p:cNvGrpSpPr/>
                <p:nvPr/>
              </p:nvGrpSpPr>
              <p:grpSpPr>
                <a:xfrm>
                  <a:off x="4511520" y="3817080"/>
                  <a:ext cx="145080" cy="155880"/>
                  <a:chOff x="4511520" y="3817080"/>
                  <a:chExt cx="145080" cy="155880"/>
                </a:xfrm>
              </p:grpSpPr>
              <p:sp>
                <p:nvSpPr>
                  <p:cNvPr id="12567" name=""/>
                  <p:cNvSpPr/>
                  <p:nvPr/>
                </p:nvSpPr>
                <p:spPr>
                  <a:xfrm rot="19362600">
                    <a:off x="4544280" y="382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8" name=""/>
                  <p:cNvSpPr/>
                  <p:nvPr/>
                </p:nvSpPr>
                <p:spPr>
                  <a:xfrm flipH="1" flipV="1">
                    <a:off x="4559400" y="38880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9" name=""/>
                  <p:cNvSpPr/>
                  <p:nvPr/>
                </p:nvSpPr>
                <p:spPr>
                  <a:xfrm flipH="1" flipV="1">
                    <a:off x="4602600" y="38930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0" name=""/>
                  <p:cNvSpPr/>
                  <p:nvPr/>
                </p:nvSpPr>
                <p:spPr>
                  <a:xfrm flipH="1">
                    <a:off x="4581360" y="39042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1" name=""/>
                  <p:cNvSpPr/>
                  <p:nvPr/>
                </p:nvSpPr>
                <p:spPr>
                  <a:xfrm flipH="1" flipV="1">
                    <a:off x="4571280" y="38862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72" name=""/>
              <p:cNvGrpSpPr/>
              <p:nvPr/>
            </p:nvGrpSpPr>
            <p:grpSpPr>
              <a:xfrm>
                <a:off x="5190840" y="2502720"/>
                <a:ext cx="621000" cy="658440"/>
                <a:chOff x="5190840" y="2502720"/>
                <a:chExt cx="621000" cy="658440"/>
              </a:xfrm>
            </p:grpSpPr>
            <p:grpSp>
              <p:nvGrpSpPr>
                <p:cNvPr id="12573" name=""/>
                <p:cNvGrpSpPr/>
                <p:nvPr/>
              </p:nvGrpSpPr>
              <p:grpSpPr>
                <a:xfrm>
                  <a:off x="5556960" y="2832120"/>
                  <a:ext cx="94320" cy="144360"/>
                  <a:chOff x="5556960" y="2832120"/>
                  <a:chExt cx="94320" cy="144360"/>
                </a:xfrm>
              </p:grpSpPr>
              <p:sp>
                <p:nvSpPr>
                  <p:cNvPr id="12574" name=""/>
                  <p:cNvSpPr/>
                  <p:nvPr/>
                </p:nvSpPr>
                <p:spPr>
                  <a:xfrm rot="11212800">
                    <a:off x="5564520" y="2836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5" name=""/>
                  <p:cNvSpPr/>
                  <p:nvPr/>
                </p:nvSpPr>
                <p:spPr>
                  <a:xfrm>
                    <a:off x="5574960" y="2842560"/>
                    <a:ext cx="4176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6" name=""/>
                  <p:cNvSpPr/>
                  <p:nvPr/>
                </p:nvSpPr>
                <p:spPr>
                  <a:xfrm>
                    <a:off x="5586480" y="287460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7" name=""/>
                  <p:cNvSpPr/>
                  <p:nvPr/>
                </p:nvSpPr>
                <p:spPr>
                  <a:xfrm>
                    <a:off x="5600880" y="2888640"/>
                    <a:ext cx="144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8" name=""/>
                  <p:cNvSpPr/>
                  <p:nvPr/>
                </p:nvSpPr>
                <p:spPr>
                  <a:xfrm>
                    <a:off x="5603760" y="290736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79" name=""/>
                <p:cNvSpPr/>
                <p:nvPr/>
              </p:nvSpPr>
              <p:spPr>
                <a:xfrm flipV="1">
                  <a:off x="5397840" y="2717640"/>
                  <a:ext cx="82440" cy="189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0" name=""/>
                <p:cNvSpPr/>
                <p:nvPr/>
              </p:nvSpPr>
              <p:spPr>
                <a:xfrm rot="7397400">
                  <a:off x="5171400" y="2701080"/>
                  <a:ext cx="50868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1" name=""/>
                <p:cNvSpPr/>
                <p:nvPr/>
              </p:nvSpPr>
              <p:spPr>
                <a:xfrm flipV="1">
                  <a:off x="5520600" y="2816640"/>
                  <a:ext cx="147240" cy="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2" name=""/>
                <p:cNvSpPr/>
                <p:nvPr/>
              </p:nvSpPr>
              <p:spPr>
                <a:xfrm>
                  <a:off x="5216760" y="2959200"/>
                  <a:ext cx="243360" cy="13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3" name=""/>
                <p:cNvSpPr/>
                <p:nvPr/>
              </p:nvSpPr>
              <p:spPr>
                <a:xfrm flipH="1" flipV="1">
                  <a:off x="5432040" y="2759040"/>
                  <a:ext cx="684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4" name=""/>
                <p:cNvSpPr/>
                <p:nvPr/>
              </p:nvSpPr>
              <p:spPr>
                <a:xfrm flipV="1">
                  <a:off x="5420520" y="2831400"/>
                  <a:ext cx="47880" cy="41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5" name=""/>
                <p:cNvSpPr/>
                <p:nvPr/>
              </p:nvSpPr>
              <p:spPr>
                <a:xfrm flipV="1">
                  <a:off x="5586480" y="2772360"/>
                  <a:ext cx="88560" cy="39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6" name=""/>
                <p:cNvSpPr/>
                <p:nvPr/>
              </p:nvSpPr>
              <p:spPr>
                <a:xfrm>
                  <a:off x="5560920" y="2819160"/>
                  <a:ext cx="3276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7" name=""/>
                <p:cNvSpPr/>
                <p:nvPr/>
              </p:nvSpPr>
              <p:spPr>
                <a:xfrm flipV="1">
                  <a:off x="5601960" y="2653920"/>
                  <a:ext cx="432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8" name=""/>
                <p:cNvSpPr/>
                <p:nvPr/>
              </p:nvSpPr>
              <p:spPr>
                <a:xfrm flipV="1">
                  <a:off x="5338080" y="2894400"/>
                  <a:ext cx="151920" cy="70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9" name=""/>
                <p:cNvSpPr/>
                <p:nvPr/>
              </p:nvSpPr>
              <p:spPr>
                <a:xfrm>
                  <a:off x="5427720" y="2926080"/>
                  <a:ext cx="39960" cy="2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0" name=""/>
                <p:cNvSpPr/>
                <p:nvPr/>
              </p:nvSpPr>
              <p:spPr>
                <a:xfrm>
                  <a:off x="5297760" y="2963520"/>
                  <a:ext cx="47520" cy="55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1" name=""/>
                <p:cNvSpPr/>
                <p:nvPr/>
              </p:nvSpPr>
              <p:spPr>
                <a:xfrm>
                  <a:off x="5419440" y="2970000"/>
                  <a:ext cx="43920" cy="28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2" name=""/>
                <p:cNvSpPr/>
                <p:nvPr/>
              </p:nvSpPr>
              <p:spPr>
                <a:xfrm flipV="1">
                  <a:off x="5320080" y="2851200"/>
                  <a:ext cx="29880" cy="77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3" name=""/>
                <p:cNvSpPr/>
                <p:nvPr/>
              </p:nvSpPr>
              <p:spPr>
                <a:xfrm flipV="1">
                  <a:off x="5542560" y="2721960"/>
                  <a:ext cx="190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4" name=""/>
                <p:cNvSpPr/>
                <p:nvPr/>
              </p:nvSpPr>
              <p:spPr>
                <a:xfrm>
                  <a:off x="5639040" y="2700000"/>
                  <a:ext cx="40320" cy="1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595" name=""/>
                <p:cNvGrpSpPr/>
                <p:nvPr/>
              </p:nvGrpSpPr>
              <p:grpSpPr>
                <a:xfrm>
                  <a:off x="5636160" y="2772720"/>
                  <a:ext cx="135360" cy="146520"/>
                  <a:chOff x="5636160" y="2772720"/>
                  <a:chExt cx="135360" cy="146520"/>
                </a:xfrm>
              </p:grpSpPr>
              <p:sp>
                <p:nvSpPr>
                  <p:cNvPr id="12596" name=""/>
                  <p:cNvSpPr/>
                  <p:nvPr/>
                </p:nvSpPr>
                <p:spPr>
                  <a:xfrm rot="9142800">
                    <a:off x="5657760" y="27871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7" name=""/>
                  <p:cNvSpPr/>
                  <p:nvPr/>
                </p:nvSpPr>
                <p:spPr>
                  <a:xfrm>
                    <a:off x="5643720" y="2821320"/>
                    <a:ext cx="8460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8" name=""/>
                  <p:cNvSpPr/>
                  <p:nvPr/>
                </p:nvSpPr>
                <p:spPr>
                  <a:xfrm>
                    <a:off x="5671440" y="2836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9" name=""/>
                  <p:cNvSpPr/>
                  <p:nvPr/>
                </p:nvSpPr>
                <p:spPr>
                  <a:xfrm flipV="1">
                    <a:off x="5691960" y="283320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0" name=""/>
                  <p:cNvSpPr/>
                  <p:nvPr/>
                </p:nvSpPr>
                <p:spPr>
                  <a:xfrm>
                    <a:off x="5704920" y="2848320"/>
                    <a:ext cx="97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01" name=""/>
                <p:cNvGrpSpPr/>
                <p:nvPr/>
              </p:nvGrpSpPr>
              <p:grpSpPr>
                <a:xfrm>
                  <a:off x="5457960" y="2746080"/>
                  <a:ext cx="131040" cy="109800"/>
                  <a:chOff x="5457960" y="2746080"/>
                  <a:chExt cx="131040" cy="109800"/>
                </a:xfrm>
              </p:grpSpPr>
              <p:sp>
                <p:nvSpPr>
                  <p:cNvPr id="12602" name=""/>
                  <p:cNvSpPr/>
                  <p:nvPr/>
                </p:nvSpPr>
                <p:spPr>
                  <a:xfrm rot="5984400">
                    <a:off x="5477400" y="27421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3" name=""/>
                  <p:cNvSpPr/>
                  <p:nvPr/>
                </p:nvSpPr>
                <p:spPr>
                  <a:xfrm flipV="1">
                    <a:off x="5467320" y="2786400"/>
                    <a:ext cx="7668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4" name=""/>
                  <p:cNvSpPr/>
                  <p:nvPr/>
                </p:nvSpPr>
                <p:spPr>
                  <a:xfrm flipV="1">
                    <a:off x="5496120" y="281808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5" name=""/>
                  <p:cNvSpPr/>
                  <p:nvPr/>
                </p:nvSpPr>
                <p:spPr>
                  <a:xfrm flipV="1">
                    <a:off x="5509080" y="27882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6" name=""/>
                  <p:cNvSpPr/>
                  <p:nvPr/>
                </p:nvSpPr>
                <p:spPr>
                  <a:xfrm flipV="1">
                    <a:off x="5525640" y="2797920"/>
                    <a:ext cx="1152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07" name=""/>
                <p:cNvGrpSpPr/>
                <p:nvPr/>
              </p:nvGrpSpPr>
              <p:grpSpPr>
                <a:xfrm>
                  <a:off x="5474520" y="2819880"/>
                  <a:ext cx="148320" cy="140760"/>
                  <a:chOff x="5474520" y="2819880"/>
                  <a:chExt cx="148320" cy="140760"/>
                </a:xfrm>
              </p:grpSpPr>
              <p:sp>
                <p:nvSpPr>
                  <p:cNvPr id="12608" name=""/>
                  <p:cNvSpPr/>
                  <p:nvPr/>
                </p:nvSpPr>
                <p:spPr>
                  <a:xfrm rot="7397400">
                    <a:off x="5502960" y="28314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9" name=""/>
                  <p:cNvSpPr/>
                  <p:nvPr/>
                </p:nvSpPr>
                <p:spPr>
                  <a:xfrm flipV="1">
                    <a:off x="5483880" y="2885040"/>
                    <a:ext cx="896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0" name=""/>
                  <p:cNvSpPr/>
                  <p:nvPr/>
                </p:nvSpPr>
                <p:spPr>
                  <a:xfrm>
                    <a:off x="5515560" y="289800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1" name=""/>
                  <p:cNvSpPr/>
                  <p:nvPr/>
                </p:nvSpPr>
                <p:spPr>
                  <a:xfrm flipV="1">
                    <a:off x="5533920" y="287604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2" name=""/>
                  <p:cNvSpPr/>
                  <p:nvPr/>
                </p:nvSpPr>
                <p:spPr>
                  <a:xfrm>
                    <a:off x="5550480" y="28918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3" name=""/>
                <p:cNvGrpSpPr/>
                <p:nvPr/>
              </p:nvGrpSpPr>
              <p:grpSpPr>
                <a:xfrm>
                  <a:off x="5411880" y="2572200"/>
                  <a:ext cx="130680" cy="156600"/>
                  <a:chOff x="5411880" y="2572200"/>
                  <a:chExt cx="130680" cy="156600"/>
                </a:xfrm>
              </p:grpSpPr>
              <p:sp>
                <p:nvSpPr>
                  <p:cNvPr id="12614" name=""/>
                  <p:cNvSpPr/>
                  <p:nvPr/>
                </p:nvSpPr>
                <p:spPr>
                  <a:xfrm rot="1566600">
                    <a:off x="5437440" y="25822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5" name=""/>
                  <p:cNvSpPr/>
                  <p:nvPr/>
                </p:nvSpPr>
                <p:spPr>
                  <a:xfrm flipH="1" flipV="1">
                    <a:off x="5472360" y="2625480"/>
                    <a:ext cx="12240" cy="9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6" name=""/>
                  <p:cNvSpPr/>
                  <p:nvPr/>
                </p:nvSpPr>
                <p:spPr>
                  <a:xfrm flipV="1">
                    <a:off x="5483880" y="2666160"/>
                    <a:ext cx="32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7" name=""/>
                  <p:cNvSpPr/>
                  <p:nvPr/>
                </p:nvSpPr>
                <p:spPr>
                  <a:xfrm flipH="1" flipV="1">
                    <a:off x="5463720" y="2654280"/>
                    <a:ext cx="115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8" name=""/>
                  <p:cNvSpPr/>
                  <p:nvPr/>
                </p:nvSpPr>
                <p:spPr>
                  <a:xfrm flipV="1">
                    <a:off x="5478480" y="263520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9" name=""/>
                <p:cNvGrpSpPr/>
                <p:nvPr/>
              </p:nvGrpSpPr>
              <p:grpSpPr>
                <a:xfrm>
                  <a:off x="5663520" y="2627640"/>
                  <a:ext cx="148320" cy="140760"/>
                  <a:chOff x="5663520" y="2627640"/>
                  <a:chExt cx="148320" cy="140760"/>
                </a:xfrm>
              </p:grpSpPr>
              <p:sp>
                <p:nvSpPr>
                  <p:cNvPr id="12620" name=""/>
                  <p:cNvSpPr/>
                  <p:nvPr/>
                </p:nvSpPr>
                <p:spPr>
                  <a:xfrm rot="7397400">
                    <a:off x="5691960" y="26391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1" name=""/>
                  <p:cNvSpPr/>
                  <p:nvPr/>
                </p:nvSpPr>
                <p:spPr>
                  <a:xfrm flipV="1">
                    <a:off x="5673240" y="2692800"/>
                    <a:ext cx="892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2" name=""/>
                  <p:cNvSpPr/>
                  <p:nvPr/>
                </p:nvSpPr>
                <p:spPr>
                  <a:xfrm>
                    <a:off x="5704920" y="270576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3" name=""/>
                  <p:cNvSpPr/>
                  <p:nvPr/>
                </p:nvSpPr>
                <p:spPr>
                  <a:xfrm flipV="1">
                    <a:off x="5722920" y="268380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4" name=""/>
                  <p:cNvSpPr/>
                  <p:nvPr/>
                </p:nvSpPr>
                <p:spPr>
                  <a:xfrm>
                    <a:off x="5739840" y="26996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25" name=""/>
                <p:cNvGrpSpPr/>
                <p:nvPr/>
              </p:nvGrpSpPr>
              <p:grpSpPr>
                <a:xfrm>
                  <a:off x="5444640" y="2897640"/>
                  <a:ext cx="148320" cy="140760"/>
                  <a:chOff x="5444640" y="2897640"/>
                  <a:chExt cx="148320" cy="140760"/>
                </a:xfrm>
              </p:grpSpPr>
              <p:sp>
                <p:nvSpPr>
                  <p:cNvPr id="12626" name=""/>
                  <p:cNvSpPr/>
                  <p:nvPr/>
                </p:nvSpPr>
                <p:spPr>
                  <a:xfrm rot="7397400">
                    <a:off x="5473080" y="29091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7" name=""/>
                  <p:cNvSpPr/>
                  <p:nvPr/>
                </p:nvSpPr>
                <p:spPr>
                  <a:xfrm flipV="1">
                    <a:off x="5454000" y="2962800"/>
                    <a:ext cx="896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8" name=""/>
                  <p:cNvSpPr/>
                  <p:nvPr/>
                </p:nvSpPr>
                <p:spPr>
                  <a:xfrm>
                    <a:off x="5485680" y="297576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9" name=""/>
                  <p:cNvSpPr/>
                  <p:nvPr/>
                </p:nvSpPr>
                <p:spPr>
                  <a:xfrm flipV="1">
                    <a:off x="5504040" y="295380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0" name=""/>
                  <p:cNvSpPr/>
                  <p:nvPr/>
                </p:nvSpPr>
                <p:spPr>
                  <a:xfrm>
                    <a:off x="5520600" y="29696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31" name=""/>
                <p:cNvGrpSpPr/>
                <p:nvPr/>
              </p:nvGrpSpPr>
              <p:grpSpPr>
                <a:xfrm>
                  <a:off x="5659560" y="2697840"/>
                  <a:ext cx="148320" cy="140760"/>
                  <a:chOff x="5659560" y="2697840"/>
                  <a:chExt cx="148320" cy="140760"/>
                </a:xfrm>
              </p:grpSpPr>
              <p:sp>
                <p:nvSpPr>
                  <p:cNvPr id="12632" name=""/>
                  <p:cNvSpPr/>
                  <p:nvPr/>
                </p:nvSpPr>
                <p:spPr>
                  <a:xfrm rot="7397400">
                    <a:off x="5688000" y="27093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3" name=""/>
                  <p:cNvSpPr/>
                  <p:nvPr/>
                </p:nvSpPr>
                <p:spPr>
                  <a:xfrm flipV="1">
                    <a:off x="5669280" y="2763000"/>
                    <a:ext cx="896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4" name=""/>
                  <p:cNvSpPr/>
                  <p:nvPr/>
                </p:nvSpPr>
                <p:spPr>
                  <a:xfrm>
                    <a:off x="5700960" y="2775960"/>
                    <a:ext cx="1584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5" name=""/>
                  <p:cNvSpPr/>
                  <p:nvPr/>
                </p:nvSpPr>
                <p:spPr>
                  <a:xfrm flipV="1">
                    <a:off x="5719320" y="275400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6" name=""/>
                  <p:cNvSpPr/>
                  <p:nvPr/>
                </p:nvSpPr>
                <p:spPr>
                  <a:xfrm>
                    <a:off x="5735880" y="27698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37" name=""/>
                <p:cNvGrpSpPr/>
                <p:nvPr/>
              </p:nvGrpSpPr>
              <p:grpSpPr>
                <a:xfrm>
                  <a:off x="5275080" y="2698560"/>
                  <a:ext cx="114480" cy="152640"/>
                  <a:chOff x="5275080" y="2698560"/>
                  <a:chExt cx="114480" cy="152640"/>
                </a:xfrm>
              </p:grpSpPr>
              <p:sp>
                <p:nvSpPr>
                  <p:cNvPr id="12638" name=""/>
                  <p:cNvSpPr/>
                  <p:nvPr/>
                </p:nvSpPr>
                <p:spPr>
                  <a:xfrm rot="995400">
                    <a:off x="5292720" y="2706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9" name=""/>
                  <p:cNvSpPr/>
                  <p:nvPr/>
                </p:nvSpPr>
                <p:spPr>
                  <a:xfrm flipH="1" flipV="1">
                    <a:off x="5323680" y="2750400"/>
                    <a:ext cx="2700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0" name=""/>
                  <p:cNvSpPr/>
                  <p:nvPr/>
                </p:nvSpPr>
                <p:spPr>
                  <a:xfrm flipV="1">
                    <a:off x="5344560" y="278856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1" name=""/>
                  <p:cNvSpPr/>
                  <p:nvPr/>
                </p:nvSpPr>
                <p:spPr>
                  <a:xfrm flipH="1" flipV="1">
                    <a:off x="5319720" y="2780640"/>
                    <a:ext cx="133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2" name=""/>
                  <p:cNvSpPr/>
                  <p:nvPr/>
                </p:nvSpPr>
                <p:spPr>
                  <a:xfrm flipH="1" flipV="1">
                    <a:off x="5331960" y="275904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3" name=""/>
                <p:cNvGrpSpPr/>
                <p:nvPr/>
              </p:nvGrpSpPr>
              <p:grpSpPr>
                <a:xfrm>
                  <a:off x="5360400" y="2629440"/>
                  <a:ext cx="84960" cy="139320"/>
                  <a:chOff x="5360400" y="2629440"/>
                  <a:chExt cx="84960" cy="139320"/>
                </a:xfrm>
              </p:grpSpPr>
              <p:sp>
                <p:nvSpPr>
                  <p:cNvPr id="12644" name=""/>
                  <p:cNvSpPr/>
                  <p:nvPr/>
                </p:nvSpPr>
                <p:spPr>
                  <a:xfrm rot="156000">
                    <a:off x="5363280" y="2630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5" name=""/>
                  <p:cNvSpPr/>
                  <p:nvPr/>
                </p:nvSpPr>
                <p:spPr>
                  <a:xfrm flipH="1" flipV="1">
                    <a:off x="5388840" y="2678040"/>
                    <a:ext cx="4824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6" name=""/>
                  <p:cNvSpPr/>
                  <p:nvPr/>
                </p:nvSpPr>
                <p:spPr>
                  <a:xfrm flipH="1" flipV="1">
                    <a:off x="5418720" y="270936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7" name=""/>
                  <p:cNvSpPr/>
                  <p:nvPr/>
                </p:nvSpPr>
                <p:spPr>
                  <a:xfrm flipH="1" flipV="1">
                    <a:off x="5392440" y="270792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8" name=""/>
                  <p:cNvSpPr/>
                  <p:nvPr/>
                </p:nvSpPr>
                <p:spPr>
                  <a:xfrm flipH="1" flipV="1">
                    <a:off x="5398920" y="268416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9" name=""/>
                <p:cNvGrpSpPr/>
                <p:nvPr/>
              </p:nvGrpSpPr>
              <p:grpSpPr>
                <a:xfrm>
                  <a:off x="5590080" y="2520720"/>
                  <a:ext cx="136080" cy="156960"/>
                  <a:chOff x="5590080" y="2520720"/>
                  <a:chExt cx="136080" cy="156960"/>
                </a:xfrm>
              </p:grpSpPr>
              <p:sp>
                <p:nvSpPr>
                  <p:cNvPr id="12650" name=""/>
                  <p:cNvSpPr/>
                  <p:nvPr/>
                </p:nvSpPr>
                <p:spPr>
                  <a:xfrm rot="1807800">
                    <a:off x="5618520" y="2531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1" name=""/>
                  <p:cNvSpPr/>
                  <p:nvPr/>
                </p:nvSpPr>
                <p:spPr>
                  <a:xfrm flipH="1" flipV="1">
                    <a:off x="5655240" y="2573640"/>
                    <a:ext cx="540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2" name=""/>
                  <p:cNvSpPr/>
                  <p:nvPr/>
                </p:nvSpPr>
                <p:spPr>
                  <a:xfrm flipV="1">
                    <a:off x="5662440" y="26157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3" name=""/>
                  <p:cNvSpPr/>
                  <p:nvPr/>
                </p:nvSpPr>
                <p:spPr>
                  <a:xfrm flipH="1" flipV="1">
                    <a:off x="5644440" y="2602080"/>
                    <a:ext cx="1044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4" name=""/>
                  <p:cNvSpPr/>
                  <p:nvPr/>
                </p:nvSpPr>
                <p:spPr>
                  <a:xfrm flipV="1">
                    <a:off x="5659920" y="258408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55" name=""/>
                <p:cNvGrpSpPr/>
                <p:nvPr/>
              </p:nvGrpSpPr>
              <p:grpSpPr>
                <a:xfrm>
                  <a:off x="5536440" y="2502720"/>
                  <a:ext cx="104040" cy="148680"/>
                  <a:chOff x="5536440" y="2502720"/>
                  <a:chExt cx="104040" cy="148680"/>
                </a:xfrm>
              </p:grpSpPr>
              <p:sp>
                <p:nvSpPr>
                  <p:cNvPr id="12656" name=""/>
                  <p:cNvSpPr/>
                  <p:nvPr/>
                </p:nvSpPr>
                <p:spPr>
                  <a:xfrm rot="679200">
                    <a:off x="5548680" y="2508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7" name=""/>
                  <p:cNvSpPr/>
                  <p:nvPr/>
                </p:nvSpPr>
                <p:spPr>
                  <a:xfrm flipH="1" flipV="1">
                    <a:off x="5577480" y="2553840"/>
                    <a:ext cx="3528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8" name=""/>
                  <p:cNvSpPr/>
                  <p:nvPr/>
                </p:nvSpPr>
                <p:spPr>
                  <a:xfrm flipH="1" flipV="1">
                    <a:off x="5601960" y="258948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9" name=""/>
                  <p:cNvSpPr/>
                  <p:nvPr/>
                </p:nvSpPr>
                <p:spPr>
                  <a:xfrm flipH="1" flipV="1">
                    <a:off x="5576400" y="25840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0" name=""/>
                  <p:cNvSpPr/>
                  <p:nvPr/>
                </p:nvSpPr>
                <p:spPr>
                  <a:xfrm flipH="1" flipV="1">
                    <a:off x="5586480" y="2561400"/>
                    <a:ext cx="25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61" name=""/>
                <p:cNvGrpSpPr/>
                <p:nvPr/>
              </p:nvGrpSpPr>
              <p:grpSpPr>
                <a:xfrm>
                  <a:off x="5487120" y="2594880"/>
                  <a:ext cx="120600" cy="154440"/>
                  <a:chOff x="5487120" y="2594880"/>
                  <a:chExt cx="120600" cy="154440"/>
                </a:xfrm>
              </p:grpSpPr>
              <p:sp>
                <p:nvSpPr>
                  <p:cNvPr id="12662" name=""/>
                  <p:cNvSpPr/>
                  <p:nvPr/>
                </p:nvSpPr>
                <p:spPr>
                  <a:xfrm rot="1198800">
                    <a:off x="5508000" y="26042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3" name=""/>
                  <p:cNvSpPr/>
                  <p:nvPr/>
                </p:nvSpPr>
                <p:spPr>
                  <a:xfrm flipH="1" flipV="1">
                    <a:off x="5540040" y="2647440"/>
                    <a:ext cx="2196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4" name=""/>
                  <p:cNvSpPr/>
                  <p:nvPr/>
                </p:nvSpPr>
                <p:spPr>
                  <a:xfrm flipV="1">
                    <a:off x="5557680" y="268668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5" name=""/>
                  <p:cNvSpPr/>
                  <p:nvPr/>
                </p:nvSpPr>
                <p:spPr>
                  <a:xfrm flipH="1" flipV="1">
                    <a:off x="5534640" y="267732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6" name=""/>
                  <p:cNvSpPr/>
                  <p:nvPr/>
                </p:nvSpPr>
                <p:spPr>
                  <a:xfrm flipH="1" flipV="1">
                    <a:off x="5547960" y="265644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67" name=""/>
                <p:cNvGrpSpPr/>
                <p:nvPr/>
              </p:nvGrpSpPr>
              <p:grpSpPr>
                <a:xfrm>
                  <a:off x="5595840" y="2630160"/>
                  <a:ext cx="152640" cy="150840"/>
                  <a:chOff x="5595840" y="2630160"/>
                  <a:chExt cx="152640" cy="150840"/>
                </a:xfrm>
              </p:grpSpPr>
              <p:sp>
                <p:nvSpPr>
                  <p:cNvPr id="12668" name=""/>
                  <p:cNvSpPr/>
                  <p:nvPr/>
                </p:nvSpPr>
                <p:spPr>
                  <a:xfrm rot="2782800">
                    <a:off x="5632560" y="26373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9" name=""/>
                  <p:cNvSpPr/>
                  <p:nvPr/>
                </p:nvSpPr>
                <p:spPr>
                  <a:xfrm flipV="1">
                    <a:off x="5655600" y="2680200"/>
                    <a:ext cx="20880" cy="9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0" name=""/>
                  <p:cNvSpPr/>
                  <p:nvPr/>
                </p:nvSpPr>
                <p:spPr>
                  <a:xfrm flipV="1">
                    <a:off x="5666760" y="272376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1" name=""/>
                  <p:cNvSpPr/>
                  <p:nvPr/>
                </p:nvSpPr>
                <p:spPr>
                  <a:xfrm flipH="1" flipV="1">
                    <a:off x="5658480" y="2704680"/>
                    <a:ext cx="61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2" name=""/>
                  <p:cNvSpPr/>
                  <p:nvPr/>
                </p:nvSpPr>
                <p:spPr>
                  <a:xfrm flipV="1">
                    <a:off x="5674680" y="26917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73" name=""/>
                <p:cNvGrpSpPr/>
                <p:nvPr/>
              </p:nvGrpSpPr>
              <p:grpSpPr>
                <a:xfrm>
                  <a:off x="5454000" y="2816640"/>
                  <a:ext cx="131040" cy="109440"/>
                  <a:chOff x="5454000" y="2816640"/>
                  <a:chExt cx="131040" cy="109440"/>
                </a:xfrm>
              </p:grpSpPr>
              <p:sp>
                <p:nvSpPr>
                  <p:cNvPr id="12674" name=""/>
                  <p:cNvSpPr/>
                  <p:nvPr/>
                </p:nvSpPr>
                <p:spPr>
                  <a:xfrm rot="4833600">
                    <a:off x="5473800" y="28126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5" name=""/>
                  <p:cNvSpPr/>
                  <p:nvPr/>
                </p:nvSpPr>
                <p:spPr>
                  <a:xfrm flipV="1">
                    <a:off x="5477400" y="2850480"/>
                    <a:ext cx="56880" cy="70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6" name=""/>
                  <p:cNvSpPr/>
                  <p:nvPr/>
                </p:nvSpPr>
                <p:spPr>
                  <a:xfrm flipV="1">
                    <a:off x="5500440" y="2890800"/>
                    <a:ext cx="144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7" name=""/>
                  <p:cNvSpPr/>
                  <p:nvPr/>
                </p:nvSpPr>
                <p:spPr>
                  <a:xfrm flipV="1">
                    <a:off x="5507280" y="2861280"/>
                    <a:ext cx="21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8" name=""/>
                  <p:cNvSpPr/>
                  <p:nvPr/>
                </p:nvSpPr>
                <p:spPr>
                  <a:xfrm flipV="1">
                    <a:off x="5522040" y="2863800"/>
                    <a:ext cx="93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79" name=""/>
                <p:cNvGrpSpPr/>
                <p:nvPr/>
              </p:nvGrpSpPr>
              <p:grpSpPr>
                <a:xfrm>
                  <a:off x="5423040" y="2989800"/>
                  <a:ext cx="109080" cy="150480"/>
                  <a:chOff x="5423040" y="2989800"/>
                  <a:chExt cx="109080" cy="150480"/>
                </a:xfrm>
              </p:grpSpPr>
              <p:sp>
                <p:nvSpPr>
                  <p:cNvPr id="12680" name=""/>
                  <p:cNvSpPr/>
                  <p:nvPr/>
                </p:nvSpPr>
                <p:spPr>
                  <a:xfrm rot="11631000">
                    <a:off x="5438160" y="29970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1" name=""/>
                  <p:cNvSpPr/>
                  <p:nvPr/>
                </p:nvSpPr>
                <p:spPr>
                  <a:xfrm>
                    <a:off x="5456160" y="3000240"/>
                    <a:ext cx="3168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2" name=""/>
                  <p:cNvSpPr/>
                  <p:nvPr/>
                </p:nvSpPr>
                <p:spPr>
                  <a:xfrm>
                    <a:off x="5464080" y="303336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3" name=""/>
                  <p:cNvSpPr/>
                  <p:nvPr/>
                </p:nvSpPr>
                <p:spPr>
                  <a:xfrm>
                    <a:off x="5476320" y="3049200"/>
                    <a:ext cx="136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4" name=""/>
                  <p:cNvSpPr/>
                  <p:nvPr/>
                </p:nvSpPr>
                <p:spPr>
                  <a:xfrm>
                    <a:off x="5477040" y="3067920"/>
                    <a:ext cx="21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85" name=""/>
                <p:cNvGrpSpPr/>
                <p:nvPr/>
              </p:nvGrpSpPr>
              <p:grpSpPr>
                <a:xfrm>
                  <a:off x="5303160" y="3009240"/>
                  <a:ext cx="113040" cy="151920"/>
                  <a:chOff x="5303160" y="3009240"/>
                  <a:chExt cx="113040" cy="151920"/>
                </a:xfrm>
              </p:grpSpPr>
              <p:sp>
                <p:nvSpPr>
                  <p:cNvPr id="12686" name=""/>
                  <p:cNvSpPr/>
                  <p:nvPr/>
                </p:nvSpPr>
                <p:spPr>
                  <a:xfrm rot="11751000">
                    <a:off x="5320080" y="301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7" name=""/>
                  <p:cNvSpPr/>
                  <p:nvPr/>
                </p:nvSpPr>
                <p:spPr>
                  <a:xfrm>
                    <a:off x="5340600" y="3019320"/>
                    <a:ext cx="2844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8" name=""/>
                  <p:cNvSpPr/>
                  <p:nvPr/>
                </p:nvSpPr>
                <p:spPr>
                  <a:xfrm>
                    <a:off x="5347080" y="3052800"/>
                    <a:ext cx="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9" name=""/>
                  <p:cNvSpPr/>
                  <p:nvPr/>
                </p:nvSpPr>
                <p:spPr>
                  <a:xfrm>
                    <a:off x="5358960" y="3068640"/>
                    <a:ext cx="133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0" name=""/>
                  <p:cNvSpPr/>
                  <p:nvPr/>
                </p:nvSpPr>
                <p:spPr>
                  <a:xfrm>
                    <a:off x="5358960" y="308772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1" name=""/>
                <p:cNvGrpSpPr/>
                <p:nvPr/>
              </p:nvGrpSpPr>
              <p:grpSpPr>
                <a:xfrm>
                  <a:off x="5356440" y="2756520"/>
                  <a:ext cx="119520" cy="93960"/>
                  <a:chOff x="5356440" y="2756520"/>
                  <a:chExt cx="119520" cy="93960"/>
                </a:xfrm>
              </p:grpSpPr>
              <p:sp>
                <p:nvSpPr>
                  <p:cNvPr id="12692" name=""/>
                  <p:cNvSpPr/>
                  <p:nvPr/>
                </p:nvSpPr>
                <p:spPr>
                  <a:xfrm rot="5323200">
                    <a:off x="5370120" y="2744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3" name=""/>
                  <p:cNvSpPr/>
                  <p:nvPr/>
                </p:nvSpPr>
                <p:spPr>
                  <a:xfrm flipV="1">
                    <a:off x="5367600" y="2784960"/>
                    <a:ext cx="66240" cy="61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4" name=""/>
                  <p:cNvSpPr/>
                  <p:nvPr/>
                </p:nvSpPr>
                <p:spPr>
                  <a:xfrm flipV="1">
                    <a:off x="5393520" y="2822400"/>
                    <a:ext cx="151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5" name=""/>
                  <p:cNvSpPr/>
                  <p:nvPr/>
                </p:nvSpPr>
                <p:spPr>
                  <a:xfrm flipV="1">
                    <a:off x="5402880" y="279216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6" name=""/>
                  <p:cNvSpPr/>
                  <p:nvPr/>
                </p:nvSpPr>
                <p:spPr>
                  <a:xfrm flipV="1">
                    <a:off x="5418720" y="2797560"/>
                    <a:ext cx="1044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97" name=""/>
                <p:cNvGrpSpPr/>
                <p:nvPr/>
              </p:nvGrpSpPr>
              <p:grpSpPr>
                <a:xfrm>
                  <a:off x="5446080" y="2626920"/>
                  <a:ext cx="149040" cy="105120"/>
                  <a:chOff x="5446080" y="2626920"/>
                  <a:chExt cx="149040" cy="105120"/>
                </a:xfrm>
              </p:grpSpPr>
              <p:sp>
                <p:nvSpPr>
                  <p:cNvPr id="12698" name=""/>
                  <p:cNvSpPr/>
                  <p:nvPr/>
                </p:nvSpPr>
                <p:spPr>
                  <a:xfrm rot="4687800">
                    <a:off x="5481000" y="2611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9" name=""/>
                  <p:cNvSpPr/>
                  <p:nvPr/>
                </p:nvSpPr>
                <p:spPr>
                  <a:xfrm flipV="1">
                    <a:off x="5471640" y="2660400"/>
                    <a:ext cx="66240" cy="66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0" name=""/>
                  <p:cNvSpPr/>
                  <p:nvPr/>
                </p:nvSpPr>
                <p:spPr>
                  <a:xfrm flipV="1">
                    <a:off x="5498280" y="2697120"/>
                    <a:ext cx="165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1" name=""/>
                  <p:cNvSpPr/>
                  <p:nvPr/>
                </p:nvSpPr>
                <p:spPr>
                  <a:xfrm flipV="1">
                    <a:off x="5506920" y="2671200"/>
                    <a:ext cx="28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2" name=""/>
                  <p:cNvSpPr/>
                  <p:nvPr/>
                </p:nvSpPr>
                <p:spPr>
                  <a:xfrm flipV="1">
                    <a:off x="5523840" y="2671560"/>
                    <a:ext cx="1044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03" name=""/>
                <p:cNvGrpSpPr/>
                <p:nvPr/>
              </p:nvGrpSpPr>
              <p:grpSpPr>
                <a:xfrm>
                  <a:off x="5582160" y="2543760"/>
                  <a:ext cx="151200" cy="110520"/>
                  <a:chOff x="5582160" y="2543760"/>
                  <a:chExt cx="151200" cy="110520"/>
                </a:xfrm>
              </p:grpSpPr>
              <p:sp>
                <p:nvSpPr>
                  <p:cNvPr id="12704" name=""/>
                  <p:cNvSpPr/>
                  <p:nvPr/>
                </p:nvSpPr>
                <p:spPr>
                  <a:xfrm rot="4527600">
                    <a:off x="5618160" y="2530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5" name=""/>
                  <p:cNvSpPr/>
                  <p:nvPr/>
                </p:nvSpPr>
                <p:spPr>
                  <a:xfrm flipV="1">
                    <a:off x="5610960" y="2579400"/>
                    <a:ext cx="63000" cy="69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6" name=""/>
                  <p:cNvSpPr/>
                  <p:nvPr/>
                </p:nvSpPr>
                <p:spPr>
                  <a:xfrm flipV="1">
                    <a:off x="5636520" y="261720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7" name=""/>
                  <p:cNvSpPr/>
                  <p:nvPr/>
                </p:nvSpPr>
                <p:spPr>
                  <a:xfrm flipV="1">
                    <a:off x="5644440" y="2591640"/>
                    <a:ext cx="18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8" name=""/>
                  <p:cNvSpPr/>
                  <p:nvPr/>
                </p:nvSpPr>
                <p:spPr>
                  <a:xfrm flipV="1">
                    <a:off x="5661000" y="259092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09" name=""/>
                <p:cNvGrpSpPr/>
                <p:nvPr/>
              </p:nvGrpSpPr>
              <p:grpSpPr>
                <a:xfrm>
                  <a:off x="5665680" y="2568600"/>
                  <a:ext cx="123480" cy="99360"/>
                  <a:chOff x="5665680" y="2568600"/>
                  <a:chExt cx="123480" cy="99360"/>
                </a:xfrm>
              </p:grpSpPr>
              <p:sp>
                <p:nvSpPr>
                  <p:cNvPr id="12710" name=""/>
                  <p:cNvSpPr/>
                  <p:nvPr/>
                </p:nvSpPr>
                <p:spPr>
                  <a:xfrm rot="5160000">
                    <a:off x="5681520" y="25596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1" name=""/>
                  <p:cNvSpPr/>
                  <p:nvPr/>
                </p:nvSpPr>
                <p:spPr>
                  <a:xfrm flipV="1">
                    <a:off x="5680440" y="2599200"/>
                    <a:ext cx="63360" cy="64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2" name=""/>
                  <p:cNvSpPr/>
                  <p:nvPr/>
                </p:nvSpPr>
                <p:spPr>
                  <a:xfrm flipV="1">
                    <a:off x="5705640" y="263736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3" name=""/>
                  <p:cNvSpPr/>
                  <p:nvPr/>
                </p:nvSpPr>
                <p:spPr>
                  <a:xfrm flipV="1">
                    <a:off x="5714280" y="260748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4" name=""/>
                  <p:cNvSpPr/>
                  <p:nvPr/>
                </p:nvSpPr>
                <p:spPr>
                  <a:xfrm flipV="1">
                    <a:off x="5729760" y="261216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15" name=""/>
              <p:cNvGrpSpPr/>
              <p:nvPr/>
            </p:nvGrpSpPr>
            <p:grpSpPr>
              <a:xfrm>
                <a:off x="5138280" y="3263760"/>
                <a:ext cx="573840" cy="680040"/>
                <a:chOff x="5138280" y="3263760"/>
                <a:chExt cx="573840" cy="680040"/>
              </a:xfrm>
            </p:grpSpPr>
            <p:grpSp>
              <p:nvGrpSpPr>
                <p:cNvPr id="12716" name=""/>
                <p:cNvGrpSpPr/>
                <p:nvPr/>
              </p:nvGrpSpPr>
              <p:grpSpPr>
                <a:xfrm>
                  <a:off x="5492160" y="3582720"/>
                  <a:ext cx="85680" cy="139680"/>
                  <a:chOff x="5492160" y="3582720"/>
                  <a:chExt cx="85680" cy="139680"/>
                </a:xfrm>
              </p:grpSpPr>
              <p:sp>
                <p:nvSpPr>
                  <p:cNvPr id="12717" name=""/>
                  <p:cNvSpPr/>
                  <p:nvPr/>
                </p:nvSpPr>
                <p:spPr>
                  <a:xfrm rot="10627200">
                    <a:off x="5495400" y="3584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8" name=""/>
                  <p:cNvSpPr/>
                  <p:nvPr/>
                </p:nvSpPr>
                <p:spPr>
                  <a:xfrm>
                    <a:off x="5495760" y="3596760"/>
                    <a:ext cx="5580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9" name=""/>
                  <p:cNvSpPr/>
                  <p:nvPr/>
                </p:nvSpPr>
                <p:spPr>
                  <a:xfrm>
                    <a:off x="5512680" y="362628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0" name=""/>
                  <p:cNvSpPr/>
                  <p:nvPr/>
                </p:nvSpPr>
                <p:spPr>
                  <a:xfrm>
                    <a:off x="5529240" y="363744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1" name=""/>
                  <p:cNvSpPr/>
                  <p:nvPr/>
                </p:nvSpPr>
                <p:spPr>
                  <a:xfrm>
                    <a:off x="5535000" y="3655800"/>
                    <a:ext cx="57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22" name=""/>
                <p:cNvSpPr/>
                <p:nvPr/>
              </p:nvSpPr>
              <p:spPr>
                <a:xfrm flipV="1">
                  <a:off x="5332320" y="3489480"/>
                  <a:ext cx="48960" cy="20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3" name=""/>
                <p:cNvSpPr/>
                <p:nvPr/>
              </p:nvSpPr>
              <p:spPr>
                <a:xfrm rot="6811800">
                  <a:off x="5090040" y="3480840"/>
                  <a:ext cx="50868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4" name=""/>
                <p:cNvSpPr/>
                <p:nvPr/>
              </p:nvSpPr>
              <p:spPr>
                <a:xfrm flipV="1">
                  <a:off x="5437800" y="3555360"/>
                  <a:ext cx="14508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5" name=""/>
                <p:cNvSpPr/>
                <p:nvPr/>
              </p:nvSpPr>
              <p:spPr>
                <a:xfrm flipV="1">
                  <a:off x="5162760" y="3744360"/>
                  <a:ext cx="241920" cy="28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6" name=""/>
                <p:cNvSpPr/>
                <p:nvPr/>
              </p:nvSpPr>
              <p:spPr>
                <a:xfrm flipH="1" flipV="1">
                  <a:off x="5340960" y="3538800"/>
                  <a:ext cx="15480" cy="50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7" name=""/>
                <p:cNvSpPr/>
                <p:nvPr/>
              </p:nvSpPr>
              <p:spPr>
                <a:xfrm flipV="1">
                  <a:off x="5348520" y="3603600"/>
                  <a:ext cx="4068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8" name=""/>
                <p:cNvSpPr/>
                <p:nvPr/>
              </p:nvSpPr>
              <p:spPr>
                <a:xfrm flipV="1">
                  <a:off x="5502240" y="3510360"/>
                  <a:ext cx="80640" cy="53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9" name=""/>
                <p:cNvSpPr/>
                <p:nvPr/>
              </p:nvSpPr>
              <p:spPr>
                <a:xfrm>
                  <a:off x="5478120" y="3575880"/>
                  <a:ext cx="39960" cy="39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0" name=""/>
                <p:cNvSpPr/>
                <p:nvPr/>
              </p:nvSpPr>
              <p:spPr>
                <a:xfrm flipH="1" flipV="1">
                  <a:off x="5494680" y="3405240"/>
                  <a:ext cx="756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1" name=""/>
                <p:cNvSpPr/>
                <p:nvPr/>
              </p:nvSpPr>
              <p:spPr>
                <a:xfrm flipV="1">
                  <a:off x="5283360" y="3662280"/>
                  <a:ext cx="137520" cy="95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2" name=""/>
                <p:cNvSpPr/>
                <p:nvPr/>
              </p:nvSpPr>
              <p:spPr>
                <a:xfrm flipV="1">
                  <a:off x="5365080" y="3699720"/>
                  <a:ext cx="39600" cy="4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3" name=""/>
                <p:cNvSpPr/>
                <p:nvPr/>
              </p:nvSpPr>
              <p:spPr>
                <a:xfrm>
                  <a:off x="5243400" y="3762720"/>
                  <a:ext cx="56160" cy="46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4" name=""/>
                <p:cNvSpPr/>
                <p:nvPr/>
              </p:nvSpPr>
              <p:spPr>
                <a:xfrm>
                  <a:off x="5364360" y="3748680"/>
                  <a:ext cx="4824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5" name=""/>
                <p:cNvSpPr/>
                <p:nvPr/>
              </p:nvSpPr>
              <p:spPr>
                <a:xfrm flipV="1">
                  <a:off x="5259600" y="3643200"/>
                  <a:ext cx="16200" cy="81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6" name=""/>
                <p:cNvSpPr/>
                <p:nvPr/>
              </p:nvSpPr>
              <p:spPr>
                <a:xfrm flipV="1">
                  <a:off x="5453640" y="3480120"/>
                  <a:ext cx="8640" cy="62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7" name=""/>
                <p:cNvSpPr/>
                <p:nvPr/>
              </p:nvSpPr>
              <p:spPr>
                <a:xfrm flipV="1">
                  <a:off x="5535000" y="3440160"/>
                  <a:ext cx="3996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38" name=""/>
                <p:cNvGrpSpPr/>
                <p:nvPr/>
              </p:nvGrpSpPr>
              <p:grpSpPr>
                <a:xfrm>
                  <a:off x="5551560" y="3503520"/>
                  <a:ext cx="144000" cy="148680"/>
                  <a:chOff x="5551560" y="3503520"/>
                  <a:chExt cx="144000" cy="148680"/>
                </a:xfrm>
              </p:grpSpPr>
              <p:sp>
                <p:nvSpPr>
                  <p:cNvPr id="12739" name=""/>
                  <p:cNvSpPr/>
                  <p:nvPr/>
                </p:nvSpPr>
                <p:spPr>
                  <a:xfrm rot="8557200">
                    <a:off x="5577840" y="35190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0" name=""/>
                  <p:cNvSpPr/>
                  <p:nvPr/>
                </p:nvSpPr>
                <p:spPr>
                  <a:xfrm>
                    <a:off x="5559840" y="3564360"/>
                    <a:ext cx="8892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1" name=""/>
                  <p:cNvSpPr/>
                  <p:nvPr/>
                </p:nvSpPr>
                <p:spPr>
                  <a:xfrm>
                    <a:off x="5590080" y="357444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2" name=""/>
                  <p:cNvSpPr/>
                  <p:nvPr/>
                </p:nvSpPr>
                <p:spPr>
                  <a:xfrm flipV="1">
                    <a:off x="5610240" y="356472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3" name=""/>
                  <p:cNvSpPr/>
                  <p:nvPr/>
                </p:nvSpPr>
                <p:spPr>
                  <a:xfrm>
                    <a:off x="5625000" y="35802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44" name=""/>
                <p:cNvGrpSpPr/>
                <p:nvPr/>
              </p:nvGrpSpPr>
              <p:grpSpPr>
                <a:xfrm>
                  <a:off x="5379480" y="3518640"/>
                  <a:ext cx="117360" cy="91440"/>
                  <a:chOff x="5379480" y="3518640"/>
                  <a:chExt cx="117360" cy="91440"/>
                </a:xfrm>
              </p:grpSpPr>
              <p:sp>
                <p:nvSpPr>
                  <p:cNvPr id="12745" name=""/>
                  <p:cNvSpPr/>
                  <p:nvPr/>
                </p:nvSpPr>
                <p:spPr>
                  <a:xfrm rot="5398800">
                    <a:off x="5392440" y="35056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6" name=""/>
                  <p:cNvSpPr/>
                  <p:nvPr/>
                </p:nvSpPr>
                <p:spPr>
                  <a:xfrm flipV="1">
                    <a:off x="5388480" y="3546360"/>
                    <a:ext cx="67680" cy="60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7" name=""/>
                  <p:cNvSpPr/>
                  <p:nvPr/>
                </p:nvSpPr>
                <p:spPr>
                  <a:xfrm flipV="1">
                    <a:off x="5414760" y="35830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8" name=""/>
                  <p:cNvSpPr/>
                  <p:nvPr/>
                </p:nvSpPr>
                <p:spPr>
                  <a:xfrm flipV="1">
                    <a:off x="5424840" y="355284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9" name=""/>
                  <p:cNvSpPr/>
                  <p:nvPr/>
                </p:nvSpPr>
                <p:spPr>
                  <a:xfrm flipV="1">
                    <a:off x="5440680" y="3558960"/>
                    <a:ext cx="104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50" name=""/>
                <p:cNvGrpSpPr/>
                <p:nvPr/>
              </p:nvGrpSpPr>
              <p:grpSpPr>
                <a:xfrm>
                  <a:off x="5406120" y="3583080"/>
                  <a:ext cx="144000" cy="130680"/>
                  <a:chOff x="5406120" y="3583080"/>
                  <a:chExt cx="144000" cy="130680"/>
                </a:xfrm>
              </p:grpSpPr>
              <p:sp>
                <p:nvSpPr>
                  <p:cNvPr id="12751" name=""/>
                  <p:cNvSpPr/>
                  <p:nvPr/>
                </p:nvSpPr>
                <p:spPr>
                  <a:xfrm rot="6811800">
                    <a:off x="5432040" y="35895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2" name=""/>
                  <p:cNvSpPr/>
                  <p:nvPr/>
                </p:nvSpPr>
                <p:spPr>
                  <a:xfrm flipV="1">
                    <a:off x="5415840" y="3638880"/>
                    <a:ext cx="86040" cy="28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3" name=""/>
                  <p:cNvSpPr/>
                  <p:nvPr/>
                </p:nvSpPr>
                <p:spPr>
                  <a:xfrm>
                    <a:off x="5446800" y="366120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4" name=""/>
                  <p:cNvSpPr/>
                  <p:nvPr/>
                </p:nvSpPr>
                <p:spPr>
                  <a:xfrm flipV="1">
                    <a:off x="5463360" y="363456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5" name=""/>
                  <p:cNvSpPr/>
                  <p:nvPr/>
                </p:nvSpPr>
                <p:spPr>
                  <a:xfrm flipV="1">
                    <a:off x="5480280" y="364860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56" name=""/>
                <p:cNvGrpSpPr/>
                <p:nvPr/>
              </p:nvGrpSpPr>
              <p:grpSpPr>
                <a:xfrm>
                  <a:off x="5310000" y="3348000"/>
                  <a:ext cx="113760" cy="152280"/>
                  <a:chOff x="5310000" y="3348000"/>
                  <a:chExt cx="113760" cy="152280"/>
                </a:xfrm>
              </p:grpSpPr>
              <p:sp>
                <p:nvSpPr>
                  <p:cNvPr id="12757" name=""/>
                  <p:cNvSpPr/>
                  <p:nvPr/>
                </p:nvSpPr>
                <p:spPr>
                  <a:xfrm rot="981000">
                    <a:off x="5327280" y="33562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8" name=""/>
                  <p:cNvSpPr/>
                  <p:nvPr/>
                </p:nvSpPr>
                <p:spPr>
                  <a:xfrm flipH="1" flipV="1">
                    <a:off x="5358240" y="3399840"/>
                    <a:ext cx="273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9" name=""/>
                  <p:cNvSpPr/>
                  <p:nvPr/>
                </p:nvSpPr>
                <p:spPr>
                  <a:xfrm flipV="1">
                    <a:off x="5379480" y="343764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0" name=""/>
                  <p:cNvSpPr/>
                  <p:nvPr/>
                </p:nvSpPr>
                <p:spPr>
                  <a:xfrm flipH="1" flipV="1">
                    <a:off x="5354640" y="3430080"/>
                    <a:ext cx="129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1" name=""/>
                  <p:cNvSpPr/>
                  <p:nvPr/>
                </p:nvSpPr>
                <p:spPr>
                  <a:xfrm flipH="1" flipV="1">
                    <a:off x="5366520" y="340848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62" name=""/>
                <p:cNvGrpSpPr/>
                <p:nvPr/>
              </p:nvGrpSpPr>
              <p:grpSpPr>
                <a:xfrm>
                  <a:off x="5559840" y="3361320"/>
                  <a:ext cx="144000" cy="130680"/>
                  <a:chOff x="5559840" y="3361320"/>
                  <a:chExt cx="144000" cy="130680"/>
                </a:xfrm>
              </p:grpSpPr>
              <p:sp>
                <p:nvSpPr>
                  <p:cNvPr id="12763" name=""/>
                  <p:cNvSpPr/>
                  <p:nvPr/>
                </p:nvSpPr>
                <p:spPr>
                  <a:xfrm rot="6811800">
                    <a:off x="5585760" y="33678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4" name=""/>
                  <p:cNvSpPr/>
                  <p:nvPr/>
                </p:nvSpPr>
                <p:spPr>
                  <a:xfrm flipV="1">
                    <a:off x="5569560" y="3417480"/>
                    <a:ext cx="86040" cy="28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5" name=""/>
                  <p:cNvSpPr/>
                  <p:nvPr/>
                </p:nvSpPr>
                <p:spPr>
                  <a:xfrm>
                    <a:off x="5600520" y="34398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6" name=""/>
                  <p:cNvSpPr/>
                  <p:nvPr/>
                </p:nvSpPr>
                <p:spPr>
                  <a:xfrm flipV="1">
                    <a:off x="5617080" y="34128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7" name=""/>
                  <p:cNvSpPr/>
                  <p:nvPr/>
                </p:nvSpPr>
                <p:spPr>
                  <a:xfrm flipV="1">
                    <a:off x="5634000" y="34268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68" name=""/>
                <p:cNvGrpSpPr/>
                <p:nvPr/>
              </p:nvGrpSpPr>
              <p:grpSpPr>
                <a:xfrm>
                  <a:off x="5389920" y="3664440"/>
                  <a:ext cx="144000" cy="130680"/>
                  <a:chOff x="5389920" y="3664440"/>
                  <a:chExt cx="144000" cy="130680"/>
                </a:xfrm>
              </p:grpSpPr>
              <p:sp>
                <p:nvSpPr>
                  <p:cNvPr id="12769" name=""/>
                  <p:cNvSpPr/>
                  <p:nvPr/>
                </p:nvSpPr>
                <p:spPr>
                  <a:xfrm rot="6811800">
                    <a:off x="5415840" y="36709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0" name=""/>
                  <p:cNvSpPr/>
                  <p:nvPr/>
                </p:nvSpPr>
                <p:spPr>
                  <a:xfrm flipV="1">
                    <a:off x="5399280" y="3720600"/>
                    <a:ext cx="86040" cy="28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1" name=""/>
                  <p:cNvSpPr/>
                  <p:nvPr/>
                </p:nvSpPr>
                <p:spPr>
                  <a:xfrm>
                    <a:off x="5430600" y="374292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2" name=""/>
                  <p:cNvSpPr/>
                  <p:nvPr/>
                </p:nvSpPr>
                <p:spPr>
                  <a:xfrm flipV="1">
                    <a:off x="5446800" y="3715920"/>
                    <a:ext cx="11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3" name=""/>
                  <p:cNvSpPr/>
                  <p:nvPr/>
                </p:nvSpPr>
                <p:spPr>
                  <a:xfrm flipV="1">
                    <a:off x="5464080" y="372996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74" name=""/>
                <p:cNvGrpSpPr/>
                <p:nvPr/>
              </p:nvGrpSpPr>
              <p:grpSpPr>
                <a:xfrm>
                  <a:off x="5568120" y="3431160"/>
                  <a:ext cx="144000" cy="130680"/>
                  <a:chOff x="5568120" y="3431160"/>
                  <a:chExt cx="144000" cy="130680"/>
                </a:xfrm>
              </p:grpSpPr>
              <p:sp>
                <p:nvSpPr>
                  <p:cNvPr id="12775" name=""/>
                  <p:cNvSpPr/>
                  <p:nvPr/>
                </p:nvSpPr>
                <p:spPr>
                  <a:xfrm rot="6811800">
                    <a:off x="5594040" y="3437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6" name=""/>
                  <p:cNvSpPr/>
                  <p:nvPr/>
                </p:nvSpPr>
                <p:spPr>
                  <a:xfrm flipV="1">
                    <a:off x="5577480" y="3487320"/>
                    <a:ext cx="86040" cy="28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7" name=""/>
                  <p:cNvSpPr/>
                  <p:nvPr/>
                </p:nvSpPr>
                <p:spPr>
                  <a:xfrm>
                    <a:off x="5608800" y="350964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8" name=""/>
                  <p:cNvSpPr/>
                  <p:nvPr/>
                </p:nvSpPr>
                <p:spPr>
                  <a:xfrm flipV="1">
                    <a:off x="5625000" y="34826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9" name=""/>
                  <p:cNvSpPr/>
                  <p:nvPr/>
                </p:nvSpPr>
                <p:spPr>
                  <a:xfrm flipV="1">
                    <a:off x="5642280" y="349668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0" name=""/>
                <p:cNvGrpSpPr/>
                <p:nvPr/>
              </p:nvGrpSpPr>
              <p:grpSpPr>
                <a:xfrm>
                  <a:off x="5198400" y="3498840"/>
                  <a:ext cx="94320" cy="144000"/>
                  <a:chOff x="5198400" y="3498840"/>
                  <a:chExt cx="94320" cy="144000"/>
                </a:xfrm>
              </p:grpSpPr>
              <p:sp>
                <p:nvSpPr>
                  <p:cNvPr id="12781" name=""/>
                  <p:cNvSpPr/>
                  <p:nvPr/>
                </p:nvSpPr>
                <p:spPr>
                  <a:xfrm rot="409800">
                    <a:off x="5205960" y="3502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2" name=""/>
                  <p:cNvSpPr/>
                  <p:nvPr/>
                </p:nvSpPr>
                <p:spPr>
                  <a:xfrm flipH="1" flipV="1">
                    <a:off x="5232600" y="3548520"/>
                    <a:ext cx="4212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3" name=""/>
                  <p:cNvSpPr/>
                  <p:nvPr/>
                </p:nvSpPr>
                <p:spPr>
                  <a:xfrm flipH="1" flipV="1">
                    <a:off x="5259960" y="358236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4" name=""/>
                  <p:cNvSpPr/>
                  <p:nvPr/>
                </p:nvSpPr>
                <p:spPr>
                  <a:xfrm flipH="1" flipV="1">
                    <a:off x="5234040" y="357876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5" name=""/>
                  <p:cNvSpPr/>
                  <p:nvPr/>
                </p:nvSpPr>
                <p:spPr>
                  <a:xfrm flipH="1" flipV="1">
                    <a:off x="5242320" y="355572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6" name=""/>
                <p:cNvGrpSpPr/>
                <p:nvPr/>
              </p:nvGrpSpPr>
              <p:grpSpPr>
                <a:xfrm>
                  <a:off x="5254560" y="3412440"/>
                  <a:ext cx="95040" cy="144360"/>
                  <a:chOff x="5254560" y="3412440"/>
                  <a:chExt cx="95040" cy="144360"/>
                </a:xfrm>
              </p:grpSpPr>
              <p:sp>
                <p:nvSpPr>
                  <p:cNvPr id="12787" name=""/>
                  <p:cNvSpPr/>
                  <p:nvPr/>
                </p:nvSpPr>
                <p:spPr>
                  <a:xfrm rot="21171000">
                    <a:off x="5262480" y="34164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8" name=""/>
                  <p:cNvSpPr/>
                  <p:nvPr/>
                </p:nvSpPr>
                <p:spPr>
                  <a:xfrm flipH="1" flipV="1">
                    <a:off x="5284440" y="3466080"/>
                    <a:ext cx="61200" cy="71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9" name=""/>
                  <p:cNvSpPr/>
                  <p:nvPr/>
                </p:nvSpPr>
                <p:spPr>
                  <a:xfrm flipH="1" flipV="1">
                    <a:off x="5319360" y="349200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0" name=""/>
                  <p:cNvSpPr/>
                  <p:nvPr/>
                </p:nvSpPr>
                <p:spPr>
                  <a:xfrm flipH="1" flipV="1">
                    <a:off x="5293080" y="3494880"/>
                    <a:ext cx="162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1" name=""/>
                  <p:cNvSpPr/>
                  <p:nvPr/>
                </p:nvSpPr>
                <p:spPr>
                  <a:xfrm flipH="1" flipV="1">
                    <a:off x="5295600" y="3470400"/>
                    <a:ext cx="648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2" name=""/>
                <p:cNvGrpSpPr/>
                <p:nvPr/>
              </p:nvGrpSpPr>
              <p:grpSpPr>
                <a:xfrm>
                  <a:off x="5476320" y="3265560"/>
                  <a:ext cx="120960" cy="154800"/>
                  <a:chOff x="5476320" y="3265560"/>
                  <a:chExt cx="120960" cy="154800"/>
                </a:xfrm>
              </p:grpSpPr>
              <p:sp>
                <p:nvSpPr>
                  <p:cNvPr id="12793" name=""/>
                  <p:cNvSpPr/>
                  <p:nvPr/>
                </p:nvSpPr>
                <p:spPr>
                  <a:xfrm rot="1222200">
                    <a:off x="5497200" y="3274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4" name=""/>
                  <p:cNvSpPr/>
                  <p:nvPr/>
                </p:nvSpPr>
                <p:spPr>
                  <a:xfrm flipH="1" flipV="1">
                    <a:off x="5529600" y="3318120"/>
                    <a:ext cx="21240" cy="9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5" name=""/>
                  <p:cNvSpPr/>
                  <p:nvPr/>
                </p:nvSpPr>
                <p:spPr>
                  <a:xfrm flipV="1">
                    <a:off x="5546880" y="335736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6" name=""/>
                  <p:cNvSpPr/>
                  <p:nvPr/>
                </p:nvSpPr>
                <p:spPr>
                  <a:xfrm flipH="1" flipV="1">
                    <a:off x="5523840" y="334800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7" name=""/>
                  <p:cNvSpPr/>
                  <p:nvPr/>
                </p:nvSpPr>
                <p:spPr>
                  <a:xfrm flipH="1" flipV="1">
                    <a:off x="5537160" y="332712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8" name=""/>
                <p:cNvGrpSpPr/>
                <p:nvPr/>
              </p:nvGrpSpPr>
              <p:grpSpPr>
                <a:xfrm>
                  <a:off x="5423040" y="3263760"/>
                  <a:ext cx="82440" cy="137880"/>
                  <a:chOff x="5423040" y="3263760"/>
                  <a:chExt cx="82440" cy="137880"/>
                </a:xfrm>
              </p:grpSpPr>
              <p:sp>
                <p:nvSpPr>
                  <p:cNvPr id="12799" name=""/>
                  <p:cNvSpPr/>
                  <p:nvPr/>
                </p:nvSpPr>
                <p:spPr>
                  <a:xfrm rot="93600">
                    <a:off x="5424480" y="3264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0" name=""/>
                  <p:cNvSpPr/>
                  <p:nvPr/>
                </p:nvSpPr>
                <p:spPr>
                  <a:xfrm flipH="1" flipV="1">
                    <a:off x="5449320" y="3311640"/>
                    <a:ext cx="49680" cy="79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1" name=""/>
                  <p:cNvSpPr/>
                  <p:nvPr/>
                </p:nvSpPr>
                <p:spPr>
                  <a:xfrm flipH="1" flipV="1">
                    <a:off x="5479920" y="3342960"/>
                    <a:ext cx="432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2" name=""/>
                  <p:cNvSpPr/>
                  <p:nvPr/>
                </p:nvSpPr>
                <p:spPr>
                  <a:xfrm flipH="1" flipV="1">
                    <a:off x="5453640" y="33418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3" name=""/>
                  <p:cNvSpPr/>
                  <p:nvPr/>
                </p:nvSpPr>
                <p:spPr>
                  <a:xfrm flipH="1" flipV="1">
                    <a:off x="5459760" y="331776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04" name=""/>
                <p:cNvGrpSpPr/>
                <p:nvPr/>
              </p:nvGrpSpPr>
              <p:grpSpPr>
                <a:xfrm>
                  <a:off x="5389200" y="3359880"/>
                  <a:ext cx="101880" cy="147600"/>
                  <a:chOff x="5389200" y="3359880"/>
                  <a:chExt cx="101880" cy="147600"/>
                </a:xfrm>
              </p:grpSpPr>
              <p:sp>
                <p:nvSpPr>
                  <p:cNvPr id="12805" name=""/>
                  <p:cNvSpPr/>
                  <p:nvPr/>
                </p:nvSpPr>
                <p:spPr>
                  <a:xfrm rot="613200">
                    <a:off x="5400360" y="3365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6" name=""/>
                  <p:cNvSpPr/>
                  <p:nvPr/>
                </p:nvSpPr>
                <p:spPr>
                  <a:xfrm flipH="1" flipV="1">
                    <a:off x="5428440" y="3410280"/>
                    <a:ext cx="3708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7" name=""/>
                  <p:cNvSpPr/>
                  <p:nvPr/>
                </p:nvSpPr>
                <p:spPr>
                  <a:xfrm flipH="1" flipV="1">
                    <a:off x="5454000" y="344556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8" name=""/>
                  <p:cNvSpPr/>
                  <p:nvPr/>
                </p:nvSpPr>
                <p:spPr>
                  <a:xfrm flipH="1" flipV="1">
                    <a:off x="5428080" y="344088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9" name=""/>
                  <p:cNvSpPr/>
                  <p:nvPr/>
                </p:nvSpPr>
                <p:spPr>
                  <a:xfrm flipH="1" flipV="1">
                    <a:off x="5437800" y="3417840"/>
                    <a:ext cx="28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10" name=""/>
                <p:cNvGrpSpPr/>
                <p:nvPr/>
              </p:nvGrpSpPr>
              <p:grpSpPr>
                <a:xfrm>
                  <a:off x="5496480" y="3367080"/>
                  <a:ext cx="144360" cy="155880"/>
                  <a:chOff x="5496480" y="3367080"/>
                  <a:chExt cx="144360" cy="155880"/>
                </a:xfrm>
              </p:grpSpPr>
              <p:sp>
                <p:nvSpPr>
                  <p:cNvPr id="12811" name=""/>
                  <p:cNvSpPr/>
                  <p:nvPr/>
                </p:nvSpPr>
                <p:spPr>
                  <a:xfrm rot="2197200">
                    <a:off x="5528880" y="337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2" name=""/>
                  <p:cNvSpPr/>
                  <p:nvPr/>
                </p:nvSpPr>
                <p:spPr>
                  <a:xfrm flipV="1">
                    <a:off x="5563440" y="3419640"/>
                    <a:ext cx="504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3" name=""/>
                  <p:cNvSpPr/>
                  <p:nvPr/>
                </p:nvSpPr>
                <p:spPr>
                  <a:xfrm flipV="1">
                    <a:off x="5569200" y="346248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4" name=""/>
                  <p:cNvSpPr/>
                  <p:nvPr/>
                </p:nvSpPr>
                <p:spPr>
                  <a:xfrm flipH="1" flipV="1">
                    <a:off x="5554800" y="3446640"/>
                    <a:ext cx="90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5" name=""/>
                  <p:cNvSpPr/>
                  <p:nvPr/>
                </p:nvSpPr>
                <p:spPr>
                  <a:xfrm flipV="1">
                    <a:off x="5570640" y="3430440"/>
                    <a:ext cx="28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16" name=""/>
                <p:cNvGrpSpPr/>
                <p:nvPr/>
              </p:nvGrpSpPr>
              <p:grpSpPr>
                <a:xfrm>
                  <a:off x="5375880" y="3571920"/>
                  <a:ext cx="141120" cy="124920"/>
                  <a:chOff x="5375880" y="3571920"/>
                  <a:chExt cx="141120" cy="124920"/>
                </a:xfrm>
              </p:grpSpPr>
              <p:sp>
                <p:nvSpPr>
                  <p:cNvPr id="12817" name=""/>
                  <p:cNvSpPr/>
                  <p:nvPr/>
                </p:nvSpPr>
                <p:spPr>
                  <a:xfrm rot="4248000">
                    <a:off x="5400360" y="35755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8" name=""/>
                  <p:cNvSpPr/>
                  <p:nvPr/>
                </p:nvSpPr>
                <p:spPr>
                  <a:xfrm flipV="1">
                    <a:off x="5412960" y="3611520"/>
                    <a:ext cx="44280" cy="78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9" name=""/>
                  <p:cNvSpPr/>
                  <p:nvPr/>
                </p:nvSpPr>
                <p:spPr>
                  <a:xfrm flipV="1">
                    <a:off x="5432040" y="365472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0" name=""/>
                  <p:cNvSpPr/>
                  <p:nvPr/>
                </p:nvSpPr>
                <p:spPr>
                  <a:xfrm flipH="1" flipV="1">
                    <a:off x="5434560" y="3626280"/>
                    <a:ext cx="10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1" name=""/>
                  <p:cNvSpPr/>
                  <p:nvPr/>
                </p:nvSpPr>
                <p:spPr>
                  <a:xfrm flipV="1">
                    <a:off x="5448600" y="362484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2" name=""/>
                <p:cNvGrpSpPr/>
                <p:nvPr/>
              </p:nvGrpSpPr>
              <p:grpSpPr>
                <a:xfrm>
                  <a:off x="5393880" y="3762000"/>
                  <a:ext cx="88200" cy="141120"/>
                  <a:chOff x="5393880" y="3762000"/>
                  <a:chExt cx="88200" cy="141120"/>
                </a:xfrm>
              </p:grpSpPr>
              <p:sp>
                <p:nvSpPr>
                  <p:cNvPr id="12823" name=""/>
                  <p:cNvSpPr/>
                  <p:nvPr/>
                </p:nvSpPr>
                <p:spPr>
                  <a:xfrm rot="11045400">
                    <a:off x="5398200" y="3764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4" name=""/>
                  <p:cNvSpPr/>
                  <p:nvPr/>
                </p:nvSpPr>
                <p:spPr>
                  <a:xfrm>
                    <a:off x="5405760" y="3772440"/>
                    <a:ext cx="46080" cy="81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5" name=""/>
                  <p:cNvSpPr/>
                  <p:nvPr/>
                </p:nvSpPr>
                <p:spPr>
                  <a:xfrm>
                    <a:off x="5419080" y="380340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6" name=""/>
                  <p:cNvSpPr/>
                  <p:nvPr/>
                </p:nvSpPr>
                <p:spPr>
                  <a:xfrm>
                    <a:off x="5433840" y="3816720"/>
                    <a:ext cx="1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7" name=""/>
                  <p:cNvSpPr/>
                  <p:nvPr/>
                </p:nvSpPr>
                <p:spPr>
                  <a:xfrm>
                    <a:off x="5437800" y="383544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8" name=""/>
                <p:cNvGrpSpPr/>
                <p:nvPr/>
              </p:nvGrpSpPr>
              <p:grpSpPr>
                <a:xfrm>
                  <a:off x="5278320" y="3800520"/>
                  <a:ext cx="92880" cy="143280"/>
                  <a:chOff x="5278320" y="3800520"/>
                  <a:chExt cx="92880" cy="143280"/>
                </a:xfrm>
              </p:grpSpPr>
              <p:sp>
                <p:nvSpPr>
                  <p:cNvPr id="12829" name=""/>
                  <p:cNvSpPr/>
                  <p:nvPr/>
                </p:nvSpPr>
                <p:spPr>
                  <a:xfrm rot="11165400">
                    <a:off x="5285160" y="38041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0" name=""/>
                  <p:cNvSpPr/>
                  <p:nvPr/>
                </p:nvSpPr>
                <p:spPr>
                  <a:xfrm>
                    <a:off x="5294880" y="3810600"/>
                    <a:ext cx="4320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1" name=""/>
                  <p:cNvSpPr/>
                  <p:nvPr/>
                </p:nvSpPr>
                <p:spPr>
                  <a:xfrm>
                    <a:off x="5307120" y="3842280"/>
                    <a:ext cx="28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2" name=""/>
                  <p:cNvSpPr/>
                  <p:nvPr/>
                </p:nvSpPr>
                <p:spPr>
                  <a:xfrm>
                    <a:off x="5321520" y="385632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3" name=""/>
                  <p:cNvSpPr/>
                  <p:nvPr/>
                </p:nvSpPr>
                <p:spPr>
                  <a:xfrm>
                    <a:off x="5324400" y="387504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34" name=""/>
                <p:cNvGrpSpPr/>
                <p:nvPr/>
              </p:nvGrpSpPr>
              <p:grpSpPr>
                <a:xfrm>
                  <a:off x="5266440" y="3529080"/>
                  <a:ext cx="132840" cy="112320"/>
                  <a:chOff x="5266440" y="3529080"/>
                  <a:chExt cx="132840" cy="112320"/>
                </a:xfrm>
              </p:grpSpPr>
              <p:sp>
                <p:nvSpPr>
                  <p:cNvPr id="12835" name=""/>
                  <p:cNvSpPr/>
                  <p:nvPr/>
                </p:nvSpPr>
                <p:spPr>
                  <a:xfrm rot="4737600">
                    <a:off x="5286960" y="3526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6" name=""/>
                  <p:cNvSpPr/>
                  <p:nvPr/>
                </p:nvSpPr>
                <p:spPr>
                  <a:xfrm flipV="1">
                    <a:off x="5292000" y="3564000"/>
                    <a:ext cx="55080" cy="72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7" name=""/>
                  <p:cNvSpPr/>
                  <p:nvPr/>
                </p:nvSpPr>
                <p:spPr>
                  <a:xfrm flipV="1">
                    <a:off x="5314680" y="360504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8" name=""/>
                  <p:cNvSpPr/>
                  <p:nvPr/>
                </p:nvSpPr>
                <p:spPr>
                  <a:xfrm flipV="1">
                    <a:off x="5321160" y="357516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9" name=""/>
                  <p:cNvSpPr/>
                  <p:nvPr/>
                </p:nvSpPr>
                <p:spPr>
                  <a:xfrm flipV="1">
                    <a:off x="5335200" y="3577320"/>
                    <a:ext cx="93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40" name=""/>
                <p:cNvGrpSpPr/>
                <p:nvPr/>
              </p:nvGrpSpPr>
              <p:grpSpPr>
                <a:xfrm>
                  <a:off x="5337360" y="3383640"/>
                  <a:ext cx="155160" cy="123480"/>
                  <a:chOff x="5337360" y="3383640"/>
                  <a:chExt cx="155160" cy="123480"/>
                </a:xfrm>
              </p:grpSpPr>
              <p:sp>
                <p:nvSpPr>
                  <p:cNvPr id="12841" name=""/>
                  <p:cNvSpPr/>
                  <p:nvPr/>
                </p:nvSpPr>
                <p:spPr>
                  <a:xfrm rot="4102200">
                    <a:off x="5375160" y="3377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2" name=""/>
                  <p:cNvSpPr/>
                  <p:nvPr/>
                </p:nvSpPr>
                <p:spPr>
                  <a:xfrm flipV="1">
                    <a:off x="5374800" y="3423240"/>
                    <a:ext cx="5364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3" name=""/>
                  <p:cNvSpPr/>
                  <p:nvPr/>
                </p:nvSpPr>
                <p:spPr>
                  <a:xfrm flipV="1">
                    <a:off x="5397120" y="3463560"/>
                    <a:ext cx="147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4" name=""/>
                  <p:cNvSpPr/>
                  <p:nvPr/>
                </p:nvSpPr>
                <p:spPr>
                  <a:xfrm flipV="1">
                    <a:off x="5402520" y="3439080"/>
                    <a:ext cx="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5" name=""/>
                  <p:cNvSpPr/>
                  <p:nvPr/>
                </p:nvSpPr>
                <p:spPr>
                  <a:xfrm flipV="1">
                    <a:off x="5418000" y="3435120"/>
                    <a:ext cx="90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46" name=""/>
                <p:cNvGrpSpPr/>
                <p:nvPr/>
              </p:nvGrpSpPr>
              <p:grpSpPr>
                <a:xfrm>
                  <a:off x="5457960" y="3278880"/>
                  <a:ext cx="156240" cy="127800"/>
                  <a:chOff x="5457960" y="3278880"/>
                  <a:chExt cx="156240" cy="127800"/>
                </a:xfrm>
              </p:grpSpPr>
              <p:sp>
                <p:nvSpPr>
                  <p:cNvPr id="12847" name=""/>
                  <p:cNvSpPr/>
                  <p:nvPr/>
                </p:nvSpPr>
                <p:spPr>
                  <a:xfrm rot="3942000">
                    <a:off x="5496480" y="32745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8" name=""/>
                  <p:cNvSpPr/>
                  <p:nvPr/>
                </p:nvSpPr>
                <p:spPr>
                  <a:xfrm flipV="1">
                    <a:off x="5498640" y="3320640"/>
                    <a:ext cx="5040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9" name=""/>
                  <p:cNvSpPr/>
                  <p:nvPr/>
                </p:nvSpPr>
                <p:spPr>
                  <a:xfrm flipV="1">
                    <a:off x="5519880" y="3361320"/>
                    <a:ext cx="144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0" name=""/>
                  <p:cNvSpPr/>
                  <p:nvPr/>
                </p:nvSpPr>
                <p:spPr>
                  <a:xfrm flipH="1" flipV="1">
                    <a:off x="5523840" y="3337200"/>
                    <a:ext cx="7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1" name=""/>
                  <p:cNvSpPr/>
                  <p:nvPr/>
                </p:nvSpPr>
                <p:spPr>
                  <a:xfrm flipV="1">
                    <a:off x="5539320" y="3332520"/>
                    <a:ext cx="864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2" name=""/>
                <p:cNvGrpSpPr/>
                <p:nvPr/>
              </p:nvGrpSpPr>
              <p:grpSpPr>
                <a:xfrm>
                  <a:off x="5540040" y="3291480"/>
                  <a:ext cx="135720" cy="116640"/>
                  <a:chOff x="5540040" y="3291480"/>
                  <a:chExt cx="135720" cy="116640"/>
                </a:xfrm>
              </p:grpSpPr>
              <p:sp>
                <p:nvSpPr>
                  <p:cNvPr id="12853" name=""/>
                  <p:cNvSpPr/>
                  <p:nvPr/>
                </p:nvSpPr>
                <p:spPr>
                  <a:xfrm rot="4574400">
                    <a:off x="5562000" y="32911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4" name=""/>
                  <p:cNvSpPr/>
                  <p:nvPr/>
                </p:nvSpPr>
                <p:spPr>
                  <a:xfrm flipV="1">
                    <a:off x="5569920" y="3328200"/>
                    <a:ext cx="51120" cy="74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5" name=""/>
                  <p:cNvSpPr/>
                  <p:nvPr/>
                </p:nvSpPr>
                <p:spPr>
                  <a:xfrm flipV="1">
                    <a:off x="5591160" y="3369960"/>
                    <a:ext cx="1368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6" name=""/>
                  <p:cNvSpPr/>
                  <p:nvPr/>
                </p:nvSpPr>
                <p:spPr>
                  <a:xfrm flipV="1">
                    <a:off x="5596560" y="3340800"/>
                    <a:ext cx="7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7" name=""/>
                  <p:cNvSpPr/>
                  <p:nvPr/>
                </p:nvSpPr>
                <p:spPr>
                  <a:xfrm flipV="1">
                    <a:off x="5610600" y="3341520"/>
                    <a:ext cx="864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58" name=""/>
              <p:cNvGrpSpPr/>
              <p:nvPr/>
            </p:nvGrpSpPr>
            <p:grpSpPr>
              <a:xfrm>
                <a:off x="5393880" y="3269160"/>
                <a:ext cx="662040" cy="537120"/>
                <a:chOff x="5393880" y="3269160"/>
                <a:chExt cx="662040" cy="537120"/>
              </a:xfrm>
            </p:grpSpPr>
            <p:grpSp>
              <p:nvGrpSpPr>
                <p:cNvPr id="12859" name=""/>
                <p:cNvGrpSpPr/>
                <p:nvPr/>
              </p:nvGrpSpPr>
              <p:grpSpPr>
                <a:xfrm>
                  <a:off x="5686920" y="3605760"/>
                  <a:ext cx="145080" cy="148320"/>
                  <a:chOff x="5686920" y="3605760"/>
                  <a:chExt cx="145080" cy="148320"/>
                </a:xfrm>
              </p:grpSpPr>
              <p:sp>
                <p:nvSpPr>
                  <p:cNvPr id="12860" name=""/>
                  <p:cNvSpPr/>
                  <p:nvPr/>
                </p:nvSpPr>
                <p:spPr>
                  <a:xfrm rot="13188000">
                    <a:off x="5713560" y="3620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1" name=""/>
                  <p:cNvSpPr/>
                  <p:nvPr/>
                </p:nvSpPr>
                <p:spPr>
                  <a:xfrm>
                    <a:off x="5758920" y="3614760"/>
                    <a:ext cx="288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2" name=""/>
                  <p:cNvSpPr/>
                  <p:nvPr/>
                </p:nvSpPr>
                <p:spPr>
                  <a:xfrm flipH="1">
                    <a:off x="5750280" y="3646440"/>
                    <a:ext cx="540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3" name=""/>
                  <p:cNvSpPr/>
                  <p:nvPr/>
                </p:nvSpPr>
                <p:spPr>
                  <a:xfrm>
                    <a:off x="5763240" y="366588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4" name=""/>
                  <p:cNvSpPr/>
                  <p:nvPr/>
                </p:nvSpPr>
                <p:spPr>
                  <a:xfrm flipH="1">
                    <a:off x="5755680" y="3682080"/>
                    <a:ext cx="21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865" name=""/>
                <p:cNvSpPr/>
                <p:nvPr/>
              </p:nvSpPr>
              <p:spPr>
                <a:xfrm flipV="1">
                  <a:off x="5588640" y="3430440"/>
                  <a:ext cx="144720" cy="108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6" name=""/>
                <p:cNvSpPr/>
                <p:nvPr/>
              </p:nvSpPr>
              <p:spPr>
                <a:xfrm rot="9372600">
                  <a:off x="5428080" y="334656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7" name=""/>
                <p:cNvSpPr/>
                <p:nvPr/>
              </p:nvSpPr>
              <p:spPr>
                <a:xfrm>
                  <a:off x="5725800" y="3545280"/>
                  <a:ext cx="121680" cy="10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8" name=""/>
                <p:cNvSpPr/>
                <p:nvPr/>
              </p:nvSpPr>
              <p:spPr>
                <a:xfrm>
                  <a:off x="5418000" y="3459240"/>
                  <a:ext cx="194760" cy="18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9" name=""/>
                <p:cNvSpPr/>
                <p:nvPr/>
              </p:nvSpPr>
              <p:spPr>
                <a:xfrm flipV="1">
                  <a:off x="5661000" y="3433320"/>
                  <a:ext cx="15840" cy="51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0" name=""/>
                <p:cNvSpPr/>
                <p:nvPr/>
              </p:nvSpPr>
              <p:spPr>
                <a:xfrm flipV="1">
                  <a:off x="5621040" y="3522240"/>
                  <a:ext cx="56160" cy="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1" name=""/>
                <p:cNvSpPr/>
                <p:nvPr/>
              </p:nvSpPr>
              <p:spPr>
                <a:xfrm>
                  <a:off x="5782680" y="3587040"/>
                  <a:ext cx="89280" cy="27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2" name=""/>
                <p:cNvSpPr/>
                <p:nvPr/>
              </p:nvSpPr>
              <p:spPr>
                <a:xfrm>
                  <a:off x="5758920" y="3575520"/>
                  <a:ext cx="8280" cy="63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3" name=""/>
                <p:cNvSpPr/>
                <p:nvPr/>
              </p:nvSpPr>
              <p:spPr>
                <a:xfrm flipV="1">
                  <a:off x="5830920" y="3462120"/>
                  <a:ext cx="31680" cy="58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4" name=""/>
                <p:cNvSpPr/>
                <p:nvPr/>
              </p:nvSpPr>
              <p:spPr>
                <a:xfrm>
                  <a:off x="5515920" y="3548520"/>
                  <a:ext cx="153720" cy="43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5" name=""/>
                <p:cNvSpPr/>
                <p:nvPr/>
              </p:nvSpPr>
              <p:spPr>
                <a:xfrm>
                  <a:off x="5605200" y="3575880"/>
                  <a:ext cx="3204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6" name=""/>
                <p:cNvSpPr/>
                <p:nvPr/>
              </p:nvSpPr>
              <p:spPr>
                <a:xfrm>
                  <a:off x="5483160" y="3519000"/>
                  <a:ext cx="16920" cy="81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7" name=""/>
                <p:cNvSpPr/>
                <p:nvPr/>
              </p:nvSpPr>
              <p:spPr>
                <a:xfrm>
                  <a:off x="5581080" y="3609360"/>
                  <a:ext cx="24480" cy="55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8" name=""/>
                <p:cNvSpPr/>
                <p:nvPr/>
              </p:nvSpPr>
              <p:spPr>
                <a:xfrm flipV="1">
                  <a:off x="5515920" y="3457080"/>
                  <a:ext cx="56160" cy="47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9" name=""/>
                <p:cNvSpPr/>
                <p:nvPr/>
              </p:nvSpPr>
              <p:spPr>
                <a:xfrm flipV="1">
                  <a:off x="5758200" y="3490920"/>
                  <a:ext cx="39960" cy="39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0" name=""/>
                <p:cNvSpPr/>
                <p:nvPr/>
              </p:nvSpPr>
              <p:spPr>
                <a:xfrm>
                  <a:off x="5871600" y="3525120"/>
                  <a:ext cx="32400" cy="29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1" name=""/>
                <p:cNvGrpSpPr/>
                <p:nvPr/>
              </p:nvGrpSpPr>
              <p:grpSpPr>
                <a:xfrm>
                  <a:off x="5820120" y="3626640"/>
                  <a:ext cx="91440" cy="142560"/>
                  <a:chOff x="5820120" y="3626640"/>
                  <a:chExt cx="91440" cy="142560"/>
                </a:xfrm>
              </p:grpSpPr>
              <p:sp>
                <p:nvSpPr>
                  <p:cNvPr id="12882" name=""/>
                  <p:cNvSpPr/>
                  <p:nvPr/>
                </p:nvSpPr>
                <p:spPr>
                  <a:xfrm rot="11118000">
                    <a:off x="5825880" y="36298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3" name=""/>
                  <p:cNvSpPr/>
                  <p:nvPr/>
                </p:nvSpPr>
                <p:spPr>
                  <a:xfrm>
                    <a:off x="5834160" y="3637080"/>
                    <a:ext cx="45000" cy="82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4" name=""/>
                  <p:cNvSpPr/>
                  <p:nvPr/>
                </p:nvSpPr>
                <p:spPr>
                  <a:xfrm>
                    <a:off x="5846760" y="366840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5" name=""/>
                  <p:cNvSpPr/>
                  <p:nvPr/>
                </p:nvSpPr>
                <p:spPr>
                  <a:xfrm>
                    <a:off x="5861880" y="368208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6" name=""/>
                  <p:cNvSpPr/>
                  <p:nvPr/>
                </p:nvSpPr>
                <p:spPr>
                  <a:xfrm>
                    <a:off x="5864760" y="370080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7" name=""/>
                <p:cNvGrpSpPr/>
                <p:nvPr/>
              </p:nvGrpSpPr>
              <p:grpSpPr>
                <a:xfrm>
                  <a:off x="5658480" y="3458520"/>
                  <a:ext cx="153360" cy="150120"/>
                  <a:chOff x="5658480" y="3458520"/>
                  <a:chExt cx="153360" cy="150120"/>
                </a:xfrm>
              </p:grpSpPr>
              <p:sp>
                <p:nvSpPr>
                  <p:cNvPr id="12888" name=""/>
                  <p:cNvSpPr/>
                  <p:nvPr/>
                </p:nvSpPr>
                <p:spPr>
                  <a:xfrm rot="7959600">
                    <a:off x="5695200" y="34653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9" name=""/>
                  <p:cNvSpPr/>
                  <p:nvPr/>
                </p:nvSpPr>
                <p:spPr>
                  <a:xfrm>
                    <a:off x="5667840" y="3521520"/>
                    <a:ext cx="92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0" name=""/>
                  <p:cNvSpPr/>
                  <p:nvPr/>
                </p:nvSpPr>
                <p:spPr>
                  <a:xfrm>
                    <a:off x="5700240" y="3530520"/>
                    <a:ext cx="169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1" name=""/>
                  <p:cNvSpPr/>
                  <p:nvPr/>
                </p:nvSpPr>
                <p:spPr>
                  <a:xfrm flipV="1">
                    <a:off x="5720400" y="3519720"/>
                    <a:ext cx="1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2" name=""/>
                  <p:cNvSpPr/>
                  <p:nvPr/>
                </p:nvSpPr>
                <p:spPr>
                  <a:xfrm>
                    <a:off x="5736960" y="353592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3" name=""/>
                <p:cNvGrpSpPr/>
                <p:nvPr/>
              </p:nvGrpSpPr>
              <p:grpSpPr>
                <a:xfrm>
                  <a:off x="5655960" y="3550680"/>
                  <a:ext cx="127080" cy="156240"/>
                  <a:chOff x="5655960" y="3550680"/>
                  <a:chExt cx="127080" cy="156240"/>
                </a:xfrm>
              </p:grpSpPr>
              <p:sp>
                <p:nvSpPr>
                  <p:cNvPr id="12894" name=""/>
                  <p:cNvSpPr/>
                  <p:nvPr/>
                </p:nvSpPr>
                <p:spPr>
                  <a:xfrm rot="9372600">
                    <a:off x="5679720" y="35607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5" name=""/>
                  <p:cNvSpPr/>
                  <p:nvPr/>
                </p:nvSpPr>
                <p:spPr>
                  <a:xfrm>
                    <a:off x="5662440" y="3591000"/>
                    <a:ext cx="795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6" name=""/>
                  <p:cNvSpPr/>
                  <p:nvPr/>
                </p:nvSpPr>
                <p:spPr>
                  <a:xfrm>
                    <a:off x="5688720" y="361224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7" name=""/>
                  <p:cNvSpPr/>
                  <p:nvPr/>
                </p:nvSpPr>
                <p:spPr>
                  <a:xfrm flipV="1">
                    <a:off x="5708520" y="361620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8" name=""/>
                  <p:cNvSpPr/>
                  <p:nvPr/>
                </p:nvSpPr>
                <p:spPr>
                  <a:xfrm>
                    <a:off x="5720400" y="363204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99" name=""/>
                <p:cNvGrpSpPr/>
                <p:nvPr/>
              </p:nvGrpSpPr>
              <p:grpSpPr>
                <a:xfrm>
                  <a:off x="5684040" y="3301200"/>
                  <a:ext cx="147600" cy="138600"/>
                  <a:chOff x="5684040" y="3301200"/>
                  <a:chExt cx="147600" cy="138600"/>
                </a:xfrm>
              </p:grpSpPr>
              <p:sp>
                <p:nvSpPr>
                  <p:cNvPr id="12900" name=""/>
                  <p:cNvSpPr/>
                  <p:nvPr/>
                </p:nvSpPr>
                <p:spPr>
                  <a:xfrm rot="3541800">
                    <a:off x="5712120" y="3311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1" name=""/>
                  <p:cNvSpPr/>
                  <p:nvPr/>
                </p:nvSpPr>
                <p:spPr>
                  <a:xfrm flipV="1">
                    <a:off x="5737320" y="3345840"/>
                    <a:ext cx="2700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2" name=""/>
                  <p:cNvSpPr/>
                  <p:nvPr/>
                </p:nvSpPr>
                <p:spPr>
                  <a:xfrm flipV="1">
                    <a:off x="5750280" y="339012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3" name=""/>
                  <p:cNvSpPr/>
                  <p:nvPr/>
                </p:nvSpPr>
                <p:spPr>
                  <a:xfrm flipH="1" flipV="1">
                    <a:off x="5744880" y="336456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4" name=""/>
                  <p:cNvSpPr/>
                  <p:nvPr/>
                </p:nvSpPr>
                <p:spPr>
                  <a:xfrm flipV="1">
                    <a:off x="5760360" y="335880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05" name=""/>
                <p:cNvGrpSpPr/>
                <p:nvPr/>
              </p:nvGrpSpPr>
              <p:grpSpPr>
                <a:xfrm>
                  <a:off x="5889960" y="3514320"/>
                  <a:ext cx="127080" cy="156240"/>
                  <a:chOff x="5889960" y="3514320"/>
                  <a:chExt cx="127080" cy="156240"/>
                </a:xfrm>
              </p:grpSpPr>
              <p:sp>
                <p:nvSpPr>
                  <p:cNvPr id="12906" name=""/>
                  <p:cNvSpPr/>
                  <p:nvPr/>
                </p:nvSpPr>
                <p:spPr>
                  <a:xfrm rot="9372600">
                    <a:off x="5913720" y="3524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7" name=""/>
                  <p:cNvSpPr/>
                  <p:nvPr/>
                </p:nvSpPr>
                <p:spPr>
                  <a:xfrm>
                    <a:off x="5896440" y="3554280"/>
                    <a:ext cx="795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8" name=""/>
                  <p:cNvSpPr/>
                  <p:nvPr/>
                </p:nvSpPr>
                <p:spPr>
                  <a:xfrm>
                    <a:off x="5922720" y="35755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9" name=""/>
                  <p:cNvSpPr/>
                  <p:nvPr/>
                </p:nvSpPr>
                <p:spPr>
                  <a:xfrm flipV="1">
                    <a:off x="5942520" y="357948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0" name=""/>
                  <p:cNvSpPr/>
                  <p:nvPr/>
                </p:nvSpPr>
                <p:spPr>
                  <a:xfrm>
                    <a:off x="5954400" y="35953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1" name=""/>
                <p:cNvGrpSpPr/>
                <p:nvPr/>
              </p:nvGrpSpPr>
              <p:grpSpPr>
                <a:xfrm>
                  <a:off x="5599800" y="3597840"/>
                  <a:ext cx="127080" cy="156240"/>
                  <a:chOff x="5599800" y="3597840"/>
                  <a:chExt cx="127080" cy="156240"/>
                </a:xfrm>
              </p:grpSpPr>
              <p:sp>
                <p:nvSpPr>
                  <p:cNvPr id="12912" name=""/>
                  <p:cNvSpPr/>
                  <p:nvPr/>
                </p:nvSpPr>
                <p:spPr>
                  <a:xfrm rot="9372600">
                    <a:off x="5623560" y="3607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3" name=""/>
                  <p:cNvSpPr/>
                  <p:nvPr/>
                </p:nvSpPr>
                <p:spPr>
                  <a:xfrm>
                    <a:off x="5606640" y="3637800"/>
                    <a:ext cx="7920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4" name=""/>
                  <p:cNvSpPr/>
                  <p:nvPr/>
                </p:nvSpPr>
                <p:spPr>
                  <a:xfrm>
                    <a:off x="5632920" y="36594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5" name=""/>
                  <p:cNvSpPr/>
                  <p:nvPr/>
                </p:nvSpPr>
                <p:spPr>
                  <a:xfrm flipV="1">
                    <a:off x="5652720" y="366336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6" name=""/>
                  <p:cNvSpPr/>
                  <p:nvPr/>
                </p:nvSpPr>
                <p:spPr>
                  <a:xfrm>
                    <a:off x="5664240" y="367884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7" name=""/>
                <p:cNvGrpSpPr/>
                <p:nvPr/>
              </p:nvGrpSpPr>
              <p:grpSpPr>
                <a:xfrm>
                  <a:off x="5857920" y="3572640"/>
                  <a:ext cx="127080" cy="156240"/>
                  <a:chOff x="5857920" y="3572640"/>
                  <a:chExt cx="127080" cy="156240"/>
                </a:xfrm>
              </p:grpSpPr>
              <p:sp>
                <p:nvSpPr>
                  <p:cNvPr id="12918" name=""/>
                  <p:cNvSpPr/>
                  <p:nvPr/>
                </p:nvSpPr>
                <p:spPr>
                  <a:xfrm rot="9372600">
                    <a:off x="5881680" y="3582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9" name=""/>
                  <p:cNvSpPr/>
                  <p:nvPr/>
                </p:nvSpPr>
                <p:spPr>
                  <a:xfrm>
                    <a:off x="5864400" y="3612600"/>
                    <a:ext cx="79560" cy="50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0" name=""/>
                  <p:cNvSpPr/>
                  <p:nvPr/>
                </p:nvSpPr>
                <p:spPr>
                  <a:xfrm>
                    <a:off x="5890680" y="36342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1" name=""/>
                  <p:cNvSpPr/>
                  <p:nvPr/>
                </p:nvSpPr>
                <p:spPr>
                  <a:xfrm flipV="1">
                    <a:off x="5910480" y="3638160"/>
                    <a:ext cx="169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2" name=""/>
                  <p:cNvSpPr/>
                  <p:nvPr/>
                </p:nvSpPr>
                <p:spPr>
                  <a:xfrm>
                    <a:off x="5922360" y="365364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3" name=""/>
                <p:cNvGrpSpPr/>
                <p:nvPr/>
              </p:nvGrpSpPr>
              <p:grpSpPr>
                <a:xfrm>
                  <a:off x="5513760" y="3305520"/>
                  <a:ext cx="148320" cy="145440"/>
                  <a:chOff x="5513760" y="3305520"/>
                  <a:chExt cx="148320" cy="145440"/>
                </a:xfrm>
              </p:grpSpPr>
              <p:sp>
                <p:nvSpPr>
                  <p:cNvPr id="12924" name=""/>
                  <p:cNvSpPr/>
                  <p:nvPr/>
                </p:nvSpPr>
                <p:spPr>
                  <a:xfrm rot="2970600">
                    <a:off x="5542200" y="3319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5" name=""/>
                  <p:cNvSpPr/>
                  <p:nvPr/>
                </p:nvSpPr>
                <p:spPr>
                  <a:xfrm flipV="1">
                    <a:off x="5577840" y="3353040"/>
                    <a:ext cx="1224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6" name=""/>
                  <p:cNvSpPr/>
                  <p:nvPr/>
                </p:nvSpPr>
                <p:spPr>
                  <a:xfrm flipV="1">
                    <a:off x="5586120" y="339768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7" name=""/>
                  <p:cNvSpPr/>
                  <p:nvPr/>
                </p:nvSpPr>
                <p:spPr>
                  <a:xfrm flipH="1" flipV="1">
                    <a:off x="5574240" y="33750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8" name=""/>
                  <p:cNvSpPr/>
                  <p:nvPr/>
                </p:nvSpPr>
                <p:spPr>
                  <a:xfrm flipV="1">
                    <a:off x="5590080" y="3365640"/>
                    <a:ext cx="43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29" name=""/>
                <p:cNvGrpSpPr/>
                <p:nvPr/>
              </p:nvGrpSpPr>
              <p:grpSpPr>
                <a:xfrm>
                  <a:off x="5605920" y="3287160"/>
                  <a:ext cx="142200" cy="148320"/>
                  <a:chOff x="5605920" y="3287160"/>
                  <a:chExt cx="142200" cy="148320"/>
                </a:xfrm>
              </p:grpSpPr>
              <p:sp>
                <p:nvSpPr>
                  <p:cNvPr id="12930" name=""/>
                  <p:cNvSpPr/>
                  <p:nvPr/>
                </p:nvSpPr>
                <p:spPr>
                  <a:xfrm rot="2131200">
                    <a:off x="5631120" y="3302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1" name=""/>
                  <p:cNvSpPr/>
                  <p:nvPr/>
                </p:nvSpPr>
                <p:spPr>
                  <a:xfrm flipH="1" flipV="1">
                    <a:off x="5672880" y="3336480"/>
                    <a:ext cx="972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2" name=""/>
                  <p:cNvSpPr/>
                  <p:nvPr/>
                </p:nvSpPr>
                <p:spPr>
                  <a:xfrm flipV="1">
                    <a:off x="5683320" y="3378600"/>
                    <a:ext cx="43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3" name=""/>
                  <p:cNvSpPr/>
                  <p:nvPr/>
                </p:nvSpPr>
                <p:spPr>
                  <a:xfrm flipH="1" flipV="1">
                    <a:off x="5662800" y="336132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4" name=""/>
                  <p:cNvSpPr/>
                  <p:nvPr/>
                </p:nvSpPr>
                <p:spPr>
                  <a:xfrm flipV="1">
                    <a:off x="5678640" y="3347640"/>
                    <a:ext cx="14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5" name=""/>
                <p:cNvGrpSpPr/>
                <p:nvPr/>
              </p:nvGrpSpPr>
              <p:grpSpPr>
                <a:xfrm>
                  <a:off x="5854680" y="3383640"/>
                  <a:ext cx="146160" cy="134280"/>
                  <a:chOff x="5854680" y="3383640"/>
                  <a:chExt cx="146160" cy="134280"/>
                </a:xfrm>
              </p:grpSpPr>
              <p:sp>
                <p:nvSpPr>
                  <p:cNvPr id="12936" name=""/>
                  <p:cNvSpPr/>
                  <p:nvPr/>
                </p:nvSpPr>
                <p:spPr>
                  <a:xfrm rot="3783000">
                    <a:off x="5882040" y="3391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7" name=""/>
                  <p:cNvSpPr/>
                  <p:nvPr/>
                </p:nvSpPr>
                <p:spPr>
                  <a:xfrm flipV="1">
                    <a:off x="5902560" y="3426840"/>
                    <a:ext cx="33120" cy="84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8" name=""/>
                  <p:cNvSpPr/>
                  <p:nvPr/>
                </p:nvSpPr>
                <p:spPr>
                  <a:xfrm flipV="1">
                    <a:off x="5917680" y="3471120"/>
                    <a:ext cx="115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9" name=""/>
                  <p:cNvSpPr/>
                  <p:nvPr/>
                </p:nvSpPr>
                <p:spPr>
                  <a:xfrm flipH="1" flipV="1">
                    <a:off x="5915160" y="34441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0" name=""/>
                  <p:cNvSpPr/>
                  <p:nvPr/>
                </p:nvSpPr>
                <p:spPr>
                  <a:xfrm flipV="1">
                    <a:off x="5929920" y="34401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1" name=""/>
                <p:cNvGrpSpPr/>
                <p:nvPr/>
              </p:nvGrpSpPr>
              <p:grpSpPr>
                <a:xfrm>
                  <a:off x="5805720" y="3309480"/>
                  <a:ext cx="146880" cy="147600"/>
                  <a:chOff x="5805720" y="3309480"/>
                  <a:chExt cx="146880" cy="147600"/>
                </a:xfrm>
              </p:grpSpPr>
              <p:sp>
                <p:nvSpPr>
                  <p:cNvPr id="12942" name=""/>
                  <p:cNvSpPr/>
                  <p:nvPr/>
                </p:nvSpPr>
                <p:spPr>
                  <a:xfrm rot="2654400">
                    <a:off x="5833440" y="3324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3" name=""/>
                  <p:cNvSpPr/>
                  <p:nvPr/>
                </p:nvSpPr>
                <p:spPr>
                  <a:xfrm flipV="1">
                    <a:off x="5874840" y="3358080"/>
                    <a:ext cx="396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4" name=""/>
                  <p:cNvSpPr/>
                  <p:nvPr/>
                </p:nvSpPr>
                <p:spPr>
                  <a:xfrm flipV="1">
                    <a:off x="5880240" y="3402000"/>
                    <a:ext cx="648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5" name=""/>
                  <p:cNvSpPr/>
                  <p:nvPr/>
                </p:nvSpPr>
                <p:spPr>
                  <a:xfrm flipH="1" flipV="1">
                    <a:off x="5865120" y="338112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6" name=""/>
                  <p:cNvSpPr/>
                  <p:nvPr/>
                </p:nvSpPr>
                <p:spPr>
                  <a:xfrm flipV="1">
                    <a:off x="5880960" y="337032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7" name=""/>
                <p:cNvGrpSpPr/>
                <p:nvPr/>
              </p:nvGrpSpPr>
              <p:grpSpPr>
                <a:xfrm>
                  <a:off x="5732640" y="3366000"/>
                  <a:ext cx="148680" cy="143280"/>
                  <a:chOff x="5732640" y="3366000"/>
                  <a:chExt cx="148680" cy="143280"/>
                </a:xfrm>
              </p:grpSpPr>
              <p:sp>
                <p:nvSpPr>
                  <p:cNvPr id="12948" name=""/>
                  <p:cNvSpPr/>
                  <p:nvPr/>
                </p:nvSpPr>
                <p:spPr>
                  <a:xfrm rot="3174000">
                    <a:off x="5761080" y="3378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9" name=""/>
                  <p:cNvSpPr/>
                  <p:nvPr/>
                </p:nvSpPr>
                <p:spPr>
                  <a:xfrm flipV="1">
                    <a:off x="5792400" y="3412800"/>
                    <a:ext cx="1800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0" name=""/>
                  <p:cNvSpPr/>
                  <p:nvPr/>
                </p:nvSpPr>
                <p:spPr>
                  <a:xfrm flipV="1">
                    <a:off x="5802480" y="3457440"/>
                    <a:ext cx="90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1" name=""/>
                  <p:cNvSpPr/>
                  <p:nvPr/>
                </p:nvSpPr>
                <p:spPr>
                  <a:xfrm flipH="1" flipV="1">
                    <a:off x="5793120" y="3433320"/>
                    <a:ext cx="68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2" name=""/>
                  <p:cNvSpPr/>
                  <p:nvPr/>
                </p:nvSpPr>
                <p:spPr>
                  <a:xfrm flipV="1">
                    <a:off x="5808600" y="3425400"/>
                    <a:ext cx="50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3" name=""/>
                <p:cNvGrpSpPr/>
                <p:nvPr/>
              </p:nvGrpSpPr>
              <p:grpSpPr>
                <a:xfrm>
                  <a:off x="5830200" y="3498120"/>
                  <a:ext cx="132120" cy="111240"/>
                  <a:chOff x="5830200" y="3498120"/>
                  <a:chExt cx="132120" cy="111240"/>
                </a:xfrm>
              </p:grpSpPr>
              <p:sp>
                <p:nvSpPr>
                  <p:cNvPr id="12954" name=""/>
                  <p:cNvSpPr/>
                  <p:nvPr/>
                </p:nvSpPr>
                <p:spPr>
                  <a:xfrm rot="4758000">
                    <a:off x="5850360" y="3494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5" name=""/>
                  <p:cNvSpPr/>
                  <p:nvPr/>
                </p:nvSpPr>
                <p:spPr>
                  <a:xfrm flipV="1">
                    <a:off x="5855400" y="3532680"/>
                    <a:ext cx="55080" cy="71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6" name=""/>
                  <p:cNvSpPr/>
                  <p:nvPr/>
                </p:nvSpPr>
                <p:spPr>
                  <a:xfrm flipV="1">
                    <a:off x="5877720" y="3573360"/>
                    <a:ext cx="1404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7" name=""/>
                  <p:cNvSpPr/>
                  <p:nvPr/>
                </p:nvSpPr>
                <p:spPr>
                  <a:xfrm flipV="1">
                    <a:off x="5884200" y="3543840"/>
                    <a:ext cx="18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8" name=""/>
                  <p:cNvSpPr/>
                  <p:nvPr/>
                </p:nvSpPr>
                <p:spPr>
                  <a:xfrm flipV="1">
                    <a:off x="5898600" y="3545640"/>
                    <a:ext cx="93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59" name=""/>
                <p:cNvGrpSpPr/>
                <p:nvPr/>
              </p:nvGrpSpPr>
              <p:grpSpPr>
                <a:xfrm>
                  <a:off x="5625000" y="3528720"/>
                  <a:ext cx="155880" cy="126720"/>
                  <a:chOff x="5625000" y="3528720"/>
                  <a:chExt cx="155880" cy="126720"/>
                </a:xfrm>
              </p:grpSpPr>
              <p:sp>
                <p:nvSpPr>
                  <p:cNvPr id="12960" name=""/>
                  <p:cNvSpPr/>
                  <p:nvPr/>
                </p:nvSpPr>
                <p:spPr>
                  <a:xfrm rot="6808800">
                    <a:off x="5663160" y="3524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1" name=""/>
                  <p:cNvSpPr/>
                  <p:nvPr/>
                </p:nvSpPr>
                <p:spPr>
                  <a:xfrm flipV="1">
                    <a:off x="5635440" y="3586320"/>
                    <a:ext cx="928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2" name=""/>
                  <p:cNvSpPr/>
                  <p:nvPr/>
                </p:nvSpPr>
                <p:spPr>
                  <a:xfrm>
                    <a:off x="5669280" y="3600720"/>
                    <a:ext cx="183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3" name=""/>
                  <p:cNvSpPr/>
                  <p:nvPr/>
                </p:nvSpPr>
                <p:spPr>
                  <a:xfrm flipV="1">
                    <a:off x="5686920" y="3578760"/>
                    <a:ext cx="118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4" name=""/>
                  <p:cNvSpPr/>
                  <p:nvPr/>
                </p:nvSpPr>
                <p:spPr>
                  <a:xfrm>
                    <a:off x="5705640" y="3593520"/>
                    <a:ext cx="129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65" name=""/>
                <p:cNvGrpSpPr/>
                <p:nvPr/>
              </p:nvGrpSpPr>
              <p:grpSpPr>
                <a:xfrm>
                  <a:off x="5515920" y="3659400"/>
                  <a:ext cx="147600" cy="146880"/>
                  <a:chOff x="5515920" y="3659400"/>
                  <a:chExt cx="147600" cy="146880"/>
                </a:xfrm>
              </p:grpSpPr>
              <p:sp>
                <p:nvSpPr>
                  <p:cNvPr id="12966" name=""/>
                  <p:cNvSpPr/>
                  <p:nvPr/>
                </p:nvSpPr>
                <p:spPr>
                  <a:xfrm rot="13605600">
                    <a:off x="5544000" y="36741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7" name=""/>
                  <p:cNvSpPr/>
                  <p:nvPr/>
                </p:nvSpPr>
                <p:spPr>
                  <a:xfrm flipH="1">
                    <a:off x="5589000" y="3668040"/>
                    <a:ext cx="828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8" name=""/>
                  <p:cNvSpPr/>
                  <p:nvPr/>
                </p:nvSpPr>
                <p:spPr>
                  <a:xfrm flipH="1">
                    <a:off x="5582880" y="369900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9" name=""/>
                  <p:cNvSpPr/>
                  <p:nvPr/>
                </p:nvSpPr>
                <p:spPr>
                  <a:xfrm>
                    <a:off x="5595480" y="371916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0" name=""/>
                  <p:cNvSpPr/>
                  <p:nvPr/>
                </p:nvSpPr>
                <p:spPr>
                  <a:xfrm flipH="1">
                    <a:off x="5584320" y="3734280"/>
                    <a:ext cx="36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1" name=""/>
                <p:cNvGrpSpPr/>
                <p:nvPr/>
              </p:nvGrpSpPr>
              <p:grpSpPr>
                <a:xfrm>
                  <a:off x="5410440" y="3595320"/>
                  <a:ext cx="148320" cy="145800"/>
                  <a:chOff x="5410440" y="3595320"/>
                  <a:chExt cx="148320" cy="145800"/>
                </a:xfrm>
              </p:grpSpPr>
              <p:sp>
                <p:nvSpPr>
                  <p:cNvPr id="12972" name=""/>
                  <p:cNvSpPr/>
                  <p:nvPr/>
                </p:nvSpPr>
                <p:spPr>
                  <a:xfrm rot="13725600">
                    <a:off x="5438880" y="3609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3" name=""/>
                  <p:cNvSpPr/>
                  <p:nvPr/>
                </p:nvSpPr>
                <p:spPr>
                  <a:xfrm flipH="1">
                    <a:off x="5483160" y="3603600"/>
                    <a:ext cx="111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4" name=""/>
                  <p:cNvSpPr/>
                  <p:nvPr/>
                </p:nvSpPr>
                <p:spPr>
                  <a:xfrm flipH="1">
                    <a:off x="5478480" y="3634560"/>
                    <a:ext cx="792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5" name=""/>
                  <p:cNvSpPr/>
                  <p:nvPr/>
                </p:nvSpPr>
                <p:spPr>
                  <a:xfrm>
                    <a:off x="5490720" y="36547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6" name=""/>
                  <p:cNvSpPr/>
                  <p:nvPr/>
                </p:nvSpPr>
                <p:spPr>
                  <a:xfrm flipH="1">
                    <a:off x="5478840" y="3669840"/>
                    <a:ext cx="39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7" name=""/>
                <p:cNvGrpSpPr/>
                <p:nvPr/>
              </p:nvGrpSpPr>
              <p:grpSpPr>
                <a:xfrm>
                  <a:off x="5567040" y="3392280"/>
                  <a:ext cx="156960" cy="138600"/>
                  <a:chOff x="5567040" y="3392280"/>
                  <a:chExt cx="156960" cy="138600"/>
                </a:xfrm>
              </p:grpSpPr>
              <p:sp>
                <p:nvSpPr>
                  <p:cNvPr id="12978" name=""/>
                  <p:cNvSpPr/>
                  <p:nvPr/>
                </p:nvSpPr>
                <p:spPr>
                  <a:xfrm rot="7298400">
                    <a:off x="5605560" y="3393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9" name=""/>
                  <p:cNvSpPr/>
                  <p:nvPr/>
                </p:nvSpPr>
                <p:spPr>
                  <a:xfrm flipV="1">
                    <a:off x="5577120" y="3459240"/>
                    <a:ext cx="939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0" name=""/>
                  <p:cNvSpPr/>
                  <p:nvPr/>
                </p:nvSpPr>
                <p:spPr>
                  <a:xfrm>
                    <a:off x="5610960" y="3465360"/>
                    <a:ext cx="180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1" name=""/>
                  <p:cNvSpPr/>
                  <p:nvPr/>
                </p:nvSpPr>
                <p:spPr>
                  <a:xfrm flipV="1">
                    <a:off x="5629680" y="344808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2" name=""/>
                  <p:cNvSpPr/>
                  <p:nvPr/>
                </p:nvSpPr>
                <p:spPr>
                  <a:xfrm>
                    <a:off x="5648040" y="346356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3" name=""/>
                <p:cNvGrpSpPr/>
                <p:nvPr/>
              </p:nvGrpSpPr>
              <p:grpSpPr>
                <a:xfrm>
                  <a:off x="5711400" y="3362760"/>
                  <a:ext cx="142200" cy="127080"/>
                  <a:chOff x="5711400" y="3362760"/>
                  <a:chExt cx="142200" cy="127080"/>
                </a:xfrm>
              </p:grpSpPr>
              <p:sp>
                <p:nvSpPr>
                  <p:cNvPr id="12984" name=""/>
                  <p:cNvSpPr/>
                  <p:nvPr/>
                </p:nvSpPr>
                <p:spPr>
                  <a:xfrm rot="6663000">
                    <a:off x="5736600" y="33674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5" name=""/>
                  <p:cNvSpPr/>
                  <p:nvPr/>
                </p:nvSpPr>
                <p:spPr>
                  <a:xfrm flipV="1">
                    <a:off x="5720760" y="3415680"/>
                    <a:ext cx="84960" cy="32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6" name=""/>
                  <p:cNvSpPr/>
                  <p:nvPr/>
                </p:nvSpPr>
                <p:spPr>
                  <a:xfrm>
                    <a:off x="5751720" y="34401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7" name=""/>
                  <p:cNvSpPr/>
                  <p:nvPr/>
                </p:nvSpPr>
                <p:spPr>
                  <a:xfrm flipV="1">
                    <a:off x="5767560" y="341208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8" name=""/>
                  <p:cNvSpPr/>
                  <p:nvPr/>
                </p:nvSpPr>
                <p:spPr>
                  <a:xfrm flipV="1">
                    <a:off x="5784840" y="3425400"/>
                    <a:ext cx="115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89" name=""/>
                <p:cNvGrpSpPr/>
                <p:nvPr/>
              </p:nvGrpSpPr>
              <p:grpSpPr>
                <a:xfrm>
                  <a:off x="5857560" y="3389040"/>
                  <a:ext cx="140040" cy="123480"/>
                  <a:chOff x="5857560" y="3389040"/>
                  <a:chExt cx="140040" cy="123480"/>
                </a:xfrm>
              </p:grpSpPr>
              <p:sp>
                <p:nvSpPr>
                  <p:cNvPr id="12990" name=""/>
                  <p:cNvSpPr/>
                  <p:nvPr/>
                </p:nvSpPr>
                <p:spPr>
                  <a:xfrm rot="6502800">
                    <a:off x="5881680" y="3391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1" name=""/>
                  <p:cNvSpPr/>
                  <p:nvPr/>
                </p:nvSpPr>
                <p:spPr>
                  <a:xfrm flipV="1">
                    <a:off x="5866920" y="3439800"/>
                    <a:ext cx="83160" cy="35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2" name=""/>
                  <p:cNvSpPr/>
                  <p:nvPr/>
                </p:nvSpPr>
                <p:spPr>
                  <a:xfrm flipV="1">
                    <a:off x="5897520" y="346608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3" name=""/>
                  <p:cNvSpPr/>
                  <p:nvPr/>
                </p:nvSpPr>
                <p:spPr>
                  <a:xfrm flipV="1">
                    <a:off x="5913000" y="343728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4" name=""/>
                  <p:cNvSpPr/>
                  <p:nvPr/>
                </p:nvSpPr>
                <p:spPr>
                  <a:xfrm flipV="1">
                    <a:off x="5929920" y="3449880"/>
                    <a:ext cx="115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95" name=""/>
                <p:cNvGrpSpPr/>
                <p:nvPr/>
              </p:nvGrpSpPr>
              <p:grpSpPr>
                <a:xfrm>
                  <a:off x="5898960" y="3448440"/>
                  <a:ext cx="156960" cy="134640"/>
                  <a:chOff x="5898960" y="3448440"/>
                  <a:chExt cx="156960" cy="134640"/>
                </a:xfrm>
              </p:grpSpPr>
              <p:sp>
                <p:nvSpPr>
                  <p:cNvPr id="12996" name=""/>
                  <p:cNvSpPr/>
                  <p:nvPr/>
                </p:nvSpPr>
                <p:spPr>
                  <a:xfrm rot="7135200">
                    <a:off x="5937840" y="34477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7" name=""/>
                  <p:cNvSpPr/>
                  <p:nvPr/>
                </p:nvSpPr>
                <p:spPr>
                  <a:xfrm flipV="1">
                    <a:off x="5908680" y="3512160"/>
                    <a:ext cx="939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8" name=""/>
                  <p:cNvSpPr/>
                  <p:nvPr/>
                </p:nvSpPr>
                <p:spPr>
                  <a:xfrm>
                    <a:off x="5942880" y="3520440"/>
                    <a:ext cx="180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9" name=""/>
                  <p:cNvSpPr/>
                  <p:nvPr/>
                </p:nvSpPr>
                <p:spPr>
                  <a:xfrm flipV="1">
                    <a:off x="5961240" y="350208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0" name=""/>
                  <p:cNvSpPr/>
                  <p:nvPr/>
                </p:nvSpPr>
                <p:spPr>
                  <a:xfrm>
                    <a:off x="5979600" y="351720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01" name=""/>
              <p:cNvGrpSpPr/>
              <p:nvPr/>
            </p:nvGrpSpPr>
            <p:grpSpPr>
              <a:xfrm>
                <a:off x="4819680" y="3016800"/>
                <a:ext cx="579240" cy="649080"/>
                <a:chOff x="4819680" y="3016800"/>
                <a:chExt cx="579240" cy="649080"/>
              </a:xfrm>
            </p:grpSpPr>
            <p:grpSp>
              <p:nvGrpSpPr>
                <p:cNvPr id="13002" name=""/>
                <p:cNvGrpSpPr/>
                <p:nvPr/>
              </p:nvGrpSpPr>
              <p:grpSpPr>
                <a:xfrm>
                  <a:off x="5142960" y="3177720"/>
                  <a:ext cx="138960" cy="121680"/>
                  <a:chOff x="5142960" y="3177720"/>
                  <a:chExt cx="138960" cy="121680"/>
                </a:xfrm>
              </p:grpSpPr>
              <p:sp>
                <p:nvSpPr>
                  <p:cNvPr id="13003" name=""/>
                  <p:cNvSpPr/>
                  <p:nvPr/>
                </p:nvSpPr>
                <p:spPr>
                  <a:xfrm rot="6426000">
                    <a:off x="5166720" y="3179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4" name=""/>
                  <p:cNvSpPr/>
                  <p:nvPr/>
                </p:nvSpPr>
                <p:spPr>
                  <a:xfrm flipV="1">
                    <a:off x="5152680" y="3226680"/>
                    <a:ext cx="82440" cy="37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5" name=""/>
                  <p:cNvSpPr/>
                  <p:nvPr/>
                </p:nvSpPr>
                <p:spPr>
                  <a:xfrm flipV="1">
                    <a:off x="5183280" y="325368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6" name=""/>
                  <p:cNvSpPr/>
                  <p:nvPr/>
                </p:nvSpPr>
                <p:spPr>
                  <a:xfrm flipV="1">
                    <a:off x="5198040" y="3224520"/>
                    <a:ext cx="100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7" name=""/>
                  <p:cNvSpPr/>
                  <p:nvPr/>
                </p:nvSpPr>
                <p:spPr>
                  <a:xfrm flipV="1">
                    <a:off x="5214960" y="3236760"/>
                    <a:ext cx="11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8" name=""/>
                <p:cNvSpPr/>
                <p:nvPr/>
              </p:nvSpPr>
              <p:spPr>
                <a:xfrm flipH="1" flipV="1">
                  <a:off x="4992480" y="3358800"/>
                  <a:ext cx="155520" cy="91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9" name=""/>
                <p:cNvSpPr/>
                <p:nvPr/>
              </p:nvSpPr>
              <p:spPr>
                <a:xfrm rot="2610600">
                  <a:off x="4849920" y="328608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0" name=""/>
                <p:cNvSpPr/>
                <p:nvPr/>
              </p:nvSpPr>
              <p:spPr>
                <a:xfrm flipV="1">
                  <a:off x="5101200" y="3170160"/>
                  <a:ext cx="46440" cy="151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1" name=""/>
                <p:cNvSpPr/>
                <p:nvPr/>
              </p:nvSpPr>
              <p:spPr>
                <a:xfrm flipV="1">
                  <a:off x="5140440" y="3389400"/>
                  <a:ext cx="91080" cy="249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2" name=""/>
                <p:cNvSpPr/>
                <p:nvPr/>
              </p:nvSpPr>
              <p:spPr>
                <a:xfrm flipH="1">
                  <a:off x="5016960" y="3404520"/>
                  <a:ext cx="53280" cy="5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3" name=""/>
                <p:cNvSpPr/>
                <p:nvPr/>
              </p:nvSpPr>
              <p:spPr>
                <a:xfrm flipH="1" flipV="1">
                  <a:off x="5098680" y="3375000"/>
                  <a:ext cx="23760" cy="51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4" name=""/>
                <p:cNvSpPr/>
                <p:nvPr/>
              </p:nvSpPr>
              <p:spPr>
                <a:xfrm flipH="1" flipV="1">
                  <a:off x="5108400" y="3160080"/>
                  <a:ext cx="9360" cy="9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5" name=""/>
                <p:cNvSpPr/>
                <p:nvPr/>
              </p:nvSpPr>
              <p:spPr>
                <a:xfrm flipV="1">
                  <a:off x="5116320" y="3247200"/>
                  <a:ext cx="54720" cy="32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6" name=""/>
                <p:cNvSpPr/>
                <p:nvPr/>
              </p:nvSpPr>
              <p:spPr>
                <a:xfrm flipH="1" flipV="1">
                  <a:off x="4971600" y="3227400"/>
                  <a:ext cx="66240" cy="6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7" name=""/>
                <p:cNvSpPr/>
                <p:nvPr/>
              </p:nvSpPr>
              <p:spPr>
                <a:xfrm flipH="1" flipV="1">
                  <a:off x="5165640" y="3355200"/>
                  <a:ext cx="19440" cy="158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8" name=""/>
                <p:cNvSpPr/>
                <p:nvPr/>
              </p:nvSpPr>
              <p:spPr>
                <a:xfrm flipV="1">
                  <a:off x="5176080" y="3379680"/>
                  <a:ext cx="1548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9" name=""/>
                <p:cNvSpPr/>
                <p:nvPr/>
              </p:nvSpPr>
              <p:spPr>
                <a:xfrm flipV="1">
                  <a:off x="5170680" y="3508560"/>
                  <a:ext cx="68400" cy="46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0" name=""/>
                <p:cNvSpPr/>
                <p:nvPr/>
              </p:nvSpPr>
              <p:spPr>
                <a:xfrm flipV="1">
                  <a:off x="5216400" y="3386160"/>
                  <a:ext cx="41760" cy="44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1" name=""/>
                <p:cNvSpPr/>
                <p:nvPr/>
              </p:nvSpPr>
              <p:spPr>
                <a:xfrm flipH="1" flipV="1">
                  <a:off x="5079240" y="3497400"/>
                  <a:ext cx="65160" cy="33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2" name=""/>
                <p:cNvSpPr/>
                <p:nvPr/>
              </p:nvSpPr>
              <p:spPr>
                <a:xfrm flipH="1" flipV="1">
                  <a:off x="5023080" y="3275640"/>
                  <a:ext cx="52200" cy="2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3" name=""/>
                <p:cNvSpPr/>
                <p:nvPr/>
              </p:nvSpPr>
              <p:spPr>
                <a:xfrm flipV="1">
                  <a:off x="5026320" y="3153600"/>
                  <a:ext cx="15120" cy="41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4" name=""/>
                <p:cNvGrpSpPr/>
                <p:nvPr/>
              </p:nvGrpSpPr>
              <p:grpSpPr>
                <a:xfrm>
                  <a:off x="5111280" y="3075480"/>
                  <a:ext cx="153360" cy="116280"/>
                  <a:chOff x="5111280" y="3075480"/>
                  <a:chExt cx="153360" cy="116280"/>
                </a:xfrm>
              </p:grpSpPr>
              <p:sp>
                <p:nvSpPr>
                  <p:cNvPr id="13025" name=""/>
                  <p:cNvSpPr/>
                  <p:nvPr/>
                </p:nvSpPr>
                <p:spPr>
                  <a:xfrm rot="4356000">
                    <a:off x="5148360" y="3065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6" name=""/>
                  <p:cNvSpPr/>
                  <p:nvPr/>
                </p:nvSpPr>
                <p:spPr>
                  <a:xfrm flipV="1">
                    <a:off x="5144040" y="3112560"/>
                    <a:ext cx="59400" cy="73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7" name=""/>
                  <p:cNvSpPr/>
                  <p:nvPr/>
                </p:nvSpPr>
                <p:spPr>
                  <a:xfrm flipV="1">
                    <a:off x="5168160" y="315180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8" name=""/>
                  <p:cNvSpPr/>
                  <p:nvPr/>
                </p:nvSpPr>
                <p:spPr>
                  <a:xfrm flipV="1">
                    <a:off x="5175000" y="3126600"/>
                    <a:ext cx="14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9" name=""/>
                  <p:cNvSpPr/>
                  <p:nvPr/>
                </p:nvSpPr>
                <p:spPr>
                  <a:xfrm flipV="1">
                    <a:off x="5191200" y="31248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0" name=""/>
                <p:cNvGrpSpPr/>
                <p:nvPr/>
              </p:nvGrpSpPr>
              <p:grpSpPr>
                <a:xfrm>
                  <a:off x="5026320" y="3240360"/>
                  <a:ext cx="120960" cy="154440"/>
                  <a:chOff x="5026320" y="3240360"/>
                  <a:chExt cx="120960" cy="154440"/>
                </a:xfrm>
              </p:grpSpPr>
              <p:sp>
                <p:nvSpPr>
                  <p:cNvPr id="13031" name=""/>
                  <p:cNvSpPr/>
                  <p:nvPr/>
                </p:nvSpPr>
                <p:spPr>
                  <a:xfrm rot="1197600">
                    <a:off x="5047200" y="3249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2" name=""/>
                  <p:cNvSpPr/>
                  <p:nvPr/>
                </p:nvSpPr>
                <p:spPr>
                  <a:xfrm flipH="1" flipV="1">
                    <a:off x="5079240" y="3292560"/>
                    <a:ext cx="22320" cy="9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3" name=""/>
                  <p:cNvSpPr/>
                  <p:nvPr/>
                </p:nvSpPr>
                <p:spPr>
                  <a:xfrm flipV="1">
                    <a:off x="5097240" y="3331800"/>
                    <a:ext cx="144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4" name=""/>
                  <p:cNvSpPr/>
                  <p:nvPr/>
                </p:nvSpPr>
                <p:spPr>
                  <a:xfrm flipH="1" flipV="1">
                    <a:off x="5073840" y="3322440"/>
                    <a:ext cx="126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5" name=""/>
                  <p:cNvSpPr/>
                  <p:nvPr/>
                </p:nvSpPr>
                <p:spPr>
                  <a:xfrm flipH="1" flipV="1">
                    <a:off x="5087520" y="3301920"/>
                    <a:ext cx="7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36" name=""/>
                <p:cNvGrpSpPr/>
                <p:nvPr/>
              </p:nvGrpSpPr>
              <p:grpSpPr>
                <a:xfrm>
                  <a:off x="5105160" y="3218760"/>
                  <a:ext cx="151200" cy="153000"/>
                  <a:chOff x="5105160" y="3218760"/>
                  <a:chExt cx="151200" cy="153000"/>
                </a:xfrm>
              </p:grpSpPr>
              <p:sp>
                <p:nvSpPr>
                  <p:cNvPr id="13037" name=""/>
                  <p:cNvSpPr/>
                  <p:nvPr/>
                </p:nvSpPr>
                <p:spPr>
                  <a:xfrm rot="2610600">
                    <a:off x="5140800" y="3227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8" name=""/>
                  <p:cNvSpPr/>
                  <p:nvPr/>
                </p:nvSpPr>
                <p:spPr>
                  <a:xfrm flipV="1">
                    <a:off x="5167800" y="326952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9" name=""/>
                  <p:cNvSpPr/>
                  <p:nvPr/>
                </p:nvSpPr>
                <p:spPr>
                  <a:xfrm flipV="1">
                    <a:off x="5177520" y="331308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0" name=""/>
                  <p:cNvSpPr/>
                  <p:nvPr/>
                </p:nvSpPr>
                <p:spPr>
                  <a:xfrm flipH="1" flipV="1">
                    <a:off x="5167080" y="32947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1" name=""/>
                  <p:cNvSpPr/>
                  <p:nvPr/>
                </p:nvSpPr>
                <p:spPr>
                  <a:xfrm flipV="1">
                    <a:off x="5183280" y="3281040"/>
                    <a:ext cx="46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2" name=""/>
                <p:cNvGrpSpPr/>
                <p:nvPr/>
              </p:nvGrpSpPr>
              <p:grpSpPr>
                <a:xfrm>
                  <a:off x="4853160" y="3287520"/>
                  <a:ext cx="148680" cy="142920"/>
                  <a:chOff x="4853160" y="3287520"/>
                  <a:chExt cx="148680" cy="142920"/>
                </a:xfrm>
              </p:grpSpPr>
              <p:sp>
                <p:nvSpPr>
                  <p:cNvPr id="13043" name=""/>
                  <p:cNvSpPr/>
                  <p:nvPr/>
                </p:nvSpPr>
                <p:spPr>
                  <a:xfrm rot="18379800">
                    <a:off x="4881600" y="3300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4" name=""/>
                  <p:cNvSpPr/>
                  <p:nvPr/>
                </p:nvSpPr>
                <p:spPr>
                  <a:xfrm flipH="1">
                    <a:off x="4902480" y="3354480"/>
                    <a:ext cx="9000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5" name=""/>
                  <p:cNvSpPr/>
                  <p:nvPr/>
                </p:nvSpPr>
                <p:spPr>
                  <a:xfrm flipH="1" flipV="1">
                    <a:off x="4944960" y="3349080"/>
                    <a:ext cx="158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6" name=""/>
                  <p:cNvSpPr/>
                  <p:nvPr/>
                </p:nvSpPr>
                <p:spPr>
                  <a:xfrm flipH="1">
                    <a:off x="4927320" y="3362040"/>
                    <a:ext cx="14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7" name=""/>
                  <p:cNvSpPr/>
                  <p:nvPr/>
                </p:nvSpPr>
                <p:spPr>
                  <a:xfrm flipH="1" flipV="1">
                    <a:off x="4913640" y="3355920"/>
                    <a:ext cx="1188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8" name=""/>
                <p:cNvGrpSpPr/>
                <p:nvPr/>
              </p:nvGrpSpPr>
              <p:grpSpPr>
                <a:xfrm>
                  <a:off x="4981320" y="3016800"/>
                  <a:ext cx="151200" cy="153000"/>
                  <a:chOff x="4981320" y="3016800"/>
                  <a:chExt cx="151200" cy="153000"/>
                </a:xfrm>
              </p:grpSpPr>
              <p:sp>
                <p:nvSpPr>
                  <p:cNvPr id="13049" name=""/>
                  <p:cNvSpPr/>
                  <p:nvPr/>
                </p:nvSpPr>
                <p:spPr>
                  <a:xfrm rot="2610600">
                    <a:off x="5016960" y="30250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0" name=""/>
                  <p:cNvSpPr/>
                  <p:nvPr/>
                </p:nvSpPr>
                <p:spPr>
                  <a:xfrm flipV="1">
                    <a:off x="5043600" y="306756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1" name=""/>
                  <p:cNvSpPr/>
                  <p:nvPr/>
                </p:nvSpPr>
                <p:spPr>
                  <a:xfrm flipV="1">
                    <a:off x="5053320" y="311148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2" name=""/>
                  <p:cNvSpPr/>
                  <p:nvPr/>
                </p:nvSpPr>
                <p:spPr>
                  <a:xfrm flipH="1" flipV="1">
                    <a:off x="5042880" y="309276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3" name=""/>
                  <p:cNvSpPr/>
                  <p:nvPr/>
                </p:nvSpPr>
                <p:spPr>
                  <a:xfrm flipV="1">
                    <a:off x="5059080" y="3079440"/>
                    <a:ext cx="46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54" name=""/>
                <p:cNvGrpSpPr/>
                <p:nvPr/>
              </p:nvGrpSpPr>
              <p:grpSpPr>
                <a:xfrm>
                  <a:off x="5170320" y="3252240"/>
                  <a:ext cx="151200" cy="153000"/>
                  <a:chOff x="5170320" y="3252240"/>
                  <a:chExt cx="151200" cy="153000"/>
                </a:xfrm>
              </p:grpSpPr>
              <p:sp>
                <p:nvSpPr>
                  <p:cNvPr id="13055" name=""/>
                  <p:cNvSpPr/>
                  <p:nvPr/>
                </p:nvSpPr>
                <p:spPr>
                  <a:xfrm rot="2610600">
                    <a:off x="5205960" y="3260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6" name=""/>
                  <p:cNvSpPr/>
                  <p:nvPr/>
                </p:nvSpPr>
                <p:spPr>
                  <a:xfrm flipV="1">
                    <a:off x="5232960" y="330300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7" name=""/>
                  <p:cNvSpPr/>
                  <p:nvPr/>
                </p:nvSpPr>
                <p:spPr>
                  <a:xfrm flipV="1">
                    <a:off x="5242320" y="334656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8" name=""/>
                  <p:cNvSpPr/>
                  <p:nvPr/>
                </p:nvSpPr>
                <p:spPr>
                  <a:xfrm flipH="1" flipV="1">
                    <a:off x="5232240" y="3328200"/>
                    <a:ext cx="68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9" name=""/>
                  <p:cNvSpPr/>
                  <p:nvPr/>
                </p:nvSpPr>
                <p:spPr>
                  <a:xfrm flipV="1">
                    <a:off x="5248440" y="331452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0" name=""/>
                <p:cNvGrpSpPr/>
                <p:nvPr/>
              </p:nvGrpSpPr>
              <p:grpSpPr>
                <a:xfrm>
                  <a:off x="5047560" y="3023640"/>
                  <a:ext cx="151200" cy="153000"/>
                  <a:chOff x="5047560" y="3023640"/>
                  <a:chExt cx="151200" cy="153000"/>
                </a:xfrm>
              </p:grpSpPr>
              <p:sp>
                <p:nvSpPr>
                  <p:cNvPr id="13061" name=""/>
                  <p:cNvSpPr/>
                  <p:nvPr/>
                </p:nvSpPr>
                <p:spPr>
                  <a:xfrm rot="2610600">
                    <a:off x="5083200" y="30319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2" name=""/>
                  <p:cNvSpPr/>
                  <p:nvPr/>
                </p:nvSpPr>
                <p:spPr>
                  <a:xfrm flipV="1">
                    <a:off x="5109840" y="307476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3" name=""/>
                  <p:cNvSpPr/>
                  <p:nvPr/>
                </p:nvSpPr>
                <p:spPr>
                  <a:xfrm flipV="1">
                    <a:off x="5119560" y="311832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4" name=""/>
                  <p:cNvSpPr/>
                  <p:nvPr/>
                </p:nvSpPr>
                <p:spPr>
                  <a:xfrm flipH="1" flipV="1">
                    <a:off x="5109120" y="3099600"/>
                    <a:ext cx="72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5" name=""/>
                  <p:cNvSpPr/>
                  <p:nvPr/>
                </p:nvSpPr>
                <p:spPr>
                  <a:xfrm flipV="1">
                    <a:off x="5125680" y="3086280"/>
                    <a:ext cx="43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66" name=""/>
                <p:cNvGrpSpPr/>
                <p:nvPr/>
              </p:nvGrpSpPr>
              <p:grpSpPr>
                <a:xfrm>
                  <a:off x="4927320" y="3445920"/>
                  <a:ext cx="145800" cy="134280"/>
                  <a:chOff x="4927320" y="3445920"/>
                  <a:chExt cx="145800" cy="134280"/>
                </a:xfrm>
              </p:grpSpPr>
              <p:sp>
                <p:nvSpPr>
                  <p:cNvPr id="13067" name=""/>
                  <p:cNvSpPr/>
                  <p:nvPr/>
                </p:nvSpPr>
                <p:spPr>
                  <a:xfrm rot="17808600">
                    <a:off x="4954680" y="3454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8" name=""/>
                  <p:cNvSpPr/>
                  <p:nvPr/>
                </p:nvSpPr>
                <p:spPr>
                  <a:xfrm flipH="1">
                    <a:off x="4976280" y="3497400"/>
                    <a:ext cx="8748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9" name=""/>
                  <p:cNvSpPr/>
                  <p:nvPr/>
                </p:nvSpPr>
                <p:spPr>
                  <a:xfrm flipH="1" flipV="1">
                    <a:off x="5015880" y="349992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0" name=""/>
                  <p:cNvSpPr/>
                  <p:nvPr/>
                </p:nvSpPr>
                <p:spPr>
                  <a:xfrm flipH="1">
                    <a:off x="5002560" y="351324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1" name=""/>
                  <p:cNvSpPr/>
                  <p:nvPr/>
                </p:nvSpPr>
                <p:spPr>
                  <a:xfrm flipH="1">
                    <a:off x="4986360" y="351144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2" name=""/>
                <p:cNvGrpSpPr/>
                <p:nvPr/>
              </p:nvGrpSpPr>
              <p:grpSpPr>
                <a:xfrm>
                  <a:off x="4883040" y="3379680"/>
                  <a:ext cx="134640" cy="114840"/>
                  <a:chOff x="4883040" y="3379680"/>
                  <a:chExt cx="134640" cy="114840"/>
                </a:xfrm>
              </p:grpSpPr>
              <p:sp>
                <p:nvSpPr>
                  <p:cNvPr id="13073" name=""/>
                  <p:cNvSpPr/>
                  <p:nvPr/>
                </p:nvSpPr>
                <p:spPr>
                  <a:xfrm rot="16969200">
                    <a:off x="4904640" y="33782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4" name=""/>
                  <p:cNvSpPr/>
                  <p:nvPr/>
                </p:nvSpPr>
                <p:spPr>
                  <a:xfrm flipH="1">
                    <a:off x="4929120" y="3407040"/>
                    <a:ext cx="79200" cy="43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5" name=""/>
                  <p:cNvSpPr/>
                  <p:nvPr/>
                </p:nvSpPr>
                <p:spPr>
                  <a:xfrm flipH="1">
                    <a:off x="4962240" y="34189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6" name=""/>
                  <p:cNvSpPr/>
                  <p:nvPr/>
                </p:nvSpPr>
                <p:spPr>
                  <a:xfrm flipH="1">
                    <a:off x="4956120" y="343404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7" name=""/>
                  <p:cNvSpPr/>
                  <p:nvPr/>
                </p:nvSpPr>
                <p:spPr>
                  <a:xfrm flipH="1">
                    <a:off x="4936680" y="34365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78" name=""/>
                <p:cNvGrpSpPr/>
                <p:nvPr/>
              </p:nvGrpSpPr>
              <p:grpSpPr>
                <a:xfrm>
                  <a:off x="4862160" y="3098880"/>
                  <a:ext cx="148320" cy="145440"/>
                  <a:chOff x="4862160" y="3098880"/>
                  <a:chExt cx="148320" cy="145440"/>
                </a:xfrm>
              </p:grpSpPr>
              <p:sp>
                <p:nvSpPr>
                  <p:cNvPr id="13079" name=""/>
                  <p:cNvSpPr/>
                  <p:nvPr/>
                </p:nvSpPr>
                <p:spPr>
                  <a:xfrm rot="18621600">
                    <a:off x="4890600" y="31129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0" name=""/>
                  <p:cNvSpPr/>
                  <p:nvPr/>
                </p:nvSpPr>
                <p:spPr>
                  <a:xfrm flipH="1">
                    <a:off x="4911120" y="3171600"/>
                    <a:ext cx="903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1" name=""/>
                  <p:cNvSpPr/>
                  <p:nvPr/>
                </p:nvSpPr>
                <p:spPr>
                  <a:xfrm flipH="1" flipV="1">
                    <a:off x="4954320" y="316260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2" name=""/>
                  <p:cNvSpPr/>
                  <p:nvPr/>
                </p:nvSpPr>
                <p:spPr>
                  <a:xfrm flipH="1">
                    <a:off x="4934880" y="3175560"/>
                    <a:ext cx="1584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3" name=""/>
                  <p:cNvSpPr/>
                  <p:nvPr/>
                </p:nvSpPr>
                <p:spPr>
                  <a:xfrm flipH="1" flipV="1">
                    <a:off x="4923000" y="3167640"/>
                    <a:ext cx="115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4" name=""/>
                <p:cNvGrpSpPr/>
                <p:nvPr/>
              </p:nvGrpSpPr>
              <p:grpSpPr>
                <a:xfrm>
                  <a:off x="4821480" y="3178800"/>
                  <a:ext cx="142560" cy="127800"/>
                  <a:chOff x="4821480" y="3178800"/>
                  <a:chExt cx="142560" cy="127800"/>
                </a:xfrm>
              </p:grpSpPr>
              <p:sp>
                <p:nvSpPr>
                  <p:cNvPr id="13085" name=""/>
                  <p:cNvSpPr/>
                  <p:nvPr/>
                </p:nvSpPr>
                <p:spPr>
                  <a:xfrm rot="17492400">
                    <a:off x="4847040" y="31838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6" name=""/>
                  <p:cNvSpPr/>
                  <p:nvPr/>
                </p:nvSpPr>
                <p:spPr>
                  <a:xfrm flipH="1">
                    <a:off x="4869360" y="3221280"/>
                    <a:ext cx="85320" cy="31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7" name=""/>
                  <p:cNvSpPr/>
                  <p:nvPr/>
                </p:nvSpPr>
                <p:spPr>
                  <a:xfrm flipH="1" flipV="1">
                    <a:off x="4906800" y="322812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8" name=""/>
                  <p:cNvSpPr/>
                  <p:nvPr/>
                </p:nvSpPr>
                <p:spPr>
                  <a:xfrm flipH="1">
                    <a:off x="4896360" y="324144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9" name=""/>
                  <p:cNvSpPr/>
                  <p:nvPr/>
                </p:nvSpPr>
                <p:spPr>
                  <a:xfrm flipH="1">
                    <a:off x="4878720" y="324144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90" name=""/>
                <p:cNvGrpSpPr/>
                <p:nvPr/>
              </p:nvGrpSpPr>
              <p:grpSpPr>
                <a:xfrm>
                  <a:off x="4897080" y="3219120"/>
                  <a:ext cx="147240" cy="137880"/>
                  <a:chOff x="4897080" y="3219120"/>
                  <a:chExt cx="147240" cy="137880"/>
                </a:xfrm>
              </p:grpSpPr>
              <p:sp>
                <p:nvSpPr>
                  <p:cNvPr id="13091" name=""/>
                  <p:cNvSpPr/>
                  <p:nvPr/>
                </p:nvSpPr>
                <p:spPr>
                  <a:xfrm rot="18012000">
                    <a:off x="4925160" y="3229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2" name=""/>
                  <p:cNvSpPr/>
                  <p:nvPr/>
                </p:nvSpPr>
                <p:spPr>
                  <a:xfrm flipH="1">
                    <a:off x="4946400" y="3276720"/>
                    <a:ext cx="885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3" name=""/>
                  <p:cNvSpPr/>
                  <p:nvPr/>
                </p:nvSpPr>
                <p:spPr>
                  <a:xfrm flipH="1" flipV="1">
                    <a:off x="4987080" y="327636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4" name=""/>
                  <p:cNvSpPr/>
                  <p:nvPr/>
                </p:nvSpPr>
                <p:spPr>
                  <a:xfrm flipH="1">
                    <a:off x="4972320" y="3289680"/>
                    <a:ext cx="1332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5" name=""/>
                  <p:cNvSpPr/>
                  <p:nvPr/>
                </p:nvSpPr>
                <p:spPr>
                  <a:xfrm flipH="1">
                    <a:off x="4956840" y="3286800"/>
                    <a:ext cx="1188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96" name=""/>
                <p:cNvGrpSpPr/>
                <p:nvPr/>
              </p:nvGrpSpPr>
              <p:grpSpPr>
                <a:xfrm>
                  <a:off x="4973040" y="3087000"/>
                  <a:ext cx="140760" cy="147960"/>
                  <a:chOff x="4973040" y="3087000"/>
                  <a:chExt cx="140760" cy="147960"/>
                </a:xfrm>
              </p:grpSpPr>
              <p:sp>
                <p:nvSpPr>
                  <p:cNvPr id="13097" name=""/>
                  <p:cNvSpPr/>
                  <p:nvPr/>
                </p:nvSpPr>
                <p:spPr>
                  <a:xfrm rot="19596600">
                    <a:off x="4997520" y="3102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8" name=""/>
                  <p:cNvSpPr/>
                  <p:nvPr/>
                </p:nvSpPr>
                <p:spPr>
                  <a:xfrm flipH="1" flipV="1">
                    <a:off x="5018400" y="3155760"/>
                    <a:ext cx="87480" cy="23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9" name=""/>
                  <p:cNvSpPr/>
                  <p:nvPr/>
                </p:nvSpPr>
                <p:spPr>
                  <a:xfrm flipH="1" flipV="1">
                    <a:off x="5063040" y="315720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0" name=""/>
                  <p:cNvSpPr/>
                  <p:nvPr/>
                </p:nvSpPr>
                <p:spPr>
                  <a:xfrm flipH="1">
                    <a:off x="5038200" y="3168720"/>
                    <a:ext cx="1764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1" name=""/>
                  <p:cNvSpPr/>
                  <p:nvPr/>
                </p:nvSpPr>
                <p:spPr>
                  <a:xfrm flipH="1" flipV="1">
                    <a:off x="5031360" y="3153240"/>
                    <a:ext cx="1080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02" name=""/>
                <p:cNvGrpSpPr/>
                <p:nvPr/>
              </p:nvGrpSpPr>
              <p:grpSpPr>
                <a:xfrm>
                  <a:off x="5112720" y="3256200"/>
                  <a:ext cx="81000" cy="136800"/>
                  <a:chOff x="5112720" y="3256200"/>
                  <a:chExt cx="81000" cy="136800"/>
                </a:xfrm>
              </p:grpSpPr>
              <p:sp>
                <p:nvSpPr>
                  <p:cNvPr id="13103" name=""/>
                  <p:cNvSpPr/>
                  <p:nvPr/>
                </p:nvSpPr>
                <p:spPr>
                  <a:xfrm rot="46800">
                    <a:off x="5113440" y="32565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4" name=""/>
                  <p:cNvSpPr/>
                  <p:nvPr/>
                </p:nvSpPr>
                <p:spPr>
                  <a:xfrm flipH="1" flipV="1">
                    <a:off x="5137920" y="3303360"/>
                    <a:ext cx="5148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5" name=""/>
                  <p:cNvSpPr/>
                  <p:nvPr/>
                </p:nvSpPr>
                <p:spPr>
                  <a:xfrm flipH="1" flipV="1">
                    <a:off x="5169240" y="33343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6" name=""/>
                  <p:cNvSpPr/>
                  <p:nvPr/>
                </p:nvSpPr>
                <p:spPr>
                  <a:xfrm flipH="1" flipV="1">
                    <a:off x="5142600" y="333360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7" name=""/>
                  <p:cNvSpPr/>
                  <p:nvPr/>
                </p:nvSpPr>
                <p:spPr>
                  <a:xfrm flipH="1" flipV="1">
                    <a:off x="5148720" y="3309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08" name=""/>
                <p:cNvGrpSpPr/>
                <p:nvPr/>
              </p:nvGrpSpPr>
              <p:grpSpPr>
                <a:xfrm>
                  <a:off x="5254560" y="3308760"/>
                  <a:ext cx="144360" cy="131040"/>
                  <a:chOff x="5254560" y="3308760"/>
                  <a:chExt cx="144360" cy="131040"/>
                </a:xfrm>
              </p:grpSpPr>
              <p:sp>
                <p:nvSpPr>
                  <p:cNvPr id="13109" name=""/>
                  <p:cNvSpPr/>
                  <p:nvPr/>
                </p:nvSpPr>
                <p:spPr>
                  <a:xfrm rot="6843600">
                    <a:off x="5281200" y="3315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0" name=""/>
                  <p:cNvSpPr/>
                  <p:nvPr/>
                </p:nvSpPr>
                <p:spPr>
                  <a:xfrm flipV="1">
                    <a:off x="5263920" y="3365280"/>
                    <a:ext cx="8640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1" name=""/>
                  <p:cNvSpPr/>
                  <p:nvPr/>
                </p:nvSpPr>
                <p:spPr>
                  <a:xfrm>
                    <a:off x="5295240" y="33868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2" name=""/>
                  <p:cNvSpPr/>
                  <p:nvPr/>
                </p:nvSpPr>
                <p:spPr>
                  <a:xfrm flipV="1">
                    <a:off x="5311800" y="33602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3" name=""/>
                  <p:cNvSpPr/>
                  <p:nvPr/>
                </p:nvSpPr>
                <p:spPr>
                  <a:xfrm flipV="1">
                    <a:off x="5328720" y="337464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4" name=""/>
                <p:cNvGrpSpPr/>
                <p:nvPr/>
              </p:nvGrpSpPr>
              <p:grpSpPr>
                <a:xfrm>
                  <a:off x="5235120" y="3429720"/>
                  <a:ext cx="145440" cy="133200"/>
                  <a:chOff x="5235120" y="3429720"/>
                  <a:chExt cx="145440" cy="133200"/>
                </a:xfrm>
              </p:grpSpPr>
              <p:sp>
                <p:nvSpPr>
                  <p:cNvPr id="13115" name=""/>
                  <p:cNvSpPr/>
                  <p:nvPr/>
                </p:nvSpPr>
                <p:spPr>
                  <a:xfrm rot="6963600">
                    <a:off x="5262120" y="34376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6" name=""/>
                  <p:cNvSpPr/>
                  <p:nvPr/>
                </p:nvSpPr>
                <p:spPr>
                  <a:xfrm flipV="1">
                    <a:off x="5244480" y="3488400"/>
                    <a:ext cx="8712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7" name=""/>
                  <p:cNvSpPr/>
                  <p:nvPr/>
                </p:nvSpPr>
                <p:spPr>
                  <a:xfrm>
                    <a:off x="5276160" y="350784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8" name=""/>
                  <p:cNvSpPr/>
                  <p:nvPr/>
                </p:nvSpPr>
                <p:spPr>
                  <a:xfrm flipV="1">
                    <a:off x="5293080" y="3482280"/>
                    <a:ext cx="1224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9" name=""/>
                  <p:cNvSpPr/>
                  <p:nvPr/>
                </p:nvSpPr>
                <p:spPr>
                  <a:xfrm flipV="1">
                    <a:off x="5310000" y="349704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0" name=""/>
                <p:cNvGrpSpPr/>
                <p:nvPr/>
              </p:nvGrpSpPr>
              <p:grpSpPr>
                <a:xfrm>
                  <a:off x="5005440" y="3354840"/>
                  <a:ext cx="99360" cy="146520"/>
                  <a:chOff x="5005440" y="3354840"/>
                  <a:chExt cx="99360" cy="146520"/>
                </a:xfrm>
              </p:grpSpPr>
              <p:sp>
                <p:nvSpPr>
                  <p:cNvPr id="13121" name=""/>
                  <p:cNvSpPr/>
                  <p:nvPr/>
                </p:nvSpPr>
                <p:spPr>
                  <a:xfrm rot="536400">
                    <a:off x="5015520" y="33598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2" name=""/>
                  <p:cNvSpPr/>
                  <p:nvPr/>
                </p:nvSpPr>
                <p:spPr>
                  <a:xfrm flipH="1" flipV="1">
                    <a:off x="5042880" y="3404880"/>
                    <a:ext cx="39600" cy="85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3" name=""/>
                  <p:cNvSpPr/>
                  <p:nvPr/>
                </p:nvSpPr>
                <p:spPr>
                  <a:xfrm flipH="1" flipV="1">
                    <a:off x="5069520" y="3439800"/>
                    <a:ext cx="21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4" name=""/>
                  <p:cNvSpPr/>
                  <p:nvPr/>
                </p:nvSpPr>
                <p:spPr>
                  <a:xfrm flipH="1" flipV="1">
                    <a:off x="5043240" y="343512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5" name=""/>
                  <p:cNvSpPr/>
                  <p:nvPr/>
                </p:nvSpPr>
                <p:spPr>
                  <a:xfrm flipH="1" flipV="1">
                    <a:off x="5052960" y="3412440"/>
                    <a:ext cx="288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26" name=""/>
                <p:cNvGrpSpPr/>
                <p:nvPr/>
              </p:nvGrpSpPr>
              <p:grpSpPr>
                <a:xfrm>
                  <a:off x="4922280" y="3255480"/>
                  <a:ext cx="94320" cy="119880"/>
                  <a:chOff x="4922280" y="3255480"/>
                  <a:chExt cx="94320" cy="119880"/>
                </a:xfrm>
              </p:grpSpPr>
              <p:sp>
                <p:nvSpPr>
                  <p:cNvPr id="13127" name=""/>
                  <p:cNvSpPr/>
                  <p:nvPr/>
                </p:nvSpPr>
                <p:spPr>
                  <a:xfrm rot="21501600">
                    <a:off x="4923720" y="3256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8" name=""/>
                  <p:cNvSpPr/>
                  <p:nvPr/>
                </p:nvSpPr>
                <p:spPr>
                  <a:xfrm flipH="1" flipV="1">
                    <a:off x="4951080" y="3297600"/>
                    <a:ext cx="61920" cy="66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9" name=""/>
                  <p:cNvSpPr/>
                  <p:nvPr/>
                </p:nvSpPr>
                <p:spPr>
                  <a:xfrm flipH="1" flipV="1">
                    <a:off x="4988160" y="3322800"/>
                    <a:ext cx="612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0" name=""/>
                  <p:cNvSpPr/>
                  <p:nvPr/>
                </p:nvSpPr>
                <p:spPr>
                  <a:xfrm flipH="1" flipV="1">
                    <a:off x="4957920" y="3323880"/>
                    <a:ext cx="180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1" name=""/>
                  <p:cNvSpPr/>
                  <p:nvPr/>
                </p:nvSpPr>
                <p:spPr>
                  <a:xfrm flipH="1" flipV="1">
                    <a:off x="4963320" y="330264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2" name=""/>
                <p:cNvGrpSpPr/>
                <p:nvPr/>
              </p:nvGrpSpPr>
              <p:grpSpPr>
                <a:xfrm>
                  <a:off x="4886640" y="3110040"/>
                  <a:ext cx="99720" cy="123840"/>
                  <a:chOff x="4886640" y="3110040"/>
                  <a:chExt cx="99720" cy="123840"/>
                </a:xfrm>
              </p:grpSpPr>
              <p:sp>
                <p:nvSpPr>
                  <p:cNvPr id="13133" name=""/>
                  <p:cNvSpPr/>
                  <p:nvPr/>
                </p:nvSpPr>
                <p:spPr>
                  <a:xfrm rot="21341400">
                    <a:off x="4890600" y="3113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4" name=""/>
                  <p:cNvSpPr/>
                  <p:nvPr/>
                </p:nvSpPr>
                <p:spPr>
                  <a:xfrm flipH="1" flipV="1">
                    <a:off x="4917240" y="3155040"/>
                    <a:ext cx="65160" cy="63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5" name=""/>
                  <p:cNvSpPr/>
                  <p:nvPr/>
                </p:nvSpPr>
                <p:spPr>
                  <a:xfrm flipH="1" flipV="1">
                    <a:off x="4955400" y="317808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6" name=""/>
                  <p:cNvSpPr/>
                  <p:nvPr/>
                </p:nvSpPr>
                <p:spPr>
                  <a:xfrm flipH="1" flipV="1">
                    <a:off x="4925160" y="3180960"/>
                    <a:ext cx="18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7" name=""/>
                  <p:cNvSpPr/>
                  <p:nvPr/>
                </p:nvSpPr>
                <p:spPr>
                  <a:xfrm flipH="1" flipV="1">
                    <a:off x="4929840" y="3159360"/>
                    <a:ext cx="64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38" name=""/>
                <p:cNvGrpSpPr/>
                <p:nvPr/>
              </p:nvGrpSpPr>
              <p:grpSpPr>
                <a:xfrm>
                  <a:off x="4930200" y="3029040"/>
                  <a:ext cx="93240" cy="143640"/>
                  <a:chOff x="4930200" y="3029040"/>
                  <a:chExt cx="93240" cy="143640"/>
                </a:xfrm>
              </p:grpSpPr>
              <p:sp>
                <p:nvSpPr>
                  <p:cNvPr id="13139" name=""/>
                  <p:cNvSpPr/>
                  <p:nvPr/>
                </p:nvSpPr>
                <p:spPr>
                  <a:xfrm rot="373200">
                    <a:off x="4937040" y="3032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0" name=""/>
                  <p:cNvSpPr/>
                  <p:nvPr/>
                </p:nvSpPr>
                <p:spPr>
                  <a:xfrm flipH="1" flipV="1">
                    <a:off x="4963680" y="3078720"/>
                    <a:ext cx="4320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1" name=""/>
                  <p:cNvSpPr/>
                  <p:nvPr/>
                </p:nvSpPr>
                <p:spPr>
                  <a:xfrm flipH="1" flipV="1">
                    <a:off x="4991760" y="3112200"/>
                    <a:ext cx="28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2" name=""/>
                  <p:cNvSpPr/>
                  <p:nvPr/>
                </p:nvSpPr>
                <p:spPr>
                  <a:xfrm flipH="1" flipV="1">
                    <a:off x="4965480" y="310896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3" name=""/>
                  <p:cNvSpPr/>
                  <p:nvPr/>
                </p:nvSpPr>
                <p:spPr>
                  <a:xfrm flipH="1" flipV="1">
                    <a:off x="4973400" y="3085560"/>
                    <a:ext cx="396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4" name=""/>
              <p:cNvGrpSpPr/>
              <p:nvPr/>
            </p:nvGrpSpPr>
            <p:grpSpPr>
              <a:xfrm>
                <a:off x="5343840" y="2775240"/>
                <a:ext cx="474120" cy="744120"/>
                <a:chOff x="5343840" y="2775240"/>
                <a:chExt cx="474120" cy="744120"/>
              </a:xfrm>
            </p:grpSpPr>
            <p:grpSp>
              <p:nvGrpSpPr>
                <p:cNvPr id="13145" name=""/>
                <p:cNvGrpSpPr/>
                <p:nvPr/>
              </p:nvGrpSpPr>
              <p:grpSpPr>
                <a:xfrm>
                  <a:off x="5631840" y="3072960"/>
                  <a:ext cx="135360" cy="156960"/>
                  <a:chOff x="5631840" y="3072960"/>
                  <a:chExt cx="135360" cy="156960"/>
                </a:xfrm>
              </p:grpSpPr>
              <p:sp>
                <p:nvSpPr>
                  <p:cNvPr id="13146" name=""/>
                  <p:cNvSpPr/>
                  <p:nvPr/>
                </p:nvSpPr>
                <p:spPr>
                  <a:xfrm rot="9030000">
                    <a:off x="5659920" y="30834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7" name=""/>
                  <p:cNvSpPr/>
                  <p:nvPr/>
                </p:nvSpPr>
                <p:spPr>
                  <a:xfrm>
                    <a:off x="5639040" y="3119040"/>
                    <a:ext cx="83880" cy="4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8" name=""/>
                  <p:cNvSpPr/>
                  <p:nvPr/>
                </p:nvSpPr>
                <p:spPr>
                  <a:xfrm>
                    <a:off x="5667480" y="313776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9" name=""/>
                  <p:cNvSpPr/>
                  <p:nvPr/>
                </p:nvSpPr>
                <p:spPr>
                  <a:xfrm flipV="1">
                    <a:off x="5687280" y="313812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0" name=""/>
                  <p:cNvSpPr/>
                  <p:nvPr/>
                </p:nvSpPr>
                <p:spPr>
                  <a:xfrm>
                    <a:off x="5700960" y="315396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51" name=""/>
                <p:cNvSpPr/>
                <p:nvPr/>
              </p:nvSpPr>
              <p:spPr>
                <a:xfrm flipH="1" flipV="1">
                  <a:off x="5488920" y="3074760"/>
                  <a:ext cx="46080" cy="201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2" name=""/>
                <p:cNvSpPr/>
                <p:nvPr/>
              </p:nvSpPr>
              <p:spPr>
                <a:xfrm rot="5215200">
                  <a:off x="5248800" y="3071520"/>
                  <a:ext cx="50904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3" name=""/>
                <p:cNvSpPr/>
                <p:nvPr/>
              </p:nvSpPr>
              <p:spPr>
                <a:xfrm flipV="1">
                  <a:off x="5580360" y="3043080"/>
                  <a:ext cx="118080" cy="87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4" name=""/>
                <p:cNvSpPr/>
                <p:nvPr/>
              </p:nvSpPr>
              <p:spPr>
                <a:xfrm flipV="1">
                  <a:off x="5420160" y="3292200"/>
                  <a:ext cx="203760" cy="133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5" name=""/>
                <p:cNvSpPr/>
                <p:nvPr/>
              </p:nvSpPr>
              <p:spPr>
                <a:xfrm flipH="1" flipV="1">
                  <a:off x="5474520" y="3137040"/>
                  <a:ext cx="36720" cy="38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6" name=""/>
                <p:cNvSpPr/>
                <p:nvPr/>
              </p:nvSpPr>
              <p:spPr>
                <a:xfrm flipV="1">
                  <a:off x="5532480" y="3173040"/>
                  <a:ext cx="14400" cy="61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7" name=""/>
                <p:cNvSpPr/>
                <p:nvPr/>
              </p:nvSpPr>
              <p:spPr>
                <a:xfrm flipV="1">
                  <a:off x="5630400" y="3002760"/>
                  <a:ext cx="47880" cy="84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8" name=""/>
                <p:cNvSpPr/>
                <p:nvPr/>
              </p:nvSpPr>
              <p:spPr>
                <a:xfrm>
                  <a:off x="5614200" y="3108600"/>
                  <a:ext cx="5364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9" name=""/>
                <p:cNvSpPr/>
                <p:nvPr/>
              </p:nvSpPr>
              <p:spPr>
                <a:xfrm flipH="1" flipV="1">
                  <a:off x="5552640" y="2948400"/>
                  <a:ext cx="37800" cy="59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0" name=""/>
                <p:cNvSpPr/>
                <p:nvPr/>
              </p:nvSpPr>
              <p:spPr>
                <a:xfrm flipV="1">
                  <a:off x="5521680" y="3211560"/>
                  <a:ext cx="79920" cy="146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1" name=""/>
                <p:cNvSpPr/>
                <p:nvPr/>
              </p:nvSpPr>
              <p:spPr>
                <a:xfrm flipV="1">
                  <a:off x="5570280" y="3252240"/>
                  <a:ext cx="3348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2" name=""/>
                <p:cNvSpPr/>
                <p:nvPr/>
              </p:nvSpPr>
              <p:spPr>
                <a:xfrm>
                  <a:off x="5487840" y="3380760"/>
                  <a:ext cx="71280" cy="1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3" name=""/>
                <p:cNvSpPr/>
                <p:nvPr/>
              </p:nvSpPr>
              <p:spPr>
                <a:xfrm flipV="1">
                  <a:off x="5589720" y="3311280"/>
                  <a:ext cx="5256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4" name=""/>
                <p:cNvSpPr/>
                <p:nvPr/>
              </p:nvSpPr>
              <p:spPr>
                <a:xfrm flipH="1" flipV="1">
                  <a:off x="5463360" y="3259440"/>
                  <a:ext cx="21960" cy="79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5" name=""/>
                <p:cNvSpPr/>
                <p:nvPr/>
              </p:nvSpPr>
              <p:spPr>
                <a:xfrm flipH="1" flipV="1">
                  <a:off x="5556960" y="3030120"/>
                  <a:ext cx="20520" cy="59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6" name=""/>
                <p:cNvSpPr/>
                <p:nvPr/>
              </p:nvSpPr>
              <p:spPr>
                <a:xfrm flipV="1">
                  <a:off x="5606280" y="2943720"/>
                  <a:ext cx="3348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67" name=""/>
                <p:cNvGrpSpPr/>
                <p:nvPr/>
              </p:nvGrpSpPr>
              <p:grpSpPr>
                <a:xfrm>
                  <a:off x="5672520" y="2978280"/>
                  <a:ext cx="145440" cy="133560"/>
                  <a:chOff x="5672520" y="2978280"/>
                  <a:chExt cx="145440" cy="133560"/>
                </a:xfrm>
              </p:grpSpPr>
              <p:sp>
                <p:nvSpPr>
                  <p:cNvPr id="13168" name=""/>
                  <p:cNvSpPr/>
                  <p:nvPr/>
                </p:nvSpPr>
                <p:spPr>
                  <a:xfrm rot="6960000">
                    <a:off x="5699160" y="2986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9" name=""/>
                  <p:cNvSpPr/>
                  <p:nvPr/>
                </p:nvSpPr>
                <p:spPr>
                  <a:xfrm flipV="1">
                    <a:off x="5681880" y="3036960"/>
                    <a:ext cx="87480" cy="24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0" name=""/>
                  <p:cNvSpPr/>
                  <p:nvPr/>
                </p:nvSpPr>
                <p:spPr>
                  <a:xfrm>
                    <a:off x="5713560" y="305676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1" name=""/>
                  <p:cNvSpPr/>
                  <p:nvPr/>
                </p:nvSpPr>
                <p:spPr>
                  <a:xfrm flipV="1">
                    <a:off x="5730480" y="3031200"/>
                    <a:ext cx="1224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2" name=""/>
                  <p:cNvSpPr/>
                  <p:nvPr/>
                </p:nvSpPr>
                <p:spPr>
                  <a:xfrm flipV="1">
                    <a:off x="5747400" y="304596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3" name=""/>
                <p:cNvGrpSpPr/>
                <p:nvPr/>
              </p:nvGrpSpPr>
              <p:grpSpPr>
                <a:xfrm>
                  <a:off x="5500440" y="3048840"/>
                  <a:ext cx="145800" cy="134280"/>
                  <a:chOff x="5500440" y="3048840"/>
                  <a:chExt cx="145800" cy="134280"/>
                </a:xfrm>
              </p:grpSpPr>
              <p:sp>
                <p:nvSpPr>
                  <p:cNvPr id="13174" name=""/>
                  <p:cNvSpPr/>
                  <p:nvPr/>
                </p:nvSpPr>
                <p:spPr>
                  <a:xfrm rot="3801600">
                    <a:off x="5527440" y="30571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5" name=""/>
                  <p:cNvSpPr/>
                  <p:nvPr/>
                </p:nvSpPr>
                <p:spPr>
                  <a:xfrm flipV="1">
                    <a:off x="5547600" y="3092040"/>
                    <a:ext cx="3348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6" name=""/>
                  <p:cNvSpPr/>
                  <p:nvPr/>
                </p:nvSpPr>
                <p:spPr>
                  <a:xfrm flipV="1">
                    <a:off x="5563080" y="313632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7" name=""/>
                  <p:cNvSpPr/>
                  <p:nvPr/>
                </p:nvSpPr>
                <p:spPr>
                  <a:xfrm flipH="1" flipV="1">
                    <a:off x="5560560" y="31093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8" name=""/>
                  <p:cNvSpPr/>
                  <p:nvPr/>
                </p:nvSpPr>
                <p:spPr>
                  <a:xfrm flipV="1">
                    <a:off x="5575320" y="31053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9" name=""/>
                <p:cNvGrpSpPr/>
                <p:nvPr/>
              </p:nvGrpSpPr>
              <p:grpSpPr>
                <a:xfrm>
                  <a:off x="5585040" y="3124440"/>
                  <a:ext cx="122400" cy="97560"/>
                  <a:chOff x="5585040" y="3124440"/>
                  <a:chExt cx="122400" cy="97560"/>
                </a:xfrm>
              </p:grpSpPr>
              <p:sp>
                <p:nvSpPr>
                  <p:cNvPr id="13180" name=""/>
                  <p:cNvSpPr/>
                  <p:nvPr/>
                </p:nvSpPr>
                <p:spPr>
                  <a:xfrm rot="5215200">
                    <a:off x="5600520" y="31143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1" name=""/>
                  <p:cNvSpPr/>
                  <p:nvPr/>
                </p:nvSpPr>
                <p:spPr>
                  <a:xfrm flipV="1">
                    <a:off x="5599080" y="3154320"/>
                    <a:ext cx="644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2" name=""/>
                  <p:cNvSpPr/>
                  <p:nvPr/>
                </p:nvSpPr>
                <p:spPr>
                  <a:xfrm flipV="1">
                    <a:off x="5624280" y="319248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3" name=""/>
                  <p:cNvSpPr/>
                  <p:nvPr/>
                </p:nvSpPr>
                <p:spPr>
                  <a:xfrm flipV="1">
                    <a:off x="5633640" y="316224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4" name=""/>
                  <p:cNvSpPr/>
                  <p:nvPr/>
                </p:nvSpPr>
                <p:spPr>
                  <a:xfrm flipV="1">
                    <a:off x="5649120" y="316728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85" name=""/>
                <p:cNvGrpSpPr/>
                <p:nvPr/>
              </p:nvGrpSpPr>
              <p:grpSpPr>
                <a:xfrm>
                  <a:off x="5395680" y="2948760"/>
                  <a:ext cx="101880" cy="147600"/>
                  <a:chOff x="5395680" y="2948760"/>
                  <a:chExt cx="101880" cy="147600"/>
                </a:xfrm>
              </p:grpSpPr>
              <p:sp>
                <p:nvSpPr>
                  <p:cNvPr id="13186" name=""/>
                  <p:cNvSpPr/>
                  <p:nvPr/>
                </p:nvSpPr>
                <p:spPr>
                  <a:xfrm rot="20984400">
                    <a:off x="5406840" y="2954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7" name=""/>
                  <p:cNvSpPr/>
                  <p:nvPr/>
                </p:nvSpPr>
                <p:spPr>
                  <a:xfrm flipH="1" flipV="1">
                    <a:off x="5428080" y="3004920"/>
                    <a:ext cx="648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8" name=""/>
                  <p:cNvSpPr/>
                  <p:nvPr/>
                </p:nvSpPr>
                <p:spPr>
                  <a:xfrm flipH="1" flipV="1">
                    <a:off x="5464080" y="302904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9" name=""/>
                  <p:cNvSpPr/>
                  <p:nvPr/>
                </p:nvSpPr>
                <p:spPr>
                  <a:xfrm flipH="1" flipV="1">
                    <a:off x="5438160" y="3033360"/>
                    <a:ext cx="165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0" name=""/>
                  <p:cNvSpPr/>
                  <p:nvPr/>
                </p:nvSpPr>
                <p:spPr>
                  <a:xfrm flipH="1" flipV="1">
                    <a:off x="5439240" y="300852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1" name=""/>
                <p:cNvGrpSpPr/>
                <p:nvPr/>
              </p:nvGrpSpPr>
              <p:grpSpPr>
                <a:xfrm>
                  <a:off x="5623560" y="2857320"/>
                  <a:ext cx="122400" cy="97560"/>
                  <a:chOff x="5623560" y="2857320"/>
                  <a:chExt cx="122400" cy="97560"/>
                </a:xfrm>
              </p:grpSpPr>
              <p:sp>
                <p:nvSpPr>
                  <p:cNvPr id="13192" name=""/>
                  <p:cNvSpPr/>
                  <p:nvPr/>
                </p:nvSpPr>
                <p:spPr>
                  <a:xfrm rot="5215200">
                    <a:off x="5639040" y="28472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3" name=""/>
                  <p:cNvSpPr/>
                  <p:nvPr/>
                </p:nvSpPr>
                <p:spPr>
                  <a:xfrm flipV="1">
                    <a:off x="5637240" y="2887200"/>
                    <a:ext cx="64440" cy="63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4" name=""/>
                  <p:cNvSpPr/>
                  <p:nvPr/>
                </p:nvSpPr>
                <p:spPr>
                  <a:xfrm flipV="1">
                    <a:off x="5662440" y="2925000"/>
                    <a:ext cx="1548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5" name=""/>
                  <p:cNvSpPr/>
                  <p:nvPr/>
                </p:nvSpPr>
                <p:spPr>
                  <a:xfrm flipV="1">
                    <a:off x="5671800" y="289476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6" name=""/>
                  <p:cNvSpPr/>
                  <p:nvPr/>
                </p:nvSpPr>
                <p:spPr>
                  <a:xfrm flipV="1">
                    <a:off x="5687280" y="289980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97" name=""/>
                <p:cNvGrpSpPr/>
                <p:nvPr/>
              </p:nvGrpSpPr>
              <p:grpSpPr>
                <a:xfrm>
                  <a:off x="5607360" y="3204720"/>
                  <a:ext cx="122400" cy="97560"/>
                  <a:chOff x="5607360" y="3204720"/>
                  <a:chExt cx="122400" cy="97560"/>
                </a:xfrm>
              </p:grpSpPr>
              <p:sp>
                <p:nvSpPr>
                  <p:cNvPr id="13198" name=""/>
                  <p:cNvSpPr/>
                  <p:nvPr/>
                </p:nvSpPr>
                <p:spPr>
                  <a:xfrm rot="5215200">
                    <a:off x="5622840" y="3194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9" name=""/>
                  <p:cNvSpPr/>
                  <p:nvPr/>
                </p:nvSpPr>
                <p:spPr>
                  <a:xfrm flipV="1">
                    <a:off x="5621040" y="3234600"/>
                    <a:ext cx="644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0" name=""/>
                  <p:cNvSpPr/>
                  <p:nvPr/>
                </p:nvSpPr>
                <p:spPr>
                  <a:xfrm flipV="1">
                    <a:off x="5646240" y="327276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1" name=""/>
                  <p:cNvSpPr/>
                  <p:nvPr/>
                </p:nvSpPr>
                <p:spPr>
                  <a:xfrm flipV="1">
                    <a:off x="5655600" y="324252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2" name=""/>
                  <p:cNvSpPr/>
                  <p:nvPr/>
                </p:nvSpPr>
                <p:spPr>
                  <a:xfrm flipV="1">
                    <a:off x="5671080" y="324756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03" name=""/>
                <p:cNvGrpSpPr/>
                <p:nvPr/>
              </p:nvGrpSpPr>
              <p:grpSpPr>
                <a:xfrm>
                  <a:off x="5662080" y="2916360"/>
                  <a:ext cx="122400" cy="97560"/>
                  <a:chOff x="5662080" y="2916360"/>
                  <a:chExt cx="122400" cy="97560"/>
                </a:xfrm>
              </p:grpSpPr>
              <p:sp>
                <p:nvSpPr>
                  <p:cNvPr id="13204" name=""/>
                  <p:cNvSpPr/>
                  <p:nvPr/>
                </p:nvSpPr>
                <p:spPr>
                  <a:xfrm rot="5215200">
                    <a:off x="5677560" y="29062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5" name=""/>
                  <p:cNvSpPr/>
                  <p:nvPr/>
                </p:nvSpPr>
                <p:spPr>
                  <a:xfrm flipV="1">
                    <a:off x="5675760" y="2946240"/>
                    <a:ext cx="6444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6" name=""/>
                  <p:cNvSpPr/>
                  <p:nvPr/>
                </p:nvSpPr>
                <p:spPr>
                  <a:xfrm flipV="1">
                    <a:off x="5700960" y="298440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7" name=""/>
                  <p:cNvSpPr/>
                  <p:nvPr/>
                </p:nvSpPr>
                <p:spPr>
                  <a:xfrm flipV="1">
                    <a:off x="5710320" y="295416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8" name=""/>
                  <p:cNvSpPr/>
                  <p:nvPr/>
                </p:nvSpPr>
                <p:spPr>
                  <a:xfrm flipV="1">
                    <a:off x="5725800" y="2959200"/>
                    <a:ext cx="100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09" name=""/>
                <p:cNvGrpSpPr/>
                <p:nvPr/>
              </p:nvGrpSpPr>
              <p:grpSpPr>
                <a:xfrm>
                  <a:off x="5343840" y="3131280"/>
                  <a:ext cx="120240" cy="154440"/>
                  <a:chOff x="5343840" y="3131280"/>
                  <a:chExt cx="120240" cy="154440"/>
                </a:xfrm>
              </p:grpSpPr>
              <p:sp>
                <p:nvSpPr>
                  <p:cNvPr id="13210" name=""/>
                  <p:cNvSpPr/>
                  <p:nvPr/>
                </p:nvSpPr>
                <p:spPr>
                  <a:xfrm rot="20413200">
                    <a:off x="5364360" y="31402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1" name=""/>
                  <p:cNvSpPr/>
                  <p:nvPr/>
                </p:nvSpPr>
                <p:spPr>
                  <a:xfrm flipH="1" flipV="1">
                    <a:off x="5382360" y="3194280"/>
                    <a:ext cx="75240" cy="56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2" name=""/>
                  <p:cNvSpPr/>
                  <p:nvPr/>
                </p:nvSpPr>
                <p:spPr>
                  <a:xfrm flipH="1" flipV="1">
                    <a:off x="5421960" y="3212280"/>
                    <a:ext cx="108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3" name=""/>
                  <p:cNvSpPr/>
                  <p:nvPr/>
                </p:nvSpPr>
                <p:spPr>
                  <a:xfrm flipH="1" flipV="1">
                    <a:off x="5397120" y="3220560"/>
                    <a:ext cx="169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4" name=""/>
                  <p:cNvSpPr/>
                  <p:nvPr/>
                </p:nvSpPr>
                <p:spPr>
                  <a:xfrm flipH="1" flipV="1">
                    <a:off x="5394240" y="319608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5" name=""/>
                <p:cNvGrpSpPr/>
                <p:nvPr/>
              </p:nvGrpSpPr>
              <p:grpSpPr>
                <a:xfrm>
                  <a:off x="5345280" y="3027600"/>
                  <a:ext cx="141120" cy="156600"/>
                  <a:chOff x="5345280" y="3027600"/>
                  <a:chExt cx="141120" cy="156600"/>
                </a:xfrm>
              </p:grpSpPr>
              <p:sp>
                <p:nvSpPr>
                  <p:cNvPr id="13216" name=""/>
                  <p:cNvSpPr/>
                  <p:nvPr/>
                </p:nvSpPr>
                <p:spPr>
                  <a:xfrm rot="19573800">
                    <a:off x="5376240" y="30380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7" name=""/>
                  <p:cNvSpPr/>
                  <p:nvPr/>
                </p:nvSpPr>
                <p:spPr>
                  <a:xfrm flipH="1" flipV="1">
                    <a:off x="5391720" y="3097080"/>
                    <a:ext cx="86760" cy="36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8" name=""/>
                  <p:cNvSpPr/>
                  <p:nvPr/>
                </p:nvSpPr>
                <p:spPr>
                  <a:xfrm flipH="1" flipV="1">
                    <a:off x="5434560" y="3105000"/>
                    <a:ext cx="14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9" name=""/>
                  <p:cNvSpPr/>
                  <p:nvPr/>
                </p:nvSpPr>
                <p:spPr>
                  <a:xfrm flipH="1">
                    <a:off x="5412600" y="3115800"/>
                    <a:ext cx="162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0" name=""/>
                  <p:cNvSpPr/>
                  <p:nvPr/>
                </p:nvSpPr>
                <p:spPr>
                  <a:xfrm flipH="1" flipV="1">
                    <a:off x="5403600" y="3096000"/>
                    <a:ext cx="108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1" name=""/>
                <p:cNvGrpSpPr/>
                <p:nvPr/>
              </p:nvGrpSpPr>
              <p:grpSpPr>
                <a:xfrm>
                  <a:off x="5515560" y="2801880"/>
                  <a:ext cx="93240" cy="143640"/>
                  <a:chOff x="5515560" y="2801880"/>
                  <a:chExt cx="93240" cy="143640"/>
                </a:xfrm>
              </p:grpSpPr>
              <p:sp>
                <p:nvSpPr>
                  <p:cNvPr id="13222" name=""/>
                  <p:cNvSpPr/>
                  <p:nvPr/>
                </p:nvSpPr>
                <p:spPr>
                  <a:xfrm rot="21225000">
                    <a:off x="5522400" y="2805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3" name=""/>
                  <p:cNvSpPr/>
                  <p:nvPr/>
                </p:nvSpPr>
                <p:spPr>
                  <a:xfrm flipH="1" flipV="1">
                    <a:off x="5544360" y="2854800"/>
                    <a:ext cx="60120" cy="72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4" name=""/>
                  <p:cNvSpPr/>
                  <p:nvPr/>
                </p:nvSpPr>
                <p:spPr>
                  <a:xfrm flipH="1" flipV="1">
                    <a:off x="5578920" y="2881440"/>
                    <a:ext cx="684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5" name=""/>
                  <p:cNvSpPr/>
                  <p:nvPr/>
                </p:nvSpPr>
                <p:spPr>
                  <a:xfrm flipH="1" flipV="1">
                    <a:off x="5552640" y="288396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6" name=""/>
                  <p:cNvSpPr/>
                  <p:nvPr/>
                </p:nvSpPr>
                <p:spPr>
                  <a:xfrm flipH="1" flipV="1">
                    <a:off x="5555520" y="2859480"/>
                    <a:ext cx="6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27" name=""/>
                <p:cNvGrpSpPr/>
                <p:nvPr/>
              </p:nvGrpSpPr>
              <p:grpSpPr>
                <a:xfrm>
                  <a:off x="5428440" y="2819160"/>
                  <a:ext cx="128880" cy="156600"/>
                  <a:chOff x="5428440" y="2819160"/>
                  <a:chExt cx="128880" cy="156600"/>
                </a:xfrm>
              </p:grpSpPr>
              <p:sp>
                <p:nvSpPr>
                  <p:cNvPr id="13228" name=""/>
                  <p:cNvSpPr/>
                  <p:nvPr/>
                </p:nvSpPr>
                <p:spPr>
                  <a:xfrm rot="20097000">
                    <a:off x="5453280" y="28292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9" name=""/>
                  <p:cNvSpPr/>
                  <p:nvPr/>
                </p:nvSpPr>
                <p:spPr>
                  <a:xfrm flipH="1" flipV="1">
                    <a:off x="5469840" y="2885400"/>
                    <a:ext cx="80280" cy="49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0" name=""/>
                  <p:cNvSpPr/>
                  <p:nvPr/>
                </p:nvSpPr>
                <p:spPr>
                  <a:xfrm flipH="1" flipV="1">
                    <a:off x="5511240" y="289944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1" name=""/>
                  <p:cNvSpPr/>
                  <p:nvPr/>
                </p:nvSpPr>
                <p:spPr>
                  <a:xfrm flipH="1">
                    <a:off x="5487120" y="290952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2" name=""/>
                  <p:cNvSpPr/>
                  <p:nvPr/>
                </p:nvSpPr>
                <p:spPr>
                  <a:xfrm flipH="1" flipV="1">
                    <a:off x="5482080" y="28861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3" name=""/>
                <p:cNvGrpSpPr/>
                <p:nvPr/>
              </p:nvGrpSpPr>
              <p:grpSpPr>
                <a:xfrm>
                  <a:off x="5459400" y="2922120"/>
                  <a:ext cx="114120" cy="152640"/>
                  <a:chOff x="5459400" y="2922120"/>
                  <a:chExt cx="114120" cy="152640"/>
                </a:xfrm>
              </p:grpSpPr>
              <p:sp>
                <p:nvSpPr>
                  <p:cNvPr id="13234" name=""/>
                  <p:cNvSpPr/>
                  <p:nvPr/>
                </p:nvSpPr>
                <p:spPr>
                  <a:xfrm rot="20616600">
                    <a:off x="5476680" y="29304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5" name=""/>
                  <p:cNvSpPr/>
                  <p:nvPr/>
                </p:nvSpPr>
                <p:spPr>
                  <a:xfrm flipH="1" flipV="1">
                    <a:off x="5495400" y="2982960"/>
                    <a:ext cx="72000" cy="60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6" name=""/>
                  <p:cNvSpPr/>
                  <p:nvPr/>
                </p:nvSpPr>
                <p:spPr>
                  <a:xfrm flipH="1" flipV="1">
                    <a:off x="5534280" y="3003120"/>
                    <a:ext cx="97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7" name=""/>
                  <p:cNvSpPr/>
                  <p:nvPr/>
                </p:nvSpPr>
                <p:spPr>
                  <a:xfrm flipH="1" flipV="1">
                    <a:off x="5508720" y="301032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8" name=""/>
                  <p:cNvSpPr/>
                  <p:nvPr/>
                </p:nvSpPr>
                <p:spPr>
                  <a:xfrm flipH="1" flipV="1">
                    <a:off x="5507280" y="29854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9" name=""/>
                <p:cNvGrpSpPr/>
                <p:nvPr/>
              </p:nvGrpSpPr>
              <p:grpSpPr>
                <a:xfrm>
                  <a:off x="5585760" y="2877120"/>
                  <a:ext cx="101160" cy="147240"/>
                  <a:chOff x="5585760" y="2877120"/>
                  <a:chExt cx="101160" cy="147240"/>
                </a:xfrm>
              </p:grpSpPr>
              <p:sp>
                <p:nvSpPr>
                  <p:cNvPr id="13240" name=""/>
                  <p:cNvSpPr/>
                  <p:nvPr/>
                </p:nvSpPr>
                <p:spPr>
                  <a:xfrm rot="600000">
                    <a:off x="5596560" y="2882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1" name=""/>
                  <p:cNvSpPr/>
                  <p:nvPr/>
                </p:nvSpPr>
                <p:spPr>
                  <a:xfrm flipH="1" flipV="1">
                    <a:off x="5625000" y="2927880"/>
                    <a:ext cx="3744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2" name=""/>
                  <p:cNvSpPr/>
                  <p:nvPr/>
                </p:nvSpPr>
                <p:spPr>
                  <a:xfrm flipH="1" flipV="1">
                    <a:off x="5650560" y="296316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3" name=""/>
                  <p:cNvSpPr/>
                  <p:nvPr/>
                </p:nvSpPr>
                <p:spPr>
                  <a:xfrm flipH="1" flipV="1">
                    <a:off x="5624640" y="295812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4" name=""/>
                  <p:cNvSpPr/>
                  <p:nvPr/>
                </p:nvSpPr>
                <p:spPr>
                  <a:xfrm flipH="1" flipV="1">
                    <a:off x="5634360" y="2935440"/>
                    <a:ext cx="288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45" name=""/>
                <p:cNvGrpSpPr/>
                <p:nvPr/>
              </p:nvGrpSpPr>
              <p:grpSpPr>
                <a:xfrm>
                  <a:off x="5538240" y="3101400"/>
                  <a:ext cx="147240" cy="147960"/>
                  <a:chOff x="5538240" y="3101400"/>
                  <a:chExt cx="147240" cy="147960"/>
                </a:xfrm>
              </p:grpSpPr>
              <p:sp>
                <p:nvSpPr>
                  <p:cNvPr id="13246" name=""/>
                  <p:cNvSpPr/>
                  <p:nvPr/>
                </p:nvSpPr>
                <p:spPr>
                  <a:xfrm rot="2650800">
                    <a:off x="5565960" y="31165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7" name=""/>
                  <p:cNvSpPr/>
                  <p:nvPr/>
                </p:nvSpPr>
                <p:spPr>
                  <a:xfrm flipV="1">
                    <a:off x="5607000" y="3150000"/>
                    <a:ext cx="432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8" name=""/>
                  <p:cNvSpPr/>
                  <p:nvPr/>
                </p:nvSpPr>
                <p:spPr>
                  <a:xfrm flipV="1">
                    <a:off x="5612760" y="31939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9" name=""/>
                  <p:cNvSpPr/>
                  <p:nvPr/>
                </p:nvSpPr>
                <p:spPr>
                  <a:xfrm flipH="1" flipV="1">
                    <a:off x="5597640" y="317304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0" name=""/>
                  <p:cNvSpPr/>
                  <p:nvPr/>
                </p:nvSpPr>
                <p:spPr>
                  <a:xfrm flipV="1">
                    <a:off x="5613480" y="316224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1" name=""/>
                <p:cNvGrpSpPr/>
                <p:nvPr/>
              </p:nvGrpSpPr>
              <p:grpSpPr>
                <a:xfrm>
                  <a:off x="5630400" y="3278520"/>
                  <a:ext cx="124920" cy="155520"/>
                  <a:chOff x="5630400" y="3278520"/>
                  <a:chExt cx="124920" cy="155520"/>
                </a:xfrm>
              </p:grpSpPr>
              <p:sp>
                <p:nvSpPr>
                  <p:cNvPr id="13252" name=""/>
                  <p:cNvSpPr/>
                  <p:nvPr/>
                </p:nvSpPr>
                <p:spPr>
                  <a:xfrm rot="9448200">
                    <a:off x="5653440" y="32882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3" name=""/>
                  <p:cNvSpPr/>
                  <p:nvPr/>
                </p:nvSpPr>
                <p:spPr>
                  <a:xfrm>
                    <a:off x="5637240" y="3316680"/>
                    <a:ext cx="78120" cy="52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4" name=""/>
                  <p:cNvSpPr/>
                  <p:nvPr/>
                </p:nvSpPr>
                <p:spPr>
                  <a:xfrm>
                    <a:off x="5663160" y="333864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5" name=""/>
                  <p:cNvSpPr/>
                  <p:nvPr/>
                </p:nvSpPr>
                <p:spPr>
                  <a:xfrm flipV="1">
                    <a:off x="5682600" y="334368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6" name=""/>
                  <p:cNvSpPr/>
                  <p:nvPr/>
                </p:nvSpPr>
                <p:spPr>
                  <a:xfrm>
                    <a:off x="5694120" y="3358800"/>
                    <a:ext cx="93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57" name=""/>
                <p:cNvGrpSpPr/>
                <p:nvPr/>
              </p:nvGrpSpPr>
              <p:grpSpPr>
                <a:xfrm>
                  <a:off x="5549040" y="3364560"/>
                  <a:ext cx="121320" cy="154800"/>
                  <a:chOff x="5549040" y="3364560"/>
                  <a:chExt cx="121320" cy="154800"/>
                </a:xfrm>
              </p:grpSpPr>
              <p:sp>
                <p:nvSpPr>
                  <p:cNvPr id="13258" name=""/>
                  <p:cNvSpPr/>
                  <p:nvPr/>
                </p:nvSpPr>
                <p:spPr>
                  <a:xfrm rot="9568200">
                    <a:off x="5569920" y="3373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9" name=""/>
                  <p:cNvSpPr/>
                  <p:nvPr/>
                </p:nvSpPr>
                <p:spPr>
                  <a:xfrm>
                    <a:off x="5555520" y="3400560"/>
                    <a:ext cx="7596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0" name=""/>
                  <p:cNvSpPr/>
                  <p:nvPr/>
                </p:nvSpPr>
                <p:spPr>
                  <a:xfrm>
                    <a:off x="5580360" y="342324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1" name=""/>
                  <p:cNvSpPr/>
                  <p:nvPr/>
                </p:nvSpPr>
                <p:spPr>
                  <a:xfrm>
                    <a:off x="5599440" y="3429000"/>
                    <a:ext cx="169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2" name=""/>
                  <p:cNvSpPr/>
                  <p:nvPr/>
                </p:nvSpPr>
                <p:spPr>
                  <a:xfrm>
                    <a:off x="5610600" y="3444480"/>
                    <a:ext cx="90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3" name=""/>
                <p:cNvGrpSpPr/>
                <p:nvPr/>
              </p:nvGrpSpPr>
              <p:grpSpPr>
                <a:xfrm>
                  <a:off x="5413680" y="3110040"/>
                  <a:ext cx="148680" cy="144000"/>
                  <a:chOff x="5413680" y="3110040"/>
                  <a:chExt cx="148680" cy="144000"/>
                </a:xfrm>
              </p:grpSpPr>
              <p:sp>
                <p:nvSpPr>
                  <p:cNvPr id="13264" name=""/>
                  <p:cNvSpPr/>
                  <p:nvPr/>
                </p:nvSpPr>
                <p:spPr>
                  <a:xfrm rot="3141000">
                    <a:off x="5442120" y="31233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5" name=""/>
                  <p:cNvSpPr/>
                  <p:nvPr/>
                </p:nvSpPr>
                <p:spPr>
                  <a:xfrm flipV="1">
                    <a:off x="5474520" y="3156840"/>
                    <a:ext cx="1692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6" name=""/>
                  <p:cNvSpPr/>
                  <p:nvPr/>
                </p:nvSpPr>
                <p:spPr>
                  <a:xfrm flipV="1">
                    <a:off x="5484600" y="3201480"/>
                    <a:ext cx="90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7" name=""/>
                  <p:cNvSpPr/>
                  <p:nvPr/>
                </p:nvSpPr>
                <p:spPr>
                  <a:xfrm flipH="1" flipV="1">
                    <a:off x="5474520" y="3177720"/>
                    <a:ext cx="720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8" name=""/>
                  <p:cNvSpPr/>
                  <p:nvPr/>
                </p:nvSpPr>
                <p:spPr>
                  <a:xfrm flipV="1">
                    <a:off x="5490360" y="3169800"/>
                    <a:ext cx="50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9" name=""/>
                <p:cNvGrpSpPr/>
                <p:nvPr/>
              </p:nvGrpSpPr>
              <p:grpSpPr>
                <a:xfrm>
                  <a:off x="5424480" y="2943000"/>
                  <a:ext cx="149040" cy="153720"/>
                  <a:chOff x="5424480" y="2943000"/>
                  <a:chExt cx="149040" cy="153720"/>
                </a:xfrm>
              </p:grpSpPr>
              <p:sp>
                <p:nvSpPr>
                  <p:cNvPr id="13270" name=""/>
                  <p:cNvSpPr/>
                  <p:nvPr/>
                </p:nvSpPr>
                <p:spPr>
                  <a:xfrm rot="2505000">
                    <a:off x="5459400" y="29520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1" name=""/>
                  <p:cNvSpPr/>
                  <p:nvPr/>
                </p:nvSpPr>
                <p:spPr>
                  <a:xfrm flipV="1">
                    <a:off x="5487840" y="2994120"/>
                    <a:ext cx="1368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2" name=""/>
                  <p:cNvSpPr/>
                  <p:nvPr/>
                </p:nvSpPr>
                <p:spPr>
                  <a:xfrm flipV="1">
                    <a:off x="5496480" y="3037680"/>
                    <a:ext cx="82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3" name=""/>
                  <p:cNvSpPr/>
                  <p:nvPr/>
                </p:nvSpPr>
                <p:spPr>
                  <a:xfrm flipH="1" flipV="1">
                    <a:off x="5485320" y="3019680"/>
                    <a:ext cx="720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4" name=""/>
                  <p:cNvSpPr/>
                  <p:nvPr/>
                </p:nvSpPr>
                <p:spPr>
                  <a:xfrm flipV="1">
                    <a:off x="5501160" y="300528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75" name=""/>
                <p:cNvGrpSpPr/>
                <p:nvPr/>
              </p:nvGrpSpPr>
              <p:grpSpPr>
                <a:xfrm>
                  <a:off x="5488200" y="2796120"/>
                  <a:ext cx="146880" cy="155160"/>
                  <a:chOff x="5488200" y="2796120"/>
                  <a:chExt cx="146880" cy="155160"/>
                </a:xfrm>
              </p:grpSpPr>
              <p:sp>
                <p:nvSpPr>
                  <p:cNvPr id="13276" name=""/>
                  <p:cNvSpPr/>
                  <p:nvPr/>
                </p:nvSpPr>
                <p:spPr>
                  <a:xfrm rot="2345400">
                    <a:off x="5522040" y="2805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7" name=""/>
                  <p:cNvSpPr/>
                  <p:nvPr/>
                </p:nvSpPr>
                <p:spPr>
                  <a:xfrm flipV="1">
                    <a:off x="5553720" y="2848320"/>
                    <a:ext cx="936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8" name=""/>
                  <p:cNvSpPr/>
                  <p:nvPr/>
                </p:nvSpPr>
                <p:spPr>
                  <a:xfrm flipV="1">
                    <a:off x="5560920" y="2891520"/>
                    <a:ext cx="720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9" name=""/>
                  <p:cNvSpPr/>
                  <p:nvPr/>
                </p:nvSpPr>
                <p:spPr>
                  <a:xfrm flipH="1" flipV="1">
                    <a:off x="5547960" y="287460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0" name=""/>
                  <p:cNvSpPr/>
                  <p:nvPr/>
                </p:nvSpPr>
                <p:spPr>
                  <a:xfrm flipV="1">
                    <a:off x="5563800" y="2859120"/>
                    <a:ext cx="36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81" name=""/>
                <p:cNvGrpSpPr/>
                <p:nvPr/>
              </p:nvGrpSpPr>
              <p:grpSpPr>
                <a:xfrm>
                  <a:off x="5554800" y="2775240"/>
                  <a:ext cx="148680" cy="145800"/>
                  <a:chOff x="5554800" y="2775240"/>
                  <a:chExt cx="148680" cy="145800"/>
                </a:xfrm>
              </p:grpSpPr>
              <p:sp>
                <p:nvSpPr>
                  <p:cNvPr id="13282" name=""/>
                  <p:cNvSpPr/>
                  <p:nvPr/>
                </p:nvSpPr>
                <p:spPr>
                  <a:xfrm rot="2977200">
                    <a:off x="5583240" y="27892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3" name=""/>
                  <p:cNvSpPr/>
                  <p:nvPr/>
                </p:nvSpPr>
                <p:spPr>
                  <a:xfrm flipV="1">
                    <a:off x="5618160" y="2822760"/>
                    <a:ext cx="1260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4" name=""/>
                  <p:cNvSpPr/>
                  <p:nvPr/>
                </p:nvSpPr>
                <p:spPr>
                  <a:xfrm flipV="1">
                    <a:off x="5626800" y="286740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5" name=""/>
                  <p:cNvSpPr/>
                  <p:nvPr/>
                </p:nvSpPr>
                <p:spPr>
                  <a:xfrm flipH="1" flipV="1">
                    <a:off x="5615280" y="284472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6" name=""/>
                  <p:cNvSpPr/>
                  <p:nvPr/>
                </p:nvSpPr>
                <p:spPr>
                  <a:xfrm flipV="1">
                    <a:off x="5631120" y="2835720"/>
                    <a:ext cx="396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87" name=""/>
              <p:cNvGrpSpPr/>
              <p:nvPr/>
            </p:nvGrpSpPr>
            <p:grpSpPr>
              <a:xfrm>
                <a:off x="4093560" y="3654000"/>
                <a:ext cx="486360" cy="731520"/>
                <a:chOff x="4093560" y="3654000"/>
                <a:chExt cx="486360" cy="731520"/>
              </a:xfrm>
            </p:grpSpPr>
            <p:grpSp>
              <p:nvGrpSpPr>
                <p:cNvPr id="13288" name=""/>
                <p:cNvGrpSpPr/>
                <p:nvPr/>
              </p:nvGrpSpPr>
              <p:grpSpPr>
                <a:xfrm>
                  <a:off x="4164120" y="3927960"/>
                  <a:ext cx="124200" cy="155520"/>
                  <a:chOff x="4164120" y="3927960"/>
                  <a:chExt cx="124200" cy="155520"/>
                </a:xfrm>
              </p:grpSpPr>
              <p:sp>
                <p:nvSpPr>
                  <p:cNvPr id="13289" name=""/>
                  <p:cNvSpPr/>
                  <p:nvPr/>
                </p:nvSpPr>
                <p:spPr>
                  <a:xfrm rot="20265000">
                    <a:off x="4186800" y="39376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0" name=""/>
                  <p:cNvSpPr/>
                  <p:nvPr/>
                </p:nvSpPr>
                <p:spPr>
                  <a:xfrm flipH="1" flipV="1">
                    <a:off x="4204080" y="3992400"/>
                    <a:ext cx="77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1" name=""/>
                  <p:cNvSpPr/>
                  <p:nvPr/>
                </p:nvSpPr>
                <p:spPr>
                  <a:xfrm flipH="1" flipV="1">
                    <a:off x="4244760" y="400860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2" name=""/>
                  <p:cNvSpPr/>
                  <p:nvPr/>
                </p:nvSpPr>
                <p:spPr>
                  <a:xfrm flipH="1">
                    <a:off x="4220280" y="401796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3" name=""/>
                  <p:cNvSpPr/>
                  <p:nvPr/>
                </p:nvSpPr>
                <p:spPr>
                  <a:xfrm flipH="1" flipV="1">
                    <a:off x="4215960" y="399384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94" name=""/>
                <p:cNvSpPr/>
                <p:nvPr/>
              </p:nvSpPr>
              <p:spPr>
                <a:xfrm>
                  <a:off x="4405680" y="3902400"/>
                  <a:ext cx="20160" cy="20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5" name=""/>
                <p:cNvSpPr/>
                <p:nvPr/>
              </p:nvSpPr>
              <p:spPr>
                <a:xfrm rot="16449600">
                  <a:off x="4170240" y="3881520"/>
                  <a:ext cx="509040" cy="228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6" name=""/>
                <p:cNvSpPr/>
                <p:nvPr/>
              </p:nvSpPr>
              <p:spPr>
                <a:xfrm flipH="1">
                  <a:off x="4213800" y="4041360"/>
                  <a:ext cx="128160" cy="7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7" name=""/>
                <p:cNvSpPr/>
                <p:nvPr/>
              </p:nvSpPr>
              <p:spPr>
                <a:xfrm flipH="1">
                  <a:off x="4318920" y="3768840"/>
                  <a:ext cx="21888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8" name=""/>
                <p:cNvSpPr/>
                <p:nvPr/>
              </p:nvSpPr>
              <p:spPr>
                <a:xfrm>
                  <a:off x="4415760" y="4005720"/>
                  <a:ext cx="3168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9" name=""/>
                <p:cNvSpPr/>
                <p:nvPr/>
              </p:nvSpPr>
              <p:spPr>
                <a:xfrm flipH="1">
                  <a:off x="4380120" y="3944160"/>
                  <a:ext cx="2196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0" name=""/>
                <p:cNvSpPr/>
                <p:nvPr/>
              </p:nvSpPr>
              <p:spPr>
                <a:xfrm flipH="1">
                  <a:off x="4228560" y="4078440"/>
                  <a:ext cx="58680" cy="77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1" name=""/>
                <p:cNvSpPr/>
                <p:nvPr/>
              </p:nvSpPr>
              <p:spPr>
                <a:xfrm flipH="1" flipV="1">
                  <a:off x="4254840" y="4034880"/>
                  <a:ext cx="51120" cy="24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2" name=""/>
                <p:cNvSpPr/>
                <p:nvPr/>
              </p:nvSpPr>
              <p:spPr>
                <a:xfrm>
                  <a:off x="4316400" y="4162320"/>
                  <a:ext cx="3024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3" name=""/>
                <p:cNvSpPr/>
                <p:nvPr/>
              </p:nvSpPr>
              <p:spPr>
                <a:xfrm flipH="1">
                  <a:off x="4331160" y="3822840"/>
                  <a:ext cx="97920" cy="13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4" name=""/>
                <p:cNvSpPr/>
                <p:nvPr/>
              </p:nvSpPr>
              <p:spPr>
                <a:xfrm flipH="1">
                  <a:off x="4334040" y="3900240"/>
                  <a:ext cx="3600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5" name=""/>
                <p:cNvSpPr/>
                <p:nvPr/>
              </p:nvSpPr>
              <p:spPr>
                <a:xfrm flipH="1" flipV="1">
                  <a:off x="4397040" y="3780000"/>
                  <a:ext cx="6804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6" name=""/>
                <p:cNvSpPr/>
                <p:nvPr/>
              </p:nvSpPr>
              <p:spPr>
                <a:xfrm flipH="1" flipV="1">
                  <a:off x="4303440" y="385416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7" name=""/>
                <p:cNvSpPr/>
                <p:nvPr/>
              </p:nvSpPr>
              <p:spPr>
                <a:xfrm>
                  <a:off x="4462560" y="3846240"/>
                  <a:ext cx="11520" cy="82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8" name=""/>
                <p:cNvSpPr/>
                <p:nvPr/>
              </p:nvSpPr>
              <p:spPr>
                <a:xfrm>
                  <a:off x="4339440" y="4082040"/>
                  <a:ext cx="129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9" name=""/>
                <p:cNvSpPr/>
                <p:nvPr/>
              </p:nvSpPr>
              <p:spPr>
                <a:xfrm flipH="1">
                  <a:off x="4259520" y="4201200"/>
                  <a:ext cx="3600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0" name=""/>
                <p:cNvGrpSpPr/>
                <p:nvPr/>
              </p:nvGrpSpPr>
              <p:grpSpPr>
                <a:xfrm>
                  <a:off x="4093560" y="4035240"/>
                  <a:ext cx="148320" cy="140760"/>
                  <a:chOff x="4093560" y="4035240"/>
                  <a:chExt cx="148320" cy="140760"/>
                </a:xfrm>
              </p:grpSpPr>
              <p:sp>
                <p:nvSpPr>
                  <p:cNvPr id="13311" name=""/>
                  <p:cNvSpPr/>
                  <p:nvPr/>
                </p:nvSpPr>
                <p:spPr>
                  <a:xfrm rot="18195000">
                    <a:off x="4121640" y="40467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2" name=""/>
                  <p:cNvSpPr/>
                  <p:nvPr/>
                </p:nvSpPr>
                <p:spPr>
                  <a:xfrm flipH="1">
                    <a:off x="4142880" y="4097520"/>
                    <a:ext cx="896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3" name=""/>
                  <p:cNvSpPr/>
                  <p:nvPr/>
                </p:nvSpPr>
                <p:spPr>
                  <a:xfrm flipH="1" flipV="1">
                    <a:off x="4184640" y="409428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4" name=""/>
                  <p:cNvSpPr/>
                  <p:nvPr/>
                </p:nvSpPr>
                <p:spPr>
                  <a:xfrm flipH="1">
                    <a:off x="4168440" y="410724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5" name=""/>
                  <p:cNvSpPr/>
                  <p:nvPr/>
                </p:nvSpPr>
                <p:spPr>
                  <a:xfrm flipH="1" flipV="1">
                    <a:off x="4154040" y="410292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16" name=""/>
                <p:cNvGrpSpPr/>
                <p:nvPr/>
              </p:nvGrpSpPr>
              <p:grpSpPr>
                <a:xfrm>
                  <a:off x="4276800" y="3994200"/>
                  <a:ext cx="141120" cy="125280"/>
                  <a:chOff x="4276800" y="3994200"/>
                  <a:chExt cx="141120" cy="125280"/>
                </a:xfrm>
              </p:grpSpPr>
              <p:sp>
                <p:nvSpPr>
                  <p:cNvPr id="13317" name=""/>
                  <p:cNvSpPr/>
                  <p:nvPr/>
                </p:nvSpPr>
                <p:spPr>
                  <a:xfrm rot="15036600">
                    <a:off x="4301280" y="39981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8" name=""/>
                  <p:cNvSpPr/>
                  <p:nvPr/>
                </p:nvSpPr>
                <p:spPr>
                  <a:xfrm flipH="1">
                    <a:off x="4336560" y="4000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9" name=""/>
                  <p:cNvSpPr/>
                  <p:nvPr/>
                </p:nvSpPr>
                <p:spPr>
                  <a:xfrm flipH="1">
                    <a:off x="4348800" y="402588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0" name=""/>
                  <p:cNvSpPr/>
                  <p:nvPr/>
                </p:nvSpPr>
                <p:spPr>
                  <a:xfrm>
                    <a:off x="4357800" y="4046400"/>
                    <a:ext cx="1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1" name=""/>
                  <p:cNvSpPr/>
                  <p:nvPr/>
                </p:nvSpPr>
                <p:spPr>
                  <a:xfrm flipH="1">
                    <a:off x="4336920" y="40572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2" name=""/>
                <p:cNvGrpSpPr/>
                <p:nvPr/>
              </p:nvGrpSpPr>
              <p:grpSpPr>
                <a:xfrm>
                  <a:off x="4219920" y="3940920"/>
                  <a:ext cx="123480" cy="99720"/>
                  <a:chOff x="4219920" y="3940920"/>
                  <a:chExt cx="123480" cy="99720"/>
                </a:xfrm>
              </p:grpSpPr>
              <p:sp>
                <p:nvSpPr>
                  <p:cNvPr id="13323" name=""/>
                  <p:cNvSpPr/>
                  <p:nvPr/>
                </p:nvSpPr>
                <p:spPr>
                  <a:xfrm rot="16449600">
                    <a:off x="4235760" y="3931920"/>
                    <a:ext cx="914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4" name=""/>
                  <p:cNvSpPr/>
                  <p:nvPr/>
                </p:nvSpPr>
                <p:spPr>
                  <a:xfrm flipH="1">
                    <a:off x="4262760" y="395208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5" name=""/>
                  <p:cNvSpPr/>
                  <p:nvPr/>
                </p:nvSpPr>
                <p:spPr>
                  <a:xfrm flipH="1">
                    <a:off x="4290840" y="396792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6" name=""/>
                  <p:cNvSpPr/>
                  <p:nvPr/>
                </p:nvSpPr>
                <p:spPr>
                  <a:xfrm flipH="1">
                    <a:off x="4289040" y="398520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7" name=""/>
                  <p:cNvSpPr/>
                  <p:nvPr/>
                </p:nvSpPr>
                <p:spPr>
                  <a:xfrm flipH="1">
                    <a:off x="4268160" y="399024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8" name=""/>
                <p:cNvGrpSpPr/>
                <p:nvPr/>
              </p:nvGrpSpPr>
              <p:grpSpPr>
                <a:xfrm>
                  <a:off x="4417920" y="4096080"/>
                  <a:ext cx="86040" cy="139680"/>
                  <a:chOff x="4417920" y="4096080"/>
                  <a:chExt cx="86040" cy="139680"/>
                </a:xfrm>
              </p:grpSpPr>
              <p:sp>
                <p:nvSpPr>
                  <p:cNvPr id="13329" name=""/>
                  <p:cNvSpPr/>
                  <p:nvPr/>
                </p:nvSpPr>
                <p:spPr>
                  <a:xfrm rot="10618800">
                    <a:off x="4421520" y="4097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0" name=""/>
                  <p:cNvSpPr/>
                  <p:nvPr/>
                </p:nvSpPr>
                <p:spPr>
                  <a:xfrm>
                    <a:off x="4421520" y="4109760"/>
                    <a:ext cx="5580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1" name=""/>
                  <p:cNvSpPr/>
                  <p:nvPr/>
                </p:nvSpPr>
                <p:spPr>
                  <a:xfrm>
                    <a:off x="4438440" y="413928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2" name=""/>
                  <p:cNvSpPr/>
                  <p:nvPr/>
                </p:nvSpPr>
                <p:spPr>
                  <a:xfrm>
                    <a:off x="4455000" y="415044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3" name=""/>
                  <p:cNvSpPr/>
                  <p:nvPr/>
                </p:nvSpPr>
                <p:spPr>
                  <a:xfrm>
                    <a:off x="4461120" y="416880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34" name=""/>
                <p:cNvGrpSpPr/>
                <p:nvPr/>
              </p:nvGrpSpPr>
              <p:grpSpPr>
                <a:xfrm>
                  <a:off x="4148280" y="4201200"/>
                  <a:ext cx="123840" cy="99720"/>
                  <a:chOff x="4148280" y="4201200"/>
                  <a:chExt cx="123840" cy="99720"/>
                </a:xfrm>
              </p:grpSpPr>
              <p:sp>
                <p:nvSpPr>
                  <p:cNvPr id="13335" name=""/>
                  <p:cNvSpPr/>
                  <p:nvPr/>
                </p:nvSpPr>
                <p:spPr>
                  <a:xfrm rot="16449600">
                    <a:off x="4164120" y="4192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6" name=""/>
                  <p:cNvSpPr/>
                  <p:nvPr/>
                </p:nvSpPr>
                <p:spPr>
                  <a:xfrm flipH="1">
                    <a:off x="4191120" y="421272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7" name=""/>
                  <p:cNvSpPr/>
                  <p:nvPr/>
                </p:nvSpPr>
                <p:spPr>
                  <a:xfrm flipH="1">
                    <a:off x="4219560" y="42282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8" name=""/>
                  <p:cNvSpPr/>
                  <p:nvPr/>
                </p:nvSpPr>
                <p:spPr>
                  <a:xfrm flipH="1">
                    <a:off x="4217760" y="424548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9" name=""/>
                  <p:cNvSpPr/>
                  <p:nvPr/>
                </p:nvSpPr>
                <p:spPr>
                  <a:xfrm flipH="1">
                    <a:off x="4196880" y="42505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0" name=""/>
                <p:cNvGrpSpPr/>
                <p:nvPr/>
              </p:nvGrpSpPr>
              <p:grpSpPr>
                <a:xfrm>
                  <a:off x="4208400" y="3858480"/>
                  <a:ext cx="123840" cy="99720"/>
                  <a:chOff x="4208400" y="3858480"/>
                  <a:chExt cx="123840" cy="99720"/>
                </a:xfrm>
              </p:grpSpPr>
              <p:sp>
                <p:nvSpPr>
                  <p:cNvPr id="13341" name=""/>
                  <p:cNvSpPr/>
                  <p:nvPr/>
                </p:nvSpPr>
                <p:spPr>
                  <a:xfrm rot="16449600">
                    <a:off x="4224240" y="38494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2" name=""/>
                  <p:cNvSpPr/>
                  <p:nvPr/>
                </p:nvSpPr>
                <p:spPr>
                  <a:xfrm flipH="1">
                    <a:off x="4250880" y="386964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3" name=""/>
                  <p:cNvSpPr/>
                  <p:nvPr/>
                </p:nvSpPr>
                <p:spPr>
                  <a:xfrm flipH="1">
                    <a:off x="4279320" y="38854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4" name=""/>
                  <p:cNvSpPr/>
                  <p:nvPr/>
                </p:nvSpPr>
                <p:spPr>
                  <a:xfrm flipH="1">
                    <a:off x="4277520" y="390276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5" name=""/>
                  <p:cNvSpPr/>
                  <p:nvPr/>
                </p:nvSpPr>
                <p:spPr>
                  <a:xfrm flipH="1">
                    <a:off x="4257000" y="390780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6" name=""/>
                <p:cNvGrpSpPr/>
                <p:nvPr/>
              </p:nvGrpSpPr>
              <p:grpSpPr>
                <a:xfrm>
                  <a:off x="4117680" y="4137840"/>
                  <a:ext cx="123480" cy="99720"/>
                  <a:chOff x="4117680" y="4137840"/>
                  <a:chExt cx="123480" cy="99720"/>
                </a:xfrm>
              </p:grpSpPr>
              <p:sp>
                <p:nvSpPr>
                  <p:cNvPr id="13347" name=""/>
                  <p:cNvSpPr/>
                  <p:nvPr/>
                </p:nvSpPr>
                <p:spPr>
                  <a:xfrm rot="16449600">
                    <a:off x="4133520" y="4128840"/>
                    <a:ext cx="914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8" name=""/>
                  <p:cNvSpPr/>
                  <p:nvPr/>
                </p:nvSpPr>
                <p:spPr>
                  <a:xfrm flipH="1">
                    <a:off x="4160160" y="414900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9" name=""/>
                  <p:cNvSpPr/>
                  <p:nvPr/>
                </p:nvSpPr>
                <p:spPr>
                  <a:xfrm flipH="1">
                    <a:off x="4188600" y="41648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0" name=""/>
                  <p:cNvSpPr/>
                  <p:nvPr/>
                </p:nvSpPr>
                <p:spPr>
                  <a:xfrm flipH="1">
                    <a:off x="4186440" y="418212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1" name=""/>
                  <p:cNvSpPr/>
                  <p:nvPr/>
                </p:nvSpPr>
                <p:spPr>
                  <a:xfrm flipH="1">
                    <a:off x="4165920" y="41868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2" name=""/>
                <p:cNvGrpSpPr/>
                <p:nvPr/>
              </p:nvGrpSpPr>
              <p:grpSpPr>
                <a:xfrm>
                  <a:off x="4473360" y="3911760"/>
                  <a:ext cx="106560" cy="149760"/>
                  <a:chOff x="4473360" y="3911760"/>
                  <a:chExt cx="106560" cy="149760"/>
                </a:xfrm>
              </p:grpSpPr>
              <p:sp>
                <p:nvSpPr>
                  <p:cNvPr id="13353" name=""/>
                  <p:cNvSpPr/>
                  <p:nvPr/>
                </p:nvSpPr>
                <p:spPr>
                  <a:xfrm rot="10047600">
                    <a:off x="4487040" y="39186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4" name=""/>
                  <p:cNvSpPr/>
                  <p:nvPr/>
                </p:nvSpPr>
                <p:spPr>
                  <a:xfrm>
                    <a:off x="4478400" y="3937680"/>
                    <a:ext cx="67680" cy="65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5" name=""/>
                  <p:cNvSpPr/>
                  <p:nvPr/>
                </p:nvSpPr>
                <p:spPr>
                  <a:xfrm>
                    <a:off x="4500360" y="396396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6" name=""/>
                  <p:cNvSpPr/>
                  <p:nvPr/>
                </p:nvSpPr>
                <p:spPr>
                  <a:xfrm>
                    <a:off x="4518360" y="397260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7" name=""/>
                  <p:cNvSpPr/>
                  <p:nvPr/>
                </p:nvSpPr>
                <p:spPr>
                  <a:xfrm>
                    <a:off x="4527360" y="398916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8" name=""/>
                <p:cNvGrpSpPr/>
                <p:nvPr/>
              </p:nvGrpSpPr>
              <p:grpSpPr>
                <a:xfrm>
                  <a:off x="4436280" y="4008600"/>
                  <a:ext cx="131040" cy="156600"/>
                  <a:chOff x="4436280" y="4008600"/>
                  <a:chExt cx="131040" cy="156600"/>
                </a:xfrm>
              </p:grpSpPr>
              <p:sp>
                <p:nvSpPr>
                  <p:cNvPr id="13359" name=""/>
                  <p:cNvSpPr/>
                  <p:nvPr/>
                </p:nvSpPr>
                <p:spPr>
                  <a:xfrm rot="9208200">
                    <a:off x="4462200" y="40186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0" name=""/>
                  <p:cNvSpPr/>
                  <p:nvPr/>
                </p:nvSpPr>
                <p:spPr>
                  <a:xfrm>
                    <a:off x="4443120" y="4051440"/>
                    <a:ext cx="81360" cy="46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1" name=""/>
                  <p:cNvSpPr/>
                  <p:nvPr/>
                </p:nvSpPr>
                <p:spPr>
                  <a:xfrm>
                    <a:off x="4470480" y="407160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2" name=""/>
                  <p:cNvSpPr/>
                  <p:nvPr/>
                </p:nvSpPr>
                <p:spPr>
                  <a:xfrm flipV="1">
                    <a:off x="4490280" y="407376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3" name=""/>
                  <p:cNvSpPr/>
                  <p:nvPr/>
                </p:nvSpPr>
                <p:spPr>
                  <a:xfrm>
                    <a:off x="4502880" y="408960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64" name=""/>
                <p:cNvGrpSpPr/>
                <p:nvPr/>
              </p:nvGrpSpPr>
              <p:grpSpPr>
                <a:xfrm>
                  <a:off x="4286880" y="4230000"/>
                  <a:ext cx="81360" cy="137160"/>
                  <a:chOff x="4286880" y="4230000"/>
                  <a:chExt cx="81360" cy="137160"/>
                </a:xfrm>
              </p:grpSpPr>
              <p:sp>
                <p:nvSpPr>
                  <p:cNvPr id="13365" name=""/>
                  <p:cNvSpPr/>
                  <p:nvPr/>
                </p:nvSpPr>
                <p:spPr>
                  <a:xfrm rot="10860000">
                    <a:off x="4287960" y="42307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6" name=""/>
                  <p:cNvSpPr/>
                  <p:nvPr/>
                </p:nvSpPr>
                <p:spPr>
                  <a:xfrm>
                    <a:off x="4291920" y="4240080"/>
                    <a:ext cx="5040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7" name=""/>
                  <p:cNvSpPr/>
                  <p:nvPr/>
                </p:nvSpPr>
                <p:spPr>
                  <a:xfrm>
                    <a:off x="4307040" y="42706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8" name=""/>
                  <p:cNvSpPr/>
                  <p:nvPr/>
                </p:nvSpPr>
                <p:spPr>
                  <a:xfrm>
                    <a:off x="4322520" y="428292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9" name=""/>
                  <p:cNvSpPr/>
                  <p:nvPr/>
                </p:nvSpPr>
                <p:spPr>
                  <a:xfrm>
                    <a:off x="4327200" y="43016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0" name=""/>
                <p:cNvGrpSpPr/>
                <p:nvPr/>
              </p:nvGrpSpPr>
              <p:grpSpPr>
                <a:xfrm>
                  <a:off x="4340880" y="4206960"/>
                  <a:ext cx="116640" cy="153360"/>
                  <a:chOff x="4340880" y="4206960"/>
                  <a:chExt cx="116640" cy="153360"/>
                </a:xfrm>
              </p:grpSpPr>
              <p:sp>
                <p:nvSpPr>
                  <p:cNvPr id="13371" name=""/>
                  <p:cNvSpPr/>
                  <p:nvPr/>
                </p:nvSpPr>
                <p:spPr>
                  <a:xfrm rot="9731400">
                    <a:off x="4359600" y="42156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2" name=""/>
                  <p:cNvSpPr/>
                  <p:nvPr/>
                </p:nvSpPr>
                <p:spPr>
                  <a:xfrm>
                    <a:off x="4347000" y="4239720"/>
                    <a:ext cx="7308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3" name=""/>
                  <p:cNvSpPr/>
                  <p:nvPr/>
                </p:nvSpPr>
                <p:spPr>
                  <a:xfrm>
                    <a:off x="4370760" y="426384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4" name=""/>
                  <p:cNvSpPr/>
                  <p:nvPr/>
                </p:nvSpPr>
                <p:spPr>
                  <a:xfrm>
                    <a:off x="4389840" y="4270680"/>
                    <a:ext cx="165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5" name=""/>
                  <p:cNvSpPr/>
                  <p:nvPr/>
                </p:nvSpPr>
                <p:spPr>
                  <a:xfrm>
                    <a:off x="4400280" y="4286520"/>
                    <a:ext cx="828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6" name=""/>
                <p:cNvGrpSpPr/>
                <p:nvPr/>
              </p:nvGrpSpPr>
              <p:grpSpPr>
                <a:xfrm>
                  <a:off x="4339440" y="4107600"/>
                  <a:ext cx="99360" cy="146520"/>
                  <a:chOff x="4339440" y="4107600"/>
                  <a:chExt cx="99360" cy="146520"/>
                </a:xfrm>
              </p:grpSpPr>
              <p:sp>
                <p:nvSpPr>
                  <p:cNvPr id="13377" name=""/>
                  <p:cNvSpPr/>
                  <p:nvPr/>
                </p:nvSpPr>
                <p:spPr>
                  <a:xfrm rot="10251000">
                    <a:off x="4349520" y="4112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8" name=""/>
                  <p:cNvSpPr/>
                  <p:nvPr/>
                </p:nvSpPr>
                <p:spPr>
                  <a:xfrm>
                    <a:off x="4343760" y="4129200"/>
                    <a:ext cx="63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9" name=""/>
                  <p:cNvSpPr/>
                  <p:nvPr/>
                </p:nvSpPr>
                <p:spPr>
                  <a:xfrm>
                    <a:off x="4363920" y="41569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0" name=""/>
                  <p:cNvSpPr/>
                  <p:nvPr/>
                </p:nvSpPr>
                <p:spPr>
                  <a:xfrm>
                    <a:off x="4381560" y="416628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1" name=""/>
                  <p:cNvSpPr/>
                  <p:nvPr/>
                </p:nvSpPr>
                <p:spPr>
                  <a:xfrm>
                    <a:off x="4389480" y="418356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2" name=""/>
                <p:cNvGrpSpPr/>
                <p:nvPr/>
              </p:nvGrpSpPr>
              <p:grpSpPr>
                <a:xfrm>
                  <a:off x="4206240" y="4136040"/>
                  <a:ext cx="115560" cy="153000"/>
                  <a:chOff x="4206240" y="4136040"/>
                  <a:chExt cx="115560" cy="153000"/>
                </a:xfrm>
              </p:grpSpPr>
              <p:sp>
                <p:nvSpPr>
                  <p:cNvPr id="13383" name=""/>
                  <p:cNvSpPr/>
                  <p:nvPr/>
                </p:nvSpPr>
                <p:spPr>
                  <a:xfrm rot="11835000">
                    <a:off x="4224240" y="41446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4" name=""/>
                  <p:cNvSpPr/>
                  <p:nvPr/>
                </p:nvSpPr>
                <p:spPr>
                  <a:xfrm>
                    <a:off x="4246200" y="4146480"/>
                    <a:ext cx="2628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5" name=""/>
                  <p:cNvSpPr/>
                  <p:nvPr/>
                </p:nvSpPr>
                <p:spPr>
                  <a:xfrm flipH="1">
                    <a:off x="4251240" y="417996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6" name=""/>
                  <p:cNvSpPr/>
                  <p:nvPr/>
                </p:nvSpPr>
                <p:spPr>
                  <a:xfrm>
                    <a:off x="4263480" y="419652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7" name=""/>
                  <p:cNvSpPr/>
                  <p:nvPr/>
                </p:nvSpPr>
                <p:spPr>
                  <a:xfrm>
                    <a:off x="4262760" y="4215240"/>
                    <a:ext cx="1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8" name=""/>
                <p:cNvGrpSpPr/>
                <p:nvPr/>
              </p:nvGrpSpPr>
              <p:grpSpPr>
                <a:xfrm>
                  <a:off x="4242240" y="3920760"/>
                  <a:ext cx="148320" cy="144360"/>
                  <a:chOff x="4242240" y="3920760"/>
                  <a:chExt cx="148320" cy="144360"/>
                </a:xfrm>
              </p:grpSpPr>
              <p:sp>
                <p:nvSpPr>
                  <p:cNvPr id="13389" name=""/>
                  <p:cNvSpPr/>
                  <p:nvPr/>
                </p:nvSpPr>
                <p:spPr>
                  <a:xfrm rot="13885800">
                    <a:off x="4270320" y="3934080"/>
                    <a:ext cx="914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0" name=""/>
                  <p:cNvSpPr/>
                  <p:nvPr/>
                </p:nvSpPr>
                <p:spPr>
                  <a:xfrm flipH="1">
                    <a:off x="4313880" y="3929040"/>
                    <a:ext cx="1548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1" name=""/>
                  <p:cNvSpPr/>
                  <p:nvPr/>
                </p:nvSpPr>
                <p:spPr>
                  <a:xfrm flipH="1">
                    <a:off x="4311000" y="395928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2" name=""/>
                  <p:cNvSpPr/>
                  <p:nvPr/>
                </p:nvSpPr>
                <p:spPr>
                  <a:xfrm>
                    <a:off x="4322880" y="397980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3" name=""/>
                  <p:cNvSpPr/>
                  <p:nvPr/>
                </p:nvSpPr>
                <p:spPr>
                  <a:xfrm flipH="1">
                    <a:off x="4309560" y="399456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94" name=""/>
                <p:cNvGrpSpPr/>
                <p:nvPr/>
              </p:nvGrpSpPr>
              <p:grpSpPr>
                <a:xfrm>
                  <a:off x="4202640" y="3727440"/>
                  <a:ext cx="111960" cy="151920"/>
                  <a:chOff x="4202640" y="3727440"/>
                  <a:chExt cx="111960" cy="151920"/>
                </a:xfrm>
              </p:grpSpPr>
              <p:sp>
                <p:nvSpPr>
                  <p:cNvPr id="13395" name=""/>
                  <p:cNvSpPr/>
                  <p:nvPr/>
                </p:nvSpPr>
                <p:spPr>
                  <a:xfrm rot="20683200">
                    <a:off x="4218840" y="37353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6" name=""/>
                  <p:cNvSpPr/>
                  <p:nvPr/>
                </p:nvSpPr>
                <p:spPr>
                  <a:xfrm flipH="1" flipV="1">
                    <a:off x="4238280" y="3787560"/>
                    <a:ext cx="7092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7" name=""/>
                  <p:cNvSpPr/>
                  <p:nvPr/>
                </p:nvSpPr>
                <p:spPr>
                  <a:xfrm flipH="1" flipV="1">
                    <a:off x="4276440" y="380844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8" name=""/>
                  <p:cNvSpPr/>
                  <p:nvPr/>
                </p:nvSpPr>
                <p:spPr>
                  <a:xfrm flipH="1" flipV="1">
                    <a:off x="4251240" y="381492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9" name=""/>
                  <p:cNvSpPr/>
                  <p:nvPr/>
                </p:nvSpPr>
                <p:spPr>
                  <a:xfrm flipH="1" flipV="1">
                    <a:off x="4249800" y="379044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0" name=""/>
                <p:cNvGrpSpPr/>
                <p:nvPr/>
              </p:nvGrpSpPr>
              <p:grpSpPr>
                <a:xfrm>
                  <a:off x="4298400" y="3654000"/>
                  <a:ext cx="108000" cy="150120"/>
                  <a:chOff x="4298400" y="3654000"/>
                  <a:chExt cx="108000" cy="150120"/>
                </a:xfrm>
              </p:grpSpPr>
              <p:sp>
                <p:nvSpPr>
                  <p:cNvPr id="13401" name=""/>
                  <p:cNvSpPr/>
                  <p:nvPr/>
                </p:nvSpPr>
                <p:spPr>
                  <a:xfrm rot="20803200">
                    <a:off x="4312800" y="3660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2" name=""/>
                  <p:cNvSpPr/>
                  <p:nvPr/>
                </p:nvSpPr>
                <p:spPr>
                  <a:xfrm flipH="1" flipV="1">
                    <a:off x="4332240" y="3712320"/>
                    <a:ext cx="68760" cy="64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3" name=""/>
                  <p:cNvSpPr/>
                  <p:nvPr/>
                </p:nvSpPr>
                <p:spPr>
                  <a:xfrm flipH="1" flipV="1">
                    <a:off x="4369680" y="373464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4" name=""/>
                  <p:cNvSpPr/>
                  <p:nvPr/>
                </p:nvSpPr>
                <p:spPr>
                  <a:xfrm flipH="1" flipV="1">
                    <a:off x="4344120" y="374040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5" name=""/>
                  <p:cNvSpPr/>
                  <p:nvPr/>
                </p:nvSpPr>
                <p:spPr>
                  <a:xfrm flipH="1" flipV="1">
                    <a:off x="4343760" y="3715560"/>
                    <a:ext cx="792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6" name=""/>
                <p:cNvGrpSpPr/>
                <p:nvPr/>
              </p:nvGrpSpPr>
              <p:grpSpPr>
                <a:xfrm>
                  <a:off x="4365720" y="3933000"/>
                  <a:ext cx="147600" cy="138240"/>
                  <a:chOff x="4365720" y="3933000"/>
                  <a:chExt cx="147600" cy="138240"/>
                </a:xfrm>
              </p:grpSpPr>
              <p:sp>
                <p:nvSpPr>
                  <p:cNvPr id="13407" name=""/>
                  <p:cNvSpPr/>
                  <p:nvPr/>
                </p:nvSpPr>
                <p:spPr>
                  <a:xfrm rot="14375400">
                    <a:off x="4393800" y="39430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8" name=""/>
                  <p:cNvSpPr/>
                  <p:nvPr/>
                </p:nvSpPr>
                <p:spPr>
                  <a:xfrm flipH="1">
                    <a:off x="4433040" y="3940560"/>
                    <a:ext cx="28080" cy="86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9" name=""/>
                  <p:cNvSpPr/>
                  <p:nvPr/>
                </p:nvSpPr>
                <p:spPr>
                  <a:xfrm flipH="1">
                    <a:off x="4437000" y="396900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0" name=""/>
                  <p:cNvSpPr/>
                  <p:nvPr/>
                </p:nvSpPr>
                <p:spPr>
                  <a:xfrm>
                    <a:off x="4447800" y="39898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1" name=""/>
                  <p:cNvSpPr/>
                  <p:nvPr/>
                </p:nvSpPr>
                <p:spPr>
                  <a:xfrm flipH="1">
                    <a:off x="4431240" y="400320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2" name=""/>
                <p:cNvGrpSpPr/>
                <p:nvPr/>
              </p:nvGrpSpPr>
              <p:grpSpPr>
                <a:xfrm>
                  <a:off x="4331520" y="4087080"/>
                  <a:ext cx="154440" cy="148680"/>
                  <a:chOff x="4331520" y="4087080"/>
                  <a:chExt cx="154440" cy="148680"/>
                </a:xfrm>
              </p:grpSpPr>
              <p:sp>
                <p:nvSpPr>
                  <p:cNvPr id="13413" name=""/>
                  <p:cNvSpPr/>
                  <p:nvPr/>
                </p:nvSpPr>
                <p:spPr>
                  <a:xfrm rot="13740000">
                    <a:off x="4368960" y="40935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4" name=""/>
                  <p:cNvSpPr/>
                  <p:nvPr/>
                </p:nvSpPr>
                <p:spPr>
                  <a:xfrm flipH="1">
                    <a:off x="4402800" y="4096080"/>
                    <a:ext cx="2520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5" name=""/>
                  <p:cNvSpPr/>
                  <p:nvPr/>
                </p:nvSpPr>
                <p:spPr>
                  <a:xfrm flipH="1">
                    <a:off x="4404960" y="412776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6" name=""/>
                  <p:cNvSpPr/>
                  <p:nvPr/>
                </p:nvSpPr>
                <p:spPr>
                  <a:xfrm>
                    <a:off x="4416480" y="4147560"/>
                    <a:ext cx="5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7" name=""/>
                  <p:cNvSpPr/>
                  <p:nvPr/>
                </p:nvSpPr>
                <p:spPr>
                  <a:xfrm flipH="1">
                    <a:off x="4400280" y="416340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8" name=""/>
                <p:cNvGrpSpPr/>
                <p:nvPr/>
              </p:nvGrpSpPr>
              <p:grpSpPr>
                <a:xfrm>
                  <a:off x="4251600" y="4223160"/>
                  <a:ext cx="152640" cy="150840"/>
                  <a:chOff x="4251600" y="4223160"/>
                  <a:chExt cx="152640" cy="150840"/>
                </a:xfrm>
              </p:grpSpPr>
              <p:sp>
                <p:nvSpPr>
                  <p:cNvPr id="13419" name=""/>
                  <p:cNvSpPr/>
                  <p:nvPr/>
                </p:nvSpPr>
                <p:spPr>
                  <a:xfrm rot="13579800">
                    <a:off x="4288320" y="42307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0" name=""/>
                  <p:cNvSpPr/>
                  <p:nvPr/>
                </p:nvSpPr>
                <p:spPr>
                  <a:xfrm flipH="1">
                    <a:off x="4323240" y="4232160"/>
                    <a:ext cx="2124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1" name=""/>
                  <p:cNvSpPr/>
                  <p:nvPr/>
                </p:nvSpPr>
                <p:spPr>
                  <a:xfrm flipH="1">
                    <a:off x="4323600" y="4264200"/>
                    <a:ext cx="93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2" name=""/>
                  <p:cNvSpPr/>
                  <p:nvPr/>
                </p:nvSpPr>
                <p:spPr>
                  <a:xfrm>
                    <a:off x="4335120" y="4284000"/>
                    <a:ext cx="648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3" name=""/>
                  <p:cNvSpPr/>
                  <p:nvPr/>
                </p:nvSpPr>
                <p:spPr>
                  <a:xfrm flipH="1">
                    <a:off x="4320360" y="43002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4" name=""/>
                <p:cNvGrpSpPr/>
                <p:nvPr/>
              </p:nvGrpSpPr>
              <p:grpSpPr>
                <a:xfrm>
                  <a:off x="4183920" y="4245120"/>
                  <a:ext cx="147960" cy="140400"/>
                  <a:chOff x="4183920" y="4245120"/>
                  <a:chExt cx="147960" cy="140400"/>
                </a:xfrm>
              </p:grpSpPr>
              <p:sp>
                <p:nvSpPr>
                  <p:cNvPr id="13425" name=""/>
                  <p:cNvSpPr/>
                  <p:nvPr/>
                </p:nvSpPr>
                <p:spPr>
                  <a:xfrm rot="14212200">
                    <a:off x="4212000" y="4256640"/>
                    <a:ext cx="9144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6" name=""/>
                  <p:cNvSpPr/>
                  <p:nvPr/>
                </p:nvSpPr>
                <p:spPr>
                  <a:xfrm flipH="1">
                    <a:off x="4253040" y="4253040"/>
                    <a:ext cx="2376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7" name=""/>
                  <p:cNvSpPr/>
                  <p:nvPr/>
                </p:nvSpPr>
                <p:spPr>
                  <a:xfrm flipH="1">
                    <a:off x="4254480" y="4282200"/>
                    <a:ext cx="97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8" name=""/>
                  <p:cNvSpPr/>
                  <p:nvPr/>
                </p:nvSpPr>
                <p:spPr>
                  <a:xfrm>
                    <a:off x="4265640" y="4302720"/>
                    <a:ext cx="54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9" name=""/>
                  <p:cNvSpPr/>
                  <p:nvPr/>
                </p:nvSpPr>
                <p:spPr>
                  <a:xfrm flipH="1">
                    <a:off x="4250160" y="4316760"/>
                    <a:ext cx="54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30" name=""/>
              <p:cNvGrpSpPr/>
              <p:nvPr/>
            </p:nvGrpSpPr>
            <p:grpSpPr>
              <a:xfrm>
                <a:off x="3821040" y="3333240"/>
                <a:ext cx="658080" cy="574200"/>
                <a:chOff x="3821040" y="3333240"/>
                <a:chExt cx="658080" cy="574200"/>
              </a:xfrm>
            </p:grpSpPr>
            <p:grpSp>
              <p:nvGrpSpPr>
                <p:cNvPr id="13431" name=""/>
                <p:cNvGrpSpPr/>
                <p:nvPr/>
              </p:nvGrpSpPr>
              <p:grpSpPr>
                <a:xfrm>
                  <a:off x="4000320" y="3428280"/>
                  <a:ext cx="132480" cy="145080"/>
                  <a:chOff x="4000320" y="3428280"/>
                  <a:chExt cx="132480" cy="145080"/>
                </a:xfrm>
              </p:grpSpPr>
              <p:sp>
                <p:nvSpPr>
                  <p:cNvPr id="13432" name=""/>
                  <p:cNvSpPr/>
                  <p:nvPr/>
                </p:nvSpPr>
                <p:spPr>
                  <a:xfrm rot="1519200">
                    <a:off x="4020840" y="34419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3" name=""/>
                  <p:cNvSpPr/>
                  <p:nvPr/>
                </p:nvSpPr>
                <p:spPr>
                  <a:xfrm flipH="1" flipV="1">
                    <a:off x="4057920" y="3476520"/>
                    <a:ext cx="2556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4" name=""/>
                  <p:cNvSpPr/>
                  <p:nvPr/>
                </p:nvSpPr>
                <p:spPr>
                  <a:xfrm flipV="1">
                    <a:off x="4078440" y="3515760"/>
                    <a:ext cx="14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5" name=""/>
                  <p:cNvSpPr/>
                  <p:nvPr/>
                </p:nvSpPr>
                <p:spPr>
                  <a:xfrm flipH="1" flipV="1">
                    <a:off x="4052160" y="350316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6" name=""/>
                  <p:cNvSpPr/>
                  <p:nvPr/>
                </p:nvSpPr>
                <p:spPr>
                  <a:xfrm flipH="1" flipV="1">
                    <a:off x="4066920" y="3486600"/>
                    <a:ext cx="7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37" name=""/>
                <p:cNvSpPr/>
                <p:nvPr/>
              </p:nvSpPr>
              <p:spPr>
                <a:xfrm flipH="1">
                  <a:off x="4154400" y="3594600"/>
                  <a:ext cx="113040" cy="140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8" name=""/>
                <p:cNvSpPr/>
                <p:nvPr/>
              </p:nvSpPr>
              <p:spPr>
                <a:xfrm rot="19303800">
                  <a:off x="4003920" y="3535200"/>
                  <a:ext cx="44028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9" name=""/>
                <p:cNvSpPr/>
                <p:nvPr/>
              </p:nvSpPr>
              <p:spPr>
                <a:xfrm flipH="1" flipV="1">
                  <a:off x="3989520" y="3555000"/>
                  <a:ext cx="143280" cy="67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0" name=""/>
                <p:cNvSpPr/>
                <p:nvPr/>
              </p:nvSpPr>
              <p:spPr>
                <a:xfrm flipH="1" flipV="1">
                  <a:off x="4218480" y="3503520"/>
                  <a:ext cx="234000" cy="125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1" name=""/>
                <p:cNvSpPr/>
                <p:nvPr/>
              </p:nvSpPr>
              <p:spPr>
                <a:xfrm flipH="1">
                  <a:off x="4208400" y="3665160"/>
                  <a:ext cx="2520" cy="53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2" name=""/>
                <p:cNvSpPr/>
                <p:nvPr/>
              </p:nvSpPr>
              <p:spPr>
                <a:xfrm flipH="1">
                  <a:off x="4185720" y="3616200"/>
                  <a:ext cx="54000" cy="16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3" name=""/>
                <p:cNvSpPr/>
                <p:nvPr/>
              </p:nvSpPr>
              <p:spPr>
                <a:xfrm flipH="1" flipV="1">
                  <a:off x="3974040" y="3592440"/>
                  <a:ext cx="9324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4" name=""/>
                <p:cNvSpPr/>
                <p:nvPr/>
              </p:nvSpPr>
              <p:spPr>
                <a:xfrm flipH="1" flipV="1">
                  <a:off x="4069800" y="3542760"/>
                  <a:ext cx="23760" cy="5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5" name=""/>
                <p:cNvSpPr/>
                <p:nvPr/>
              </p:nvSpPr>
              <p:spPr>
                <a:xfrm flipH="1">
                  <a:off x="4021200" y="3672720"/>
                  <a:ext cx="1584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6" name=""/>
                <p:cNvSpPr/>
                <p:nvPr/>
              </p:nvSpPr>
              <p:spPr>
                <a:xfrm flipH="1" flipV="1">
                  <a:off x="4175640" y="3563640"/>
                  <a:ext cx="1598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7" name=""/>
                <p:cNvSpPr/>
                <p:nvPr/>
              </p:nvSpPr>
              <p:spPr>
                <a:xfrm flipH="1" flipV="1">
                  <a:off x="4203720" y="3541680"/>
                  <a:ext cx="3852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8" name=""/>
                <p:cNvSpPr/>
                <p:nvPr/>
              </p:nvSpPr>
              <p:spPr>
                <a:xfrm flipH="1" flipV="1">
                  <a:off x="4337280" y="3512880"/>
                  <a:ext cx="36720" cy="7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9" name=""/>
                <p:cNvSpPr/>
                <p:nvPr/>
              </p:nvSpPr>
              <p:spPr>
                <a:xfrm flipH="1" flipV="1">
                  <a:off x="4219560" y="3476160"/>
                  <a:ext cx="3744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0" name=""/>
                <p:cNvSpPr/>
                <p:nvPr/>
              </p:nvSpPr>
              <p:spPr>
                <a:xfrm flipH="1">
                  <a:off x="4303800" y="3609720"/>
                  <a:ext cx="4248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1" name=""/>
                <p:cNvSpPr/>
                <p:nvPr/>
              </p:nvSpPr>
              <p:spPr>
                <a:xfrm flipH="1">
                  <a:off x="4076640" y="3644640"/>
                  <a:ext cx="28800" cy="48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2" name=""/>
                <p:cNvSpPr/>
                <p:nvPr/>
              </p:nvSpPr>
              <p:spPr>
                <a:xfrm flipH="1" flipV="1">
                  <a:off x="3957840" y="3657960"/>
                  <a:ext cx="3888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3" name=""/>
                <p:cNvGrpSpPr/>
                <p:nvPr/>
              </p:nvGrpSpPr>
              <p:grpSpPr>
                <a:xfrm>
                  <a:off x="3909240" y="3436560"/>
                  <a:ext cx="99720" cy="146520"/>
                  <a:chOff x="3909240" y="3436560"/>
                  <a:chExt cx="99720" cy="146520"/>
                </a:xfrm>
              </p:grpSpPr>
              <p:sp>
                <p:nvSpPr>
                  <p:cNvPr id="13454" name=""/>
                  <p:cNvSpPr/>
                  <p:nvPr/>
                </p:nvSpPr>
                <p:spPr>
                  <a:xfrm rot="21049200">
                    <a:off x="3919320" y="34419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5" name=""/>
                  <p:cNvSpPr/>
                  <p:nvPr/>
                </p:nvSpPr>
                <p:spPr>
                  <a:xfrm flipH="1" flipV="1">
                    <a:off x="3940560" y="3492000"/>
                    <a:ext cx="64080" cy="69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6" name=""/>
                  <p:cNvSpPr/>
                  <p:nvPr/>
                </p:nvSpPr>
                <p:spPr>
                  <a:xfrm flipH="1" flipV="1">
                    <a:off x="3976920" y="351648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7" name=""/>
                  <p:cNvSpPr/>
                  <p:nvPr/>
                </p:nvSpPr>
                <p:spPr>
                  <a:xfrm flipH="1" flipV="1">
                    <a:off x="3950280" y="3520440"/>
                    <a:ext cx="165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8" name=""/>
                  <p:cNvSpPr/>
                  <p:nvPr/>
                </p:nvSpPr>
                <p:spPr>
                  <a:xfrm flipH="1" flipV="1">
                    <a:off x="3952080" y="3495960"/>
                    <a:ext cx="72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59" name=""/>
                <p:cNvGrpSpPr/>
                <p:nvPr/>
              </p:nvGrpSpPr>
              <p:grpSpPr>
                <a:xfrm>
                  <a:off x="4048560" y="3569400"/>
                  <a:ext cx="156960" cy="133920"/>
                  <a:chOff x="4048560" y="3569400"/>
                  <a:chExt cx="156960" cy="133920"/>
                </a:xfrm>
              </p:grpSpPr>
              <p:sp>
                <p:nvSpPr>
                  <p:cNvPr id="13460" name=""/>
                  <p:cNvSpPr/>
                  <p:nvPr/>
                </p:nvSpPr>
                <p:spPr>
                  <a:xfrm rot="17890800">
                    <a:off x="4087440" y="35683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1" name=""/>
                  <p:cNvSpPr/>
                  <p:nvPr/>
                </p:nvSpPr>
                <p:spPr>
                  <a:xfrm flipH="1">
                    <a:off x="4101480" y="3630960"/>
                    <a:ext cx="9360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2" name=""/>
                  <p:cNvSpPr/>
                  <p:nvPr/>
                </p:nvSpPr>
                <p:spPr>
                  <a:xfrm flipH="1" flipV="1">
                    <a:off x="4142880" y="3626280"/>
                    <a:ext cx="183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3" name=""/>
                  <p:cNvSpPr/>
                  <p:nvPr/>
                </p:nvSpPr>
                <p:spPr>
                  <a:xfrm flipH="1">
                    <a:off x="4130280" y="363888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4" name=""/>
                  <p:cNvSpPr/>
                  <p:nvPr/>
                </p:nvSpPr>
                <p:spPr>
                  <a:xfrm flipH="1" flipV="1">
                    <a:off x="4111560" y="363312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5" name=""/>
                <p:cNvGrpSpPr/>
                <p:nvPr/>
              </p:nvGrpSpPr>
              <p:grpSpPr>
                <a:xfrm>
                  <a:off x="4045320" y="3462120"/>
                  <a:ext cx="146160" cy="155520"/>
                  <a:chOff x="4045320" y="3462120"/>
                  <a:chExt cx="146160" cy="155520"/>
                </a:xfrm>
              </p:grpSpPr>
              <p:sp>
                <p:nvSpPr>
                  <p:cNvPr id="13466" name=""/>
                  <p:cNvSpPr/>
                  <p:nvPr/>
                </p:nvSpPr>
                <p:spPr>
                  <a:xfrm rot="19303800">
                    <a:off x="4078800" y="34718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7" name=""/>
                  <p:cNvSpPr/>
                  <p:nvPr/>
                </p:nvSpPr>
                <p:spPr>
                  <a:xfrm flipH="1" flipV="1">
                    <a:off x="4093200" y="3533040"/>
                    <a:ext cx="89640" cy="29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8" name=""/>
                  <p:cNvSpPr/>
                  <p:nvPr/>
                </p:nvSpPr>
                <p:spPr>
                  <a:xfrm flipH="1" flipV="1">
                    <a:off x="4136760" y="353736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9" name=""/>
                  <p:cNvSpPr/>
                  <p:nvPr/>
                </p:nvSpPr>
                <p:spPr>
                  <a:xfrm flipH="1">
                    <a:off x="4115880" y="354852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0" name=""/>
                  <p:cNvSpPr/>
                  <p:nvPr/>
                </p:nvSpPr>
                <p:spPr>
                  <a:xfrm flipH="1" flipV="1">
                    <a:off x="4105440" y="35308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1" name=""/>
                <p:cNvGrpSpPr/>
                <p:nvPr/>
              </p:nvGrpSpPr>
              <p:grpSpPr>
                <a:xfrm>
                  <a:off x="4071600" y="3726000"/>
                  <a:ext cx="147240" cy="147600"/>
                  <a:chOff x="4071600" y="3726000"/>
                  <a:chExt cx="147240" cy="147600"/>
                </a:xfrm>
              </p:grpSpPr>
              <p:sp>
                <p:nvSpPr>
                  <p:cNvPr id="13472" name=""/>
                  <p:cNvSpPr/>
                  <p:nvPr/>
                </p:nvSpPr>
                <p:spPr>
                  <a:xfrm rot="13473000">
                    <a:off x="4099320" y="37411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3" name=""/>
                  <p:cNvSpPr/>
                  <p:nvPr/>
                </p:nvSpPr>
                <p:spPr>
                  <a:xfrm flipH="1">
                    <a:off x="4145400" y="3735000"/>
                    <a:ext cx="468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4" name=""/>
                  <p:cNvSpPr/>
                  <p:nvPr/>
                </p:nvSpPr>
                <p:spPr>
                  <a:xfrm flipH="1">
                    <a:off x="4137480" y="37663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5" name=""/>
                  <p:cNvSpPr/>
                  <p:nvPr/>
                </p:nvSpPr>
                <p:spPr>
                  <a:xfrm>
                    <a:off x="4150080" y="378612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6" name=""/>
                  <p:cNvSpPr/>
                  <p:nvPr/>
                </p:nvSpPr>
                <p:spPr>
                  <a:xfrm flipH="1">
                    <a:off x="4140000" y="380160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7" name=""/>
                <p:cNvGrpSpPr/>
                <p:nvPr/>
              </p:nvGrpSpPr>
              <p:grpSpPr>
                <a:xfrm>
                  <a:off x="3827520" y="3556440"/>
                  <a:ext cx="146160" cy="155520"/>
                  <a:chOff x="3827520" y="3556440"/>
                  <a:chExt cx="146160" cy="155520"/>
                </a:xfrm>
              </p:grpSpPr>
              <p:sp>
                <p:nvSpPr>
                  <p:cNvPr id="13478" name=""/>
                  <p:cNvSpPr/>
                  <p:nvPr/>
                </p:nvSpPr>
                <p:spPr>
                  <a:xfrm rot="19303800">
                    <a:off x="3861000" y="35661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9" name=""/>
                  <p:cNvSpPr/>
                  <p:nvPr/>
                </p:nvSpPr>
                <p:spPr>
                  <a:xfrm flipH="1" flipV="1">
                    <a:off x="3875760" y="3627360"/>
                    <a:ext cx="8928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0" name=""/>
                  <p:cNvSpPr/>
                  <p:nvPr/>
                </p:nvSpPr>
                <p:spPr>
                  <a:xfrm flipH="1" flipV="1">
                    <a:off x="3919320" y="36316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1" name=""/>
                  <p:cNvSpPr/>
                  <p:nvPr/>
                </p:nvSpPr>
                <p:spPr>
                  <a:xfrm flipH="1">
                    <a:off x="3898080" y="364284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2" name=""/>
                  <p:cNvSpPr/>
                  <p:nvPr/>
                </p:nvSpPr>
                <p:spPr>
                  <a:xfrm flipH="1" flipV="1">
                    <a:off x="3887640" y="362520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83" name=""/>
                <p:cNvGrpSpPr/>
                <p:nvPr/>
              </p:nvGrpSpPr>
              <p:grpSpPr>
                <a:xfrm>
                  <a:off x="4087440" y="3402360"/>
                  <a:ext cx="146160" cy="155520"/>
                  <a:chOff x="4087440" y="3402360"/>
                  <a:chExt cx="146160" cy="155520"/>
                </a:xfrm>
              </p:grpSpPr>
              <p:sp>
                <p:nvSpPr>
                  <p:cNvPr id="13484" name=""/>
                  <p:cNvSpPr/>
                  <p:nvPr/>
                </p:nvSpPr>
                <p:spPr>
                  <a:xfrm rot="19303800">
                    <a:off x="4120920" y="34120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5" name=""/>
                  <p:cNvSpPr/>
                  <p:nvPr/>
                </p:nvSpPr>
                <p:spPr>
                  <a:xfrm flipH="1" flipV="1">
                    <a:off x="4135680" y="3473640"/>
                    <a:ext cx="89640" cy="29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6" name=""/>
                  <p:cNvSpPr/>
                  <p:nvPr/>
                </p:nvSpPr>
                <p:spPr>
                  <a:xfrm flipH="1" flipV="1">
                    <a:off x="4179240" y="347760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7" name=""/>
                  <p:cNvSpPr/>
                  <p:nvPr/>
                </p:nvSpPr>
                <p:spPr>
                  <a:xfrm flipH="1">
                    <a:off x="4158360" y="348912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8" name=""/>
                  <p:cNvSpPr/>
                  <p:nvPr/>
                </p:nvSpPr>
                <p:spPr>
                  <a:xfrm flipH="1" flipV="1">
                    <a:off x="4147920" y="3471480"/>
                    <a:ext cx="111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89" name=""/>
                <p:cNvGrpSpPr/>
                <p:nvPr/>
              </p:nvGrpSpPr>
              <p:grpSpPr>
                <a:xfrm>
                  <a:off x="3843720" y="3491640"/>
                  <a:ext cx="146160" cy="155520"/>
                  <a:chOff x="3843720" y="3491640"/>
                  <a:chExt cx="146160" cy="155520"/>
                </a:xfrm>
              </p:grpSpPr>
              <p:sp>
                <p:nvSpPr>
                  <p:cNvPr id="13490" name=""/>
                  <p:cNvSpPr/>
                  <p:nvPr/>
                </p:nvSpPr>
                <p:spPr>
                  <a:xfrm rot="19303800">
                    <a:off x="3877200" y="35013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1" name=""/>
                  <p:cNvSpPr/>
                  <p:nvPr/>
                </p:nvSpPr>
                <p:spPr>
                  <a:xfrm flipH="1" flipV="1">
                    <a:off x="3891960" y="3562560"/>
                    <a:ext cx="89640" cy="29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2" name=""/>
                  <p:cNvSpPr/>
                  <p:nvPr/>
                </p:nvSpPr>
                <p:spPr>
                  <a:xfrm flipH="1" flipV="1">
                    <a:off x="3935520" y="35668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3" name=""/>
                  <p:cNvSpPr/>
                  <p:nvPr/>
                </p:nvSpPr>
                <p:spPr>
                  <a:xfrm flipH="1">
                    <a:off x="3914280" y="35784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4" name=""/>
                  <p:cNvSpPr/>
                  <p:nvPr/>
                </p:nvSpPr>
                <p:spPr>
                  <a:xfrm flipH="1" flipV="1">
                    <a:off x="3903840" y="3560400"/>
                    <a:ext cx="115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5" name=""/>
                <p:cNvGrpSpPr/>
                <p:nvPr/>
              </p:nvGrpSpPr>
              <p:grpSpPr>
                <a:xfrm>
                  <a:off x="4237200" y="3675600"/>
                  <a:ext cx="141840" cy="148320"/>
                  <a:chOff x="4237200" y="3675600"/>
                  <a:chExt cx="141840" cy="148320"/>
                </a:xfrm>
              </p:grpSpPr>
              <p:sp>
                <p:nvSpPr>
                  <p:cNvPr id="13496" name=""/>
                  <p:cNvSpPr/>
                  <p:nvPr/>
                </p:nvSpPr>
                <p:spPr>
                  <a:xfrm rot="12901800">
                    <a:off x="4262400" y="3690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7" name=""/>
                  <p:cNvSpPr/>
                  <p:nvPr/>
                </p:nvSpPr>
                <p:spPr>
                  <a:xfrm>
                    <a:off x="4302000" y="3684600"/>
                    <a:ext cx="1044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8" name=""/>
                  <p:cNvSpPr/>
                  <p:nvPr/>
                </p:nvSpPr>
                <p:spPr>
                  <a:xfrm flipH="1">
                    <a:off x="4297320" y="3716640"/>
                    <a:ext cx="43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9" name=""/>
                  <p:cNvSpPr/>
                  <p:nvPr/>
                </p:nvSpPr>
                <p:spPr>
                  <a:xfrm>
                    <a:off x="4310640" y="37350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0" name=""/>
                  <p:cNvSpPr/>
                  <p:nvPr/>
                </p:nvSpPr>
                <p:spPr>
                  <a:xfrm flipH="1">
                    <a:off x="4305240" y="375156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1" name=""/>
                <p:cNvGrpSpPr/>
                <p:nvPr/>
              </p:nvGrpSpPr>
              <p:grpSpPr>
                <a:xfrm>
                  <a:off x="4162680" y="3717360"/>
                  <a:ext cx="127080" cy="142200"/>
                  <a:chOff x="4162680" y="3717360"/>
                  <a:chExt cx="127080" cy="142200"/>
                </a:xfrm>
              </p:grpSpPr>
              <p:sp>
                <p:nvSpPr>
                  <p:cNvPr id="13502" name=""/>
                  <p:cNvSpPr/>
                  <p:nvPr/>
                </p:nvSpPr>
                <p:spPr>
                  <a:xfrm rot="12062400">
                    <a:off x="4180320" y="3729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3" name=""/>
                  <p:cNvSpPr/>
                  <p:nvPr/>
                </p:nvSpPr>
                <p:spPr>
                  <a:xfrm>
                    <a:off x="4204440" y="3726720"/>
                    <a:ext cx="31680" cy="84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4" name=""/>
                  <p:cNvSpPr/>
                  <p:nvPr/>
                </p:nvSpPr>
                <p:spPr>
                  <a:xfrm>
                    <a:off x="4211640" y="3757680"/>
                    <a:ext cx="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5" name=""/>
                  <p:cNvSpPr/>
                  <p:nvPr/>
                </p:nvSpPr>
                <p:spPr>
                  <a:xfrm>
                    <a:off x="4224960" y="377352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6" name=""/>
                  <p:cNvSpPr/>
                  <p:nvPr/>
                </p:nvSpPr>
                <p:spPr>
                  <a:xfrm>
                    <a:off x="4224960" y="3790440"/>
                    <a:ext cx="18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7" name=""/>
                <p:cNvGrpSpPr/>
                <p:nvPr/>
              </p:nvGrpSpPr>
              <p:grpSpPr>
                <a:xfrm>
                  <a:off x="3886920" y="3691800"/>
                  <a:ext cx="147960" cy="145800"/>
                  <a:chOff x="3886920" y="3691800"/>
                  <a:chExt cx="147960" cy="145800"/>
                </a:xfrm>
              </p:grpSpPr>
              <p:sp>
                <p:nvSpPr>
                  <p:cNvPr id="13508" name=""/>
                  <p:cNvSpPr/>
                  <p:nvPr/>
                </p:nvSpPr>
                <p:spPr>
                  <a:xfrm rot="13714200">
                    <a:off x="3915360" y="37058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9" name=""/>
                  <p:cNvSpPr/>
                  <p:nvPr/>
                </p:nvSpPr>
                <p:spPr>
                  <a:xfrm flipH="1">
                    <a:off x="3958920" y="3699720"/>
                    <a:ext cx="1116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0" name=""/>
                  <p:cNvSpPr/>
                  <p:nvPr/>
                </p:nvSpPr>
                <p:spPr>
                  <a:xfrm flipH="1">
                    <a:off x="3954600" y="37306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1" name=""/>
                  <p:cNvSpPr/>
                  <p:nvPr/>
                </p:nvSpPr>
                <p:spPr>
                  <a:xfrm>
                    <a:off x="3966480" y="3750840"/>
                    <a:ext cx="828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2" name=""/>
                  <p:cNvSpPr/>
                  <p:nvPr/>
                </p:nvSpPr>
                <p:spPr>
                  <a:xfrm flipH="1">
                    <a:off x="3954600" y="3765960"/>
                    <a:ext cx="43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13" name=""/>
                <p:cNvGrpSpPr/>
                <p:nvPr/>
              </p:nvGrpSpPr>
              <p:grpSpPr>
                <a:xfrm>
                  <a:off x="3956040" y="3744000"/>
                  <a:ext cx="137520" cy="147240"/>
                  <a:chOff x="3956040" y="3744000"/>
                  <a:chExt cx="137520" cy="147240"/>
                </a:xfrm>
              </p:grpSpPr>
              <p:sp>
                <p:nvSpPr>
                  <p:cNvPr id="13514" name=""/>
                  <p:cNvSpPr/>
                  <p:nvPr/>
                </p:nvSpPr>
                <p:spPr>
                  <a:xfrm rot="12585600">
                    <a:off x="3979080" y="3758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5" name=""/>
                  <p:cNvSpPr/>
                  <p:nvPr/>
                </p:nvSpPr>
                <p:spPr>
                  <a:xfrm>
                    <a:off x="4012560" y="3753720"/>
                    <a:ext cx="1872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6" name=""/>
                  <p:cNvSpPr/>
                  <p:nvPr/>
                </p:nvSpPr>
                <p:spPr>
                  <a:xfrm flipH="1">
                    <a:off x="4012560" y="3785400"/>
                    <a:ext cx="25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7" name=""/>
                  <p:cNvSpPr/>
                  <p:nvPr/>
                </p:nvSpPr>
                <p:spPr>
                  <a:xfrm>
                    <a:off x="4025880" y="380304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8" name=""/>
                  <p:cNvSpPr/>
                  <p:nvPr/>
                </p:nvSpPr>
                <p:spPr>
                  <a:xfrm flipH="1">
                    <a:off x="4023000" y="381996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19" name=""/>
                <p:cNvGrpSpPr/>
                <p:nvPr/>
              </p:nvGrpSpPr>
              <p:grpSpPr>
                <a:xfrm>
                  <a:off x="4008960" y="3672720"/>
                  <a:ext cx="144360" cy="148680"/>
                  <a:chOff x="4008960" y="3672720"/>
                  <a:chExt cx="144360" cy="148680"/>
                </a:xfrm>
              </p:grpSpPr>
              <p:sp>
                <p:nvSpPr>
                  <p:cNvPr id="13520" name=""/>
                  <p:cNvSpPr/>
                  <p:nvPr/>
                </p:nvSpPr>
                <p:spPr>
                  <a:xfrm rot="13105200">
                    <a:off x="4035240" y="3688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1" name=""/>
                  <p:cNvSpPr/>
                  <p:nvPr/>
                </p:nvSpPr>
                <p:spPr>
                  <a:xfrm>
                    <a:off x="4079160" y="3681720"/>
                    <a:ext cx="504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2" name=""/>
                  <p:cNvSpPr/>
                  <p:nvPr/>
                </p:nvSpPr>
                <p:spPr>
                  <a:xfrm flipH="1">
                    <a:off x="4071600" y="3713400"/>
                    <a:ext cx="504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3" name=""/>
                  <p:cNvSpPr/>
                  <p:nvPr/>
                </p:nvSpPr>
                <p:spPr>
                  <a:xfrm>
                    <a:off x="4084560" y="3732480"/>
                    <a:ext cx="1116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4" name=""/>
                  <p:cNvSpPr/>
                  <p:nvPr/>
                </p:nvSpPr>
                <p:spPr>
                  <a:xfrm flipH="1">
                    <a:off x="4077720" y="3748680"/>
                    <a:ext cx="18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5" name=""/>
                <p:cNvGrpSpPr/>
                <p:nvPr/>
              </p:nvGrpSpPr>
              <p:grpSpPr>
                <a:xfrm>
                  <a:off x="3893040" y="3590640"/>
                  <a:ext cx="145080" cy="132480"/>
                  <a:chOff x="3893040" y="3590640"/>
                  <a:chExt cx="145080" cy="132480"/>
                </a:xfrm>
              </p:grpSpPr>
              <p:sp>
                <p:nvSpPr>
                  <p:cNvPr id="13526" name=""/>
                  <p:cNvSpPr/>
                  <p:nvPr/>
                </p:nvSpPr>
                <p:spPr>
                  <a:xfrm rot="14689200">
                    <a:off x="3920040" y="3598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7" name=""/>
                  <p:cNvSpPr/>
                  <p:nvPr/>
                </p:nvSpPr>
                <p:spPr>
                  <a:xfrm flipH="1">
                    <a:off x="3956760" y="3597840"/>
                    <a:ext cx="35640" cy="83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8" name=""/>
                  <p:cNvSpPr/>
                  <p:nvPr/>
                </p:nvSpPr>
                <p:spPr>
                  <a:xfrm flipH="1">
                    <a:off x="3964680" y="3625200"/>
                    <a:ext cx="118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9" name=""/>
                  <p:cNvSpPr/>
                  <p:nvPr/>
                </p:nvSpPr>
                <p:spPr>
                  <a:xfrm>
                    <a:off x="3974760" y="3645720"/>
                    <a:ext cx="32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0" name=""/>
                  <p:cNvSpPr/>
                  <p:nvPr/>
                </p:nvSpPr>
                <p:spPr>
                  <a:xfrm flipH="1">
                    <a:off x="3956040" y="3657960"/>
                    <a:ext cx="7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1" name=""/>
                <p:cNvGrpSpPr/>
                <p:nvPr/>
              </p:nvGrpSpPr>
              <p:grpSpPr>
                <a:xfrm>
                  <a:off x="4070160" y="3521880"/>
                  <a:ext cx="146520" cy="99360"/>
                  <a:chOff x="4070160" y="3521880"/>
                  <a:chExt cx="146520" cy="99360"/>
                </a:xfrm>
              </p:grpSpPr>
              <p:sp>
                <p:nvSpPr>
                  <p:cNvPr id="13532" name=""/>
                  <p:cNvSpPr/>
                  <p:nvPr/>
                </p:nvSpPr>
                <p:spPr>
                  <a:xfrm rot="16740000">
                    <a:off x="4103640" y="3503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3" name=""/>
                  <p:cNvSpPr/>
                  <p:nvPr/>
                </p:nvSpPr>
                <p:spPr>
                  <a:xfrm flipH="1">
                    <a:off x="4120560" y="3544200"/>
                    <a:ext cx="85680" cy="39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4" name=""/>
                  <p:cNvSpPr/>
                  <p:nvPr/>
                </p:nvSpPr>
                <p:spPr>
                  <a:xfrm flipH="1">
                    <a:off x="4155120" y="3554640"/>
                    <a:ext cx="1872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5" name=""/>
                  <p:cNvSpPr/>
                  <p:nvPr/>
                </p:nvSpPr>
                <p:spPr>
                  <a:xfrm flipH="1">
                    <a:off x="4150800" y="356868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6" name=""/>
                  <p:cNvSpPr/>
                  <p:nvPr/>
                </p:nvSpPr>
                <p:spPr>
                  <a:xfrm flipH="1">
                    <a:off x="4127760" y="35704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37" name=""/>
                <p:cNvGrpSpPr/>
                <p:nvPr/>
              </p:nvGrpSpPr>
              <p:grpSpPr>
                <a:xfrm>
                  <a:off x="4147560" y="3333240"/>
                  <a:ext cx="139680" cy="147960"/>
                  <a:chOff x="4147560" y="3333240"/>
                  <a:chExt cx="139680" cy="147960"/>
                </a:xfrm>
              </p:grpSpPr>
              <p:sp>
                <p:nvSpPr>
                  <p:cNvPr id="13538" name=""/>
                  <p:cNvSpPr/>
                  <p:nvPr/>
                </p:nvSpPr>
                <p:spPr>
                  <a:xfrm rot="1936800">
                    <a:off x="4171680" y="3348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9" name=""/>
                  <p:cNvSpPr/>
                  <p:nvPr/>
                </p:nvSpPr>
                <p:spPr>
                  <a:xfrm flipH="1" flipV="1">
                    <a:off x="4212000" y="3382560"/>
                    <a:ext cx="1440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0" name=""/>
                  <p:cNvSpPr/>
                  <p:nvPr/>
                </p:nvSpPr>
                <p:spPr>
                  <a:xfrm flipV="1">
                    <a:off x="4225320" y="3423600"/>
                    <a:ext cx="36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1" name=""/>
                  <p:cNvSpPr/>
                  <p:nvPr/>
                </p:nvSpPr>
                <p:spPr>
                  <a:xfrm flipH="1" flipV="1">
                    <a:off x="4203000" y="3407760"/>
                    <a:ext cx="1260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2" name=""/>
                  <p:cNvSpPr/>
                  <p:nvPr/>
                </p:nvSpPr>
                <p:spPr>
                  <a:xfrm flipV="1">
                    <a:off x="4218840" y="3393360"/>
                    <a:ext cx="7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43" name=""/>
                <p:cNvGrpSpPr/>
                <p:nvPr/>
              </p:nvGrpSpPr>
              <p:grpSpPr>
                <a:xfrm>
                  <a:off x="4264560" y="3369240"/>
                  <a:ext cx="141480" cy="148320"/>
                  <a:chOff x="4264560" y="3369240"/>
                  <a:chExt cx="141480" cy="148320"/>
                </a:xfrm>
              </p:grpSpPr>
              <p:sp>
                <p:nvSpPr>
                  <p:cNvPr id="13544" name=""/>
                  <p:cNvSpPr/>
                  <p:nvPr/>
                </p:nvSpPr>
                <p:spPr>
                  <a:xfrm rot="2057400">
                    <a:off x="4289760" y="3384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5" name=""/>
                  <p:cNvSpPr/>
                  <p:nvPr/>
                </p:nvSpPr>
                <p:spPr>
                  <a:xfrm flipH="1" flipV="1">
                    <a:off x="4330800" y="3418560"/>
                    <a:ext cx="1152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6" name=""/>
                  <p:cNvSpPr/>
                  <p:nvPr/>
                </p:nvSpPr>
                <p:spPr>
                  <a:xfrm flipV="1">
                    <a:off x="4342320" y="346032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7" name=""/>
                  <p:cNvSpPr/>
                  <p:nvPr/>
                </p:nvSpPr>
                <p:spPr>
                  <a:xfrm flipH="1" flipV="1">
                    <a:off x="4321080" y="3443760"/>
                    <a:ext cx="11880" cy="14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8" name=""/>
                  <p:cNvSpPr/>
                  <p:nvPr/>
                </p:nvSpPr>
                <p:spPr>
                  <a:xfrm flipV="1">
                    <a:off x="4336920" y="342936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49" name=""/>
                <p:cNvGrpSpPr/>
                <p:nvPr/>
              </p:nvGrpSpPr>
              <p:grpSpPr>
                <a:xfrm>
                  <a:off x="4155120" y="3625560"/>
                  <a:ext cx="153000" cy="115560"/>
                  <a:chOff x="4155120" y="3625560"/>
                  <a:chExt cx="153000" cy="115560"/>
                </a:xfrm>
              </p:grpSpPr>
              <p:sp>
                <p:nvSpPr>
                  <p:cNvPr id="13550" name=""/>
                  <p:cNvSpPr/>
                  <p:nvPr/>
                </p:nvSpPr>
                <p:spPr>
                  <a:xfrm rot="17229600">
                    <a:off x="4191840" y="36154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1" name=""/>
                  <p:cNvSpPr/>
                  <p:nvPr/>
                </p:nvSpPr>
                <p:spPr>
                  <a:xfrm flipH="1">
                    <a:off x="4207320" y="3665160"/>
                    <a:ext cx="90360" cy="26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2" name=""/>
                  <p:cNvSpPr/>
                  <p:nvPr/>
                </p:nvSpPr>
                <p:spPr>
                  <a:xfrm flipH="1" flipV="1">
                    <a:off x="4245480" y="3670560"/>
                    <a:ext cx="1872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3" name=""/>
                  <p:cNvSpPr/>
                  <p:nvPr/>
                </p:nvSpPr>
                <p:spPr>
                  <a:xfrm flipH="1">
                    <a:off x="4237200" y="36831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4" name=""/>
                  <p:cNvSpPr/>
                  <p:nvPr/>
                </p:nvSpPr>
                <p:spPr>
                  <a:xfrm flipH="1">
                    <a:off x="4215960" y="3682080"/>
                    <a:ext cx="129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5" name=""/>
                <p:cNvGrpSpPr/>
                <p:nvPr/>
              </p:nvGrpSpPr>
              <p:grpSpPr>
                <a:xfrm>
                  <a:off x="4044240" y="3700080"/>
                  <a:ext cx="127080" cy="103680"/>
                  <a:chOff x="4044240" y="3700080"/>
                  <a:chExt cx="127080" cy="103680"/>
                </a:xfrm>
              </p:grpSpPr>
              <p:sp>
                <p:nvSpPr>
                  <p:cNvPr id="13556" name=""/>
                  <p:cNvSpPr/>
                  <p:nvPr/>
                </p:nvSpPr>
                <p:spPr>
                  <a:xfrm rot="16594200">
                    <a:off x="4061880" y="3692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7" name=""/>
                  <p:cNvSpPr/>
                  <p:nvPr/>
                </p:nvSpPr>
                <p:spPr>
                  <a:xfrm flipH="1">
                    <a:off x="4087800" y="3715920"/>
                    <a:ext cx="74160" cy="51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8" name=""/>
                  <p:cNvSpPr/>
                  <p:nvPr/>
                </p:nvSpPr>
                <p:spPr>
                  <a:xfrm flipH="1">
                    <a:off x="4117680" y="37306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9" name=""/>
                  <p:cNvSpPr/>
                  <p:nvPr/>
                </p:nvSpPr>
                <p:spPr>
                  <a:xfrm flipH="1">
                    <a:off x="4114440" y="374760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0" name=""/>
                  <p:cNvSpPr/>
                  <p:nvPr/>
                </p:nvSpPr>
                <p:spPr>
                  <a:xfrm flipH="1">
                    <a:off x="4094280" y="3751920"/>
                    <a:ext cx="1080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61" name=""/>
                <p:cNvGrpSpPr/>
                <p:nvPr/>
              </p:nvGrpSpPr>
              <p:grpSpPr>
                <a:xfrm>
                  <a:off x="3899520" y="3715200"/>
                  <a:ext cx="123120" cy="98640"/>
                  <a:chOff x="3899520" y="3715200"/>
                  <a:chExt cx="123120" cy="98640"/>
                </a:xfrm>
              </p:grpSpPr>
              <p:sp>
                <p:nvSpPr>
                  <p:cNvPr id="13562" name=""/>
                  <p:cNvSpPr/>
                  <p:nvPr/>
                </p:nvSpPr>
                <p:spPr>
                  <a:xfrm rot="16434000">
                    <a:off x="3915360" y="3705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3" name=""/>
                  <p:cNvSpPr/>
                  <p:nvPr/>
                </p:nvSpPr>
                <p:spPr>
                  <a:xfrm flipH="1">
                    <a:off x="3941640" y="3725640"/>
                    <a:ext cx="71640" cy="55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4" name=""/>
                  <p:cNvSpPr/>
                  <p:nvPr/>
                </p:nvSpPr>
                <p:spPr>
                  <a:xfrm flipH="1">
                    <a:off x="3970080" y="37418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5" name=""/>
                  <p:cNvSpPr/>
                  <p:nvPr/>
                </p:nvSpPr>
                <p:spPr>
                  <a:xfrm flipH="1">
                    <a:off x="3968280" y="375912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6" name=""/>
                  <p:cNvSpPr/>
                  <p:nvPr/>
                </p:nvSpPr>
                <p:spPr>
                  <a:xfrm flipH="1">
                    <a:off x="3947760" y="37641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67" name=""/>
                <p:cNvGrpSpPr/>
                <p:nvPr/>
              </p:nvGrpSpPr>
              <p:grpSpPr>
                <a:xfrm>
                  <a:off x="3821040" y="3659400"/>
                  <a:ext cx="151200" cy="110160"/>
                  <a:chOff x="3821040" y="3659400"/>
                  <a:chExt cx="151200" cy="110160"/>
                </a:xfrm>
              </p:grpSpPr>
              <p:sp>
                <p:nvSpPr>
                  <p:cNvPr id="13568" name=""/>
                  <p:cNvSpPr/>
                  <p:nvPr/>
                </p:nvSpPr>
                <p:spPr>
                  <a:xfrm rot="17066400">
                    <a:off x="3857040" y="3646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9" name=""/>
                  <p:cNvSpPr/>
                  <p:nvPr/>
                </p:nvSpPr>
                <p:spPr>
                  <a:xfrm flipH="1">
                    <a:off x="3872880" y="3693240"/>
                    <a:ext cx="88920" cy="30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0" name=""/>
                  <p:cNvSpPr/>
                  <p:nvPr/>
                </p:nvSpPr>
                <p:spPr>
                  <a:xfrm flipH="1">
                    <a:off x="3909960" y="3700800"/>
                    <a:ext cx="1872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1" name=""/>
                  <p:cNvSpPr/>
                  <p:nvPr/>
                </p:nvSpPr>
                <p:spPr>
                  <a:xfrm flipH="1">
                    <a:off x="3903120" y="3713040"/>
                    <a:ext cx="972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2" name=""/>
                  <p:cNvSpPr/>
                  <p:nvPr/>
                </p:nvSpPr>
                <p:spPr>
                  <a:xfrm flipH="1">
                    <a:off x="3881160" y="3713400"/>
                    <a:ext cx="126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73" name=""/>
              <p:cNvGrpSpPr/>
              <p:nvPr/>
            </p:nvGrpSpPr>
            <p:grpSpPr>
              <a:xfrm>
                <a:off x="4277880" y="3019680"/>
                <a:ext cx="654480" cy="543600"/>
                <a:chOff x="4277880" y="3019680"/>
                <a:chExt cx="654480" cy="543600"/>
              </a:xfrm>
            </p:grpSpPr>
            <p:grpSp>
              <p:nvGrpSpPr>
                <p:cNvPr id="13574" name=""/>
                <p:cNvGrpSpPr/>
                <p:nvPr/>
              </p:nvGrpSpPr>
              <p:grpSpPr>
                <a:xfrm>
                  <a:off x="4543200" y="3090600"/>
                  <a:ext cx="145800" cy="133920"/>
                  <a:chOff x="4543200" y="3090600"/>
                  <a:chExt cx="145800" cy="133920"/>
                </a:xfrm>
              </p:grpSpPr>
              <p:sp>
                <p:nvSpPr>
                  <p:cNvPr id="13575" name=""/>
                  <p:cNvSpPr/>
                  <p:nvPr/>
                </p:nvSpPr>
                <p:spPr>
                  <a:xfrm rot="3815400">
                    <a:off x="4570200" y="3098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6" name=""/>
                  <p:cNvSpPr/>
                  <p:nvPr/>
                </p:nvSpPr>
                <p:spPr>
                  <a:xfrm flipV="1">
                    <a:off x="4590360" y="3133440"/>
                    <a:ext cx="33840" cy="83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7" name=""/>
                  <p:cNvSpPr/>
                  <p:nvPr/>
                </p:nvSpPr>
                <p:spPr>
                  <a:xfrm flipV="1">
                    <a:off x="4605840" y="3177360"/>
                    <a:ext cx="111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8" name=""/>
                  <p:cNvSpPr/>
                  <p:nvPr/>
                </p:nvSpPr>
                <p:spPr>
                  <a:xfrm flipH="1" flipV="1">
                    <a:off x="4603320" y="3150720"/>
                    <a:ext cx="36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9" name=""/>
                  <p:cNvSpPr/>
                  <p:nvPr/>
                </p:nvSpPr>
                <p:spPr>
                  <a:xfrm flipV="1">
                    <a:off x="4618440" y="314676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80" name=""/>
                <p:cNvSpPr/>
                <p:nvPr/>
              </p:nvSpPr>
              <p:spPr>
                <a:xfrm flipH="1">
                  <a:off x="4539240" y="3355560"/>
                  <a:ext cx="17604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1" name=""/>
                <p:cNvSpPr/>
                <p:nvPr/>
              </p:nvSpPr>
              <p:spPr>
                <a:xfrm>
                  <a:off x="4416480" y="32540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2" name=""/>
                <p:cNvSpPr/>
                <p:nvPr/>
              </p:nvSpPr>
              <p:spPr>
                <a:xfrm flipH="1" flipV="1">
                  <a:off x="4521960" y="3152520"/>
                  <a:ext cx="70560" cy="14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3" name=""/>
                <p:cNvSpPr/>
                <p:nvPr/>
              </p:nvSpPr>
              <p:spPr>
                <a:xfrm flipH="1" flipV="1">
                  <a:off x="4733640" y="3254040"/>
                  <a:ext cx="105840" cy="24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4" name=""/>
                <p:cNvSpPr/>
                <p:nvPr/>
              </p:nvSpPr>
              <p:spPr>
                <a:xfrm flipH="1">
                  <a:off x="4592160" y="3376080"/>
                  <a:ext cx="3492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5" name=""/>
                <p:cNvSpPr/>
                <p:nvPr/>
              </p:nvSpPr>
              <p:spPr>
                <a:xfrm flipH="1" flipV="1">
                  <a:off x="4627440" y="3335040"/>
                  <a:ext cx="5256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6" name=""/>
                <p:cNvSpPr/>
                <p:nvPr/>
              </p:nvSpPr>
              <p:spPr>
                <a:xfrm flipH="1" flipV="1">
                  <a:off x="4486680" y="3172320"/>
                  <a:ext cx="7056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7" name=""/>
                <p:cNvSpPr/>
                <p:nvPr/>
              </p:nvSpPr>
              <p:spPr>
                <a:xfrm flipV="1">
                  <a:off x="4574520" y="3192480"/>
                  <a:ext cx="17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8" name=""/>
                <p:cNvSpPr/>
                <p:nvPr/>
              </p:nvSpPr>
              <p:spPr>
                <a:xfrm flipH="1">
                  <a:off x="4433760" y="3274560"/>
                  <a:ext cx="52560" cy="4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9" name=""/>
                <p:cNvSpPr/>
                <p:nvPr/>
              </p:nvSpPr>
              <p:spPr>
                <a:xfrm flipH="1" flipV="1">
                  <a:off x="4662360" y="3274560"/>
                  <a:ext cx="123480" cy="101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0" name=""/>
                <p:cNvSpPr/>
                <p:nvPr/>
              </p:nvSpPr>
              <p:spPr>
                <a:xfrm flipH="1" flipV="1">
                  <a:off x="4698000" y="3274560"/>
                  <a:ext cx="1728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1" name=""/>
                <p:cNvSpPr/>
                <p:nvPr/>
              </p:nvSpPr>
              <p:spPr>
                <a:xfrm flipV="1">
                  <a:off x="4803840" y="3335040"/>
                  <a:ext cx="17280" cy="81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2" name=""/>
                <p:cNvSpPr/>
                <p:nvPr/>
              </p:nvSpPr>
              <p:spPr>
                <a:xfrm flipV="1">
                  <a:off x="4750920" y="3233160"/>
                  <a:ext cx="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3" name=""/>
                <p:cNvSpPr/>
                <p:nvPr/>
              </p:nvSpPr>
              <p:spPr>
                <a:xfrm flipH="1">
                  <a:off x="4697640" y="3416400"/>
                  <a:ext cx="70200" cy="20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4" name=""/>
                <p:cNvSpPr/>
                <p:nvPr/>
              </p:nvSpPr>
              <p:spPr>
                <a:xfrm flipH="1">
                  <a:off x="4504320" y="3294720"/>
                  <a:ext cx="52560" cy="20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5" name=""/>
                <p:cNvSpPr/>
                <p:nvPr/>
              </p:nvSpPr>
              <p:spPr>
                <a:xfrm flipH="1" flipV="1">
                  <a:off x="4433400" y="3213720"/>
                  <a:ext cx="17640" cy="40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96" name=""/>
                <p:cNvGrpSpPr/>
                <p:nvPr/>
              </p:nvGrpSpPr>
              <p:grpSpPr>
                <a:xfrm>
                  <a:off x="4458600" y="3019680"/>
                  <a:ext cx="135000" cy="156960"/>
                  <a:chOff x="4458600" y="3019680"/>
                  <a:chExt cx="135000" cy="156960"/>
                </a:xfrm>
              </p:grpSpPr>
              <p:sp>
                <p:nvSpPr>
                  <p:cNvPr id="13597" name=""/>
                  <p:cNvSpPr/>
                  <p:nvPr/>
                </p:nvSpPr>
                <p:spPr>
                  <a:xfrm rot="1745400">
                    <a:off x="4486320" y="3030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8" name=""/>
                  <p:cNvSpPr/>
                  <p:nvPr/>
                </p:nvSpPr>
                <p:spPr>
                  <a:xfrm flipH="1" flipV="1">
                    <a:off x="4522680" y="3072600"/>
                    <a:ext cx="7560" cy="9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9" name=""/>
                  <p:cNvSpPr/>
                  <p:nvPr/>
                </p:nvSpPr>
                <p:spPr>
                  <a:xfrm flipV="1">
                    <a:off x="4531320" y="3114360"/>
                    <a:ext cx="43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0" name=""/>
                  <p:cNvSpPr/>
                  <p:nvPr/>
                </p:nvSpPr>
                <p:spPr>
                  <a:xfrm flipH="1" flipV="1">
                    <a:off x="4512600" y="31014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1" name=""/>
                  <p:cNvSpPr/>
                  <p:nvPr/>
                </p:nvSpPr>
                <p:spPr>
                  <a:xfrm flipV="1">
                    <a:off x="4528080" y="3083040"/>
                    <a:ext cx="1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2" name=""/>
                <p:cNvGrpSpPr/>
                <p:nvPr/>
              </p:nvGrpSpPr>
              <p:grpSpPr>
                <a:xfrm>
                  <a:off x="4515840" y="3223440"/>
                  <a:ext cx="126720" cy="156240"/>
                  <a:chOff x="4515840" y="3223440"/>
                  <a:chExt cx="126720" cy="156240"/>
                </a:xfrm>
              </p:grpSpPr>
              <p:sp>
                <p:nvSpPr>
                  <p:cNvPr id="13603" name=""/>
                  <p:cNvSpPr/>
                  <p:nvPr/>
                </p:nvSpPr>
                <p:spPr>
                  <a:xfrm rot="20187000">
                    <a:off x="4539600" y="3233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4" name=""/>
                  <p:cNvSpPr/>
                  <p:nvPr/>
                </p:nvSpPr>
                <p:spPr>
                  <a:xfrm flipH="1" flipV="1">
                    <a:off x="4556880" y="3288600"/>
                    <a:ext cx="79200" cy="51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5" name=""/>
                  <p:cNvSpPr/>
                  <p:nvPr/>
                </p:nvSpPr>
                <p:spPr>
                  <a:xfrm flipH="1" flipV="1">
                    <a:off x="4597920" y="330372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6" name=""/>
                  <p:cNvSpPr/>
                  <p:nvPr/>
                </p:nvSpPr>
                <p:spPr>
                  <a:xfrm flipH="1">
                    <a:off x="4573440" y="33134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7" name=""/>
                  <p:cNvSpPr/>
                  <p:nvPr/>
                </p:nvSpPr>
                <p:spPr>
                  <a:xfrm flipH="1" flipV="1">
                    <a:off x="4569120" y="328968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8" name=""/>
                <p:cNvGrpSpPr/>
                <p:nvPr/>
              </p:nvGrpSpPr>
              <p:grpSpPr>
                <a:xfrm>
                  <a:off x="4592520" y="3152520"/>
                  <a:ext cx="79200" cy="135720"/>
                  <a:chOff x="4592520" y="3152520"/>
                  <a:chExt cx="79200" cy="135720"/>
                </a:xfrm>
              </p:grpSpPr>
              <p:sp>
                <p:nvSpPr>
                  <p:cNvPr id="13609" name=""/>
                  <p:cNvSpPr/>
                  <p:nvPr/>
                </p:nvSpPr>
                <p:spPr>
                  <a:xfrm>
                    <a:off x="4592520" y="3152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0" name=""/>
                  <p:cNvSpPr/>
                  <p:nvPr/>
                </p:nvSpPr>
                <p:spPr>
                  <a:xfrm flipH="1" flipV="1">
                    <a:off x="4616640" y="319968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1" name=""/>
                  <p:cNvSpPr/>
                  <p:nvPr/>
                </p:nvSpPr>
                <p:spPr>
                  <a:xfrm flipH="1" flipV="1">
                    <a:off x="4648320" y="322992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2" name=""/>
                  <p:cNvSpPr/>
                  <p:nvPr/>
                </p:nvSpPr>
                <p:spPr>
                  <a:xfrm flipH="1" flipV="1">
                    <a:off x="4621680" y="32295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3" name=""/>
                  <p:cNvSpPr/>
                  <p:nvPr/>
                </p:nvSpPr>
                <p:spPr>
                  <a:xfrm flipH="1" flipV="1">
                    <a:off x="4627440" y="32054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4" name=""/>
                <p:cNvGrpSpPr/>
                <p:nvPr/>
              </p:nvGrpSpPr>
              <p:grpSpPr>
                <a:xfrm>
                  <a:off x="4428360" y="3388680"/>
                  <a:ext cx="127800" cy="105120"/>
                  <a:chOff x="4428360" y="3388680"/>
                  <a:chExt cx="127800" cy="105120"/>
                </a:xfrm>
              </p:grpSpPr>
              <p:sp>
                <p:nvSpPr>
                  <p:cNvPr id="13615" name=""/>
                  <p:cNvSpPr/>
                  <p:nvPr/>
                </p:nvSpPr>
                <p:spPr>
                  <a:xfrm rot="15769200">
                    <a:off x="4446720" y="33825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6" name=""/>
                  <p:cNvSpPr/>
                  <p:nvPr/>
                </p:nvSpPr>
                <p:spPr>
                  <a:xfrm flipH="1">
                    <a:off x="4476960" y="3393360"/>
                    <a:ext cx="59400" cy="68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7" name=""/>
                  <p:cNvSpPr/>
                  <p:nvPr/>
                </p:nvSpPr>
                <p:spPr>
                  <a:xfrm flipH="1">
                    <a:off x="4497840" y="3414240"/>
                    <a:ext cx="1476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8" name=""/>
                  <p:cNvSpPr/>
                  <p:nvPr/>
                </p:nvSpPr>
                <p:spPr>
                  <a:xfrm flipH="1">
                    <a:off x="4502160" y="343368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9" name=""/>
                  <p:cNvSpPr/>
                  <p:nvPr/>
                </p:nvSpPr>
                <p:spPr>
                  <a:xfrm flipH="1">
                    <a:off x="4480200" y="3441600"/>
                    <a:ext cx="97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0" name=""/>
                <p:cNvGrpSpPr/>
                <p:nvPr/>
              </p:nvGrpSpPr>
              <p:grpSpPr>
                <a:xfrm>
                  <a:off x="4363560" y="3091680"/>
                  <a:ext cx="79200" cy="135720"/>
                  <a:chOff x="4363560" y="3091680"/>
                  <a:chExt cx="79200" cy="135720"/>
                </a:xfrm>
              </p:grpSpPr>
              <p:sp>
                <p:nvSpPr>
                  <p:cNvPr id="13621" name=""/>
                  <p:cNvSpPr/>
                  <p:nvPr/>
                </p:nvSpPr>
                <p:spPr>
                  <a:xfrm>
                    <a:off x="4363560" y="3091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2" name=""/>
                  <p:cNvSpPr/>
                  <p:nvPr/>
                </p:nvSpPr>
                <p:spPr>
                  <a:xfrm flipH="1" flipV="1">
                    <a:off x="4387680" y="313884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3" name=""/>
                  <p:cNvSpPr/>
                  <p:nvPr/>
                </p:nvSpPr>
                <p:spPr>
                  <a:xfrm flipH="1" flipV="1">
                    <a:off x="4419360" y="31690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4" name=""/>
                  <p:cNvSpPr/>
                  <p:nvPr/>
                </p:nvSpPr>
                <p:spPr>
                  <a:xfrm flipH="1" flipV="1">
                    <a:off x="4392720" y="31687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5" name=""/>
                  <p:cNvSpPr/>
                  <p:nvPr/>
                </p:nvSpPr>
                <p:spPr>
                  <a:xfrm flipH="1" flipV="1">
                    <a:off x="4398480" y="31446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26" name=""/>
                <p:cNvGrpSpPr/>
                <p:nvPr/>
              </p:nvGrpSpPr>
              <p:grpSpPr>
                <a:xfrm>
                  <a:off x="4662720" y="3132000"/>
                  <a:ext cx="79200" cy="135720"/>
                  <a:chOff x="4662720" y="3132000"/>
                  <a:chExt cx="79200" cy="135720"/>
                </a:xfrm>
              </p:grpSpPr>
              <p:sp>
                <p:nvSpPr>
                  <p:cNvPr id="13627" name=""/>
                  <p:cNvSpPr/>
                  <p:nvPr/>
                </p:nvSpPr>
                <p:spPr>
                  <a:xfrm>
                    <a:off x="4662720" y="3132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8" name=""/>
                  <p:cNvSpPr/>
                  <p:nvPr/>
                </p:nvSpPr>
                <p:spPr>
                  <a:xfrm flipH="1" flipV="1">
                    <a:off x="4686840" y="3179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9" name=""/>
                  <p:cNvSpPr/>
                  <p:nvPr/>
                </p:nvSpPr>
                <p:spPr>
                  <a:xfrm flipH="1" flipV="1">
                    <a:off x="4718520" y="3209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0" name=""/>
                  <p:cNvSpPr/>
                  <p:nvPr/>
                </p:nvSpPr>
                <p:spPr>
                  <a:xfrm flipH="1" flipV="1">
                    <a:off x="4691880" y="3209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1" name=""/>
                  <p:cNvSpPr/>
                  <p:nvPr/>
                </p:nvSpPr>
                <p:spPr>
                  <a:xfrm flipH="1" flipV="1">
                    <a:off x="4697640" y="3184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2" name=""/>
                <p:cNvGrpSpPr/>
                <p:nvPr/>
              </p:nvGrpSpPr>
              <p:grpSpPr>
                <a:xfrm>
                  <a:off x="4416480" y="3051000"/>
                  <a:ext cx="79200" cy="135720"/>
                  <a:chOff x="4416480" y="3051000"/>
                  <a:chExt cx="79200" cy="135720"/>
                </a:xfrm>
              </p:grpSpPr>
              <p:sp>
                <p:nvSpPr>
                  <p:cNvPr id="13633" name=""/>
                  <p:cNvSpPr/>
                  <p:nvPr/>
                </p:nvSpPr>
                <p:spPr>
                  <a:xfrm>
                    <a:off x="4416480" y="30510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4" name=""/>
                  <p:cNvSpPr/>
                  <p:nvPr/>
                </p:nvSpPr>
                <p:spPr>
                  <a:xfrm flipH="1" flipV="1">
                    <a:off x="4440600" y="3098160"/>
                    <a:ext cx="5220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5" name=""/>
                  <p:cNvSpPr/>
                  <p:nvPr/>
                </p:nvSpPr>
                <p:spPr>
                  <a:xfrm flipH="1" flipV="1">
                    <a:off x="4472280" y="312840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6" name=""/>
                  <p:cNvSpPr/>
                  <p:nvPr/>
                </p:nvSpPr>
                <p:spPr>
                  <a:xfrm flipH="1" flipV="1">
                    <a:off x="4445640" y="31280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7" name=""/>
                  <p:cNvSpPr/>
                  <p:nvPr/>
                </p:nvSpPr>
                <p:spPr>
                  <a:xfrm flipH="1" flipV="1">
                    <a:off x="4451400" y="310392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8" name=""/>
                <p:cNvGrpSpPr/>
                <p:nvPr/>
              </p:nvGrpSpPr>
              <p:grpSpPr>
                <a:xfrm>
                  <a:off x="4581720" y="3442320"/>
                  <a:ext cx="138600" cy="120960"/>
                  <a:chOff x="4581720" y="3442320"/>
                  <a:chExt cx="138600" cy="120960"/>
                </a:xfrm>
              </p:grpSpPr>
              <p:sp>
                <p:nvSpPr>
                  <p:cNvPr id="13639" name=""/>
                  <p:cNvSpPr/>
                  <p:nvPr/>
                </p:nvSpPr>
                <p:spPr>
                  <a:xfrm rot="15198000">
                    <a:off x="4605480" y="3443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0" name=""/>
                  <p:cNvSpPr/>
                  <p:nvPr/>
                </p:nvSpPr>
                <p:spPr>
                  <a:xfrm flipH="1">
                    <a:off x="4638960" y="3447720"/>
                    <a:ext cx="47520" cy="77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1" name=""/>
                  <p:cNvSpPr/>
                  <p:nvPr/>
                </p:nvSpPr>
                <p:spPr>
                  <a:xfrm flipH="1">
                    <a:off x="4653360" y="347256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2" name=""/>
                  <p:cNvSpPr/>
                  <p:nvPr/>
                </p:nvSpPr>
                <p:spPr>
                  <a:xfrm>
                    <a:off x="4662000" y="3492720"/>
                    <a:ext cx="36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3" name=""/>
                  <p:cNvSpPr/>
                  <p:nvPr/>
                </p:nvSpPr>
                <p:spPr>
                  <a:xfrm flipH="1">
                    <a:off x="4640400" y="350316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4" name=""/>
                <p:cNvGrpSpPr/>
                <p:nvPr/>
              </p:nvGrpSpPr>
              <p:grpSpPr>
                <a:xfrm>
                  <a:off x="4489200" y="3413160"/>
                  <a:ext cx="147240" cy="138240"/>
                  <a:chOff x="4489200" y="3413160"/>
                  <a:chExt cx="147240" cy="138240"/>
                </a:xfrm>
              </p:grpSpPr>
              <p:sp>
                <p:nvSpPr>
                  <p:cNvPr id="13645" name=""/>
                  <p:cNvSpPr/>
                  <p:nvPr/>
                </p:nvSpPr>
                <p:spPr>
                  <a:xfrm rot="14358600">
                    <a:off x="4517280" y="3423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6" name=""/>
                  <p:cNvSpPr/>
                  <p:nvPr/>
                </p:nvSpPr>
                <p:spPr>
                  <a:xfrm flipH="1">
                    <a:off x="4556520" y="3420360"/>
                    <a:ext cx="27360" cy="8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7" name=""/>
                  <p:cNvSpPr/>
                  <p:nvPr/>
                </p:nvSpPr>
                <p:spPr>
                  <a:xfrm flipH="1">
                    <a:off x="4560120" y="3449160"/>
                    <a:ext cx="104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8" name=""/>
                  <p:cNvSpPr/>
                  <p:nvPr/>
                </p:nvSpPr>
                <p:spPr>
                  <a:xfrm>
                    <a:off x="4571280" y="347004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9" name=""/>
                  <p:cNvSpPr/>
                  <p:nvPr/>
                </p:nvSpPr>
                <p:spPr>
                  <a:xfrm flipH="1">
                    <a:off x="4554720" y="348336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0" name=""/>
                <p:cNvGrpSpPr/>
                <p:nvPr/>
              </p:nvGrpSpPr>
              <p:grpSpPr>
                <a:xfrm>
                  <a:off x="4308480" y="3250440"/>
                  <a:ext cx="122400" cy="97560"/>
                  <a:chOff x="4308480" y="3250440"/>
                  <a:chExt cx="122400" cy="97560"/>
                </a:xfrm>
              </p:grpSpPr>
              <p:sp>
                <p:nvSpPr>
                  <p:cNvPr id="13651" name=""/>
                  <p:cNvSpPr/>
                  <p:nvPr/>
                </p:nvSpPr>
                <p:spPr>
                  <a:xfrm rot="16010400">
                    <a:off x="4323960" y="3240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2" name=""/>
                  <p:cNvSpPr/>
                  <p:nvPr/>
                </p:nvSpPr>
                <p:spPr>
                  <a:xfrm flipH="1">
                    <a:off x="4352760" y="3254400"/>
                    <a:ext cx="64080" cy="63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3" name=""/>
                  <p:cNvSpPr/>
                  <p:nvPr/>
                </p:nvSpPr>
                <p:spPr>
                  <a:xfrm flipH="1">
                    <a:off x="4376520" y="3273840"/>
                    <a:ext cx="1512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4" name=""/>
                  <p:cNvSpPr/>
                  <p:nvPr/>
                </p:nvSpPr>
                <p:spPr>
                  <a:xfrm flipH="1">
                    <a:off x="4378680" y="3292200"/>
                    <a:ext cx="39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5" name=""/>
                  <p:cNvSpPr/>
                  <p:nvPr/>
                </p:nvSpPr>
                <p:spPr>
                  <a:xfrm flipH="1">
                    <a:off x="4357080" y="3299040"/>
                    <a:ext cx="100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56" name=""/>
                <p:cNvGrpSpPr/>
                <p:nvPr/>
              </p:nvGrpSpPr>
              <p:grpSpPr>
                <a:xfrm>
                  <a:off x="4315320" y="3316320"/>
                  <a:ext cx="142920" cy="128520"/>
                  <a:chOff x="4315320" y="3316320"/>
                  <a:chExt cx="142920" cy="128520"/>
                </a:xfrm>
              </p:grpSpPr>
              <p:sp>
                <p:nvSpPr>
                  <p:cNvPr id="13657" name=""/>
                  <p:cNvSpPr/>
                  <p:nvPr/>
                </p:nvSpPr>
                <p:spPr>
                  <a:xfrm rot="14881800">
                    <a:off x="4341240" y="3321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8" name=""/>
                  <p:cNvSpPr/>
                  <p:nvPr/>
                </p:nvSpPr>
                <p:spPr>
                  <a:xfrm flipH="1">
                    <a:off x="4376880" y="3322800"/>
                    <a:ext cx="40320" cy="81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9" name=""/>
                  <p:cNvSpPr/>
                  <p:nvPr/>
                </p:nvSpPr>
                <p:spPr>
                  <a:xfrm flipH="1">
                    <a:off x="4387320" y="33494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0" name=""/>
                  <p:cNvSpPr/>
                  <p:nvPr/>
                </p:nvSpPr>
                <p:spPr>
                  <a:xfrm>
                    <a:off x="4397040" y="33696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1" name=""/>
                  <p:cNvSpPr/>
                  <p:nvPr/>
                </p:nvSpPr>
                <p:spPr>
                  <a:xfrm flipH="1">
                    <a:off x="4376880" y="33814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2" name=""/>
                <p:cNvGrpSpPr/>
                <p:nvPr/>
              </p:nvGrpSpPr>
              <p:grpSpPr>
                <a:xfrm>
                  <a:off x="4407480" y="3302280"/>
                  <a:ext cx="135000" cy="115560"/>
                  <a:chOff x="4407480" y="3302280"/>
                  <a:chExt cx="135000" cy="115560"/>
                </a:xfrm>
              </p:grpSpPr>
              <p:sp>
                <p:nvSpPr>
                  <p:cNvPr id="13663" name=""/>
                  <p:cNvSpPr/>
                  <p:nvPr/>
                </p:nvSpPr>
                <p:spPr>
                  <a:xfrm rot="15401400">
                    <a:off x="4429080" y="3301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4" name=""/>
                  <p:cNvSpPr/>
                  <p:nvPr/>
                </p:nvSpPr>
                <p:spPr>
                  <a:xfrm flipH="1">
                    <a:off x="4461840" y="3307320"/>
                    <a:ext cx="51840" cy="74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5" name=""/>
                  <p:cNvSpPr/>
                  <p:nvPr/>
                </p:nvSpPr>
                <p:spPr>
                  <a:xfrm flipH="1">
                    <a:off x="4478400" y="3331080"/>
                    <a:ext cx="1404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6" name=""/>
                  <p:cNvSpPr/>
                  <p:nvPr/>
                </p:nvSpPr>
                <p:spPr>
                  <a:xfrm flipH="1">
                    <a:off x="4485960" y="3350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7" name=""/>
                  <p:cNvSpPr/>
                  <p:nvPr/>
                </p:nvSpPr>
                <p:spPr>
                  <a:xfrm flipH="1">
                    <a:off x="4463640" y="3360600"/>
                    <a:ext cx="900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8" name=""/>
                <p:cNvGrpSpPr/>
                <p:nvPr/>
              </p:nvGrpSpPr>
              <p:grpSpPr>
                <a:xfrm>
                  <a:off x="4372560" y="3160440"/>
                  <a:ext cx="135000" cy="115200"/>
                  <a:chOff x="4372560" y="3160440"/>
                  <a:chExt cx="135000" cy="115200"/>
                </a:xfrm>
              </p:grpSpPr>
              <p:sp>
                <p:nvSpPr>
                  <p:cNvPr id="13669" name=""/>
                  <p:cNvSpPr/>
                  <p:nvPr/>
                </p:nvSpPr>
                <p:spPr>
                  <a:xfrm rot="16985400">
                    <a:off x="4394160" y="3159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0" name=""/>
                  <p:cNvSpPr/>
                  <p:nvPr/>
                </p:nvSpPr>
                <p:spPr>
                  <a:xfrm flipH="1">
                    <a:off x="4418280" y="3187800"/>
                    <a:ext cx="79560" cy="43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1" name=""/>
                  <p:cNvSpPr/>
                  <p:nvPr/>
                </p:nvSpPr>
                <p:spPr>
                  <a:xfrm flipH="1">
                    <a:off x="4451760" y="31993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2" name=""/>
                  <p:cNvSpPr/>
                  <p:nvPr/>
                </p:nvSpPr>
                <p:spPr>
                  <a:xfrm flipH="1">
                    <a:off x="4445280" y="3214800"/>
                    <a:ext cx="900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3" name=""/>
                  <p:cNvSpPr/>
                  <p:nvPr/>
                </p:nvSpPr>
                <p:spPr>
                  <a:xfrm flipH="1">
                    <a:off x="4426200" y="3216960"/>
                    <a:ext cx="1116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4" name=""/>
                <p:cNvGrpSpPr/>
                <p:nvPr/>
              </p:nvGrpSpPr>
              <p:grpSpPr>
                <a:xfrm>
                  <a:off x="4557240" y="3184200"/>
                  <a:ext cx="150120" cy="153360"/>
                  <a:chOff x="4557240" y="3184200"/>
                  <a:chExt cx="150120" cy="153360"/>
                </a:xfrm>
              </p:grpSpPr>
              <p:sp>
                <p:nvSpPr>
                  <p:cNvPr id="13675" name=""/>
                  <p:cNvSpPr/>
                  <p:nvPr/>
                </p:nvSpPr>
                <p:spPr>
                  <a:xfrm rot="19036200">
                    <a:off x="4592520" y="31928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6" name=""/>
                  <p:cNvSpPr/>
                  <p:nvPr/>
                </p:nvSpPr>
                <p:spPr>
                  <a:xfrm flipH="1" flipV="1">
                    <a:off x="4606920" y="3255840"/>
                    <a:ext cx="914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7" name=""/>
                  <p:cNvSpPr/>
                  <p:nvPr/>
                </p:nvSpPr>
                <p:spPr>
                  <a:xfrm flipH="1" flipV="1">
                    <a:off x="4650480" y="3256560"/>
                    <a:ext cx="1620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8" name=""/>
                  <p:cNvSpPr/>
                  <p:nvPr/>
                </p:nvSpPr>
                <p:spPr>
                  <a:xfrm flipH="1">
                    <a:off x="4630680" y="326844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9" name=""/>
                  <p:cNvSpPr/>
                  <p:nvPr/>
                </p:nvSpPr>
                <p:spPr>
                  <a:xfrm flipH="1" flipV="1">
                    <a:off x="4618800" y="3252960"/>
                    <a:ext cx="1152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80" name=""/>
                <p:cNvGrpSpPr/>
                <p:nvPr/>
              </p:nvGrpSpPr>
              <p:grpSpPr>
                <a:xfrm>
                  <a:off x="4722120" y="3115080"/>
                  <a:ext cx="140760" cy="124920"/>
                  <a:chOff x="4722120" y="3115080"/>
                  <a:chExt cx="140760" cy="124920"/>
                </a:xfrm>
              </p:grpSpPr>
              <p:sp>
                <p:nvSpPr>
                  <p:cNvPr id="13681" name=""/>
                  <p:cNvSpPr/>
                  <p:nvPr/>
                </p:nvSpPr>
                <p:spPr>
                  <a:xfrm rot="4233000">
                    <a:off x="4746600" y="3118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2" name=""/>
                  <p:cNvSpPr/>
                  <p:nvPr/>
                </p:nvSpPr>
                <p:spPr>
                  <a:xfrm flipV="1">
                    <a:off x="4759560" y="3154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3" name=""/>
                  <p:cNvSpPr/>
                  <p:nvPr/>
                </p:nvSpPr>
                <p:spPr>
                  <a:xfrm flipV="1">
                    <a:off x="4778280" y="3197520"/>
                    <a:ext cx="1296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4" name=""/>
                  <p:cNvSpPr/>
                  <p:nvPr/>
                </p:nvSpPr>
                <p:spPr>
                  <a:xfrm flipH="1" flipV="1">
                    <a:off x="4780800" y="3169080"/>
                    <a:ext cx="108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5" name=""/>
                  <p:cNvSpPr/>
                  <p:nvPr/>
                </p:nvSpPr>
                <p:spPr>
                  <a:xfrm flipV="1">
                    <a:off x="4794840" y="316800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86" name=""/>
                <p:cNvGrpSpPr/>
                <p:nvPr/>
              </p:nvGrpSpPr>
              <p:grpSpPr>
                <a:xfrm>
                  <a:off x="4793040" y="3218040"/>
                  <a:ext cx="139320" cy="122040"/>
                  <a:chOff x="4793040" y="3218040"/>
                  <a:chExt cx="139320" cy="122040"/>
                </a:xfrm>
              </p:grpSpPr>
              <p:sp>
                <p:nvSpPr>
                  <p:cNvPr id="13687" name=""/>
                  <p:cNvSpPr/>
                  <p:nvPr/>
                </p:nvSpPr>
                <p:spPr>
                  <a:xfrm rot="4353000">
                    <a:off x="4816800" y="3220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8" name=""/>
                  <p:cNvSpPr/>
                  <p:nvPr/>
                </p:nvSpPr>
                <p:spPr>
                  <a:xfrm flipV="1">
                    <a:off x="4827960" y="3256560"/>
                    <a:ext cx="46440" cy="77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9" name=""/>
                  <p:cNvSpPr/>
                  <p:nvPr/>
                </p:nvSpPr>
                <p:spPr>
                  <a:xfrm flipV="1">
                    <a:off x="4847400" y="3299040"/>
                    <a:ext cx="133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0" name=""/>
                  <p:cNvSpPr/>
                  <p:nvPr/>
                </p:nvSpPr>
                <p:spPr>
                  <a:xfrm flipH="1" flipV="1">
                    <a:off x="4851000" y="327024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1" name=""/>
                  <p:cNvSpPr/>
                  <p:nvPr/>
                </p:nvSpPr>
                <p:spPr>
                  <a:xfrm flipV="1">
                    <a:off x="4865040" y="3269880"/>
                    <a:ext cx="828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2" name=""/>
                <p:cNvGrpSpPr/>
                <p:nvPr/>
              </p:nvGrpSpPr>
              <p:grpSpPr>
                <a:xfrm>
                  <a:off x="4561200" y="3324960"/>
                  <a:ext cx="142200" cy="156600"/>
                  <a:chOff x="4561200" y="3324960"/>
                  <a:chExt cx="142200" cy="156600"/>
                </a:xfrm>
              </p:grpSpPr>
              <p:sp>
                <p:nvSpPr>
                  <p:cNvPr id="13693" name=""/>
                  <p:cNvSpPr/>
                  <p:nvPr/>
                </p:nvSpPr>
                <p:spPr>
                  <a:xfrm rot="19525800">
                    <a:off x="4592520" y="33354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4" name=""/>
                  <p:cNvSpPr/>
                  <p:nvPr/>
                </p:nvSpPr>
                <p:spPr>
                  <a:xfrm flipH="1" flipV="1">
                    <a:off x="4607640" y="3394800"/>
                    <a:ext cx="8748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5" name=""/>
                  <p:cNvSpPr/>
                  <p:nvPr/>
                </p:nvSpPr>
                <p:spPr>
                  <a:xfrm flipH="1" flipV="1">
                    <a:off x="4650840" y="340200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6" name=""/>
                  <p:cNvSpPr/>
                  <p:nvPr/>
                </p:nvSpPr>
                <p:spPr>
                  <a:xfrm flipH="1">
                    <a:off x="4628880" y="341280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7" name=""/>
                  <p:cNvSpPr/>
                  <p:nvPr/>
                </p:nvSpPr>
                <p:spPr>
                  <a:xfrm flipH="1" flipV="1">
                    <a:off x="4619880" y="3393720"/>
                    <a:ext cx="1080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8" name=""/>
                <p:cNvGrpSpPr/>
                <p:nvPr/>
              </p:nvGrpSpPr>
              <p:grpSpPr>
                <a:xfrm>
                  <a:off x="4419000" y="3306960"/>
                  <a:ext cx="147600" cy="147240"/>
                  <a:chOff x="4419000" y="3306960"/>
                  <a:chExt cx="147600" cy="147240"/>
                </a:xfrm>
              </p:grpSpPr>
              <p:sp>
                <p:nvSpPr>
                  <p:cNvPr id="13699" name=""/>
                  <p:cNvSpPr/>
                  <p:nvPr/>
                </p:nvSpPr>
                <p:spPr>
                  <a:xfrm rot="18890400">
                    <a:off x="4447080" y="3321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0" name=""/>
                  <p:cNvSpPr/>
                  <p:nvPr/>
                </p:nvSpPr>
                <p:spPr>
                  <a:xfrm flipH="1" flipV="1">
                    <a:off x="4467240" y="3380400"/>
                    <a:ext cx="9036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1" name=""/>
                  <p:cNvSpPr/>
                  <p:nvPr/>
                </p:nvSpPr>
                <p:spPr>
                  <a:xfrm flipH="1" flipV="1">
                    <a:off x="4511160" y="3373200"/>
                    <a:ext cx="1512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2" name=""/>
                  <p:cNvSpPr/>
                  <p:nvPr/>
                </p:nvSpPr>
                <p:spPr>
                  <a:xfrm flipH="1">
                    <a:off x="4490280" y="3385440"/>
                    <a:ext cx="1620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3" name=""/>
                  <p:cNvSpPr/>
                  <p:nvPr/>
                </p:nvSpPr>
                <p:spPr>
                  <a:xfrm flipH="1" flipV="1">
                    <a:off x="4479480" y="337536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4" name=""/>
                <p:cNvGrpSpPr/>
                <p:nvPr/>
              </p:nvGrpSpPr>
              <p:grpSpPr>
                <a:xfrm>
                  <a:off x="4295880" y="3225960"/>
                  <a:ext cx="147960" cy="146520"/>
                  <a:chOff x="4295880" y="3225960"/>
                  <a:chExt cx="147960" cy="146520"/>
                </a:xfrm>
              </p:grpSpPr>
              <p:sp>
                <p:nvSpPr>
                  <p:cNvPr id="13705" name=""/>
                  <p:cNvSpPr/>
                  <p:nvPr/>
                </p:nvSpPr>
                <p:spPr>
                  <a:xfrm rot="18730200">
                    <a:off x="4324320" y="3240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6" name=""/>
                  <p:cNvSpPr/>
                  <p:nvPr/>
                </p:nvSpPr>
                <p:spPr>
                  <a:xfrm flipH="1" flipV="1">
                    <a:off x="4344480" y="3300480"/>
                    <a:ext cx="903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7" name=""/>
                  <p:cNvSpPr/>
                  <p:nvPr/>
                </p:nvSpPr>
                <p:spPr>
                  <a:xfrm flipH="1" flipV="1">
                    <a:off x="4388040" y="329076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8" name=""/>
                  <p:cNvSpPr/>
                  <p:nvPr/>
                </p:nvSpPr>
                <p:spPr>
                  <a:xfrm flipH="1">
                    <a:off x="4368240" y="3303360"/>
                    <a:ext cx="1584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9" name=""/>
                  <p:cNvSpPr/>
                  <p:nvPr/>
                </p:nvSpPr>
                <p:spPr>
                  <a:xfrm flipH="1" flipV="1">
                    <a:off x="4356360" y="329472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10" name=""/>
                <p:cNvGrpSpPr/>
                <p:nvPr/>
              </p:nvGrpSpPr>
              <p:grpSpPr>
                <a:xfrm>
                  <a:off x="4277880" y="3142080"/>
                  <a:ext cx="145080" cy="155880"/>
                  <a:chOff x="4277880" y="3142080"/>
                  <a:chExt cx="145080" cy="155880"/>
                </a:xfrm>
              </p:grpSpPr>
              <p:sp>
                <p:nvSpPr>
                  <p:cNvPr id="13711" name=""/>
                  <p:cNvSpPr/>
                  <p:nvPr/>
                </p:nvSpPr>
                <p:spPr>
                  <a:xfrm rot="19362600">
                    <a:off x="4310640" y="3152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2" name=""/>
                  <p:cNvSpPr/>
                  <p:nvPr/>
                </p:nvSpPr>
                <p:spPr>
                  <a:xfrm flipH="1" flipV="1">
                    <a:off x="4325760" y="3213000"/>
                    <a:ext cx="88920" cy="30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3" name=""/>
                  <p:cNvSpPr/>
                  <p:nvPr/>
                </p:nvSpPr>
                <p:spPr>
                  <a:xfrm flipH="1" flipV="1">
                    <a:off x="4368960" y="3218040"/>
                    <a:ext cx="151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4" name=""/>
                  <p:cNvSpPr/>
                  <p:nvPr/>
                </p:nvSpPr>
                <p:spPr>
                  <a:xfrm flipH="1">
                    <a:off x="4347720" y="3229200"/>
                    <a:ext cx="162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5" name=""/>
                  <p:cNvSpPr/>
                  <p:nvPr/>
                </p:nvSpPr>
                <p:spPr>
                  <a:xfrm flipH="1" flipV="1">
                    <a:off x="4337640" y="3211200"/>
                    <a:ext cx="1116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16" name=""/>
              <p:cNvGrpSpPr/>
              <p:nvPr/>
            </p:nvGrpSpPr>
            <p:grpSpPr>
              <a:xfrm>
                <a:off x="4723200" y="2515680"/>
                <a:ext cx="486720" cy="731880"/>
                <a:chOff x="4723200" y="2515680"/>
                <a:chExt cx="486720" cy="731880"/>
              </a:xfrm>
            </p:grpSpPr>
            <p:grpSp>
              <p:nvGrpSpPr>
                <p:cNvPr id="13717" name=""/>
                <p:cNvGrpSpPr/>
                <p:nvPr/>
              </p:nvGrpSpPr>
              <p:grpSpPr>
                <a:xfrm>
                  <a:off x="5014800" y="2818080"/>
                  <a:ext cx="124200" cy="155520"/>
                  <a:chOff x="5014800" y="2818080"/>
                  <a:chExt cx="124200" cy="155520"/>
                </a:xfrm>
              </p:grpSpPr>
              <p:sp>
                <p:nvSpPr>
                  <p:cNvPr id="13718" name=""/>
                  <p:cNvSpPr/>
                  <p:nvPr/>
                </p:nvSpPr>
                <p:spPr>
                  <a:xfrm rot="9465600">
                    <a:off x="5037120" y="2827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9" name=""/>
                  <p:cNvSpPr/>
                  <p:nvPr/>
                </p:nvSpPr>
                <p:spPr>
                  <a:xfrm>
                    <a:off x="5021280" y="2856240"/>
                    <a:ext cx="77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0" name=""/>
                  <p:cNvSpPr/>
                  <p:nvPr/>
                </p:nvSpPr>
                <p:spPr>
                  <a:xfrm>
                    <a:off x="5046840" y="287820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1" name=""/>
                  <p:cNvSpPr/>
                  <p:nvPr/>
                </p:nvSpPr>
                <p:spPr>
                  <a:xfrm flipV="1">
                    <a:off x="5066280" y="28832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2" name=""/>
                  <p:cNvSpPr/>
                  <p:nvPr/>
                </p:nvSpPr>
                <p:spPr>
                  <a:xfrm>
                    <a:off x="5077800" y="289872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23" name=""/>
                <p:cNvSpPr/>
                <p:nvPr/>
              </p:nvSpPr>
              <p:spPr>
                <a:xfrm flipH="1" flipV="1">
                  <a:off x="4878000" y="2792880"/>
                  <a:ext cx="19800" cy="20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4" name=""/>
                <p:cNvSpPr/>
                <p:nvPr/>
              </p:nvSpPr>
              <p:spPr>
                <a:xfrm rot="5650200">
                  <a:off x="4623480" y="2790720"/>
                  <a:ext cx="50868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5" name=""/>
                <p:cNvSpPr/>
                <p:nvPr/>
              </p:nvSpPr>
              <p:spPr>
                <a:xfrm flipV="1">
                  <a:off x="4961520" y="2788200"/>
                  <a:ext cx="128160" cy="7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6" name=""/>
                <p:cNvSpPr/>
                <p:nvPr/>
              </p:nvSpPr>
              <p:spPr>
                <a:xfrm flipV="1">
                  <a:off x="4765320" y="3025440"/>
                  <a:ext cx="21888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7" name=""/>
                <p:cNvSpPr/>
                <p:nvPr/>
              </p:nvSpPr>
              <p:spPr>
                <a:xfrm flipH="1" flipV="1">
                  <a:off x="4855680" y="2852640"/>
                  <a:ext cx="3168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8" name=""/>
                <p:cNvSpPr/>
                <p:nvPr/>
              </p:nvSpPr>
              <p:spPr>
                <a:xfrm flipV="1">
                  <a:off x="4901040" y="2898000"/>
                  <a:ext cx="2196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9" name=""/>
                <p:cNvSpPr/>
                <p:nvPr/>
              </p:nvSpPr>
              <p:spPr>
                <a:xfrm flipV="1">
                  <a:off x="5016240" y="2745720"/>
                  <a:ext cx="58680" cy="77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0" name=""/>
                <p:cNvSpPr/>
                <p:nvPr/>
              </p:nvSpPr>
              <p:spPr>
                <a:xfrm>
                  <a:off x="4997520" y="2842560"/>
                  <a:ext cx="51120" cy="24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1" name=""/>
                <p:cNvSpPr/>
                <p:nvPr/>
              </p:nvSpPr>
              <p:spPr>
                <a:xfrm flipH="1" flipV="1">
                  <a:off x="4956840" y="2675880"/>
                  <a:ext cx="3024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2" name=""/>
                <p:cNvSpPr/>
                <p:nvPr/>
              </p:nvSpPr>
              <p:spPr>
                <a:xfrm flipV="1">
                  <a:off x="4874400" y="2942640"/>
                  <a:ext cx="97920" cy="13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3" name=""/>
                <p:cNvSpPr/>
                <p:nvPr/>
              </p:nvSpPr>
              <p:spPr>
                <a:xfrm flipV="1">
                  <a:off x="4933440" y="2983320"/>
                  <a:ext cx="36000" cy="17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4" name=""/>
                <p:cNvSpPr/>
                <p:nvPr/>
              </p:nvSpPr>
              <p:spPr>
                <a:xfrm>
                  <a:off x="4838040" y="3096360"/>
                  <a:ext cx="684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5" name=""/>
                <p:cNvSpPr/>
                <p:nvPr/>
              </p:nvSpPr>
              <p:spPr>
                <a:xfrm>
                  <a:off x="4947840" y="3043080"/>
                  <a:ext cx="5220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6" name=""/>
                <p:cNvSpPr/>
                <p:nvPr/>
              </p:nvSpPr>
              <p:spPr>
                <a:xfrm flipH="1" flipV="1">
                  <a:off x="4829040" y="2972880"/>
                  <a:ext cx="11520" cy="82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7" name=""/>
                <p:cNvSpPr/>
                <p:nvPr/>
              </p:nvSpPr>
              <p:spPr>
                <a:xfrm flipH="1" flipV="1">
                  <a:off x="4950720" y="2757240"/>
                  <a:ext cx="129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8" name=""/>
                <p:cNvSpPr/>
                <p:nvPr/>
              </p:nvSpPr>
              <p:spPr>
                <a:xfrm flipV="1">
                  <a:off x="5007960" y="2682360"/>
                  <a:ext cx="3600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739" name=""/>
                <p:cNvGrpSpPr/>
                <p:nvPr/>
              </p:nvGrpSpPr>
              <p:grpSpPr>
                <a:xfrm>
                  <a:off x="5061600" y="2725560"/>
                  <a:ext cx="148320" cy="140760"/>
                  <a:chOff x="5061600" y="2725560"/>
                  <a:chExt cx="148320" cy="140760"/>
                </a:xfrm>
              </p:grpSpPr>
              <p:sp>
                <p:nvSpPr>
                  <p:cNvPr id="13740" name=""/>
                  <p:cNvSpPr/>
                  <p:nvPr/>
                </p:nvSpPr>
                <p:spPr>
                  <a:xfrm rot="7395600">
                    <a:off x="5090040" y="27370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1" name=""/>
                  <p:cNvSpPr/>
                  <p:nvPr/>
                </p:nvSpPr>
                <p:spPr>
                  <a:xfrm flipV="1">
                    <a:off x="5070960" y="2791080"/>
                    <a:ext cx="896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2" name=""/>
                  <p:cNvSpPr/>
                  <p:nvPr/>
                </p:nvSpPr>
                <p:spPr>
                  <a:xfrm>
                    <a:off x="5102640" y="28036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3" name=""/>
                  <p:cNvSpPr/>
                  <p:nvPr/>
                </p:nvSpPr>
                <p:spPr>
                  <a:xfrm flipV="1">
                    <a:off x="5121000" y="278208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4" name=""/>
                  <p:cNvSpPr/>
                  <p:nvPr/>
                </p:nvSpPr>
                <p:spPr>
                  <a:xfrm>
                    <a:off x="5137560" y="279792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45" name=""/>
                <p:cNvGrpSpPr/>
                <p:nvPr/>
              </p:nvGrpSpPr>
              <p:grpSpPr>
                <a:xfrm>
                  <a:off x="4885560" y="2782080"/>
                  <a:ext cx="141120" cy="125280"/>
                  <a:chOff x="4885560" y="2782080"/>
                  <a:chExt cx="141120" cy="125280"/>
                </a:xfrm>
              </p:grpSpPr>
              <p:sp>
                <p:nvSpPr>
                  <p:cNvPr id="13746" name=""/>
                  <p:cNvSpPr/>
                  <p:nvPr/>
                </p:nvSpPr>
                <p:spPr>
                  <a:xfrm rot="4237200">
                    <a:off x="4910400" y="27856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7" name=""/>
                  <p:cNvSpPr/>
                  <p:nvPr/>
                </p:nvSpPr>
                <p:spPr>
                  <a:xfrm flipV="1">
                    <a:off x="4923000" y="2821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8" name=""/>
                  <p:cNvSpPr/>
                  <p:nvPr/>
                </p:nvSpPr>
                <p:spPr>
                  <a:xfrm flipV="1">
                    <a:off x="4942080" y="286524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9" name=""/>
                  <p:cNvSpPr/>
                  <p:nvPr/>
                </p:nvSpPr>
                <p:spPr>
                  <a:xfrm flipH="1" flipV="1">
                    <a:off x="4944240" y="2836800"/>
                    <a:ext cx="1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0" name=""/>
                  <p:cNvSpPr/>
                  <p:nvPr/>
                </p:nvSpPr>
                <p:spPr>
                  <a:xfrm flipV="1">
                    <a:off x="4958640" y="28353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1" name=""/>
                <p:cNvGrpSpPr/>
                <p:nvPr/>
              </p:nvGrpSpPr>
              <p:grpSpPr>
                <a:xfrm>
                  <a:off x="4959720" y="2860560"/>
                  <a:ext cx="123840" cy="99720"/>
                  <a:chOff x="4959720" y="2860560"/>
                  <a:chExt cx="123840" cy="99720"/>
                </a:xfrm>
              </p:grpSpPr>
              <p:sp>
                <p:nvSpPr>
                  <p:cNvPr id="13752" name=""/>
                  <p:cNvSpPr/>
                  <p:nvPr/>
                </p:nvSpPr>
                <p:spPr>
                  <a:xfrm rot="5650200">
                    <a:off x="4975920" y="28515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3" name=""/>
                  <p:cNvSpPr/>
                  <p:nvPr/>
                </p:nvSpPr>
                <p:spPr>
                  <a:xfrm flipV="1">
                    <a:off x="4969080" y="289404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4" name=""/>
                  <p:cNvSpPr/>
                  <p:nvPr/>
                </p:nvSpPr>
                <p:spPr>
                  <a:xfrm flipV="1">
                    <a:off x="4996440" y="29286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5" name=""/>
                  <p:cNvSpPr/>
                  <p:nvPr/>
                </p:nvSpPr>
                <p:spPr>
                  <a:xfrm flipV="1">
                    <a:off x="5007960" y="289836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6" name=""/>
                  <p:cNvSpPr/>
                  <p:nvPr/>
                </p:nvSpPr>
                <p:spPr>
                  <a:xfrm flipV="1">
                    <a:off x="5024160" y="290628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7" name=""/>
                <p:cNvGrpSpPr/>
                <p:nvPr/>
              </p:nvGrpSpPr>
              <p:grpSpPr>
                <a:xfrm>
                  <a:off x="4799520" y="2666160"/>
                  <a:ext cx="85680" cy="139320"/>
                  <a:chOff x="4799520" y="2666160"/>
                  <a:chExt cx="85680" cy="139320"/>
                </a:xfrm>
              </p:grpSpPr>
              <p:sp>
                <p:nvSpPr>
                  <p:cNvPr id="13758" name=""/>
                  <p:cNvSpPr/>
                  <p:nvPr/>
                </p:nvSpPr>
                <p:spPr>
                  <a:xfrm rot="21420000">
                    <a:off x="4802760" y="26676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9" name=""/>
                  <p:cNvSpPr/>
                  <p:nvPr/>
                </p:nvSpPr>
                <p:spPr>
                  <a:xfrm flipH="1" flipV="1">
                    <a:off x="4826160" y="2716200"/>
                    <a:ext cx="5580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0" name=""/>
                  <p:cNvSpPr/>
                  <p:nvPr/>
                </p:nvSpPr>
                <p:spPr>
                  <a:xfrm flipH="1" flipV="1">
                    <a:off x="4858920" y="27446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1" name=""/>
                  <p:cNvSpPr/>
                  <p:nvPr/>
                </p:nvSpPr>
                <p:spPr>
                  <a:xfrm flipH="1" flipV="1">
                    <a:off x="4832640" y="274572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2" name=""/>
                  <p:cNvSpPr/>
                  <p:nvPr/>
                </p:nvSpPr>
                <p:spPr>
                  <a:xfrm flipH="1" flipV="1">
                    <a:off x="4836960" y="272124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3" name=""/>
                <p:cNvGrpSpPr/>
                <p:nvPr/>
              </p:nvGrpSpPr>
              <p:grpSpPr>
                <a:xfrm>
                  <a:off x="5031360" y="2600640"/>
                  <a:ext cx="123840" cy="99720"/>
                  <a:chOff x="5031360" y="2600640"/>
                  <a:chExt cx="123840" cy="99720"/>
                </a:xfrm>
              </p:grpSpPr>
              <p:sp>
                <p:nvSpPr>
                  <p:cNvPr id="13764" name=""/>
                  <p:cNvSpPr/>
                  <p:nvPr/>
                </p:nvSpPr>
                <p:spPr>
                  <a:xfrm rot="5650200">
                    <a:off x="5047560" y="2591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5" name=""/>
                  <p:cNvSpPr/>
                  <p:nvPr/>
                </p:nvSpPr>
                <p:spPr>
                  <a:xfrm flipV="1">
                    <a:off x="5040720" y="263376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6" name=""/>
                  <p:cNvSpPr/>
                  <p:nvPr/>
                </p:nvSpPr>
                <p:spPr>
                  <a:xfrm flipV="1">
                    <a:off x="5068080" y="26686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7" name=""/>
                  <p:cNvSpPr/>
                  <p:nvPr/>
                </p:nvSpPr>
                <p:spPr>
                  <a:xfrm flipV="1">
                    <a:off x="5079600" y="26384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8" name=""/>
                  <p:cNvSpPr/>
                  <p:nvPr/>
                </p:nvSpPr>
                <p:spPr>
                  <a:xfrm flipV="1">
                    <a:off x="5095800" y="26460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9" name=""/>
                <p:cNvGrpSpPr/>
                <p:nvPr/>
              </p:nvGrpSpPr>
              <p:grpSpPr>
                <a:xfrm>
                  <a:off x="4971240" y="2943000"/>
                  <a:ext cx="123840" cy="99720"/>
                  <a:chOff x="4971240" y="2943000"/>
                  <a:chExt cx="123840" cy="99720"/>
                </a:xfrm>
              </p:grpSpPr>
              <p:sp>
                <p:nvSpPr>
                  <p:cNvPr id="13770" name=""/>
                  <p:cNvSpPr/>
                  <p:nvPr/>
                </p:nvSpPr>
                <p:spPr>
                  <a:xfrm rot="5650200">
                    <a:off x="4987440" y="29340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1" name=""/>
                  <p:cNvSpPr/>
                  <p:nvPr/>
                </p:nvSpPr>
                <p:spPr>
                  <a:xfrm flipV="1">
                    <a:off x="4980600" y="297648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2" name=""/>
                  <p:cNvSpPr/>
                  <p:nvPr/>
                </p:nvSpPr>
                <p:spPr>
                  <a:xfrm flipV="1">
                    <a:off x="5008320" y="30110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3" name=""/>
                  <p:cNvSpPr/>
                  <p:nvPr/>
                </p:nvSpPr>
                <p:spPr>
                  <a:xfrm flipV="1">
                    <a:off x="5019480" y="298080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4" name=""/>
                  <p:cNvSpPr/>
                  <p:nvPr/>
                </p:nvSpPr>
                <p:spPr>
                  <a:xfrm flipV="1">
                    <a:off x="5035680" y="298872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75" name=""/>
                <p:cNvGrpSpPr/>
                <p:nvPr/>
              </p:nvGrpSpPr>
              <p:grpSpPr>
                <a:xfrm>
                  <a:off x="5061960" y="2663640"/>
                  <a:ext cx="123840" cy="99720"/>
                  <a:chOff x="5061960" y="2663640"/>
                  <a:chExt cx="123840" cy="99720"/>
                </a:xfrm>
              </p:grpSpPr>
              <p:sp>
                <p:nvSpPr>
                  <p:cNvPr id="13776" name=""/>
                  <p:cNvSpPr/>
                  <p:nvPr/>
                </p:nvSpPr>
                <p:spPr>
                  <a:xfrm rot="5650200">
                    <a:off x="5078160" y="2654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7" name=""/>
                  <p:cNvSpPr/>
                  <p:nvPr/>
                </p:nvSpPr>
                <p:spPr>
                  <a:xfrm flipV="1">
                    <a:off x="5071320" y="269712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8" name=""/>
                  <p:cNvSpPr/>
                  <p:nvPr/>
                </p:nvSpPr>
                <p:spPr>
                  <a:xfrm flipV="1">
                    <a:off x="5099040" y="27316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9" name=""/>
                  <p:cNvSpPr/>
                  <p:nvPr/>
                </p:nvSpPr>
                <p:spPr>
                  <a:xfrm flipV="1">
                    <a:off x="5110200" y="270180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0" name=""/>
                  <p:cNvSpPr/>
                  <p:nvPr/>
                </p:nvSpPr>
                <p:spPr>
                  <a:xfrm flipV="1">
                    <a:off x="5126400" y="270936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81" name=""/>
                <p:cNvGrpSpPr/>
                <p:nvPr/>
              </p:nvGrpSpPr>
              <p:grpSpPr>
                <a:xfrm>
                  <a:off x="4723200" y="2839680"/>
                  <a:ext cx="106560" cy="149760"/>
                  <a:chOff x="4723200" y="2839680"/>
                  <a:chExt cx="106560" cy="149760"/>
                </a:xfrm>
              </p:grpSpPr>
              <p:sp>
                <p:nvSpPr>
                  <p:cNvPr id="13782" name=""/>
                  <p:cNvSpPr/>
                  <p:nvPr/>
                </p:nvSpPr>
                <p:spPr>
                  <a:xfrm rot="20848800">
                    <a:off x="4736880" y="2846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3" name=""/>
                  <p:cNvSpPr/>
                  <p:nvPr/>
                </p:nvSpPr>
                <p:spPr>
                  <a:xfrm flipH="1" flipV="1">
                    <a:off x="4757040" y="2898000"/>
                    <a:ext cx="6768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4" name=""/>
                  <p:cNvSpPr/>
                  <p:nvPr/>
                </p:nvSpPr>
                <p:spPr>
                  <a:xfrm flipH="1" flipV="1">
                    <a:off x="4794120" y="292068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5" name=""/>
                  <p:cNvSpPr/>
                  <p:nvPr/>
                </p:nvSpPr>
                <p:spPr>
                  <a:xfrm flipH="1" flipV="1">
                    <a:off x="4768560" y="2926080"/>
                    <a:ext cx="1620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6" name=""/>
                  <p:cNvSpPr/>
                  <p:nvPr/>
                </p:nvSpPr>
                <p:spPr>
                  <a:xfrm flipH="1" flipV="1">
                    <a:off x="4768560" y="2901240"/>
                    <a:ext cx="72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87" name=""/>
                <p:cNvGrpSpPr/>
                <p:nvPr/>
              </p:nvGrpSpPr>
              <p:grpSpPr>
                <a:xfrm>
                  <a:off x="4735800" y="2736000"/>
                  <a:ext cx="131040" cy="156600"/>
                  <a:chOff x="4735800" y="2736000"/>
                  <a:chExt cx="131040" cy="156600"/>
                </a:xfrm>
              </p:grpSpPr>
              <p:sp>
                <p:nvSpPr>
                  <p:cNvPr id="13788" name=""/>
                  <p:cNvSpPr/>
                  <p:nvPr/>
                </p:nvSpPr>
                <p:spPr>
                  <a:xfrm rot="20009400">
                    <a:off x="4761720" y="27464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9" name=""/>
                  <p:cNvSpPr/>
                  <p:nvPr/>
                </p:nvSpPr>
                <p:spPr>
                  <a:xfrm flipH="1" flipV="1">
                    <a:off x="4778640" y="2802600"/>
                    <a:ext cx="81360" cy="47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0" name=""/>
                  <p:cNvSpPr/>
                  <p:nvPr/>
                </p:nvSpPr>
                <p:spPr>
                  <a:xfrm flipH="1" flipV="1">
                    <a:off x="4820040" y="281592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1" name=""/>
                  <p:cNvSpPr/>
                  <p:nvPr/>
                </p:nvSpPr>
                <p:spPr>
                  <a:xfrm flipH="1">
                    <a:off x="4796280" y="282564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2" name=""/>
                  <p:cNvSpPr/>
                  <p:nvPr/>
                </p:nvSpPr>
                <p:spPr>
                  <a:xfrm flipH="1" flipV="1">
                    <a:off x="4790520" y="280332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3" name=""/>
                <p:cNvGrpSpPr/>
                <p:nvPr/>
              </p:nvGrpSpPr>
              <p:grpSpPr>
                <a:xfrm>
                  <a:off x="4934880" y="2534400"/>
                  <a:ext cx="81360" cy="137160"/>
                  <a:chOff x="4934880" y="2534400"/>
                  <a:chExt cx="81360" cy="137160"/>
                </a:xfrm>
              </p:grpSpPr>
              <p:sp>
                <p:nvSpPr>
                  <p:cNvPr id="13794" name=""/>
                  <p:cNvSpPr/>
                  <p:nvPr/>
                </p:nvSpPr>
                <p:spPr>
                  <a:xfrm rot="60600">
                    <a:off x="4935960" y="2534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5" name=""/>
                  <p:cNvSpPr/>
                  <p:nvPr/>
                </p:nvSpPr>
                <p:spPr>
                  <a:xfrm flipH="1" flipV="1">
                    <a:off x="4960800" y="2582280"/>
                    <a:ext cx="5040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6" name=""/>
                  <p:cNvSpPr/>
                  <p:nvPr/>
                </p:nvSpPr>
                <p:spPr>
                  <a:xfrm flipH="1" flipV="1">
                    <a:off x="4991400" y="26128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7" name=""/>
                  <p:cNvSpPr/>
                  <p:nvPr/>
                </p:nvSpPr>
                <p:spPr>
                  <a:xfrm flipH="1" flipV="1">
                    <a:off x="4965120" y="261216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8" name=""/>
                  <p:cNvSpPr/>
                  <p:nvPr/>
                </p:nvSpPr>
                <p:spPr>
                  <a:xfrm flipH="1" flipV="1">
                    <a:off x="4970880" y="25880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9" name=""/>
                <p:cNvGrpSpPr/>
                <p:nvPr/>
              </p:nvGrpSpPr>
              <p:grpSpPr>
                <a:xfrm>
                  <a:off x="4845600" y="2540880"/>
                  <a:ext cx="116640" cy="153360"/>
                  <a:chOff x="4845600" y="2540880"/>
                  <a:chExt cx="116640" cy="153360"/>
                </a:xfrm>
              </p:grpSpPr>
              <p:sp>
                <p:nvSpPr>
                  <p:cNvPr id="13800" name=""/>
                  <p:cNvSpPr/>
                  <p:nvPr/>
                </p:nvSpPr>
                <p:spPr>
                  <a:xfrm rot="20532600">
                    <a:off x="4864320" y="25495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1" name=""/>
                  <p:cNvSpPr/>
                  <p:nvPr/>
                </p:nvSpPr>
                <p:spPr>
                  <a:xfrm flipH="1" flipV="1">
                    <a:off x="4883040" y="2602800"/>
                    <a:ext cx="7344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2" name=""/>
                  <p:cNvSpPr/>
                  <p:nvPr/>
                </p:nvSpPr>
                <p:spPr>
                  <a:xfrm flipH="1" flipV="1">
                    <a:off x="4921920" y="262188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3" name=""/>
                  <p:cNvSpPr/>
                  <p:nvPr/>
                </p:nvSpPr>
                <p:spPr>
                  <a:xfrm flipH="1" flipV="1">
                    <a:off x="4896720" y="2629440"/>
                    <a:ext cx="169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4" name=""/>
                  <p:cNvSpPr/>
                  <p:nvPr/>
                </p:nvSpPr>
                <p:spPr>
                  <a:xfrm flipH="1" flipV="1">
                    <a:off x="4894560" y="260496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05" name=""/>
                <p:cNvGrpSpPr/>
                <p:nvPr/>
              </p:nvGrpSpPr>
              <p:grpSpPr>
                <a:xfrm>
                  <a:off x="4864680" y="2647080"/>
                  <a:ext cx="99360" cy="146520"/>
                  <a:chOff x="4864680" y="2647080"/>
                  <a:chExt cx="99360" cy="146520"/>
                </a:xfrm>
              </p:grpSpPr>
              <p:sp>
                <p:nvSpPr>
                  <p:cNvPr id="13806" name=""/>
                  <p:cNvSpPr/>
                  <p:nvPr/>
                </p:nvSpPr>
                <p:spPr>
                  <a:xfrm rot="21052200">
                    <a:off x="4874760" y="2652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7" name=""/>
                  <p:cNvSpPr/>
                  <p:nvPr/>
                </p:nvSpPr>
                <p:spPr>
                  <a:xfrm flipH="1" flipV="1">
                    <a:off x="4896000" y="2702520"/>
                    <a:ext cx="63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8" name=""/>
                  <p:cNvSpPr/>
                  <p:nvPr/>
                </p:nvSpPr>
                <p:spPr>
                  <a:xfrm flipH="1" flipV="1">
                    <a:off x="4931640" y="272736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9" name=""/>
                  <p:cNvSpPr/>
                  <p:nvPr/>
                </p:nvSpPr>
                <p:spPr>
                  <a:xfrm flipH="1" flipV="1">
                    <a:off x="4905720" y="273132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0" name=""/>
                  <p:cNvSpPr/>
                  <p:nvPr/>
                </p:nvSpPr>
                <p:spPr>
                  <a:xfrm flipH="1" flipV="1">
                    <a:off x="4907160" y="270648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1" name=""/>
                <p:cNvGrpSpPr/>
                <p:nvPr/>
              </p:nvGrpSpPr>
              <p:grpSpPr>
                <a:xfrm>
                  <a:off x="4981680" y="2612520"/>
                  <a:ext cx="115560" cy="153000"/>
                  <a:chOff x="4981680" y="2612520"/>
                  <a:chExt cx="115560" cy="153000"/>
                </a:xfrm>
              </p:grpSpPr>
              <p:sp>
                <p:nvSpPr>
                  <p:cNvPr id="13812" name=""/>
                  <p:cNvSpPr/>
                  <p:nvPr/>
                </p:nvSpPr>
                <p:spPr>
                  <a:xfrm rot="1035600">
                    <a:off x="5000040" y="2621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3" name=""/>
                  <p:cNvSpPr/>
                  <p:nvPr/>
                </p:nvSpPr>
                <p:spPr>
                  <a:xfrm flipH="1" flipV="1">
                    <a:off x="5031360" y="2664720"/>
                    <a:ext cx="2592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4" name=""/>
                  <p:cNvSpPr/>
                  <p:nvPr/>
                </p:nvSpPr>
                <p:spPr>
                  <a:xfrm flipV="1">
                    <a:off x="5051520" y="2702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5" name=""/>
                  <p:cNvSpPr/>
                  <p:nvPr/>
                </p:nvSpPr>
                <p:spPr>
                  <a:xfrm flipH="1" flipV="1">
                    <a:off x="5027040" y="269460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6" name=""/>
                  <p:cNvSpPr/>
                  <p:nvPr/>
                </p:nvSpPr>
                <p:spPr>
                  <a:xfrm flipH="1" flipV="1">
                    <a:off x="5039640" y="267336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17" name=""/>
                <p:cNvGrpSpPr/>
                <p:nvPr/>
              </p:nvGrpSpPr>
              <p:grpSpPr>
                <a:xfrm>
                  <a:off x="4912560" y="2835720"/>
                  <a:ext cx="148680" cy="144720"/>
                  <a:chOff x="4912560" y="2835720"/>
                  <a:chExt cx="148680" cy="144720"/>
                </a:xfrm>
              </p:grpSpPr>
              <p:sp>
                <p:nvSpPr>
                  <p:cNvPr id="13818" name=""/>
                  <p:cNvSpPr/>
                  <p:nvPr/>
                </p:nvSpPr>
                <p:spPr>
                  <a:xfrm rot="3086400">
                    <a:off x="4941000" y="28490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9" name=""/>
                  <p:cNvSpPr/>
                  <p:nvPr/>
                </p:nvSpPr>
                <p:spPr>
                  <a:xfrm flipV="1">
                    <a:off x="4974120" y="2882880"/>
                    <a:ext cx="154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0" name=""/>
                  <p:cNvSpPr/>
                  <p:nvPr/>
                </p:nvSpPr>
                <p:spPr>
                  <a:xfrm flipV="1">
                    <a:off x="4983840" y="292752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1" name=""/>
                  <p:cNvSpPr/>
                  <p:nvPr/>
                </p:nvSpPr>
                <p:spPr>
                  <a:xfrm flipH="1" flipV="1">
                    <a:off x="4973040" y="290412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2" name=""/>
                  <p:cNvSpPr/>
                  <p:nvPr/>
                </p:nvSpPr>
                <p:spPr>
                  <a:xfrm flipV="1">
                    <a:off x="4988880" y="289584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3" name=""/>
                <p:cNvGrpSpPr/>
                <p:nvPr/>
              </p:nvGrpSpPr>
              <p:grpSpPr>
                <a:xfrm>
                  <a:off x="4988880" y="3021840"/>
                  <a:ext cx="111960" cy="151920"/>
                  <a:chOff x="4988880" y="3021840"/>
                  <a:chExt cx="111960" cy="151920"/>
                </a:xfrm>
              </p:grpSpPr>
              <p:sp>
                <p:nvSpPr>
                  <p:cNvPr id="13824" name=""/>
                  <p:cNvSpPr/>
                  <p:nvPr/>
                </p:nvSpPr>
                <p:spPr>
                  <a:xfrm rot="9883800">
                    <a:off x="5005440" y="3029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5" name=""/>
                  <p:cNvSpPr/>
                  <p:nvPr/>
                </p:nvSpPr>
                <p:spPr>
                  <a:xfrm>
                    <a:off x="4994280" y="3051720"/>
                    <a:ext cx="7092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6" name=""/>
                  <p:cNvSpPr/>
                  <p:nvPr/>
                </p:nvSpPr>
                <p:spPr>
                  <a:xfrm>
                    <a:off x="5017320" y="307656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7" name=""/>
                  <p:cNvSpPr/>
                  <p:nvPr/>
                </p:nvSpPr>
                <p:spPr>
                  <a:xfrm>
                    <a:off x="5035680" y="308448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8" name=""/>
                  <p:cNvSpPr/>
                  <p:nvPr/>
                </p:nvSpPr>
                <p:spPr>
                  <a:xfrm>
                    <a:off x="5045400" y="3100680"/>
                    <a:ext cx="82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9" name=""/>
                <p:cNvGrpSpPr/>
                <p:nvPr/>
              </p:nvGrpSpPr>
              <p:grpSpPr>
                <a:xfrm>
                  <a:off x="4897080" y="3097440"/>
                  <a:ext cx="108000" cy="150120"/>
                  <a:chOff x="4897080" y="3097440"/>
                  <a:chExt cx="108000" cy="150120"/>
                </a:xfrm>
              </p:grpSpPr>
              <p:sp>
                <p:nvSpPr>
                  <p:cNvPr id="13830" name=""/>
                  <p:cNvSpPr/>
                  <p:nvPr/>
                </p:nvSpPr>
                <p:spPr>
                  <a:xfrm rot="10003800">
                    <a:off x="4911480" y="3104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1" name=""/>
                  <p:cNvSpPr/>
                  <p:nvPr/>
                </p:nvSpPr>
                <p:spPr>
                  <a:xfrm>
                    <a:off x="4902480" y="3124440"/>
                    <a:ext cx="68400" cy="64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2" name=""/>
                  <p:cNvSpPr/>
                  <p:nvPr/>
                </p:nvSpPr>
                <p:spPr>
                  <a:xfrm>
                    <a:off x="4924440" y="315036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3" name=""/>
                  <p:cNvSpPr/>
                  <p:nvPr/>
                </p:nvSpPr>
                <p:spPr>
                  <a:xfrm>
                    <a:off x="4942800" y="315864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4" name=""/>
                  <p:cNvSpPr/>
                  <p:nvPr/>
                </p:nvSpPr>
                <p:spPr>
                  <a:xfrm>
                    <a:off x="4951800" y="317556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35" name=""/>
                <p:cNvGrpSpPr/>
                <p:nvPr/>
              </p:nvGrpSpPr>
              <p:grpSpPr>
                <a:xfrm>
                  <a:off x="4789800" y="2829960"/>
                  <a:ext cx="147600" cy="138240"/>
                  <a:chOff x="4789800" y="2829960"/>
                  <a:chExt cx="147600" cy="138240"/>
                </a:xfrm>
              </p:grpSpPr>
              <p:sp>
                <p:nvSpPr>
                  <p:cNvPr id="13836" name=""/>
                  <p:cNvSpPr/>
                  <p:nvPr/>
                </p:nvSpPr>
                <p:spPr>
                  <a:xfrm rot="3576600">
                    <a:off x="4817520" y="28404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7" name=""/>
                  <p:cNvSpPr/>
                  <p:nvPr/>
                </p:nvSpPr>
                <p:spPr>
                  <a:xfrm flipV="1">
                    <a:off x="4842000" y="2874600"/>
                    <a:ext cx="28080" cy="86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8" name=""/>
                  <p:cNvSpPr/>
                  <p:nvPr/>
                </p:nvSpPr>
                <p:spPr>
                  <a:xfrm flipV="1">
                    <a:off x="4855680" y="291924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9" name=""/>
                  <p:cNvSpPr/>
                  <p:nvPr/>
                </p:nvSpPr>
                <p:spPr>
                  <a:xfrm flipH="1" flipV="1">
                    <a:off x="4850640" y="289332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0" name=""/>
                  <p:cNvSpPr/>
                  <p:nvPr/>
                </p:nvSpPr>
                <p:spPr>
                  <a:xfrm flipV="1">
                    <a:off x="4866120" y="2887920"/>
                    <a:ext cx="576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1" name=""/>
                <p:cNvGrpSpPr/>
                <p:nvPr/>
              </p:nvGrpSpPr>
              <p:grpSpPr>
                <a:xfrm>
                  <a:off x="4817520" y="2665800"/>
                  <a:ext cx="154440" cy="148680"/>
                  <a:chOff x="4817520" y="2665800"/>
                  <a:chExt cx="154440" cy="148680"/>
                </a:xfrm>
              </p:grpSpPr>
              <p:sp>
                <p:nvSpPr>
                  <p:cNvPr id="13842" name=""/>
                  <p:cNvSpPr/>
                  <p:nvPr/>
                </p:nvSpPr>
                <p:spPr>
                  <a:xfrm rot="2940600">
                    <a:off x="4855320" y="2671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3" name=""/>
                  <p:cNvSpPr/>
                  <p:nvPr/>
                </p:nvSpPr>
                <p:spPr>
                  <a:xfrm flipV="1">
                    <a:off x="4875120" y="2714760"/>
                    <a:ext cx="2520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4" name=""/>
                  <p:cNvSpPr/>
                  <p:nvPr/>
                </p:nvSpPr>
                <p:spPr>
                  <a:xfrm flipV="1">
                    <a:off x="4887720" y="275832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5" name=""/>
                  <p:cNvSpPr/>
                  <p:nvPr/>
                </p:nvSpPr>
                <p:spPr>
                  <a:xfrm flipH="1" flipV="1">
                    <a:off x="4880880" y="2738160"/>
                    <a:ext cx="5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6" name=""/>
                  <p:cNvSpPr/>
                  <p:nvPr/>
                </p:nvSpPr>
                <p:spPr>
                  <a:xfrm flipV="1">
                    <a:off x="4897080" y="272628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47" name=""/>
                <p:cNvGrpSpPr/>
                <p:nvPr/>
              </p:nvGrpSpPr>
              <p:grpSpPr>
                <a:xfrm>
                  <a:off x="4898880" y="2527560"/>
                  <a:ext cx="152640" cy="150840"/>
                  <a:chOff x="4898880" y="2527560"/>
                  <a:chExt cx="152640" cy="150840"/>
                </a:xfrm>
              </p:grpSpPr>
              <p:sp>
                <p:nvSpPr>
                  <p:cNvPr id="13848" name=""/>
                  <p:cNvSpPr/>
                  <p:nvPr/>
                </p:nvSpPr>
                <p:spPr>
                  <a:xfrm rot="2781000">
                    <a:off x="4935600" y="2534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9" name=""/>
                  <p:cNvSpPr/>
                  <p:nvPr/>
                </p:nvSpPr>
                <p:spPr>
                  <a:xfrm flipV="1">
                    <a:off x="4959000" y="2577960"/>
                    <a:ext cx="2088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0" name=""/>
                  <p:cNvSpPr/>
                  <p:nvPr/>
                </p:nvSpPr>
                <p:spPr>
                  <a:xfrm flipV="1">
                    <a:off x="4970160" y="2621520"/>
                    <a:ext cx="93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1" name=""/>
                  <p:cNvSpPr/>
                  <p:nvPr/>
                </p:nvSpPr>
                <p:spPr>
                  <a:xfrm flipH="1" flipV="1">
                    <a:off x="4961880" y="260208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2" name=""/>
                  <p:cNvSpPr/>
                  <p:nvPr/>
                </p:nvSpPr>
                <p:spPr>
                  <a:xfrm flipV="1">
                    <a:off x="4977720" y="2589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3" name=""/>
                <p:cNvGrpSpPr/>
                <p:nvPr/>
              </p:nvGrpSpPr>
              <p:grpSpPr>
                <a:xfrm>
                  <a:off x="4971240" y="2515680"/>
                  <a:ext cx="148320" cy="140760"/>
                  <a:chOff x="4971240" y="2515680"/>
                  <a:chExt cx="148320" cy="140760"/>
                </a:xfrm>
              </p:grpSpPr>
              <p:sp>
                <p:nvSpPr>
                  <p:cNvPr id="13854" name=""/>
                  <p:cNvSpPr/>
                  <p:nvPr/>
                </p:nvSpPr>
                <p:spPr>
                  <a:xfrm rot="3412800">
                    <a:off x="4999320" y="2527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5" name=""/>
                  <p:cNvSpPr/>
                  <p:nvPr/>
                </p:nvSpPr>
                <p:spPr>
                  <a:xfrm flipV="1">
                    <a:off x="5026680" y="2561040"/>
                    <a:ext cx="2376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6" name=""/>
                  <p:cNvSpPr/>
                  <p:nvPr/>
                </p:nvSpPr>
                <p:spPr>
                  <a:xfrm flipV="1">
                    <a:off x="5038920" y="2606040"/>
                    <a:ext cx="10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7" name=""/>
                  <p:cNvSpPr/>
                  <p:nvPr/>
                </p:nvSpPr>
                <p:spPr>
                  <a:xfrm flipH="1" flipV="1">
                    <a:off x="5032080" y="2580840"/>
                    <a:ext cx="54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8" name=""/>
                  <p:cNvSpPr/>
                  <p:nvPr/>
                </p:nvSpPr>
                <p:spPr>
                  <a:xfrm flipV="1">
                    <a:off x="5047560" y="257436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59" name=""/>
              <p:cNvGrpSpPr/>
              <p:nvPr/>
            </p:nvGrpSpPr>
            <p:grpSpPr>
              <a:xfrm>
                <a:off x="4772520" y="4216680"/>
                <a:ext cx="506160" cy="721080"/>
                <a:chOff x="4772520" y="4216680"/>
                <a:chExt cx="506160" cy="721080"/>
              </a:xfrm>
            </p:grpSpPr>
            <p:grpSp>
              <p:nvGrpSpPr>
                <p:cNvPr id="13860" name=""/>
                <p:cNvGrpSpPr/>
                <p:nvPr/>
              </p:nvGrpSpPr>
              <p:grpSpPr>
                <a:xfrm>
                  <a:off x="5069880" y="4482000"/>
                  <a:ext cx="153360" cy="149400"/>
                  <a:chOff x="5069880" y="4482000"/>
                  <a:chExt cx="153360" cy="149400"/>
                </a:xfrm>
              </p:grpSpPr>
              <p:sp>
                <p:nvSpPr>
                  <p:cNvPr id="13861" name=""/>
                  <p:cNvSpPr/>
                  <p:nvPr/>
                </p:nvSpPr>
                <p:spPr>
                  <a:xfrm rot="7935000">
                    <a:off x="5106960" y="44884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2" name=""/>
                  <p:cNvSpPr/>
                  <p:nvPr/>
                </p:nvSpPr>
                <p:spPr>
                  <a:xfrm>
                    <a:off x="5079240" y="4544640"/>
                    <a:ext cx="92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3" name=""/>
                  <p:cNvSpPr/>
                  <p:nvPr/>
                </p:nvSpPr>
                <p:spPr>
                  <a:xfrm>
                    <a:off x="5112000" y="4553640"/>
                    <a:ext cx="169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4" name=""/>
                  <p:cNvSpPr/>
                  <p:nvPr/>
                </p:nvSpPr>
                <p:spPr>
                  <a:xfrm flipV="1">
                    <a:off x="5131800" y="4542840"/>
                    <a:ext cx="1476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5" name=""/>
                  <p:cNvSpPr/>
                  <p:nvPr/>
                </p:nvSpPr>
                <p:spPr>
                  <a:xfrm>
                    <a:off x="5148720" y="4558680"/>
                    <a:ext cx="1224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66" name=""/>
                <p:cNvSpPr/>
                <p:nvPr/>
              </p:nvSpPr>
              <p:spPr>
                <a:xfrm flipH="1" flipV="1">
                  <a:off x="4922640" y="4549320"/>
                  <a:ext cx="106560" cy="176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7" name=""/>
                <p:cNvSpPr/>
                <p:nvPr/>
              </p:nvSpPr>
              <p:spPr>
                <a:xfrm rot="4120200">
                  <a:off x="4716720" y="4536000"/>
                  <a:ext cx="50868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8" name=""/>
                <p:cNvSpPr/>
                <p:nvPr/>
              </p:nvSpPr>
              <p:spPr>
                <a:xfrm flipV="1">
                  <a:off x="5027040" y="4453920"/>
                  <a:ext cx="84600" cy="120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9" name=""/>
                <p:cNvSpPr/>
                <p:nvPr/>
              </p:nvSpPr>
              <p:spPr>
                <a:xfrm flipV="1">
                  <a:off x="4967280" y="4713480"/>
                  <a:ext cx="151560" cy="190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0" name=""/>
                <p:cNvSpPr/>
                <p:nvPr/>
              </p:nvSpPr>
              <p:spPr>
                <a:xfrm flipH="1" flipV="1">
                  <a:off x="4928400" y="4612680"/>
                  <a:ext cx="468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1" name=""/>
                <p:cNvSpPr/>
                <p:nvPr/>
              </p:nvSpPr>
              <p:spPr>
                <a:xfrm flipH="1" flipV="1">
                  <a:off x="5008680" y="4624920"/>
                  <a:ext cx="5760" cy="63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2" name=""/>
                <p:cNvSpPr/>
                <p:nvPr/>
              </p:nvSpPr>
              <p:spPr>
                <a:xfrm flipV="1">
                  <a:off x="5060880" y="4422240"/>
                  <a:ext cx="19080" cy="9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3" name=""/>
                <p:cNvSpPr/>
                <p:nvPr/>
              </p:nvSpPr>
              <p:spPr>
                <a:xfrm>
                  <a:off x="5052240" y="4542480"/>
                  <a:ext cx="561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4" name=""/>
                <p:cNvSpPr/>
                <p:nvPr/>
              </p:nvSpPr>
              <p:spPr>
                <a:xfrm flipH="1" flipV="1">
                  <a:off x="4943520" y="4409640"/>
                  <a:ext cx="54720" cy="43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5" name=""/>
                <p:cNvSpPr/>
                <p:nvPr/>
              </p:nvSpPr>
              <p:spPr>
                <a:xfrm flipV="1">
                  <a:off x="5042520" y="4644000"/>
                  <a:ext cx="29880" cy="16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6" name=""/>
                <p:cNvSpPr/>
                <p:nvPr/>
              </p:nvSpPr>
              <p:spPr>
                <a:xfrm flipV="1">
                  <a:off x="5062320" y="4681800"/>
                  <a:ext cx="24840" cy="30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7" name=""/>
                <p:cNvSpPr/>
                <p:nvPr/>
              </p:nvSpPr>
              <p:spPr>
                <a:xfrm flipV="1">
                  <a:off x="5017320" y="4833720"/>
                  <a:ext cx="72720" cy="6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8" name=""/>
                <p:cNvSpPr/>
                <p:nvPr/>
              </p:nvSpPr>
              <p:spPr>
                <a:xfrm flipV="1">
                  <a:off x="5093280" y="4726080"/>
                  <a:ext cx="489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9" name=""/>
                <p:cNvSpPr/>
                <p:nvPr/>
              </p:nvSpPr>
              <p:spPr>
                <a:xfrm flipH="1" flipV="1">
                  <a:off x="4956120" y="4732920"/>
                  <a:ext cx="46080" cy="69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0" name=""/>
                <p:cNvSpPr/>
                <p:nvPr/>
              </p:nvSpPr>
              <p:spPr>
                <a:xfrm flipH="1" flipV="1">
                  <a:off x="4973040" y="4485600"/>
                  <a:ext cx="38160" cy="50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1" name=""/>
                <p:cNvSpPr/>
                <p:nvPr/>
              </p:nvSpPr>
              <p:spPr>
                <a:xfrm flipV="1">
                  <a:off x="5000400" y="4377960"/>
                  <a:ext cx="24480" cy="31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882" name=""/>
                <p:cNvGrpSpPr/>
                <p:nvPr/>
              </p:nvGrpSpPr>
              <p:grpSpPr>
                <a:xfrm>
                  <a:off x="5092560" y="4388040"/>
                  <a:ext cx="128520" cy="106560"/>
                  <a:chOff x="5092560" y="4388040"/>
                  <a:chExt cx="128520" cy="106560"/>
                </a:xfrm>
              </p:grpSpPr>
              <p:sp>
                <p:nvSpPr>
                  <p:cNvPr id="13883" name=""/>
                  <p:cNvSpPr/>
                  <p:nvPr/>
                </p:nvSpPr>
                <p:spPr>
                  <a:xfrm rot="5865000">
                    <a:off x="5110920" y="43822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4" name=""/>
                  <p:cNvSpPr/>
                  <p:nvPr/>
                </p:nvSpPr>
                <p:spPr>
                  <a:xfrm flipV="1">
                    <a:off x="5101920" y="4425840"/>
                    <a:ext cx="75240" cy="50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5" name=""/>
                  <p:cNvSpPr/>
                  <p:nvPr/>
                </p:nvSpPr>
                <p:spPr>
                  <a:xfrm flipV="1">
                    <a:off x="5130360" y="445860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6" name=""/>
                  <p:cNvSpPr/>
                  <p:nvPr/>
                </p:nvSpPr>
                <p:spPr>
                  <a:xfrm flipV="1">
                    <a:off x="5142600" y="4428720"/>
                    <a:ext cx="756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7" name=""/>
                  <p:cNvSpPr/>
                  <p:nvPr/>
                </p:nvSpPr>
                <p:spPr>
                  <a:xfrm flipV="1">
                    <a:off x="5159160" y="4437720"/>
                    <a:ext cx="11160" cy="4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8" name=""/>
                <p:cNvGrpSpPr/>
                <p:nvPr/>
              </p:nvGrpSpPr>
              <p:grpSpPr>
                <a:xfrm>
                  <a:off x="4941720" y="4488480"/>
                  <a:ext cx="147600" cy="147600"/>
                  <a:chOff x="4941720" y="4488480"/>
                  <a:chExt cx="147600" cy="147600"/>
                </a:xfrm>
              </p:grpSpPr>
              <p:sp>
                <p:nvSpPr>
                  <p:cNvPr id="13889" name=""/>
                  <p:cNvSpPr/>
                  <p:nvPr/>
                </p:nvSpPr>
                <p:spPr>
                  <a:xfrm rot="2706600">
                    <a:off x="4969800" y="45036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0" name=""/>
                  <p:cNvSpPr/>
                  <p:nvPr/>
                </p:nvSpPr>
                <p:spPr>
                  <a:xfrm flipV="1">
                    <a:off x="5010120" y="4537080"/>
                    <a:ext cx="54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1" name=""/>
                  <p:cNvSpPr/>
                  <p:nvPr/>
                </p:nvSpPr>
                <p:spPr>
                  <a:xfrm flipV="1">
                    <a:off x="5016240" y="458136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2" name=""/>
                  <p:cNvSpPr/>
                  <p:nvPr/>
                </p:nvSpPr>
                <p:spPr>
                  <a:xfrm flipH="1" flipV="1">
                    <a:off x="5001480" y="4560120"/>
                    <a:ext cx="9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3" name=""/>
                  <p:cNvSpPr/>
                  <p:nvPr/>
                </p:nvSpPr>
                <p:spPr>
                  <a:xfrm flipV="1">
                    <a:off x="5017680" y="4549680"/>
                    <a:ext cx="3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94" name=""/>
                <p:cNvGrpSpPr/>
                <p:nvPr/>
              </p:nvGrpSpPr>
              <p:grpSpPr>
                <a:xfrm>
                  <a:off x="5031720" y="4529520"/>
                  <a:ext cx="142560" cy="127800"/>
                  <a:chOff x="5031720" y="4529520"/>
                  <a:chExt cx="142560" cy="127800"/>
                </a:xfrm>
              </p:grpSpPr>
              <p:sp>
                <p:nvSpPr>
                  <p:cNvPr id="13895" name=""/>
                  <p:cNvSpPr/>
                  <p:nvPr/>
                </p:nvSpPr>
                <p:spPr>
                  <a:xfrm rot="4120200">
                    <a:off x="5057280" y="45345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6" name=""/>
                  <p:cNvSpPr/>
                  <p:nvPr/>
                </p:nvSpPr>
                <p:spPr>
                  <a:xfrm flipV="1">
                    <a:off x="5072040" y="4570200"/>
                    <a:ext cx="4140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7" name=""/>
                  <p:cNvSpPr/>
                  <p:nvPr/>
                </p:nvSpPr>
                <p:spPr>
                  <a:xfrm flipV="1">
                    <a:off x="5090040" y="4614120"/>
                    <a:ext cx="1260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8" name=""/>
                  <p:cNvSpPr/>
                  <p:nvPr/>
                </p:nvSpPr>
                <p:spPr>
                  <a:xfrm flipH="1" flipV="1">
                    <a:off x="5091120" y="4586040"/>
                    <a:ext cx="180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9" name=""/>
                  <p:cNvSpPr/>
                  <p:nvPr/>
                </p:nvSpPr>
                <p:spPr>
                  <a:xfrm flipV="1">
                    <a:off x="5105520" y="458388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00" name=""/>
                <p:cNvGrpSpPr/>
                <p:nvPr/>
              </p:nvGrpSpPr>
              <p:grpSpPr>
                <a:xfrm>
                  <a:off x="4799160" y="4434480"/>
                  <a:ext cx="133920" cy="156960"/>
                  <a:chOff x="4799160" y="4434480"/>
                  <a:chExt cx="133920" cy="156960"/>
                </a:xfrm>
              </p:grpSpPr>
              <p:sp>
                <p:nvSpPr>
                  <p:cNvPr id="13901" name=""/>
                  <p:cNvSpPr/>
                  <p:nvPr/>
                </p:nvSpPr>
                <p:spPr>
                  <a:xfrm rot="19889400">
                    <a:off x="4826520" y="4444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2" name=""/>
                  <p:cNvSpPr/>
                  <p:nvPr/>
                </p:nvSpPr>
                <p:spPr>
                  <a:xfrm flipH="1" flipV="1">
                    <a:off x="4843080" y="4502160"/>
                    <a:ext cx="82800" cy="44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3" name=""/>
                  <p:cNvSpPr/>
                  <p:nvPr/>
                </p:nvSpPr>
                <p:spPr>
                  <a:xfrm flipH="1" flipV="1">
                    <a:off x="4884840" y="451404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4" name=""/>
                  <p:cNvSpPr/>
                  <p:nvPr/>
                </p:nvSpPr>
                <p:spPr>
                  <a:xfrm flipH="1">
                    <a:off x="4861440" y="45241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5" name=""/>
                  <p:cNvSpPr/>
                  <p:nvPr/>
                </p:nvSpPr>
                <p:spPr>
                  <a:xfrm flipH="1" flipV="1">
                    <a:off x="4854960" y="450252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06" name=""/>
                <p:cNvGrpSpPr/>
                <p:nvPr/>
              </p:nvGrpSpPr>
              <p:grpSpPr>
                <a:xfrm>
                  <a:off x="4984200" y="4264200"/>
                  <a:ext cx="142560" cy="127800"/>
                  <a:chOff x="4984200" y="4264200"/>
                  <a:chExt cx="142560" cy="127800"/>
                </a:xfrm>
              </p:grpSpPr>
              <p:sp>
                <p:nvSpPr>
                  <p:cNvPr id="13907" name=""/>
                  <p:cNvSpPr/>
                  <p:nvPr/>
                </p:nvSpPr>
                <p:spPr>
                  <a:xfrm rot="4120200">
                    <a:off x="5009760" y="42692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8" name=""/>
                  <p:cNvSpPr/>
                  <p:nvPr/>
                </p:nvSpPr>
                <p:spPr>
                  <a:xfrm flipV="1">
                    <a:off x="5024880" y="4304880"/>
                    <a:ext cx="4104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9" name=""/>
                  <p:cNvSpPr/>
                  <p:nvPr/>
                </p:nvSpPr>
                <p:spPr>
                  <a:xfrm flipV="1">
                    <a:off x="5042880" y="4348440"/>
                    <a:ext cx="122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0" name=""/>
                  <p:cNvSpPr/>
                  <p:nvPr/>
                </p:nvSpPr>
                <p:spPr>
                  <a:xfrm flipH="1" flipV="1">
                    <a:off x="5043960" y="432036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1" name=""/>
                  <p:cNvSpPr/>
                  <p:nvPr/>
                </p:nvSpPr>
                <p:spPr>
                  <a:xfrm flipV="1">
                    <a:off x="5058360" y="4318200"/>
                    <a:ext cx="7560" cy="9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2" name=""/>
                <p:cNvGrpSpPr/>
                <p:nvPr/>
              </p:nvGrpSpPr>
              <p:grpSpPr>
                <a:xfrm>
                  <a:off x="5077800" y="4599000"/>
                  <a:ext cx="142560" cy="127800"/>
                  <a:chOff x="5077800" y="4599000"/>
                  <a:chExt cx="142560" cy="127800"/>
                </a:xfrm>
              </p:grpSpPr>
              <p:sp>
                <p:nvSpPr>
                  <p:cNvPr id="13913" name=""/>
                  <p:cNvSpPr/>
                  <p:nvPr/>
                </p:nvSpPr>
                <p:spPr>
                  <a:xfrm rot="4120200">
                    <a:off x="5103360" y="46040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4" name=""/>
                  <p:cNvSpPr/>
                  <p:nvPr/>
                </p:nvSpPr>
                <p:spPr>
                  <a:xfrm flipV="1">
                    <a:off x="5118120" y="4639680"/>
                    <a:ext cx="4104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5" name=""/>
                  <p:cNvSpPr/>
                  <p:nvPr/>
                </p:nvSpPr>
                <p:spPr>
                  <a:xfrm flipV="1">
                    <a:off x="5136120" y="468324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6" name=""/>
                  <p:cNvSpPr/>
                  <p:nvPr/>
                </p:nvSpPr>
                <p:spPr>
                  <a:xfrm flipH="1" flipV="1">
                    <a:off x="5137200" y="465516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7" name=""/>
                  <p:cNvSpPr/>
                  <p:nvPr/>
                </p:nvSpPr>
                <p:spPr>
                  <a:xfrm flipV="1">
                    <a:off x="5151600" y="4653360"/>
                    <a:ext cx="75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8" name=""/>
                <p:cNvGrpSpPr/>
                <p:nvPr/>
              </p:nvGrpSpPr>
              <p:grpSpPr>
                <a:xfrm>
                  <a:off x="5039280" y="4308120"/>
                  <a:ext cx="142560" cy="127800"/>
                  <a:chOff x="5039280" y="4308120"/>
                  <a:chExt cx="142560" cy="127800"/>
                </a:xfrm>
              </p:grpSpPr>
              <p:sp>
                <p:nvSpPr>
                  <p:cNvPr id="13919" name=""/>
                  <p:cNvSpPr/>
                  <p:nvPr/>
                </p:nvSpPr>
                <p:spPr>
                  <a:xfrm rot="4120200">
                    <a:off x="5064840" y="43131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0" name=""/>
                  <p:cNvSpPr/>
                  <p:nvPr/>
                </p:nvSpPr>
                <p:spPr>
                  <a:xfrm flipV="1">
                    <a:off x="5079960" y="4348440"/>
                    <a:ext cx="41040" cy="80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1" name=""/>
                  <p:cNvSpPr/>
                  <p:nvPr/>
                </p:nvSpPr>
                <p:spPr>
                  <a:xfrm flipV="1">
                    <a:off x="5097960" y="4392360"/>
                    <a:ext cx="122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2" name=""/>
                  <p:cNvSpPr/>
                  <p:nvPr/>
                </p:nvSpPr>
                <p:spPr>
                  <a:xfrm flipH="1" flipV="1">
                    <a:off x="5098680" y="4364280"/>
                    <a:ext cx="21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3" name=""/>
                  <p:cNvSpPr/>
                  <p:nvPr/>
                </p:nvSpPr>
                <p:spPr>
                  <a:xfrm flipV="1">
                    <a:off x="5113080" y="436212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24" name=""/>
                <p:cNvGrpSpPr/>
                <p:nvPr/>
              </p:nvGrpSpPr>
              <p:grpSpPr>
                <a:xfrm>
                  <a:off x="4811040" y="4625280"/>
                  <a:ext cx="145800" cy="155520"/>
                  <a:chOff x="4811040" y="4625280"/>
                  <a:chExt cx="145800" cy="155520"/>
                </a:xfrm>
              </p:grpSpPr>
              <p:sp>
                <p:nvSpPr>
                  <p:cNvPr id="13925" name=""/>
                  <p:cNvSpPr/>
                  <p:nvPr/>
                </p:nvSpPr>
                <p:spPr>
                  <a:xfrm rot="19318200">
                    <a:off x="4844160" y="46350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6" name=""/>
                  <p:cNvSpPr/>
                  <p:nvPr/>
                </p:nvSpPr>
                <p:spPr>
                  <a:xfrm flipH="1" flipV="1">
                    <a:off x="4858920" y="4696200"/>
                    <a:ext cx="88920" cy="29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7" name=""/>
                  <p:cNvSpPr/>
                  <p:nvPr/>
                </p:nvSpPr>
                <p:spPr>
                  <a:xfrm flipH="1" flipV="1">
                    <a:off x="4902120" y="47008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8" name=""/>
                  <p:cNvSpPr/>
                  <p:nvPr/>
                </p:nvSpPr>
                <p:spPr>
                  <a:xfrm flipH="1">
                    <a:off x="4881240" y="47120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9" name=""/>
                  <p:cNvSpPr/>
                  <p:nvPr/>
                </p:nvSpPr>
                <p:spPr>
                  <a:xfrm flipH="1" flipV="1">
                    <a:off x="4870440" y="4694400"/>
                    <a:ext cx="1152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0" name=""/>
                <p:cNvGrpSpPr/>
                <p:nvPr/>
              </p:nvGrpSpPr>
              <p:grpSpPr>
                <a:xfrm>
                  <a:off x="4785120" y="4528800"/>
                  <a:ext cx="155520" cy="145800"/>
                  <a:chOff x="4785120" y="4528800"/>
                  <a:chExt cx="155520" cy="145800"/>
                </a:xfrm>
              </p:grpSpPr>
              <p:sp>
                <p:nvSpPr>
                  <p:cNvPr id="13931" name=""/>
                  <p:cNvSpPr/>
                  <p:nvPr/>
                </p:nvSpPr>
                <p:spPr>
                  <a:xfrm rot="18478800">
                    <a:off x="4823280" y="4533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2" name=""/>
                  <p:cNvSpPr/>
                  <p:nvPr/>
                </p:nvSpPr>
                <p:spPr>
                  <a:xfrm flipH="1" flipV="1">
                    <a:off x="4837320" y="4601160"/>
                    <a:ext cx="9360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3" name=""/>
                  <p:cNvSpPr/>
                  <p:nvPr/>
                </p:nvSpPr>
                <p:spPr>
                  <a:xfrm flipH="1" flipV="1">
                    <a:off x="4880520" y="4595040"/>
                    <a:ext cx="1728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4" name=""/>
                  <p:cNvSpPr/>
                  <p:nvPr/>
                </p:nvSpPr>
                <p:spPr>
                  <a:xfrm flipH="1">
                    <a:off x="4863960" y="460692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5" name=""/>
                  <p:cNvSpPr/>
                  <p:nvPr/>
                </p:nvSpPr>
                <p:spPr>
                  <a:xfrm flipH="1" flipV="1">
                    <a:off x="4848120" y="459648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36" name=""/>
                <p:cNvGrpSpPr/>
                <p:nvPr/>
              </p:nvGrpSpPr>
              <p:grpSpPr>
                <a:xfrm>
                  <a:off x="4865040" y="4257720"/>
                  <a:ext cx="128160" cy="156240"/>
                  <a:chOff x="4865040" y="4257720"/>
                  <a:chExt cx="128160" cy="156240"/>
                </a:xfrm>
              </p:grpSpPr>
              <p:sp>
                <p:nvSpPr>
                  <p:cNvPr id="13937" name=""/>
                  <p:cNvSpPr/>
                  <p:nvPr/>
                </p:nvSpPr>
                <p:spPr>
                  <a:xfrm rot="20130000">
                    <a:off x="4889520" y="4267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8" name=""/>
                  <p:cNvSpPr/>
                  <p:nvPr/>
                </p:nvSpPr>
                <p:spPr>
                  <a:xfrm flipH="1" flipV="1">
                    <a:off x="4906800" y="4323600"/>
                    <a:ext cx="79560" cy="49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9" name=""/>
                  <p:cNvSpPr/>
                  <p:nvPr/>
                </p:nvSpPr>
                <p:spPr>
                  <a:xfrm flipH="1" flipV="1">
                    <a:off x="4947840" y="43380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0" name=""/>
                  <p:cNvSpPr/>
                  <p:nvPr/>
                </p:nvSpPr>
                <p:spPr>
                  <a:xfrm flipH="1">
                    <a:off x="4923720" y="4347720"/>
                    <a:ext cx="1656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1" name=""/>
                  <p:cNvSpPr/>
                  <p:nvPr/>
                </p:nvSpPr>
                <p:spPr>
                  <a:xfrm flipH="1" flipV="1">
                    <a:off x="4918680" y="432432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42" name=""/>
                <p:cNvGrpSpPr/>
                <p:nvPr/>
              </p:nvGrpSpPr>
              <p:grpSpPr>
                <a:xfrm>
                  <a:off x="4795560" y="4303440"/>
                  <a:ext cx="150480" cy="152640"/>
                  <a:chOff x="4795560" y="4303440"/>
                  <a:chExt cx="150480" cy="152640"/>
                </a:xfrm>
              </p:grpSpPr>
              <p:sp>
                <p:nvSpPr>
                  <p:cNvPr id="13943" name=""/>
                  <p:cNvSpPr/>
                  <p:nvPr/>
                </p:nvSpPr>
                <p:spPr>
                  <a:xfrm rot="19002000">
                    <a:off x="4831200" y="43117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4" name=""/>
                  <p:cNvSpPr/>
                  <p:nvPr/>
                </p:nvSpPr>
                <p:spPr>
                  <a:xfrm flipH="1" flipV="1">
                    <a:off x="4845240" y="4375440"/>
                    <a:ext cx="91800" cy="21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5" name=""/>
                  <p:cNvSpPr/>
                  <p:nvPr/>
                </p:nvSpPr>
                <p:spPr>
                  <a:xfrm flipH="1" flipV="1">
                    <a:off x="4888800" y="4375800"/>
                    <a:ext cx="1620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6" name=""/>
                  <p:cNvSpPr/>
                  <p:nvPr/>
                </p:nvSpPr>
                <p:spPr>
                  <a:xfrm flipH="1">
                    <a:off x="4869360" y="438768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7" name=""/>
                  <p:cNvSpPr/>
                  <p:nvPr/>
                </p:nvSpPr>
                <p:spPr>
                  <a:xfrm flipH="1" flipV="1">
                    <a:off x="4856760" y="4372560"/>
                    <a:ext cx="1188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48" name=""/>
                <p:cNvGrpSpPr/>
                <p:nvPr/>
              </p:nvGrpSpPr>
              <p:grpSpPr>
                <a:xfrm>
                  <a:off x="4853520" y="4389840"/>
                  <a:ext cx="142200" cy="156600"/>
                  <a:chOff x="4853520" y="4389840"/>
                  <a:chExt cx="142200" cy="156600"/>
                </a:xfrm>
              </p:grpSpPr>
              <p:sp>
                <p:nvSpPr>
                  <p:cNvPr id="13949" name=""/>
                  <p:cNvSpPr/>
                  <p:nvPr/>
                </p:nvSpPr>
                <p:spPr>
                  <a:xfrm rot="19521600">
                    <a:off x="4884840" y="44002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0" name=""/>
                  <p:cNvSpPr/>
                  <p:nvPr/>
                </p:nvSpPr>
                <p:spPr>
                  <a:xfrm flipH="1" flipV="1">
                    <a:off x="4899960" y="4460040"/>
                    <a:ext cx="87480" cy="34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1" name=""/>
                  <p:cNvSpPr/>
                  <p:nvPr/>
                </p:nvSpPr>
                <p:spPr>
                  <a:xfrm flipH="1" flipV="1">
                    <a:off x="4943160" y="4467240"/>
                    <a:ext cx="14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2" name=""/>
                  <p:cNvSpPr/>
                  <p:nvPr/>
                </p:nvSpPr>
                <p:spPr>
                  <a:xfrm flipH="1">
                    <a:off x="4921200" y="447804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3" name=""/>
                  <p:cNvSpPr/>
                  <p:nvPr/>
                </p:nvSpPr>
                <p:spPr>
                  <a:xfrm flipH="1" flipV="1">
                    <a:off x="4911840" y="4458960"/>
                    <a:ext cx="111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54" name=""/>
                <p:cNvGrpSpPr/>
                <p:nvPr/>
              </p:nvGrpSpPr>
              <p:grpSpPr>
                <a:xfrm>
                  <a:off x="4975200" y="4313160"/>
                  <a:ext cx="97560" cy="145440"/>
                  <a:chOff x="4975200" y="4313160"/>
                  <a:chExt cx="97560" cy="145440"/>
                </a:xfrm>
              </p:grpSpPr>
              <p:sp>
                <p:nvSpPr>
                  <p:cNvPr id="13955" name=""/>
                  <p:cNvSpPr/>
                  <p:nvPr/>
                </p:nvSpPr>
                <p:spPr>
                  <a:xfrm rot="21105000">
                    <a:off x="4984200" y="4317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6" name=""/>
                  <p:cNvSpPr/>
                  <p:nvPr/>
                </p:nvSpPr>
                <p:spPr>
                  <a:xfrm flipH="1" flipV="1">
                    <a:off x="5005800" y="4367520"/>
                    <a:ext cx="62640" cy="70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7" name=""/>
                  <p:cNvSpPr/>
                  <p:nvPr/>
                </p:nvSpPr>
                <p:spPr>
                  <a:xfrm flipH="1" flipV="1">
                    <a:off x="5041080" y="4393080"/>
                    <a:ext cx="756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8" name=""/>
                  <p:cNvSpPr/>
                  <p:nvPr/>
                </p:nvSpPr>
                <p:spPr>
                  <a:xfrm flipH="1" flipV="1">
                    <a:off x="5015160" y="439632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9" name=""/>
                  <p:cNvSpPr/>
                  <p:nvPr/>
                </p:nvSpPr>
                <p:spPr>
                  <a:xfrm flipH="1" flipV="1">
                    <a:off x="5016960" y="437184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60" name=""/>
                <p:cNvGrpSpPr/>
                <p:nvPr/>
              </p:nvGrpSpPr>
              <p:grpSpPr>
                <a:xfrm>
                  <a:off x="5003640" y="4533480"/>
                  <a:ext cx="133560" cy="145440"/>
                  <a:chOff x="5003640" y="4533480"/>
                  <a:chExt cx="133560" cy="145440"/>
                </a:xfrm>
              </p:grpSpPr>
              <p:sp>
                <p:nvSpPr>
                  <p:cNvPr id="13961" name=""/>
                  <p:cNvSpPr/>
                  <p:nvPr/>
                </p:nvSpPr>
                <p:spPr>
                  <a:xfrm rot="1555800">
                    <a:off x="5024520" y="45475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2" name=""/>
                  <p:cNvSpPr/>
                  <p:nvPr/>
                </p:nvSpPr>
                <p:spPr>
                  <a:xfrm flipH="1" flipV="1">
                    <a:off x="5062320" y="4582440"/>
                    <a:ext cx="24480" cy="87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3" name=""/>
                  <p:cNvSpPr/>
                  <p:nvPr/>
                </p:nvSpPr>
                <p:spPr>
                  <a:xfrm flipV="1">
                    <a:off x="5082480" y="4621680"/>
                    <a:ext cx="14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4" name=""/>
                  <p:cNvSpPr/>
                  <p:nvPr/>
                </p:nvSpPr>
                <p:spPr>
                  <a:xfrm flipH="1" flipV="1">
                    <a:off x="5056560" y="4608720"/>
                    <a:ext cx="140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5" name=""/>
                  <p:cNvSpPr/>
                  <p:nvPr/>
                </p:nvSpPr>
                <p:spPr>
                  <a:xfrm flipH="1" flipV="1">
                    <a:off x="5071320" y="4592160"/>
                    <a:ext cx="7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66" name=""/>
                <p:cNvGrpSpPr/>
                <p:nvPr/>
              </p:nvGrpSpPr>
              <p:grpSpPr>
                <a:xfrm>
                  <a:off x="5130360" y="4675680"/>
                  <a:ext cx="148320" cy="154080"/>
                  <a:chOff x="5130360" y="4675680"/>
                  <a:chExt cx="148320" cy="154080"/>
                </a:xfrm>
              </p:grpSpPr>
              <p:sp>
                <p:nvSpPr>
                  <p:cNvPr id="13967" name=""/>
                  <p:cNvSpPr/>
                  <p:nvPr/>
                </p:nvSpPr>
                <p:spPr>
                  <a:xfrm rot="8353200">
                    <a:off x="5164920" y="46846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8" name=""/>
                  <p:cNvSpPr/>
                  <p:nvPr/>
                </p:nvSpPr>
                <p:spPr>
                  <a:xfrm>
                    <a:off x="5139360" y="4732560"/>
                    <a:ext cx="90360" cy="25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9" name=""/>
                  <p:cNvSpPr/>
                  <p:nvPr/>
                </p:nvSpPr>
                <p:spPr>
                  <a:xfrm>
                    <a:off x="5170680" y="4745520"/>
                    <a:ext cx="154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0" name=""/>
                  <p:cNvSpPr/>
                  <p:nvPr/>
                </p:nvSpPr>
                <p:spPr>
                  <a:xfrm flipV="1">
                    <a:off x="5190840" y="4738680"/>
                    <a:ext cx="1548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1" name=""/>
                  <p:cNvSpPr/>
                  <p:nvPr/>
                </p:nvSpPr>
                <p:spPr>
                  <a:xfrm>
                    <a:off x="5206680" y="475488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72" name=""/>
                <p:cNvGrpSpPr/>
                <p:nvPr/>
              </p:nvGrpSpPr>
              <p:grpSpPr>
                <a:xfrm>
                  <a:off x="5079240" y="4782600"/>
                  <a:ext cx="146520" cy="155160"/>
                  <a:chOff x="5079240" y="4782600"/>
                  <a:chExt cx="146520" cy="155160"/>
                </a:xfrm>
              </p:grpSpPr>
              <p:sp>
                <p:nvSpPr>
                  <p:cNvPr id="13973" name=""/>
                  <p:cNvSpPr/>
                  <p:nvPr/>
                </p:nvSpPr>
                <p:spPr>
                  <a:xfrm rot="8473200">
                    <a:off x="5113080" y="47923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4" name=""/>
                  <p:cNvSpPr/>
                  <p:nvPr/>
                </p:nvSpPr>
                <p:spPr>
                  <a:xfrm>
                    <a:off x="5087880" y="4838040"/>
                    <a:ext cx="89640" cy="28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5" name=""/>
                  <p:cNvSpPr/>
                  <p:nvPr/>
                </p:nvSpPr>
                <p:spPr>
                  <a:xfrm>
                    <a:off x="5118840" y="48520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6" name=""/>
                  <p:cNvSpPr/>
                  <p:nvPr/>
                </p:nvSpPr>
                <p:spPr>
                  <a:xfrm flipV="1">
                    <a:off x="5139000" y="48466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7" name=""/>
                  <p:cNvSpPr/>
                  <p:nvPr/>
                </p:nvSpPr>
                <p:spPr>
                  <a:xfrm>
                    <a:off x="5154120" y="4862880"/>
                    <a:ext cx="11520" cy="5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78" name=""/>
                <p:cNvGrpSpPr/>
                <p:nvPr/>
              </p:nvGrpSpPr>
              <p:grpSpPr>
                <a:xfrm>
                  <a:off x="4884480" y="4577040"/>
                  <a:ext cx="141480" cy="148320"/>
                  <a:chOff x="4884480" y="4577040"/>
                  <a:chExt cx="141480" cy="148320"/>
                </a:xfrm>
              </p:grpSpPr>
              <p:sp>
                <p:nvSpPr>
                  <p:cNvPr id="13979" name=""/>
                  <p:cNvSpPr/>
                  <p:nvPr/>
                </p:nvSpPr>
                <p:spPr>
                  <a:xfrm rot="2046000">
                    <a:off x="4909320" y="45925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0" name=""/>
                  <p:cNvSpPr/>
                  <p:nvPr/>
                </p:nvSpPr>
                <p:spPr>
                  <a:xfrm flipH="1" flipV="1">
                    <a:off x="4950720" y="4626360"/>
                    <a:ext cx="11880" cy="89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1" name=""/>
                  <p:cNvSpPr/>
                  <p:nvPr/>
                </p:nvSpPr>
                <p:spPr>
                  <a:xfrm flipV="1">
                    <a:off x="4962600" y="4668480"/>
                    <a:ext cx="39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2" name=""/>
                  <p:cNvSpPr/>
                  <p:nvPr/>
                </p:nvSpPr>
                <p:spPr>
                  <a:xfrm flipH="1" flipV="1">
                    <a:off x="4941360" y="465156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3" name=""/>
                  <p:cNvSpPr/>
                  <p:nvPr/>
                </p:nvSpPr>
                <p:spPr>
                  <a:xfrm flipV="1">
                    <a:off x="4957200" y="463752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84" name=""/>
                <p:cNvGrpSpPr/>
                <p:nvPr/>
              </p:nvGrpSpPr>
              <p:grpSpPr>
                <a:xfrm>
                  <a:off x="4851720" y="4416480"/>
                  <a:ext cx="126360" cy="155880"/>
                  <a:chOff x="4851720" y="4416480"/>
                  <a:chExt cx="126360" cy="155880"/>
                </a:xfrm>
              </p:grpSpPr>
              <p:sp>
                <p:nvSpPr>
                  <p:cNvPr id="13985" name=""/>
                  <p:cNvSpPr/>
                  <p:nvPr/>
                </p:nvSpPr>
                <p:spPr>
                  <a:xfrm rot="1410000">
                    <a:off x="4875120" y="44265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6" name=""/>
                  <p:cNvSpPr/>
                  <p:nvPr/>
                </p:nvSpPr>
                <p:spPr>
                  <a:xfrm flipH="1" flipV="1">
                    <a:off x="4909320" y="4469040"/>
                    <a:ext cx="16200" cy="9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7" name=""/>
                  <p:cNvSpPr/>
                  <p:nvPr/>
                </p:nvSpPr>
                <p:spPr>
                  <a:xfrm flipV="1">
                    <a:off x="4923360" y="4509360"/>
                    <a:ext cx="252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8" name=""/>
                  <p:cNvSpPr/>
                  <p:nvPr/>
                </p:nvSpPr>
                <p:spPr>
                  <a:xfrm flipH="1" flipV="1">
                    <a:off x="4902120" y="4498560"/>
                    <a:ext cx="1152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9" name=""/>
                  <p:cNvSpPr/>
                  <p:nvPr/>
                </p:nvSpPr>
                <p:spPr>
                  <a:xfrm flipV="1">
                    <a:off x="4916520" y="4478400"/>
                    <a:ext cx="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0" name=""/>
                <p:cNvGrpSpPr/>
                <p:nvPr/>
              </p:nvGrpSpPr>
              <p:grpSpPr>
                <a:xfrm>
                  <a:off x="4867920" y="4258440"/>
                  <a:ext cx="122040" cy="154800"/>
                  <a:chOff x="4867920" y="4258440"/>
                  <a:chExt cx="122040" cy="154800"/>
                </a:xfrm>
              </p:grpSpPr>
              <p:sp>
                <p:nvSpPr>
                  <p:cNvPr id="13991" name=""/>
                  <p:cNvSpPr/>
                  <p:nvPr/>
                </p:nvSpPr>
                <p:spPr>
                  <a:xfrm rot="1250400">
                    <a:off x="4889160" y="4267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2" name=""/>
                  <p:cNvSpPr/>
                  <p:nvPr/>
                </p:nvSpPr>
                <p:spPr>
                  <a:xfrm flipH="1" flipV="1">
                    <a:off x="4921920" y="4311360"/>
                    <a:ext cx="20880" cy="9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3" name=""/>
                  <p:cNvSpPr/>
                  <p:nvPr/>
                </p:nvSpPr>
                <p:spPr>
                  <a:xfrm flipV="1">
                    <a:off x="4938840" y="4350600"/>
                    <a:ext cx="180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4" name=""/>
                  <p:cNvSpPr/>
                  <p:nvPr/>
                </p:nvSpPr>
                <p:spPr>
                  <a:xfrm flipH="1" flipV="1">
                    <a:off x="4916160" y="4340880"/>
                    <a:ext cx="12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5" name=""/>
                  <p:cNvSpPr/>
                  <p:nvPr/>
                </p:nvSpPr>
                <p:spPr>
                  <a:xfrm flipH="1" flipV="1">
                    <a:off x="4929840" y="4320360"/>
                    <a:ext cx="36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6" name=""/>
                <p:cNvGrpSpPr/>
                <p:nvPr/>
              </p:nvGrpSpPr>
              <p:grpSpPr>
                <a:xfrm>
                  <a:off x="4915080" y="4216680"/>
                  <a:ext cx="139320" cy="147960"/>
                  <a:chOff x="4915080" y="4216680"/>
                  <a:chExt cx="139320" cy="147960"/>
                </a:xfrm>
              </p:grpSpPr>
              <p:sp>
                <p:nvSpPr>
                  <p:cNvPr id="13997" name=""/>
                  <p:cNvSpPr/>
                  <p:nvPr/>
                </p:nvSpPr>
                <p:spPr>
                  <a:xfrm rot="1882200">
                    <a:off x="4938840" y="42318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8" name=""/>
                  <p:cNvSpPr/>
                  <p:nvPr/>
                </p:nvSpPr>
                <p:spPr>
                  <a:xfrm flipH="1" flipV="1">
                    <a:off x="4978800" y="4265640"/>
                    <a:ext cx="15840" cy="89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9" name=""/>
                  <p:cNvSpPr/>
                  <p:nvPr/>
                </p:nvSpPr>
                <p:spPr>
                  <a:xfrm flipV="1">
                    <a:off x="4993200" y="4307040"/>
                    <a:ext cx="324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0" name=""/>
                  <p:cNvSpPr/>
                  <p:nvPr/>
                </p:nvSpPr>
                <p:spPr>
                  <a:xfrm flipH="1" flipV="1">
                    <a:off x="4970520" y="42915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1" name=""/>
                  <p:cNvSpPr/>
                  <p:nvPr/>
                </p:nvSpPr>
                <p:spPr>
                  <a:xfrm flipV="1">
                    <a:off x="4986360" y="427680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02" name=""/>
              <p:cNvGrpSpPr/>
              <p:nvPr/>
            </p:nvGrpSpPr>
            <p:grpSpPr>
              <a:xfrm>
                <a:off x="5033880" y="3730680"/>
                <a:ext cx="486720" cy="731880"/>
                <a:chOff x="5033880" y="3730680"/>
                <a:chExt cx="486720" cy="731880"/>
              </a:xfrm>
            </p:grpSpPr>
            <p:grpSp>
              <p:nvGrpSpPr>
                <p:cNvPr id="14003" name=""/>
                <p:cNvGrpSpPr/>
                <p:nvPr/>
              </p:nvGrpSpPr>
              <p:grpSpPr>
                <a:xfrm>
                  <a:off x="5325480" y="4033080"/>
                  <a:ext cx="124200" cy="155520"/>
                  <a:chOff x="5325480" y="4033080"/>
                  <a:chExt cx="124200" cy="155520"/>
                </a:xfrm>
              </p:grpSpPr>
              <p:sp>
                <p:nvSpPr>
                  <p:cNvPr id="14004" name=""/>
                  <p:cNvSpPr/>
                  <p:nvPr/>
                </p:nvSpPr>
                <p:spPr>
                  <a:xfrm rot="9465600">
                    <a:off x="5347800" y="4042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5" name=""/>
                  <p:cNvSpPr/>
                  <p:nvPr/>
                </p:nvSpPr>
                <p:spPr>
                  <a:xfrm>
                    <a:off x="5331960" y="4071240"/>
                    <a:ext cx="77760" cy="52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6" name=""/>
                  <p:cNvSpPr/>
                  <p:nvPr/>
                </p:nvSpPr>
                <p:spPr>
                  <a:xfrm>
                    <a:off x="5357520" y="4093200"/>
                    <a:ext cx="115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7" name=""/>
                  <p:cNvSpPr/>
                  <p:nvPr/>
                </p:nvSpPr>
                <p:spPr>
                  <a:xfrm flipV="1">
                    <a:off x="5376960" y="409824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8" name=""/>
                  <p:cNvSpPr/>
                  <p:nvPr/>
                </p:nvSpPr>
                <p:spPr>
                  <a:xfrm>
                    <a:off x="5388480" y="4113720"/>
                    <a:ext cx="936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09" name=""/>
                <p:cNvSpPr/>
                <p:nvPr/>
              </p:nvSpPr>
              <p:spPr>
                <a:xfrm flipH="1" flipV="1">
                  <a:off x="5188320" y="4008240"/>
                  <a:ext cx="20160" cy="205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0" name=""/>
                <p:cNvSpPr/>
                <p:nvPr/>
              </p:nvSpPr>
              <p:spPr>
                <a:xfrm rot="5650200">
                  <a:off x="4933800" y="4006080"/>
                  <a:ext cx="509040" cy="22860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1" name=""/>
                <p:cNvSpPr/>
                <p:nvPr/>
              </p:nvSpPr>
              <p:spPr>
                <a:xfrm flipV="1">
                  <a:off x="5272200" y="4003200"/>
                  <a:ext cx="128160" cy="7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2" name=""/>
                <p:cNvSpPr/>
                <p:nvPr/>
              </p:nvSpPr>
              <p:spPr>
                <a:xfrm flipV="1">
                  <a:off x="5076000" y="4240800"/>
                  <a:ext cx="218880" cy="106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3" name=""/>
                <p:cNvSpPr/>
                <p:nvPr/>
              </p:nvSpPr>
              <p:spPr>
                <a:xfrm flipH="1" flipV="1">
                  <a:off x="5166360" y="4068000"/>
                  <a:ext cx="31680" cy="42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4" name=""/>
                <p:cNvSpPr/>
                <p:nvPr/>
              </p:nvSpPr>
              <p:spPr>
                <a:xfrm flipV="1">
                  <a:off x="5211720" y="4113000"/>
                  <a:ext cx="21960" cy="594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5" name=""/>
                <p:cNvSpPr/>
                <p:nvPr/>
              </p:nvSpPr>
              <p:spPr>
                <a:xfrm flipV="1">
                  <a:off x="5326920" y="3960360"/>
                  <a:ext cx="58680" cy="77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6" name=""/>
                <p:cNvSpPr/>
                <p:nvPr/>
              </p:nvSpPr>
              <p:spPr>
                <a:xfrm>
                  <a:off x="5308200" y="4057560"/>
                  <a:ext cx="51120" cy="24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7" name=""/>
                <p:cNvSpPr/>
                <p:nvPr/>
              </p:nvSpPr>
              <p:spPr>
                <a:xfrm flipH="1" flipV="1">
                  <a:off x="5267520" y="3890880"/>
                  <a:ext cx="30240" cy="6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8" name=""/>
                <p:cNvSpPr/>
                <p:nvPr/>
              </p:nvSpPr>
              <p:spPr>
                <a:xfrm flipV="1">
                  <a:off x="5185080" y="4158000"/>
                  <a:ext cx="97920" cy="135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9" name=""/>
                <p:cNvSpPr/>
                <p:nvPr/>
              </p:nvSpPr>
              <p:spPr>
                <a:xfrm flipV="1">
                  <a:off x="5244120" y="4198680"/>
                  <a:ext cx="3600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0" name=""/>
                <p:cNvSpPr/>
                <p:nvPr/>
              </p:nvSpPr>
              <p:spPr>
                <a:xfrm>
                  <a:off x="5148720" y="4311360"/>
                  <a:ext cx="684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1" name=""/>
                <p:cNvSpPr/>
                <p:nvPr/>
              </p:nvSpPr>
              <p:spPr>
                <a:xfrm>
                  <a:off x="5258160" y="4258440"/>
                  <a:ext cx="52560" cy="3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2" name=""/>
                <p:cNvSpPr/>
                <p:nvPr/>
              </p:nvSpPr>
              <p:spPr>
                <a:xfrm flipH="1" flipV="1">
                  <a:off x="5139720" y="4187880"/>
                  <a:ext cx="11520" cy="82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3" name=""/>
                <p:cNvSpPr/>
                <p:nvPr/>
              </p:nvSpPr>
              <p:spPr>
                <a:xfrm flipH="1" flipV="1">
                  <a:off x="5261400" y="3972600"/>
                  <a:ext cx="1296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4" name=""/>
                <p:cNvSpPr/>
                <p:nvPr/>
              </p:nvSpPr>
              <p:spPr>
                <a:xfrm flipV="1">
                  <a:off x="5318640" y="3897360"/>
                  <a:ext cx="36000" cy="1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025" name=""/>
                <p:cNvGrpSpPr/>
                <p:nvPr/>
              </p:nvGrpSpPr>
              <p:grpSpPr>
                <a:xfrm>
                  <a:off x="5372280" y="3940560"/>
                  <a:ext cx="148320" cy="140760"/>
                  <a:chOff x="5372280" y="3940560"/>
                  <a:chExt cx="148320" cy="140760"/>
                </a:xfrm>
              </p:grpSpPr>
              <p:sp>
                <p:nvSpPr>
                  <p:cNvPr id="14026" name=""/>
                  <p:cNvSpPr/>
                  <p:nvPr/>
                </p:nvSpPr>
                <p:spPr>
                  <a:xfrm rot="7395600">
                    <a:off x="5400720" y="39520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7" name=""/>
                  <p:cNvSpPr/>
                  <p:nvPr/>
                </p:nvSpPr>
                <p:spPr>
                  <a:xfrm flipV="1">
                    <a:off x="5381640" y="4006080"/>
                    <a:ext cx="8964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8" name=""/>
                  <p:cNvSpPr/>
                  <p:nvPr/>
                </p:nvSpPr>
                <p:spPr>
                  <a:xfrm>
                    <a:off x="5413320" y="4018680"/>
                    <a:ext cx="1620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9" name=""/>
                  <p:cNvSpPr/>
                  <p:nvPr/>
                </p:nvSpPr>
                <p:spPr>
                  <a:xfrm flipV="1">
                    <a:off x="5431680" y="399708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0" name=""/>
                  <p:cNvSpPr/>
                  <p:nvPr/>
                </p:nvSpPr>
                <p:spPr>
                  <a:xfrm>
                    <a:off x="5448240" y="401292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31" name=""/>
                <p:cNvGrpSpPr/>
                <p:nvPr/>
              </p:nvGrpSpPr>
              <p:grpSpPr>
                <a:xfrm>
                  <a:off x="5196240" y="3997080"/>
                  <a:ext cx="141120" cy="125280"/>
                  <a:chOff x="5196240" y="3997080"/>
                  <a:chExt cx="141120" cy="125280"/>
                </a:xfrm>
              </p:grpSpPr>
              <p:sp>
                <p:nvSpPr>
                  <p:cNvPr id="14032" name=""/>
                  <p:cNvSpPr/>
                  <p:nvPr/>
                </p:nvSpPr>
                <p:spPr>
                  <a:xfrm rot="4237200">
                    <a:off x="5221080" y="400068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3" name=""/>
                  <p:cNvSpPr/>
                  <p:nvPr/>
                </p:nvSpPr>
                <p:spPr>
                  <a:xfrm flipV="1">
                    <a:off x="5233680" y="4036680"/>
                    <a:ext cx="4392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4" name=""/>
                  <p:cNvSpPr/>
                  <p:nvPr/>
                </p:nvSpPr>
                <p:spPr>
                  <a:xfrm flipV="1">
                    <a:off x="5252760" y="4080240"/>
                    <a:ext cx="126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5" name=""/>
                  <p:cNvSpPr/>
                  <p:nvPr/>
                </p:nvSpPr>
                <p:spPr>
                  <a:xfrm flipH="1" flipV="1">
                    <a:off x="5254920" y="4051800"/>
                    <a:ext cx="144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6" name=""/>
                  <p:cNvSpPr/>
                  <p:nvPr/>
                </p:nvSpPr>
                <p:spPr>
                  <a:xfrm flipV="1">
                    <a:off x="5269320" y="4050360"/>
                    <a:ext cx="792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37" name=""/>
                <p:cNvGrpSpPr/>
                <p:nvPr/>
              </p:nvGrpSpPr>
              <p:grpSpPr>
                <a:xfrm>
                  <a:off x="5270400" y="4075920"/>
                  <a:ext cx="123840" cy="99720"/>
                  <a:chOff x="5270400" y="4075920"/>
                  <a:chExt cx="123840" cy="99720"/>
                </a:xfrm>
              </p:grpSpPr>
              <p:sp>
                <p:nvSpPr>
                  <p:cNvPr id="14038" name=""/>
                  <p:cNvSpPr/>
                  <p:nvPr/>
                </p:nvSpPr>
                <p:spPr>
                  <a:xfrm rot="5650200">
                    <a:off x="5286600" y="406692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9" name=""/>
                  <p:cNvSpPr/>
                  <p:nvPr/>
                </p:nvSpPr>
                <p:spPr>
                  <a:xfrm flipV="1">
                    <a:off x="5279760" y="410940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0" name=""/>
                  <p:cNvSpPr/>
                  <p:nvPr/>
                </p:nvSpPr>
                <p:spPr>
                  <a:xfrm flipV="1">
                    <a:off x="5307120" y="414396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1" name=""/>
                  <p:cNvSpPr/>
                  <p:nvPr/>
                </p:nvSpPr>
                <p:spPr>
                  <a:xfrm flipV="1">
                    <a:off x="5318640" y="411372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2" name=""/>
                  <p:cNvSpPr/>
                  <p:nvPr/>
                </p:nvSpPr>
                <p:spPr>
                  <a:xfrm flipV="1">
                    <a:off x="5334840" y="412164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43" name=""/>
                <p:cNvGrpSpPr/>
                <p:nvPr/>
              </p:nvGrpSpPr>
              <p:grpSpPr>
                <a:xfrm>
                  <a:off x="5110200" y="3881160"/>
                  <a:ext cx="85680" cy="139320"/>
                  <a:chOff x="5110200" y="3881160"/>
                  <a:chExt cx="85680" cy="139320"/>
                </a:xfrm>
              </p:grpSpPr>
              <p:sp>
                <p:nvSpPr>
                  <p:cNvPr id="14044" name=""/>
                  <p:cNvSpPr/>
                  <p:nvPr/>
                </p:nvSpPr>
                <p:spPr>
                  <a:xfrm rot="21420000">
                    <a:off x="5113440" y="38826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5" name=""/>
                  <p:cNvSpPr/>
                  <p:nvPr/>
                </p:nvSpPr>
                <p:spPr>
                  <a:xfrm flipH="1" flipV="1">
                    <a:off x="5136840" y="3931200"/>
                    <a:ext cx="55800" cy="75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6" name=""/>
                  <p:cNvSpPr/>
                  <p:nvPr/>
                </p:nvSpPr>
                <p:spPr>
                  <a:xfrm flipH="1" flipV="1">
                    <a:off x="5169600" y="39596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7" name=""/>
                  <p:cNvSpPr/>
                  <p:nvPr/>
                </p:nvSpPr>
                <p:spPr>
                  <a:xfrm flipH="1" flipV="1">
                    <a:off x="5143320" y="396072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8" name=""/>
                  <p:cNvSpPr/>
                  <p:nvPr/>
                </p:nvSpPr>
                <p:spPr>
                  <a:xfrm flipH="1" flipV="1">
                    <a:off x="5147640" y="3936240"/>
                    <a:ext cx="54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49" name=""/>
                <p:cNvGrpSpPr/>
                <p:nvPr/>
              </p:nvGrpSpPr>
              <p:grpSpPr>
                <a:xfrm>
                  <a:off x="5342040" y="3815640"/>
                  <a:ext cx="123840" cy="99720"/>
                  <a:chOff x="5342040" y="3815640"/>
                  <a:chExt cx="123840" cy="99720"/>
                </a:xfrm>
              </p:grpSpPr>
              <p:sp>
                <p:nvSpPr>
                  <p:cNvPr id="14050" name=""/>
                  <p:cNvSpPr/>
                  <p:nvPr/>
                </p:nvSpPr>
                <p:spPr>
                  <a:xfrm rot="5650200">
                    <a:off x="5358240" y="380664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1" name=""/>
                  <p:cNvSpPr/>
                  <p:nvPr/>
                </p:nvSpPr>
                <p:spPr>
                  <a:xfrm flipV="1">
                    <a:off x="5351400" y="3848760"/>
                    <a:ext cx="7164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2" name=""/>
                  <p:cNvSpPr/>
                  <p:nvPr/>
                </p:nvSpPr>
                <p:spPr>
                  <a:xfrm flipV="1">
                    <a:off x="5378760" y="388368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3" name=""/>
                  <p:cNvSpPr/>
                  <p:nvPr/>
                </p:nvSpPr>
                <p:spPr>
                  <a:xfrm flipV="1">
                    <a:off x="5390280" y="3853440"/>
                    <a:ext cx="612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4" name=""/>
                  <p:cNvSpPr/>
                  <p:nvPr/>
                </p:nvSpPr>
                <p:spPr>
                  <a:xfrm flipV="1">
                    <a:off x="5406480" y="386100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5" name=""/>
                <p:cNvGrpSpPr/>
                <p:nvPr/>
              </p:nvGrpSpPr>
              <p:grpSpPr>
                <a:xfrm>
                  <a:off x="5281920" y="4158360"/>
                  <a:ext cx="123840" cy="99720"/>
                  <a:chOff x="5281920" y="4158360"/>
                  <a:chExt cx="123840" cy="99720"/>
                </a:xfrm>
              </p:grpSpPr>
              <p:sp>
                <p:nvSpPr>
                  <p:cNvPr id="14056" name=""/>
                  <p:cNvSpPr/>
                  <p:nvPr/>
                </p:nvSpPr>
                <p:spPr>
                  <a:xfrm rot="5650200">
                    <a:off x="5298120" y="41493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7" name=""/>
                  <p:cNvSpPr/>
                  <p:nvPr/>
                </p:nvSpPr>
                <p:spPr>
                  <a:xfrm flipV="1">
                    <a:off x="5291280" y="419184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8" name=""/>
                  <p:cNvSpPr/>
                  <p:nvPr/>
                </p:nvSpPr>
                <p:spPr>
                  <a:xfrm flipV="1">
                    <a:off x="5318640" y="422640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9" name=""/>
                  <p:cNvSpPr/>
                  <p:nvPr/>
                </p:nvSpPr>
                <p:spPr>
                  <a:xfrm flipV="1">
                    <a:off x="5330160" y="4196160"/>
                    <a:ext cx="6480" cy="17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0" name=""/>
                  <p:cNvSpPr/>
                  <p:nvPr/>
                </p:nvSpPr>
                <p:spPr>
                  <a:xfrm flipV="1">
                    <a:off x="5346360" y="4204080"/>
                    <a:ext cx="1080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1" name=""/>
                <p:cNvGrpSpPr/>
                <p:nvPr/>
              </p:nvGrpSpPr>
              <p:grpSpPr>
                <a:xfrm>
                  <a:off x="5372640" y="3879000"/>
                  <a:ext cx="123840" cy="99720"/>
                  <a:chOff x="5372640" y="3879000"/>
                  <a:chExt cx="123840" cy="99720"/>
                </a:xfrm>
              </p:grpSpPr>
              <p:sp>
                <p:nvSpPr>
                  <p:cNvPr id="14062" name=""/>
                  <p:cNvSpPr/>
                  <p:nvPr/>
                </p:nvSpPr>
                <p:spPr>
                  <a:xfrm rot="5650200">
                    <a:off x="5388840" y="38700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3" name=""/>
                  <p:cNvSpPr/>
                  <p:nvPr/>
                </p:nvSpPr>
                <p:spPr>
                  <a:xfrm flipV="1">
                    <a:off x="5382000" y="3912480"/>
                    <a:ext cx="72000" cy="55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4" name=""/>
                  <p:cNvSpPr/>
                  <p:nvPr/>
                </p:nvSpPr>
                <p:spPr>
                  <a:xfrm flipV="1">
                    <a:off x="5409720" y="3947040"/>
                    <a:ext cx="15840" cy="4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5" name=""/>
                  <p:cNvSpPr/>
                  <p:nvPr/>
                </p:nvSpPr>
                <p:spPr>
                  <a:xfrm flipV="1">
                    <a:off x="5420880" y="391716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6" name=""/>
                  <p:cNvSpPr/>
                  <p:nvPr/>
                </p:nvSpPr>
                <p:spPr>
                  <a:xfrm flipV="1">
                    <a:off x="5437080" y="39247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67" name=""/>
                <p:cNvGrpSpPr/>
                <p:nvPr/>
              </p:nvGrpSpPr>
              <p:grpSpPr>
                <a:xfrm>
                  <a:off x="5033880" y="4055040"/>
                  <a:ext cx="106560" cy="149760"/>
                  <a:chOff x="5033880" y="4055040"/>
                  <a:chExt cx="106560" cy="149760"/>
                </a:xfrm>
              </p:grpSpPr>
              <p:sp>
                <p:nvSpPr>
                  <p:cNvPr id="14068" name=""/>
                  <p:cNvSpPr/>
                  <p:nvPr/>
                </p:nvSpPr>
                <p:spPr>
                  <a:xfrm rot="20848800">
                    <a:off x="5047560" y="4061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9" name=""/>
                  <p:cNvSpPr/>
                  <p:nvPr/>
                </p:nvSpPr>
                <p:spPr>
                  <a:xfrm flipH="1" flipV="1">
                    <a:off x="5067720" y="4113360"/>
                    <a:ext cx="67680" cy="65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0" name=""/>
                  <p:cNvSpPr/>
                  <p:nvPr/>
                </p:nvSpPr>
                <p:spPr>
                  <a:xfrm flipH="1" flipV="1">
                    <a:off x="5104800" y="4136040"/>
                    <a:ext cx="864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1" name=""/>
                  <p:cNvSpPr/>
                  <p:nvPr/>
                </p:nvSpPr>
                <p:spPr>
                  <a:xfrm flipH="1" flipV="1">
                    <a:off x="5078880" y="414144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2" name=""/>
                  <p:cNvSpPr/>
                  <p:nvPr/>
                </p:nvSpPr>
                <p:spPr>
                  <a:xfrm flipH="1" flipV="1">
                    <a:off x="5079240" y="4116600"/>
                    <a:ext cx="720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73" name=""/>
                <p:cNvGrpSpPr/>
                <p:nvPr/>
              </p:nvGrpSpPr>
              <p:grpSpPr>
                <a:xfrm>
                  <a:off x="5046480" y="3951360"/>
                  <a:ext cx="131040" cy="156600"/>
                  <a:chOff x="5046480" y="3951360"/>
                  <a:chExt cx="131040" cy="156600"/>
                </a:xfrm>
              </p:grpSpPr>
              <p:sp>
                <p:nvSpPr>
                  <p:cNvPr id="14074" name=""/>
                  <p:cNvSpPr/>
                  <p:nvPr/>
                </p:nvSpPr>
                <p:spPr>
                  <a:xfrm rot="20009400">
                    <a:off x="5072400" y="39618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5" name=""/>
                  <p:cNvSpPr/>
                  <p:nvPr/>
                </p:nvSpPr>
                <p:spPr>
                  <a:xfrm flipH="1" flipV="1">
                    <a:off x="5089320" y="4017960"/>
                    <a:ext cx="81360" cy="47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6" name=""/>
                  <p:cNvSpPr/>
                  <p:nvPr/>
                </p:nvSpPr>
                <p:spPr>
                  <a:xfrm flipH="1" flipV="1">
                    <a:off x="5130720" y="403128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7" name=""/>
                  <p:cNvSpPr/>
                  <p:nvPr/>
                </p:nvSpPr>
                <p:spPr>
                  <a:xfrm flipH="1">
                    <a:off x="5106960" y="404100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8" name=""/>
                  <p:cNvSpPr/>
                  <p:nvPr/>
                </p:nvSpPr>
                <p:spPr>
                  <a:xfrm flipH="1" flipV="1">
                    <a:off x="5101200" y="4018680"/>
                    <a:ext cx="972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79" name=""/>
                <p:cNvGrpSpPr/>
                <p:nvPr/>
              </p:nvGrpSpPr>
              <p:grpSpPr>
                <a:xfrm>
                  <a:off x="5245560" y="3749400"/>
                  <a:ext cx="81360" cy="137160"/>
                  <a:chOff x="5245560" y="3749400"/>
                  <a:chExt cx="81360" cy="137160"/>
                </a:xfrm>
              </p:grpSpPr>
              <p:sp>
                <p:nvSpPr>
                  <p:cNvPr id="14080" name=""/>
                  <p:cNvSpPr/>
                  <p:nvPr/>
                </p:nvSpPr>
                <p:spPr>
                  <a:xfrm rot="60600">
                    <a:off x="5246640" y="3749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1" name=""/>
                  <p:cNvSpPr/>
                  <p:nvPr/>
                </p:nvSpPr>
                <p:spPr>
                  <a:xfrm flipH="1" flipV="1">
                    <a:off x="5271480" y="3797280"/>
                    <a:ext cx="50400" cy="79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2" name=""/>
                  <p:cNvSpPr/>
                  <p:nvPr/>
                </p:nvSpPr>
                <p:spPr>
                  <a:xfrm flipH="1" flipV="1">
                    <a:off x="5302080" y="38278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3" name=""/>
                  <p:cNvSpPr/>
                  <p:nvPr/>
                </p:nvSpPr>
                <p:spPr>
                  <a:xfrm flipH="1" flipV="1">
                    <a:off x="5275800" y="3827160"/>
                    <a:ext cx="1548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4" name=""/>
                  <p:cNvSpPr/>
                  <p:nvPr/>
                </p:nvSpPr>
                <p:spPr>
                  <a:xfrm flipH="1" flipV="1">
                    <a:off x="5281560" y="380304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5" name=""/>
                <p:cNvGrpSpPr/>
                <p:nvPr/>
              </p:nvGrpSpPr>
              <p:grpSpPr>
                <a:xfrm>
                  <a:off x="5156280" y="3756240"/>
                  <a:ext cx="116640" cy="153360"/>
                  <a:chOff x="5156280" y="3756240"/>
                  <a:chExt cx="116640" cy="153360"/>
                </a:xfrm>
              </p:grpSpPr>
              <p:sp>
                <p:nvSpPr>
                  <p:cNvPr id="14086" name=""/>
                  <p:cNvSpPr/>
                  <p:nvPr/>
                </p:nvSpPr>
                <p:spPr>
                  <a:xfrm rot="20532600">
                    <a:off x="5175000" y="376488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7" name=""/>
                  <p:cNvSpPr/>
                  <p:nvPr/>
                </p:nvSpPr>
                <p:spPr>
                  <a:xfrm flipH="1" flipV="1">
                    <a:off x="5193720" y="3818160"/>
                    <a:ext cx="73080" cy="58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8" name=""/>
                  <p:cNvSpPr/>
                  <p:nvPr/>
                </p:nvSpPr>
                <p:spPr>
                  <a:xfrm flipH="1" flipV="1">
                    <a:off x="5232600" y="383724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9" name=""/>
                  <p:cNvSpPr/>
                  <p:nvPr/>
                </p:nvSpPr>
                <p:spPr>
                  <a:xfrm flipH="1" flipV="1">
                    <a:off x="5207400" y="3844800"/>
                    <a:ext cx="169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0" name=""/>
                  <p:cNvSpPr/>
                  <p:nvPr/>
                </p:nvSpPr>
                <p:spPr>
                  <a:xfrm flipH="1" flipV="1">
                    <a:off x="5205240" y="3820320"/>
                    <a:ext cx="86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91" name=""/>
                <p:cNvGrpSpPr/>
                <p:nvPr/>
              </p:nvGrpSpPr>
              <p:grpSpPr>
                <a:xfrm>
                  <a:off x="5175360" y="3862440"/>
                  <a:ext cx="99360" cy="146520"/>
                  <a:chOff x="5175360" y="3862440"/>
                  <a:chExt cx="99360" cy="146520"/>
                </a:xfrm>
              </p:grpSpPr>
              <p:sp>
                <p:nvSpPr>
                  <p:cNvPr id="14092" name=""/>
                  <p:cNvSpPr/>
                  <p:nvPr/>
                </p:nvSpPr>
                <p:spPr>
                  <a:xfrm rot="21052200">
                    <a:off x="5185440" y="38678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3" name=""/>
                  <p:cNvSpPr/>
                  <p:nvPr/>
                </p:nvSpPr>
                <p:spPr>
                  <a:xfrm flipH="1" flipV="1">
                    <a:off x="5206680" y="3917880"/>
                    <a:ext cx="63720" cy="69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4" name=""/>
                  <p:cNvSpPr/>
                  <p:nvPr/>
                </p:nvSpPr>
                <p:spPr>
                  <a:xfrm flipH="1" flipV="1">
                    <a:off x="5242320" y="39427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5" name=""/>
                  <p:cNvSpPr/>
                  <p:nvPr/>
                </p:nvSpPr>
                <p:spPr>
                  <a:xfrm flipH="1" flipV="1">
                    <a:off x="5216400" y="394668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6" name=""/>
                  <p:cNvSpPr/>
                  <p:nvPr/>
                </p:nvSpPr>
                <p:spPr>
                  <a:xfrm flipH="1" flipV="1">
                    <a:off x="5217840" y="3921840"/>
                    <a:ext cx="68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97" name=""/>
                <p:cNvGrpSpPr/>
                <p:nvPr/>
              </p:nvGrpSpPr>
              <p:grpSpPr>
                <a:xfrm>
                  <a:off x="5292360" y="3827520"/>
                  <a:ext cx="115560" cy="153000"/>
                  <a:chOff x="5292360" y="3827520"/>
                  <a:chExt cx="115560" cy="153000"/>
                </a:xfrm>
              </p:grpSpPr>
              <p:sp>
                <p:nvSpPr>
                  <p:cNvPr id="14098" name=""/>
                  <p:cNvSpPr/>
                  <p:nvPr/>
                </p:nvSpPr>
                <p:spPr>
                  <a:xfrm rot="1035600">
                    <a:off x="5310720" y="38361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9" name=""/>
                  <p:cNvSpPr/>
                  <p:nvPr/>
                </p:nvSpPr>
                <p:spPr>
                  <a:xfrm flipH="1" flipV="1">
                    <a:off x="5342040" y="3879720"/>
                    <a:ext cx="2592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0" name=""/>
                  <p:cNvSpPr/>
                  <p:nvPr/>
                </p:nvSpPr>
                <p:spPr>
                  <a:xfrm flipV="1">
                    <a:off x="5362200" y="3917880"/>
                    <a:ext cx="72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1" name=""/>
                  <p:cNvSpPr/>
                  <p:nvPr/>
                </p:nvSpPr>
                <p:spPr>
                  <a:xfrm flipH="1" flipV="1">
                    <a:off x="5337720" y="390960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2" name=""/>
                  <p:cNvSpPr/>
                  <p:nvPr/>
                </p:nvSpPr>
                <p:spPr>
                  <a:xfrm flipH="1" flipV="1">
                    <a:off x="5350320" y="388836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03" name=""/>
                <p:cNvGrpSpPr/>
                <p:nvPr/>
              </p:nvGrpSpPr>
              <p:grpSpPr>
                <a:xfrm>
                  <a:off x="5223240" y="4051080"/>
                  <a:ext cx="148680" cy="144720"/>
                  <a:chOff x="5223240" y="4051080"/>
                  <a:chExt cx="148680" cy="144720"/>
                </a:xfrm>
              </p:grpSpPr>
              <p:sp>
                <p:nvSpPr>
                  <p:cNvPr id="14104" name=""/>
                  <p:cNvSpPr/>
                  <p:nvPr/>
                </p:nvSpPr>
                <p:spPr>
                  <a:xfrm rot="3086400">
                    <a:off x="5251680" y="40644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5" name=""/>
                  <p:cNvSpPr/>
                  <p:nvPr/>
                </p:nvSpPr>
                <p:spPr>
                  <a:xfrm flipV="1">
                    <a:off x="5284800" y="4098240"/>
                    <a:ext cx="15480" cy="88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6" name=""/>
                  <p:cNvSpPr/>
                  <p:nvPr/>
                </p:nvSpPr>
                <p:spPr>
                  <a:xfrm flipV="1">
                    <a:off x="5294520" y="4142880"/>
                    <a:ext cx="82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7" name=""/>
                  <p:cNvSpPr/>
                  <p:nvPr/>
                </p:nvSpPr>
                <p:spPr>
                  <a:xfrm flipH="1" flipV="1">
                    <a:off x="5283720" y="4119480"/>
                    <a:ext cx="720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8" name=""/>
                  <p:cNvSpPr/>
                  <p:nvPr/>
                </p:nvSpPr>
                <p:spPr>
                  <a:xfrm flipV="1">
                    <a:off x="5299560" y="4111200"/>
                    <a:ext cx="468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09" name=""/>
                <p:cNvGrpSpPr/>
                <p:nvPr/>
              </p:nvGrpSpPr>
              <p:grpSpPr>
                <a:xfrm>
                  <a:off x="5299200" y="4237200"/>
                  <a:ext cx="111960" cy="151920"/>
                  <a:chOff x="5299200" y="4237200"/>
                  <a:chExt cx="111960" cy="151920"/>
                </a:xfrm>
              </p:grpSpPr>
              <p:sp>
                <p:nvSpPr>
                  <p:cNvPr id="14110" name=""/>
                  <p:cNvSpPr/>
                  <p:nvPr/>
                </p:nvSpPr>
                <p:spPr>
                  <a:xfrm rot="9883800">
                    <a:off x="5315760" y="42451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1" name=""/>
                  <p:cNvSpPr/>
                  <p:nvPr/>
                </p:nvSpPr>
                <p:spPr>
                  <a:xfrm>
                    <a:off x="5304960" y="4267080"/>
                    <a:ext cx="70920" cy="61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2" name=""/>
                  <p:cNvSpPr/>
                  <p:nvPr/>
                </p:nvSpPr>
                <p:spPr>
                  <a:xfrm>
                    <a:off x="5328000" y="429192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3" name=""/>
                  <p:cNvSpPr/>
                  <p:nvPr/>
                </p:nvSpPr>
                <p:spPr>
                  <a:xfrm>
                    <a:off x="5346360" y="429984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4" name=""/>
                  <p:cNvSpPr/>
                  <p:nvPr/>
                </p:nvSpPr>
                <p:spPr>
                  <a:xfrm>
                    <a:off x="5356080" y="4316040"/>
                    <a:ext cx="79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5" name=""/>
                <p:cNvGrpSpPr/>
                <p:nvPr/>
              </p:nvGrpSpPr>
              <p:grpSpPr>
                <a:xfrm>
                  <a:off x="5207760" y="4312440"/>
                  <a:ext cx="108000" cy="150120"/>
                  <a:chOff x="5207760" y="4312440"/>
                  <a:chExt cx="108000" cy="150120"/>
                </a:xfrm>
              </p:grpSpPr>
              <p:sp>
                <p:nvSpPr>
                  <p:cNvPr id="14116" name=""/>
                  <p:cNvSpPr/>
                  <p:nvPr/>
                </p:nvSpPr>
                <p:spPr>
                  <a:xfrm rot="10003800">
                    <a:off x="5222160" y="43196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7" name=""/>
                  <p:cNvSpPr/>
                  <p:nvPr/>
                </p:nvSpPr>
                <p:spPr>
                  <a:xfrm>
                    <a:off x="5213160" y="4339440"/>
                    <a:ext cx="68400" cy="64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8" name=""/>
                  <p:cNvSpPr/>
                  <p:nvPr/>
                </p:nvSpPr>
                <p:spPr>
                  <a:xfrm>
                    <a:off x="5235120" y="436536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9" name=""/>
                  <p:cNvSpPr/>
                  <p:nvPr/>
                </p:nvSpPr>
                <p:spPr>
                  <a:xfrm>
                    <a:off x="5253480" y="4373640"/>
                    <a:ext cx="1656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0" name=""/>
                  <p:cNvSpPr/>
                  <p:nvPr/>
                </p:nvSpPr>
                <p:spPr>
                  <a:xfrm>
                    <a:off x="5262480" y="4390560"/>
                    <a:ext cx="75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21" name=""/>
                <p:cNvGrpSpPr/>
                <p:nvPr/>
              </p:nvGrpSpPr>
              <p:grpSpPr>
                <a:xfrm>
                  <a:off x="5100480" y="4045320"/>
                  <a:ext cx="147600" cy="138240"/>
                  <a:chOff x="5100480" y="4045320"/>
                  <a:chExt cx="147600" cy="138240"/>
                </a:xfrm>
              </p:grpSpPr>
              <p:sp>
                <p:nvSpPr>
                  <p:cNvPr id="14122" name=""/>
                  <p:cNvSpPr/>
                  <p:nvPr/>
                </p:nvSpPr>
                <p:spPr>
                  <a:xfrm rot="3576600">
                    <a:off x="5128200" y="405576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3" name=""/>
                  <p:cNvSpPr/>
                  <p:nvPr/>
                </p:nvSpPr>
                <p:spPr>
                  <a:xfrm flipV="1">
                    <a:off x="5152680" y="4089960"/>
                    <a:ext cx="28080" cy="86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4" name=""/>
                  <p:cNvSpPr/>
                  <p:nvPr/>
                </p:nvSpPr>
                <p:spPr>
                  <a:xfrm flipV="1">
                    <a:off x="5166360" y="4134600"/>
                    <a:ext cx="104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5" name=""/>
                  <p:cNvSpPr/>
                  <p:nvPr/>
                </p:nvSpPr>
                <p:spPr>
                  <a:xfrm flipH="1" flipV="1">
                    <a:off x="5161320" y="4108680"/>
                    <a:ext cx="468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6" name=""/>
                  <p:cNvSpPr/>
                  <p:nvPr/>
                </p:nvSpPr>
                <p:spPr>
                  <a:xfrm flipV="1">
                    <a:off x="5176440" y="4103280"/>
                    <a:ext cx="612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27" name=""/>
                <p:cNvGrpSpPr/>
                <p:nvPr/>
              </p:nvGrpSpPr>
              <p:grpSpPr>
                <a:xfrm>
                  <a:off x="5128200" y="3880800"/>
                  <a:ext cx="154440" cy="148680"/>
                  <a:chOff x="5128200" y="3880800"/>
                  <a:chExt cx="154440" cy="148680"/>
                </a:xfrm>
              </p:grpSpPr>
              <p:sp>
                <p:nvSpPr>
                  <p:cNvPr id="14128" name=""/>
                  <p:cNvSpPr/>
                  <p:nvPr/>
                </p:nvSpPr>
                <p:spPr>
                  <a:xfrm rot="2940600">
                    <a:off x="5166000" y="388692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9" name=""/>
                  <p:cNvSpPr/>
                  <p:nvPr/>
                </p:nvSpPr>
                <p:spPr>
                  <a:xfrm flipV="1">
                    <a:off x="5185800" y="3929760"/>
                    <a:ext cx="2520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0" name=""/>
                  <p:cNvSpPr/>
                  <p:nvPr/>
                </p:nvSpPr>
                <p:spPr>
                  <a:xfrm flipV="1">
                    <a:off x="5198400" y="397332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1" name=""/>
                  <p:cNvSpPr/>
                  <p:nvPr/>
                </p:nvSpPr>
                <p:spPr>
                  <a:xfrm flipH="1" flipV="1">
                    <a:off x="5191560" y="3953160"/>
                    <a:ext cx="57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2" name=""/>
                  <p:cNvSpPr/>
                  <p:nvPr/>
                </p:nvSpPr>
                <p:spPr>
                  <a:xfrm flipV="1">
                    <a:off x="5207760" y="3941280"/>
                    <a:ext cx="57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33" name=""/>
                <p:cNvGrpSpPr/>
                <p:nvPr/>
              </p:nvGrpSpPr>
              <p:grpSpPr>
                <a:xfrm>
                  <a:off x="5209560" y="3742560"/>
                  <a:ext cx="152640" cy="150840"/>
                  <a:chOff x="5209560" y="3742560"/>
                  <a:chExt cx="152640" cy="150840"/>
                </a:xfrm>
              </p:grpSpPr>
              <p:sp>
                <p:nvSpPr>
                  <p:cNvPr id="14134" name=""/>
                  <p:cNvSpPr/>
                  <p:nvPr/>
                </p:nvSpPr>
                <p:spPr>
                  <a:xfrm rot="2781000">
                    <a:off x="5246280" y="374976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5" name=""/>
                  <p:cNvSpPr/>
                  <p:nvPr/>
                </p:nvSpPr>
                <p:spPr>
                  <a:xfrm flipV="1">
                    <a:off x="5269680" y="3792960"/>
                    <a:ext cx="20880" cy="9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6" name=""/>
                  <p:cNvSpPr/>
                  <p:nvPr/>
                </p:nvSpPr>
                <p:spPr>
                  <a:xfrm flipV="1">
                    <a:off x="5280840" y="3836520"/>
                    <a:ext cx="936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7" name=""/>
                  <p:cNvSpPr/>
                  <p:nvPr/>
                </p:nvSpPr>
                <p:spPr>
                  <a:xfrm flipH="1" flipV="1">
                    <a:off x="5272560" y="381708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8" name=""/>
                  <p:cNvSpPr/>
                  <p:nvPr/>
                </p:nvSpPr>
                <p:spPr>
                  <a:xfrm flipV="1">
                    <a:off x="5288400" y="380448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39" name=""/>
                <p:cNvGrpSpPr/>
                <p:nvPr/>
              </p:nvGrpSpPr>
              <p:grpSpPr>
                <a:xfrm>
                  <a:off x="5281920" y="3730680"/>
                  <a:ext cx="148320" cy="140760"/>
                  <a:chOff x="5281920" y="3730680"/>
                  <a:chExt cx="148320" cy="140760"/>
                </a:xfrm>
              </p:grpSpPr>
              <p:sp>
                <p:nvSpPr>
                  <p:cNvPr id="14140" name=""/>
                  <p:cNvSpPr/>
                  <p:nvPr/>
                </p:nvSpPr>
                <p:spPr>
                  <a:xfrm rot="3412800">
                    <a:off x="5310000" y="3742200"/>
                    <a:ext cx="9144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1" name=""/>
                  <p:cNvSpPr/>
                  <p:nvPr/>
                </p:nvSpPr>
                <p:spPr>
                  <a:xfrm flipV="1">
                    <a:off x="5337360" y="3776040"/>
                    <a:ext cx="23760" cy="87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2" name=""/>
                  <p:cNvSpPr/>
                  <p:nvPr/>
                </p:nvSpPr>
                <p:spPr>
                  <a:xfrm flipV="1">
                    <a:off x="5349600" y="3821040"/>
                    <a:ext cx="1008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3" name=""/>
                  <p:cNvSpPr/>
                  <p:nvPr/>
                </p:nvSpPr>
                <p:spPr>
                  <a:xfrm flipH="1" flipV="1">
                    <a:off x="5342760" y="3795840"/>
                    <a:ext cx="54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4" name=""/>
                  <p:cNvSpPr/>
                  <p:nvPr/>
                </p:nvSpPr>
                <p:spPr>
                  <a:xfrm flipV="1">
                    <a:off x="5358240" y="378936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45" name=""/>
              <p:cNvGrpSpPr/>
              <p:nvPr/>
            </p:nvGrpSpPr>
            <p:grpSpPr>
              <a:xfrm>
                <a:off x="4156200" y="3019680"/>
                <a:ext cx="581400" cy="644400"/>
                <a:chOff x="4156200" y="3019680"/>
                <a:chExt cx="581400" cy="644400"/>
              </a:xfrm>
            </p:grpSpPr>
            <p:grpSp>
              <p:nvGrpSpPr>
                <p:cNvPr id="14146" name=""/>
                <p:cNvGrpSpPr/>
                <p:nvPr/>
              </p:nvGrpSpPr>
              <p:grpSpPr>
                <a:xfrm>
                  <a:off x="4477680" y="3175200"/>
                  <a:ext cx="136080" cy="117360"/>
                  <a:chOff x="4477680" y="3175200"/>
                  <a:chExt cx="136080" cy="117360"/>
                </a:xfrm>
              </p:grpSpPr>
              <p:sp>
                <p:nvSpPr>
                  <p:cNvPr id="14147" name=""/>
                  <p:cNvSpPr/>
                  <p:nvPr/>
                </p:nvSpPr>
                <p:spPr>
                  <a:xfrm rot="6258600">
                    <a:off x="4500000" y="3175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8" name=""/>
                  <p:cNvSpPr/>
                  <p:nvPr/>
                </p:nvSpPr>
                <p:spPr>
                  <a:xfrm flipV="1">
                    <a:off x="4487400" y="3221280"/>
                    <a:ext cx="80280" cy="41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9" name=""/>
                  <p:cNvSpPr/>
                  <p:nvPr/>
                </p:nvSpPr>
                <p:spPr>
                  <a:xfrm flipV="1">
                    <a:off x="4517280" y="3250080"/>
                    <a:ext cx="1620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0" name=""/>
                  <p:cNvSpPr/>
                  <p:nvPr/>
                </p:nvSpPr>
                <p:spPr>
                  <a:xfrm flipV="1">
                    <a:off x="4531320" y="322056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1" name=""/>
                  <p:cNvSpPr/>
                  <p:nvPr/>
                </p:nvSpPr>
                <p:spPr>
                  <a:xfrm flipV="1">
                    <a:off x="4548240" y="3231720"/>
                    <a:ext cx="1152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52" name=""/>
                <p:cNvSpPr/>
                <p:nvPr/>
              </p:nvSpPr>
              <p:spPr>
                <a:xfrm flipH="1" flipV="1">
                  <a:off x="4331880" y="3364920"/>
                  <a:ext cx="159840" cy="84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3" name=""/>
                <p:cNvSpPr/>
                <p:nvPr/>
              </p:nvSpPr>
              <p:spPr>
                <a:xfrm rot="2443800">
                  <a:off x="4191840" y="328824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4" name=""/>
                <p:cNvSpPr/>
                <p:nvPr/>
              </p:nvSpPr>
              <p:spPr>
                <a:xfrm flipV="1">
                  <a:off x="4438800" y="3169080"/>
                  <a:ext cx="38880" cy="153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5" name=""/>
                <p:cNvSpPr/>
                <p:nvPr/>
              </p:nvSpPr>
              <p:spPr>
                <a:xfrm flipV="1">
                  <a:off x="4493520" y="3384000"/>
                  <a:ext cx="78480" cy="253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6" name=""/>
                <p:cNvSpPr/>
                <p:nvPr/>
              </p:nvSpPr>
              <p:spPr>
                <a:xfrm flipH="1">
                  <a:off x="4358880" y="3407040"/>
                  <a:ext cx="5256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7" name=""/>
                <p:cNvSpPr/>
                <p:nvPr/>
              </p:nvSpPr>
              <p:spPr>
                <a:xfrm flipH="1" flipV="1">
                  <a:off x="4438440" y="3376080"/>
                  <a:ext cx="2664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8" name=""/>
                <p:cNvSpPr/>
                <p:nvPr/>
              </p:nvSpPr>
              <p:spPr>
                <a:xfrm flipH="1" flipV="1">
                  <a:off x="4438080" y="3160800"/>
                  <a:ext cx="13680" cy="92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9" name=""/>
                <p:cNvSpPr/>
                <p:nvPr/>
              </p:nvSpPr>
              <p:spPr>
                <a:xfrm flipV="1">
                  <a:off x="4451760" y="3245040"/>
                  <a:ext cx="52920" cy="34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0" name=""/>
                <p:cNvSpPr/>
                <p:nvPr/>
              </p:nvSpPr>
              <p:spPr>
                <a:xfrm flipH="1" flipV="1">
                  <a:off x="4304880" y="3234600"/>
                  <a:ext cx="66240" cy="3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1" name=""/>
                <p:cNvSpPr/>
                <p:nvPr/>
              </p:nvSpPr>
              <p:spPr>
                <a:xfrm flipH="1" flipV="1">
                  <a:off x="4504680" y="3353040"/>
                  <a:ext cx="27360" cy="157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2" name=""/>
                <p:cNvSpPr/>
                <p:nvPr/>
              </p:nvSpPr>
              <p:spPr>
                <a:xfrm flipV="1">
                  <a:off x="4518360" y="3376440"/>
                  <a:ext cx="13320" cy="417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3" name=""/>
                <p:cNvSpPr/>
                <p:nvPr/>
              </p:nvSpPr>
              <p:spPr>
                <a:xfrm flipV="1">
                  <a:off x="4519440" y="3502440"/>
                  <a:ext cx="65880" cy="50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4" name=""/>
                <p:cNvSpPr/>
                <p:nvPr/>
              </p:nvSpPr>
              <p:spPr>
                <a:xfrm flipV="1">
                  <a:off x="4559040" y="3379320"/>
                  <a:ext cx="3960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5" name=""/>
                <p:cNvSpPr/>
                <p:nvPr/>
              </p:nvSpPr>
              <p:spPr>
                <a:xfrm flipH="1" flipV="1">
                  <a:off x="4425480" y="3499200"/>
                  <a:ext cx="66600" cy="30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6" name=""/>
                <p:cNvSpPr/>
                <p:nvPr/>
              </p:nvSpPr>
              <p:spPr>
                <a:xfrm flipH="1" flipV="1">
                  <a:off x="4358520" y="3280680"/>
                  <a:ext cx="52920" cy="18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7" name=""/>
                <p:cNvSpPr/>
                <p:nvPr/>
              </p:nvSpPr>
              <p:spPr>
                <a:xfrm flipV="1">
                  <a:off x="4357800" y="3157560"/>
                  <a:ext cx="12960" cy="42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168" name=""/>
                <p:cNvGrpSpPr/>
                <p:nvPr/>
              </p:nvGrpSpPr>
              <p:grpSpPr>
                <a:xfrm>
                  <a:off x="4438800" y="3070080"/>
                  <a:ext cx="154800" cy="121320"/>
                  <a:chOff x="4438800" y="3070080"/>
                  <a:chExt cx="154800" cy="121320"/>
                </a:xfrm>
              </p:grpSpPr>
              <p:sp>
                <p:nvSpPr>
                  <p:cNvPr id="14169" name=""/>
                  <p:cNvSpPr/>
                  <p:nvPr/>
                </p:nvSpPr>
                <p:spPr>
                  <a:xfrm rot="4188600">
                    <a:off x="4476600" y="3062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0" name=""/>
                  <p:cNvSpPr/>
                  <p:nvPr/>
                </p:nvSpPr>
                <p:spPr>
                  <a:xfrm flipV="1">
                    <a:off x="4474800" y="3108960"/>
                    <a:ext cx="55440" cy="75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1" name=""/>
                  <p:cNvSpPr/>
                  <p:nvPr/>
                </p:nvSpPr>
                <p:spPr>
                  <a:xfrm flipV="1">
                    <a:off x="4497840" y="3149280"/>
                    <a:ext cx="1512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2" name=""/>
                  <p:cNvSpPr/>
                  <p:nvPr/>
                </p:nvSpPr>
                <p:spPr>
                  <a:xfrm flipV="1">
                    <a:off x="4503600" y="3124080"/>
                    <a:ext cx="36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3" name=""/>
                  <p:cNvSpPr/>
                  <p:nvPr/>
                </p:nvSpPr>
                <p:spPr>
                  <a:xfrm flipV="1">
                    <a:off x="4519440" y="3121200"/>
                    <a:ext cx="936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4" name=""/>
                <p:cNvGrpSpPr/>
                <p:nvPr/>
              </p:nvGrpSpPr>
              <p:grpSpPr>
                <a:xfrm>
                  <a:off x="4366080" y="3242880"/>
                  <a:ext cx="115560" cy="153000"/>
                  <a:chOff x="4366080" y="3242880"/>
                  <a:chExt cx="115560" cy="153000"/>
                </a:xfrm>
              </p:grpSpPr>
              <p:sp>
                <p:nvSpPr>
                  <p:cNvPr id="14175" name=""/>
                  <p:cNvSpPr/>
                  <p:nvPr/>
                </p:nvSpPr>
                <p:spPr>
                  <a:xfrm rot="1030200">
                    <a:off x="4384080" y="3251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6" name=""/>
                  <p:cNvSpPr/>
                  <p:nvPr/>
                </p:nvSpPr>
                <p:spPr>
                  <a:xfrm flipH="1" flipV="1">
                    <a:off x="4415400" y="3294720"/>
                    <a:ext cx="2664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7" name=""/>
                  <p:cNvSpPr/>
                  <p:nvPr/>
                </p:nvSpPr>
                <p:spPr>
                  <a:xfrm flipV="1">
                    <a:off x="4436280" y="3333240"/>
                    <a:ext cx="36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8" name=""/>
                  <p:cNvSpPr/>
                  <p:nvPr/>
                </p:nvSpPr>
                <p:spPr>
                  <a:xfrm flipH="1" flipV="1">
                    <a:off x="4411440" y="3324960"/>
                    <a:ext cx="129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9" name=""/>
                  <p:cNvSpPr/>
                  <p:nvPr/>
                </p:nvSpPr>
                <p:spPr>
                  <a:xfrm flipH="1" flipV="1">
                    <a:off x="4424040" y="3303360"/>
                    <a:ext cx="1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0" name=""/>
                <p:cNvGrpSpPr/>
                <p:nvPr/>
              </p:nvGrpSpPr>
              <p:grpSpPr>
                <a:xfrm>
                  <a:off x="4442760" y="3215160"/>
                  <a:ext cx="148680" cy="154440"/>
                  <a:chOff x="4442760" y="3215160"/>
                  <a:chExt cx="148680" cy="154440"/>
                </a:xfrm>
              </p:grpSpPr>
              <p:sp>
                <p:nvSpPr>
                  <p:cNvPr id="14181" name=""/>
                  <p:cNvSpPr/>
                  <p:nvPr/>
                </p:nvSpPr>
                <p:spPr>
                  <a:xfrm rot="2443800">
                    <a:off x="4477320" y="3224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2" name=""/>
                  <p:cNvSpPr/>
                  <p:nvPr/>
                </p:nvSpPr>
                <p:spPr>
                  <a:xfrm flipV="1">
                    <a:off x="4507200" y="3266640"/>
                    <a:ext cx="11520" cy="9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3" name=""/>
                  <p:cNvSpPr/>
                  <p:nvPr/>
                </p:nvSpPr>
                <p:spPr>
                  <a:xfrm flipV="1">
                    <a:off x="4515120" y="33102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4" name=""/>
                  <p:cNvSpPr/>
                  <p:nvPr/>
                </p:nvSpPr>
                <p:spPr>
                  <a:xfrm flipH="1" flipV="1">
                    <a:off x="4502880" y="329256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5" name=""/>
                  <p:cNvSpPr/>
                  <p:nvPr/>
                </p:nvSpPr>
                <p:spPr>
                  <a:xfrm flipV="1">
                    <a:off x="4519080" y="327780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86" name=""/>
                <p:cNvGrpSpPr/>
                <p:nvPr/>
              </p:nvGrpSpPr>
              <p:grpSpPr>
                <a:xfrm>
                  <a:off x="4192920" y="3297960"/>
                  <a:ext cx="148320" cy="140760"/>
                  <a:chOff x="4192920" y="3297960"/>
                  <a:chExt cx="148320" cy="140760"/>
                </a:xfrm>
              </p:grpSpPr>
              <p:sp>
                <p:nvSpPr>
                  <p:cNvPr id="14187" name=""/>
                  <p:cNvSpPr/>
                  <p:nvPr/>
                </p:nvSpPr>
                <p:spPr>
                  <a:xfrm rot="18213000">
                    <a:off x="4221360" y="3309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8" name=""/>
                  <p:cNvSpPr/>
                  <p:nvPr/>
                </p:nvSpPr>
                <p:spPr>
                  <a:xfrm flipH="1">
                    <a:off x="4241880" y="3360960"/>
                    <a:ext cx="8964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9" name=""/>
                  <p:cNvSpPr/>
                  <p:nvPr/>
                </p:nvSpPr>
                <p:spPr>
                  <a:xfrm flipH="1" flipV="1">
                    <a:off x="4283640" y="3357720"/>
                    <a:ext cx="1620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0" name=""/>
                  <p:cNvSpPr/>
                  <p:nvPr/>
                </p:nvSpPr>
                <p:spPr>
                  <a:xfrm flipH="1">
                    <a:off x="4267440" y="3370680"/>
                    <a:ext cx="1404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1" name=""/>
                  <p:cNvSpPr/>
                  <p:nvPr/>
                </p:nvSpPr>
                <p:spPr>
                  <a:xfrm flipH="1" flipV="1">
                    <a:off x="4253040" y="3366000"/>
                    <a:ext cx="1188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92" name=""/>
                <p:cNvGrpSpPr/>
                <p:nvPr/>
              </p:nvGrpSpPr>
              <p:grpSpPr>
                <a:xfrm>
                  <a:off x="4308840" y="3019680"/>
                  <a:ext cx="148680" cy="154440"/>
                  <a:chOff x="4308840" y="3019680"/>
                  <a:chExt cx="148680" cy="154440"/>
                </a:xfrm>
              </p:grpSpPr>
              <p:sp>
                <p:nvSpPr>
                  <p:cNvPr id="14193" name=""/>
                  <p:cNvSpPr/>
                  <p:nvPr/>
                </p:nvSpPr>
                <p:spPr>
                  <a:xfrm rot="2443800">
                    <a:off x="4343400" y="30290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4" name=""/>
                  <p:cNvSpPr/>
                  <p:nvPr/>
                </p:nvSpPr>
                <p:spPr>
                  <a:xfrm flipV="1">
                    <a:off x="4373280" y="3071160"/>
                    <a:ext cx="11520" cy="9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5" name=""/>
                  <p:cNvSpPr/>
                  <p:nvPr/>
                </p:nvSpPr>
                <p:spPr>
                  <a:xfrm flipV="1">
                    <a:off x="4381200" y="31147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6" name=""/>
                  <p:cNvSpPr/>
                  <p:nvPr/>
                </p:nvSpPr>
                <p:spPr>
                  <a:xfrm flipH="1" flipV="1">
                    <a:off x="4369320" y="30970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7" name=""/>
                  <p:cNvSpPr/>
                  <p:nvPr/>
                </p:nvSpPr>
                <p:spPr>
                  <a:xfrm flipV="1">
                    <a:off x="4385520" y="3082320"/>
                    <a:ext cx="360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98" name=""/>
                <p:cNvGrpSpPr/>
                <p:nvPr/>
              </p:nvGrpSpPr>
              <p:grpSpPr>
                <a:xfrm>
                  <a:off x="4509360" y="3245400"/>
                  <a:ext cx="148680" cy="154440"/>
                  <a:chOff x="4509360" y="3245400"/>
                  <a:chExt cx="148680" cy="154440"/>
                </a:xfrm>
              </p:grpSpPr>
              <p:sp>
                <p:nvSpPr>
                  <p:cNvPr id="14199" name=""/>
                  <p:cNvSpPr/>
                  <p:nvPr/>
                </p:nvSpPr>
                <p:spPr>
                  <a:xfrm rot="2443800">
                    <a:off x="4543920" y="32547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0" name=""/>
                  <p:cNvSpPr/>
                  <p:nvPr/>
                </p:nvSpPr>
                <p:spPr>
                  <a:xfrm flipV="1">
                    <a:off x="4573800" y="3296880"/>
                    <a:ext cx="11520" cy="9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1" name=""/>
                  <p:cNvSpPr/>
                  <p:nvPr/>
                </p:nvSpPr>
                <p:spPr>
                  <a:xfrm flipV="1">
                    <a:off x="4581720" y="334044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2" name=""/>
                  <p:cNvSpPr/>
                  <p:nvPr/>
                </p:nvSpPr>
                <p:spPr>
                  <a:xfrm flipH="1" flipV="1">
                    <a:off x="4569480" y="3322800"/>
                    <a:ext cx="792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3" name=""/>
                  <p:cNvSpPr/>
                  <p:nvPr/>
                </p:nvSpPr>
                <p:spPr>
                  <a:xfrm flipV="1">
                    <a:off x="4585680" y="330804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4" name=""/>
                <p:cNvGrpSpPr/>
                <p:nvPr/>
              </p:nvGrpSpPr>
              <p:grpSpPr>
                <a:xfrm>
                  <a:off x="4375440" y="3023280"/>
                  <a:ext cx="148680" cy="154440"/>
                  <a:chOff x="4375440" y="3023280"/>
                  <a:chExt cx="148680" cy="154440"/>
                </a:xfrm>
              </p:grpSpPr>
              <p:sp>
                <p:nvSpPr>
                  <p:cNvPr id="14205" name=""/>
                  <p:cNvSpPr/>
                  <p:nvPr/>
                </p:nvSpPr>
                <p:spPr>
                  <a:xfrm rot="2443800">
                    <a:off x="4410000" y="303264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6" name=""/>
                  <p:cNvSpPr/>
                  <p:nvPr/>
                </p:nvSpPr>
                <p:spPr>
                  <a:xfrm flipV="1">
                    <a:off x="4439880" y="3074760"/>
                    <a:ext cx="11520" cy="9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7" name=""/>
                  <p:cNvSpPr/>
                  <p:nvPr/>
                </p:nvSpPr>
                <p:spPr>
                  <a:xfrm flipV="1">
                    <a:off x="4447800" y="311832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8" name=""/>
                  <p:cNvSpPr/>
                  <p:nvPr/>
                </p:nvSpPr>
                <p:spPr>
                  <a:xfrm flipH="1" flipV="1">
                    <a:off x="4435920" y="31006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9" name=""/>
                  <p:cNvSpPr/>
                  <p:nvPr/>
                </p:nvSpPr>
                <p:spPr>
                  <a:xfrm flipV="1">
                    <a:off x="4452120" y="308628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0" name=""/>
                <p:cNvGrpSpPr/>
                <p:nvPr/>
              </p:nvGrpSpPr>
              <p:grpSpPr>
                <a:xfrm>
                  <a:off x="4275000" y="3453120"/>
                  <a:ext cx="144360" cy="131040"/>
                  <a:chOff x="4275000" y="3453120"/>
                  <a:chExt cx="144360" cy="131040"/>
                </a:xfrm>
              </p:grpSpPr>
              <p:sp>
                <p:nvSpPr>
                  <p:cNvPr id="14211" name=""/>
                  <p:cNvSpPr/>
                  <p:nvPr/>
                </p:nvSpPr>
                <p:spPr>
                  <a:xfrm rot="17641800">
                    <a:off x="4301280" y="3459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2" name=""/>
                  <p:cNvSpPr/>
                  <p:nvPr/>
                </p:nvSpPr>
                <p:spPr>
                  <a:xfrm flipH="1">
                    <a:off x="4323600" y="3500280"/>
                    <a:ext cx="86400" cy="27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3" name=""/>
                  <p:cNvSpPr/>
                  <p:nvPr/>
                </p:nvSpPr>
                <p:spPr>
                  <a:xfrm flipH="1" flipV="1">
                    <a:off x="4362120" y="3504960"/>
                    <a:ext cx="1620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4" name=""/>
                  <p:cNvSpPr/>
                  <p:nvPr/>
                </p:nvSpPr>
                <p:spPr>
                  <a:xfrm flipH="1">
                    <a:off x="4349880" y="3518280"/>
                    <a:ext cx="1224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5" name=""/>
                  <p:cNvSpPr/>
                  <p:nvPr/>
                </p:nvSpPr>
                <p:spPr>
                  <a:xfrm flipH="1">
                    <a:off x="4332960" y="3517560"/>
                    <a:ext cx="1188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6" name=""/>
                <p:cNvGrpSpPr/>
                <p:nvPr/>
              </p:nvGrpSpPr>
              <p:grpSpPr>
                <a:xfrm>
                  <a:off x="4227840" y="3390480"/>
                  <a:ext cx="131400" cy="110160"/>
                  <a:chOff x="4227840" y="3390480"/>
                  <a:chExt cx="131400" cy="110160"/>
                </a:xfrm>
              </p:grpSpPr>
              <p:sp>
                <p:nvSpPr>
                  <p:cNvPr id="14217" name=""/>
                  <p:cNvSpPr/>
                  <p:nvPr/>
                </p:nvSpPr>
                <p:spPr>
                  <a:xfrm rot="16802400">
                    <a:off x="4248000" y="3386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8" name=""/>
                  <p:cNvSpPr/>
                  <p:nvPr/>
                </p:nvSpPr>
                <p:spPr>
                  <a:xfrm flipH="1">
                    <a:off x="4272840" y="3412440"/>
                    <a:ext cx="77040" cy="47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9" name=""/>
                  <p:cNvSpPr/>
                  <p:nvPr/>
                </p:nvSpPr>
                <p:spPr>
                  <a:xfrm flipH="1">
                    <a:off x="4304880" y="3425760"/>
                    <a:ext cx="1620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0" name=""/>
                  <p:cNvSpPr/>
                  <p:nvPr/>
                </p:nvSpPr>
                <p:spPr>
                  <a:xfrm flipH="1">
                    <a:off x="4299840" y="3441600"/>
                    <a:ext cx="7920" cy="16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1" name=""/>
                  <p:cNvSpPr/>
                  <p:nvPr/>
                </p:nvSpPr>
                <p:spPr>
                  <a:xfrm flipH="1">
                    <a:off x="4280040" y="3444840"/>
                    <a:ext cx="11160" cy="3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22" name=""/>
                <p:cNvGrpSpPr/>
                <p:nvPr/>
              </p:nvGrpSpPr>
              <p:grpSpPr>
                <a:xfrm>
                  <a:off x="4192200" y="3108960"/>
                  <a:ext cx="148680" cy="144000"/>
                  <a:chOff x="4192200" y="3108960"/>
                  <a:chExt cx="148680" cy="144000"/>
                </a:xfrm>
              </p:grpSpPr>
              <p:sp>
                <p:nvSpPr>
                  <p:cNvPr id="14223" name=""/>
                  <p:cNvSpPr/>
                  <p:nvPr/>
                </p:nvSpPr>
                <p:spPr>
                  <a:xfrm rot="18454200">
                    <a:off x="4220640" y="3122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4" name=""/>
                  <p:cNvSpPr/>
                  <p:nvPr/>
                </p:nvSpPr>
                <p:spPr>
                  <a:xfrm flipH="1">
                    <a:off x="4241520" y="3177720"/>
                    <a:ext cx="9036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5" name=""/>
                  <p:cNvSpPr/>
                  <p:nvPr/>
                </p:nvSpPr>
                <p:spPr>
                  <a:xfrm flipH="1" flipV="1">
                    <a:off x="4284000" y="3170880"/>
                    <a:ext cx="1584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6" name=""/>
                  <p:cNvSpPr/>
                  <p:nvPr/>
                </p:nvSpPr>
                <p:spPr>
                  <a:xfrm flipH="1">
                    <a:off x="4266000" y="3183840"/>
                    <a:ext cx="1512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7" name=""/>
                  <p:cNvSpPr/>
                  <p:nvPr/>
                </p:nvSpPr>
                <p:spPr>
                  <a:xfrm flipH="1" flipV="1">
                    <a:off x="4253040" y="3177360"/>
                    <a:ext cx="1152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28" name=""/>
                <p:cNvGrpSpPr/>
                <p:nvPr/>
              </p:nvGrpSpPr>
              <p:grpSpPr>
                <a:xfrm>
                  <a:off x="4156200" y="3191760"/>
                  <a:ext cx="140400" cy="124200"/>
                  <a:chOff x="4156200" y="3191760"/>
                  <a:chExt cx="140400" cy="124200"/>
                </a:xfrm>
              </p:grpSpPr>
              <p:sp>
                <p:nvSpPr>
                  <p:cNvPr id="14229" name=""/>
                  <p:cNvSpPr/>
                  <p:nvPr/>
                </p:nvSpPr>
                <p:spPr>
                  <a:xfrm rot="17325000">
                    <a:off x="4180680" y="31950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0" name=""/>
                  <p:cNvSpPr/>
                  <p:nvPr/>
                </p:nvSpPr>
                <p:spPr>
                  <a:xfrm flipH="1">
                    <a:off x="4203720" y="3229560"/>
                    <a:ext cx="83520" cy="35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1" name=""/>
                  <p:cNvSpPr/>
                  <p:nvPr/>
                </p:nvSpPr>
                <p:spPr>
                  <a:xfrm flipH="1">
                    <a:off x="4240080" y="3238200"/>
                    <a:ext cx="1656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2" name=""/>
                  <p:cNvSpPr/>
                  <p:nvPr/>
                </p:nvSpPr>
                <p:spPr>
                  <a:xfrm flipH="1">
                    <a:off x="4230720" y="3251880"/>
                    <a:ext cx="1044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3" name=""/>
                  <p:cNvSpPr/>
                  <p:nvPr/>
                </p:nvSpPr>
                <p:spPr>
                  <a:xfrm flipH="1">
                    <a:off x="4212360" y="3252600"/>
                    <a:ext cx="1188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4" name=""/>
                <p:cNvGrpSpPr/>
                <p:nvPr/>
              </p:nvGrpSpPr>
              <p:grpSpPr>
                <a:xfrm>
                  <a:off x="4233600" y="3228120"/>
                  <a:ext cx="146160" cy="135000"/>
                  <a:chOff x="4233600" y="3228120"/>
                  <a:chExt cx="146160" cy="135000"/>
                </a:xfrm>
              </p:grpSpPr>
              <p:sp>
                <p:nvSpPr>
                  <p:cNvPr id="14235" name=""/>
                  <p:cNvSpPr/>
                  <p:nvPr/>
                </p:nvSpPr>
                <p:spPr>
                  <a:xfrm rot="17845200">
                    <a:off x="4260960" y="3236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6" name=""/>
                  <p:cNvSpPr/>
                  <p:nvPr/>
                </p:nvSpPr>
                <p:spPr>
                  <a:xfrm flipH="1">
                    <a:off x="4282560" y="3281040"/>
                    <a:ext cx="87840" cy="22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7" name=""/>
                  <p:cNvSpPr/>
                  <p:nvPr/>
                </p:nvSpPr>
                <p:spPr>
                  <a:xfrm flipH="1" flipV="1">
                    <a:off x="4322520" y="328284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8" name=""/>
                  <p:cNvSpPr/>
                  <p:nvPr/>
                </p:nvSpPr>
                <p:spPr>
                  <a:xfrm flipH="1">
                    <a:off x="4308840" y="3296160"/>
                    <a:ext cx="126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9" name=""/>
                  <p:cNvSpPr/>
                  <p:nvPr/>
                </p:nvSpPr>
                <p:spPr>
                  <a:xfrm flipH="1">
                    <a:off x="4292640" y="3294360"/>
                    <a:ext cx="11880" cy="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40" name=""/>
                <p:cNvGrpSpPr/>
                <p:nvPr/>
              </p:nvGrpSpPr>
              <p:grpSpPr>
                <a:xfrm>
                  <a:off x="4301640" y="3090960"/>
                  <a:ext cx="142920" cy="148320"/>
                  <a:chOff x="4301640" y="3090960"/>
                  <a:chExt cx="142920" cy="148320"/>
                </a:xfrm>
              </p:grpSpPr>
              <p:sp>
                <p:nvSpPr>
                  <p:cNvPr id="14241" name=""/>
                  <p:cNvSpPr/>
                  <p:nvPr/>
                </p:nvSpPr>
                <p:spPr>
                  <a:xfrm rot="19429200">
                    <a:off x="4327200" y="31060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2" name=""/>
                  <p:cNvSpPr/>
                  <p:nvPr/>
                </p:nvSpPr>
                <p:spPr>
                  <a:xfrm flipH="1" flipV="1">
                    <a:off x="4347720" y="3161160"/>
                    <a:ext cx="88560" cy="19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3" name=""/>
                  <p:cNvSpPr/>
                  <p:nvPr/>
                </p:nvSpPr>
                <p:spPr>
                  <a:xfrm flipH="1" flipV="1">
                    <a:off x="4392720" y="3160440"/>
                    <a:ext cx="13680" cy="9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4" name=""/>
                  <p:cNvSpPr/>
                  <p:nvPr/>
                </p:nvSpPr>
                <p:spPr>
                  <a:xfrm flipH="1">
                    <a:off x="4368240" y="3171960"/>
                    <a:ext cx="17640" cy="6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5" name=""/>
                  <p:cNvSpPr/>
                  <p:nvPr/>
                </p:nvSpPr>
                <p:spPr>
                  <a:xfrm flipH="1" flipV="1">
                    <a:off x="4360680" y="3157920"/>
                    <a:ext cx="10800" cy="50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46" name=""/>
                <p:cNvGrpSpPr/>
                <p:nvPr/>
              </p:nvGrpSpPr>
              <p:grpSpPr>
                <a:xfrm>
                  <a:off x="4448880" y="3253680"/>
                  <a:ext cx="83880" cy="138600"/>
                  <a:chOff x="4448880" y="3253680"/>
                  <a:chExt cx="83880" cy="138600"/>
                </a:xfrm>
              </p:grpSpPr>
              <p:sp>
                <p:nvSpPr>
                  <p:cNvPr id="14247" name=""/>
                  <p:cNvSpPr/>
                  <p:nvPr/>
                </p:nvSpPr>
                <p:spPr>
                  <a:xfrm rot="21480000">
                    <a:off x="4451040" y="3255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8" name=""/>
                  <p:cNvSpPr/>
                  <p:nvPr/>
                </p:nvSpPr>
                <p:spPr>
                  <a:xfrm flipH="1" flipV="1">
                    <a:off x="4474440" y="3302640"/>
                    <a:ext cx="55080" cy="76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9" name=""/>
                  <p:cNvSpPr/>
                  <p:nvPr/>
                </p:nvSpPr>
                <p:spPr>
                  <a:xfrm flipH="1" flipV="1">
                    <a:off x="4507200" y="3331800"/>
                    <a:ext cx="57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0" name=""/>
                  <p:cNvSpPr/>
                  <p:nvPr/>
                </p:nvSpPr>
                <p:spPr>
                  <a:xfrm flipH="1" flipV="1">
                    <a:off x="4480560" y="3332520"/>
                    <a:ext cx="15840" cy="5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1" name=""/>
                  <p:cNvSpPr/>
                  <p:nvPr/>
                </p:nvSpPr>
                <p:spPr>
                  <a:xfrm flipH="1" flipV="1">
                    <a:off x="4485600" y="3308040"/>
                    <a:ext cx="540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52" name=""/>
                <p:cNvGrpSpPr/>
                <p:nvPr/>
              </p:nvGrpSpPr>
              <p:grpSpPr>
                <a:xfrm>
                  <a:off x="4595040" y="3300840"/>
                  <a:ext cx="142560" cy="127440"/>
                  <a:chOff x="4595040" y="3300840"/>
                  <a:chExt cx="142560" cy="127440"/>
                </a:xfrm>
              </p:grpSpPr>
              <p:sp>
                <p:nvSpPr>
                  <p:cNvPr id="14253" name=""/>
                  <p:cNvSpPr/>
                  <p:nvPr/>
                </p:nvSpPr>
                <p:spPr>
                  <a:xfrm rot="6676200">
                    <a:off x="4620600" y="3305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4" name=""/>
                  <p:cNvSpPr/>
                  <p:nvPr/>
                </p:nvSpPr>
                <p:spPr>
                  <a:xfrm flipV="1">
                    <a:off x="4604760" y="3354120"/>
                    <a:ext cx="84960" cy="31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5" name=""/>
                  <p:cNvSpPr/>
                  <p:nvPr/>
                </p:nvSpPr>
                <p:spPr>
                  <a:xfrm>
                    <a:off x="4635720" y="3378600"/>
                    <a:ext cx="165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6" name=""/>
                  <p:cNvSpPr/>
                  <p:nvPr/>
                </p:nvSpPr>
                <p:spPr>
                  <a:xfrm flipV="1">
                    <a:off x="4651560" y="3350520"/>
                    <a:ext cx="111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7" name=""/>
                  <p:cNvSpPr/>
                  <p:nvPr/>
                </p:nvSpPr>
                <p:spPr>
                  <a:xfrm flipV="1">
                    <a:off x="4668480" y="336384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58" name=""/>
                <p:cNvGrpSpPr/>
                <p:nvPr/>
              </p:nvGrpSpPr>
              <p:grpSpPr>
                <a:xfrm>
                  <a:off x="4581720" y="3422160"/>
                  <a:ext cx="143640" cy="129960"/>
                  <a:chOff x="4581720" y="3422160"/>
                  <a:chExt cx="143640" cy="129960"/>
                </a:xfrm>
              </p:grpSpPr>
              <p:sp>
                <p:nvSpPr>
                  <p:cNvPr id="14259" name=""/>
                  <p:cNvSpPr/>
                  <p:nvPr/>
                </p:nvSpPr>
                <p:spPr>
                  <a:xfrm rot="6796200">
                    <a:off x="4607640" y="3428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0" name=""/>
                  <p:cNvSpPr/>
                  <p:nvPr/>
                </p:nvSpPr>
                <p:spPr>
                  <a:xfrm flipV="1">
                    <a:off x="4591080" y="3477960"/>
                    <a:ext cx="85680" cy="28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1" name=""/>
                  <p:cNvSpPr/>
                  <p:nvPr/>
                </p:nvSpPr>
                <p:spPr>
                  <a:xfrm>
                    <a:off x="4622400" y="3500280"/>
                    <a:ext cx="16200" cy="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2" name=""/>
                  <p:cNvSpPr/>
                  <p:nvPr/>
                </p:nvSpPr>
                <p:spPr>
                  <a:xfrm flipV="1">
                    <a:off x="4638600" y="3472920"/>
                    <a:ext cx="1188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3" name=""/>
                  <p:cNvSpPr/>
                  <p:nvPr/>
                </p:nvSpPr>
                <p:spPr>
                  <a:xfrm flipV="1">
                    <a:off x="4655520" y="3486960"/>
                    <a:ext cx="1188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4" name=""/>
                <p:cNvGrpSpPr/>
                <p:nvPr/>
              </p:nvGrpSpPr>
              <p:grpSpPr>
                <a:xfrm>
                  <a:off x="4351320" y="3359520"/>
                  <a:ext cx="93240" cy="143280"/>
                  <a:chOff x="4351320" y="3359520"/>
                  <a:chExt cx="93240" cy="143280"/>
                </a:xfrm>
              </p:grpSpPr>
              <p:sp>
                <p:nvSpPr>
                  <p:cNvPr id="14265" name=""/>
                  <p:cNvSpPr/>
                  <p:nvPr/>
                </p:nvSpPr>
                <p:spPr>
                  <a:xfrm rot="369000">
                    <a:off x="4358160" y="33631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6" name=""/>
                  <p:cNvSpPr/>
                  <p:nvPr/>
                </p:nvSpPr>
                <p:spPr>
                  <a:xfrm flipH="1" flipV="1">
                    <a:off x="4384440" y="3408840"/>
                    <a:ext cx="43560" cy="83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7" name=""/>
                  <p:cNvSpPr/>
                  <p:nvPr/>
                </p:nvSpPr>
                <p:spPr>
                  <a:xfrm flipH="1" flipV="1">
                    <a:off x="4412880" y="3442320"/>
                    <a:ext cx="2880" cy="18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8" name=""/>
                  <p:cNvSpPr/>
                  <p:nvPr/>
                </p:nvSpPr>
                <p:spPr>
                  <a:xfrm flipH="1" flipV="1">
                    <a:off x="4386240" y="3439080"/>
                    <a:ext cx="14760" cy="7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9" name=""/>
                  <p:cNvSpPr/>
                  <p:nvPr/>
                </p:nvSpPr>
                <p:spPr>
                  <a:xfrm flipH="1" flipV="1">
                    <a:off x="4394520" y="3415680"/>
                    <a:ext cx="396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70" name=""/>
                <p:cNvGrpSpPr/>
                <p:nvPr/>
              </p:nvGrpSpPr>
              <p:grpSpPr>
                <a:xfrm>
                  <a:off x="4257000" y="3260520"/>
                  <a:ext cx="99720" cy="124200"/>
                  <a:chOff x="4257000" y="3260520"/>
                  <a:chExt cx="99720" cy="124200"/>
                </a:xfrm>
              </p:grpSpPr>
              <p:sp>
                <p:nvSpPr>
                  <p:cNvPr id="14271" name=""/>
                  <p:cNvSpPr/>
                  <p:nvPr/>
                </p:nvSpPr>
                <p:spPr>
                  <a:xfrm rot="21334200">
                    <a:off x="4261320" y="32637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2" name=""/>
                  <p:cNvSpPr/>
                  <p:nvPr/>
                </p:nvSpPr>
                <p:spPr>
                  <a:xfrm flipH="1" flipV="1">
                    <a:off x="4287600" y="3306240"/>
                    <a:ext cx="65160" cy="62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3" name=""/>
                  <p:cNvSpPr/>
                  <p:nvPr/>
                </p:nvSpPr>
                <p:spPr>
                  <a:xfrm flipH="1" flipV="1">
                    <a:off x="4325760" y="3329280"/>
                    <a:ext cx="684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4" name=""/>
                  <p:cNvSpPr/>
                  <p:nvPr/>
                </p:nvSpPr>
                <p:spPr>
                  <a:xfrm flipH="1" flipV="1">
                    <a:off x="4295520" y="3331800"/>
                    <a:ext cx="18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5" name=""/>
                  <p:cNvSpPr/>
                  <p:nvPr/>
                </p:nvSpPr>
                <p:spPr>
                  <a:xfrm flipH="1" flipV="1">
                    <a:off x="4300200" y="3310200"/>
                    <a:ext cx="6480" cy="10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76" name=""/>
                <p:cNvGrpSpPr/>
                <p:nvPr/>
              </p:nvGrpSpPr>
              <p:grpSpPr>
                <a:xfrm>
                  <a:off x="4214160" y="3117240"/>
                  <a:ext cx="104760" cy="127440"/>
                  <a:chOff x="4214160" y="3117240"/>
                  <a:chExt cx="104760" cy="127440"/>
                </a:xfrm>
              </p:grpSpPr>
              <p:sp>
                <p:nvSpPr>
                  <p:cNvPr id="14277" name=""/>
                  <p:cNvSpPr/>
                  <p:nvPr/>
                </p:nvSpPr>
                <p:spPr>
                  <a:xfrm rot="21174000">
                    <a:off x="4221000" y="31222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8" name=""/>
                  <p:cNvSpPr/>
                  <p:nvPr/>
                </p:nvSpPr>
                <p:spPr>
                  <a:xfrm flipH="1" flipV="1">
                    <a:off x="4246920" y="3165120"/>
                    <a:ext cx="67680" cy="59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9" name=""/>
                  <p:cNvSpPr/>
                  <p:nvPr/>
                </p:nvSpPr>
                <p:spPr>
                  <a:xfrm flipH="1" flipV="1">
                    <a:off x="4286160" y="318636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0" name=""/>
                  <p:cNvSpPr/>
                  <p:nvPr/>
                </p:nvSpPr>
                <p:spPr>
                  <a:xfrm flipH="1" flipV="1">
                    <a:off x="4255920" y="3190680"/>
                    <a:ext cx="187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1" name=""/>
                  <p:cNvSpPr/>
                  <p:nvPr/>
                </p:nvSpPr>
                <p:spPr>
                  <a:xfrm flipH="1" flipV="1">
                    <a:off x="4259520" y="3168720"/>
                    <a:ext cx="684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82" name=""/>
                <p:cNvGrpSpPr/>
                <p:nvPr/>
              </p:nvGrpSpPr>
              <p:grpSpPr>
                <a:xfrm>
                  <a:off x="4259880" y="3038040"/>
                  <a:ext cx="87120" cy="140040"/>
                  <a:chOff x="4259880" y="3038040"/>
                  <a:chExt cx="87120" cy="140040"/>
                </a:xfrm>
              </p:grpSpPr>
              <p:sp>
                <p:nvSpPr>
                  <p:cNvPr id="14283" name=""/>
                  <p:cNvSpPr/>
                  <p:nvPr/>
                </p:nvSpPr>
                <p:spPr>
                  <a:xfrm rot="205800">
                    <a:off x="4263840" y="304020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4" name=""/>
                  <p:cNvSpPr/>
                  <p:nvPr/>
                </p:nvSpPr>
                <p:spPr>
                  <a:xfrm flipH="1" flipV="1">
                    <a:off x="4289400" y="3087000"/>
                    <a:ext cx="47160" cy="81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5" name=""/>
                  <p:cNvSpPr/>
                  <p:nvPr/>
                </p:nvSpPr>
                <p:spPr>
                  <a:xfrm flipH="1" flipV="1">
                    <a:off x="4318920" y="3119040"/>
                    <a:ext cx="396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6" name=""/>
                  <p:cNvSpPr/>
                  <p:nvPr/>
                </p:nvSpPr>
                <p:spPr>
                  <a:xfrm flipH="1" flipV="1">
                    <a:off x="4292640" y="3116880"/>
                    <a:ext cx="15120" cy="7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7" name=""/>
                  <p:cNvSpPr/>
                  <p:nvPr/>
                </p:nvSpPr>
                <p:spPr>
                  <a:xfrm flipH="1" flipV="1">
                    <a:off x="4299480" y="3093120"/>
                    <a:ext cx="4320" cy="12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88" name=""/>
              <p:cNvGrpSpPr/>
              <p:nvPr/>
            </p:nvGrpSpPr>
            <p:grpSpPr>
              <a:xfrm>
                <a:off x="3596040" y="2896920"/>
                <a:ext cx="664920" cy="553680"/>
                <a:chOff x="3596040" y="2896920"/>
                <a:chExt cx="664920" cy="553680"/>
              </a:xfrm>
            </p:grpSpPr>
            <p:grpSp>
              <p:nvGrpSpPr>
                <p:cNvPr id="14289" name=""/>
                <p:cNvGrpSpPr/>
                <p:nvPr/>
              </p:nvGrpSpPr>
              <p:grpSpPr>
                <a:xfrm>
                  <a:off x="3805920" y="2964240"/>
                  <a:ext cx="141840" cy="148320"/>
                  <a:chOff x="3805920" y="2964240"/>
                  <a:chExt cx="141840" cy="148320"/>
                </a:xfrm>
              </p:grpSpPr>
              <p:sp>
                <p:nvSpPr>
                  <p:cNvPr id="14290" name=""/>
                  <p:cNvSpPr/>
                  <p:nvPr/>
                </p:nvSpPr>
                <p:spPr>
                  <a:xfrm rot="2086800">
                    <a:off x="3831120" y="2979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1" name=""/>
                  <p:cNvSpPr/>
                  <p:nvPr/>
                </p:nvSpPr>
                <p:spPr>
                  <a:xfrm flipH="1" flipV="1">
                    <a:off x="3872160" y="3013200"/>
                    <a:ext cx="1080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2" name=""/>
                  <p:cNvSpPr/>
                  <p:nvPr/>
                </p:nvSpPr>
                <p:spPr>
                  <a:xfrm flipV="1">
                    <a:off x="3883320" y="3055320"/>
                    <a:ext cx="39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3" name=""/>
                  <p:cNvSpPr/>
                  <p:nvPr/>
                </p:nvSpPr>
                <p:spPr>
                  <a:xfrm flipH="1" flipV="1">
                    <a:off x="3862440" y="3038400"/>
                    <a:ext cx="11880" cy="14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4" name=""/>
                  <p:cNvSpPr/>
                  <p:nvPr/>
                </p:nvSpPr>
                <p:spPr>
                  <a:xfrm flipV="1">
                    <a:off x="3878280" y="3024360"/>
                    <a:ext cx="10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95" name=""/>
                <p:cNvSpPr/>
                <p:nvPr/>
              </p:nvSpPr>
              <p:spPr>
                <a:xfrm flipH="1">
                  <a:off x="3924360" y="3164040"/>
                  <a:ext cx="135000" cy="120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6" name=""/>
                <p:cNvSpPr/>
                <p:nvPr/>
              </p:nvSpPr>
              <p:spPr>
                <a:xfrm rot="19871400">
                  <a:off x="3784680" y="3096720"/>
                  <a:ext cx="439920" cy="264240"/>
                </a:xfrm>
                <a:custGeom>
                  <a:avLst/>
                  <a:gdLst/>
                  <a:ahLst/>
                  <a:rect l="l" t="t" r="r" b="b"/>
                  <a:pathLst>
                    <a:path w="1134" h="590">
                      <a:moveTo>
                        <a:pt x="1134" y="590"/>
                      </a:moveTo>
                      <a:cubicBezTo>
                        <a:pt x="1001" y="435"/>
                        <a:pt x="869" y="280"/>
                        <a:pt x="680" y="182"/>
                      </a:cubicBezTo>
                      <a:cubicBezTo>
                        <a:pt x="491" y="84"/>
                        <a:pt x="245" y="42"/>
                        <a:pt x="0" y="0"/>
                      </a:cubicBez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7" name=""/>
                <p:cNvSpPr/>
                <p:nvPr/>
              </p:nvSpPr>
              <p:spPr>
                <a:xfrm flipH="1" flipV="1">
                  <a:off x="3791880" y="3079440"/>
                  <a:ext cx="130320" cy="90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8" name=""/>
                <p:cNvSpPr/>
                <p:nvPr/>
              </p:nvSpPr>
              <p:spPr>
                <a:xfrm flipH="1" flipV="1">
                  <a:off x="4026240" y="3066480"/>
                  <a:ext cx="210240" cy="162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9" name=""/>
                <p:cNvSpPr/>
                <p:nvPr/>
              </p:nvSpPr>
              <p:spPr>
                <a:xfrm flipH="1">
                  <a:off x="3980520" y="3224520"/>
                  <a:ext cx="1116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0" name=""/>
                <p:cNvSpPr/>
                <p:nvPr/>
              </p:nvSpPr>
              <p:spPr>
                <a:xfrm flipH="1">
                  <a:off x="3972240" y="3180960"/>
                  <a:ext cx="56160" cy="7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1" name=""/>
                <p:cNvSpPr/>
                <p:nvPr/>
              </p:nvSpPr>
              <p:spPr>
                <a:xfrm flipH="1" flipV="1">
                  <a:off x="3770640" y="3113640"/>
                  <a:ext cx="91080" cy="19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2" name=""/>
                <p:cNvSpPr/>
                <p:nvPr/>
              </p:nvSpPr>
              <p:spPr>
                <a:xfrm flipH="1" flipV="1">
                  <a:off x="3872880" y="3080520"/>
                  <a:ext cx="13680" cy="619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3" name=""/>
                <p:cNvSpPr/>
                <p:nvPr/>
              </p:nvSpPr>
              <p:spPr>
                <a:xfrm flipH="1">
                  <a:off x="3792960" y="3203640"/>
                  <a:ext cx="26640" cy="60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4" name=""/>
                <p:cNvSpPr/>
                <p:nvPr/>
              </p:nvSpPr>
              <p:spPr>
                <a:xfrm flipH="1" flipV="1">
                  <a:off x="3973680" y="3118680"/>
                  <a:ext cx="157320" cy="29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5" name=""/>
                <p:cNvSpPr/>
                <p:nvPr/>
              </p:nvSpPr>
              <p:spPr>
                <a:xfrm flipH="1" flipV="1">
                  <a:off x="4005000" y="3101400"/>
                  <a:ext cx="34560" cy="27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6" name=""/>
                <p:cNvSpPr/>
                <p:nvPr/>
              </p:nvSpPr>
              <p:spPr>
                <a:xfrm flipH="1" flipV="1">
                  <a:off x="4142160" y="3095280"/>
                  <a:ext cx="23760" cy="79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7" name=""/>
                <p:cNvSpPr/>
                <p:nvPr/>
              </p:nvSpPr>
              <p:spPr>
                <a:xfrm flipH="1" flipV="1">
                  <a:off x="4031280" y="3039840"/>
                  <a:ext cx="29520" cy="532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8" name=""/>
                <p:cNvSpPr/>
                <p:nvPr/>
              </p:nvSpPr>
              <p:spPr>
                <a:xfrm flipH="1">
                  <a:off x="4082760" y="3192120"/>
                  <a:ext cx="51840" cy="51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9" name=""/>
                <p:cNvSpPr/>
                <p:nvPr/>
              </p:nvSpPr>
              <p:spPr>
                <a:xfrm flipH="1">
                  <a:off x="3854880" y="3187080"/>
                  <a:ext cx="36360" cy="43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0" name=""/>
                <p:cNvSpPr/>
                <p:nvPr/>
              </p:nvSpPr>
              <p:spPr>
                <a:xfrm flipH="1" flipV="1">
                  <a:off x="3744000" y="3175560"/>
                  <a:ext cx="34560" cy="27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311" name=""/>
                <p:cNvGrpSpPr/>
                <p:nvPr/>
              </p:nvGrpSpPr>
              <p:grpSpPr>
                <a:xfrm>
                  <a:off x="3729240" y="2961720"/>
                  <a:ext cx="79920" cy="136080"/>
                  <a:chOff x="3729240" y="2961720"/>
                  <a:chExt cx="79920" cy="136080"/>
                </a:xfrm>
              </p:grpSpPr>
              <p:sp>
                <p:nvSpPr>
                  <p:cNvPr id="14312" name=""/>
                  <p:cNvSpPr/>
                  <p:nvPr/>
                </p:nvSpPr>
                <p:spPr>
                  <a:xfrm rot="16800">
                    <a:off x="3729600" y="29617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3" name=""/>
                  <p:cNvSpPr/>
                  <p:nvPr/>
                </p:nvSpPr>
                <p:spPr>
                  <a:xfrm flipH="1" flipV="1">
                    <a:off x="3754080" y="3009240"/>
                    <a:ext cx="51840" cy="78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4" name=""/>
                  <p:cNvSpPr/>
                  <p:nvPr/>
                </p:nvSpPr>
                <p:spPr>
                  <a:xfrm flipH="1" flipV="1">
                    <a:off x="3785760" y="3039480"/>
                    <a:ext cx="504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5" name=""/>
                  <p:cNvSpPr/>
                  <p:nvPr/>
                </p:nvSpPr>
                <p:spPr>
                  <a:xfrm flipH="1" flipV="1">
                    <a:off x="3759120" y="3039120"/>
                    <a:ext cx="15480" cy="6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6" name=""/>
                  <p:cNvSpPr/>
                  <p:nvPr/>
                </p:nvSpPr>
                <p:spPr>
                  <a:xfrm flipH="1" flipV="1">
                    <a:off x="3764880" y="3015000"/>
                    <a:ext cx="504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17" name=""/>
                <p:cNvGrpSpPr/>
                <p:nvPr/>
              </p:nvGrpSpPr>
              <p:grpSpPr>
                <a:xfrm>
                  <a:off x="3836160" y="3109680"/>
                  <a:ext cx="155880" cy="145440"/>
                  <a:chOff x="3836160" y="3109680"/>
                  <a:chExt cx="155880" cy="145440"/>
                </a:xfrm>
              </p:grpSpPr>
              <p:sp>
                <p:nvSpPr>
                  <p:cNvPr id="14318" name=""/>
                  <p:cNvSpPr/>
                  <p:nvPr/>
                </p:nvSpPr>
                <p:spPr>
                  <a:xfrm rot="18458400">
                    <a:off x="3874320" y="31143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9" name=""/>
                  <p:cNvSpPr/>
                  <p:nvPr/>
                </p:nvSpPr>
                <p:spPr>
                  <a:xfrm flipH="1" flipV="1">
                    <a:off x="3888000" y="3181680"/>
                    <a:ext cx="9396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0" name=""/>
                  <p:cNvSpPr/>
                  <p:nvPr/>
                </p:nvSpPr>
                <p:spPr>
                  <a:xfrm flipH="1" flipV="1">
                    <a:off x="3931200" y="3175200"/>
                    <a:ext cx="17640" cy="6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1" name=""/>
                  <p:cNvSpPr/>
                  <p:nvPr/>
                </p:nvSpPr>
                <p:spPr>
                  <a:xfrm flipH="1">
                    <a:off x="3914640" y="3187440"/>
                    <a:ext cx="14400" cy="86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2" name=""/>
                  <p:cNvSpPr/>
                  <p:nvPr/>
                </p:nvSpPr>
                <p:spPr>
                  <a:xfrm flipH="1" flipV="1">
                    <a:off x="3899160" y="3176640"/>
                    <a:ext cx="12600" cy="32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3" name=""/>
                <p:cNvGrpSpPr/>
                <p:nvPr/>
              </p:nvGrpSpPr>
              <p:grpSpPr>
                <a:xfrm>
                  <a:off x="3853800" y="3007080"/>
                  <a:ext cx="134640" cy="156960"/>
                  <a:chOff x="3853800" y="3007080"/>
                  <a:chExt cx="134640" cy="156960"/>
                </a:xfrm>
              </p:grpSpPr>
              <p:sp>
                <p:nvSpPr>
                  <p:cNvPr id="14324" name=""/>
                  <p:cNvSpPr/>
                  <p:nvPr/>
                </p:nvSpPr>
                <p:spPr>
                  <a:xfrm rot="19871400">
                    <a:off x="3881520" y="301752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5" name=""/>
                  <p:cNvSpPr/>
                  <p:nvPr/>
                </p:nvSpPr>
                <p:spPr>
                  <a:xfrm flipH="1" flipV="1">
                    <a:off x="3897720" y="3075120"/>
                    <a:ext cx="83520" cy="43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6" name=""/>
                  <p:cNvSpPr/>
                  <p:nvPr/>
                </p:nvSpPr>
                <p:spPr>
                  <a:xfrm flipH="1" flipV="1">
                    <a:off x="3939840" y="3086280"/>
                    <a:ext cx="1332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7" name=""/>
                  <p:cNvSpPr/>
                  <p:nvPr/>
                </p:nvSpPr>
                <p:spPr>
                  <a:xfrm flipH="1">
                    <a:off x="3916440" y="309672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8" name=""/>
                  <p:cNvSpPr/>
                  <p:nvPr/>
                </p:nvSpPr>
                <p:spPr>
                  <a:xfrm flipH="1" flipV="1">
                    <a:off x="3909960" y="3074760"/>
                    <a:ext cx="100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29" name=""/>
                <p:cNvGrpSpPr/>
                <p:nvPr/>
              </p:nvGrpSpPr>
              <p:grpSpPr>
                <a:xfrm>
                  <a:off x="3830760" y="3275280"/>
                  <a:ext cx="148680" cy="142560"/>
                  <a:chOff x="3830760" y="3275280"/>
                  <a:chExt cx="148680" cy="142560"/>
                </a:xfrm>
              </p:grpSpPr>
              <p:sp>
                <p:nvSpPr>
                  <p:cNvPr id="14330" name=""/>
                  <p:cNvSpPr/>
                  <p:nvPr/>
                </p:nvSpPr>
                <p:spPr>
                  <a:xfrm rot="14040600">
                    <a:off x="3859560" y="32875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1" name=""/>
                  <p:cNvSpPr/>
                  <p:nvPr/>
                </p:nvSpPr>
                <p:spPr>
                  <a:xfrm flipH="1">
                    <a:off x="3901320" y="3283200"/>
                    <a:ext cx="1944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2" name=""/>
                  <p:cNvSpPr/>
                  <p:nvPr/>
                </p:nvSpPr>
                <p:spPr>
                  <a:xfrm flipH="1">
                    <a:off x="3900960" y="3313440"/>
                    <a:ext cx="900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3" name=""/>
                  <p:cNvSpPr/>
                  <p:nvPr/>
                </p:nvSpPr>
                <p:spPr>
                  <a:xfrm>
                    <a:off x="3912480" y="3333960"/>
                    <a:ext cx="6480" cy="17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4" name=""/>
                  <p:cNvSpPr/>
                  <p:nvPr/>
                </p:nvSpPr>
                <p:spPr>
                  <a:xfrm flipH="1">
                    <a:off x="3898080" y="3348000"/>
                    <a:ext cx="5040" cy="10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35" name=""/>
                <p:cNvGrpSpPr/>
                <p:nvPr/>
              </p:nvGrpSpPr>
              <p:grpSpPr>
                <a:xfrm>
                  <a:off x="3623760" y="3064320"/>
                  <a:ext cx="134640" cy="156960"/>
                  <a:chOff x="3623760" y="3064320"/>
                  <a:chExt cx="134640" cy="156960"/>
                </a:xfrm>
              </p:grpSpPr>
              <p:sp>
                <p:nvSpPr>
                  <p:cNvPr id="14336" name=""/>
                  <p:cNvSpPr/>
                  <p:nvPr/>
                </p:nvSpPr>
                <p:spPr>
                  <a:xfrm rot="19871400">
                    <a:off x="3651480" y="30747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7" name=""/>
                  <p:cNvSpPr/>
                  <p:nvPr/>
                </p:nvSpPr>
                <p:spPr>
                  <a:xfrm flipH="1" flipV="1">
                    <a:off x="3667680" y="3132000"/>
                    <a:ext cx="83520" cy="43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8" name=""/>
                  <p:cNvSpPr/>
                  <p:nvPr/>
                </p:nvSpPr>
                <p:spPr>
                  <a:xfrm flipH="1" flipV="1">
                    <a:off x="3710160" y="314316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9" name=""/>
                  <p:cNvSpPr/>
                  <p:nvPr/>
                </p:nvSpPr>
                <p:spPr>
                  <a:xfrm flipH="1">
                    <a:off x="3686400" y="315360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0" name=""/>
                  <p:cNvSpPr/>
                  <p:nvPr/>
                </p:nvSpPr>
                <p:spPr>
                  <a:xfrm flipH="1" flipV="1">
                    <a:off x="3679920" y="313200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1" name=""/>
                <p:cNvGrpSpPr/>
                <p:nvPr/>
              </p:nvGrpSpPr>
              <p:grpSpPr>
                <a:xfrm>
                  <a:off x="3905280" y="2955240"/>
                  <a:ext cx="134640" cy="156960"/>
                  <a:chOff x="3905280" y="2955240"/>
                  <a:chExt cx="134640" cy="156960"/>
                </a:xfrm>
              </p:grpSpPr>
              <p:sp>
                <p:nvSpPr>
                  <p:cNvPr id="14342" name=""/>
                  <p:cNvSpPr/>
                  <p:nvPr/>
                </p:nvSpPr>
                <p:spPr>
                  <a:xfrm rot="19871400">
                    <a:off x="3933000" y="29656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3" name=""/>
                  <p:cNvSpPr/>
                  <p:nvPr/>
                </p:nvSpPr>
                <p:spPr>
                  <a:xfrm flipH="1" flipV="1">
                    <a:off x="3949200" y="3023280"/>
                    <a:ext cx="83520" cy="43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4" name=""/>
                  <p:cNvSpPr/>
                  <p:nvPr/>
                </p:nvSpPr>
                <p:spPr>
                  <a:xfrm flipH="1" flipV="1">
                    <a:off x="3991680" y="303444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5" name=""/>
                  <p:cNvSpPr/>
                  <p:nvPr/>
                </p:nvSpPr>
                <p:spPr>
                  <a:xfrm flipH="1">
                    <a:off x="3967920" y="3044880"/>
                    <a:ext cx="1656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6" name=""/>
                  <p:cNvSpPr/>
                  <p:nvPr/>
                </p:nvSpPr>
                <p:spPr>
                  <a:xfrm flipH="1" flipV="1">
                    <a:off x="3961440" y="3023280"/>
                    <a:ext cx="1008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7" name=""/>
                <p:cNvGrpSpPr/>
                <p:nvPr/>
              </p:nvGrpSpPr>
              <p:grpSpPr>
                <a:xfrm>
                  <a:off x="3650760" y="3003120"/>
                  <a:ext cx="134640" cy="156960"/>
                  <a:chOff x="3650760" y="3003120"/>
                  <a:chExt cx="134640" cy="156960"/>
                </a:xfrm>
              </p:grpSpPr>
              <p:sp>
                <p:nvSpPr>
                  <p:cNvPr id="14348" name=""/>
                  <p:cNvSpPr/>
                  <p:nvPr/>
                </p:nvSpPr>
                <p:spPr>
                  <a:xfrm rot="19871400">
                    <a:off x="3678480" y="301356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9" name=""/>
                  <p:cNvSpPr/>
                  <p:nvPr/>
                </p:nvSpPr>
                <p:spPr>
                  <a:xfrm flipH="1" flipV="1">
                    <a:off x="3694320" y="3070800"/>
                    <a:ext cx="83520" cy="43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0" name=""/>
                  <p:cNvSpPr/>
                  <p:nvPr/>
                </p:nvSpPr>
                <p:spPr>
                  <a:xfrm flipH="1" flipV="1">
                    <a:off x="3736800" y="3082320"/>
                    <a:ext cx="12960" cy="13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1" name=""/>
                  <p:cNvSpPr/>
                  <p:nvPr/>
                </p:nvSpPr>
                <p:spPr>
                  <a:xfrm flipH="1">
                    <a:off x="3713400" y="3092760"/>
                    <a:ext cx="16560" cy="18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2" name=""/>
                  <p:cNvSpPr/>
                  <p:nvPr/>
                </p:nvSpPr>
                <p:spPr>
                  <a:xfrm flipH="1" flipV="1">
                    <a:off x="3706560" y="3070800"/>
                    <a:ext cx="10440" cy="79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3" name=""/>
                <p:cNvGrpSpPr/>
                <p:nvPr/>
              </p:nvGrpSpPr>
              <p:grpSpPr>
                <a:xfrm>
                  <a:off x="4000320" y="3250080"/>
                  <a:ext cx="146880" cy="147600"/>
                  <a:chOff x="4000320" y="3250080"/>
                  <a:chExt cx="146880" cy="147600"/>
                </a:xfrm>
              </p:grpSpPr>
              <p:sp>
                <p:nvSpPr>
                  <p:cNvPr id="14354" name=""/>
                  <p:cNvSpPr/>
                  <p:nvPr/>
                </p:nvSpPr>
                <p:spPr>
                  <a:xfrm rot="13469400">
                    <a:off x="4028040" y="32652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5" name=""/>
                  <p:cNvSpPr/>
                  <p:nvPr/>
                </p:nvSpPr>
                <p:spPr>
                  <a:xfrm flipH="1">
                    <a:off x="4074120" y="3258720"/>
                    <a:ext cx="432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6" name=""/>
                  <p:cNvSpPr/>
                  <p:nvPr/>
                </p:nvSpPr>
                <p:spPr>
                  <a:xfrm flipH="1">
                    <a:off x="4066200" y="329004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7" name=""/>
                  <p:cNvSpPr/>
                  <p:nvPr/>
                </p:nvSpPr>
                <p:spPr>
                  <a:xfrm>
                    <a:off x="4078800" y="3309840"/>
                    <a:ext cx="936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8" name=""/>
                  <p:cNvSpPr/>
                  <p:nvPr/>
                </p:nvSpPr>
                <p:spPr>
                  <a:xfrm flipH="1">
                    <a:off x="4068720" y="3325680"/>
                    <a:ext cx="324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59" name=""/>
                <p:cNvGrpSpPr/>
                <p:nvPr/>
              </p:nvGrpSpPr>
              <p:grpSpPr>
                <a:xfrm>
                  <a:off x="3917520" y="3274920"/>
                  <a:ext cx="137880" cy="147240"/>
                  <a:chOff x="3917520" y="3274920"/>
                  <a:chExt cx="137880" cy="147240"/>
                </a:xfrm>
              </p:grpSpPr>
              <p:sp>
                <p:nvSpPr>
                  <p:cNvPr id="14360" name=""/>
                  <p:cNvSpPr/>
                  <p:nvPr/>
                </p:nvSpPr>
                <p:spPr>
                  <a:xfrm rot="12630000">
                    <a:off x="3940920" y="32896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1" name=""/>
                  <p:cNvSpPr/>
                  <p:nvPr/>
                </p:nvSpPr>
                <p:spPr>
                  <a:xfrm>
                    <a:off x="3975480" y="3284280"/>
                    <a:ext cx="17280" cy="88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2" name=""/>
                  <p:cNvSpPr/>
                  <p:nvPr/>
                </p:nvSpPr>
                <p:spPr>
                  <a:xfrm flipH="1">
                    <a:off x="3974760" y="3315960"/>
                    <a:ext cx="288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3" name=""/>
                  <p:cNvSpPr/>
                  <p:nvPr/>
                </p:nvSpPr>
                <p:spPr>
                  <a:xfrm>
                    <a:off x="3988080" y="3333600"/>
                    <a:ext cx="12960" cy="136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4" name=""/>
                  <p:cNvSpPr/>
                  <p:nvPr/>
                </p:nvSpPr>
                <p:spPr>
                  <a:xfrm flipH="1">
                    <a:off x="3984840" y="3350520"/>
                    <a:ext cx="36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65" name=""/>
                <p:cNvGrpSpPr/>
                <p:nvPr/>
              </p:nvGrpSpPr>
              <p:grpSpPr>
                <a:xfrm>
                  <a:off x="3655440" y="3211920"/>
                  <a:ext cx="147960" cy="139320"/>
                  <a:chOff x="3655440" y="3211920"/>
                  <a:chExt cx="147960" cy="139320"/>
                </a:xfrm>
              </p:grpSpPr>
              <p:sp>
                <p:nvSpPr>
                  <p:cNvPr id="14366" name=""/>
                  <p:cNvSpPr/>
                  <p:nvPr/>
                </p:nvSpPr>
                <p:spPr>
                  <a:xfrm rot="14281800">
                    <a:off x="3683520" y="322272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7" name=""/>
                  <p:cNvSpPr/>
                  <p:nvPr/>
                </p:nvSpPr>
                <p:spPr>
                  <a:xfrm flipH="1">
                    <a:off x="3723480" y="3219120"/>
                    <a:ext cx="25560" cy="86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8" name=""/>
                  <p:cNvSpPr/>
                  <p:nvPr/>
                </p:nvSpPr>
                <p:spPr>
                  <a:xfrm flipH="1">
                    <a:off x="3726000" y="3248280"/>
                    <a:ext cx="10080" cy="129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9" name=""/>
                  <p:cNvSpPr/>
                  <p:nvPr/>
                </p:nvSpPr>
                <p:spPr>
                  <a:xfrm>
                    <a:off x="3737160" y="3268800"/>
                    <a:ext cx="5400" cy="18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0" name=""/>
                  <p:cNvSpPr/>
                  <p:nvPr/>
                </p:nvSpPr>
                <p:spPr>
                  <a:xfrm flipH="1">
                    <a:off x="3721320" y="3282480"/>
                    <a:ext cx="5760" cy="10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71" name=""/>
                <p:cNvGrpSpPr/>
                <p:nvPr/>
              </p:nvGrpSpPr>
              <p:grpSpPr>
                <a:xfrm>
                  <a:off x="3711240" y="3269880"/>
                  <a:ext cx="144720" cy="148680"/>
                  <a:chOff x="3711240" y="3269880"/>
                  <a:chExt cx="144720" cy="148680"/>
                </a:xfrm>
              </p:grpSpPr>
              <p:sp>
                <p:nvSpPr>
                  <p:cNvPr id="14372" name=""/>
                  <p:cNvSpPr/>
                  <p:nvPr/>
                </p:nvSpPr>
                <p:spPr>
                  <a:xfrm rot="13153200">
                    <a:off x="3737880" y="3285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3" name=""/>
                  <p:cNvSpPr/>
                  <p:nvPr/>
                </p:nvSpPr>
                <p:spPr>
                  <a:xfrm>
                    <a:off x="3782160" y="3279240"/>
                    <a:ext cx="3600" cy="903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4" name=""/>
                  <p:cNvSpPr/>
                  <p:nvPr/>
                </p:nvSpPr>
                <p:spPr>
                  <a:xfrm flipH="1">
                    <a:off x="3774240" y="3310920"/>
                    <a:ext cx="540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5" name=""/>
                  <p:cNvSpPr/>
                  <p:nvPr/>
                </p:nvSpPr>
                <p:spPr>
                  <a:xfrm>
                    <a:off x="3787200" y="3330000"/>
                    <a:ext cx="104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6" name=""/>
                  <p:cNvSpPr/>
                  <p:nvPr/>
                </p:nvSpPr>
                <p:spPr>
                  <a:xfrm flipH="1">
                    <a:off x="3779640" y="3346200"/>
                    <a:ext cx="216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77" name=""/>
                <p:cNvGrpSpPr/>
                <p:nvPr/>
              </p:nvGrpSpPr>
              <p:grpSpPr>
                <a:xfrm>
                  <a:off x="3776760" y="3210840"/>
                  <a:ext cx="148320" cy="146160"/>
                  <a:chOff x="3776760" y="3210840"/>
                  <a:chExt cx="148320" cy="146160"/>
                </a:xfrm>
              </p:grpSpPr>
              <p:sp>
                <p:nvSpPr>
                  <p:cNvPr id="14378" name=""/>
                  <p:cNvSpPr/>
                  <p:nvPr/>
                </p:nvSpPr>
                <p:spPr>
                  <a:xfrm rot="13672800">
                    <a:off x="3805200" y="32248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9" name=""/>
                  <p:cNvSpPr/>
                  <p:nvPr/>
                </p:nvSpPr>
                <p:spPr>
                  <a:xfrm flipH="1">
                    <a:off x="3849480" y="3219120"/>
                    <a:ext cx="10080" cy="900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0" name=""/>
                  <p:cNvSpPr/>
                  <p:nvPr/>
                </p:nvSpPr>
                <p:spPr>
                  <a:xfrm flipH="1">
                    <a:off x="3844440" y="3250080"/>
                    <a:ext cx="7560" cy="147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1" name=""/>
                  <p:cNvSpPr/>
                  <p:nvPr/>
                </p:nvSpPr>
                <p:spPr>
                  <a:xfrm>
                    <a:off x="3856680" y="3270240"/>
                    <a:ext cx="828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2" name=""/>
                  <p:cNvSpPr/>
                  <p:nvPr/>
                </p:nvSpPr>
                <p:spPr>
                  <a:xfrm flipH="1">
                    <a:off x="3845160" y="3285360"/>
                    <a:ext cx="360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3" name=""/>
                <p:cNvGrpSpPr/>
                <p:nvPr/>
              </p:nvGrpSpPr>
              <p:grpSpPr>
                <a:xfrm>
                  <a:off x="3682800" y="3116520"/>
                  <a:ext cx="137880" cy="119520"/>
                  <a:chOff x="3682800" y="3116520"/>
                  <a:chExt cx="137880" cy="119520"/>
                </a:xfrm>
              </p:grpSpPr>
              <p:sp>
                <p:nvSpPr>
                  <p:cNvPr id="14384" name=""/>
                  <p:cNvSpPr/>
                  <p:nvPr/>
                </p:nvSpPr>
                <p:spPr>
                  <a:xfrm rot="15256800">
                    <a:off x="3706200" y="311760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5" name=""/>
                  <p:cNvSpPr/>
                  <p:nvPr/>
                </p:nvSpPr>
                <p:spPr>
                  <a:xfrm flipH="1">
                    <a:off x="3738960" y="3121920"/>
                    <a:ext cx="48960" cy="763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6" name=""/>
                  <p:cNvSpPr/>
                  <p:nvPr/>
                </p:nvSpPr>
                <p:spPr>
                  <a:xfrm flipH="1">
                    <a:off x="3754080" y="3146400"/>
                    <a:ext cx="13320" cy="9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7" name=""/>
                  <p:cNvSpPr/>
                  <p:nvPr/>
                </p:nvSpPr>
                <p:spPr>
                  <a:xfrm>
                    <a:off x="3762720" y="3166560"/>
                    <a:ext cx="0" cy="18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8" name=""/>
                  <p:cNvSpPr/>
                  <p:nvPr/>
                </p:nvSpPr>
                <p:spPr>
                  <a:xfrm flipH="1">
                    <a:off x="3740760" y="3176640"/>
                    <a:ext cx="8280" cy="82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9" name=""/>
                <p:cNvGrpSpPr/>
                <p:nvPr/>
              </p:nvGrpSpPr>
              <p:grpSpPr>
                <a:xfrm>
                  <a:off x="3863880" y="3061800"/>
                  <a:ext cx="153720" cy="118080"/>
                  <a:chOff x="3863880" y="3061800"/>
                  <a:chExt cx="153720" cy="118080"/>
                </a:xfrm>
              </p:grpSpPr>
              <p:sp>
                <p:nvSpPr>
                  <p:cNvPr id="14390" name=""/>
                  <p:cNvSpPr/>
                  <p:nvPr/>
                </p:nvSpPr>
                <p:spPr>
                  <a:xfrm rot="17308200">
                    <a:off x="3900960" y="305280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1" name=""/>
                  <p:cNvSpPr/>
                  <p:nvPr/>
                </p:nvSpPr>
                <p:spPr>
                  <a:xfrm flipH="1">
                    <a:off x="3916080" y="3104280"/>
                    <a:ext cx="91080" cy="24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2" name=""/>
                  <p:cNvSpPr/>
                  <p:nvPr/>
                </p:nvSpPr>
                <p:spPr>
                  <a:xfrm flipH="1" flipV="1">
                    <a:off x="3954960" y="3108600"/>
                    <a:ext cx="1872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3" name=""/>
                  <p:cNvSpPr/>
                  <p:nvPr/>
                </p:nvSpPr>
                <p:spPr>
                  <a:xfrm flipH="1">
                    <a:off x="3945960" y="3121200"/>
                    <a:ext cx="10800" cy="12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4" name=""/>
                  <p:cNvSpPr/>
                  <p:nvPr/>
                </p:nvSpPr>
                <p:spPr>
                  <a:xfrm flipH="1">
                    <a:off x="3925080" y="311976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95" name=""/>
                <p:cNvGrpSpPr/>
                <p:nvPr/>
              </p:nvGrpSpPr>
              <p:grpSpPr>
                <a:xfrm>
                  <a:off x="3967920" y="2896920"/>
                  <a:ext cx="146160" cy="148320"/>
                  <a:chOff x="3967920" y="2896920"/>
                  <a:chExt cx="146160" cy="148320"/>
                </a:xfrm>
              </p:grpSpPr>
              <p:sp>
                <p:nvSpPr>
                  <p:cNvPr id="14396" name=""/>
                  <p:cNvSpPr/>
                  <p:nvPr/>
                </p:nvSpPr>
                <p:spPr>
                  <a:xfrm rot="2504400">
                    <a:off x="3995280" y="29120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7" name=""/>
                  <p:cNvSpPr/>
                  <p:nvPr/>
                </p:nvSpPr>
                <p:spPr>
                  <a:xfrm flipV="1">
                    <a:off x="4039560" y="2945520"/>
                    <a:ext cx="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8" name=""/>
                  <p:cNvSpPr/>
                  <p:nvPr/>
                </p:nvSpPr>
                <p:spPr>
                  <a:xfrm flipV="1">
                    <a:off x="4043520" y="2989080"/>
                    <a:ext cx="6120" cy="154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9" name=""/>
                  <p:cNvSpPr/>
                  <p:nvPr/>
                </p:nvSpPr>
                <p:spPr>
                  <a:xfrm flipH="1" flipV="1">
                    <a:off x="4026600" y="2969280"/>
                    <a:ext cx="1008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0" name=""/>
                  <p:cNvSpPr/>
                  <p:nvPr/>
                </p:nvSpPr>
                <p:spPr>
                  <a:xfrm flipV="1">
                    <a:off x="4042800" y="2957760"/>
                    <a:ext cx="252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1" name=""/>
                <p:cNvGrpSpPr/>
                <p:nvPr/>
              </p:nvGrpSpPr>
              <p:grpSpPr>
                <a:xfrm>
                  <a:off x="4078080" y="2952360"/>
                  <a:ext cx="146880" cy="147600"/>
                  <a:chOff x="4078080" y="2952360"/>
                  <a:chExt cx="146880" cy="147600"/>
                </a:xfrm>
              </p:grpSpPr>
              <p:sp>
                <p:nvSpPr>
                  <p:cNvPr id="14402" name=""/>
                  <p:cNvSpPr/>
                  <p:nvPr/>
                </p:nvSpPr>
                <p:spPr>
                  <a:xfrm rot="2624400">
                    <a:off x="4105800" y="296748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3" name=""/>
                  <p:cNvSpPr/>
                  <p:nvPr/>
                </p:nvSpPr>
                <p:spPr>
                  <a:xfrm flipV="1">
                    <a:off x="4147560" y="3000600"/>
                    <a:ext cx="3240" cy="907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4" name=""/>
                  <p:cNvSpPr/>
                  <p:nvPr/>
                </p:nvSpPr>
                <p:spPr>
                  <a:xfrm flipV="1">
                    <a:off x="4152600" y="3044520"/>
                    <a:ext cx="6840" cy="151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5" name=""/>
                  <p:cNvSpPr/>
                  <p:nvPr/>
                </p:nvSpPr>
                <p:spPr>
                  <a:xfrm flipH="1" flipV="1">
                    <a:off x="4137120" y="3024000"/>
                    <a:ext cx="9720" cy="162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6" name=""/>
                  <p:cNvSpPr/>
                  <p:nvPr/>
                </p:nvSpPr>
                <p:spPr>
                  <a:xfrm flipV="1">
                    <a:off x="4153320" y="3012840"/>
                    <a:ext cx="288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07" name=""/>
                <p:cNvGrpSpPr/>
                <p:nvPr/>
              </p:nvGrpSpPr>
              <p:grpSpPr>
                <a:xfrm>
                  <a:off x="3931200" y="3180240"/>
                  <a:ext cx="156960" cy="131760"/>
                  <a:chOff x="3931200" y="3180240"/>
                  <a:chExt cx="156960" cy="131760"/>
                </a:xfrm>
              </p:grpSpPr>
              <p:sp>
                <p:nvSpPr>
                  <p:cNvPr id="14408" name=""/>
                  <p:cNvSpPr/>
                  <p:nvPr/>
                </p:nvSpPr>
                <p:spPr>
                  <a:xfrm rot="17797200">
                    <a:off x="3969720" y="3178080"/>
                    <a:ext cx="7920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9" name=""/>
                  <p:cNvSpPr/>
                  <p:nvPr/>
                </p:nvSpPr>
                <p:spPr>
                  <a:xfrm flipH="1">
                    <a:off x="3983760" y="3238920"/>
                    <a:ext cx="93600" cy="11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0" name=""/>
                  <p:cNvSpPr/>
                  <p:nvPr/>
                </p:nvSpPr>
                <p:spPr>
                  <a:xfrm flipH="1" flipV="1">
                    <a:off x="4025160" y="3235680"/>
                    <a:ext cx="18360" cy="36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1" name=""/>
                  <p:cNvSpPr/>
                  <p:nvPr/>
                </p:nvSpPr>
                <p:spPr>
                  <a:xfrm flipH="1">
                    <a:off x="4012920" y="3248280"/>
                    <a:ext cx="12240" cy="11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2" name=""/>
                  <p:cNvSpPr/>
                  <p:nvPr/>
                </p:nvSpPr>
                <p:spPr>
                  <a:xfrm flipH="1" flipV="1">
                    <a:off x="3993840" y="3243240"/>
                    <a:ext cx="12960" cy="10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3" name=""/>
                <p:cNvGrpSpPr/>
                <p:nvPr/>
              </p:nvGrpSpPr>
              <p:grpSpPr>
                <a:xfrm>
                  <a:off x="3807360" y="3233160"/>
                  <a:ext cx="137880" cy="119880"/>
                  <a:chOff x="3807360" y="3233160"/>
                  <a:chExt cx="137880" cy="119880"/>
                </a:xfrm>
              </p:grpSpPr>
              <p:sp>
                <p:nvSpPr>
                  <p:cNvPr id="14414" name=""/>
                  <p:cNvSpPr/>
                  <p:nvPr/>
                </p:nvSpPr>
                <p:spPr>
                  <a:xfrm rot="17161800">
                    <a:off x="3830760" y="323424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5" name=""/>
                  <p:cNvSpPr/>
                  <p:nvPr/>
                </p:nvSpPr>
                <p:spPr>
                  <a:xfrm flipH="1">
                    <a:off x="3853800" y="3266640"/>
                    <a:ext cx="81720" cy="38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6" name=""/>
                  <p:cNvSpPr/>
                  <p:nvPr/>
                </p:nvSpPr>
                <p:spPr>
                  <a:xfrm flipH="1">
                    <a:off x="3888720" y="3276360"/>
                    <a:ext cx="16560" cy="14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7" name=""/>
                  <p:cNvSpPr/>
                  <p:nvPr/>
                </p:nvSpPr>
                <p:spPr>
                  <a:xfrm flipH="1">
                    <a:off x="3880800" y="3291120"/>
                    <a:ext cx="97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8" name=""/>
                  <p:cNvSpPr/>
                  <p:nvPr/>
                </p:nvSpPr>
                <p:spPr>
                  <a:xfrm flipH="1">
                    <a:off x="3862080" y="3292560"/>
                    <a:ext cx="11520" cy="252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9" name=""/>
                <p:cNvGrpSpPr/>
                <p:nvPr/>
              </p:nvGrpSpPr>
              <p:grpSpPr>
                <a:xfrm>
                  <a:off x="3661920" y="3223440"/>
                  <a:ext cx="135360" cy="115560"/>
                  <a:chOff x="3661920" y="3223440"/>
                  <a:chExt cx="135360" cy="115560"/>
                </a:xfrm>
              </p:grpSpPr>
              <p:sp>
                <p:nvSpPr>
                  <p:cNvPr id="14420" name=""/>
                  <p:cNvSpPr/>
                  <p:nvPr/>
                </p:nvSpPr>
                <p:spPr>
                  <a:xfrm rot="17001600">
                    <a:off x="3683880" y="3222360"/>
                    <a:ext cx="9108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1" name=""/>
                  <p:cNvSpPr/>
                  <p:nvPr/>
                </p:nvSpPr>
                <p:spPr>
                  <a:xfrm flipH="1">
                    <a:off x="3707640" y="3251520"/>
                    <a:ext cx="79920" cy="42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2" name=""/>
                  <p:cNvSpPr/>
                  <p:nvPr/>
                </p:nvSpPr>
                <p:spPr>
                  <a:xfrm flipH="1">
                    <a:off x="3741480" y="3263040"/>
                    <a:ext cx="16200" cy="21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3" name=""/>
                  <p:cNvSpPr/>
                  <p:nvPr/>
                </p:nvSpPr>
                <p:spPr>
                  <a:xfrm flipH="1">
                    <a:off x="3734640" y="3278160"/>
                    <a:ext cx="9000" cy="1656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4" name=""/>
                  <p:cNvSpPr/>
                  <p:nvPr/>
                </p:nvSpPr>
                <p:spPr>
                  <a:xfrm flipH="1">
                    <a:off x="3715560" y="3280680"/>
                    <a:ext cx="1152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25" name=""/>
                <p:cNvGrpSpPr/>
                <p:nvPr/>
              </p:nvGrpSpPr>
              <p:grpSpPr>
                <a:xfrm>
                  <a:off x="3596040" y="3157920"/>
                  <a:ext cx="155880" cy="127080"/>
                  <a:chOff x="3596040" y="3157920"/>
                  <a:chExt cx="155880" cy="127080"/>
                </a:xfrm>
              </p:grpSpPr>
              <p:sp>
                <p:nvSpPr>
                  <p:cNvPr id="14426" name=""/>
                  <p:cNvSpPr/>
                  <p:nvPr/>
                </p:nvSpPr>
                <p:spPr>
                  <a:xfrm rot="17634600">
                    <a:off x="3634560" y="3153240"/>
                    <a:ext cx="7884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88" h="1021">
                        <a:moveTo>
                          <a:pt x="673" y="1005"/>
                        </a:moveTo>
                        <a:cubicBezTo>
                          <a:pt x="664" y="994"/>
                          <a:pt x="682" y="1000"/>
                          <a:pt x="620" y="945"/>
                        </a:cubicBezTo>
                        <a:cubicBezTo>
                          <a:pt x="558" y="890"/>
                          <a:pt x="401" y="817"/>
                          <a:pt x="303" y="673"/>
                        </a:cubicBezTo>
                        <a:cubicBezTo>
                          <a:pt x="205" y="529"/>
                          <a:pt x="60" y="166"/>
                          <a:pt x="30" y="83"/>
                        </a:cubicBezTo>
                        <a:cubicBezTo>
                          <a:pt x="0" y="0"/>
                          <a:pt x="38" y="98"/>
                          <a:pt x="121" y="174"/>
                        </a:cubicBezTo>
                        <a:cubicBezTo>
                          <a:pt x="204" y="250"/>
                          <a:pt x="438" y="408"/>
                          <a:pt x="529" y="537"/>
                        </a:cubicBezTo>
                        <a:cubicBezTo>
                          <a:pt x="620" y="666"/>
                          <a:pt x="642" y="869"/>
                          <a:pt x="665" y="945"/>
                        </a:cubicBezTo>
                        <a:cubicBezTo>
                          <a:pt x="688" y="1021"/>
                          <a:pt x="676" y="1006"/>
                          <a:pt x="665" y="991"/>
                        </a:cubicBezTo>
                        <a:cubicBezTo>
                          <a:pt x="665" y="991"/>
                          <a:pt x="673" y="1005"/>
                          <a:pt x="673" y="1005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156b13"/>
                      </a:gs>
                      <a:gs pos="100000">
                        <a:srgbClr val="ddebc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7" name=""/>
                  <p:cNvSpPr/>
                  <p:nvPr/>
                </p:nvSpPr>
                <p:spPr>
                  <a:xfrm flipH="1">
                    <a:off x="3649320" y="3211200"/>
                    <a:ext cx="92520" cy="1584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8" name=""/>
                  <p:cNvSpPr/>
                  <p:nvPr/>
                </p:nvSpPr>
                <p:spPr>
                  <a:xfrm flipH="1" flipV="1">
                    <a:off x="3689640" y="3210480"/>
                    <a:ext cx="18360" cy="2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9" name=""/>
                  <p:cNvSpPr/>
                  <p:nvPr/>
                </p:nvSpPr>
                <p:spPr>
                  <a:xfrm flipH="1">
                    <a:off x="3678480" y="3222720"/>
                    <a:ext cx="11880" cy="1188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0" name=""/>
                  <p:cNvSpPr/>
                  <p:nvPr/>
                </p:nvSpPr>
                <p:spPr>
                  <a:xfrm flipH="1">
                    <a:off x="3658680" y="3219840"/>
                    <a:ext cx="12960" cy="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431" name=""/>
          <p:cNvSpPr/>
          <p:nvPr/>
        </p:nvSpPr>
        <p:spPr>
          <a:xfrm flipH="1">
            <a:off x="1186920" y="-171360"/>
            <a:ext cx="8137800" cy="590544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2" name=""/>
          <p:cNvSpPr/>
          <p:nvPr/>
        </p:nvSpPr>
        <p:spPr>
          <a:xfrm flipH="1">
            <a:off x="5148360" y="-171360"/>
            <a:ext cx="4176720" cy="66247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3" name=""/>
          <p:cNvSpPr/>
          <p:nvPr/>
        </p:nvSpPr>
        <p:spPr>
          <a:xfrm flipH="1">
            <a:off x="1115640" y="-171360"/>
            <a:ext cx="8209080" cy="41767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4" name=""/>
          <p:cNvSpPr/>
          <p:nvPr/>
        </p:nvSpPr>
        <p:spPr>
          <a:xfrm flipH="1">
            <a:off x="539640" y="-171360"/>
            <a:ext cx="8785440" cy="244800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5" name=""/>
          <p:cNvSpPr/>
          <p:nvPr/>
        </p:nvSpPr>
        <p:spPr>
          <a:xfrm>
            <a:off x="1403280" y="4869000"/>
            <a:ext cx="1247760" cy="690480"/>
          </a:xfrm>
          <a:custGeom>
            <a:avLst/>
            <a:gdLst/>
            <a:ahLst/>
            <a:rect l="l" t="t" r="r" b="b"/>
            <a:pathLst>
              <a:path w="604" h="298">
                <a:moveTo>
                  <a:pt x="8" y="245"/>
                </a:moveTo>
                <a:cubicBezTo>
                  <a:pt x="0" y="238"/>
                  <a:pt x="48" y="225"/>
                  <a:pt x="48" y="202"/>
                </a:cubicBezTo>
                <a:cubicBezTo>
                  <a:pt x="48" y="179"/>
                  <a:pt x="0" y="117"/>
                  <a:pt x="8" y="109"/>
                </a:cubicBezTo>
                <a:cubicBezTo>
                  <a:pt x="16" y="101"/>
                  <a:pt x="75" y="162"/>
                  <a:pt x="98" y="155"/>
                </a:cubicBezTo>
                <a:cubicBezTo>
                  <a:pt x="121" y="148"/>
                  <a:pt x="128" y="66"/>
                  <a:pt x="144" y="64"/>
                </a:cubicBezTo>
                <a:cubicBezTo>
                  <a:pt x="160" y="62"/>
                  <a:pt x="176" y="138"/>
                  <a:pt x="192" y="145"/>
                </a:cubicBezTo>
                <a:cubicBezTo>
                  <a:pt x="208" y="152"/>
                  <a:pt x="236" y="133"/>
                  <a:pt x="242" y="109"/>
                </a:cubicBezTo>
                <a:cubicBezTo>
                  <a:pt x="248" y="85"/>
                  <a:pt x="218" y="0"/>
                  <a:pt x="228" y="1"/>
                </a:cubicBezTo>
                <a:cubicBezTo>
                  <a:pt x="238" y="2"/>
                  <a:pt x="269" y="111"/>
                  <a:pt x="300" y="116"/>
                </a:cubicBezTo>
                <a:cubicBezTo>
                  <a:pt x="331" y="121"/>
                  <a:pt x="397" y="27"/>
                  <a:pt x="415" y="29"/>
                </a:cubicBezTo>
                <a:cubicBezTo>
                  <a:pt x="433" y="31"/>
                  <a:pt x="383" y="113"/>
                  <a:pt x="408" y="130"/>
                </a:cubicBezTo>
                <a:cubicBezTo>
                  <a:pt x="433" y="147"/>
                  <a:pt x="550" y="118"/>
                  <a:pt x="566" y="130"/>
                </a:cubicBezTo>
                <a:cubicBezTo>
                  <a:pt x="582" y="142"/>
                  <a:pt x="501" y="181"/>
                  <a:pt x="506" y="200"/>
                </a:cubicBezTo>
                <a:cubicBezTo>
                  <a:pt x="511" y="219"/>
                  <a:pt x="604" y="238"/>
                  <a:pt x="597" y="245"/>
                </a:cubicBezTo>
                <a:cubicBezTo>
                  <a:pt x="590" y="252"/>
                  <a:pt x="491" y="252"/>
                  <a:pt x="461" y="245"/>
                </a:cubicBezTo>
                <a:cubicBezTo>
                  <a:pt x="431" y="238"/>
                  <a:pt x="423" y="192"/>
                  <a:pt x="416" y="200"/>
                </a:cubicBezTo>
                <a:cubicBezTo>
                  <a:pt x="409" y="208"/>
                  <a:pt x="431" y="284"/>
                  <a:pt x="416" y="291"/>
                </a:cubicBezTo>
                <a:cubicBezTo>
                  <a:pt x="401" y="298"/>
                  <a:pt x="355" y="253"/>
                  <a:pt x="325" y="245"/>
                </a:cubicBezTo>
                <a:cubicBezTo>
                  <a:pt x="295" y="237"/>
                  <a:pt x="272" y="245"/>
                  <a:pt x="234" y="245"/>
                </a:cubicBezTo>
                <a:cubicBezTo>
                  <a:pt x="196" y="245"/>
                  <a:pt x="136" y="245"/>
                  <a:pt x="98" y="245"/>
                </a:cubicBezTo>
                <a:cubicBezTo>
                  <a:pt x="60" y="245"/>
                  <a:pt x="24" y="251"/>
                  <a:pt x="8" y="245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6" name=""/>
          <p:cNvSpPr/>
          <p:nvPr/>
        </p:nvSpPr>
        <p:spPr>
          <a:xfrm>
            <a:off x="1547640" y="5084640"/>
            <a:ext cx="73080" cy="26352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7" name=""/>
          <p:cNvSpPr/>
          <p:nvPr/>
        </p:nvSpPr>
        <p:spPr>
          <a:xfrm flipH="1">
            <a:off x="1835280" y="5013360"/>
            <a:ext cx="7272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8" name=""/>
          <p:cNvSpPr/>
          <p:nvPr/>
        </p:nvSpPr>
        <p:spPr>
          <a:xfrm flipH="1">
            <a:off x="1978920" y="4941720"/>
            <a:ext cx="73080" cy="33516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9" name=""/>
          <p:cNvSpPr/>
          <p:nvPr/>
        </p:nvSpPr>
        <p:spPr>
          <a:xfrm flipH="1">
            <a:off x="2123280" y="50133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0" name=""/>
          <p:cNvSpPr/>
          <p:nvPr/>
        </p:nvSpPr>
        <p:spPr>
          <a:xfrm flipH="1">
            <a:off x="2339280" y="50133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1" name=""/>
          <p:cNvSpPr/>
          <p:nvPr/>
        </p:nvSpPr>
        <p:spPr>
          <a:xfrm>
            <a:off x="1619280" y="4869000"/>
            <a:ext cx="73080" cy="47916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2" name=""/>
          <p:cNvSpPr/>
          <p:nvPr/>
        </p:nvSpPr>
        <p:spPr>
          <a:xfrm>
            <a:off x="2916360" y="4221000"/>
            <a:ext cx="1247760" cy="690840"/>
          </a:xfrm>
          <a:custGeom>
            <a:avLst/>
            <a:gdLst/>
            <a:ahLst/>
            <a:rect l="l" t="t" r="r" b="b"/>
            <a:pathLst>
              <a:path w="604" h="298">
                <a:moveTo>
                  <a:pt x="8" y="245"/>
                </a:moveTo>
                <a:cubicBezTo>
                  <a:pt x="0" y="238"/>
                  <a:pt x="48" y="225"/>
                  <a:pt x="48" y="202"/>
                </a:cubicBezTo>
                <a:cubicBezTo>
                  <a:pt x="48" y="179"/>
                  <a:pt x="0" y="117"/>
                  <a:pt x="8" y="109"/>
                </a:cubicBezTo>
                <a:cubicBezTo>
                  <a:pt x="16" y="101"/>
                  <a:pt x="75" y="162"/>
                  <a:pt x="98" y="155"/>
                </a:cubicBezTo>
                <a:cubicBezTo>
                  <a:pt x="121" y="148"/>
                  <a:pt x="128" y="66"/>
                  <a:pt x="144" y="64"/>
                </a:cubicBezTo>
                <a:cubicBezTo>
                  <a:pt x="160" y="62"/>
                  <a:pt x="176" y="138"/>
                  <a:pt x="192" y="145"/>
                </a:cubicBezTo>
                <a:cubicBezTo>
                  <a:pt x="208" y="152"/>
                  <a:pt x="236" y="133"/>
                  <a:pt x="242" y="109"/>
                </a:cubicBezTo>
                <a:cubicBezTo>
                  <a:pt x="248" y="85"/>
                  <a:pt x="218" y="0"/>
                  <a:pt x="228" y="1"/>
                </a:cubicBezTo>
                <a:cubicBezTo>
                  <a:pt x="238" y="2"/>
                  <a:pt x="269" y="111"/>
                  <a:pt x="300" y="116"/>
                </a:cubicBezTo>
                <a:cubicBezTo>
                  <a:pt x="331" y="121"/>
                  <a:pt x="397" y="27"/>
                  <a:pt x="415" y="29"/>
                </a:cubicBezTo>
                <a:cubicBezTo>
                  <a:pt x="433" y="31"/>
                  <a:pt x="383" y="113"/>
                  <a:pt x="408" y="130"/>
                </a:cubicBezTo>
                <a:cubicBezTo>
                  <a:pt x="433" y="147"/>
                  <a:pt x="550" y="118"/>
                  <a:pt x="566" y="130"/>
                </a:cubicBezTo>
                <a:cubicBezTo>
                  <a:pt x="582" y="142"/>
                  <a:pt x="501" y="181"/>
                  <a:pt x="506" y="200"/>
                </a:cubicBezTo>
                <a:cubicBezTo>
                  <a:pt x="511" y="219"/>
                  <a:pt x="604" y="238"/>
                  <a:pt x="597" y="245"/>
                </a:cubicBezTo>
                <a:cubicBezTo>
                  <a:pt x="590" y="252"/>
                  <a:pt x="491" y="252"/>
                  <a:pt x="461" y="245"/>
                </a:cubicBezTo>
                <a:cubicBezTo>
                  <a:pt x="431" y="238"/>
                  <a:pt x="423" y="192"/>
                  <a:pt x="416" y="200"/>
                </a:cubicBezTo>
                <a:cubicBezTo>
                  <a:pt x="409" y="208"/>
                  <a:pt x="431" y="284"/>
                  <a:pt x="416" y="291"/>
                </a:cubicBezTo>
                <a:cubicBezTo>
                  <a:pt x="401" y="298"/>
                  <a:pt x="355" y="253"/>
                  <a:pt x="325" y="245"/>
                </a:cubicBezTo>
                <a:cubicBezTo>
                  <a:pt x="295" y="237"/>
                  <a:pt x="272" y="245"/>
                  <a:pt x="234" y="245"/>
                </a:cubicBezTo>
                <a:cubicBezTo>
                  <a:pt x="196" y="245"/>
                  <a:pt x="136" y="245"/>
                  <a:pt x="98" y="245"/>
                </a:cubicBezTo>
                <a:cubicBezTo>
                  <a:pt x="60" y="245"/>
                  <a:pt x="24" y="251"/>
                  <a:pt x="8" y="245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3" name=""/>
          <p:cNvSpPr/>
          <p:nvPr/>
        </p:nvSpPr>
        <p:spPr>
          <a:xfrm>
            <a:off x="3060720" y="4506840"/>
            <a:ext cx="73080" cy="26352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4" name=""/>
          <p:cNvSpPr/>
          <p:nvPr/>
        </p:nvSpPr>
        <p:spPr>
          <a:xfrm flipH="1">
            <a:off x="3347280" y="44355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5" name=""/>
          <p:cNvSpPr/>
          <p:nvPr/>
        </p:nvSpPr>
        <p:spPr>
          <a:xfrm flipH="1">
            <a:off x="3491640" y="4363920"/>
            <a:ext cx="73080" cy="33516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6" name=""/>
          <p:cNvSpPr/>
          <p:nvPr/>
        </p:nvSpPr>
        <p:spPr>
          <a:xfrm flipH="1">
            <a:off x="3636360" y="44355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7" name=""/>
          <p:cNvSpPr/>
          <p:nvPr/>
        </p:nvSpPr>
        <p:spPr>
          <a:xfrm flipH="1">
            <a:off x="3852000" y="4435560"/>
            <a:ext cx="73080" cy="33480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8" name=""/>
          <p:cNvSpPr/>
          <p:nvPr/>
        </p:nvSpPr>
        <p:spPr>
          <a:xfrm>
            <a:off x="3132000" y="4290840"/>
            <a:ext cx="73080" cy="479520"/>
          </a:xfrm>
          <a:custGeom>
            <a:avLst/>
            <a:gdLst/>
            <a:ahLst/>
            <a:rect l="l" t="t" r="r" b="b"/>
            <a:pathLst>
              <a:path w="46" h="347">
                <a:moveTo>
                  <a:pt x="2" y="8"/>
                </a:moveTo>
                <a:cubicBezTo>
                  <a:pt x="0" y="16"/>
                  <a:pt x="12" y="132"/>
                  <a:pt x="16" y="181"/>
                </a:cubicBezTo>
                <a:cubicBezTo>
                  <a:pt x="20" y="230"/>
                  <a:pt x="20" y="279"/>
                  <a:pt x="25" y="302"/>
                </a:cubicBezTo>
                <a:cubicBezTo>
                  <a:pt x="30" y="325"/>
                  <a:pt x="44" y="347"/>
                  <a:pt x="45" y="318"/>
                </a:cubicBezTo>
                <a:cubicBezTo>
                  <a:pt x="46" y="289"/>
                  <a:pt x="38" y="182"/>
                  <a:pt x="31" y="130"/>
                </a:cubicBezTo>
                <a:cubicBezTo>
                  <a:pt x="24" y="78"/>
                  <a:pt x="4" y="0"/>
                  <a:pt x="2" y="8"/>
                </a:cubicBezTo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49" name=""/>
          <p:cNvGrpSpPr/>
          <p:nvPr/>
        </p:nvGrpSpPr>
        <p:grpSpPr>
          <a:xfrm>
            <a:off x="6659640" y="5589720"/>
            <a:ext cx="1247760" cy="690480"/>
            <a:chOff x="6659640" y="5589720"/>
            <a:chExt cx="1247760" cy="690480"/>
          </a:xfrm>
        </p:grpSpPr>
        <p:sp>
          <p:nvSpPr>
            <p:cNvPr id="14450" name=""/>
            <p:cNvSpPr/>
            <p:nvPr/>
          </p:nvSpPr>
          <p:spPr>
            <a:xfrm>
              <a:off x="6659640" y="5589720"/>
              <a:ext cx="1247760" cy="690480"/>
            </a:xfrm>
            <a:custGeom>
              <a:avLst/>
              <a:gdLst/>
              <a:ahLst/>
              <a:rect l="l" t="t" r="r" b="b"/>
              <a:pathLst>
                <a:path w="604" h="298">
                  <a:moveTo>
                    <a:pt x="8" y="245"/>
                  </a:moveTo>
                  <a:cubicBezTo>
                    <a:pt x="0" y="238"/>
                    <a:pt x="48" y="225"/>
                    <a:pt x="48" y="202"/>
                  </a:cubicBezTo>
                  <a:cubicBezTo>
                    <a:pt x="48" y="179"/>
                    <a:pt x="0" y="117"/>
                    <a:pt x="8" y="109"/>
                  </a:cubicBezTo>
                  <a:cubicBezTo>
                    <a:pt x="16" y="101"/>
                    <a:pt x="75" y="162"/>
                    <a:pt x="98" y="155"/>
                  </a:cubicBezTo>
                  <a:cubicBezTo>
                    <a:pt x="121" y="148"/>
                    <a:pt x="128" y="66"/>
                    <a:pt x="144" y="64"/>
                  </a:cubicBezTo>
                  <a:cubicBezTo>
                    <a:pt x="160" y="62"/>
                    <a:pt x="176" y="138"/>
                    <a:pt x="192" y="145"/>
                  </a:cubicBezTo>
                  <a:cubicBezTo>
                    <a:pt x="208" y="152"/>
                    <a:pt x="236" y="133"/>
                    <a:pt x="242" y="109"/>
                  </a:cubicBezTo>
                  <a:cubicBezTo>
                    <a:pt x="248" y="85"/>
                    <a:pt x="218" y="0"/>
                    <a:pt x="228" y="1"/>
                  </a:cubicBezTo>
                  <a:cubicBezTo>
                    <a:pt x="238" y="2"/>
                    <a:pt x="269" y="111"/>
                    <a:pt x="300" y="116"/>
                  </a:cubicBezTo>
                  <a:cubicBezTo>
                    <a:pt x="331" y="121"/>
                    <a:pt x="397" y="27"/>
                    <a:pt x="415" y="29"/>
                  </a:cubicBezTo>
                  <a:cubicBezTo>
                    <a:pt x="433" y="31"/>
                    <a:pt x="383" y="113"/>
                    <a:pt x="408" y="130"/>
                  </a:cubicBezTo>
                  <a:cubicBezTo>
                    <a:pt x="433" y="147"/>
                    <a:pt x="550" y="118"/>
                    <a:pt x="566" y="130"/>
                  </a:cubicBezTo>
                  <a:cubicBezTo>
                    <a:pt x="582" y="142"/>
                    <a:pt x="501" y="181"/>
                    <a:pt x="506" y="200"/>
                  </a:cubicBezTo>
                  <a:cubicBezTo>
                    <a:pt x="511" y="219"/>
                    <a:pt x="604" y="238"/>
                    <a:pt x="597" y="245"/>
                  </a:cubicBezTo>
                  <a:cubicBezTo>
                    <a:pt x="590" y="252"/>
                    <a:pt x="491" y="252"/>
                    <a:pt x="461" y="245"/>
                  </a:cubicBezTo>
                  <a:cubicBezTo>
                    <a:pt x="431" y="238"/>
                    <a:pt x="423" y="192"/>
                    <a:pt x="416" y="200"/>
                  </a:cubicBezTo>
                  <a:cubicBezTo>
                    <a:pt x="409" y="208"/>
                    <a:pt x="431" y="284"/>
                    <a:pt x="416" y="291"/>
                  </a:cubicBezTo>
                  <a:cubicBezTo>
                    <a:pt x="401" y="298"/>
                    <a:pt x="355" y="253"/>
                    <a:pt x="325" y="245"/>
                  </a:cubicBezTo>
                  <a:cubicBezTo>
                    <a:pt x="295" y="237"/>
                    <a:pt x="272" y="245"/>
                    <a:pt x="234" y="245"/>
                  </a:cubicBezTo>
                  <a:cubicBezTo>
                    <a:pt x="196" y="245"/>
                    <a:pt x="136" y="245"/>
                    <a:pt x="98" y="245"/>
                  </a:cubicBezTo>
                  <a:cubicBezTo>
                    <a:pt x="60" y="245"/>
                    <a:pt x="24" y="251"/>
                    <a:pt x="8" y="24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1" name=""/>
            <p:cNvSpPr/>
            <p:nvPr/>
          </p:nvSpPr>
          <p:spPr>
            <a:xfrm>
              <a:off x="6804000" y="5805360"/>
              <a:ext cx="73080" cy="26352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2" name=""/>
            <p:cNvSpPr/>
            <p:nvPr/>
          </p:nvSpPr>
          <p:spPr>
            <a:xfrm flipH="1">
              <a:off x="7090560" y="5734080"/>
              <a:ext cx="7308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3" name=""/>
            <p:cNvSpPr/>
            <p:nvPr/>
          </p:nvSpPr>
          <p:spPr>
            <a:xfrm flipH="1">
              <a:off x="7236000" y="5662440"/>
              <a:ext cx="72720" cy="33516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4" name=""/>
            <p:cNvSpPr/>
            <p:nvPr/>
          </p:nvSpPr>
          <p:spPr>
            <a:xfrm flipH="1">
              <a:off x="7379640" y="5734080"/>
              <a:ext cx="7308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5" name=""/>
            <p:cNvSpPr/>
            <p:nvPr/>
          </p:nvSpPr>
          <p:spPr>
            <a:xfrm flipH="1">
              <a:off x="7596360" y="5734080"/>
              <a:ext cx="7272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6" name=""/>
            <p:cNvSpPr/>
            <p:nvPr/>
          </p:nvSpPr>
          <p:spPr>
            <a:xfrm>
              <a:off x="6875640" y="5589720"/>
              <a:ext cx="72720" cy="47916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7" name=""/>
          <p:cNvGrpSpPr/>
          <p:nvPr/>
        </p:nvGrpSpPr>
        <p:grpSpPr>
          <a:xfrm>
            <a:off x="4211640" y="5516640"/>
            <a:ext cx="1247760" cy="690480"/>
            <a:chOff x="4211640" y="5516640"/>
            <a:chExt cx="1247760" cy="690480"/>
          </a:xfrm>
        </p:grpSpPr>
        <p:sp>
          <p:nvSpPr>
            <p:cNvPr id="14458" name=""/>
            <p:cNvSpPr/>
            <p:nvPr/>
          </p:nvSpPr>
          <p:spPr>
            <a:xfrm>
              <a:off x="4211640" y="5516640"/>
              <a:ext cx="1247760" cy="690480"/>
            </a:xfrm>
            <a:custGeom>
              <a:avLst/>
              <a:gdLst/>
              <a:ahLst/>
              <a:rect l="l" t="t" r="r" b="b"/>
              <a:pathLst>
                <a:path w="604" h="298">
                  <a:moveTo>
                    <a:pt x="8" y="245"/>
                  </a:moveTo>
                  <a:cubicBezTo>
                    <a:pt x="0" y="238"/>
                    <a:pt x="48" y="225"/>
                    <a:pt x="48" y="202"/>
                  </a:cubicBezTo>
                  <a:cubicBezTo>
                    <a:pt x="48" y="179"/>
                    <a:pt x="0" y="117"/>
                    <a:pt x="8" y="109"/>
                  </a:cubicBezTo>
                  <a:cubicBezTo>
                    <a:pt x="16" y="101"/>
                    <a:pt x="75" y="162"/>
                    <a:pt x="98" y="155"/>
                  </a:cubicBezTo>
                  <a:cubicBezTo>
                    <a:pt x="121" y="148"/>
                    <a:pt x="128" y="66"/>
                    <a:pt x="144" y="64"/>
                  </a:cubicBezTo>
                  <a:cubicBezTo>
                    <a:pt x="160" y="62"/>
                    <a:pt x="176" y="138"/>
                    <a:pt x="192" y="145"/>
                  </a:cubicBezTo>
                  <a:cubicBezTo>
                    <a:pt x="208" y="152"/>
                    <a:pt x="236" y="133"/>
                    <a:pt x="242" y="109"/>
                  </a:cubicBezTo>
                  <a:cubicBezTo>
                    <a:pt x="248" y="85"/>
                    <a:pt x="218" y="0"/>
                    <a:pt x="228" y="1"/>
                  </a:cubicBezTo>
                  <a:cubicBezTo>
                    <a:pt x="238" y="2"/>
                    <a:pt x="269" y="111"/>
                    <a:pt x="300" y="116"/>
                  </a:cubicBezTo>
                  <a:cubicBezTo>
                    <a:pt x="331" y="121"/>
                    <a:pt x="397" y="27"/>
                    <a:pt x="415" y="29"/>
                  </a:cubicBezTo>
                  <a:cubicBezTo>
                    <a:pt x="433" y="31"/>
                    <a:pt x="383" y="113"/>
                    <a:pt x="408" y="130"/>
                  </a:cubicBezTo>
                  <a:cubicBezTo>
                    <a:pt x="433" y="147"/>
                    <a:pt x="550" y="118"/>
                    <a:pt x="566" y="130"/>
                  </a:cubicBezTo>
                  <a:cubicBezTo>
                    <a:pt x="582" y="142"/>
                    <a:pt x="501" y="181"/>
                    <a:pt x="506" y="200"/>
                  </a:cubicBezTo>
                  <a:cubicBezTo>
                    <a:pt x="511" y="219"/>
                    <a:pt x="604" y="238"/>
                    <a:pt x="597" y="245"/>
                  </a:cubicBezTo>
                  <a:cubicBezTo>
                    <a:pt x="590" y="252"/>
                    <a:pt x="491" y="252"/>
                    <a:pt x="461" y="245"/>
                  </a:cubicBezTo>
                  <a:cubicBezTo>
                    <a:pt x="431" y="238"/>
                    <a:pt x="423" y="192"/>
                    <a:pt x="416" y="200"/>
                  </a:cubicBezTo>
                  <a:cubicBezTo>
                    <a:pt x="409" y="208"/>
                    <a:pt x="431" y="284"/>
                    <a:pt x="416" y="291"/>
                  </a:cubicBezTo>
                  <a:cubicBezTo>
                    <a:pt x="401" y="298"/>
                    <a:pt x="355" y="253"/>
                    <a:pt x="325" y="245"/>
                  </a:cubicBezTo>
                  <a:cubicBezTo>
                    <a:pt x="295" y="237"/>
                    <a:pt x="272" y="245"/>
                    <a:pt x="234" y="245"/>
                  </a:cubicBezTo>
                  <a:cubicBezTo>
                    <a:pt x="196" y="245"/>
                    <a:pt x="136" y="245"/>
                    <a:pt x="98" y="245"/>
                  </a:cubicBezTo>
                  <a:cubicBezTo>
                    <a:pt x="60" y="245"/>
                    <a:pt x="24" y="251"/>
                    <a:pt x="8" y="24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9" name=""/>
            <p:cNvSpPr/>
            <p:nvPr/>
          </p:nvSpPr>
          <p:spPr>
            <a:xfrm>
              <a:off x="4356000" y="5732280"/>
              <a:ext cx="73080" cy="26352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0" name=""/>
            <p:cNvSpPr/>
            <p:nvPr/>
          </p:nvSpPr>
          <p:spPr>
            <a:xfrm flipH="1">
              <a:off x="4642560" y="5661000"/>
              <a:ext cx="7308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1" name=""/>
            <p:cNvSpPr/>
            <p:nvPr/>
          </p:nvSpPr>
          <p:spPr>
            <a:xfrm flipH="1">
              <a:off x="4788000" y="5589360"/>
              <a:ext cx="72720" cy="33516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2" name=""/>
            <p:cNvSpPr/>
            <p:nvPr/>
          </p:nvSpPr>
          <p:spPr>
            <a:xfrm flipH="1">
              <a:off x="4931640" y="5661000"/>
              <a:ext cx="7308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3" name=""/>
            <p:cNvSpPr/>
            <p:nvPr/>
          </p:nvSpPr>
          <p:spPr>
            <a:xfrm flipH="1">
              <a:off x="5148360" y="5661000"/>
              <a:ext cx="72720" cy="33480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4" name=""/>
            <p:cNvSpPr/>
            <p:nvPr/>
          </p:nvSpPr>
          <p:spPr>
            <a:xfrm>
              <a:off x="4427640" y="5516640"/>
              <a:ext cx="72720" cy="479160"/>
            </a:xfrm>
            <a:custGeom>
              <a:avLst/>
              <a:gdLst/>
              <a:ahLst/>
              <a:rect l="l" t="t" r="r" b="b"/>
              <a:pathLst>
                <a:path w="46" h="347">
                  <a:moveTo>
                    <a:pt x="2" y="8"/>
                  </a:moveTo>
                  <a:cubicBezTo>
                    <a:pt x="0" y="16"/>
                    <a:pt x="12" y="132"/>
                    <a:pt x="16" y="181"/>
                  </a:cubicBezTo>
                  <a:cubicBezTo>
                    <a:pt x="20" y="230"/>
                    <a:pt x="20" y="279"/>
                    <a:pt x="25" y="302"/>
                  </a:cubicBezTo>
                  <a:cubicBezTo>
                    <a:pt x="30" y="325"/>
                    <a:pt x="44" y="347"/>
                    <a:pt x="45" y="318"/>
                  </a:cubicBezTo>
                  <a:cubicBezTo>
                    <a:pt x="46" y="289"/>
                    <a:pt x="38" y="182"/>
                    <a:pt x="31" y="130"/>
                  </a:cubicBezTo>
                  <a:cubicBezTo>
                    <a:pt x="24" y="78"/>
                    <a:pt x="4" y="0"/>
                    <a:pt x="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65" name=""/>
          <p:cNvSpPr/>
          <p:nvPr/>
        </p:nvSpPr>
        <p:spPr>
          <a:xfrm>
            <a:off x="3132000" y="587700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6" name=""/>
          <p:cNvSpPr/>
          <p:nvPr/>
        </p:nvSpPr>
        <p:spPr>
          <a:xfrm>
            <a:off x="305928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7" name=""/>
          <p:cNvSpPr/>
          <p:nvPr/>
        </p:nvSpPr>
        <p:spPr>
          <a:xfrm>
            <a:off x="3203640" y="5373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8" name=""/>
          <p:cNvSpPr/>
          <p:nvPr/>
        </p:nvSpPr>
        <p:spPr>
          <a:xfrm>
            <a:off x="2700360" y="6308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9" name=""/>
          <p:cNvSpPr/>
          <p:nvPr/>
        </p:nvSpPr>
        <p:spPr>
          <a:xfrm>
            <a:off x="3564000" y="6021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0" name=""/>
          <p:cNvSpPr/>
          <p:nvPr/>
        </p:nvSpPr>
        <p:spPr>
          <a:xfrm>
            <a:off x="3995640" y="5084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1" name=""/>
          <p:cNvSpPr/>
          <p:nvPr/>
        </p:nvSpPr>
        <p:spPr>
          <a:xfrm>
            <a:off x="342108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2" name=""/>
          <p:cNvSpPr/>
          <p:nvPr/>
        </p:nvSpPr>
        <p:spPr>
          <a:xfrm>
            <a:off x="3348000" y="57340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3" name=""/>
          <p:cNvSpPr/>
          <p:nvPr/>
        </p:nvSpPr>
        <p:spPr>
          <a:xfrm>
            <a:off x="3492360" y="53020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4" name=""/>
          <p:cNvSpPr/>
          <p:nvPr/>
        </p:nvSpPr>
        <p:spPr>
          <a:xfrm>
            <a:off x="4500720" y="522936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5" name=""/>
          <p:cNvSpPr/>
          <p:nvPr/>
        </p:nvSpPr>
        <p:spPr>
          <a:xfrm>
            <a:off x="3924360" y="55180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6" name=""/>
          <p:cNvSpPr/>
          <p:nvPr/>
        </p:nvSpPr>
        <p:spPr>
          <a:xfrm>
            <a:off x="3348000" y="6093000"/>
            <a:ext cx="7164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7" name=""/>
          <p:cNvSpPr/>
          <p:nvPr/>
        </p:nvSpPr>
        <p:spPr>
          <a:xfrm>
            <a:off x="2411280" y="602136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8" name=""/>
          <p:cNvSpPr/>
          <p:nvPr/>
        </p:nvSpPr>
        <p:spPr>
          <a:xfrm>
            <a:off x="3419640" y="558972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9" name=""/>
          <p:cNvSpPr/>
          <p:nvPr/>
        </p:nvSpPr>
        <p:spPr>
          <a:xfrm>
            <a:off x="3780000" y="6237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0" name=""/>
          <p:cNvSpPr/>
          <p:nvPr/>
        </p:nvSpPr>
        <p:spPr>
          <a:xfrm>
            <a:off x="385128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1" name=""/>
          <p:cNvSpPr/>
          <p:nvPr/>
        </p:nvSpPr>
        <p:spPr>
          <a:xfrm>
            <a:off x="5435640" y="5373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2" name=""/>
          <p:cNvSpPr/>
          <p:nvPr/>
        </p:nvSpPr>
        <p:spPr>
          <a:xfrm>
            <a:off x="3276720" y="5084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3" name=""/>
          <p:cNvSpPr/>
          <p:nvPr/>
        </p:nvSpPr>
        <p:spPr>
          <a:xfrm>
            <a:off x="3708360" y="55180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4" name=""/>
          <p:cNvSpPr/>
          <p:nvPr/>
        </p:nvSpPr>
        <p:spPr>
          <a:xfrm>
            <a:off x="4068720" y="6165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5" name=""/>
          <p:cNvSpPr/>
          <p:nvPr/>
        </p:nvSpPr>
        <p:spPr>
          <a:xfrm>
            <a:off x="4140360" y="57340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6" name=""/>
          <p:cNvSpPr/>
          <p:nvPr/>
        </p:nvSpPr>
        <p:spPr>
          <a:xfrm>
            <a:off x="1116000" y="5157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7" name=""/>
          <p:cNvSpPr/>
          <p:nvPr/>
        </p:nvSpPr>
        <p:spPr>
          <a:xfrm>
            <a:off x="1833480" y="6093000"/>
            <a:ext cx="7164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8" name=""/>
          <p:cNvSpPr/>
          <p:nvPr/>
        </p:nvSpPr>
        <p:spPr>
          <a:xfrm>
            <a:off x="1978200" y="5661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9" name=""/>
          <p:cNvSpPr/>
          <p:nvPr/>
        </p:nvSpPr>
        <p:spPr>
          <a:xfrm>
            <a:off x="2338560" y="6308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0" name=""/>
          <p:cNvSpPr/>
          <p:nvPr/>
        </p:nvSpPr>
        <p:spPr>
          <a:xfrm>
            <a:off x="2409840" y="5877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1" name=""/>
          <p:cNvSpPr/>
          <p:nvPr/>
        </p:nvSpPr>
        <p:spPr>
          <a:xfrm>
            <a:off x="2195640" y="609300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2" name=""/>
          <p:cNvSpPr/>
          <p:nvPr/>
        </p:nvSpPr>
        <p:spPr>
          <a:xfrm>
            <a:off x="2843280" y="5300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3" name=""/>
          <p:cNvSpPr/>
          <p:nvPr/>
        </p:nvSpPr>
        <p:spPr>
          <a:xfrm>
            <a:off x="2266920" y="5589720"/>
            <a:ext cx="7164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4" name=""/>
          <p:cNvSpPr/>
          <p:nvPr/>
        </p:nvSpPr>
        <p:spPr>
          <a:xfrm>
            <a:off x="539640" y="57340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5" name=""/>
          <p:cNvSpPr/>
          <p:nvPr/>
        </p:nvSpPr>
        <p:spPr>
          <a:xfrm>
            <a:off x="269892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6" name=""/>
          <p:cNvSpPr/>
          <p:nvPr/>
        </p:nvSpPr>
        <p:spPr>
          <a:xfrm>
            <a:off x="2122560" y="6380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7" name=""/>
          <p:cNvSpPr/>
          <p:nvPr/>
        </p:nvSpPr>
        <p:spPr>
          <a:xfrm>
            <a:off x="2193840" y="587700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8" name=""/>
          <p:cNvSpPr/>
          <p:nvPr/>
        </p:nvSpPr>
        <p:spPr>
          <a:xfrm>
            <a:off x="2554200" y="6524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9" name=""/>
          <p:cNvSpPr/>
          <p:nvPr/>
        </p:nvSpPr>
        <p:spPr>
          <a:xfrm>
            <a:off x="2625840" y="609300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0" name=""/>
          <p:cNvSpPr/>
          <p:nvPr/>
        </p:nvSpPr>
        <p:spPr>
          <a:xfrm>
            <a:off x="1332000" y="5805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1" name=""/>
          <p:cNvSpPr/>
          <p:nvPr/>
        </p:nvSpPr>
        <p:spPr>
          <a:xfrm>
            <a:off x="971640" y="5373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2" name=""/>
          <p:cNvSpPr/>
          <p:nvPr/>
        </p:nvSpPr>
        <p:spPr>
          <a:xfrm>
            <a:off x="684360" y="5084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3" name=""/>
          <p:cNvSpPr/>
          <p:nvPr/>
        </p:nvSpPr>
        <p:spPr>
          <a:xfrm>
            <a:off x="2843280" y="645336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4" name=""/>
          <p:cNvSpPr/>
          <p:nvPr/>
        </p:nvSpPr>
        <p:spPr>
          <a:xfrm>
            <a:off x="2914560" y="602136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5" name=""/>
          <p:cNvSpPr/>
          <p:nvPr/>
        </p:nvSpPr>
        <p:spPr>
          <a:xfrm>
            <a:off x="6227640" y="5373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6" name=""/>
          <p:cNvSpPr/>
          <p:nvPr/>
        </p:nvSpPr>
        <p:spPr>
          <a:xfrm>
            <a:off x="5506920" y="61642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7" name=""/>
          <p:cNvSpPr/>
          <p:nvPr/>
        </p:nvSpPr>
        <p:spPr>
          <a:xfrm>
            <a:off x="5651640" y="573264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8" name=""/>
          <p:cNvSpPr/>
          <p:nvPr/>
        </p:nvSpPr>
        <p:spPr>
          <a:xfrm>
            <a:off x="6012000" y="6380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9" name=""/>
          <p:cNvSpPr/>
          <p:nvPr/>
        </p:nvSpPr>
        <p:spPr>
          <a:xfrm>
            <a:off x="6083280" y="5948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0" name=""/>
          <p:cNvSpPr/>
          <p:nvPr/>
        </p:nvSpPr>
        <p:spPr>
          <a:xfrm>
            <a:off x="8028000" y="595008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1" name=""/>
          <p:cNvSpPr/>
          <p:nvPr/>
        </p:nvSpPr>
        <p:spPr>
          <a:xfrm>
            <a:off x="5796000" y="609300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2" name=""/>
          <p:cNvSpPr/>
          <p:nvPr/>
        </p:nvSpPr>
        <p:spPr>
          <a:xfrm>
            <a:off x="5940360" y="566100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3" name=""/>
          <p:cNvSpPr/>
          <p:nvPr/>
        </p:nvSpPr>
        <p:spPr>
          <a:xfrm>
            <a:off x="4284720" y="6237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4" name=""/>
          <p:cNvSpPr/>
          <p:nvPr/>
        </p:nvSpPr>
        <p:spPr>
          <a:xfrm>
            <a:off x="6372360" y="5877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5" name=""/>
          <p:cNvSpPr/>
          <p:nvPr/>
        </p:nvSpPr>
        <p:spPr>
          <a:xfrm>
            <a:off x="5796000" y="64515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6" name=""/>
          <p:cNvSpPr/>
          <p:nvPr/>
        </p:nvSpPr>
        <p:spPr>
          <a:xfrm>
            <a:off x="5867280" y="59482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7" name=""/>
          <p:cNvSpPr/>
          <p:nvPr/>
        </p:nvSpPr>
        <p:spPr>
          <a:xfrm>
            <a:off x="6227640" y="65959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8" name=""/>
          <p:cNvSpPr/>
          <p:nvPr/>
        </p:nvSpPr>
        <p:spPr>
          <a:xfrm>
            <a:off x="6299280" y="6164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9" name=""/>
          <p:cNvSpPr/>
          <p:nvPr/>
        </p:nvSpPr>
        <p:spPr>
          <a:xfrm>
            <a:off x="7956720" y="6381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0" name=""/>
          <p:cNvSpPr/>
          <p:nvPr/>
        </p:nvSpPr>
        <p:spPr>
          <a:xfrm>
            <a:off x="7093080" y="6308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1" name=""/>
          <p:cNvSpPr/>
          <p:nvPr/>
        </p:nvSpPr>
        <p:spPr>
          <a:xfrm>
            <a:off x="7812000" y="5516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2" name=""/>
          <p:cNvSpPr/>
          <p:nvPr/>
        </p:nvSpPr>
        <p:spPr>
          <a:xfrm>
            <a:off x="6516720" y="6524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3" name=""/>
          <p:cNvSpPr/>
          <p:nvPr/>
        </p:nvSpPr>
        <p:spPr>
          <a:xfrm>
            <a:off x="6588000" y="6093000"/>
            <a:ext cx="7164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4" name=""/>
          <p:cNvSpPr/>
          <p:nvPr/>
        </p:nvSpPr>
        <p:spPr>
          <a:xfrm>
            <a:off x="5292720" y="5013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5" name=""/>
          <p:cNvSpPr/>
          <p:nvPr/>
        </p:nvSpPr>
        <p:spPr>
          <a:xfrm>
            <a:off x="3564000" y="494172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6" name=""/>
          <p:cNvSpPr/>
          <p:nvPr/>
        </p:nvSpPr>
        <p:spPr>
          <a:xfrm>
            <a:off x="4284720" y="472428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7" name=""/>
          <p:cNvSpPr/>
          <p:nvPr/>
        </p:nvSpPr>
        <p:spPr>
          <a:xfrm>
            <a:off x="5940360" y="5373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8" name=""/>
          <p:cNvSpPr/>
          <p:nvPr/>
        </p:nvSpPr>
        <p:spPr>
          <a:xfrm>
            <a:off x="6804000" y="5157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9" name=""/>
          <p:cNvSpPr/>
          <p:nvPr/>
        </p:nvSpPr>
        <p:spPr>
          <a:xfrm>
            <a:off x="5580000" y="5157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0" name=""/>
          <p:cNvSpPr/>
          <p:nvPr/>
        </p:nvSpPr>
        <p:spPr>
          <a:xfrm>
            <a:off x="7740720" y="5300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1" name=""/>
          <p:cNvSpPr/>
          <p:nvPr/>
        </p:nvSpPr>
        <p:spPr>
          <a:xfrm>
            <a:off x="6948360" y="5084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2" name=""/>
          <p:cNvSpPr/>
          <p:nvPr/>
        </p:nvSpPr>
        <p:spPr>
          <a:xfrm>
            <a:off x="6516720" y="5445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3" name=""/>
          <p:cNvSpPr/>
          <p:nvPr/>
        </p:nvSpPr>
        <p:spPr>
          <a:xfrm>
            <a:off x="6659640" y="5013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4" name=""/>
          <p:cNvSpPr/>
          <p:nvPr/>
        </p:nvSpPr>
        <p:spPr>
          <a:xfrm>
            <a:off x="5580000" y="49402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5" name=""/>
          <p:cNvSpPr/>
          <p:nvPr/>
        </p:nvSpPr>
        <p:spPr>
          <a:xfrm>
            <a:off x="5076720" y="515772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6" name=""/>
          <p:cNvSpPr/>
          <p:nvPr/>
        </p:nvSpPr>
        <p:spPr>
          <a:xfrm>
            <a:off x="6012000" y="508464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7" name=""/>
          <p:cNvSpPr/>
          <p:nvPr/>
        </p:nvSpPr>
        <p:spPr>
          <a:xfrm>
            <a:off x="6227640" y="501336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8" name=""/>
          <p:cNvSpPr/>
          <p:nvPr/>
        </p:nvSpPr>
        <p:spPr>
          <a:xfrm>
            <a:off x="8388360" y="544500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9" name=""/>
          <p:cNvSpPr/>
          <p:nvPr/>
        </p:nvSpPr>
        <p:spPr>
          <a:xfrm>
            <a:off x="8675640" y="472428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0" name=""/>
          <p:cNvSpPr/>
          <p:nvPr/>
        </p:nvSpPr>
        <p:spPr>
          <a:xfrm>
            <a:off x="2700360" y="4869000"/>
            <a:ext cx="712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1" name=""/>
          <p:cNvSpPr/>
          <p:nvPr/>
        </p:nvSpPr>
        <p:spPr>
          <a:xfrm>
            <a:off x="8028000" y="4797360"/>
            <a:ext cx="712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2" name=""/>
          <p:cNvSpPr/>
          <p:nvPr/>
        </p:nvSpPr>
        <p:spPr>
          <a:xfrm>
            <a:off x="6443640" y="5084640"/>
            <a:ext cx="7164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43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4544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5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6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7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48" name=""/>
          <p:cNvGrpSpPr/>
          <p:nvPr/>
        </p:nvGrpSpPr>
        <p:grpSpPr>
          <a:xfrm>
            <a:off x="7248600" y="-1855440"/>
            <a:ext cx="3103200" cy="2948040"/>
            <a:chOff x="7248600" y="-1855440"/>
            <a:chExt cx="3103200" cy="2948040"/>
          </a:xfrm>
        </p:grpSpPr>
        <p:grpSp>
          <p:nvGrpSpPr>
            <p:cNvPr id="14549" name=""/>
            <p:cNvGrpSpPr/>
            <p:nvPr/>
          </p:nvGrpSpPr>
          <p:grpSpPr>
            <a:xfrm>
              <a:off x="7248600" y="-1855440"/>
              <a:ext cx="2850840" cy="2738880"/>
              <a:chOff x="7248600" y="-1855440"/>
              <a:chExt cx="2850840" cy="2738880"/>
            </a:xfrm>
          </p:grpSpPr>
          <p:sp>
            <p:nvSpPr>
              <p:cNvPr id="14550" name=""/>
              <p:cNvSpPr/>
              <p:nvPr/>
            </p:nvSpPr>
            <p:spPr>
              <a:xfrm rot="13152000">
                <a:off x="7453800" y="-35712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1" name=""/>
              <p:cNvSpPr/>
              <p:nvPr/>
            </p:nvSpPr>
            <p:spPr>
              <a:xfrm rot="13152000">
                <a:off x="8956080" y="-1941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52" name=""/>
            <p:cNvGrpSpPr/>
            <p:nvPr/>
          </p:nvGrpSpPr>
          <p:grpSpPr>
            <a:xfrm>
              <a:off x="7893000" y="-1216080"/>
              <a:ext cx="2399040" cy="2308680"/>
              <a:chOff x="7893000" y="-1216080"/>
              <a:chExt cx="2399040" cy="2308680"/>
            </a:xfrm>
          </p:grpSpPr>
          <p:sp>
            <p:nvSpPr>
              <p:cNvPr id="14553" name=""/>
              <p:cNvSpPr/>
              <p:nvPr/>
            </p:nvSpPr>
            <p:spPr>
              <a:xfrm rot="13152000">
                <a:off x="8030880" y="1299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4" name=""/>
              <p:cNvSpPr/>
              <p:nvPr/>
            </p:nvSpPr>
            <p:spPr>
              <a:xfrm rot="13152000">
                <a:off x="9201960" y="-1235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55" name=""/>
            <p:cNvGrpSpPr/>
            <p:nvPr/>
          </p:nvGrpSpPr>
          <p:grpSpPr>
            <a:xfrm>
              <a:off x="8727120" y="-1611000"/>
              <a:ext cx="1624680" cy="2471760"/>
              <a:chOff x="8727120" y="-1611000"/>
              <a:chExt cx="1624680" cy="2471760"/>
            </a:xfrm>
          </p:grpSpPr>
          <p:sp>
            <p:nvSpPr>
              <p:cNvPr id="14556" name=""/>
              <p:cNvSpPr/>
              <p:nvPr/>
            </p:nvSpPr>
            <p:spPr>
              <a:xfrm rot="11728800">
                <a:off x="8806680" y="6624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7" name=""/>
              <p:cNvSpPr/>
              <p:nvPr/>
            </p:nvSpPr>
            <p:spPr>
              <a:xfrm rot="11728800">
                <a:off x="9083520" y="-14979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58" name=""/>
            <p:cNvGrpSpPr/>
            <p:nvPr/>
          </p:nvGrpSpPr>
          <p:grpSpPr>
            <a:xfrm>
              <a:off x="8355960" y="-1544400"/>
              <a:ext cx="1492560" cy="2024280"/>
              <a:chOff x="8355960" y="-1544400"/>
              <a:chExt cx="1492560" cy="2024280"/>
            </a:xfrm>
          </p:grpSpPr>
          <p:sp>
            <p:nvSpPr>
              <p:cNvPr id="14559" name=""/>
              <p:cNvSpPr/>
              <p:nvPr/>
            </p:nvSpPr>
            <p:spPr>
              <a:xfrm rot="13152000">
                <a:off x="8425080" y="-2059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0" name=""/>
              <p:cNvSpPr/>
              <p:nvPr/>
            </p:nvSpPr>
            <p:spPr>
              <a:xfrm rot="13152000">
                <a:off x="8944200" y="-15321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61" name=""/>
          <p:cNvGrpSpPr/>
          <p:nvPr/>
        </p:nvGrpSpPr>
        <p:grpSpPr>
          <a:xfrm>
            <a:off x="-1719720" y="-1352520"/>
            <a:ext cx="2946600" cy="3104640"/>
            <a:chOff x="-1719720" y="-1352520"/>
            <a:chExt cx="2946600" cy="3104640"/>
          </a:xfrm>
        </p:grpSpPr>
        <p:grpSp>
          <p:nvGrpSpPr>
            <p:cNvPr id="14562" name=""/>
            <p:cNvGrpSpPr/>
            <p:nvPr/>
          </p:nvGrpSpPr>
          <p:grpSpPr>
            <a:xfrm>
              <a:off x="-1719720" y="-1100880"/>
              <a:ext cx="2736720" cy="2853000"/>
              <a:chOff x="-1719720" y="-1100880"/>
              <a:chExt cx="2736720" cy="2853000"/>
            </a:xfrm>
          </p:grpSpPr>
          <p:sp>
            <p:nvSpPr>
              <p:cNvPr id="14563" name=""/>
              <p:cNvSpPr/>
              <p:nvPr/>
            </p:nvSpPr>
            <p:spPr>
              <a:xfrm rot="7755600">
                <a:off x="-237240" y="509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4" name=""/>
              <p:cNvSpPr/>
              <p:nvPr/>
            </p:nvSpPr>
            <p:spPr>
              <a:xfrm rot="7755600">
                <a:off x="-965160" y="-13060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65" name=""/>
            <p:cNvGrpSpPr/>
            <p:nvPr/>
          </p:nvGrpSpPr>
          <p:grpSpPr>
            <a:xfrm>
              <a:off x="-1080360" y="-1292400"/>
              <a:ext cx="2307240" cy="2400840"/>
              <a:chOff x="-1080360" y="-1292400"/>
              <a:chExt cx="2307240" cy="2400840"/>
            </a:xfrm>
          </p:grpSpPr>
          <p:sp>
            <p:nvSpPr>
              <p:cNvPr id="14566" name=""/>
              <p:cNvSpPr/>
              <p:nvPr/>
            </p:nvSpPr>
            <p:spPr>
              <a:xfrm rot="7755600">
                <a:off x="190440" y="135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7" name=""/>
              <p:cNvSpPr/>
              <p:nvPr/>
            </p:nvSpPr>
            <p:spPr>
              <a:xfrm rot="7755600">
                <a:off x="-484920" y="-1399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68" name=""/>
            <p:cNvGrpSpPr/>
            <p:nvPr/>
          </p:nvGrpSpPr>
          <p:grpSpPr>
            <a:xfrm>
              <a:off x="-1475640" y="-1352520"/>
              <a:ext cx="2471760" cy="1626120"/>
              <a:chOff x="-1475640" y="-1352520"/>
              <a:chExt cx="2471760" cy="1626120"/>
            </a:xfrm>
          </p:grpSpPr>
          <p:sp>
            <p:nvSpPr>
              <p:cNvPr id="14569" name=""/>
              <p:cNvSpPr/>
              <p:nvPr/>
            </p:nvSpPr>
            <p:spPr>
              <a:xfrm rot="6332400">
                <a:off x="163440" y="-5472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0" name=""/>
              <p:cNvSpPr/>
              <p:nvPr/>
            </p:nvSpPr>
            <p:spPr>
              <a:xfrm rot="6332400">
                <a:off x="-1077480" y="-14371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71" name=""/>
            <p:cNvGrpSpPr/>
            <p:nvPr/>
          </p:nvGrpSpPr>
          <p:grpSpPr>
            <a:xfrm>
              <a:off x="-1409400" y="-849240"/>
              <a:ext cx="2023920" cy="1493640"/>
              <a:chOff x="-1409400" y="-849240"/>
              <a:chExt cx="2023920" cy="1493640"/>
            </a:xfrm>
          </p:grpSpPr>
          <p:sp>
            <p:nvSpPr>
              <p:cNvPr id="14572" name=""/>
              <p:cNvSpPr/>
              <p:nvPr/>
            </p:nvSpPr>
            <p:spPr>
              <a:xfrm rot="7755600">
                <a:off x="-212040" y="-61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3" name=""/>
              <p:cNvSpPr/>
              <p:nvPr/>
            </p:nvSpPr>
            <p:spPr>
              <a:xfrm rot="7755600">
                <a:off x="-973440" y="-8967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74" name=""/>
          <p:cNvGrpSpPr/>
          <p:nvPr/>
        </p:nvGrpSpPr>
        <p:grpSpPr>
          <a:xfrm>
            <a:off x="8037360" y="5267160"/>
            <a:ext cx="2718360" cy="3318840"/>
            <a:chOff x="8037360" y="5267160"/>
            <a:chExt cx="2718360" cy="3318840"/>
          </a:xfrm>
        </p:grpSpPr>
        <p:grpSp>
          <p:nvGrpSpPr>
            <p:cNvPr id="14575" name=""/>
            <p:cNvGrpSpPr/>
            <p:nvPr/>
          </p:nvGrpSpPr>
          <p:grpSpPr>
            <a:xfrm>
              <a:off x="8334000" y="5267160"/>
              <a:ext cx="2421720" cy="3106440"/>
              <a:chOff x="8334000" y="5267160"/>
              <a:chExt cx="2421720" cy="3106440"/>
            </a:xfrm>
          </p:grpSpPr>
          <p:sp>
            <p:nvSpPr>
              <p:cNvPr id="14576" name=""/>
              <p:cNvSpPr/>
              <p:nvPr/>
            </p:nvSpPr>
            <p:spPr>
              <a:xfrm rot="19135800">
                <a:off x="8541000" y="5486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7" name=""/>
              <p:cNvSpPr/>
              <p:nvPr/>
            </p:nvSpPr>
            <p:spPr>
              <a:xfrm rot="19135800">
                <a:off x="9590040" y="6285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78" name=""/>
            <p:cNvGrpSpPr/>
            <p:nvPr/>
          </p:nvGrpSpPr>
          <p:grpSpPr>
            <a:xfrm>
              <a:off x="8037360" y="5851440"/>
              <a:ext cx="2064960" cy="2595240"/>
              <a:chOff x="8037360" y="5851440"/>
              <a:chExt cx="2064960" cy="2595240"/>
            </a:xfrm>
          </p:grpSpPr>
          <p:sp>
            <p:nvSpPr>
              <p:cNvPr id="14579" name=""/>
              <p:cNvSpPr/>
              <p:nvPr/>
            </p:nvSpPr>
            <p:spPr>
              <a:xfrm rot="19135800">
                <a:off x="8175240" y="6056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0" name=""/>
              <p:cNvSpPr/>
              <p:nvPr/>
            </p:nvSpPr>
            <p:spPr>
              <a:xfrm rot="19135800">
                <a:off x="8995320" y="6664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81" name=""/>
            <p:cNvGrpSpPr/>
            <p:nvPr/>
          </p:nvGrpSpPr>
          <p:grpSpPr>
            <a:xfrm>
              <a:off x="8116920" y="6651360"/>
              <a:ext cx="2462400" cy="1934640"/>
              <a:chOff x="8116920" y="6651360"/>
              <a:chExt cx="2462400" cy="1934640"/>
            </a:xfrm>
          </p:grpSpPr>
          <p:sp>
            <p:nvSpPr>
              <p:cNvPr id="14582" name=""/>
              <p:cNvSpPr/>
              <p:nvPr/>
            </p:nvSpPr>
            <p:spPr>
              <a:xfrm rot="17713200">
                <a:off x="8211240" y="6801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3" name=""/>
              <p:cNvSpPr/>
              <p:nvPr/>
            </p:nvSpPr>
            <p:spPr>
              <a:xfrm rot="17713200">
                <a:off x="9075960" y="6934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84" name=""/>
            <p:cNvGrpSpPr/>
            <p:nvPr/>
          </p:nvGrpSpPr>
          <p:grpSpPr>
            <a:xfrm>
              <a:off x="8580240" y="6397560"/>
              <a:ext cx="1913760" cy="1673280"/>
              <a:chOff x="8580240" y="6397560"/>
              <a:chExt cx="1913760" cy="1673280"/>
            </a:xfrm>
          </p:grpSpPr>
          <p:sp>
            <p:nvSpPr>
              <p:cNvPr id="14585" name=""/>
              <p:cNvSpPr/>
              <p:nvPr/>
            </p:nvSpPr>
            <p:spPr>
              <a:xfrm rot="19135800">
                <a:off x="8647560" y="6591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6" name=""/>
              <p:cNvSpPr/>
              <p:nvPr/>
            </p:nvSpPr>
            <p:spPr>
              <a:xfrm rot="19135800">
                <a:off x="9578160" y="6690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87" name=""/>
          <p:cNvGrpSpPr/>
          <p:nvPr/>
        </p:nvGrpSpPr>
        <p:grpSpPr>
          <a:xfrm>
            <a:off x="-1424520" y="5796360"/>
            <a:ext cx="3220920" cy="2845080"/>
            <a:chOff x="-1424520" y="5796360"/>
            <a:chExt cx="3220920" cy="2845080"/>
          </a:xfrm>
        </p:grpSpPr>
        <p:grpSp>
          <p:nvGrpSpPr>
            <p:cNvPr id="14588" name=""/>
            <p:cNvGrpSpPr/>
            <p:nvPr/>
          </p:nvGrpSpPr>
          <p:grpSpPr>
            <a:xfrm>
              <a:off x="-1190880" y="6049800"/>
              <a:ext cx="2987280" cy="2591640"/>
              <a:chOff x="-1190880" y="6049800"/>
              <a:chExt cx="2987280" cy="2591640"/>
            </a:xfrm>
          </p:grpSpPr>
          <p:sp>
            <p:nvSpPr>
              <p:cNvPr id="14589" name=""/>
              <p:cNvSpPr/>
              <p:nvPr/>
            </p:nvSpPr>
            <p:spPr>
              <a:xfrm rot="2638800">
                <a:off x="537480" y="627084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0" name=""/>
              <p:cNvSpPr/>
              <p:nvPr/>
            </p:nvSpPr>
            <p:spPr>
              <a:xfrm rot="2638800">
                <a:off x="-501480" y="65818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1" name=""/>
            <p:cNvGrpSpPr/>
            <p:nvPr/>
          </p:nvGrpSpPr>
          <p:grpSpPr>
            <a:xfrm>
              <a:off x="-1324800" y="5796360"/>
              <a:ext cx="2504160" cy="2196360"/>
              <a:chOff x="-1324800" y="5796360"/>
              <a:chExt cx="2504160" cy="2196360"/>
            </a:xfrm>
          </p:grpSpPr>
          <p:sp>
            <p:nvSpPr>
              <p:cNvPr id="14592" name=""/>
              <p:cNvSpPr/>
              <p:nvPr/>
            </p:nvSpPr>
            <p:spPr>
              <a:xfrm rot="2638800">
                <a:off x="133920" y="60048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3" name=""/>
              <p:cNvSpPr/>
              <p:nvPr/>
            </p:nvSpPr>
            <p:spPr>
              <a:xfrm rot="2638800">
                <a:off x="-776880" y="6230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4" name=""/>
            <p:cNvGrpSpPr/>
            <p:nvPr/>
          </p:nvGrpSpPr>
          <p:grpSpPr>
            <a:xfrm>
              <a:off x="-1424520" y="5954040"/>
              <a:ext cx="1783440" cy="2475720"/>
              <a:chOff x="-1424520" y="5954040"/>
              <a:chExt cx="1783440" cy="2475720"/>
            </a:xfrm>
          </p:grpSpPr>
          <p:sp>
            <p:nvSpPr>
              <p:cNvPr id="14595" name=""/>
              <p:cNvSpPr/>
              <p:nvPr/>
            </p:nvSpPr>
            <p:spPr>
              <a:xfrm rot="1215600">
                <a:off x="-517320" y="60670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6" name=""/>
              <p:cNvSpPr/>
              <p:nvPr/>
            </p:nvSpPr>
            <p:spPr>
              <a:xfrm rot="1215600">
                <a:off x="-1173600" y="66567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97" name=""/>
            <p:cNvGrpSpPr/>
            <p:nvPr/>
          </p:nvGrpSpPr>
          <p:grpSpPr>
            <a:xfrm>
              <a:off x="-913320" y="6376680"/>
              <a:ext cx="1586880" cy="1977120"/>
              <a:chOff x="-913320" y="6376680"/>
              <a:chExt cx="1586880" cy="1977120"/>
            </a:xfrm>
          </p:grpSpPr>
          <p:sp>
            <p:nvSpPr>
              <p:cNvPr id="14598" name=""/>
              <p:cNvSpPr/>
              <p:nvPr/>
            </p:nvSpPr>
            <p:spPr>
              <a:xfrm rot="2638800">
                <a:off x="-167040" y="657684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9" name=""/>
              <p:cNvSpPr/>
              <p:nvPr/>
            </p:nvSpPr>
            <p:spPr>
              <a:xfrm rot="2638800">
                <a:off x="-509400" y="698724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00" name="">
            <a:hlinkClick r:id="rId6" action="ppaction://hlinksldjump"/>
          </p:cNvPr>
          <p:cNvSpPr/>
          <p:nvPr/>
        </p:nvSpPr>
        <p:spPr>
          <a:xfrm>
            <a:off x="4427640" y="558972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1" name=""/>
          <p:cNvSpPr txBox="1"/>
          <p:nvPr/>
        </p:nvSpPr>
        <p:spPr>
          <a:xfrm>
            <a:off x="4500720" y="566244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02" name="">
            <a:hlinkClick r:id="rId7" action="ppaction://hlinksldjump"/>
          </p:cNvPr>
          <p:cNvSpPr/>
          <p:nvPr/>
        </p:nvSpPr>
        <p:spPr>
          <a:xfrm>
            <a:off x="5292720" y="3284640"/>
            <a:ext cx="647640" cy="3585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3" name=""/>
          <p:cNvSpPr txBox="1"/>
          <p:nvPr/>
        </p:nvSpPr>
        <p:spPr>
          <a:xfrm>
            <a:off x="5365800" y="335592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04" name="">
            <a:hlinkClick r:id="rId8" action="ppaction://hlinksldjump"/>
          </p:cNvPr>
          <p:cNvSpPr/>
          <p:nvPr/>
        </p:nvSpPr>
        <p:spPr>
          <a:xfrm>
            <a:off x="6875640" y="566100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5" name=""/>
          <p:cNvSpPr txBox="1"/>
          <p:nvPr/>
        </p:nvSpPr>
        <p:spPr>
          <a:xfrm>
            <a:off x="6948360" y="5734080"/>
            <a:ext cx="5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06" name="">
            <a:hlinkClick r:id="rId9" action="ppaction://hlinksldjump"/>
          </p:cNvPr>
          <p:cNvSpPr/>
          <p:nvPr/>
        </p:nvSpPr>
        <p:spPr>
          <a:xfrm>
            <a:off x="1619280" y="5011560"/>
            <a:ext cx="865080" cy="36072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7" name=""/>
          <p:cNvSpPr txBox="1"/>
          <p:nvPr/>
        </p:nvSpPr>
        <p:spPr>
          <a:xfrm>
            <a:off x="1692360" y="508464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ОСКВИЧЁ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08" name="">
            <a:hlinkClick r:id="rId10" action="ppaction://hlinksldjump"/>
          </p:cNvPr>
          <p:cNvSpPr/>
          <p:nvPr/>
        </p:nvSpPr>
        <p:spPr>
          <a:xfrm>
            <a:off x="3059280" y="436392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9" name=""/>
          <p:cNvSpPr txBox="1"/>
          <p:nvPr/>
        </p:nvSpPr>
        <p:spPr>
          <a:xfrm>
            <a:off x="3132000" y="443700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ЗАЛАМАЕ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0" name=""/>
          <p:cNvSpPr/>
          <p:nvPr/>
        </p:nvSpPr>
        <p:spPr>
          <a:xfrm>
            <a:off x="8370720" y="1620720"/>
            <a:ext cx="106560" cy="955800"/>
          </a:xfrm>
          <a:custGeom>
            <a:avLst/>
            <a:gdLst/>
            <a:ahLst/>
            <a:rect l="l" t="t" r="r" b="b"/>
            <a:pathLst>
              <a:path w="67" h="602">
                <a:moveTo>
                  <a:pt x="3" y="519"/>
                </a:moveTo>
                <a:cubicBezTo>
                  <a:pt x="2" y="486"/>
                  <a:pt x="0" y="442"/>
                  <a:pt x="3" y="399"/>
                </a:cubicBezTo>
                <a:cubicBezTo>
                  <a:pt x="6" y="356"/>
                  <a:pt x="11" y="309"/>
                  <a:pt x="19" y="263"/>
                </a:cubicBezTo>
                <a:cubicBezTo>
                  <a:pt x="27" y="217"/>
                  <a:pt x="45" y="166"/>
                  <a:pt x="51" y="123"/>
                </a:cubicBezTo>
                <a:cubicBezTo>
                  <a:pt x="57" y="80"/>
                  <a:pt x="54" y="10"/>
                  <a:pt x="56" y="5"/>
                </a:cubicBezTo>
                <a:cubicBezTo>
                  <a:pt x="58" y="0"/>
                  <a:pt x="62" y="72"/>
                  <a:pt x="63" y="95"/>
                </a:cubicBezTo>
                <a:cubicBezTo>
                  <a:pt x="64" y="118"/>
                  <a:pt x="67" y="112"/>
                  <a:pt x="63" y="143"/>
                </a:cubicBezTo>
                <a:cubicBezTo>
                  <a:pt x="59" y="174"/>
                  <a:pt x="45" y="239"/>
                  <a:pt x="39" y="279"/>
                </a:cubicBezTo>
                <a:cubicBezTo>
                  <a:pt x="33" y="319"/>
                  <a:pt x="29" y="336"/>
                  <a:pt x="27" y="383"/>
                </a:cubicBezTo>
                <a:cubicBezTo>
                  <a:pt x="25" y="430"/>
                  <a:pt x="30" y="524"/>
                  <a:pt x="27" y="559"/>
                </a:cubicBezTo>
                <a:cubicBezTo>
                  <a:pt x="24" y="594"/>
                  <a:pt x="15" y="602"/>
                  <a:pt x="11" y="595"/>
                </a:cubicBezTo>
                <a:cubicBezTo>
                  <a:pt x="7" y="588"/>
                  <a:pt x="3" y="556"/>
                  <a:pt x="3" y="519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1" name=""/>
          <p:cNvSpPr/>
          <p:nvPr/>
        </p:nvSpPr>
        <p:spPr>
          <a:xfrm>
            <a:off x="7993080" y="4194000"/>
            <a:ext cx="1498680" cy="554040"/>
          </a:xfrm>
          <a:custGeom>
            <a:avLst/>
            <a:gdLst/>
            <a:ahLst/>
            <a:rect l="l" t="t" r="r" b="b"/>
            <a:pathLst>
              <a:path w="944" h="349">
                <a:moveTo>
                  <a:pt x="884" y="244"/>
                </a:moveTo>
                <a:cubicBezTo>
                  <a:pt x="817" y="200"/>
                  <a:pt x="591" y="110"/>
                  <a:pt x="482" y="71"/>
                </a:cubicBezTo>
                <a:cubicBezTo>
                  <a:pt x="373" y="32"/>
                  <a:pt x="309" y="18"/>
                  <a:pt x="232" y="9"/>
                </a:cubicBezTo>
                <a:cubicBezTo>
                  <a:pt x="155" y="0"/>
                  <a:pt x="44" y="14"/>
                  <a:pt x="22" y="17"/>
                </a:cubicBezTo>
                <a:cubicBezTo>
                  <a:pt x="0" y="20"/>
                  <a:pt x="47" y="23"/>
                  <a:pt x="100" y="30"/>
                </a:cubicBezTo>
                <a:cubicBezTo>
                  <a:pt x="153" y="37"/>
                  <a:pt x="262" y="42"/>
                  <a:pt x="340" y="62"/>
                </a:cubicBezTo>
                <a:cubicBezTo>
                  <a:pt x="418" y="82"/>
                  <a:pt x="476" y="108"/>
                  <a:pt x="567" y="153"/>
                </a:cubicBezTo>
                <a:cubicBezTo>
                  <a:pt x="658" y="198"/>
                  <a:pt x="831" y="319"/>
                  <a:pt x="884" y="334"/>
                </a:cubicBezTo>
                <a:cubicBezTo>
                  <a:pt x="937" y="349"/>
                  <a:pt x="944" y="282"/>
                  <a:pt x="884" y="24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2" name=""/>
          <p:cNvSpPr/>
          <p:nvPr/>
        </p:nvSpPr>
        <p:spPr>
          <a:xfrm>
            <a:off x="5565600" y="4427640"/>
            <a:ext cx="4030920" cy="2500200"/>
          </a:xfrm>
          <a:custGeom>
            <a:avLst/>
            <a:gdLst/>
            <a:ahLst/>
            <a:rect l="l" t="t" r="r" b="b"/>
            <a:pathLst>
              <a:path w="2539" h="1575">
                <a:moveTo>
                  <a:pt x="2407" y="1444"/>
                </a:moveTo>
                <a:cubicBezTo>
                  <a:pt x="2539" y="1575"/>
                  <a:pt x="2386" y="1321"/>
                  <a:pt x="2303" y="1208"/>
                </a:cubicBezTo>
                <a:cubicBezTo>
                  <a:pt x="2220" y="1095"/>
                  <a:pt x="2028" y="905"/>
                  <a:pt x="1907" y="764"/>
                </a:cubicBezTo>
                <a:cubicBezTo>
                  <a:pt x="1786" y="623"/>
                  <a:pt x="1672" y="442"/>
                  <a:pt x="1574" y="362"/>
                </a:cubicBezTo>
                <a:cubicBezTo>
                  <a:pt x="1476" y="282"/>
                  <a:pt x="1394" y="291"/>
                  <a:pt x="1317" y="285"/>
                </a:cubicBezTo>
                <a:cubicBezTo>
                  <a:pt x="1240" y="279"/>
                  <a:pt x="1176" y="315"/>
                  <a:pt x="1109" y="327"/>
                </a:cubicBezTo>
                <a:cubicBezTo>
                  <a:pt x="1042" y="339"/>
                  <a:pt x="979" y="364"/>
                  <a:pt x="915" y="355"/>
                </a:cubicBezTo>
                <a:cubicBezTo>
                  <a:pt x="851" y="346"/>
                  <a:pt x="803" y="301"/>
                  <a:pt x="727" y="271"/>
                </a:cubicBezTo>
                <a:cubicBezTo>
                  <a:pt x="651" y="241"/>
                  <a:pt x="538" y="181"/>
                  <a:pt x="457" y="174"/>
                </a:cubicBezTo>
                <a:cubicBezTo>
                  <a:pt x="376" y="167"/>
                  <a:pt x="299" y="239"/>
                  <a:pt x="241" y="230"/>
                </a:cubicBezTo>
                <a:cubicBezTo>
                  <a:pt x="183" y="221"/>
                  <a:pt x="147" y="154"/>
                  <a:pt x="110" y="119"/>
                </a:cubicBezTo>
                <a:cubicBezTo>
                  <a:pt x="73" y="84"/>
                  <a:pt x="0" y="0"/>
                  <a:pt x="19" y="22"/>
                </a:cubicBezTo>
                <a:cubicBezTo>
                  <a:pt x="38" y="44"/>
                  <a:pt x="148" y="221"/>
                  <a:pt x="221" y="251"/>
                </a:cubicBezTo>
                <a:cubicBezTo>
                  <a:pt x="294" y="281"/>
                  <a:pt x="381" y="199"/>
                  <a:pt x="457" y="204"/>
                </a:cubicBezTo>
                <a:cubicBezTo>
                  <a:pt x="533" y="209"/>
                  <a:pt x="619" y="252"/>
                  <a:pt x="679" y="278"/>
                </a:cubicBezTo>
                <a:cubicBezTo>
                  <a:pt x="739" y="304"/>
                  <a:pt x="767" y="341"/>
                  <a:pt x="817" y="362"/>
                </a:cubicBezTo>
                <a:cubicBezTo>
                  <a:pt x="867" y="383"/>
                  <a:pt x="861" y="393"/>
                  <a:pt x="977" y="403"/>
                </a:cubicBezTo>
                <a:cubicBezTo>
                  <a:pt x="1093" y="413"/>
                  <a:pt x="1273" y="251"/>
                  <a:pt x="1511" y="424"/>
                </a:cubicBezTo>
                <a:cubicBezTo>
                  <a:pt x="1749" y="597"/>
                  <a:pt x="2292" y="1497"/>
                  <a:pt x="2407" y="144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3" name=""/>
          <p:cNvSpPr/>
          <p:nvPr/>
        </p:nvSpPr>
        <p:spPr>
          <a:xfrm>
            <a:off x="8342280" y="2433600"/>
            <a:ext cx="932040" cy="1704960"/>
          </a:xfrm>
          <a:custGeom>
            <a:avLst/>
            <a:gdLst/>
            <a:ahLst/>
            <a:rect l="l" t="t" r="r" b="b"/>
            <a:pathLst>
              <a:path w="587" h="1074">
                <a:moveTo>
                  <a:pt x="527" y="1035"/>
                </a:moveTo>
                <a:cubicBezTo>
                  <a:pt x="501" y="994"/>
                  <a:pt x="461" y="851"/>
                  <a:pt x="429" y="799"/>
                </a:cubicBezTo>
                <a:cubicBezTo>
                  <a:pt x="397" y="747"/>
                  <a:pt x="387" y="753"/>
                  <a:pt x="337" y="723"/>
                </a:cubicBezTo>
                <a:cubicBezTo>
                  <a:pt x="287" y="693"/>
                  <a:pt x="174" y="691"/>
                  <a:pt x="126" y="616"/>
                </a:cubicBezTo>
                <a:cubicBezTo>
                  <a:pt x="78" y="541"/>
                  <a:pt x="68" y="368"/>
                  <a:pt x="47" y="271"/>
                </a:cubicBezTo>
                <a:cubicBezTo>
                  <a:pt x="26" y="174"/>
                  <a:pt x="2" y="62"/>
                  <a:pt x="1" y="31"/>
                </a:cubicBezTo>
                <a:cubicBezTo>
                  <a:pt x="0" y="0"/>
                  <a:pt x="23" y="9"/>
                  <a:pt x="41" y="87"/>
                </a:cubicBezTo>
                <a:cubicBezTo>
                  <a:pt x="59" y="165"/>
                  <a:pt x="84" y="409"/>
                  <a:pt x="109" y="500"/>
                </a:cubicBezTo>
                <a:cubicBezTo>
                  <a:pt x="134" y="591"/>
                  <a:pt x="142" y="598"/>
                  <a:pt x="189" y="631"/>
                </a:cubicBezTo>
                <a:cubicBezTo>
                  <a:pt x="236" y="664"/>
                  <a:pt x="349" y="677"/>
                  <a:pt x="393" y="699"/>
                </a:cubicBezTo>
                <a:cubicBezTo>
                  <a:pt x="437" y="721"/>
                  <a:pt x="430" y="718"/>
                  <a:pt x="456" y="766"/>
                </a:cubicBezTo>
                <a:cubicBezTo>
                  <a:pt x="482" y="814"/>
                  <a:pt x="532" y="942"/>
                  <a:pt x="552" y="989"/>
                </a:cubicBezTo>
                <a:cubicBezTo>
                  <a:pt x="573" y="1035"/>
                  <a:pt x="587" y="1038"/>
                  <a:pt x="582" y="1046"/>
                </a:cubicBezTo>
                <a:cubicBezTo>
                  <a:pt x="577" y="1054"/>
                  <a:pt x="557" y="1074"/>
                  <a:pt x="527" y="1035"/>
                </a:cubicBezTo>
                <a:close/>
              </a:path>
            </a:pathLst>
          </a:custGeom>
          <a:gradFill rotWithShape="0">
            <a:gsLst>
              <a:gs pos="0">
                <a:srgbClr val="2f17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4" name=""/>
          <p:cNvSpPr/>
          <p:nvPr/>
        </p:nvSpPr>
        <p:spPr>
          <a:xfrm>
            <a:off x="369720" y="31680"/>
            <a:ext cx="8120160" cy="6612120"/>
          </a:xfrm>
          <a:custGeom>
            <a:avLst/>
            <a:gdLst/>
            <a:ahLst/>
            <a:rect l="l" t="t" r="r" b="b"/>
            <a:pathLst>
              <a:path w="5115" h="4165">
                <a:moveTo>
                  <a:pt x="4008" y="1722"/>
                </a:moveTo>
                <a:cubicBezTo>
                  <a:pt x="4000" y="1707"/>
                  <a:pt x="3967" y="1656"/>
                  <a:pt x="3959" y="1631"/>
                </a:cubicBezTo>
                <a:cubicBezTo>
                  <a:pt x="3951" y="1606"/>
                  <a:pt x="3957" y="1592"/>
                  <a:pt x="3959" y="1569"/>
                </a:cubicBezTo>
                <a:cubicBezTo>
                  <a:pt x="3961" y="1546"/>
                  <a:pt x="3967" y="1523"/>
                  <a:pt x="3973" y="1493"/>
                </a:cubicBezTo>
                <a:cubicBezTo>
                  <a:pt x="3979" y="1463"/>
                  <a:pt x="3988" y="1431"/>
                  <a:pt x="3994" y="1389"/>
                </a:cubicBezTo>
                <a:cubicBezTo>
                  <a:pt x="4000" y="1347"/>
                  <a:pt x="4000" y="1303"/>
                  <a:pt x="4008" y="1243"/>
                </a:cubicBezTo>
                <a:cubicBezTo>
                  <a:pt x="4016" y="1183"/>
                  <a:pt x="4034" y="1090"/>
                  <a:pt x="4043" y="1028"/>
                </a:cubicBezTo>
                <a:cubicBezTo>
                  <a:pt x="4052" y="966"/>
                  <a:pt x="4051" y="927"/>
                  <a:pt x="4063" y="868"/>
                </a:cubicBezTo>
                <a:cubicBezTo>
                  <a:pt x="4075" y="809"/>
                  <a:pt x="4111" y="663"/>
                  <a:pt x="4112" y="674"/>
                </a:cubicBezTo>
                <a:cubicBezTo>
                  <a:pt x="4113" y="685"/>
                  <a:pt x="4084" y="841"/>
                  <a:pt x="4070" y="937"/>
                </a:cubicBezTo>
                <a:cubicBezTo>
                  <a:pt x="4056" y="1033"/>
                  <a:pt x="4040" y="1156"/>
                  <a:pt x="4029" y="1250"/>
                </a:cubicBezTo>
                <a:cubicBezTo>
                  <a:pt x="4018" y="1344"/>
                  <a:pt x="4007" y="1438"/>
                  <a:pt x="4001" y="1500"/>
                </a:cubicBezTo>
                <a:cubicBezTo>
                  <a:pt x="3995" y="1562"/>
                  <a:pt x="3981" y="1580"/>
                  <a:pt x="3994" y="1624"/>
                </a:cubicBezTo>
                <a:cubicBezTo>
                  <a:pt x="4007" y="1668"/>
                  <a:pt x="4042" y="1714"/>
                  <a:pt x="4077" y="1763"/>
                </a:cubicBezTo>
                <a:cubicBezTo>
                  <a:pt x="4112" y="1812"/>
                  <a:pt x="4159" y="1861"/>
                  <a:pt x="4202" y="1916"/>
                </a:cubicBezTo>
                <a:cubicBezTo>
                  <a:pt x="4245" y="1971"/>
                  <a:pt x="4302" y="2026"/>
                  <a:pt x="4334" y="2096"/>
                </a:cubicBezTo>
                <a:cubicBezTo>
                  <a:pt x="4366" y="2166"/>
                  <a:pt x="4359" y="2277"/>
                  <a:pt x="4397" y="2339"/>
                </a:cubicBezTo>
                <a:cubicBezTo>
                  <a:pt x="4435" y="2401"/>
                  <a:pt x="4525" y="2449"/>
                  <a:pt x="4563" y="2471"/>
                </a:cubicBezTo>
                <a:cubicBezTo>
                  <a:pt x="4601" y="2493"/>
                  <a:pt x="4610" y="2488"/>
                  <a:pt x="4626" y="2471"/>
                </a:cubicBezTo>
                <a:cubicBezTo>
                  <a:pt x="4642" y="2454"/>
                  <a:pt x="4667" y="2441"/>
                  <a:pt x="4660" y="2367"/>
                </a:cubicBezTo>
                <a:cubicBezTo>
                  <a:pt x="4653" y="2293"/>
                  <a:pt x="4626" y="2102"/>
                  <a:pt x="4584" y="2027"/>
                </a:cubicBezTo>
                <a:cubicBezTo>
                  <a:pt x="4542" y="1952"/>
                  <a:pt x="4460" y="1967"/>
                  <a:pt x="4410" y="1916"/>
                </a:cubicBezTo>
                <a:cubicBezTo>
                  <a:pt x="4360" y="1865"/>
                  <a:pt x="4318" y="1849"/>
                  <a:pt x="4285" y="1722"/>
                </a:cubicBezTo>
                <a:cubicBezTo>
                  <a:pt x="4252" y="1595"/>
                  <a:pt x="4207" y="1154"/>
                  <a:pt x="4209" y="1153"/>
                </a:cubicBezTo>
                <a:cubicBezTo>
                  <a:pt x="4211" y="1152"/>
                  <a:pt x="4260" y="1590"/>
                  <a:pt x="4299" y="1715"/>
                </a:cubicBezTo>
                <a:cubicBezTo>
                  <a:pt x="4338" y="1840"/>
                  <a:pt x="4398" y="1859"/>
                  <a:pt x="4445" y="1902"/>
                </a:cubicBezTo>
                <a:cubicBezTo>
                  <a:pt x="4492" y="1945"/>
                  <a:pt x="4552" y="1946"/>
                  <a:pt x="4584" y="1971"/>
                </a:cubicBezTo>
                <a:cubicBezTo>
                  <a:pt x="4616" y="1996"/>
                  <a:pt x="4618" y="1997"/>
                  <a:pt x="4639" y="2055"/>
                </a:cubicBezTo>
                <a:cubicBezTo>
                  <a:pt x="4660" y="2113"/>
                  <a:pt x="4689" y="2251"/>
                  <a:pt x="4709" y="2318"/>
                </a:cubicBezTo>
                <a:cubicBezTo>
                  <a:pt x="4729" y="2385"/>
                  <a:pt x="4731" y="2435"/>
                  <a:pt x="4757" y="2457"/>
                </a:cubicBezTo>
                <a:cubicBezTo>
                  <a:pt x="4783" y="2479"/>
                  <a:pt x="4833" y="2470"/>
                  <a:pt x="4868" y="2450"/>
                </a:cubicBezTo>
                <a:cubicBezTo>
                  <a:pt x="4903" y="2430"/>
                  <a:pt x="4951" y="2393"/>
                  <a:pt x="4966" y="2339"/>
                </a:cubicBezTo>
                <a:cubicBezTo>
                  <a:pt x="4981" y="2285"/>
                  <a:pt x="4969" y="2206"/>
                  <a:pt x="4959" y="2124"/>
                </a:cubicBezTo>
                <a:cubicBezTo>
                  <a:pt x="4949" y="2042"/>
                  <a:pt x="4924" y="1926"/>
                  <a:pt x="4903" y="1847"/>
                </a:cubicBezTo>
                <a:cubicBezTo>
                  <a:pt x="4882" y="1768"/>
                  <a:pt x="4870" y="1703"/>
                  <a:pt x="4834" y="1652"/>
                </a:cubicBezTo>
                <a:cubicBezTo>
                  <a:pt x="4798" y="1601"/>
                  <a:pt x="4725" y="1576"/>
                  <a:pt x="4688" y="1541"/>
                </a:cubicBezTo>
                <a:cubicBezTo>
                  <a:pt x="4651" y="1506"/>
                  <a:pt x="4635" y="1478"/>
                  <a:pt x="4612" y="1444"/>
                </a:cubicBezTo>
                <a:cubicBezTo>
                  <a:pt x="4589" y="1410"/>
                  <a:pt x="4556" y="1385"/>
                  <a:pt x="4549" y="1340"/>
                </a:cubicBezTo>
                <a:cubicBezTo>
                  <a:pt x="4542" y="1295"/>
                  <a:pt x="4576" y="1212"/>
                  <a:pt x="4569" y="1171"/>
                </a:cubicBezTo>
                <a:cubicBezTo>
                  <a:pt x="4562" y="1130"/>
                  <a:pt x="4531" y="1119"/>
                  <a:pt x="4509" y="1093"/>
                </a:cubicBezTo>
                <a:cubicBezTo>
                  <a:pt x="4487" y="1067"/>
                  <a:pt x="4450" y="1049"/>
                  <a:pt x="4438" y="1014"/>
                </a:cubicBezTo>
                <a:cubicBezTo>
                  <a:pt x="4426" y="979"/>
                  <a:pt x="4444" y="928"/>
                  <a:pt x="4437" y="883"/>
                </a:cubicBezTo>
                <a:cubicBezTo>
                  <a:pt x="4430" y="838"/>
                  <a:pt x="4393" y="747"/>
                  <a:pt x="4395" y="745"/>
                </a:cubicBezTo>
                <a:cubicBezTo>
                  <a:pt x="4397" y="743"/>
                  <a:pt x="4441" y="828"/>
                  <a:pt x="4452" y="868"/>
                </a:cubicBezTo>
                <a:cubicBezTo>
                  <a:pt x="4463" y="908"/>
                  <a:pt x="4450" y="954"/>
                  <a:pt x="4459" y="986"/>
                </a:cubicBezTo>
                <a:cubicBezTo>
                  <a:pt x="4468" y="1018"/>
                  <a:pt x="4485" y="1033"/>
                  <a:pt x="4508" y="1062"/>
                </a:cubicBezTo>
                <a:cubicBezTo>
                  <a:pt x="4531" y="1091"/>
                  <a:pt x="4583" y="1114"/>
                  <a:pt x="4598" y="1160"/>
                </a:cubicBezTo>
                <a:cubicBezTo>
                  <a:pt x="4613" y="1206"/>
                  <a:pt x="4561" y="1273"/>
                  <a:pt x="4598" y="1340"/>
                </a:cubicBezTo>
                <a:cubicBezTo>
                  <a:pt x="4635" y="1407"/>
                  <a:pt x="4773" y="1534"/>
                  <a:pt x="4820" y="1562"/>
                </a:cubicBezTo>
                <a:cubicBezTo>
                  <a:pt x="4867" y="1590"/>
                  <a:pt x="4860" y="1549"/>
                  <a:pt x="4882" y="1507"/>
                </a:cubicBezTo>
                <a:cubicBezTo>
                  <a:pt x="4904" y="1465"/>
                  <a:pt x="4935" y="1371"/>
                  <a:pt x="4952" y="1312"/>
                </a:cubicBezTo>
                <a:cubicBezTo>
                  <a:pt x="4969" y="1253"/>
                  <a:pt x="4972" y="1204"/>
                  <a:pt x="4986" y="1153"/>
                </a:cubicBezTo>
                <a:cubicBezTo>
                  <a:pt x="5000" y="1102"/>
                  <a:pt x="5020" y="1052"/>
                  <a:pt x="5035" y="1007"/>
                </a:cubicBezTo>
                <a:cubicBezTo>
                  <a:pt x="5050" y="962"/>
                  <a:pt x="5064" y="932"/>
                  <a:pt x="5077" y="882"/>
                </a:cubicBezTo>
                <a:cubicBezTo>
                  <a:pt x="5090" y="832"/>
                  <a:pt x="5107" y="714"/>
                  <a:pt x="5111" y="708"/>
                </a:cubicBezTo>
                <a:cubicBezTo>
                  <a:pt x="5115" y="702"/>
                  <a:pt x="5110" y="808"/>
                  <a:pt x="5104" y="847"/>
                </a:cubicBezTo>
                <a:cubicBezTo>
                  <a:pt x="5098" y="886"/>
                  <a:pt x="5091" y="893"/>
                  <a:pt x="5077" y="944"/>
                </a:cubicBezTo>
                <a:cubicBezTo>
                  <a:pt x="5063" y="995"/>
                  <a:pt x="5037" y="1089"/>
                  <a:pt x="5021" y="1153"/>
                </a:cubicBezTo>
                <a:cubicBezTo>
                  <a:pt x="5005" y="1217"/>
                  <a:pt x="4994" y="1264"/>
                  <a:pt x="4979" y="1326"/>
                </a:cubicBezTo>
                <a:cubicBezTo>
                  <a:pt x="4964" y="1388"/>
                  <a:pt x="4943" y="1468"/>
                  <a:pt x="4931" y="1527"/>
                </a:cubicBezTo>
                <a:cubicBezTo>
                  <a:pt x="4919" y="1586"/>
                  <a:pt x="4903" y="1615"/>
                  <a:pt x="4910" y="1680"/>
                </a:cubicBezTo>
                <a:cubicBezTo>
                  <a:pt x="4917" y="1745"/>
                  <a:pt x="4955" y="1810"/>
                  <a:pt x="4973" y="1916"/>
                </a:cubicBezTo>
                <a:cubicBezTo>
                  <a:pt x="4991" y="2022"/>
                  <a:pt x="5030" y="2221"/>
                  <a:pt x="5021" y="2318"/>
                </a:cubicBezTo>
                <a:cubicBezTo>
                  <a:pt x="5012" y="2415"/>
                  <a:pt x="4964" y="2462"/>
                  <a:pt x="4917" y="2499"/>
                </a:cubicBezTo>
                <a:cubicBezTo>
                  <a:pt x="4870" y="2536"/>
                  <a:pt x="4789" y="2528"/>
                  <a:pt x="4737" y="2541"/>
                </a:cubicBezTo>
                <a:cubicBezTo>
                  <a:pt x="4685" y="2554"/>
                  <a:pt x="4662" y="2554"/>
                  <a:pt x="4605" y="2575"/>
                </a:cubicBezTo>
                <a:cubicBezTo>
                  <a:pt x="4548" y="2596"/>
                  <a:pt x="4462" y="2653"/>
                  <a:pt x="4397" y="2665"/>
                </a:cubicBezTo>
                <a:cubicBezTo>
                  <a:pt x="4332" y="2677"/>
                  <a:pt x="4280" y="2637"/>
                  <a:pt x="4216" y="2645"/>
                </a:cubicBezTo>
                <a:cubicBezTo>
                  <a:pt x="4152" y="2653"/>
                  <a:pt x="4089" y="2710"/>
                  <a:pt x="4015" y="2714"/>
                </a:cubicBezTo>
                <a:cubicBezTo>
                  <a:pt x="3941" y="2718"/>
                  <a:pt x="3844" y="2669"/>
                  <a:pt x="3772" y="2672"/>
                </a:cubicBezTo>
                <a:cubicBezTo>
                  <a:pt x="3700" y="2675"/>
                  <a:pt x="3675" y="2700"/>
                  <a:pt x="3581" y="2734"/>
                </a:cubicBezTo>
                <a:cubicBezTo>
                  <a:pt x="3487" y="2768"/>
                  <a:pt x="3327" y="2812"/>
                  <a:pt x="3210" y="2874"/>
                </a:cubicBezTo>
                <a:cubicBezTo>
                  <a:pt x="3093" y="2936"/>
                  <a:pt x="2965" y="3018"/>
                  <a:pt x="2881" y="3105"/>
                </a:cubicBezTo>
                <a:cubicBezTo>
                  <a:pt x="2797" y="3192"/>
                  <a:pt x="2725" y="3354"/>
                  <a:pt x="2709" y="3396"/>
                </a:cubicBezTo>
                <a:cubicBezTo>
                  <a:pt x="2693" y="3438"/>
                  <a:pt x="2729" y="3351"/>
                  <a:pt x="2787" y="3360"/>
                </a:cubicBezTo>
                <a:cubicBezTo>
                  <a:pt x="2845" y="3369"/>
                  <a:pt x="2935" y="3465"/>
                  <a:pt x="3057" y="3450"/>
                </a:cubicBezTo>
                <a:cubicBezTo>
                  <a:pt x="3179" y="3435"/>
                  <a:pt x="3517" y="3264"/>
                  <a:pt x="3521" y="3269"/>
                </a:cubicBezTo>
                <a:cubicBezTo>
                  <a:pt x="3525" y="3274"/>
                  <a:pt x="3200" y="3455"/>
                  <a:pt x="3081" y="3480"/>
                </a:cubicBezTo>
                <a:cubicBezTo>
                  <a:pt x="2962" y="3505"/>
                  <a:pt x="2864" y="3410"/>
                  <a:pt x="2805" y="3420"/>
                </a:cubicBezTo>
                <a:cubicBezTo>
                  <a:pt x="2746" y="3430"/>
                  <a:pt x="2733" y="3500"/>
                  <a:pt x="2727" y="3540"/>
                </a:cubicBezTo>
                <a:cubicBezTo>
                  <a:pt x="2721" y="3580"/>
                  <a:pt x="2732" y="3616"/>
                  <a:pt x="2770" y="3663"/>
                </a:cubicBezTo>
                <a:cubicBezTo>
                  <a:pt x="2808" y="3710"/>
                  <a:pt x="2861" y="3746"/>
                  <a:pt x="2952" y="3822"/>
                </a:cubicBezTo>
                <a:cubicBezTo>
                  <a:pt x="3043" y="3898"/>
                  <a:pt x="3289" y="4085"/>
                  <a:pt x="3316" y="4116"/>
                </a:cubicBezTo>
                <a:cubicBezTo>
                  <a:pt x="3343" y="4147"/>
                  <a:pt x="3179" y="4039"/>
                  <a:pt x="3116" y="4010"/>
                </a:cubicBezTo>
                <a:cubicBezTo>
                  <a:pt x="3053" y="3981"/>
                  <a:pt x="2985" y="3941"/>
                  <a:pt x="2940" y="3939"/>
                </a:cubicBezTo>
                <a:cubicBezTo>
                  <a:pt x="2895" y="3937"/>
                  <a:pt x="2857" y="3964"/>
                  <a:pt x="2846" y="3998"/>
                </a:cubicBezTo>
                <a:cubicBezTo>
                  <a:pt x="2835" y="4032"/>
                  <a:pt x="2907" y="4148"/>
                  <a:pt x="2875" y="4145"/>
                </a:cubicBezTo>
                <a:cubicBezTo>
                  <a:pt x="2843" y="4142"/>
                  <a:pt x="2737" y="3977"/>
                  <a:pt x="2652" y="3980"/>
                </a:cubicBezTo>
                <a:cubicBezTo>
                  <a:pt x="2567" y="3983"/>
                  <a:pt x="2414" y="4161"/>
                  <a:pt x="2364" y="4163"/>
                </a:cubicBezTo>
                <a:cubicBezTo>
                  <a:pt x="2314" y="4165"/>
                  <a:pt x="2372" y="4017"/>
                  <a:pt x="2352" y="3992"/>
                </a:cubicBezTo>
                <a:cubicBezTo>
                  <a:pt x="2332" y="3967"/>
                  <a:pt x="2309" y="3992"/>
                  <a:pt x="2241" y="4010"/>
                </a:cubicBezTo>
                <a:cubicBezTo>
                  <a:pt x="2173" y="4028"/>
                  <a:pt x="1917" y="4139"/>
                  <a:pt x="1941" y="4098"/>
                </a:cubicBezTo>
                <a:cubicBezTo>
                  <a:pt x="1965" y="4057"/>
                  <a:pt x="2355" y="3877"/>
                  <a:pt x="2387" y="3762"/>
                </a:cubicBezTo>
                <a:cubicBezTo>
                  <a:pt x="2419" y="3647"/>
                  <a:pt x="2217" y="3462"/>
                  <a:pt x="2135" y="3410"/>
                </a:cubicBezTo>
                <a:cubicBezTo>
                  <a:pt x="2053" y="3358"/>
                  <a:pt x="1949" y="3421"/>
                  <a:pt x="1896" y="3449"/>
                </a:cubicBezTo>
                <a:cubicBezTo>
                  <a:pt x="1843" y="3477"/>
                  <a:pt x="1816" y="3586"/>
                  <a:pt x="1814" y="3580"/>
                </a:cubicBezTo>
                <a:cubicBezTo>
                  <a:pt x="1812" y="3574"/>
                  <a:pt x="1838" y="3452"/>
                  <a:pt x="1884" y="3415"/>
                </a:cubicBezTo>
                <a:cubicBezTo>
                  <a:pt x="1930" y="3378"/>
                  <a:pt x="2015" y="3358"/>
                  <a:pt x="2093" y="3359"/>
                </a:cubicBezTo>
                <a:cubicBezTo>
                  <a:pt x="2171" y="3360"/>
                  <a:pt x="2322" y="3454"/>
                  <a:pt x="2352" y="3422"/>
                </a:cubicBezTo>
                <a:cubicBezTo>
                  <a:pt x="2382" y="3390"/>
                  <a:pt x="2328" y="3240"/>
                  <a:pt x="2273" y="3165"/>
                </a:cubicBezTo>
                <a:cubicBezTo>
                  <a:pt x="2218" y="3090"/>
                  <a:pt x="2101" y="3017"/>
                  <a:pt x="2023" y="2971"/>
                </a:cubicBezTo>
                <a:cubicBezTo>
                  <a:pt x="1945" y="2925"/>
                  <a:pt x="1863" y="2897"/>
                  <a:pt x="1808" y="2891"/>
                </a:cubicBezTo>
                <a:cubicBezTo>
                  <a:pt x="1753" y="2885"/>
                  <a:pt x="1741" y="2885"/>
                  <a:pt x="1695" y="2935"/>
                </a:cubicBezTo>
                <a:cubicBezTo>
                  <a:pt x="1649" y="2985"/>
                  <a:pt x="1575" y="3126"/>
                  <a:pt x="1533" y="3192"/>
                </a:cubicBezTo>
                <a:cubicBezTo>
                  <a:pt x="1491" y="3258"/>
                  <a:pt x="1444" y="3338"/>
                  <a:pt x="1445" y="3330"/>
                </a:cubicBezTo>
                <a:cubicBezTo>
                  <a:pt x="1446" y="3322"/>
                  <a:pt x="1504" y="3213"/>
                  <a:pt x="1539" y="3142"/>
                </a:cubicBezTo>
                <a:cubicBezTo>
                  <a:pt x="1574" y="3071"/>
                  <a:pt x="1653" y="2946"/>
                  <a:pt x="1658" y="2904"/>
                </a:cubicBezTo>
                <a:cubicBezTo>
                  <a:pt x="1663" y="2862"/>
                  <a:pt x="1622" y="2882"/>
                  <a:pt x="1572" y="2888"/>
                </a:cubicBezTo>
                <a:cubicBezTo>
                  <a:pt x="1522" y="2894"/>
                  <a:pt x="1443" y="2925"/>
                  <a:pt x="1357" y="2943"/>
                </a:cubicBezTo>
                <a:cubicBezTo>
                  <a:pt x="1271" y="2961"/>
                  <a:pt x="1146" y="3001"/>
                  <a:pt x="1058" y="2999"/>
                </a:cubicBezTo>
                <a:cubicBezTo>
                  <a:pt x="970" y="2997"/>
                  <a:pt x="876" y="2931"/>
                  <a:pt x="829" y="2929"/>
                </a:cubicBezTo>
                <a:cubicBezTo>
                  <a:pt x="782" y="2927"/>
                  <a:pt x="781" y="2950"/>
                  <a:pt x="773" y="2985"/>
                </a:cubicBezTo>
                <a:cubicBezTo>
                  <a:pt x="765" y="3020"/>
                  <a:pt x="775" y="3099"/>
                  <a:pt x="780" y="3138"/>
                </a:cubicBezTo>
                <a:cubicBezTo>
                  <a:pt x="785" y="3177"/>
                  <a:pt x="796" y="3180"/>
                  <a:pt x="801" y="3221"/>
                </a:cubicBezTo>
                <a:cubicBezTo>
                  <a:pt x="806" y="3262"/>
                  <a:pt x="809" y="3343"/>
                  <a:pt x="808" y="3387"/>
                </a:cubicBezTo>
                <a:cubicBezTo>
                  <a:pt x="807" y="3431"/>
                  <a:pt x="797" y="3502"/>
                  <a:pt x="794" y="3485"/>
                </a:cubicBezTo>
                <a:cubicBezTo>
                  <a:pt x="791" y="3468"/>
                  <a:pt x="794" y="3350"/>
                  <a:pt x="787" y="3283"/>
                </a:cubicBezTo>
                <a:cubicBezTo>
                  <a:pt x="780" y="3216"/>
                  <a:pt x="765" y="3142"/>
                  <a:pt x="752" y="3082"/>
                </a:cubicBezTo>
                <a:cubicBezTo>
                  <a:pt x="739" y="3022"/>
                  <a:pt x="750" y="2959"/>
                  <a:pt x="711" y="2922"/>
                </a:cubicBezTo>
                <a:cubicBezTo>
                  <a:pt x="672" y="2885"/>
                  <a:pt x="572" y="2876"/>
                  <a:pt x="518" y="2860"/>
                </a:cubicBezTo>
                <a:cubicBezTo>
                  <a:pt x="464" y="2844"/>
                  <a:pt x="465" y="2852"/>
                  <a:pt x="387" y="2829"/>
                </a:cubicBezTo>
                <a:cubicBezTo>
                  <a:pt x="309" y="2806"/>
                  <a:pt x="12" y="2717"/>
                  <a:pt x="49" y="2722"/>
                </a:cubicBezTo>
                <a:cubicBezTo>
                  <a:pt x="86" y="2727"/>
                  <a:pt x="482" y="2834"/>
                  <a:pt x="607" y="2860"/>
                </a:cubicBezTo>
                <a:cubicBezTo>
                  <a:pt x="732" y="2886"/>
                  <a:pt x="767" y="2902"/>
                  <a:pt x="802" y="2881"/>
                </a:cubicBezTo>
                <a:cubicBezTo>
                  <a:pt x="837" y="2860"/>
                  <a:pt x="806" y="2818"/>
                  <a:pt x="816" y="2735"/>
                </a:cubicBezTo>
                <a:cubicBezTo>
                  <a:pt x="826" y="2652"/>
                  <a:pt x="860" y="2393"/>
                  <a:pt x="864" y="2381"/>
                </a:cubicBezTo>
                <a:cubicBezTo>
                  <a:pt x="868" y="2369"/>
                  <a:pt x="847" y="2585"/>
                  <a:pt x="843" y="2659"/>
                </a:cubicBezTo>
                <a:cubicBezTo>
                  <a:pt x="839" y="2733"/>
                  <a:pt x="836" y="2788"/>
                  <a:pt x="843" y="2825"/>
                </a:cubicBezTo>
                <a:cubicBezTo>
                  <a:pt x="850" y="2862"/>
                  <a:pt x="853" y="2861"/>
                  <a:pt x="885" y="2881"/>
                </a:cubicBezTo>
                <a:cubicBezTo>
                  <a:pt x="917" y="2901"/>
                  <a:pt x="959" y="2944"/>
                  <a:pt x="1038" y="2943"/>
                </a:cubicBezTo>
                <a:cubicBezTo>
                  <a:pt x="1117" y="2942"/>
                  <a:pt x="1260" y="2901"/>
                  <a:pt x="1357" y="2874"/>
                </a:cubicBezTo>
                <a:cubicBezTo>
                  <a:pt x="1454" y="2847"/>
                  <a:pt x="1597" y="2816"/>
                  <a:pt x="1621" y="2783"/>
                </a:cubicBezTo>
                <a:cubicBezTo>
                  <a:pt x="1645" y="2750"/>
                  <a:pt x="1561" y="2719"/>
                  <a:pt x="1503" y="2679"/>
                </a:cubicBezTo>
                <a:cubicBezTo>
                  <a:pt x="1445" y="2639"/>
                  <a:pt x="1357" y="2602"/>
                  <a:pt x="1274" y="2541"/>
                </a:cubicBezTo>
                <a:cubicBezTo>
                  <a:pt x="1191" y="2480"/>
                  <a:pt x="1085" y="2362"/>
                  <a:pt x="1003" y="2312"/>
                </a:cubicBezTo>
                <a:cubicBezTo>
                  <a:pt x="921" y="2262"/>
                  <a:pt x="887" y="2270"/>
                  <a:pt x="781" y="2242"/>
                </a:cubicBezTo>
                <a:cubicBezTo>
                  <a:pt x="675" y="2214"/>
                  <a:pt x="440" y="2202"/>
                  <a:pt x="365" y="2145"/>
                </a:cubicBezTo>
                <a:cubicBezTo>
                  <a:pt x="290" y="2088"/>
                  <a:pt x="352" y="1961"/>
                  <a:pt x="330" y="1902"/>
                </a:cubicBezTo>
                <a:cubicBezTo>
                  <a:pt x="308" y="1843"/>
                  <a:pt x="285" y="1843"/>
                  <a:pt x="233" y="1791"/>
                </a:cubicBezTo>
                <a:cubicBezTo>
                  <a:pt x="181" y="1739"/>
                  <a:pt x="0" y="1577"/>
                  <a:pt x="17" y="1590"/>
                </a:cubicBezTo>
                <a:cubicBezTo>
                  <a:pt x="34" y="1603"/>
                  <a:pt x="276" y="1780"/>
                  <a:pt x="337" y="1867"/>
                </a:cubicBezTo>
                <a:cubicBezTo>
                  <a:pt x="398" y="1954"/>
                  <a:pt x="339" y="2059"/>
                  <a:pt x="385" y="2110"/>
                </a:cubicBezTo>
                <a:cubicBezTo>
                  <a:pt x="431" y="2161"/>
                  <a:pt x="532" y="2155"/>
                  <a:pt x="614" y="2173"/>
                </a:cubicBezTo>
                <a:cubicBezTo>
                  <a:pt x="696" y="2191"/>
                  <a:pt x="824" y="2219"/>
                  <a:pt x="878" y="2221"/>
                </a:cubicBezTo>
                <a:cubicBezTo>
                  <a:pt x="932" y="2223"/>
                  <a:pt x="936" y="2248"/>
                  <a:pt x="941" y="2187"/>
                </a:cubicBezTo>
                <a:cubicBezTo>
                  <a:pt x="946" y="2126"/>
                  <a:pt x="966" y="1939"/>
                  <a:pt x="906" y="1853"/>
                </a:cubicBezTo>
                <a:cubicBezTo>
                  <a:pt x="846" y="1767"/>
                  <a:pt x="668" y="1735"/>
                  <a:pt x="580" y="1673"/>
                </a:cubicBezTo>
                <a:cubicBezTo>
                  <a:pt x="492" y="1611"/>
                  <a:pt x="445" y="1538"/>
                  <a:pt x="378" y="1479"/>
                </a:cubicBezTo>
                <a:cubicBezTo>
                  <a:pt x="311" y="1420"/>
                  <a:pt x="233" y="1361"/>
                  <a:pt x="177" y="1319"/>
                </a:cubicBezTo>
                <a:cubicBezTo>
                  <a:pt x="121" y="1277"/>
                  <a:pt x="70" y="1262"/>
                  <a:pt x="45" y="1229"/>
                </a:cubicBezTo>
                <a:cubicBezTo>
                  <a:pt x="20" y="1196"/>
                  <a:pt x="22" y="1118"/>
                  <a:pt x="24" y="1118"/>
                </a:cubicBezTo>
                <a:cubicBezTo>
                  <a:pt x="26" y="1118"/>
                  <a:pt x="16" y="1187"/>
                  <a:pt x="59" y="1229"/>
                </a:cubicBezTo>
                <a:cubicBezTo>
                  <a:pt x="102" y="1271"/>
                  <a:pt x="208" y="1315"/>
                  <a:pt x="281" y="1368"/>
                </a:cubicBezTo>
                <a:cubicBezTo>
                  <a:pt x="354" y="1421"/>
                  <a:pt x="449" y="1508"/>
                  <a:pt x="496" y="1548"/>
                </a:cubicBezTo>
                <a:cubicBezTo>
                  <a:pt x="543" y="1588"/>
                  <a:pt x="548" y="1624"/>
                  <a:pt x="566" y="1611"/>
                </a:cubicBezTo>
                <a:cubicBezTo>
                  <a:pt x="584" y="1598"/>
                  <a:pt x="616" y="1536"/>
                  <a:pt x="607" y="1472"/>
                </a:cubicBezTo>
                <a:cubicBezTo>
                  <a:pt x="598" y="1408"/>
                  <a:pt x="534" y="1293"/>
                  <a:pt x="510" y="1229"/>
                </a:cubicBezTo>
                <a:cubicBezTo>
                  <a:pt x="486" y="1165"/>
                  <a:pt x="471" y="1133"/>
                  <a:pt x="462" y="1090"/>
                </a:cubicBezTo>
                <a:cubicBezTo>
                  <a:pt x="453" y="1047"/>
                  <a:pt x="455" y="973"/>
                  <a:pt x="455" y="972"/>
                </a:cubicBezTo>
                <a:cubicBezTo>
                  <a:pt x="455" y="971"/>
                  <a:pt x="449" y="1038"/>
                  <a:pt x="462" y="1083"/>
                </a:cubicBezTo>
                <a:cubicBezTo>
                  <a:pt x="475" y="1128"/>
                  <a:pt x="510" y="1198"/>
                  <a:pt x="531" y="1243"/>
                </a:cubicBezTo>
                <a:cubicBezTo>
                  <a:pt x="552" y="1288"/>
                  <a:pt x="570" y="1312"/>
                  <a:pt x="587" y="1354"/>
                </a:cubicBezTo>
                <a:cubicBezTo>
                  <a:pt x="604" y="1396"/>
                  <a:pt x="627" y="1441"/>
                  <a:pt x="635" y="1493"/>
                </a:cubicBezTo>
                <a:cubicBezTo>
                  <a:pt x="643" y="1545"/>
                  <a:pt x="586" y="1614"/>
                  <a:pt x="635" y="1666"/>
                </a:cubicBezTo>
                <a:cubicBezTo>
                  <a:pt x="684" y="1718"/>
                  <a:pt x="870" y="1752"/>
                  <a:pt x="927" y="1805"/>
                </a:cubicBezTo>
                <a:cubicBezTo>
                  <a:pt x="984" y="1858"/>
                  <a:pt x="965" y="1915"/>
                  <a:pt x="975" y="1985"/>
                </a:cubicBezTo>
                <a:cubicBezTo>
                  <a:pt x="985" y="2055"/>
                  <a:pt x="967" y="2171"/>
                  <a:pt x="989" y="2228"/>
                </a:cubicBezTo>
                <a:cubicBezTo>
                  <a:pt x="1011" y="2285"/>
                  <a:pt x="1042" y="2276"/>
                  <a:pt x="1107" y="2325"/>
                </a:cubicBezTo>
                <a:cubicBezTo>
                  <a:pt x="1172" y="2374"/>
                  <a:pt x="1302" y="2469"/>
                  <a:pt x="1378" y="2520"/>
                </a:cubicBezTo>
                <a:cubicBezTo>
                  <a:pt x="1454" y="2571"/>
                  <a:pt x="1512" y="2597"/>
                  <a:pt x="1564" y="2628"/>
                </a:cubicBezTo>
                <a:cubicBezTo>
                  <a:pt x="1616" y="2659"/>
                  <a:pt x="1645" y="2682"/>
                  <a:pt x="1689" y="2703"/>
                </a:cubicBezTo>
                <a:cubicBezTo>
                  <a:pt x="1733" y="2724"/>
                  <a:pt x="1748" y="2732"/>
                  <a:pt x="1827" y="2754"/>
                </a:cubicBezTo>
                <a:cubicBezTo>
                  <a:pt x="1906" y="2776"/>
                  <a:pt x="2084" y="2816"/>
                  <a:pt x="2165" y="2835"/>
                </a:cubicBezTo>
                <a:cubicBezTo>
                  <a:pt x="2246" y="2854"/>
                  <a:pt x="2293" y="2903"/>
                  <a:pt x="2315" y="2867"/>
                </a:cubicBezTo>
                <a:cubicBezTo>
                  <a:pt x="2337" y="2831"/>
                  <a:pt x="2317" y="2689"/>
                  <a:pt x="2294" y="2617"/>
                </a:cubicBezTo>
                <a:cubicBezTo>
                  <a:pt x="2271" y="2545"/>
                  <a:pt x="2216" y="2480"/>
                  <a:pt x="2176" y="2436"/>
                </a:cubicBezTo>
                <a:cubicBezTo>
                  <a:pt x="2136" y="2392"/>
                  <a:pt x="2101" y="2376"/>
                  <a:pt x="2051" y="2353"/>
                </a:cubicBezTo>
                <a:cubicBezTo>
                  <a:pt x="2001" y="2330"/>
                  <a:pt x="1957" y="2305"/>
                  <a:pt x="1877" y="2298"/>
                </a:cubicBezTo>
                <a:cubicBezTo>
                  <a:pt x="1797" y="2291"/>
                  <a:pt x="1640" y="2309"/>
                  <a:pt x="1572" y="2312"/>
                </a:cubicBezTo>
                <a:cubicBezTo>
                  <a:pt x="1504" y="2315"/>
                  <a:pt x="1506" y="2340"/>
                  <a:pt x="1468" y="2318"/>
                </a:cubicBezTo>
                <a:cubicBezTo>
                  <a:pt x="1430" y="2296"/>
                  <a:pt x="1355" y="2263"/>
                  <a:pt x="1342" y="2180"/>
                </a:cubicBezTo>
                <a:cubicBezTo>
                  <a:pt x="1329" y="2097"/>
                  <a:pt x="1389" y="1824"/>
                  <a:pt x="1391" y="1819"/>
                </a:cubicBezTo>
                <a:cubicBezTo>
                  <a:pt x="1393" y="1814"/>
                  <a:pt x="1346" y="2075"/>
                  <a:pt x="1356" y="2152"/>
                </a:cubicBezTo>
                <a:cubicBezTo>
                  <a:pt x="1366" y="2229"/>
                  <a:pt x="1413" y="2264"/>
                  <a:pt x="1454" y="2284"/>
                </a:cubicBezTo>
                <a:cubicBezTo>
                  <a:pt x="1495" y="2304"/>
                  <a:pt x="1536" y="2286"/>
                  <a:pt x="1600" y="2270"/>
                </a:cubicBezTo>
                <a:cubicBezTo>
                  <a:pt x="1664" y="2254"/>
                  <a:pt x="1844" y="2269"/>
                  <a:pt x="1836" y="2187"/>
                </a:cubicBezTo>
                <a:cubicBezTo>
                  <a:pt x="1828" y="2105"/>
                  <a:pt x="1626" y="1857"/>
                  <a:pt x="1551" y="1777"/>
                </a:cubicBezTo>
                <a:cubicBezTo>
                  <a:pt x="1476" y="1697"/>
                  <a:pt x="1427" y="1723"/>
                  <a:pt x="1384" y="1708"/>
                </a:cubicBezTo>
                <a:cubicBezTo>
                  <a:pt x="1341" y="1693"/>
                  <a:pt x="1338" y="1709"/>
                  <a:pt x="1294" y="1687"/>
                </a:cubicBezTo>
                <a:cubicBezTo>
                  <a:pt x="1250" y="1665"/>
                  <a:pt x="1207" y="1636"/>
                  <a:pt x="1120" y="1576"/>
                </a:cubicBezTo>
                <a:cubicBezTo>
                  <a:pt x="1033" y="1516"/>
                  <a:pt x="794" y="1344"/>
                  <a:pt x="773" y="1326"/>
                </a:cubicBezTo>
                <a:cubicBezTo>
                  <a:pt x="752" y="1308"/>
                  <a:pt x="930" y="1423"/>
                  <a:pt x="995" y="1465"/>
                </a:cubicBezTo>
                <a:cubicBezTo>
                  <a:pt x="1060" y="1507"/>
                  <a:pt x="1111" y="1544"/>
                  <a:pt x="1162" y="1576"/>
                </a:cubicBezTo>
                <a:cubicBezTo>
                  <a:pt x="1213" y="1608"/>
                  <a:pt x="1259" y="1640"/>
                  <a:pt x="1301" y="1659"/>
                </a:cubicBezTo>
                <a:cubicBezTo>
                  <a:pt x="1343" y="1678"/>
                  <a:pt x="1377" y="1681"/>
                  <a:pt x="1412" y="1687"/>
                </a:cubicBezTo>
                <a:cubicBezTo>
                  <a:pt x="1447" y="1693"/>
                  <a:pt x="1479" y="1680"/>
                  <a:pt x="1509" y="1694"/>
                </a:cubicBezTo>
                <a:cubicBezTo>
                  <a:pt x="1539" y="1708"/>
                  <a:pt x="1563" y="1740"/>
                  <a:pt x="1593" y="1770"/>
                </a:cubicBezTo>
                <a:cubicBezTo>
                  <a:pt x="1623" y="1800"/>
                  <a:pt x="1639" y="1803"/>
                  <a:pt x="1690" y="1874"/>
                </a:cubicBezTo>
                <a:cubicBezTo>
                  <a:pt x="1741" y="1945"/>
                  <a:pt x="1859" y="2133"/>
                  <a:pt x="1898" y="2194"/>
                </a:cubicBezTo>
                <a:cubicBezTo>
                  <a:pt x="1937" y="2255"/>
                  <a:pt x="1882" y="2221"/>
                  <a:pt x="1926" y="2242"/>
                </a:cubicBezTo>
                <a:cubicBezTo>
                  <a:pt x="1970" y="2263"/>
                  <a:pt x="2083" y="2274"/>
                  <a:pt x="2162" y="2318"/>
                </a:cubicBezTo>
                <a:cubicBezTo>
                  <a:pt x="2241" y="2362"/>
                  <a:pt x="2367" y="2519"/>
                  <a:pt x="2398" y="2506"/>
                </a:cubicBezTo>
                <a:cubicBezTo>
                  <a:pt x="2429" y="2493"/>
                  <a:pt x="2380" y="2304"/>
                  <a:pt x="2349" y="2242"/>
                </a:cubicBezTo>
                <a:cubicBezTo>
                  <a:pt x="2318" y="2180"/>
                  <a:pt x="2260" y="2172"/>
                  <a:pt x="2210" y="2131"/>
                </a:cubicBezTo>
                <a:cubicBezTo>
                  <a:pt x="2160" y="2090"/>
                  <a:pt x="2090" y="2044"/>
                  <a:pt x="2051" y="1999"/>
                </a:cubicBezTo>
                <a:cubicBezTo>
                  <a:pt x="2012" y="1954"/>
                  <a:pt x="2004" y="1919"/>
                  <a:pt x="1975" y="1860"/>
                </a:cubicBezTo>
                <a:cubicBezTo>
                  <a:pt x="1946" y="1801"/>
                  <a:pt x="1919" y="1705"/>
                  <a:pt x="1877" y="1645"/>
                </a:cubicBezTo>
                <a:cubicBezTo>
                  <a:pt x="1835" y="1585"/>
                  <a:pt x="1782" y="1531"/>
                  <a:pt x="1724" y="1500"/>
                </a:cubicBezTo>
                <a:cubicBezTo>
                  <a:pt x="1666" y="1469"/>
                  <a:pt x="1587" y="1480"/>
                  <a:pt x="1530" y="1458"/>
                </a:cubicBezTo>
                <a:cubicBezTo>
                  <a:pt x="1473" y="1436"/>
                  <a:pt x="1459" y="1408"/>
                  <a:pt x="1384" y="1368"/>
                </a:cubicBezTo>
                <a:cubicBezTo>
                  <a:pt x="1309" y="1328"/>
                  <a:pt x="1168" y="1276"/>
                  <a:pt x="1079" y="1215"/>
                </a:cubicBezTo>
                <a:cubicBezTo>
                  <a:pt x="990" y="1154"/>
                  <a:pt x="908" y="1090"/>
                  <a:pt x="850" y="1000"/>
                </a:cubicBezTo>
                <a:cubicBezTo>
                  <a:pt x="792" y="910"/>
                  <a:pt x="731" y="679"/>
                  <a:pt x="732" y="674"/>
                </a:cubicBezTo>
                <a:cubicBezTo>
                  <a:pt x="733" y="669"/>
                  <a:pt x="799" y="889"/>
                  <a:pt x="857" y="972"/>
                </a:cubicBezTo>
                <a:cubicBezTo>
                  <a:pt x="915" y="1055"/>
                  <a:pt x="994" y="1115"/>
                  <a:pt x="1079" y="1173"/>
                </a:cubicBezTo>
                <a:cubicBezTo>
                  <a:pt x="1164" y="1231"/>
                  <a:pt x="1295" y="1280"/>
                  <a:pt x="1370" y="1319"/>
                </a:cubicBezTo>
                <a:cubicBezTo>
                  <a:pt x="1445" y="1358"/>
                  <a:pt x="1470" y="1387"/>
                  <a:pt x="1530" y="1409"/>
                </a:cubicBezTo>
                <a:cubicBezTo>
                  <a:pt x="1590" y="1431"/>
                  <a:pt x="1671" y="1424"/>
                  <a:pt x="1731" y="1451"/>
                </a:cubicBezTo>
                <a:cubicBezTo>
                  <a:pt x="1791" y="1478"/>
                  <a:pt x="1853" y="1526"/>
                  <a:pt x="1891" y="1569"/>
                </a:cubicBezTo>
                <a:cubicBezTo>
                  <a:pt x="1929" y="1612"/>
                  <a:pt x="1933" y="1657"/>
                  <a:pt x="1961" y="1708"/>
                </a:cubicBezTo>
                <a:cubicBezTo>
                  <a:pt x="1989" y="1759"/>
                  <a:pt x="2036" y="1917"/>
                  <a:pt x="2058" y="1874"/>
                </a:cubicBezTo>
                <a:cubicBezTo>
                  <a:pt x="2080" y="1831"/>
                  <a:pt x="2113" y="1550"/>
                  <a:pt x="2093" y="1451"/>
                </a:cubicBezTo>
                <a:cubicBezTo>
                  <a:pt x="2073" y="1352"/>
                  <a:pt x="2004" y="1309"/>
                  <a:pt x="1939" y="1277"/>
                </a:cubicBezTo>
                <a:cubicBezTo>
                  <a:pt x="1874" y="1245"/>
                  <a:pt x="1793" y="1266"/>
                  <a:pt x="1703" y="1257"/>
                </a:cubicBezTo>
                <a:cubicBezTo>
                  <a:pt x="1613" y="1248"/>
                  <a:pt x="1499" y="1298"/>
                  <a:pt x="1398" y="1222"/>
                </a:cubicBezTo>
                <a:cubicBezTo>
                  <a:pt x="1297" y="1146"/>
                  <a:pt x="1096" y="802"/>
                  <a:pt x="1099" y="799"/>
                </a:cubicBezTo>
                <a:cubicBezTo>
                  <a:pt x="1102" y="796"/>
                  <a:pt x="1316" y="1131"/>
                  <a:pt x="1419" y="1201"/>
                </a:cubicBezTo>
                <a:cubicBezTo>
                  <a:pt x="1522" y="1271"/>
                  <a:pt x="1630" y="1218"/>
                  <a:pt x="1717" y="1222"/>
                </a:cubicBezTo>
                <a:cubicBezTo>
                  <a:pt x="1804" y="1226"/>
                  <a:pt x="1888" y="1213"/>
                  <a:pt x="1939" y="1222"/>
                </a:cubicBezTo>
                <a:cubicBezTo>
                  <a:pt x="1990" y="1231"/>
                  <a:pt x="2027" y="1299"/>
                  <a:pt x="2022" y="1277"/>
                </a:cubicBezTo>
                <a:cubicBezTo>
                  <a:pt x="2017" y="1255"/>
                  <a:pt x="1999" y="1134"/>
                  <a:pt x="1911" y="1090"/>
                </a:cubicBezTo>
                <a:cubicBezTo>
                  <a:pt x="1823" y="1046"/>
                  <a:pt x="1586" y="1066"/>
                  <a:pt x="1495" y="1014"/>
                </a:cubicBezTo>
                <a:cubicBezTo>
                  <a:pt x="1404" y="962"/>
                  <a:pt x="1423" y="841"/>
                  <a:pt x="1363" y="778"/>
                </a:cubicBezTo>
                <a:cubicBezTo>
                  <a:pt x="1303" y="715"/>
                  <a:pt x="1180" y="706"/>
                  <a:pt x="1134" y="639"/>
                </a:cubicBezTo>
                <a:cubicBezTo>
                  <a:pt x="1088" y="572"/>
                  <a:pt x="1085" y="380"/>
                  <a:pt x="1086" y="375"/>
                </a:cubicBezTo>
                <a:cubicBezTo>
                  <a:pt x="1087" y="370"/>
                  <a:pt x="1100" y="552"/>
                  <a:pt x="1141" y="611"/>
                </a:cubicBezTo>
                <a:cubicBezTo>
                  <a:pt x="1182" y="670"/>
                  <a:pt x="1290" y="699"/>
                  <a:pt x="1335" y="729"/>
                </a:cubicBezTo>
                <a:cubicBezTo>
                  <a:pt x="1380" y="759"/>
                  <a:pt x="1393" y="762"/>
                  <a:pt x="1412" y="792"/>
                </a:cubicBezTo>
                <a:cubicBezTo>
                  <a:pt x="1431" y="822"/>
                  <a:pt x="1421" y="874"/>
                  <a:pt x="1446" y="910"/>
                </a:cubicBezTo>
                <a:cubicBezTo>
                  <a:pt x="1471" y="946"/>
                  <a:pt x="1491" y="986"/>
                  <a:pt x="1564" y="1007"/>
                </a:cubicBezTo>
                <a:cubicBezTo>
                  <a:pt x="1637" y="1028"/>
                  <a:pt x="1816" y="1022"/>
                  <a:pt x="1884" y="1035"/>
                </a:cubicBezTo>
                <a:cubicBezTo>
                  <a:pt x="1952" y="1048"/>
                  <a:pt x="1942" y="1044"/>
                  <a:pt x="1974" y="1083"/>
                </a:cubicBezTo>
                <a:cubicBezTo>
                  <a:pt x="2006" y="1122"/>
                  <a:pt x="2053" y="1221"/>
                  <a:pt x="2078" y="1271"/>
                </a:cubicBezTo>
                <a:cubicBezTo>
                  <a:pt x="2103" y="1321"/>
                  <a:pt x="2128" y="1416"/>
                  <a:pt x="2127" y="1382"/>
                </a:cubicBezTo>
                <a:cubicBezTo>
                  <a:pt x="2126" y="1348"/>
                  <a:pt x="2113" y="1163"/>
                  <a:pt x="2071" y="1069"/>
                </a:cubicBezTo>
                <a:cubicBezTo>
                  <a:pt x="2029" y="975"/>
                  <a:pt x="1930" y="886"/>
                  <a:pt x="1877" y="819"/>
                </a:cubicBezTo>
                <a:cubicBezTo>
                  <a:pt x="1824" y="752"/>
                  <a:pt x="1792" y="733"/>
                  <a:pt x="1752" y="667"/>
                </a:cubicBezTo>
                <a:cubicBezTo>
                  <a:pt x="1712" y="601"/>
                  <a:pt x="1644" y="491"/>
                  <a:pt x="1634" y="424"/>
                </a:cubicBezTo>
                <a:cubicBezTo>
                  <a:pt x="1624" y="357"/>
                  <a:pt x="1686" y="271"/>
                  <a:pt x="1689" y="264"/>
                </a:cubicBezTo>
                <a:cubicBezTo>
                  <a:pt x="1692" y="257"/>
                  <a:pt x="1654" y="340"/>
                  <a:pt x="1655" y="382"/>
                </a:cubicBezTo>
                <a:cubicBezTo>
                  <a:pt x="1656" y="424"/>
                  <a:pt x="1667" y="457"/>
                  <a:pt x="1696" y="514"/>
                </a:cubicBezTo>
                <a:cubicBezTo>
                  <a:pt x="1725" y="571"/>
                  <a:pt x="1786" y="665"/>
                  <a:pt x="1828" y="722"/>
                </a:cubicBezTo>
                <a:cubicBezTo>
                  <a:pt x="1870" y="779"/>
                  <a:pt x="1900" y="794"/>
                  <a:pt x="1946" y="854"/>
                </a:cubicBezTo>
                <a:cubicBezTo>
                  <a:pt x="1992" y="914"/>
                  <a:pt x="2071" y="1010"/>
                  <a:pt x="2106" y="1083"/>
                </a:cubicBezTo>
                <a:cubicBezTo>
                  <a:pt x="2141" y="1156"/>
                  <a:pt x="2148" y="1220"/>
                  <a:pt x="2154" y="1291"/>
                </a:cubicBezTo>
                <a:cubicBezTo>
                  <a:pt x="2160" y="1362"/>
                  <a:pt x="2144" y="1398"/>
                  <a:pt x="2141" y="1507"/>
                </a:cubicBezTo>
                <a:cubicBezTo>
                  <a:pt x="2138" y="1616"/>
                  <a:pt x="2127" y="1887"/>
                  <a:pt x="2134" y="1944"/>
                </a:cubicBezTo>
                <a:cubicBezTo>
                  <a:pt x="2141" y="2001"/>
                  <a:pt x="2166" y="1901"/>
                  <a:pt x="2183" y="1847"/>
                </a:cubicBezTo>
                <a:cubicBezTo>
                  <a:pt x="2200" y="1793"/>
                  <a:pt x="2221" y="1715"/>
                  <a:pt x="2238" y="1618"/>
                </a:cubicBezTo>
                <a:cubicBezTo>
                  <a:pt x="2255" y="1521"/>
                  <a:pt x="2294" y="1370"/>
                  <a:pt x="2286" y="1264"/>
                </a:cubicBezTo>
                <a:cubicBezTo>
                  <a:pt x="2278" y="1158"/>
                  <a:pt x="2214" y="1068"/>
                  <a:pt x="2189" y="979"/>
                </a:cubicBezTo>
                <a:cubicBezTo>
                  <a:pt x="2164" y="890"/>
                  <a:pt x="2147" y="798"/>
                  <a:pt x="2133" y="729"/>
                </a:cubicBezTo>
                <a:cubicBezTo>
                  <a:pt x="2119" y="660"/>
                  <a:pt x="2126" y="624"/>
                  <a:pt x="2106" y="563"/>
                </a:cubicBezTo>
                <a:cubicBezTo>
                  <a:pt x="2086" y="502"/>
                  <a:pt x="2042" y="421"/>
                  <a:pt x="2015" y="362"/>
                </a:cubicBezTo>
                <a:cubicBezTo>
                  <a:pt x="1988" y="303"/>
                  <a:pt x="1941" y="209"/>
                  <a:pt x="1946" y="209"/>
                </a:cubicBezTo>
                <a:cubicBezTo>
                  <a:pt x="1951" y="209"/>
                  <a:pt x="2013" y="303"/>
                  <a:pt x="2043" y="362"/>
                </a:cubicBezTo>
                <a:cubicBezTo>
                  <a:pt x="2073" y="421"/>
                  <a:pt x="2107" y="506"/>
                  <a:pt x="2127" y="563"/>
                </a:cubicBezTo>
                <a:cubicBezTo>
                  <a:pt x="2147" y="620"/>
                  <a:pt x="2151" y="654"/>
                  <a:pt x="2161" y="701"/>
                </a:cubicBezTo>
                <a:cubicBezTo>
                  <a:pt x="2171" y="748"/>
                  <a:pt x="2176" y="794"/>
                  <a:pt x="2189" y="847"/>
                </a:cubicBezTo>
                <a:cubicBezTo>
                  <a:pt x="2202" y="900"/>
                  <a:pt x="2220" y="968"/>
                  <a:pt x="2238" y="1021"/>
                </a:cubicBezTo>
                <a:cubicBezTo>
                  <a:pt x="2256" y="1074"/>
                  <a:pt x="2287" y="1112"/>
                  <a:pt x="2300" y="1166"/>
                </a:cubicBezTo>
                <a:cubicBezTo>
                  <a:pt x="2313" y="1220"/>
                  <a:pt x="2314" y="1294"/>
                  <a:pt x="2314" y="1347"/>
                </a:cubicBezTo>
                <a:cubicBezTo>
                  <a:pt x="2314" y="1400"/>
                  <a:pt x="2308" y="1435"/>
                  <a:pt x="2300" y="1486"/>
                </a:cubicBezTo>
                <a:cubicBezTo>
                  <a:pt x="2292" y="1537"/>
                  <a:pt x="2273" y="1605"/>
                  <a:pt x="2265" y="1652"/>
                </a:cubicBezTo>
                <a:cubicBezTo>
                  <a:pt x="2257" y="1699"/>
                  <a:pt x="2260" y="1730"/>
                  <a:pt x="2251" y="1770"/>
                </a:cubicBezTo>
                <a:cubicBezTo>
                  <a:pt x="2242" y="1810"/>
                  <a:pt x="2214" y="1855"/>
                  <a:pt x="2210" y="1895"/>
                </a:cubicBezTo>
                <a:cubicBezTo>
                  <a:pt x="2206" y="1935"/>
                  <a:pt x="2186" y="1976"/>
                  <a:pt x="2224" y="2013"/>
                </a:cubicBezTo>
                <a:cubicBezTo>
                  <a:pt x="2262" y="2050"/>
                  <a:pt x="2391" y="2077"/>
                  <a:pt x="2440" y="2117"/>
                </a:cubicBezTo>
                <a:cubicBezTo>
                  <a:pt x="2489" y="2157"/>
                  <a:pt x="2493" y="2184"/>
                  <a:pt x="2516" y="2256"/>
                </a:cubicBezTo>
                <a:cubicBezTo>
                  <a:pt x="2539" y="2328"/>
                  <a:pt x="2555" y="2517"/>
                  <a:pt x="2578" y="2547"/>
                </a:cubicBezTo>
                <a:cubicBezTo>
                  <a:pt x="2601" y="2577"/>
                  <a:pt x="2624" y="2483"/>
                  <a:pt x="2655" y="2436"/>
                </a:cubicBezTo>
                <a:cubicBezTo>
                  <a:pt x="2686" y="2389"/>
                  <a:pt x="2767" y="2338"/>
                  <a:pt x="2766" y="2263"/>
                </a:cubicBezTo>
                <a:cubicBezTo>
                  <a:pt x="2765" y="2188"/>
                  <a:pt x="2706" y="2052"/>
                  <a:pt x="2647" y="1985"/>
                </a:cubicBezTo>
                <a:cubicBezTo>
                  <a:pt x="2588" y="1918"/>
                  <a:pt x="2447" y="1918"/>
                  <a:pt x="2411" y="1860"/>
                </a:cubicBezTo>
                <a:cubicBezTo>
                  <a:pt x="2375" y="1802"/>
                  <a:pt x="2426" y="1710"/>
                  <a:pt x="2432" y="1638"/>
                </a:cubicBezTo>
                <a:cubicBezTo>
                  <a:pt x="2438" y="1566"/>
                  <a:pt x="2439" y="1496"/>
                  <a:pt x="2446" y="1430"/>
                </a:cubicBezTo>
                <a:cubicBezTo>
                  <a:pt x="2453" y="1364"/>
                  <a:pt x="2469" y="1339"/>
                  <a:pt x="2474" y="1243"/>
                </a:cubicBezTo>
                <a:cubicBezTo>
                  <a:pt x="2479" y="1147"/>
                  <a:pt x="2472" y="851"/>
                  <a:pt x="2474" y="854"/>
                </a:cubicBezTo>
                <a:cubicBezTo>
                  <a:pt x="2476" y="857"/>
                  <a:pt x="2486" y="1163"/>
                  <a:pt x="2487" y="1264"/>
                </a:cubicBezTo>
                <a:cubicBezTo>
                  <a:pt x="2488" y="1365"/>
                  <a:pt x="2460" y="1456"/>
                  <a:pt x="2480" y="1458"/>
                </a:cubicBezTo>
                <a:cubicBezTo>
                  <a:pt x="2500" y="1460"/>
                  <a:pt x="2576" y="1345"/>
                  <a:pt x="2605" y="1277"/>
                </a:cubicBezTo>
                <a:cubicBezTo>
                  <a:pt x="2634" y="1209"/>
                  <a:pt x="2691" y="1212"/>
                  <a:pt x="2654" y="1048"/>
                </a:cubicBezTo>
                <a:cubicBezTo>
                  <a:pt x="2617" y="884"/>
                  <a:pt x="2378" y="286"/>
                  <a:pt x="2383" y="292"/>
                </a:cubicBezTo>
                <a:cubicBezTo>
                  <a:pt x="2388" y="298"/>
                  <a:pt x="2647" y="904"/>
                  <a:pt x="2682" y="1083"/>
                </a:cubicBezTo>
                <a:cubicBezTo>
                  <a:pt x="2717" y="1262"/>
                  <a:pt x="2622" y="1293"/>
                  <a:pt x="2591" y="1368"/>
                </a:cubicBezTo>
                <a:cubicBezTo>
                  <a:pt x="2560" y="1443"/>
                  <a:pt x="2515" y="1481"/>
                  <a:pt x="2494" y="1534"/>
                </a:cubicBezTo>
                <a:cubicBezTo>
                  <a:pt x="2473" y="1587"/>
                  <a:pt x="2474" y="1637"/>
                  <a:pt x="2467" y="1687"/>
                </a:cubicBezTo>
                <a:cubicBezTo>
                  <a:pt x="2460" y="1737"/>
                  <a:pt x="2423" y="1798"/>
                  <a:pt x="2453" y="1833"/>
                </a:cubicBezTo>
                <a:cubicBezTo>
                  <a:pt x="2483" y="1868"/>
                  <a:pt x="2600" y="1867"/>
                  <a:pt x="2647" y="1895"/>
                </a:cubicBezTo>
                <a:cubicBezTo>
                  <a:pt x="2694" y="1923"/>
                  <a:pt x="2705" y="1956"/>
                  <a:pt x="2737" y="1999"/>
                </a:cubicBezTo>
                <a:cubicBezTo>
                  <a:pt x="2769" y="2042"/>
                  <a:pt x="2823" y="2144"/>
                  <a:pt x="2841" y="2152"/>
                </a:cubicBezTo>
                <a:cubicBezTo>
                  <a:pt x="2859" y="2160"/>
                  <a:pt x="2855" y="2105"/>
                  <a:pt x="2848" y="2048"/>
                </a:cubicBezTo>
                <a:cubicBezTo>
                  <a:pt x="2841" y="1991"/>
                  <a:pt x="2801" y="1898"/>
                  <a:pt x="2800" y="1812"/>
                </a:cubicBezTo>
                <a:cubicBezTo>
                  <a:pt x="2799" y="1726"/>
                  <a:pt x="2828" y="1606"/>
                  <a:pt x="2841" y="1534"/>
                </a:cubicBezTo>
                <a:cubicBezTo>
                  <a:pt x="2854" y="1462"/>
                  <a:pt x="2870" y="1435"/>
                  <a:pt x="2876" y="1382"/>
                </a:cubicBezTo>
                <a:cubicBezTo>
                  <a:pt x="2882" y="1329"/>
                  <a:pt x="2881" y="1269"/>
                  <a:pt x="2876" y="1215"/>
                </a:cubicBezTo>
                <a:cubicBezTo>
                  <a:pt x="2871" y="1161"/>
                  <a:pt x="2855" y="1105"/>
                  <a:pt x="2848" y="1055"/>
                </a:cubicBezTo>
                <a:cubicBezTo>
                  <a:pt x="2841" y="1005"/>
                  <a:pt x="2839" y="976"/>
                  <a:pt x="2834" y="917"/>
                </a:cubicBezTo>
                <a:cubicBezTo>
                  <a:pt x="2829" y="858"/>
                  <a:pt x="2831" y="777"/>
                  <a:pt x="2820" y="701"/>
                </a:cubicBezTo>
                <a:cubicBezTo>
                  <a:pt x="2809" y="625"/>
                  <a:pt x="2769" y="538"/>
                  <a:pt x="2765" y="459"/>
                </a:cubicBezTo>
                <a:cubicBezTo>
                  <a:pt x="2761" y="380"/>
                  <a:pt x="2790" y="227"/>
                  <a:pt x="2793" y="230"/>
                </a:cubicBezTo>
                <a:cubicBezTo>
                  <a:pt x="2796" y="233"/>
                  <a:pt x="2778" y="402"/>
                  <a:pt x="2786" y="480"/>
                </a:cubicBezTo>
                <a:cubicBezTo>
                  <a:pt x="2794" y="558"/>
                  <a:pt x="2825" y="617"/>
                  <a:pt x="2841" y="701"/>
                </a:cubicBezTo>
                <a:cubicBezTo>
                  <a:pt x="2857" y="785"/>
                  <a:pt x="2868" y="943"/>
                  <a:pt x="2883" y="986"/>
                </a:cubicBezTo>
                <a:cubicBezTo>
                  <a:pt x="2898" y="1029"/>
                  <a:pt x="2899" y="1000"/>
                  <a:pt x="2932" y="958"/>
                </a:cubicBezTo>
                <a:cubicBezTo>
                  <a:pt x="2965" y="916"/>
                  <a:pt x="3063" y="878"/>
                  <a:pt x="3084" y="736"/>
                </a:cubicBezTo>
                <a:cubicBezTo>
                  <a:pt x="3105" y="594"/>
                  <a:pt x="3051" y="99"/>
                  <a:pt x="3056" y="105"/>
                </a:cubicBezTo>
                <a:cubicBezTo>
                  <a:pt x="3061" y="111"/>
                  <a:pt x="3135" y="613"/>
                  <a:pt x="3112" y="771"/>
                </a:cubicBezTo>
                <a:cubicBezTo>
                  <a:pt x="3089" y="929"/>
                  <a:pt x="2950" y="966"/>
                  <a:pt x="2918" y="1055"/>
                </a:cubicBezTo>
                <a:cubicBezTo>
                  <a:pt x="2886" y="1144"/>
                  <a:pt x="2919" y="1245"/>
                  <a:pt x="2918" y="1305"/>
                </a:cubicBezTo>
                <a:cubicBezTo>
                  <a:pt x="2917" y="1365"/>
                  <a:pt x="2920" y="1358"/>
                  <a:pt x="2911" y="1416"/>
                </a:cubicBezTo>
                <a:cubicBezTo>
                  <a:pt x="2902" y="1474"/>
                  <a:pt x="2872" y="1585"/>
                  <a:pt x="2862" y="1652"/>
                </a:cubicBezTo>
                <a:cubicBezTo>
                  <a:pt x="2852" y="1719"/>
                  <a:pt x="2843" y="1762"/>
                  <a:pt x="2848" y="1819"/>
                </a:cubicBezTo>
                <a:cubicBezTo>
                  <a:pt x="2853" y="1876"/>
                  <a:pt x="2876" y="1938"/>
                  <a:pt x="2890" y="1992"/>
                </a:cubicBezTo>
                <a:cubicBezTo>
                  <a:pt x="2904" y="2046"/>
                  <a:pt x="2912" y="2133"/>
                  <a:pt x="2932" y="2145"/>
                </a:cubicBezTo>
                <a:cubicBezTo>
                  <a:pt x="2952" y="2157"/>
                  <a:pt x="2984" y="2094"/>
                  <a:pt x="3008" y="2062"/>
                </a:cubicBezTo>
                <a:cubicBezTo>
                  <a:pt x="3032" y="2030"/>
                  <a:pt x="3053" y="1993"/>
                  <a:pt x="3077" y="1951"/>
                </a:cubicBezTo>
                <a:cubicBezTo>
                  <a:pt x="3101" y="1909"/>
                  <a:pt x="3141" y="1884"/>
                  <a:pt x="3154" y="1812"/>
                </a:cubicBezTo>
                <a:cubicBezTo>
                  <a:pt x="3167" y="1740"/>
                  <a:pt x="3148" y="1630"/>
                  <a:pt x="3154" y="1520"/>
                </a:cubicBezTo>
                <a:cubicBezTo>
                  <a:pt x="3160" y="1410"/>
                  <a:pt x="3167" y="1238"/>
                  <a:pt x="3188" y="1153"/>
                </a:cubicBezTo>
                <a:cubicBezTo>
                  <a:pt x="3209" y="1068"/>
                  <a:pt x="3250" y="1045"/>
                  <a:pt x="3279" y="1007"/>
                </a:cubicBezTo>
                <a:cubicBezTo>
                  <a:pt x="3308" y="969"/>
                  <a:pt x="3347" y="958"/>
                  <a:pt x="3362" y="924"/>
                </a:cubicBezTo>
                <a:cubicBezTo>
                  <a:pt x="3377" y="890"/>
                  <a:pt x="3371" y="873"/>
                  <a:pt x="3369" y="806"/>
                </a:cubicBezTo>
                <a:cubicBezTo>
                  <a:pt x="3367" y="739"/>
                  <a:pt x="3342" y="607"/>
                  <a:pt x="3348" y="521"/>
                </a:cubicBezTo>
                <a:cubicBezTo>
                  <a:pt x="3354" y="435"/>
                  <a:pt x="3392" y="335"/>
                  <a:pt x="3403" y="292"/>
                </a:cubicBezTo>
                <a:cubicBezTo>
                  <a:pt x="3414" y="249"/>
                  <a:pt x="3421" y="230"/>
                  <a:pt x="3417" y="264"/>
                </a:cubicBezTo>
                <a:cubicBezTo>
                  <a:pt x="3413" y="298"/>
                  <a:pt x="3383" y="429"/>
                  <a:pt x="3376" y="493"/>
                </a:cubicBezTo>
                <a:cubicBezTo>
                  <a:pt x="3369" y="557"/>
                  <a:pt x="3367" y="582"/>
                  <a:pt x="3376" y="646"/>
                </a:cubicBezTo>
                <a:cubicBezTo>
                  <a:pt x="3385" y="710"/>
                  <a:pt x="3374" y="881"/>
                  <a:pt x="3431" y="875"/>
                </a:cubicBezTo>
                <a:cubicBezTo>
                  <a:pt x="3488" y="869"/>
                  <a:pt x="3664" y="676"/>
                  <a:pt x="3716" y="611"/>
                </a:cubicBezTo>
                <a:cubicBezTo>
                  <a:pt x="3768" y="546"/>
                  <a:pt x="3741" y="545"/>
                  <a:pt x="3743" y="486"/>
                </a:cubicBezTo>
                <a:cubicBezTo>
                  <a:pt x="3745" y="427"/>
                  <a:pt x="3728" y="337"/>
                  <a:pt x="3730" y="257"/>
                </a:cubicBezTo>
                <a:cubicBezTo>
                  <a:pt x="3732" y="177"/>
                  <a:pt x="3754" y="0"/>
                  <a:pt x="3757" y="8"/>
                </a:cubicBezTo>
                <a:cubicBezTo>
                  <a:pt x="3760" y="16"/>
                  <a:pt x="3748" y="221"/>
                  <a:pt x="3750" y="306"/>
                </a:cubicBezTo>
                <a:cubicBezTo>
                  <a:pt x="3752" y="391"/>
                  <a:pt x="3775" y="463"/>
                  <a:pt x="3771" y="521"/>
                </a:cubicBezTo>
                <a:cubicBezTo>
                  <a:pt x="3767" y="579"/>
                  <a:pt x="3781" y="584"/>
                  <a:pt x="3723" y="653"/>
                </a:cubicBezTo>
                <a:cubicBezTo>
                  <a:pt x="3665" y="722"/>
                  <a:pt x="3507" y="856"/>
                  <a:pt x="3424" y="937"/>
                </a:cubicBezTo>
                <a:cubicBezTo>
                  <a:pt x="3341" y="1018"/>
                  <a:pt x="3262" y="1051"/>
                  <a:pt x="3223" y="1139"/>
                </a:cubicBezTo>
                <a:cubicBezTo>
                  <a:pt x="3184" y="1227"/>
                  <a:pt x="3194" y="1381"/>
                  <a:pt x="3188" y="1465"/>
                </a:cubicBezTo>
                <a:cubicBezTo>
                  <a:pt x="3182" y="1549"/>
                  <a:pt x="3189" y="1576"/>
                  <a:pt x="3188" y="1645"/>
                </a:cubicBezTo>
                <a:cubicBezTo>
                  <a:pt x="3187" y="1714"/>
                  <a:pt x="3198" y="1814"/>
                  <a:pt x="3181" y="1881"/>
                </a:cubicBezTo>
                <a:cubicBezTo>
                  <a:pt x="3164" y="1948"/>
                  <a:pt x="3106" y="2004"/>
                  <a:pt x="3084" y="2048"/>
                </a:cubicBezTo>
                <a:cubicBezTo>
                  <a:pt x="3062" y="2092"/>
                  <a:pt x="3042" y="2121"/>
                  <a:pt x="3050" y="2145"/>
                </a:cubicBezTo>
                <a:cubicBezTo>
                  <a:pt x="3058" y="2169"/>
                  <a:pt x="3103" y="2177"/>
                  <a:pt x="3133" y="2194"/>
                </a:cubicBezTo>
                <a:cubicBezTo>
                  <a:pt x="3163" y="2211"/>
                  <a:pt x="3191" y="2243"/>
                  <a:pt x="3230" y="2249"/>
                </a:cubicBezTo>
                <a:cubicBezTo>
                  <a:pt x="3269" y="2255"/>
                  <a:pt x="3334" y="2266"/>
                  <a:pt x="3369" y="2228"/>
                </a:cubicBezTo>
                <a:cubicBezTo>
                  <a:pt x="3404" y="2190"/>
                  <a:pt x="3443" y="2111"/>
                  <a:pt x="3438" y="2020"/>
                </a:cubicBezTo>
                <a:cubicBezTo>
                  <a:pt x="3433" y="1929"/>
                  <a:pt x="3343" y="1763"/>
                  <a:pt x="3341" y="1680"/>
                </a:cubicBezTo>
                <a:cubicBezTo>
                  <a:pt x="3339" y="1597"/>
                  <a:pt x="3419" y="1522"/>
                  <a:pt x="3424" y="1520"/>
                </a:cubicBezTo>
                <a:cubicBezTo>
                  <a:pt x="3429" y="1518"/>
                  <a:pt x="3370" y="1607"/>
                  <a:pt x="3369" y="1666"/>
                </a:cubicBezTo>
                <a:cubicBezTo>
                  <a:pt x="3368" y="1725"/>
                  <a:pt x="3402" y="1807"/>
                  <a:pt x="3417" y="1874"/>
                </a:cubicBezTo>
                <a:cubicBezTo>
                  <a:pt x="3432" y="1941"/>
                  <a:pt x="3466" y="2004"/>
                  <a:pt x="3459" y="2069"/>
                </a:cubicBezTo>
                <a:cubicBezTo>
                  <a:pt x="3452" y="2134"/>
                  <a:pt x="3419" y="2226"/>
                  <a:pt x="3376" y="2263"/>
                </a:cubicBezTo>
                <a:cubicBezTo>
                  <a:pt x="3333" y="2300"/>
                  <a:pt x="3244" y="2293"/>
                  <a:pt x="3202" y="2291"/>
                </a:cubicBezTo>
                <a:cubicBezTo>
                  <a:pt x="3160" y="2289"/>
                  <a:pt x="3151" y="2261"/>
                  <a:pt x="3126" y="2249"/>
                </a:cubicBezTo>
                <a:cubicBezTo>
                  <a:pt x="3101" y="2237"/>
                  <a:pt x="3073" y="2221"/>
                  <a:pt x="3050" y="2221"/>
                </a:cubicBezTo>
                <a:cubicBezTo>
                  <a:pt x="3027" y="2221"/>
                  <a:pt x="3006" y="2234"/>
                  <a:pt x="2988" y="2249"/>
                </a:cubicBezTo>
                <a:cubicBezTo>
                  <a:pt x="2970" y="2264"/>
                  <a:pt x="2956" y="2294"/>
                  <a:pt x="2939" y="2312"/>
                </a:cubicBezTo>
                <a:cubicBezTo>
                  <a:pt x="2922" y="2330"/>
                  <a:pt x="2913" y="2323"/>
                  <a:pt x="2884" y="2360"/>
                </a:cubicBezTo>
                <a:cubicBezTo>
                  <a:pt x="2855" y="2397"/>
                  <a:pt x="2792" y="2474"/>
                  <a:pt x="2766" y="2534"/>
                </a:cubicBezTo>
                <a:cubicBezTo>
                  <a:pt x="2740" y="2594"/>
                  <a:pt x="2746" y="2646"/>
                  <a:pt x="2731" y="2721"/>
                </a:cubicBezTo>
                <a:cubicBezTo>
                  <a:pt x="2716" y="2796"/>
                  <a:pt x="2650" y="2965"/>
                  <a:pt x="2676" y="2987"/>
                </a:cubicBezTo>
                <a:cubicBezTo>
                  <a:pt x="2702" y="3009"/>
                  <a:pt x="2803" y="2898"/>
                  <a:pt x="2887" y="2852"/>
                </a:cubicBezTo>
                <a:cubicBezTo>
                  <a:pt x="2971" y="2806"/>
                  <a:pt x="3098" y="2744"/>
                  <a:pt x="3177" y="2712"/>
                </a:cubicBezTo>
                <a:cubicBezTo>
                  <a:pt x="3256" y="2680"/>
                  <a:pt x="3298" y="2677"/>
                  <a:pt x="3363" y="2658"/>
                </a:cubicBezTo>
                <a:cubicBezTo>
                  <a:pt x="3428" y="2639"/>
                  <a:pt x="3516" y="2620"/>
                  <a:pt x="3567" y="2598"/>
                </a:cubicBezTo>
                <a:cubicBezTo>
                  <a:pt x="3618" y="2576"/>
                  <a:pt x="3649" y="2583"/>
                  <a:pt x="3669" y="2526"/>
                </a:cubicBezTo>
                <a:cubicBezTo>
                  <a:pt x="3689" y="2469"/>
                  <a:pt x="3672" y="2325"/>
                  <a:pt x="3689" y="2256"/>
                </a:cubicBezTo>
                <a:cubicBezTo>
                  <a:pt x="3706" y="2187"/>
                  <a:pt x="3761" y="2172"/>
                  <a:pt x="3772" y="2110"/>
                </a:cubicBezTo>
                <a:cubicBezTo>
                  <a:pt x="3783" y="2048"/>
                  <a:pt x="3763" y="1944"/>
                  <a:pt x="3758" y="1881"/>
                </a:cubicBezTo>
                <a:cubicBezTo>
                  <a:pt x="3753" y="1818"/>
                  <a:pt x="3746" y="1779"/>
                  <a:pt x="3744" y="1729"/>
                </a:cubicBezTo>
                <a:cubicBezTo>
                  <a:pt x="3742" y="1679"/>
                  <a:pt x="3745" y="1635"/>
                  <a:pt x="3744" y="1583"/>
                </a:cubicBezTo>
                <a:cubicBezTo>
                  <a:pt x="3743" y="1531"/>
                  <a:pt x="3737" y="1492"/>
                  <a:pt x="3737" y="1416"/>
                </a:cubicBezTo>
                <a:cubicBezTo>
                  <a:pt x="3737" y="1340"/>
                  <a:pt x="3743" y="1190"/>
                  <a:pt x="3744" y="1125"/>
                </a:cubicBezTo>
                <a:cubicBezTo>
                  <a:pt x="3745" y="1060"/>
                  <a:pt x="3741" y="1058"/>
                  <a:pt x="3744" y="1028"/>
                </a:cubicBezTo>
                <a:cubicBezTo>
                  <a:pt x="3747" y="998"/>
                  <a:pt x="3763" y="943"/>
                  <a:pt x="3765" y="944"/>
                </a:cubicBezTo>
                <a:cubicBezTo>
                  <a:pt x="3767" y="945"/>
                  <a:pt x="3758" y="988"/>
                  <a:pt x="3758" y="1035"/>
                </a:cubicBezTo>
                <a:cubicBezTo>
                  <a:pt x="3758" y="1082"/>
                  <a:pt x="3763" y="1144"/>
                  <a:pt x="3765" y="1229"/>
                </a:cubicBezTo>
                <a:cubicBezTo>
                  <a:pt x="3767" y="1314"/>
                  <a:pt x="3771" y="1452"/>
                  <a:pt x="3772" y="1548"/>
                </a:cubicBezTo>
                <a:cubicBezTo>
                  <a:pt x="3773" y="1644"/>
                  <a:pt x="3766" y="1736"/>
                  <a:pt x="3772" y="1805"/>
                </a:cubicBezTo>
                <a:cubicBezTo>
                  <a:pt x="3778" y="1874"/>
                  <a:pt x="3799" y="1913"/>
                  <a:pt x="3807" y="1965"/>
                </a:cubicBezTo>
                <a:cubicBezTo>
                  <a:pt x="3815" y="2017"/>
                  <a:pt x="3832" y="2062"/>
                  <a:pt x="3821" y="2117"/>
                </a:cubicBezTo>
                <a:cubicBezTo>
                  <a:pt x="3810" y="2172"/>
                  <a:pt x="3746" y="2230"/>
                  <a:pt x="3741" y="2298"/>
                </a:cubicBezTo>
                <a:cubicBezTo>
                  <a:pt x="3736" y="2366"/>
                  <a:pt x="3764" y="2476"/>
                  <a:pt x="3793" y="2527"/>
                </a:cubicBezTo>
                <a:cubicBezTo>
                  <a:pt x="3822" y="2578"/>
                  <a:pt x="3873" y="2589"/>
                  <a:pt x="3918" y="2603"/>
                </a:cubicBezTo>
                <a:cubicBezTo>
                  <a:pt x="3963" y="2617"/>
                  <a:pt x="4016" y="2618"/>
                  <a:pt x="4063" y="2610"/>
                </a:cubicBezTo>
                <a:cubicBezTo>
                  <a:pt x="4110" y="2602"/>
                  <a:pt x="4150" y="2556"/>
                  <a:pt x="4202" y="2554"/>
                </a:cubicBezTo>
                <a:cubicBezTo>
                  <a:pt x="4254" y="2552"/>
                  <a:pt x="4326" y="2602"/>
                  <a:pt x="4376" y="2596"/>
                </a:cubicBezTo>
                <a:cubicBezTo>
                  <a:pt x="4426" y="2590"/>
                  <a:pt x="4503" y="2557"/>
                  <a:pt x="4501" y="2520"/>
                </a:cubicBezTo>
                <a:cubicBezTo>
                  <a:pt x="4499" y="2483"/>
                  <a:pt x="4395" y="2440"/>
                  <a:pt x="4362" y="2374"/>
                </a:cubicBezTo>
                <a:cubicBezTo>
                  <a:pt x="4329" y="2308"/>
                  <a:pt x="4334" y="2192"/>
                  <a:pt x="4306" y="2124"/>
                </a:cubicBezTo>
                <a:cubicBezTo>
                  <a:pt x="4278" y="2056"/>
                  <a:pt x="4237" y="2023"/>
                  <a:pt x="4195" y="1965"/>
                </a:cubicBezTo>
                <a:cubicBezTo>
                  <a:pt x="4153" y="1907"/>
                  <a:pt x="4085" y="1816"/>
                  <a:pt x="4056" y="1777"/>
                </a:cubicBezTo>
                <a:cubicBezTo>
                  <a:pt x="4056" y="1777"/>
                  <a:pt x="4008" y="1722"/>
                  <a:pt x="4008" y="1722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15" name=""/>
          <p:cNvGrpSpPr/>
          <p:nvPr/>
        </p:nvGrpSpPr>
        <p:grpSpPr>
          <a:xfrm>
            <a:off x="4573080" y="5154480"/>
            <a:ext cx="96840" cy="900360"/>
            <a:chOff x="4573080" y="5154480"/>
            <a:chExt cx="96840" cy="900360"/>
          </a:xfrm>
        </p:grpSpPr>
        <p:sp>
          <p:nvSpPr>
            <p:cNvPr id="14616" name=""/>
            <p:cNvSpPr/>
            <p:nvPr/>
          </p:nvSpPr>
          <p:spPr>
            <a:xfrm flipH="1">
              <a:off x="4572720" y="5154480"/>
              <a:ext cx="9684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7" name=""/>
            <p:cNvSpPr/>
            <p:nvPr/>
          </p:nvSpPr>
          <p:spPr>
            <a:xfrm flipH="1">
              <a:off x="4587120" y="5184720"/>
              <a:ext cx="7524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18" name=""/>
          <p:cNvGrpSpPr/>
          <p:nvPr/>
        </p:nvGrpSpPr>
        <p:grpSpPr>
          <a:xfrm>
            <a:off x="4501800" y="4649760"/>
            <a:ext cx="96840" cy="900000"/>
            <a:chOff x="4501800" y="4649760"/>
            <a:chExt cx="96840" cy="900000"/>
          </a:xfrm>
        </p:grpSpPr>
        <p:sp>
          <p:nvSpPr>
            <p:cNvPr id="14619" name=""/>
            <p:cNvSpPr/>
            <p:nvPr/>
          </p:nvSpPr>
          <p:spPr>
            <a:xfrm flipH="1">
              <a:off x="4501440" y="46497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0" name=""/>
            <p:cNvSpPr/>
            <p:nvPr/>
          </p:nvSpPr>
          <p:spPr>
            <a:xfrm flipH="1">
              <a:off x="4515840" y="468000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21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4622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3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24" name=""/>
          <p:cNvGrpSpPr/>
          <p:nvPr/>
        </p:nvGrpSpPr>
        <p:grpSpPr>
          <a:xfrm>
            <a:off x="4286160" y="5226120"/>
            <a:ext cx="71640" cy="612720"/>
            <a:chOff x="4286160" y="5226120"/>
            <a:chExt cx="71640" cy="612720"/>
          </a:xfrm>
        </p:grpSpPr>
        <p:sp>
          <p:nvSpPr>
            <p:cNvPr id="14625" name=""/>
            <p:cNvSpPr/>
            <p:nvPr/>
          </p:nvSpPr>
          <p:spPr>
            <a:xfrm>
              <a:off x="4286160" y="522612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6" name=""/>
            <p:cNvSpPr/>
            <p:nvPr/>
          </p:nvSpPr>
          <p:spPr>
            <a:xfrm>
              <a:off x="4291200" y="524664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27" name=""/>
          <p:cNvGrpSpPr/>
          <p:nvPr/>
        </p:nvGrpSpPr>
        <p:grpSpPr>
          <a:xfrm>
            <a:off x="4392720" y="5299200"/>
            <a:ext cx="69840" cy="714240"/>
            <a:chOff x="4392720" y="5299200"/>
            <a:chExt cx="69840" cy="714240"/>
          </a:xfrm>
        </p:grpSpPr>
        <p:sp>
          <p:nvSpPr>
            <p:cNvPr id="14628" name=""/>
            <p:cNvSpPr/>
            <p:nvPr/>
          </p:nvSpPr>
          <p:spPr>
            <a:xfrm>
              <a:off x="4392720" y="529920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9" name=""/>
            <p:cNvSpPr/>
            <p:nvPr/>
          </p:nvSpPr>
          <p:spPr>
            <a:xfrm>
              <a:off x="4397760" y="532296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0" name=""/>
          <p:cNvGrpSpPr/>
          <p:nvPr/>
        </p:nvGrpSpPr>
        <p:grpSpPr>
          <a:xfrm>
            <a:off x="4332600" y="4786560"/>
            <a:ext cx="194760" cy="410760"/>
            <a:chOff x="4332600" y="4786560"/>
            <a:chExt cx="194760" cy="410760"/>
          </a:xfrm>
        </p:grpSpPr>
        <p:sp>
          <p:nvSpPr>
            <p:cNvPr id="14631" name=""/>
            <p:cNvSpPr/>
            <p:nvPr/>
          </p:nvSpPr>
          <p:spPr>
            <a:xfrm rot="21149400">
              <a:off x="4357800" y="479412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2" name=""/>
            <p:cNvSpPr/>
            <p:nvPr/>
          </p:nvSpPr>
          <p:spPr>
            <a:xfrm rot="21149400">
              <a:off x="4366800" y="480780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3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4634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5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6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4637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8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9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4640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1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42" name=""/>
          <p:cNvGrpSpPr/>
          <p:nvPr/>
        </p:nvGrpSpPr>
        <p:grpSpPr>
          <a:xfrm>
            <a:off x="3972240" y="5477400"/>
            <a:ext cx="410400" cy="542520"/>
            <a:chOff x="3972240" y="5477400"/>
            <a:chExt cx="410400" cy="542520"/>
          </a:xfrm>
        </p:grpSpPr>
        <p:sp>
          <p:nvSpPr>
            <p:cNvPr id="14643" name=""/>
            <p:cNvSpPr/>
            <p:nvPr/>
          </p:nvSpPr>
          <p:spPr>
            <a:xfrm rot="19494600">
              <a:off x="4141800" y="544212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4" name=""/>
            <p:cNvSpPr/>
            <p:nvPr/>
          </p:nvSpPr>
          <p:spPr>
            <a:xfrm rot="19494600">
              <a:off x="4140000" y="546624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45" name=""/>
          <p:cNvGrpSpPr/>
          <p:nvPr/>
        </p:nvGrpSpPr>
        <p:grpSpPr>
          <a:xfrm>
            <a:off x="4213080" y="4433760"/>
            <a:ext cx="71640" cy="613080"/>
            <a:chOff x="4213080" y="4433760"/>
            <a:chExt cx="71640" cy="613080"/>
          </a:xfrm>
        </p:grpSpPr>
        <p:sp>
          <p:nvSpPr>
            <p:cNvPr id="14646" name=""/>
            <p:cNvSpPr/>
            <p:nvPr/>
          </p:nvSpPr>
          <p:spPr>
            <a:xfrm>
              <a:off x="4213080" y="4433760"/>
              <a:ext cx="71640" cy="613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7" name=""/>
            <p:cNvSpPr/>
            <p:nvPr/>
          </p:nvSpPr>
          <p:spPr>
            <a:xfrm>
              <a:off x="4218120" y="4454280"/>
              <a:ext cx="55800" cy="5472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48" name=""/>
          <p:cNvGrpSpPr/>
          <p:nvPr/>
        </p:nvGrpSpPr>
        <p:grpSpPr>
          <a:xfrm>
            <a:off x="4284360" y="3716280"/>
            <a:ext cx="96840" cy="900000"/>
            <a:chOff x="4284360" y="3716280"/>
            <a:chExt cx="96840" cy="900000"/>
          </a:xfrm>
        </p:grpSpPr>
        <p:sp>
          <p:nvSpPr>
            <p:cNvPr id="14649" name=""/>
            <p:cNvSpPr/>
            <p:nvPr/>
          </p:nvSpPr>
          <p:spPr>
            <a:xfrm flipH="1">
              <a:off x="4284000" y="371628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0" name=""/>
            <p:cNvSpPr/>
            <p:nvPr/>
          </p:nvSpPr>
          <p:spPr>
            <a:xfrm flipH="1">
              <a:off x="4298400" y="374652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51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4652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4653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4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5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6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7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8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59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4660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1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2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3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4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5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66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4667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8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9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0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1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2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73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4674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5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6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7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8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9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80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4681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2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3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4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5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6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87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4688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9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0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1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2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3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694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4695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6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7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8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9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0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701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4702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4703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4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5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6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7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8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09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4710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1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2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3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4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5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16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4717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8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9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0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1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2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23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4724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5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6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7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8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9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30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4731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2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3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4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5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6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37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4738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9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0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1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2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3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44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4745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6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7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8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9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0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751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4752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4753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4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5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6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7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8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59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4760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1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2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3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4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5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66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4767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8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9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0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1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2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73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4774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5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6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7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8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9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80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4781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2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3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4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5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6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87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4788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9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0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1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2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3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94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4795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6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7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8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9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0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801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4802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4803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4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5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6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7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8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9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4810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1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2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3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4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5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16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4817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8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9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0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1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2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23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4824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5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6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7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8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9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30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4831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2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3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4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5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6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37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4838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9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0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1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2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3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44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4845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6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7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8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9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0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851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4852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4853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4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5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6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7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8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59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4860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1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2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3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4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5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66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4867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8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9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0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1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2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73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4874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5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6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7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8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9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80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4881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2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3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4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5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6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87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4888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9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0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1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2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3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94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4895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6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7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8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9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0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901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4902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4903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4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5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6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7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8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09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4910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1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2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3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4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5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16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4917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8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9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0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1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2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23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4924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5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6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7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8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9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30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4931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2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3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4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5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6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37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4938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9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0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1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2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3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44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4945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6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7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8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9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0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951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4952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4953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4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5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6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7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8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59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4960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1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2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3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4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5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66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4967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8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9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0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1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2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73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4974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5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6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7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8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9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80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4981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2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3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4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5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6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87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4988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9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0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1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2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3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94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4995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6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7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8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9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0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01" name="">
            <a:hlinkClick r:id="rId1" action="ppaction://hlinksldjump"/>
          </p:cNvPr>
          <p:cNvSpPr/>
          <p:nvPr/>
        </p:nvSpPr>
        <p:spPr>
          <a:xfrm>
            <a:off x="4500720" y="5300640"/>
            <a:ext cx="576000" cy="719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2" name="">
            <a:hlinkClick r:id="rId3" action="ppaction://hlinksldjump"/>
          </p:cNvPr>
          <p:cNvSpPr/>
          <p:nvPr/>
        </p:nvSpPr>
        <p:spPr>
          <a:xfrm>
            <a:off x="3924360" y="5300640"/>
            <a:ext cx="576360" cy="719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03" name=""/>
          <p:cNvGrpSpPr/>
          <p:nvPr/>
        </p:nvGrpSpPr>
        <p:grpSpPr>
          <a:xfrm>
            <a:off x="4356000" y="5877000"/>
            <a:ext cx="215640" cy="144360"/>
            <a:chOff x="4356000" y="5877000"/>
            <a:chExt cx="215640" cy="144360"/>
          </a:xfrm>
        </p:grpSpPr>
        <p:sp>
          <p:nvSpPr>
            <p:cNvPr id="15004" name=""/>
            <p:cNvSpPr/>
            <p:nvPr/>
          </p:nvSpPr>
          <p:spPr>
            <a:xfrm>
              <a:off x="4356000" y="587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5" name=""/>
            <p:cNvSpPr/>
            <p:nvPr/>
          </p:nvSpPr>
          <p:spPr>
            <a:xfrm>
              <a:off x="4417560" y="587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06" name="">
            <a:hlinkClick r:id="rId5" action="ppaction://hlinksldjump"/>
          </p:cNvPr>
          <p:cNvSpPr/>
          <p:nvPr/>
        </p:nvSpPr>
        <p:spPr>
          <a:xfrm>
            <a:off x="3564000" y="4437000"/>
            <a:ext cx="345960" cy="432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7" name=""/>
          <p:cNvSpPr/>
          <p:nvPr/>
        </p:nvSpPr>
        <p:spPr>
          <a:xfrm>
            <a:off x="3276720" y="4437000"/>
            <a:ext cx="345960" cy="432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08" name=""/>
          <p:cNvGrpSpPr/>
          <p:nvPr/>
        </p:nvGrpSpPr>
        <p:grpSpPr>
          <a:xfrm>
            <a:off x="3492360" y="4797360"/>
            <a:ext cx="215640" cy="144360"/>
            <a:chOff x="3492360" y="4797360"/>
            <a:chExt cx="215640" cy="144360"/>
          </a:xfrm>
        </p:grpSpPr>
        <p:sp>
          <p:nvSpPr>
            <p:cNvPr id="15009" name=""/>
            <p:cNvSpPr/>
            <p:nvPr/>
          </p:nvSpPr>
          <p:spPr>
            <a:xfrm>
              <a:off x="3492360" y="47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0" name=""/>
            <p:cNvSpPr/>
            <p:nvPr/>
          </p:nvSpPr>
          <p:spPr>
            <a:xfrm>
              <a:off x="3553920" y="47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11" name=""/>
          <p:cNvSpPr/>
          <p:nvPr/>
        </p:nvSpPr>
        <p:spPr>
          <a:xfrm>
            <a:off x="1908000" y="4653000"/>
            <a:ext cx="289080" cy="36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2" name=""/>
          <p:cNvSpPr/>
          <p:nvPr/>
        </p:nvSpPr>
        <p:spPr>
          <a:xfrm>
            <a:off x="2195640" y="4653000"/>
            <a:ext cx="288720" cy="36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3" name=""/>
          <p:cNvSpPr/>
          <p:nvPr/>
        </p:nvSpPr>
        <p:spPr>
          <a:xfrm>
            <a:off x="611280" y="4292640"/>
            <a:ext cx="288720" cy="36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4" name=""/>
          <p:cNvSpPr/>
          <p:nvPr/>
        </p:nvSpPr>
        <p:spPr>
          <a:xfrm>
            <a:off x="1547640" y="3860640"/>
            <a:ext cx="289080" cy="360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5" name=""/>
          <p:cNvSpPr/>
          <p:nvPr/>
        </p:nvSpPr>
        <p:spPr>
          <a:xfrm>
            <a:off x="2197080" y="3789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6" name=""/>
          <p:cNvSpPr/>
          <p:nvPr/>
        </p:nvSpPr>
        <p:spPr>
          <a:xfrm>
            <a:off x="2484360" y="3789360"/>
            <a:ext cx="289080" cy="360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7" name=""/>
          <p:cNvSpPr/>
          <p:nvPr/>
        </p:nvSpPr>
        <p:spPr>
          <a:xfrm>
            <a:off x="971640" y="335772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8" name=""/>
          <p:cNvSpPr/>
          <p:nvPr/>
        </p:nvSpPr>
        <p:spPr>
          <a:xfrm>
            <a:off x="1547640" y="2924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9" name=""/>
          <p:cNvSpPr/>
          <p:nvPr/>
        </p:nvSpPr>
        <p:spPr>
          <a:xfrm>
            <a:off x="1835280" y="2924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0" name=""/>
          <p:cNvSpPr/>
          <p:nvPr/>
        </p:nvSpPr>
        <p:spPr>
          <a:xfrm>
            <a:off x="1042920" y="1773360"/>
            <a:ext cx="289080" cy="360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1" name=""/>
          <p:cNvSpPr/>
          <p:nvPr/>
        </p:nvSpPr>
        <p:spPr>
          <a:xfrm>
            <a:off x="539640" y="2565360"/>
            <a:ext cx="289080" cy="360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2" name="">
            <a:hlinkClick r:id="rId14" action="ppaction://hlinksldjump"/>
          </p:cNvPr>
          <p:cNvSpPr/>
          <p:nvPr/>
        </p:nvSpPr>
        <p:spPr>
          <a:xfrm>
            <a:off x="3276720" y="5373720"/>
            <a:ext cx="288720" cy="36036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3" name="">
            <a:hlinkClick r:id="rId15" action="ppaction://hlinksldjump"/>
          </p:cNvPr>
          <p:cNvSpPr/>
          <p:nvPr/>
        </p:nvSpPr>
        <p:spPr>
          <a:xfrm>
            <a:off x="3419640" y="3645000"/>
            <a:ext cx="288720" cy="3603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4" name=""/>
          <p:cNvSpPr/>
          <p:nvPr/>
        </p:nvSpPr>
        <p:spPr>
          <a:xfrm>
            <a:off x="3130560" y="3645000"/>
            <a:ext cx="289080" cy="36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5" name=""/>
          <p:cNvSpPr/>
          <p:nvPr/>
        </p:nvSpPr>
        <p:spPr>
          <a:xfrm>
            <a:off x="2411280" y="2997360"/>
            <a:ext cx="289080" cy="360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6" name=""/>
          <p:cNvSpPr/>
          <p:nvPr/>
        </p:nvSpPr>
        <p:spPr>
          <a:xfrm>
            <a:off x="2987640" y="2924280"/>
            <a:ext cx="289080" cy="36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7" name=""/>
          <p:cNvSpPr/>
          <p:nvPr/>
        </p:nvSpPr>
        <p:spPr>
          <a:xfrm>
            <a:off x="1763640" y="2133720"/>
            <a:ext cx="28908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28" name=""/>
          <p:cNvGrpSpPr/>
          <p:nvPr/>
        </p:nvGrpSpPr>
        <p:grpSpPr>
          <a:xfrm>
            <a:off x="3274920" y="3932280"/>
            <a:ext cx="215640" cy="144360"/>
            <a:chOff x="3274920" y="3932280"/>
            <a:chExt cx="215640" cy="144360"/>
          </a:xfrm>
        </p:grpSpPr>
        <p:sp>
          <p:nvSpPr>
            <p:cNvPr id="15029" name=""/>
            <p:cNvSpPr/>
            <p:nvPr/>
          </p:nvSpPr>
          <p:spPr>
            <a:xfrm>
              <a:off x="3274920" y="3932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0" name=""/>
            <p:cNvSpPr/>
            <p:nvPr/>
          </p:nvSpPr>
          <p:spPr>
            <a:xfrm>
              <a:off x="3336480" y="3932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31" name=""/>
          <p:cNvSpPr/>
          <p:nvPr/>
        </p:nvSpPr>
        <p:spPr>
          <a:xfrm>
            <a:off x="3276720" y="2924280"/>
            <a:ext cx="288720" cy="3603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32" name=""/>
          <p:cNvGrpSpPr/>
          <p:nvPr/>
        </p:nvGrpSpPr>
        <p:grpSpPr>
          <a:xfrm>
            <a:off x="3132000" y="3211560"/>
            <a:ext cx="215640" cy="144360"/>
            <a:chOff x="3132000" y="3211560"/>
            <a:chExt cx="215640" cy="144360"/>
          </a:xfrm>
        </p:grpSpPr>
        <p:sp>
          <p:nvSpPr>
            <p:cNvPr id="15033" name=""/>
            <p:cNvSpPr/>
            <p:nvPr/>
          </p:nvSpPr>
          <p:spPr>
            <a:xfrm>
              <a:off x="3132000" y="32115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4" name=""/>
            <p:cNvSpPr/>
            <p:nvPr/>
          </p:nvSpPr>
          <p:spPr>
            <a:xfrm>
              <a:off x="3193560" y="32115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35" name=""/>
          <p:cNvSpPr/>
          <p:nvPr/>
        </p:nvSpPr>
        <p:spPr>
          <a:xfrm>
            <a:off x="4067280" y="3068640"/>
            <a:ext cx="288720" cy="36036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6" name="">
            <a:hlinkClick r:id="rId23" action="ppaction://hlinksldjump"/>
          </p:cNvPr>
          <p:cNvSpPr/>
          <p:nvPr/>
        </p:nvSpPr>
        <p:spPr>
          <a:xfrm>
            <a:off x="3780000" y="3068640"/>
            <a:ext cx="288720" cy="360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7" name=""/>
          <p:cNvSpPr/>
          <p:nvPr/>
        </p:nvSpPr>
        <p:spPr>
          <a:xfrm>
            <a:off x="2771640" y="2060640"/>
            <a:ext cx="28908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8" name=""/>
          <p:cNvSpPr/>
          <p:nvPr/>
        </p:nvSpPr>
        <p:spPr>
          <a:xfrm>
            <a:off x="3348000" y="2060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39" name=""/>
          <p:cNvSpPr/>
          <p:nvPr/>
        </p:nvSpPr>
        <p:spPr>
          <a:xfrm>
            <a:off x="3635280" y="2060640"/>
            <a:ext cx="289080" cy="360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0" name=""/>
          <p:cNvSpPr/>
          <p:nvPr/>
        </p:nvSpPr>
        <p:spPr>
          <a:xfrm>
            <a:off x="1979640" y="692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1" name=""/>
          <p:cNvSpPr/>
          <p:nvPr/>
        </p:nvSpPr>
        <p:spPr>
          <a:xfrm>
            <a:off x="2987640" y="76500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2" name=""/>
          <p:cNvSpPr/>
          <p:nvPr/>
        </p:nvSpPr>
        <p:spPr>
          <a:xfrm>
            <a:off x="3635280" y="1197000"/>
            <a:ext cx="289080" cy="3603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3" name=""/>
          <p:cNvSpPr/>
          <p:nvPr/>
        </p:nvSpPr>
        <p:spPr>
          <a:xfrm>
            <a:off x="4140360" y="620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4" name="">
            <a:hlinkClick r:id="rId27" action="ppaction://hlinksldjump"/>
          </p:cNvPr>
          <p:cNvSpPr/>
          <p:nvPr/>
        </p:nvSpPr>
        <p:spPr>
          <a:xfrm>
            <a:off x="4500720" y="3789360"/>
            <a:ext cx="288720" cy="3603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5" name=""/>
          <p:cNvSpPr/>
          <p:nvPr/>
        </p:nvSpPr>
        <p:spPr>
          <a:xfrm>
            <a:off x="4788000" y="3789360"/>
            <a:ext cx="288720" cy="3603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6" name=""/>
          <p:cNvSpPr/>
          <p:nvPr/>
        </p:nvSpPr>
        <p:spPr>
          <a:xfrm>
            <a:off x="4645080" y="2637000"/>
            <a:ext cx="288720" cy="36036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7" name=""/>
          <p:cNvSpPr/>
          <p:nvPr/>
        </p:nvSpPr>
        <p:spPr>
          <a:xfrm>
            <a:off x="4932360" y="2637000"/>
            <a:ext cx="289080" cy="3603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8" name=""/>
          <p:cNvSpPr/>
          <p:nvPr/>
        </p:nvSpPr>
        <p:spPr>
          <a:xfrm>
            <a:off x="4643280" y="476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9" name=""/>
          <p:cNvSpPr/>
          <p:nvPr/>
        </p:nvSpPr>
        <p:spPr>
          <a:xfrm>
            <a:off x="5076720" y="1052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0" name=""/>
          <p:cNvSpPr/>
          <p:nvPr/>
        </p:nvSpPr>
        <p:spPr>
          <a:xfrm>
            <a:off x="4211640" y="1557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1" name=""/>
          <p:cNvSpPr/>
          <p:nvPr/>
        </p:nvSpPr>
        <p:spPr>
          <a:xfrm>
            <a:off x="4068720" y="2349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2" name=""/>
          <p:cNvSpPr/>
          <p:nvPr/>
        </p:nvSpPr>
        <p:spPr>
          <a:xfrm>
            <a:off x="4356000" y="2349360"/>
            <a:ext cx="289080" cy="3603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3" name=""/>
          <p:cNvSpPr/>
          <p:nvPr/>
        </p:nvSpPr>
        <p:spPr>
          <a:xfrm>
            <a:off x="5148360" y="1916280"/>
            <a:ext cx="287280" cy="35856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4" name=""/>
          <p:cNvSpPr/>
          <p:nvPr/>
        </p:nvSpPr>
        <p:spPr>
          <a:xfrm>
            <a:off x="5724360" y="3429000"/>
            <a:ext cx="289080" cy="36036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5" name=""/>
          <p:cNvSpPr/>
          <p:nvPr/>
        </p:nvSpPr>
        <p:spPr>
          <a:xfrm>
            <a:off x="6156360" y="76500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6" name=""/>
          <p:cNvSpPr/>
          <p:nvPr/>
        </p:nvSpPr>
        <p:spPr>
          <a:xfrm>
            <a:off x="5580000" y="90792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7" name=""/>
          <p:cNvSpPr/>
          <p:nvPr/>
        </p:nvSpPr>
        <p:spPr>
          <a:xfrm>
            <a:off x="5437080" y="3429000"/>
            <a:ext cx="289080" cy="3603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8" name=""/>
          <p:cNvSpPr/>
          <p:nvPr/>
        </p:nvSpPr>
        <p:spPr>
          <a:xfrm>
            <a:off x="5580000" y="2708280"/>
            <a:ext cx="289080" cy="36036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9" name=""/>
          <p:cNvSpPr/>
          <p:nvPr/>
        </p:nvSpPr>
        <p:spPr>
          <a:xfrm>
            <a:off x="5435640" y="1916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0" name="">
            <a:hlinkClick r:id="rId37" action="ppaction://hlinksldjump"/>
          </p:cNvPr>
          <p:cNvSpPr/>
          <p:nvPr/>
        </p:nvSpPr>
        <p:spPr>
          <a:xfrm>
            <a:off x="5146560" y="4292640"/>
            <a:ext cx="289080" cy="3603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1" name="">
            <a:hlinkClick r:id="rId39" action="ppaction://hlinksldjump"/>
          </p:cNvPr>
          <p:cNvSpPr/>
          <p:nvPr/>
        </p:nvSpPr>
        <p:spPr>
          <a:xfrm>
            <a:off x="5435640" y="4292640"/>
            <a:ext cx="288720" cy="3603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2" name=""/>
          <p:cNvSpPr/>
          <p:nvPr/>
        </p:nvSpPr>
        <p:spPr>
          <a:xfrm>
            <a:off x="6012000" y="3789360"/>
            <a:ext cx="288720" cy="3603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3" name=""/>
          <p:cNvSpPr/>
          <p:nvPr/>
        </p:nvSpPr>
        <p:spPr>
          <a:xfrm>
            <a:off x="6300720" y="3789360"/>
            <a:ext cx="289080" cy="3603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4" name=""/>
          <p:cNvSpPr/>
          <p:nvPr/>
        </p:nvSpPr>
        <p:spPr>
          <a:xfrm>
            <a:off x="7596360" y="4005360"/>
            <a:ext cx="288720" cy="360360"/>
          </a:xfrm>
          <a:prstGeom prst="ellipse">
            <a:avLst/>
          </a:prstGeom>
          <a:blipFill rotWithShape="0">
            <a:blip r:embed="rId4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5" name="">
            <a:hlinkClick r:id="rId44" action="ppaction://hlinksldjump"/>
          </p:cNvPr>
          <p:cNvSpPr/>
          <p:nvPr/>
        </p:nvSpPr>
        <p:spPr>
          <a:xfrm>
            <a:off x="7885080" y="4005360"/>
            <a:ext cx="289080" cy="360360"/>
          </a:xfrm>
          <a:prstGeom prst="ellipse">
            <a:avLst/>
          </a:prstGeom>
          <a:blipFill rotWithShape="0">
            <a:blip r:embed="rId4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6" name=""/>
          <p:cNvSpPr/>
          <p:nvPr/>
        </p:nvSpPr>
        <p:spPr>
          <a:xfrm>
            <a:off x="6084720" y="2781360"/>
            <a:ext cx="289080" cy="360360"/>
          </a:xfrm>
          <a:prstGeom prst="ellipse">
            <a:avLst/>
          </a:prstGeom>
          <a:blipFill rotWithShape="0">
            <a:blip r:embed="rId4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7" name=""/>
          <p:cNvSpPr/>
          <p:nvPr/>
        </p:nvSpPr>
        <p:spPr>
          <a:xfrm>
            <a:off x="6372360" y="2781360"/>
            <a:ext cx="288720" cy="360360"/>
          </a:xfrm>
          <a:prstGeom prst="ellipse">
            <a:avLst/>
          </a:prstGeom>
          <a:blipFill rotWithShape="0">
            <a:blip r:embed="rId4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8" name=""/>
          <p:cNvSpPr/>
          <p:nvPr/>
        </p:nvSpPr>
        <p:spPr>
          <a:xfrm>
            <a:off x="6227640" y="1989000"/>
            <a:ext cx="289080" cy="360360"/>
          </a:xfrm>
          <a:prstGeom prst="ellipse">
            <a:avLst/>
          </a:prstGeom>
          <a:blipFill rotWithShape="0">
            <a:blip r:embed="rId4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9" name=""/>
          <p:cNvSpPr/>
          <p:nvPr/>
        </p:nvSpPr>
        <p:spPr>
          <a:xfrm>
            <a:off x="6877080" y="2852640"/>
            <a:ext cx="288720" cy="360360"/>
          </a:xfrm>
          <a:prstGeom prst="ellipse">
            <a:avLst/>
          </a:prstGeom>
          <a:blipFill rotWithShape="0">
            <a:blip r:embed="rId4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0" name=""/>
          <p:cNvSpPr/>
          <p:nvPr/>
        </p:nvSpPr>
        <p:spPr>
          <a:xfrm>
            <a:off x="6732720" y="1268280"/>
            <a:ext cx="288720" cy="360360"/>
          </a:xfrm>
          <a:prstGeom prst="ellipse">
            <a:avLst/>
          </a:prstGeom>
          <a:blipFill rotWithShape="0">
            <a:blip r:embed="rId5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1" name=""/>
          <p:cNvSpPr/>
          <p:nvPr/>
        </p:nvSpPr>
        <p:spPr>
          <a:xfrm>
            <a:off x="7524720" y="3213000"/>
            <a:ext cx="289080" cy="360360"/>
          </a:xfrm>
          <a:prstGeom prst="ellipse">
            <a:avLst/>
          </a:prstGeom>
          <a:blipFill rotWithShape="0">
            <a:blip r:embed="rId5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2" name=""/>
          <p:cNvSpPr/>
          <p:nvPr/>
        </p:nvSpPr>
        <p:spPr>
          <a:xfrm>
            <a:off x="7740720" y="3213000"/>
            <a:ext cx="288720" cy="360360"/>
          </a:xfrm>
          <a:prstGeom prst="ellipse">
            <a:avLst/>
          </a:prstGeom>
          <a:blipFill rotWithShape="0">
            <a:blip r:embed="rId5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3" name=""/>
          <p:cNvSpPr/>
          <p:nvPr/>
        </p:nvSpPr>
        <p:spPr>
          <a:xfrm>
            <a:off x="7020000" y="2060640"/>
            <a:ext cx="288720" cy="360360"/>
          </a:xfrm>
          <a:prstGeom prst="ellipse">
            <a:avLst/>
          </a:prstGeom>
          <a:blipFill rotWithShape="0">
            <a:blip r:embed="rId5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4" name=""/>
          <p:cNvSpPr/>
          <p:nvPr/>
        </p:nvSpPr>
        <p:spPr>
          <a:xfrm>
            <a:off x="7451640" y="1557360"/>
            <a:ext cx="289080" cy="360360"/>
          </a:xfrm>
          <a:prstGeom prst="ellipse">
            <a:avLst/>
          </a:prstGeom>
          <a:blipFill rotWithShape="0">
            <a:blip r:embed="rId5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75" name=""/>
          <p:cNvGrpSpPr/>
          <p:nvPr/>
        </p:nvGrpSpPr>
        <p:grpSpPr>
          <a:xfrm>
            <a:off x="5291280" y="4579920"/>
            <a:ext cx="215640" cy="144360"/>
            <a:chOff x="5291280" y="4579920"/>
            <a:chExt cx="215640" cy="144360"/>
          </a:xfrm>
        </p:grpSpPr>
        <p:sp>
          <p:nvSpPr>
            <p:cNvPr id="15076" name=""/>
            <p:cNvSpPr/>
            <p:nvPr/>
          </p:nvSpPr>
          <p:spPr>
            <a:xfrm>
              <a:off x="5291280" y="4579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7" name=""/>
            <p:cNvSpPr/>
            <p:nvPr/>
          </p:nvSpPr>
          <p:spPr>
            <a:xfrm>
              <a:off x="5352840" y="4579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78" name=""/>
          <p:cNvGrpSpPr/>
          <p:nvPr/>
        </p:nvGrpSpPr>
        <p:grpSpPr>
          <a:xfrm>
            <a:off x="6227640" y="4076640"/>
            <a:ext cx="215640" cy="144360"/>
            <a:chOff x="6227640" y="4076640"/>
            <a:chExt cx="215640" cy="144360"/>
          </a:xfrm>
        </p:grpSpPr>
        <p:sp>
          <p:nvSpPr>
            <p:cNvPr id="15079" name=""/>
            <p:cNvSpPr/>
            <p:nvPr/>
          </p:nvSpPr>
          <p:spPr>
            <a:xfrm>
              <a:off x="6227640" y="4076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0" name=""/>
            <p:cNvSpPr/>
            <p:nvPr/>
          </p:nvSpPr>
          <p:spPr>
            <a:xfrm>
              <a:off x="6289200" y="4076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81" name=""/>
          <p:cNvGrpSpPr/>
          <p:nvPr/>
        </p:nvGrpSpPr>
        <p:grpSpPr>
          <a:xfrm>
            <a:off x="7740720" y="4292640"/>
            <a:ext cx="215640" cy="144360"/>
            <a:chOff x="7740720" y="4292640"/>
            <a:chExt cx="215640" cy="144360"/>
          </a:xfrm>
        </p:grpSpPr>
        <p:sp>
          <p:nvSpPr>
            <p:cNvPr id="15082" name=""/>
            <p:cNvSpPr/>
            <p:nvPr/>
          </p:nvSpPr>
          <p:spPr>
            <a:xfrm>
              <a:off x="774072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3" name=""/>
            <p:cNvSpPr/>
            <p:nvPr/>
          </p:nvSpPr>
          <p:spPr>
            <a:xfrm>
              <a:off x="780228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84" name=""/>
          <p:cNvGrpSpPr/>
          <p:nvPr/>
        </p:nvGrpSpPr>
        <p:grpSpPr>
          <a:xfrm>
            <a:off x="5580000" y="3718080"/>
            <a:ext cx="215640" cy="144360"/>
            <a:chOff x="5580000" y="3718080"/>
            <a:chExt cx="215640" cy="144360"/>
          </a:xfrm>
        </p:grpSpPr>
        <p:sp>
          <p:nvSpPr>
            <p:cNvPr id="15085" name=""/>
            <p:cNvSpPr/>
            <p:nvPr/>
          </p:nvSpPr>
          <p:spPr>
            <a:xfrm>
              <a:off x="5580000" y="3718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6" name=""/>
            <p:cNvSpPr/>
            <p:nvPr/>
          </p:nvSpPr>
          <p:spPr>
            <a:xfrm>
              <a:off x="5641560" y="3718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87" name=""/>
          <p:cNvGrpSpPr/>
          <p:nvPr/>
        </p:nvGrpSpPr>
        <p:grpSpPr>
          <a:xfrm>
            <a:off x="4643280" y="4076640"/>
            <a:ext cx="215640" cy="144360"/>
            <a:chOff x="4643280" y="4076640"/>
            <a:chExt cx="215640" cy="144360"/>
          </a:xfrm>
        </p:grpSpPr>
        <p:sp>
          <p:nvSpPr>
            <p:cNvPr id="15088" name=""/>
            <p:cNvSpPr/>
            <p:nvPr/>
          </p:nvSpPr>
          <p:spPr>
            <a:xfrm>
              <a:off x="4643280" y="4076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9" name=""/>
            <p:cNvSpPr/>
            <p:nvPr/>
          </p:nvSpPr>
          <p:spPr>
            <a:xfrm>
              <a:off x="4704840" y="4076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90" name=""/>
          <p:cNvSpPr/>
          <p:nvPr/>
        </p:nvSpPr>
        <p:spPr>
          <a:xfrm>
            <a:off x="4859280" y="4724280"/>
            <a:ext cx="11509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1" name=""/>
          <p:cNvSpPr/>
          <p:nvPr/>
        </p:nvSpPr>
        <p:spPr>
          <a:xfrm>
            <a:off x="3924360" y="6021360"/>
            <a:ext cx="1008000" cy="360360"/>
          </a:xfrm>
          <a:prstGeom prst="rect">
            <a:avLst/>
          </a:prstGeom>
          <a:solidFill>
            <a:srgbClr val="0000ff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2" name=""/>
          <p:cNvSpPr txBox="1"/>
          <p:nvPr/>
        </p:nvSpPr>
        <p:spPr>
          <a:xfrm>
            <a:off x="4930920" y="4724280"/>
            <a:ext cx="1019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вас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ина и 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093" name=""/>
          <p:cNvSpPr txBox="1"/>
          <p:nvPr/>
        </p:nvSpPr>
        <p:spPr>
          <a:xfrm>
            <a:off x="3924360" y="6021360"/>
            <a:ext cx="1019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силий и Александр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094" name=""/>
          <p:cNvSpPr/>
          <p:nvPr/>
        </p:nvSpPr>
        <p:spPr>
          <a:xfrm>
            <a:off x="7451640" y="3645000"/>
            <a:ext cx="72072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5" name=""/>
          <p:cNvSpPr txBox="1"/>
          <p:nvPr/>
        </p:nvSpPr>
        <p:spPr>
          <a:xfrm>
            <a:off x="7451640" y="3645000"/>
            <a:ext cx="72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мёнова Татья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 Поникаров Алекс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096" name=""/>
          <p:cNvSpPr/>
          <p:nvPr/>
        </p:nvSpPr>
        <p:spPr>
          <a:xfrm>
            <a:off x="5796000" y="4221000"/>
            <a:ext cx="100800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7" name=""/>
          <p:cNvSpPr/>
          <p:nvPr/>
        </p:nvSpPr>
        <p:spPr>
          <a:xfrm>
            <a:off x="8317080" y="1484280"/>
            <a:ext cx="288720" cy="360360"/>
          </a:xfrm>
          <a:prstGeom prst="ellipse">
            <a:avLst/>
          </a:prstGeom>
          <a:blipFill rotWithShape="0">
            <a:blip r:embed="rId5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8" name="">
            <a:hlinkClick r:id="rId56" action="ppaction://hlinksldjump"/>
          </p:cNvPr>
          <p:cNvSpPr/>
          <p:nvPr/>
        </p:nvSpPr>
        <p:spPr>
          <a:xfrm>
            <a:off x="5580000" y="5157720"/>
            <a:ext cx="289080" cy="36036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9" name=""/>
          <p:cNvSpPr/>
          <p:nvPr/>
        </p:nvSpPr>
        <p:spPr>
          <a:xfrm>
            <a:off x="1547640" y="1268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00" name=""/>
          <p:cNvGrpSpPr/>
          <p:nvPr/>
        </p:nvGrpSpPr>
        <p:grpSpPr>
          <a:xfrm>
            <a:off x="3462480" y="2347920"/>
            <a:ext cx="244440" cy="144360"/>
            <a:chOff x="3462480" y="2347920"/>
            <a:chExt cx="244440" cy="144360"/>
          </a:xfrm>
        </p:grpSpPr>
        <p:sp>
          <p:nvSpPr>
            <p:cNvPr id="15101" name=""/>
            <p:cNvSpPr/>
            <p:nvPr/>
          </p:nvSpPr>
          <p:spPr>
            <a:xfrm>
              <a:off x="3462480" y="2347920"/>
              <a:ext cx="17460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2" name=""/>
            <p:cNvSpPr/>
            <p:nvPr/>
          </p:nvSpPr>
          <p:spPr>
            <a:xfrm>
              <a:off x="3532320" y="2347920"/>
              <a:ext cx="17460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03" name=""/>
          <p:cNvSpPr/>
          <p:nvPr/>
        </p:nvSpPr>
        <p:spPr>
          <a:xfrm>
            <a:off x="2124000" y="1341360"/>
            <a:ext cx="289080" cy="360360"/>
          </a:xfrm>
          <a:prstGeom prst="ellipse">
            <a:avLst/>
          </a:prstGeom>
          <a:blipFill rotWithShape="0">
            <a:blip r:embed="rId57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4" name=""/>
          <p:cNvSpPr txBox="1"/>
          <p:nvPr/>
        </p:nvSpPr>
        <p:spPr>
          <a:xfrm>
            <a:off x="5867280" y="4221000"/>
            <a:ext cx="865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орошкевич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мара и Вале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05" name=""/>
          <p:cNvSpPr/>
          <p:nvPr/>
        </p:nvSpPr>
        <p:spPr>
          <a:xfrm>
            <a:off x="7380360" y="4510080"/>
            <a:ext cx="1008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6" name=""/>
          <p:cNvSpPr txBox="1"/>
          <p:nvPr/>
        </p:nvSpPr>
        <p:spPr>
          <a:xfrm>
            <a:off x="7453440" y="4510080"/>
            <a:ext cx="874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07" name=""/>
          <p:cNvSpPr/>
          <p:nvPr/>
        </p:nvSpPr>
        <p:spPr>
          <a:xfrm>
            <a:off x="7883640" y="2349360"/>
            <a:ext cx="288720" cy="360360"/>
          </a:xfrm>
          <a:prstGeom prst="ellipse">
            <a:avLst/>
          </a:prstGeom>
          <a:blipFill rotWithShape="0">
            <a:blip r:embed="rId5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8" name=""/>
          <p:cNvSpPr/>
          <p:nvPr/>
        </p:nvSpPr>
        <p:spPr>
          <a:xfrm>
            <a:off x="7596360" y="2349360"/>
            <a:ext cx="288720" cy="360360"/>
          </a:xfrm>
          <a:prstGeom prst="ellipse">
            <a:avLst/>
          </a:prstGeom>
          <a:blipFill rotWithShape="0">
            <a:blip r:embed="rId5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09" name=""/>
          <p:cNvGrpSpPr/>
          <p:nvPr/>
        </p:nvGrpSpPr>
        <p:grpSpPr>
          <a:xfrm>
            <a:off x="7738920" y="2637000"/>
            <a:ext cx="215640" cy="144360"/>
            <a:chOff x="7738920" y="2637000"/>
            <a:chExt cx="215640" cy="144360"/>
          </a:xfrm>
        </p:grpSpPr>
        <p:sp>
          <p:nvSpPr>
            <p:cNvPr id="15110" name=""/>
            <p:cNvSpPr/>
            <p:nvPr/>
          </p:nvSpPr>
          <p:spPr>
            <a:xfrm>
              <a:off x="773892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1" name=""/>
            <p:cNvSpPr/>
            <p:nvPr/>
          </p:nvSpPr>
          <p:spPr>
            <a:xfrm>
              <a:off x="780048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12" name=""/>
          <p:cNvSpPr/>
          <p:nvPr/>
        </p:nvSpPr>
        <p:spPr>
          <a:xfrm>
            <a:off x="8244000" y="2349360"/>
            <a:ext cx="288720" cy="360360"/>
          </a:xfrm>
          <a:prstGeom prst="ellipse">
            <a:avLst/>
          </a:prstGeom>
          <a:blipFill rotWithShape="0">
            <a:blip r:embed="rId60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3" name=""/>
          <p:cNvSpPr/>
          <p:nvPr/>
        </p:nvSpPr>
        <p:spPr>
          <a:xfrm>
            <a:off x="8244000" y="2637000"/>
            <a:ext cx="15372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4" name=""/>
          <p:cNvSpPr/>
          <p:nvPr/>
        </p:nvSpPr>
        <p:spPr>
          <a:xfrm>
            <a:off x="8028000" y="263700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5" name=""/>
          <p:cNvSpPr/>
          <p:nvPr/>
        </p:nvSpPr>
        <p:spPr>
          <a:xfrm>
            <a:off x="8244000" y="2852640"/>
            <a:ext cx="6490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6" name=""/>
          <p:cNvSpPr txBox="1"/>
          <p:nvPr/>
        </p:nvSpPr>
        <p:spPr>
          <a:xfrm>
            <a:off x="8315280" y="2852640"/>
            <a:ext cx="50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17" name=""/>
          <p:cNvSpPr/>
          <p:nvPr/>
        </p:nvSpPr>
        <p:spPr>
          <a:xfrm>
            <a:off x="7236000" y="2852640"/>
            <a:ext cx="9363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8" name=""/>
          <p:cNvSpPr txBox="1"/>
          <p:nvPr/>
        </p:nvSpPr>
        <p:spPr>
          <a:xfrm>
            <a:off x="7307280" y="2852640"/>
            <a:ext cx="801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19" name=""/>
          <p:cNvSpPr/>
          <p:nvPr/>
        </p:nvSpPr>
        <p:spPr>
          <a:xfrm>
            <a:off x="8172360" y="191628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0" name=""/>
          <p:cNvSpPr txBox="1"/>
          <p:nvPr/>
        </p:nvSpPr>
        <p:spPr>
          <a:xfrm>
            <a:off x="8244000" y="1916280"/>
            <a:ext cx="369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1" name=""/>
          <p:cNvSpPr/>
          <p:nvPr/>
        </p:nvSpPr>
        <p:spPr>
          <a:xfrm>
            <a:off x="7380360" y="1989000"/>
            <a:ext cx="43020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2" name=""/>
          <p:cNvSpPr txBox="1"/>
          <p:nvPr/>
        </p:nvSpPr>
        <p:spPr>
          <a:xfrm>
            <a:off x="7451640" y="1989000"/>
            <a:ext cx="298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икт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3" name=""/>
          <p:cNvSpPr/>
          <p:nvPr/>
        </p:nvSpPr>
        <p:spPr>
          <a:xfrm>
            <a:off x="6877080" y="249228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4" name=""/>
          <p:cNvSpPr txBox="1"/>
          <p:nvPr/>
        </p:nvSpPr>
        <p:spPr>
          <a:xfrm>
            <a:off x="6950160" y="2492280"/>
            <a:ext cx="512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5" name=""/>
          <p:cNvSpPr/>
          <p:nvPr/>
        </p:nvSpPr>
        <p:spPr>
          <a:xfrm>
            <a:off x="6804000" y="328464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6" name=""/>
          <p:cNvSpPr txBox="1"/>
          <p:nvPr/>
        </p:nvSpPr>
        <p:spPr>
          <a:xfrm>
            <a:off x="6877080" y="3284640"/>
            <a:ext cx="512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7" name=""/>
          <p:cNvSpPr/>
          <p:nvPr/>
        </p:nvSpPr>
        <p:spPr>
          <a:xfrm>
            <a:off x="6516720" y="170028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8" name=""/>
          <p:cNvSpPr txBox="1"/>
          <p:nvPr/>
        </p:nvSpPr>
        <p:spPr>
          <a:xfrm>
            <a:off x="6589800" y="1700280"/>
            <a:ext cx="512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29" name=""/>
          <p:cNvSpPr/>
          <p:nvPr/>
        </p:nvSpPr>
        <p:spPr>
          <a:xfrm>
            <a:off x="3419640" y="404640"/>
            <a:ext cx="288720" cy="360360"/>
          </a:xfrm>
          <a:prstGeom prst="ellipse">
            <a:avLst/>
          </a:prstGeom>
          <a:blipFill rotWithShape="0">
            <a:blip r:embed="rId61"/>
            <a:srcRect/>
            <a:stretch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0" name=""/>
          <p:cNvSpPr/>
          <p:nvPr/>
        </p:nvSpPr>
        <p:spPr>
          <a:xfrm>
            <a:off x="1476360" y="4797360"/>
            <a:ext cx="289080" cy="360360"/>
          </a:xfrm>
          <a:prstGeom prst="ellipse">
            <a:avLst/>
          </a:prstGeom>
          <a:blipFill rotWithShape="0">
            <a:blip r:embed="rId62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1" name=""/>
          <p:cNvSpPr/>
          <p:nvPr/>
        </p:nvSpPr>
        <p:spPr>
          <a:xfrm>
            <a:off x="4159080" y="4292640"/>
            <a:ext cx="917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2" name=""/>
          <p:cNvSpPr txBox="1"/>
          <p:nvPr/>
        </p:nvSpPr>
        <p:spPr>
          <a:xfrm>
            <a:off x="4211640" y="4292640"/>
            <a:ext cx="803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 и Анато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33" name=""/>
          <p:cNvSpPr/>
          <p:nvPr/>
        </p:nvSpPr>
        <p:spPr>
          <a:xfrm>
            <a:off x="5292720" y="3860640"/>
            <a:ext cx="64764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4" name=""/>
          <p:cNvSpPr txBox="1"/>
          <p:nvPr/>
        </p:nvSpPr>
        <p:spPr>
          <a:xfrm>
            <a:off x="5292720" y="3860640"/>
            <a:ext cx="647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ладимир и Вер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35" name=""/>
          <p:cNvSpPr/>
          <p:nvPr/>
        </p:nvSpPr>
        <p:spPr>
          <a:xfrm>
            <a:off x="1835280" y="5084640"/>
            <a:ext cx="57600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6" name=""/>
          <p:cNvSpPr txBox="1"/>
          <p:nvPr/>
        </p:nvSpPr>
        <p:spPr>
          <a:xfrm>
            <a:off x="1908000" y="508464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еньк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ер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137" name=""/>
          <p:cNvGrpSpPr/>
          <p:nvPr/>
        </p:nvGrpSpPr>
        <p:grpSpPr>
          <a:xfrm>
            <a:off x="2124000" y="4940280"/>
            <a:ext cx="215640" cy="144360"/>
            <a:chOff x="2124000" y="4940280"/>
            <a:chExt cx="215640" cy="144360"/>
          </a:xfrm>
        </p:grpSpPr>
        <p:sp>
          <p:nvSpPr>
            <p:cNvPr id="15138" name=""/>
            <p:cNvSpPr/>
            <p:nvPr/>
          </p:nvSpPr>
          <p:spPr>
            <a:xfrm>
              <a:off x="2124000" y="4940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9" name=""/>
            <p:cNvSpPr/>
            <p:nvPr/>
          </p:nvSpPr>
          <p:spPr>
            <a:xfrm>
              <a:off x="2185560" y="4940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40" name=""/>
          <p:cNvGrpSpPr/>
          <p:nvPr/>
        </p:nvGrpSpPr>
        <p:grpSpPr>
          <a:xfrm>
            <a:off x="2411280" y="4078440"/>
            <a:ext cx="215640" cy="144360"/>
            <a:chOff x="2411280" y="4078440"/>
            <a:chExt cx="215640" cy="144360"/>
          </a:xfrm>
        </p:grpSpPr>
        <p:sp>
          <p:nvSpPr>
            <p:cNvPr id="15141" name=""/>
            <p:cNvSpPr/>
            <p:nvPr/>
          </p:nvSpPr>
          <p:spPr>
            <a:xfrm>
              <a:off x="2411280" y="4078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2" name=""/>
            <p:cNvSpPr/>
            <p:nvPr/>
          </p:nvSpPr>
          <p:spPr>
            <a:xfrm>
              <a:off x="2472840" y="4078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43" name=""/>
          <p:cNvGrpSpPr/>
          <p:nvPr/>
        </p:nvGrpSpPr>
        <p:grpSpPr>
          <a:xfrm>
            <a:off x="1762200" y="3284640"/>
            <a:ext cx="215640" cy="144360"/>
            <a:chOff x="1762200" y="3284640"/>
            <a:chExt cx="215640" cy="144360"/>
          </a:xfrm>
        </p:grpSpPr>
        <p:sp>
          <p:nvSpPr>
            <p:cNvPr id="15144" name=""/>
            <p:cNvSpPr/>
            <p:nvPr/>
          </p:nvSpPr>
          <p:spPr>
            <a:xfrm>
              <a:off x="1762200" y="3284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5" name=""/>
            <p:cNvSpPr/>
            <p:nvPr/>
          </p:nvSpPr>
          <p:spPr>
            <a:xfrm>
              <a:off x="1823760" y="3284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46" name=""/>
          <p:cNvGrpSpPr/>
          <p:nvPr/>
        </p:nvGrpSpPr>
        <p:grpSpPr>
          <a:xfrm>
            <a:off x="4284720" y="2637000"/>
            <a:ext cx="215640" cy="144360"/>
            <a:chOff x="4284720" y="2637000"/>
            <a:chExt cx="215640" cy="144360"/>
          </a:xfrm>
        </p:grpSpPr>
        <p:sp>
          <p:nvSpPr>
            <p:cNvPr id="15147" name=""/>
            <p:cNvSpPr/>
            <p:nvPr/>
          </p:nvSpPr>
          <p:spPr>
            <a:xfrm>
              <a:off x="428472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8" name=""/>
            <p:cNvSpPr/>
            <p:nvPr/>
          </p:nvSpPr>
          <p:spPr>
            <a:xfrm>
              <a:off x="434628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49" name=""/>
          <p:cNvGrpSpPr/>
          <p:nvPr/>
        </p:nvGrpSpPr>
        <p:grpSpPr>
          <a:xfrm>
            <a:off x="4859280" y="2924280"/>
            <a:ext cx="215640" cy="144360"/>
            <a:chOff x="4859280" y="2924280"/>
            <a:chExt cx="215640" cy="144360"/>
          </a:xfrm>
        </p:grpSpPr>
        <p:sp>
          <p:nvSpPr>
            <p:cNvPr id="15150" name=""/>
            <p:cNvSpPr/>
            <p:nvPr/>
          </p:nvSpPr>
          <p:spPr>
            <a:xfrm>
              <a:off x="4859280" y="2924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1" name=""/>
            <p:cNvSpPr/>
            <p:nvPr/>
          </p:nvSpPr>
          <p:spPr>
            <a:xfrm>
              <a:off x="4920840" y="2924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52" name=""/>
          <p:cNvGrpSpPr/>
          <p:nvPr/>
        </p:nvGrpSpPr>
        <p:grpSpPr>
          <a:xfrm>
            <a:off x="5364000" y="2205000"/>
            <a:ext cx="215640" cy="144360"/>
            <a:chOff x="5364000" y="2205000"/>
            <a:chExt cx="215640" cy="144360"/>
          </a:xfrm>
        </p:grpSpPr>
        <p:sp>
          <p:nvSpPr>
            <p:cNvPr id="15153" name=""/>
            <p:cNvSpPr/>
            <p:nvPr/>
          </p:nvSpPr>
          <p:spPr>
            <a:xfrm>
              <a:off x="5364000" y="2205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4" name=""/>
            <p:cNvSpPr/>
            <p:nvPr/>
          </p:nvSpPr>
          <p:spPr>
            <a:xfrm>
              <a:off x="5425560" y="2205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55" name=""/>
          <p:cNvGrpSpPr/>
          <p:nvPr/>
        </p:nvGrpSpPr>
        <p:grpSpPr>
          <a:xfrm>
            <a:off x="6300720" y="3068640"/>
            <a:ext cx="215640" cy="144360"/>
            <a:chOff x="6300720" y="3068640"/>
            <a:chExt cx="215640" cy="144360"/>
          </a:xfrm>
        </p:grpSpPr>
        <p:sp>
          <p:nvSpPr>
            <p:cNvPr id="15156" name=""/>
            <p:cNvSpPr/>
            <p:nvPr/>
          </p:nvSpPr>
          <p:spPr>
            <a:xfrm>
              <a:off x="6300720" y="306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7" name=""/>
            <p:cNvSpPr/>
            <p:nvPr/>
          </p:nvSpPr>
          <p:spPr>
            <a:xfrm>
              <a:off x="6362280" y="306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58" name=""/>
          <p:cNvSpPr/>
          <p:nvPr/>
        </p:nvSpPr>
        <p:spPr>
          <a:xfrm>
            <a:off x="1187280" y="5229360"/>
            <a:ext cx="576360" cy="215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9" name=""/>
          <p:cNvSpPr txBox="1"/>
          <p:nvPr/>
        </p:nvSpPr>
        <p:spPr>
          <a:xfrm>
            <a:off x="1260360" y="5230800"/>
            <a:ext cx="43200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0" name=""/>
          <p:cNvSpPr/>
          <p:nvPr/>
        </p:nvSpPr>
        <p:spPr>
          <a:xfrm>
            <a:off x="538200" y="4724280"/>
            <a:ext cx="503280" cy="2174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1" name=""/>
          <p:cNvSpPr txBox="1"/>
          <p:nvPr/>
        </p:nvSpPr>
        <p:spPr>
          <a:xfrm>
            <a:off x="611280" y="4724280"/>
            <a:ext cx="35856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си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2" name=""/>
          <p:cNvSpPr/>
          <p:nvPr/>
        </p:nvSpPr>
        <p:spPr>
          <a:xfrm>
            <a:off x="1332000" y="4292640"/>
            <a:ext cx="576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3" name=""/>
          <p:cNvSpPr txBox="1"/>
          <p:nvPr/>
        </p:nvSpPr>
        <p:spPr>
          <a:xfrm>
            <a:off x="1405080" y="4365720"/>
            <a:ext cx="43164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4" name=""/>
          <p:cNvSpPr/>
          <p:nvPr/>
        </p:nvSpPr>
        <p:spPr>
          <a:xfrm>
            <a:off x="755640" y="3860640"/>
            <a:ext cx="72216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5" name=""/>
          <p:cNvSpPr txBox="1"/>
          <p:nvPr/>
        </p:nvSpPr>
        <p:spPr>
          <a:xfrm>
            <a:off x="828720" y="3860640"/>
            <a:ext cx="576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льг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6" name=""/>
          <p:cNvSpPr/>
          <p:nvPr/>
        </p:nvSpPr>
        <p:spPr>
          <a:xfrm>
            <a:off x="1979640" y="4221000"/>
            <a:ext cx="936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7" name=""/>
          <p:cNvSpPr txBox="1"/>
          <p:nvPr/>
        </p:nvSpPr>
        <p:spPr>
          <a:xfrm>
            <a:off x="1979640" y="4221000"/>
            <a:ext cx="8748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бовь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68" name=""/>
          <p:cNvSpPr/>
          <p:nvPr/>
        </p:nvSpPr>
        <p:spPr>
          <a:xfrm>
            <a:off x="1330200" y="3429000"/>
            <a:ext cx="936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9" name=""/>
          <p:cNvSpPr txBox="1"/>
          <p:nvPr/>
        </p:nvSpPr>
        <p:spPr>
          <a:xfrm>
            <a:off x="1403280" y="3429000"/>
            <a:ext cx="790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дрей и Юл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0" name=""/>
          <p:cNvSpPr/>
          <p:nvPr/>
        </p:nvSpPr>
        <p:spPr>
          <a:xfrm>
            <a:off x="2987640" y="4076640"/>
            <a:ext cx="108108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1" name=""/>
          <p:cNvSpPr txBox="1"/>
          <p:nvPr/>
        </p:nvSpPr>
        <p:spPr>
          <a:xfrm>
            <a:off x="3060720" y="4076640"/>
            <a:ext cx="946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орон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нтин и Серафим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2" name=""/>
          <p:cNvSpPr/>
          <p:nvPr/>
        </p:nvSpPr>
        <p:spPr>
          <a:xfrm>
            <a:off x="2916360" y="3357720"/>
            <a:ext cx="792000" cy="2887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3" name=""/>
          <p:cNvSpPr txBox="1"/>
          <p:nvPr/>
        </p:nvSpPr>
        <p:spPr>
          <a:xfrm>
            <a:off x="2987640" y="3357720"/>
            <a:ext cx="6699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роз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на и Анато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4" name=""/>
          <p:cNvSpPr/>
          <p:nvPr/>
        </p:nvSpPr>
        <p:spPr>
          <a:xfrm>
            <a:off x="2340000" y="3429000"/>
            <a:ext cx="50328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5" name=""/>
          <p:cNvSpPr txBox="1"/>
          <p:nvPr/>
        </p:nvSpPr>
        <p:spPr>
          <a:xfrm>
            <a:off x="2413080" y="3429000"/>
            <a:ext cx="4014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орон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6" name=""/>
          <p:cNvSpPr/>
          <p:nvPr/>
        </p:nvSpPr>
        <p:spPr>
          <a:xfrm>
            <a:off x="3132000" y="4941720"/>
            <a:ext cx="936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7" name=""/>
          <p:cNvSpPr txBox="1"/>
          <p:nvPr/>
        </p:nvSpPr>
        <p:spPr>
          <a:xfrm>
            <a:off x="3132000" y="4941720"/>
            <a:ext cx="87480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еньк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ргей и Ольг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78" name=""/>
          <p:cNvSpPr/>
          <p:nvPr/>
        </p:nvSpPr>
        <p:spPr>
          <a:xfrm>
            <a:off x="3780000" y="3500280"/>
            <a:ext cx="79200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9" name=""/>
          <p:cNvSpPr txBox="1"/>
          <p:nvPr/>
        </p:nvSpPr>
        <p:spPr>
          <a:xfrm>
            <a:off x="3851280" y="3500280"/>
            <a:ext cx="64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хаил и Валент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80" name=""/>
          <p:cNvSpPr/>
          <p:nvPr/>
        </p:nvSpPr>
        <p:spPr>
          <a:xfrm>
            <a:off x="3132000" y="2492280"/>
            <a:ext cx="86364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1" name=""/>
          <p:cNvSpPr txBox="1"/>
          <p:nvPr/>
        </p:nvSpPr>
        <p:spPr>
          <a:xfrm>
            <a:off x="3193920" y="2492280"/>
            <a:ext cx="728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Вячесла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82" name=""/>
          <p:cNvSpPr/>
          <p:nvPr/>
        </p:nvSpPr>
        <p:spPr>
          <a:xfrm>
            <a:off x="1692360" y="2565360"/>
            <a:ext cx="50148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3" name=""/>
          <p:cNvSpPr txBox="1"/>
          <p:nvPr/>
        </p:nvSpPr>
        <p:spPr>
          <a:xfrm>
            <a:off x="1763640" y="2565360"/>
            <a:ext cx="4017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роз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тья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84" name=""/>
          <p:cNvSpPr/>
          <p:nvPr/>
        </p:nvSpPr>
        <p:spPr>
          <a:xfrm>
            <a:off x="2319480" y="2565360"/>
            <a:ext cx="73980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5" name=""/>
          <p:cNvSpPr txBox="1"/>
          <p:nvPr/>
        </p:nvSpPr>
        <p:spPr>
          <a:xfrm>
            <a:off x="2340000" y="2565360"/>
            <a:ext cx="6904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тьяна и Герм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186" name=""/>
          <p:cNvGrpSpPr/>
          <p:nvPr/>
        </p:nvGrpSpPr>
        <p:grpSpPr>
          <a:xfrm>
            <a:off x="3995640" y="3357720"/>
            <a:ext cx="215640" cy="144360"/>
            <a:chOff x="3995640" y="3357720"/>
            <a:chExt cx="215640" cy="144360"/>
          </a:xfrm>
        </p:grpSpPr>
        <p:sp>
          <p:nvSpPr>
            <p:cNvPr id="15187" name=""/>
            <p:cNvSpPr/>
            <p:nvPr/>
          </p:nvSpPr>
          <p:spPr>
            <a:xfrm>
              <a:off x="399564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8" name=""/>
            <p:cNvSpPr/>
            <p:nvPr/>
          </p:nvSpPr>
          <p:spPr>
            <a:xfrm>
              <a:off x="405720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89" name=""/>
          <p:cNvSpPr/>
          <p:nvPr/>
        </p:nvSpPr>
        <p:spPr>
          <a:xfrm>
            <a:off x="2484360" y="2060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90" name=""/>
          <p:cNvGrpSpPr/>
          <p:nvPr/>
        </p:nvGrpSpPr>
        <p:grpSpPr>
          <a:xfrm>
            <a:off x="2700360" y="2349360"/>
            <a:ext cx="215640" cy="144720"/>
            <a:chOff x="2700360" y="2349360"/>
            <a:chExt cx="215640" cy="144720"/>
          </a:xfrm>
        </p:grpSpPr>
        <p:sp>
          <p:nvSpPr>
            <p:cNvPr id="15191" name=""/>
            <p:cNvSpPr/>
            <p:nvPr/>
          </p:nvSpPr>
          <p:spPr>
            <a:xfrm>
              <a:off x="2700360" y="2349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2" name=""/>
            <p:cNvSpPr/>
            <p:nvPr/>
          </p:nvSpPr>
          <p:spPr>
            <a:xfrm>
              <a:off x="2761920" y="2349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93" name=""/>
          <p:cNvSpPr/>
          <p:nvPr/>
        </p:nvSpPr>
        <p:spPr>
          <a:xfrm>
            <a:off x="971640" y="2205000"/>
            <a:ext cx="50148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4" name=""/>
          <p:cNvSpPr txBox="1"/>
          <p:nvPr/>
        </p:nvSpPr>
        <p:spPr>
          <a:xfrm>
            <a:off x="1042920" y="2205000"/>
            <a:ext cx="4017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ё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95" name=""/>
          <p:cNvSpPr/>
          <p:nvPr/>
        </p:nvSpPr>
        <p:spPr>
          <a:xfrm>
            <a:off x="1403280" y="1700280"/>
            <a:ext cx="576360" cy="269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6" name=""/>
          <p:cNvSpPr txBox="1"/>
          <p:nvPr/>
        </p:nvSpPr>
        <p:spPr>
          <a:xfrm>
            <a:off x="1488960" y="1700280"/>
            <a:ext cx="4622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97" name=""/>
          <p:cNvSpPr/>
          <p:nvPr/>
        </p:nvSpPr>
        <p:spPr>
          <a:xfrm>
            <a:off x="2050920" y="1773360"/>
            <a:ext cx="576360" cy="269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8" name=""/>
          <p:cNvSpPr txBox="1"/>
          <p:nvPr/>
        </p:nvSpPr>
        <p:spPr>
          <a:xfrm>
            <a:off x="2122560" y="1773360"/>
            <a:ext cx="4618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199" name=""/>
          <p:cNvSpPr/>
          <p:nvPr/>
        </p:nvSpPr>
        <p:spPr>
          <a:xfrm>
            <a:off x="2844720" y="1197000"/>
            <a:ext cx="57636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0" name=""/>
          <p:cNvSpPr txBox="1"/>
          <p:nvPr/>
        </p:nvSpPr>
        <p:spPr>
          <a:xfrm>
            <a:off x="2916360" y="1197000"/>
            <a:ext cx="461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1" name=""/>
          <p:cNvSpPr/>
          <p:nvPr/>
        </p:nvSpPr>
        <p:spPr>
          <a:xfrm>
            <a:off x="3564000" y="1628640"/>
            <a:ext cx="576360" cy="270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2" name=""/>
          <p:cNvSpPr txBox="1"/>
          <p:nvPr/>
        </p:nvSpPr>
        <p:spPr>
          <a:xfrm>
            <a:off x="3635280" y="1628640"/>
            <a:ext cx="461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ал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3" name=""/>
          <p:cNvSpPr/>
          <p:nvPr/>
        </p:nvSpPr>
        <p:spPr>
          <a:xfrm>
            <a:off x="3348000" y="835200"/>
            <a:ext cx="576360" cy="269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4" name=""/>
          <p:cNvSpPr txBox="1"/>
          <p:nvPr/>
        </p:nvSpPr>
        <p:spPr>
          <a:xfrm>
            <a:off x="3419640" y="907920"/>
            <a:ext cx="4618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5" name=""/>
          <p:cNvSpPr/>
          <p:nvPr/>
        </p:nvSpPr>
        <p:spPr>
          <a:xfrm>
            <a:off x="3851280" y="2781360"/>
            <a:ext cx="792000" cy="2682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6" name=""/>
          <p:cNvSpPr txBox="1"/>
          <p:nvPr/>
        </p:nvSpPr>
        <p:spPr>
          <a:xfrm>
            <a:off x="3851280" y="2763720"/>
            <a:ext cx="7398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нт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7" name=""/>
          <p:cNvSpPr/>
          <p:nvPr/>
        </p:nvSpPr>
        <p:spPr>
          <a:xfrm>
            <a:off x="4427640" y="3141720"/>
            <a:ext cx="93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8" name=""/>
          <p:cNvSpPr txBox="1"/>
          <p:nvPr/>
        </p:nvSpPr>
        <p:spPr>
          <a:xfrm>
            <a:off x="4427640" y="3141720"/>
            <a:ext cx="87444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ина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09" name=""/>
          <p:cNvSpPr/>
          <p:nvPr/>
        </p:nvSpPr>
        <p:spPr>
          <a:xfrm>
            <a:off x="5003640" y="2349360"/>
            <a:ext cx="93672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0" name=""/>
          <p:cNvSpPr txBox="1"/>
          <p:nvPr/>
        </p:nvSpPr>
        <p:spPr>
          <a:xfrm>
            <a:off x="5003640" y="2349360"/>
            <a:ext cx="87480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колай и 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1" name=""/>
          <p:cNvSpPr/>
          <p:nvPr/>
        </p:nvSpPr>
        <p:spPr>
          <a:xfrm>
            <a:off x="6084720" y="321300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2" name=""/>
          <p:cNvSpPr txBox="1"/>
          <p:nvPr/>
        </p:nvSpPr>
        <p:spPr>
          <a:xfrm>
            <a:off x="6075360" y="3213000"/>
            <a:ext cx="60480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урко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3" name=""/>
          <p:cNvSpPr/>
          <p:nvPr/>
        </p:nvSpPr>
        <p:spPr>
          <a:xfrm>
            <a:off x="6154560" y="242100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4" name=""/>
          <p:cNvSpPr txBox="1"/>
          <p:nvPr/>
        </p:nvSpPr>
        <p:spPr>
          <a:xfrm>
            <a:off x="6227640" y="242100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урко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5" name=""/>
          <p:cNvSpPr/>
          <p:nvPr/>
        </p:nvSpPr>
        <p:spPr>
          <a:xfrm>
            <a:off x="5435640" y="306864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6" name=""/>
          <p:cNvSpPr txBox="1"/>
          <p:nvPr/>
        </p:nvSpPr>
        <p:spPr>
          <a:xfrm>
            <a:off x="5508720" y="306864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льг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7" name=""/>
          <p:cNvSpPr/>
          <p:nvPr/>
        </p:nvSpPr>
        <p:spPr>
          <a:xfrm>
            <a:off x="3994200" y="1989000"/>
            <a:ext cx="57636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8" name=""/>
          <p:cNvSpPr txBox="1"/>
          <p:nvPr/>
        </p:nvSpPr>
        <p:spPr>
          <a:xfrm>
            <a:off x="4067280" y="198900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19" name=""/>
          <p:cNvSpPr/>
          <p:nvPr/>
        </p:nvSpPr>
        <p:spPr>
          <a:xfrm>
            <a:off x="3995640" y="105264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0" name=""/>
          <p:cNvSpPr txBox="1"/>
          <p:nvPr/>
        </p:nvSpPr>
        <p:spPr>
          <a:xfrm>
            <a:off x="4068720" y="1052640"/>
            <a:ext cx="432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21" name=""/>
          <p:cNvSpPr/>
          <p:nvPr/>
        </p:nvSpPr>
        <p:spPr>
          <a:xfrm>
            <a:off x="4716360" y="148428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2" name=""/>
          <p:cNvSpPr txBox="1"/>
          <p:nvPr/>
        </p:nvSpPr>
        <p:spPr>
          <a:xfrm>
            <a:off x="4789440" y="148428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ле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23" name=""/>
          <p:cNvSpPr/>
          <p:nvPr/>
        </p:nvSpPr>
        <p:spPr>
          <a:xfrm>
            <a:off x="5148360" y="33336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4" name=""/>
          <p:cNvSpPr/>
          <p:nvPr/>
        </p:nvSpPr>
        <p:spPr>
          <a:xfrm>
            <a:off x="4572000" y="907920"/>
            <a:ext cx="50472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5" name=""/>
          <p:cNvSpPr txBox="1"/>
          <p:nvPr/>
        </p:nvSpPr>
        <p:spPr>
          <a:xfrm>
            <a:off x="4643280" y="907920"/>
            <a:ext cx="3621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мё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26" name=""/>
          <p:cNvSpPr/>
          <p:nvPr/>
        </p:nvSpPr>
        <p:spPr>
          <a:xfrm>
            <a:off x="5148360" y="765000"/>
            <a:ext cx="360360" cy="21600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7" name=""/>
          <p:cNvSpPr txBox="1"/>
          <p:nvPr/>
        </p:nvSpPr>
        <p:spPr>
          <a:xfrm>
            <a:off x="5148360" y="836640"/>
            <a:ext cx="2905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ртём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28" name=""/>
          <p:cNvSpPr/>
          <p:nvPr/>
        </p:nvSpPr>
        <p:spPr>
          <a:xfrm>
            <a:off x="5435640" y="134136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9" name=""/>
          <p:cNvSpPr txBox="1"/>
          <p:nvPr/>
        </p:nvSpPr>
        <p:spPr>
          <a:xfrm>
            <a:off x="5508720" y="134136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рас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30" name=""/>
          <p:cNvSpPr/>
          <p:nvPr/>
        </p:nvSpPr>
        <p:spPr>
          <a:xfrm>
            <a:off x="6084720" y="119700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1" name=""/>
          <p:cNvSpPr txBox="1"/>
          <p:nvPr/>
        </p:nvSpPr>
        <p:spPr>
          <a:xfrm>
            <a:off x="6157800" y="119700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Шах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ато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32" name=""/>
          <p:cNvSpPr/>
          <p:nvPr/>
        </p:nvSpPr>
        <p:spPr>
          <a:xfrm>
            <a:off x="6156360" y="260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3" name=""/>
          <p:cNvSpPr/>
          <p:nvPr/>
        </p:nvSpPr>
        <p:spPr>
          <a:xfrm>
            <a:off x="3059280" y="5805360"/>
            <a:ext cx="72216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4" name=""/>
          <p:cNvSpPr txBox="1"/>
          <p:nvPr/>
        </p:nvSpPr>
        <p:spPr>
          <a:xfrm>
            <a:off x="3132000" y="5805360"/>
            <a:ext cx="576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ерм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35" name=""/>
          <p:cNvSpPr/>
          <p:nvPr/>
        </p:nvSpPr>
        <p:spPr>
          <a:xfrm>
            <a:off x="5364000" y="5589720"/>
            <a:ext cx="7225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6" name=""/>
          <p:cNvSpPr txBox="1"/>
          <p:nvPr/>
        </p:nvSpPr>
        <p:spPr>
          <a:xfrm>
            <a:off x="5437080" y="558972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осквичё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мар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237" name=""/>
          <p:cNvSpPr/>
          <p:nvPr/>
        </p:nvSpPr>
        <p:spPr>
          <a:xfrm>
            <a:off x="1187280" y="4797360"/>
            <a:ext cx="289080" cy="360360"/>
          </a:xfrm>
          <a:prstGeom prst="ellipse">
            <a:avLst/>
          </a:prstGeom>
          <a:blipFill rotWithShape="0">
            <a:blip r:embed="rId63"/>
            <a:srcRect/>
            <a:stretch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38" name=""/>
          <p:cNvGrpSpPr/>
          <p:nvPr/>
        </p:nvGrpSpPr>
        <p:grpSpPr>
          <a:xfrm>
            <a:off x="1403280" y="5084640"/>
            <a:ext cx="215640" cy="144720"/>
            <a:chOff x="1403280" y="5084640"/>
            <a:chExt cx="215640" cy="144720"/>
          </a:xfrm>
        </p:grpSpPr>
        <p:sp>
          <p:nvSpPr>
            <p:cNvPr id="15239" name=""/>
            <p:cNvSpPr/>
            <p:nvPr/>
          </p:nvSpPr>
          <p:spPr>
            <a:xfrm>
              <a:off x="140328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0" name=""/>
            <p:cNvSpPr/>
            <p:nvPr/>
          </p:nvSpPr>
          <p:spPr>
            <a:xfrm>
              <a:off x="146484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41" name=""/>
          <p:cNvSpPr/>
          <p:nvPr/>
        </p:nvSpPr>
        <p:spPr>
          <a:xfrm>
            <a:off x="2627280" y="4869000"/>
            <a:ext cx="289080" cy="36036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2" name=""/>
          <p:cNvSpPr/>
          <p:nvPr/>
        </p:nvSpPr>
        <p:spPr>
          <a:xfrm>
            <a:off x="2482920" y="530064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3" name=""/>
          <p:cNvSpPr txBox="1"/>
          <p:nvPr/>
        </p:nvSpPr>
        <p:spPr>
          <a:xfrm>
            <a:off x="2556000" y="5300640"/>
            <a:ext cx="43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ень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244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5245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6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7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8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49" name=""/>
          <p:cNvGrpSpPr/>
          <p:nvPr/>
        </p:nvGrpSpPr>
        <p:grpSpPr>
          <a:xfrm>
            <a:off x="-1064520" y="5364720"/>
            <a:ext cx="3220200" cy="2844360"/>
            <a:chOff x="-1064520" y="5364720"/>
            <a:chExt cx="3220200" cy="2844360"/>
          </a:xfrm>
        </p:grpSpPr>
        <p:grpSp>
          <p:nvGrpSpPr>
            <p:cNvPr id="15250" name=""/>
            <p:cNvGrpSpPr/>
            <p:nvPr/>
          </p:nvGrpSpPr>
          <p:grpSpPr>
            <a:xfrm>
              <a:off x="-830880" y="5617440"/>
              <a:ext cx="2986560" cy="2591640"/>
              <a:chOff x="-830880" y="5617440"/>
              <a:chExt cx="2986560" cy="2591640"/>
            </a:xfrm>
          </p:grpSpPr>
          <p:sp>
            <p:nvSpPr>
              <p:cNvPr id="15251" name=""/>
              <p:cNvSpPr/>
              <p:nvPr/>
            </p:nvSpPr>
            <p:spPr>
              <a:xfrm rot="2638800">
                <a:off x="896760" y="583848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2" name=""/>
              <p:cNvSpPr/>
              <p:nvPr/>
            </p:nvSpPr>
            <p:spPr>
              <a:xfrm rot="2638800">
                <a:off x="-141480" y="61495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53" name=""/>
            <p:cNvGrpSpPr/>
            <p:nvPr/>
          </p:nvGrpSpPr>
          <p:grpSpPr>
            <a:xfrm>
              <a:off x="-964800" y="5364720"/>
              <a:ext cx="2504520" cy="2196360"/>
              <a:chOff x="-964800" y="5364720"/>
              <a:chExt cx="2504520" cy="2196360"/>
            </a:xfrm>
          </p:grpSpPr>
          <p:sp>
            <p:nvSpPr>
              <p:cNvPr id="15254" name=""/>
              <p:cNvSpPr/>
              <p:nvPr/>
            </p:nvSpPr>
            <p:spPr>
              <a:xfrm rot="2638800">
                <a:off x="494280" y="55731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5" name=""/>
              <p:cNvSpPr/>
              <p:nvPr/>
            </p:nvSpPr>
            <p:spPr>
              <a:xfrm rot="2638800">
                <a:off x="-416880" y="5799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56" name=""/>
            <p:cNvGrpSpPr/>
            <p:nvPr/>
          </p:nvGrpSpPr>
          <p:grpSpPr>
            <a:xfrm>
              <a:off x="-1064520" y="5522040"/>
              <a:ext cx="1783440" cy="2475360"/>
              <a:chOff x="-1064520" y="5522040"/>
              <a:chExt cx="1783440" cy="2475360"/>
            </a:xfrm>
          </p:grpSpPr>
          <p:sp>
            <p:nvSpPr>
              <p:cNvPr id="15257" name=""/>
              <p:cNvSpPr/>
              <p:nvPr/>
            </p:nvSpPr>
            <p:spPr>
              <a:xfrm rot="1215600">
                <a:off x="-156960" y="563508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8" name=""/>
              <p:cNvSpPr/>
              <p:nvPr/>
            </p:nvSpPr>
            <p:spPr>
              <a:xfrm rot="1215600">
                <a:off x="-813600" y="62247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59" name=""/>
            <p:cNvGrpSpPr/>
            <p:nvPr/>
          </p:nvGrpSpPr>
          <p:grpSpPr>
            <a:xfrm>
              <a:off x="-552960" y="5945040"/>
              <a:ext cx="1586880" cy="1976760"/>
              <a:chOff x="-552960" y="5945040"/>
              <a:chExt cx="1586880" cy="1976760"/>
            </a:xfrm>
          </p:grpSpPr>
          <p:sp>
            <p:nvSpPr>
              <p:cNvPr id="15260" name=""/>
              <p:cNvSpPr/>
              <p:nvPr/>
            </p:nvSpPr>
            <p:spPr>
              <a:xfrm rot="2638800">
                <a:off x="192960" y="61452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1" name=""/>
              <p:cNvSpPr/>
              <p:nvPr/>
            </p:nvSpPr>
            <p:spPr>
              <a:xfrm rot="2638800">
                <a:off x="-149400" y="655524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62" name=""/>
          <p:cNvGrpSpPr/>
          <p:nvPr/>
        </p:nvGrpSpPr>
        <p:grpSpPr>
          <a:xfrm>
            <a:off x="7966080" y="5051160"/>
            <a:ext cx="2718360" cy="3318840"/>
            <a:chOff x="7966080" y="5051160"/>
            <a:chExt cx="2718360" cy="3318840"/>
          </a:xfrm>
        </p:grpSpPr>
        <p:grpSp>
          <p:nvGrpSpPr>
            <p:cNvPr id="15263" name=""/>
            <p:cNvGrpSpPr/>
            <p:nvPr/>
          </p:nvGrpSpPr>
          <p:grpSpPr>
            <a:xfrm>
              <a:off x="8262720" y="5051160"/>
              <a:ext cx="2421720" cy="3106440"/>
              <a:chOff x="8262720" y="5051160"/>
              <a:chExt cx="2421720" cy="3106440"/>
            </a:xfrm>
          </p:grpSpPr>
          <p:sp>
            <p:nvSpPr>
              <p:cNvPr id="15264" name=""/>
              <p:cNvSpPr/>
              <p:nvPr/>
            </p:nvSpPr>
            <p:spPr>
              <a:xfrm rot="19135800">
                <a:off x="8469720" y="527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5" name=""/>
              <p:cNvSpPr/>
              <p:nvPr/>
            </p:nvSpPr>
            <p:spPr>
              <a:xfrm rot="19135800">
                <a:off x="9518760" y="6069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66" name=""/>
            <p:cNvGrpSpPr/>
            <p:nvPr/>
          </p:nvGrpSpPr>
          <p:grpSpPr>
            <a:xfrm>
              <a:off x="7966080" y="5635440"/>
              <a:ext cx="2064960" cy="2595240"/>
              <a:chOff x="7966080" y="5635440"/>
              <a:chExt cx="2064960" cy="2595240"/>
            </a:xfrm>
          </p:grpSpPr>
          <p:sp>
            <p:nvSpPr>
              <p:cNvPr id="15267" name=""/>
              <p:cNvSpPr/>
              <p:nvPr/>
            </p:nvSpPr>
            <p:spPr>
              <a:xfrm rot="19135800">
                <a:off x="8103960" y="5840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8" name=""/>
              <p:cNvSpPr/>
              <p:nvPr/>
            </p:nvSpPr>
            <p:spPr>
              <a:xfrm rot="19135800">
                <a:off x="8924040" y="644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69" name=""/>
            <p:cNvGrpSpPr/>
            <p:nvPr/>
          </p:nvGrpSpPr>
          <p:grpSpPr>
            <a:xfrm>
              <a:off x="8045640" y="6435360"/>
              <a:ext cx="2462400" cy="1934640"/>
              <a:chOff x="8045640" y="6435360"/>
              <a:chExt cx="2462400" cy="1934640"/>
            </a:xfrm>
          </p:grpSpPr>
          <p:sp>
            <p:nvSpPr>
              <p:cNvPr id="15270" name=""/>
              <p:cNvSpPr/>
              <p:nvPr/>
            </p:nvSpPr>
            <p:spPr>
              <a:xfrm rot="17713200">
                <a:off x="8139960" y="6585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1" name=""/>
              <p:cNvSpPr/>
              <p:nvPr/>
            </p:nvSpPr>
            <p:spPr>
              <a:xfrm rot="17713200">
                <a:off x="9004680" y="6718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72" name=""/>
            <p:cNvGrpSpPr/>
            <p:nvPr/>
          </p:nvGrpSpPr>
          <p:grpSpPr>
            <a:xfrm>
              <a:off x="8508960" y="6181560"/>
              <a:ext cx="1913760" cy="1673280"/>
              <a:chOff x="8508960" y="6181560"/>
              <a:chExt cx="1913760" cy="1673280"/>
            </a:xfrm>
          </p:grpSpPr>
          <p:sp>
            <p:nvSpPr>
              <p:cNvPr id="15273" name=""/>
              <p:cNvSpPr/>
              <p:nvPr/>
            </p:nvSpPr>
            <p:spPr>
              <a:xfrm rot="19135800">
                <a:off x="8576280" y="6375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4" name=""/>
              <p:cNvSpPr/>
              <p:nvPr/>
            </p:nvSpPr>
            <p:spPr>
              <a:xfrm rot="19135800">
                <a:off x="9506880" y="6474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75" name=""/>
          <p:cNvGrpSpPr/>
          <p:nvPr/>
        </p:nvGrpSpPr>
        <p:grpSpPr>
          <a:xfrm>
            <a:off x="7321680" y="-1711080"/>
            <a:ext cx="3103200" cy="2948040"/>
            <a:chOff x="7321680" y="-1711080"/>
            <a:chExt cx="3103200" cy="2948040"/>
          </a:xfrm>
        </p:grpSpPr>
        <p:grpSp>
          <p:nvGrpSpPr>
            <p:cNvPr id="15276" name=""/>
            <p:cNvGrpSpPr/>
            <p:nvPr/>
          </p:nvGrpSpPr>
          <p:grpSpPr>
            <a:xfrm>
              <a:off x="7321680" y="-1711080"/>
              <a:ext cx="2850840" cy="2738880"/>
              <a:chOff x="7321680" y="-1711080"/>
              <a:chExt cx="2850840" cy="2738880"/>
            </a:xfrm>
          </p:grpSpPr>
          <p:sp>
            <p:nvSpPr>
              <p:cNvPr id="15277" name=""/>
              <p:cNvSpPr/>
              <p:nvPr/>
            </p:nvSpPr>
            <p:spPr>
              <a:xfrm rot="13152000">
                <a:off x="7526880" y="-2127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8" name=""/>
              <p:cNvSpPr/>
              <p:nvPr/>
            </p:nvSpPr>
            <p:spPr>
              <a:xfrm rot="13152000">
                <a:off x="9029160" y="-17967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79" name=""/>
            <p:cNvGrpSpPr/>
            <p:nvPr/>
          </p:nvGrpSpPr>
          <p:grpSpPr>
            <a:xfrm>
              <a:off x="7966080" y="-1071720"/>
              <a:ext cx="2399040" cy="2308680"/>
              <a:chOff x="7966080" y="-1071720"/>
              <a:chExt cx="2399040" cy="2308680"/>
            </a:xfrm>
          </p:grpSpPr>
          <p:sp>
            <p:nvSpPr>
              <p:cNvPr id="15280" name=""/>
              <p:cNvSpPr/>
              <p:nvPr/>
            </p:nvSpPr>
            <p:spPr>
              <a:xfrm rot="13152000">
                <a:off x="8103960" y="2743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1" name=""/>
              <p:cNvSpPr/>
              <p:nvPr/>
            </p:nvSpPr>
            <p:spPr>
              <a:xfrm rot="13152000">
                <a:off x="9275040" y="-1091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82" name=""/>
            <p:cNvGrpSpPr/>
            <p:nvPr/>
          </p:nvGrpSpPr>
          <p:grpSpPr>
            <a:xfrm>
              <a:off x="8800200" y="-1466640"/>
              <a:ext cx="1624680" cy="2471760"/>
              <a:chOff x="8800200" y="-1466640"/>
              <a:chExt cx="1624680" cy="2471760"/>
            </a:xfrm>
          </p:grpSpPr>
          <p:sp>
            <p:nvSpPr>
              <p:cNvPr id="15283" name=""/>
              <p:cNvSpPr/>
              <p:nvPr/>
            </p:nvSpPr>
            <p:spPr>
              <a:xfrm rot="11728800">
                <a:off x="8879760" y="2106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4" name=""/>
              <p:cNvSpPr/>
              <p:nvPr/>
            </p:nvSpPr>
            <p:spPr>
              <a:xfrm rot="11728800">
                <a:off x="9156600" y="-13536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85" name=""/>
            <p:cNvGrpSpPr/>
            <p:nvPr/>
          </p:nvGrpSpPr>
          <p:grpSpPr>
            <a:xfrm>
              <a:off x="8429040" y="-1400040"/>
              <a:ext cx="1492560" cy="2024280"/>
              <a:chOff x="8429040" y="-1400040"/>
              <a:chExt cx="1492560" cy="2024280"/>
            </a:xfrm>
          </p:grpSpPr>
          <p:sp>
            <p:nvSpPr>
              <p:cNvPr id="15286" name=""/>
              <p:cNvSpPr/>
              <p:nvPr/>
            </p:nvSpPr>
            <p:spPr>
              <a:xfrm rot="13152000">
                <a:off x="8498160" y="-61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7" name=""/>
              <p:cNvSpPr/>
              <p:nvPr/>
            </p:nvSpPr>
            <p:spPr>
              <a:xfrm rot="13152000">
                <a:off x="9017280" y="-13878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288" name=""/>
          <p:cNvGrpSpPr/>
          <p:nvPr/>
        </p:nvGrpSpPr>
        <p:grpSpPr>
          <a:xfrm>
            <a:off x="-1648440" y="-1414440"/>
            <a:ext cx="2946600" cy="3104640"/>
            <a:chOff x="-1648440" y="-1414440"/>
            <a:chExt cx="2946600" cy="3104640"/>
          </a:xfrm>
        </p:grpSpPr>
        <p:grpSp>
          <p:nvGrpSpPr>
            <p:cNvPr id="15289" name=""/>
            <p:cNvGrpSpPr/>
            <p:nvPr/>
          </p:nvGrpSpPr>
          <p:grpSpPr>
            <a:xfrm>
              <a:off x="-1648440" y="-1162800"/>
              <a:ext cx="2736720" cy="2853000"/>
              <a:chOff x="-1648440" y="-1162800"/>
              <a:chExt cx="2736720" cy="2853000"/>
            </a:xfrm>
          </p:grpSpPr>
          <p:sp>
            <p:nvSpPr>
              <p:cNvPr id="15290" name=""/>
              <p:cNvSpPr/>
              <p:nvPr/>
            </p:nvSpPr>
            <p:spPr>
              <a:xfrm rot="7755600">
                <a:off x="-165960" y="447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1" name=""/>
              <p:cNvSpPr/>
              <p:nvPr/>
            </p:nvSpPr>
            <p:spPr>
              <a:xfrm rot="7755600">
                <a:off x="-893880" y="-13680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92" name=""/>
            <p:cNvGrpSpPr/>
            <p:nvPr/>
          </p:nvGrpSpPr>
          <p:grpSpPr>
            <a:xfrm>
              <a:off x="-1009080" y="-1354320"/>
              <a:ext cx="2307240" cy="2400840"/>
              <a:chOff x="-1009080" y="-1354320"/>
              <a:chExt cx="2307240" cy="2400840"/>
            </a:xfrm>
          </p:grpSpPr>
          <p:sp>
            <p:nvSpPr>
              <p:cNvPr id="15293" name=""/>
              <p:cNvSpPr/>
              <p:nvPr/>
            </p:nvSpPr>
            <p:spPr>
              <a:xfrm rot="7755600">
                <a:off x="261720" y="730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4" name=""/>
              <p:cNvSpPr/>
              <p:nvPr/>
            </p:nvSpPr>
            <p:spPr>
              <a:xfrm rot="7755600">
                <a:off x="-413640" y="-1461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95" name=""/>
            <p:cNvGrpSpPr/>
            <p:nvPr/>
          </p:nvGrpSpPr>
          <p:grpSpPr>
            <a:xfrm>
              <a:off x="-1404360" y="-1414440"/>
              <a:ext cx="2471760" cy="1626120"/>
              <a:chOff x="-1404360" y="-1414440"/>
              <a:chExt cx="2471760" cy="1626120"/>
            </a:xfrm>
          </p:grpSpPr>
          <p:sp>
            <p:nvSpPr>
              <p:cNvPr id="15296" name=""/>
              <p:cNvSpPr/>
              <p:nvPr/>
            </p:nvSpPr>
            <p:spPr>
              <a:xfrm rot="6332400">
                <a:off x="234720" y="-6091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7" name=""/>
              <p:cNvSpPr/>
              <p:nvPr/>
            </p:nvSpPr>
            <p:spPr>
              <a:xfrm rot="6332400">
                <a:off x="-1006200" y="-149904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98" name=""/>
            <p:cNvGrpSpPr/>
            <p:nvPr/>
          </p:nvGrpSpPr>
          <p:grpSpPr>
            <a:xfrm>
              <a:off x="-1338120" y="-911160"/>
              <a:ext cx="2023920" cy="1493640"/>
              <a:chOff x="-1338120" y="-911160"/>
              <a:chExt cx="2023920" cy="1493640"/>
            </a:xfrm>
          </p:grpSpPr>
          <p:sp>
            <p:nvSpPr>
              <p:cNvPr id="15299" name=""/>
              <p:cNvSpPr/>
              <p:nvPr/>
            </p:nvSpPr>
            <p:spPr>
              <a:xfrm rot="7755600">
                <a:off x="-140760" y="-123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0" name=""/>
              <p:cNvSpPr/>
              <p:nvPr/>
            </p:nvSpPr>
            <p:spPr>
              <a:xfrm rot="7755600">
                <a:off x="-902160" y="-958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301" name=""/>
          <p:cNvSpPr/>
          <p:nvPr/>
        </p:nvSpPr>
        <p:spPr>
          <a:xfrm>
            <a:off x="395280" y="1916280"/>
            <a:ext cx="289080" cy="360360"/>
          </a:xfrm>
          <a:prstGeom prst="ellipse">
            <a:avLst/>
          </a:prstGeom>
          <a:blipFill rotWithShape="0">
            <a:blip r:embed="rId64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2" name=""/>
          <p:cNvSpPr/>
          <p:nvPr/>
        </p:nvSpPr>
        <p:spPr>
          <a:xfrm>
            <a:off x="395280" y="2997360"/>
            <a:ext cx="576360" cy="3632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3" name=""/>
          <p:cNvSpPr txBox="1"/>
          <p:nvPr/>
        </p:nvSpPr>
        <p:spPr>
          <a:xfrm>
            <a:off x="468360" y="3073320"/>
            <a:ext cx="43164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ани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04" name=""/>
          <p:cNvSpPr/>
          <p:nvPr/>
        </p:nvSpPr>
        <p:spPr>
          <a:xfrm>
            <a:off x="324000" y="2276640"/>
            <a:ext cx="501480" cy="269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5" name=""/>
          <p:cNvSpPr txBox="1"/>
          <p:nvPr/>
        </p:nvSpPr>
        <p:spPr>
          <a:xfrm>
            <a:off x="395280" y="2276640"/>
            <a:ext cx="4017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306" name="">
            <a:hlinkClick r:id="rId65" action="ppaction://hlinksldjump"/>
          </p:cNvPr>
          <p:cNvSpPr/>
          <p:nvPr/>
        </p:nvSpPr>
        <p:spPr>
          <a:xfrm>
            <a:off x="7812000" y="5157720"/>
            <a:ext cx="647640" cy="35892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7" name=""/>
          <p:cNvSpPr txBox="1"/>
          <p:nvPr/>
        </p:nvSpPr>
        <p:spPr>
          <a:xfrm>
            <a:off x="7885080" y="5229360"/>
            <a:ext cx="503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08" name="">
            <a:hlinkClick r:id="rId66" action="ppaction://hlinksldjump"/>
          </p:cNvPr>
          <p:cNvSpPr/>
          <p:nvPr/>
        </p:nvSpPr>
        <p:spPr>
          <a:xfrm>
            <a:off x="8388360" y="328464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9" name=""/>
          <p:cNvSpPr txBox="1"/>
          <p:nvPr/>
        </p:nvSpPr>
        <p:spPr>
          <a:xfrm>
            <a:off x="8461440" y="3357720"/>
            <a:ext cx="574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310" name="">
            <a:hlinkClick r:id="rId67" action="ppaction://hlinksldjump"/>
          </p:cNvPr>
          <p:cNvSpPr/>
          <p:nvPr/>
        </p:nvSpPr>
        <p:spPr>
          <a:xfrm>
            <a:off x="8244000" y="407664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1" name=""/>
          <p:cNvSpPr txBox="1"/>
          <p:nvPr/>
        </p:nvSpPr>
        <p:spPr>
          <a:xfrm>
            <a:off x="8317080" y="414972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2" name=""/>
          <p:cNvSpPr/>
          <p:nvPr/>
        </p:nvSpPr>
        <p:spPr>
          <a:xfrm>
            <a:off x="250920" y="4581360"/>
            <a:ext cx="1249200" cy="601920"/>
          </a:xfrm>
          <a:custGeom>
            <a:avLst/>
            <a:gdLst/>
            <a:ahLst/>
            <a:rect l="l" t="t" r="r" b="b"/>
            <a:pathLst>
              <a:path w="787" h="379">
                <a:moveTo>
                  <a:pt x="32" y="341"/>
                </a:moveTo>
                <a:cubicBezTo>
                  <a:pt x="44" y="319"/>
                  <a:pt x="97" y="267"/>
                  <a:pt x="151" y="253"/>
                </a:cubicBezTo>
                <a:cubicBezTo>
                  <a:pt x="205" y="239"/>
                  <a:pt x="299" y="260"/>
                  <a:pt x="352" y="258"/>
                </a:cubicBezTo>
                <a:cubicBezTo>
                  <a:pt x="405" y="256"/>
                  <a:pt x="439" y="255"/>
                  <a:pt x="471" y="238"/>
                </a:cubicBezTo>
                <a:cubicBezTo>
                  <a:pt x="503" y="221"/>
                  <a:pt x="517" y="176"/>
                  <a:pt x="547" y="155"/>
                </a:cubicBezTo>
                <a:cubicBezTo>
                  <a:pt x="577" y="134"/>
                  <a:pt x="613" y="136"/>
                  <a:pt x="652" y="110"/>
                </a:cubicBezTo>
                <a:cubicBezTo>
                  <a:pt x="691" y="84"/>
                  <a:pt x="777" y="0"/>
                  <a:pt x="782" y="1"/>
                </a:cubicBezTo>
                <a:cubicBezTo>
                  <a:pt x="787" y="1"/>
                  <a:pt x="719" y="81"/>
                  <a:pt x="685" y="110"/>
                </a:cubicBezTo>
                <a:cubicBezTo>
                  <a:pt x="651" y="139"/>
                  <a:pt x="605" y="149"/>
                  <a:pt x="575" y="176"/>
                </a:cubicBezTo>
                <a:cubicBezTo>
                  <a:pt x="545" y="203"/>
                  <a:pt x="528" y="254"/>
                  <a:pt x="506" y="273"/>
                </a:cubicBezTo>
                <a:cubicBezTo>
                  <a:pt x="484" y="292"/>
                  <a:pt x="471" y="281"/>
                  <a:pt x="444" y="289"/>
                </a:cubicBezTo>
                <a:cubicBezTo>
                  <a:pt x="417" y="297"/>
                  <a:pt x="389" y="313"/>
                  <a:pt x="346" y="321"/>
                </a:cubicBezTo>
                <a:cubicBezTo>
                  <a:pt x="303" y="329"/>
                  <a:pt x="231" y="326"/>
                  <a:pt x="187" y="335"/>
                </a:cubicBezTo>
                <a:cubicBezTo>
                  <a:pt x="143" y="344"/>
                  <a:pt x="105" y="377"/>
                  <a:pt x="79" y="378"/>
                </a:cubicBezTo>
                <a:cubicBezTo>
                  <a:pt x="53" y="379"/>
                  <a:pt x="0" y="370"/>
                  <a:pt x="32" y="341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3" name=""/>
          <p:cNvSpPr/>
          <p:nvPr/>
        </p:nvSpPr>
        <p:spPr>
          <a:xfrm rot="21189600">
            <a:off x="468000" y="2349000"/>
            <a:ext cx="344520" cy="932040"/>
          </a:xfrm>
          <a:custGeom>
            <a:avLst/>
            <a:gdLst/>
            <a:ahLst/>
            <a:rect l="l" t="t" r="r" b="b"/>
            <a:pathLst>
              <a:path w="217" h="587">
                <a:moveTo>
                  <a:pt x="213" y="553"/>
                </a:moveTo>
                <a:cubicBezTo>
                  <a:pt x="193" y="521"/>
                  <a:pt x="156" y="497"/>
                  <a:pt x="142" y="463"/>
                </a:cubicBezTo>
                <a:cubicBezTo>
                  <a:pt x="128" y="429"/>
                  <a:pt x="134" y="386"/>
                  <a:pt x="128" y="347"/>
                </a:cubicBezTo>
                <a:cubicBezTo>
                  <a:pt x="122" y="308"/>
                  <a:pt x="128" y="287"/>
                  <a:pt x="107" y="229"/>
                </a:cubicBezTo>
                <a:cubicBezTo>
                  <a:pt x="86" y="171"/>
                  <a:pt x="6" y="0"/>
                  <a:pt x="3" y="0"/>
                </a:cubicBezTo>
                <a:cubicBezTo>
                  <a:pt x="0" y="0"/>
                  <a:pt x="70" y="168"/>
                  <a:pt x="86" y="227"/>
                </a:cubicBezTo>
                <a:cubicBezTo>
                  <a:pt x="102" y="286"/>
                  <a:pt x="99" y="323"/>
                  <a:pt x="102" y="352"/>
                </a:cubicBezTo>
                <a:cubicBezTo>
                  <a:pt x="106" y="381"/>
                  <a:pt x="102" y="371"/>
                  <a:pt x="106" y="401"/>
                </a:cubicBezTo>
                <a:cubicBezTo>
                  <a:pt x="110" y="431"/>
                  <a:pt x="112" y="504"/>
                  <a:pt x="128" y="534"/>
                </a:cubicBezTo>
                <a:cubicBezTo>
                  <a:pt x="144" y="564"/>
                  <a:pt x="189" y="581"/>
                  <a:pt x="203" y="584"/>
                </a:cubicBezTo>
                <a:cubicBezTo>
                  <a:pt x="217" y="587"/>
                  <a:pt x="210" y="559"/>
                  <a:pt x="213" y="553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120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4" name=""/>
          <p:cNvSpPr/>
          <p:nvPr/>
        </p:nvSpPr>
        <p:spPr>
          <a:xfrm>
            <a:off x="-36360" y="3233880"/>
            <a:ext cx="806400" cy="1247760"/>
          </a:xfrm>
          <a:custGeom>
            <a:avLst/>
            <a:gdLst/>
            <a:ahLst/>
            <a:rect l="l" t="t" r="r" b="b"/>
            <a:pathLst>
              <a:path w="508" h="786">
                <a:moveTo>
                  <a:pt x="9" y="743"/>
                </a:moveTo>
                <a:cubicBezTo>
                  <a:pt x="3" y="719"/>
                  <a:pt x="14" y="645"/>
                  <a:pt x="58" y="600"/>
                </a:cubicBezTo>
                <a:cubicBezTo>
                  <a:pt x="102" y="555"/>
                  <a:pt x="216" y="511"/>
                  <a:pt x="273" y="475"/>
                </a:cubicBezTo>
                <a:cubicBezTo>
                  <a:pt x="330" y="439"/>
                  <a:pt x="369" y="418"/>
                  <a:pt x="398" y="385"/>
                </a:cubicBezTo>
                <a:cubicBezTo>
                  <a:pt x="427" y="352"/>
                  <a:pt x="436" y="310"/>
                  <a:pt x="446" y="274"/>
                </a:cubicBezTo>
                <a:cubicBezTo>
                  <a:pt x="456" y="238"/>
                  <a:pt x="451" y="215"/>
                  <a:pt x="460" y="170"/>
                </a:cubicBezTo>
                <a:cubicBezTo>
                  <a:pt x="469" y="125"/>
                  <a:pt x="496" y="6"/>
                  <a:pt x="502" y="3"/>
                </a:cubicBezTo>
                <a:cubicBezTo>
                  <a:pt x="508" y="0"/>
                  <a:pt x="501" y="104"/>
                  <a:pt x="495" y="149"/>
                </a:cubicBezTo>
                <a:cubicBezTo>
                  <a:pt x="489" y="194"/>
                  <a:pt x="473" y="245"/>
                  <a:pt x="467" y="274"/>
                </a:cubicBezTo>
                <a:cubicBezTo>
                  <a:pt x="461" y="303"/>
                  <a:pt x="471" y="295"/>
                  <a:pt x="460" y="323"/>
                </a:cubicBezTo>
                <a:cubicBezTo>
                  <a:pt x="449" y="351"/>
                  <a:pt x="441" y="389"/>
                  <a:pt x="398" y="440"/>
                </a:cubicBezTo>
                <a:cubicBezTo>
                  <a:pt x="355" y="491"/>
                  <a:pt x="242" y="573"/>
                  <a:pt x="203" y="628"/>
                </a:cubicBezTo>
                <a:cubicBezTo>
                  <a:pt x="164" y="683"/>
                  <a:pt x="181" y="748"/>
                  <a:pt x="162" y="767"/>
                </a:cubicBezTo>
                <a:cubicBezTo>
                  <a:pt x="143" y="786"/>
                  <a:pt x="116" y="746"/>
                  <a:pt x="91" y="742"/>
                </a:cubicBezTo>
                <a:cubicBezTo>
                  <a:pt x="66" y="738"/>
                  <a:pt x="0" y="786"/>
                  <a:pt x="9" y="743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5" name=""/>
          <p:cNvSpPr/>
          <p:nvPr/>
        </p:nvSpPr>
        <p:spPr>
          <a:xfrm>
            <a:off x="425520" y="1035000"/>
            <a:ext cx="7280280" cy="5653080"/>
          </a:xfrm>
          <a:custGeom>
            <a:avLst/>
            <a:gdLst/>
            <a:ahLst/>
            <a:rect l="l" t="t" r="r" b="b"/>
            <a:pathLst>
              <a:path w="4586" h="3561">
                <a:moveTo>
                  <a:pt x="3375" y="2325"/>
                </a:moveTo>
                <a:cubicBezTo>
                  <a:pt x="3320" y="2338"/>
                  <a:pt x="3159" y="2343"/>
                  <a:pt x="3035" y="2401"/>
                </a:cubicBezTo>
                <a:cubicBezTo>
                  <a:pt x="2911" y="2459"/>
                  <a:pt x="2695" y="2606"/>
                  <a:pt x="2633" y="2672"/>
                </a:cubicBezTo>
                <a:cubicBezTo>
                  <a:pt x="2571" y="2738"/>
                  <a:pt x="2633" y="2802"/>
                  <a:pt x="2661" y="2797"/>
                </a:cubicBezTo>
                <a:cubicBezTo>
                  <a:pt x="2689" y="2792"/>
                  <a:pt x="2682" y="2681"/>
                  <a:pt x="2799" y="2644"/>
                </a:cubicBezTo>
                <a:cubicBezTo>
                  <a:pt x="2916" y="2607"/>
                  <a:pt x="3219" y="2563"/>
                  <a:pt x="3361" y="2575"/>
                </a:cubicBezTo>
                <a:cubicBezTo>
                  <a:pt x="3503" y="2587"/>
                  <a:pt x="3535" y="2727"/>
                  <a:pt x="3653" y="2714"/>
                </a:cubicBezTo>
                <a:cubicBezTo>
                  <a:pt x="3771" y="2701"/>
                  <a:pt x="3951" y="2520"/>
                  <a:pt x="4069" y="2499"/>
                </a:cubicBezTo>
                <a:cubicBezTo>
                  <a:pt x="4187" y="2478"/>
                  <a:pt x="4275" y="2605"/>
                  <a:pt x="4361" y="2589"/>
                </a:cubicBezTo>
                <a:cubicBezTo>
                  <a:pt x="4447" y="2573"/>
                  <a:pt x="4586" y="2396"/>
                  <a:pt x="4583" y="2401"/>
                </a:cubicBezTo>
                <a:cubicBezTo>
                  <a:pt x="4580" y="2406"/>
                  <a:pt x="4427" y="2593"/>
                  <a:pt x="4340" y="2617"/>
                </a:cubicBezTo>
                <a:cubicBezTo>
                  <a:pt x="4253" y="2641"/>
                  <a:pt x="4174" y="2517"/>
                  <a:pt x="4062" y="2547"/>
                </a:cubicBezTo>
                <a:cubicBezTo>
                  <a:pt x="3950" y="2577"/>
                  <a:pt x="3787" y="2776"/>
                  <a:pt x="3667" y="2797"/>
                </a:cubicBezTo>
                <a:cubicBezTo>
                  <a:pt x="3547" y="2818"/>
                  <a:pt x="3437" y="2687"/>
                  <a:pt x="3341" y="2672"/>
                </a:cubicBezTo>
                <a:cubicBezTo>
                  <a:pt x="3245" y="2657"/>
                  <a:pt x="3172" y="2688"/>
                  <a:pt x="3091" y="2707"/>
                </a:cubicBezTo>
                <a:cubicBezTo>
                  <a:pt x="3010" y="2726"/>
                  <a:pt x="2908" y="2746"/>
                  <a:pt x="2855" y="2783"/>
                </a:cubicBezTo>
                <a:cubicBezTo>
                  <a:pt x="2802" y="2820"/>
                  <a:pt x="2787" y="2892"/>
                  <a:pt x="2772" y="2929"/>
                </a:cubicBezTo>
                <a:cubicBezTo>
                  <a:pt x="2757" y="2966"/>
                  <a:pt x="2766" y="2983"/>
                  <a:pt x="2765" y="3005"/>
                </a:cubicBezTo>
                <a:cubicBezTo>
                  <a:pt x="2764" y="3027"/>
                  <a:pt x="2738" y="3024"/>
                  <a:pt x="2769" y="3059"/>
                </a:cubicBezTo>
                <a:cubicBezTo>
                  <a:pt x="2800" y="3094"/>
                  <a:pt x="2860" y="3142"/>
                  <a:pt x="2951" y="3218"/>
                </a:cubicBezTo>
                <a:cubicBezTo>
                  <a:pt x="3042" y="3294"/>
                  <a:pt x="3288" y="3481"/>
                  <a:pt x="3315" y="3512"/>
                </a:cubicBezTo>
                <a:cubicBezTo>
                  <a:pt x="3342" y="3543"/>
                  <a:pt x="3178" y="3435"/>
                  <a:pt x="3115" y="3406"/>
                </a:cubicBezTo>
                <a:cubicBezTo>
                  <a:pt x="3052" y="3377"/>
                  <a:pt x="2984" y="3337"/>
                  <a:pt x="2939" y="3335"/>
                </a:cubicBezTo>
                <a:cubicBezTo>
                  <a:pt x="2894" y="3333"/>
                  <a:pt x="2856" y="3360"/>
                  <a:pt x="2845" y="3394"/>
                </a:cubicBezTo>
                <a:cubicBezTo>
                  <a:pt x="2834" y="3428"/>
                  <a:pt x="2906" y="3544"/>
                  <a:pt x="2874" y="3541"/>
                </a:cubicBezTo>
                <a:cubicBezTo>
                  <a:pt x="2842" y="3538"/>
                  <a:pt x="2736" y="3373"/>
                  <a:pt x="2651" y="3376"/>
                </a:cubicBezTo>
                <a:cubicBezTo>
                  <a:pt x="2566" y="3379"/>
                  <a:pt x="2413" y="3557"/>
                  <a:pt x="2363" y="3559"/>
                </a:cubicBezTo>
                <a:cubicBezTo>
                  <a:pt x="2313" y="3561"/>
                  <a:pt x="2371" y="3413"/>
                  <a:pt x="2351" y="3388"/>
                </a:cubicBezTo>
                <a:cubicBezTo>
                  <a:pt x="2331" y="3363"/>
                  <a:pt x="2308" y="3388"/>
                  <a:pt x="2240" y="3406"/>
                </a:cubicBezTo>
                <a:cubicBezTo>
                  <a:pt x="2172" y="3424"/>
                  <a:pt x="1932" y="3532"/>
                  <a:pt x="1940" y="3494"/>
                </a:cubicBezTo>
                <a:cubicBezTo>
                  <a:pt x="1948" y="3456"/>
                  <a:pt x="2215" y="3271"/>
                  <a:pt x="2286" y="3179"/>
                </a:cubicBezTo>
                <a:cubicBezTo>
                  <a:pt x="2357" y="3087"/>
                  <a:pt x="2394" y="3017"/>
                  <a:pt x="2369" y="2943"/>
                </a:cubicBezTo>
                <a:cubicBezTo>
                  <a:pt x="2344" y="2869"/>
                  <a:pt x="2206" y="2789"/>
                  <a:pt x="2133" y="2735"/>
                </a:cubicBezTo>
                <a:cubicBezTo>
                  <a:pt x="2060" y="2681"/>
                  <a:pt x="2015" y="2634"/>
                  <a:pt x="1932" y="2617"/>
                </a:cubicBezTo>
                <a:cubicBezTo>
                  <a:pt x="1849" y="2600"/>
                  <a:pt x="1732" y="2653"/>
                  <a:pt x="1633" y="2631"/>
                </a:cubicBezTo>
                <a:cubicBezTo>
                  <a:pt x="1534" y="2609"/>
                  <a:pt x="1446" y="2524"/>
                  <a:pt x="1335" y="2485"/>
                </a:cubicBezTo>
                <a:cubicBezTo>
                  <a:pt x="1224" y="2446"/>
                  <a:pt x="1056" y="2425"/>
                  <a:pt x="967" y="2395"/>
                </a:cubicBezTo>
                <a:cubicBezTo>
                  <a:pt x="878" y="2365"/>
                  <a:pt x="876" y="2335"/>
                  <a:pt x="801" y="2304"/>
                </a:cubicBezTo>
                <a:cubicBezTo>
                  <a:pt x="726" y="2273"/>
                  <a:pt x="597" y="2243"/>
                  <a:pt x="516" y="2207"/>
                </a:cubicBezTo>
                <a:cubicBezTo>
                  <a:pt x="435" y="2171"/>
                  <a:pt x="364" y="2142"/>
                  <a:pt x="315" y="2089"/>
                </a:cubicBezTo>
                <a:cubicBezTo>
                  <a:pt x="266" y="2036"/>
                  <a:pt x="206" y="1975"/>
                  <a:pt x="225" y="1888"/>
                </a:cubicBezTo>
                <a:cubicBezTo>
                  <a:pt x="244" y="1801"/>
                  <a:pt x="404" y="1638"/>
                  <a:pt x="426" y="1569"/>
                </a:cubicBezTo>
                <a:cubicBezTo>
                  <a:pt x="448" y="1500"/>
                  <a:pt x="378" y="1514"/>
                  <a:pt x="357" y="1472"/>
                </a:cubicBezTo>
                <a:cubicBezTo>
                  <a:pt x="336" y="1430"/>
                  <a:pt x="319" y="1359"/>
                  <a:pt x="301" y="1319"/>
                </a:cubicBezTo>
                <a:cubicBezTo>
                  <a:pt x="283" y="1279"/>
                  <a:pt x="260" y="1260"/>
                  <a:pt x="246" y="1229"/>
                </a:cubicBezTo>
                <a:cubicBezTo>
                  <a:pt x="232" y="1198"/>
                  <a:pt x="233" y="1167"/>
                  <a:pt x="218" y="1132"/>
                </a:cubicBezTo>
                <a:cubicBezTo>
                  <a:pt x="203" y="1097"/>
                  <a:pt x="189" y="1075"/>
                  <a:pt x="155" y="1020"/>
                </a:cubicBezTo>
                <a:cubicBezTo>
                  <a:pt x="121" y="965"/>
                  <a:pt x="34" y="877"/>
                  <a:pt x="17" y="805"/>
                </a:cubicBezTo>
                <a:cubicBezTo>
                  <a:pt x="0" y="733"/>
                  <a:pt x="48" y="590"/>
                  <a:pt x="51" y="590"/>
                </a:cubicBezTo>
                <a:cubicBezTo>
                  <a:pt x="54" y="590"/>
                  <a:pt x="21" y="741"/>
                  <a:pt x="37" y="805"/>
                </a:cubicBezTo>
                <a:cubicBezTo>
                  <a:pt x="53" y="869"/>
                  <a:pt x="113" y="919"/>
                  <a:pt x="148" y="972"/>
                </a:cubicBezTo>
                <a:cubicBezTo>
                  <a:pt x="183" y="1025"/>
                  <a:pt x="225" y="1083"/>
                  <a:pt x="246" y="1125"/>
                </a:cubicBezTo>
                <a:cubicBezTo>
                  <a:pt x="267" y="1167"/>
                  <a:pt x="260" y="1196"/>
                  <a:pt x="273" y="1222"/>
                </a:cubicBezTo>
                <a:cubicBezTo>
                  <a:pt x="286" y="1248"/>
                  <a:pt x="306" y="1252"/>
                  <a:pt x="322" y="1284"/>
                </a:cubicBezTo>
                <a:cubicBezTo>
                  <a:pt x="338" y="1316"/>
                  <a:pt x="361" y="1423"/>
                  <a:pt x="370" y="1416"/>
                </a:cubicBezTo>
                <a:cubicBezTo>
                  <a:pt x="379" y="1409"/>
                  <a:pt x="383" y="1308"/>
                  <a:pt x="377" y="1243"/>
                </a:cubicBezTo>
                <a:cubicBezTo>
                  <a:pt x="371" y="1178"/>
                  <a:pt x="341" y="1087"/>
                  <a:pt x="336" y="1027"/>
                </a:cubicBezTo>
                <a:cubicBezTo>
                  <a:pt x="331" y="967"/>
                  <a:pt x="342" y="943"/>
                  <a:pt x="344" y="884"/>
                </a:cubicBezTo>
                <a:cubicBezTo>
                  <a:pt x="346" y="825"/>
                  <a:pt x="352" y="755"/>
                  <a:pt x="350" y="674"/>
                </a:cubicBezTo>
                <a:cubicBezTo>
                  <a:pt x="348" y="593"/>
                  <a:pt x="328" y="377"/>
                  <a:pt x="332" y="398"/>
                </a:cubicBezTo>
                <a:cubicBezTo>
                  <a:pt x="336" y="419"/>
                  <a:pt x="369" y="692"/>
                  <a:pt x="374" y="800"/>
                </a:cubicBezTo>
                <a:cubicBezTo>
                  <a:pt x="379" y="908"/>
                  <a:pt x="360" y="984"/>
                  <a:pt x="364" y="1048"/>
                </a:cubicBezTo>
                <a:cubicBezTo>
                  <a:pt x="368" y="1112"/>
                  <a:pt x="390" y="1138"/>
                  <a:pt x="398" y="1187"/>
                </a:cubicBezTo>
                <a:cubicBezTo>
                  <a:pt x="406" y="1236"/>
                  <a:pt x="397" y="1278"/>
                  <a:pt x="412" y="1340"/>
                </a:cubicBezTo>
                <a:cubicBezTo>
                  <a:pt x="427" y="1402"/>
                  <a:pt x="509" y="1465"/>
                  <a:pt x="488" y="1562"/>
                </a:cubicBezTo>
                <a:cubicBezTo>
                  <a:pt x="467" y="1659"/>
                  <a:pt x="286" y="1831"/>
                  <a:pt x="287" y="1923"/>
                </a:cubicBezTo>
                <a:cubicBezTo>
                  <a:pt x="288" y="2015"/>
                  <a:pt x="456" y="2111"/>
                  <a:pt x="495" y="2117"/>
                </a:cubicBezTo>
                <a:cubicBezTo>
                  <a:pt x="534" y="2123"/>
                  <a:pt x="477" y="2033"/>
                  <a:pt x="523" y="1957"/>
                </a:cubicBezTo>
                <a:cubicBezTo>
                  <a:pt x="569" y="1881"/>
                  <a:pt x="715" y="1758"/>
                  <a:pt x="773" y="1659"/>
                </a:cubicBezTo>
                <a:cubicBezTo>
                  <a:pt x="831" y="1560"/>
                  <a:pt x="861" y="1448"/>
                  <a:pt x="870" y="1361"/>
                </a:cubicBezTo>
                <a:cubicBezTo>
                  <a:pt x="879" y="1274"/>
                  <a:pt x="843" y="1213"/>
                  <a:pt x="828" y="1138"/>
                </a:cubicBezTo>
                <a:cubicBezTo>
                  <a:pt x="813" y="1063"/>
                  <a:pt x="813" y="1083"/>
                  <a:pt x="780" y="909"/>
                </a:cubicBezTo>
                <a:cubicBezTo>
                  <a:pt x="747" y="735"/>
                  <a:pt x="642" y="182"/>
                  <a:pt x="627" y="91"/>
                </a:cubicBezTo>
                <a:cubicBezTo>
                  <a:pt x="612" y="0"/>
                  <a:pt x="655" y="204"/>
                  <a:pt x="690" y="361"/>
                </a:cubicBezTo>
                <a:cubicBezTo>
                  <a:pt x="725" y="518"/>
                  <a:pt x="798" y="872"/>
                  <a:pt x="835" y="1034"/>
                </a:cubicBezTo>
                <a:cubicBezTo>
                  <a:pt x="872" y="1196"/>
                  <a:pt x="914" y="1225"/>
                  <a:pt x="912" y="1333"/>
                </a:cubicBezTo>
                <a:cubicBezTo>
                  <a:pt x="910" y="1441"/>
                  <a:pt x="876" y="1577"/>
                  <a:pt x="822" y="1680"/>
                </a:cubicBezTo>
                <a:cubicBezTo>
                  <a:pt x="768" y="1783"/>
                  <a:pt x="625" y="1885"/>
                  <a:pt x="586" y="1950"/>
                </a:cubicBezTo>
                <a:cubicBezTo>
                  <a:pt x="547" y="2015"/>
                  <a:pt x="557" y="2072"/>
                  <a:pt x="586" y="2068"/>
                </a:cubicBezTo>
                <a:cubicBezTo>
                  <a:pt x="615" y="2064"/>
                  <a:pt x="692" y="1953"/>
                  <a:pt x="759" y="1923"/>
                </a:cubicBezTo>
                <a:cubicBezTo>
                  <a:pt x="826" y="1893"/>
                  <a:pt x="915" y="1915"/>
                  <a:pt x="988" y="1888"/>
                </a:cubicBezTo>
                <a:cubicBezTo>
                  <a:pt x="1061" y="1861"/>
                  <a:pt x="1143" y="1831"/>
                  <a:pt x="1196" y="1763"/>
                </a:cubicBezTo>
                <a:cubicBezTo>
                  <a:pt x="1249" y="1695"/>
                  <a:pt x="1300" y="1567"/>
                  <a:pt x="1307" y="1479"/>
                </a:cubicBezTo>
                <a:cubicBezTo>
                  <a:pt x="1314" y="1391"/>
                  <a:pt x="1263" y="1302"/>
                  <a:pt x="1238" y="1236"/>
                </a:cubicBezTo>
                <a:cubicBezTo>
                  <a:pt x="1213" y="1170"/>
                  <a:pt x="1171" y="1141"/>
                  <a:pt x="1155" y="1083"/>
                </a:cubicBezTo>
                <a:cubicBezTo>
                  <a:pt x="1139" y="1025"/>
                  <a:pt x="1139" y="891"/>
                  <a:pt x="1141" y="889"/>
                </a:cubicBezTo>
                <a:cubicBezTo>
                  <a:pt x="1143" y="887"/>
                  <a:pt x="1149" y="1012"/>
                  <a:pt x="1169" y="1069"/>
                </a:cubicBezTo>
                <a:cubicBezTo>
                  <a:pt x="1189" y="1126"/>
                  <a:pt x="1232" y="1158"/>
                  <a:pt x="1259" y="1229"/>
                </a:cubicBezTo>
                <a:cubicBezTo>
                  <a:pt x="1286" y="1300"/>
                  <a:pt x="1332" y="1405"/>
                  <a:pt x="1328" y="1492"/>
                </a:cubicBezTo>
                <a:cubicBezTo>
                  <a:pt x="1324" y="1579"/>
                  <a:pt x="1280" y="1677"/>
                  <a:pt x="1238" y="1749"/>
                </a:cubicBezTo>
                <a:cubicBezTo>
                  <a:pt x="1196" y="1821"/>
                  <a:pt x="1155" y="1884"/>
                  <a:pt x="1078" y="1923"/>
                </a:cubicBezTo>
                <a:cubicBezTo>
                  <a:pt x="1001" y="1962"/>
                  <a:pt x="842" y="1949"/>
                  <a:pt x="773" y="1985"/>
                </a:cubicBezTo>
                <a:cubicBezTo>
                  <a:pt x="704" y="2021"/>
                  <a:pt x="654" y="2103"/>
                  <a:pt x="662" y="2138"/>
                </a:cubicBezTo>
                <a:cubicBezTo>
                  <a:pt x="670" y="2173"/>
                  <a:pt x="768" y="2170"/>
                  <a:pt x="822" y="2193"/>
                </a:cubicBezTo>
                <a:cubicBezTo>
                  <a:pt x="876" y="2216"/>
                  <a:pt x="926" y="2255"/>
                  <a:pt x="988" y="2277"/>
                </a:cubicBezTo>
                <a:cubicBezTo>
                  <a:pt x="1050" y="2299"/>
                  <a:pt x="1143" y="2321"/>
                  <a:pt x="1196" y="2325"/>
                </a:cubicBezTo>
                <a:cubicBezTo>
                  <a:pt x="1249" y="2329"/>
                  <a:pt x="1271" y="2321"/>
                  <a:pt x="1307" y="2304"/>
                </a:cubicBezTo>
                <a:cubicBezTo>
                  <a:pt x="1343" y="2287"/>
                  <a:pt x="1381" y="2257"/>
                  <a:pt x="1411" y="2221"/>
                </a:cubicBezTo>
                <a:cubicBezTo>
                  <a:pt x="1441" y="2185"/>
                  <a:pt x="1435" y="2140"/>
                  <a:pt x="1488" y="2089"/>
                </a:cubicBezTo>
                <a:cubicBezTo>
                  <a:pt x="1541" y="2038"/>
                  <a:pt x="1699" y="2004"/>
                  <a:pt x="1731" y="1916"/>
                </a:cubicBezTo>
                <a:cubicBezTo>
                  <a:pt x="1763" y="1828"/>
                  <a:pt x="1684" y="1664"/>
                  <a:pt x="1682" y="1562"/>
                </a:cubicBezTo>
                <a:cubicBezTo>
                  <a:pt x="1680" y="1460"/>
                  <a:pt x="1702" y="1406"/>
                  <a:pt x="1717" y="1305"/>
                </a:cubicBezTo>
                <a:cubicBezTo>
                  <a:pt x="1732" y="1204"/>
                  <a:pt x="1779" y="1078"/>
                  <a:pt x="1772" y="958"/>
                </a:cubicBezTo>
                <a:cubicBezTo>
                  <a:pt x="1765" y="838"/>
                  <a:pt x="1672" y="575"/>
                  <a:pt x="1675" y="583"/>
                </a:cubicBezTo>
                <a:cubicBezTo>
                  <a:pt x="1678" y="591"/>
                  <a:pt x="1786" y="850"/>
                  <a:pt x="1793" y="1007"/>
                </a:cubicBezTo>
                <a:cubicBezTo>
                  <a:pt x="1800" y="1164"/>
                  <a:pt x="1716" y="1371"/>
                  <a:pt x="1717" y="1527"/>
                </a:cubicBezTo>
                <a:cubicBezTo>
                  <a:pt x="1718" y="1683"/>
                  <a:pt x="1832" y="1838"/>
                  <a:pt x="1800" y="1943"/>
                </a:cubicBezTo>
                <a:cubicBezTo>
                  <a:pt x="1768" y="2048"/>
                  <a:pt x="1580" y="2088"/>
                  <a:pt x="1522" y="2159"/>
                </a:cubicBezTo>
                <a:cubicBezTo>
                  <a:pt x="1464" y="2230"/>
                  <a:pt x="1417" y="2316"/>
                  <a:pt x="1453" y="2367"/>
                </a:cubicBezTo>
                <a:cubicBezTo>
                  <a:pt x="1489" y="2418"/>
                  <a:pt x="1652" y="2451"/>
                  <a:pt x="1738" y="2464"/>
                </a:cubicBezTo>
                <a:cubicBezTo>
                  <a:pt x="1824" y="2477"/>
                  <a:pt x="1882" y="2436"/>
                  <a:pt x="1967" y="2443"/>
                </a:cubicBezTo>
                <a:cubicBezTo>
                  <a:pt x="2052" y="2450"/>
                  <a:pt x="2189" y="2513"/>
                  <a:pt x="2251" y="2506"/>
                </a:cubicBezTo>
                <a:cubicBezTo>
                  <a:pt x="2313" y="2499"/>
                  <a:pt x="2334" y="2457"/>
                  <a:pt x="2341" y="2401"/>
                </a:cubicBezTo>
                <a:cubicBezTo>
                  <a:pt x="2348" y="2345"/>
                  <a:pt x="2296" y="2247"/>
                  <a:pt x="2293" y="2172"/>
                </a:cubicBezTo>
                <a:cubicBezTo>
                  <a:pt x="2290" y="2097"/>
                  <a:pt x="2326" y="2012"/>
                  <a:pt x="2321" y="1950"/>
                </a:cubicBezTo>
                <a:cubicBezTo>
                  <a:pt x="2316" y="1888"/>
                  <a:pt x="2282" y="1844"/>
                  <a:pt x="2265" y="1798"/>
                </a:cubicBezTo>
                <a:cubicBezTo>
                  <a:pt x="2248" y="1752"/>
                  <a:pt x="2241" y="1718"/>
                  <a:pt x="2216" y="1673"/>
                </a:cubicBezTo>
                <a:cubicBezTo>
                  <a:pt x="2191" y="1628"/>
                  <a:pt x="2137" y="1572"/>
                  <a:pt x="2112" y="1527"/>
                </a:cubicBezTo>
                <a:cubicBezTo>
                  <a:pt x="2087" y="1482"/>
                  <a:pt x="2071" y="1446"/>
                  <a:pt x="2064" y="1402"/>
                </a:cubicBezTo>
                <a:cubicBezTo>
                  <a:pt x="2057" y="1358"/>
                  <a:pt x="2068" y="1313"/>
                  <a:pt x="2071" y="1263"/>
                </a:cubicBezTo>
                <a:cubicBezTo>
                  <a:pt x="2074" y="1213"/>
                  <a:pt x="2070" y="1152"/>
                  <a:pt x="2085" y="1104"/>
                </a:cubicBezTo>
                <a:cubicBezTo>
                  <a:pt x="2100" y="1056"/>
                  <a:pt x="2159" y="1041"/>
                  <a:pt x="2161" y="972"/>
                </a:cubicBezTo>
                <a:cubicBezTo>
                  <a:pt x="2163" y="903"/>
                  <a:pt x="2118" y="756"/>
                  <a:pt x="2098" y="687"/>
                </a:cubicBezTo>
                <a:cubicBezTo>
                  <a:pt x="2078" y="618"/>
                  <a:pt x="2040" y="562"/>
                  <a:pt x="2042" y="560"/>
                </a:cubicBezTo>
                <a:cubicBezTo>
                  <a:pt x="2044" y="558"/>
                  <a:pt x="2084" y="603"/>
                  <a:pt x="2108" y="674"/>
                </a:cubicBezTo>
                <a:cubicBezTo>
                  <a:pt x="2132" y="745"/>
                  <a:pt x="2187" y="910"/>
                  <a:pt x="2189" y="986"/>
                </a:cubicBezTo>
                <a:cubicBezTo>
                  <a:pt x="2191" y="1062"/>
                  <a:pt x="2130" y="1078"/>
                  <a:pt x="2119" y="1132"/>
                </a:cubicBezTo>
                <a:cubicBezTo>
                  <a:pt x="2108" y="1186"/>
                  <a:pt x="2124" y="1262"/>
                  <a:pt x="2126" y="1312"/>
                </a:cubicBezTo>
                <a:cubicBezTo>
                  <a:pt x="2128" y="1362"/>
                  <a:pt x="2121" y="1395"/>
                  <a:pt x="2133" y="1430"/>
                </a:cubicBezTo>
                <a:cubicBezTo>
                  <a:pt x="2145" y="1465"/>
                  <a:pt x="2176" y="1505"/>
                  <a:pt x="2196" y="1520"/>
                </a:cubicBezTo>
                <a:cubicBezTo>
                  <a:pt x="2216" y="1535"/>
                  <a:pt x="2223" y="1570"/>
                  <a:pt x="2251" y="1520"/>
                </a:cubicBezTo>
                <a:cubicBezTo>
                  <a:pt x="2279" y="1470"/>
                  <a:pt x="2308" y="1292"/>
                  <a:pt x="2362" y="1222"/>
                </a:cubicBezTo>
                <a:cubicBezTo>
                  <a:pt x="2416" y="1152"/>
                  <a:pt x="2515" y="1147"/>
                  <a:pt x="2577" y="1097"/>
                </a:cubicBezTo>
                <a:cubicBezTo>
                  <a:pt x="2639" y="1047"/>
                  <a:pt x="2695" y="982"/>
                  <a:pt x="2737" y="923"/>
                </a:cubicBezTo>
                <a:cubicBezTo>
                  <a:pt x="2779" y="864"/>
                  <a:pt x="2810" y="817"/>
                  <a:pt x="2827" y="743"/>
                </a:cubicBezTo>
                <a:cubicBezTo>
                  <a:pt x="2844" y="669"/>
                  <a:pt x="2836" y="497"/>
                  <a:pt x="2841" y="479"/>
                </a:cubicBezTo>
                <a:cubicBezTo>
                  <a:pt x="2846" y="461"/>
                  <a:pt x="2856" y="575"/>
                  <a:pt x="2855" y="632"/>
                </a:cubicBezTo>
                <a:cubicBezTo>
                  <a:pt x="2854" y="689"/>
                  <a:pt x="2848" y="767"/>
                  <a:pt x="2834" y="819"/>
                </a:cubicBezTo>
                <a:cubicBezTo>
                  <a:pt x="2820" y="871"/>
                  <a:pt x="2794" y="905"/>
                  <a:pt x="2772" y="944"/>
                </a:cubicBezTo>
                <a:cubicBezTo>
                  <a:pt x="2750" y="983"/>
                  <a:pt x="2729" y="1020"/>
                  <a:pt x="2702" y="1055"/>
                </a:cubicBezTo>
                <a:cubicBezTo>
                  <a:pt x="2675" y="1090"/>
                  <a:pt x="2659" y="1116"/>
                  <a:pt x="2612" y="1152"/>
                </a:cubicBezTo>
                <a:cubicBezTo>
                  <a:pt x="2565" y="1188"/>
                  <a:pt x="2461" y="1213"/>
                  <a:pt x="2418" y="1270"/>
                </a:cubicBezTo>
                <a:cubicBezTo>
                  <a:pt x="2375" y="1327"/>
                  <a:pt x="2357" y="1413"/>
                  <a:pt x="2355" y="1492"/>
                </a:cubicBezTo>
                <a:cubicBezTo>
                  <a:pt x="2353" y="1571"/>
                  <a:pt x="2381" y="1663"/>
                  <a:pt x="2404" y="1742"/>
                </a:cubicBezTo>
                <a:cubicBezTo>
                  <a:pt x="2427" y="1821"/>
                  <a:pt x="2459" y="1932"/>
                  <a:pt x="2494" y="1964"/>
                </a:cubicBezTo>
                <a:cubicBezTo>
                  <a:pt x="2529" y="1996"/>
                  <a:pt x="2563" y="1950"/>
                  <a:pt x="2612" y="1937"/>
                </a:cubicBezTo>
                <a:cubicBezTo>
                  <a:pt x="2661" y="1924"/>
                  <a:pt x="2727" y="1917"/>
                  <a:pt x="2792" y="1888"/>
                </a:cubicBezTo>
                <a:cubicBezTo>
                  <a:pt x="2857" y="1859"/>
                  <a:pt x="2938" y="1810"/>
                  <a:pt x="3001" y="1763"/>
                </a:cubicBezTo>
                <a:cubicBezTo>
                  <a:pt x="3064" y="1716"/>
                  <a:pt x="3069" y="1661"/>
                  <a:pt x="3170" y="1604"/>
                </a:cubicBezTo>
                <a:cubicBezTo>
                  <a:pt x="3271" y="1547"/>
                  <a:pt x="3556" y="1437"/>
                  <a:pt x="3608" y="1418"/>
                </a:cubicBezTo>
                <a:cubicBezTo>
                  <a:pt x="3660" y="1399"/>
                  <a:pt x="3551" y="1452"/>
                  <a:pt x="3482" y="1490"/>
                </a:cubicBezTo>
                <a:cubicBezTo>
                  <a:pt x="3413" y="1528"/>
                  <a:pt x="3265" y="1595"/>
                  <a:pt x="3194" y="1646"/>
                </a:cubicBezTo>
                <a:cubicBezTo>
                  <a:pt x="3123" y="1697"/>
                  <a:pt x="3105" y="1750"/>
                  <a:pt x="3056" y="1796"/>
                </a:cubicBezTo>
                <a:cubicBezTo>
                  <a:pt x="3007" y="1842"/>
                  <a:pt x="2964" y="1877"/>
                  <a:pt x="2900" y="1922"/>
                </a:cubicBezTo>
                <a:cubicBezTo>
                  <a:pt x="2836" y="1967"/>
                  <a:pt x="2738" y="2023"/>
                  <a:pt x="2674" y="2068"/>
                </a:cubicBezTo>
                <a:cubicBezTo>
                  <a:pt x="2610" y="2113"/>
                  <a:pt x="2530" y="2135"/>
                  <a:pt x="2515" y="2193"/>
                </a:cubicBezTo>
                <a:cubicBezTo>
                  <a:pt x="2500" y="2251"/>
                  <a:pt x="2526" y="2396"/>
                  <a:pt x="2584" y="2415"/>
                </a:cubicBezTo>
                <a:cubicBezTo>
                  <a:pt x="2642" y="2434"/>
                  <a:pt x="2750" y="2336"/>
                  <a:pt x="2862" y="2304"/>
                </a:cubicBezTo>
                <a:cubicBezTo>
                  <a:pt x="2974" y="2272"/>
                  <a:pt x="3153" y="2244"/>
                  <a:pt x="3257" y="2221"/>
                </a:cubicBezTo>
                <a:cubicBezTo>
                  <a:pt x="3361" y="2198"/>
                  <a:pt x="3425" y="2188"/>
                  <a:pt x="3486" y="2166"/>
                </a:cubicBezTo>
                <a:cubicBezTo>
                  <a:pt x="3547" y="2144"/>
                  <a:pt x="3563" y="2111"/>
                  <a:pt x="3625" y="2089"/>
                </a:cubicBezTo>
                <a:cubicBezTo>
                  <a:pt x="3687" y="2067"/>
                  <a:pt x="3770" y="2071"/>
                  <a:pt x="3861" y="2034"/>
                </a:cubicBezTo>
                <a:cubicBezTo>
                  <a:pt x="3952" y="1997"/>
                  <a:pt x="4095" y="1941"/>
                  <a:pt x="4173" y="1867"/>
                </a:cubicBezTo>
                <a:cubicBezTo>
                  <a:pt x="4251" y="1793"/>
                  <a:pt x="4288" y="1700"/>
                  <a:pt x="4326" y="1590"/>
                </a:cubicBezTo>
                <a:cubicBezTo>
                  <a:pt x="4364" y="1480"/>
                  <a:pt x="4396" y="1332"/>
                  <a:pt x="4402" y="1208"/>
                </a:cubicBezTo>
                <a:cubicBezTo>
                  <a:pt x="4408" y="1084"/>
                  <a:pt x="4355" y="938"/>
                  <a:pt x="4361" y="847"/>
                </a:cubicBezTo>
                <a:cubicBezTo>
                  <a:pt x="4367" y="756"/>
                  <a:pt x="4449" y="711"/>
                  <a:pt x="4437" y="660"/>
                </a:cubicBezTo>
                <a:cubicBezTo>
                  <a:pt x="4425" y="609"/>
                  <a:pt x="4324" y="572"/>
                  <a:pt x="4291" y="542"/>
                </a:cubicBezTo>
                <a:cubicBezTo>
                  <a:pt x="4258" y="512"/>
                  <a:pt x="4245" y="500"/>
                  <a:pt x="4236" y="479"/>
                </a:cubicBezTo>
                <a:cubicBezTo>
                  <a:pt x="4227" y="458"/>
                  <a:pt x="4227" y="447"/>
                  <a:pt x="4236" y="417"/>
                </a:cubicBezTo>
                <a:cubicBezTo>
                  <a:pt x="4245" y="387"/>
                  <a:pt x="4260" y="345"/>
                  <a:pt x="4291" y="299"/>
                </a:cubicBezTo>
                <a:cubicBezTo>
                  <a:pt x="4322" y="253"/>
                  <a:pt x="4427" y="115"/>
                  <a:pt x="4423" y="139"/>
                </a:cubicBezTo>
                <a:cubicBezTo>
                  <a:pt x="4419" y="163"/>
                  <a:pt x="4255" y="363"/>
                  <a:pt x="4264" y="444"/>
                </a:cubicBezTo>
                <a:cubicBezTo>
                  <a:pt x="4273" y="525"/>
                  <a:pt x="4455" y="558"/>
                  <a:pt x="4479" y="625"/>
                </a:cubicBezTo>
                <a:cubicBezTo>
                  <a:pt x="4503" y="692"/>
                  <a:pt x="4415" y="766"/>
                  <a:pt x="4409" y="847"/>
                </a:cubicBezTo>
                <a:cubicBezTo>
                  <a:pt x="4403" y="928"/>
                  <a:pt x="4439" y="1021"/>
                  <a:pt x="4444" y="1111"/>
                </a:cubicBezTo>
                <a:cubicBezTo>
                  <a:pt x="4449" y="1201"/>
                  <a:pt x="4448" y="1300"/>
                  <a:pt x="4437" y="1388"/>
                </a:cubicBezTo>
                <a:cubicBezTo>
                  <a:pt x="4426" y="1476"/>
                  <a:pt x="4408" y="1550"/>
                  <a:pt x="4375" y="1638"/>
                </a:cubicBezTo>
                <a:cubicBezTo>
                  <a:pt x="4342" y="1726"/>
                  <a:pt x="4302" y="1842"/>
                  <a:pt x="4236" y="1916"/>
                </a:cubicBezTo>
                <a:cubicBezTo>
                  <a:pt x="4170" y="1990"/>
                  <a:pt x="4080" y="2035"/>
                  <a:pt x="3979" y="2082"/>
                </a:cubicBezTo>
                <a:cubicBezTo>
                  <a:pt x="3878" y="2129"/>
                  <a:pt x="3704" y="2176"/>
                  <a:pt x="3632" y="2200"/>
                </a:cubicBezTo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6" name=""/>
          <p:cNvSpPr/>
          <p:nvPr/>
        </p:nvSpPr>
        <p:spPr>
          <a:xfrm rot="20869200">
            <a:off x="-108000" y="5084280"/>
            <a:ext cx="2664000" cy="781200"/>
          </a:xfrm>
          <a:custGeom>
            <a:avLst/>
            <a:gdLst/>
            <a:ahLst/>
            <a:rect l="l" t="t" r="r" b="b"/>
            <a:pathLst>
              <a:path w="1678" h="492">
                <a:moveTo>
                  <a:pt x="62" y="251"/>
                </a:moveTo>
                <a:cubicBezTo>
                  <a:pt x="154" y="240"/>
                  <a:pt x="490" y="325"/>
                  <a:pt x="616" y="323"/>
                </a:cubicBezTo>
                <a:cubicBezTo>
                  <a:pt x="742" y="321"/>
                  <a:pt x="737" y="269"/>
                  <a:pt x="817" y="240"/>
                </a:cubicBezTo>
                <a:cubicBezTo>
                  <a:pt x="897" y="211"/>
                  <a:pt x="1022" y="152"/>
                  <a:pt x="1095" y="149"/>
                </a:cubicBezTo>
                <a:cubicBezTo>
                  <a:pt x="1168" y="146"/>
                  <a:pt x="1216" y="206"/>
                  <a:pt x="1254" y="219"/>
                </a:cubicBezTo>
                <a:cubicBezTo>
                  <a:pt x="1292" y="232"/>
                  <a:pt x="1284" y="242"/>
                  <a:pt x="1324" y="226"/>
                </a:cubicBezTo>
                <a:cubicBezTo>
                  <a:pt x="1364" y="210"/>
                  <a:pt x="1443" y="156"/>
                  <a:pt x="1497" y="122"/>
                </a:cubicBezTo>
                <a:cubicBezTo>
                  <a:pt x="1551" y="88"/>
                  <a:pt x="1678" y="0"/>
                  <a:pt x="1649" y="24"/>
                </a:cubicBezTo>
                <a:cubicBezTo>
                  <a:pt x="1620" y="48"/>
                  <a:pt x="1414" y="238"/>
                  <a:pt x="1324" y="267"/>
                </a:cubicBezTo>
                <a:cubicBezTo>
                  <a:pt x="1234" y="296"/>
                  <a:pt x="1183" y="193"/>
                  <a:pt x="1109" y="198"/>
                </a:cubicBezTo>
                <a:cubicBezTo>
                  <a:pt x="1035" y="203"/>
                  <a:pt x="952" y="261"/>
                  <a:pt x="878" y="296"/>
                </a:cubicBezTo>
                <a:cubicBezTo>
                  <a:pt x="804" y="331"/>
                  <a:pt x="739" y="391"/>
                  <a:pt x="664" y="406"/>
                </a:cubicBezTo>
                <a:cubicBezTo>
                  <a:pt x="589" y="421"/>
                  <a:pt x="525" y="377"/>
                  <a:pt x="425" y="387"/>
                </a:cubicBezTo>
                <a:cubicBezTo>
                  <a:pt x="325" y="397"/>
                  <a:pt x="122" y="492"/>
                  <a:pt x="61" y="469"/>
                </a:cubicBezTo>
                <a:cubicBezTo>
                  <a:pt x="0" y="446"/>
                  <a:pt x="62" y="296"/>
                  <a:pt x="62" y="251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153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17" name=""/>
          <p:cNvGrpSpPr/>
          <p:nvPr/>
        </p:nvGrpSpPr>
        <p:grpSpPr>
          <a:xfrm>
            <a:off x="4584960" y="5244120"/>
            <a:ext cx="335520" cy="619920"/>
            <a:chOff x="4584960" y="5244120"/>
            <a:chExt cx="335520" cy="619920"/>
          </a:xfrm>
        </p:grpSpPr>
        <p:sp>
          <p:nvSpPr>
            <p:cNvPr id="15318" name=""/>
            <p:cNvSpPr/>
            <p:nvPr/>
          </p:nvSpPr>
          <p:spPr>
            <a:xfrm flipH="1" rot="1486800">
              <a:off x="4716720" y="5229360"/>
              <a:ext cx="71640" cy="649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9" name=""/>
            <p:cNvSpPr/>
            <p:nvPr/>
          </p:nvSpPr>
          <p:spPr>
            <a:xfrm flipH="1" rot="1486800">
              <a:off x="4731480" y="5253120"/>
              <a:ext cx="55800" cy="5792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0" name=""/>
          <p:cNvGrpSpPr/>
          <p:nvPr/>
        </p:nvGrpSpPr>
        <p:grpSpPr>
          <a:xfrm>
            <a:off x="3989160" y="3501720"/>
            <a:ext cx="226800" cy="537480"/>
            <a:chOff x="3989160" y="3501720"/>
            <a:chExt cx="226800" cy="537480"/>
          </a:xfrm>
        </p:grpSpPr>
        <p:sp>
          <p:nvSpPr>
            <p:cNvPr id="15321" name=""/>
            <p:cNvSpPr/>
            <p:nvPr/>
          </p:nvSpPr>
          <p:spPr>
            <a:xfrm flipH="1" rot="20569200">
              <a:off x="4066920" y="3500280"/>
              <a:ext cx="71280" cy="54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2" name=""/>
            <p:cNvSpPr/>
            <p:nvPr/>
          </p:nvSpPr>
          <p:spPr>
            <a:xfrm flipH="1" rot="20569200">
              <a:off x="4073400" y="3517920"/>
              <a:ext cx="55440" cy="4824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3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5324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5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6" name=""/>
          <p:cNvGrpSpPr/>
          <p:nvPr/>
        </p:nvGrpSpPr>
        <p:grpSpPr>
          <a:xfrm>
            <a:off x="4286160" y="5226120"/>
            <a:ext cx="71640" cy="612720"/>
            <a:chOff x="4286160" y="5226120"/>
            <a:chExt cx="71640" cy="612720"/>
          </a:xfrm>
        </p:grpSpPr>
        <p:sp>
          <p:nvSpPr>
            <p:cNvPr id="15327" name=""/>
            <p:cNvSpPr/>
            <p:nvPr/>
          </p:nvSpPr>
          <p:spPr>
            <a:xfrm>
              <a:off x="4286160" y="522612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8" name=""/>
            <p:cNvSpPr/>
            <p:nvPr/>
          </p:nvSpPr>
          <p:spPr>
            <a:xfrm>
              <a:off x="4291200" y="524664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9" name=""/>
          <p:cNvGrpSpPr/>
          <p:nvPr/>
        </p:nvGrpSpPr>
        <p:grpSpPr>
          <a:xfrm>
            <a:off x="4392720" y="5299200"/>
            <a:ext cx="69840" cy="714240"/>
            <a:chOff x="4392720" y="5299200"/>
            <a:chExt cx="69840" cy="714240"/>
          </a:xfrm>
        </p:grpSpPr>
        <p:sp>
          <p:nvSpPr>
            <p:cNvPr id="15330" name=""/>
            <p:cNvSpPr/>
            <p:nvPr/>
          </p:nvSpPr>
          <p:spPr>
            <a:xfrm>
              <a:off x="4392720" y="529920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1" name=""/>
            <p:cNvSpPr/>
            <p:nvPr/>
          </p:nvSpPr>
          <p:spPr>
            <a:xfrm>
              <a:off x="4397760" y="532296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2" name=""/>
          <p:cNvGrpSpPr/>
          <p:nvPr/>
        </p:nvGrpSpPr>
        <p:grpSpPr>
          <a:xfrm>
            <a:off x="4259520" y="4789800"/>
            <a:ext cx="194760" cy="410760"/>
            <a:chOff x="4259520" y="4789800"/>
            <a:chExt cx="194760" cy="410760"/>
          </a:xfrm>
        </p:grpSpPr>
        <p:sp>
          <p:nvSpPr>
            <p:cNvPr id="15333" name=""/>
            <p:cNvSpPr/>
            <p:nvPr/>
          </p:nvSpPr>
          <p:spPr>
            <a:xfrm rot="21149400">
              <a:off x="4284720" y="47973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4" name=""/>
            <p:cNvSpPr/>
            <p:nvPr/>
          </p:nvSpPr>
          <p:spPr>
            <a:xfrm rot="21149400">
              <a:off x="4293720" y="481104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5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5336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7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38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5339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0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41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5342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3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44" name=""/>
          <p:cNvGrpSpPr/>
          <p:nvPr/>
        </p:nvGrpSpPr>
        <p:grpSpPr>
          <a:xfrm>
            <a:off x="4140360" y="4292640"/>
            <a:ext cx="71280" cy="612720"/>
            <a:chOff x="4140360" y="4292640"/>
            <a:chExt cx="71280" cy="612720"/>
          </a:xfrm>
        </p:grpSpPr>
        <p:sp>
          <p:nvSpPr>
            <p:cNvPr id="15345" name=""/>
            <p:cNvSpPr/>
            <p:nvPr/>
          </p:nvSpPr>
          <p:spPr>
            <a:xfrm>
              <a:off x="4140360" y="429264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6" name=""/>
            <p:cNvSpPr/>
            <p:nvPr/>
          </p:nvSpPr>
          <p:spPr>
            <a:xfrm>
              <a:off x="4145400" y="431316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47" name=""/>
          <p:cNvGrpSpPr/>
          <p:nvPr/>
        </p:nvGrpSpPr>
        <p:grpSpPr>
          <a:xfrm>
            <a:off x="4249080" y="4118400"/>
            <a:ext cx="535680" cy="418320"/>
            <a:chOff x="4249080" y="4118400"/>
            <a:chExt cx="535680" cy="418320"/>
          </a:xfrm>
        </p:grpSpPr>
        <p:sp>
          <p:nvSpPr>
            <p:cNvPr id="15348" name=""/>
            <p:cNvSpPr/>
            <p:nvPr/>
          </p:nvSpPr>
          <p:spPr>
            <a:xfrm flipH="1" rot="3222600">
              <a:off x="4480920" y="4021920"/>
              <a:ext cx="71280" cy="611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9" name=""/>
            <p:cNvSpPr/>
            <p:nvPr/>
          </p:nvSpPr>
          <p:spPr>
            <a:xfrm flipH="1" rot="3222600">
              <a:off x="4501440" y="4050360"/>
              <a:ext cx="55440" cy="5454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50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5351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5352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3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4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5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6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7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58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5359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0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1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2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3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4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65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5366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7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8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9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0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1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2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5373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4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5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6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7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8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79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5380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1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2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3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4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5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86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5387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8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9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0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1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2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93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5394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5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6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7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8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9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00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5401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5402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3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4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5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6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7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08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5409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0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1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2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3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4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15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5416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7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8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9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0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1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22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5423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4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5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6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7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8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29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5430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1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2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3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4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5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36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5437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8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9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0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1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2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43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5444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5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6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7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8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9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50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5451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5452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3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4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5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6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7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58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5459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0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1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2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3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4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5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5466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7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8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9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0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1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72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5473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4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5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6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7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8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79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5480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1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2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3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4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5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86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5487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8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9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0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1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2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93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5494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5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6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7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8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9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500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5501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5502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3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4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5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6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7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08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5509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0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1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2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3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4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15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5516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7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8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9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0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1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22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5523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4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5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6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7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8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29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5530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1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2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3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4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5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36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5537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8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9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0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1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2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43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5544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5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6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7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8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9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550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5551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5552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3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4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5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6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7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58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5559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0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1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2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3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4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65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5566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7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8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9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0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1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72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5573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4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5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6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7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8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79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5580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1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2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3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4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5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86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5587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8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9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0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1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2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93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5594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5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6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7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8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9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600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5601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5602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3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4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5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6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7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08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5609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0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1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2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3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4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15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5616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7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8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9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0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1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22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5623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4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5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6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7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8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29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5630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1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2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3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4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5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36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5637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8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9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0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1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2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43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5644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5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6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7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8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9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650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5651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5652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3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4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5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6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7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58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5659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0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1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2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3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4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65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5666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7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8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9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0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1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72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5673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4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5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6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7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8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79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5680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1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2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3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4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5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86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5687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8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9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0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1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2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693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5694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5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6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7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8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9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700" name="">
            <a:hlinkClick r:id="rId1" action="ppaction://hlinksldjump"/>
          </p:cNvPr>
          <p:cNvSpPr/>
          <p:nvPr/>
        </p:nvSpPr>
        <p:spPr>
          <a:xfrm>
            <a:off x="2122560" y="4797360"/>
            <a:ext cx="28872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1" name="">
            <a:hlinkClick r:id="rId3" action="ppaction://hlinksldjump"/>
          </p:cNvPr>
          <p:cNvSpPr/>
          <p:nvPr/>
        </p:nvSpPr>
        <p:spPr>
          <a:xfrm>
            <a:off x="2411280" y="4797360"/>
            <a:ext cx="289080" cy="36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02" name=""/>
          <p:cNvGrpSpPr/>
          <p:nvPr/>
        </p:nvGrpSpPr>
        <p:grpSpPr>
          <a:xfrm>
            <a:off x="2266920" y="5084640"/>
            <a:ext cx="215640" cy="144720"/>
            <a:chOff x="2266920" y="5084640"/>
            <a:chExt cx="215640" cy="144720"/>
          </a:xfrm>
        </p:grpSpPr>
        <p:sp>
          <p:nvSpPr>
            <p:cNvPr id="15703" name=""/>
            <p:cNvSpPr/>
            <p:nvPr/>
          </p:nvSpPr>
          <p:spPr>
            <a:xfrm>
              <a:off x="226692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4" name=""/>
            <p:cNvSpPr/>
            <p:nvPr/>
          </p:nvSpPr>
          <p:spPr>
            <a:xfrm>
              <a:off x="232848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05" name=""/>
          <p:cNvSpPr/>
          <p:nvPr/>
        </p:nvSpPr>
        <p:spPr>
          <a:xfrm>
            <a:off x="1906560" y="5230800"/>
            <a:ext cx="9349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6" name=""/>
          <p:cNvSpPr txBox="1"/>
          <p:nvPr/>
        </p:nvSpPr>
        <p:spPr>
          <a:xfrm>
            <a:off x="1978200" y="5230800"/>
            <a:ext cx="803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вас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ина и 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07" name=""/>
          <p:cNvSpPr/>
          <p:nvPr/>
        </p:nvSpPr>
        <p:spPr>
          <a:xfrm>
            <a:off x="971640" y="3500280"/>
            <a:ext cx="9363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8" name=""/>
          <p:cNvSpPr txBox="1"/>
          <p:nvPr/>
        </p:nvSpPr>
        <p:spPr>
          <a:xfrm>
            <a:off x="1042920" y="3500280"/>
            <a:ext cx="80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09" name=""/>
          <p:cNvSpPr/>
          <p:nvPr/>
        </p:nvSpPr>
        <p:spPr>
          <a:xfrm>
            <a:off x="826920" y="1844640"/>
            <a:ext cx="289080" cy="36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0" name=""/>
          <p:cNvSpPr/>
          <p:nvPr/>
        </p:nvSpPr>
        <p:spPr>
          <a:xfrm>
            <a:off x="2914560" y="4005360"/>
            <a:ext cx="289080" cy="36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1" name=""/>
          <p:cNvSpPr/>
          <p:nvPr/>
        </p:nvSpPr>
        <p:spPr>
          <a:xfrm>
            <a:off x="3203640" y="4005360"/>
            <a:ext cx="288720" cy="36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12" name=""/>
          <p:cNvGrpSpPr/>
          <p:nvPr/>
        </p:nvGrpSpPr>
        <p:grpSpPr>
          <a:xfrm>
            <a:off x="3130560" y="4292640"/>
            <a:ext cx="215640" cy="144360"/>
            <a:chOff x="3130560" y="4292640"/>
            <a:chExt cx="215640" cy="144360"/>
          </a:xfrm>
        </p:grpSpPr>
        <p:sp>
          <p:nvSpPr>
            <p:cNvPr id="15713" name=""/>
            <p:cNvSpPr/>
            <p:nvPr/>
          </p:nvSpPr>
          <p:spPr>
            <a:xfrm>
              <a:off x="313056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4" name=""/>
            <p:cNvSpPr/>
            <p:nvPr/>
          </p:nvSpPr>
          <p:spPr>
            <a:xfrm>
              <a:off x="319212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15" name=""/>
          <p:cNvSpPr/>
          <p:nvPr/>
        </p:nvSpPr>
        <p:spPr>
          <a:xfrm>
            <a:off x="2916360" y="3068640"/>
            <a:ext cx="288720" cy="36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6" name=""/>
          <p:cNvSpPr/>
          <p:nvPr/>
        </p:nvSpPr>
        <p:spPr>
          <a:xfrm>
            <a:off x="3203640" y="3068640"/>
            <a:ext cx="288720" cy="36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7" name=""/>
          <p:cNvSpPr/>
          <p:nvPr/>
        </p:nvSpPr>
        <p:spPr>
          <a:xfrm>
            <a:off x="3059280" y="2205000"/>
            <a:ext cx="288720" cy="360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8" name=""/>
          <p:cNvSpPr/>
          <p:nvPr/>
        </p:nvSpPr>
        <p:spPr>
          <a:xfrm>
            <a:off x="1476360" y="2133720"/>
            <a:ext cx="289080" cy="360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9" name=""/>
          <p:cNvSpPr/>
          <p:nvPr/>
        </p:nvSpPr>
        <p:spPr>
          <a:xfrm>
            <a:off x="1332000" y="1341360"/>
            <a:ext cx="288720" cy="360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0" name=""/>
          <p:cNvSpPr/>
          <p:nvPr/>
        </p:nvSpPr>
        <p:spPr>
          <a:xfrm>
            <a:off x="1979640" y="3716280"/>
            <a:ext cx="288720" cy="360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1" name=""/>
          <p:cNvSpPr/>
          <p:nvPr/>
        </p:nvSpPr>
        <p:spPr>
          <a:xfrm>
            <a:off x="2195640" y="3716280"/>
            <a:ext cx="288720" cy="3603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2" name=""/>
          <p:cNvSpPr/>
          <p:nvPr/>
        </p:nvSpPr>
        <p:spPr>
          <a:xfrm>
            <a:off x="1692360" y="4149720"/>
            <a:ext cx="1008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3" name=""/>
          <p:cNvSpPr txBox="1"/>
          <p:nvPr/>
        </p:nvSpPr>
        <p:spPr>
          <a:xfrm>
            <a:off x="1692360" y="4149720"/>
            <a:ext cx="93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мёнова Татья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 Поникаров Алекс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24" name=""/>
          <p:cNvSpPr/>
          <p:nvPr/>
        </p:nvSpPr>
        <p:spPr>
          <a:xfrm>
            <a:off x="2268360" y="2781360"/>
            <a:ext cx="289080" cy="360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5" name=""/>
          <p:cNvSpPr/>
          <p:nvPr/>
        </p:nvSpPr>
        <p:spPr>
          <a:xfrm>
            <a:off x="2700360" y="4437000"/>
            <a:ext cx="115236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6" name=""/>
          <p:cNvSpPr txBox="1"/>
          <p:nvPr/>
        </p:nvSpPr>
        <p:spPr>
          <a:xfrm>
            <a:off x="2771640" y="4437000"/>
            <a:ext cx="1019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орошкевич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мара и Вале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727" name=""/>
          <p:cNvGrpSpPr/>
          <p:nvPr/>
        </p:nvGrpSpPr>
        <p:grpSpPr>
          <a:xfrm>
            <a:off x="3565800" y="5028120"/>
            <a:ext cx="537840" cy="401040"/>
            <a:chOff x="3565800" y="5028120"/>
            <a:chExt cx="537840" cy="401040"/>
          </a:xfrm>
        </p:grpSpPr>
        <p:sp>
          <p:nvSpPr>
            <p:cNvPr id="15728" name=""/>
            <p:cNvSpPr/>
            <p:nvPr/>
          </p:nvSpPr>
          <p:spPr>
            <a:xfrm rot="18056400">
              <a:off x="3763080" y="4957920"/>
              <a:ext cx="142920" cy="5414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9" name=""/>
            <p:cNvSpPr/>
            <p:nvPr/>
          </p:nvSpPr>
          <p:spPr>
            <a:xfrm rot="18056400">
              <a:off x="3766680" y="4986000"/>
              <a:ext cx="110880" cy="4831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30" name=""/>
          <p:cNvGrpSpPr/>
          <p:nvPr/>
        </p:nvGrpSpPr>
        <p:grpSpPr>
          <a:xfrm>
            <a:off x="4429080" y="5156280"/>
            <a:ext cx="71640" cy="900000"/>
            <a:chOff x="4429080" y="5156280"/>
            <a:chExt cx="71640" cy="900000"/>
          </a:xfrm>
        </p:grpSpPr>
        <p:sp>
          <p:nvSpPr>
            <p:cNvPr id="15731" name=""/>
            <p:cNvSpPr/>
            <p:nvPr/>
          </p:nvSpPr>
          <p:spPr>
            <a:xfrm>
              <a:off x="4429080" y="5156280"/>
              <a:ext cx="716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2" name=""/>
            <p:cNvSpPr/>
            <p:nvPr/>
          </p:nvSpPr>
          <p:spPr>
            <a:xfrm>
              <a:off x="4434120" y="5186520"/>
              <a:ext cx="5580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33" name=""/>
          <p:cNvGrpSpPr/>
          <p:nvPr/>
        </p:nvGrpSpPr>
        <p:grpSpPr>
          <a:xfrm>
            <a:off x="4213080" y="5083200"/>
            <a:ext cx="71640" cy="612720"/>
            <a:chOff x="4213080" y="5083200"/>
            <a:chExt cx="71640" cy="612720"/>
          </a:xfrm>
        </p:grpSpPr>
        <p:sp>
          <p:nvSpPr>
            <p:cNvPr id="15734" name=""/>
            <p:cNvSpPr/>
            <p:nvPr/>
          </p:nvSpPr>
          <p:spPr>
            <a:xfrm>
              <a:off x="4213080" y="508320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5" name=""/>
            <p:cNvSpPr/>
            <p:nvPr/>
          </p:nvSpPr>
          <p:spPr>
            <a:xfrm>
              <a:off x="4218120" y="510372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36" name=""/>
          <p:cNvGrpSpPr/>
          <p:nvPr/>
        </p:nvGrpSpPr>
        <p:grpSpPr>
          <a:xfrm>
            <a:off x="4319640" y="5156280"/>
            <a:ext cx="69840" cy="714240"/>
            <a:chOff x="4319640" y="5156280"/>
            <a:chExt cx="69840" cy="714240"/>
          </a:xfrm>
        </p:grpSpPr>
        <p:sp>
          <p:nvSpPr>
            <p:cNvPr id="15737" name=""/>
            <p:cNvSpPr/>
            <p:nvPr/>
          </p:nvSpPr>
          <p:spPr>
            <a:xfrm>
              <a:off x="4319640" y="515628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8" name=""/>
            <p:cNvSpPr/>
            <p:nvPr/>
          </p:nvSpPr>
          <p:spPr>
            <a:xfrm>
              <a:off x="4324680" y="518004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39" name=""/>
          <p:cNvGrpSpPr/>
          <p:nvPr/>
        </p:nvGrpSpPr>
        <p:grpSpPr>
          <a:xfrm>
            <a:off x="3921840" y="5841720"/>
            <a:ext cx="400320" cy="358200"/>
            <a:chOff x="3921840" y="5841720"/>
            <a:chExt cx="400320" cy="358200"/>
          </a:xfrm>
        </p:grpSpPr>
        <p:sp>
          <p:nvSpPr>
            <p:cNvPr id="15740" name=""/>
            <p:cNvSpPr/>
            <p:nvPr/>
          </p:nvSpPr>
          <p:spPr>
            <a:xfrm rot="3108000">
              <a:off x="4049280" y="5823000"/>
              <a:ext cx="14472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1" name=""/>
            <p:cNvSpPr/>
            <p:nvPr/>
          </p:nvSpPr>
          <p:spPr>
            <a:xfrm rot="3108000">
              <a:off x="4068720" y="5834520"/>
              <a:ext cx="11232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42" name=""/>
          <p:cNvGrpSpPr/>
          <p:nvPr/>
        </p:nvGrpSpPr>
        <p:grpSpPr>
          <a:xfrm>
            <a:off x="4165920" y="5986440"/>
            <a:ext cx="274680" cy="280440"/>
            <a:chOff x="4165920" y="5986440"/>
            <a:chExt cx="274680" cy="280440"/>
          </a:xfrm>
        </p:grpSpPr>
        <p:sp>
          <p:nvSpPr>
            <p:cNvPr id="15743" name=""/>
            <p:cNvSpPr/>
            <p:nvPr/>
          </p:nvSpPr>
          <p:spPr>
            <a:xfrm flipH="1" flipV="1" rot="3108000">
              <a:off x="4195440" y="603540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4" name=""/>
            <p:cNvSpPr/>
            <p:nvPr/>
          </p:nvSpPr>
          <p:spPr>
            <a:xfrm flipH="1" flipV="1" rot="3108000">
              <a:off x="4221720" y="605376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45" name=""/>
          <p:cNvGrpSpPr/>
          <p:nvPr/>
        </p:nvGrpSpPr>
        <p:grpSpPr>
          <a:xfrm>
            <a:off x="4530960" y="5955840"/>
            <a:ext cx="333000" cy="440640"/>
            <a:chOff x="4530960" y="5955840"/>
            <a:chExt cx="333000" cy="440640"/>
          </a:xfrm>
        </p:grpSpPr>
        <p:sp>
          <p:nvSpPr>
            <p:cNvPr id="15746" name=""/>
            <p:cNvSpPr/>
            <p:nvPr/>
          </p:nvSpPr>
          <p:spPr>
            <a:xfrm flipH="1" flipV="1" rot="19648200">
              <a:off x="4644720" y="594828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7" name=""/>
            <p:cNvSpPr/>
            <p:nvPr/>
          </p:nvSpPr>
          <p:spPr>
            <a:xfrm flipH="1" flipV="1" rot="19648200">
              <a:off x="4664160" y="597888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48" name=""/>
          <p:cNvGrpSpPr/>
          <p:nvPr/>
        </p:nvGrpSpPr>
        <p:grpSpPr>
          <a:xfrm>
            <a:off x="3899160" y="5334480"/>
            <a:ext cx="410760" cy="542520"/>
            <a:chOff x="3899160" y="5334480"/>
            <a:chExt cx="410760" cy="542520"/>
          </a:xfrm>
        </p:grpSpPr>
        <p:sp>
          <p:nvSpPr>
            <p:cNvPr id="15749" name=""/>
            <p:cNvSpPr/>
            <p:nvPr/>
          </p:nvSpPr>
          <p:spPr>
            <a:xfrm rot="19494600">
              <a:off x="4068720" y="529920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0" name=""/>
            <p:cNvSpPr/>
            <p:nvPr/>
          </p:nvSpPr>
          <p:spPr>
            <a:xfrm rot="19494600">
              <a:off x="4066920" y="532332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51" name="">
            <a:hlinkClick r:id="rId16" action="ppaction://hlinksldjump"/>
          </p:cNvPr>
          <p:cNvSpPr/>
          <p:nvPr/>
        </p:nvSpPr>
        <p:spPr>
          <a:xfrm>
            <a:off x="4427640" y="5157720"/>
            <a:ext cx="576000" cy="71928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2" name="">
            <a:hlinkClick r:id="rId18" action="ppaction://hlinksldjump"/>
          </p:cNvPr>
          <p:cNvSpPr/>
          <p:nvPr/>
        </p:nvSpPr>
        <p:spPr>
          <a:xfrm>
            <a:off x="3851280" y="5157720"/>
            <a:ext cx="576360" cy="71928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53" name=""/>
          <p:cNvGrpSpPr/>
          <p:nvPr/>
        </p:nvGrpSpPr>
        <p:grpSpPr>
          <a:xfrm>
            <a:off x="4282920" y="5734080"/>
            <a:ext cx="215640" cy="144360"/>
            <a:chOff x="4282920" y="5734080"/>
            <a:chExt cx="215640" cy="144360"/>
          </a:xfrm>
        </p:grpSpPr>
        <p:sp>
          <p:nvSpPr>
            <p:cNvPr id="15754" name=""/>
            <p:cNvSpPr/>
            <p:nvPr/>
          </p:nvSpPr>
          <p:spPr>
            <a:xfrm>
              <a:off x="4282920" y="5734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5" name=""/>
            <p:cNvSpPr/>
            <p:nvPr/>
          </p:nvSpPr>
          <p:spPr>
            <a:xfrm>
              <a:off x="4344480" y="5734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56" name=""/>
          <p:cNvSpPr/>
          <p:nvPr/>
        </p:nvSpPr>
        <p:spPr>
          <a:xfrm>
            <a:off x="3780000" y="5950080"/>
            <a:ext cx="1152360" cy="431640"/>
          </a:xfrm>
          <a:prstGeom prst="rect">
            <a:avLst/>
          </a:prstGeom>
          <a:solidFill>
            <a:srgbClr val="0000ff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7" name=""/>
          <p:cNvSpPr txBox="1"/>
          <p:nvPr/>
        </p:nvSpPr>
        <p:spPr>
          <a:xfrm>
            <a:off x="3851280" y="5950080"/>
            <a:ext cx="10191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вас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 и Ма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758" name=""/>
          <p:cNvGrpSpPr/>
          <p:nvPr/>
        </p:nvGrpSpPr>
        <p:grpSpPr>
          <a:xfrm>
            <a:off x="4436640" y="4724640"/>
            <a:ext cx="522360" cy="431640"/>
            <a:chOff x="4436640" y="4724640"/>
            <a:chExt cx="522360" cy="431640"/>
          </a:xfrm>
        </p:grpSpPr>
        <p:sp>
          <p:nvSpPr>
            <p:cNvPr id="15759" name=""/>
            <p:cNvSpPr/>
            <p:nvPr/>
          </p:nvSpPr>
          <p:spPr>
            <a:xfrm flipV="1" rot="14054400">
              <a:off x="4626720" y="4669200"/>
              <a:ext cx="142200" cy="54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0" name=""/>
            <p:cNvSpPr/>
            <p:nvPr/>
          </p:nvSpPr>
          <p:spPr>
            <a:xfrm flipV="1" rot="14054400">
              <a:off x="4654800" y="4696200"/>
              <a:ext cx="110520" cy="4831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61" name=""/>
          <p:cNvGrpSpPr/>
          <p:nvPr/>
        </p:nvGrpSpPr>
        <p:grpSpPr>
          <a:xfrm>
            <a:off x="3682440" y="3225240"/>
            <a:ext cx="266400" cy="336960"/>
            <a:chOff x="3682440" y="3225240"/>
            <a:chExt cx="266400" cy="336960"/>
          </a:xfrm>
        </p:grpSpPr>
        <p:sp>
          <p:nvSpPr>
            <p:cNvPr id="15762" name=""/>
            <p:cNvSpPr/>
            <p:nvPr/>
          </p:nvSpPr>
          <p:spPr>
            <a:xfrm flipH="1" rot="19497000">
              <a:off x="3779640" y="3212640"/>
              <a:ext cx="71280" cy="3618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3" name=""/>
            <p:cNvSpPr/>
            <p:nvPr/>
          </p:nvSpPr>
          <p:spPr>
            <a:xfrm flipH="1" rot="19497000">
              <a:off x="3785760" y="3224520"/>
              <a:ext cx="55440" cy="3232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64" name=""/>
          <p:cNvSpPr/>
          <p:nvPr/>
        </p:nvSpPr>
        <p:spPr>
          <a:xfrm>
            <a:off x="3995640" y="3284640"/>
            <a:ext cx="289080" cy="36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5" name=""/>
          <p:cNvSpPr/>
          <p:nvPr/>
        </p:nvSpPr>
        <p:spPr>
          <a:xfrm>
            <a:off x="3708360" y="3284640"/>
            <a:ext cx="28908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6" name=""/>
          <p:cNvSpPr/>
          <p:nvPr/>
        </p:nvSpPr>
        <p:spPr>
          <a:xfrm>
            <a:off x="3708360" y="2205000"/>
            <a:ext cx="289080" cy="3603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7" name=""/>
          <p:cNvSpPr/>
          <p:nvPr/>
        </p:nvSpPr>
        <p:spPr>
          <a:xfrm>
            <a:off x="4643280" y="2276640"/>
            <a:ext cx="289080" cy="36036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8" name="">
            <a:hlinkClick r:id="rId23" action="ppaction://hlinksldjump"/>
          </p:cNvPr>
          <p:cNvSpPr/>
          <p:nvPr/>
        </p:nvSpPr>
        <p:spPr>
          <a:xfrm>
            <a:off x="3995640" y="4221000"/>
            <a:ext cx="289080" cy="360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9" name=""/>
          <p:cNvSpPr/>
          <p:nvPr/>
        </p:nvSpPr>
        <p:spPr>
          <a:xfrm>
            <a:off x="4284720" y="422100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0" name=""/>
          <p:cNvSpPr/>
          <p:nvPr/>
        </p:nvSpPr>
        <p:spPr>
          <a:xfrm>
            <a:off x="5651640" y="3284640"/>
            <a:ext cx="288720" cy="360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1" name="">
            <a:hlinkClick r:id="rId26" action="ppaction://hlinksldjump"/>
          </p:cNvPr>
          <p:cNvSpPr/>
          <p:nvPr/>
        </p:nvSpPr>
        <p:spPr>
          <a:xfrm>
            <a:off x="5364000" y="4437000"/>
            <a:ext cx="289080" cy="3603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2" name=""/>
          <p:cNvSpPr/>
          <p:nvPr/>
        </p:nvSpPr>
        <p:spPr>
          <a:xfrm>
            <a:off x="5651640" y="4437000"/>
            <a:ext cx="288720" cy="3603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3" name=""/>
          <p:cNvSpPr/>
          <p:nvPr/>
        </p:nvSpPr>
        <p:spPr>
          <a:xfrm>
            <a:off x="7236000" y="3284640"/>
            <a:ext cx="288720" cy="3603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4" name="">
            <a:hlinkClick r:id="rId30" action="ppaction://hlinksldjump"/>
          </p:cNvPr>
          <p:cNvSpPr/>
          <p:nvPr/>
        </p:nvSpPr>
        <p:spPr>
          <a:xfrm>
            <a:off x="6156360" y="5229360"/>
            <a:ext cx="288720" cy="3603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5" name=""/>
          <p:cNvSpPr/>
          <p:nvPr/>
        </p:nvSpPr>
        <p:spPr>
          <a:xfrm>
            <a:off x="1187280" y="177336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6" name=""/>
          <p:cNvSpPr txBox="1"/>
          <p:nvPr/>
        </p:nvSpPr>
        <p:spPr>
          <a:xfrm>
            <a:off x="1260360" y="1773360"/>
            <a:ext cx="513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77" name=""/>
          <p:cNvSpPr/>
          <p:nvPr/>
        </p:nvSpPr>
        <p:spPr>
          <a:xfrm>
            <a:off x="826920" y="2276640"/>
            <a:ext cx="4305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8" name=""/>
          <p:cNvSpPr txBox="1"/>
          <p:nvPr/>
        </p:nvSpPr>
        <p:spPr>
          <a:xfrm>
            <a:off x="898560" y="2276640"/>
            <a:ext cx="298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икт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79" name=""/>
          <p:cNvSpPr/>
          <p:nvPr/>
        </p:nvSpPr>
        <p:spPr>
          <a:xfrm>
            <a:off x="1330200" y="256536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0" name=""/>
          <p:cNvSpPr txBox="1"/>
          <p:nvPr/>
        </p:nvSpPr>
        <p:spPr>
          <a:xfrm>
            <a:off x="1403280" y="2565360"/>
            <a:ext cx="513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81" name=""/>
          <p:cNvSpPr/>
          <p:nvPr/>
        </p:nvSpPr>
        <p:spPr>
          <a:xfrm>
            <a:off x="2050920" y="321300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2" name=""/>
          <p:cNvSpPr txBox="1"/>
          <p:nvPr/>
        </p:nvSpPr>
        <p:spPr>
          <a:xfrm>
            <a:off x="2124000" y="3213000"/>
            <a:ext cx="513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83" name=""/>
          <p:cNvSpPr/>
          <p:nvPr/>
        </p:nvSpPr>
        <p:spPr>
          <a:xfrm>
            <a:off x="2771640" y="3573360"/>
            <a:ext cx="936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4" name=""/>
          <p:cNvSpPr txBox="1"/>
          <p:nvPr/>
        </p:nvSpPr>
        <p:spPr>
          <a:xfrm>
            <a:off x="2843280" y="3573360"/>
            <a:ext cx="80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урко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785" name=""/>
          <p:cNvGrpSpPr/>
          <p:nvPr/>
        </p:nvGrpSpPr>
        <p:grpSpPr>
          <a:xfrm>
            <a:off x="3132000" y="3357720"/>
            <a:ext cx="215640" cy="144360"/>
            <a:chOff x="3132000" y="3357720"/>
            <a:chExt cx="215640" cy="144360"/>
          </a:xfrm>
        </p:grpSpPr>
        <p:sp>
          <p:nvSpPr>
            <p:cNvPr id="15786" name=""/>
            <p:cNvSpPr/>
            <p:nvPr/>
          </p:nvSpPr>
          <p:spPr>
            <a:xfrm>
              <a:off x="313200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7" name=""/>
            <p:cNvSpPr/>
            <p:nvPr/>
          </p:nvSpPr>
          <p:spPr>
            <a:xfrm>
              <a:off x="319356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88" name=""/>
          <p:cNvGrpSpPr/>
          <p:nvPr/>
        </p:nvGrpSpPr>
        <p:grpSpPr>
          <a:xfrm>
            <a:off x="3924360" y="3573360"/>
            <a:ext cx="215640" cy="144720"/>
            <a:chOff x="3924360" y="3573360"/>
            <a:chExt cx="215640" cy="144720"/>
          </a:xfrm>
        </p:grpSpPr>
        <p:sp>
          <p:nvSpPr>
            <p:cNvPr id="15789" name=""/>
            <p:cNvSpPr/>
            <p:nvPr/>
          </p:nvSpPr>
          <p:spPr>
            <a:xfrm>
              <a:off x="3924360" y="3573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0" name=""/>
            <p:cNvSpPr/>
            <p:nvPr/>
          </p:nvSpPr>
          <p:spPr>
            <a:xfrm>
              <a:off x="3985920" y="3573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91" name=""/>
          <p:cNvGrpSpPr/>
          <p:nvPr/>
        </p:nvGrpSpPr>
        <p:grpSpPr>
          <a:xfrm>
            <a:off x="4211640" y="4508640"/>
            <a:ext cx="215640" cy="144360"/>
            <a:chOff x="4211640" y="4508640"/>
            <a:chExt cx="215640" cy="144360"/>
          </a:xfrm>
        </p:grpSpPr>
        <p:sp>
          <p:nvSpPr>
            <p:cNvPr id="15792" name=""/>
            <p:cNvSpPr/>
            <p:nvPr/>
          </p:nvSpPr>
          <p:spPr>
            <a:xfrm>
              <a:off x="4211640" y="450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3" name=""/>
            <p:cNvSpPr/>
            <p:nvPr/>
          </p:nvSpPr>
          <p:spPr>
            <a:xfrm>
              <a:off x="4273200" y="450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94" name=""/>
          <p:cNvGrpSpPr/>
          <p:nvPr/>
        </p:nvGrpSpPr>
        <p:grpSpPr>
          <a:xfrm>
            <a:off x="5580000" y="4724280"/>
            <a:ext cx="215640" cy="144720"/>
            <a:chOff x="5580000" y="4724280"/>
            <a:chExt cx="215640" cy="144720"/>
          </a:xfrm>
        </p:grpSpPr>
        <p:sp>
          <p:nvSpPr>
            <p:cNvPr id="15795" name=""/>
            <p:cNvSpPr/>
            <p:nvPr/>
          </p:nvSpPr>
          <p:spPr>
            <a:xfrm>
              <a:off x="5580000" y="472428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6" name=""/>
            <p:cNvSpPr/>
            <p:nvPr/>
          </p:nvSpPr>
          <p:spPr>
            <a:xfrm>
              <a:off x="5641560" y="472428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97" name=""/>
          <p:cNvSpPr/>
          <p:nvPr/>
        </p:nvSpPr>
        <p:spPr>
          <a:xfrm>
            <a:off x="2987640" y="2637000"/>
            <a:ext cx="4302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8" name=""/>
          <p:cNvSpPr txBox="1"/>
          <p:nvPr/>
        </p:nvSpPr>
        <p:spPr>
          <a:xfrm>
            <a:off x="3059280" y="2637000"/>
            <a:ext cx="298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урко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799" name=""/>
          <p:cNvSpPr/>
          <p:nvPr/>
        </p:nvSpPr>
        <p:spPr>
          <a:xfrm>
            <a:off x="3564000" y="263700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0" name=""/>
          <p:cNvSpPr txBox="1"/>
          <p:nvPr/>
        </p:nvSpPr>
        <p:spPr>
          <a:xfrm>
            <a:off x="3635280" y="2637000"/>
            <a:ext cx="5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п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1" name=""/>
          <p:cNvSpPr/>
          <p:nvPr/>
        </p:nvSpPr>
        <p:spPr>
          <a:xfrm>
            <a:off x="4500720" y="270828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2" name=""/>
          <p:cNvSpPr txBox="1"/>
          <p:nvPr/>
        </p:nvSpPr>
        <p:spPr>
          <a:xfrm>
            <a:off x="4572000" y="2708280"/>
            <a:ext cx="504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п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3" name=""/>
          <p:cNvSpPr/>
          <p:nvPr/>
        </p:nvSpPr>
        <p:spPr>
          <a:xfrm>
            <a:off x="5508720" y="3716280"/>
            <a:ext cx="576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4" name=""/>
          <p:cNvSpPr txBox="1"/>
          <p:nvPr/>
        </p:nvSpPr>
        <p:spPr>
          <a:xfrm>
            <a:off x="5580000" y="371628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ухан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5" name=""/>
          <p:cNvSpPr/>
          <p:nvPr/>
        </p:nvSpPr>
        <p:spPr>
          <a:xfrm>
            <a:off x="7164360" y="3789360"/>
            <a:ext cx="792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6" name=""/>
          <p:cNvSpPr txBox="1"/>
          <p:nvPr/>
        </p:nvSpPr>
        <p:spPr>
          <a:xfrm>
            <a:off x="7236000" y="3789360"/>
            <a:ext cx="649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зл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горь и Еле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7" name=""/>
          <p:cNvSpPr/>
          <p:nvPr/>
        </p:nvSpPr>
        <p:spPr>
          <a:xfrm>
            <a:off x="6013440" y="566100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8" name=""/>
          <p:cNvSpPr txBox="1"/>
          <p:nvPr/>
        </p:nvSpPr>
        <p:spPr>
          <a:xfrm>
            <a:off x="6084720" y="566100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вас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09" name=""/>
          <p:cNvSpPr/>
          <p:nvPr/>
        </p:nvSpPr>
        <p:spPr>
          <a:xfrm>
            <a:off x="665964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0" name=""/>
          <p:cNvSpPr/>
          <p:nvPr/>
        </p:nvSpPr>
        <p:spPr>
          <a:xfrm>
            <a:off x="745164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1" name=""/>
          <p:cNvSpPr/>
          <p:nvPr/>
        </p:nvSpPr>
        <p:spPr>
          <a:xfrm>
            <a:off x="5219640" y="4941720"/>
            <a:ext cx="9349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2" name=""/>
          <p:cNvSpPr txBox="1"/>
          <p:nvPr/>
        </p:nvSpPr>
        <p:spPr>
          <a:xfrm>
            <a:off x="5291280" y="4941720"/>
            <a:ext cx="8031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зл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нтина и Ю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13" name=""/>
          <p:cNvSpPr/>
          <p:nvPr/>
        </p:nvSpPr>
        <p:spPr>
          <a:xfrm>
            <a:off x="7524720" y="3284640"/>
            <a:ext cx="289080" cy="3603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4" name=""/>
          <p:cNvGrpSpPr/>
          <p:nvPr/>
        </p:nvGrpSpPr>
        <p:grpSpPr>
          <a:xfrm>
            <a:off x="7451640" y="3573360"/>
            <a:ext cx="215640" cy="144720"/>
            <a:chOff x="7451640" y="3573360"/>
            <a:chExt cx="215640" cy="144720"/>
          </a:xfrm>
        </p:grpSpPr>
        <p:sp>
          <p:nvSpPr>
            <p:cNvPr id="15815" name=""/>
            <p:cNvSpPr/>
            <p:nvPr/>
          </p:nvSpPr>
          <p:spPr>
            <a:xfrm>
              <a:off x="7451640" y="3573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6" name=""/>
            <p:cNvSpPr/>
            <p:nvPr/>
          </p:nvSpPr>
          <p:spPr>
            <a:xfrm>
              <a:off x="7513200" y="3573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17" name=""/>
          <p:cNvSpPr/>
          <p:nvPr/>
        </p:nvSpPr>
        <p:spPr>
          <a:xfrm>
            <a:off x="3995640" y="472428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8" name=""/>
          <p:cNvSpPr txBox="1"/>
          <p:nvPr/>
        </p:nvSpPr>
        <p:spPr>
          <a:xfrm>
            <a:off x="4067280" y="4724280"/>
            <a:ext cx="433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ухан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дежд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19" name=""/>
          <p:cNvSpPr/>
          <p:nvPr/>
        </p:nvSpPr>
        <p:spPr>
          <a:xfrm>
            <a:off x="3780000" y="3789360"/>
            <a:ext cx="792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0" name=""/>
          <p:cNvSpPr txBox="1"/>
          <p:nvPr/>
        </p:nvSpPr>
        <p:spPr>
          <a:xfrm>
            <a:off x="3851280" y="3789360"/>
            <a:ext cx="649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п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21" name=""/>
          <p:cNvSpPr/>
          <p:nvPr/>
        </p:nvSpPr>
        <p:spPr>
          <a:xfrm>
            <a:off x="1042920" y="4292640"/>
            <a:ext cx="289080" cy="36036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2" name="">
            <a:hlinkClick r:id="rId34" action="ppaction://hlinksldjump"/>
          </p:cNvPr>
          <p:cNvSpPr/>
          <p:nvPr/>
        </p:nvSpPr>
        <p:spPr>
          <a:xfrm>
            <a:off x="1332000" y="4292640"/>
            <a:ext cx="288720" cy="3603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23" name=""/>
          <p:cNvGrpSpPr/>
          <p:nvPr/>
        </p:nvGrpSpPr>
        <p:grpSpPr>
          <a:xfrm>
            <a:off x="1187280" y="4579920"/>
            <a:ext cx="215640" cy="144360"/>
            <a:chOff x="1187280" y="4579920"/>
            <a:chExt cx="215640" cy="144360"/>
          </a:xfrm>
        </p:grpSpPr>
        <p:sp>
          <p:nvSpPr>
            <p:cNvPr id="15824" name=""/>
            <p:cNvSpPr/>
            <p:nvPr/>
          </p:nvSpPr>
          <p:spPr>
            <a:xfrm>
              <a:off x="1187280" y="4579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5" name=""/>
            <p:cNvSpPr/>
            <p:nvPr/>
          </p:nvSpPr>
          <p:spPr>
            <a:xfrm>
              <a:off x="1248840" y="4579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26" name=""/>
          <p:cNvSpPr/>
          <p:nvPr/>
        </p:nvSpPr>
        <p:spPr>
          <a:xfrm>
            <a:off x="898560" y="4797360"/>
            <a:ext cx="1008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7" name=""/>
          <p:cNvSpPr txBox="1"/>
          <p:nvPr/>
        </p:nvSpPr>
        <p:spPr>
          <a:xfrm>
            <a:off x="971640" y="4797360"/>
            <a:ext cx="874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5828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5829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0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1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2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33" name=""/>
          <p:cNvGrpSpPr/>
          <p:nvPr/>
        </p:nvGrpSpPr>
        <p:grpSpPr>
          <a:xfrm>
            <a:off x="-1424520" y="5436000"/>
            <a:ext cx="3220920" cy="2845080"/>
            <a:chOff x="-1424520" y="5436000"/>
            <a:chExt cx="3220920" cy="2845080"/>
          </a:xfrm>
        </p:grpSpPr>
        <p:grpSp>
          <p:nvGrpSpPr>
            <p:cNvPr id="15834" name=""/>
            <p:cNvGrpSpPr/>
            <p:nvPr/>
          </p:nvGrpSpPr>
          <p:grpSpPr>
            <a:xfrm>
              <a:off x="-1190880" y="5689440"/>
              <a:ext cx="2987280" cy="2591640"/>
              <a:chOff x="-1190880" y="5689440"/>
              <a:chExt cx="2987280" cy="2591640"/>
            </a:xfrm>
          </p:grpSpPr>
          <p:sp>
            <p:nvSpPr>
              <p:cNvPr id="15835" name=""/>
              <p:cNvSpPr/>
              <p:nvPr/>
            </p:nvSpPr>
            <p:spPr>
              <a:xfrm rot="2638800">
                <a:off x="537480" y="5910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6" name=""/>
              <p:cNvSpPr/>
              <p:nvPr/>
            </p:nvSpPr>
            <p:spPr>
              <a:xfrm rot="2638800">
                <a:off x="-501480" y="62215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37" name=""/>
            <p:cNvGrpSpPr/>
            <p:nvPr/>
          </p:nvGrpSpPr>
          <p:grpSpPr>
            <a:xfrm>
              <a:off x="-1324800" y="5436000"/>
              <a:ext cx="2504160" cy="2196360"/>
              <a:chOff x="-1324800" y="5436000"/>
              <a:chExt cx="2504160" cy="2196360"/>
            </a:xfrm>
          </p:grpSpPr>
          <p:sp>
            <p:nvSpPr>
              <p:cNvPr id="15838" name=""/>
              <p:cNvSpPr/>
              <p:nvPr/>
            </p:nvSpPr>
            <p:spPr>
              <a:xfrm rot="2638800">
                <a:off x="133920" y="56444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9" name=""/>
              <p:cNvSpPr/>
              <p:nvPr/>
            </p:nvSpPr>
            <p:spPr>
              <a:xfrm rot="2638800">
                <a:off x="-776880" y="5870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40" name=""/>
            <p:cNvGrpSpPr/>
            <p:nvPr/>
          </p:nvGrpSpPr>
          <p:grpSpPr>
            <a:xfrm>
              <a:off x="-1424520" y="5593680"/>
              <a:ext cx="1783440" cy="2475720"/>
              <a:chOff x="-1424520" y="5593680"/>
              <a:chExt cx="1783440" cy="2475720"/>
            </a:xfrm>
          </p:grpSpPr>
          <p:sp>
            <p:nvSpPr>
              <p:cNvPr id="15841" name=""/>
              <p:cNvSpPr/>
              <p:nvPr/>
            </p:nvSpPr>
            <p:spPr>
              <a:xfrm rot="1215600">
                <a:off x="-517320" y="57067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2" name=""/>
              <p:cNvSpPr/>
              <p:nvPr/>
            </p:nvSpPr>
            <p:spPr>
              <a:xfrm rot="1215600">
                <a:off x="-1173600" y="6296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43" name=""/>
            <p:cNvGrpSpPr/>
            <p:nvPr/>
          </p:nvGrpSpPr>
          <p:grpSpPr>
            <a:xfrm>
              <a:off x="-913320" y="6016320"/>
              <a:ext cx="1586880" cy="1977120"/>
              <a:chOff x="-913320" y="6016320"/>
              <a:chExt cx="1586880" cy="1977120"/>
            </a:xfrm>
          </p:grpSpPr>
          <p:sp>
            <p:nvSpPr>
              <p:cNvPr id="15844" name=""/>
              <p:cNvSpPr/>
              <p:nvPr/>
            </p:nvSpPr>
            <p:spPr>
              <a:xfrm rot="2638800">
                <a:off x="-167040" y="6216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5" name=""/>
              <p:cNvSpPr/>
              <p:nvPr/>
            </p:nvSpPr>
            <p:spPr>
              <a:xfrm rot="2638800">
                <a:off x="-509400" y="66268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46" name=""/>
          <p:cNvGrpSpPr/>
          <p:nvPr/>
        </p:nvGrpSpPr>
        <p:grpSpPr>
          <a:xfrm>
            <a:off x="7750080" y="5124240"/>
            <a:ext cx="2718360" cy="3318840"/>
            <a:chOff x="7750080" y="5124240"/>
            <a:chExt cx="2718360" cy="3318840"/>
          </a:xfrm>
        </p:grpSpPr>
        <p:grpSp>
          <p:nvGrpSpPr>
            <p:cNvPr id="15847" name=""/>
            <p:cNvGrpSpPr/>
            <p:nvPr/>
          </p:nvGrpSpPr>
          <p:grpSpPr>
            <a:xfrm>
              <a:off x="8046720" y="5124240"/>
              <a:ext cx="2421720" cy="3106440"/>
              <a:chOff x="8046720" y="5124240"/>
              <a:chExt cx="2421720" cy="3106440"/>
            </a:xfrm>
          </p:grpSpPr>
          <p:sp>
            <p:nvSpPr>
              <p:cNvPr id="15848" name=""/>
              <p:cNvSpPr/>
              <p:nvPr/>
            </p:nvSpPr>
            <p:spPr>
              <a:xfrm rot="19135800">
                <a:off x="8253720" y="5343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9" name=""/>
              <p:cNvSpPr/>
              <p:nvPr/>
            </p:nvSpPr>
            <p:spPr>
              <a:xfrm rot="19135800">
                <a:off x="9302760" y="61426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0" name=""/>
            <p:cNvGrpSpPr/>
            <p:nvPr/>
          </p:nvGrpSpPr>
          <p:grpSpPr>
            <a:xfrm>
              <a:off x="7750080" y="5708520"/>
              <a:ext cx="2064960" cy="2595240"/>
              <a:chOff x="7750080" y="5708520"/>
              <a:chExt cx="2064960" cy="2595240"/>
            </a:xfrm>
          </p:grpSpPr>
          <p:sp>
            <p:nvSpPr>
              <p:cNvPr id="15851" name=""/>
              <p:cNvSpPr/>
              <p:nvPr/>
            </p:nvSpPr>
            <p:spPr>
              <a:xfrm rot="19135800">
                <a:off x="7887960" y="59133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2" name=""/>
              <p:cNvSpPr/>
              <p:nvPr/>
            </p:nvSpPr>
            <p:spPr>
              <a:xfrm rot="19135800">
                <a:off x="8708040" y="652176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3" name=""/>
            <p:cNvGrpSpPr/>
            <p:nvPr/>
          </p:nvGrpSpPr>
          <p:grpSpPr>
            <a:xfrm>
              <a:off x="7829640" y="6508440"/>
              <a:ext cx="2462400" cy="1934640"/>
              <a:chOff x="7829640" y="6508440"/>
              <a:chExt cx="2462400" cy="1934640"/>
            </a:xfrm>
          </p:grpSpPr>
          <p:sp>
            <p:nvSpPr>
              <p:cNvPr id="15854" name=""/>
              <p:cNvSpPr/>
              <p:nvPr/>
            </p:nvSpPr>
            <p:spPr>
              <a:xfrm rot="17713200">
                <a:off x="7923960" y="665856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5" name=""/>
              <p:cNvSpPr/>
              <p:nvPr/>
            </p:nvSpPr>
            <p:spPr>
              <a:xfrm rot="17713200">
                <a:off x="8788680" y="6791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56" name=""/>
            <p:cNvGrpSpPr/>
            <p:nvPr/>
          </p:nvGrpSpPr>
          <p:grpSpPr>
            <a:xfrm>
              <a:off x="8292960" y="6254640"/>
              <a:ext cx="1913760" cy="1673280"/>
              <a:chOff x="8292960" y="6254640"/>
              <a:chExt cx="1913760" cy="1673280"/>
            </a:xfrm>
          </p:grpSpPr>
          <p:sp>
            <p:nvSpPr>
              <p:cNvPr id="15857" name=""/>
              <p:cNvSpPr/>
              <p:nvPr/>
            </p:nvSpPr>
            <p:spPr>
              <a:xfrm rot="19135800">
                <a:off x="8360280" y="64486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8" name=""/>
              <p:cNvSpPr/>
              <p:nvPr/>
            </p:nvSpPr>
            <p:spPr>
              <a:xfrm rot="19135800">
                <a:off x="9290880" y="6547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59" name=""/>
          <p:cNvGrpSpPr/>
          <p:nvPr/>
        </p:nvGrpSpPr>
        <p:grpSpPr>
          <a:xfrm>
            <a:off x="7176960" y="-1568160"/>
            <a:ext cx="3102840" cy="2948040"/>
            <a:chOff x="7176960" y="-1568160"/>
            <a:chExt cx="3102840" cy="2948040"/>
          </a:xfrm>
        </p:grpSpPr>
        <p:grpSp>
          <p:nvGrpSpPr>
            <p:cNvPr id="15860" name=""/>
            <p:cNvGrpSpPr/>
            <p:nvPr/>
          </p:nvGrpSpPr>
          <p:grpSpPr>
            <a:xfrm>
              <a:off x="7176960" y="-1568160"/>
              <a:ext cx="2850840" cy="2738520"/>
              <a:chOff x="7176960" y="-1568160"/>
              <a:chExt cx="2850840" cy="2738520"/>
            </a:xfrm>
          </p:grpSpPr>
          <p:sp>
            <p:nvSpPr>
              <p:cNvPr id="15861" name=""/>
              <p:cNvSpPr/>
              <p:nvPr/>
            </p:nvSpPr>
            <p:spPr>
              <a:xfrm rot="13152000">
                <a:off x="7382160" y="-70200"/>
                <a:ext cx="1050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2" name=""/>
              <p:cNvSpPr/>
              <p:nvPr/>
            </p:nvSpPr>
            <p:spPr>
              <a:xfrm rot="13152000">
                <a:off x="8884800" y="-1653840"/>
                <a:ext cx="50796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63" name=""/>
            <p:cNvGrpSpPr/>
            <p:nvPr/>
          </p:nvGrpSpPr>
          <p:grpSpPr>
            <a:xfrm>
              <a:off x="7821000" y="-928800"/>
              <a:ext cx="2399040" cy="2308680"/>
              <a:chOff x="7821000" y="-928800"/>
              <a:chExt cx="2399040" cy="2308680"/>
            </a:xfrm>
          </p:grpSpPr>
          <p:sp>
            <p:nvSpPr>
              <p:cNvPr id="15864" name=""/>
              <p:cNvSpPr/>
              <p:nvPr/>
            </p:nvSpPr>
            <p:spPr>
              <a:xfrm rot="13152000">
                <a:off x="7958880" y="4172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5" name=""/>
              <p:cNvSpPr/>
              <p:nvPr/>
            </p:nvSpPr>
            <p:spPr>
              <a:xfrm rot="13152000">
                <a:off x="9129960" y="-948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66" name=""/>
            <p:cNvGrpSpPr/>
            <p:nvPr/>
          </p:nvGrpSpPr>
          <p:grpSpPr>
            <a:xfrm>
              <a:off x="8655840" y="-1323720"/>
              <a:ext cx="1623960" cy="2471760"/>
              <a:chOff x="8655840" y="-1323720"/>
              <a:chExt cx="1623960" cy="2471760"/>
            </a:xfrm>
          </p:grpSpPr>
          <p:sp>
            <p:nvSpPr>
              <p:cNvPr id="15867" name=""/>
              <p:cNvSpPr/>
              <p:nvPr/>
            </p:nvSpPr>
            <p:spPr>
              <a:xfrm rot="11728800">
                <a:off x="8735400" y="353520"/>
                <a:ext cx="77832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8" name=""/>
              <p:cNvSpPr/>
              <p:nvPr/>
            </p:nvSpPr>
            <p:spPr>
              <a:xfrm rot="11728800">
                <a:off x="9011880" y="-1210680"/>
                <a:ext cx="106848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69" name=""/>
            <p:cNvGrpSpPr/>
            <p:nvPr/>
          </p:nvGrpSpPr>
          <p:grpSpPr>
            <a:xfrm>
              <a:off x="8284680" y="-1257120"/>
              <a:ext cx="1492200" cy="2023920"/>
              <a:chOff x="8284680" y="-1257120"/>
              <a:chExt cx="1492200" cy="2023920"/>
            </a:xfrm>
          </p:grpSpPr>
          <p:sp>
            <p:nvSpPr>
              <p:cNvPr id="15870" name=""/>
              <p:cNvSpPr/>
              <p:nvPr/>
            </p:nvSpPr>
            <p:spPr>
              <a:xfrm rot="13152000">
                <a:off x="8353800" y="81000"/>
                <a:ext cx="77688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1" name=""/>
              <p:cNvSpPr/>
              <p:nvPr/>
            </p:nvSpPr>
            <p:spPr>
              <a:xfrm rot="13152000">
                <a:off x="8872560" y="-1244520"/>
                <a:ext cx="52848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72" name=""/>
          <p:cNvGrpSpPr/>
          <p:nvPr/>
        </p:nvGrpSpPr>
        <p:grpSpPr>
          <a:xfrm>
            <a:off x="-1575360" y="-1271520"/>
            <a:ext cx="2946600" cy="3104640"/>
            <a:chOff x="-1575360" y="-1271520"/>
            <a:chExt cx="2946600" cy="3104640"/>
          </a:xfrm>
        </p:grpSpPr>
        <p:grpSp>
          <p:nvGrpSpPr>
            <p:cNvPr id="15873" name=""/>
            <p:cNvGrpSpPr/>
            <p:nvPr/>
          </p:nvGrpSpPr>
          <p:grpSpPr>
            <a:xfrm>
              <a:off x="-1575360" y="-1019880"/>
              <a:ext cx="2736720" cy="2853000"/>
              <a:chOff x="-1575360" y="-1019880"/>
              <a:chExt cx="2736720" cy="2853000"/>
            </a:xfrm>
          </p:grpSpPr>
          <p:sp>
            <p:nvSpPr>
              <p:cNvPr id="15874" name=""/>
              <p:cNvSpPr/>
              <p:nvPr/>
            </p:nvSpPr>
            <p:spPr>
              <a:xfrm rot="7755600">
                <a:off x="-92880" y="590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5" name=""/>
              <p:cNvSpPr/>
              <p:nvPr/>
            </p:nvSpPr>
            <p:spPr>
              <a:xfrm rot="7755600">
                <a:off x="-820800" y="-12250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76" name=""/>
            <p:cNvGrpSpPr/>
            <p:nvPr/>
          </p:nvGrpSpPr>
          <p:grpSpPr>
            <a:xfrm>
              <a:off x="-936000" y="-1211400"/>
              <a:ext cx="2307240" cy="2400840"/>
              <a:chOff x="-936000" y="-1211400"/>
              <a:chExt cx="2307240" cy="2400840"/>
            </a:xfrm>
          </p:grpSpPr>
          <p:sp>
            <p:nvSpPr>
              <p:cNvPr id="15877" name=""/>
              <p:cNvSpPr/>
              <p:nvPr/>
            </p:nvSpPr>
            <p:spPr>
              <a:xfrm rot="7755600">
                <a:off x="334800" y="216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8" name=""/>
              <p:cNvSpPr/>
              <p:nvPr/>
            </p:nvSpPr>
            <p:spPr>
              <a:xfrm rot="7755600">
                <a:off x="-340560" y="-1318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79" name=""/>
            <p:cNvGrpSpPr/>
            <p:nvPr/>
          </p:nvGrpSpPr>
          <p:grpSpPr>
            <a:xfrm>
              <a:off x="-1331280" y="-1271520"/>
              <a:ext cx="2471760" cy="1626120"/>
              <a:chOff x="-1331280" y="-1271520"/>
              <a:chExt cx="2471760" cy="1626120"/>
            </a:xfrm>
          </p:grpSpPr>
          <p:sp>
            <p:nvSpPr>
              <p:cNvPr id="15880" name=""/>
              <p:cNvSpPr/>
              <p:nvPr/>
            </p:nvSpPr>
            <p:spPr>
              <a:xfrm rot="6332400">
                <a:off x="307800" y="-4662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1" name=""/>
              <p:cNvSpPr/>
              <p:nvPr/>
            </p:nvSpPr>
            <p:spPr>
              <a:xfrm rot="6332400">
                <a:off x="-933120" y="-13561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82" name=""/>
            <p:cNvGrpSpPr/>
            <p:nvPr/>
          </p:nvGrpSpPr>
          <p:grpSpPr>
            <a:xfrm>
              <a:off x="-1265040" y="-768240"/>
              <a:ext cx="2023920" cy="1493640"/>
              <a:chOff x="-1265040" y="-768240"/>
              <a:chExt cx="2023920" cy="1493640"/>
            </a:xfrm>
          </p:grpSpPr>
          <p:sp>
            <p:nvSpPr>
              <p:cNvPr id="15883" name=""/>
              <p:cNvSpPr/>
              <p:nvPr/>
            </p:nvSpPr>
            <p:spPr>
              <a:xfrm rot="7755600">
                <a:off x="-67680" y="190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4" name=""/>
              <p:cNvSpPr/>
              <p:nvPr/>
            </p:nvSpPr>
            <p:spPr>
              <a:xfrm rot="7755600">
                <a:off x="-829080" y="-8157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85" name=""/>
          <p:cNvSpPr/>
          <p:nvPr/>
        </p:nvSpPr>
        <p:spPr>
          <a:xfrm>
            <a:off x="324000" y="2133720"/>
            <a:ext cx="288720" cy="36036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6" name=""/>
          <p:cNvSpPr/>
          <p:nvPr/>
        </p:nvSpPr>
        <p:spPr>
          <a:xfrm>
            <a:off x="250920" y="256536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7" name=""/>
          <p:cNvSpPr txBox="1"/>
          <p:nvPr/>
        </p:nvSpPr>
        <p:spPr>
          <a:xfrm>
            <a:off x="322200" y="2565360"/>
            <a:ext cx="370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888" name=""/>
          <p:cNvSpPr/>
          <p:nvPr/>
        </p:nvSpPr>
        <p:spPr>
          <a:xfrm>
            <a:off x="971640" y="2997360"/>
            <a:ext cx="288720" cy="36036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9" name=""/>
          <p:cNvSpPr/>
          <p:nvPr/>
        </p:nvSpPr>
        <p:spPr>
          <a:xfrm>
            <a:off x="1258920" y="2997360"/>
            <a:ext cx="288720" cy="3603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90" name=""/>
          <p:cNvGrpSpPr/>
          <p:nvPr/>
        </p:nvGrpSpPr>
        <p:grpSpPr>
          <a:xfrm>
            <a:off x="1187280" y="3286080"/>
            <a:ext cx="215640" cy="144360"/>
            <a:chOff x="1187280" y="3286080"/>
            <a:chExt cx="215640" cy="144360"/>
          </a:xfrm>
        </p:grpSpPr>
        <p:sp>
          <p:nvSpPr>
            <p:cNvPr id="15891" name=""/>
            <p:cNvSpPr/>
            <p:nvPr/>
          </p:nvSpPr>
          <p:spPr>
            <a:xfrm>
              <a:off x="1187280" y="3286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2" name=""/>
            <p:cNvSpPr/>
            <p:nvPr/>
          </p:nvSpPr>
          <p:spPr>
            <a:xfrm>
              <a:off x="1248840" y="32860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93" name=""/>
          <p:cNvSpPr/>
          <p:nvPr/>
        </p:nvSpPr>
        <p:spPr>
          <a:xfrm>
            <a:off x="611280" y="2997360"/>
            <a:ext cx="288720" cy="3603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4" name=""/>
          <p:cNvSpPr/>
          <p:nvPr/>
        </p:nvSpPr>
        <p:spPr>
          <a:xfrm>
            <a:off x="755640" y="328608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5" name=""/>
          <p:cNvSpPr/>
          <p:nvPr/>
        </p:nvSpPr>
        <p:spPr>
          <a:xfrm>
            <a:off x="971640" y="3286080"/>
            <a:ext cx="15372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6" name="">
            <a:hlinkClick r:id="rId40" action="ppaction://hlinksldjump"/>
          </p:cNvPr>
          <p:cNvSpPr/>
          <p:nvPr/>
        </p:nvSpPr>
        <p:spPr>
          <a:xfrm>
            <a:off x="682560" y="551664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7" name=""/>
          <p:cNvSpPr txBox="1"/>
          <p:nvPr/>
        </p:nvSpPr>
        <p:spPr>
          <a:xfrm>
            <a:off x="755640" y="5589720"/>
            <a:ext cx="719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ОСКВИЧЁ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98" name="">
            <a:hlinkClick r:id="rId41" action="ppaction://hlinksldjump"/>
          </p:cNvPr>
          <p:cNvSpPr/>
          <p:nvPr/>
        </p:nvSpPr>
        <p:spPr>
          <a:xfrm>
            <a:off x="34920" y="386064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9" name=""/>
          <p:cNvSpPr txBox="1"/>
          <p:nvPr/>
        </p:nvSpPr>
        <p:spPr>
          <a:xfrm>
            <a:off x="108000" y="3933720"/>
            <a:ext cx="574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00" name=""/>
          <p:cNvSpPr/>
          <p:nvPr/>
        </p:nvSpPr>
        <p:spPr>
          <a:xfrm>
            <a:off x="250920" y="3500280"/>
            <a:ext cx="6490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1" name=""/>
          <p:cNvSpPr txBox="1"/>
          <p:nvPr/>
        </p:nvSpPr>
        <p:spPr>
          <a:xfrm>
            <a:off x="339840" y="3500280"/>
            <a:ext cx="4968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5902" name="">
            <a:hlinkClick r:id="rId42" action="ppaction://hlinksldjump"/>
          </p:cNvPr>
          <p:cNvSpPr/>
          <p:nvPr/>
        </p:nvSpPr>
        <p:spPr>
          <a:xfrm>
            <a:off x="34920" y="486900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3" name=""/>
          <p:cNvSpPr txBox="1"/>
          <p:nvPr/>
        </p:nvSpPr>
        <p:spPr>
          <a:xfrm>
            <a:off x="108000" y="494172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4" name=""/>
          <p:cNvSpPr/>
          <p:nvPr/>
        </p:nvSpPr>
        <p:spPr>
          <a:xfrm rot="497400">
            <a:off x="7956360" y="3357720"/>
            <a:ext cx="333360" cy="790560"/>
          </a:xfrm>
          <a:custGeom>
            <a:avLst/>
            <a:gdLst/>
            <a:ahLst/>
            <a:rect l="l" t="t" r="r" b="b"/>
            <a:pathLst>
              <a:path w="210" h="498">
                <a:moveTo>
                  <a:pt x="171" y="447"/>
                </a:moveTo>
                <a:cubicBezTo>
                  <a:pt x="145" y="396"/>
                  <a:pt x="62" y="189"/>
                  <a:pt x="40" y="122"/>
                </a:cubicBezTo>
                <a:cubicBezTo>
                  <a:pt x="18" y="54"/>
                  <a:pt x="46" y="61"/>
                  <a:pt x="40" y="41"/>
                </a:cubicBezTo>
                <a:cubicBezTo>
                  <a:pt x="34" y="20"/>
                  <a:pt x="0" y="2"/>
                  <a:pt x="3" y="1"/>
                </a:cubicBezTo>
                <a:cubicBezTo>
                  <a:pt x="7" y="0"/>
                  <a:pt x="50" y="22"/>
                  <a:pt x="58" y="36"/>
                </a:cubicBezTo>
                <a:cubicBezTo>
                  <a:pt x="66" y="51"/>
                  <a:pt x="50" y="58"/>
                  <a:pt x="53" y="84"/>
                </a:cubicBezTo>
                <a:cubicBezTo>
                  <a:pt x="56" y="111"/>
                  <a:pt x="54" y="139"/>
                  <a:pt x="78" y="196"/>
                </a:cubicBezTo>
                <a:cubicBezTo>
                  <a:pt x="101" y="254"/>
                  <a:pt x="180" y="389"/>
                  <a:pt x="195" y="431"/>
                </a:cubicBezTo>
                <a:cubicBezTo>
                  <a:pt x="210" y="473"/>
                  <a:pt x="197" y="498"/>
                  <a:pt x="171" y="447"/>
                </a:cubicBezTo>
                <a:close/>
              </a:path>
            </a:pathLst>
          </a:custGeom>
          <a:gradFill rotWithShape="0">
            <a:gsLst>
              <a:gs pos="0">
                <a:srgbClr val="2f1700"/>
              </a:gs>
              <a:gs pos="100000">
                <a:srgbClr val="663300"/>
              </a:gs>
            </a:gsLst>
            <a:lin ang="1300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5" name=""/>
          <p:cNvSpPr/>
          <p:nvPr/>
        </p:nvSpPr>
        <p:spPr>
          <a:xfrm>
            <a:off x="5797440" y="5165640"/>
            <a:ext cx="3340080" cy="1486080"/>
          </a:xfrm>
          <a:custGeom>
            <a:avLst/>
            <a:gdLst/>
            <a:ahLst/>
            <a:rect l="l" t="t" r="r" b="b"/>
            <a:pathLst>
              <a:path w="2104" h="936">
                <a:moveTo>
                  <a:pt x="1150" y="634"/>
                </a:moveTo>
                <a:cubicBezTo>
                  <a:pt x="1081" y="609"/>
                  <a:pt x="1015" y="536"/>
                  <a:pt x="964" y="484"/>
                </a:cubicBezTo>
                <a:cubicBezTo>
                  <a:pt x="913" y="432"/>
                  <a:pt x="875" y="356"/>
                  <a:pt x="844" y="322"/>
                </a:cubicBezTo>
                <a:cubicBezTo>
                  <a:pt x="813" y="288"/>
                  <a:pt x="800" y="291"/>
                  <a:pt x="778" y="280"/>
                </a:cubicBezTo>
                <a:cubicBezTo>
                  <a:pt x="756" y="269"/>
                  <a:pt x="751" y="256"/>
                  <a:pt x="712" y="256"/>
                </a:cubicBezTo>
                <a:cubicBezTo>
                  <a:pt x="673" y="256"/>
                  <a:pt x="597" y="275"/>
                  <a:pt x="542" y="280"/>
                </a:cubicBezTo>
                <a:cubicBezTo>
                  <a:pt x="487" y="285"/>
                  <a:pt x="425" y="287"/>
                  <a:pt x="380" y="286"/>
                </a:cubicBezTo>
                <a:cubicBezTo>
                  <a:pt x="335" y="285"/>
                  <a:pt x="314" y="282"/>
                  <a:pt x="274" y="274"/>
                </a:cubicBezTo>
                <a:cubicBezTo>
                  <a:pt x="234" y="266"/>
                  <a:pt x="176" y="257"/>
                  <a:pt x="142" y="238"/>
                </a:cubicBezTo>
                <a:cubicBezTo>
                  <a:pt x="108" y="219"/>
                  <a:pt x="89" y="181"/>
                  <a:pt x="70" y="160"/>
                </a:cubicBezTo>
                <a:cubicBezTo>
                  <a:pt x="51" y="139"/>
                  <a:pt x="34" y="123"/>
                  <a:pt x="28" y="112"/>
                </a:cubicBezTo>
                <a:cubicBezTo>
                  <a:pt x="22" y="101"/>
                  <a:pt x="37" y="109"/>
                  <a:pt x="34" y="94"/>
                </a:cubicBezTo>
                <a:cubicBezTo>
                  <a:pt x="31" y="79"/>
                  <a:pt x="0" y="21"/>
                  <a:pt x="9" y="23"/>
                </a:cubicBezTo>
                <a:cubicBezTo>
                  <a:pt x="18" y="25"/>
                  <a:pt x="65" y="77"/>
                  <a:pt x="86" y="106"/>
                </a:cubicBezTo>
                <a:cubicBezTo>
                  <a:pt x="107" y="135"/>
                  <a:pt x="97" y="172"/>
                  <a:pt x="136" y="196"/>
                </a:cubicBezTo>
                <a:cubicBezTo>
                  <a:pt x="175" y="220"/>
                  <a:pt x="254" y="242"/>
                  <a:pt x="320" y="250"/>
                </a:cubicBezTo>
                <a:cubicBezTo>
                  <a:pt x="386" y="258"/>
                  <a:pt x="461" y="254"/>
                  <a:pt x="530" y="244"/>
                </a:cubicBezTo>
                <a:cubicBezTo>
                  <a:pt x="599" y="234"/>
                  <a:pt x="657" y="222"/>
                  <a:pt x="734" y="190"/>
                </a:cubicBezTo>
                <a:cubicBezTo>
                  <a:pt x="811" y="158"/>
                  <a:pt x="893" y="82"/>
                  <a:pt x="994" y="52"/>
                </a:cubicBezTo>
                <a:cubicBezTo>
                  <a:pt x="1095" y="22"/>
                  <a:pt x="1173" y="0"/>
                  <a:pt x="1342" y="10"/>
                </a:cubicBezTo>
                <a:cubicBezTo>
                  <a:pt x="1511" y="20"/>
                  <a:pt x="1908" y="68"/>
                  <a:pt x="2006" y="112"/>
                </a:cubicBezTo>
                <a:cubicBezTo>
                  <a:pt x="2104" y="156"/>
                  <a:pt x="1984" y="265"/>
                  <a:pt x="1928" y="274"/>
                </a:cubicBezTo>
                <a:cubicBezTo>
                  <a:pt x="1872" y="283"/>
                  <a:pt x="1774" y="197"/>
                  <a:pt x="1672" y="166"/>
                </a:cubicBezTo>
                <a:cubicBezTo>
                  <a:pt x="1570" y="135"/>
                  <a:pt x="1412" y="99"/>
                  <a:pt x="1318" y="88"/>
                </a:cubicBezTo>
                <a:cubicBezTo>
                  <a:pt x="1224" y="77"/>
                  <a:pt x="1171" y="90"/>
                  <a:pt x="1108" y="100"/>
                </a:cubicBezTo>
                <a:cubicBezTo>
                  <a:pt x="1045" y="110"/>
                  <a:pt x="988" y="128"/>
                  <a:pt x="940" y="148"/>
                </a:cubicBezTo>
                <a:cubicBezTo>
                  <a:pt x="892" y="168"/>
                  <a:pt x="831" y="201"/>
                  <a:pt x="820" y="220"/>
                </a:cubicBezTo>
                <a:cubicBezTo>
                  <a:pt x="809" y="239"/>
                  <a:pt x="854" y="239"/>
                  <a:pt x="874" y="262"/>
                </a:cubicBezTo>
                <a:cubicBezTo>
                  <a:pt x="894" y="285"/>
                  <a:pt x="911" y="321"/>
                  <a:pt x="938" y="358"/>
                </a:cubicBezTo>
                <a:cubicBezTo>
                  <a:pt x="965" y="395"/>
                  <a:pt x="1002" y="453"/>
                  <a:pt x="1034" y="484"/>
                </a:cubicBezTo>
                <a:cubicBezTo>
                  <a:pt x="1066" y="515"/>
                  <a:pt x="1082" y="528"/>
                  <a:pt x="1132" y="544"/>
                </a:cubicBezTo>
                <a:cubicBezTo>
                  <a:pt x="1182" y="560"/>
                  <a:pt x="1276" y="577"/>
                  <a:pt x="1336" y="580"/>
                </a:cubicBezTo>
                <a:cubicBezTo>
                  <a:pt x="1396" y="583"/>
                  <a:pt x="1430" y="565"/>
                  <a:pt x="1492" y="562"/>
                </a:cubicBezTo>
                <a:cubicBezTo>
                  <a:pt x="1554" y="559"/>
                  <a:pt x="1646" y="557"/>
                  <a:pt x="1706" y="562"/>
                </a:cubicBezTo>
                <a:cubicBezTo>
                  <a:pt x="1766" y="567"/>
                  <a:pt x="1827" y="573"/>
                  <a:pt x="1850" y="592"/>
                </a:cubicBezTo>
                <a:cubicBezTo>
                  <a:pt x="1873" y="611"/>
                  <a:pt x="1878" y="619"/>
                  <a:pt x="1844" y="676"/>
                </a:cubicBezTo>
                <a:cubicBezTo>
                  <a:pt x="1810" y="733"/>
                  <a:pt x="1672" y="936"/>
                  <a:pt x="1648" y="934"/>
                </a:cubicBezTo>
                <a:cubicBezTo>
                  <a:pt x="1624" y="932"/>
                  <a:pt x="1735" y="701"/>
                  <a:pt x="1702" y="664"/>
                </a:cubicBezTo>
                <a:cubicBezTo>
                  <a:pt x="1669" y="627"/>
                  <a:pt x="1542" y="717"/>
                  <a:pt x="1450" y="712"/>
                </a:cubicBezTo>
                <a:cubicBezTo>
                  <a:pt x="1358" y="707"/>
                  <a:pt x="1212" y="650"/>
                  <a:pt x="1150" y="634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6" name=""/>
          <p:cNvSpPr/>
          <p:nvPr/>
        </p:nvSpPr>
        <p:spPr>
          <a:xfrm>
            <a:off x="738360" y="181080"/>
            <a:ext cx="7367400" cy="6592680"/>
          </a:xfrm>
          <a:custGeom>
            <a:avLst/>
            <a:gdLst/>
            <a:ahLst/>
            <a:rect l="l" t="t" r="r" b="b"/>
            <a:pathLst>
              <a:path w="4641" h="4153">
                <a:moveTo>
                  <a:pt x="1839" y="4115"/>
                </a:moveTo>
                <a:cubicBezTo>
                  <a:pt x="1821" y="4153"/>
                  <a:pt x="1990" y="4022"/>
                  <a:pt x="2026" y="4011"/>
                </a:cubicBezTo>
                <a:cubicBezTo>
                  <a:pt x="2062" y="4000"/>
                  <a:pt x="2002" y="4069"/>
                  <a:pt x="2054" y="4046"/>
                </a:cubicBezTo>
                <a:cubicBezTo>
                  <a:pt x="2106" y="4023"/>
                  <a:pt x="2268" y="3895"/>
                  <a:pt x="2338" y="3872"/>
                </a:cubicBezTo>
                <a:cubicBezTo>
                  <a:pt x="2408" y="3849"/>
                  <a:pt x="2419" y="3873"/>
                  <a:pt x="2471" y="3909"/>
                </a:cubicBezTo>
                <a:cubicBezTo>
                  <a:pt x="2523" y="3945"/>
                  <a:pt x="2622" y="4075"/>
                  <a:pt x="2652" y="4090"/>
                </a:cubicBezTo>
                <a:cubicBezTo>
                  <a:pt x="2682" y="4105"/>
                  <a:pt x="2644" y="4022"/>
                  <a:pt x="2652" y="3999"/>
                </a:cubicBezTo>
                <a:cubicBezTo>
                  <a:pt x="2660" y="3976"/>
                  <a:pt x="2653" y="3946"/>
                  <a:pt x="2698" y="3954"/>
                </a:cubicBezTo>
                <a:cubicBezTo>
                  <a:pt x="2743" y="3962"/>
                  <a:pt x="2856" y="4030"/>
                  <a:pt x="2924" y="4045"/>
                </a:cubicBezTo>
                <a:cubicBezTo>
                  <a:pt x="2992" y="4060"/>
                  <a:pt x="3091" y="4053"/>
                  <a:pt x="3106" y="4045"/>
                </a:cubicBezTo>
                <a:cubicBezTo>
                  <a:pt x="3121" y="4037"/>
                  <a:pt x="3045" y="4007"/>
                  <a:pt x="3015" y="3999"/>
                </a:cubicBezTo>
                <a:cubicBezTo>
                  <a:pt x="2985" y="3991"/>
                  <a:pt x="2969" y="4022"/>
                  <a:pt x="2924" y="3999"/>
                </a:cubicBezTo>
                <a:cubicBezTo>
                  <a:pt x="2879" y="3976"/>
                  <a:pt x="2796" y="3901"/>
                  <a:pt x="2743" y="3863"/>
                </a:cubicBezTo>
                <a:cubicBezTo>
                  <a:pt x="2690" y="3825"/>
                  <a:pt x="2643" y="3829"/>
                  <a:pt x="2607" y="3773"/>
                </a:cubicBezTo>
                <a:cubicBezTo>
                  <a:pt x="2571" y="3717"/>
                  <a:pt x="2534" y="3586"/>
                  <a:pt x="2526" y="3525"/>
                </a:cubicBezTo>
                <a:cubicBezTo>
                  <a:pt x="2518" y="3464"/>
                  <a:pt x="2530" y="3459"/>
                  <a:pt x="2561" y="3404"/>
                </a:cubicBezTo>
                <a:cubicBezTo>
                  <a:pt x="2592" y="3349"/>
                  <a:pt x="2650" y="3259"/>
                  <a:pt x="2713" y="3196"/>
                </a:cubicBezTo>
                <a:cubicBezTo>
                  <a:pt x="2776" y="3133"/>
                  <a:pt x="2870" y="3038"/>
                  <a:pt x="2942" y="3023"/>
                </a:cubicBezTo>
                <a:cubicBezTo>
                  <a:pt x="3014" y="3008"/>
                  <a:pt x="3066" y="3060"/>
                  <a:pt x="3144" y="3106"/>
                </a:cubicBezTo>
                <a:cubicBezTo>
                  <a:pt x="3222" y="3152"/>
                  <a:pt x="3347" y="3263"/>
                  <a:pt x="3414" y="3300"/>
                </a:cubicBezTo>
                <a:cubicBezTo>
                  <a:pt x="3481" y="3337"/>
                  <a:pt x="3502" y="3323"/>
                  <a:pt x="3546" y="3328"/>
                </a:cubicBezTo>
                <a:cubicBezTo>
                  <a:pt x="3590" y="3333"/>
                  <a:pt x="3629" y="3351"/>
                  <a:pt x="3678" y="3328"/>
                </a:cubicBezTo>
                <a:cubicBezTo>
                  <a:pt x="3727" y="3305"/>
                  <a:pt x="3792" y="3231"/>
                  <a:pt x="3843" y="3192"/>
                </a:cubicBezTo>
                <a:cubicBezTo>
                  <a:pt x="3894" y="3153"/>
                  <a:pt x="3943" y="3145"/>
                  <a:pt x="3987" y="3096"/>
                </a:cubicBezTo>
                <a:cubicBezTo>
                  <a:pt x="4031" y="3047"/>
                  <a:pt x="4068" y="2950"/>
                  <a:pt x="4107" y="2898"/>
                </a:cubicBezTo>
                <a:cubicBezTo>
                  <a:pt x="4146" y="2846"/>
                  <a:pt x="4171" y="2816"/>
                  <a:pt x="4221" y="2784"/>
                </a:cubicBezTo>
                <a:cubicBezTo>
                  <a:pt x="4271" y="2752"/>
                  <a:pt x="4360" y="2741"/>
                  <a:pt x="4407" y="2706"/>
                </a:cubicBezTo>
                <a:cubicBezTo>
                  <a:pt x="4454" y="2671"/>
                  <a:pt x="4481" y="2646"/>
                  <a:pt x="4503" y="2574"/>
                </a:cubicBezTo>
                <a:cubicBezTo>
                  <a:pt x="4525" y="2502"/>
                  <a:pt x="4517" y="2403"/>
                  <a:pt x="4539" y="2273"/>
                </a:cubicBezTo>
                <a:cubicBezTo>
                  <a:pt x="4561" y="2143"/>
                  <a:pt x="4641" y="1787"/>
                  <a:pt x="4636" y="1794"/>
                </a:cubicBezTo>
                <a:cubicBezTo>
                  <a:pt x="4631" y="1801"/>
                  <a:pt x="4534" y="2202"/>
                  <a:pt x="4511" y="2315"/>
                </a:cubicBezTo>
                <a:cubicBezTo>
                  <a:pt x="4488" y="2428"/>
                  <a:pt x="4510" y="2427"/>
                  <a:pt x="4497" y="2472"/>
                </a:cubicBezTo>
                <a:cubicBezTo>
                  <a:pt x="4484" y="2517"/>
                  <a:pt x="4446" y="2574"/>
                  <a:pt x="4431" y="2586"/>
                </a:cubicBezTo>
                <a:cubicBezTo>
                  <a:pt x="4416" y="2598"/>
                  <a:pt x="4418" y="2570"/>
                  <a:pt x="4407" y="2544"/>
                </a:cubicBezTo>
                <a:cubicBezTo>
                  <a:pt x="4396" y="2518"/>
                  <a:pt x="4380" y="2481"/>
                  <a:pt x="4365" y="2430"/>
                </a:cubicBezTo>
                <a:cubicBezTo>
                  <a:pt x="4350" y="2379"/>
                  <a:pt x="4341" y="2373"/>
                  <a:pt x="4316" y="2239"/>
                </a:cubicBezTo>
                <a:cubicBezTo>
                  <a:pt x="4291" y="2105"/>
                  <a:pt x="4225" y="1680"/>
                  <a:pt x="4212" y="1628"/>
                </a:cubicBezTo>
                <a:cubicBezTo>
                  <a:pt x="4199" y="1576"/>
                  <a:pt x="4226" y="1821"/>
                  <a:pt x="4240" y="1926"/>
                </a:cubicBezTo>
                <a:cubicBezTo>
                  <a:pt x="4254" y="2031"/>
                  <a:pt x="4279" y="2164"/>
                  <a:pt x="4296" y="2259"/>
                </a:cubicBezTo>
                <a:cubicBezTo>
                  <a:pt x="4313" y="2354"/>
                  <a:pt x="4333" y="2428"/>
                  <a:pt x="4344" y="2495"/>
                </a:cubicBezTo>
                <a:cubicBezTo>
                  <a:pt x="4355" y="2562"/>
                  <a:pt x="4397" y="2618"/>
                  <a:pt x="4365" y="2664"/>
                </a:cubicBezTo>
                <a:cubicBezTo>
                  <a:pt x="4333" y="2710"/>
                  <a:pt x="4219" y="2707"/>
                  <a:pt x="4149" y="2772"/>
                </a:cubicBezTo>
                <a:cubicBezTo>
                  <a:pt x="4079" y="2837"/>
                  <a:pt x="4001" y="2994"/>
                  <a:pt x="3945" y="3054"/>
                </a:cubicBezTo>
                <a:cubicBezTo>
                  <a:pt x="3889" y="3114"/>
                  <a:pt x="3861" y="3096"/>
                  <a:pt x="3813" y="3132"/>
                </a:cubicBezTo>
                <a:cubicBezTo>
                  <a:pt x="3765" y="3168"/>
                  <a:pt x="3702" y="3254"/>
                  <a:pt x="3657" y="3273"/>
                </a:cubicBezTo>
                <a:cubicBezTo>
                  <a:pt x="3612" y="3292"/>
                  <a:pt x="3547" y="3262"/>
                  <a:pt x="3539" y="3245"/>
                </a:cubicBezTo>
                <a:cubicBezTo>
                  <a:pt x="3531" y="3228"/>
                  <a:pt x="3581" y="3194"/>
                  <a:pt x="3609" y="3169"/>
                </a:cubicBezTo>
                <a:cubicBezTo>
                  <a:pt x="3637" y="3144"/>
                  <a:pt x="3674" y="3114"/>
                  <a:pt x="3706" y="3092"/>
                </a:cubicBezTo>
                <a:cubicBezTo>
                  <a:pt x="3738" y="3070"/>
                  <a:pt x="3771" y="3070"/>
                  <a:pt x="3803" y="3037"/>
                </a:cubicBezTo>
                <a:cubicBezTo>
                  <a:pt x="3835" y="3004"/>
                  <a:pt x="3879" y="2938"/>
                  <a:pt x="3900" y="2891"/>
                </a:cubicBezTo>
                <a:cubicBezTo>
                  <a:pt x="3921" y="2844"/>
                  <a:pt x="3919" y="2820"/>
                  <a:pt x="3928" y="2752"/>
                </a:cubicBezTo>
                <a:cubicBezTo>
                  <a:pt x="3937" y="2684"/>
                  <a:pt x="3936" y="2585"/>
                  <a:pt x="3956" y="2481"/>
                </a:cubicBezTo>
                <a:cubicBezTo>
                  <a:pt x="3976" y="2377"/>
                  <a:pt x="4049" y="2131"/>
                  <a:pt x="4046" y="2128"/>
                </a:cubicBezTo>
                <a:cubicBezTo>
                  <a:pt x="4043" y="2125"/>
                  <a:pt x="3962" y="2352"/>
                  <a:pt x="3935" y="2461"/>
                </a:cubicBezTo>
                <a:cubicBezTo>
                  <a:pt x="3908" y="2570"/>
                  <a:pt x="3903" y="2704"/>
                  <a:pt x="3886" y="2780"/>
                </a:cubicBezTo>
                <a:cubicBezTo>
                  <a:pt x="3869" y="2856"/>
                  <a:pt x="3860" y="2879"/>
                  <a:pt x="3831" y="2919"/>
                </a:cubicBezTo>
                <a:cubicBezTo>
                  <a:pt x="3802" y="2959"/>
                  <a:pt x="3758" y="2988"/>
                  <a:pt x="3713" y="3023"/>
                </a:cubicBezTo>
                <a:cubicBezTo>
                  <a:pt x="3668" y="3058"/>
                  <a:pt x="3599" y="3101"/>
                  <a:pt x="3560" y="3127"/>
                </a:cubicBezTo>
                <a:cubicBezTo>
                  <a:pt x="3521" y="3153"/>
                  <a:pt x="3500" y="3197"/>
                  <a:pt x="3477" y="3182"/>
                </a:cubicBezTo>
                <a:cubicBezTo>
                  <a:pt x="3454" y="3167"/>
                  <a:pt x="3427" y="3084"/>
                  <a:pt x="3421" y="3037"/>
                </a:cubicBezTo>
                <a:cubicBezTo>
                  <a:pt x="3415" y="2990"/>
                  <a:pt x="3429" y="2935"/>
                  <a:pt x="3442" y="2898"/>
                </a:cubicBezTo>
                <a:cubicBezTo>
                  <a:pt x="3455" y="2861"/>
                  <a:pt x="3500" y="2850"/>
                  <a:pt x="3498" y="2815"/>
                </a:cubicBezTo>
                <a:cubicBezTo>
                  <a:pt x="3496" y="2780"/>
                  <a:pt x="3443" y="2726"/>
                  <a:pt x="3428" y="2690"/>
                </a:cubicBezTo>
                <a:cubicBezTo>
                  <a:pt x="3413" y="2654"/>
                  <a:pt x="3404" y="2639"/>
                  <a:pt x="3407" y="2599"/>
                </a:cubicBezTo>
                <a:cubicBezTo>
                  <a:pt x="3410" y="2559"/>
                  <a:pt x="3417" y="2545"/>
                  <a:pt x="3449" y="2447"/>
                </a:cubicBezTo>
                <a:cubicBezTo>
                  <a:pt x="3481" y="2349"/>
                  <a:pt x="3612" y="1982"/>
                  <a:pt x="3602" y="2010"/>
                </a:cubicBezTo>
                <a:cubicBezTo>
                  <a:pt x="3592" y="2038"/>
                  <a:pt x="3411" y="2481"/>
                  <a:pt x="3387" y="2613"/>
                </a:cubicBezTo>
                <a:cubicBezTo>
                  <a:pt x="3363" y="2745"/>
                  <a:pt x="3452" y="2759"/>
                  <a:pt x="3456" y="2801"/>
                </a:cubicBezTo>
                <a:cubicBezTo>
                  <a:pt x="3460" y="2843"/>
                  <a:pt x="3425" y="2843"/>
                  <a:pt x="3414" y="2863"/>
                </a:cubicBezTo>
                <a:cubicBezTo>
                  <a:pt x="3403" y="2883"/>
                  <a:pt x="3400" y="2881"/>
                  <a:pt x="3387" y="2919"/>
                </a:cubicBezTo>
                <a:cubicBezTo>
                  <a:pt x="3374" y="2957"/>
                  <a:pt x="3373" y="3081"/>
                  <a:pt x="3338" y="3092"/>
                </a:cubicBezTo>
                <a:cubicBezTo>
                  <a:pt x="3303" y="3103"/>
                  <a:pt x="3226" y="3020"/>
                  <a:pt x="3178" y="2988"/>
                </a:cubicBezTo>
                <a:cubicBezTo>
                  <a:pt x="3130" y="2956"/>
                  <a:pt x="3089" y="2919"/>
                  <a:pt x="3047" y="2898"/>
                </a:cubicBezTo>
                <a:cubicBezTo>
                  <a:pt x="3005" y="2877"/>
                  <a:pt x="2971" y="2863"/>
                  <a:pt x="2929" y="2863"/>
                </a:cubicBezTo>
                <a:cubicBezTo>
                  <a:pt x="2887" y="2863"/>
                  <a:pt x="2844" y="2877"/>
                  <a:pt x="2797" y="2898"/>
                </a:cubicBezTo>
                <a:cubicBezTo>
                  <a:pt x="2750" y="2919"/>
                  <a:pt x="2698" y="2958"/>
                  <a:pt x="2644" y="2988"/>
                </a:cubicBezTo>
                <a:cubicBezTo>
                  <a:pt x="2590" y="3018"/>
                  <a:pt x="2490" y="3075"/>
                  <a:pt x="2470" y="3081"/>
                </a:cubicBezTo>
                <a:cubicBezTo>
                  <a:pt x="2450" y="3087"/>
                  <a:pt x="2489" y="3075"/>
                  <a:pt x="2526" y="3026"/>
                </a:cubicBezTo>
                <a:cubicBezTo>
                  <a:pt x="2563" y="2977"/>
                  <a:pt x="2654" y="2846"/>
                  <a:pt x="2692" y="2790"/>
                </a:cubicBezTo>
                <a:cubicBezTo>
                  <a:pt x="2730" y="2734"/>
                  <a:pt x="2723" y="2714"/>
                  <a:pt x="2755" y="2693"/>
                </a:cubicBezTo>
                <a:cubicBezTo>
                  <a:pt x="2787" y="2672"/>
                  <a:pt x="2829" y="2675"/>
                  <a:pt x="2887" y="2665"/>
                </a:cubicBezTo>
                <a:cubicBezTo>
                  <a:pt x="2945" y="2655"/>
                  <a:pt x="3044" y="2661"/>
                  <a:pt x="3102" y="2630"/>
                </a:cubicBezTo>
                <a:cubicBezTo>
                  <a:pt x="3160" y="2599"/>
                  <a:pt x="3187" y="2567"/>
                  <a:pt x="3234" y="2478"/>
                </a:cubicBezTo>
                <a:cubicBezTo>
                  <a:pt x="3281" y="2389"/>
                  <a:pt x="3327" y="2199"/>
                  <a:pt x="3386" y="2096"/>
                </a:cubicBezTo>
                <a:cubicBezTo>
                  <a:pt x="3445" y="1993"/>
                  <a:pt x="3524" y="1929"/>
                  <a:pt x="3588" y="1860"/>
                </a:cubicBezTo>
                <a:cubicBezTo>
                  <a:pt x="3652" y="1791"/>
                  <a:pt x="3693" y="1753"/>
                  <a:pt x="3768" y="1679"/>
                </a:cubicBezTo>
                <a:cubicBezTo>
                  <a:pt x="3843" y="1605"/>
                  <a:pt x="3951" y="1511"/>
                  <a:pt x="4039" y="1416"/>
                </a:cubicBezTo>
                <a:cubicBezTo>
                  <a:pt x="4127" y="1321"/>
                  <a:pt x="4244" y="1213"/>
                  <a:pt x="4295" y="1110"/>
                </a:cubicBezTo>
                <a:cubicBezTo>
                  <a:pt x="4346" y="1007"/>
                  <a:pt x="4344" y="807"/>
                  <a:pt x="4344" y="798"/>
                </a:cubicBezTo>
                <a:cubicBezTo>
                  <a:pt x="4344" y="789"/>
                  <a:pt x="4327" y="977"/>
                  <a:pt x="4295" y="1055"/>
                </a:cubicBezTo>
                <a:cubicBezTo>
                  <a:pt x="4263" y="1133"/>
                  <a:pt x="4216" y="1190"/>
                  <a:pt x="4150" y="1263"/>
                </a:cubicBezTo>
                <a:cubicBezTo>
                  <a:pt x="4084" y="1336"/>
                  <a:pt x="3958" y="1477"/>
                  <a:pt x="3900" y="1492"/>
                </a:cubicBezTo>
                <a:cubicBezTo>
                  <a:pt x="3842" y="1507"/>
                  <a:pt x="3815" y="1437"/>
                  <a:pt x="3803" y="1353"/>
                </a:cubicBezTo>
                <a:cubicBezTo>
                  <a:pt x="3791" y="1269"/>
                  <a:pt x="3832" y="1011"/>
                  <a:pt x="3830" y="985"/>
                </a:cubicBezTo>
                <a:cubicBezTo>
                  <a:pt x="3828" y="959"/>
                  <a:pt x="3796" y="1127"/>
                  <a:pt x="3789" y="1194"/>
                </a:cubicBezTo>
                <a:cubicBezTo>
                  <a:pt x="3782" y="1261"/>
                  <a:pt x="3784" y="1327"/>
                  <a:pt x="3789" y="1388"/>
                </a:cubicBezTo>
                <a:cubicBezTo>
                  <a:pt x="3794" y="1449"/>
                  <a:pt x="3847" y="1499"/>
                  <a:pt x="3817" y="1561"/>
                </a:cubicBezTo>
                <a:cubicBezTo>
                  <a:pt x="3787" y="1623"/>
                  <a:pt x="3667" y="1703"/>
                  <a:pt x="3608" y="1763"/>
                </a:cubicBezTo>
                <a:cubicBezTo>
                  <a:pt x="3549" y="1823"/>
                  <a:pt x="3504" y="1883"/>
                  <a:pt x="3463" y="1922"/>
                </a:cubicBezTo>
                <a:cubicBezTo>
                  <a:pt x="3422" y="1961"/>
                  <a:pt x="3392" y="2015"/>
                  <a:pt x="3365" y="1999"/>
                </a:cubicBezTo>
                <a:cubicBezTo>
                  <a:pt x="3338" y="1983"/>
                  <a:pt x="3334" y="1895"/>
                  <a:pt x="3303" y="1825"/>
                </a:cubicBezTo>
                <a:cubicBezTo>
                  <a:pt x="3272" y="1755"/>
                  <a:pt x="3205" y="1658"/>
                  <a:pt x="3178" y="1582"/>
                </a:cubicBezTo>
                <a:cubicBezTo>
                  <a:pt x="3151" y="1506"/>
                  <a:pt x="3148" y="1411"/>
                  <a:pt x="3143" y="1367"/>
                </a:cubicBezTo>
                <a:cubicBezTo>
                  <a:pt x="3138" y="1323"/>
                  <a:pt x="3137" y="1333"/>
                  <a:pt x="3150" y="1319"/>
                </a:cubicBezTo>
                <a:cubicBezTo>
                  <a:pt x="3163" y="1305"/>
                  <a:pt x="3173" y="1322"/>
                  <a:pt x="3220" y="1284"/>
                </a:cubicBezTo>
                <a:cubicBezTo>
                  <a:pt x="3267" y="1246"/>
                  <a:pt x="3376" y="1155"/>
                  <a:pt x="3435" y="1090"/>
                </a:cubicBezTo>
                <a:cubicBezTo>
                  <a:pt x="3494" y="1025"/>
                  <a:pt x="3539" y="993"/>
                  <a:pt x="3574" y="895"/>
                </a:cubicBezTo>
                <a:cubicBezTo>
                  <a:pt x="3609" y="797"/>
                  <a:pt x="3648" y="498"/>
                  <a:pt x="3643" y="500"/>
                </a:cubicBezTo>
                <a:cubicBezTo>
                  <a:pt x="3638" y="502"/>
                  <a:pt x="3605" y="796"/>
                  <a:pt x="3546" y="909"/>
                </a:cubicBezTo>
                <a:cubicBezTo>
                  <a:pt x="3487" y="1022"/>
                  <a:pt x="3354" y="1122"/>
                  <a:pt x="3289" y="1180"/>
                </a:cubicBezTo>
                <a:cubicBezTo>
                  <a:pt x="3224" y="1238"/>
                  <a:pt x="3183" y="1270"/>
                  <a:pt x="3157" y="1256"/>
                </a:cubicBezTo>
                <a:cubicBezTo>
                  <a:pt x="3131" y="1242"/>
                  <a:pt x="3147" y="1229"/>
                  <a:pt x="3136" y="1097"/>
                </a:cubicBezTo>
                <a:cubicBezTo>
                  <a:pt x="3125" y="965"/>
                  <a:pt x="3079" y="605"/>
                  <a:pt x="3088" y="465"/>
                </a:cubicBezTo>
                <a:cubicBezTo>
                  <a:pt x="3097" y="325"/>
                  <a:pt x="3177" y="318"/>
                  <a:pt x="3192" y="257"/>
                </a:cubicBezTo>
                <a:cubicBezTo>
                  <a:pt x="3207" y="196"/>
                  <a:pt x="3180" y="98"/>
                  <a:pt x="3178" y="97"/>
                </a:cubicBezTo>
                <a:cubicBezTo>
                  <a:pt x="3176" y="96"/>
                  <a:pt x="3196" y="190"/>
                  <a:pt x="3178" y="250"/>
                </a:cubicBezTo>
                <a:cubicBezTo>
                  <a:pt x="3160" y="310"/>
                  <a:pt x="3080" y="330"/>
                  <a:pt x="3067" y="458"/>
                </a:cubicBezTo>
                <a:cubicBezTo>
                  <a:pt x="3054" y="586"/>
                  <a:pt x="3096" y="891"/>
                  <a:pt x="3102" y="1020"/>
                </a:cubicBezTo>
                <a:cubicBezTo>
                  <a:pt x="3108" y="1149"/>
                  <a:pt x="3120" y="1214"/>
                  <a:pt x="3102" y="1235"/>
                </a:cubicBezTo>
                <a:cubicBezTo>
                  <a:pt x="3084" y="1256"/>
                  <a:pt x="3041" y="1201"/>
                  <a:pt x="2991" y="1145"/>
                </a:cubicBezTo>
                <a:cubicBezTo>
                  <a:pt x="2941" y="1089"/>
                  <a:pt x="2841" y="990"/>
                  <a:pt x="2803" y="902"/>
                </a:cubicBezTo>
                <a:cubicBezTo>
                  <a:pt x="2765" y="814"/>
                  <a:pt x="2774" y="760"/>
                  <a:pt x="2763" y="618"/>
                </a:cubicBezTo>
                <a:cubicBezTo>
                  <a:pt x="2752" y="476"/>
                  <a:pt x="2737" y="0"/>
                  <a:pt x="2739" y="48"/>
                </a:cubicBezTo>
                <a:cubicBezTo>
                  <a:pt x="2741" y="96"/>
                  <a:pt x="2725" y="709"/>
                  <a:pt x="2776" y="909"/>
                </a:cubicBezTo>
                <a:cubicBezTo>
                  <a:pt x="2827" y="1109"/>
                  <a:pt x="2992" y="1179"/>
                  <a:pt x="3046" y="1249"/>
                </a:cubicBezTo>
                <a:cubicBezTo>
                  <a:pt x="3100" y="1319"/>
                  <a:pt x="3090" y="1282"/>
                  <a:pt x="3102" y="1326"/>
                </a:cubicBezTo>
                <a:cubicBezTo>
                  <a:pt x="3114" y="1370"/>
                  <a:pt x="3085" y="1400"/>
                  <a:pt x="3116" y="1513"/>
                </a:cubicBezTo>
                <a:cubicBezTo>
                  <a:pt x="3147" y="1626"/>
                  <a:pt x="3289" y="1844"/>
                  <a:pt x="3287" y="2004"/>
                </a:cubicBezTo>
                <a:cubicBezTo>
                  <a:pt x="3285" y="2164"/>
                  <a:pt x="3193" y="2389"/>
                  <a:pt x="3102" y="2471"/>
                </a:cubicBezTo>
                <a:cubicBezTo>
                  <a:pt x="3011" y="2553"/>
                  <a:pt x="2849" y="2443"/>
                  <a:pt x="2741" y="2498"/>
                </a:cubicBezTo>
                <a:cubicBezTo>
                  <a:pt x="2633" y="2553"/>
                  <a:pt x="2518" y="2759"/>
                  <a:pt x="2456" y="2804"/>
                </a:cubicBezTo>
                <a:cubicBezTo>
                  <a:pt x="2394" y="2849"/>
                  <a:pt x="2383" y="2796"/>
                  <a:pt x="2366" y="2766"/>
                </a:cubicBezTo>
                <a:cubicBezTo>
                  <a:pt x="2349" y="2736"/>
                  <a:pt x="2357" y="2663"/>
                  <a:pt x="2353" y="2627"/>
                </a:cubicBezTo>
                <a:cubicBezTo>
                  <a:pt x="2349" y="2591"/>
                  <a:pt x="2329" y="2598"/>
                  <a:pt x="2339" y="2551"/>
                </a:cubicBezTo>
                <a:cubicBezTo>
                  <a:pt x="2349" y="2504"/>
                  <a:pt x="2400" y="2411"/>
                  <a:pt x="2415" y="2343"/>
                </a:cubicBezTo>
                <a:cubicBezTo>
                  <a:pt x="2430" y="2275"/>
                  <a:pt x="2407" y="2218"/>
                  <a:pt x="2429" y="2144"/>
                </a:cubicBezTo>
                <a:cubicBezTo>
                  <a:pt x="2451" y="2070"/>
                  <a:pt x="2512" y="1967"/>
                  <a:pt x="2547" y="1902"/>
                </a:cubicBezTo>
                <a:cubicBezTo>
                  <a:pt x="2582" y="1837"/>
                  <a:pt x="2612" y="1809"/>
                  <a:pt x="2637" y="1756"/>
                </a:cubicBezTo>
                <a:cubicBezTo>
                  <a:pt x="2662" y="1703"/>
                  <a:pt x="2685" y="1700"/>
                  <a:pt x="2699" y="1582"/>
                </a:cubicBezTo>
                <a:cubicBezTo>
                  <a:pt x="2713" y="1464"/>
                  <a:pt x="2723" y="1052"/>
                  <a:pt x="2720" y="1048"/>
                </a:cubicBezTo>
                <a:cubicBezTo>
                  <a:pt x="2717" y="1044"/>
                  <a:pt x="2698" y="1438"/>
                  <a:pt x="2678" y="1555"/>
                </a:cubicBezTo>
                <a:cubicBezTo>
                  <a:pt x="2658" y="1672"/>
                  <a:pt x="2637" y="1686"/>
                  <a:pt x="2602" y="1749"/>
                </a:cubicBezTo>
                <a:cubicBezTo>
                  <a:pt x="2567" y="1812"/>
                  <a:pt x="2506" y="1887"/>
                  <a:pt x="2470" y="1936"/>
                </a:cubicBezTo>
                <a:cubicBezTo>
                  <a:pt x="2434" y="1985"/>
                  <a:pt x="2405" y="2003"/>
                  <a:pt x="2387" y="2044"/>
                </a:cubicBezTo>
                <a:cubicBezTo>
                  <a:pt x="2369" y="2085"/>
                  <a:pt x="2368" y="2134"/>
                  <a:pt x="2359" y="2183"/>
                </a:cubicBezTo>
                <a:cubicBezTo>
                  <a:pt x="2350" y="2232"/>
                  <a:pt x="2355" y="2314"/>
                  <a:pt x="2332" y="2336"/>
                </a:cubicBezTo>
                <a:cubicBezTo>
                  <a:pt x="2309" y="2358"/>
                  <a:pt x="2234" y="2366"/>
                  <a:pt x="2220" y="2318"/>
                </a:cubicBezTo>
                <a:cubicBezTo>
                  <a:pt x="2206" y="2270"/>
                  <a:pt x="2256" y="2126"/>
                  <a:pt x="2248" y="2047"/>
                </a:cubicBezTo>
                <a:cubicBezTo>
                  <a:pt x="2240" y="1968"/>
                  <a:pt x="2168" y="1915"/>
                  <a:pt x="2172" y="1846"/>
                </a:cubicBezTo>
                <a:cubicBezTo>
                  <a:pt x="2176" y="1777"/>
                  <a:pt x="2229" y="1719"/>
                  <a:pt x="2269" y="1631"/>
                </a:cubicBezTo>
                <a:cubicBezTo>
                  <a:pt x="2309" y="1543"/>
                  <a:pt x="2383" y="1414"/>
                  <a:pt x="2415" y="1319"/>
                </a:cubicBezTo>
                <a:cubicBezTo>
                  <a:pt x="2447" y="1224"/>
                  <a:pt x="2452" y="1148"/>
                  <a:pt x="2463" y="1062"/>
                </a:cubicBezTo>
                <a:cubicBezTo>
                  <a:pt x="2474" y="976"/>
                  <a:pt x="2488" y="904"/>
                  <a:pt x="2484" y="805"/>
                </a:cubicBezTo>
                <a:cubicBezTo>
                  <a:pt x="2480" y="706"/>
                  <a:pt x="2434" y="465"/>
                  <a:pt x="2436" y="465"/>
                </a:cubicBezTo>
                <a:cubicBezTo>
                  <a:pt x="2438" y="465"/>
                  <a:pt x="2471" y="711"/>
                  <a:pt x="2470" y="805"/>
                </a:cubicBezTo>
                <a:cubicBezTo>
                  <a:pt x="2469" y="899"/>
                  <a:pt x="2438" y="960"/>
                  <a:pt x="2429" y="1027"/>
                </a:cubicBezTo>
                <a:cubicBezTo>
                  <a:pt x="2420" y="1094"/>
                  <a:pt x="2427" y="1150"/>
                  <a:pt x="2415" y="1208"/>
                </a:cubicBezTo>
                <a:cubicBezTo>
                  <a:pt x="2403" y="1266"/>
                  <a:pt x="2380" y="1332"/>
                  <a:pt x="2359" y="1374"/>
                </a:cubicBezTo>
                <a:cubicBezTo>
                  <a:pt x="2338" y="1416"/>
                  <a:pt x="2312" y="1452"/>
                  <a:pt x="2289" y="1459"/>
                </a:cubicBezTo>
                <a:cubicBezTo>
                  <a:pt x="2266" y="1466"/>
                  <a:pt x="2249" y="1445"/>
                  <a:pt x="2220" y="1416"/>
                </a:cubicBezTo>
                <a:cubicBezTo>
                  <a:pt x="2191" y="1387"/>
                  <a:pt x="2145" y="1333"/>
                  <a:pt x="2116" y="1284"/>
                </a:cubicBezTo>
                <a:cubicBezTo>
                  <a:pt x="2087" y="1235"/>
                  <a:pt x="2053" y="1210"/>
                  <a:pt x="2047" y="1124"/>
                </a:cubicBezTo>
                <a:cubicBezTo>
                  <a:pt x="2041" y="1038"/>
                  <a:pt x="2087" y="873"/>
                  <a:pt x="2082" y="770"/>
                </a:cubicBezTo>
                <a:cubicBezTo>
                  <a:pt x="2077" y="667"/>
                  <a:pt x="2020" y="498"/>
                  <a:pt x="2017" y="507"/>
                </a:cubicBezTo>
                <a:cubicBezTo>
                  <a:pt x="2014" y="516"/>
                  <a:pt x="2062" y="712"/>
                  <a:pt x="2062" y="824"/>
                </a:cubicBezTo>
                <a:cubicBezTo>
                  <a:pt x="2062" y="936"/>
                  <a:pt x="1998" y="1068"/>
                  <a:pt x="2019" y="1180"/>
                </a:cubicBezTo>
                <a:cubicBezTo>
                  <a:pt x="2040" y="1292"/>
                  <a:pt x="2184" y="1392"/>
                  <a:pt x="2186" y="1499"/>
                </a:cubicBezTo>
                <a:cubicBezTo>
                  <a:pt x="2188" y="1606"/>
                  <a:pt x="2045" y="1731"/>
                  <a:pt x="2033" y="1825"/>
                </a:cubicBezTo>
                <a:cubicBezTo>
                  <a:pt x="2021" y="1919"/>
                  <a:pt x="2109" y="1985"/>
                  <a:pt x="2116" y="2061"/>
                </a:cubicBezTo>
                <a:cubicBezTo>
                  <a:pt x="2123" y="2137"/>
                  <a:pt x="2108" y="2262"/>
                  <a:pt x="2075" y="2283"/>
                </a:cubicBezTo>
                <a:cubicBezTo>
                  <a:pt x="2042" y="2304"/>
                  <a:pt x="1961" y="2228"/>
                  <a:pt x="1915" y="2186"/>
                </a:cubicBezTo>
                <a:cubicBezTo>
                  <a:pt x="1869" y="2144"/>
                  <a:pt x="1825" y="2099"/>
                  <a:pt x="1797" y="2033"/>
                </a:cubicBezTo>
                <a:cubicBezTo>
                  <a:pt x="1769" y="1967"/>
                  <a:pt x="1768" y="1877"/>
                  <a:pt x="1748" y="1790"/>
                </a:cubicBezTo>
                <a:cubicBezTo>
                  <a:pt x="1728" y="1703"/>
                  <a:pt x="1697" y="1583"/>
                  <a:pt x="1679" y="1513"/>
                </a:cubicBezTo>
                <a:cubicBezTo>
                  <a:pt x="1661" y="1443"/>
                  <a:pt x="1645" y="1429"/>
                  <a:pt x="1637" y="1367"/>
                </a:cubicBezTo>
                <a:cubicBezTo>
                  <a:pt x="1629" y="1305"/>
                  <a:pt x="1626" y="1211"/>
                  <a:pt x="1631" y="1138"/>
                </a:cubicBezTo>
                <a:cubicBezTo>
                  <a:pt x="1636" y="1065"/>
                  <a:pt x="1644" y="1075"/>
                  <a:pt x="1665" y="930"/>
                </a:cubicBezTo>
                <a:cubicBezTo>
                  <a:pt x="1686" y="785"/>
                  <a:pt x="1763" y="253"/>
                  <a:pt x="1755" y="271"/>
                </a:cubicBezTo>
                <a:cubicBezTo>
                  <a:pt x="1747" y="289"/>
                  <a:pt x="1646" y="866"/>
                  <a:pt x="1617" y="1041"/>
                </a:cubicBezTo>
                <a:cubicBezTo>
                  <a:pt x="1588" y="1216"/>
                  <a:pt x="1599" y="1291"/>
                  <a:pt x="1582" y="1319"/>
                </a:cubicBezTo>
                <a:cubicBezTo>
                  <a:pt x="1565" y="1347"/>
                  <a:pt x="1541" y="1250"/>
                  <a:pt x="1513" y="1208"/>
                </a:cubicBezTo>
                <a:cubicBezTo>
                  <a:pt x="1485" y="1166"/>
                  <a:pt x="1443" y="1115"/>
                  <a:pt x="1415" y="1069"/>
                </a:cubicBezTo>
                <a:cubicBezTo>
                  <a:pt x="1387" y="1023"/>
                  <a:pt x="1353" y="1007"/>
                  <a:pt x="1346" y="930"/>
                </a:cubicBezTo>
                <a:cubicBezTo>
                  <a:pt x="1339" y="853"/>
                  <a:pt x="1379" y="603"/>
                  <a:pt x="1374" y="604"/>
                </a:cubicBezTo>
                <a:cubicBezTo>
                  <a:pt x="1369" y="605"/>
                  <a:pt x="1309" y="847"/>
                  <a:pt x="1318" y="937"/>
                </a:cubicBezTo>
                <a:cubicBezTo>
                  <a:pt x="1327" y="1027"/>
                  <a:pt x="1378" y="1046"/>
                  <a:pt x="1427" y="1142"/>
                </a:cubicBezTo>
                <a:cubicBezTo>
                  <a:pt x="1476" y="1238"/>
                  <a:pt x="1561" y="1368"/>
                  <a:pt x="1610" y="1513"/>
                </a:cubicBezTo>
                <a:cubicBezTo>
                  <a:pt x="1659" y="1658"/>
                  <a:pt x="1684" y="1889"/>
                  <a:pt x="1721" y="2013"/>
                </a:cubicBezTo>
                <a:cubicBezTo>
                  <a:pt x="1758" y="2137"/>
                  <a:pt x="1784" y="2186"/>
                  <a:pt x="1832" y="2255"/>
                </a:cubicBezTo>
                <a:cubicBezTo>
                  <a:pt x="1880" y="2324"/>
                  <a:pt x="1969" y="2384"/>
                  <a:pt x="2012" y="2429"/>
                </a:cubicBezTo>
                <a:cubicBezTo>
                  <a:pt x="2055" y="2474"/>
                  <a:pt x="2074" y="2486"/>
                  <a:pt x="2089" y="2526"/>
                </a:cubicBezTo>
                <a:cubicBezTo>
                  <a:pt x="2104" y="2566"/>
                  <a:pt x="2100" y="2632"/>
                  <a:pt x="2102" y="2672"/>
                </a:cubicBezTo>
                <a:cubicBezTo>
                  <a:pt x="2104" y="2712"/>
                  <a:pt x="2124" y="2756"/>
                  <a:pt x="2103" y="2766"/>
                </a:cubicBezTo>
                <a:cubicBezTo>
                  <a:pt x="2082" y="2776"/>
                  <a:pt x="2057" y="2749"/>
                  <a:pt x="1978" y="2731"/>
                </a:cubicBezTo>
                <a:cubicBezTo>
                  <a:pt x="1899" y="2713"/>
                  <a:pt x="1715" y="2706"/>
                  <a:pt x="1631" y="2658"/>
                </a:cubicBezTo>
                <a:cubicBezTo>
                  <a:pt x="1547" y="2610"/>
                  <a:pt x="1507" y="2516"/>
                  <a:pt x="1471" y="2443"/>
                </a:cubicBezTo>
                <a:cubicBezTo>
                  <a:pt x="1435" y="2370"/>
                  <a:pt x="1437" y="2329"/>
                  <a:pt x="1415" y="2221"/>
                </a:cubicBezTo>
                <a:cubicBezTo>
                  <a:pt x="1393" y="2113"/>
                  <a:pt x="1376" y="1936"/>
                  <a:pt x="1339" y="1797"/>
                </a:cubicBezTo>
                <a:cubicBezTo>
                  <a:pt x="1302" y="1658"/>
                  <a:pt x="1232" y="1498"/>
                  <a:pt x="1193" y="1388"/>
                </a:cubicBezTo>
                <a:cubicBezTo>
                  <a:pt x="1154" y="1278"/>
                  <a:pt x="1124" y="1217"/>
                  <a:pt x="1103" y="1138"/>
                </a:cubicBezTo>
                <a:cubicBezTo>
                  <a:pt x="1082" y="1059"/>
                  <a:pt x="1064" y="1043"/>
                  <a:pt x="1065" y="915"/>
                </a:cubicBezTo>
                <a:cubicBezTo>
                  <a:pt x="1066" y="787"/>
                  <a:pt x="1115" y="367"/>
                  <a:pt x="1110" y="371"/>
                </a:cubicBezTo>
                <a:cubicBezTo>
                  <a:pt x="1105" y="375"/>
                  <a:pt x="1034" y="786"/>
                  <a:pt x="1034" y="937"/>
                </a:cubicBezTo>
                <a:cubicBezTo>
                  <a:pt x="1034" y="1088"/>
                  <a:pt x="1067" y="1138"/>
                  <a:pt x="1110" y="1278"/>
                </a:cubicBezTo>
                <a:cubicBezTo>
                  <a:pt x="1153" y="1418"/>
                  <a:pt x="1250" y="1612"/>
                  <a:pt x="1291" y="1777"/>
                </a:cubicBezTo>
                <a:cubicBezTo>
                  <a:pt x="1332" y="1942"/>
                  <a:pt x="1355" y="2199"/>
                  <a:pt x="1353" y="2269"/>
                </a:cubicBezTo>
                <a:cubicBezTo>
                  <a:pt x="1351" y="2339"/>
                  <a:pt x="1316" y="2232"/>
                  <a:pt x="1277" y="2200"/>
                </a:cubicBezTo>
                <a:cubicBezTo>
                  <a:pt x="1238" y="2168"/>
                  <a:pt x="1185" y="2133"/>
                  <a:pt x="1117" y="2075"/>
                </a:cubicBezTo>
                <a:cubicBezTo>
                  <a:pt x="1049" y="2017"/>
                  <a:pt x="933" y="1928"/>
                  <a:pt x="867" y="1853"/>
                </a:cubicBezTo>
                <a:cubicBezTo>
                  <a:pt x="801" y="1778"/>
                  <a:pt x="758" y="1699"/>
                  <a:pt x="721" y="1624"/>
                </a:cubicBezTo>
                <a:cubicBezTo>
                  <a:pt x="684" y="1549"/>
                  <a:pt x="645" y="1505"/>
                  <a:pt x="645" y="1402"/>
                </a:cubicBezTo>
                <a:cubicBezTo>
                  <a:pt x="645" y="1299"/>
                  <a:pt x="697" y="1140"/>
                  <a:pt x="721" y="1006"/>
                </a:cubicBezTo>
                <a:cubicBezTo>
                  <a:pt x="745" y="872"/>
                  <a:pt x="800" y="582"/>
                  <a:pt x="792" y="598"/>
                </a:cubicBezTo>
                <a:cubicBezTo>
                  <a:pt x="784" y="614"/>
                  <a:pt x="707" y="978"/>
                  <a:pt x="673" y="1103"/>
                </a:cubicBezTo>
                <a:cubicBezTo>
                  <a:pt x="639" y="1228"/>
                  <a:pt x="635" y="1356"/>
                  <a:pt x="590" y="1346"/>
                </a:cubicBezTo>
                <a:cubicBezTo>
                  <a:pt x="545" y="1336"/>
                  <a:pt x="459" y="1128"/>
                  <a:pt x="402" y="1041"/>
                </a:cubicBezTo>
                <a:cubicBezTo>
                  <a:pt x="345" y="954"/>
                  <a:pt x="243" y="807"/>
                  <a:pt x="248" y="824"/>
                </a:cubicBezTo>
                <a:cubicBezTo>
                  <a:pt x="253" y="841"/>
                  <a:pt x="369" y="1028"/>
                  <a:pt x="430" y="1142"/>
                </a:cubicBezTo>
                <a:cubicBezTo>
                  <a:pt x="491" y="1256"/>
                  <a:pt x="543" y="1377"/>
                  <a:pt x="611" y="1505"/>
                </a:cubicBezTo>
                <a:cubicBezTo>
                  <a:pt x="679" y="1633"/>
                  <a:pt x="734" y="1783"/>
                  <a:pt x="838" y="1913"/>
                </a:cubicBezTo>
                <a:cubicBezTo>
                  <a:pt x="942" y="2043"/>
                  <a:pt x="1144" y="2177"/>
                  <a:pt x="1235" y="2283"/>
                </a:cubicBezTo>
                <a:cubicBezTo>
                  <a:pt x="1326" y="2389"/>
                  <a:pt x="1337" y="2472"/>
                  <a:pt x="1382" y="2548"/>
                </a:cubicBezTo>
                <a:cubicBezTo>
                  <a:pt x="1427" y="2624"/>
                  <a:pt x="1468" y="2691"/>
                  <a:pt x="1506" y="2741"/>
                </a:cubicBezTo>
                <a:cubicBezTo>
                  <a:pt x="1544" y="2791"/>
                  <a:pt x="1536" y="2821"/>
                  <a:pt x="1610" y="2849"/>
                </a:cubicBezTo>
                <a:cubicBezTo>
                  <a:pt x="1684" y="2877"/>
                  <a:pt x="1869" y="2875"/>
                  <a:pt x="1950" y="2912"/>
                </a:cubicBezTo>
                <a:cubicBezTo>
                  <a:pt x="2031" y="2949"/>
                  <a:pt x="2067" y="3024"/>
                  <a:pt x="2096" y="3071"/>
                </a:cubicBezTo>
                <a:cubicBezTo>
                  <a:pt x="2125" y="3118"/>
                  <a:pt x="2145" y="3189"/>
                  <a:pt x="2124" y="3196"/>
                </a:cubicBezTo>
                <a:cubicBezTo>
                  <a:pt x="2103" y="3203"/>
                  <a:pt x="2044" y="3122"/>
                  <a:pt x="1971" y="3113"/>
                </a:cubicBezTo>
                <a:cubicBezTo>
                  <a:pt x="1898" y="3104"/>
                  <a:pt x="1792" y="3146"/>
                  <a:pt x="1686" y="3141"/>
                </a:cubicBezTo>
                <a:cubicBezTo>
                  <a:pt x="1580" y="3136"/>
                  <a:pt x="1404" y="3141"/>
                  <a:pt x="1332" y="3085"/>
                </a:cubicBezTo>
                <a:cubicBezTo>
                  <a:pt x="1260" y="3029"/>
                  <a:pt x="1288" y="2887"/>
                  <a:pt x="1256" y="2804"/>
                </a:cubicBezTo>
                <a:cubicBezTo>
                  <a:pt x="1224" y="2721"/>
                  <a:pt x="1192" y="2656"/>
                  <a:pt x="1138" y="2589"/>
                </a:cubicBezTo>
                <a:cubicBezTo>
                  <a:pt x="1084" y="2522"/>
                  <a:pt x="965" y="2468"/>
                  <a:pt x="930" y="2401"/>
                </a:cubicBezTo>
                <a:cubicBezTo>
                  <a:pt x="895" y="2334"/>
                  <a:pt x="935" y="2186"/>
                  <a:pt x="929" y="2185"/>
                </a:cubicBezTo>
                <a:cubicBezTo>
                  <a:pt x="923" y="2184"/>
                  <a:pt x="890" y="2344"/>
                  <a:pt x="895" y="2394"/>
                </a:cubicBezTo>
                <a:cubicBezTo>
                  <a:pt x="900" y="2444"/>
                  <a:pt x="918" y="2442"/>
                  <a:pt x="957" y="2484"/>
                </a:cubicBezTo>
                <a:cubicBezTo>
                  <a:pt x="996" y="2526"/>
                  <a:pt x="1088" y="2585"/>
                  <a:pt x="1131" y="2644"/>
                </a:cubicBezTo>
                <a:cubicBezTo>
                  <a:pt x="1174" y="2703"/>
                  <a:pt x="1202" y="2768"/>
                  <a:pt x="1214" y="2838"/>
                </a:cubicBezTo>
                <a:cubicBezTo>
                  <a:pt x="1226" y="2908"/>
                  <a:pt x="1240" y="3032"/>
                  <a:pt x="1201" y="3064"/>
                </a:cubicBezTo>
                <a:cubicBezTo>
                  <a:pt x="1162" y="3096"/>
                  <a:pt x="1078" y="3059"/>
                  <a:pt x="978" y="3030"/>
                </a:cubicBezTo>
                <a:cubicBezTo>
                  <a:pt x="878" y="3001"/>
                  <a:pt x="690" y="2970"/>
                  <a:pt x="603" y="2887"/>
                </a:cubicBezTo>
                <a:cubicBezTo>
                  <a:pt x="516" y="2804"/>
                  <a:pt x="474" y="2649"/>
                  <a:pt x="458" y="2533"/>
                </a:cubicBezTo>
                <a:cubicBezTo>
                  <a:pt x="442" y="2417"/>
                  <a:pt x="498" y="2289"/>
                  <a:pt x="506" y="2193"/>
                </a:cubicBezTo>
                <a:cubicBezTo>
                  <a:pt x="514" y="2097"/>
                  <a:pt x="512" y="2022"/>
                  <a:pt x="506" y="1957"/>
                </a:cubicBezTo>
                <a:cubicBezTo>
                  <a:pt x="500" y="1892"/>
                  <a:pt x="487" y="1880"/>
                  <a:pt x="472" y="1804"/>
                </a:cubicBezTo>
                <a:cubicBezTo>
                  <a:pt x="457" y="1728"/>
                  <a:pt x="423" y="1517"/>
                  <a:pt x="416" y="1499"/>
                </a:cubicBezTo>
                <a:cubicBezTo>
                  <a:pt x="409" y="1481"/>
                  <a:pt x="420" y="1601"/>
                  <a:pt x="430" y="1693"/>
                </a:cubicBezTo>
                <a:cubicBezTo>
                  <a:pt x="440" y="1785"/>
                  <a:pt x="487" y="1929"/>
                  <a:pt x="479" y="2054"/>
                </a:cubicBezTo>
                <a:cubicBezTo>
                  <a:pt x="471" y="2179"/>
                  <a:pt x="432" y="2466"/>
                  <a:pt x="381" y="2443"/>
                </a:cubicBezTo>
                <a:cubicBezTo>
                  <a:pt x="330" y="2420"/>
                  <a:pt x="203" y="2124"/>
                  <a:pt x="173" y="1915"/>
                </a:cubicBezTo>
                <a:cubicBezTo>
                  <a:pt x="143" y="1706"/>
                  <a:pt x="206" y="1255"/>
                  <a:pt x="203" y="1187"/>
                </a:cubicBezTo>
                <a:cubicBezTo>
                  <a:pt x="200" y="1119"/>
                  <a:pt x="165" y="1369"/>
                  <a:pt x="157" y="1505"/>
                </a:cubicBezTo>
                <a:cubicBezTo>
                  <a:pt x="149" y="1641"/>
                  <a:pt x="120" y="1808"/>
                  <a:pt x="157" y="2004"/>
                </a:cubicBezTo>
                <a:cubicBezTo>
                  <a:pt x="194" y="2200"/>
                  <a:pt x="364" y="2573"/>
                  <a:pt x="381" y="2679"/>
                </a:cubicBezTo>
                <a:cubicBezTo>
                  <a:pt x="398" y="2785"/>
                  <a:pt x="294" y="2630"/>
                  <a:pt x="261" y="2640"/>
                </a:cubicBezTo>
                <a:cubicBezTo>
                  <a:pt x="228" y="2650"/>
                  <a:pt x="204" y="2702"/>
                  <a:pt x="183" y="2742"/>
                </a:cubicBezTo>
                <a:cubicBezTo>
                  <a:pt x="162" y="2782"/>
                  <a:pt x="150" y="2842"/>
                  <a:pt x="135" y="2880"/>
                </a:cubicBezTo>
                <a:cubicBezTo>
                  <a:pt x="120" y="2918"/>
                  <a:pt x="105" y="2936"/>
                  <a:pt x="93" y="2970"/>
                </a:cubicBezTo>
                <a:cubicBezTo>
                  <a:pt x="81" y="3004"/>
                  <a:pt x="76" y="3037"/>
                  <a:pt x="63" y="3084"/>
                </a:cubicBezTo>
                <a:cubicBezTo>
                  <a:pt x="50" y="3131"/>
                  <a:pt x="0" y="3280"/>
                  <a:pt x="15" y="3252"/>
                </a:cubicBezTo>
                <a:cubicBezTo>
                  <a:pt x="30" y="3224"/>
                  <a:pt x="122" y="2994"/>
                  <a:pt x="153" y="2916"/>
                </a:cubicBezTo>
                <a:cubicBezTo>
                  <a:pt x="184" y="2838"/>
                  <a:pt x="181" y="2819"/>
                  <a:pt x="201" y="2784"/>
                </a:cubicBezTo>
                <a:cubicBezTo>
                  <a:pt x="221" y="2749"/>
                  <a:pt x="239" y="2701"/>
                  <a:pt x="273" y="2706"/>
                </a:cubicBezTo>
                <a:cubicBezTo>
                  <a:pt x="307" y="2711"/>
                  <a:pt x="370" y="2779"/>
                  <a:pt x="405" y="2814"/>
                </a:cubicBezTo>
                <a:cubicBezTo>
                  <a:pt x="440" y="2849"/>
                  <a:pt x="450" y="2878"/>
                  <a:pt x="485" y="2915"/>
                </a:cubicBezTo>
                <a:cubicBezTo>
                  <a:pt x="520" y="2952"/>
                  <a:pt x="541" y="2996"/>
                  <a:pt x="617" y="3033"/>
                </a:cubicBezTo>
                <a:cubicBezTo>
                  <a:pt x="693" y="3070"/>
                  <a:pt x="834" y="3105"/>
                  <a:pt x="943" y="3137"/>
                </a:cubicBezTo>
                <a:cubicBezTo>
                  <a:pt x="1052" y="3169"/>
                  <a:pt x="1171" y="3201"/>
                  <a:pt x="1270" y="3227"/>
                </a:cubicBezTo>
                <a:cubicBezTo>
                  <a:pt x="1369" y="3253"/>
                  <a:pt x="1462" y="3281"/>
                  <a:pt x="1534" y="3293"/>
                </a:cubicBezTo>
                <a:cubicBezTo>
                  <a:pt x="1606" y="3305"/>
                  <a:pt x="1628" y="3301"/>
                  <a:pt x="1700" y="3300"/>
                </a:cubicBezTo>
                <a:cubicBezTo>
                  <a:pt x="1772" y="3299"/>
                  <a:pt x="1899" y="3260"/>
                  <a:pt x="1964" y="3286"/>
                </a:cubicBezTo>
                <a:cubicBezTo>
                  <a:pt x="2029" y="3312"/>
                  <a:pt x="2060" y="3405"/>
                  <a:pt x="2089" y="3453"/>
                </a:cubicBezTo>
                <a:cubicBezTo>
                  <a:pt x="2118" y="3501"/>
                  <a:pt x="2126" y="3533"/>
                  <a:pt x="2137" y="3571"/>
                </a:cubicBezTo>
                <a:cubicBezTo>
                  <a:pt x="2148" y="3609"/>
                  <a:pt x="2165" y="3644"/>
                  <a:pt x="2158" y="3682"/>
                </a:cubicBezTo>
                <a:cubicBezTo>
                  <a:pt x="2151" y="3720"/>
                  <a:pt x="2149" y="3728"/>
                  <a:pt x="2096" y="3800"/>
                </a:cubicBezTo>
                <a:cubicBezTo>
                  <a:pt x="2043" y="3872"/>
                  <a:pt x="1893" y="4050"/>
                  <a:pt x="1839" y="4115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7" name=""/>
          <p:cNvSpPr/>
          <p:nvPr/>
        </p:nvSpPr>
        <p:spPr>
          <a:xfrm>
            <a:off x="8244000" y="4102200"/>
            <a:ext cx="1214280" cy="536400"/>
          </a:xfrm>
          <a:custGeom>
            <a:avLst/>
            <a:gdLst/>
            <a:ahLst/>
            <a:rect l="l" t="t" r="r" b="b"/>
            <a:pathLst>
              <a:path w="765" h="338">
                <a:moveTo>
                  <a:pt x="303" y="260"/>
                </a:moveTo>
                <a:cubicBezTo>
                  <a:pt x="275" y="294"/>
                  <a:pt x="252" y="326"/>
                  <a:pt x="213" y="332"/>
                </a:cubicBezTo>
                <a:cubicBezTo>
                  <a:pt x="174" y="338"/>
                  <a:pt x="99" y="319"/>
                  <a:pt x="69" y="296"/>
                </a:cubicBezTo>
                <a:cubicBezTo>
                  <a:pt x="39" y="273"/>
                  <a:pt x="38" y="224"/>
                  <a:pt x="33" y="194"/>
                </a:cubicBezTo>
                <a:cubicBezTo>
                  <a:pt x="28" y="164"/>
                  <a:pt x="45" y="136"/>
                  <a:pt x="40" y="116"/>
                </a:cubicBezTo>
                <a:cubicBezTo>
                  <a:pt x="35" y="96"/>
                  <a:pt x="0" y="77"/>
                  <a:pt x="3" y="76"/>
                </a:cubicBezTo>
                <a:cubicBezTo>
                  <a:pt x="7" y="75"/>
                  <a:pt x="47" y="95"/>
                  <a:pt x="58" y="111"/>
                </a:cubicBezTo>
                <a:cubicBezTo>
                  <a:pt x="69" y="127"/>
                  <a:pt x="61" y="142"/>
                  <a:pt x="69" y="170"/>
                </a:cubicBezTo>
                <a:cubicBezTo>
                  <a:pt x="77" y="198"/>
                  <a:pt x="76" y="266"/>
                  <a:pt x="105" y="278"/>
                </a:cubicBezTo>
                <a:cubicBezTo>
                  <a:pt x="134" y="290"/>
                  <a:pt x="202" y="281"/>
                  <a:pt x="243" y="242"/>
                </a:cubicBezTo>
                <a:cubicBezTo>
                  <a:pt x="284" y="203"/>
                  <a:pt x="274" y="81"/>
                  <a:pt x="351" y="44"/>
                </a:cubicBezTo>
                <a:cubicBezTo>
                  <a:pt x="428" y="7"/>
                  <a:pt x="645" y="0"/>
                  <a:pt x="705" y="20"/>
                </a:cubicBezTo>
                <a:cubicBezTo>
                  <a:pt x="765" y="40"/>
                  <a:pt x="765" y="146"/>
                  <a:pt x="711" y="164"/>
                </a:cubicBezTo>
                <a:cubicBezTo>
                  <a:pt x="657" y="182"/>
                  <a:pt x="449" y="112"/>
                  <a:pt x="381" y="128"/>
                </a:cubicBezTo>
                <a:cubicBezTo>
                  <a:pt x="313" y="144"/>
                  <a:pt x="331" y="226"/>
                  <a:pt x="303" y="260"/>
                </a:cubicBezTo>
                <a:close/>
              </a:path>
            </a:pathLst>
          </a:custGeom>
          <a:gradFill rotWithShape="0">
            <a:gsLst>
              <a:gs pos="0">
                <a:srgbClr val="2f17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08" name=""/>
          <p:cNvGrpSpPr/>
          <p:nvPr/>
        </p:nvGrpSpPr>
        <p:grpSpPr>
          <a:xfrm>
            <a:off x="4642920" y="5157720"/>
            <a:ext cx="96840" cy="900360"/>
            <a:chOff x="4642920" y="5157720"/>
            <a:chExt cx="96840" cy="900360"/>
          </a:xfrm>
        </p:grpSpPr>
        <p:sp>
          <p:nvSpPr>
            <p:cNvPr id="15909" name=""/>
            <p:cNvSpPr/>
            <p:nvPr/>
          </p:nvSpPr>
          <p:spPr>
            <a:xfrm flipH="1">
              <a:off x="4642560" y="5157720"/>
              <a:ext cx="9684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0" name=""/>
            <p:cNvSpPr/>
            <p:nvPr/>
          </p:nvSpPr>
          <p:spPr>
            <a:xfrm flipH="1">
              <a:off x="4656960" y="5187960"/>
              <a:ext cx="7524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11" name=""/>
          <p:cNvGrpSpPr/>
          <p:nvPr/>
        </p:nvGrpSpPr>
        <p:grpSpPr>
          <a:xfrm>
            <a:off x="4501800" y="4649760"/>
            <a:ext cx="96840" cy="900000"/>
            <a:chOff x="4501800" y="4649760"/>
            <a:chExt cx="96840" cy="900000"/>
          </a:xfrm>
        </p:grpSpPr>
        <p:sp>
          <p:nvSpPr>
            <p:cNvPr id="15912" name=""/>
            <p:cNvSpPr/>
            <p:nvPr/>
          </p:nvSpPr>
          <p:spPr>
            <a:xfrm flipH="1">
              <a:off x="4501440" y="46497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3" name=""/>
            <p:cNvSpPr/>
            <p:nvPr/>
          </p:nvSpPr>
          <p:spPr>
            <a:xfrm flipH="1">
              <a:off x="4515840" y="468000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14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5915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6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17" name=""/>
          <p:cNvGrpSpPr/>
          <p:nvPr/>
        </p:nvGrpSpPr>
        <p:grpSpPr>
          <a:xfrm>
            <a:off x="4211640" y="5229360"/>
            <a:ext cx="71280" cy="612720"/>
            <a:chOff x="4211640" y="5229360"/>
            <a:chExt cx="71280" cy="612720"/>
          </a:xfrm>
        </p:grpSpPr>
        <p:sp>
          <p:nvSpPr>
            <p:cNvPr id="15918" name=""/>
            <p:cNvSpPr/>
            <p:nvPr/>
          </p:nvSpPr>
          <p:spPr>
            <a:xfrm>
              <a:off x="4211640" y="522936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9" name=""/>
            <p:cNvSpPr/>
            <p:nvPr/>
          </p:nvSpPr>
          <p:spPr>
            <a:xfrm>
              <a:off x="4216680" y="524988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0" name=""/>
          <p:cNvGrpSpPr/>
          <p:nvPr/>
        </p:nvGrpSpPr>
        <p:grpSpPr>
          <a:xfrm>
            <a:off x="4392720" y="5299200"/>
            <a:ext cx="69840" cy="714240"/>
            <a:chOff x="4392720" y="5299200"/>
            <a:chExt cx="69840" cy="714240"/>
          </a:xfrm>
        </p:grpSpPr>
        <p:sp>
          <p:nvSpPr>
            <p:cNvPr id="15921" name=""/>
            <p:cNvSpPr/>
            <p:nvPr/>
          </p:nvSpPr>
          <p:spPr>
            <a:xfrm>
              <a:off x="4392720" y="529920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2" name=""/>
            <p:cNvSpPr/>
            <p:nvPr/>
          </p:nvSpPr>
          <p:spPr>
            <a:xfrm>
              <a:off x="4397760" y="532296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3" name=""/>
          <p:cNvGrpSpPr/>
          <p:nvPr/>
        </p:nvGrpSpPr>
        <p:grpSpPr>
          <a:xfrm>
            <a:off x="4332600" y="4786560"/>
            <a:ext cx="194760" cy="410760"/>
            <a:chOff x="4332600" y="4786560"/>
            <a:chExt cx="194760" cy="410760"/>
          </a:xfrm>
        </p:grpSpPr>
        <p:sp>
          <p:nvSpPr>
            <p:cNvPr id="15924" name=""/>
            <p:cNvSpPr/>
            <p:nvPr/>
          </p:nvSpPr>
          <p:spPr>
            <a:xfrm rot="21149400">
              <a:off x="4357800" y="479412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5" name=""/>
            <p:cNvSpPr/>
            <p:nvPr/>
          </p:nvSpPr>
          <p:spPr>
            <a:xfrm rot="21149400">
              <a:off x="4366800" y="480780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6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5927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8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29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5930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1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32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5933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4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35" name=""/>
          <p:cNvGrpSpPr/>
          <p:nvPr/>
        </p:nvGrpSpPr>
        <p:grpSpPr>
          <a:xfrm>
            <a:off x="4213080" y="4433760"/>
            <a:ext cx="71640" cy="613080"/>
            <a:chOff x="4213080" y="4433760"/>
            <a:chExt cx="71640" cy="613080"/>
          </a:xfrm>
        </p:grpSpPr>
        <p:sp>
          <p:nvSpPr>
            <p:cNvPr id="15936" name=""/>
            <p:cNvSpPr/>
            <p:nvPr/>
          </p:nvSpPr>
          <p:spPr>
            <a:xfrm>
              <a:off x="4213080" y="4433760"/>
              <a:ext cx="71640" cy="613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7" name=""/>
            <p:cNvSpPr/>
            <p:nvPr/>
          </p:nvSpPr>
          <p:spPr>
            <a:xfrm>
              <a:off x="4218120" y="4454280"/>
              <a:ext cx="55800" cy="5472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38" name=""/>
          <p:cNvGrpSpPr/>
          <p:nvPr/>
        </p:nvGrpSpPr>
        <p:grpSpPr>
          <a:xfrm>
            <a:off x="4119840" y="3789000"/>
            <a:ext cx="279000" cy="900720"/>
            <a:chOff x="4119840" y="3789000"/>
            <a:chExt cx="279000" cy="900720"/>
          </a:xfrm>
        </p:grpSpPr>
        <p:sp>
          <p:nvSpPr>
            <p:cNvPr id="15939" name=""/>
            <p:cNvSpPr/>
            <p:nvPr/>
          </p:nvSpPr>
          <p:spPr>
            <a:xfrm flipH="1" rot="20887200">
              <a:off x="4210560" y="37893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0" name=""/>
            <p:cNvSpPr/>
            <p:nvPr/>
          </p:nvSpPr>
          <p:spPr>
            <a:xfrm flipH="1" rot="20887200">
              <a:off x="4221000" y="381924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41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5942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5943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4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5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6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7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8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49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5950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1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2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3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4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5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56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5957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8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9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0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1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2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63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5964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5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6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7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8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9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70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5971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2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3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4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5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6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77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5978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9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0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1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2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3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84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5985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6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7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8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9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0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991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5992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5993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4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5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6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7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8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99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6000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1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2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3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4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5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06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6007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8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9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0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1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2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13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6014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5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6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7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8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9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20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6021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2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3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4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5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6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27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6028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9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0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1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2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3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34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6035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6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7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8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9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0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41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6042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6043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4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5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6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7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8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49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6050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1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2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3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4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5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56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6057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8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9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0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1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2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63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6064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5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6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7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8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9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70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6071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2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3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4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5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6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77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6078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9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0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1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2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3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84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6085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6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7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8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9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0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091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6092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6093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4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5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6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7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8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99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6100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1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2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3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4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5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06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6107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8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9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0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1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2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13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6114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5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6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7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8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9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20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6121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2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3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4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5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6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27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6128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9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0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1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2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3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34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6135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6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7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8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9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0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41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6142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6143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4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5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6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7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8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49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6150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1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2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3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4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5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56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6157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8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9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0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1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2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63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6164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5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6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7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8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9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70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6171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2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3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4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5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6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77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6178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9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0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1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2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3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84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6185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6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7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8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9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0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91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6192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6193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4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5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6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7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8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99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6200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1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2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3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4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5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06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6207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8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9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0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1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2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13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6214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5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6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7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8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9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20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6221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2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3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4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5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6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27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6228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9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0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1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2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3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34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6235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6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7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8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9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0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241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6242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6243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4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5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6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7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8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49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6250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1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2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3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4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5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56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6257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8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9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0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1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2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63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6264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5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6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7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8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9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70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6271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2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3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4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5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6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77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6278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9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0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1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2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3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84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6285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6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7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8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9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0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291" name=""/>
          <p:cNvGrpSpPr/>
          <p:nvPr/>
        </p:nvGrpSpPr>
        <p:grpSpPr>
          <a:xfrm>
            <a:off x="3750480" y="4512600"/>
            <a:ext cx="355680" cy="313560"/>
            <a:chOff x="3750480" y="4512600"/>
            <a:chExt cx="355680" cy="313560"/>
          </a:xfrm>
        </p:grpSpPr>
        <p:sp>
          <p:nvSpPr>
            <p:cNvPr id="16292" name=""/>
            <p:cNvSpPr/>
            <p:nvPr/>
          </p:nvSpPr>
          <p:spPr>
            <a:xfrm rot="18355800">
              <a:off x="3855960" y="4501800"/>
              <a:ext cx="144360" cy="3348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3" name=""/>
            <p:cNvSpPr/>
            <p:nvPr/>
          </p:nvSpPr>
          <p:spPr>
            <a:xfrm rot="18355800">
              <a:off x="3863160" y="4520520"/>
              <a:ext cx="111960" cy="298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94" name=""/>
          <p:cNvGrpSpPr/>
          <p:nvPr/>
        </p:nvGrpSpPr>
        <p:grpSpPr>
          <a:xfrm>
            <a:off x="5345280" y="4777560"/>
            <a:ext cx="350280" cy="194040"/>
            <a:chOff x="5345280" y="4777560"/>
            <a:chExt cx="350280" cy="194040"/>
          </a:xfrm>
        </p:grpSpPr>
        <p:sp>
          <p:nvSpPr>
            <p:cNvPr id="16295" name=""/>
            <p:cNvSpPr/>
            <p:nvPr/>
          </p:nvSpPr>
          <p:spPr>
            <a:xfrm flipH="1" rot="5935200">
              <a:off x="5447520" y="4708440"/>
              <a:ext cx="144720" cy="3319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6" name=""/>
            <p:cNvSpPr/>
            <p:nvPr/>
          </p:nvSpPr>
          <p:spPr>
            <a:xfrm flipH="1" rot="5935200">
              <a:off x="5469480" y="4732560"/>
              <a:ext cx="112320" cy="2962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97" name="">
            <a:hlinkClick r:id="rId1" action="ppaction://hlinksldjump"/>
          </p:cNvPr>
          <p:cNvSpPr/>
          <p:nvPr/>
        </p:nvSpPr>
        <p:spPr>
          <a:xfrm>
            <a:off x="4500720" y="5229360"/>
            <a:ext cx="576000" cy="718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8" name="">
            <a:hlinkClick r:id="rId3" action="ppaction://hlinksldjump"/>
          </p:cNvPr>
          <p:cNvSpPr/>
          <p:nvPr/>
        </p:nvSpPr>
        <p:spPr>
          <a:xfrm>
            <a:off x="3924360" y="5229360"/>
            <a:ext cx="576360" cy="718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99" name=""/>
          <p:cNvGrpSpPr/>
          <p:nvPr/>
        </p:nvGrpSpPr>
        <p:grpSpPr>
          <a:xfrm>
            <a:off x="4356000" y="5805360"/>
            <a:ext cx="215640" cy="144720"/>
            <a:chOff x="4356000" y="5805360"/>
            <a:chExt cx="215640" cy="144720"/>
          </a:xfrm>
        </p:grpSpPr>
        <p:sp>
          <p:nvSpPr>
            <p:cNvPr id="16300" name=""/>
            <p:cNvSpPr/>
            <p:nvPr/>
          </p:nvSpPr>
          <p:spPr>
            <a:xfrm>
              <a:off x="4356000" y="5805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1" name=""/>
            <p:cNvSpPr/>
            <p:nvPr/>
          </p:nvSpPr>
          <p:spPr>
            <a:xfrm>
              <a:off x="4417560" y="580536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02" name=""/>
          <p:cNvSpPr/>
          <p:nvPr/>
        </p:nvSpPr>
        <p:spPr>
          <a:xfrm>
            <a:off x="3851280" y="5950080"/>
            <a:ext cx="1152360" cy="431640"/>
          </a:xfrm>
          <a:prstGeom prst="rect">
            <a:avLst/>
          </a:prstGeom>
          <a:solidFill>
            <a:srgbClr val="0000ff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3" name=""/>
          <p:cNvSpPr txBox="1"/>
          <p:nvPr/>
        </p:nvSpPr>
        <p:spPr>
          <a:xfrm>
            <a:off x="3924360" y="5950080"/>
            <a:ext cx="10191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на и 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04" name="">
            <a:hlinkClick r:id="rId5" action="ppaction://hlinksldjump"/>
          </p:cNvPr>
          <p:cNvSpPr/>
          <p:nvPr/>
        </p:nvSpPr>
        <p:spPr>
          <a:xfrm>
            <a:off x="2916360" y="5013360"/>
            <a:ext cx="288720" cy="36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5" name=""/>
          <p:cNvSpPr/>
          <p:nvPr/>
        </p:nvSpPr>
        <p:spPr>
          <a:xfrm>
            <a:off x="3203640" y="5013360"/>
            <a:ext cx="28872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6" name="">
            <a:hlinkClick r:id="rId7" action="ppaction://hlinksldjump"/>
          </p:cNvPr>
          <p:cNvSpPr/>
          <p:nvPr/>
        </p:nvSpPr>
        <p:spPr>
          <a:xfrm>
            <a:off x="2844720" y="4076640"/>
            <a:ext cx="289080" cy="360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7" name=""/>
          <p:cNvSpPr/>
          <p:nvPr/>
        </p:nvSpPr>
        <p:spPr>
          <a:xfrm>
            <a:off x="3132000" y="4076640"/>
            <a:ext cx="28908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8" name="">
            <a:hlinkClick r:id="rId9" action="ppaction://hlinksldjump"/>
          </p:cNvPr>
          <p:cNvSpPr/>
          <p:nvPr/>
        </p:nvSpPr>
        <p:spPr>
          <a:xfrm>
            <a:off x="3924360" y="4005360"/>
            <a:ext cx="288720" cy="360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9" name=""/>
          <p:cNvSpPr/>
          <p:nvPr/>
        </p:nvSpPr>
        <p:spPr>
          <a:xfrm>
            <a:off x="4211640" y="4005360"/>
            <a:ext cx="289080" cy="360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0" name="">
            <a:hlinkClick r:id="rId12" action="ppaction://hlinksldjump"/>
          </p:cNvPr>
          <p:cNvSpPr/>
          <p:nvPr/>
        </p:nvSpPr>
        <p:spPr>
          <a:xfrm>
            <a:off x="5148360" y="4076640"/>
            <a:ext cx="288720" cy="360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1" name=""/>
          <p:cNvSpPr/>
          <p:nvPr/>
        </p:nvSpPr>
        <p:spPr>
          <a:xfrm>
            <a:off x="5435640" y="4076640"/>
            <a:ext cx="288720" cy="3603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2" name=""/>
          <p:cNvSpPr/>
          <p:nvPr/>
        </p:nvSpPr>
        <p:spPr>
          <a:xfrm>
            <a:off x="1692360" y="4797360"/>
            <a:ext cx="288720" cy="360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3" name=""/>
          <p:cNvSpPr/>
          <p:nvPr/>
        </p:nvSpPr>
        <p:spPr>
          <a:xfrm>
            <a:off x="1979640" y="4797360"/>
            <a:ext cx="288720" cy="3603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4" name=""/>
          <p:cNvSpPr/>
          <p:nvPr/>
        </p:nvSpPr>
        <p:spPr>
          <a:xfrm>
            <a:off x="1763640" y="2781360"/>
            <a:ext cx="289080" cy="36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5" name=""/>
          <p:cNvSpPr/>
          <p:nvPr/>
        </p:nvSpPr>
        <p:spPr>
          <a:xfrm>
            <a:off x="2050920" y="2781360"/>
            <a:ext cx="289080" cy="360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6" name=""/>
          <p:cNvSpPr/>
          <p:nvPr/>
        </p:nvSpPr>
        <p:spPr>
          <a:xfrm>
            <a:off x="2627280" y="3068640"/>
            <a:ext cx="289080" cy="36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7" name=""/>
          <p:cNvSpPr/>
          <p:nvPr/>
        </p:nvSpPr>
        <p:spPr>
          <a:xfrm>
            <a:off x="2340000" y="1916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8" name=""/>
          <p:cNvSpPr/>
          <p:nvPr/>
        </p:nvSpPr>
        <p:spPr>
          <a:xfrm>
            <a:off x="2195640" y="4005360"/>
            <a:ext cx="28872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9" name=""/>
          <p:cNvSpPr/>
          <p:nvPr/>
        </p:nvSpPr>
        <p:spPr>
          <a:xfrm>
            <a:off x="826920" y="4724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0" name=""/>
          <p:cNvSpPr/>
          <p:nvPr/>
        </p:nvSpPr>
        <p:spPr>
          <a:xfrm>
            <a:off x="826920" y="2708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1" name=""/>
          <p:cNvSpPr/>
          <p:nvPr/>
        </p:nvSpPr>
        <p:spPr>
          <a:xfrm>
            <a:off x="1332000" y="3500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2" name=""/>
          <p:cNvSpPr/>
          <p:nvPr/>
        </p:nvSpPr>
        <p:spPr>
          <a:xfrm>
            <a:off x="1258920" y="1628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3" name=""/>
          <p:cNvSpPr/>
          <p:nvPr/>
        </p:nvSpPr>
        <p:spPr>
          <a:xfrm>
            <a:off x="1835280" y="119700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4" name=""/>
          <p:cNvSpPr/>
          <p:nvPr/>
        </p:nvSpPr>
        <p:spPr>
          <a:xfrm>
            <a:off x="2771640" y="1413000"/>
            <a:ext cx="289080" cy="3603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5" name=""/>
          <p:cNvSpPr/>
          <p:nvPr/>
        </p:nvSpPr>
        <p:spPr>
          <a:xfrm>
            <a:off x="3348000" y="907920"/>
            <a:ext cx="289080" cy="36036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6" name=""/>
          <p:cNvSpPr/>
          <p:nvPr/>
        </p:nvSpPr>
        <p:spPr>
          <a:xfrm>
            <a:off x="3060720" y="2276640"/>
            <a:ext cx="289080" cy="36036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7" name=""/>
          <p:cNvSpPr/>
          <p:nvPr/>
        </p:nvSpPr>
        <p:spPr>
          <a:xfrm>
            <a:off x="3348000" y="2276640"/>
            <a:ext cx="289080" cy="360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8" name=""/>
          <p:cNvSpPr/>
          <p:nvPr/>
        </p:nvSpPr>
        <p:spPr>
          <a:xfrm>
            <a:off x="2916360" y="3068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9" name=""/>
          <p:cNvSpPr/>
          <p:nvPr/>
        </p:nvSpPr>
        <p:spPr>
          <a:xfrm>
            <a:off x="3852720" y="2852640"/>
            <a:ext cx="289080" cy="360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0" name=""/>
          <p:cNvSpPr/>
          <p:nvPr/>
        </p:nvSpPr>
        <p:spPr>
          <a:xfrm>
            <a:off x="4140360" y="2852640"/>
            <a:ext cx="288720" cy="3603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1" name=""/>
          <p:cNvSpPr/>
          <p:nvPr/>
        </p:nvSpPr>
        <p:spPr>
          <a:xfrm>
            <a:off x="4645080" y="2852640"/>
            <a:ext cx="288720" cy="3603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2" name=""/>
          <p:cNvSpPr/>
          <p:nvPr/>
        </p:nvSpPr>
        <p:spPr>
          <a:xfrm>
            <a:off x="4932360" y="2852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3" name=""/>
          <p:cNvSpPr/>
          <p:nvPr/>
        </p:nvSpPr>
        <p:spPr>
          <a:xfrm>
            <a:off x="3851280" y="1341360"/>
            <a:ext cx="289080" cy="3603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4" name=""/>
          <p:cNvSpPr/>
          <p:nvPr/>
        </p:nvSpPr>
        <p:spPr>
          <a:xfrm>
            <a:off x="4500720" y="1125360"/>
            <a:ext cx="288720" cy="36072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5" name=""/>
          <p:cNvSpPr/>
          <p:nvPr/>
        </p:nvSpPr>
        <p:spPr>
          <a:xfrm>
            <a:off x="4932360" y="1989000"/>
            <a:ext cx="289080" cy="36036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6" name=""/>
          <p:cNvSpPr/>
          <p:nvPr/>
        </p:nvSpPr>
        <p:spPr>
          <a:xfrm>
            <a:off x="5508720" y="2276640"/>
            <a:ext cx="288720" cy="3603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7" name=""/>
          <p:cNvSpPr/>
          <p:nvPr/>
        </p:nvSpPr>
        <p:spPr>
          <a:xfrm>
            <a:off x="5796000" y="2276640"/>
            <a:ext cx="288720" cy="3603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8" name=""/>
          <p:cNvSpPr/>
          <p:nvPr/>
        </p:nvSpPr>
        <p:spPr>
          <a:xfrm>
            <a:off x="6445080" y="2708280"/>
            <a:ext cx="289080" cy="36036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9" name=""/>
          <p:cNvSpPr/>
          <p:nvPr/>
        </p:nvSpPr>
        <p:spPr>
          <a:xfrm>
            <a:off x="6732720" y="2708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0" name=""/>
          <p:cNvSpPr/>
          <p:nvPr/>
        </p:nvSpPr>
        <p:spPr>
          <a:xfrm>
            <a:off x="5364000" y="1268280"/>
            <a:ext cx="289080" cy="36036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1" name=""/>
          <p:cNvSpPr/>
          <p:nvPr/>
        </p:nvSpPr>
        <p:spPr>
          <a:xfrm>
            <a:off x="5651640" y="1268280"/>
            <a:ext cx="288720" cy="3603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2" name=""/>
          <p:cNvSpPr/>
          <p:nvPr/>
        </p:nvSpPr>
        <p:spPr>
          <a:xfrm>
            <a:off x="5651640" y="476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3" name=""/>
          <p:cNvSpPr/>
          <p:nvPr/>
        </p:nvSpPr>
        <p:spPr>
          <a:xfrm>
            <a:off x="6300720" y="1125360"/>
            <a:ext cx="289080" cy="36072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4" name=""/>
          <p:cNvSpPr/>
          <p:nvPr/>
        </p:nvSpPr>
        <p:spPr>
          <a:xfrm>
            <a:off x="6659640" y="1844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5" name=""/>
          <p:cNvSpPr/>
          <p:nvPr/>
        </p:nvSpPr>
        <p:spPr>
          <a:xfrm>
            <a:off x="7451640" y="1700280"/>
            <a:ext cx="289080" cy="36036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6" name=""/>
          <p:cNvSpPr/>
          <p:nvPr/>
        </p:nvSpPr>
        <p:spPr>
          <a:xfrm>
            <a:off x="5506920" y="5518080"/>
            <a:ext cx="100836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7" name=""/>
          <p:cNvSpPr txBox="1"/>
          <p:nvPr/>
        </p:nvSpPr>
        <p:spPr>
          <a:xfrm>
            <a:off x="5580000" y="5518080"/>
            <a:ext cx="874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48" name=""/>
          <p:cNvSpPr/>
          <p:nvPr/>
        </p:nvSpPr>
        <p:spPr>
          <a:xfrm>
            <a:off x="5940360" y="4221000"/>
            <a:ext cx="289080" cy="3603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9" name=""/>
          <p:cNvSpPr/>
          <p:nvPr/>
        </p:nvSpPr>
        <p:spPr>
          <a:xfrm>
            <a:off x="6156360" y="4221000"/>
            <a:ext cx="288720" cy="3603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0" name=""/>
          <p:cNvSpPr/>
          <p:nvPr/>
        </p:nvSpPr>
        <p:spPr>
          <a:xfrm>
            <a:off x="5867280" y="4653000"/>
            <a:ext cx="720720" cy="2887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1" name=""/>
          <p:cNvSpPr txBox="1"/>
          <p:nvPr/>
        </p:nvSpPr>
        <p:spPr>
          <a:xfrm>
            <a:off x="5867280" y="4653000"/>
            <a:ext cx="72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мёнова Татья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 Поникаров Алекс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52" name=""/>
          <p:cNvSpPr/>
          <p:nvPr/>
        </p:nvSpPr>
        <p:spPr>
          <a:xfrm>
            <a:off x="6156360" y="3429000"/>
            <a:ext cx="288720" cy="3603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3" name=""/>
          <p:cNvSpPr/>
          <p:nvPr/>
        </p:nvSpPr>
        <p:spPr>
          <a:xfrm>
            <a:off x="6013440" y="3860640"/>
            <a:ext cx="64764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4" name=""/>
          <p:cNvSpPr txBox="1"/>
          <p:nvPr/>
        </p:nvSpPr>
        <p:spPr>
          <a:xfrm>
            <a:off x="6086520" y="3860640"/>
            <a:ext cx="512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бовь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55" name=""/>
          <p:cNvSpPr/>
          <p:nvPr/>
        </p:nvSpPr>
        <p:spPr>
          <a:xfrm>
            <a:off x="6732720" y="4437000"/>
            <a:ext cx="288720" cy="3603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6" name=""/>
          <p:cNvSpPr/>
          <p:nvPr/>
        </p:nvSpPr>
        <p:spPr>
          <a:xfrm>
            <a:off x="6659640" y="4941720"/>
            <a:ext cx="64764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7" name=""/>
          <p:cNvSpPr txBox="1"/>
          <p:nvPr/>
        </p:nvSpPr>
        <p:spPr>
          <a:xfrm>
            <a:off x="6732720" y="4941720"/>
            <a:ext cx="512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58" name=""/>
          <p:cNvSpPr/>
          <p:nvPr/>
        </p:nvSpPr>
        <p:spPr>
          <a:xfrm>
            <a:off x="6948360" y="3645000"/>
            <a:ext cx="289080" cy="3603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9" name=""/>
          <p:cNvSpPr/>
          <p:nvPr/>
        </p:nvSpPr>
        <p:spPr>
          <a:xfrm>
            <a:off x="6732720" y="407664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0" name=""/>
          <p:cNvSpPr txBox="1"/>
          <p:nvPr/>
        </p:nvSpPr>
        <p:spPr>
          <a:xfrm>
            <a:off x="6805440" y="4076640"/>
            <a:ext cx="513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61" name=""/>
          <p:cNvSpPr/>
          <p:nvPr/>
        </p:nvSpPr>
        <p:spPr>
          <a:xfrm>
            <a:off x="8101080" y="4508640"/>
            <a:ext cx="718920" cy="2887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2" name=""/>
          <p:cNvSpPr txBox="1"/>
          <p:nvPr/>
        </p:nvSpPr>
        <p:spPr>
          <a:xfrm>
            <a:off x="8172360" y="4508640"/>
            <a:ext cx="576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63" name=""/>
          <p:cNvSpPr/>
          <p:nvPr/>
        </p:nvSpPr>
        <p:spPr>
          <a:xfrm>
            <a:off x="7093080" y="4508640"/>
            <a:ext cx="9363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4" name=""/>
          <p:cNvSpPr txBox="1"/>
          <p:nvPr/>
        </p:nvSpPr>
        <p:spPr>
          <a:xfrm>
            <a:off x="7164360" y="4508640"/>
            <a:ext cx="801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65" name=""/>
          <p:cNvSpPr/>
          <p:nvPr/>
        </p:nvSpPr>
        <p:spPr>
          <a:xfrm>
            <a:off x="7885080" y="3213000"/>
            <a:ext cx="289080" cy="360360"/>
          </a:xfrm>
          <a:prstGeom prst="ellipse">
            <a:avLst/>
          </a:prstGeom>
          <a:blipFill rotWithShape="0">
            <a:blip r:embed="rId4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6" name=""/>
          <p:cNvSpPr/>
          <p:nvPr/>
        </p:nvSpPr>
        <p:spPr>
          <a:xfrm>
            <a:off x="7740720" y="364500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7" name=""/>
          <p:cNvSpPr txBox="1"/>
          <p:nvPr/>
        </p:nvSpPr>
        <p:spPr>
          <a:xfrm>
            <a:off x="7812000" y="3645000"/>
            <a:ext cx="370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68" name=""/>
          <p:cNvSpPr/>
          <p:nvPr/>
        </p:nvSpPr>
        <p:spPr>
          <a:xfrm>
            <a:off x="7308720" y="2924280"/>
            <a:ext cx="289080" cy="360360"/>
          </a:xfrm>
          <a:prstGeom prst="ellipse">
            <a:avLst/>
          </a:prstGeom>
          <a:blipFill rotWithShape="0">
            <a:blip r:embed="rId4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9" name=""/>
          <p:cNvSpPr/>
          <p:nvPr/>
        </p:nvSpPr>
        <p:spPr>
          <a:xfrm>
            <a:off x="7237440" y="3355920"/>
            <a:ext cx="4302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0" name=""/>
          <p:cNvSpPr txBox="1"/>
          <p:nvPr/>
        </p:nvSpPr>
        <p:spPr>
          <a:xfrm>
            <a:off x="7308720" y="3355920"/>
            <a:ext cx="2984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икт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371" name=""/>
          <p:cNvSpPr/>
          <p:nvPr/>
        </p:nvSpPr>
        <p:spPr>
          <a:xfrm>
            <a:off x="4859280" y="4581360"/>
            <a:ext cx="936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2" name=""/>
          <p:cNvSpPr txBox="1"/>
          <p:nvPr/>
        </p:nvSpPr>
        <p:spPr>
          <a:xfrm>
            <a:off x="4923000" y="4581360"/>
            <a:ext cx="81252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ей и Капитал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6373" name=""/>
          <p:cNvGrpSpPr/>
          <p:nvPr/>
        </p:nvGrpSpPr>
        <p:grpSpPr>
          <a:xfrm>
            <a:off x="5364000" y="4365720"/>
            <a:ext cx="215640" cy="144360"/>
            <a:chOff x="5364000" y="4365720"/>
            <a:chExt cx="215640" cy="144360"/>
          </a:xfrm>
        </p:grpSpPr>
        <p:sp>
          <p:nvSpPr>
            <p:cNvPr id="16374" name=""/>
            <p:cNvSpPr/>
            <p:nvPr/>
          </p:nvSpPr>
          <p:spPr>
            <a:xfrm>
              <a:off x="5364000" y="4365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5" name=""/>
            <p:cNvSpPr/>
            <p:nvPr/>
          </p:nvSpPr>
          <p:spPr>
            <a:xfrm>
              <a:off x="5425560" y="4365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6" name=""/>
          <p:cNvGrpSpPr/>
          <p:nvPr/>
        </p:nvGrpSpPr>
        <p:grpSpPr>
          <a:xfrm>
            <a:off x="4140360" y="4292640"/>
            <a:ext cx="215640" cy="144360"/>
            <a:chOff x="4140360" y="4292640"/>
            <a:chExt cx="215640" cy="144360"/>
          </a:xfrm>
        </p:grpSpPr>
        <p:sp>
          <p:nvSpPr>
            <p:cNvPr id="16377" name=""/>
            <p:cNvSpPr/>
            <p:nvPr/>
          </p:nvSpPr>
          <p:spPr>
            <a:xfrm>
              <a:off x="414036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8" name=""/>
            <p:cNvSpPr/>
            <p:nvPr/>
          </p:nvSpPr>
          <p:spPr>
            <a:xfrm>
              <a:off x="420192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9" name=""/>
          <p:cNvGrpSpPr/>
          <p:nvPr/>
        </p:nvGrpSpPr>
        <p:grpSpPr>
          <a:xfrm>
            <a:off x="3060720" y="4363920"/>
            <a:ext cx="215640" cy="144720"/>
            <a:chOff x="3060720" y="4363920"/>
            <a:chExt cx="215640" cy="144720"/>
          </a:xfrm>
        </p:grpSpPr>
        <p:sp>
          <p:nvSpPr>
            <p:cNvPr id="16380" name=""/>
            <p:cNvSpPr/>
            <p:nvPr/>
          </p:nvSpPr>
          <p:spPr>
            <a:xfrm>
              <a:off x="3060720" y="436392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1" name=""/>
            <p:cNvSpPr/>
            <p:nvPr/>
          </p:nvSpPr>
          <p:spPr>
            <a:xfrm>
              <a:off x="3122280" y="436392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82" name=""/>
          <p:cNvGrpSpPr/>
          <p:nvPr/>
        </p:nvGrpSpPr>
        <p:grpSpPr>
          <a:xfrm>
            <a:off x="3132000" y="5300640"/>
            <a:ext cx="215640" cy="144360"/>
            <a:chOff x="3132000" y="5300640"/>
            <a:chExt cx="215640" cy="144360"/>
          </a:xfrm>
        </p:grpSpPr>
        <p:sp>
          <p:nvSpPr>
            <p:cNvPr id="16383" name=""/>
            <p:cNvSpPr/>
            <p:nvPr/>
          </p:nvSpPr>
          <p:spPr>
            <a:xfrm>
              <a:off x="3132000" y="5300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4" name=""/>
            <p:cNvSpPr/>
            <p:nvPr/>
          </p:nvSpPr>
          <p:spPr>
            <a:xfrm>
              <a:off x="3193560" y="5300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85" name=""/>
          <p:cNvGrpSpPr/>
          <p:nvPr/>
        </p:nvGrpSpPr>
        <p:grpSpPr>
          <a:xfrm>
            <a:off x="1908000" y="5084640"/>
            <a:ext cx="215640" cy="144720"/>
            <a:chOff x="1908000" y="5084640"/>
            <a:chExt cx="215640" cy="144720"/>
          </a:xfrm>
        </p:grpSpPr>
        <p:sp>
          <p:nvSpPr>
            <p:cNvPr id="16386" name=""/>
            <p:cNvSpPr/>
            <p:nvPr/>
          </p:nvSpPr>
          <p:spPr>
            <a:xfrm>
              <a:off x="190800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7" name=""/>
            <p:cNvSpPr/>
            <p:nvPr/>
          </p:nvSpPr>
          <p:spPr>
            <a:xfrm>
              <a:off x="1969560" y="5084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88" name=""/>
          <p:cNvGrpSpPr/>
          <p:nvPr/>
        </p:nvGrpSpPr>
        <p:grpSpPr>
          <a:xfrm>
            <a:off x="2843280" y="3357720"/>
            <a:ext cx="215640" cy="144360"/>
            <a:chOff x="2843280" y="3357720"/>
            <a:chExt cx="215640" cy="144360"/>
          </a:xfrm>
        </p:grpSpPr>
        <p:sp>
          <p:nvSpPr>
            <p:cNvPr id="16389" name=""/>
            <p:cNvSpPr/>
            <p:nvPr/>
          </p:nvSpPr>
          <p:spPr>
            <a:xfrm>
              <a:off x="284328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0" name=""/>
            <p:cNvSpPr/>
            <p:nvPr/>
          </p:nvSpPr>
          <p:spPr>
            <a:xfrm>
              <a:off x="2904840" y="3357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91" name=""/>
          <p:cNvGrpSpPr/>
          <p:nvPr/>
        </p:nvGrpSpPr>
        <p:grpSpPr>
          <a:xfrm>
            <a:off x="1979640" y="3068640"/>
            <a:ext cx="215640" cy="144360"/>
            <a:chOff x="1979640" y="3068640"/>
            <a:chExt cx="215640" cy="144360"/>
          </a:xfrm>
        </p:grpSpPr>
        <p:sp>
          <p:nvSpPr>
            <p:cNvPr id="16392" name=""/>
            <p:cNvSpPr/>
            <p:nvPr/>
          </p:nvSpPr>
          <p:spPr>
            <a:xfrm>
              <a:off x="1979640" y="306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3" name=""/>
            <p:cNvSpPr/>
            <p:nvPr/>
          </p:nvSpPr>
          <p:spPr>
            <a:xfrm>
              <a:off x="2041200" y="3068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94" name=""/>
          <p:cNvGrpSpPr/>
          <p:nvPr/>
        </p:nvGrpSpPr>
        <p:grpSpPr>
          <a:xfrm>
            <a:off x="4067280" y="3141720"/>
            <a:ext cx="215640" cy="144360"/>
            <a:chOff x="4067280" y="3141720"/>
            <a:chExt cx="215640" cy="144360"/>
          </a:xfrm>
        </p:grpSpPr>
        <p:sp>
          <p:nvSpPr>
            <p:cNvPr id="16395" name=""/>
            <p:cNvSpPr/>
            <p:nvPr/>
          </p:nvSpPr>
          <p:spPr>
            <a:xfrm>
              <a:off x="4067280" y="3141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6" name=""/>
            <p:cNvSpPr/>
            <p:nvPr/>
          </p:nvSpPr>
          <p:spPr>
            <a:xfrm>
              <a:off x="4128840" y="3141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97" name=""/>
          <p:cNvGrpSpPr/>
          <p:nvPr/>
        </p:nvGrpSpPr>
        <p:grpSpPr>
          <a:xfrm>
            <a:off x="3276720" y="2565360"/>
            <a:ext cx="215640" cy="144360"/>
            <a:chOff x="3276720" y="2565360"/>
            <a:chExt cx="215640" cy="144360"/>
          </a:xfrm>
        </p:grpSpPr>
        <p:sp>
          <p:nvSpPr>
            <p:cNvPr id="16398" name=""/>
            <p:cNvSpPr/>
            <p:nvPr/>
          </p:nvSpPr>
          <p:spPr>
            <a:xfrm>
              <a:off x="3276720" y="2565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9" name=""/>
            <p:cNvSpPr/>
            <p:nvPr/>
          </p:nvSpPr>
          <p:spPr>
            <a:xfrm>
              <a:off x="3338280" y="2565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0" name=""/>
          <p:cNvGrpSpPr/>
          <p:nvPr/>
        </p:nvGrpSpPr>
        <p:grpSpPr>
          <a:xfrm>
            <a:off x="4861080" y="3141720"/>
            <a:ext cx="215640" cy="144360"/>
            <a:chOff x="4861080" y="3141720"/>
            <a:chExt cx="215640" cy="144360"/>
          </a:xfrm>
        </p:grpSpPr>
        <p:sp>
          <p:nvSpPr>
            <p:cNvPr id="16401" name=""/>
            <p:cNvSpPr/>
            <p:nvPr/>
          </p:nvSpPr>
          <p:spPr>
            <a:xfrm>
              <a:off x="4861080" y="3141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2" name=""/>
            <p:cNvSpPr/>
            <p:nvPr/>
          </p:nvSpPr>
          <p:spPr>
            <a:xfrm>
              <a:off x="4922640" y="3141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3" name=""/>
          <p:cNvGrpSpPr/>
          <p:nvPr/>
        </p:nvGrpSpPr>
        <p:grpSpPr>
          <a:xfrm>
            <a:off x="5724360" y="2565360"/>
            <a:ext cx="215640" cy="144360"/>
            <a:chOff x="5724360" y="2565360"/>
            <a:chExt cx="215640" cy="144360"/>
          </a:xfrm>
        </p:grpSpPr>
        <p:sp>
          <p:nvSpPr>
            <p:cNvPr id="16404" name=""/>
            <p:cNvSpPr/>
            <p:nvPr/>
          </p:nvSpPr>
          <p:spPr>
            <a:xfrm>
              <a:off x="5724360" y="2565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5" name=""/>
            <p:cNvSpPr/>
            <p:nvPr/>
          </p:nvSpPr>
          <p:spPr>
            <a:xfrm>
              <a:off x="5785920" y="2565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6" name=""/>
          <p:cNvGrpSpPr/>
          <p:nvPr/>
        </p:nvGrpSpPr>
        <p:grpSpPr>
          <a:xfrm>
            <a:off x="5578560" y="1557360"/>
            <a:ext cx="215640" cy="144360"/>
            <a:chOff x="5578560" y="1557360"/>
            <a:chExt cx="215640" cy="144360"/>
          </a:xfrm>
        </p:grpSpPr>
        <p:sp>
          <p:nvSpPr>
            <p:cNvPr id="16407" name=""/>
            <p:cNvSpPr/>
            <p:nvPr/>
          </p:nvSpPr>
          <p:spPr>
            <a:xfrm>
              <a:off x="5578560" y="155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8" name=""/>
            <p:cNvSpPr/>
            <p:nvPr/>
          </p:nvSpPr>
          <p:spPr>
            <a:xfrm>
              <a:off x="5640120" y="155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09" name=""/>
          <p:cNvGrpSpPr/>
          <p:nvPr/>
        </p:nvGrpSpPr>
        <p:grpSpPr>
          <a:xfrm>
            <a:off x="6659640" y="2997360"/>
            <a:ext cx="215640" cy="144360"/>
            <a:chOff x="6659640" y="2997360"/>
            <a:chExt cx="215640" cy="144360"/>
          </a:xfrm>
        </p:grpSpPr>
        <p:sp>
          <p:nvSpPr>
            <p:cNvPr id="16410" name=""/>
            <p:cNvSpPr/>
            <p:nvPr/>
          </p:nvSpPr>
          <p:spPr>
            <a:xfrm>
              <a:off x="6659640" y="29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1" name=""/>
            <p:cNvSpPr/>
            <p:nvPr/>
          </p:nvSpPr>
          <p:spPr>
            <a:xfrm>
              <a:off x="6721200" y="29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12" name=""/>
          <p:cNvGrpSpPr/>
          <p:nvPr/>
        </p:nvGrpSpPr>
        <p:grpSpPr>
          <a:xfrm>
            <a:off x="4281480" y="4705560"/>
            <a:ext cx="333360" cy="191160"/>
            <a:chOff x="4281480" y="4705560"/>
            <a:chExt cx="333360" cy="191160"/>
          </a:xfrm>
        </p:grpSpPr>
        <p:sp>
          <p:nvSpPr>
            <p:cNvPr id="16413" name=""/>
            <p:cNvSpPr/>
            <p:nvPr/>
          </p:nvSpPr>
          <p:spPr>
            <a:xfrm flipH="1" rot="5935200">
              <a:off x="4375800" y="4643640"/>
              <a:ext cx="144360" cy="3146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4" name=""/>
            <p:cNvSpPr/>
            <p:nvPr/>
          </p:nvSpPr>
          <p:spPr>
            <a:xfrm flipH="1" rot="5935200">
              <a:off x="4397760" y="4667400"/>
              <a:ext cx="111960" cy="2804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15" name=""/>
          <p:cNvSpPr/>
          <p:nvPr/>
        </p:nvSpPr>
        <p:spPr>
          <a:xfrm>
            <a:off x="3778200" y="4508640"/>
            <a:ext cx="1008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6" name=""/>
          <p:cNvSpPr txBox="1"/>
          <p:nvPr/>
        </p:nvSpPr>
        <p:spPr>
          <a:xfrm>
            <a:off x="3851280" y="4508640"/>
            <a:ext cx="863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дыш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нтина и 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6417" name=""/>
          <p:cNvGrpSpPr/>
          <p:nvPr/>
        </p:nvGrpSpPr>
        <p:grpSpPr>
          <a:xfrm>
            <a:off x="3699000" y="5132520"/>
            <a:ext cx="350280" cy="194040"/>
            <a:chOff x="3699000" y="5132520"/>
            <a:chExt cx="350280" cy="194040"/>
          </a:xfrm>
        </p:grpSpPr>
        <p:sp>
          <p:nvSpPr>
            <p:cNvPr id="16418" name=""/>
            <p:cNvSpPr/>
            <p:nvPr/>
          </p:nvSpPr>
          <p:spPr>
            <a:xfrm flipH="1" rot="5935200">
              <a:off x="3801240" y="5063400"/>
              <a:ext cx="144360" cy="3319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9" name=""/>
            <p:cNvSpPr/>
            <p:nvPr/>
          </p:nvSpPr>
          <p:spPr>
            <a:xfrm flipH="1" rot="5935200">
              <a:off x="3823560" y="5088240"/>
              <a:ext cx="111960" cy="2962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20" name=""/>
          <p:cNvSpPr/>
          <p:nvPr/>
        </p:nvSpPr>
        <p:spPr>
          <a:xfrm>
            <a:off x="2771640" y="4581360"/>
            <a:ext cx="84168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1" name=""/>
          <p:cNvSpPr txBox="1"/>
          <p:nvPr/>
        </p:nvSpPr>
        <p:spPr>
          <a:xfrm>
            <a:off x="2843280" y="4654440"/>
            <a:ext cx="730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ет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идия и Геннад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22" name=""/>
          <p:cNvSpPr/>
          <p:nvPr/>
        </p:nvSpPr>
        <p:spPr>
          <a:xfrm>
            <a:off x="2771640" y="5516640"/>
            <a:ext cx="8431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3" name=""/>
          <p:cNvSpPr txBox="1"/>
          <p:nvPr/>
        </p:nvSpPr>
        <p:spPr>
          <a:xfrm>
            <a:off x="2843280" y="5516640"/>
            <a:ext cx="7318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ера и Анатол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24" name=""/>
          <p:cNvSpPr/>
          <p:nvPr/>
        </p:nvSpPr>
        <p:spPr>
          <a:xfrm>
            <a:off x="1560600" y="5300640"/>
            <a:ext cx="90144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5" name=""/>
          <p:cNvSpPr txBox="1"/>
          <p:nvPr/>
        </p:nvSpPr>
        <p:spPr>
          <a:xfrm>
            <a:off x="1619280" y="5300640"/>
            <a:ext cx="782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ладимир и Ма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26" name=""/>
          <p:cNvSpPr/>
          <p:nvPr/>
        </p:nvSpPr>
        <p:spPr>
          <a:xfrm>
            <a:off x="684360" y="5157720"/>
            <a:ext cx="55692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7" name=""/>
          <p:cNvSpPr txBox="1"/>
          <p:nvPr/>
        </p:nvSpPr>
        <p:spPr>
          <a:xfrm>
            <a:off x="738360" y="5157720"/>
            <a:ext cx="441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ксим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28" name=""/>
          <p:cNvSpPr/>
          <p:nvPr/>
        </p:nvSpPr>
        <p:spPr>
          <a:xfrm>
            <a:off x="2700360" y="3573360"/>
            <a:ext cx="504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9" name=""/>
          <p:cNvSpPr txBox="1"/>
          <p:nvPr/>
        </p:nvSpPr>
        <p:spPr>
          <a:xfrm>
            <a:off x="2771640" y="3573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ет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ле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0" name=""/>
          <p:cNvSpPr/>
          <p:nvPr/>
        </p:nvSpPr>
        <p:spPr>
          <a:xfrm>
            <a:off x="1692360" y="3284640"/>
            <a:ext cx="8413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1" name=""/>
          <p:cNvSpPr txBox="1"/>
          <p:nvPr/>
        </p:nvSpPr>
        <p:spPr>
          <a:xfrm>
            <a:off x="1763640" y="3284640"/>
            <a:ext cx="730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рзин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2" name=""/>
          <p:cNvSpPr/>
          <p:nvPr/>
        </p:nvSpPr>
        <p:spPr>
          <a:xfrm>
            <a:off x="2916360" y="2781360"/>
            <a:ext cx="8413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3" name=""/>
          <p:cNvSpPr txBox="1"/>
          <p:nvPr/>
        </p:nvSpPr>
        <p:spPr>
          <a:xfrm>
            <a:off x="2987640" y="2781360"/>
            <a:ext cx="730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Рыж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на и Викт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4" name=""/>
          <p:cNvSpPr/>
          <p:nvPr/>
        </p:nvSpPr>
        <p:spPr>
          <a:xfrm>
            <a:off x="3708360" y="3357720"/>
            <a:ext cx="79236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5" name=""/>
          <p:cNvSpPr txBox="1"/>
          <p:nvPr/>
        </p:nvSpPr>
        <p:spPr>
          <a:xfrm>
            <a:off x="3780000" y="335772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ражник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лена и Ю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6" name=""/>
          <p:cNvSpPr/>
          <p:nvPr/>
        </p:nvSpPr>
        <p:spPr>
          <a:xfrm>
            <a:off x="4572000" y="3357720"/>
            <a:ext cx="792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7" name=""/>
          <p:cNvSpPr txBox="1"/>
          <p:nvPr/>
        </p:nvSpPr>
        <p:spPr>
          <a:xfrm>
            <a:off x="4643280" y="3357720"/>
            <a:ext cx="64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лоч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на и Владими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38" name=""/>
          <p:cNvSpPr/>
          <p:nvPr/>
        </p:nvSpPr>
        <p:spPr>
          <a:xfrm>
            <a:off x="5435640" y="2781360"/>
            <a:ext cx="792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9" name=""/>
          <p:cNvSpPr txBox="1"/>
          <p:nvPr/>
        </p:nvSpPr>
        <p:spPr>
          <a:xfrm>
            <a:off x="5506920" y="278136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Игорь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0" name=""/>
          <p:cNvSpPr/>
          <p:nvPr/>
        </p:nvSpPr>
        <p:spPr>
          <a:xfrm>
            <a:off x="5292720" y="1773360"/>
            <a:ext cx="79200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1" name=""/>
          <p:cNvSpPr txBox="1"/>
          <p:nvPr/>
        </p:nvSpPr>
        <p:spPr>
          <a:xfrm>
            <a:off x="5364000" y="1773360"/>
            <a:ext cx="64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вгений и Окс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2" name=""/>
          <p:cNvSpPr/>
          <p:nvPr/>
        </p:nvSpPr>
        <p:spPr>
          <a:xfrm>
            <a:off x="6372360" y="3213000"/>
            <a:ext cx="792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3" name=""/>
          <p:cNvSpPr txBox="1"/>
          <p:nvPr/>
        </p:nvSpPr>
        <p:spPr>
          <a:xfrm>
            <a:off x="6443640" y="321300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л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атьяна и Андр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4" name=""/>
          <p:cNvSpPr/>
          <p:nvPr/>
        </p:nvSpPr>
        <p:spPr>
          <a:xfrm>
            <a:off x="7308720" y="2133720"/>
            <a:ext cx="64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5" name=""/>
          <p:cNvSpPr txBox="1"/>
          <p:nvPr/>
        </p:nvSpPr>
        <p:spPr>
          <a:xfrm>
            <a:off x="7380360" y="2133720"/>
            <a:ext cx="504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л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рист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6" name=""/>
          <p:cNvSpPr/>
          <p:nvPr/>
        </p:nvSpPr>
        <p:spPr>
          <a:xfrm>
            <a:off x="6443640" y="227664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7" name=""/>
          <p:cNvSpPr txBox="1"/>
          <p:nvPr/>
        </p:nvSpPr>
        <p:spPr>
          <a:xfrm>
            <a:off x="6515280" y="2276640"/>
            <a:ext cx="514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л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имоф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48" name=""/>
          <p:cNvSpPr/>
          <p:nvPr/>
        </p:nvSpPr>
        <p:spPr>
          <a:xfrm>
            <a:off x="4716360" y="765000"/>
            <a:ext cx="64764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9" name=""/>
          <p:cNvSpPr txBox="1"/>
          <p:nvPr/>
        </p:nvSpPr>
        <p:spPr>
          <a:xfrm>
            <a:off x="4788000" y="765000"/>
            <a:ext cx="51408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0" name=""/>
          <p:cNvSpPr/>
          <p:nvPr/>
        </p:nvSpPr>
        <p:spPr>
          <a:xfrm>
            <a:off x="5437080" y="907920"/>
            <a:ext cx="64764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1" name=""/>
          <p:cNvSpPr txBox="1"/>
          <p:nvPr/>
        </p:nvSpPr>
        <p:spPr>
          <a:xfrm>
            <a:off x="5508720" y="907920"/>
            <a:ext cx="514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оф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2" name=""/>
          <p:cNvSpPr/>
          <p:nvPr/>
        </p:nvSpPr>
        <p:spPr>
          <a:xfrm>
            <a:off x="6156360" y="1557360"/>
            <a:ext cx="64764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3" name=""/>
          <p:cNvSpPr txBox="1"/>
          <p:nvPr/>
        </p:nvSpPr>
        <p:spPr>
          <a:xfrm>
            <a:off x="6227640" y="1557360"/>
            <a:ext cx="514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Юл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4" name=""/>
          <p:cNvSpPr/>
          <p:nvPr/>
        </p:nvSpPr>
        <p:spPr>
          <a:xfrm>
            <a:off x="4788000" y="2421000"/>
            <a:ext cx="585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5" name=""/>
          <p:cNvSpPr txBox="1"/>
          <p:nvPr/>
        </p:nvSpPr>
        <p:spPr>
          <a:xfrm>
            <a:off x="4859280" y="2421000"/>
            <a:ext cx="43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лоч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кате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6" name=""/>
          <p:cNvSpPr/>
          <p:nvPr/>
        </p:nvSpPr>
        <p:spPr>
          <a:xfrm>
            <a:off x="3635280" y="1773360"/>
            <a:ext cx="64764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7" name=""/>
          <p:cNvSpPr txBox="1"/>
          <p:nvPr/>
        </p:nvSpPr>
        <p:spPr>
          <a:xfrm>
            <a:off x="3706920" y="1773360"/>
            <a:ext cx="50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ражни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др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58" name=""/>
          <p:cNvSpPr/>
          <p:nvPr/>
        </p:nvSpPr>
        <p:spPr>
          <a:xfrm>
            <a:off x="4356000" y="1557360"/>
            <a:ext cx="54000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9" name=""/>
          <p:cNvSpPr txBox="1"/>
          <p:nvPr/>
        </p:nvSpPr>
        <p:spPr>
          <a:xfrm>
            <a:off x="4427640" y="155736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Бражни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хаи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0" name=""/>
          <p:cNvSpPr/>
          <p:nvPr/>
        </p:nvSpPr>
        <p:spPr>
          <a:xfrm>
            <a:off x="2700360" y="1844640"/>
            <a:ext cx="504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1" name=""/>
          <p:cNvSpPr txBox="1"/>
          <p:nvPr/>
        </p:nvSpPr>
        <p:spPr>
          <a:xfrm>
            <a:off x="2771640" y="184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Рыж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2" name=""/>
          <p:cNvSpPr/>
          <p:nvPr/>
        </p:nvSpPr>
        <p:spPr>
          <a:xfrm>
            <a:off x="3203640" y="1341360"/>
            <a:ext cx="504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3" name=""/>
          <p:cNvSpPr txBox="1"/>
          <p:nvPr/>
        </p:nvSpPr>
        <p:spPr>
          <a:xfrm>
            <a:off x="3274920" y="1341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Рыж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Юл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4" name=""/>
          <p:cNvSpPr/>
          <p:nvPr/>
        </p:nvSpPr>
        <p:spPr>
          <a:xfrm>
            <a:off x="2268360" y="2349360"/>
            <a:ext cx="44316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5" name=""/>
          <p:cNvSpPr txBox="1"/>
          <p:nvPr/>
        </p:nvSpPr>
        <p:spPr>
          <a:xfrm>
            <a:off x="2340000" y="2421000"/>
            <a:ext cx="2905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6" name=""/>
          <p:cNvSpPr/>
          <p:nvPr/>
        </p:nvSpPr>
        <p:spPr>
          <a:xfrm>
            <a:off x="1185840" y="2060640"/>
            <a:ext cx="4809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7" name=""/>
          <p:cNvSpPr txBox="1"/>
          <p:nvPr/>
        </p:nvSpPr>
        <p:spPr>
          <a:xfrm>
            <a:off x="1258920" y="2060640"/>
            <a:ext cx="368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рз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68" name=""/>
          <p:cNvSpPr/>
          <p:nvPr/>
        </p:nvSpPr>
        <p:spPr>
          <a:xfrm>
            <a:off x="1763640" y="1628640"/>
            <a:ext cx="48096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9" name=""/>
          <p:cNvSpPr txBox="1"/>
          <p:nvPr/>
        </p:nvSpPr>
        <p:spPr>
          <a:xfrm>
            <a:off x="1835280" y="1628640"/>
            <a:ext cx="369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орз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кс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70" name=""/>
          <p:cNvSpPr/>
          <p:nvPr/>
        </p:nvSpPr>
        <p:spPr>
          <a:xfrm>
            <a:off x="2050920" y="4437000"/>
            <a:ext cx="55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1" name=""/>
          <p:cNvSpPr txBox="1"/>
          <p:nvPr/>
        </p:nvSpPr>
        <p:spPr>
          <a:xfrm>
            <a:off x="2104920" y="4437000"/>
            <a:ext cx="441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але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72" name=""/>
          <p:cNvSpPr/>
          <p:nvPr/>
        </p:nvSpPr>
        <p:spPr>
          <a:xfrm>
            <a:off x="1187280" y="3933720"/>
            <a:ext cx="55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3" name=""/>
          <p:cNvSpPr txBox="1"/>
          <p:nvPr/>
        </p:nvSpPr>
        <p:spPr>
          <a:xfrm>
            <a:off x="1241280" y="3933720"/>
            <a:ext cx="441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астас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474" name=""/>
          <p:cNvSpPr/>
          <p:nvPr/>
        </p:nvSpPr>
        <p:spPr>
          <a:xfrm>
            <a:off x="701640" y="3141720"/>
            <a:ext cx="557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5" name=""/>
          <p:cNvSpPr txBox="1"/>
          <p:nvPr/>
        </p:nvSpPr>
        <p:spPr>
          <a:xfrm>
            <a:off x="755640" y="3141720"/>
            <a:ext cx="441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дор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др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6476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6477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8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9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0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81" name=""/>
          <p:cNvGrpSpPr/>
          <p:nvPr/>
        </p:nvGrpSpPr>
        <p:grpSpPr>
          <a:xfrm>
            <a:off x="7392960" y="-1711080"/>
            <a:ext cx="3103200" cy="2948040"/>
            <a:chOff x="7392960" y="-1711080"/>
            <a:chExt cx="3103200" cy="2948040"/>
          </a:xfrm>
        </p:grpSpPr>
        <p:grpSp>
          <p:nvGrpSpPr>
            <p:cNvPr id="16482" name=""/>
            <p:cNvGrpSpPr/>
            <p:nvPr/>
          </p:nvGrpSpPr>
          <p:grpSpPr>
            <a:xfrm>
              <a:off x="7392960" y="-1711080"/>
              <a:ext cx="2850840" cy="2738880"/>
              <a:chOff x="7392960" y="-1711080"/>
              <a:chExt cx="2850840" cy="2738880"/>
            </a:xfrm>
          </p:grpSpPr>
          <p:sp>
            <p:nvSpPr>
              <p:cNvPr id="16483" name=""/>
              <p:cNvSpPr/>
              <p:nvPr/>
            </p:nvSpPr>
            <p:spPr>
              <a:xfrm rot="13152000">
                <a:off x="7598160" y="-2127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4" name=""/>
              <p:cNvSpPr/>
              <p:nvPr/>
            </p:nvSpPr>
            <p:spPr>
              <a:xfrm rot="13152000">
                <a:off x="9100440" y="-17967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85" name=""/>
            <p:cNvGrpSpPr/>
            <p:nvPr/>
          </p:nvGrpSpPr>
          <p:grpSpPr>
            <a:xfrm>
              <a:off x="8037360" y="-1071720"/>
              <a:ext cx="2399040" cy="2308680"/>
              <a:chOff x="8037360" y="-1071720"/>
              <a:chExt cx="2399040" cy="2308680"/>
            </a:xfrm>
          </p:grpSpPr>
          <p:sp>
            <p:nvSpPr>
              <p:cNvPr id="16486" name=""/>
              <p:cNvSpPr/>
              <p:nvPr/>
            </p:nvSpPr>
            <p:spPr>
              <a:xfrm rot="13152000">
                <a:off x="8175240" y="2743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7" name=""/>
              <p:cNvSpPr/>
              <p:nvPr/>
            </p:nvSpPr>
            <p:spPr>
              <a:xfrm rot="13152000">
                <a:off x="9346320" y="-1091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88" name=""/>
            <p:cNvGrpSpPr/>
            <p:nvPr/>
          </p:nvGrpSpPr>
          <p:grpSpPr>
            <a:xfrm>
              <a:off x="8871480" y="-1466640"/>
              <a:ext cx="1624680" cy="2471760"/>
              <a:chOff x="8871480" y="-1466640"/>
              <a:chExt cx="1624680" cy="2471760"/>
            </a:xfrm>
          </p:grpSpPr>
          <p:sp>
            <p:nvSpPr>
              <p:cNvPr id="16489" name=""/>
              <p:cNvSpPr/>
              <p:nvPr/>
            </p:nvSpPr>
            <p:spPr>
              <a:xfrm rot="11728800">
                <a:off x="8951040" y="2106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0" name=""/>
              <p:cNvSpPr/>
              <p:nvPr/>
            </p:nvSpPr>
            <p:spPr>
              <a:xfrm rot="11728800">
                <a:off x="9227880" y="-13536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91" name=""/>
            <p:cNvGrpSpPr/>
            <p:nvPr/>
          </p:nvGrpSpPr>
          <p:grpSpPr>
            <a:xfrm>
              <a:off x="8500320" y="-1400040"/>
              <a:ext cx="1492560" cy="2024280"/>
              <a:chOff x="8500320" y="-1400040"/>
              <a:chExt cx="1492560" cy="2024280"/>
            </a:xfrm>
          </p:grpSpPr>
          <p:sp>
            <p:nvSpPr>
              <p:cNvPr id="16492" name=""/>
              <p:cNvSpPr/>
              <p:nvPr/>
            </p:nvSpPr>
            <p:spPr>
              <a:xfrm rot="13152000">
                <a:off x="8569440" y="-61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3" name=""/>
              <p:cNvSpPr/>
              <p:nvPr/>
            </p:nvSpPr>
            <p:spPr>
              <a:xfrm rot="13152000">
                <a:off x="9088560" y="-13878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494" name=""/>
          <p:cNvGrpSpPr/>
          <p:nvPr/>
        </p:nvGrpSpPr>
        <p:grpSpPr>
          <a:xfrm>
            <a:off x="-1575360" y="-1414440"/>
            <a:ext cx="2946600" cy="3104640"/>
            <a:chOff x="-1575360" y="-1414440"/>
            <a:chExt cx="2946600" cy="3104640"/>
          </a:xfrm>
        </p:grpSpPr>
        <p:grpSp>
          <p:nvGrpSpPr>
            <p:cNvPr id="16495" name=""/>
            <p:cNvGrpSpPr/>
            <p:nvPr/>
          </p:nvGrpSpPr>
          <p:grpSpPr>
            <a:xfrm>
              <a:off x="-1575360" y="-1162800"/>
              <a:ext cx="2736720" cy="2853000"/>
              <a:chOff x="-1575360" y="-1162800"/>
              <a:chExt cx="2736720" cy="2853000"/>
            </a:xfrm>
          </p:grpSpPr>
          <p:sp>
            <p:nvSpPr>
              <p:cNvPr id="16496" name=""/>
              <p:cNvSpPr/>
              <p:nvPr/>
            </p:nvSpPr>
            <p:spPr>
              <a:xfrm rot="7755600">
                <a:off x="-92880" y="447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7" name=""/>
              <p:cNvSpPr/>
              <p:nvPr/>
            </p:nvSpPr>
            <p:spPr>
              <a:xfrm rot="7755600">
                <a:off x="-820800" y="-13680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98" name=""/>
            <p:cNvGrpSpPr/>
            <p:nvPr/>
          </p:nvGrpSpPr>
          <p:grpSpPr>
            <a:xfrm>
              <a:off x="-936000" y="-1354320"/>
              <a:ext cx="2307240" cy="2400840"/>
              <a:chOff x="-936000" y="-1354320"/>
              <a:chExt cx="2307240" cy="2400840"/>
            </a:xfrm>
          </p:grpSpPr>
          <p:sp>
            <p:nvSpPr>
              <p:cNvPr id="16499" name=""/>
              <p:cNvSpPr/>
              <p:nvPr/>
            </p:nvSpPr>
            <p:spPr>
              <a:xfrm rot="7755600">
                <a:off x="334800" y="730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0" name=""/>
              <p:cNvSpPr/>
              <p:nvPr/>
            </p:nvSpPr>
            <p:spPr>
              <a:xfrm rot="7755600">
                <a:off x="-340560" y="-1461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01" name=""/>
            <p:cNvGrpSpPr/>
            <p:nvPr/>
          </p:nvGrpSpPr>
          <p:grpSpPr>
            <a:xfrm>
              <a:off x="-1331280" y="-1414440"/>
              <a:ext cx="2471760" cy="1626120"/>
              <a:chOff x="-1331280" y="-1414440"/>
              <a:chExt cx="2471760" cy="1626120"/>
            </a:xfrm>
          </p:grpSpPr>
          <p:sp>
            <p:nvSpPr>
              <p:cNvPr id="16502" name=""/>
              <p:cNvSpPr/>
              <p:nvPr/>
            </p:nvSpPr>
            <p:spPr>
              <a:xfrm rot="6332400">
                <a:off x="307800" y="-6091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3" name=""/>
              <p:cNvSpPr/>
              <p:nvPr/>
            </p:nvSpPr>
            <p:spPr>
              <a:xfrm rot="6332400">
                <a:off x="-933120" y="-149904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04" name=""/>
            <p:cNvGrpSpPr/>
            <p:nvPr/>
          </p:nvGrpSpPr>
          <p:grpSpPr>
            <a:xfrm>
              <a:off x="-1265040" y="-911160"/>
              <a:ext cx="2023920" cy="1493640"/>
              <a:chOff x="-1265040" y="-911160"/>
              <a:chExt cx="2023920" cy="1493640"/>
            </a:xfrm>
          </p:grpSpPr>
          <p:sp>
            <p:nvSpPr>
              <p:cNvPr id="16505" name=""/>
              <p:cNvSpPr/>
              <p:nvPr/>
            </p:nvSpPr>
            <p:spPr>
              <a:xfrm rot="7755600">
                <a:off x="-67680" y="-123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6" name=""/>
              <p:cNvSpPr/>
              <p:nvPr/>
            </p:nvSpPr>
            <p:spPr>
              <a:xfrm rot="7755600">
                <a:off x="-829080" y="-958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507" name=""/>
          <p:cNvGrpSpPr/>
          <p:nvPr/>
        </p:nvGrpSpPr>
        <p:grpSpPr>
          <a:xfrm>
            <a:off x="7966080" y="5267160"/>
            <a:ext cx="2718360" cy="3318840"/>
            <a:chOff x="7966080" y="5267160"/>
            <a:chExt cx="2718360" cy="3318840"/>
          </a:xfrm>
        </p:grpSpPr>
        <p:grpSp>
          <p:nvGrpSpPr>
            <p:cNvPr id="16508" name=""/>
            <p:cNvGrpSpPr/>
            <p:nvPr/>
          </p:nvGrpSpPr>
          <p:grpSpPr>
            <a:xfrm>
              <a:off x="8262720" y="5267160"/>
              <a:ext cx="2421720" cy="3106440"/>
              <a:chOff x="8262720" y="5267160"/>
              <a:chExt cx="2421720" cy="3106440"/>
            </a:xfrm>
          </p:grpSpPr>
          <p:sp>
            <p:nvSpPr>
              <p:cNvPr id="16509" name=""/>
              <p:cNvSpPr/>
              <p:nvPr/>
            </p:nvSpPr>
            <p:spPr>
              <a:xfrm rot="19135800">
                <a:off x="8469720" y="5486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0" name=""/>
              <p:cNvSpPr/>
              <p:nvPr/>
            </p:nvSpPr>
            <p:spPr>
              <a:xfrm rot="19135800">
                <a:off x="9518760" y="6285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11" name=""/>
            <p:cNvGrpSpPr/>
            <p:nvPr/>
          </p:nvGrpSpPr>
          <p:grpSpPr>
            <a:xfrm>
              <a:off x="7966080" y="5851440"/>
              <a:ext cx="2064960" cy="2595240"/>
              <a:chOff x="7966080" y="5851440"/>
              <a:chExt cx="2064960" cy="2595240"/>
            </a:xfrm>
          </p:grpSpPr>
          <p:sp>
            <p:nvSpPr>
              <p:cNvPr id="16512" name=""/>
              <p:cNvSpPr/>
              <p:nvPr/>
            </p:nvSpPr>
            <p:spPr>
              <a:xfrm rot="19135800">
                <a:off x="8103960" y="60562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3" name=""/>
              <p:cNvSpPr/>
              <p:nvPr/>
            </p:nvSpPr>
            <p:spPr>
              <a:xfrm rot="19135800">
                <a:off x="8924040" y="6664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14" name=""/>
            <p:cNvGrpSpPr/>
            <p:nvPr/>
          </p:nvGrpSpPr>
          <p:grpSpPr>
            <a:xfrm>
              <a:off x="8045640" y="6651360"/>
              <a:ext cx="2462400" cy="1934640"/>
              <a:chOff x="8045640" y="6651360"/>
              <a:chExt cx="2462400" cy="1934640"/>
            </a:xfrm>
          </p:grpSpPr>
          <p:sp>
            <p:nvSpPr>
              <p:cNvPr id="16515" name=""/>
              <p:cNvSpPr/>
              <p:nvPr/>
            </p:nvSpPr>
            <p:spPr>
              <a:xfrm rot="17713200">
                <a:off x="8139960" y="68014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6" name=""/>
              <p:cNvSpPr/>
              <p:nvPr/>
            </p:nvSpPr>
            <p:spPr>
              <a:xfrm rot="17713200">
                <a:off x="9004680" y="69343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17" name=""/>
            <p:cNvGrpSpPr/>
            <p:nvPr/>
          </p:nvGrpSpPr>
          <p:grpSpPr>
            <a:xfrm>
              <a:off x="8508960" y="6397560"/>
              <a:ext cx="1913760" cy="1673280"/>
              <a:chOff x="8508960" y="6397560"/>
              <a:chExt cx="1913760" cy="1673280"/>
            </a:xfrm>
          </p:grpSpPr>
          <p:sp>
            <p:nvSpPr>
              <p:cNvPr id="16518" name=""/>
              <p:cNvSpPr/>
              <p:nvPr/>
            </p:nvSpPr>
            <p:spPr>
              <a:xfrm rot="19135800">
                <a:off x="8576280" y="65916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9" name=""/>
              <p:cNvSpPr/>
              <p:nvPr/>
            </p:nvSpPr>
            <p:spPr>
              <a:xfrm rot="19135800">
                <a:off x="9506880" y="669060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520" name=""/>
          <p:cNvGrpSpPr/>
          <p:nvPr/>
        </p:nvGrpSpPr>
        <p:grpSpPr>
          <a:xfrm>
            <a:off x="-1496160" y="5652000"/>
            <a:ext cx="3220920" cy="2845080"/>
            <a:chOff x="-1496160" y="5652000"/>
            <a:chExt cx="3220920" cy="2845080"/>
          </a:xfrm>
        </p:grpSpPr>
        <p:grpSp>
          <p:nvGrpSpPr>
            <p:cNvPr id="16521" name=""/>
            <p:cNvGrpSpPr/>
            <p:nvPr/>
          </p:nvGrpSpPr>
          <p:grpSpPr>
            <a:xfrm>
              <a:off x="-1262520" y="5905440"/>
              <a:ext cx="2987280" cy="2591640"/>
              <a:chOff x="-1262520" y="5905440"/>
              <a:chExt cx="2987280" cy="2591640"/>
            </a:xfrm>
          </p:grpSpPr>
          <p:sp>
            <p:nvSpPr>
              <p:cNvPr id="16522" name=""/>
              <p:cNvSpPr/>
              <p:nvPr/>
            </p:nvSpPr>
            <p:spPr>
              <a:xfrm rot="2638800">
                <a:off x="465840" y="6126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3" name=""/>
              <p:cNvSpPr/>
              <p:nvPr/>
            </p:nvSpPr>
            <p:spPr>
              <a:xfrm rot="2638800">
                <a:off x="-573120" y="64375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24" name=""/>
            <p:cNvGrpSpPr/>
            <p:nvPr/>
          </p:nvGrpSpPr>
          <p:grpSpPr>
            <a:xfrm>
              <a:off x="-1396440" y="5652000"/>
              <a:ext cx="2504160" cy="2196360"/>
              <a:chOff x="-1396440" y="5652000"/>
              <a:chExt cx="2504160" cy="2196360"/>
            </a:xfrm>
          </p:grpSpPr>
          <p:sp>
            <p:nvSpPr>
              <p:cNvPr id="16525" name=""/>
              <p:cNvSpPr/>
              <p:nvPr/>
            </p:nvSpPr>
            <p:spPr>
              <a:xfrm rot="2638800">
                <a:off x="62280" y="58604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6" name=""/>
              <p:cNvSpPr/>
              <p:nvPr/>
            </p:nvSpPr>
            <p:spPr>
              <a:xfrm rot="2638800">
                <a:off x="-848520" y="6086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27" name=""/>
            <p:cNvGrpSpPr/>
            <p:nvPr/>
          </p:nvGrpSpPr>
          <p:grpSpPr>
            <a:xfrm>
              <a:off x="-1496160" y="5809680"/>
              <a:ext cx="1783440" cy="2475720"/>
              <a:chOff x="-1496160" y="5809680"/>
              <a:chExt cx="1783440" cy="2475720"/>
            </a:xfrm>
          </p:grpSpPr>
          <p:sp>
            <p:nvSpPr>
              <p:cNvPr id="16528" name=""/>
              <p:cNvSpPr/>
              <p:nvPr/>
            </p:nvSpPr>
            <p:spPr>
              <a:xfrm rot="1215600">
                <a:off x="-588960" y="59227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9" name=""/>
              <p:cNvSpPr/>
              <p:nvPr/>
            </p:nvSpPr>
            <p:spPr>
              <a:xfrm rot="1215600">
                <a:off x="-1245240" y="6512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30" name=""/>
            <p:cNvGrpSpPr/>
            <p:nvPr/>
          </p:nvGrpSpPr>
          <p:grpSpPr>
            <a:xfrm>
              <a:off x="-984960" y="6232320"/>
              <a:ext cx="1586880" cy="1977120"/>
              <a:chOff x="-984960" y="6232320"/>
              <a:chExt cx="1586880" cy="1977120"/>
            </a:xfrm>
          </p:grpSpPr>
          <p:sp>
            <p:nvSpPr>
              <p:cNvPr id="16531" name=""/>
              <p:cNvSpPr/>
              <p:nvPr/>
            </p:nvSpPr>
            <p:spPr>
              <a:xfrm rot="2638800">
                <a:off x="-238680" y="6432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2" name=""/>
              <p:cNvSpPr/>
              <p:nvPr/>
            </p:nvSpPr>
            <p:spPr>
              <a:xfrm rot="2638800">
                <a:off x="-581040" y="68428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33" name=""/>
          <p:cNvSpPr/>
          <p:nvPr/>
        </p:nvSpPr>
        <p:spPr>
          <a:xfrm>
            <a:off x="2124000" y="6237360"/>
            <a:ext cx="1368360" cy="50328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4" name=""/>
          <p:cNvSpPr txBox="1"/>
          <p:nvPr/>
        </p:nvSpPr>
        <p:spPr>
          <a:xfrm>
            <a:off x="2268360" y="6237360"/>
            <a:ext cx="109872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алинин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ария и Семён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35" name=""/>
          <p:cNvSpPr/>
          <p:nvPr/>
        </p:nvSpPr>
        <p:spPr>
          <a:xfrm>
            <a:off x="5364000" y="6237360"/>
            <a:ext cx="1368720" cy="50328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6" name=""/>
          <p:cNvSpPr txBox="1"/>
          <p:nvPr/>
        </p:nvSpPr>
        <p:spPr>
          <a:xfrm>
            <a:off x="5508720" y="6237360"/>
            <a:ext cx="109836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Анна и Сергей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37" name=""/>
          <p:cNvSpPr/>
          <p:nvPr/>
        </p:nvSpPr>
        <p:spPr>
          <a:xfrm>
            <a:off x="4932360" y="333360"/>
            <a:ext cx="289080" cy="360360"/>
          </a:xfrm>
          <a:prstGeom prst="ellipse">
            <a:avLst/>
          </a:prstGeom>
          <a:blipFill rotWithShape="0">
            <a:blip r:embed="rId4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8" name=""/>
          <p:cNvSpPr/>
          <p:nvPr/>
        </p:nvSpPr>
        <p:spPr>
          <a:xfrm>
            <a:off x="7740720" y="4005360"/>
            <a:ext cx="288720" cy="360360"/>
          </a:xfrm>
          <a:prstGeom prst="ellipse">
            <a:avLst/>
          </a:prstGeom>
          <a:blipFill rotWithShape="0">
            <a:blip r:embed="rId4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9" name=""/>
          <p:cNvSpPr/>
          <p:nvPr/>
        </p:nvSpPr>
        <p:spPr>
          <a:xfrm>
            <a:off x="7453440" y="4005360"/>
            <a:ext cx="288720" cy="360360"/>
          </a:xfrm>
          <a:prstGeom prst="ellipse">
            <a:avLst/>
          </a:prstGeom>
          <a:blipFill rotWithShape="0">
            <a:blip r:embed="rId4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40" name=""/>
          <p:cNvGrpSpPr/>
          <p:nvPr/>
        </p:nvGrpSpPr>
        <p:grpSpPr>
          <a:xfrm>
            <a:off x="7596360" y="4292640"/>
            <a:ext cx="215640" cy="144360"/>
            <a:chOff x="7596360" y="4292640"/>
            <a:chExt cx="215640" cy="144360"/>
          </a:xfrm>
        </p:grpSpPr>
        <p:sp>
          <p:nvSpPr>
            <p:cNvPr id="16541" name=""/>
            <p:cNvSpPr/>
            <p:nvPr/>
          </p:nvSpPr>
          <p:spPr>
            <a:xfrm>
              <a:off x="759636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2" name=""/>
            <p:cNvSpPr/>
            <p:nvPr/>
          </p:nvSpPr>
          <p:spPr>
            <a:xfrm>
              <a:off x="7657920" y="429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43" name=""/>
          <p:cNvSpPr/>
          <p:nvPr/>
        </p:nvSpPr>
        <p:spPr>
          <a:xfrm>
            <a:off x="8101080" y="4005360"/>
            <a:ext cx="288720" cy="360360"/>
          </a:xfrm>
          <a:prstGeom prst="ellipse">
            <a:avLst/>
          </a:prstGeom>
          <a:blipFill rotWithShape="0">
            <a:blip r:embed="rId48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4" name=""/>
          <p:cNvSpPr/>
          <p:nvPr/>
        </p:nvSpPr>
        <p:spPr>
          <a:xfrm>
            <a:off x="8101080" y="429264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5" name=""/>
          <p:cNvSpPr/>
          <p:nvPr/>
        </p:nvSpPr>
        <p:spPr>
          <a:xfrm>
            <a:off x="7885080" y="429264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6" name=""/>
          <p:cNvSpPr/>
          <p:nvPr/>
        </p:nvSpPr>
        <p:spPr>
          <a:xfrm>
            <a:off x="5724360" y="5013360"/>
            <a:ext cx="289080" cy="360360"/>
          </a:xfrm>
          <a:prstGeom prst="ellipse">
            <a:avLst/>
          </a:prstGeom>
          <a:blipFill rotWithShape="0">
            <a:blip r:embed="rId49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7" name="">
            <a:hlinkClick r:id="rId50" action="ppaction://hlinksldjump"/>
          </p:cNvPr>
          <p:cNvSpPr/>
          <p:nvPr/>
        </p:nvSpPr>
        <p:spPr>
          <a:xfrm>
            <a:off x="6012000" y="5013360"/>
            <a:ext cx="288720" cy="360360"/>
          </a:xfrm>
          <a:prstGeom prst="ellipse">
            <a:avLst/>
          </a:prstGeom>
          <a:blipFill rotWithShape="0">
            <a:blip r:embed="rId5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48" name=""/>
          <p:cNvGrpSpPr/>
          <p:nvPr/>
        </p:nvGrpSpPr>
        <p:grpSpPr>
          <a:xfrm>
            <a:off x="5867280" y="5300640"/>
            <a:ext cx="215640" cy="144360"/>
            <a:chOff x="5867280" y="5300640"/>
            <a:chExt cx="215640" cy="144360"/>
          </a:xfrm>
        </p:grpSpPr>
        <p:sp>
          <p:nvSpPr>
            <p:cNvPr id="16549" name=""/>
            <p:cNvSpPr/>
            <p:nvPr/>
          </p:nvSpPr>
          <p:spPr>
            <a:xfrm>
              <a:off x="5867280" y="5300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0" name=""/>
            <p:cNvSpPr/>
            <p:nvPr/>
          </p:nvSpPr>
          <p:spPr>
            <a:xfrm>
              <a:off x="5928840" y="5300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51" name="">
            <a:hlinkClick r:id="rId52" action="ppaction://hlinksldjump"/>
          </p:cNvPr>
          <p:cNvSpPr/>
          <p:nvPr/>
        </p:nvSpPr>
        <p:spPr>
          <a:xfrm>
            <a:off x="8459640" y="407664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2" name=""/>
          <p:cNvSpPr txBox="1"/>
          <p:nvPr/>
        </p:nvSpPr>
        <p:spPr>
          <a:xfrm>
            <a:off x="8532720" y="4149720"/>
            <a:ext cx="5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53" name="">
            <a:hlinkClick r:id="rId53" action="ppaction://hlinksldjump"/>
          </p:cNvPr>
          <p:cNvSpPr/>
          <p:nvPr/>
        </p:nvSpPr>
        <p:spPr>
          <a:xfrm>
            <a:off x="7451640" y="6021360"/>
            <a:ext cx="647640" cy="35892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4" name=""/>
          <p:cNvSpPr txBox="1"/>
          <p:nvPr/>
        </p:nvSpPr>
        <p:spPr>
          <a:xfrm>
            <a:off x="7524720" y="6093000"/>
            <a:ext cx="503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555" name="">
            <a:hlinkClick r:id="rId54" action="ppaction://hlinksldjump"/>
          </p:cNvPr>
          <p:cNvSpPr/>
          <p:nvPr/>
        </p:nvSpPr>
        <p:spPr>
          <a:xfrm>
            <a:off x="7738920" y="5156280"/>
            <a:ext cx="86544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6" name=""/>
          <p:cNvSpPr txBox="1"/>
          <p:nvPr/>
        </p:nvSpPr>
        <p:spPr>
          <a:xfrm>
            <a:off x="7812000" y="5229360"/>
            <a:ext cx="719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МОСКВИЧЁ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7" name=""/>
          <p:cNvSpPr/>
          <p:nvPr/>
        </p:nvSpPr>
        <p:spPr>
          <a:xfrm>
            <a:off x="-290520" y="3860640"/>
            <a:ext cx="4005360" cy="1990800"/>
          </a:xfrm>
          <a:custGeom>
            <a:avLst/>
            <a:gdLst/>
            <a:ahLst/>
            <a:rect l="l" t="t" r="r" b="b"/>
            <a:pathLst>
              <a:path w="2523" h="1254">
                <a:moveTo>
                  <a:pt x="123" y="1218"/>
                </a:moveTo>
                <a:cubicBezTo>
                  <a:pt x="235" y="1254"/>
                  <a:pt x="553" y="1138"/>
                  <a:pt x="759" y="1067"/>
                </a:cubicBezTo>
                <a:cubicBezTo>
                  <a:pt x="965" y="996"/>
                  <a:pt x="1195" y="844"/>
                  <a:pt x="1358" y="790"/>
                </a:cubicBezTo>
                <a:cubicBezTo>
                  <a:pt x="1521" y="736"/>
                  <a:pt x="1647" y="762"/>
                  <a:pt x="1736" y="742"/>
                </a:cubicBezTo>
                <a:cubicBezTo>
                  <a:pt x="1825" y="722"/>
                  <a:pt x="1852" y="701"/>
                  <a:pt x="1892" y="670"/>
                </a:cubicBezTo>
                <a:cubicBezTo>
                  <a:pt x="1932" y="639"/>
                  <a:pt x="1955" y="602"/>
                  <a:pt x="1976" y="556"/>
                </a:cubicBezTo>
                <a:cubicBezTo>
                  <a:pt x="1997" y="510"/>
                  <a:pt x="1989" y="431"/>
                  <a:pt x="2018" y="394"/>
                </a:cubicBezTo>
                <a:cubicBezTo>
                  <a:pt x="2047" y="357"/>
                  <a:pt x="2102" y="364"/>
                  <a:pt x="2150" y="334"/>
                </a:cubicBezTo>
                <a:cubicBezTo>
                  <a:pt x="2198" y="304"/>
                  <a:pt x="2260" y="231"/>
                  <a:pt x="2306" y="214"/>
                </a:cubicBezTo>
                <a:cubicBezTo>
                  <a:pt x="2352" y="197"/>
                  <a:pt x="2395" y="258"/>
                  <a:pt x="2426" y="232"/>
                </a:cubicBezTo>
                <a:cubicBezTo>
                  <a:pt x="2457" y="206"/>
                  <a:pt x="2476" y="92"/>
                  <a:pt x="2492" y="58"/>
                </a:cubicBezTo>
                <a:cubicBezTo>
                  <a:pt x="2508" y="24"/>
                  <a:pt x="2523" y="30"/>
                  <a:pt x="2520" y="25"/>
                </a:cubicBezTo>
                <a:cubicBezTo>
                  <a:pt x="2517" y="20"/>
                  <a:pt x="2495" y="0"/>
                  <a:pt x="2474" y="28"/>
                </a:cubicBezTo>
                <a:cubicBezTo>
                  <a:pt x="2453" y="56"/>
                  <a:pt x="2428" y="165"/>
                  <a:pt x="2396" y="190"/>
                </a:cubicBezTo>
                <a:cubicBezTo>
                  <a:pt x="2364" y="215"/>
                  <a:pt x="2324" y="162"/>
                  <a:pt x="2282" y="178"/>
                </a:cubicBezTo>
                <a:cubicBezTo>
                  <a:pt x="2240" y="194"/>
                  <a:pt x="2183" y="261"/>
                  <a:pt x="2145" y="287"/>
                </a:cubicBezTo>
                <a:cubicBezTo>
                  <a:pt x="2107" y="313"/>
                  <a:pt x="2078" y="319"/>
                  <a:pt x="2053" y="332"/>
                </a:cubicBezTo>
                <a:cubicBezTo>
                  <a:pt x="2028" y="345"/>
                  <a:pt x="2013" y="335"/>
                  <a:pt x="1994" y="364"/>
                </a:cubicBezTo>
                <a:cubicBezTo>
                  <a:pt x="1975" y="393"/>
                  <a:pt x="1967" y="462"/>
                  <a:pt x="1940" y="508"/>
                </a:cubicBezTo>
                <a:cubicBezTo>
                  <a:pt x="1913" y="554"/>
                  <a:pt x="1891" y="608"/>
                  <a:pt x="1832" y="640"/>
                </a:cubicBezTo>
                <a:cubicBezTo>
                  <a:pt x="1773" y="672"/>
                  <a:pt x="1669" y="686"/>
                  <a:pt x="1586" y="700"/>
                </a:cubicBezTo>
                <a:cubicBezTo>
                  <a:pt x="1503" y="714"/>
                  <a:pt x="1481" y="673"/>
                  <a:pt x="1335" y="722"/>
                </a:cubicBezTo>
                <a:cubicBezTo>
                  <a:pt x="1189" y="771"/>
                  <a:pt x="914" y="922"/>
                  <a:pt x="709" y="995"/>
                </a:cubicBezTo>
                <a:cubicBezTo>
                  <a:pt x="504" y="1068"/>
                  <a:pt x="208" y="1185"/>
                  <a:pt x="104" y="1161"/>
                </a:cubicBezTo>
                <a:cubicBezTo>
                  <a:pt x="0" y="1137"/>
                  <a:pt x="83" y="841"/>
                  <a:pt x="86" y="850"/>
                </a:cubicBezTo>
                <a:cubicBezTo>
                  <a:pt x="89" y="859"/>
                  <a:pt x="9" y="1219"/>
                  <a:pt x="123" y="121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8" name=""/>
          <p:cNvSpPr/>
          <p:nvPr/>
        </p:nvSpPr>
        <p:spPr>
          <a:xfrm>
            <a:off x="1542960" y="1535040"/>
            <a:ext cx="136440" cy="1060560"/>
          </a:xfrm>
          <a:custGeom>
            <a:avLst/>
            <a:gdLst/>
            <a:ahLst/>
            <a:rect l="l" t="t" r="r" b="b"/>
            <a:pathLst>
              <a:path w="86" h="668">
                <a:moveTo>
                  <a:pt x="48" y="14"/>
                </a:moveTo>
                <a:cubicBezTo>
                  <a:pt x="56" y="0"/>
                  <a:pt x="57" y="83"/>
                  <a:pt x="54" y="113"/>
                </a:cubicBezTo>
                <a:cubicBezTo>
                  <a:pt x="51" y="143"/>
                  <a:pt x="28" y="165"/>
                  <a:pt x="30" y="197"/>
                </a:cubicBezTo>
                <a:cubicBezTo>
                  <a:pt x="32" y="229"/>
                  <a:pt x="57" y="268"/>
                  <a:pt x="66" y="305"/>
                </a:cubicBezTo>
                <a:cubicBezTo>
                  <a:pt x="75" y="342"/>
                  <a:pt x="82" y="381"/>
                  <a:pt x="84" y="419"/>
                </a:cubicBezTo>
                <a:cubicBezTo>
                  <a:pt x="86" y="457"/>
                  <a:pt x="84" y="495"/>
                  <a:pt x="78" y="533"/>
                </a:cubicBezTo>
                <a:cubicBezTo>
                  <a:pt x="72" y="571"/>
                  <a:pt x="60" y="630"/>
                  <a:pt x="48" y="649"/>
                </a:cubicBezTo>
                <a:cubicBezTo>
                  <a:pt x="36" y="668"/>
                  <a:pt x="6" y="659"/>
                  <a:pt x="3" y="649"/>
                </a:cubicBezTo>
                <a:cubicBezTo>
                  <a:pt x="0" y="639"/>
                  <a:pt x="26" y="602"/>
                  <a:pt x="30" y="587"/>
                </a:cubicBezTo>
                <a:cubicBezTo>
                  <a:pt x="34" y="572"/>
                  <a:pt x="20" y="582"/>
                  <a:pt x="24" y="557"/>
                </a:cubicBezTo>
                <a:cubicBezTo>
                  <a:pt x="28" y="532"/>
                  <a:pt x="50" y="475"/>
                  <a:pt x="54" y="437"/>
                </a:cubicBezTo>
                <a:cubicBezTo>
                  <a:pt x="58" y="399"/>
                  <a:pt x="56" y="371"/>
                  <a:pt x="48" y="331"/>
                </a:cubicBezTo>
                <a:cubicBezTo>
                  <a:pt x="40" y="291"/>
                  <a:pt x="3" y="248"/>
                  <a:pt x="3" y="195"/>
                </a:cubicBezTo>
                <a:cubicBezTo>
                  <a:pt x="3" y="142"/>
                  <a:pt x="41" y="21"/>
                  <a:pt x="48" y="14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9" name=""/>
          <p:cNvSpPr/>
          <p:nvPr/>
        </p:nvSpPr>
        <p:spPr>
          <a:xfrm>
            <a:off x="-552600" y="2563920"/>
            <a:ext cx="2183040" cy="2477880"/>
          </a:xfrm>
          <a:custGeom>
            <a:avLst/>
            <a:gdLst/>
            <a:ahLst/>
            <a:rect l="l" t="t" r="r" b="b"/>
            <a:pathLst>
              <a:path w="1375" h="1561">
                <a:moveTo>
                  <a:pt x="144" y="1543"/>
                </a:moveTo>
                <a:cubicBezTo>
                  <a:pt x="244" y="1561"/>
                  <a:pt x="637" y="1472"/>
                  <a:pt x="792" y="1427"/>
                </a:cubicBezTo>
                <a:cubicBezTo>
                  <a:pt x="947" y="1382"/>
                  <a:pt x="1008" y="1342"/>
                  <a:pt x="1074" y="1271"/>
                </a:cubicBezTo>
                <a:cubicBezTo>
                  <a:pt x="1140" y="1200"/>
                  <a:pt x="1162" y="1069"/>
                  <a:pt x="1188" y="1001"/>
                </a:cubicBezTo>
                <a:cubicBezTo>
                  <a:pt x="1214" y="933"/>
                  <a:pt x="1223" y="904"/>
                  <a:pt x="1230" y="863"/>
                </a:cubicBezTo>
                <a:cubicBezTo>
                  <a:pt x="1237" y="822"/>
                  <a:pt x="1239" y="784"/>
                  <a:pt x="1230" y="755"/>
                </a:cubicBezTo>
                <a:cubicBezTo>
                  <a:pt x="1221" y="726"/>
                  <a:pt x="1182" y="738"/>
                  <a:pt x="1176" y="689"/>
                </a:cubicBezTo>
                <a:cubicBezTo>
                  <a:pt x="1170" y="640"/>
                  <a:pt x="1182" y="517"/>
                  <a:pt x="1194" y="461"/>
                </a:cubicBezTo>
                <a:cubicBezTo>
                  <a:pt x="1206" y="405"/>
                  <a:pt x="1226" y="393"/>
                  <a:pt x="1248" y="353"/>
                </a:cubicBezTo>
                <a:cubicBezTo>
                  <a:pt x="1270" y="313"/>
                  <a:pt x="1306" y="269"/>
                  <a:pt x="1326" y="221"/>
                </a:cubicBezTo>
                <a:cubicBezTo>
                  <a:pt x="1346" y="173"/>
                  <a:pt x="1361" y="102"/>
                  <a:pt x="1368" y="65"/>
                </a:cubicBezTo>
                <a:cubicBezTo>
                  <a:pt x="1375" y="28"/>
                  <a:pt x="1373" y="2"/>
                  <a:pt x="1368" y="1"/>
                </a:cubicBezTo>
                <a:cubicBezTo>
                  <a:pt x="1363" y="0"/>
                  <a:pt x="1347" y="29"/>
                  <a:pt x="1338" y="59"/>
                </a:cubicBezTo>
                <a:cubicBezTo>
                  <a:pt x="1329" y="89"/>
                  <a:pt x="1339" y="128"/>
                  <a:pt x="1314" y="179"/>
                </a:cubicBezTo>
                <a:cubicBezTo>
                  <a:pt x="1289" y="230"/>
                  <a:pt x="1217" y="308"/>
                  <a:pt x="1188" y="365"/>
                </a:cubicBezTo>
                <a:cubicBezTo>
                  <a:pt x="1159" y="422"/>
                  <a:pt x="1151" y="469"/>
                  <a:pt x="1140" y="521"/>
                </a:cubicBezTo>
                <a:cubicBezTo>
                  <a:pt x="1129" y="573"/>
                  <a:pt x="1127" y="644"/>
                  <a:pt x="1122" y="677"/>
                </a:cubicBezTo>
                <a:cubicBezTo>
                  <a:pt x="1117" y="710"/>
                  <a:pt x="1135" y="712"/>
                  <a:pt x="1110" y="719"/>
                </a:cubicBezTo>
                <a:cubicBezTo>
                  <a:pt x="1085" y="726"/>
                  <a:pt x="1017" y="760"/>
                  <a:pt x="972" y="719"/>
                </a:cubicBezTo>
                <a:cubicBezTo>
                  <a:pt x="927" y="678"/>
                  <a:pt x="885" y="537"/>
                  <a:pt x="840" y="473"/>
                </a:cubicBezTo>
                <a:cubicBezTo>
                  <a:pt x="795" y="409"/>
                  <a:pt x="771" y="364"/>
                  <a:pt x="702" y="335"/>
                </a:cubicBezTo>
                <a:cubicBezTo>
                  <a:pt x="633" y="306"/>
                  <a:pt x="496" y="317"/>
                  <a:pt x="426" y="299"/>
                </a:cubicBezTo>
                <a:cubicBezTo>
                  <a:pt x="356" y="281"/>
                  <a:pt x="307" y="198"/>
                  <a:pt x="280" y="227"/>
                </a:cubicBezTo>
                <a:cubicBezTo>
                  <a:pt x="253" y="256"/>
                  <a:pt x="250" y="444"/>
                  <a:pt x="264" y="473"/>
                </a:cubicBezTo>
                <a:cubicBezTo>
                  <a:pt x="278" y="502"/>
                  <a:pt x="302" y="416"/>
                  <a:pt x="366" y="401"/>
                </a:cubicBezTo>
                <a:cubicBezTo>
                  <a:pt x="430" y="386"/>
                  <a:pt x="572" y="363"/>
                  <a:pt x="648" y="383"/>
                </a:cubicBezTo>
                <a:cubicBezTo>
                  <a:pt x="724" y="403"/>
                  <a:pt x="768" y="456"/>
                  <a:pt x="822" y="521"/>
                </a:cubicBezTo>
                <a:cubicBezTo>
                  <a:pt x="876" y="586"/>
                  <a:pt x="919" y="731"/>
                  <a:pt x="972" y="773"/>
                </a:cubicBezTo>
                <a:cubicBezTo>
                  <a:pt x="1025" y="815"/>
                  <a:pt x="1105" y="757"/>
                  <a:pt x="1141" y="772"/>
                </a:cubicBezTo>
                <a:cubicBezTo>
                  <a:pt x="1177" y="787"/>
                  <a:pt x="1188" y="820"/>
                  <a:pt x="1187" y="863"/>
                </a:cubicBezTo>
                <a:cubicBezTo>
                  <a:pt x="1186" y="906"/>
                  <a:pt x="1152" y="979"/>
                  <a:pt x="1134" y="1031"/>
                </a:cubicBezTo>
                <a:cubicBezTo>
                  <a:pt x="1116" y="1083"/>
                  <a:pt x="1101" y="1137"/>
                  <a:pt x="1080" y="1175"/>
                </a:cubicBezTo>
                <a:cubicBezTo>
                  <a:pt x="1059" y="1213"/>
                  <a:pt x="1036" y="1235"/>
                  <a:pt x="1008" y="1259"/>
                </a:cubicBezTo>
                <a:cubicBezTo>
                  <a:pt x="980" y="1283"/>
                  <a:pt x="968" y="1299"/>
                  <a:pt x="915" y="1316"/>
                </a:cubicBezTo>
                <a:cubicBezTo>
                  <a:pt x="862" y="1333"/>
                  <a:pt x="756" y="1354"/>
                  <a:pt x="688" y="1361"/>
                </a:cubicBezTo>
                <a:cubicBezTo>
                  <a:pt x="620" y="1368"/>
                  <a:pt x="589" y="1368"/>
                  <a:pt x="506" y="1361"/>
                </a:cubicBezTo>
                <a:cubicBezTo>
                  <a:pt x="423" y="1354"/>
                  <a:pt x="249" y="1286"/>
                  <a:pt x="189" y="1316"/>
                </a:cubicBezTo>
                <a:cubicBezTo>
                  <a:pt x="129" y="1346"/>
                  <a:pt x="0" y="1543"/>
                  <a:pt x="144" y="1543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000000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0" name=""/>
          <p:cNvSpPr/>
          <p:nvPr/>
        </p:nvSpPr>
        <p:spPr>
          <a:xfrm>
            <a:off x="1533600" y="290520"/>
            <a:ext cx="7026120" cy="6475320"/>
          </a:xfrm>
          <a:custGeom>
            <a:avLst/>
            <a:gdLst/>
            <a:ahLst/>
            <a:rect l="l" t="t" r="r" b="b"/>
            <a:pathLst>
              <a:path w="4426" h="4079">
                <a:moveTo>
                  <a:pt x="1370" y="4064"/>
                </a:moveTo>
                <a:cubicBezTo>
                  <a:pt x="1385" y="4079"/>
                  <a:pt x="1476" y="3996"/>
                  <a:pt x="1506" y="3973"/>
                </a:cubicBezTo>
                <a:cubicBezTo>
                  <a:pt x="1536" y="3950"/>
                  <a:pt x="1536" y="3920"/>
                  <a:pt x="1551" y="3927"/>
                </a:cubicBezTo>
                <a:cubicBezTo>
                  <a:pt x="1566" y="3934"/>
                  <a:pt x="1566" y="4025"/>
                  <a:pt x="1596" y="4018"/>
                </a:cubicBezTo>
                <a:cubicBezTo>
                  <a:pt x="1626" y="4011"/>
                  <a:pt x="1680" y="3920"/>
                  <a:pt x="1733" y="3882"/>
                </a:cubicBezTo>
                <a:cubicBezTo>
                  <a:pt x="1786" y="3844"/>
                  <a:pt x="1854" y="3783"/>
                  <a:pt x="1914" y="3791"/>
                </a:cubicBezTo>
                <a:cubicBezTo>
                  <a:pt x="1974" y="3799"/>
                  <a:pt x="2057" y="3897"/>
                  <a:pt x="2095" y="3927"/>
                </a:cubicBezTo>
                <a:cubicBezTo>
                  <a:pt x="2133" y="3957"/>
                  <a:pt x="2133" y="3980"/>
                  <a:pt x="2141" y="3973"/>
                </a:cubicBezTo>
                <a:cubicBezTo>
                  <a:pt x="2149" y="3966"/>
                  <a:pt x="2134" y="3905"/>
                  <a:pt x="2141" y="3882"/>
                </a:cubicBezTo>
                <a:cubicBezTo>
                  <a:pt x="2148" y="3859"/>
                  <a:pt x="2163" y="3837"/>
                  <a:pt x="2186" y="3837"/>
                </a:cubicBezTo>
                <a:cubicBezTo>
                  <a:pt x="2209" y="3837"/>
                  <a:pt x="2232" y="3859"/>
                  <a:pt x="2277" y="3882"/>
                </a:cubicBezTo>
                <a:cubicBezTo>
                  <a:pt x="2322" y="3905"/>
                  <a:pt x="2398" y="3958"/>
                  <a:pt x="2458" y="3973"/>
                </a:cubicBezTo>
                <a:cubicBezTo>
                  <a:pt x="2518" y="3988"/>
                  <a:pt x="2595" y="3981"/>
                  <a:pt x="2640" y="3973"/>
                </a:cubicBezTo>
                <a:cubicBezTo>
                  <a:pt x="2685" y="3965"/>
                  <a:pt x="2730" y="3935"/>
                  <a:pt x="2730" y="3927"/>
                </a:cubicBezTo>
                <a:cubicBezTo>
                  <a:pt x="2730" y="3919"/>
                  <a:pt x="2678" y="3927"/>
                  <a:pt x="2640" y="3927"/>
                </a:cubicBezTo>
                <a:cubicBezTo>
                  <a:pt x="2602" y="3927"/>
                  <a:pt x="2549" y="3942"/>
                  <a:pt x="2504" y="3927"/>
                </a:cubicBezTo>
                <a:cubicBezTo>
                  <a:pt x="2459" y="3912"/>
                  <a:pt x="2421" y="3860"/>
                  <a:pt x="2368" y="3837"/>
                </a:cubicBezTo>
                <a:cubicBezTo>
                  <a:pt x="2315" y="3814"/>
                  <a:pt x="2218" y="3818"/>
                  <a:pt x="2186" y="3791"/>
                </a:cubicBezTo>
                <a:cubicBezTo>
                  <a:pt x="2154" y="3764"/>
                  <a:pt x="2192" y="3713"/>
                  <a:pt x="2178" y="3676"/>
                </a:cubicBezTo>
                <a:cubicBezTo>
                  <a:pt x="2164" y="3639"/>
                  <a:pt x="2119" y="3628"/>
                  <a:pt x="2101" y="3571"/>
                </a:cubicBezTo>
                <a:cubicBezTo>
                  <a:pt x="2083" y="3514"/>
                  <a:pt x="2068" y="3419"/>
                  <a:pt x="2067" y="3335"/>
                </a:cubicBezTo>
                <a:cubicBezTo>
                  <a:pt x="2066" y="3251"/>
                  <a:pt x="2090" y="3157"/>
                  <a:pt x="2094" y="3065"/>
                </a:cubicBezTo>
                <a:cubicBezTo>
                  <a:pt x="2098" y="2973"/>
                  <a:pt x="2086" y="2853"/>
                  <a:pt x="2094" y="2780"/>
                </a:cubicBezTo>
                <a:cubicBezTo>
                  <a:pt x="2102" y="2707"/>
                  <a:pt x="2129" y="2678"/>
                  <a:pt x="2143" y="2628"/>
                </a:cubicBezTo>
                <a:cubicBezTo>
                  <a:pt x="2157" y="2578"/>
                  <a:pt x="2142" y="2529"/>
                  <a:pt x="2178" y="2482"/>
                </a:cubicBezTo>
                <a:cubicBezTo>
                  <a:pt x="2214" y="2435"/>
                  <a:pt x="2290" y="2375"/>
                  <a:pt x="2358" y="2343"/>
                </a:cubicBezTo>
                <a:cubicBezTo>
                  <a:pt x="2426" y="2311"/>
                  <a:pt x="2502" y="2288"/>
                  <a:pt x="2587" y="2288"/>
                </a:cubicBezTo>
                <a:cubicBezTo>
                  <a:pt x="2672" y="2288"/>
                  <a:pt x="2777" y="2280"/>
                  <a:pt x="2867" y="2340"/>
                </a:cubicBezTo>
                <a:cubicBezTo>
                  <a:pt x="2957" y="2400"/>
                  <a:pt x="3057" y="2572"/>
                  <a:pt x="3128" y="2648"/>
                </a:cubicBezTo>
                <a:cubicBezTo>
                  <a:pt x="3199" y="2724"/>
                  <a:pt x="3224" y="2770"/>
                  <a:pt x="3295" y="2794"/>
                </a:cubicBezTo>
                <a:cubicBezTo>
                  <a:pt x="3366" y="2818"/>
                  <a:pt x="3471" y="2836"/>
                  <a:pt x="3552" y="2794"/>
                </a:cubicBezTo>
                <a:cubicBezTo>
                  <a:pt x="3633" y="2752"/>
                  <a:pt x="3713" y="2603"/>
                  <a:pt x="3781" y="2544"/>
                </a:cubicBezTo>
                <a:cubicBezTo>
                  <a:pt x="3849" y="2485"/>
                  <a:pt x="3918" y="2475"/>
                  <a:pt x="3961" y="2440"/>
                </a:cubicBezTo>
                <a:cubicBezTo>
                  <a:pt x="4004" y="2405"/>
                  <a:pt x="4014" y="2373"/>
                  <a:pt x="4038" y="2336"/>
                </a:cubicBezTo>
                <a:cubicBezTo>
                  <a:pt x="4062" y="2299"/>
                  <a:pt x="4094" y="2246"/>
                  <a:pt x="4107" y="2218"/>
                </a:cubicBezTo>
                <a:cubicBezTo>
                  <a:pt x="4120" y="2190"/>
                  <a:pt x="4097" y="2201"/>
                  <a:pt x="4114" y="2170"/>
                </a:cubicBezTo>
                <a:cubicBezTo>
                  <a:pt x="4131" y="2139"/>
                  <a:pt x="4161" y="2068"/>
                  <a:pt x="4211" y="2031"/>
                </a:cubicBezTo>
                <a:cubicBezTo>
                  <a:pt x="4261" y="1994"/>
                  <a:pt x="4398" y="1958"/>
                  <a:pt x="4412" y="1948"/>
                </a:cubicBezTo>
                <a:cubicBezTo>
                  <a:pt x="4426" y="1938"/>
                  <a:pt x="4336" y="1955"/>
                  <a:pt x="4294" y="1968"/>
                </a:cubicBezTo>
                <a:cubicBezTo>
                  <a:pt x="4252" y="1981"/>
                  <a:pt x="4205" y="1978"/>
                  <a:pt x="4162" y="2024"/>
                </a:cubicBezTo>
                <a:cubicBezTo>
                  <a:pt x="4119" y="2070"/>
                  <a:pt x="4075" y="2188"/>
                  <a:pt x="4038" y="2246"/>
                </a:cubicBezTo>
                <a:cubicBezTo>
                  <a:pt x="4001" y="2304"/>
                  <a:pt x="3965" y="2373"/>
                  <a:pt x="3940" y="2371"/>
                </a:cubicBezTo>
                <a:cubicBezTo>
                  <a:pt x="3915" y="2369"/>
                  <a:pt x="3888" y="2276"/>
                  <a:pt x="3885" y="2232"/>
                </a:cubicBezTo>
                <a:cubicBezTo>
                  <a:pt x="3882" y="2188"/>
                  <a:pt x="3906" y="2153"/>
                  <a:pt x="3920" y="2107"/>
                </a:cubicBezTo>
                <a:cubicBezTo>
                  <a:pt x="3934" y="2061"/>
                  <a:pt x="3949" y="2015"/>
                  <a:pt x="3968" y="1954"/>
                </a:cubicBezTo>
                <a:cubicBezTo>
                  <a:pt x="3987" y="1893"/>
                  <a:pt x="4026" y="1798"/>
                  <a:pt x="4032" y="1743"/>
                </a:cubicBezTo>
                <a:cubicBezTo>
                  <a:pt x="4038" y="1688"/>
                  <a:pt x="4005" y="1635"/>
                  <a:pt x="4002" y="1623"/>
                </a:cubicBezTo>
                <a:cubicBezTo>
                  <a:pt x="3999" y="1611"/>
                  <a:pt x="4013" y="1647"/>
                  <a:pt x="4014" y="1671"/>
                </a:cubicBezTo>
                <a:cubicBezTo>
                  <a:pt x="4015" y="1695"/>
                  <a:pt x="4019" y="1730"/>
                  <a:pt x="4010" y="1767"/>
                </a:cubicBezTo>
                <a:cubicBezTo>
                  <a:pt x="4001" y="1804"/>
                  <a:pt x="3982" y="1840"/>
                  <a:pt x="3961" y="1892"/>
                </a:cubicBezTo>
                <a:cubicBezTo>
                  <a:pt x="3940" y="1944"/>
                  <a:pt x="3903" y="2022"/>
                  <a:pt x="3885" y="2079"/>
                </a:cubicBezTo>
                <a:cubicBezTo>
                  <a:pt x="3867" y="2136"/>
                  <a:pt x="3853" y="2180"/>
                  <a:pt x="3850" y="2232"/>
                </a:cubicBezTo>
                <a:cubicBezTo>
                  <a:pt x="3847" y="2284"/>
                  <a:pt x="3880" y="2356"/>
                  <a:pt x="3864" y="2392"/>
                </a:cubicBezTo>
                <a:cubicBezTo>
                  <a:pt x="3848" y="2428"/>
                  <a:pt x="3783" y="2431"/>
                  <a:pt x="3753" y="2447"/>
                </a:cubicBezTo>
                <a:cubicBezTo>
                  <a:pt x="3723" y="2463"/>
                  <a:pt x="3704" y="2495"/>
                  <a:pt x="3684" y="2489"/>
                </a:cubicBezTo>
                <a:cubicBezTo>
                  <a:pt x="3664" y="2483"/>
                  <a:pt x="3660" y="2450"/>
                  <a:pt x="3635" y="2412"/>
                </a:cubicBezTo>
                <a:cubicBezTo>
                  <a:pt x="3610" y="2374"/>
                  <a:pt x="3548" y="2317"/>
                  <a:pt x="3531" y="2260"/>
                </a:cubicBezTo>
                <a:cubicBezTo>
                  <a:pt x="3514" y="2203"/>
                  <a:pt x="3521" y="2146"/>
                  <a:pt x="3531" y="2072"/>
                </a:cubicBezTo>
                <a:cubicBezTo>
                  <a:pt x="3541" y="1998"/>
                  <a:pt x="3564" y="1904"/>
                  <a:pt x="3593" y="1816"/>
                </a:cubicBezTo>
                <a:cubicBezTo>
                  <a:pt x="3622" y="1728"/>
                  <a:pt x="3674" y="1631"/>
                  <a:pt x="3704" y="1545"/>
                </a:cubicBezTo>
                <a:cubicBezTo>
                  <a:pt x="3734" y="1459"/>
                  <a:pt x="3806" y="1226"/>
                  <a:pt x="3774" y="1297"/>
                </a:cubicBezTo>
                <a:cubicBezTo>
                  <a:pt x="3742" y="1368"/>
                  <a:pt x="3559" y="1809"/>
                  <a:pt x="3510" y="1968"/>
                </a:cubicBezTo>
                <a:cubicBezTo>
                  <a:pt x="3461" y="2127"/>
                  <a:pt x="3472" y="2177"/>
                  <a:pt x="3482" y="2253"/>
                </a:cubicBezTo>
                <a:cubicBezTo>
                  <a:pt x="3492" y="2329"/>
                  <a:pt x="3555" y="2374"/>
                  <a:pt x="3573" y="2426"/>
                </a:cubicBezTo>
                <a:cubicBezTo>
                  <a:pt x="3591" y="2478"/>
                  <a:pt x="3604" y="2526"/>
                  <a:pt x="3593" y="2565"/>
                </a:cubicBezTo>
                <a:cubicBezTo>
                  <a:pt x="3582" y="2604"/>
                  <a:pt x="3547" y="2644"/>
                  <a:pt x="3510" y="2662"/>
                </a:cubicBezTo>
                <a:cubicBezTo>
                  <a:pt x="3473" y="2680"/>
                  <a:pt x="3418" y="2692"/>
                  <a:pt x="3371" y="2676"/>
                </a:cubicBezTo>
                <a:cubicBezTo>
                  <a:pt x="3324" y="2660"/>
                  <a:pt x="3282" y="2635"/>
                  <a:pt x="3229" y="2567"/>
                </a:cubicBezTo>
                <a:cubicBezTo>
                  <a:pt x="3176" y="2499"/>
                  <a:pt x="3109" y="2334"/>
                  <a:pt x="3052" y="2267"/>
                </a:cubicBezTo>
                <a:cubicBezTo>
                  <a:pt x="2995" y="2200"/>
                  <a:pt x="2938" y="2185"/>
                  <a:pt x="2886" y="2163"/>
                </a:cubicBezTo>
                <a:cubicBezTo>
                  <a:pt x="2834" y="2141"/>
                  <a:pt x="2741" y="2185"/>
                  <a:pt x="2740" y="2135"/>
                </a:cubicBezTo>
                <a:cubicBezTo>
                  <a:pt x="2739" y="2085"/>
                  <a:pt x="2857" y="1969"/>
                  <a:pt x="2879" y="1864"/>
                </a:cubicBezTo>
                <a:cubicBezTo>
                  <a:pt x="2901" y="1759"/>
                  <a:pt x="2868" y="1585"/>
                  <a:pt x="2872" y="1503"/>
                </a:cubicBezTo>
                <a:cubicBezTo>
                  <a:pt x="2876" y="1421"/>
                  <a:pt x="2885" y="1418"/>
                  <a:pt x="2906" y="1372"/>
                </a:cubicBezTo>
                <a:cubicBezTo>
                  <a:pt x="2927" y="1326"/>
                  <a:pt x="2956" y="1276"/>
                  <a:pt x="2997" y="1226"/>
                </a:cubicBezTo>
                <a:cubicBezTo>
                  <a:pt x="3038" y="1176"/>
                  <a:pt x="3096" y="1115"/>
                  <a:pt x="3149" y="1073"/>
                </a:cubicBezTo>
                <a:cubicBezTo>
                  <a:pt x="3202" y="1031"/>
                  <a:pt x="3257" y="1008"/>
                  <a:pt x="3316" y="976"/>
                </a:cubicBezTo>
                <a:cubicBezTo>
                  <a:pt x="3375" y="944"/>
                  <a:pt x="3433" y="900"/>
                  <a:pt x="3503" y="879"/>
                </a:cubicBezTo>
                <a:cubicBezTo>
                  <a:pt x="3573" y="858"/>
                  <a:pt x="3741" y="855"/>
                  <a:pt x="3739" y="851"/>
                </a:cubicBezTo>
                <a:cubicBezTo>
                  <a:pt x="3737" y="847"/>
                  <a:pt x="3592" y="828"/>
                  <a:pt x="3489" y="858"/>
                </a:cubicBezTo>
                <a:cubicBezTo>
                  <a:pt x="3386" y="888"/>
                  <a:pt x="3232" y="961"/>
                  <a:pt x="3122" y="1031"/>
                </a:cubicBezTo>
                <a:cubicBezTo>
                  <a:pt x="3012" y="1101"/>
                  <a:pt x="2884" y="1285"/>
                  <a:pt x="2830" y="1281"/>
                </a:cubicBezTo>
                <a:cubicBezTo>
                  <a:pt x="2776" y="1277"/>
                  <a:pt x="2781" y="1101"/>
                  <a:pt x="2795" y="1004"/>
                </a:cubicBezTo>
                <a:cubicBezTo>
                  <a:pt x="2809" y="907"/>
                  <a:pt x="2880" y="789"/>
                  <a:pt x="2913" y="698"/>
                </a:cubicBezTo>
                <a:cubicBezTo>
                  <a:pt x="2946" y="607"/>
                  <a:pt x="2972" y="528"/>
                  <a:pt x="2990" y="455"/>
                </a:cubicBezTo>
                <a:cubicBezTo>
                  <a:pt x="3008" y="382"/>
                  <a:pt x="3042" y="222"/>
                  <a:pt x="3024" y="261"/>
                </a:cubicBezTo>
                <a:cubicBezTo>
                  <a:pt x="3006" y="300"/>
                  <a:pt x="2923" y="591"/>
                  <a:pt x="2879" y="691"/>
                </a:cubicBezTo>
                <a:cubicBezTo>
                  <a:pt x="2835" y="791"/>
                  <a:pt x="2788" y="801"/>
                  <a:pt x="2761" y="858"/>
                </a:cubicBezTo>
                <a:cubicBezTo>
                  <a:pt x="2734" y="915"/>
                  <a:pt x="2744" y="1021"/>
                  <a:pt x="2719" y="1031"/>
                </a:cubicBezTo>
                <a:cubicBezTo>
                  <a:pt x="2694" y="1041"/>
                  <a:pt x="2652" y="957"/>
                  <a:pt x="2608" y="920"/>
                </a:cubicBezTo>
                <a:cubicBezTo>
                  <a:pt x="2564" y="883"/>
                  <a:pt x="2479" y="871"/>
                  <a:pt x="2455" y="809"/>
                </a:cubicBezTo>
                <a:cubicBezTo>
                  <a:pt x="2431" y="747"/>
                  <a:pt x="2454" y="631"/>
                  <a:pt x="2462" y="546"/>
                </a:cubicBezTo>
                <a:cubicBezTo>
                  <a:pt x="2470" y="461"/>
                  <a:pt x="2497" y="364"/>
                  <a:pt x="2504" y="296"/>
                </a:cubicBezTo>
                <a:cubicBezTo>
                  <a:pt x="2511" y="228"/>
                  <a:pt x="2520" y="54"/>
                  <a:pt x="2504" y="136"/>
                </a:cubicBezTo>
                <a:cubicBezTo>
                  <a:pt x="2488" y="218"/>
                  <a:pt x="2387" y="641"/>
                  <a:pt x="2407" y="789"/>
                </a:cubicBezTo>
                <a:cubicBezTo>
                  <a:pt x="2427" y="937"/>
                  <a:pt x="2574" y="940"/>
                  <a:pt x="2622" y="1025"/>
                </a:cubicBezTo>
                <a:cubicBezTo>
                  <a:pt x="2670" y="1110"/>
                  <a:pt x="2677" y="1219"/>
                  <a:pt x="2698" y="1302"/>
                </a:cubicBezTo>
                <a:cubicBezTo>
                  <a:pt x="2719" y="1385"/>
                  <a:pt x="2742" y="1429"/>
                  <a:pt x="2747" y="1524"/>
                </a:cubicBezTo>
                <a:cubicBezTo>
                  <a:pt x="2752" y="1619"/>
                  <a:pt x="2756" y="1784"/>
                  <a:pt x="2726" y="1871"/>
                </a:cubicBezTo>
                <a:cubicBezTo>
                  <a:pt x="2696" y="1958"/>
                  <a:pt x="2639" y="2003"/>
                  <a:pt x="2566" y="2045"/>
                </a:cubicBezTo>
                <a:cubicBezTo>
                  <a:pt x="2493" y="2087"/>
                  <a:pt x="2370" y="2100"/>
                  <a:pt x="2289" y="2121"/>
                </a:cubicBezTo>
                <a:cubicBezTo>
                  <a:pt x="2208" y="2142"/>
                  <a:pt x="2134" y="2148"/>
                  <a:pt x="2081" y="2170"/>
                </a:cubicBezTo>
                <a:cubicBezTo>
                  <a:pt x="2028" y="2192"/>
                  <a:pt x="2005" y="2217"/>
                  <a:pt x="1970" y="2253"/>
                </a:cubicBezTo>
                <a:cubicBezTo>
                  <a:pt x="1935" y="2289"/>
                  <a:pt x="1911" y="2394"/>
                  <a:pt x="1869" y="2385"/>
                </a:cubicBezTo>
                <a:cubicBezTo>
                  <a:pt x="1827" y="2376"/>
                  <a:pt x="1781" y="2250"/>
                  <a:pt x="1720" y="2197"/>
                </a:cubicBezTo>
                <a:cubicBezTo>
                  <a:pt x="1659" y="2144"/>
                  <a:pt x="1587" y="2122"/>
                  <a:pt x="1506" y="2068"/>
                </a:cubicBezTo>
                <a:cubicBezTo>
                  <a:pt x="1425" y="2014"/>
                  <a:pt x="1294" y="1925"/>
                  <a:pt x="1234" y="1871"/>
                </a:cubicBezTo>
                <a:cubicBezTo>
                  <a:pt x="1174" y="1817"/>
                  <a:pt x="1166" y="1781"/>
                  <a:pt x="1144" y="1746"/>
                </a:cubicBezTo>
                <a:cubicBezTo>
                  <a:pt x="1122" y="1711"/>
                  <a:pt x="1084" y="1687"/>
                  <a:pt x="1102" y="1663"/>
                </a:cubicBezTo>
                <a:cubicBezTo>
                  <a:pt x="1120" y="1639"/>
                  <a:pt x="1192" y="1662"/>
                  <a:pt x="1255" y="1601"/>
                </a:cubicBezTo>
                <a:cubicBezTo>
                  <a:pt x="1318" y="1540"/>
                  <a:pt x="1367" y="1406"/>
                  <a:pt x="1477" y="1295"/>
                </a:cubicBezTo>
                <a:cubicBezTo>
                  <a:pt x="1587" y="1184"/>
                  <a:pt x="1834" y="1123"/>
                  <a:pt x="1914" y="934"/>
                </a:cubicBezTo>
                <a:cubicBezTo>
                  <a:pt x="1994" y="745"/>
                  <a:pt x="1954" y="236"/>
                  <a:pt x="1959" y="163"/>
                </a:cubicBezTo>
                <a:cubicBezTo>
                  <a:pt x="1964" y="90"/>
                  <a:pt x="1958" y="367"/>
                  <a:pt x="1942" y="497"/>
                </a:cubicBezTo>
                <a:cubicBezTo>
                  <a:pt x="1926" y="627"/>
                  <a:pt x="1955" y="808"/>
                  <a:pt x="1865" y="941"/>
                </a:cubicBezTo>
                <a:cubicBezTo>
                  <a:pt x="1775" y="1074"/>
                  <a:pt x="1505" y="1198"/>
                  <a:pt x="1400" y="1295"/>
                </a:cubicBezTo>
                <a:cubicBezTo>
                  <a:pt x="1295" y="1392"/>
                  <a:pt x="1279" y="1477"/>
                  <a:pt x="1234" y="1523"/>
                </a:cubicBezTo>
                <a:cubicBezTo>
                  <a:pt x="1189" y="1569"/>
                  <a:pt x="1147" y="1581"/>
                  <a:pt x="1130" y="1573"/>
                </a:cubicBezTo>
                <a:cubicBezTo>
                  <a:pt x="1113" y="1565"/>
                  <a:pt x="1131" y="1513"/>
                  <a:pt x="1130" y="1476"/>
                </a:cubicBezTo>
                <a:cubicBezTo>
                  <a:pt x="1129" y="1439"/>
                  <a:pt x="1125" y="1535"/>
                  <a:pt x="1123" y="1351"/>
                </a:cubicBezTo>
                <a:cubicBezTo>
                  <a:pt x="1121" y="1167"/>
                  <a:pt x="1113" y="593"/>
                  <a:pt x="1116" y="372"/>
                </a:cubicBezTo>
                <a:cubicBezTo>
                  <a:pt x="1119" y="151"/>
                  <a:pt x="1146" y="54"/>
                  <a:pt x="1143" y="27"/>
                </a:cubicBezTo>
                <a:cubicBezTo>
                  <a:pt x="1140" y="0"/>
                  <a:pt x="1109" y="30"/>
                  <a:pt x="1098" y="208"/>
                </a:cubicBezTo>
                <a:cubicBezTo>
                  <a:pt x="1087" y="386"/>
                  <a:pt x="1080" y="882"/>
                  <a:pt x="1074" y="1094"/>
                </a:cubicBezTo>
                <a:cubicBezTo>
                  <a:pt x="1068" y="1306"/>
                  <a:pt x="1076" y="1401"/>
                  <a:pt x="1060" y="1483"/>
                </a:cubicBezTo>
                <a:cubicBezTo>
                  <a:pt x="1044" y="1565"/>
                  <a:pt x="1016" y="1567"/>
                  <a:pt x="977" y="1587"/>
                </a:cubicBezTo>
                <a:cubicBezTo>
                  <a:pt x="938" y="1607"/>
                  <a:pt x="894" y="1592"/>
                  <a:pt x="824" y="1601"/>
                </a:cubicBezTo>
                <a:cubicBezTo>
                  <a:pt x="754" y="1610"/>
                  <a:pt x="628" y="1692"/>
                  <a:pt x="554" y="1642"/>
                </a:cubicBezTo>
                <a:cubicBezTo>
                  <a:pt x="480" y="1592"/>
                  <a:pt x="403" y="1420"/>
                  <a:pt x="380" y="1302"/>
                </a:cubicBezTo>
                <a:cubicBezTo>
                  <a:pt x="357" y="1184"/>
                  <a:pt x="396" y="1026"/>
                  <a:pt x="417" y="934"/>
                </a:cubicBezTo>
                <a:cubicBezTo>
                  <a:pt x="438" y="842"/>
                  <a:pt x="445" y="868"/>
                  <a:pt x="505" y="747"/>
                </a:cubicBezTo>
                <a:cubicBezTo>
                  <a:pt x="565" y="626"/>
                  <a:pt x="774" y="231"/>
                  <a:pt x="780" y="208"/>
                </a:cubicBezTo>
                <a:cubicBezTo>
                  <a:pt x="786" y="185"/>
                  <a:pt x="607" y="489"/>
                  <a:pt x="540" y="608"/>
                </a:cubicBezTo>
                <a:cubicBezTo>
                  <a:pt x="473" y="727"/>
                  <a:pt x="419" y="805"/>
                  <a:pt x="380" y="920"/>
                </a:cubicBezTo>
                <a:cubicBezTo>
                  <a:pt x="341" y="1035"/>
                  <a:pt x="328" y="1231"/>
                  <a:pt x="304" y="1295"/>
                </a:cubicBezTo>
                <a:cubicBezTo>
                  <a:pt x="280" y="1359"/>
                  <a:pt x="247" y="1333"/>
                  <a:pt x="234" y="1305"/>
                </a:cubicBezTo>
                <a:cubicBezTo>
                  <a:pt x="221" y="1277"/>
                  <a:pt x="239" y="1182"/>
                  <a:pt x="228" y="1125"/>
                </a:cubicBezTo>
                <a:cubicBezTo>
                  <a:pt x="217" y="1068"/>
                  <a:pt x="197" y="1015"/>
                  <a:pt x="168" y="963"/>
                </a:cubicBezTo>
                <a:cubicBezTo>
                  <a:pt x="139" y="911"/>
                  <a:pt x="79" y="865"/>
                  <a:pt x="54" y="813"/>
                </a:cubicBezTo>
                <a:cubicBezTo>
                  <a:pt x="29" y="761"/>
                  <a:pt x="25" y="700"/>
                  <a:pt x="18" y="651"/>
                </a:cubicBezTo>
                <a:cubicBezTo>
                  <a:pt x="11" y="602"/>
                  <a:pt x="14" y="515"/>
                  <a:pt x="12" y="519"/>
                </a:cubicBezTo>
                <a:cubicBezTo>
                  <a:pt x="10" y="523"/>
                  <a:pt x="0" y="620"/>
                  <a:pt x="6" y="675"/>
                </a:cubicBezTo>
                <a:cubicBezTo>
                  <a:pt x="12" y="730"/>
                  <a:pt x="21" y="788"/>
                  <a:pt x="48" y="849"/>
                </a:cubicBezTo>
                <a:cubicBezTo>
                  <a:pt x="75" y="910"/>
                  <a:pt x="145" y="987"/>
                  <a:pt x="168" y="1041"/>
                </a:cubicBezTo>
                <a:cubicBezTo>
                  <a:pt x="191" y="1095"/>
                  <a:pt x="183" y="1123"/>
                  <a:pt x="186" y="1173"/>
                </a:cubicBezTo>
                <a:cubicBezTo>
                  <a:pt x="189" y="1223"/>
                  <a:pt x="163" y="1298"/>
                  <a:pt x="186" y="1341"/>
                </a:cubicBezTo>
                <a:cubicBezTo>
                  <a:pt x="209" y="1384"/>
                  <a:pt x="267" y="1364"/>
                  <a:pt x="326" y="1433"/>
                </a:cubicBezTo>
                <a:cubicBezTo>
                  <a:pt x="385" y="1502"/>
                  <a:pt x="442" y="1708"/>
                  <a:pt x="540" y="1753"/>
                </a:cubicBezTo>
                <a:cubicBezTo>
                  <a:pt x="638" y="1798"/>
                  <a:pt x="818" y="1654"/>
                  <a:pt x="916" y="1705"/>
                </a:cubicBezTo>
                <a:cubicBezTo>
                  <a:pt x="1014" y="1756"/>
                  <a:pt x="1047" y="1968"/>
                  <a:pt x="1130" y="2059"/>
                </a:cubicBezTo>
                <a:cubicBezTo>
                  <a:pt x="1213" y="2150"/>
                  <a:pt x="1341" y="2160"/>
                  <a:pt x="1415" y="2249"/>
                </a:cubicBezTo>
                <a:cubicBezTo>
                  <a:pt x="1489" y="2338"/>
                  <a:pt x="1548" y="2492"/>
                  <a:pt x="1574" y="2593"/>
                </a:cubicBezTo>
                <a:cubicBezTo>
                  <a:pt x="1600" y="2694"/>
                  <a:pt x="1570" y="2778"/>
                  <a:pt x="1574" y="2857"/>
                </a:cubicBezTo>
                <a:cubicBezTo>
                  <a:pt x="1578" y="2936"/>
                  <a:pt x="1596" y="2992"/>
                  <a:pt x="1596" y="3066"/>
                </a:cubicBezTo>
                <a:cubicBezTo>
                  <a:pt x="1596" y="3140"/>
                  <a:pt x="1580" y="3216"/>
                  <a:pt x="1574" y="3301"/>
                </a:cubicBezTo>
                <a:cubicBezTo>
                  <a:pt x="1568" y="3386"/>
                  <a:pt x="1575" y="3498"/>
                  <a:pt x="1560" y="3578"/>
                </a:cubicBezTo>
                <a:cubicBezTo>
                  <a:pt x="1545" y="3658"/>
                  <a:pt x="1530" y="3729"/>
                  <a:pt x="1484" y="3780"/>
                </a:cubicBezTo>
                <a:cubicBezTo>
                  <a:pt x="1438" y="3831"/>
                  <a:pt x="1334" y="3854"/>
                  <a:pt x="1282" y="3884"/>
                </a:cubicBezTo>
                <a:cubicBezTo>
                  <a:pt x="1230" y="3914"/>
                  <a:pt x="1168" y="3949"/>
                  <a:pt x="1171" y="3960"/>
                </a:cubicBezTo>
                <a:cubicBezTo>
                  <a:pt x="1174" y="3971"/>
                  <a:pt x="1262" y="3966"/>
                  <a:pt x="1303" y="3953"/>
                </a:cubicBezTo>
                <a:cubicBezTo>
                  <a:pt x="1344" y="3940"/>
                  <a:pt x="1404" y="3864"/>
                  <a:pt x="1415" y="3882"/>
                </a:cubicBezTo>
                <a:cubicBezTo>
                  <a:pt x="1426" y="3900"/>
                  <a:pt x="1355" y="4049"/>
                  <a:pt x="1370" y="4064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61" name=""/>
          <p:cNvGrpSpPr/>
          <p:nvPr/>
        </p:nvGrpSpPr>
        <p:grpSpPr>
          <a:xfrm>
            <a:off x="4643280" y="4437000"/>
            <a:ext cx="144720" cy="1621080"/>
            <a:chOff x="4643280" y="4437000"/>
            <a:chExt cx="144720" cy="1621080"/>
          </a:xfrm>
        </p:grpSpPr>
        <p:sp>
          <p:nvSpPr>
            <p:cNvPr id="16562" name=""/>
            <p:cNvSpPr/>
            <p:nvPr/>
          </p:nvSpPr>
          <p:spPr>
            <a:xfrm flipH="1">
              <a:off x="4643280" y="4437000"/>
              <a:ext cx="144720" cy="162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3" name=""/>
            <p:cNvSpPr/>
            <p:nvPr/>
          </p:nvSpPr>
          <p:spPr>
            <a:xfrm flipH="1">
              <a:off x="4664880" y="4491360"/>
              <a:ext cx="112320" cy="14464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64" name=""/>
          <p:cNvGrpSpPr/>
          <p:nvPr/>
        </p:nvGrpSpPr>
        <p:grpSpPr>
          <a:xfrm>
            <a:off x="4355640" y="4508640"/>
            <a:ext cx="73080" cy="900000"/>
            <a:chOff x="4355640" y="4508640"/>
            <a:chExt cx="73080" cy="900000"/>
          </a:xfrm>
        </p:grpSpPr>
        <p:sp>
          <p:nvSpPr>
            <p:cNvPr id="16565" name=""/>
            <p:cNvSpPr/>
            <p:nvPr/>
          </p:nvSpPr>
          <p:spPr>
            <a:xfrm flipH="1">
              <a:off x="4355280" y="4508640"/>
              <a:ext cx="730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6" name=""/>
            <p:cNvSpPr/>
            <p:nvPr/>
          </p:nvSpPr>
          <p:spPr>
            <a:xfrm flipH="1">
              <a:off x="4366440" y="4538880"/>
              <a:ext cx="5688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67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6568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9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70" name=""/>
          <p:cNvGrpSpPr/>
          <p:nvPr/>
        </p:nvGrpSpPr>
        <p:grpSpPr>
          <a:xfrm>
            <a:off x="4066920" y="4437000"/>
            <a:ext cx="144360" cy="1405080"/>
            <a:chOff x="4066920" y="4437000"/>
            <a:chExt cx="144360" cy="1405080"/>
          </a:xfrm>
        </p:grpSpPr>
        <p:sp>
          <p:nvSpPr>
            <p:cNvPr id="16571" name=""/>
            <p:cNvSpPr/>
            <p:nvPr/>
          </p:nvSpPr>
          <p:spPr>
            <a:xfrm flipH="1">
              <a:off x="4066560" y="4437000"/>
              <a:ext cx="144360" cy="1405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2" name=""/>
            <p:cNvSpPr/>
            <p:nvPr/>
          </p:nvSpPr>
          <p:spPr>
            <a:xfrm flipH="1">
              <a:off x="4088520" y="4484160"/>
              <a:ext cx="111960" cy="12538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73" name=""/>
          <p:cNvGrpSpPr/>
          <p:nvPr/>
        </p:nvGrpSpPr>
        <p:grpSpPr>
          <a:xfrm>
            <a:off x="4211280" y="5084640"/>
            <a:ext cx="73080" cy="858960"/>
            <a:chOff x="4211280" y="5084640"/>
            <a:chExt cx="73080" cy="858960"/>
          </a:xfrm>
        </p:grpSpPr>
        <p:sp>
          <p:nvSpPr>
            <p:cNvPr id="16574" name=""/>
            <p:cNvSpPr/>
            <p:nvPr/>
          </p:nvSpPr>
          <p:spPr>
            <a:xfrm flipH="1">
              <a:off x="4210920" y="5084640"/>
              <a:ext cx="73080" cy="8589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5" name=""/>
            <p:cNvSpPr/>
            <p:nvPr/>
          </p:nvSpPr>
          <p:spPr>
            <a:xfrm flipH="1">
              <a:off x="4222080" y="5113440"/>
              <a:ext cx="56880" cy="7664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76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6577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8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79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6580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1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82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6583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4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85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6586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6587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8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9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0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1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2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93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6594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5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6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7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8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9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00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6601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2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3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4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5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6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07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6608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9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0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1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2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3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14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6615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6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7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8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9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0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21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6622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3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4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5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6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7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28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6629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0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1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2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3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4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35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6636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6637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8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9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0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1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2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43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6644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5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6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7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8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9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50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6651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2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3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4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5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6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57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6658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9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0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1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2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3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64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6665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6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7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8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9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0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71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6672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3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4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5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6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7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78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6679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0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1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2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3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4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685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6686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6687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8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9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0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1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2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93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6694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5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6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7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8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9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00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6701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2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3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4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5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6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07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6708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9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0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1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2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3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14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6715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6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7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8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9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0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21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6722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3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4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5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6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7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28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6729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0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1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2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3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4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35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6736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6737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8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9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0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1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2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43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6744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5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6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7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8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9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50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6751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2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3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4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5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6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57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6758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9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0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1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2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3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64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6765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6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7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8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9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0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71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6772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3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4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5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6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7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78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6779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0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1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2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3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4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785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6786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6787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8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9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0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1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2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93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6794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5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6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7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8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9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00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6801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2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3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4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5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6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07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6808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9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0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1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2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3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4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6815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6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7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8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9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0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21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6822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3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4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5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6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7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28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6829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0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1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2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3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4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835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6836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6837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8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9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0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1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2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43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6844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5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6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7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8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9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50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6851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2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3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4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5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6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57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6858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9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0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1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2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3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64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6865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6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7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8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9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0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71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6872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3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4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5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6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7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78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6879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0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1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2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3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4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885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6886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6887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8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9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0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1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2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93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6894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5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6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7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8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9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00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6901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2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3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4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5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6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07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6908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9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0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1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2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3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14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6915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6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7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8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9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0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21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6922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3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4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5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6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7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28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6929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0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1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2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3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4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935" name=""/>
          <p:cNvGrpSpPr/>
          <p:nvPr/>
        </p:nvGrpSpPr>
        <p:grpSpPr>
          <a:xfrm>
            <a:off x="4069800" y="3844440"/>
            <a:ext cx="529560" cy="556920"/>
            <a:chOff x="4069800" y="3844440"/>
            <a:chExt cx="529560" cy="556920"/>
          </a:xfrm>
        </p:grpSpPr>
        <p:sp>
          <p:nvSpPr>
            <p:cNvPr id="16936" name=""/>
            <p:cNvSpPr/>
            <p:nvPr/>
          </p:nvSpPr>
          <p:spPr>
            <a:xfrm rot="19141800">
              <a:off x="4211280" y="3860640"/>
              <a:ext cx="246240" cy="5241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7" name=""/>
            <p:cNvSpPr/>
            <p:nvPr/>
          </p:nvSpPr>
          <p:spPr>
            <a:xfrm rot="19141800">
              <a:off x="4224960" y="3886200"/>
              <a:ext cx="191160" cy="4680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38" name=""/>
          <p:cNvGrpSpPr/>
          <p:nvPr/>
        </p:nvGrpSpPr>
        <p:grpSpPr>
          <a:xfrm>
            <a:off x="4327560" y="3819240"/>
            <a:ext cx="706320" cy="766800"/>
            <a:chOff x="4327560" y="3819240"/>
            <a:chExt cx="706320" cy="766800"/>
          </a:xfrm>
        </p:grpSpPr>
        <p:sp>
          <p:nvSpPr>
            <p:cNvPr id="16939" name=""/>
            <p:cNvSpPr/>
            <p:nvPr/>
          </p:nvSpPr>
          <p:spPr>
            <a:xfrm flipH="1" rot="2458200">
              <a:off x="4572000" y="3789000"/>
              <a:ext cx="217440" cy="8269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0" name=""/>
            <p:cNvSpPr/>
            <p:nvPr/>
          </p:nvSpPr>
          <p:spPr>
            <a:xfrm flipH="1" rot="2458200">
              <a:off x="4612680" y="3826080"/>
              <a:ext cx="168840" cy="7380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41" name=""/>
          <p:cNvGrpSpPr/>
          <p:nvPr/>
        </p:nvGrpSpPr>
        <p:grpSpPr>
          <a:xfrm>
            <a:off x="4571640" y="4724280"/>
            <a:ext cx="73080" cy="900360"/>
            <a:chOff x="4571640" y="4724280"/>
            <a:chExt cx="73080" cy="900360"/>
          </a:xfrm>
        </p:grpSpPr>
        <p:sp>
          <p:nvSpPr>
            <p:cNvPr id="16942" name=""/>
            <p:cNvSpPr/>
            <p:nvPr/>
          </p:nvSpPr>
          <p:spPr>
            <a:xfrm flipH="1">
              <a:off x="4571280" y="4724280"/>
              <a:ext cx="7308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3" name=""/>
            <p:cNvSpPr/>
            <p:nvPr/>
          </p:nvSpPr>
          <p:spPr>
            <a:xfrm flipH="1">
              <a:off x="4582440" y="4754520"/>
              <a:ext cx="5688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44" name=""/>
          <p:cNvGrpSpPr/>
          <p:nvPr/>
        </p:nvGrpSpPr>
        <p:grpSpPr>
          <a:xfrm>
            <a:off x="4500720" y="4437000"/>
            <a:ext cx="71280" cy="468360"/>
            <a:chOff x="4500720" y="4437000"/>
            <a:chExt cx="71280" cy="468360"/>
          </a:xfrm>
        </p:grpSpPr>
        <p:sp>
          <p:nvSpPr>
            <p:cNvPr id="16945" name=""/>
            <p:cNvSpPr/>
            <p:nvPr/>
          </p:nvSpPr>
          <p:spPr>
            <a:xfrm flipH="1">
              <a:off x="4500720" y="4437000"/>
              <a:ext cx="71280" cy="468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6" name=""/>
            <p:cNvSpPr/>
            <p:nvPr/>
          </p:nvSpPr>
          <p:spPr>
            <a:xfrm flipH="1">
              <a:off x="4511520" y="4452480"/>
              <a:ext cx="55440" cy="4179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47" name=""/>
          <p:cNvGrpSpPr/>
          <p:nvPr/>
        </p:nvGrpSpPr>
        <p:grpSpPr>
          <a:xfrm>
            <a:off x="3192480" y="3221640"/>
            <a:ext cx="527040" cy="489600"/>
            <a:chOff x="3192480" y="3221640"/>
            <a:chExt cx="527040" cy="489600"/>
          </a:xfrm>
        </p:grpSpPr>
        <p:sp>
          <p:nvSpPr>
            <p:cNvPr id="16948" name=""/>
            <p:cNvSpPr/>
            <p:nvPr/>
          </p:nvSpPr>
          <p:spPr>
            <a:xfrm rot="7784400">
              <a:off x="3346920" y="3214080"/>
              <a:ext cx="217440" cy="504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9" name=""/>
            <p:cNvSpPr/>
            <p:nvPr/>
          </p:nvSpPr>
          <p:spPr>
            <a:xfrm rot="7784400">
              <a:off x="3384360" y="3241080"/>
              <a:ext cx="168840" cy="4503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0" name=""/>
          <p:cNvGrpSpPr/>
          <p:nvPr/>
        </p:nvGrpSpPr>
        <p:grpSpPr>
          <a:xfrm>
            <a:off x="5552640" y="3308760"/>
            <a:ext cx="484560" cy="527760"/>
            <a:chOff x="5552640" y="3308760"/>
            <a:chExt cx="484560" cy="527760"/>
          </a:xfrm>
        </p:grpSpPr>
        <p:sp>
          <p:nvSpPr>
            <p:cNvPr id="16951" name=""/>
            <p:cNvSpPr/>
            <p:nvPr/>
          </p:nvSpPr>
          <p:spPr>
            <a:xfrm rot="2457600">
              <a:off x="5724000" y="3284280"/>
              <a:ext cx="141480" cy="576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2" name=""/>
            <p:cNvSpPr/>
            <p:nvPr/>
          </p:nvSpPr>
          <p:spPr>
            <a:xfrm flipV="1" rot="2457000">
              <a:off x="5743800" y="3303360"/>
              <a:ext cx="109800" cy="5140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53" name=""/>
          <p:cNvGrpSpPr/>
          <p:nvPr/>
        </p:nvGrpSpPr>
        <p:grpSpPr>
          <a:xfrm>
            <a:off x="5824080" y="3703320"/>
            <a:ext cx="586800" cy="360000"/>
            <a:chOff x="5824080" y="3703320"/>
            <a:chExt cx="586800" cy="360000"/>
          </a:xfrm>
        </p:grpSpPr>
        <p:sp>
          <p:nvSpPr>
            <p:cNvPr id="16954" name=""/>
            <p:cNvSpPr/>
            <p:nvPr/>
          </p:nvSpPr>
          <p:spPr>
            <a:xfrm flipH="1" rot="6786600">
              <a:off x="6044400" y="3595320"/>
              <a:ext cx="145800" cy="5756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5" name=""/>
            <p:cNvSpPr/>
            <p:nvPr/>
          </p:nvSpPr>
          <p:spPr>
            <a:xfrm flipH="1" flipV="1" rot="6786600">
              <a:off x="6068880" y="3636000"/>
              <a:ext cx="113400" cy="51408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56" name=""/>
          <p:cNvSpPr/>
          <p:nvPr/>
        </p:nvSpPr>
        <p:spPr>
          <a:xfrm>
            <a:off x="2124000" y="2349360"/>
            <a:ext cx="289080" cy="36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7" name=""/>
          <p:cNvSpPr/>
          <p:nvPr/>
        </p:nvSpPr>
        <p:spPr>
          <a:xfrm>
            <a:off x="1476360" y="2349360"/>
            <a:ext cx="28908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8" name=""/>
          <p:cNvSpPr/>
          <p:nvPr/>
        </p:nvSpPr>
        <p:spPr>
          <a:xfrm>
            <a:off x="1836720" y="2349360"/>
            <a:ext cx="289080" cy="36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9" name=""/>
          <p:cNvSpPr/>
          <p:nvPr/>
        </p:nvSpPr>
        <p:spPr>
          <a:xfrm>
            <a:off x="1836720" y="263700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0" name=""/>
          <p:cNvSpPr/>
          <p:nvPr/>
        </p:nvSpPr>
        <p:spPr>
          <a:xfrm>
            <a:off x="1620720" y="2637000"/>
            <a:ext cx="154080" cy="14436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61" name=""/>
          <p:cNvGrpSpPr/>
          <p:nvPr/>
        </p:nvGrpSpPr>
        <p:grpSpPr>
          <a:xfrm>
            <a:off x="2052720" y="2637000"/>
            <a:ext cx="215640" cy="144360"/>
            <a:chOff x="2052720" y="2637000"/>
            <a:chExt cx="215640" cy="144360"/>
          </a:xfrm>
        </p:grpSpPr>
        <p:sp>
          <p:nvSpPr>
            <p:cNvPr id="16962" name=""/>
            <p:cNvSpPr/>
            <p:nvPr/>
          </p:nvSpPr>
          <p:spPr>
            <a:xfrm>
              <a:off x="205272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3" name=""/>
            <p:cNvSpPr/>
            <p:nvPr/>
          </p:nvSpPr>
          <p:spPr>
            <a:xfrm>
              <a:off x="2114280" y="2637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64" name=""/>
          <p:cNvSpPr/>
          <p:nvPr/>
        </p:nvSpPr>
        <p:spPr>
          <a:xfrm>
            <a:off x="1836720" y="2852640"/>
            <a:ext cx="936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5" name=""/>
          <p:cNvSpPr txBox="1"/>
          <p:nvPr/>
        </p:nvSpPr>
        <p:spPr>
          <a:xfrm>
            <a:off x="1908000" y="2852640"/>
            <a:ext cx="80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66" name=""/>
          <p:cNvSpPr/>
          <p:nvPr/>
        </p:nvSpPr>
        <p:spPr>
          <a:xfrm>
            <a:off x="1258920" y="2852640"/>
            <a:ext cx="5065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7" name=""/>
          <p:cNvSpPr txBox="1"/>
          <p:nvPr/>
        </p:nvSpPr>
        <p:spPr>
          <a:xfrm>
            <a:off x="1332000" y="2852640"/>
            <a:ext cx="369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а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68" name=""/>
          <p:cNvSpPr/>
          <p:nvPr/>
        </p:nvSpPr>
        <p:spPr>
          <a:xfrm>
            <a:off x="1476360" y="1413000"/>
            <a:ext cx="289080" cy="36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9" name=""/>
          <p:cNvSpPr/>
          <p:nvPr/>
        </p:nvSpPr>
        <p:spPr>
          <a:xfrm>
            <a:off x="754200" y="4078440"/>
            <a:ext cx="100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0" name=""/>
          <p:cNvSpPr txBox="1"/>
          <p:nvPr/>
        </p:nvSpPr>
        <p:spPr>
          <a:xfrm>
            <a:off x="826920" y="4078440"/>
            <a:ext cx="874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71" name=""/>
          <p:cNvSpPr/>
          <p:nvPr/>
        </p:nvSpPr>
        <p:spPr>
          <a:xfrm>
            <a:off x="1403280" y="184464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2" name=""/>
          <p:cNvSpPr txBox="1"/>
          <p:nvPr/>
        </p:nvSpPr>
        <p:spPr>
          <a:xfrm>
            <a:off x="1474920" y="1844640"/>
            <a:ext cx="369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73" name=""/>
          <p:cNvSpPr/>
          <p:nvPr/>
        </p:nvSpPr>
        <p:spPr>
          <a:xfrm>
            <a:off x="2195640" y="1197000"/>
            <a:ext cx="288720" cy="36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74" name=""/>
          <p:cNvGrpSpPr/>
          <p:nvPr/>
        </p:nvGrpSpPr>
        <p:grpSpPr>
          <a:xfrm>
            <a:off x="4642920" y="4653000"/>
            <a:ext cx="96840" cy="900000"/>
            <a:chOff x="4642920" y="4653000"/>
            <a:chExt cx="96840" cy="900000"/>
          </a:xfrm>
        </p:grpSpPr>
        <p:sp>
          <p:nvSpPr>
            <p:cNvPr id="16975" name=""/>
            <p:cNvSpPr/>
            <p:nvPr/>
          </p:nvSpPr>
          <p:spPr>
            <a:xfrm flipH="1">
              <a:off x="4642560" y="465300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6" name=""/>
            <p:cNvSpPr/>
            <p:nvPr/>
          </p:nvSpPr>
          <p:spPr>
            <a:xfrm flipH="1">
              <a:off x="4656960" y="468324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77" name=""/>
          <p:cNvGrpSpPr/>
          <p:nvPr/>
        </p:nvGrpSpPr>
        <p:grpSpPr>
          <a:xfrm>
            <a:off x="4502160" y="4794120"/>
            <a:ext cx="71280" cy="900360"/>
            <a:chOff x="4502160" y="4794120"/>
            <a:chExt cx="71280" cy="900360"/>
          </a:xfrm>
        </p:grpSpPr>
        <p:sp>
          <p:nvSpPr>
            <p:cNvPr id="16978" name=""/>
            <p:cNvSpPr/>
            <p:nvPr/>
          </p:nvSpPr>
          <p:spPr>
            <a:xfrm>
              <a:off x="4502160" y="4794120"/>
              <a:ext cx="7128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9" name=""/>
            <p:cNvSpPr/>
            <p:nvPr/>
          </p:nvSpPr>
          <p:spPr>
            <a:xfrm>
              <a:off x="4507200" y="4824360"/>
              <a:ext cx="5544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0" name=""/>
          <p:cNvGrpSpPr/>
          <p:nvPr/>
        </p:nvGrpSpPr>
        <p:grpSpPr>
          <a:xfrm>
            <a:off x="4211640" y="4724280"/>
            <a:ext cx="71280" cy="612720"/>
            <a:chOff x="4211640" y="4724280"/>
            <a:chExt cx="71280" cy="612720"/>
          </a:xfrm>
        </p:grpSpPr>
        <p:sp>
          <p:nvSpPr>
            <p:cNvPr id="16981" name=""/>
            <p:cNvSpPr/>
            <p:nvPr/>
          </p:nvSpPr>
          <p:spPr>
            <a:xfrm>
              <a:off x="4211640" y="472428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2" name=""/>
            <p:cNvSpPr/>
            <p:nvPr/>
          </p:nvSpPr>
          <p:spPr>
            <a:xfrm>
              <a:off x="4216680" y="474480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3" name=""/>
          <p:cNvGrpSpPr/>
          <p:nvPr/>
        </p:nvGrpSpPr>
        <p:grpSpPr>
          <a:xfrm>
            <a:off x="4392720" y="4794120"/>
            <a:ext cx="69840" cy="714600"/>
            <a:chOff x="4392720" y="4794120"/>
            <a:chExt cx="69840" cy="714600"/>
          </a:xfrm>
        </p:grpSpPr>
        <p:sp>
          <p:nvSpPr>
            <p:cNvPr id="16984" name=""/>
            <p:cNvSpPr/>
            <p:nvPr/>
          </p:nvSpPr>
          <p:spPr>
            <a:xfrm>
              <a:off x="4392720" y="4794120"/>
              <a:ext cx="69840" cy="7146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5" name=""/>
            <p:cNvSpPr/>
            <p:nvPr/>
          </p:nvSpPr>
          <p:spPr>
            <a:xfrm>
              <a:off x="4397760" y="4817880"/>
              <a:ext cx="54360" cy="6379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6" name=""/>
          <p:cNvGrpSpPr/>
          <p:nvPr/>
        </p:nvGrpSpPr>
        <p:grpSpPr>
          <a:xfrm>
            <a:off x="3995280" y="5623920"/>
            <a:ext cx="399960" cy="357840"/>
            <a:chOff x="3995280" y="5623920"/>
            <a:chExt cx="399960" cy="357840"/>
          </a:xfrm>
        </p:grpSpPr>
        <p:sp>
          <p:nvSpPr>
            <p:cNvPr id="16987" name=""/>
            <p:cNvSpPr/>
            <p:nvPr/>
          </p:nvSpPr>
          <p:spPr>
            <a:xfrm rot="3108000">
              <a:off x="4123080" y="560520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8" name=""/>
            <p:cNvSpPr/>
            <p:nvPr/>
          </p:nvSpPr>
          <p:spPr>
            <a:xfrm rot="3108000">
              <a:off x="4141800" y="561672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89" name=""/>
          <p:cNvGrpSpPr/>
          <p:nvPr/>
        </p:nvGrpSpPr>
        <p:grpSpPr>
          <a:xfrm>
            <a:off x="4239000" y="5769000"/>
            <a:ext cx="274680" cy="280440"/>
            <a:chOff x="4239000" y="5769000"/>
            <a:chExt cx="274680" cy="280440"/>
          </a:xfrm>
        </p:grpSpPr>
        <p:sp>
          <p:nvSpPr>
            <p:cNvPr id="16990" name=""/>
            <p:cNvSpPr/>
            <p:nvPr/>
          </p:nvSpPr>
          <p:spPr>
            <a:xfrm flipH="1" flipV="1" rot="3108000">
              <a:off x="4268520" y="581796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1" name=""/>
            <p:cNvSpPr/>
            <p:nvPr/>
          </p:nvSpPr>
          <p:spPr>
            <a:xfrm flipH="1" flipV="1" rot="3108000">
              <a:off x="4294800" y="583632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92" name=""/>
          <p:cNvGrpSpPr/>
          <p:nvPr/>
        </p:nvGrpSpPr>
        <p:grpSpPr>
          <a:xfrm>
            <a:off x="4604040" y="5665320"/>
            <a:ext cx="333000" cy="440640"/>
            <a:chOff x="4604040" y="5665320"/>
            <a:chExt cx="333000" cy="440640"/>
          </a:xfrm>
        </p:grpSpPr>
        <p:sp>
          <p:nvSpPr>
            <p:cNvPr id="16993" name=""/>
            <p:cNvSpPr/>
            <p:nvPr/>
          </p:nvSpPr>
          <p:spPr>
            <a:xfrm flipH="1" flipV="1" rot="19648200">
              <a:off x="4717800" y="565776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4" name=""/>
            <p:cNvSpPr/>
            <p:nvPr/>
          </p:nvSpPr>
          <p:spPr>
            <a:xfrm flipH="1" flipV="1" rot="19648200">
              <a:off x="4737240" y="568836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95" name="">
            <a:hlinkClick r:id="rId6" action="ppaction://hlinksldjump"/>
          </p:cNvPr>
          <p:cNvSpPr/>
          <p:nvPr/>
        </p:nvSpPr>
        <p:spPr>
          <a:xfrm>
            <a:off x="4500720" y="4653000"/>
            <a:ext cx="576000" cy="71928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6" name="">
            <a:hlinkClick r:id="rId7" action="ppaction://hlinksldjump"/>
          </p:cNvPr>
          <p:cNvSpPr/>
          <p:nvPr/>
        </p:nvSpPr>
        <p:spPr>
          <a:xfrm>
            <a:off x="3924360" y="4653000"/>
            <a:ext cx="576360" cy="7192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97" name=""/>
          <p:cNvGrpSpPr/>
          <p:nvPr/>
        </p:nvGrpSpPr>
        <p:grpSpPr>
          <a:xfrm>
            <a:off x="4356000" y="5372280"/>
            <a:ext cx="215640" cy="144360"/>
            <a:chOff x="4356000" y="5372280"/>
            <a:chExt cx="215640" cy="144360"/>
          </a:xfrm>
        </p:grpSpPr>
        <p:sp>
          <p:nvSpPr>
            <p:cNvPr id="16998" name=""/>
            <p:cNvSpPr/>
            <p:nvPr/>
          </p:nvSpPr>
          <p:spPr>
            <a:xfrm>
              <a:off x="4356000" y="5372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9" name=""/>
            <p:cNvSpPr/>
            <p:nvPr/>
          </p:nvSpPr>
          <p:spPr>
            <a:xfrm>
              <a:off x="4417560" y="537228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00" name=""/>
          <p:cNvSpPr/>
          <p:nvPr/>
        </p:nvSpPr>
        <p:spPr>
          <a:xfrm>
            <a:off x="3780000" y="5589720"/>
            <a:ext cx="1296720" cy="431640"/>
          </a:xfrm>
          <a:prstGeom prst="rect">
            <a:avLst/>
          </a:prstGeom>
          <a:solidFill>
            <a:srgbClr val="0000ff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1" name=""/>
          <p:cNvSpPr txBox="1"/>
          <p:nvPr/>
        </p:nvSpPr>
        <p:spPr>
          <a:xfrm>
            <a:off x="3851280" y="5589720"/>
            <a:ext cx="1152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еронова Елизавет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 Проталь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02" name="">
            <a:hlinkClick r:id="rId9" action="ppaction://hlinksldjump"/>
          </p:cNvPr>
          <p:cNvSpPr/>
          <p:nvPr/>
        </p:nvSpPr>
        <p:spPr>
          <a:xfrm>
            <a:off x="3564000" y="3573360"/>
            <a:ext cx="288720" cy="360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3" name="">
            <a:hlinkClick r:id="rId11" action="ppaction://hlinksldjump"/>
          </p:cNvPr>
          <p:cNvSpPr/>
          <p:nvPr/>
        </p:nvSpPr>
        <p:spPr>
          <a:xfrm>
            <a:off x="3851280" y="3573360"/>
            <a:ext cx="289080" cy="360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4" name="">
            <a:hlinkClick r:id="rId13" action="ppaction://hlinksldjump"/>
          </p:cNvPr>
          <p:cNvSpPr/>
          <p:nvPr/>
        </p:nvSpPr>
        <p:spPr>
          <a:xfrm>
            <a:off x="5005440" y="3573360"/>
            <a:ext cx="28872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5" name=""/>
          <p:cNvSpPr/>
          <p:nvPr/>
        </p:nvSpPr>
        <p:spPr>
          <a:xfrm>
            <a:off x="5292720" y="3573360"/>
            <a:ext cx="289080" cy="36036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6" name=""/>
          <p:cNvSpPr/>
          <p:nvPr/>
        </p:nvSpPr>
        <p:spPr>
          <a:xfrm>
            <a:off x="6805440" y="443700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7" name=""/>
          <p:cNvSpPr/>
          <p:nvPr/>
        </p:nvSpPr>
        <p:spPr>
          <a:xfrm>
            <a:off x="7164360" y="443700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8" name=""/>
          <p:cNvSpPr/>
          <p:nvPr/>
        </p:nvSpPr>
        <p:spPr>
          <a:xfrm>
            <a:off x="5724360" y="2565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9" name=""/>
          <p:cNvSpPr/>
          <p:nvPr/>
        </p:nvSpPr>
        <p:spPr>
          <a:xfrm>
            <a:off x="6012000" y="256536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0" name=""/>
          <p:cNvSpPr/>
          <p:nvPr/>
        </p:nvSpPr>
        <p:spPr>
          <a:xfrm>
            <a:off x="2989440" y="1700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1" name=""/>
          <p:cNvSpPr/>
          <p:nvPr/>
        </p:nvSpPr>
        <p:spPr>
          <a:xfrm>
            <a:off x="3276720" y="1700280"/>
            <a:ext cx="288720" cy="36036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2" name=""/>
          <p:cNvSpPr/>
          <p:nvPr/>
        </p:nvSpPr>
        <p:spPr>
          <a:xfrm>
            <a:off x="4140360" y="1700280"/>
            <a:ext cx="288720" cy="360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3" name=""/>
          <p:cNvSpPr/>
          <p:nvPr/>
        </p:nvSpPr>
        <p:spPr>
          <a:xfrm>
            <a:off x="4427640" y="1700280"/>
            <a:ext cx="288720" cy="3603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4" name=""/>
          <p:cNvSpPr/>
          <p:nvPr/>
        </p:nvSpPr>
        <p:spPr>
          <a:xfrm>
            <a:off x="3132000" y="692280"/>
            <a:ext cx="289080" cy="36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5" name=""/>
          <p:cNvSpPr/>
          <p:nvPr/>
        </p:nvSpPr>
        <p:spPr>
          <a:xfrm>
            <a:off x="4500720" y="836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6" name=""/>
          <p:cNvSpPr/>
          <p:nvPr/>
        </p:nvSpPr>
        <p:spPr>
          <a:xfrm>
            <a:off x="5292720" y="836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7" name=""/>
          <p:cNvSpPr/>
          <p:nvPr/>
        </p:nvSpPr>
        <p:spPr>
          <a:xfrm>
            <a:off x="6012000" y="1125360"/>
            <a:ext cx="288720" cy="36072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8" name=""/>
          <p:cNvSpPr/>
          <p:nvPr/>
        </p:nvSpPr>
        <p:spPr>
          <a:xfrm>
            <a:off x="6659640" y="1628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9" name=""/>
          <p:cNvSpPr/>
          <p:nvPr/>
        </p:nvSpPr>
        <p:spPr>
          <a:xfrm>
            <a:off x="7236000" y="2492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0" name=""/>
          <p:cNvSpPr/>
          <p:nvPr/>
        </p:nvSpPr>
        <p:spPr>
          <a:xfrm>
            <a:off x="7596360" y="321300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1" name=""/>
          <p:cNvSpPr/>
          <p:nvPr/>
        </p:nvSpPr>
        <p:spPr>
          <a:xfrm>
            <a:off x="8172360" y="328464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2" name=""/>
          <p:cNvSpPr/>
          <p:nvPr/>
        </p:nvSpPr>
        <p:spPr>
          <a:xfrm>
            <a:off x="3276720" y="4076640"/>
            <a:ext cx="10792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3" name=""/>
          <p:cNvSpPr txBox="1"/>
          <p:nvPr/>
        </p:nvSpPr>
        <p:spPr>
          <a:xfrm>
            <a:off x="3348000" y="4076640"/>
            <a:ext cx="944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дмила и Вале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24" name=""/>
          <p:cNvSpPr/>
          <p:nvPr/>
        </p:nvSpPr>
        <p:spPr>
          <a:xfrm>
            <a:off x="4716360" y="407664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5" name=""/>
          <p:cNvSpPr txBox="1"/>
          <p:nvPr/>
        </p:nvSpPr>
        <p:spPr>
          <a:xfrm>
            <a:off x="4788000" y="4076640"/>
            <a:ext cx="944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атолий и Н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7026" name=""/>
          <p:cNvGrpSpPr/>
          <p:nvPr/>
        </p:nvGrpSpPr>
        <p:grpSpPr>
          <a:xfrm>
            <a:off x="3780000" y="3860640"/>
            <a:ext cx="215640" cy="144720"/>
            <a:chOff x="3780000" y="3860640"/>
            <a:chExt cx="215640" cy="144720"/>
          </a:xfrm>
        </p:grpSpPr>
        <p:sp>
          <p:nvSpPr>
            <p:cNvPr id="17027" name=""/>
            <p:cNvSpPr/>
            <p:nvPr/>
          </p:nvSpPr>
          <p:spPr>
            <a:xfrm>
              <a:off x="378000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8" name=""/>
            <p:cNvSpPr/>
            <p:nvPr/>
          </p:nvSpPr>
          <p:spPr>
            <a:xfrm>
              <a:off x="384156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29" name=""/>
          <p:cNvGrpSpPr/>
          <p:nvPr/>
        </p:nvGrpSpPr>
        <p:grpSpPr>
          <a:xfrm>
            <a:off x="5219640" y="3860640"/>
            <a:ext cx="215640" cy="144720"/>
            <a:chOff x="5219640" y="3860640"/>
            <a:chExt cx="215640" cy="144720"/>
          </a:xfrm>
        </p:grpSpPr>
        <p:sp>
          <p:nvSpPr>
            <p:cNvPr id="17030" name=""/>
            <p:cNvSpPr/>
            <p:nvPr/>
          </p:nvSpPr>
          <p:spPr>
            <a:xfrm>
              <a:off x="521964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1" name=""/>
            <p:cNvSpPr/>
            <p:nvPr/>
          </p:nvSpPr>
          <p:spPr>
            <a:xfrm>
              <a:off x="528120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32" name=""/>
          <p:cNvGrpSpPr/>
          <p:nvPr/>
        </p:nvGrpSpPr>
        <p:grpSpPr>
          <a:xfrm>
            <a:off x="3132000" y="1989000"/>
            <a:ext cx="215640" cy="144720"/>
            <a:chOff x="3132000" y="1989000"/>
            <a:chExt cx="215640" cy="144720"/>
          </a:xfrm>
        </p:grpSpPr>
        <p:sp>
          <p:nvSpPr>
            <p:cNvPr id="17033" name=""/>
            <p:cNvSpPr/>
            <p:nvPr/>
          </p:nvSpPr>
          <p:spPr>
            <a:xfrm>
              <a:off x="3132000" y="198900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4" name=""/>
            <p:cNvSpPr/>
            <p:nvPr/>
          </p:nvSpPr>
          <p:spPr>
            <a:xfrm>
              <a:off x="3193560" y="198900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35" name=""/>
          <p:cNvGrpSpPr/>
          <p:nvPr/>
        </p:nvGrpSpPr>
        <p:grpSpPr>
          <a:xfrm>
            <a:off x="4356000" y="1989000"/>
            <a:ext cx="215640" cy="144720"/>
            <a:chOff x="4356000" y="1989000"/>
            <a:chExt cx="215640" cy="144720"/>
          </a:xfrm>
        </p:grpSpPr>
        <p:sp>
          <p:nvSpPr>
            <p:cNvPr id="17036" name=""/>
            <p:cNvSpPr/>
            <p:nvPr/>
          </p:nvSpPr>
          <p:spPr>
            <a:xfrm>
              <a:off x="4356000" y="198900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7" name=""/>
            <p:cNvSpPr/>
            <p:nvPr/>
          </p:nvSpPr>
          <p:spPr>
            <a:xfrm>
              <a:off x="4417560" y="198900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38" name=""/>
          <p:cNvGrpSpPr/>
          <p:nvPr/>
        </p:nvGrpSpPr>
        <p:grpSpPr>
          <a:xfrm>
            <a:off x="5940360" y="2852640"/>
            <a:ext cx="215640" cy="144720"/>
            <a:chOff x="5940360" y="2852640"/>
            <a:chExt cx="215640" cy="144720"/>
          </a:xfrm>
        </p:grpSpPr>
        <p:sp>
          <p:nvSpPr>
            <p:cNvPr id="17039" name=""/>
            <p:cNvSpPr/>
            <p:nvPr/>
          </p:nvSpPr>
          <p:spPr>
            <a:xfrm>
              <a:off x="5940360" y="2852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0" name=""/>
            <p:cNvSpPr/>
            <p:nvPr/>
          </p:nvSpPr>
          <p:spPr>
            <a:xfrm>
              <a:off x="6001920" y="2852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41" name=""/>
          <p:cNvSpPr/>
          <p:nvPr/>
        </p:nvSpPr>
        <p:spPr>
          <a:xfrm>
            <a:off x="6516720" y="494172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2" name=""/>
          <p:cNvSpPr txBox="1"/>
          <p:nvPr/>
        </p:nvSpPr>
        <p:spPr>
          <a:xfrm>
            <a:off x="6588000" y="4941720"/>
            <a:ext cx="944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фанась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 и Серге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43" name=""/>
          <p:cNvSpPr/>
          <p:nvPr/>
        </p:nvSpPr>
        <p:spPr>
          <a:xfrm>
            <a:off x="2843280" y="2205000"/>
            <a:ext cx="8650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4" name=""/>
          <p:cNvSpPr txBox="1"/>
          <p:nvPr/>
        </p:nvSpPr>
        <p:spPr>
          <a:xfrm>
            <a:off x="2916360" y="2205000"/>
            <a:ext cx="718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роткин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ел и 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45" name=""/>
          <p:cNvSpPr/>
          <p:nvPr/>
        </p:nvSpPr>
        <p:spPr>
          <a:xfrm>
            <a:off x="3924360" y="2205000"/>
            <a:ext cx="10792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6" name=""/>
          <p:cNvSpPr txBox="1"/>
          <p:nvPr/>
        </p:nvSpPr>
        <p:spPr>
          <a:xfrm>
            <a:off x="3995640" y="2205000"/>
            <a:ext cx="944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вгений и Крист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47" name=""/>
          <p:cNvSpPr/>
          <p:nvPr/>
        </p:nvSpPr>
        <p:spPr>
          <a:xfrm>
            <a:off x="5724360" y="3068640"/>
            <a:ext cx="64944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8" name=""/>
          <p:cNvSpPr txBox="1"/>
          <p:nvPr/>
        </p:nvSpPr>
        <p:spPr>
          <a:xfrm>
            <a:off x="5797440" y="3068640"/>
            <a:ext cx="5032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Ольг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49" name=""/>
          <p:cNvSpPr/>
          <p:nvPr/>
        </p:nvSpPr>
        <p:spPr>
          <a:xfrm>
            <a:off x="2050920" y="1628640"/>
            <a:ext cx="50328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0" name=""/>
          <p:cNvSpPr txBox="1"/>
          <p:nvPr/>
        </p:nvSpPr>
        <p:spPr>
          <a:xfrm>
            <a:off x="2122560" y="1628640"/>
            <a:ext cx="36972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г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51" name=""/>
          <p:cNvSpPr/>
          <p:nvPr/>
        </p:nvSpPr>
        <p:spPr>
          <a:xfrm>
            <a:off x="2987640" y="1125360"/>
            <a:ext cx="57636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2" name=""/>
          <p:cNvSpPr txBox="1"/>
          <p:nvPr/>
        </p:nvSpPr>
        <p:spPr>
          <a:xfrm>
            <a:off x="3059280" y="1125360"/>
            <a:ext cx="43308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ротк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53" name=""/>
          <p:cNvSpPr/>
          <p:nvPr/>
        </p:nvSpPr>
        <p:spPr>
          <a:xfrm>
            <a:off x="4356000" y="1268280"/>
            <a:ext cx="503280" cy="28764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4" name=""/>
          <p:cNvSpPr txBox="1"/>
          <p:nvPr/>
        </p:nvSpPr>
        <p:spPr>
          <a:xfrm>
            <a:off x="4427640" y="1268280"/>
            <a:ext cx="36972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енис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55" name=""/>
          <p:cNvSpPr/>
          <p:nvPr/>
        </p:nvSpPr>
        <p:spPr>
          <a:xfrm>
            <a:off x="6948360" y="4724280"/>
            <a:ext cx="154080" cy="14472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6" name=""/>
          <p:cNvSpPr/>
          <p:nvPr/>
        </p:nvSpPr>
        <p:spPr>
          <a:xfrm>
            <a:off x="7164360" y="4724280"/>
            <a:ext cx="154080" cy="14472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7" name=""/>
          <p:cNvSpPr/>
          <p:nvPr/>
        </p:nvSpPr>
        <p:spPr>
          <a:xfrm>
            <a:off x="6877080" y="2924280"/>
            <a:ext cx="647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8" name=""/>
          <p:cNvSpPr txBox="1"/>
          <p:nvPr/>
        </p:nvSpPr>
        <p:spPr>
          <a:xfrm>
            <a:off x="6950160" y="2995560"/>
            <a:ext cx="5014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фанась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ва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59" name=""/>
          <p:cNvSpPr/>
          <p:nvPr/>
        </p:nvSpPr>
        <p:spPr>
          <a:xfrm>
            <a:off x="7380360" y="3645000"/>
            <a:ext cx="647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0" name=""/>
          <p:cNvSpPr txBox="1"/>
          <p:nvPr/>
        </p:nvSpPr>
        <p:spPr>
          <a:xfrm>
            <a:off x="7451640" y="3645000"/>
            <a:ext cx="5018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фанасье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Викто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061" name=""/>
          <p:cNvSpPr/>
          <p:nvPr/>
        </p:nvSpPr>
        <p:spPr>
          <a:xfrm>
            <a:off x="8101080" y="3716280"/>
            <a:ext cx="503280" cy="2890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2" name=""/>
          <p:cNvSpPr txBox="1"/>
          <p:nvPr/>
        </p:nvSpPr>
        <p:spPr>
          <a:xfrm>
            <a:off x="8172360" y="3789360"/>
            <a:ext cx="358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иму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7063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064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5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6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7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68" name=""/>
          <p:cNvGrpSpPr/>
          <p:nvPr/>
        </p:nvGrpSpPr>
        <p:grpSpPr>
          <a:xfrm>
            <a:off x="7321680" y="-1783440"/>
            <a:ext cx="3102840" cy="2947680"/>
            <a:chOff x="7321680" y="-1783440"/>
            <a:chExt cx="3102840" cy="2947680"/>
          </a:xfrm>
        </p:grpSpPr>
        <p:grpSp>
          <p:nvGrpSpPr>
            <p:cNvPr id="17069" name=""/>
            <p:cNvGrpSpPr/>
            <p:nvPr/>
          </p:nvGrpSpPr>
          <p:grpSpPr>
            <a:xfrm>
              <a:off x="7321680" y="-1783440"/>
              <a:ext cx="2850840" cy="2738520"/>
              <a:chOff x="7321680" y="-1783440"/>
              <a:chExt cx="2850840" cy="2738520"/>
            </a:xfrm>
          </p:grpSpPr>
          <p:sp>
            <p:nvSpPr>
              <p:cNvPr id="17070" name=""/>
              <p:cNvSpPr/>
              <p:nvPr/>
            </p:nvSpPr>
            <p:spPr>
              <a:xfrm rot="13152000">
                <a:off x="7526520" y="-28512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1" name=""/>
              <p:cNvSpPr/>
              <p:nvPr/>
            </p:nvSpPr>
            <p:spPr>
              <a:xfrm rot="13152000">
                <a:off x="9029160" y="-1869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72" name=""/>
            <p:cNvGrpSpPr/>
            <p:nvPr/>
          </p:nvGrpSpPr>
          <p:grpSpPr>
            <a:xfrm>
              <a:off x="7966080" y="-1144440"/>
              <a:ext cx="2399040" cy="2308680"/>
              <a:chOff x="7966080" y="-1144440"/>
              <a:chExt cx="2399040" cy="2308680"/>
            </a:xfrm>
          </p:grpSpPr>
          <p:sp>
            <p:nvSpPr>
              <p:cNvPr id="17073" name=""/>
              <p:cNvSpPr/>
              <p:nvPr/>
            </p:nvSpPr>
            <p:spPr>
              <a:xfrm rot="13152000">
                <a:off x="8103960" y="2016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4" name=""/>
              <p:cNvSpPr/>
              <p:nvPr/>
            </p:nvSpPr>
            <p:spPr>
              <a:xfrm rot="13152000">
                <a:off x="9275040" y="-1164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75" name=""/>
            <p:cNvGrpSpPr/>
            <p:nvPr/>
          </p:nvGrpSpPr>
          <p:grpSpPr>
            <a:xfrm>
              <a:off x="8800200" y="-1539000"/>
              <a:ext cx="1624320" cy="2471400"/>
              <a:chOff x="8800200" y="-1539000"/>
              <a:chExt cx="1624320" cy="2471400"/>
            </a:xfrm>
          </p:grpSpPr>
          <p:sp>
            <p:nvSpPr>
              <p:cNvPr id="17076" name=""/>
              <p:cNvSpPr/>
              <p:nvPr/>
            </p:nvSpPr>
            <p:spPr>
              <a:xfrm rot="11728800">
                <a:off x="8879760" y="13824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7" name=""/>
              <p:cNvSpPr/>
              <p:nvPr/>
            </p:nvSpPr>
            <p:spPr>
              <a:xfrm rot="11728800">
                <a:off x="9156600" y="-14259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78" name=""/>
            <p:cNvGrpSpPr/>
            <p:nvPr/>
          </p:nvGrpSpPr>
          <p:grpSpPr>
            <a:xfrm>
              <a:off x="8429040" y="-1472760"/>
              <a:ext cx="1492200" cy="2024280"/>
              <a:chOff x="8429040" y="-1472760"/>
              <a:chExt cx="1492200" cy="2024280"/>
            </a:xfrm>
          </p:grpSpPr>
          <p:sp>
            <p:nvSpPr>
              <p:cNvPr id="17079" name=""/>
              <p:cNvSpPr/>
              <p:nvPr/>
            </p:nvSpPr>
            <p:spPr>
              <a:xfrm rot="13152000">
                <a:off x="8498160" y="-1342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0" name=""/>
              <p:cNvSpPr/>
              <p:nvPr/>
            </p:nvSpPr>
            <p:spPr>
              <a:xfrm rot="13152000">
                <a:off x="9016920" y="-146016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81" name=""/>
          <p:cNvGrpSpPr/>
          <p:nvPr/>
        </p:nvGrpSpPr>
        <p:grpSpPr>
          <a:xfrm>
            <a:off x="-1719720" y="-1487520"/>
            <a:ext cx="2946600" cy="3104640"/>
            <a:chOff x="-1719720" y="-1487520"/>
            <a:chExt cx="2946600" cy="3104640"/>
          </a:xfrm>
        </p:grpSpPr>
        <p:grpSp>
          <p:nvGrpSpPr>
            <p:cNvPr id="17082" name=""/>
            <p:cNvGrpSpPr/>
            <p:nvPr/>
          </p:nvGrpSpPr>
          <p:grpSpPr>
            <a:xfrm>
              <a:off x="-1719720" y="-1235880"/>
              <a:ext cx="2736720" cy="2853000"/>
              <a:chOff x="-1719720" y="-1235880"/>
              <a:chExt cx="2736720" cy="2853000"/>
            </a:xfrm>
          </p:grpSpPr>
          <p:sp>
            <p:nvSpPr>
              <p:cNvPr id="17083" name=""/>
              <p:cNvSpPr/>
              <p:nvPr/>
            </p:nvSpPr>
            <p:spPr>
              <a:xfrm rot="7755600">
                <a:off x="-237240" y="37440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4" name=""/>
              <p:cNvSpPr/>
              <p:nvPr/>
            </p:nvSpPr>
            <p:spPr>
              <a:xfrm rot="7755600">
                <a:off x="-965160" y="-14410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85" name=""/>
            <p:cNvGrpSpPr/>
            <p:nvPr/>
          </p:nvGrpSpPr>
          <p:grpSpPr>
            <a:xfrm>
              <a:off x="-1080360" y="-1427400"/>
              <a:ext cx="2307240" cy="2400840"/>
              <a:chOff x="-1080360" y="-1427400"/>
              <a:chExt cx="2307240" cy="2400840"/>
            </a:xfrm>
          </p:grpSpPr>
          <p:sp>
            <p:nvSpPr>
              <p:cNvPr id="17086" name=""/>
              <p:cNvSpPr/>
              <p:nvPr/>
            </p:nvSpPr>
            <p:spPr>
              <a:xfrm rot="7755600">
                <a:off x="190440" y="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7" name=""/>
              <p:cNvSpPr/>
              <p:nvPr/>
            </p:nvSpPr>
            <p:spPr>
              <a:xfrm rot="7755600">
                <a:off x="-484920" y="-15346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88" name=""/>
            <p:cNvGrpSpPr/>
            <p:nvPr/>
          </p:nvGrpSpPr>
          <p:grpSpPr>
            <a:xfrm>
              <a:off x="-1475640" y="-1487520"/>
              <a:ext cx="2471760" cy="1626120"/>
              <a:chOff x="-1475640" y="-1487520"/>
              <a:chExt cx="2471760" cy="1626120"/>
            </a:xfrm>
          </p:grpSpPr>
          <p:sp>
            <p:nvSpPr>
              <p:cNvPr id="17089" name=""/>
              <p:cNvSpPr/>
              <p:nvPr/>
            </p:nvSpPr>
            <p:spPr>
              <a:xfrm rot="6332400">
                <a:off x="163440" y="-6822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0" name=""/>
              <p:cNvSpPr/>
              <p:nvPr/>
            </p:nvSpPr>
            <p:spPr>
              <a:xfrm rot="6332400">
                <a:off x="-1077480" y="-157212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91" name=""/>
            <p:cNvGrpSpPr/>
            <p:nvPr/>
          </p:nvGrpSpPr>
          <p:grpSpPr>
            <a:xfrm>
              <a:off x="-1409400" y="-984240"/>
              <a:ext cx="2023920" cy="1493640"/>
              <a:chOff x="-1409400" y="-984240"/>
              <a:chExt cx="2023920" cy="1493640"/>
            </a:xfrm>
          </p:grpSpPr>
          <p:sp>
            <p:nvSpPr>
              <p:cNvPr id="17092" name=""/>
              <p:cNvSpPr/>
              <p:nvPr/>
            </p:nvSpPr>
            <p:spPr>
              <a:xfrm rot="7755600">
                <a:off x="-212040" y="-196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3" name=""/>
              <p:cNvSpPr/>
              <p:nvPr/>
            </p:nvSpPr>
            <p:spPr>
              <a:xfrm rot="7755600">
                <a:off x="-973440" y="-10317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094" name=""/>
          <p:cNvGrpSpPr/>
          <p:nvPr/>
        </p:nvGrpSpPr>
        <p:grpSpPr>
          <a:xfrm>
            <a:off x="7821720" y="5340240"/>
            <a:ext cx="2718360" cy="3318840"/>
            <a:chOff x="7821720" y="5340240"/>
            <a:chExt cx="2718360" cy="3318840"/>
          </a:xfrm>
        </p:grpSpPr>
        <p:grpSp>
          <p:nvGrpSpPr>
            <p:cNvPr id="17095" name=""/>
            <p:cNvGrpSpPr/>
            <p:nvPr/>
          </p:nvGrpSpPr>
          <p:grpSpPr>
            <a:xfrm>
              <a:off x="8118720" y="5340240"/>
              <a:ext cx="2421360" cy="3106080"/>
              <a:chOff x="8118720" y="5340240"/>
              <a:chExt cx="2421360" cy="3106080"/>
            </a:xfrm>
          </p:grpSpPr>
          <p:sp>
            <p:nvSpPr>
              <p:cNvPr id="17096" name=""/>
              <p:cNvSpPr/>
              <p:nvPr/>
            </p:nvSpPr>
            <p:spPr>
              <a:xfrm rot="19135800">
                <a:off x="8325360" y="555948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7" name=""/>
              <p:cNvSpPr/>
              <p:nvPr/>
            </p:nvSpPr>
            <p:spPr>
              <a:xfrm rot="19135800">
                <a:off x="9374400" y="63583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98" name=""/>
            <p:cNvGrpSpPr/>
            <p:nvPr/>
          </p:nvGrpSpPr>
          <p:grpSpPr>
            <a:xfrm>
              <a:off x="7821720" y="5924520"/>
              <a:ext cx="2065320" cy="2594880"/>
              <a:chOff x="7821720" y="5924520"/>
              <a:chExt cx="2065320" cy="2594880"/>
            </a:xfrm>
          </p:grpSpPr>
          <p:sp>
            <p:nvSpPr>
              <p:cNvPr id="17099" name=""/>
              <p:cNvSpPr/>
              <p:nvPr/>
            </p:nvSpPr>
            <p:spPr>
              <a:xfrm rot="19135800">
                <a:off x="7959600" y="61293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0" name=""/>
              <p:cNvSpPr/>
              <p:nvPr/>
            </p:nvSpPr>
            <p:spPr>
              <a:xfrm rot="19135800">
                <a:off x="8780040" y="67374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01" name=""/>
            <p:cNvGrpSpPr/>
            <p:nvPr/>
          </p:nvGrpSpPr>
          <p:grpSpPr>
            <a:xfrm>
              <a:off x="7901640" y="6724080"/>
              <a:ext cx="2462040" cy="1935000"/>
              <a:chOff x="7901640" y="6724080"/>
              <a:chExt cx="2462040" cy="1935000"/>
            </a:xfrm>
          </p:grpSpPr>
          <p:sp>
            <p:nvSpPr>
              <p:cNvPr id="17102" name=""/>
              <p:cNvSpPr/>
              <p:nvPr/>
            </p:nvSpPr>
            <p:spPr>
              <a:xfrm rot="17713200">
                <a:off x="7995960" y="687456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3" name=""/>
              <p:cNvSpPr/>
              <p:nvPr/>
            </p:nvSpPr>
            <p:spPr>
              <a:xfrm rot="17713200">
                <a:off x="8860680" y="700740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04" name=""/>
            <p:cNvGrpSpPr/>
            <p:nvPr/>
          </p:nvGrpSpPr>
          <p:grpSpPr>
            <a:xfrm>
              <a:off x="8364960" y="6470640"/>
              <a:ext cx="1913400" cy="1672920"/>
              <a:chOff x="8364960" y="6470640"/>
              <a:chExt cx="1913400" cy="1672920"/>
            </a:xfrm>
          </p:grpSpPr>
          <p:sp>
            <p:nvSpPr>
              <p:cNvPr id="17105" name=""/>
              <p:cNvSpPr/>
              <p:nvPr/>
            </p:nvSpPr>
            <p:spPr>
              <a:xfrm rot="19135800">
                <a:off x="8432280" y="66646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6" name=""/>
              <p:cNvSpPr/>
              <p:nvPr/>
            </p:nvSpPr>
            <p:spPr>
              <a:xfrm rot="19135800">
                <a:off x="9362520" y="676332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07" name=""/>
          <p:cNvGrpSpPr/>
          <p:nvPr/>
        </p:nvGrpSpPr>
        <p:grpSpPr>
          <a:xfrm>
            <a:off x="-1496160" y="5509080"/>
            <a:ext cx="3220920" cy="2845080"/>
            <a:chOff x="-1496160" y="5509080"/>
            <a:chExt cx="3220920" cy="2845080"/>
          </a:xfrm>
        </p:grpSpPr>
        <p:grpSp>
          <p:nvGrpSpPr>
            <p:cNvPr id="17108" name=""/>
            <p:cNvGrpSpPr/>
            <p:nvPr/>
          </p:nvGrpSpPr>
          <p:grpSpPr>
            <a:xfrm>
              <a:off x="-1262520" y="5762520"/>
              <a:ext cx="2987280" cy="2591640"/>
              <a:chOff x="-1262520" y="5762520"/>
              <a:chExt cx="2987280" cy="2591640"/>
            </a:xfrm>
          </p:grpSpPr>
          <p:sp>
            <p:nvSpPr>
              <p:cNvPr id="17109" name=""/>
              <p:cNvSpPr/>
              <p:nvPr/>
            </p:nvSpPr>
            <p:spPr>
              <a:xfrm rot="2638800">
                <a:off x="465840" y="59835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0" name=""/>
              <p:cNvSpPr/>
              <p:nvPr/>
            </p:nvSpPr>
            <p:spPr>
              <a:xfrm rot="2638800">
                <a:off x="-573120" y="62946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11" name=""/>
            <p:cNvGrpSpPr/>
            <p:nvPr/>
          </p:nvGrpSpPr>
          <p:grpSpPr>
            <a:xfrm>
              <a:off x="-1396440" y="5509080"/>
              <a:ext cx="2504160" cy="2196360"/>
              <a:chOff x="-1396440" y="5509080"/>
              <a:chExt cx="2504160" cy="2196360"/>
            </a:xfrm>
          </p:grpSpPr>
          <p:sp>
            <p:nvSpPr>
              <p:cNvPr id="17112" name=""/>
              <p:cNvSpPr/>
              <p:nvPr/>
            </p:nvSpPr>
            <p:spPr>
              <a:xfrm rot="2638800">
                <a:off x="62280" y="57175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3" name=""/>
              <p:cNvSpPr/>
              <p:nvPr/>
            </p:nvSpPr>
            <p:spPr>
              <a:xfrm rot="2638800">
                <a:off x="-848520" y="5943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14" name=""/>
            <p:cNvGrpSpPr/>
            <p:nvPr/>
          </p:nvGrpSpPr>
          <p:grpSpPr>
            <a:xfrm>
              <a:off x="-1496160" y="5666760"/>
              <a:ext cx="1783440" cy="2475720"/>
              <a:chOff x="-1496160" y="5666760"/>
              <a:chExt cx="1783440" cy="2475720"/>
            </a:xfrm>
          </p:grpSpPr>
          <p:sp>
            <p:nvSpPr>
              <p:cNvPr id="17115" name=""/>
              <p:cNvSpPr/>
              <p:nvPr/>
            </p:nvSpPr>
            <p:spPr>
              <a:xfrm rot="1215600">
                <a:off x="-588960" y="577980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6" name=""/>
              <p:cNvSpPr/>
              <p:nvPr/>
            </p:nvSpPr>
            <p:spPr>
              <a:xfrm rot="1215600">
                <a:off x="-1245240" y="636948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17" name=""/>
            <p:cNvGrpSpPr/>
            <p:nvPr/>
          </p:nvGrpSpPr>
          <p:grpSpPr>
            <a:xfrm>
              <a:off x="-984960" y="6089400"/>
              <a:ext cx="1586880" cy="1977120"/>
              <a:chOff x="-984960" y="6089400"/>
              <a:chExt cx="1586880" cy="1977120"/>
            </a:xfrm>
          </p:grpSpPr>
          <p:sp>
            <p:nvSpPr>
              <p:cNvPr id="17118" name=""/>
              <p:cNvSpPr/>
              <p:nvPr/>
            </p:nvSpPr>
            <p:spPr>
              <a:xfrm rot="2638800">
                <a:off x="-238680" y="628956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9" name=""/>
              <p:cNvSpPr/>
              <p:nvPr/>
            </p:nvSpPr>
            <p:spPr>
              <a:xfrm rot="2638800">
                <a:off x="-581040" y="66999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20" name=""/>
          <p:cNvSpPr/>
          <p:nvPr/>
        </p:nvSpPr>
        <p:spPr>
          <a:xfrm>
            <a:off x="2771640" y="6165720"/>
            <a:ext cx="1079640" cy="50328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1" name=""/>
          <p:cNvSpPr txBox="1"/>
          <p:nvPr/>
        </p:nvSpPr>
        <p:spPr>
          <a:xfrm>
            <a:off x="2916360" y="6165720"/>
            <a:ext cx="86364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Неронов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Деодор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22" name=""/>
          <p:cNvSpPr/>
          <p:nvPr/>
        </p:nvSpPr>
        <p:spPr>
          <a:xfrm>
            <a:off x="971640" y="3573360"/>
            <a:ext cx="288720" cy="360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3" name="">
            <a:hlinkClick r:id="rId19" action="ppaction://hlinksldjump"/>
          </p:cNvPr>
          <p:cNvSpPr/>
          <p:nvPr/>
        </p:nvSpPr>
        <p:spPr>
          <a:xfrm>
            <a:off x="1258920" y="3573360"/>
            <a:ext cx="28872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24" name=""/>
          <p:cNvGrpSpPr/>
          <p:nvPr/>
        </p:nvGrpSpPr>
        <p:grpSpPr>
          <a:xfrm>
            <a:off x="1187280" y="3860640"/>
            <a:ext cx="215640" cy="144720"/>
            <a:chOff x="1187280" y="3860640"/>
            <a:chExt cx="215640" cy="144720"/>
          </a:xfrm>
        </p:grpSpPr>
        <p:sp>
          <p:nvSpPr>
            <p:cNvPr id="17125" name=""/>
            <p:cNvSpPr/>
            <p:nvPr/>
          </p:nvSpPr>
          <p:spPr>
            <a:xfrm>
              <a:off x="118728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6" name=""/>
            <p:cNvSpPr/>
            <p:nvPr/>
          </p:nvSpPr>
          <p:spPr>
            <a:xfrm>
              <a:off x="1248840" y="386064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27" name="">
            <a:hlinkClick r:id="rId21" action="ppaction://hlinksldjump"/>
          </p:cNvPr>
          <p:cNvSpPr/>
          <p:nvPr/>
        </p:nvSpPr>
        <p:spPr>
          <a:xfrm>
            <a:off x="1619280" y="486900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8" name=""/>
          <p:cNvSpPr txBox="1"/>
          <p:nvPr/>
        </p:nvSpPr>
        <p:spPr>
          <a:xfrm>
            <a:off x="1692360" y="494172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ЗАЛАМАЕ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29" name="">
            <a:hlinkClick r:id="rId22" action="ppaction://hlinksldjump"/>
          </p:cNvPr>
          <p:cNvSpPr/>
          <p:nvPr/>
        </p:nvSpPr>
        <p:spPr>
          <a:xfrm>
            <a:off x="468360" y="4581360"/>
            <a:ext cx="86508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0" name=""/>
          <p:cNvSpPr txBox="1"/>
          <p:nvPr/>
        </p:nvSpPr>
        <p:spPr>
          <a:xfrm>
            <a:off x="541440" y="465444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131" name="">
            <a:hlinkClick r:id="rId23" action="ppaction://hlinksldjump"/>
          </p:cNvPr>
          <p:cNvSpPr/>
          <p:nvPr/>
        </p:nvSpPr>
        <p:spPr>
          <a:xfrm>
            <a:off x="250920" y="2997360"/>
            <a:ext cx="647640" cy="3585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2" name=""/>
          <p:cNvSpPr txBox="1"/>
          <p:nvPr/>
        </p:nvSpPr>
        <p:spPr>
          <a:xfrm>
            <a:off x="324000" y="3068640"/>
            <a:ext cx="502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3" name=""/>
          <p:cNvSpPr/>
          <p:nvPr/>
        </p:nvSpPr>
        <p:spPr>
          <a:xfrm>
            <a:off x="5656320" y="4584600"/>
            <a:ext cx="4246560" cy="1425600"/>
          </a:xfrm>
          <a:custGeom>
            <a:avLst/>
            <a:gdLst/>
            <a:ahLst/>
            <a:rect l="l" t="t" r="r" b="b"/>
            <a:pathLst>
              <a:path w="2675" h="898">
                <a:moveTo>
                  <a:pt x="2365" y="898"/>
                </a:moveTo>
                <a:cubicBezTo>
                  <a:pt x="2251" y="897"/>
                  <a:pt x="1953" y="862"/>
                  <a:pt x="1753" y="844"/>
                </a:cubicBezTo>
                <a:cubicBezTo>
                  <a:pt x="1553" y="826"/>
                  <a:pt x="1326" y="807"/>
                  <a:pt x="1165" y="790"/>
                </a:cubicBezTo>
                <a:cubicBezTo>
                  <a:pt x="1004" y="773"/>
                  <a:pt x="876" y="762"/>
                  <a:pt x="787" y="742"/>
                </a:cubicBezTo>
                <a:cubicBezTo>
                  <a:pt x="698" y="722"/>
                  <a:pt x="671" y="701"/>
                  <a:pt x="631" y="670"/>
                </a:cubicBezTo>
                <a:cubicBezTo>
                  <a:pt x="591" y="639"/>
                  <a:pt x="568" y="602"/>
                  <a:pt x="547" y="556"/>
                </a:cubicBezTo>
                <a:cubicBezTo>
                  <a:pt x="526" y="510"/>
                  <a:pt x="534" y="431"/>
                  <a:pt x="505" y="394"/>
                </a:cubicBezTo>
                <a:cubicBezTo>
                  <a:pt x="476" y="357"/>
                  <a:pt x="421" y="364"/>
                  <a:pt x="373" y="334"/>
                </a:cubicBezTo>
                <a:cubicBezTo>
                  <a:pt x="325" y="304"/>
                  <a:pt x="263" y="231"/>
                  <a:pt x="217" y="214"/>
                </a:cubicBezTo>
                <a:cubicBezTo>
                  <a:pt x="171" y="197"/>
                  <a:pt x="128" y="258"/>
                  <a:pt x="97" y="232"/>
                </a:cubicBezTo>
                <a:cubicBezTo>
                  <a:pt x="66" y="206"/>
                  <a:pt x="47" y="92"/>
                  <a:pt x="31" y="58"/>
                </a:cubicBezTo>
                <a:cubicBezTo>
                  <a:pt x="15" y="24"/>
                  <a:pt x="0" y="30"/>
                  <a:pt x="3" y="25"/>
                </a:cubicBezTo>
                <a:cubicBezTo>
                  <a:pt x="6" y="20"/>
                  <a:pt x="28" y="0"/>
                  <a:pt x="49" y="28"/>
                </a:cubicBezTo>
                <a:cubicBezTo>
                  <a:pt x="70" y="56"/>
                  <a:pt x="95" y="165"/>
                  <a:pt x="127" y="190"/>
                </a:cubicBezTo>
                <a:cubicBezTo>
                  <a:pt x="159" y="215"/>
                  <a:pt x="199" y="162"/>
                  <a:pt x="241" y="178"/>
                </a:cubicBezTo>
                <a:cubicBezTo>
                  <a:pt x="283" y="194"/>
                  <a:pt x="340" y="261"/>
                  <a:pt x="378" y="287"/>
                </a:cubicBezTo>
                <a:cubicBezTo>
                  <a:pt x="416" y="313"/>
                  <a:pt x="445" y="319"/>
                  <a:pt x="470" y="332"/>
                </a:cubicBezTo>
                <a:cubicBezTo>
                  <a:pt x="495" y="345"/>
                  <a:pt x="510" y="335"/>
                  <a:pt x="529" y="364"/>
                </a:cubicBezTo>
                <a:cubicBezTo>
                  <a:pt x="548" y="393"/>
                  <a:pt x="556" y="462"/>
                  <a:pt x="583" y="508"/>
                </a:cubicBezTo>
                <a:cubicBezTo>
                  <a:pt x="610" y="554"/>
                  <a:pt x="632" y="608"/>
                  <a:pt x="691" y="640"/>
                </a:cubicBezTo>
                <a:cubicBezTo>
                  <a:pt x="750" y="672"/>
                  <a:pt x="646" y="665"/>
                  <a:pt x="937" y="700"/>
                </a:cubicBezTo>
                <a:cubicBezTo>
                  <a:pt x="1228" y="735"/>
                  <a:pt x="2199" y="817"/>
                  <a:pt x="2437" y="850"/>
                </a:cubicBezTo>
                <a:cubicBezTo>
                  <a:pt x="2675" y="883"/>
                  <a:pt x="2380" y="888"/>
                  <a:pt x="2365" y="898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4" name=""/>
          <p:cNvSpPr/>
          <p:nvPr/>
        </p:nvSpPr>
        <p:spPr>
          <a:xfrm>
            <a:off x="7174080" y="3454560"/>
            <a:ext cx="2309760" cy="2442960"/>
          </a:xfrm>
          <a:custGeom>
            <a:avLst/>
            <a:gdLst/>
            <a:ahLst/>
            <a:rect l="l" t="t" r="r" b="b"/>
            <a:pathLst>
              <a:path w="1455" h="1539">
                <a:moveTo>
                  <a:pt x="863" y="1268"/>
                </a:moveTo>
                <a:cubicBezTo>
                  <a:pt x="742" y="1213"/>
                  <a:pt x="653" y="1208"/>
                  <a:pt x="571" y="1186"/>
                </a:cubicBezTo>
                <a:cubicBezTo>
                  <a:pt x="489" y="1164"/>
                  <a:pt x="448" y="1166"/>
                  <a:pt x="370" y="1136"/>
                </a:cubicBezTo>
                <a:cubicBezTo>
                  <a:pt x="292" y="1106"/>
                  <a:pt x="163" y="1056"/>
                  <a:pt x="103" y="1006"/>
                </a:cubicBezTo>
                <a:cubicBezTo>
                  <a:pt x="43" y="956"/>
                  <a:pt x="0" y="901"/>
                  <a:pt x="10" y="834"/>
                </a:cubicBezTo>
                <a:cubicBezTo>
                  <a:pt x="20" y="767"/>
                  <a:pt x="71" y="668"/>
                  <a:pt x="161" y="603"/>
                </a:cubicBezTo>
                <a:cubicBezTo>
                  <a:pt x="251" y="538"/>
                  <a:pt x="455" y="490"/>
                  <a:pt x="550" y="445"/>
                </a:cubicBezTo>
                <a:cubicBezTo>
                  <a:pt x="645" y="400"/>
                  <a:pt x="695" y="361"/>
                  <a:pt x="730" y="330"/>
                </a:cubicBezTo>
                <a:cubicBezTo>
                  <a:pt x="765" y="299"/>
                  <a:pt x="744" y="289"/>
                  <a:pt x="759" y="258"/>
                </a:cubicBezTo>
                <a:cubicBezTo>
                  <a:pt x="774" y="227"/>
                  <a:pt x="803" y="180"/>
                  <a:pt x="820" y="143"/>
                </a:cubicBezTo>
                <a:cubicBezTo>
                  <a:pt x="837" y="106"/>
                  <a:pt x="850" y="61"/>
                  <a:pt x="861" y="37"/>
                </a:cubicBezTo>
                <a:cubicBezTo>
                  <a:pt x="872" y="14"/>
                  <a:pt x="885" y="0"/>
                  <a:pt x="888" y="2"/>
                </a:cubicBezTo>
                <a:cubicBezTo>
                  <a:pt x="891" y="3"/>
                  <a:pt x="889" y="27"/>
                  <a:pt x="882" y="47"/>
                </a:cubicBezTo>
                <a:cubicBezTo>
                  <a:pt x="874" y="68"/>
                  <a:pt x="861" y="88"/>
                  <a:pt x="845" y="125"/>
                </a:cubicBezTo>
                <a:cubicBezTo>
                  <a:pt x="829" y="162"/>
                  <a:pt x="810" y="230"/>
                  <a:pt x="787" y="272"/>
                </a:cubicBezTo>
                <a:cubicBezTo>
                  <a:pt x="764" y="314"/>
                  <a:pt x="750" y="344"/>
                  <a:pt x="708" y="380"/>
                </a:cubicBezTo>
                <a:cubicBezTo>
                  <a:pt x="666" y="416"/>
                  <a:pt x="608" y="452"/>
                  <a:pt x="535" y="488"/>
                </a:cubicBezTo>
                <a:cubicBezTo>
                  <a:pt x="462" y="524"/>
                  <a:pt x="332" y="558"/>
                  <a:pt x="269" y="596"/>
                </a:cubicBezTo>
                <a:cubicBezTo>
                  <a:pt x="206" y="634"/>
                  <a:pt x="132" y="686"/>
                  <a:pt x="154" y="718"/>
                </a:cubicBezTo>
                <a:cubicBezTo>
                  <a:pt x="176" y="750"/>
                  <a:pt x="320" y="779"/>
                  <a:pt x="399" y="790"/>
                </a:cubicBezTo>
                <a:cubicBezTo>
                  <a:pt x="478" y="801"/>
                  <a:pt x="542" y="796"/>
                  <a:pt x="629" y="783"/>
                </a:cubicBezTo>
                <a:cubicBezTo>
                  <a:pt x="716" y="770"/>
                  <a:pt x="840" y="729"/>
                  <a:pt x="924" y="711"/>
                </a:cubicBezTo>
                <a:cubicBezTo>
                  <a:pt x="1008" y="693"/>
                  <a:pt x="1069" y="683"/>
                  <a:pt x="1133" y="675"/>
                </a:cubicBezTo>
                <a:cubicBezTo>
                  <a:pt x="1197" y="667"/>
                  <a:pt x="1254" y="669"/>
                  <a:pt x="1306" y="661"/>
                </a:cubicBezTo>
                <a:cubicBezTo>
                  <a:pt x="1358" y="653"/>
                  <a:pt x="1439" y="610"/>
                  <a:pt x="1447" y="629"/>
                </a:cubicBezTo>
                <a:cubicBezTo>
                  <a:pt x="1455" y="648"/>
                  <a:pt x="1383" y="751"/>
                  <a:pt x="1352" y="773"/>
                </a:cubicBezTo>
                <a:cubicBezTo>
                  <a:pt x="1321" y="795"/>
                  <a:pt x="1295" y="760"/>
                  <a:pt x="1263" y="762"/>
                </a:cubicBezTo>
                <a:cubicBezTo>
                  <a:pt x="1231" y="764"/>
                  <a:pt x="1218" y="778"/>
                  <a:pt x="1162" y="783"/>
                </a:cubicBezTo>
                <a:cubicBezTo>
                  <a:pt x="1106" y="788"/>
                  <a:pt x="1018" y="778"/>
                  <a:pt x="924" y="790"/>
                </a:cubicBezTo>
                <a:cubicBezTo>
                  <a:pt x="830" y="802"/>
                  <a:pt x="716" y="855"/>
                  <a:pt x="600" y="855"/>
                </a:cubicBezTo>
                <a:cubicBezTo>
                  <a:pt x="484" y="855"/>
                  <a:pt x="297" y="826"/>
                  <a:pt x="226" y="790"/>
                </a:cubicBezTo>
                <a:cubicBezTo>
                  <a:pt x="155" y="754"/>
                  <a:pt x="203" y="627"/>
                  <a:pt x="175" y="639"/>
                </a:cubicBezTo>
                <a:cubicBezTo>
                  <a:pt x="147" y="651"/>
                  <a:pt x="50" y="796"/>
                  <a:pt x="60" y="862"/>
                </a:cubicBezTo>
                <a:cubicBezTo>
                  <a:pt x="70" y="928"/>
                  <a:pt x="174" y="998"/>
                  <a:pt x="233" y="1035"/>
                </a:cubicBezTo>
                <a:cubicBezTo>
                  <a:pt x="292" y="1072"/>
                  <a:pt x="357" y="1073"/>
                  <a:pt x="413" y="1086"/>
                </a:cubicBezTo>
                <a:cubicBezTo>
                  <a:pt x="469" y="1099"/>
                  <a:pt x="519" y="1100"/>
                  <a:pt x="571" y="1114"/>
                </a:cubicBezTo>
                <a:cubicBezTo>
                  <a:pt x="623" y="1128"/>
                  <a:pt x="674" y="1155"/>
                  <a:pt x="723" y="1172"/>
                </a:cubicBezTo>
                <a:cubicBezTo>
                  <a:pt x="772" y="1189"/>
                  <a:pt x="767" y="1174"/>
                  <a:pt x="867" y="1215"/>
                </a:cubicBezTo>
                <a:cubicBezTo>
                  <a:pt x="967" y="1256"/>
                  <a:pt x="1254" y="1368"/>
                  <a:pt x="1325" y="1418"/>
                </a:cubicBezTo>
                <a:cubicBezTo>
                  <a:pt x="1396" y="1468"/>
                  <a:pt x="1372" y="1539"/>
                  <a:pt x="1295" y="1514"/>
                </a:cubicBezTo>
                <a:cubicBezTo>
                  <a:pt x="1218" y="1489"/>
                  <a:pt x="953" y="1319"/>
                  <a:pt x="863" y="1268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50000">
                <a:srgbClr val="000000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5" name=""/>
          <p:cNvSpPr/>
          <p:nvPr/>
        </p:nvSpPr>
        <p:spPr>
          <a:xfrm rot="695400">
            <a:off x="8317080" y="2491920"/>
            <a:ext cx="344160" cy="932040"/>
          </a:xfrm>
          <a:custGeom>
            <a:avLst/>
            <a:gdLst/>
            <a:ahLst/>
            <a:rect l="l" t="t" r="r" b="b"/>
            <a:pathLst>
              <a:path w="217" h="587">
                <a:moveTo>
                  <a:pt x="213" y="553"/>
                </a:moveTo>
                <a:cubicBezTo>
                  <a:pt x="193" y="521"/>
                  <a:pt x="156" y="497"/>
                  <a:pt x="142" y="463"/>
                </a:cubicBezTo>
                <a:cubicBezTo>
                  <a:pt x="128" y="429"/>
                  <a:pt x="134" y="386"/>
                  <a:pt x="128" y="347"/>
                </a:cubicBezTo>
                <a:cubicBezTo>
                  <a:pt x="122" y="308"/>
                  <a:pt x="128" y="287"/>
                  <a:pt x="107" y="229"/>
                </a:cubicBezTo>
                <a:cubicBezTo>
                  <a:pt x="86" y="171"/>
                  <a:pt x="6" y="0"/>
                  <a:pt x="3" y="0"/>
                </a:cubicBezTo>
                <a:cubicBezTo>
                  <a:pt x="0" y="0"/>
                  <a:pt x="70" y="168"/>
                  <a:pt x="86" y="227"/>
                </a:cubicBezTo>
                <a:cubicBezTo>
                  <a:pt x="102" y="286"/>
                  <a:pt x="99" y="323"/>
                  <a:pt x="102" y="352"/>
                </a:cubicBezTo>
                <a:cubicBezTo>
                  <a:pt x="106" y="381"/>
                  <a:pt x="102" y="371"/>
                  <a:pt x="106" y="401"/>
                </a:cubicBezTo>
                <a:cubicBezTo>
                  <a:pt x="110" y="431"/>
                  <a:pt x="112" y="504"/>
                  <a:pt x="128" y="534"/>
                </a:cubicBezTo>
                <a:cubicBezTo>
                  <a:pt x="144" y="564"/>
                  <a:pt x="189" y="581"/>
                  <a:pt x="203" y="584"/>
                </a:cubicBezTo>
                <a:cubicBezTo>
                  <a:pt x="217" y="587"/>
                  <a:pt x="210" y="559"/>
                  <a:pt x="213" y="553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1010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6" name=""/>
          <p:cNvSpPr/>
          <p:nvPr/>
        </p:nvSpPr>
        <p:spPr>
          <a:xfrm>
            <a:off x="873000" y="627120"/>
            <a:ext cx="7496280" cy="6221520"/>
          </a:xfrm>
          <a:custGeom>
            <a:avLst/>
            <a:gdLst/>
            <a:ahLst/>
            <a:rect l="l" t="t" r="r" b="b"/>
            <a:pathLst>
              <a:path w="4722" h="3919">
                <a:moveTo>
                  <a:pt x="2594" y="667"/>
                </a:moveTo>
                <a:cubicBezTo>
                  <a:pt x="2594" y="600"/>
                  <a:pt x="2682" y="538"/>
                  <a:pt x="2702" y="475"/>
                </a:cubicBezTo>
                <a:cubicBezTo>
                  <a:pt x="2722" y="412"/>
                  <a:pt x="2683" y="368"/>
                  <a:pt x="2714" y="289"/>
                </a:cubicBezTo>
                <a:cubicBezTo>
                  <a:pt x="2745" y="210"/>
                  <a:pt x="2894" y="2"/>
                  <a:pt x="2888" y="1"/>
                </a:cubicBezTo>
                <a:cubicBezTo>
                  <a:pt x="2882" y="0"/>
                  <a:pt x="2716" y="207"/>
                  <a:pt x="2678" y="283"/>
                </a:cubicBezTo>
                <a:cubicBezTo>
                  <a:pt x="2640" y="359"/>
                  <a:pt x="2683" y="393"/>
                  <a:pt x="2660" y="457"/>
                </a:cubicBezTo>
                <a:cubicBezTo>
                  <a:pt x="2637" y="521"/>
                  <a:pt x="2542" y="599"/>
                  <a:pt x="2540" y="667"/>
                </a:cubicBezTo>
                <a:cubicBezTo>
                  <a:pt x="2538" y="735"/>
                  <a:pt x="2648" y="808"/>
                  <a:pt x="2648" y="865"/>
                </a:cubicBezTo>
                <a:cubicBezTo>
                  <a:pt x="2648" y="922"/>
                  <a:pt x="2561" y="948"/>
                  <a:pt x="2540" y="1009"/>
                </a:cubicBezTo>
                <a:cubicBezTo>
                  <a:pt x="2519" y="1070"/>
                  <a:pt x="2537" y="1156"/>
                  <a:pt x="2522" y="1231"/>
                </a:cubicBezTo>
                <a:cubicBezTo>
                  <a:pt x="2507" y="1306"/>
                  <a:pt x="2497" y="1374"/>
                  <a:pt x="2450" y="1459"/>
                </a:cubicBezTo>
                <a:cubicBezTo>
                  <a:pt x="2403" y="1544"/>
                  <a:pt x="2280" y="1718"/>
                  <a:pt x="2240" y="1741"/>
                </a:cubicBezTo>
                <a:cubicBezTo>
                  <a:pt x="2200" y="1764"/>
                  <a:pt x="2208" y="1679"/>
                  <a:pt x="2210" y="1597"/>
                </a:cubicBezTo>
                <a:cubicBezTo>
                  <a:pt x="2212" y="1515"/>
                  <a:pt x="2249" y="1340"/>
                  <a:pt x="2254" y="1250"/>
                </a:cubicBezTo>
                <a:cubicBezTo>
                  <a:pt x="2259" y="1160"/>
                  <a:pt x="2260" y="1120"/>
                  <a:pt x="2240" y="1055"/>
                </a:cubicBezTo>
                <a:cubicBezTo>
                  <a:pt x="2220" y="990"/>
                  <a:pt x="2163" y="918"/>
                  <a:pt x="2136" y="861"/>
                </a:cubicBezTo>
                <a:cubicBezTo>
                  <a:pt x="2109" y="804"/>
                  <a:pt x="2106" y="771"/>
                  <a:pt x="2080" y="715"/>
                </a:cubicBezTo>
                <a:cubicBezTo>
                  <a:pt x="2054" y="659"/>
                  <a:pt x="1987" y="524"/>
                  <a:pt x="1982" y="523"/>
                </a:cubicBezTo>
                <a:cubicBezTo>
                  <a:pt x="1977" y="522"/>
                  <a:pt x="2032" y="649"/>
                  <a:pt x="2052" y="708"/>
                </a:cubicBezTo>
                <a:cubicBezTo>
                  <a:pt x="2072" y="767"/>
                  <a:pt x="2079" y="818"/>
                  <a:pt x="2102" y="877"/>
                </a:cubicBezTo>
                <a:cubicBezTo>
                  <a:pt x="2125" y="936"/>
                  <a:pt x="2175" y="1003"/>
                  <a:pt x="2192" y="1063"/>
                </a:cubicBezTo>
                <a:cubicBezTo>
                  <a:pt x="2209" y="1123"/>
                  <a:pt x="2215" y="1151"/>
                  <a:pt x="2204" y="1237"/>
                </a:cubicBezTo>
                <a:cubicBezTo>
                  <a:pt x="2193" y="1323"/>
                  <a:pt x="2153" y="1539"/>
                  <a:pt x="2126" y="1579"/>
                </a:cubicBezTo>
                <a:cubicBezTo>
                  <a:pt x="2099" y="1619"/>
                  <a:pt x="2063" y="1533"/>
                  <a:pt x="2039" y="1479"/>
                </a:cubicBezTo>
                <a:cubicBezTo>
                  <a:pt x="2015" y="1425"/>
                  <a:pt x="2010" y="1326"/>
                  <a:pt x="1983" y="1257"/>
                </a:cubicBezTo>
                <a:cubicBezTo>
                  <a:pt x="1956" y="1188"/>
                  <a:pt x="1912" y="1124"/>
                  <a:pt x="1880" y="1063"/>
                </a:cubicBezTo>
                <a:cubicBezTo>
                  <a:pt x="1848" y="1002"/>
                  <a:pt x="1819" y="944"/>
                  <a:pt x="1789" y="889"/>
                </a:cubicBezTo>
                <a:cubicBezTo>
                  <a:pt x="1759" y="834"/>
                  <a:pt x="1701" y="724"/>
                  <a:pt x="1700" y="733"/>
                </a:cubicBezTo>
                <a:cubicBezTo>
                  <a:pt x="1699" y="742"/>
                  <a:pt x="1760" y="882"/>
                  <a:pt x="1784" y="943"/>
                </a:cubicBezTo>
                <a:cubicBezTo>
                  <a:pt x="1808" y="1004"/>
                  <a:pt x="1817" y="1040"/>
                  <a:pt x="1844" y="1097"/>
                </a:cubicBezTo>
                <a:cubicBezTo>
                  <a:pt x="1871" y="1154"/>
                  <a:pt x="1919" y="1219"/>
                  <a:pt x="1946" y="1285"/>
                </a:cubicBezTo>
                <a:cubicBezTo>
                  <a:pt x="1973" y="1351"/>
                  <a:pt x="1983" y="1409"/>
                  <a:pt x="2006" y="1495"/>
                </a:cubicBezTo>
                <a:cubicBezTo>
                  <a:pt x="2029" y="1581"/>
                  <a:pt x="2082" y="1685"/>
                  <a:pt x="2084" y="1801"/>
                </a:cubicBezTo>
                <a:cubicBezTo>
                  <a:pt x="2086" y="1917"/>
                  <a:pt x="2024" y="2081"/>
                  <a:pt x="2018" y="2191"/>
                </a:cubicBezTo>
                <a:cubicBezTo>
                  <a:pt x="2012" y="2301"/>
                  <a:pt x="2066" y="2424"/>
                  <a:pt x="2048" y="2461"/>
                </a:cubicBezTo>
                <a:cubicBezTo>
                  <a:pt x="2030" y="2498"/>
                  <a:pt x="1961" y="2438"/>
                  <a:pt x="1907" y="2415"/>
                </a:cubicBezTo>
                <a:cubicBezTo>
                  <a:pt x="1853" y="2392"/>
                  <a:pt x="1784" y="2391"/>
                  <a:pt x="1725" y="2324"/>
                </a:cubicBezTo>
                <a:cubicBezTo>
                  <a:pt x="1666" y="2257"/>
                  <a:pt x="1609" y="2087"/>
                  <a:pt x="1550" y="2011"/>
                </a:cubicBezTo>
                <a:cubicBezTo>
                  <a:pt x="1491" y="1935"/>
                  <a:pt x="1422" y="1908"/>
                  <a:pt x="1370" y="1867"/>
                </a:cubicBezTo>
                <a:cubicBezTo>
                  <a:pt x="1318" y="1826"/>
                  <a:pt x="1269" y="1794"/>
                  <a:pt x="1238" y="1765"/>
                </a:cubicBezTo>
                <a:cubicBezTo>
                  <a:pt x="1207" y="1736"/>
                  <a:pt x="1197" y="1719"/>
                  <a:pt x="1184" y="1693"/>
                </a:cubicBezTo>
                <a:cubicBezTo>
                  <a:pt x="1171" y="1667"/>
                  <a:pt x="1156" y="1650"/>
                  <a:pt x="1160" y="1609"/>
                </a:cubicBezTo>
                <a:cubicBezTo>
                  <a:pt x="1164" y="1568"/>
                  <a:pt x="1170" y="1532"/>
                  <a:pt x="1208" y="1447"/>
                </a:cubicBezTo>
                <a:cubicBezTo>
                  <a:pt x="1246" y="1362"/>
                  <a:pt x="1344" y="1186"/>
                  <a:pt x="1388" y="1099"/>
                </a:cubicBezTo>
                <a:cubicBezTo>
                  <a:pt x="1432" y="1012"/>
                  <a:pt x="1455" y="970"/>
                  <a:pt x="1472" y="925"/>
                </a:cubicBezTo>
                <a:cubicBezTo>
                  <a:pt x="1489" y="880"/>
                  <a:pt x="1496" y="822"/>
                  <a:pt x="1490" y="829"/>
                </a:cubicBezTo>
                <a:cubicBezTo>
                  <a:pt x="1484" y="836"/>
                  <a:pt x="1458" y="922"/>
                  <a:pt x="1436" y="967"/>
                </a:cubicBezTo>
                <a:cubicBezTo>
                  <a:pt x="1414" y="1012"/>
                  <a:pt x="1384" y="1055"/>
                  <a:pt x="1358" y="1099"/>
                </a:cubicBezTo>
                <a:cubicBezTo>
                  <a:pt x="1332" y="1143"/>
                  <a:pt x="1304" y="1188"/>
                  <a:pt x="1280" y="1231"/>
                </a:cubicBezTo>
                <a:cubicBezTo>
                  <a:pt x="1256" y="1274"/>
                  <a:pt x="1244" y="1301"/>
                  <a:pt x="1214" y="1357"/>
                </a:cubicBezTo>
                <a:cubicBezTo>
                  <a:pt x="1184" y="1413"/>
                  <a:pt x="1128" y="1572"/>
                  <a:pt x="1100" y="1567"/>
                </a:cubicBezTo>
                <a:cubicBezTo>
                  <a:pt x="1072" y="1562"/>
                  <a:pt x="1049" y="1440"/>
                  <a:pt x="1045" y="1326"/>
                </a:cubicBezTo>
                <a:cubicBezTo>
                  <a:pt x="1041" y="1212"/>
                  <a:pt x="1095" y="1004"/>
                  <a:pt x="1076" y="883"/>
                </a:cubicBezTo>
                <a:cubicBezTo>
                  <a:pt x="1057" y="762"/>
                  <a:pt x="983" y="716"/>
                  <a:pt x="932" y="601"/>
                </a:cubicBezTo>
                <a:cubicBezTo>
                  <a:pt x="881" y="486"/>
                  <a:pt x="773" y="195"/>
                  <a:pt x="769" y="195"/>
                </a:cubicBezTo>
                <a:cubicBezTo>
                  <a:pt x="765" y="195"/>
                  <a:pt x="863" y="483"/>
                  <a:pt x="909" y="601"/>
                </a:cubicBezTo>
                <a:cubicBezTo>
                  <a:pt x="955" y="719"/>
                  <a:pt x="1029" y="779"/>
                  <a:pt x="1046" y="901"/>
                </a:cubicBezTo>
                <a:cubicBezTo>
                  <a:pt x="1063" y="1023"/>
                  <a:pt x="1010" y="1224"/>
                  <a:pt x="1010" y="1333"/>
                </a:cubicBezTo>
                <a:cubicBezTo>
                  <a:pt x="1010" y="1442"/>
                  <a:pt x="1030" y="1494"/>
                  <a:pt x="1045" y="1553"/>
                </a:cubicBezTo>
                <a:cubicBezTo>
                  <a:pt x="1060" y="1612"/>
                  <a:pt x="1081" y="1650"/>
                  <a:pt x="1100" y="1687"/>
                </a:cubicBezTo>
                <a:cubicBezTo>
                  <a:pt x="1119" y="1724"/>
                  <a:pt x="1124" y="1739"/>
                  <a:pt x="1160" y="1777"/>
                </a:cubicBezTo>
                <a:cubicBezTo>
                  <a:pt x="1196" y="1815"/>
                  <a:pt x="1260" y="1862"/>
                  <a:pt x="1316" y="1915"/>
                </a:cubicBezTo>
                <a:cubicBezTo>
                  <a:pt x="1372" y="1968"/>
                  <a:pt x="1454" y="2022"/>
                  <a:pt x="1499" y="2098"/>
                </a:cubicBezTo>
                <a:cubicBezTo>
                  <a:pt x="1544" y="2174"/>
                  <a:pt x="1566" y="2302"/>
                  <a:pt x="1589" y="2370"/>
                </a:cubicBezTo>
                <a:cubicBezTo>
                  <a:pt x="1612" y="2438"/>
                  <a:pt x="1597" y="2468"/>
                  <a:pt x="1635" y="2506"/>
                </a:cubicBezTo>
                <a:cubicBezTo>
                  <a:pt x="1673" y="2544"/>
                  <a:pt x="1748" y="2536"/>
                  <a:pt x="1816" y="2596"/>
                </a:cubicBezTo>
                <a:cubicBezTo>
                  <a:pt x="1884" y="2656"/>
                  <a:pt x="2005" y="2813"/>
                  <a:pt x="2043" y="2869"/>
                </a:cubicBezTo>
                <a:cubicBezTo>
                  <a:pt x="2081" y="2925"/>
                  <a:pt x="2051" y="2920"/>
                  <a:pt x="2042" y="2929"/>
                </a:cubicBezTo>
                <a:cubicBezTo>
                  <a:pt x="2033" y="2938"/>
                  <a:pt x="2027" y="2926"/>
                  <a:pt x="1988" y="2923"/>
                </a:cubicBezTo>
                <a:cubicBezTo>
                  <a:pt x="1949" y="2920"/>
                  <a:pt x="1882" y="2948"/>
                  <a:pt x="1808" y="2911"/>
                </a:cubicBezTo>
                <a:cubicBezTo>
                  <a:pt x="1734" y="2874"/>
                  <a:pt x="1637" y="2751"/>
                  <a:pt x="1544" y="2701"/>
                </a:cubicBezTo>
                <a:cubicBezTo>
                  <a:pt x="1451" y="2651"/>
                  <a:pt x="1350" y="2611"/>
                  <a:pt x="1250" y="2611"/>
                </a:cubicBezTo>
                <a:cubicBezTo>
                  <a:pt x="1150" y="2611"/>
                  <a:pt x="1023" y="2698"/>
                  <a:pt x="944" y="2701"/>
                </a:cubicBezTo>
                <a:cubicBezTo>
                  <a:pt x="865" y="2704"/>
                  <a:pt x="835" y="2664"/>
                  <a:pt x="776" y="2629"/>
                </a:cubicBezTo>
                <a:cubicBezTo>
                  <a:pt x="717" y="2594"/>
                  <a:pt x="642" y="2561"/>
                  <a:pt x="590" y="2491"/>
                </a:cubicBezTo>
                <a:cubicBezTo>
                  <a:pt x="538" y="2421"/>
                  <a:pt x="469" y="2320"/>
                  <a:pt x="464" y="2209"/>
                </a:cubicBezTo>
                <a:cubicBezTo>
                  <a:pt x="459" y="2098"/>
                  <a:pt x="539" y="1927"/>
                  <a:pt x="560" y="1825"/>
                </a:cubicBezTo>
                <a:cubicBezTo>
                  <a:pt x="581" y="1723"/>
                  <a:pt x="589" y="1599"/>
                  <a:pt x="591" y="1599"/>
                </a:cubicBezTo>
                <a:cubicBezTo>
                  <a:pt x="593" y="1599"/>
                  <a:pt x="575" y="1735"/>
                  <a:pt x="546" y="1825"/>
                </a:cubicBezTo>
                <a:cubicBezTo>
                  <a:pt x="517" y="1915"/>
                  <a:pt x="457" y="2103"/>
                  <a:pt x="416" y="2137"/>
                </a:cubicBezTo>
                <a:cubicBezTo>
                  <a:pt x="375" y="2171"/>
                  <a:pt x="338" y="2083"/>
                  <a:pt x="302" y="2029"/>
                </a:cubicBezTo>
                <a:cubicBezTo>
                  <a:pt x="266" y="1975"/>
                  <a:pt x="218" y="1887"/>
                  <a:pt x="200" y="1813"/>
                </a:cubicBezTo>
                <a:cubicBezTo>
                  <a:pt x="182" y="1739"/>
                  <a:pt x="227" y="1651"/>
                  <a:pt x="194" y="1585"/>
                </a:cubicBezTo>
                <a:cubicBezTo>
                  <a:pt x="161" y="1519"/>
                  <a:pt x="0" y="1419"/>
                  <a:pt x="2" y="1417"/>
                </a:cubicBezTo>
                <a:cubicBezTo>
                  <a:pt x="4" y="1415"/>
                  <a:pt x="153" y="1531"/>
                  <a:pt x="183" y="1599"/>
                </a:cubicBezTo>
                <a:cubicBezTo>
                  <a:pt x="213" y="1667"/>
                  <a:pt x="168" y="1750"/>
                  <a:pt x="183" y="1825"/>
                </a:cubicBezTo>
                <a:cubicBezTo>
                  <a:pt x="198" y="1900"/>
                  <a:pt x="241" y="1987"/>
                  <a:pt x="274" y="2052"/>
                </a:cubicBezTo>
                <a:cubicBezTo>
                  <a:pt x="307" y="2117"/>
                  <a:pt x="339" y="2139"/>
                  <a:pt x="380" y="2215"/>
                </a:cubicBezTo>
                <a:cubicBezTo>
                  <a:pt x="421" y="2291"/>
                  <a:pt x="460" y="2430"/>
                  <a:pt x="518" y="2509"/>
                </a:cubicBezTo>
                <a:cubicBezTo>
                  <a:pt x="576" y="2588"/>
                  <a:pt x="656" y="2638"/>
                  <a:pt x="727" y="2687"/>
                </a:cubicBezTo>
                <a:cubicBezTo>
                  <a:pt x="798" y="2736"/>
                  <a:pt x="858" y="2792"/>
                  <a:pt x="944" y="2803"/>
                </a:cubicBezTo>
                <a:cubicBezTo>
                  <a:pt x="1030" y="2814"/>
                  <a:pt x="1150" y="2744"/>
                  <a:pt x="1244" y="2755"/>
                </a:cubicBezTo>
                <a:cubicBezTo>
                  <a:pt x="1338" y="2766"/>
                  <a:pt x="1421" y="2816"/>
                  <a:pt x="1508" y="2869"/>
                </a:cubicBezTo>
                <a:cubicBezTo>
                  <a:pt x="1595" y="2922"/>
                  <a:pt x="1694" y="3028"/>
                  <a:pt x="1766" y="3073"/>
                </a:cubicBezTo>
                <a:cubicBezTo>
                  <a:pt x="1838" y="3118"/>
                  <a:pt x="1902" y="3105"/>
                  <a:pt x="1940" y="3139"/>
                </a:cubicBezTo>
                <a:cubicBezTo>
                  <a:pt x="1978" y="3173"/>
                  <a:pt x="1977" y="3231"/>
                  <a:pt x="1994" y="3277"/>
                </a:cubicBezTo>
                <a:cubicBezTo>
                  <a:pt x="2011" y="3323"/>
                  <a:pt x="2035" y="3368"/>
                  <a:pt x="2043" y="3413"/>
                </a:cubicBezTo>
                <a:cubicBezTo>
                  <a:pt x="2051" y="3458"/>
                  <a:pt x="2058" y="3519"/>
                  <a:pt x="2043" y="3549"/>
                </a:cubicBezTo>
                <a:cubicBezTo>
                  <a:pt x="2028" y="3579"/>
                  <a:pt x="1982" y="3564"/>
                  <a:pt x="1952" y="3594"/>
                </a:cubicBezTo>
                <a:cubicBezTo>
                  <a:pt x="1922" y="3624"/>
                  <a:pt x="1891" y="3685"/>
                  <a:pt x="1861" y="3730"/>
                </a:cubicBezTo>
                <a:cubicBezTo>
                  <a:pt x="1831" y="3775"/>
                  <a:pt x="1809" y="3859"/>
                  <a:pt x="1771" y="3867"/>
                </a:cubicBezTo>
                <a:cubicBezTo>
                  <a:pt x="1733" y="3875"/>
                  <a:pt x="1665" y="3784"/>
                  <a:pt x="1635" y="3776"/>
                </a:cubicBezTo>
                <a:cubicBezTo>
                  <a:pt x="1605" y="3768"/>
                  <a:pt x="1589" y="3814"/>
                  <a:pt x="1589" y="3821"/>
                </a:cubicBezTo>
                <a:cubicBezTo>
                  <a:pt x="1589" y="3828"/>
                  <a:pt x="1635" y="3828"/>
                  <a:pt x="1635" y="3821"/>
                </a:cubicBezTo>
                <a:cubicBezTo>
                  <a:pt x="1635" y="3814"/>
                  <a:pt x="1574" y="3761"/>
                  <a:pt x="1589" y="3776"/>
                </a:cubicBezTo>
                <a:cubicBezTo>
                  <a:pt x="1604" y="3791"/>
                  <a:pt x="1680" y="3905"/>
                  <a:pt x="1725" y="3912"/>
                </a:cubicBezTo>
                <a:cubicBezTo>
                  <a:pt x="1770" y="3919"/>
                  <a:pt x="1816" y="3851"/>
                  <a:pt x="1861" y="3821"/>
                </a:cubicBezTo>
                <a:cubicBezTo>
                  <a:pt x="1906" y="3791"/>
                  <a:pt x="1974" y="3737"/>
                  <a:pt x="1997" y="3730"/>
                </a:cubicBezTo>
                <a:cubicBezTo>
                  <a:pt x="2020" y="3723"/>
                  <a:pt x="1974" y="3776"/>
                  <a:pt x="1997" y="3776"/>
                </a:cubicBezTo>
                <a:cubicBezTo>
                  <a:pt x="2020" y="3776"/>
                  <a:pt x="2081" y="3760"/>
                  <a:pt x="2134" y="3730"/>
                </a:cubicBezTo>
                <a:cubicBezTo>
                  <a:pt x="2187" y="3700"/>
                  <a:pt x="2270" y="3609"/>
                  <a:pt x="2315" y="3594"/>
                </a:cubicBezTo>
                <a:cubicBezTo>
                  <a:pt x="2360" y="3579"/>
                  <a:pt x="2368" y="3610"/>
                  <a:pt x="2406" y="3640"/>
                </a:cubicBezTo>
                <a:cubicBezTo>
                  <a:pt x="2444" y="3670"/>
                  <a:pt x="2519" y="3761"/>
                  <a:pt x="2542" y="3776"/>
                </a:cubicBezTo>
                <a:cubicBezTo>
                  <a:pt x="2565" y="3791"/>
                  <a:pt x="2542" y="3753"/>
                  <a:pt x="2542" y="3730"/>
                </a:cubicBezTo>
                <a:cubicBezTo>
                  <a:pt x="2542" y="3707"/>
                  <a:pt x="2527" y="3655"/>
                  <a:pt x="2542" y="3640"/>
                </a:cubicBezTo>
                <a:cubicBezTo>
                  <a:pt x="2557" y="3625"/>
                  <a:pt x="2588" y="3625"/>
                  <a:pt x="2633" y="3640"/>
                </a:cubicBezTo>
                <a:cubicBezTo>
                  <a:pt x="2678" y="3655"/>
                  <a:pt x="2769" y="3707"/>
                  <a:pt x="2814" y="3730"/>
                </a:cubicBezTo>
                <a:cubicBezTo>
                  <a:pt x="2859" y="3753"/>
                  <a:pt x="2882" y="3768"/>
                  <a:pt x="2905" y="3776"/>
                </a:cubicBezTo>
                <a:cubicBezTo>
                  <a:pt x="2928" y="3784"/>
                  <a:pt x="2950" y="3784"/>
                  <a:pt x="2950" y="3776"/>
                </a:cubicBezTo>
                <a:cubicBezTo>
                  <a:pt x="2950" y="3768"/>
                  <a:pt x="2950" y="3760"/>
                  <a:pt x="2905" y="3730"/>
                </a:cubicBezTo>
                <a:cubicBezTo>
                  <a:pt x="2860" y="3700"/>
                  <a:pt x="2746" y="3624"/>
                  <a:pt x="2678" y="3594"/>
                </a:cubicBezTo>
                <a:cubicBezTo>
                  <a:pt x="2610" y="3564"/>
                  <a:pt x="2534" y="3602"/>
                  <a:pt x="2496" y="3549"/>
                </a:cubicBezTo>
                <a:cubicBezTo>
                  <a:pt x="2458" y="3496"/>
                  <a:pt x="2459" y="3368"/>
                  <a:pt x="2451" y="3277"/>
                </a:cubicBezTo>
                <a:cubicBezTo>
                  <a:pt x="2443" y="3186"/>
                  <a:pt x="2452" y="3081"/>
                  <a:pt x="2451" y="3005"/>
                </a:cubicBezTo>
                <a:cubicBezTo>
                  <a:pt x="2450" y="2929"/>
                  <a:pt x="2440" y="2882"/>
                  <a:pt x="2447" y="2818"/>
                </a:cubicBezTo>
                <a:cubicBezTo>
                  <a:pt x="2454" y="2754"/>
                  <a:pt x="2464" y="2679"/>
                  <a:pt x="2495" y="2620"/>
                </a:cubicBezTo>
                <a:cubicBezTo>
                  <a:pt x="2526" y="2561"/>
                  <a:pt x="2569" y="2470"/>
                  <a:pt x="2633" y="2464"/>
                </a:cubicBezTo>
                <a:cubicBezTo>
                  <a:pt x="2697" y="2458"/>
                  <a:pt x="2793" y="2560"/>
                  <a:pt x="2879" y="2584"/>
                </a:cubicBezTo>
                <a:cubicBezTo>
                  <a:pt x="2965" y="2608"/>
                  <a:pt x="3070" y="2615"/>
                  <a:pt x="3149" y="2608"/>
                </a:cubicBezTo>
                <a:cubicBezTo>
                  <a:pt x="3228" y="2601"/>
                  <a:pt x="3288" y="2580"/>
                  <a:pt x="3353" y="2542"/>
                </a:cubicBezTo>
                <a:cubicBezTo>
                  <a:pt x="3418" y="2504"/>
                  <a:pt x="3479" y="2424"/>
                  <a:pt x="3539" y="2380"/>
                </a:cubicBezTo>
                <a:cubicBezTo>
                  <a:pt x="3599" y="2336"/>
                  <a:pt x="3644" y="2297"/>
                  <a:pt x="3713" y="2278"/>
                </a:cubicBezTo>
                <a:cubicBezTo>
                  <a:pt x="3782" y="2259"/>
                  <a:pt x="3842" y="2275"/>
                  <a:pt x="3953" y="2266"/>
                </a:cubicBezTo>
                <a:cubicBezTo>
                  <a:pt x="4064" y="2257"/>
                  <a:pt x="4271" y="2312"/>
                  <a:pt x="4379" y="2224"/>
                </a:cubicBezTo>
                <a:cubicBezTo>
                  <a:pt x="4487" y="2136"/>
                  <a:pt x="4554" y="1851"/>
                  <a:pt x="4601" y="1738"/>
                </a:cubicBezTo>
                <a:cubicBezTo>
                  <a:pt x="4648" y="1625"/>
                  <a:pt x="4641" y="1637"/>
                  <a:pt x="4661" y="1546"/>
                </a:cubicBezTo>
                <a:cubicBezTo>
                  <a:pt x="4681" y="1455"/>
                  <a:pt x="4716" y="1225"/>
                  <a:pt x="4719" y="1190"/>
                </a:cubicBezTo>
                <a:cubicBezTo>
                  <a:pt x="4722" y="1155"/>
                  <a:pt x="4692" y="1280"/>
                  <a:pt x="4679" y="1336"/>
                </a:cubicBezTo>
                <a:cubicBezTo>
                  <a:pt x="4666" y="1392"/>
                  <a:pt x="4664" y="1467"/>
                  <a:pt x="4643" y="1528"/>
                </a:cubicBezTo>
                <a:cubicBezTo>
                  <a:pt x="4622" y="1589"/>
                  <a:pt x="4602" y="1690"/>
                  <a:pt x="4553" y="1702"/>
                </a:cubicBezTo>
                <a:cubicBezTo>
                  <a:pt x="4504" y="1714"/>
                  <a:pt x="4389" y="1647"/>
                  <a:pt x="4349" y="1600"/>
                </a:cubicBezTo>
                <a:cubicBezTo>
                  <a:pt x="4309" y="1553"/>
                  <a:pt x="4321" y="1477"/>
                  <a:pt x="4310" y="1417"/>
                </a:cubicBezTo>
                <a:cubicBezTo>
                  <a:pt x="4299" y="1357"/>
                  <a:pt x="4291" y="1306"/>
                  <a:pt x="4280" y="1237"/>
                </a:cubicBezTo>
                <a:cubicBezTo>
                  <a:pt x="4269" y="1168"/>
                  <a:pt x="4242" y="966"/>
                  <a:pt x="4244" y="1003"/>
                </a:cubicBezTo>
                <a:cubicBezTo>
                  <a:pt x="4246" y="1040"/>
                  <a:pt x="4283" y="1359"/>
                  <a:pt x="4292" y="1459"/>
                </a:cubicBezTo>
                <a:cubicBezTo>
                  <a:pt x="4301" y="1559"/>
                  <a:pt x="4280" y="1565"/>
                  <a:pt x="4298" y="1603"/>
                </a:cubicBezTo>
                <a:cubicBezTo>
                  <a:pt x="4316" y="1641"/>
                  <a:pt x="4362" y="1653"/>
                  <a:pt x="4397" y="1690"/>
                </a:cubicBezTo>
                <a:cubicBezTo>
                  <a:pt x="4432" y="1727"/>
                  <a:pt x="4518" y="1743"/>
                  <a:pt x="4505" y="1822"/>
                </a:cubicBezTo>
                <a:cubicBezTo>
                  <a:pt x="4492" y="1901"/>
                  <a:pt x="4413" y="2105"/>
                  <a:pt x="4319" y="2164"/>
                </a:cubicBezTo>
                <a:cubicBezTo>
                  <a:pt x="4225" y="2223"/>
                  <a:pt x="4040" y="2173"/>
                  <a:pt x="3941" y="2176"/>
                </a:cubicBezTo>
                <a:cubicBezTo>
                  <a:pt x="3842" y="2179"/>
                  <a:pt x="3761" y="2196"/>
                  <a:pt x="3725" y="2182"/>
                </a:cubicBezTo>
                <a:cubicBezTo>
                  <a:pt x="3689" y="2168"/>
                  <a:pt x="3719" y="2146"/>
                  <a:pt x="3725" y="2092"/>
                </a:cubicBezTo>
                <a:cubicBezTo>
                  <a:pt x="3731" y="2038"/>
                  <a:pt x="3734" y="1917"/>
                  <a:pt x="3761" y="1858"/>
                </a:cubicBezTo>
                <a:cubicBezTo>
                  <a:pt x="3788" y="1799"/>
                  <a:pt x="3868" y="1800"/>
                  <a:pt x="3887" y="1738"/>
                </a:cubicBezTo>
                <a:cubicBezTo>
                  <a:pt x="3906" y="1676"/>
                  <a:pt x="3864" y="1577"/>
                  <a:pt x="3875" y="1486"/>
                </a:cubicBezTo>
                <a:cubicBezTo>
                  <a:pt x="3886" y="1395"/>
                  <a:pt x="3947" y="1278"/>
                  <a:pt x="3953" y="1192"/>
                </a:cubicBezTo>
                <a:cubicBezTo>
                  <a:pt x="3959" y="1106"/>
                  <a:pt x="3911" y="1038"/>
                  <a:pt x="3911" y="970"/>
                </a:cubicBezTo>
                <a:cubicBezTo>
                  <a:pt x="3911" y="902"/>
                  <a:pt x="3944" y="831"/>
                  <a:pt x="3956" y="781"/>
                </a:cubicBezTo>
                <a:cubicBezTo>
                  <a:pt x="3968" y="731"/>
                  <a:pt x="3998" y="641"/>
                  <a:pt x="3986" y="667"/>
                </a:cubicBezTo>
                <a:cubicBezTo>
                  <a:pt x="3974" y="693"/>
                  <a:pt x="3895" y="855"/>
                  <a:pt x="3881" y="940"/>
                </a:cubicBezTo>
                <a:cubicBezTo>
                  <a:pt x="3867" y="1025"/>
                  <a:pt x="3910" y="1095"/>
                  <a:pt x="3899" y="1180"/>
                </a:cubicBezTo>
                <a:cubicBezTo>
                  <a:pt x="3888" y="1265"/>
                  <a:pt x="3829" y="1363"/>
                  <a:pt x="3815" y="1450"/>
                </a:cubicBezTo>
                <a:cubicBezTo>
                  <a:pt x="3801" y="1537"/>
                  <a:pt x="3834" y="1641"/>
                  <a:pt x="3815" y="1702"/>
                </a:cubicBezTo>
                <a:cubicBezTo>
                  <a:pt x="3796" y="1763"/>
                  <a:pt x="3730" y="1754"/>
                  <a:pt x="3701" y="1816"/>
                </a:cubicBezTo>
                <a:cubicBezTo>
                  <a:pt x="3672" y="1878"/>
                  <a:pt x="3656" y="2012"/>
                  <a:pt x="3641" y="2074"/>
                </a:cubicBezTo>
                <a:cubicBezTo>
                  <a:pt x="3626" y="2136"/>
                  <a:pt x="3631" y="2162"/>
                  <a:pt x="3611" y="2188"/>
                </a:cubicBezTo>
                <a:cubicBezTo>
                  <a:pt x="3591" y="2214"/>
                  <a:pt x="3553" y="2253"/>
                  <a:pt x="3521" y="2230"/>
                </a:cubicBezTo>
                <a:cubicBezTo>
                  <a:pt x="3489" y="2207"/>
                  <a:pt x="3439" y="2117"/>
                  <a:pt x="3419" y="2050"/>
                </a:cubicBezTo>
                <a:cubicBezTo>
                  <a:pt x="3399" y="1983"/>
                  <a:pt x="3412" y="1927"/>
                  <a:pt x="3401" y="1828"/>
                </a:cubicBezTo>
                <a:cubicBezTo>
                  <a:pt x="3390" y="1729"/>
                  <a:pt x="3353" y="1554"/>
                  <a:pt x="3353" y="1456"/>
                </a:cubicBezTo>
                <a:cubicBezTo>
                  <a:pt x="3353" y="1358"/>
                  <a:pt x="3393" y="1295"/>
                  <a:pt x="3401" y="1240"/>
                </a:cubicBezTo>
                <a:cubicBezTo>
                  <a:pt x="3409" y="1185"/>
                  <a:pt x="3402" y="1158"/>
                  <a:pt x="3404" y="1123"/>
                </a:cubicBezTo>
                <a:cubicBezTo>
                  <a:pt x="3406" y="1088"/>
                  <a:pt x="3416" y="1011"/>
                  <a:pt x="3413" y="1030"/>
                </a:cubicBezTo>
                <a:cubicBezTo>
                  <a:pt x="3410" y="1049"/>
                  <a:pt x="3401" y="1167"/>
                  <a:pt x="3383" y="1240"/>
                </a:cubicBezTo>
                <a:cubicBezTo>
                  <a:pt x="3365" y="1313"/>
                  <a:pt x="3310" y="1368"/>
                  <a:pt x="3305" y="1468"/>
                </a:cubicBezTo>
                <a:cubicBezTo>
                  <a:pt x="3300" y="1568"/>
                  <a:pt x="3342" y="1733"/>
                  <a:pt x="3353" y="1840"/>
                </a:cubicBezTo>
                <a:cubicBezTo>
                  <a:pt x="3364" y="1947"/>
                  <a:pt x="3360" y="2026"/>
                  <a:pt x="3371" y="2110"/>
                </a:cubicBezTo>
                <a:cubicBezTo>
                  <a:pt x="3382" y="2194"/>
                  <a:pt x="3454" y="2283"/>
                  <a:pt x="3419" y="2344"/>
                </a:cubicBezTo>
                <a:cubicBezTo>
                  <a:pt x="3384" y="2405"/>
                  <a:pt x="3257" y="2467"/>
                  <a:pt x="3161" y="2476"/>
                </a:cubicBezTo>
                <a:cubicBezTo>
                  <a:pt x="3065" y="2485"/>
                  <a:pt x="2925" y="2435"/>
                  <a:pt x="2843" y="2398"/>
                </a:cubicBezTo>
                <a:cubicBezTo>
                  <a:pt x="2761" y="2361"/>
                  <a:pt x="2729" y="2278"/>
                  <a:pt x="2669" y="2254"/>
                </a:cubicBezTo>
                <a:cubicBezTo>
                  <a:pt x="2609" y="2230"/>
                  <a:pt x="2535" y="2229"/>
                  <a:pt x="2483" y="2254"/>
                </a:cubicBezTo>
                <a:cubicBezTo>
                  <a:pt x="2431" y="2279"/>
                  <a:pt x="2395" y="2410"/>
                  <a:pt x="2357" y="2404"/>
                </a:cubicBezTo>
                <a:cubicBezTo>
                  <a:pt x="2319" y="2398"/>
                  <a:pt x="2268" y="2293"/>
                  <a:pt x="2252" y="2215"/>
                </a:cubicBezTo>
                <a:cubicBezTo>
                  <a:pt x="2236" y="2137"/>
                  <a:pt x="2228" y="2025"/>
                  <a:pt x="2258" y="1933"/>
                </a:cubicBezTo>
                <a:cubicBezTo>
                  <a:pt x="2288" y="1841"/>
                  <a:pt x="2387" y="1737"/>
                  <a:pt x="2432" y="1663"/>
                </a:cubicBezTo>
                <a:cubicBezTo>
                  <a:pt x="2477" y="1589"/>
                  <a:pt x="2502" y="1562"/>
                  <a:pt x="2528" y="1489"/>
                </a:cubicBezTo>
                <a:cubicBezTo>
                  <a:pt x="2554" y="1416"/>
                  <a:pt x="2578" y="1305"/>
                  <a:pt x="2588" y="1225"/>
                </a:cubicBezTo>
                <a:cubicBezTo>
                  <a:pt x="2598" y="1145"/>
                  <a:pt x="2569" y="1067"/>
                  <a:pt x="2588" y="1009"/>
                </a:cubicBezTo>
                <a:cubicBezTo>
                  <a:pt x="2607" y="951"/>
                  <a:pt x="2701" y="934"/>
                  <a:pt x="2702" y="877"/>
                </a:cubicBezTo>
                <a:cubicBezTo>
                  <a:pt x="2703" y="820"/>
                  <a:pt x="2587" y="735"/>
                  <a:pt x="2594" y="667"/>
                </a:cubicBezTo>
                <a:close/>
              </a:path>
            </a:pathLst>
          </a:custGeom>
          <a:gradFill rotWithShape="0">
            <a:gsLst>
              <a:gs pos="0">
                <a:srgbClr val="6633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37" name=""/>
          <p:cNvGrpSpPr/>
          <p:nvPr/>
        </p:nvGrpSpPr>
        <p:grpSpPr>
          <a:xfrm>
            <a:off x="4642920" y="5157720"/>
            <a:ext cx="96840" cy="900360"/>
            <a:chOff x="4642920" y="5157720"/>
            <a:chExt cx="96840" cy="900360"/>
          </a:xfrm>
        </p:grpSpPr>
        <p:sp>
          <p:nvSpPr>
            <p:cNvPr id="17138" name=""/>
            <p:cNvSpPr/>
            <p:nvPr/>
          </p:nvSpPr>
          <p:spPr>
            <a:xfrm flipH="1">
              <a:off x="4642560" y="5157720"/>
              <a:ext cx="96840" cy="9003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9" name=""/>
            <p:cNvSpPr/>
            <p:nvPr/>
          </p:nvSpPr>
          <p:spPr>
            <a:xfrm flipH="1">
              <a:off x="4656960" y="5187960"/>
              <a:ext cx="75240" cy="8035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40" name=""/>
          <p:cNvGrpSpPr/>
          <p:nvPr/>
        </p:nvGrpSpPr>
        <p:grpSpPr>
          <a:xfrm>
            <a:off x="4501800" y="4649760"/>
            <a:ext cx="96840" cy="900000"/>
            <a:chOff x="4501800" y="4649760"/>
            <a:chExt cx="96840" cy="900000"/>
          </a:xfrm>
        </p:grpSpPr>
        <p:sp>
          <p:nvSpPr>
            <p:cNvPr id="17141" name=""/>
            <p:cNvSpPr/>
            <p:nvPr/>
          </p:nvSpPr>
          <p:spPr>
            <a:xfrm flipH="1">
              <a:off x="4501440" y="46497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2" name=""/>
            <p:cNvSpPr/>
            <p:nvPr/>
          </p:nvSpPr>
          <p:spPr>
            <a:xfrm flipH="1">
              <a:off x="4515840" y="468000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43" name=""/>
          <p:cNvGrpSpPr/>
          <p:nvPr/>
        </p:nvGrpSpPr>
        <p:grpSpPr>
          <a:xfrm>
            <a:off x="4502160" y="5299200"/>
            <a:ext cx="71280" cy="900000"/>
            <a:chOff x="4502160" y="5299200"/>
            <a:chExt cx="71280" cy="900000"/>
          </a:xfrm>
        </p:grpSpPr>
        <p:sp>
          <p:nvSpPr>
            <p:cNvPr id="17144" name=""/>
            <p:cNvSpPr/>
            <p:nvPr/>
          </p:nvSpPr>
          <p:spPr>
            <a:xfrm>
              <a:off x="4502160" y="5299200"/>
              <a:ext cx="7128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5" name=""/>
            <p:cNvSpPr/>
            <p:nvPr/>
          </p:nvSpPr>
          <p:spPr>
            <a:xfrm>
              <a:off x="4507200" y="5329440"/>
              <a:ext cx="554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46" name=""/>
          <p:cNvGrpSpPr/>
          <p:nvPr/>
        </p:nvGrpSpPr>
        <p:grpSpPr>
          <a:xfrm>
            <a:off x="4211640" y="5229360"/>
            <a:ext cx="71280" cy="612720"/>
            <a:chOff x="4211640" y="5229360"/>
            <a:chExt cx="71280" cy="612720"/>
          </a:xfrm>
        </p:grpSpPr>
        <p:sp>
          <p:nvSpPr>
            <p:cNvPr id="17147" name=""/>
            <p:cNvSpPr/>
            <p:nvPr/>
          </p:nvSpPr>
          <p:spPr>
            <a:xfrm>
              <a:off x="4211640" y="5229360"/>
              <a:ext cx="7128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8" name=""/>
            <p:cNvSpPr/>
            <p:nvPr/>
          </p:nvSpPr>
          <p:spPr>
            <a:xfrm>
              <a:off x="4216680" y="5249880"/>
              <a:ext cx="5544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49" name=""/>
          <p:cNvGrpSpPr/>
          <p:nvPr/>
        </p:nvGrpSpPr>
        <p:grpSpPr>
          <a:xfrm>
            <a:off x="4392720" y="5299200"/>
            <a:ext cx="69840" cy="714240"/>
            <a:chOff x="4392720" y="5299200"/>
            <a:chExt cx="69840" cy="714240"/>
          </a:xfrm>
        </p:grpSpPr>
        <p:sp>
          <p:nvSpPr>
            <p:cNvPr id="17150" name=""/>
            <p:cNvSpPr/>
            <p:nvPr/>
          </p:nvSpPr>
          <p:spPr>
            <a:xfrm>
              <a:off x="4392720" y="5299200"/>
              <a:ext cx="69840" cy="71424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1" name=""/>
            <p:cNvSpPr/>
            <p:nvPr/>
          </p:nvSpPr>
          <p:spPr>
            <a:xfrm>
              <a:off x="4397760" y="5322960"/>
              <a:ext cx="54360" cy="6375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2" name=""/>
          <p:cNvGrpSpPr/>
          <p:nvPr/>
        </p:nvGrpSpPr>
        <p:grpSpPr>
          <a:xfrm>
            <a:off x="4618080" y="4573440"/>
            <a:ext cx="195120" cy="411120"/>
            <a:chOff x="4618080" y="4573440"/>
            <a:chExt cx="195120" cy="411120"/>
          </a:xfrm>
        </p:grpSpPr>
        <p:sp>
          <p:nvSpPr>
            <p:cNvPr id="17153" name=""/>
            <p:cNvSpPr/>
            <p:nvPr/>
          </p:nvSpPr>
          <p:spPr>
            <a:xfrm rot="21149400">
              <a:off x="4643280" y="4581360"/>
              <a:ext cx="14472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4" name=""/>
            <p:cNvSpPr/>
            <p:nvPr/>
          </p:nvSpPr>
          <p:spPr>
            <a:xfrm rot="21149400">
              <a:off x="4652640" y="4595040"/>
              <a:ext cx="11232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5" name=""/>
          <p:cNvGrpSpPr/>
          <p:nvPr/>
        </p:nvGrpSpPr>
        <p:grpSpPr>
          <a:xfrm>
            <a:off x="3995280" y="5984280"/>
            <a:ext cx="399960" cy="357840"/>
            <a:chOff x="3995280" y="5984280"/>
            <a:chExt cx="399960" cy="357840"/>
          </a:xfrm>
        </p:grpSpPr>
        <p:sp>
          <p:nvSpPr>
            <p:cNvPr id="17156" name=""/>
            <p:cNvSpPr/>
            <p:nvPr/>
          </p:nvSpPr>
          <p:spPr>
            <a:xfrm rot="3108000">
              <a:off x="4123080" y="5965560"/>
              <a:ext cx="14436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7" name=""/>
            <p:cNvSpPr/>
            <p:nvPr/>
          </p:nvSpPr>
          <p:spPr>
            <a:xfrm rot="3108000">
              <a:off x="4141800" y="5977080"/>
              <a:ext cx="11196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58" name=""/>
          <p:cNvGrpSpPr/>
          <p:nvPr/>
        </p:nvGrpSpPr>
        <p:grpSpPr>
          <a:xfrm>
            <a:off x="4239000" y="6129360"/>
            <a:ext cx="274680" cy="280440"/>
            <a:chOff x="4239000" y="6129360"/>
            <a:chExt cx="274680" cy="280440"/>
          </a:xfrm>
        </p:grpSpPr>
        <p:sp>
          <p:nvSpPr>
            <p:cNvPr id="17159" name=""/>
            <p:cNvSpPr/>
            <p:nvPr/>
          </p:nvSpPr>
          <p:spPr>
            <a:xfrm flipH="1" flipV="1" rot="3108000">
              <a:off x="4268520" y="6178320"/>
              <a:ext cx="214200" cy="181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0" name=""/>
            <p:cNvSpPr/>
            <p:nvPr/>
          </p:nvSpPr>
          <p:spPr>
            <a:xfrm flipH="1" flipV="1" rot="3108000">
              <a:off x="4294800" y="6196680"/>
              <a:ext cx="166320" cy="1616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61" name=""/>
          <p:cNvGrpSpPr/>
          <p:nvPr/>
        </p:nvGrpSpPr>
        <p:grpSpPr>
          <a:xfrm>
            <a:off x="4604040" y="6098760"/>
            <a:ext cx="333000" cy="440640"/>
            <a:chOff x="4604040" y="6098760"/>
            <a:chExt cx="333000" cy="440640"/>
          </a:xfrm>
        </p:grpSpPr>
        <p:sp>
          <p:nvSpPr>
            <p:cNvPr id="17162" name=""/>
            <p:cNvSpPr/>
            <p:nvPr/>
          </p:nvSpPr>
          <p:spPr>
            <a:xfrm flipH="1" flipV="1" rot="19648200">
              <a:off x="4717800" y="6091200"/>
              <a:ext cx="104400" cy="45576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3" name=""/>
            <p:cNvSpPr/>
            <p:nvPr/>
          </p:nvSpPr>
          <p:spPr>
            <a:xfrm flipH="1" flipV="1" rot="19648200">
              <a:off x="4737240" y="6121800"/>
              <a:ext cx="81720" cy="406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64" name=""/>
          <p:cNvGrpSpPr/>
          <p:nvPr/>
        </p:nvGrpSpPr>
        <p:grpSpPr>
          <a:xfrm>
            <a:off x="4213080" y="4433760"/>
            <a:ext cx="71640" cy="613080"/>
            <a:chOff x="4213080" y="4433760"/>
            <a:chExt cx="71640" cy="613080"/>
          </a:xfrm>
        </p:grpSpPr>
        <p:sp>
          <p:nvSpPr>
            <p:cNvPr id="17165" name=""/>
            <p:cNvSpPr/>
            <p:nvPr/>
          </p:nvSpPr>
          <p:spPr>
            <a:xfrm>
              <a:off x="4213080" y="4433760"/>
              <a:ext cx="71640" cy="6130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6" name=""/>
            <p:cNvSpPr/>
            <p:nvPr/>
          </p:nvSpPr>
          <p:spPr>
            <a:xfrm>
              <a:off x="4218120" y="4454280"/>
              <a:ext cx="55800" cy="5472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67" name=""/>
          <p:cNvGrpSpPr/>
          <p:nvPr/>
        </p:nvGrpSpPr>
        <p:grpSpPr>
          <a:xfrm>
            <a:off x="4119840" y="4005000"/>
            <a:ext cx="279000" cy="900720"/>
            <a:chOff x="4119840" y="4005000"/>
            <a:chExt cx="279000" cy="900720"/>
          </a:xfrm>
        </p:grpSpPr>
        <p:sp>
          <p:nvSpPr>
            <p:cNvPr id="17168" name=""/>
            <p:cNvSpPr/>
            <p:nvPr/>
          </p:nvSpPr>
          <p:spPr>
            <a:xfrm flipH="1" rot="20887200">
              <a:off x="4210560" y="40053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9" name=""/>
            <p:cNvSpPr/>
            <p:nvPr/>
          </p:nvSpPr>
          <p:spPr>
            <a:xfrm flipH="1" rot="20887200">
              <a:off x="4221000" y="403524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70" name=""/>
          <p:cNvGrpSpPr/>
          <p:nvPr/>
        </p:nvGrpSpPr>
        <p:grpSpPr>
          <a:xfrm>
            <a:off x="3419640" y="5758920"/>
            <a:ext cx="1415160" cy="856080"/>
            <a:chOff x="3419640" y="5758920"/>
            <a:chExt cx="1415160" cy="856080"/>
          </a:xfrm>
        </p:grpSpPr>
        <p:grpSp>
          <p:nvGrpSpPr>
            <p:cNvPr id="17171" name=""/>
            <p:cNvGrpSpPr/>
            <p:nvPr/>
          </p:nvGrpSpPr>
          <p:grpSpPr>
            <a:xfrm>
              <a:off x="3419640" y="5804640"/>
              <a:ext cx="655920" cy="798120"/>
              <a:chOff x="3419640" y="5804640"/>
              <a:chExt cx="655920" cy="798120"/>
            </a:xfrm>
          </p:grpSpPr>
          <p:sp>
            <p:nvSpPr>
              <p:cNvPr id="17172" name=""/>
              <p:cNvSpPr/>
              <p:nvPr/>
            </p:nvSpPr>
            <p:spPr>
              <a:xfrm>
                <a:off x="3419640" y="58341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3" name=""/>
              <p:cNvSpPr/>
              <p:nvPr/>
            </p:nvSpPr>
            <p:spPr>
              <a:xfrm rot="633600">
                <a:off x="3488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4" name=""/>
              <p:cNvSpPr/>
              <p:nvPr/>
            </p:nvSpPr>
            <p:spPr>
              <a:xfrm>
                <a:off x="3434400" y="580536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5" name=""/>
              <p:cNvSpPr/>
              <p:nvPr/>
            </p:nvSpPr>
            <p:spPr>
              <a:xfrm rot="1781400">
                <a:off x="3623400" y="58608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6" name=""/>
              <p:cNvSpPr/>
              <p:nvPr/>
            </p:nvSpPr>
            <p:spPr>
              <a:xfrm rot="888000">
                <a:off x="354240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7" name=""/>
              <p:cNvSpPr/>
              <p:nvPr/>
            </p:nvSpPr>
            <p:spPr>
              <a:xfrm rot="1454400">
                <a:off x="3569040" y="58334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78" name=""/>
            <p:cNvGrpSpPr/>
            <p:nvPr/>
          </p:nvGrpSpPr>
          <p:grpSpPr>
            <a:xfrm>
              <a:off x="3524760" y="5804640"/>
              <a:ext cx="665640" cy="810360"/>
              <a:chOff x="3524760" y="5804640"/>
              <a:chExt cx="665640" cy="810360"/>
            </a:xfrm>
          </p:grpSpPr>
          <p:sp>
            <p:nvSpPr>
              <p:cNvPr id="17179" name=""/>
              <p:cNvSpPr/>
              <p:nvPr/>
            </p:nvSpPr>
            <p:spPr>
              <a:xfrm rot="20350200">
                <a:off x="3642120" y="5870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0" name=""/>
              <p:cNvSpPr/>
              <p:nvPr/>
            </p:nvSpPr>
            <p:spPr>
              <a:xfrm rot="20984400">
                <a:off x="370620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1" name=""/>
              <p:cNvSpPr/>
              <p:nvPr/>
            </p:nvSpPr>
            <p:spPr>
              <a:xfrm rot="20350200">
                <a:off x="3645720" y="5837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2" name=""/>
              <p:cNvSpPr/>
              <p:nvPr/>
            </p:nvSpPr>
            <p:spPr>
              <a:xfrm rot="531600">
                <a:off x="3842640" y="58230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3" name=""/>
              <p:cNvSpPr/>
              <p:nvPr/>
            </p:nvSpPr>
            <p:spPr>
              <a:xfrm rot="21238800">
                <a:off x="3756960" y="5825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4" name=""/>
              <p:cNvSpPr/>
              <p:nvPr/>
            </p:nvSpPr>
            <p:spPr>
              <a:xfrm rot="204600">
                <a:off x="378180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85" name=""/>
            <p:cNvGrpSpPr/>
            <p:nvPr/>
          </p:nvGrpSpPr>
          <p:grpSpPr>
            <a:xfrm>
              <a:off x="3778200" y="5804640"/>
              <a:ext cx="656640" cy="798120"/>
              <a:chOff x="3778200" y="5804640"/>
              <a:chExt cx="656640" cy="798120"/>
            </a:xfrm>
          </p:grpSpPr>
          <p:sp>
            <p:nvSpPr>
              <p:cNvPr id="17186" name=""/>
              <p:cNvSpPr/>
              <p:nvPr/>
            </p:nvSpPr>
            <p:spPr>
              <a:xfrm>
                <a:off x="3778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7" name=""/>
              <p:cNvSpPr/>
              <p:nvPr/>
            </p:nvSpPr>
            <p:spPr>
              <a:xfrm rot="633600">
                <a:off x="3846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8" name=""/>
              <p:cNvSpPr/>
              <p:nvPr/>
            </p:nvSpPr>
            <p:spPr>
              <a:xfrm>
                <a:off x="3792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9" name=""/>
              <p:cNvSpPr/>
              <p:nvPr/>
            </p:nvSpPr>
            <p:spPr>
              <a:xfrm rot="1781400">
                <a:off x="3981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0" name=""/>
              <p:cNvSpPr/>
              <p:nvPr/>
            </p:nvSpPr>
            <p:spPr>
              <a:xfrm rot="888000">
                <a:off x="3900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1" name=""/>
              <p:cNvSpPr/>
              <p:nvPr/>
            </p:nvSpPr>
            <p:spPr>
              <a:xfrm rot="1454400">
                <a:off x="3927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92" name=""/>
            <p:cNvGrpSpPr/>
            <p:nvPr/>
          </p:nvGrpSpPr>
          <p:grpSpPr>
            <a:xfrm>
              <a:off x="3778200" y="6064200"/>
              <a:ext cx="573840" cy="487440"/>
              <a:chOff x="3778200" y="6064200"/>
              <a:chExt cx="573840" cy="487440"/>
            </a:xfrm>
          </p:grpSpPr>
          <p:sp>
            <p:nvSpPr>
              <p:cNvPr id="17193" name=""/>
              <p:cNvSpPr/>
              <p:nvPr/>
            </p:nvSpPr>
            <p:spPr>
              <a:xfrm>
                <a:off x="3778200" y="61081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4" name=""/>
              <p:cNvSpPr/>
              <p:nvPr/>
            </p:nvSpPr>
            <p:spPr>
              <a:xfrm rot="633600">
                <a:off x="384660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5" name=""/>
              <p:cNvSpPr/>
              <p:nvPr/>
            </p:nvSpPr>
            <p:spPr>
              <a:xfrm>
                <a:off x="3792960" y="60930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6" name=""/>
              <p:cNvSpPr/>
              <p:nvPr/>
            </p:nvSpPr>
            <p:spPr>
              <a:xfrm rot="1781400">
                <a:off x="3982320" y="612252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7" name=""/>
              <p:cNvSpPr/>
              <p:nvPr/>
            </p:nvSpPr>
            <p:spPr>
              <a:xfrm rot="888000">
                <a:off x="3901320" y="61074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8" name=""/>
              <p:cNvSpPr/>
              <p:nvPr/>
            </p:nvSpPr>
            <p:spPr>
              <a:xfrm rot="1454400">
                <a:off x="3927960" y="610776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99" name=""/>
            <p:cNvGrpSpPr/>
            <p:nvPr/>
          </p:nvGrpSpPr>
          <p:grpSpPr>
            <a:xfrm>
              <a:off x="4056840" y="5758920"/>
              <a:ext cx="777960" cy="844200"/>
              <a:chOff x="4056840" y="5758920"/>
              <a:chExt cx="777960" cy="844200"/>
            </a:xfrm>
          </p:grpSpPr>
          <p:sp>
            <p:nvSpPr>
              <p:cNvPr id="17200" name=""/>
              <p:cNvSpPr/>
              <p:nvPr/>
            </p:nvSpPr>
            <p:spPr>
              <a:xfrm rot="869400">
                <a:off x="4141440" y="5808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1" name=""/>
              <p:cNvSpPr/>
              <p:nvPr/>
            </p:nvSpPr>
            <p:spPr>
              <a:xfrm rot="1503000">
                <a:off x="4208040" y="5824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2" name=""/>
              <p:cNvSpPr/>
              <p:nvPr/>
            </p:nvSpPr>
            <p:spPr>
              <a:xfrm rot="869400">
                <a:off x="4163040" y="57841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3" name=""/>
              <p:cNvSpPr/>
              <p:nvPr/>
            </p:nvSpPr>
            <p:spPr>
              <a:xfrm rot="2651400">
                <a:off x="4332240" y="58856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4" name=""/>
              <p:cNvSpPr/>
              <p:nvPr/>
            </p:nvSpPr>
            <p:spPr>
              <a:xfrm rot="1757400">
                <a:off x="4260600" y="5838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5" name=""/>
              <p:cNvSpPr/>
              <p:nvPr/>
            </p:nvSpPr>
            <p:spPr>
              <a:xfrm rot="2323800">
                <a:off x="4286520" y="5845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06" name=""/>
            <p:cNvGrpSpPr/>
            <p:nvPr/>
          </p:nvGrpSpPr>
          <p:grpSpPr>
            <a:xfrm>
              <a:off x="3848760" y="6013080"/>
              <a:ext cx="545040" cy="600840"/>
              <a:chOff x="3848760" y="6013080"/>
              <a:chExt cx="545040" cy="600840"/>
            </a:xfrm>
          </p:grpSpPr>
          <p:sp>
            <p:nvSpPr>
              <p:cNvPr id="17207" name=""/>
              <p:cNvSpPr/>
              <p:nvPr/>
            </p:nvSpPr>
            <p:spPr>
              <a:xfrm rot="20417400">
                <a:off x="3927960" y="607140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8" name=""/>
              <p:cNvSpPr/>
              <p:nvPr/>
            </p:nvSpPr>
            <p:spPr>
              <a:xfrm rot="21051600">
                <a:off x="398340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9" name=""/>
              <p:cNvSpPr/>
              <p:nvPr/>
            </p:nvSpPr>
            <p:spPr>
              <a:xfrm rot="20417400">
                <a:off x="3933000" y="60476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0" name=""/>
              <p:cNvSpPr/>
              <p:nvPr/>
            </p:nvSpPr>
            <p:spPr>
              <a:xfrm rot="598800">
                <a:off x="4098960" y="60307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1" name=""/>
              <p:cNvSpPr/>
              <p:nvPr/>
            </p:nvSpPr>
            <p:spPr>
              <a:xfrm rot="21306000">
                <a:off x="4027320" y="603504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2" name=""/>
              <p:cNvSpPr/>
              <p:nvPr/>
            </p:nvSpPr>
            <p:spPr>
              <a:xfrm rot="271800">
                <a:off x="4048560" y="6027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13" name=""/>
            <p:cNvGrpSpPr/>
            <p:nvPr/>
          </p:nvGrpSpPr>
          <p:grpSpPr>
            <a:xfrm>
              <a:off x="3994200" y="5804640"/>
              <a:ext cx="656640" cy="798120"/>
              <a:chOff x="3994200" y="5804640"/>
              <a:chExt cx="656640" cy="798120"/>
            </a:xfrm>
          </p:grpSpPr>
          <p:sp>
            <p:nvSpPr>
              <p:cNvPr id="17214" name=""/>
              <p:cNvSpPr/>
              <p:nvPr/>
            </p:nvSpPr>
            <p:spPr>
              <a:xfrm>
                <a:off x="3994200" y="5834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5" name=""/>
              <p:cNvSpPr/>
              <p:nvPr/>
            </p:nvSpPr>
            <p:spPr>
              <a:xfrm rot="633600">
                <a:off x="4062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6" name=""/>
              <p:cNvSpPr/>
              <p:nvPr/>
            </p:nvSpPr>
            <p:spPr>
              <a:xfrm>
                <a:off x="4008960" y="58053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7" name=""/>
              <p:cNvSpPr/>
              <p:nvPr/>
            </p:nvSpPr>
            <p:spPr>
              <a:xfrm rot="1781400">
                <a:off x="4197960" y="5861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8" name=""/>
              <p:cNvSpPr/>
              <p:nvPr/>
            </p:nvSpPr>
            <p:spPr>
              <a:xfrm rot="888000">
                <a:off x="411696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9" name=""/>
              <p:cNvSpPr/>
              <p:nvPr/>
            </p:nvSpPr>
            <p:spPr>
              <a:xfrm rot="1454400">
                <a:off x="4143600" y="5833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20" name=""/>
          <p:cNvGrpSpPr/>
          <p:nvPr/>
        </p:nvGrpSpPr>
        <p:grpSpPr>
          <a:xfrm>
            <a:off x="4300920" y="5704560"/>
            <a:ext cx="1474920" cy="947160"/>
            <a:chOff x="4300920" y="5704560"/>
            <a:chExt cx="1474920" cy="947160"/>
          </a:xfrm>
        </p:grpSpPr>
        <p:grpSp>
          <p:nvGrpSpPr>
            <p:cNvPr id="17221" name=""/>
            <p:cNvGrpSpPr/>
            <p:nvPr/>
          </p:nvGrpSpPr>
          <p:grpSpPr>
            <a:xfrm>
              <a:off x="4300920" y="5704560"/>
              <a:ext cx="748080" cy="835920"/>
              <a:chOff x="4300920" y="5704560"/>
              <a:chExt cx="748080" cy="835920"/>
            </a:xfrm>
          </p:grpSpPr>
          <p:sp>
            <p:nvSpPr>
              <p:cNvPr id="17222" name=""/>
              <p:cNvSpPr/>
              <p:nvPr/>
            </p:nvSpPr>
            <p:spPr>
              <a:xfrm rot="623400">
                <a:off x="4363200" y="57506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3" name=""/>
              <p:cNvSpPr/>
              <p:nvPr/>
            </p:nvSpPr>
            <p:spPr>
              <a:xfrm rot="1257600">
                <a:off x="4430880" y="576252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4" name=""/>
              <p:cNvSpPr/>
              <p:nvPr/>
            </p:nvSpPr>
            <p:spPr>
              <a:xfrm rot="623400">
                <a:off x="4383000" y="57250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5" name=""/>
              <p:cNvSpPr/>
              <p:nvPr/>
            </p:nvSpPr>
            <p:spPr>
              <a:xfrm rot="2404800">
                <a:off x="4559040" y="581400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6" name=""/>
              <p:cNvSpPr/>
              <p:nvPr/>
            </p:nvSpPr>
            <p:spPr>
              <a:xfrm rot="1512000">
                <a:off x="4484520" y="577224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7" name=""/>
              <p:cNvSpPr/>
              <p:nvPr/>
            </p:nvSpPr>
            <p:spPr>
              <a:xfrm rot="2077800">
                <a:off x="4510440" y="5777280"/>
                <a:ext cx="29412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28" name=""/>
            <p:cNvGrpSpPr/>
            <p:nvPr/>
          </p:nvGrpSpPr>
          <p:grpSpPr>
            <a:xfrm>
              <a:off x="4513680" y="5774040"/>
              <a:ext cx="671760" cy="789120"/>
              <a:chOff x="4513680" y="5774040"/>
              <a:chExt cx="671760" cy="789120"/>
            </a:xfrm>
          </p:grpSpPr>
          <p:sp>
            <p:nvSpPr>
              <p:cNvPr id="17229" name=""/>
              <p:cNvSpPr/>
              <p:nvPr/>
            </p:nvSpPr>
            <p:spPr>
              <a:xfrm rot="20974200">
                <a:off x="4575960" y="5826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0" name=""/>
              <p:cNvSpPr/>
              <p:nvPr/>
            </p:nvSpPr>
            <p:spPr>
              <a:xfrm rot="7200">
                <a:off x="4643280" y="5813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1" name=""/>
              <p:cNvSpPr/>
              <p:nvPr/>
            </p:nvSpPr>
            <p:spPr>
              <a:xfrm rot="20974200">
                <a:off x="4585320" y="5795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2" name=""/>
              <p:cNvSpPr/>
              <p:nvPr/>
            </p:nvSpPr>
            <p:spPr>
              <a:xfrm rot="1155000">
                <a:off x="4781160" y="58161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3" name=""/>
              <p:cNvSpPr/>
              <p:nvPr/>
            </p:nvSpPr>
            <p:spPr>
              <a:xfrm rot="261600">
                <a:off x="4696560" y="58035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4" name=""/>
              <p:cNvSpPr/>
              <p:nvPr/>
            </p:nvSpPr>
            <p:spPr>
              <a:xfrm rot="828000">
                <a:off x="4722840" y="57985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35" name=""/>
            <p:cNvGrpSpPr/>
            <p:nvPr/>
          </p:nvGrpSpPr>
          <p:grpSpPr>
            <a:xfrm>
              <a:off x="4653720" y="5769360"/>
              <a:ext cx="748440" cy="836280"/>
              <a:chOff x="4653720" y="5769360"/>
              <a:chExt cx="748440" cy="836280"/>
            </a:xfrm>
          </p:grpSpPr>
          <p:sp>
            <p:nvSpPr>
              <p:cNvPr id="17236" name=""/>
              <p:cNvSpPr/>
              <p:nvPr/>
            </p:nvSpPr>
            <p:spPr>
              <a:xfrm rot="623400">
                <a:off x="4716000" y="58154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7" name=""/>
              <p:cNvSpPr/>
              <p:nvPr/>
            </p:nvSpPr>
            <p:spPr>
              <a:xfrm rot="1257600">
                <a:off x="4783680" y="5826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8" name=""/>
              <p:cNvSpPr/>
              <p:nvPr/>
            </p:nvSpPr>
            <p:spPr>
              <a:xfrm rot="623400">
                <a:off x="4735800" y="57898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9" name=""/>
              <p:cNvSpPr/>
              <p:nvPr/>
            </p:nvSpPr>
            <p:spPr>
              <a:xfrm rot="2404800">
                <a:off x="4911480" y="58788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0" name=""/>
              <p:cNvSpPr/>
              <p:nvPr/>
            </p:nvSpPr>
            <p:spPr>
              <a:xfrm rot="1512000">
                <a:off x="4836960" y="5837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1" name=""/>
              <p:cNvSpPr/>
              <p:nvPr/>
            </p:nvSpPr>
            <p:spPr>
              <a:xfrm rot="2077800">
                <a:off x="4863240" y="58417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42" name=""/>
            <p:cNvGrpSpPr/>
            <p:nvPr/>
          </p:nvGrpSpPr>
          <p:grpSpPr>
            <a:xfrm>
              <a:off x="4664880" y="6052320"/>
              <a:ext cx="612720" cy="517680"/>
              <a:chOff x="4664880" y="6052320"/>
              <a:chExt cx="612720" cy="517680"/>
            </a:xfrm>
          </p:grpSpPr>
          <p:sp>
            <p:nvSpPr>
              <p:cNvPr id="17243" name=""/>
              <p:cNvSpPr/>
              <p:nvPr/>
            </p:nvSpPr>
            <p:spPr>
              <a:xfrm rot="623400">
                <a:off x="4696560" y="608760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4" name=""/>
              <p:cNvSpPr/>
              <p:nvPr/>
            </p:nvSpPr>
            <p:spPr>
              <a:xfrm rot="1257600">
                <a:off x="4764240" y="60998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5" name=""/>
              <p:cNvSpPr/>
              <p:nvPr/>
            </p:nvSpPr>
            <p:spPr>
              <a:xfrm rot="623400">
                <a:off x="4713840" y="607572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6" name=""/>
              <p:cNvSpPr/>
              <p:nvPr/>
            </p:nvSpPr>
            <p:spPr>
              <a:xfrm rot="2404800">
                <a:off x="4894920" y="6138360"/>
                <a:ext cx="29448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7" name=""/>
              <p:cNvSpPr/>
              <p:nvPr/>
            </p:nvSpPr>
            <p:spPr>
              <a:xfrm rot="1512000">
                <a:off x="4817880" y="610920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8" name=""/>
              <p:cNvSpPr/>
              <p:nvPr/>
            </p:nvSpPr>
            <p:spPr>
              <a:xfrm rot="2077800">
                <a:off x="4844160" y="6114240"/>
                <a:ext cx="29448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49" name=""/>
            <p:cNvGrpSpPr/>
            <p:nvPr/>
          </p:nvGrpSpPr>
          <p:grpSpPr>
            <a:xfrm>
              <a:off x="4941360" y="5807160"/>
              <a:ext cx="834480" cy="844560"/>
              <a:chOff x="4941360" y="5807160"/>
              <a:chExt cx="834480" cy="844560"/>
            </a:xfrm>
          </p:grpSpPr>
          <p:sp>
            <p:nvSpPr>
              <p:cNvPr id="17250" name=""/>
              <p:cNvSpPr/>
              <p:nvPr/>
            </p:nvSpPr>
            <p:spPr>
              <a:xfrm rot="1492800">
                <a:off x="5077800" y="58554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1" name=""/>
              <p:cNvSpPr/>
              <p:nvPr/>
            </p:nvSpPr>
            <p:spPr>
              <a:xfrm rot="2126400">
                <a:off x="5140440" y="58838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2" name=""/>
              <p:cNvSpPr/>
              <p:nvPr/>
            </p:nvSpPr>
            <p:spPr>
              <a:xfrm rot="1492800">
                <a:off x="5103360" y="58356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3" name=""/>
              <p:cNvSpPr/>
              <p:nvPr/>
            </p:nvSpPr>
            <p:spPr>
              <a:xfrm rot="3274800">
                <a:off x="5251680" y="59662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4" name=""/>
              <p:cNvSpPr/>
              <p:nvPr/>
            </p:nvSpPr>
            <p:spPr>
              <a:xfrm rot="2380800">
                <a:off x="5189760" y="59072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5" name=""/>
              <p:cNvSpPr/>
              <p:nvPr/>
            </p:nvSpPr>
            <p:spPr>
              <a:xfrm rot="2947200">
                <a:off x="5213880" y="591804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56" name=""/>
            <p:cNvGrpSpPr/>
            <p:nvPr/>
          </p:nvGrpSpPr>
          <p:grpSpPr>
            <a:xfrm>
              <a:off x="4799160" y="6028560"/>
              <a:ext cx="549360" cy="579240"/>
              <a:chOff x="4799160" y="6028560"/>
              <a:chExt cx="549360" cy="579240"/>
            </a:xfrm>
          </p:grpSpPr>
          <p:sp>
            <p:nvSpPr>
              <p:cNvPr id="17257" name=""/>
              <p:cNvSpPr/>
              <p:nvPr/>
            </p:nvSpPr>
            <p:spPr>
              <a:xfrm rot="21041400">
                <a:off x="4839120" y="607356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8" name=""/>
              <p:cNvSpPr/>
              <p:nvPr/>
            </p:nvSpPr>
            <p:spPr>
              <a:xfrm rot="74400">
                <a:off x="4897080" y="60634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9" name=""/>
              <p:cNvSpPr/>
              <p:nvPr/>
            </p:nvSpPr>
            <p:spPr>
              <a:xfrm rot="21041400">
                <a:off x="4848480" y="605088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0" name=""/>
              <p:cNvSpPr/>
              <p:nvPr/>
            </p:nvSpPr>
            <p:spPr>
              <a:xfrm rot="1222200">
                <a:off x="5014800" y="6064920"/>
                <a:ext cx="25200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1" name=""/>
              <p:cNvSpPr/>
              <p:nvPr/>
            </p:nvSpPr>
            <p:spPr>
              <a:xfrm rot="328800">
                <a:off x="4943160" y="605592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2" name=""/>
              <p:cNvSpPr/>
              <p:nvPr/>
            </p:nvSpPr>
            <p:spPr>
              <a:xfrm rot="895800">
                <a:off x="4965480" y="6051960"/>
                <a:ext cx="25200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63" name=""/>
            <p:cNvGrpSpPr/>
            <p:nvPr/>
          </p:nvGrpSpPr>
          <p:grpSpPr>
            <a:xfrm>
              <a:off x="4866120" y="5808240"/>
              <a:ext cx="748440" cy="836280"/>
              <a:chOff x="4866120" y="5808240"/>
              <a:chExt cx="748440" cy="836280"/>
            </a:xfrm>
          </p:grpSpPr>
          <p:sp>
            <p:nvSpPr>
              <p:cNvPr id="17264" name=""/>
              <p:cNvSpPr/>
              <p:nvPr/>
            </p:nvSpPr>
            <p:spPr>
              <a:xfrm rot="623400">
                <a:off x="4928400" y="58543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5" name=""/>
              <p:cNvSpPr/>
              <p:nvPr/>
            </p:nvSpPr>
            <p:spPr>
              <a:xfrm rot="1257600">
                <a:off x="4996080" y="586620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6" name=""/>
              <p:cNvSpPr/>
              <p:nvPr/>
            </p:nvSpPr>
            <p:spPr>
              <a:xfrm rot="623400">
                <a:off x="4948200" y="58287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7" name=""/>
              <p:cNvSpPr/>
              <p:nvPr/>
            </p:nvSpPr>
            <p:spPr>
              <a:xfrm rot="2404800">
                <a:off x="5123880" y="591768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8" name=""/>
              <p:cNvSpPr/>
              <p:nvPr/>
            </p:nvSpPr>
            <p:spPr>
              <a:xfrm rot="1512000">
                <a:off x="5049360" y="587592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9" name=""/>
              <p:cNvSpPr/>
              <p:nvPr/>
            </p:nvSpPr>
            <p:spPr>
              <a:xfrm rot="2077800">
                <a:off x="5075640" y="5880960"/>
                <a:ext cx="29448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70" name=""/>
          <p:cNvGrpSpPr/>
          <p:nvPr/>
        </p:nvGrpSpPr>
        <p:grpSpPr>
          <a:xfrm>
            <a:off x="2791440" y="6039360"/>
            <a:ext cx="1426680" cy="857520"/>
            <a:chOff x="2791440" y="6039360"/>
            <a:chExt cx="1426680" cy="857520"/>
          </a:xfrm>
        </p:grpSpPr>
        <p:grpSp>
          <p:nvGrpSpPr>
            <p:cNvPr id="17271" name=""/>
            <p:cNvGrpSpPr/>
            <p:nvPr/>
          </p:nvGrpSpPr>
          <p:grpSpPr>
            <a:xfrm>
              <a:off x="3556800" y="6085080"/>
              <a:ext cx="661320" cy="799560"/>
              <a:chOff x="3556800" y="6085080"/>
              <a:chExt cx="661320" cy="799560"/>
            </a:xfrm>
          </p:grpSpPr>
          <p:sp>
            <p:nvSpPr>
              <p:cNvPr id="17272" name=""/>
              <p:cNvSpPr/>
              <p:nvPr/>
            </p:nvSpPr>
            <p:spPr>
              <a:xfrm flipH="1">
                <a:off x="392076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3" name=""/>
              <p:cNvSpPr/>
              <p:nvPr/>
            </p:nvSpPr>
            <p:spPr>
              <a:xfrm flipH="1" rot="20966400">
                <a:off x="385128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4" name=""/>
              <p:cNvSpPr/>
              <p:nvPr/>
            </p:nvSpPr>
            <p:spPr>
              <a:xfrm flipH="1">
                <a:off x="390600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5" name=""/>
              <p:cNvSpPr/>
              <p:nvPr/>
            </p:nvSpPr>
            <p:spPr>
              <a:xfrm flipH="1" rot="19818600">
                <a:off x="371412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6" name=""/>
              <p:cNvSpPr/>
              <p:nvPr/>
            </p:nvSpPr>
            <p:spPr>
              <a:xfrm flipH="1" rot="20712000">
                <a:off x="3795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7" name=""/>
              <p:cNvSpPr/>
              <p:nvPr/>
            </p:nvSpPr>
            <p:spPr>
              <a:xfrm flipH="1" rot="20145600">
                <a:off x="376884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78" name=""/>
            <p:cNvGrpSpPr/>
            <p:nvPr/>
          </p:nvGrpSpPr>
          <p:grpSpPr>
            <a:xfrm>
              <a:off x="3440160" y="6085080"/>
              <a:ext cx="670680" cy="811800"/>
              <a:chOff x="3440160" y="6085080"/>
              <a:chExt cx="670680" cy="811800"/>
            </a:xfrm>
          </p:grpSpPr>
          <p:sp>
            <p:nvSpPr>
              <p:cNvPr id="17279" name=""/>
              <p:cNvSpPr/>
              <p:nvPr/>
            </p:nvSpPr>
            <p:spPr>
              <a:xfrm flipH="1" rot="1249800">
                <a:off x="3695400" y="6151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0" name=""/>
              <p:cNvSpPr/>
              <p:nvPr/>
            </p:nvSpPr>
            <p:spPr>
              <a:xfrm flipH="1" rot="615600">
                <a:off x="3630600" y="61261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1" name=""/>
              <p:cNvSpPr/>
              <p:nvPr/>
            </p:nvSpPr>
            <p:spPr>
              <a:xfrm flipH="1" rot="1249800">
                <a:off x="369180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2" name=""/>
              <p:cNvSpPr/>
              <p:nvPr/>
            </p:nvSpPr>
            <p:spPr>
              <a:xfrm flipH="1" rot="21068400">
                <a:off x="3493440" y="61034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3" name=""/>
              <p:cNvSpPr/>
              <p:nvPr/>
            </p:nvSpPr>
            <p:spPr>
              <a:xfrm flipH="1" rot="361200">
                <a:off x="3579120" y="6106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4" name=""/>
              <p:cNvSpPr/>
              <p:nvPr/>
            </p:nvSpPr>
            <p:spPr>
              <a:xfrm flipH="1" rot="21395400">
                <a:off x="3553920" y="609696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85" name=""/>
            <p:cNvGrpSpPr/>
            <p:nvPr/>
          </p:nvGrpSpPr>
          <p:grpSpPr>
            <a:xfrm>
              <a:off x="3194640" y="6085080"/>
              <a:ext cx="661320" cy="799560"/>
              <a:chOff x="3194640" y="6085080"/>
              <a:chExt cx="661320" cy="799560"/>
            </a:xfrm>
          </p:grpSpPr>
          <p:sp>
            <p:nvSpPr>
              <p:cNvPr id="17286" name=""/>
              <p:cNvSpPr/>
              <p:nvPr/>
            </p:nvSpPr>
            <p:spPr>
              <a:xfrm flipH="1">
                <a:off x="355860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7" name=""/>
              <p:cNvSpPr/>
              <p:nvPr/>
            </p:nvSpPr>
            <p:spPr>
              <a:xfrm flipH="1" rot="20966400">
                <a:off x="348912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8" name=""/>
              <p:cNvSpPr/>
              <p:nvPr/>
            </p:nvSpPr>
            <p:spPr>
              <a:xfrm flipH="1">
                <a:off x="354384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9" name=""/>
              <p:cNvSpPr/>
              <p:nvPr/>
            </p:nvSpPr>
            <p:spPr>
              <a:xfrm flipH="1" rot="19818600">
                <a:off x="335196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0" name=""/>
              <p:cNvSpPr/>
              <p:nvPr/>
            </p:nvSpPr>
            <p:spPr>
              <a:xfrm flipH="1" rot="20712000">
                <a:off x="3433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1" name=""/>
              <p:cNvSpPr/>
              <p:nvPr/>
            </p:nvSpPr>
            <p:spPr>
              <a:xfrm flipH="1" rot="20145600">
                <a:off x="340668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92" name=""/>
            <p:cNvGrpSpPr/>
            <p:nvPr/>
          </p:nvGrpSpPr>
          <p:grpSpPr>
            <a:xfrm>
              <a:off x="3277800" y="6344640"/>
              <a:ext cx="578160" cy="488880"/>
              <a:chOff x="3277800" y="6344640"/>
              <a:chExt cx="578160" cy="488880"/>
            </a:xfrm>
          </p:grpSpPr>
          <p:sp>
            <p:nvSpPr>
              <p:cNvPr id="17293" name=""/>
              <p:cNvSpPr/>
              <p:nvPr/>
            </p:nvSpPr>
            <p:spPr>
              <a:xfrm flipH="1">
                <a:off x="3558600" y="63892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4" name=""/>
              <p:cNvSpPr/>
              <p:nvPr/>
            </p:nvSpPr>
            <p:spPr>
              <a:xfrm flipH="1" rot="20966400">
                <a:off x="348912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5" name=""/>
              <p:cNvSpPr/>
              <p:nvPr/>
            </p:nvSpPr>
            <p:spPr>
              <a:xfrm flipH="1">
                <a:off x="3543840" y="63741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6" name=""/>
              <p:cNvSpPr/>
              <p:nvPr/>
            </p:nvSpPr>
            <p:spPr>
              <a:xfrm flipH="1" rot="19818600">
                <a:off x="3352320" y="6403680"/>
                <a:ext cx="297360" cy="381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7" name=""/>
              <p:cNvSpPr/>
              <p:nvPr/>
            </p:nvSpPr>
            <p:spPr>
              <a:xfrm flipH="1" rot="20712000">
                <a:off x="343368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8" name=""/>
              <p:cNvSpPr/>
              <p:nvPr/>
            </p:nvSpPr>
            <p:spPr>
              <a:xfrm flipH="1" rot="20145600">
                <a:off x="3407040" y="6388560"/>
                <a:ext cx="297360" cy="381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99" name=""/>
            <p:cNvGrpSpPr/>
            <p:nvPr/>
          </p:nvGrpSpPr>
          <p:grpSpPr>
            <a:xfrm>
              <a:off x="2791440" y="6039360"/>
              <a:ext cx="781920" cy="845640"/>
              <a:chOff x="2791440" y="6039360"/>
              <a:chExt cx="781920" cy="845640"/>
            </a:xfrm>
          </p:grpSpPr>
          <p:sp>
            <p:nvSpPr>
              <p:cNvPr id="17300" name=""/>
              <p:cNvSpPr/>
              <p:nvPr/>
            </p:nvSpPr>
            <p:spPr>
              <a:xfrm flipH="1" rot="20730600">
                <a:off x="3190320" y="608940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1" name=""/>
              <p:cNvSpPr/>
              <p:nvPr/>
            </p:nvSpPr>
            <p:spPr>
              <a:xfrm flipH="1" rot="20097000">
                <a:off x="3123720" y="610596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2" name=""/>
              <p:cNvSpPr/>
              <p:nvPr/>
            </p:nvSpPr>
            <p:spPr>
              <a:xfrm flipH="1" rot="20730600">
                <a:off x="3168720" y="606492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3" name=""/>
              <p:cNvSpPr/>
              <p:nvPr/>
            </p:nvSpPr>
            <p:spPr>
              <a:xfrm flipH="1" rot="18948600">
                <a:off x="2998800" y="6167160"/>
                <a:ext cx="297360" cy="7153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4" name=""/>
              <p:cNvSpPr/>
              <p:nvPr/>
            </p:nvSpPr>
            <p:spPr>
              <a:xfrm flipH="1" rot="19842600">
                <a:off x="3070440" y="61192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5" name=""/>
              <p:cNvSpPr/>
              <p:nvPr/>
            </p:nvSpPr>
            <p:spPr>
              <a:xfrm flipH="1" rot="19276200">
                <a:off x="3044160" y="612648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06" name=""/>
            <p:cNvGrpSpPr/>
            <p:nvPr/>
          </p:nvGrpSpPr>
          <p:grpSpPr>
            <a:xfrm>
              <a:off x="3234960" y="6293520"/>
              <a:ext cx="549000" cy="602280"/>
              <a:chOff x="3234960" y="6293520"/>
              <a:chExt cx="549000" cy="602280"/>
            </a:xfrm>
          </p:grpSpPr>
          <p:sp>
            <p:nvSpPr>
              <p:cNvPr id="17307" name=""/>
              <p:cNvSpPr/>
              <p:nvPr/>
            </p:nvSpPr>
            <p:spPr>
              <a:xfrm flipH="1" rot="1182600">
                <a:off x="3449880" y="63529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8" name=""/>
              <p:cNvSpPr/>
              <p:nvPr/>
            </p:nvSpPr>
            <p:spPr>
              <a:xfrm flipH="1" rot="548400">
                <a:off x="3393360" y="63320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9" name=""/>
              <p:cNvSpPr/>
              <p:nvPr/>
            </p:nvSpPr>
            <p:spPr>
              <a:xfrm flipH="1" rot="1182600">
                <a:off x="3444840" y="632916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0" name=""/>
              <p:cNvSpPr/>
              <p:nvPr/>
            </p:nvSpPr>
            <p:spPr>
              <a:xfrm flipH="1" rot="21001200">
                <a:off x="3277440" y="631152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1" name=""/>
              <p:cNvSpPr/>
              <p:nvPr/>
            </p:nvSpPr>
            <p:spPr>
              <a:xfrm flipH="1" rot="294000">
                <a:off x="3349080" y="6316200"/>
                <a:ext cx="254520" cy="5155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2" name=""/>
              <p:cNvSpPr/>
              <p:nvPr/>
            </p:nvSpPr>
            <p:spPr>
              <a:xfrm flipH="1" rot="21328200">
                <a:off x="3327840" y="6308640"/>
                <a:ext cx="254520" cy="5151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13" name=""/>
            <p:cNvGrpSpPr/>
            <p:nvPr/>
          </p:nvGrpSpPr>
          <p:grpSpPr>
            <a:xfrm>
              <a:off x="2976480" y="6085080"/>
              <a:ext cx="661320" cy="799560"/>
              <a:chOff x="2976480" y="6085080"/>
              <a:chExt cx="661320" cy="799560"/>
            </a:xfrm>
          </p:grpSpPr>
          <p:sp>
            <p:nvSpPr>
              <p:cNvPr id="17314" name=""/>
              <p:cNvSpPr/>
              <p:nvPr/>
            </p:nvSpPr>
            <p:spPr>
              <a:xfrm flipH="1">
                <a:off x="3340440" y="6115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5" name=""/>
              <p:cNvSpPr/>
              <p:nvPr/>
            </p:nvSpPr>
            <p:spPr>
              <a:xfrm flipH="1" rot="20966400">
                <a:off x="3270960" y="6114240"/>
                <a:ext cx="297360" cy="7160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6" name=""/>
              <p:cNvSpPr/>
              <p:nvPr/>
            </p:nvSpPr>
            <p:spPr>
              <a:xfrm flipH="1">
                <a:off x="3325680" y="60865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7" name=""/>
              <p:cNvSpPr/>
              <p:nvPr/>
            </p:nvSpPr>
            <p:spPr>
              <a:xfrm flipH="1" rot="19818600">
                <a:off x="3133800" y="614232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8" name=""/>
              <p:cNvSpPr/>
              <p:nvPr/>
            </p:nvSpPr>
            <p:spPr>
              <a:xfrm flipH="1" rot="20712000">
                <a:off x="3215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9" name=""/>
              <p:cNvSpPr/>
              <p:nvPr/>
            </p:nvSpPr>
            <p:spPr>
              <a:xfrm flipH="1" rot="20145600">
                <a:off x="3188520" y="6114240"/>
                <a:ext cx="297360" cy="7156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20" name=""/>
          <p:cNvGrpSpPr/>
          <p:nvPr/>
        </p:nvGrpSpPr>
        <p:grpSpPr>
          <a:xfrm>
            <a:off x="2654640" y="5589720"/>
            <a:ext cx="1126800" cy="796320"/>
            <a:chOff x="2654640" y="5589720"/>
            <a:chExt cx="1126800" cy="796320"/>
          </a:xfrm>
        </p:grpSpPr>
        <p:grpSp>
          <p:nvGrpSpPr>
            <p:cNvPr id="17321" name=""/>
            <p:cNvGrpSpPr/>
            <p:nvPr/>
          </p:nvGrpSpPr>
          <p:grpSpPr>
            <a:xfrm>
              <a:off x="3157920" y="5661000"/>
              <a:ext cx="401400" cy="559080"/>
              <a:chOff x="3157920" y="5661000"/>
              <a:chExt cx="401400" cy="559080"/>
            </a:xfrm>
          </p:grpSpPr>
          <p:sp>
            <p:nvSpPr>
              <p:cNvPr id="17322" name=""/>
              <p:cNvSpPr/>
              <p:nvPr/>
            </p:nvSpPr>
            <p:spPr>
              <a:xfrm flipH="1">
                <a:off x="338292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3" name=""/>
              <p:cNvSpPr/>
              <p:nvPr/>
            </p:nvSpPr>
            <p:spPr>
              <a:xfrm flipH="1" rot="20966400">
                <a:off x="33462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4" name=""/>
              <p:cNvSpPr/>
              <p:nvPr/>
            </p:nvSpPr>
            <p:spPr>
              <a:xfrm flipH="1">
                <a:off x="337536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5" name=""/>
              <p:cNvSpPr/>
              <p:nvPr/>
            </p:nvSpPr>
            <p:spPr>
              <a:xfrm flipH="1" rot="19818600">
                <a:off x="327456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6" name=""/>
              <p:cNvSpPr/>
              <p:nvPr/>
            </p:nvSpPr>
            <p:spPr>
              <a:xfrm flipH="1" rot="20712000">
                <a:off x="33166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7" name=""/>
              <p:cNvSpPr/>
              <p:nvPr/>
            </p:nvSpPr>
            <p:spPr>
              <a:xfrm flipH="1" rot="20145600">
                <a:off x="330372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8" name=""/>
            <p:cNvGrpSpPr/>
            <p:nvPr/>
          </p:nvGrpSpPr>
          <p:grpSpPr>
            <a:xfrm>
              <a:off x="3160800" y="5812560"/>
              <a:ext cx="390240" cy="558000"/>
              <a:chOff x="3160800" y="5812560"/>
              <a:chExt cx="390240" cy="558000"/>
            </a:xfrm>
          </p:grpSpPr>
          <p:sp>
            <p:nvSpPr>
              <p:cNvPr id="17329" name=""/>
              <p:cNvSpPr/>
              <p:nvPr/>
            </p:nvSpPr>
            <p:spPr>
              <a:xfrm flipH="1" rot="1249800">
                <a:off x="330696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0" name=""/>
              <p:cNvSpPr/>
              <p:nvPr/>
            </p:nvSpPr>
            <p:spPr>
              <a:xfrm flipH="1" rot="615600">
                <a:off x="327312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1" name=""/>
              <p:cNvSpPr/>
              <p:nvPr/>
            </p:nvSpPr>
            <p:spPr>
              <a:xfrm flipH="1" rot="1249800">
                <a:off x="330732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2" name=""/>
              <p:cNvSpPr/>
              <p:nvPr/>
            </p:nvSpPr>
            <p:spPr>
              <a:xfrm flipH="1" rot="21068400">
                <a:off x="319932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3" name=""/>
              <p:cNvSpPr/>
              <p:nvPr/>
            </p:nvSpPr>
            <p:spPr>
              <a:xfrm flipH="1" rot="361200">
                <a:off x="324612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4" name=""/>
              <p:cNvSpPr/>
              <p:nvPr/>
            </p:nvSpPr>
            <p:spPr>
              <a:xfrm flipH="1" rot="21395400">
                <a:off x="323388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35" name=""/>
            <p:cNvGrpSpPr/>
            <p:nvPr/>
          </p:nvGrpSpPr>
          <p:grpSpPr>
            <a:xfrm>
              <a:off x="2793600" y="5805720"/>
              <a:ext cx="410760" cy="580320"/>
              <a:chOff x="2793600" y="5805720"/>
              <a:chExt cx="410760" cy="580320"/>
            </a:xfrm>
          </p:grpSpPr>
          <p:sp>
            <p:nvSpPr>
              <p:cNvPr id="17336" name=""/>
              <p:cNvSpPr/>
              <p:nvPr/>
            </p:nvSpPr>
            <p:spPr>
              <a:xfrm flipH="1">
                <a:off x="302400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7" name=""/>
              <p:cNvSpPr/>
              <p:nvPr/>
            </p:nvSpPr>
            <p:spPr>
              <a:xfrm flipH="1" rot="20966400">
                <a:off x="298692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8" name=""/>
              <p:cNvSpPr/>
              <p:nvPr/>
            </p:nvSpPr>
            <p:spPr>
              <a:xfrm flipH="1">
                <a:off x="301644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9" name=""/>
              <p:cNvSpPr/>
              <p:nvPr/>
            </p:nvSpPr>
            <p:spPr>
              <a:xfrm flipH="1" rot="19818600">
                <a:off x="291528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0" name=""/>
              <p:cNvSpPr/>
              <p:nvPr/>
            </p:nvSpPr>
            <p:spPr>
              <a:xfrm flipH="1" rot="20712000">
                <a:off x="295776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1" name=""/>
              <p:cNvSpPr/>
              <p:nvPr/>
            </p:nvSpPr>
            <p:spPr>
              <a:xfrm flipH="1" rot="20145600">
                <a:off x="294408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42" name=""/>
            <p:cNvGrpSpPr/>
            <p:nvPr/>
          </p:nvGrpSpPr>
          <p:grpSpPr>
            <a:xfrm>
              <a:off x="3296880" y="5920560"/>
              <a:ext cx="484560" cy="370080"/>
              <a:chOff x="3296880" y="5920560"/>
              <a:chExt cx="484560" cy="370080"/>
            </a:xfrm>
          </p:grpSpPr>
          <p:sp>
            <p:nvSpPr>
              <p:cNvPr id="17343" name=""/>
              <p:cNvSpPr/>
              <p:nvPr/>
            </p:nvSpPr>
            <p:spPr>
              <a:xfrm flipH="1">
                <a:off x="352512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4" name=""/>
              <p:cNvSpPr/>
              <p:nvPr/>
            </p:nvSpPr>
            <p:spPr>
              <a:xfrm flipH="1" rot="20966400">
                <a:off x="3465360" y="59605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5" name=""/>
              <p:cNvSpPr/>
              <p:nvPr/>
            </p:nvSpPr>
            <p:spPr>
              <a:xfrm flipH="1">
                <a:off x="3512520" y="59500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6" name=""/>
              <p:cNvSpPr/>
              <p:nvPr/>
            </p:nvSpPr>
            <p:spPr>
              <a:xfrm flipH="1" rot="19818600">
                <a:off x="3347640" y="597132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7" name=""/>
              <p:cNvSpPr/>
              <p:nvPr/>
            </p:nvSpPr>
            <p:spPr>
              <a:xfrm flipH="1" rot="20712000">
                <a:off x="3418560" y="596088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8" name=""/>
              <p:cNvSpPr/>
              <p:nvPr/>
            </p:nvSpPr>
            <p:spPr>
              <a:xfrm flipH="1" rot="20145600">
                <a:off x="3395160" y="596088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49" name=""/>
            <p:cNvGrpSpPr/>
            <p:nvPr/>
          </p:nvGrpSpPr>
          <p:grpSpPr>
            <a:xfrm>
              <a:off x="2837520" y="5638680"/>
              <a:ext cx="480240" cy="570960"/>
              <a:chOff x="2837520" y="5638680"/>
              <a:chExt cx="480240" cy="570960"/>
            </a:xfrm>
          </p:grpSpPr>
          <p:sp>
            <p:nvSpPr>
              <p:cNvPr id="17350" name=""/>
              <p:cNvSpPr/>
              <p:nvPr/>
            </p:nvSpPr>
            <p:spPr>
              <a:xfrm flipH="1" rot="20730600">
                <a:off x="3094200" y="5667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1" name=""/>
              <p:cNvSpPr/>
              <p:nvPr/>
            </p:nvSpPr>
            <p:spPr>
              <a:xfrm flipH="1" rot="20097000">
                <a:off x="3058200" y="56764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2" name=""/>
              <p:cNvSpPr/>
              <p:nvPr/>
            </p:nvSpPr>
            <p:spPr>
              <a:xfrm flipH="1" rot="20730600">
                <a:off x="3081960" y="56498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3" name=""/>
              <p:cNvSpPr/>
              <p:nvPr/>
            </p:nvSpPr>
            <p:spPr>
              <a:xfrm flipH="1" rot="18948600">
                <a:off x="2994120" y="5713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4" name=""/>
              <p:cNvSpPr/>
              <p:nvPr/>
            </p:nvSpPr>
            <p:spPr>
              <a:xfrm flipH="1" rot="19842600">
                <a:off x="3030840" y="568404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5" name=""/>
              <p:cNvSpPr/>
              <p:nvPr/>
            </p:nvSpPr>
            <p:spPr>
              <a:xfrm flipH="1" rot="19276200">
                <a:off x="301716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56" name=""/>
            <p:cNvGrpSpPr/>
            <p:nvPr/>
          </p:nvGrpSpPr>
          <p:grpSpPr>
            <a:xfrm>
              <a:off x="3169800" y="5663520"/>
              <a:ext cx="315720" cy="409320"/>
              <a:chOff x="3169800" y="5663520"/>
              <a:chExt cx="315720" cy="409320"/>
            </a:xfrm>
          </p:grpSpPr>
          <p:sp>
            <p:nvSpPr>
              <p:cNvPr id="17357" name=""/>
              <p:cNvSpPr/>
              <p:nvPr/>
            </p:nvSpPr>
            <p:spPr>
              <a:xfrm flipH="1" rot="1182600">
                <a:off x="3292560" y="5690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8" name=""/>
              <p:cNvSpPr/>
              <p:nvPr/>
            </p:nvSpPr>
            <p:spPr>
              <a:xfrm flipH="1" rot="548400">
                <a:off x="3263040" y="5680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9" name=""/>
              <p:cNvSpPr/>
              <p:nvPr/>
            </p:nvSpPr>
            <p:spPr>
              <a:xfrm flipH="1" rot="1182600">
                <a:off x="3291480" y="56750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0" name=""/>
              <p:cNvSpPr/>
              <p:nvPr/>
            </p:nvSpPr>
            <p:spPr>
              <a:xfrm flipH="1" rot="21001200">
                <a:off x="3200760" y="567288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1" name=""/>
              <p:cNvSpPr/>
              <p:nvPr/>
            </p:nvSpPr>
            <p:spPr>
              <a:xfrm flipH="1" rot="294000">
                <a:off x="3240000" y="567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2" name=""/>
              <p:cNvSpPr/>
              <p:nvPr/>
            </p:nvSpPr>
            <p:spPr>
              <a:xfrm flipH="1" rot="21328200">
                <a:off x="3228480" y="56678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63" name=""/>
            <p:cNvGrpSpPr/>
            <p:nvPr/>
          </p:nvGrpSpPr>
          <p:grpSpPr>
            <a:xfrm>
              <a:off x="2654640" y="5589720"/>
              <a:ext cx="401400" cy="559080"/>
              <a:chOff x="2654640" y="5589720"/>
              <a:chExt cx="401400" cy="559080"/>
            </a:xfrm>
          </p:grpSpPr>
          <p:sp>
            <p:nvSpPr>
              <p:cNvPr id="17364" name=""/>
              <p:cNvSpPr/>
              <p:nvPr/>
            </p:nvSpPr>
            <p:spPr>
              <a:xfrm flipH="1">
                <a:off x="2879640" y="5610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5" name=""/>
              <p:cNvSpPr/>
              <p:nvPr/>
            </p:nvSpPr>
            <p:spPr>
              <a:xfrm flipH="1" rot="20966400">
                <a:off x="284292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6" name=""/>
              <p:cNvSpPr/>
              <p:nvPr/>
            </p:nvSpPr>
            <p:spPr>
              <a:xfrm flipH="1">
                <a:off x="2872080" y="55897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7" name=""/>
              <p:cNvSpPr/>
              <p:nvPr/>
            </p:nvSpPr>
            <p:spPr>
              <a:xfrm flipH="1" rot="19818600">
                <a:off x="2771280" y="56296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8" name=""/>
              <p:cNvSpPr/>
              <p:nvPr/>
            </p:nvSpPr>
            <p:spPr>
              <a:xfrm flipH="1" rot="20712000">
                <a:off x="2813400" y="5609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9" name=""/>
              <p:cNvSpPr/>
              <p:nvPr/>
            </p:nvSpPr>
            <p:spPr>
              <a:xfrm flipH="1" rot="20145600">
                <a:off x="2800440" y="5609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370" name=""/>
          <p:cNvGrpSpPr/>
          <p:nvPr/>
        </p:nvGrpSpPr>
        <p:grpSpPr>
          <a:xfrm>
            <a:off x="1862640" y="5661000"/>
            <a:ext cx="1126800" cy="796320"/>
            <a:chOff x="1862640" y="5661000"/>
            <a:chExt cx="1126800" cy="796320"/>
          </a:xfrm>
        </p:grpSpPr>
        <p:grpSp>
          <p:nvGrpSpPr>
            <p:cNvPr id="17371" name=""/>
            <p:cNvGrpSpPr/>
            <p:nvPr/>
          </p:nvGrpSpPr>
          <p:grpSpPr>
            <a:xfrm>
              <a:off x="2365920" y="5732280"/>
              <a:ext cx="401400" cy="559080"/>
              <a:chOff x="2365920" y="5732280"/>
              <a:chExt cx="401400" cy="559080"/>
            </a:xfrm>
          </p:grpSpPr>
          <p:sp>
            <p:nvSpPr>
              <p:cNvPr id="17372" name=""/>
              <p:cNvSpPr/>
              <p:nvPr/>
            </p:nvSpPr>
            <p:spPr>
              <a:xfrm flipH="1">
                <a:off x="259092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3" name=""/>
              <p:cNvSpPr/>
              <p:nvPr/>
            </p:nvSpPr>
            <p:spPr>
              <a:xfrm flipH="1" rot="20966400">
                <a:off x="255420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4" name=""/>
              <p:cNvSpPr/>
              <p:nvPr/>
            </p:nvSpPr>
            <p:spPr>
              <a:xfrm flipH="1">
                <a:off x="258336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5" name=""/>
              <p:cNvSpPr/>
              <p:nvPr/>
            </p:nvSpPr>
            <p:spPr>
              <a:xfrm flipH="1" rot="19818600">
                <a:off x="248256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6" name=""/>
              <p:cNvSpPr/>
              <p:nvPr/>
            </p:nvSpPr>
            <p:spPr>
              <a:xfrm flipH="1" rot="20712000">
                <a:off x="252468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7" name=""/>
              <p:cNvSpPr/>
              <p:nvPr/>
            </p:nvSpPr>
            <p:spPr>
              <a:xfrm flipH="1" rot="20145600">
                <a:off x="251172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78" name=""/>
            <p:cNvGrpSpPr/>
            <p:nvPr/>
          </p:nvGrpSpPr>
          <p:grpSpPr>
            <a:xfrm>
              <a:off x="2368800" y="5883840"/>
              <a:ext cx="390240" cy="558000"/>
              <a:chOff x="2368800" y="5883840"/>
              <a:chExt cx="390240" cy="558000"/>
            </a:xfrm>
          </p:grpSpPr>
          <p:sp>
            <p:nvSpPr>
              <p:cNvPr id="17379" name=""/>
              <p:cNvSpPr/>
              <p:nvPr/>
            </p:nvSpPr>
            <p:spPr>
              <a:xfrm flipH="1" rot="1249800">
                <a:off x="251496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0" name=""/>
              <p:cNvSpPr/>
              <p:nvPr/>
            </p:nvSpPr>
            <p:spPr>
              <a:xfrm flipH="1" rot="615600">
                <a:off x="248112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1" name=""/>
              <p:cNvSpPr/>
              <p:nvPr/>
            </p:nvSpPr>
            <p:spPr>
              <a:xfrm flipH="1" rot="1249800">
                <a:off x="251532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2" name=""/>
              <p:cNvSpPr/>
              <p:nvPr/>
            </p:nvSpPr>
            <p:spPr>
              <a:xfrm flipH="1" rot="21068400">
                <a:off x="240732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3" name=""/>
              <p:cNvSpPr/>
              <p:nvPr/>
            </p:nvSpPr>
            <p:spPr>
              <a:xfrm flipH="1" rot="361200">
                <a:off x="245412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4" name=""/>
              <p:cNvSpPr/>
              <p:nvPr/>
            </p:nvSpPr>
            <p:spPr>
              <a:xfrm flipH="1" rot="21395400">
                <a:off x="244188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85" name=""/>
            <p:cNvGrpSpPr/>
            <p:nvPr/>
          </p:nvGrpSpPr>
          <p:grpSpPr>
            <a:xfrm>
              <a:off x="2001600" y="5877000"/>
              <a:ext cx="410760" cy="580320"/>
              <a:chOff x="2001600" y="5877000"/>
              <a:chExt cx="410760" cy="580320"/>
            </a:xfrm>
          </p:grpSpPr>
          <p:sp>
            <p:nvSpPr>
              <p:cNvPr id="17386" name=""/>
              <p:cNvSpPr/>
              <p:nvPr/>
            </p:nvSpPr>
            <p:spPr>
              <a:xfrm flipH="1">
                <a:off x="223200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7" name=""/>
              <p:cNvSpPr/>
              <p:nvPr/>
            </p:nvSpPr>
            <p:spPr>
              <a:xfrm flipH="1" rot="20966400">
                <a:off x="219492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8" name=""/>
              <p:cNvSpPr/>
              <p:nvPr/>
            </p:nvSpPr>
            <p:spPr>
              <a:xfrm flipH="1">
                <a:off x="222444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9" name=""/>
              <p:cNvSpPr/>
              <p:nvPr/>
            </p:nvSpPr>
            <p:spPr>
              <a:xfrm flipH="1" rot="19818600">
                <a:off x="212328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0" name=""/>
              <p:cNvSpPr/>
              <p:nvPr/>
            </p:nvSpPr>
            <p:spPr>
              <a:xfrm flipH="1" rot="20712000">
                <a:off x="216576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1" name=""/>
              <p:cNvSpPr/>
              <p:nvPr/>
            </p:nvSpPr>
            <p:spPr>
              <a:xfrm flipH="1" rot="20145600">
                <a:off x="215208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92" name=""/>
            <p:cNvGrpSpPr/>
            <p:nvPr/>
          </p:nvGrpSpPr>
          <p:grpSpPr>
            <a:xfrm>
              <a:off x="2504880" y="5991840"/>
              <a:ext cx="484560" cy="370080"/>
              <a:chOff x="2504880" y="5991840"/>
              <a:chExt cx="484560" cy="370080"/>
            </a:xfrm>
          </p:grpSpPr>
          <p:sp>
            <p:nvSpPr>
              <p:cNvPr id="17393" name=""/>
              <p:cNvSpPr/>
              <p:nvPr/>
            </p:nvSpPr>
            <p:spPr>
              <a:xfrm flipH="1">
                <a:off x="27331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4" name=""/>
              <p:cNvSpPr/>
              <p:nvPr/>
            </p:nvSpPr>
            <p:spPr>
              <a:xfrm flipH="1" rot="20966400">
                <a:off x="267336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5" name=""/>
              <p:cNvSpPr/>
              <p:nvPr/>
            </p:nvSpPr>
            <p:spPr>
              <a:xfrm flipH="1">
                <a:off x="272052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6" name=""/>
              <p:cNvSpPr/>
              <p:nvPr/>
            </p:nvSpPr>
            <p:spPr>
              <a:xfrm flipH="1" rot="19818600">
                <a:off x="255564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7" name=""/>
              <p:cNvSpPr/>
              <p:nvPr/>
            </p:nvSpPr>
            <p:spPr>
              <a:xfrm flipH="1" rot="20712000">
                <a:off x="262656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8" name=""/>
              <p:cNvSpPr/>
              <p:nvPr/>
            </p:nvSpPr>
            <p:spPr>
              <a:xfrm flipH="1" rot="20145600">
                <a:off x="260316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99" name=""/>
            <p:cNvGrpSpPr/>
            <p:nvPr/>
          </p:nvGrpSpPr>
          <p:grpSpPr>
            <a:xfrm>
              <a:off x="2045520" y="5709960"/>
              <a:ext cx="480240" cy="570960"/>
              <a:chOff x="2045520" y="5709960"/>
              <a:chExt cx="480240" cy="570960"/>
            </a:xfrm>
          </p:grpSpPr>
          <p:sp>
            <p:nvSpPr>
              <p:cNvPr id="17400" name=""/>
              <p:cNvSpPr/>
              <p:nvPr/>
            </p:nvSpPr>
            <p:spPr>
              <a:xfrm flipH="1" rot="20730600">
                <a:off x="230220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1" name=""/>
              <p:cNvSpPr/>
              <p:nvPr/>
            </p:nvSpPr>
            <p:spPr>
              <a:xfrm flipH="1" rot="20097000">
                <a:off x="226620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2" name=""/>
              <p:cNvSpPr/>
              <p:nvPr/>
            </p:nvSpPr>
            <p:spPr>
              <a:xfrm flipH="1" rot="20730600">
                <a:off x="228996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3" name=""/>
              <p:cNvSpPr/>
              <p:nvPr/>
            </p:nvSpPr>
            <p:spPr>
              <a:xfrm flipH="1" rot="18948600">
                <a:off x="220212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4" name=""/>
              <p:cNvSpPr/>
              <p:nvPr/>
            </p:nvSpPr>
            <p:spPr>
              <a:xfrm flipH="1" rot="19842600">
                <a:off x="223884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5" name=""/>
              <p:cNvSpPr/>
              <p:nvPr/>
            </p:nvSpPr>
            <p:spPr>
              <a:xfrm flipH="1" rot="19276200">
                <a:off x="222516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6" name=""/>
            <p:cNvGrpSpPr/>
            <p:nvPr/>
          </p:nvGrpSpPr>
          <p:grpSpPr>
            <a:xfrm>
              <a:off x="2377800" y="5734800"/>
              <a:ext cx="315720" cy="409320"/>
              <a:chOff x="2377800" y="5734800"/>
              <a:chExt cx="315720" cy="409320"/>
            </a:xfrm>
          </p:grpSpPr>
          <p:sp>
            <p:nvSpPr>
              <p:cNvPr id="17407" name=""/>
              <p:cNvSpPr/>
              <p:nvPr/>
            </p:nvSpPr>
            <p:spPr>
              <a:xfrm flipH="1" rot="1182600">
                <a:off x="250056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8" name=""/>
              <p:cNvSpPr/>
              <p:nvPr/>
            </p:nvSpPr>
            <p:spPr>
              <a:xfrm flipH="1" rot="548400">
                <a:off x="247104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9" name=""/>
              <p:cNvSpPr/>
              <p:nvPr/>
            </p:nvSpPr>
            <p:spPr>
              <a:xfrm flipH="1" rot="1182600">
                <a:off x="249948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0" name=""/>
              <p:cNvSpPr/>
              <p:nvPr/>
            </p:nvSpPr>
            <p:spPr>
              <a:xfrm flipH="1" rot="21001200">
                <a:off x="240876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1" name=""/>
              <p:cNvSpPr/>
              <p:nvPr/>
            </p:nvSpPr>
            <p:spPr>
              <a:xfrm flipH="1" rot="294000">
                <a:off x="244800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2" name=""/>
              <p:cNvSpPr/>
              <p:nvPr/>
            </p:nvSpPr>
            <p:spPr>
              <a:xfrm flipH="1" rot="21328200">
                <a:off x="243648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13" name=""/>
            <p:cNvGrpSpPr/>
            <p:nvPr/>
          </p:nvGrpSpPr>
          <p:grpSpPr>
            <a:xfrm>
              <a:off x="1862640" y="5661000"/>
              <a:ext cx="401400" cy="559080"/>
              <a:chOff x="1862640" y="5661000"/>
              <a:chExt cx="401400" cy="559080"/>
            </a:xfrm>
          </p:grpSpPr>
          <p:sp>
            <p:nvSpPr>
              <p:cNvPr id="17414" name=""/>
              <p:cNvSpPr/>
              <p:nvPr/>
            </p:nvSpPr>
            <p:spPr>
              <a:xfrm flipH="1">
                <a:off x="208764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5" name=""/>
              <p:cNvSpPr/>
              <p:nvPr/>
            </p:nvSpPr>
            <p:spPr>
              <a:xfrm flipH="1" rot="20966400">
                <a:off x="205092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6" name=""/>
              <p:cNvSpPr/>
              <p:nvPr/>
            </p:nvSpPr>
            <p:spPr>
              <a:xfrm flipH="1">
                <a:off x="208008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7" name=""/>
              <p:cNvSpPr/>
              <p:nvPr/>
            </p:nvSpPr>
            <p:spPr>
              <a:xfrm flipH="1" rot="19818600">
                <a:off x="197928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8" name=""/>
              <p:cNvSpPr/>
              <p:nvPr/>
            </p:nvSpPr>
            <p:spPr>
              <a:xfrm flipH="1" rot="20712000">
                <a:off x="202140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9" name=""/>
              <p:cNvSpPr/>
              <p:nvPr/>
            </p:nvSpPr>
            <p:spPr>
              <a:xfrm flipH="1" rot="20145600">
                <a:off x="200844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420" name=""/>
          <p:cNvGrpSpPr/>
          <p:nvPr/>
        </p:nvGrpSpPr>
        <p:grpSpPr>
          <a:xfrm>
            <a:off x="6039000" y="5589720"/>
            <a:ext cx="1126080" cy="796320"/>
            <a:chOff x="6039000" y="5589720"/>
            <a:chExt cx="1126080" cy="796320"/>
          </a:xfrm>
        </p:grpSpPr>
        <p:grpSp>
          <p:nvGrpSpPr>
            <p:cNvPr id="17421" name=""/>
            <p:cNvGrpSpPr/>
            <p:nvPr/>
          </p:nvGrpSpPr>
          <p:grpSpPr>
            <a:xfrm>
              <a:off x="6541920" y="5661000"/>
              <a:ext cx="400320" cy="558720"/>
              <a:chOff x="6541920" y="5661000"/>
              <a:chExt cx="400320" cy="558720"/>
            </a:xfrm>
          </p:grpSpPr>
          <p:sp>
            <p:nvSpPr>
              <p:cNvPr id="17422" name=""/>
              <p:cNvSpPr/>
              <p:nvPr/>
            </p:nvSpPr>
            <p:spPr>
              <a:xfrm flipH="1">
                <a:off x="6767280" y="56815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3" name=""/>
              <p:cNvSpPr/>
              <p:nvPr/>
            </p:nvSpPr>
            <p:spPr>
              <a:xfrm flipH="1" rot="20966400">
                <a:off x="672984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4" name=""/>
              <p:cNvSpPr/>
              <p:nvPr/>
            </p:nvSpPr>
            <p:spPr>
              <a:xfrm flipH="1">
                <a:off x="6759720" y="566100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5" name=""/>
              <p:cNvSpPr/>
              <p:nvPr/>
            </p:nvSpPr>
            <p:spPr>
              <a:xfrm flipH="1" rot="19818600">
                <a:off x="6658560" y="57006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6" name=""/>
              <p:cNvSpPr/>
              <p:nvPr/>
            </p:nvSpPr>
            <p:spPr>
              <a:xfrm flipH="1" rot="20712000">
                <a:off x="6701400" y="568080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7" name=""/>
              <p:cNvSpPr/>
              <p:nvPr/>
            </p:nvSpPr>
            <p:spPr>
              <a:xfrm flipH="1" rot="20145600">
                <a:off x="6687000" y="568116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28" name=""/>
            <p:cNvGrpSpPr/>
            <p:nvPr/>
          </p:nvGrpSpPr>
          <p:grpSpPr>
            <a:xfrm>
              <a:off x="6545520" y="5812560"/>
              <a:ext cx="389880" cy="558000"/>
              <a:chOff x="6545520" y="5812560"/>
              <a:chExt cx="389880" cy="558000"/>
            </a:xfrm>
          </p:grpSpPr>
          <p:sp>
            <p:nvSpPr>
              <p:cNvPr id="17429" name=""/>
              <p:cNvSpPr/>
              <p:nvPr/>
            </p:nvSpPr>
            <p:spPr>
              <a:xfrm flipH="1" rot="1249800">
                <a:off x="6691320" y="58449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0" name=""/>
              <p:cNvSpPr/>
              <p:nvPr/>
            </p:nvSpPr>
            <p:spPr>
              <a:xfrm flipH="1" rot="615600">
                <a:off x="6657480" y="583164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1" name=""/>
              <p:cNvSpPr/>
              <p:nvPr/>
            </p:nvSpPr>
            <p:spPr>
              <a:xfrm flipH="1" rot="1249800">
                <a:off x="6691680" y="582336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2" name=""/>
              <p:cNvSpPr/>
              <p:nvPr/>
            </p:nvSpPr>
            <p:spPr>
              <a:xfrm flipH="1" rot="21068400">
                <a:off x="6584040" y="5824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3" name=""/>
              <p:cNvSpPr/>
              <p:nvPr/>
            </p:nvSpPr>
            <p:spPr>
              <a:xfrm flipH="1" rot="361200">
                <a:off x="6630480" y="58215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4" name=""/>
              <p:cNvSpPr/>
              <p:nvPr/>
            </p:nvSpPr>
            <p:spPr>
              <a:xfrm flipH="1" rot="21395400">
                <a:off x="6618240" y="58168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35" name=""/>
            <p:cNvGrpSpPr/>
            <p:nvPr/>
          </p:nvGrpSpPr>
          <p:grpSpPr>
            <a:xfrm>
              <a:off x="6178320" y="5805720"/>
              <a:ext cx="410400" cy="580320"/>
              <a:chOff x="6178320" y="5805720"/>
              <a:chExt cx="410400" cy="580320"/>
            </a:xfrm>
          </p:grpSpPr>
          <p:sp>
            <p:nvSpPr>
              <p:cNvPr id="17436" name=""/>
              <p:cNvSpPr/>
              <p:nvPr/>
            </p:nvSpPr>
            <p:spPr>
              <a:xfrm flipH="1">
                <a:off x="6408360" y="58273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7" name=""/>
              <p:cNvSpPr/>
              <p:nvPr/>
            </p:nvSpPr>
            <p:spPr>
              <a:xfrm flipH="1" rot="20966400">
                <a:off x="6371280" y="5826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8" name=""/>
              <p:cNvSpPr/>
              <p:nvPr/>
            </p:nvSpPr>
            <p:spPr>
              <a:xfrm flipH="1">
                <a:off x="6400800" y="58057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9" name=""/>
              <p:cNvSpPr/>
              <p:nvPr/>
            </p:nvSpPr>
            <p:spPr>
              <a:xfrm flipH="1" rot="19818600">
                <a:off x="6300000" y="584748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0" name=""/>
              <p:cNvSpPr/>
              <p:nvPr/>
            </p:nvSpPr>
            <p:spPr>
              <a:xfrm flipH="1" rot="20712000">
                <a:off x="634212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1" name=""/>
              <p:cNvSpPr/>
              <p:nvPr/>
            </p:nvSpPr>
            <p:spPr>
              <a:xfrm flipH="1" rot="20145600">
                <a:off x="6328440" y="582624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42" name=""/>
            <p:cNvGrpSpPr/>
            <p:nvPr/>
          </p:nvGrpSpPr>
          <p:grpSpPr>
            <a:xfrm>
              <a:off x="6681240" y="5920560"/>
              <a:ext cx="483840" cy="370080"/>
              <a:chOff x="6681240" y="5920560"/>
              <a:chExt cx="483840" cy="370080"/>
            </a:xfrm>
          </p:grpSpPr>
          <p:sp>
            <p:nvSpPr>
              <p:cNvPr id="17443" name=""/>
              <p:cNvSpPr/>
              <p:nvPr/>
            </p:nvSpPr>
            <p:spPr>
              <a:xfrm flipH="1">
                <a:off x="6909480" y="59608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4" name=""/>
              <p:cNvSpPr/>
              <p:nvPr/>
            </p:nvSpPr>
            <p:spPr>
              <a:xfrm flipH="1" rot="20966400">
                <a:off x="6849000" y="596052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5" name=""/>
              <p:cNvSpPr/>
              <p:nvPr/>
            </p:nvSpPr>
            <p:spPr>
              <a:xfrm flipH="1">
                <a:off x="6896880" y="595008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6" name=""/>
              <p:cNvSpPr/>
              <p:nvPr/>
            </p:nvSpPr>
            <p:spPr>
              <a:xfrm flipH="1" rot="19818600">
                <a:off x="6732000" y="5970960"/>
                <a:ext cx="25560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7" name=""/>
              <p:cNvSpPr/>
              <p:nvPr/>
            </p:nvSpPr>
            <p:spPr>
              <a:xfrm flipH="1" rot="20712000">
                <a:off x="68025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8" name=""/>
              <p:cNvSpPr/>
              <p:nvPr/>
            </p:nvSpPr>
            <p:spPr>
              <a:xfrm flipH="1" rot="20145600">
                <a:off x="6779160" y="5960520"/>
                <a:ext cx="25524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49" name=""/>
            <p:cNvGrpSpPr/>
            <p:nvPr/>
          </p:nvGrpSpPr>
          <p:grpSpPr>
            <a:xfrm>
              <a:off x="6221520" y="5638680"/>
              <a:ext cx="479880" cy="570960"/>
              <a:chOff x="6221520" y="5638680"/>
              <a:chExt cx="479880" cy="570960"/>
            </a:xfrm>
          </p:grpSpPr>
          <p:sp>
            <p:nvSpPr>
              <p:cNvPr id="17450" name=""/>
              <p:cNvSpPr/>
              <p:nvPr/>
            </p:nvSpPr>
            <p:spPr>
              <a:xfrm flipH="1" rot="20730600">
                <a:off x="6478200" y="5667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1" name=""/>
              <p:cNvSpPr/>
              <p:nvPr/>
            </p:nvSpPr>
            <p:spPr>
              <a:xfrm flipH="1" rot="20097000">
                <a:off x="6442560" y="567648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2" name=""/>
              <p:cNvSpPr/>
              <p:nvPr/>
            </p:nvSpPr>
            <p:spPr>
              <a:xfrm flipH="1" rot="20730600">
                <a:off x="6465960" y="564984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3" name=""/>
              <p:cNvSpPr/>
              <p:nvPr/>
            </p:nvSpPr>
            <p:spPr>
              <a:xfrm flipH="1" rot="18948600">
                <a:off x="6378120" y="571356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4" name=""/>
              <p:cNvSpPr/>
              <p:nvPr/>
            </p:nvSpPr>
            <p:spPr>
              <a:xfrm flipH="1" rot="19842600">
                <a:off x="6414480" y="5684040"/>
                <a:ext cx="15624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5" name=""/>
              <p:cNvSpPr/>
              <p:nvPr/>
            </p:nvSpPr>
            <p:spPr>
              <a:xfrm flipH="1" rot="19276200">
                <a:off x="6400800" y="56876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56" name=""/>
            <p:cNvGrpSpPr/>
            <p:nvPr/>
          </p:nvGrpSpPr>
          <p:grpSpPr>
            <a:xfrm>
              <a:off x="6554520" y="5663520"/>
              <a:ext cx="315360" cy="408960"/>
              <a:chOff x="6554520" y="5663520"/>
              <a:chExt cx="315360" cy="408960"/>
            </a:xfrm>
          </p:grpSpPr>
          <p:sp>
            <p:nvSpPr>
              <p:cNvPr id="17457" name=""/>
              <p:cNvSpPr/>
              <p:nvPr/>
            </p:nvSpPr>
            <p:spPr>
              <a:xfrm flipH="1" rot="1182600">
                <a:off x="6677280" y="569124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8" name=""/>
              <p:cNvSpPr/>
              <p:nvPr/>
            </p:nvSpPr>
            <p:spPr>
              <a:xfrm flipH="1" rot="548400">
                <a:off x="6648480" y="56804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9" name=""/>
              <p:cNvSpPr/>
              <p:nvPr/>
            </p:nvSpPr>
            <p:spPr>
              <a:xfrm flipH="1" rot="1182600">
                <a:off x="6676200" y="5675400"/>
                <a:ext cx="133920" cy="3693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0" name=""/>
              <p:cNvSpPr/>
              <p:nvPr/>
            </p:nvSpPr>
            <p:spPr>
              <a:xfrm flipH="1" rot="21001200">
                <a:off x="6585480" y="5672880"/>
                <a:ext cx="133920" cy="370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1" name=""/>
              <p:cNvSpPr/>
              <p:nvPr/>
            </p:nvSpPr>
            <p:spPr>
              <a:xfrm flipH="1" rot="294000">
                <a:off x="6624720" y="567252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2" name=""/>
              <p:cNvSpPr/>
              <p:nvPr/>
            </p:nvSpPr>
            <p:spPr>
              <a:xfrm flipH="1" rot="21328200">
                <a:off x="6612840" y="5667840"/>
                <a:ext cx="13392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63" name=""/>
            <p:cNvGrpSpPr/>
            <p:nvPr/>
          </p:nvGrpSpPr>
          <p:grpSpPr>
            <a:xfrm>
              <a:off x="6039000" y="5589720"/>
              <a:ext cx="400320" cy="558720"/>
              <a:chOff x="6039000" y="5589720"/>
              <a:chExt cx="400320" cy="558720"/>
            </a:xfrm>
          </p:grpSpPr>
          <p:sp>
            <p:nvSpPr>
              <p:cNvPr id="17464" name=""/>
              <p:cNvSpPr/>
              <p:nvPr/>
            </p:nvSpPr>
            <p:spPr>
              <a:xfrm flipH="1">
                <a:off x="6264360" y="561024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5" name=""/>
              <p:cNvSpPr/>
              <p:nvPr/>
            </p:nvSpPr>
            <p:spPr>
              <a:xfrm flipH="1" rot="20966400">
                <a:off x="622692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6" name=""/>
              <p:cNvSpPr/>
              <p:nvPr/>
            </p:nvSpPr>
            <p:spPr>
              <a:xfrm flipH="1">
                <a:off x="6256800" y="558972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7" name=""/>
              <p:cNvSpPr/>
              <p:nvPr/>
            </p:nvSpPr>
            <p:spPr>
              <a:xfrm flipH="1" rot="19818600">
                <a:off x="6155640" y="56293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8" name=""/>
              <p:cNvSpPr/>
              <p:nvPr/>
            </p:nvSpPr>
            <p:spPr>
              <a:xfrm flipH="1" rot="20712000">
                <a:off x="6198480" y="5609520"/>
                <a:ext cx="15624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9" name=""/>
              <p:cNvSpPr/>
              <p:nvPr/>
            </p:nvSpPr>
            <p:spPr>
              <a:xfrm flipH="1" rot="20145600">
                <a:off x="6184080" y="5609880"/>
                <a:ext cx="15624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470" name=""/>
          <p:cNvGrpSpPr/>
          <p:nvPr/>
        </p:nvGrpSpPr>
        <p:grpSpPr>
          <a:xfrm>
            <a:off x="5247000" y="5661000"/>
            <a:ext cx="1126800" cy="796320"/>
            <a:chOff x="5247000" y="5661000"/>
            <a:chExt cx="1126800" cy="796320"/>
          </a:xfrm>
        </p:grpSpPr>
        <p:grpSp>
          <p:nvGrpSpPr>
            <p:cNvPr id="17471" name=""/>
            <p:cNvGrpSpPr/>
            <p:nvPr/>
          </p:nvGrpSpPr>
          <p:grpSpPr>
            <a:xfrm>
              <a:off x="5750280" y="5732280"/>
              <a:ext cx="401400" cy="559080"/>
              <a:chOff x="5750280" y="5732280"/>
              <a:chExt cx="401400" cy="559080"/>
            </a:xfrm>
          </p:grpSpPr>
          <p:sp>
            <p:nvSpPr>
              <p:cNvPr id="17472" name=""/>
              <p:cNvSpPr/>
              <p:nvPr/>
            </p:nvSpPr>
            <p:spPr>
              <a:xfrm flipH="1">
                <a:off x="5975280" y="5752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3" name=""/>
              <p:cNvSpPr/>
              <p:nvPr/>
            </p:nvSpPr>
            <p:spPr>
              <a:xfrm flipH="1" rot="20966400">
                <a:off x="593856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4" name=""/>
              <p:cNvSpPr/>
              <p:nvPr/>
            </p:nvSpPr>
            <p:spPr>
              <a:xfrm flipH="1">
                <a:off x="5967720" y="57322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5" name=""/>
              <p:cNvSpPr/>
              <p:nvPr/>
            </p:nvSpPr>
            <p:spPr>
              <a:xfrm flipH="1" rot="19818600">
                <a:off x="5866920" y="57722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6" name=""/>
              <p:cNvSpPr/>
              <p:nvPr/>
            </p:nvSpPr>
            <p:spPr>
              <a:xfrm flipH="1" rot="20712000">
                <a:off x="5909040" y="5752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7" name=""/>
              <p:cNvSpPr/>
              <p:nvPr/>
            </p:nvSpPr>
            <p:spPr>
              <a:xfrm flipH="1" rot="20145600">
                <a:off x="5896080" y="57524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78" name=""/>
            <p:cNvGrpSpPr/>
            <p:nvPr/>
          </p:nvGrpSpPr>
          <p:grpSpPr>
            <a:xfrm>
              <a:off x="5753160" y="5883840"/>
              <a:ext cx="390240" cy="558000"/>
              <a:chOff x="5753160" y="5883840"/>
              <a:chExt cx="390240" cy="558000"/>
            </a:xfrm>
          </p:grpSpPr>
          <p:sp>
            <p:nvSpPr>
              <p:cNvPr id="17479" name=""/>
              <p:cNvSpPr/>
              <p:nvPr/>
            </p:nvSpPr>
            <p:spPr>
              <a:xfrm flipH="1" rot="1249800">
                <a:off x="5899320" y="59162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0" name=""/>
              <p:cNvSpPr/>
              <p:nvPr/>
            </p:nvSpPr>
            <p:spPr>
              <a:xfrm flipH="1" rot="615600">
                <a:off x="5865480" y="5902920"/>
                <a:ext cx="156600" cy="5144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1" name=""/>
              <p:cNvSpPr/>
              <p:nvPr/>
            </p:nvSpPr>
            <p:spPr>
              <a:xfrm flipH="1" rot="1249800">
                <a:off x="5899680" y="5894640"/>
                <a:ext cx="15696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2" name=""/>
              <p:cNvSpPr/>
              <p:nvPr/>
            </p:nvSpPr>
            <p:spPr>
              <a:xfrm flipH="1" rot="21068400">
                <a:off x="5791680" y="589608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3" name=""/>
              <p:cNvSpPr/>
              <p:nvPr/>
            </p:nvSpPr>
            <p:spPr>
              <a:xfrm flipH="1" rot="361200">
                <a:off x="5838480" y="5892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4" name=""/>
              <p:cNvSpPr/>
              <p:nvPr/>
            </p:nvSpPr>
            <p:spPr>
              <a:xfrm flipH="1" rot="21395400">
                <a:off x="5826240" y="5888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85" name=""/>
            <p:cNvGrpSpPr/>
            <p:nvPr/>
          </p:nvGrpSpPr>
          <p:grpSpPr>
            <a:xfrm>
              <a:off x="5385960" y="5877000"/>
              <a:ext cx="410760" cy="580320"/>
              <a:chOff x="5385960" y="5877000"/>
              <a:chExt cx="410760" cy="580320"/>
            </a:xfrm>
          </p:grpSpPr>
          <p:sp>
            <p:nvSpPr>
              <p:cNvPr id="17486" name=""/>
              <p:cNvSpPr/>
              <p:nvPr/>
            </p:nvSpPr>
            <p:spPr>
              <a:xfrm flipH="1">
                <a:off x="5616360" y="58986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7" name=""/>
              <p:cNvSpPr/>
              <p:nvPr/>
            </p:nvSpPr>
            <p:spPr>
              <a:xfrm flipH="1" rot="20966400">
                <a:off x="5579280" y="589788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8" name=""/>
              <p:cNvSpPr/>
              <p:nvPr/>
            </p:nvSpPr>
            <p:spPr>
              <a:xfrm flipH="1">
                <a:off x="5608800" y="587700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9" name=""/>
              <p:cNvSpPr/>
              <p:nvPr/>
            </p:nvSpPr>
            <p:spPr>
              <a:xfrm flipH="1" rot="19818600">
                <a:off x="5507640" y="5918760"/>
                <a:ext cx="156600" cy="534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0" name=""/>
              <p:cNvSpPr/>
              <p:nvPr/>
            </p:nvSpPr>
            <p:spPr>
              <a:xfrm flipH="1" rot="20712000">
                <a:off x="555012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1" name=""/>
              <p:cNvSpPr/>
              <p:nvPr/>
            </p:nvSpPr>
            <p:spPr>
              <a:xfrm flipH="1" rot="20145600">
                <a:off x="5536440" y="5897520"/>
                <a:ext cx="156600" cy="53424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92" name=""/>
            <p:cNvGrpSpPr/>
            <p:nvPr/>
          </p:nvGrpSpPr>
          <p:grpSpPr>
            <a:xfrm>
              <a:off x="5889240" y="5991840"/>
              <a:ext cx="484560" cy="370080"/>
              <a:chOff x="5889240" y="5991840"/>
              <a:chExt cx="484560" cy="370080"/>
            </a:xfrm>
          </p:grpSpPr>
          <p:sp>
            <p:nvSpPr>
              <p:cNvPr id="17493" name=""/>
              <p:cNvSpPr/>
              <p:nvPr/>
            </p:nvSpPr>
            <p:spPr>
              <a:xfrm flipH="1">
                <a:off x="611748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4" name=""/>
              <p:cNvSpPr/>
              <p:nvPr/>
            </p:nvSpPr>
            <p:spPr>
              <a:xfrm flipH="1" rot="20966400">
                <a:off x="6057720" y="60318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5" name=""/>
              <p:cNvSpPr/>
              <p:nvPr/>
            </p:nvSpPr>
            <p:spPr>
              <a:xfrm flipH="1">
                <a:off x="6104880" y="60213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6" name=""/>
              <p:cNvSpPr/>
              <p:nvPr/>
            </p:nvSpPr>
            <p:spPr>
              <a:xfrm flipH="1" rot="19818600">
                <a:off x="5940000" y="604260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7" name=""/>
              <p:cNvSpPr/>
              <p:nvPr/>
            </p:nvSpPr>
            <p:spPr>
              <a:xfrm flipH="1" rot="20712000">
                <a:off x="6010920" y="6032160"/>
                <a:ext cx="255960" cy="27360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8" name=""/>
              <p:cNvSpPr/>
              <p:nvPr/>
            </p:nvSpPr>
            <p:spPr>
              <a:xfrm flipH="1" rot="20145600">
                <a:off x="5987520" y="6032160"/>
                <a:ext cx="255960" cy="27396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99" name=""/>
            <p:cNvGrpSpPr/>
            <p:nvPr/>
          </p:nvGrpSpPr>
          <p:grpSpPr>
            <a:xfrm>
              <a:off x="5429880" y="5709960"/>
              <a:ext cx="480240" cy="570960"/>
              <a:chOff x="5429880" y="5709960"/>
              <a:chExt cx="480240" cy="570960"/>
            </a:xfrm>
          </p:grpSpPr>
          <p:sp>
            <p:nvSpPr>
              <p:cNvPr id="17500" name=""/>
              <p:cNvSpPr/>
              <p:nvPr/>
            </p:nvSpPr>
            <p:spPr>
              <a:xfrm flipH="1" rot="20730600">
                <a:off x="5686560" y="5739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1" name=""/>
              <p:cNvSpPr/>
              <p:nvPr/>
            </p:nvSpPr>
            <p:spPr>
              <a:xfrm flipH="1" rot="20097000">
                <a:off x="5650560" y="57477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2" name=""/>
              <p:cNvSpPr/>
              <p:nvPr/>
            </p:nvSpPr>
            <p:spPr>
              <a:xfrm flipH="1" rot="20730600">
                <a:off x="5674320" y="57211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3" name=""/>
              <p:cNvSpPr/>
              <p:nvPr/>
            </p:nvSpPr>
            <p:spPr>
              <a:xfrm flipH="1" rot="18948600">
                <a:off x="5586480" y="578484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4" name=""/>
              <p:cNvSpPr/>
              <p:nvPr/>
            </p:nvSpPr>
            <p:spPr>
              <a:xfrm flipH="1" rot="19842600">
                <a:off x="5623200" y="5755320"/>
                <a:ext cx="156600" cy="513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5" name=""/>
              <p:cNvSpPr/>
              <p:nvPr/>
            </p:nvSpPr>
            <p:spPr>
              <a:xfrm flipH="1" rot="19276200">
                <a:off x="5609520" y="57589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06" name=""/>
            <p:cNvGrpSpPr/>
            <p:nvPr/>
          </p:nvGrpSpPr>
          <p:grpSpPr>
            <a:xfrm>
              <a:off x="5762160" y="5734800"/>
              <a:ext cx="315720" cy="409320"/>
              <a:chOff x="5762160" y="5734800"/>
              <a:chExt cx="315720" cy="409320"/>
            </a:xfrm>
          </p:grpSpPr>
          <p:sp>
            <p:nvSpPr>
              <p:cNvPr id="17507" name=""/>
              <p:cNvSpPr/>
              <p:nvPr/>
            </p:nvSpPr>
            <p:spPr>
              <a:xfrm flipH="1" rot="1182600">
                <a:off x="5884920" y="5762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8" name=""/>
              <p:cNvSpPr/>
              <p:nvPr/>
            </p:nvSpPr>
            <p:spPr>
              <a:xfrm flipH="1" rot="548400">
                <a:off x="5855400" y="57517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9" name=""/>
              <p:cNvSpPr/>
              <p:nvPr/>
            </p:nvSpPr>
            <p:spPr>
              <a:xfrm flipH="1" rot="1182600">
                <a:off x="5883840" y="57463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0" name=""/>
              <p:cNvSpPr/>
              <p:nvPr/>
            </p:nvSpPr>
            <p:spPr>
              <a:xfrm flipH="1" rot="21001200">
                <a:off x="5793120" y="574416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1" name=""/>
              <p:cNvSpPr/>
              <p:nvPr/>
            </p:nvSpPr>
            <p:spPr>
              <a:xfrm flipH="1" rot="294000">
                <a:off x="5832360" y="574344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2" name=""/>
              <p:cNvSpPr/>
              <p:nvPr/>
            </p:nvSpPr>
            <p:spPr>
              <a:xfrm flipH="1" rot="21328200">
                <a:off x="5820840" y="5739120"/>
                <a:ext cx="134280" cy="36972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13" name=""/>
            <p:cNvGrpSpPr/>
            <p:nvPr/>
          </p:nvGrpSpPr>
          <p:grpSpPr>
            <a:xfrm>
              <a:off x="5247000" y="5661000"/>
              <a:ext cx="401400" cy="559080"/>
              <a:chOff x="5247000" y="5661000"/>
              <a:chExt cx="401400" cy="559080"/>
            </a:xfrm>
          </p:grpSpPr>
          <p:sp>
            <p:nvSpPr>
              <p:cNvPr id="17514" name=""/>
              <p:cNvSpPr/>
              <p:nvPr/>
            </p:nvSpPr>
            <p:spPr>
              <a:xfrm flipH="1">
                <a:off x="5472000" y="568152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5" name=""/>
              <p:cNvSpPr/>
              <p:nvPr/>
            </p:nvSpPr>
            <p:spPr>
              <a:xfrm flipH="1" rot="20966400">
                <a:off x="543528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764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6" name=""/>
              <p:cNvSpPr/>
              <p:nvPr/>
            </p:nvSpPr>
            <p:spPr>
              <a:xfrm flipH="1">
                <a:off x="5464440" y="56610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7" name=""/>
              <p:cNvSpPr/>
              <p:nvPr/>
            </p:nvSpPr>
            <p:spPr>
              <a:xfrm flipH="1" rot="19818600">
                <a:off x="5363640" y="57009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61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8" name=""/>
              <p:cNvSpPr/>
              <p:nvPr/>
            </p:nvSpPr>
            <p:spPr>
              <a:xfrm flipH="1" rot="20712000">
                <a:off x="5405760" y="568080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45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9" name=""/>
              <p:cNvSpPr/>
              <p:nvPr/>
            </p:nvSpPr>
            <p:spPr>
              <a:xfrm flipH="1" rot="20145600">
                <a:off x="5392800" y="5681160"/>
                <a:ext cx="156600" cy="514080"/>
              </a:xfrm>
              <a:custGeom>
                <a:avLst/>
                <a:gdLst/>
                <a:ahLst/>
                <a:rect l="l" t="t" r="r" b="b"/>
                <a:pathLst>
                  <a:path w="495" h="1166">
                    <a:moveTo>
                      <a:pt x="495" y="1151"/>
                    </a:moveTo>
                    <a:cubicBezTo>
                      <a:pt x="456" y="1166"/>
                      <a:pt x="407" y="1110"/>
                      <a:pt x="387" y="1007"/>
                    </a:cubicBezTo>
                    <a:cubicBezTo>
                      <a:pt x="367" y="904"/>
                      <a:pt x="435" y="693"/>
                      <a:pt x="375" y="533"/>
                    </a:cubicBezTo>
                    <a:cubicBezTo>
                      <a:pt x="315" y="373"/>
                      <a:pt x="50" y="88"/>
                      <a:pt x="25" y="44"/>
                    </a:cubicBezTo>
                    <a:cubicBezTo>
                      <a:pt x="0" y="0"/>
                      <a:pt x="166" y="198"/>
                      <a:pt x="225" y="269"/>
                    </a:cubicBezTo>
                    <a:cubicBezTo>
                      <a:pt x="284" y="340"/>
                      <a:pt x="344" y="400"/>
                      <a:pt x="381" y="473"/>
                    </a:cubicBezTo>
                    <a:cubicBezTo>
                      <a:pt x="418" y="546"/>
                      <a:pt x="439" y="622"/>
                      <a:pt x="447" y="707"/>
                    </a:cubicBezTo>
                    <a:cubicBezTo>
                      <a:pt x="455" y="792"/>
                      <a:pt x="424" y="923"/>
                      <a:pt x="429" y="983"/>
                    </a:cubicBezTo>
                    <a:cubicBezTo>
                      <a:pt x="434" y="1043"/>
                      <a:pt x="466" y="1039"/>
                      <a:pt x="477" y="1067"/>
                    </a:cubicBezTo>
                    <a:cubicBezTo>
                      <a:pt x="488" y="1095"/>
                      <a:pt x="491" y="1134"/>
                      <a:pt x="495" y="115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000000"/>
                  </a:gs>
                </a:gsLst>
                <a:lin ang="3948000"/>
              </a:gradFill>
              <a:ln w="936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520" name=""/>
          <p:cNvGrpSpPr/>
          <p:nvPr/>
        </p:nvGrpSpPr>
        <p:grpSpPr>
          <a:xfrm>
            <a:off x="3775320" y="5342760"/>
            <a:ext cx="405000" cy="349200"/>
            <a:chOff x="3775320" y="5342760"/>
            <a:chExt cx="405000" cy="349200"/>
          </a:xfrm>
        </p:grpSpPr>
        <p:sp>
          <p:nvSpPr>
            <p:cNvPr id="17521" name=""/>
            <p:cNvSpPr/>
            <p:nvPr/>
          </p:nvSpPr>
          <p:spPr>
            <a:xfrm rot="18355800">
              <a:off x="3905280" y="5319720"/>
              <a:ext cx="14472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2" name=""/>
            <p:cNvSpPr/>
            <p:nvPr/>
          </p:nvSpPr>
          <p:spPr>
            <a:xfrm rot="18355800">
              <a:off x="3911400" y="5340240"/>
              <a:ext cx="11232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23" name=""/>
          <p:cNvGrpSpPr/>
          <p:nvPr/>
        </p:nvGrpSpPr>
        <p:grpSpPr>
          <a:xfrm>
            <a:off x="3703680" y="4479120"/>
            <a:ext cx="405000" cy="349200"/>
            <a:chOff x="3703680" y="4479120"/>
            <a:chExt cx="405000" cy="349200"/>
          </a:xfrm>
        </p:grpSpPr>
        <p:sp>
          <p:nvSpPr>
            <p:cNvPr id="17524" name=""/>
            <p:cNvSpPr/>
            <p:nvPr/>
          </p:nvSpPr>
          <p:spPr>
            <a:xfrm rot="18355800">
              <a:off x="3833640" y="4456080"/>
              <a:ext cx="144720" cy="39528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5" name=""/>
            <p:cNvSpPr/>
            <p:nvPr/>
          </p:nvSpPr>
          <p:spPr>
            <a:xfrm rot="18355800">
              <a:off x="3839760" y="4476600"/>
              <a:ext cx="112320" cy="35280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26" name=""/>
          <p:cNvSpPr/>
          <p:nvPr/>
        </p:nvSpPr>
        <p:spPr>
          <a:xfrm>
            <a:off x="7669080" y="3213000"/>
            <a:ext cx="289080" cy="36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7" name=""/>
          <p:cNvSpPr/>
          <p:nvPr/>
        </p:nvSpPr>
        <p:spPr>
          <a:xfrm>
            <a:off x="7308720" y="3716280"/>
            <a:ext cx="936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8" name=""/>
          <p:cNvSpPr txBox="1"/>
          <p:nvPr/>
        </p:nvSpPr>
        <p:spPr>
          <a:xfrm>
            <a:off x="7380360" y="3716280"/>
            <a:ext cx="801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29" name=""/>
          <p:cNvSpPr/>
          <p:nvPr/>
        </p:nvSpPr>
        <p:spPr>
          <a:xfrm>
            <a:off x="6875640" y="5013360"/>
            <a:ext cx="100800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0" name=""/>
          <p:cNvSpPr txBox="1"/>
          <p:nvPr/>
        </p:nvSpPr>
        <p:spPr>
          <a:xfrm>
            <a:off x="6948360" y="5013360"/>
            <a:ext cx="8748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оникар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рина и Никола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31" name=""/>
          <p:cNvSpPr/>
          <p:nvPr/>
        </p:nvSpPr>
        <p:spPr>
          <a:xfrm>
            <a:off x="8244000" y="2276640"/>
            <a:ext cx="28872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2" name=""/>
          <p:cNvSpPr/>
          <p:nvPr/>
        </p:nvSpPr>
        <p:spPr>
          <a:xfrm>
            <a:off x="8170920" y="270828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3" name=""/>
          <p:cNvSpPr txBox="1"/>
          <p:nvPr/>
        </p:nvSpPr>
        <p:spPr>
          <a:xfrm>
            <a:off x="8242200" y="2708280"/>
            <a:ext cx="37008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нто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34" name=""/>
          <p:cNvSpPr/>
          <p:nvPr/>
        </p:nvSpPr>
        <p:spPr>
          <a:xfrm>
            <a:off x="7524720" y="2421000"/>
            <a:ext cx="289080" cy="36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5" name=""/>
          <p:cNvSpPr/>
          <p:nvPr/>
        </p:nvSpPr>
        <p:spPr>
          <a:xfrm>
            <a:off x="7451640" y="285264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6" name=""/>
          <p:cNvSpPr txBox="1"/>
          <p:nvPr/>
        </p:nvSpPr>
        <p:spPr>
          <a:xfrm>
            <a:off x="7523280" y="2852640"/>
            <a:ext cx="369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го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37" name=""/>
          <p:cNvSpPr/>
          <p:nvPr/>
        </p:nvSpPr>
        <p:spPr>
          <a:xfrm>
            <a:off x="6732720" y="2708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8" name=""/>
          <p:cNvSpPr/>
          <p:nvPr/>
        </p:nvSpPr>
        <p:spPr>
          <a:xfrm>
            <a:off x="7020000" y="2708280"/>
            <a:ext cx="288720" cy="36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9" name=""/>
          <p:cNvSpPr/>
          <p:nvPr/>
        </p:nvSpPr>
        <p:spPr>
          <a:xfrm>
            <a:off x="6948360" y="1916280"/>
            <a:ext cx="289080" cy="36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40" name=""/>
          <p:cNvGrpSpPr/>
          <p:nvPr/>
        </p:nvGrpSpPr>
        <p:grpSpPr>
          <a:xfrm>
            <a:off x="6875640" y="2997360"/>
            <a:ext cx="215640" cy="144360"/>
            <a:chOff x="6875640" y="2997360"/>
            <a:chExt cx="215640" cy="144360"/>
          </a:xfrm>
        </p:grpSpPr>
        <p:sp>
          <p:nvSpPr>
            <p:cNvPr id="17541" name=""/>
            <p:cNvSpPr/>
            <p:nvPr/>
          </p:nvSpPr>
          <p:spPr>
            <a:xfrm>
              <a:off x="6875640" y="29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2" name=""/>
            <p:cNvSpPr/>
            <p:nvPr/>
          </p:nvSpPr>
          <p:spPr>
            <a:xfrm>
              <a:off x="6937200" y="2997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43" name=""/>
          <p:cNvSpPr/>
          <p:nvPr/>
        </p:nvSpPr>
        <p:spPr>
          <a:xfrm>
            <a:off x="6586560" y="3213000"/>
            <a:ext cx="86508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4" name=""/>
          <p:cNvSpPr txBox="1"/>
          <p:nvPr/>
        </p:nvSpPr>
        <p:spPr>
          <a:xfrm>
            <a:off x="6659640" y="3213000"/>
            <a:ext cx="7189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роткин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авел и 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45" name=""/>
          <p:cNvSpPr/>
          <p:nvPr/>
        </p:nvSpPr>
        <p:spPr>
          <a:xfrm>
            <a:off x="6804000" y="2276640"/>
            <a:ext cx="57636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6" name=""/>
          <p:cNvSpPr txBox="1"/>
          <p:nvPr/>
        </p:nvSpPr>
        <p:spPr>
          <a:xfrm>
            <a:off x="6877080" y="2276640"/>
            <a:ext cx="433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иротк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И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47" name=""/>
          <p:cNvSpPr/>
          <p:nvPr/>
        </p:nvSpPr>
        <p:spPr>
          <a:xfrm>
            <a:off x="5940360" y="3357720"/>
            <a:ext cx="289080" cy="360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8" name=""/>
          <p:cNvSpPr/>
          <p:nvPr/>
        </p:nvSpPr>
        <p:spPr>
          <a:xfrm>
            <a:off x="6227640" y="3357720"/>
            <a:ext cx="289080" cy="36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9" name=""/>
          <p:cNvSpPr/>
          <p:nvPr/>
        </p:nvSpPr>
        <p:spPr>
          <a:xfrm>
            <a:off x="6084720" y="2492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50" name=""/>
          <p:cNvGrpSpPr/>
          <p:nvPr/>
        </p:nvGrpSpPr>
        <p:grpSpPr>
          <a:xfrm>
            <a:off x="6156360" y="3646440"/>
            <a:ext cx="215640" cy="144360"/>
            <a:chOff x="6156360" y="3646440"/>
            <a:chExt cx="215640" cy="144360"/>
          </a:xfrm>
        </p:grpSpPr>
        <p:sp>
          <p:nvSpPr>
            <p:cNvPr id="17551" name=""/>
            <p:cNvSpPr/>
            <p:nvPr/>
          </p:nvSpPr>
          <p:spPr>
            <a:xfrm>
              <a:off x="6156360" y="3646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2" name=""/>
            <p:cNvSpPr/>
            <p:nvPr/>
          </p:nvSpPr>
          <p:spPr>
            <a:xfrm>
              <a:off x="6217920" y="3646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53" name=""/>
          <p:cNvSpPr/>
          <p:nvPr/>
        </p:nvSpPr>
        <p:spPr>
          <a:xfrm>
            <a:off x="5724360" y="386244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4" name=""/>
          <p:cNvSpPr txBox="1"/>
          <p:nvPr/>
        </p:nvSpPr>
        <p:spPr>
          <a:xfrm>
            <a:off x="5796000" y="3862440"/>
            <a:ext cx="94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вгений и Крист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55" name=""/>
          <p:cNvSpPr/>
          <p:nvPr/>
        </p:nvSpPr>
        <p:spPr>
          <a:xfrm>
            <a:off x="5940360" y="2924280"/>
            <a:ext cx="503280" cy="287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6" name=""/>
          <p:cNvSpPr txBox="1"/>
          <p:nvPr/>
        </p:nvSpPr>
        <p:spPr>
          <a:xfrm>
            <a:off x="6012000" y="2924280"/>
            <a:ext cx="3697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Денис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557" name="">
            <a:hlinkClick r:id="rId8" action="ppaction://hlinksldjump"/>
          </p:cNvPr>
          <p:cNvSpPr/>
          <p:nvPr/>
        </p:nvSpPr>
        <p:spPr>
          <a:xfrm>
            <a:off x="5292720" y="4508640"/>
            <a:ext cx="289080" cy="36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8" name="">
            <a:hlinkClick r:id="rId10" action="ppaction://hlinksldjump"/>
          </p:cNvPr>
          <p:cNvSpPr/>
          <p:nvPr/>
        </p:nvSpPr>
        <p:spPr>
          <a:xfrm>
            <a:off x="5580000" y="4508640"/>
            <a:ext cx="289080" cy="3603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9" name=""/>
          <p:cNvSpPr/>
          <p:nvPr/>
        </p:nvSpPr>
        <p:spPr>
          <a:xfrm>
            <a:off x="5076720" y="501336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0" name=""/>
          <p:cNvSpPr txBox="1"/>
          <p:nvPr/>
        </p:nvSpPr>
        <p:spPr>
          <a:xfrm>
            <a:off x="5148360" y="5013360"/>
            <a:ext cx="94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улаковы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Людмила и Валерий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7561" name=""/>
          <p:cNvGrpSpPr/>
          <p:nvPr/>
        </p:nvGrpSpPr>
        <p:grpSpPr>
          <a:xfrm>
            <a:off x="5508720" y="4795920"/>
            <a:ext cx="215640" cy="144360"/>
            <a:chOff x="5508720" y="4795920"/>
            <a:chExt cx="215640" cy="144360"/>
          </a:xfrm>
        </p:grpSpPr>
        <p:sp>
          <p:nvSpPr>
            <p:cNvPr id="17562" name=""/>
            <p:cNvSpPr/>
            <p:nvPr/>
          </p:nvSpPr>
          <p:spPr>
            <a:xfrm>
              <a:off x="5508720" y="4795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3" name=""/>
            <p:cNvSpPr/>
            <p:nvPr/>
          </p:nvSpPr>
          <p:spPr>
            <a:xfrm>
              <a:off x="5570280" y="4795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64" name="">
            <a:hlinkClick r:id="rId12" action="ppaction://hlinksldjump"/>
          </p:cNvPr>
          <p:cNvSpPr/>
          <p:nvPr/>
        </p:nvSpPr>
        <p:spPr>
          <a:xfrm>
            <a:off x="3995640" y="3789360"/>
            <a:ext cx="289080" cy="3603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5" name=""/>
          <p:cNvSpPr/>
          <p:nvPr/>
        </p:nvSpPr>
        <p:spPr>
          <a:xfrm>
            <a:off x="4282920" y="378936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66" name=""/>
          <p:cNvGrpSpPr/>
          <p:nvPr/>
        </p:nvGrpSpPr>
        <p:grpSpPr>
          <a:xfrm>
            <a:off x="4211640" y="4078440"/>
            <a:ext cx="215640" cy="144360"/>
            <a:chOff x="4211640" y="4078440"/>
            <a:chExt cx="215640" cy="144360"/>
          </a:xfrm>
        </p:grpSpPr>
        <p:sp>
          <p:nvSpPr>
            <p:cNvPr id="17567" name=""/>
            <p:cNvSpPr/>
            <p:nvPr/>
          </p:nvSpPr>
          <p:spPr>
            <a:xfrm>
              <a:off x="4211640" y="4078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8" name=""/>
            <p:cNvSpPr/>
            <p:nvPr/>
          </p:nvSpPr>
          <p:spPr>
            <a:xfrm>
              <a:off x="4273200" y="40784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69" name="">
            <a:hlinkClick r:id="rId14" action="ppaction://hlinksldjump"/>
          </p:cNvPr>
          <p:cNvSpPr/>
          <p:nvPr/>
        </p:nvSpPr>
        <p:spPr>
          <a:xfrm>
            <a:off x="3132000" y="3860640"/>
            <a:ext cx="289080" cy="3603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0" name=""/>
          <p:cNvSpPr/>
          <p:nvPr/>
        </p:nvSpPr>
        <p:spPr>
          <a:xfrm>
            <a:off x="3419640" y="3860640"/>
            <a:ext cx="288720" cy="3603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71" name=""/>
          <p:cNvGrpSpPr/>
          <p:nvPr/>
        </p:nvGrpSpPr>
        <p:grpSpPr>
          <a:xfrm>
            <a:off x="3276720" y="4149720"/>
            <a:ext cx="215640" cy="144360"/>
            <a:chOff x="3276720" y="4149720"/>
            <a:chExt cx="215640" cy="144360"/>
          </a:xfrm>
        </p:grpSpPr>
        <p:sp>
          <p:nvSpPr>
            <p:cNvPr id="17572" name=""/>
            <p:cNvSpPr/>
            <p:nvPr/>
          </p:nvSpPr>
          <p:spPr>
            <a:xfrm>
              <a:off x="3276720" y="4149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3" name=""/>
            <p:cNvSpPr/>
            <p:nvPr/>
          </p:nvSpPr>
          <p:spPr>
            <a:xfrm>
              <a:off x="3338280" y="41497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74" name="">
            <a:hlinkClick r:id="rId17" action="ppaction://hlinksldjump"/>
          </p:cNvPr>
          <p:cNvSpPr/>
          <p:nvPr/>
        </p:nvSpPr>
        <p:spPr>
          <a:xfrm>
            <a:off x="2052720" y="4724280"/>
            <a:ext cx="288720" cy="3603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5" name=""/>
          <p:cNvSpPr/>
          <p:nvPr/>
        </p:nvSpPr>
        <p:spPr>
          <a:xfrm>
            <a:off x="2340000" y="4724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76" name=""/>
          <p:cNvGrpSpPr/>
          <p:nvPr/>
        </p:nvGrpSpPr>
        <p:grpSpPr>
          <a:xfrm>
            <a:off x="2268360" y="5013360"/>
            <a:ext cx="215640" cy="144360"/>
            <a:chOff x="2268360" y="5013360"/>
            <a:chExt cx="215640" cy="144360"/>
          </a:xfrm>
        </p:grpSpPr>
        <p:sp>
          <p:nvSpPr>
            <p:cNvPr id="17577" name=""/>
            <p:cNvSpPr/>
            <p:nvPr/>
          </p:nvSpPr>
          <p:spPr>
            <a:xfrm>
              <a:off x="2268360" y="5013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8" name=""/>
            <p:cNvSpPr/>
            <p:nvPr/>
          </p:nvSpPr>
          <p:spPr>
            <a:xfrm>
              <a:off x="2329920" y="501336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79" name=""/>
          <p:cNvSpPr/>
          <p:nvPr/>
        </p:nvSpPr>
        <p:spPr>
          <a:xfrm>
            <a:off x="2195640" y="1916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0" name=""/>
          <p:cNvSpPr/>
          <p:nvPr/>
        </p:nvSpPr>
        <p:spPr>
          <a:xfrm>
            <a:off x="2482920" y="1916280"/>
            <a:ext cx="288720" cy="36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81" name=""/>
          <p:cNvGrpSpPr/>
          <p:nvPr/>
        </p:nvGrpSpPr>
        <p:grpSpPr>
          <a:xfrm>
            <a:off x="2411280" y="2205000"/>
            <a:ext cx="215640" cy="144360"/>
            <a:chOff x="2411280" y="2205000"/>
            <a:chExt cx="215640" cy="144360"/>
          </a:xfrm>
        </p:grpSpPr>
        <p:sp>
          <p:nvSpPr>
            <p:cNvPr id="17582" name=""/>
            <p:cNvSpPr/>
            <p:nvPr/>
          </p:nvSpPr>
          <p:spPr>
            <a:xfrm>
              <a:off x="2411280" y="2205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3" name=""/>
            <p:cNvSpPr/>
            <p:nvPr/>
          </p:nvSpPr>
          <p:spPr>
            <a:xfrm>
              <a:off x="2472840" y="220500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84" name=""/>
          <p:cNvSpPr/>
          <p:nvPr/>
        </p:nvSpPr>
        <p:spPr>
          <a:xfrm>
            <a:off x="3059280" y="2060640"/>
            <a:ext cx="288720" cy="3603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5" name=""/>
          <p:cNvSpPr/>
          <p:nvPr/>
        </p:nvSpPr>
        <p:spPr>
          <a:xfrm>
            <a:off x="971640" y="299736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6" name=""/>
          <p:cNvSpPr/>
          <p:nvPr/>
        </p:nvSpPr>
        <p:spPr>
          <a:xfrm>
            <a:off x="1547640" y="3500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7" name=""/>
          <p:cNvSpPr/>
          <p:nvPr/>
        </p:nvSpPr>
        <p:spPr>
          <a:xfrm>
            <a:off x="3780000" y="227664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8" name=""/>
          <p:cNvSpPr/>
          <p:nvPr/>
        </p:nvSpPr>
        <p:spPr>
          <a:xfrm>
            <a:off x="4067280" y="1700280"/>
            <a:ext cx="28872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9" name=""/>
          <p:cNvSpPr/>
          <p:nvPr/>
        </p:nvSpPr>
        <p:spPr>
          <a:xfrm>
            <a:off x="4716360" y="2708280"/>
            <a:ext cx="289080" cy="36036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0" name=""/>
          <p:cNvSpPr/>
          <p:nvPr/>
        </p:nvSpPr>
        <p:spPr>
          <a:xfrm>
            <a:off x="3851280" y="429264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1" name=""/>
          <p:cNvSpPr/>
          <p:nvPr/>
        </p:nvSpPr>
        <p:spPr>
          <a:xfrm>
            <a:off x="2700360" y="436572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2" name=""/>
          <p:cNvSpPr/>
          <p:nvPr/>
        </p:nvSpPr>
        <p:spPr>
          <a:xfrm>
            <a:off x="3635280" y="5950080"/>
            <a:ext cx="1513080" cy="50328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3" name=""/>
          <p:cNvSpPr/>
          <p:nvPr/>
        </p:nvSpPr>
        <p:spPr>
          <a:xfrm>
            <a:off x="1763640" y="242100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4" name=""/>
          <p:cNvSpPr/>
          <p:nvPr/>
        </p:nvSpPr>
        <p:spPr>
          <a:xfrm>
            <a:off x="1763640" y="5229360"/>
            <a:ext cx="107964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95" name=""/>
          <p:cNvGrpSpPr/>
          <p:nvPr/>
        </p:nvGrpSpPr>
        <p:grpSpPr>
          <a:xfrm>
            <a:off x="4570200" y="5013360"/>
            <a:ext cx="96840" cy="900000"/>
            <a:chOff x="4570200" y="5013360"/>
            <a:chExt cx="96840" cy="900000"/>
          </a:xfrm>
        </p:grpSpPr>
        <p:sp>
          <p:nvSpPr>
            <p:cNvPr id="17596" name=""/>
            <p:cNvSpPr/>
            <p:nvPr/>
          </p:nvSpPr>
          <p:spPr>
            <a:xfrm flipH="1">
              <a:off x="4569840" y="5013360"/>
              <a:ext cx="96840" cy="9000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7" name=""/>
            <p:cNvSpPr/>
            <p:nvPr/>
          </p:nvSpPr>
          <p:spPr>
            <a:xfrm flipH="1">
              <a:off x="4584240" y="5043600"/>
              <a:ext cx="75240" cy="80316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98" name=""/>
          <p:cNvGrpSpPr/>
          <p:nvPr/>
        </p:nvGrpSpPr>
        <p:grpSpPr>
          <a:xfrm>
            <a:off x="4138560" y="5084640"/>
            <a:ext cx="71640" cy="612720"/>
            <a:chOff x="4138560" y="5084640"/>
            <a:chExt cx="71640" cy="612720"/>
          </a:xfrm>
        </p:grpSpPr>
        <p:sp>
          <p:nvSpPr>
            <p:cNvPr id="17599" name=""/>
            <p:cNvSpPr/>
            <p:nvPr/>
          </p:nvSpPr>
          <p:spPr>
            <a:xfrm>
              <a:off x="4138560" y="5084640"/>
              <a:ext cx="71640" cy="61272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0" name=""/>
            <p:cNvSpPr/>
            <p:nvPr/>
          </p:nvSpPr>
          <p:spPr>
            <a:xfrm>
              <a:off x="4143600" y="5105160"/>
              <a:ext cx="55800" cy="54684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01" name=""/>
          <p:cNvGrpSpPr/>
          <p:nvPr/>
        </p:nvGrpSpPr>
        <p:grpSpPr>
          <a:xfrm>
            <a:off x="4319640" y="5154480"/>
            <a:ext cx="69840" cy="714600"/>
            <a:chOff x="4319640" y="5154480"/>
            <a:chExt cx="69840" cy="714600"/>
          </a:xfrm>
        </p:grpSpPr>
        <p:sp>
          <p:nvSpPr>
            <p:cNvPr id="17602" name=""/>
            <p:cNvSpPr/>
            <p:nvPr/>
          </p:nvSpPr>
          <p:spPr>
            <a:xfrm>
              <a:off x="4319640" y="5154480"/>
              <a:ext cx="69840" cy="714600"/>
            </a:xfrm>
            <a:custGeom>
              <a:avLst/>
              <a:gdLst/>
              <a:ahLst/>
              <a:rect l="l" t="t" r="r" b="b"/>
              <a:pathLst>
                <a:path w="401" h="2025">
                  <a:moveTo>
                    <a:pt x="99" y="1957"/>
                  </a:moveTo>
                  <a:cubicBezTo>
                    <a:pt x="99" y="1889"/>
                    <a:pt x="183" y="1549"/>
                    <a:pt x="190" y="1413"/>
                  </a:cubicBezTo>
                  <a:cubicBezTo>
                    <a:pt x="197" y="1277"/>
                    <a:pt x="152" y="1217"/>
                    <a:pt x="144" y="1141"/>
                  </a:cubicBezTo>
                  <a:cubicBezTo>
                    <a:pt x="136" y="1065"/>
                    <a:pt x="136" y="1042"/>
                    <a:pt x="144" y="959"/>
                  </a:cubicBezTo>
                  <a:cubicBezTo>
                    <a:pt x="152" y="876"/>
                    <a:pt x="205" y="717"/>
                    <a:pt x="190" y="642"/>
                  </a:cubicBezTo>
                  <a:cubicBezTo>
                    <a:pt x="175" y="567"/>
                    <a:pt x="83" y="574"/>
                    <a:pt x="53" y="506"/>
                  </a:cubicBezTo>
                  <a:cubicBezTo>
                    <a:pt x="23" y="438"/>
                    <a:pt x="0" y="317"/>
                    <a:pt x="8" y="234"/>
                  </a:cubicBezTo>
                  <a:cubicBezTo>
                    <a:pt x="16" y="151"/>
                    <a:pt x="84" y="0"/>
                    <a:pt x="99" y="7"/>
                  </a:cubicBezTo>
                  <a:cubicBezTo>
                    <a:pt x="114" y="14"/>
                    <a:pt x="92" y="211"/>
                    <a:pt x="99" y="279"/>
                  </a:cubicBezTo>
                  <a:cubicBezTo>
                    <a:pt x="106" y="347"/>
                    <a:pt x="106" y="377"/>
                    <a:pt x="144" y="415"/>
                  </a:cubicBezTo>
                  <a:cubicBezTo>
                    <a:pt x="182" y="453"/>
                    <a:pt x="296" y="438"/>
                    <a:pt x="326" y="506"/>
                  </a:cubicBezTo>
                  <a:cubicBezTo>
                    <a:pt x="356" y="574"/>
                    <a:pt x="334" y="732"/>
                    <a:pt x="326" y="823"/>
                  </a:cubicBezTo>
                  <a:cubicBezTo>
                    <a:pt x="318" y="914"/>
                    <a:pt x="273" y="982"/>
                    <a:pt x="280" y="1050"/>
                  </a:cubicBezTo>
                  <a:cubicBezTo>
                    <a:pt x="287" y="1118"/>
                    <a:pt x="356" y="1172"/>
                    <a:pt x="371" y="1232"/>
                  </a:cubicBezTo>
                  <a:cubicBezTo>
                    <a:pt x="386" y="1292"/>
                    <a:pt x="401" y="1315"/>
                    <a:pt x="371" y="1413"/>
                  </a:cubicBezTo>
                  <a:cubicBezTo>
                    <a:pt x="341" y="1511"/>
                    <a:pt x="235" y="1730"/>
                    <a:pt x="190" y="1821"/>
                  </a:cubicBezTo>
                  <a:cubicBezTo>
                    <a:pt x="145" y="1912"/>
                    <a:pt x="99" y="2025"/>
                    <a:pt x="99" y="1957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3" name=""/>
            <p:cNvSpPr/>
            <p:nvPr/>
          </p:nvSpPr>
          <p:spPr>
            <a:xfrm>
              <a:off x="4324680" y="5178240"/>
              <a:ext cx="54360" cy="637920"/>
            </a:xfrm>
            <a:custGeom>
              <a:avLst/>
              <a:gdLst/>
              <a:ahLst/>
              <a:rect l="l" t="t" r="r" b="b"/>
              <a:pathLst>
                <a:path w="311" h="1807">
                  <a:moveTo>
                    <a:pt x="114" y="1799"/>
                  </a:moveTo>
                  <a:cubicBezTo>
                    <a:pt x="99" y="1807"/>
                    <a:pt x="197" y="1436"/>
                    <a:pt x="205" y="1300"/>
                  </a:cubicBezTo>
                  <a:cubicBezTo>
                    <a:pt x="213" y="1164"/>
                    <a:pt x="160" y="1110"/>
                    <a:pt x="160" y="982"/>
                  </a:cubicBezTo>
                  <a:cubicBezTo>
                    <a:pt x="160" y="854"/>
                    <a:pt x="228" y="635"/>
                    <a:pt x="205" y="529"/>
                  </a:cubicBezTo>
                  <a:cubicBezTo>
                    <a:pt x="182" y="423"/>
                    <a:pt x="46" y="430"/>
                    <a:pt x="23" y="347"/>
                  </a:cubicBezTo>
                  <a:cubicBezTo>
                    <a:pt x="0" y="264"/>
                    <a:pt x="61" y="60"/>
                    <a:pt x="69" y="30"/>
                  </a:cubicBezTo>
                  <a:cubicBezTo>
                    <a:pt x="77" y="0"/>
                    <a:pt x="69" y="113"/>
                    <a:pt x="69" y="166"/>
                  </a:cubicBezTo>
                  <a:cubicBezTo>
                    <a:pt x="69" y="219"/>
                    <a:pt x="39" y="294"/>
                    <a:pt x="69" y="347"/>
                  </a:cubicBezTo>
                  <a:cubicBezTo>
                    <a:pt x="99" y="400"/>
                    <a:pt x="220" y="415"/>
                    <a:pt x="250" y="483"/>
                  </a:cubicBezTo>
                  <a:cubicBezTo>
                    <a:pt x="280" y="551"/>
                    <a:pt x="257" y="672"/>
                    <a:pt x="250" y="755"/>
                  </a:cubicBezTo>
                  <a:cubicBezTo>
                    <a:pt x="243" y="838"/>
                    <a:pt x="197" y="899"/>
                    <a:pt x="205" y="982"/>
                  </a:cubicBezTo>
                  <a:cubicBezTo>
                    <a:pt x="213" y="1065"/>
                    <a:pt x="311" y="1118"/>
                    <a:pt x="296" y="1254"/>
                  </a:cubicBezTo>
                  <a:cubicBezTo>
                    <a:pt x="281" y="1390"/>
                    <a:pt x="129" y="1791"/>
                    <a:pt x="114" y="1799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04" name="">
            <a:hlinkClick r:id="rId21" action="ppaction://hlinksldjump"/>
          </p:cNvPr>
          <p:cNvSpPr/>
          <p:nvPr/>
        </p:nvSpPr>
        <p:spPr>
          <a:xfrm>
            <a:off x="4427640" y="5013360"/>
            <a:ext cx="576000" cy="71928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5" name="">
            <a:hlinkClick r:id="rId22" action="ppaction://hlinksldjump"/>
          </p:cNvPr>
          <p:cNvSpPr/>
          <p:nvPr/>
        </p:nvSpPr>
        <p:spPr>
          <a:xfrm>
            <a:off x="3851280" y="5013360"/>
            <a:ext cx="576360" cy="71928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06" name=""/>
          <p:cNvGrpSpPr/>
          <p:nvPr/>
        </p:nvGrpSpPr>
        <p:grpSpPr>
          <a:xfrm>
            <a:off x="4282920" y="5732640"/>
            <a:ext cx="215640" cy="144360"/>
            <a:chOff x="4282920" y="5732640"/>
            <a:chExt cx="215640" cy="144360"/>
          </a:xfrm>
        </p:grpSpPr>
        <p:sp>
          <p:nvSpPr>
            <p:cNvPr id="17607" name=""/>
            <p:cNvSpPr/>
            <p:nvPr/>
          </p:nvSpPr>
          <p:spPr>
            <a:xfrm>
              <a:off x="4282920" y="573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8" name=""/>
            <p:cNvSpPr/>
            <p:nvPr/>
          </p:nvSpPr>
          <p:spPr>
            <a:xfrm>
              <a:off x="4344480" y="573264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09" name=""/>
          <p:cNvSpPr txBox="1"/>
          <p:nvPr/>
        </p:nvSpPr>
        <p:spPr>
          <a:xfrm>
            <a:off x="3708360" y="602136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Залама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Елизавета и 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0" name=""/>
          <p:cNvSpPr txBox="1"/>
          <p:nvPr/>
        </p:nvSpPr>
        <p:spPr>
          <a:xfrm>
            <a:off x="3924360" y="4292640"/>
            <a:ext cx="94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Залама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ергей и И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1" name=""/>
          <p:cNvSpPr txBox="1"/>
          <p:nvPr/>
        </p:nvSpPr>
        <p:spPr>
          <a:xfrm>
            <a:off x="2771640" y="4365720"/>
            <a:ext cx="944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Залама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иколай и Надежд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2" name=""/>
          <p:cNvSpPr/>
          <p:nvPr/>
        </p:nvSpPr>
        <p:spPr>
          <a:xfrm>
            <a:off x="2050920" y="1052640"/>
            <a:ext cx="289080" cy="3603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3" name=""/>
          <p:cNvSpPr txBox="1"/>
          <p:nvPr/>
        </p:nvSpPr>
        <p:spPr>
          <a:xfrm>
            <a:off x="1835280" y="2421000"/>
            <a:ext cx="944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еленко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ей и Ир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4" name=""/>
          <p:cNvSpPr txBox="1"/>
          <p:nvPr/>
        </p:nvSpPr>
        <p:spPr>
          <a:xfrm>
            <a:off x="1835280" y="5229360"/>
            <a:ext cx="944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ронычевы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алина и Константин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5" name=""/>
          <p:cNvSpPr/>
          <p:nvPr/>
        </p:nvSpPr>
        <p:spPr>
          <a:xfrm>
            <a:off x="1403280" y="3933720"/>
            <a:ext cx="72072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6" name=""/>
          <p:cNvSpPr txBox="1"/>
          <p:nvPr/>
        </p:nvSpPr>
        <p:spPr>
          <a:xfrm>
            <a:off x="1476360" y="4005360"/>
            <a:ext cx="574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роныче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7" name=""/>
          <p:cNvSpPr/>
          <p:nvPr/>
        </p:nvSpPr>
        <p:spPr>
          <a:xfrm>
            <a:off x="755640" y="3429000"/>
            <a:ext cx="7207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8" name=""/>
          <p:cNvSpPr txBox="1"/>
          <p:nvPr/>
        </p:nvSpPr>
        <p:spPr>
          <a:xfrm>
            <a:off x="826920" y="3500280"/>
            <a:ext cx="5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ироныче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19" name=""/>
          <p:cNvSpPr/>
          <p:nvPr/>
        </p:nvSpPr>
        <p:spPr>
          <a:xfrm>
            <a:off x="2914560" y="2421000"/>
            <a:ext cx="72072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0" name=""/>
          <p:cNvSpPr txBox="1"/>
          <p:nvPr/>
        </p:nvSpPr>
        <p:spPr>
          <a:xfrm>
            <a:off x="2987640" y="2492280"/>
            <a:ext cx="574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Червяков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али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21" name=""/>
          <p:cNvSpPr/>
          <p:nvPr/>
        </p:nvSpPr>
        <p:spPr>
          <a:xfrm>
            <a:off x="1908000" y="1484280"/>
            <a:ext cx="72108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2" name=""/>
          <p:cNvSpPr txBox="1"/>
          <p:nvPr/>
        </p:nvSpPr>
        <p:spPr>
          <a:xfrm>
            <a:off x="1981080" y="1555920"/>
            <a:ext cx="574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Теленко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Кирилл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23" name=""/>
          <p:cNvSpPr/>
          <p:nvPr/>
        </p:nvSpPr>
        <p:spPr>
          <a:xfrm>
            <a:off x="3672000" y="2709720"/>
            <a:ext cx="53964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4" name=""/>
          <p:cNvSpPr txBox="1"/>
          <p:nvPr/>
        </p:nvSpPr>
        <p:spPr>
          <a:xfrm>
            <a:off x="3708360" y="2781360"/>
            <a:ext cx="4302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Светлана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25" name=""/>
          <p:cNvSpPr/>
          <p:nvPr/>
        </p:nvSpPr>
        <p:spPr>
          <a:xfrm>
            <a:off x="4140360" y="2205000"/>
            <a:ext cx="539640" cy="35892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6" name=""/>
          <p:cNvSpPr txBox="1"/>
          <p:nvPr/>
        </p:nvSpPr>
        <p:spPr>
          <a:xfrm>
            <a:off x="4211640" y="2276640"/>
            <a:ext cx="39528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Мари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27" name=""/>
          <p:cNvSpPr/>
          <p:nvPr/>
        </p:nvSpPr>
        <p:spPr>
          <a:xfrm>
            <a:off x="4427640" y="3141720"/>
            <a:ext cx="865080" cy="3585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8" name=""/>
          <p:cNvSpPr txBox="1"/>
          <p:nvPr/>
        </p:nvSpPr>
        <p:spPr>
          <a:xfrm>
            <a:off x="4500720" y="321300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Заламаев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Александр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7629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630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1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2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3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34" name=""/>
          <p:cNvGrpSpPr/>
          <p:nvPr/>
        </p:nvGrpSpPr>
        <p:grpSpPr>
          <a:xfrm>
            <a:off x="6816960" y="-1423800"/>
            <a:ext cx="3102480" cy="2947680"/>
            <a:chOff x="6816960" y="-1423800"/>
            <a:chExt cx="3102480" cy="2947680"/>
          </a:xfrm>
        </p:grpSpPr>
        <p:grpSp>
          <p:nvGrpSpPr>
            <p:cNvPr id="17635" name=""/>
            <p:cNvGrpSpPr/>
            <p:nvPr/>
          </p:nvGrpSpPr>
          <p:grpSpPr>
            <a:xfrm>
              <a:off x="6816960" y="-1423800"/>
              <a:ext cx="2850480" cy="2738520"/>
              <a:chOff x="6816960" y="-1423800"/>
              <a:chExt cx="2850480" cy="2738520"/>
            </a:xfrm>
          </p:grpSpPr>
          <p:sp>
            <p:nvSpPr>
              <p:cNvPr id="17636" name=""/>
              <p:cNvSpPr/>
              <p:nvPr/>
            </p:nvSpPr>
            <p:spPr>
              <a:xfrm rot="13152000">
                <a:off x="7021800" y="74160"/>
                <a:ext cx="105048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7" name=""/>
              <p:cNvSpPr/>
              <p:nvPr/>
            </p:nvSpPr>
            <p:spPr>
              <a:xfrm rot="13152000">
                <a:off x="8524440" y="-1509480"/>
                <a:ext cx="50796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38" name=""/>
            <p:cNvGrpSpPr/>
            <p:nvPr/>
          </p:nvGrpSpPr>
          <p:grpSpPr>
            <a:xfrm>
              <a:off x="7461000" y="-784800"/>
              <a:ext cx="2398680" cy="2308680"/>
              <a:chOff x="7461000" y="-784800"/>
              <a:chExt cx="2398680" cy="2308680"/>
            </a:xfrm>
          </p:grpSpPr>
          <p:sp>
            <p:nvSpPr>
              <p:cNvPr id="17639" name=""/>
              <p:cNvSpPr/>
              <p:nvPr/>
            </p:nvSpPr>
            <p:spPr>
              <a:xfrm rot="13152000">
                <a:off x="7598880" y="5612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0" name=""/>
              <p:cNvSpPr/>
              <p:nvPr/>
            </p:nvSpPr>
            <p:spPr>
              <a:xfrm rot="13152000">
                <a:off x="8769600" y="-804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41" name=""/>
            <p:cNvGrpSpPr/>
            <p:nvPr/>
          </p:nvGrpSpPr>
          <p:grpSpPr>
            <a:xfrm>
              <a:off x="8295840" y="-1179360"/>
              <a:ext cx="1623600" cy="2471400"/>
              <a:chOff x="8295840" y="-1179360"/>
              <a:chExt cx="1623600" cy="2471400"/>
            </a:xfrm>
          </p:grpSpPr>
          <p:sp>
            <p:nvSpPr>
              <p:cNvPr id="17642" name=""/>
              <p:cNvSpPr/>
              <p:nvPr/>
            </p:nvSpPr>
            <p:spPr>
              <a:xfrm rot="11728800">
                <a:off x="8375400" y="497880"/>
                <a:ext cx="77832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3" name=""/>
              <p:cNvSpPr/>
              <p:nvPr/>
            </p:nvSpPr>
            <p:spPr>
              <a:xfrm rot="11728800">
                <a:off x="8651880" y="-1066320"/>
                <a:ext cx="106848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44" name=""/>
            <p:cNvGrpSpPr/>
            <p:nvPr/>
          </p:nvGrpSpPr>
          <p:grpSpPr>
            <a:xfrm>
              <a:off x="7924320" y="-1112760"/>
              <a:ext cx="1492200" cy="2023560"/>
              <a:chOff x="7924320" y="-1112760"/>
              <a:chExt cx="1492200" cy="2023560"/>
            </a:xfrm>
          </p:grpSpPr>
          <p:sp>
            <p:nvSpPr>
              <p:cNvPr id="17645" name=""/>
              <p:cNvSpPr/>
              <p:nvPr/>
            </p:nvSpPr>
            <p:spPr>
              <a:xfrm rot="13152000">
                <a:off x="7993440" y="225000"/>
                <a:ext cx="77688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6" name=""/>
              <p:cNvSpPr/>
              <p:nvPr/>
            </p:nvSpPr>
            <p:spPr>
              <a:xfrm rot="13152000">
                <a:off x="8512560" y="-1100160"/>
                <a:ext cx="52848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47" name=""/>
          <p:cNvGrpSpPr/>
          <p:nvPr/>
        </p:nvGrpSpPr>
        <p:grpSpPr>
          <a:xfrm>
            <a:off x="-1464120" y="-1054080"/>
            <a:ext cx="2946600" cy="3104640"/>
            <a:chOff x="-1464120" y="-1054080"/>
            <a:chExt cx="2946600" cy="3104640"/>
          </a:xfrm>
        </p:grpSpPr>
        <p:grpSp>
          <p:nvGrpSpPr>
            <p:cNvPr id="17648" name=""/>
            <p:cNvGrpSpPr/>
            <p:nvPr/>
          </p:nvGrpSpPr>
          <p:grpSpPr>
            <a:xfrm>
              <a:off x="-1464120" y="-802440"/>
              <a:ext cx="2736720" cy="2853000"/>
              <a:chOff x="-1464120" y="-802440"/>
              <a:chExt cx="2736720" cy="2853000"/>
            </a:xfrm>
          </p:grpSpPr>
          <p:sp>
            <p:nvSpPr>
              <p:cNvPr id="17649" name=""/>
              <p:cNvSpPr/>
              <p:nvPr/>
            </p:nvSpPr>
            <p:spPr>
              <a:xfrm rot="7755600">
                <a:off x="18000" y="80784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0" name=""/>
              <p:cNvSpPr/>
              <p:nvPr/>
            </p:nvSpPr>
            <p:spPr>
              <a:xfrm rot="7755600">
                <a:off x="-709560" y="-100764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51" name=""/>
            <p:cNvGrpSpPr/>
            <p:nvPr/>
          </p:nvGrpSpPr>
          <p:grpSpPr>
            <a:xfrm>
              <a:off x="-824760" y="-993960"/>
              <a:ext cx="2307240" cy="2400840"/>
              <a:chOff x="-824760" y="-993960"/>
              <a:chExt cx="2307240" cy="2400840"/>
            </a:xfrm>
          </p:grpSpPr>
          <p:sp>
            <p:nvSpPr>
              <p:cNvPr id="17652" name=""/>
              <p:cNvSpPr/>
              <p:nvPr/>
            </p:nvSpPr>
            <p:spPr>
              <a:xfrm rot="7755600">
                <a:off x="446040" y="4334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3" name=""/>
              <p:cNvSpPr/>
              <p:nvPr/>
            </p:nvSpPr>
            <p:spPr>
              <a:xfrm rot="7755600">
                <a:off x="-229320" y="-1101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54" name=""/>
            <p:cNvGrpSpPr/>
            <p:nvPr/>
          </p:nvGrpSpPr>
          <p:grpSpPr>
            <a:xfrm>
              <a:off x="-1219680" y="-1054080"/>
              <a:ext cx="2471400" cy="1626120"/>
              <a:chOff x="-1219680" y="-1054080"/>
              <a:chExt cx="2471400" cy="1626120"/>
            </a:xfrm>
          </p:grpSpPr>
          <p:sp>
            <p:nvSpPr>
              <p:cNvPr id="17655" name=""/>
              <p:cNvSpPr/>
              <p:nvPr/>
            </p:nvSpPr>
            <p:spPr>
              <a:xfrm rot="6332400">
                <a:off x="419040" y="-24876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6" name=""/>
              <p:cNvSpPr/>
              <p:nvPr/>
            </p:nvSpPr>
            <p:spPr>
              <a:xfrm rot="6332400">
                <a:off x="-821520" y="-113868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57" name=""/>
            <p:cNvGrpSpPr/>
            <p:nvPr/>
          </p:nvGrpSpPr>
          <p:grpSpPr>
            <a:xfrm>
              <a:off x="-1153800" y="-550800"/>
              <a:ext cx="2023920" cy="1493640"/>
              <a:chOff x="-1153800" y="-550800"/>
              <a:chExt cx="2023920" cy="1493640"/>
            </a:xfrm>
          </p:grpSpPr>
          <p:sp>
            <p:nvSpPr>
              <p:cNvPr id="17658" name=""/>
              <p:cNvSpPr/>
              <p:nvPr/>
            </p:nvSpPr>
            <p:spPr>
              <a:xfrm rot="7755600">
                <a:off x="43200" y="2365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9" name=""/>
              <p:cNvSpPr/>
              <p:nvPr/>
            </p:nvSpPr>
            <p:spPr>
              <a:xfrm rot="7755600">
                <a:off x="-717840" y="-59832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60" name=""/>
          <p:cNvGrpSpPr/>
          <p:nvPr/>
        </p:nvGrpSpPr>
        <p:grpSpPr>
          <a:xfrm>
            <a:off x="7605720" y="4692240"/>
            <a:ext cx="2718360" cy="3318840"/>
            <a:chOff x="7605720" y="4692240"/>
            <a:chExt cx="2718360" cy="3318840"/>
          </a:xfrm>
        </p:grpSpPr>
        <p:grpSp>
          <p:nvGrpSpPr>
            <p:cNvPr id="17661" name=""/>
            <p:cNvGrpSpPr/>
            <p:nvPr/>
          </p:nvGrpSpPr>
          <p:grpSpPr>
            <a:xfrm>
              <a:off x="7902360" y="4692240"/>
              <a:ext cx="2421720" cy="3106440"/>
              <a:chOff x="7902360" y="4692240"/>
              <a:chExt cx="2421720" cy="3106440"/>
            </a:xfrm>
          </p:grpSpPr>
          <p:sp>
            <p:nvSpPr>
              <p:cNvPr id="17662" name=""/>
              <p:cNvSpPr/>
              <p:nvPr/>
            </p:nvSpPr>
            <p:spPr>
              <a:xfrm rot="19135800">
                <a:off x="8109360" y="4911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3" name=""/>
              <p:cNvSpPr/>
              <p:nvPr/>
            </p:nvSpPr>
            <p:spPr>
              <a:xfrm rot="19135800">
                <a:off x="9158400" y="57106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4" name=""/>
            <p:cNvGrpSpPr/>
            <p:nvPr/>
          </p:nvGrpSpPr>
          <p:grpSpPr>
            <a:xfrm>
              <a:off x="7605720" y="5276520"/>
              <a:ext cx="2064960" cy="2595240"/>
              <a:chOff x="7605720" y="5276520"/>
              <a:chExt cx="2064960" cy="2595240"/>
            </a:xfrm>
          </p:grpSpPr>
          <p:sp>
            <p:nvSpPr>
              <p:cNvPr id="17665" name=""/>
              <p:cNvSpPr/>
              <p:nvPr/>
            </p:nvSpPr>
            <p:spPr>
              <a:xfrm rot="19135800">
                <a:off x="7743600" y="54813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6" name=""/>
              <p:cNvSpPr/>
              <p:nvPr/>
            </p:nvSpPr>
            <p:spPr>
              <a:xfrm rot="19135800">
                <a:off x="8563680" y="608976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7" name=""/>
            <p:cNvGrpSpPr/>
            <p:nvPr/>
          </p:nvGrpSpPr>
          <p:grpSpPr>
            <a:xfrm>
              <a:off x="7685280" y="6076440"/>
              <a:ext cx="2462400" cy="1934640"/>
              <a:chOff x="7685280" y="6076440"/>
              <a:chExt cx="2462400" cy="1934640"/>
            </a:xfrm>
          </p:grpSpPr>
          <p:sp>
            <p:nvSpPr>
              <p:cNvPr id="17668" name=""/>
              <p:cNvSpPr/>
              <p:nvPr/>
            </p:nvSpPr>
            <p:spPr>
              <a:xfrm rot="17713200">
                <a:off x="7779600" y="622656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9" name=""/>
              <p:cNvSpPr/>
              <p:nvPr/>
            </p:nvSpPr>
            <p:spPr>
              <a:xfrm rot="17713200">
                <a:off x="8644320" y="6359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70" name=""/>
            <p:cNvGrpSpPr/>
            <p:nvPr/>
          </p:nvGrpSpPr>
          <p:grpSpPr>
            <a:xfrm>
              <a:off x="8148600" y="5822640"/>
              <a:ext cx="1913760" cy="1673280"/>
              <a:chOff x="8148600" y="5822640"/>
              <a:chExt cx="1913760" cy="1673280"/>
            </a:xfrm>
          </p:grpSpPr>
          <p:sp>
            <p:nvSpPr>
              <p:cNvPr id="17671" name=""/>
              <p:cNvSpPr/>
              <p:nvPr/>
            </p:nvSpPr>
            <p:spPr>
              <a:xfrm rot="19135800">
                <a:off x="8215920" y="60166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2" name=""/>
              <p:cNvSpPr/>
              <p:nvPr/>
            </p:nvSpPr>
            <p:spPr>
              <a:xfrm rot="19135800">
                <a:off x="9146520" y="6115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73" name=""/>
          <p:cNvGrpSpPr/>
          <p:nvPr/>
        </p:nvGrpSpPr>
        <p:grpSpPr>
          <a:xfrm>
            <a:off x="-1064520" y="5364720"/>
            <a:ext cx="3220200" cy="2844360"/>
            <a:chOff x="-1064520" y="5364720"/>
            <a:chExt cx="3220200" cy="2844360"/>
          </a:xfrm>
        </p:grpSpPr>
        <p:grpSp>
          <p:nvGrpSpPr>
            <p:cNvPr id="17674" name=""/>
            <p:cNvGrpSpPr/>
            <p:nvPr/>
          </p:nvGrpSpPr>
          <p:grpSpPr>
            <a:xfrm>
              <a:off x="-830880" y="5617440"/>
              <a:ext cx="2986560" cy="2591640"/>
              <a:chOff x="-830880" y="5617440"/>
              <a:chExt cx="2986560" cy="2591640"/>
            </a:xfrm>
          </p:grpSpPr>
          <p:sp>
            <p:nvSpPr>
              <p:cNvPr id="17675" name=""/>
              <p:cNvSpPr/>
              <p:nvPr/>
            </p:nvSpPr>
            <p:spPr>
              <a:xfrm rot="2638800">
                <a:off x="896760" y="583848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6" name=""/>
              <p:cNvSpPr/>
              <p:nvPr/>
            </p:nvSpPr>
            <p:spPr>
              <a:xfrm rot="2638800">
                <a:off x="-141480" y="61495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77" name=""/>
            <p:cNvGrpSpPr/>
            <p:nvPr/>
          </p:nvGrpSpPr>
          <p:grpSpPr>
            <a:xfrm>
              <a:off x="-964800" y="5364720"/>
              <a:ext cx="2504520" cy="2196360"/>
              <a:chOff x="-964800" y="5364720"/>
              <a:chExt cx="2504520" cy="2196360"/>
            </a:xfrm>
          </p:grpSpPr>
          <p:sp>
            <p:nvSpPr>
              <p:cNvPr id="17678" name=""/>
              <p:cNvSpPr/>
              <p:nvPr/>
            </p:nvSpPr>
            <p:spPr>
              <a:xfrm rot="2638800">
                <a:off x="494280" y="55731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9" name=""/>
              <p:cNvSpPr/>
              <p:nvPr/>
            </p:nvSpPr>
            <p:spPr>
              <a:xfrm rot="2638800">
                <a:off x="-416880" y="5799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80" name=""/>
            <p:cNvGrpSpPr/>
            <p:nvPr/>
          </p:nvGrpSpPr>
          <p:grpSpPr>
            <a:xfrm>
              <a:off x="-1064520" y="5522040"/>
              <a:ext cx="1783440" cy="2475360"/>
              <a:chOff x="-1064520" y="5522040"/>
              <a:chExt cx="1783440" cy="2475360"/>
            </a:xfrm>
          </p:grpSpPr>
          <p:sp>
            <p:nvSpPr>
              <p:cNvPr id="17681" name=""/>
              <p:cNvSpPr/>
              <p:nvPr/>
            </p:nvSpPr>
            <p:spPr>
              <a:xfrm rot="1215600">
                <a:off x="-156960" y="563508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2" name=""/>
              <p:cNvSpPr/>
              <p:nvPr/>
            </p:nvSpPr>
            <p:spPr>
              <a:xfrm rot="1215600">
                <a:off x="-813600" y="62247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83" name=""/>
            <p:cNvGrpSpPr/>
            <p:nvPr/>
          </p:nvGrpSpPr>
          <p:grpSpPr>
            <a:xfrm>
              <a:off x="-552960" y="5945040"/>
              <a:ext cx="1586880" cy="1976760"/>
              <a:chOff x="-552960" y="5945040"/>
              <a:chExt cx="1586880" cy="1976760"/>
            </a:xfrm>
          </p:grpSpPr>
          <p:sp>
            <p:nvSpPr>
              <p:cNvPr id="17684" name=""/>
              <p:cNvSpPr/>
              <p:nvPr/>
            </p:nvSpPr>
            <p:spPr>
              <a:xfrm rot="2638800">
                <a:off x="192960" y="614520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5" name=""/>
              <p:cNvSpPr/>
              <p:nvPr/>
            </p:nvSpPr>
            <p:spPr>
              <a:xfrm rot="2638800">
                <a:off x="-149400" y="655524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86" name=""/>
          <p:cNvSpPr/>
          <p:nvPr/>
        </p:nvSpPr>
        <p:spPr>
          <a:xfrm>
            <a:off x="2771640" y="6237360"/>
            <a:ext cx="648000" cy="43164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7" name=""/>
          <p:cNvSpPr txBox="1"/>
          <p:nvPr/>
        </p:nvSpPr>
        <p:spPr>
          <a:xfrm>
            <a:off x="2843280" y="6308640"/>
            <a:ext cx="43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Лука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688" name=""/>
          <p:cNvSpPr/>
          <p:nvPr/>
        </p:nvSpPr>
        <p:spPr>
          <a:xfrm>
            <a:off x="8315280" y="3716280"/>
            <a:ext cx="506520" cy="360360"/>
          </a:xfrm>
          <a:prstGeom prst="rect">
            <a:avLst/>
          </a:prstGeom>
          <a:solidFill>
            <a:srgbClr val="0000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9" name=""/>
          <p:cNvSpPr txBox="1"/>
          <p:nvPr/>
        </p:nvSpPr>
        <p:spPr>
          <a:xfrm>
            <a:off x="8388360" y="3716280"/>
            <a:ext cx="369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Гусева 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Наталья</a:t>
            </a:r>
            <a:endParaRPr b="0" lang="en-US" sz="12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690" name=""/>
          <p:cNvSpPr/>
          <p:nvPr/>
        </p:nvSpPr>
        <p:spPr>
          <a:xfrm>
            <a:off x="7956720" y="3213000"/>
            <a:ext cx="288720" cy="3603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381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1" name=""/>
          <p:cNvSpPr/>
          <p:nvPr/>
        </p:nvSpPr>
        <p:spPr>
          <a:xfrm>
            <a:off x="8101080" y="3500280"/>
            <a:ext cx="154080" cy="14472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92" name=""/>
          <p:cNvGrpSpPr/>
          <p:nvPr/>
        </p:nvGrpSpPr>
        <p:grpSpPr>
          <a:xfrm>
            <a:off x="7813800" y="3500280"/>
            <a:ext cx="215640" cy="144720"/>
            <a:chOff x="7813800" y="3500280"/>
            <a:chExt cx="215640" cy="144720"/>
          </a:xfrm>
        </p:grpSpPr>
        <p:sp>
          <p:nvSpPr>
            <p:cNvPr id="17693" name=""/>
            <p:cNvSpPr/>
            <p:nvPr/>
          </p:nvSpPr>
          <p:spPr>
            <a:xfrm>
              <a:off x="7813800" y="350028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4" name=""/>
            <p:cNvSpPr/>
            <p:nvPr/>
          </p:nvSpPr>
          <p:spPr>
            <a:xfrm>
              <a:off x="7875360" y="3500280"/>
              <a:ext cx="154080" cy="14472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95" name=""/>
          <p:cNvSpPr/>
          <p:nvPr/>
        </p:nvSpPr>
        <p:spPr>
          <a:xfrm>
            <a:off x="8388360" y="3213000"/>
            <a:ext cx="289080" cy="3603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6" name=""/>
          <p:cNvSpPr/>
          <p:nvPr/>
        </p:nvSpPr>
        <p:spPr>
          <a:xfrm>
            <a:off x="8317080" y="3500280"/>
            <a:ext cx="153720" cy="144720"/>
          </a:xfrm>
          <a:prstGeom prst="donut">
            <a:avLst>
              <a:gd name="adj" fmla="val 12773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7" name=""/>
          <p:cNvSpPr/>
          <p:nvPr/>
        </p:nvSpPr>
        <p:spPr>
          <a:xfrm>
            <a:off x="7093080" y="4508640"/>
            <a:ext cx="288720" cy="3603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8" name="">
            <a:hlinkClick r:id="rId28" action="ppaction://hlinksldjump"/>
          </p:cNvPr>
          <p:cNvSpPr/>
          <p:nvPr/>
        </p:nvSpPr>
        <p:spPr>
          <a:xfrm>
            <a:off x="7380360" y="4508640"/>
            <a:ext cx="288720" cy="3603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99" name=""/>
          <p:cNvGrpSpPr/>
          <p:nvPr/>
        </p:nvGrpSpPr>
        <p:grpSpPr>
          <a:xfrm>
            <a:off x="7308720" y="4795920"/>
            <a:ext cx="215640" cy="144360"/>
            <a:chOff x="7308720" y="4795920"/>
            <a:chExt cx="215640" cy="144360"/>
          </a:xfrm>
        </p:grpSpPr>
        <p:sp>
          <p:nvSpPr>
            <p:cNvPr id="17700" name=""/>
            <p:cNvSpPr/>
            <p:nvPr/>
          </p:nvSpPr>
          <p:spPr>
            <a:xfrm>
              <a:off x="7308720" y="4795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1" name=""/>
            <p:cNvSpPr/>
            <p:nvPr/>
          </p:nvSpPr>
          <p:spPr>
            <a:xfrm>
              <a:off x="7370280" y="4795920"/>
              <a:ext cx="154080" cy="144360"/>
            </a:xfrm>
            <a:prstGeom prst="donut">
              <a:avLst>
                <a:gd name="adj" fmla="val 12773"/>
              </a:avLst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02" name="">
            <a:hlinkClick r:id="rId30" action="ppaction://hlinksldjump"/>
          </p:cNvPr>
          <p:cNvSpPr/>
          <p:nvPr/>
        </p:nvSpPr>
        <p:spPr>
          <a:xfrm>
            <a:off x="7812000" y="4508640"/>
            <a:ext cx="86544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3" name=""/>
          <p:cNvSpPr txBox="1"/>
          <p:nvPr/>
        </p:nvSpPr>
        <p:spPr>
          <a:xfrm>
            <a:off x="7885080" y="458136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ПОНИКАР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04" name="">
            <a:hlinkClick r:id="rId31" action="ppaction://hlinksldjump"/>
          </p:cNvPr>
          <p:cNvSpPr/>
          <p:nvPr/>
        </p:nvSpPr>
        <p:spPr>
          <a:xfrm>
            <a:off x="6948360" y="5589720"/>
            <a:ext cx="720720" cy="36036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5" name=""/>
          <p:cNvSpPr txBox="1"/>
          <p:nvPr/>
        </p:nvSpPr>
        <p:spPr>
          <a:xfrm>
            <a:off x="7021440" y="5662440"/>
            <a:ext cx="574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УЛАК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706" name="">
            <a:hlinkClick r:id="rId32" action="ppaction://hlinksldjump"/>
          </p:cNvPr>
          <p:cNvSpPr/>
          <p:nvPr/>
        </p:nvSpPr>
        <p:spPr>
          <a:xfrm>
            <a:off x="7956720" y="5084640"/>
            <a:ext cx="647640" cy="358920"/>
          </a:xfrm>
          <a:prstGeom prst="rect">
            <a:avLst/>
          </a:prstGeom>
          <a:solidFill>
            <a:srgbClr val="ffffff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7" name=""/>
          <p:cNvSpPr txBox="1"/>
          <p:nvPr/>
        </p:nvSpPr>
        <p:spPr>
          <a:xfrm>
            <a:off x="8029440" y="5156280"/>
            <a:ext cx="50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КВАСОВЫ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8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709" name=""/>
          <p:cNvSpPr/>
          <p:nvPr/>
        </p:nvSpPr>
        <p:spPr>
          <a:xfrm>
            <a:off x="1258920" y="404640"/>
            <a:ext cx="1155600" cy="14418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0" name="" descr=""/>
          <p:cNvPicPr/>
          <p:nvPr/>
        </p:nvPicPr>
        <p:blipFill>
          <a:blip r:embed="rId4"/>
          <a:stretch/>
        </p:blipFill>
        <p:spPr>
          <a:xfrm>
            <a:off x="2340000" y="40464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711" name=""/>
          <p:cNvSpPr/>
          <p:nvPr/>
        </p:nvSpPr>
        <p:spPr>
          <a:xfrm>
            <a:off x="1187280" y="2492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2" name=""/>
          <p:cNvSpPr/>
          <p:nvPr/>
        </p:nvSpPr>
        <p:spPr>
          <a:xfrm>
            <a:off x="1332000" y="213372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5 - 185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3" name=""/>
          <p:cNvSpPr/>
          <p:nvPr/>
        </p:nvSpPr>
        <p:spPr>
          <a:xfrm>
            <a:off x="2484360" y="404640"/>
            <a:ext cx="1155600" cy="1441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4" name=""/>
          <p:cNvSpPr/>
          <p:nvPr/>
        </p:nvSpPr>
        <p:spPr>
          <a:xfrm>
            <a:off x="2556000" y="213372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7 - 19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15" name="" descr=""/>
          <p:cNvPicPr/>
          <p:nvPr/>
        </p:nvPicPr>
        <p:blipFill>
          <a:blip r:embed="rId6"/>
          <a:stretch/>
        </p:blipFill>
        <p:spPr>
          <a:xfrm>
            <a:off x="539640" y="357336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716" name="" descr=""/>
          <p:cNvPicPr/>
          <p:nvPr/>
        </p:nvPicPr>
        <p:blipFill>
          <a:blip r:embed="rId7"/>
          <a:stretch/>
        </p:blipFill>
        <p:spPr>
          <a:xfrm>
            <a:off x="2195640" y="3573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17717" name="" descr=""/>
          <p:cNvPicPr/>
          <p:nvPr/>
        </p:nvPicPr>
        <p:blipFill>
          <a:blip r:embed="rId8"/>
          <a:stretch/>
        </p:blipFill>
        <p:spPr>
          <a:xfrm>
            <a:off x="3780000" y="3573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17718" name="" descr=""/>
          <p:cNvPicPr/>
          <p:nvPr/>
        </p:nvPicPr>
        <p:blipFill>
          <a:blip r:embed="rId9"/>
          <a:stretch/>
        </p:blipFill>
        <p:spPr>
          <a:xfrm>
            <a:off x="5364000" y="357336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719" name="" descr=""/>
          <p:cNvPicPr/>
          <p:nvPr/>
        </p:nvPicPr>
        <p:blipFill>
          <a:blip r:embed="rId10"/>
          <a:stretch/>
        </p:blipFill>
        <p:spPr>
          <a:xfrm>
            <a:off x="4572000" y="90792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720" name="" descr=""/>
          <p:cNvPicPr/>
          <p:nvPr/>
        </p:nvPicPr>
        <p:blipFill>
          <a:blip r:embed="rId11"/>
          <a:stretch/>
        </p:blipFill>
        <p:spPr>
          <a:xfrm>
            <a:off x="6227640" y="90792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721" name=""/>
          <p:cNvSpPr/>
          <p:nvPr/>
        </p:nvSpPr>
        <p:spPr>
          <a:xfrm>
            <a:off x="2411280" y="537372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с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тон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24 - 198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2" name=""/>
          <p:cNvSpPr/>
          <p:nvPr/>
        </p:nvSpPr>
        <p:spPr>
          <a:xfrm>
            <a:off x="3995640" y="537372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рон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ерафи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6 -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3" name=""/>
          <p:cNvSpPr/>
          <p:nvPr/>
        </p:nvSpPr>
        <p:spPr>
          <a:xfrm>
            <a:off x="5508720" y="537372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ахар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28 -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4" name=""/>
          <p:cNvSpPr/>
          <p:nvPr/>
        </p:nvSpPr>
        <p:spPr>
          <a:xfrm>
            <a:off x="4716360" y="263700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ерм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19 - 194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5" name=""/>
          <p:cNvSpPr/>
          <p:nvPr/>
        </p:nvSpPr>
        <p:spPr>
          <a:xfrm>
            <a:off x="6443640" y="263700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ихаи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ье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1 - 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6" name=""/>
          <p:cNvSpPr/>
          <p:nvPr/>
        </p:nvSpPr>
        <p:spPr>
          <a:xfrm>
            <a:off x="6372360" y="907920"/>
            <a:ext cx="1155600" cy="144144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7" name=""/>
          <p:cNvSpPr/>
          <p:nvPr/>
        </p:nvSpPr>
        <p:spPr>
          <a:xfrm>
            <a:off x="4716360" y="907920"/>
            <a:ext cx="1158840" cy="144468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8" name=""/>
          <p:cNvSpPr/>
          <p:nvPr/>
        </p:nvSpPr>
        <p:spPr>
          <a:xfrm>
            <a:off x="684360" y="3500280"/>
            <a:ext cx="1212840" cy="151308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9" name=""/>
          <p:cNvSpPr/>
          <p:nvPr/>
        </p:nvSpPr>
        <p:spPr>
          <a:xfrm>
            <a:off x="2340000" y="3573360"/>
            <a:ext cx="1158840" cy="14400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0" name=""/>
          <p:cNvSpPr/>
          <p:nvPr/>
        </p:nvSpPr>
        <p:spPr>
          <a:xfrm>
            <a:off x="3924360" y="3573360"/>
            <a:ext cx="1158840" cy="144468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1" name=""/>
          <p:cNvSpPr/>
          <p:nvPr/>
        </p:nvSpPr>
        <p:spPr>
          <a:xfrm>
            <a:off x="5508720" y="3573360"/>
            <a:ext cx="1158840" cy="144468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2" name=""/>
          <p:cNvSpPr/>
          <p:nvPr/>
        </p:nvSpPr>
        <p:spPr>
          <a:xfrm>
            <a:off x="7164360" y="3573360"/>
            <a:ext cx="1158840" cy="1444680"/>
          </a:xfrm>
          <a:prstGeom prst="ellipse">
            <a:avLst/>
          </a:prstGeom>
          <a:solidFill>
            <a:srgbClr val="b2b2b2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33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734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5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6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7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38" name=""/>
          <p:cNvGrpSpPr/>
          <p:nvPr/>
        </p:nvGrpSpPr>
        <p:grpSpPr>
          <a:xfrm>
            <a:off x="7321680" y="-1783440"/>
            <a:ext cx="3102840" cy="2947680"/>
            <a:chOff x="7321680" y="-1783440"/>
            <a:chExt cx="3102840" cy="2947680"/>
          </a:xfrm>
        </p:grpSpPr>
        <p:grpSp>
          <p:nvGrpSpPr>
            <p:cNvPr id="17739" name=""/>
            <p:cNvGrpSpPr/>
            <p:nvPr/>
          </p:nvGrpSpPr>
          <p:grpSpPr>
            <a:xfrm>
              <a:off x="7321680" y="-1783440"/>
              <a:ext cx="2850840" cy="2738520"/>
              <a:chOff x="7321680" y="-1783440"/>
              <a:chExt cx="2850840" cy="2738520"/>
            </a:xfrm>
          </p:grpSpPr>
          <p:sp>
            <p:nvSpPr>
              <p:cNvPr id="17740" name=""/>
              <p:cNvSpPr/>
              <p:nvPr/>
            </p:nvSpPr>
            <p:spPr>
              <a:xfrm rot="13152000">
                <a:off x="7526520" y="-28512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1" name=""/>
              <p:cNvSpPr/>
              <p:nvPr/>
            </p:nvSpPr>
            <p:spPr>
              <a:xfrm rot="13152000">
                <a:off x="9029160" y="-1869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42" name=""/>
            <p:cNvGrpSpPr/>
            <p:nvPr/>
          </p:nvGrpSpPr>
          <p:grpSpPr>
            <a:xfrm>
              <a:off x="7966080" y="-1144440"/>
              <a:ext cx="2399040" cy="2308680"/>
              <a:chOff x="7966080" y="-1144440"/>
              <a:chExt cx="2399040" cy="2308680"/>
            </a:xfrm>
          </p:grpSpPr>
          <p:sp>
            <p:nvSpPr>
              <p:cNvPr id="17743" name=""/>
              <p:cNvSpPr/>
              <p:nvPr/>
            </p:nvSpPr>
            <p:spPr>
              <a:xfrm rot="13152000">
                <a:off x="8103960" y="2016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4" name=""/>
              <p:cNvSpPr/>
              <p:nvPr/>
            </p:nvSpPr>
            <p:spPr>
              <a:xfrm rot="13152000">
                <a:off x="9275040" y="-11642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45" name=""/>
            <p:cNvGrpSpPr/>
            <p:nvPr/>
          </p:nvGrpSpPr>
          <p:grpSpPr>
            <a:xfrm>
              <a:off x="8800200" y="-1539000"/>
              <a:ext cx="1624320" cy="2471400"/>
              <a:chOff x="8800200" y="-1539000"/>
              <a:chExt cx="1624320" cy="2471400"/>
            </a:xfrm>
          </p:grpSpPr>
          <p:sp>
            <p:nvSpPr>
              <p:cNvPr id="17746" name=""/>
              <p:cNvSpPr/>
              <p:nvPr/>
            </p:nvSpPr>
            <p:spPr>
              <a:xfrm rot="11728800">
                <a:off x="8879760" y="13824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7" name=""/>
              <p:cNvSpPr/>
              <p:nvPr/>
            </p:nvSpPr>
            <p:spPr>
              <a:xfrm rot="11728800">
                <a:off x="9156600" y="-142596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48" name=""/>
            <p:cNvGrpSpPr/>
            <p:nvPr/>
          </p:nvGrpSpPr>
          <p:grpSpPr>
            <a:xfrm>
              <a:off x="8429040" y="-1472760"/>
              <a:ext cx="1492200" cy="2024280"/>
              <a:chOff x="8429040" y="-1472760"/>
              <a:chExt cx="1492200" cy="2024280"/>
            </a:xfrm>
          </p:grpSpPr>
          <p:sp>
            <p:nvSpPr>
              <p:cNvPr id="17749" name=""/>
              <p:cNvSpPr/>
              <p:nvPr/>
            </p:nvSpPr>
            <p:spPr>
              <a:xfrm rot="13152000">
                <a:off x="8498160" y="-1342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0" name=""/>
              <p:cNvSpPr/>
              <p:nvPr/>
            </p:nvSpPr>
            <p:spPr>
              <a:xfrm rot="13152000">
                <a:off x="9016920" y="-146016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51" name=""/>
          <p:cNvGrpSpPr/>
          <p:nvPr/>
        </p:nvGrpSpPr>
        <p:grpSpPr>
          <a:xfrm>
            <a:off x="-1719720" y="-1414440"/>
            <a:ext cx="2946600" cy="3104640"/>
            <a:chOff x="-1719720" y="-1414440"/>
            <a:chExt cx="2946600" cy="3104640"/>
          </a:xfrm>
        </p:grpSpPr>
        <p:grpSp>
          <p:nvGrpSpPr>
            <p:cNvPr id="17752" name=""/>
            <p:cNvGrpSpPr/>
            <p:nvPr/>
          </p:nvGrpSpPr>
          <p:grpSpPr>
            <a:xfrm>
              <a:off x="-1719720" y="-1162800"/>
              <a:ext cx="2736720" cy="2853000"/>
              <a:chOff x="-1719720" y="-1162800"/>
              <a:chExt cx="2736720" cy="2853000"/>
            </a:xfrm>
          </p:grpSpPr>
          <p:sp>
            <p:nvSpPr>
              <p:cNvPr id="17753" name=""/>
              <p:cNvSpPr/>
              <p:nvPr/>
            </p:nvSpPr>
            <p:spPr>
              <a:xfrm rot="7755600">
                <a:off x="-237240" y="44748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4" name=""/>
              <p:cNvSpPr/>
              <p:nvPr/>
            </p:nvSpPr>
            <p:spPr>
              <a:xfrm rot="7755600">
                <a:off x="-965160" y="-136800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55" name=""/>
            <p:cNvGrpSpPr/>
            <p:nvPr/>
          </p:nvGrpSpPr>
          <p:grpSpPr>
            <a:xfrm>
              <a:off x="-1080360" y="-1354320"/>
              <a:ext cx="2307240" cy="2400840"/>
              <a:chOff x="-1080360" y="-1354320"/>
              <a:chExt cx="2307240" cy="2400840"/>
            </a:xfrm>
          </p:grpSpPr>
          <p:sp>
            <p:nvSpPr>
              <p:cNvPr id="17756" name=""/>
              <p:cNvSpPr/>
              <p:nvPr/>
            </p:nvSpPr>
            <p:spPr>
              <a:xfrm rot="7755600">
                <a:off x="190440" y="7308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7" name=""/>
              <p:cNvSpPr/>
              <p:nvPr/>
            </p:nvSpPr>
            <p:spPr>
              <a:xfrm rot="7755600">
                <a:off x="-484920" y="-14616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58" name=""/>
            <p:cNvGrpSpPr/>
            <p:nvPr/>
          </p:nvGrpSpPr>
          <p:grpSpPr>
            <a:xfrm>
              <a:off x="-1475640" y="-1414440"/>
              <a:ext cx="2471760" cy="1626120"/>
              <a:chOff x="-1475640" y="-1414440"/>
              <a:chExt cx="2471760" cy="1626120"/>
            </a:xfrm>
          </p:grpSpPr>
          <p:sp>
            <p:nvSpPr>
              <p:cNvPr id="17759" name=""/>
              <p:cNvSpPr/>
              <p:nvPr/>
            </p:nvSpPr>
            <p:spPr>
              <a:xfrm rot="6332400">
                <a:off x="163440" y="-6091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0" name=""/>
              <p:cNvSpPr/>
              <p:nvPr/>
            </p:nvSpPr>
            <p:spPr>
              <a:xfrm rot="6332400">
                <a:off x="-1077480" y="-149904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61" name=""/>
            <p:cNvGrpSpPr/>
            <p:nvPr/>
          </p:nvGrpSpPr>
          <p:grpSpPr>
            <a:xfrm>
              <a:off x="-1409400" y="-911160"/>
              <a:ext cx="2023920" cy="1493640"/>
              <a:chOff x="-1409400" y="-911160"/>
              <a:chExt cx="2023920" cy="1493640"/>
            </a:xfrm>
          </p:grpSpPr>
          <p:sp>
            <p:nvSpPr>
              <p:cNvPr id="17762" name=""/>
              <p:cNvSpPr/>
              <p:nvPr/>
            </p:nvSpPr>
            <p:spPr>
              <a:xfrm rot="7755600">
                <a:off x="-212040" y="-123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3" name=""/>
              <p:cNvSpPr/>
              <p:nvPr/>
            </p:nvSpPr>
            <p:spPr>
              <a:xfrm rot="7755600">
                <a:off x="-973440" y="-9586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64" name=""/>
          <p:cNvGrpSpPr/>
          <p:nvPr/>
        </p:nvGrpSpPr>
        <p:grpSpPr>
          <a:xfrm>
            <a:off x="-1496160" y="5580360"/>
            <a:ext cx="3220920" cy="2845080"/>
            <a:chOff x="-1496160" y="5580360"/>
            <a:chExt cx="3220920" cy="2845080"/>
          </a:xfrm>
        </p:grpSpPr>
        <p:grpSp>
          <p:nvGrpSpPr>
            <p:cNvPr id="17765" name=""/>
            <p:cNvGrpSpPr/>
            <p:nvPr/>
          </p:nvGrpSpPr>
          <p:grpSpPr>
            <a:xfrm>
              <a:off x="-1262520" y="5833800"/>
              <a:ext cx="2987280" cy="2591640"/>
              <a:chOff x="-1262520" y="5833800"/>
              <a:chExt cx="2987280" cy="2591640"/>
            </a:xfrm>
          </p:grpSpPr>
          <p:sp>
            <p:nvSpPr>
              <p:cNvPr id="17766" name=""/>
              <p:cNvSpPr/>
              <p:nvPr/>
            </p:nvSpPr>
            <p:spPr>
              <a:xfrm rot="2638800">
                <a:off x="465840" y="605484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7" name=""/>
              <p:cNvSpPr/>
              <p:nvPr/>
            </p:nvSpPr>
            <p:spPr>
              <a:xfrm rot="2638800">
                <a:off x="-573120" y="636588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68" name=""/>
            <p:cNvGrpSpPr/>
            <p:nvPr/>
          </p:nvGrpSpPr>
          <p:grpSpPr>
            <a:xfrm>
              <a:off x="-1396440" y="5580360"/>
              <a:ext cx="2504160" cy="2196360"/>
              <a:chOff x="-1396440" y="5580360"/>
              <a:chExt cx="2504160" cy="2196360"/>
            </a:xfrm>
          </p:grpSpPr>
          <p:sp>
            <p:nvSpPr>
              <p:cNvPr id="17769" name=""/>
              <p:cNvSpPr/>
              <p:nvPr/>
            </p:nvSpPr>
            <p:spPr>
              <a:xfrm rot="2638800">
                <a:off x="62280" y="57888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0" name=""/>
              <p:cNvSpPr/>
              <p:nvPr/>
            </p:nvSpPr>
            <p:spPr>
              <a:xfrm rot="2638800">
                <a:off x="-848520" y="6014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71" name=""/>
            <p:cNvGrpSpPr/>
            <p:nvPr/>
          </p:nvGrpSpPr>
          <p:grpSpPr>
            <a:xfrm>
              <a:off x="-1496160" y="5738040"/>
              <a:ext cx="1783440" cy="2475720"/>
              <a:chOff x="-1496160" y="5738040"/>
              <a:chExt cx="1783440" cy="2475720"/>
            </a:xfrm>
          </p:grpSpPr>
          <p:sp>
            <p:nvSpPr>
              <p:cNvPr id="17772" name=""/>
              <p:cNvSpPr/>
              <p:nvPr/>
            </p:nvSpPr>
            <p:spPr>
              <a:xfrm rot="1215600">
                <a:off x="-588960" y="585108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3" name=""/>
              <p:cNvSpPr/>
              <p:nvPr/>
            </p:nvSpPr>
            <p:spPr>
              <a:xfrm rot="1215600">
                <a:off x="-1245240" y="64407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74" name=""/>
            <p:cNvGrpSpPr/>
            <p:nvPr/>
          </p:nvGrpSpPr>
          <p:grpSpPr>
            <a:xfrm>
              <a:off x="-984960" y="6160680"/>
              <a:ext cx="1586880" cy="1977120"/>
              <a:chOff x="-984960" y="6160680"/>
              <a:chExt cx="1586880" cy="1977120"/>
            </a:xfrm>
          </p:grpSpPr>
          <p:sp>
            <p:nvSpPr>
              <p:cNvPr id="17775" name=""/>
              <p:cNvSpPr/>
              <p:nvPr/>
            </p:nvSpPr>
            <p:spPr>
              <a:xfrm rot="2638800">
                <a:off x="-238680" y="636084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6" name=""/>
              <p:cNvSpPr/>
              <p:nvPr/>
            </p:nvSpPr>
            <p:spPr>
              <a:xfrm rot="2638800">
                <a:off x="-581040" y="677124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7777" name="" descr=""/>
          <p:cNvPicPr/>
          <p:nvPr/>
        </p:nvPicPr>
        <p:blipFill>
          <a:blip r:embed="rId17"/>
          <a:stretch/>
        </p:blipFill>
        <p:spPr>
          <a:xfrm>
            <a:off x="7020000" y="3573360"/>
            <a:ext cx="14396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17778" name=""/>
          <p:cNvGrpSpPr/>
          <p:nvPr/>
        </p:nvGrpSpPr>
        <p:grpSpPr>
          <a:xfrm>
            <a:off x="7894440" y="5124240"/>
            <a:ext cx="2718360" cy="3318480"/>
            <a:chOff x="7894440" y="5124240"/>
            <a:chExt cx="2718360" cy="3318480"/>
          </a:xfrm>
        </p:grpSpPr>
        <p:grpSp>
          <p:nvGrpSpPr>
            <p:cNvPr id="17779" name=""/>
            <p:cNvGrpSpPr/>
            <p:nvPr/>
          </p:nvGrpSpPr>
          <p:grpSpPr>
            <a:xfrm>
              <a:off x="8191440" y="5124240"/>
              <a:ext cx="2421360" cy="3106080"/>
              <a:chOff x="8191440" y="5124240"/>
              <a:chExt cx="2421360" cy="3106080"/>
            </a:xfrm>
          </p:grpSpPr>
          <p:sp>
            <p:nvSpPr>
              <p:cNvPr id="17780" name=""/>
              <p:cNvSpPr/>
              <p:nvPr/>
            </p:nvSpPr>
            <p:spPr>
              <a:xfrm rot="19135800">
                <a:off x="8398440" y="5343120"/>
                <a:ext cx="1050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1" name=""/>
              <p:cNvSpPr/>
              <p:nvPr/>
            </p:nvSpPr>
            <p:spPr>
              <a:xfrm rot="19135800">
                <a:off x="9447480" y="6142320"/>
                <a:ext cx="50796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82" name=""/>
            <p:cNvGrpSpPr/>
            <p:nvPr/>
          </p:nvGrpSpPr>
          <p:grpSpPr>
            <a:xfrm>
              <a:off x="7894440" y="5708160"/>
              <a:ext cx="2065320" cy="2595240"/>
              <a:chOff x="7894440" y="5708160"/>
              <a:chExt cx="2065320" cy="2595240"/>
            </a:xfrm>
          </p:grpSpPr>
          <p:sp>
            <p:nvSpPr>
              <p:cNvPr id="17783" name=""/>
              <p:cNvSpPr/>
              <p:nvPr/>
            </p:nvSpPr>
            <p:spPr>
              <a:xfrm rot="19135800">
                <a:off x="8032320" y="5913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4" name=""/>
              <p:cNvSpPr/>
              <p:nvPr/>
            </p:nvSpPr>
            <p:spPr>
              <a:xfrm rot="19135800">
                <a:off x="8852760" y="652140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85" name=""/>
            <p:cNvGrpSpPr/>
            <p:nvPr/>
          </p:nvGrpSpPr>
          <p:grpSpPr>
            <a:xfrm>
              <a:off x="7974000" y="6508800"/>
              <a:ext cx="2462760" cy="1933920"/>
              <a:chOff x="7974000" y="6508800"/>
              <a:chExt cx="2462760" cy="1933920"/>
            </a:xfrm>
          </p:grpSpPr>
          <p:sp>
            <p:nvSpPr>
              <p:cNvPr id="17786" name=""/>
              <p:cNvSpPr/>
              <p:nvPr/>
            </p:nvSpPr>
            <p:spPr>
              <a:xfrm rot="17713200">
                <a:off x="8068320" y="6658920"/>
                <a:ext cx="77832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7" name=""/>
              <p:cNvSpPr/>
              <p:nvPr/>
            </p:nvSpPr>
            <p:spPr>
              <a:xfrm rot="17713200">
                <a:off x="8933400" y="6791400"/>
                <a:ext cx="106848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88" name=""/>
            <p:cNvGrpSpPr/>
            <p:nvPr/>
          </p:nvGrpSpPr>
          <p:grpSpPr>
            <a:xfrm>
              <a:off x="8437680" y="6254640"/>
              <a:ext cx="1913400" cy="1673280"/>
              <a:chOff x="8437680" y="6254640"/>
              <a:chExt cx="1913400" cy="1673280"/>
            </a:xfrm>
          </p:grpSpPr>
          <p:sp>
            <p:nvSpPr>
              <p:cNvPr id="17789" name=""/>
              <p:cNvSpPr/>
              <p:nvPr/>
            </p:nvSpPr>
            <p:spPr>
              <a:xfrm rot="19135800">
                <a:off x="8505000" y="6448680"/>
                <a:ext cx="77688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0" name=""/>
              <p:cNvSpPr/>
              <p:nvPr/>
            </p:nvSpPr>
            <p:spPr>
              <a:xfrm rot="19135800">
                <a:off x="9435240" y="6547680"/>
                <a:ext cx="52848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791" name=""/>
          <p:cNvSpPr/>
          <p:nvPr/>
        </p:nvSpPr>
        <p:spPr>
          <a:xfrm>
            <a:off x="684360" y="537372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ньк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2" name=""/>
          <p:cNvSpPr/>
          <p:nvPr/>
        </p:nvSpPr>
        <p:spPr>
          <a:xfrm>
            <a:off x="7164360" y="5373720"/>
            <a:ext cx="1079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сквичё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ма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си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7 - 194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3" name="">
            <a:hlinkClick r:id="rId18" action="ppaction://hlinksldjump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4" name="">
            <a:hlinkClick r:id="rId19" action="ppaction://hlinksldjump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древу Москвичё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95" name="" descr=""/>
          <p:cNvPicPr/>
          <p:nvPr/>
        </p:nvPicPr>
        <p:blipFill>
          <a:blip r:embed="rId2"/>
          <a:stretch/>
        </p:blipFill>
        <p:spPr>
          <a:xfrm>
            <a:off x="2987640" y="54756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796" name="" descr=""/>
          <p:cNvPicPr/>
          <p:nvPr/>
        </p:nvPicPr>
        <p:blipFill>
          <a:blip r:embed="rId3"/>
          <a:stretch/>
        </p:blipFill>
        <p:spPr>
          <a:xfrm>
            <a:off x="4211640" y="547560"/>
            <a:ext cx="1440000" cy="1656000"/>
          </a:xfrm>
          <a:prstGeom prst="rect">
            <a:avLst/>
          </a:prstGeom>
          <a:ln w="0">
            <a:noFill/>
          </a:ln>
        </p:spPr>
      </p:pic>
      <p:sp>
        <p:nvSpPr>
          <p:cNvPr id="17797" name=""/>
          <p:cNvSpPr/>
          <p:nvPr/>
        </p:nvSpPr>
        <p:spPr>
          <a:xfrm>
            <a:off x="3203640" y="227664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ва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 - 194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8" name=""/>
          <p:cNvSpPr/>
          <p:nvPr/>
        </p:nvSpPr>
        <p:spPr>
          <a:xfrm>
            <a:off x="4427640" y="2276640"/>
            <a:ext cx="10792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с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892 - 196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9" name=""/>
          <p:cNvSpPr/>
          <p:nvPr/>
        </p:nvSpPr>
        <p:spPr>
          <a:xfrm>
            <a:off x="3130560" y="547560"/>
            <a:ext cx="1155600" cy="144144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0" name=""/>
          <p:cNvSpPr/>
          <p:nvPr/>
        </p:nvSpPr>
        <p:spPr>
          <a:xfrm>
            <a:off x="4356000" y="476280"/>
            <a:ext cx="1155960" cy="1441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1" name=""/>
          <p:cNvSpPr/>
          <p:nvPr/>
        </p:nvSpPr>
        <p:spPr>
          <a:xfrm>
            <a:off x="1401840" y="3429000"/>
            <a:ext cx="1158840" cy="1444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2" name=""/>
          <p:cNvSpPr/>
          <p:nvPr/>
        </p:nvSpPr>
        <p:spPr>
          <a:xfrm>
            <a:off x="6516720" y="3429000"/>
            <a:ext cx="1158840" cy="14446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3" name=""/>
          <p:cNvSpPr/>
          <p:nvPr/>
        </p:nvSpPr>
        <p:spPr>
          <a:xfrm>
            <a:off x="4716360" y="3500280"/>
            <a:ext cx="1158840" cy="14446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4" name=""/>
          <p:cNvSpPr/>
          <p:nvPr/>
        </p:nvSpPr>
        <p:spPr>
          <a:xfrm>
            <a:off x="2771640" y="3429000"/>
            <a:ext cx="1158840" cy="144468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05" name="" descr=""/>
          <p:cNvPicPr/>
          <p:nvPr/>
        </p:nvPicPr>
        <p:blipFill>
          <a:blip r:embed="rId9"/>
          <a:stretch/>
        </p:blipFill>
        <p:spPr>
          <a:xfrm>
            <a:off x="125892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06" name="" descr=""/>
          <p:cNvPicPr/>
          <p:nvPr/>
        </p:nvPicPr>
        <p:blipFill>
          <a:blip r:embed="rId10"/>
          <a:stretch/>
        </p:blipFill>
        <p:spPr>
          <a:xfrm>
            <a:off x="2627280" y="3429000"/>
            <a:ext cx="1440000" cy="1655640"/>
          </a:xfrm>
          <a:prstGeom prst="rect">
            <a:avLst/>
          </a:prstGeom>
          <a:ln w="0">
            <a:noFill/>
          </a:ln>
        </p:spPr>
      </p:pic>
      <p:pic>
        <p:nvPicPr>
          <p:cNvPr id="17807" name="" descr=""/>
          <p:cNvPicPr/>
          <p:nvPr/>
        </p:nvPicPr>
        <p:blipFill>
          <a:blip r:embed="rId11"/>
          <a:stretch/>
        </p:blipFill>
        <p:spPr>
          <a:xfrm>
            <a:off x="4572000" y="3500280"/>
            <a:ext cx="1440000" cy="1656000"/>
          </a:xfrm>
          <a:prstGeom prst="rect">
            <a:avLst/>
          </a:prstGeom>
          <a:ln w="0">
            <a:noFill/>
          </a:ln>
        </p:spPr>
      </p:pic>
      <p:pic>
        <p:nvPicPr>
          <p:cNvPr id="17808" name="" descr=""/>
          <p:cNvPicPr/>
          <p:nvPr/>
        </p:nvPicPr>
        <p:blipFill>
          <a:blip r:embed="rId12"/>
          <a:stretch/>
        </p:blipFill>
        <p:spPr>
          <a:xfrm>
            <a:off x="6372360" y="3429000"/>
            <a:ext cx="1439640" cy="1655640"/>
          </a:xfrm>
          <a:prstGeom prst="rect">
            <a:avLst/>
          </a:prstGeom>
          <a:ln w="0">
            <a:noFill/>
          </a:ln>
        </p:spPr>
      </p:pic>
      <p:sp>
        <p:nvSpPr>
          <p:cNvPr id="17809" name=""/>
          <p:cNvSpPr/>
          <p:nvPr/>
        </p:nvSpPr>
        <p:spPr>
          <a:xfrm>
            <a:off x="2916360" y="5229360"/>
            <a:ext cx="136656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зл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алент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0 - 20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0" name=""/>
          <p:cNvSpPr/>
          <p:nvPr/>
        </p:nvSpPr>
        <p:spPr>
          <a:xfrm>
            <a:off x="457200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ва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32 - 198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1" name=""/>
          <p:cNvSpPr/>
          <p:nvPr/>
        </p:nvSpPr>
        <p:spPr>
          <a:xfrm>
            <a:off x="6300720" y="5229360"/>
            <a:ext cx="14400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хано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деж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12" name=""/>
          <p:cNvGrpSpPr/>
          <p:nvPr/>
        </p:nvGrpSpPr>
        <p:grpSpPr>
          <a:xfrm>
            <a:off x="-36360" y="-100440"/>
            <a:ext cx="9218520" cy="7059960"/>
            <a:chOff x="-36360" y="-100440"/>
            <a:chExt cx="9218520" cy="7059960"/>
          </a:xfrm>
        </p:grpSpPr>
        <p:sp>
          <p:nvSpPr>
            <p:cNvPr id="17813" name=""/>
            <p:cNvSpPr/>
            <p:nvPr/>
          </p:nvSpPr>
          <p:spPr>
            <a:xfrm>
              <a:off x="-34920" y="-92160"/>
              <a:ext cx="423720" cy="7029360"/>
            </a:xfrm>
            <a:custGeom>
              <a:avLst/>
              <a:gdLst/>
              <a:ahLst/>
              <a:rect l="l" t="t" r="r" b="b"/>
              <a:pathLst>
                <a:path w="267" h="4428">
                  <a:moveTo>
                    <a:pt x="8" y="0"/>
                  </a:moveTo>
                  <a:lnTo>
                    <a:pt x="267" y="296"/>
                  </a:lnTo>
                  <a:lnTo>
                    <a:pt x="267" y="4133"/>
                  </a:lnTo>
                  <a:lnTo>
                    <a:pt x="8" y="4428"/>
                  </a:lnTo>
                  <a:lnTo>
                    <a:pt x="0" y="15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4" name=""/>
            <p:cNvSpPr/>
            <p:nvPr/>
          </p:nvSpPr>
          <p:spPr>
            <a:xfrm>
              <a:off x="8732880" y="-79200"/>
              <a:ext cx="449280" cy="7005600"/>
            </a:xfrm>
            <a:custGeom>
              <a:avLst/>
              <a:gdLst/>
              <a:ahLst/>
              <a:rect l="l" t="t" r="r" b="b"/>
              <a:pathLst>
                <a:path w="283" h="4413">
                  <a:moveTo>
                    <a:pt x="273" y="0"/>
                  </a:moveTo>
                  <a:lnTo>
                    <a:pt x="7" y="288"/>
                  </a:lnTo>
                  <a:lnTo>
                    <a:pt x="0" y="4118"/>
                  </a:lnTo>
                  <a:lnTo>
                    <a:pt x="266" y="4413"/>
                  </a:lnTo>
                  <a:lnTo>
                    <a:pt x="283" y="78"/>
                  </a:lnTo>
                  <a:lnTo>
                    <a:pt x="27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5" name=""/>
            <p:cNvSpPr/>
            <p:nvPr/>
          </p:nvSpPr>
          <p:spPr>
            <a:xfrm>
              <a:off x="-36360" y="6469200"/>
              <a:ext cx="9216720" cy="49032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6" name=""/>
            <p:cNvSpPr/>
            <p:nvPr/>
          </p:nvSpPr>
          <p:spPr>
            <a:xfrm flipV="1">
              <a:off x="-36000" y="-100800"/>
              <a:ext cx="9216720" cy="490680"/>
            </a:xfrm>
            <a:custGeom>
              <a:avLst/>
              <a:gdLst/>
              <a:ahLst/>
              <a:rect l="l" t="t" r="r" b="b"/>
              <a:pathLst>
                <a:path w="5806" h="309">
                  <a:moveTo>
                    <a:pt x="0" y="309"/>
                  </a:moveTo>
                  <a:lnTo>
                    <a:pt x="282" y="0"/>
                  </a:lnTo>
                  <a:lnTo>
                    <a:pt x="5517" y="0"/>
                  </a:lnTo>
                  <a:lnTo>
                    <a:pt x="5806" y="309"/>
                  </a:lnTo>
                  <a:lnTo>
                    <a:pt x="61" y="309"/>
                  </a:lnTo>
                  <a:lnTo>
                    <a:pt x="0" y="30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63300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17" name=""/>
          <p:cNvGrpSpPr/>
          <p:nvPr/>
        </p:nvGrpSpPr>
        <p:grpSpPr>
          <a:xfrm>
            <a:off x="7105680" y="-1639440"/>
            <a:ext cx="3103200" cy="2948040"/>
            <a:chOff x="7105680" y="-1639440"/>
            <a:chExt cx="3103200" cy="2948040"/>
          </a:xfrm>
        </p:grpSpPr>
        <p:grpSp>
          <p:nvGrpSpPr>
            <p:cNvPr id="17818" name=""/>
            <p:cNvGrpSpPr/>
            <p:nvPr/>
          </p:nvGrpSpPr>
          <p:grpSpPr>
            <a:xfrm>
              <a:off x="7105680" y="-1639440"/>
              <a:ext cx="2850840" cy="2738880"/>
              <a:chOff x="7105680" y="-1639440"/>
              <a:chExt cx="2850840" cy="2738880"/>
            </a:xfrm>
          </p:grpSpPr>
          <p:sp>
            <p:nvSpPr>
              <p:cNvPr id="17819" name=""/>
              <p:cNvSpPr/>
              <p:nvPr/>
            </p:nvSpPr>
            <p:spPr>
              <a:xfrm rot="13152000">
                <a:off x="7310880" y="-14112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0" name=""/>
              <p:cNvSpPr/>
              <p:nvPr/>
            </p:nvSpPr>
            <p:spPr>
              <a:xfrm rot="13152000">
                <a:off x="8813160" y="-172512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21" name=""/>
            <p:cNvGrpSpPr/>
            <p:nvPr/>
          </p:nvGrpSpPr>
          <p:grpSpPr>
            <a:xfrm>
              <a:off x="7750080" y="-1000080"/>
              <a:ext cx="2399040" cy="2308680"/>
              <a:chOff x="7750080" y="-1000080"/>
              <a:chExt cx="2399040" cy="2308680"/>
            </a:xfrm>
          </p:grpSpPr>
          <p:sp>
            <p:nvSpPr>
              <p:cNvPr id="17822" name=""/>
              <p:cNvSpPr/>
              <p:nvPr/>
            </p:nvSpPr>
            <p:spPr>
              <a:xfrm rot="13152000">
                <a:off x="7887960" y="34596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3" name=""/>
              <p:cNvSpPr/>
              <p:nvPr/>
            </p:nvSpPr>
            <p:spPr>
              <a:xfrm rot="13152000">
                <a:off x="9059040" y="-101988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24" name=""/>
            <p:cNvGrpSpPr/>
            <p:nvPr/>
          </p:nvGrpSpPr>
          <p:grpSpPr>
            <a:xfrm>
              <a:off x="8584200" y="-1395000"/>
              <a:ext cx="1624680" cy="2471760"/>
              <a:chOff x="8584200" y="-1395000"/>
              <a:chExt cx="1624680" cy="2471760"/>
            </a:xfrm>
          </p:grpSpPr>
          <p:sp>
            <p:nvSpPr>
              <p:cNvPr id="17825" name=""/>
              <p:cNvSpPr/>
              <p:nvPr/>
            </p:nvSpPr>
            <p:spPr>
              <a:xfrm rot="11728800">
                <a:off x="8663760" y="28224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6" name=""/>
              <p:cNvSpPr/>
              <p:nvPr/>
            </p:nvSpPr>
            <p:spPr>
              <a:xfrm rot="11728800">
                <a:off x="8940600" y="-128196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27" name=""/>
            <p:cNvGrpSpPr/>
            <p:nvPr/>
          </p:nvGrpSpPr>
          <p:grpSpPr>
            <a:xfrm>
              <a:off x="8213040" y="-1328400"/>
              <a:ext cx="1492560" cy="2024280"/>
              <a:chOff x="8213040" y="-1328400"/>
              <a:chExt cx="1492560" cy="2024280"/>
            </a:xfrm>
          </p:grpSpPr>
          <p:sp>
            <p:nvSpPr>
              <p:cNvPr id="17828" name=""/>
              <p:cNvSpPr/>
              <p:nvPr/>
            </p:nvSpPr>
            <p:spPr>
              <a:xfrm rot="13152000">
                <a:off x="8282160" y="97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9" name=""/>
              <p:cNvSpPr/>
              <p:nvPr/>
            </p:nvSpPr>
            <p:spPr>
              <a:xfrm rot="13152000">
                <a:off x="8801280" y="-131616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30" name=""/>
          <p:cNvGrpSpPr/>
          <p:nvPr/>
        </p:nvGrpSpPr>
        <p:grpSpPr>
          <a:xfrm>
            <a:off x="-1575000" y="-1199160"/>
            <a:ext cx="2946600" cy="3104640"/>
            <a:chOff x="-1575000" y="-1199160"/>
            <a:chExt cx="2946600" cy="3104640"/>
          </a:xfrm>
        </p:grpSpPr>
        <p:grpSp>
          <p:nvGrpSpPr>
            <p:cNvPr id="17831" name=""/>
            <p:cNvGrpSpPr/>
            <p:nvPr/>
          </p:nvGrpSpPr>
          <p:grpSpPr>
            <a:xfrm>
              <a:off x="-1575000" y="-947160"/>
              <a:ext cx="2736720" cy="2852640"/>
              <a:chOff x="-1575000" y="-947160"/>
              <a:chExt cx="2736720" cy="2852640"/>
            </a:xfrm>
          </p:grpSpPr>
          <p:sp>
            <p:nvSpPr>
              <p:cNvPr id="17832" name=""/>
              <p:cNvSpPr/>
              <p:nvPr/>
            </p:nvSpPr>
            <p:spPr>
              <a:xfrm rot="7755600">
                <a:off x="-92160" y="662760"/>
                <a:ext cx="1050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3" name=""/>
              <p:cNvSpPr/>
              <p:nvPr/>
            </p:nvSpPr>
            <p:spPr>
              <a:xfrm rot="7755600">
                <a:off x="-820080" y="-1152360"/>
                <a:ext cx="50796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34" name=""/>
            <p:cNvGrpSpPr/>
            <p:nvPr/>
          </p:nvGrpSpPr>
          <p:grpSpPr>
            <a:xfrm>
              <a:off x="-935640" y="-1138680"/>
              <a:ext cx="2307240" cy="2400840"/>
              <a:chOff x="-935640" y="-1138680"/>
              <a:chExt cx="2307240" cy="2400840"/>
            </a:xfrm>
          </p:grpSpPr>
          <p:sp>
            <p:nvSpPr>
              <p:cNvPr id="17835" name=""/>
              <p:cNvSpPr/>
              <p:nvPr/>
            </p:nvSpPr>
            <p:spPr>
              <a:xfrm rot="7755600">
                <a:off x="335160" y="28872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6" name=""/>
              <p:cNvSpPr/>
              <p:nvPr/>
            </p:nvSpPr>
            <p:spPr>
              <a:xfrm rot="7755600">
                <a:off x="-340200" y="-124596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37" name=""/>
            <p:cNvGrpSpPr/>
            <p:nvPr/>
          </p:nvGrpSpPr>
          <p:grpSpPr>
            <a:xfrm>
              <a:off x="-1330920" y="-1199160"/>
              <a:ext cx="2471760" cy="1625760"/>
              <a:chOff x="-1330920" y="-1199160"/>
              <a:chExt cx="2471760" cy="1625760"/>
            </a:xfrm>
          </p:grpSpPr>
          <p:sp>
            <p:nvSpPr>
              <p:cNvPr id="17838" name=""/>
              <p:cNvSpPr/>
              <p:nvPr/>
            </p:nvSpPr>
            <p:spPr>
              <a:xfrm rot="6332400">
                <a:off x="308520" y="-393840"/>
                <a:ext cx="77832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9" name=""/>
              <p:cNvSpPr/>
              <p:nvPr/>
            </p:nvSpPr>
            <p:spPr>
              <a:xfrm rot="6332400">
                <a:off x="-932400" y="-1284120"/>
                <a:ext cx="106848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40" name=""/>
            <p:cNvGrpSpPr/>
            <p:nvPr/>
          </p:nvGrpSpPr>
          <p:grpSpPr>
            <a:xfrm>
              <a:off x="-1264320" y="-695880"/>
              <a:ext cx="2023560" cy="1493640"/>
              <a:chOff x="-1264320" y="-695880"/>
              <a:chExt cx="2023560" cy="1493640"/>
            </a:xfrm>
          </p:grpSpPr>
          <p:sp>
            <p:nvSpPr>
              <p:cNvPr id="17841" name=""/>
              <p:cNvSpPr/>
              <p:nvPr/>
            </p:nvSpPr>
            <p:spPr>
              <a:xfrm rot="7755600">
                <a:off x="-66960" y="91800"/>
                <a:ext cx="77688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2" name=""/>
              <p:cNvSpPr/>
              <p:nvPr/>
            </p:nvSpPr>
            <p:spPr>
              <a:xfrm rot="7755600">
                <a:off x="-828720" y="-743760"/>
                <a:ext cx="52848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43" name=""/>
          <p:cNvGrpSpPr/>
          <p:nvPr/>
        </p:nvGrpSpPr>
        <p:grpSpPr>
          <a:xfrm>
            <a:off x="7750080" y="4979880"/>
            <a:ext cx="2718360" cy="3318840"/>
            <a:chOff x="7750080" y="4979880"/>
            <a:chExt cx="2718360" cy="3318840"/>
          </a:xfrm>
        </p:grpSpPr>
        <p:grpSp>
          <p:nvGrpSpPr>
            <p:cNvPr id="17844" name=""/>
            <p:cNvGrpSpPr/>
            <p:nvPr/>
          </p:nvGrpSpPr>
          <p:grpSpPr>
            <a:xfrm>
              <a:off x="8047080" y="4979880"/>
              <a:ext cx="2421360" cy="3106080"/>
              <a:chOff x="8047080" y="4979880"/>
              <a:chExt cx="2421360" cy="3106080"/>
            </a:xfrm>
          </p:grpSpPr>
          <p:sp>
            <p:nvSpPr>
              <p:cNvPr id="17845" name=""/>
              <p:cNvSpPr/>
              <p:nvPr/>
            </p:nvSpPr>
            <p:spPr>
              <a:xfrm rot="19135800">
                <a:off x="8253720" y="5199120"/>
                <a:ext cx="1050840" cy="10234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6" name=""/>
              <p:cNvSpPr/>
              <p:nvPr/>
            </p:nvSpPr>
            <p:spPr>
              <a:xfrm rot="19135800">
                <a:off x="9302760" y="59979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47" name=""/>
            <p:cNvGrpSpPr/>
            <p:nvPr/>
          </p:nvGrpSpPr>
          <p:grpSpPr>
            <a:xfrm>
              <a:off x="7750080" y="5564160"/>
              <a:ext cx="2065320" cy="2594880"/>
              <a:chOff x="7750080" y="5564160"/>
              <a:chExt cx="2065320" cy="2594880"/>
            </a:xfrm>
          </p:grpSpPr>
          <p:sp>
            <p:nvSpPr>
              <p:cNvPr id="17848" name=""/>
              <p:cNvSpPr/>
              <p:nvPr/>
            </p:nvSpPr>
            <p:spPr>
              <a:xfrm rot="19135800">
                <a:off x="7887960" y="576900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9" name=""/>
              <p:cNvSpPr/>
              <p:nvPr/>
            </p:nvSpPr>
            <p:spPr>
              <a:xfrm rot="19135800">
                <a:off x="8708400" y="637704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0" name=""/>
            <p:cNvGrpSpPr/>
            <p:nvPr/>
          </p:nvGrpSpPr>
          <p:grpSpPr>
            <a:xfrm>
              <a:off x="7830000" y="6363720"/>
              <a:ext cx="2462040" cy="1935000"/>
              <a:chOff x="7830000" y="6363720"/>
              <a:chExt cx="2462040" cy="1935000"/>
            </a:xfrm>
          </p:grpSpPr>
          <p:sp>
            <p:nvSpPr>
              <p:cNvPr id="17851" name=""/>
              <p:cNvSpPr/>
              <p:nvPr/>
            </p:nvSpPr>
            <p:spPr>
              <a:xfrm rot="17713200">
                <a:off x="7924320" y="6514200"/>
                <a:ext cx="778680" cy="70272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2" name=""/>
              <p:cNvSpPr/>
              <p:nvPr/>
            </p:nvSpPr>
            <p:spPr>
              <a:xfrm rot="17713200">
                <a:off x="8789040" y="6647040"/>
                <a:ext cx="1068840" cy="163800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53" name=""/>
            <p:cNvGrpSpPr/>
            <p:nvPr/>
          </p:nvGrpSpPr>
          <p:grpSpPr>
            <a:xfrm>
              <a:off x="8293320" y="6110280"/>
              <a:ext cx="1913400" cy="1672920"/>
              <a:chOff x="8293320" y="6110280"/>
              <a:chExt cx="1913400" cy="1672920"/>
            </a:xfrm>
          </p:grpSpPr>
          <p:sp>
            <p:nvSpPr>
              <p:cNvPr id="17854" name=""/>
              <p:cNvSpPr/>
              <p:nvPr/>
            </p:nvSpPr>
            <p:spPr>
              <a:xfrm rot="19135800">
                <a:off x="8360640" y="630432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5" name=""/>
              <p:cNvSpPr/>
              <p:nvPr/>
            </p:nvSpPr>
            <p:spPr>
              <a:xfrm rot="19135800">
                <a:off x="9290880" y="6402960"/>
                <a:ext cx="528840" cy="137556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856" name=""/>
          <p:cNvGrpSpPr/>
          <p:nvPr/>
        </p:nvGrpSpPr>
        <p:grpSpPr>
          <a:xfrm>
            <a:off x="-1280160" y="5436000"/>
            <a:ext cx="3220200" cy="2844720"/>
            <a:chOff x="-1280160" y="5436000"/>
            <a:chExt cx="3220200" cy="2844720"/>
          </a:xfrm>
        </p:grpSpPr>
        <p:grpSp>
          <p:nvGrpSpPr>
            <p:cNvPr id="17857" name=""/>
            <p:cNvGrpSpPr/>
            <p:nvPr/>
          </p:nvGrpSpPr>
          <p:grpSpPr>
            <a:xfrm>
              <a:off x="-1046880" y="5688720"/>
              <a:ext cx="2986920" cy="2592000"/>
              <a:chOff x="-1046880" y="5688720"/>
              <a:chExt cx="2986920" cy="2592000"/>
            </a:xfrm>
          </p:grpSpPr>
          <p:sp>
            <p:nvSpPr>
              <p:cNvPr id="17858" name=""/>
              <p:cNvSpPr/>
              <p:nvPr/>
            </p:nvSpPr>
            <p:spPr>
              <a:xfrm rot="2638800">
                <a:off x="681120" y="5909760"/>
                <a:ext cx="1050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9" name=""/>
              <p:cNvSpPr/>
              <p:nvPr/>
            </p:nvSpPr>
            <p:spPr>
              <a:xfrm rot="2638800">
                <a:off x="-357480" y="6221160"/>
                <a:ext cx="508320" cy="2190240"/>
              </a:xfrm>
              <a:custGeom>
                <a:avLst/>
                <a:gdLst/>
                <a:ahLst/>
                <a:rect l="l" t="t" r="r" b="b"/>
                <a:pathLst>
                  <a:path w="461" h="1844">
                    <a:moveTo>
                      <a:pt x="385" y="30"/>
                    </a:moveTo>
                    <a:cubicBezTo>
                      <a:pt x="377" y="15"/>
                      <a:pt x="370" y="0"/>
                      <a:pt x="340" y="75"/>
                    </a:cubicBezTo>
                    <a:cubicBezTo>
                      <a:pt x="310" y="150"/>
                      <a:pt x="189" y="324"/>
                      <a:pt x="204" y="483"/>
                    </a:cubicBezTo>
                    <a:cubicBezTo>
                      <a:pt x="219" y="642"/>
                      <a:pt x="461" y="915"/>
                      <a:pt x="431" y="1028"/>
                    </a:cubicBezTo>
                    <a:cubicBezTo>
                      <a:pt x="401" y="1141"/>
                      <a:pt x="46" y="1081"/>
                      <a:pt x="23" y="1164"/>
                    </a:cubicBezTo>
                    <a:cubicBezTo>
                      <a:pt x="0" y="1247"/>
                      <a:pt x="272" y="1429"/>
                      <a:pt x="295" y="1527"/>
                    </a:cubicBezTo>
                    <a:cubicBezTo>
                      <a:pt x="318" y="1625"/>
                      <a:pt x="182" y="1700"/>
                      <a:pt x="159" y="1753"/>
                    </a:cubicBezTo>
                    <a:cubicBezTo>
                      <a:pt x="136" y="1806"/>
                      <a:pt x="147" y="1825"/>
                      <a:pt x="159" y="184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60" name=""/>
            <p:cNvGrpSpPr/>
            <p:nvPr/>
          </p:nvGrpSpPr>
          <p:grpSpPr>
            <a:xfrm>
              <a:off x="-1180440" y="5436000"/>
              <a:ext cx="2504160" cy="2196360"/>
              <a:chOff x="-1180440" y="5436000"/>
              <a:chExt cx="2504160" cy="2196360"/>
            </a:xfrm>
          </p:grpSpPr>
          <p:sp>
            <p:nvSpPr>
              <p:cNvPr id="17861" name=""/>
              <p:cNvSpPr/>
              <p:nvPr/>
            </p:nvSpPr>
            <p:spPr>
              <a:xfrm rot="2638800">
                <a:off x="278280" y="5644440"/>
                <a:ext cx="908280" cy="76104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2" name=""/>
              <p:cNvSpPr/>
              <p:nvPr/>
            </p:nvSpPr>
            <p:spPr>
              <a:xfrm rot="2638800">
                <a:off x="-632520" y="5870520"/>
                <a:ext cx="582480" cy="1813680"/>
              </a:xfrm>
              <a:custGeom>
                <a:avLst/>
                <a:gdLst/>
                <a:ahLst/>
                <a:rect l="l" t="t" r="r" b="b"/>
                <a:pathLst>
                  <a:path w="408" h="1406">
                    <a:moveTo>
                      <a:pt x="288" y="0"/>
                    </a:moveTo>
                    <a:cubicBezTo>
                      <a:pt x="311" y="90"/>
                      <a:pt x="334" y="181"/>
                      <a:pt x="288" y="272"/>
                    </a:cubicBezTo>
                    <a:cubicBezTo>
                      <a:pt x="242" y="363"/>
                      <a:pt x="0" y="461"/>
                      <a:pt x="15" y="544"/>
                    </a:cubicBezTo>
                    <a:cubicBezTo>
                      <a:pt x="30" y="627"/>
                      <a:pt x="348" y="673"/>
                      <a:pt x="378" y="771"/>
                    </a:cubicBezTo>
                    <a:cubicBezTo>
                      <a:pt x="408" y="869"/>
                      <a:pt x="204" y="1028"/>
                      <a:pt x="197" y="1134"/>
                    </a:cubicBezTo>
                    <a:cubicBezTo>
                      <a:pt x="190" y="1240"/>
                      <a:pt x="261" y="1323"/>
                      <a:pt x="333" y="140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63" name=""/>
            <p:cNvGrpSpPr/>
            <p:nvPr/>
          </p:nvGrpSpPr>
          <p:grpSpPr>
            <a:xfrm>
              <a:off x="-1280160" y="5593680"/>
              <a:ext cx="1783440" cy="2475720"/>
              <a:chOff x="-1280160" y="5593680"/>
              <a:chExt cx="1783440" cy="2475720"/>
            </a:xfrm>
          </p:grpSpPr>
          <p:sp>
            <p:nvSpPr>
              <p:cNvPr id="17864" name=""/>
              <p:cNvSpPr/>
              <p:nvPr/>
            </p:nvSpPr>
            <p:spPr>
              <a:xfrm rot="1215600">
                <a:off x="-372960" y="5706720"/>
                <a:ext cx="778680" cy="703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5" name=""/>
              <p:cNvSpPr/>
              <p:nvPr/>
            </p:nvSpPr>
            <p:spPr>
              <a:xfrm rot="1215600">
                <a:off x="-1029240" y="6296400"/>
                <a:ext cx="1068840" cy="1638360"/>
              </a:xfrm>
              <a:custGeom>
                <a:avLst/>
                <a:gdLst/>
                <a:ahLst/>
                <a:rect l="l" t="t" r="r" b="b"/>
                <a:pathLst>
                  <a:path w="748" h="1270">
                    <a:moveTo>
                      <a:pt x="431" y="0"/>
                    </a:moveTo>
                    <a:cubicBezTo>
                      <a:pt x="442" y="166"/>
                      <a:pt x="453" y="332"/>
                      <a:pt x="385" y="453"/>
                    </a:cubicBezTo>
                    <a:cubicBezTo>
                      <a:pt x="317" y="574"/>
                      <a:pt x="46" y="635"/>
                      <a:pt x="23" y="726"/>
                    </a:cubicBezTo>
                    <a:cubicBezTo>
                      <a:pt x="0" y="817"/>
                      <a:pt x="136" y="968"/>
                      <a:pt x="249" y="998"/>
                    </a:cubicBezTo>
                    <a:cubicBezTo>
                      <a:pt x="362" y="1028"/>
                      <a:pt x="658" y="877"/>
                      <a:pt x="703" y="907"/>
                    </a:cubicBezTo>
                    <a:cubicBezTo>
                      <a:pt x="748" y="937"/>
                      <a:pt x="551" y="1119"/>
                      <a:pt x="521" y="1179"/>
                    </a:cubicBezTo>
                    <a:cubicBezTo>
                      <a:pt x="491" y="1239"/>
                      <a:pt x="506" y="1254"/>
                      <a:pt x="521" y="127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66" name=""/>
            <p:cNvGrpSpPr/>
            <p:nvPr/>
          </p:nvGrpSpPr>
          <p:grpSpPr>
            <a:xfrm>
              <a:off x="-768960" y="6016320"/>
              <a:ext cx="1586880" cy="1977120"/>
              <a:chOff x="-768960" y="6016320"/>
              <a:chExt cx="1586880" cy="1977120"/>
            </a:xfrm>
          </p:grpSpPr>
          <p:sp>
            <p:nvSpPr>
              <p:cNvPr id="17867" name=""/>
              <p:cNvSpPr/>
              <p:nvPr/>
            </p:nvSpPr>
            <p:spPr>
              <a:xfrm rot="2638800">
                <a:off x="-22680" y="6216480"/>
                <a:ext cx="777240" cy="496080"/>
              </a:xfrm>
              <a:prstGeom prst="ellipse">
                <a:avLst/>
              </a:prstGeom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8" name=""/>
              <p:cNvSpPr/>
              <p:nvPr/>
            </p:nvSpPr>
            <p:spPr>
              <a:xfrm rot="2638800">
                <a:off x="-365040" y="6626880"/>
                <a:ext cx="528840" cy="1375920"/>
              </a:xfrm>
              <a:custGeom>
                <a:avLst/>
                <a:gdLst/>
                <a:ahLst/>
                <a:rect l="l" t="t" r="r" b="b"/>
                <a:pathLst>
                  <a:path w="432" h="1633">
                    <a:moveTo>
                      <a:pt x="8" y="0"/>
                    </a:moveTo>
                    <a:cubicBezTo>
                      <a:pt x="53" y="72"/>
                      <a:pt x="99" y="144"/>
                      <a:pt x="99" y="227"/>
                    </a:cubicBezTo>
                    <a:cubicBezTo>
                      <a:pt x="99" y="310"/>
                      <a:pt x="0" y="416"/>
                      <a:pt x="8" y="499"/>
                    </a:cubicBezTo>
                    <a:cubicBezTo>
                      <a:pt x="16" y="582"/>
                      <a:pt x="122" y="605"/>
                      <a:pt x="145" y="726"/>
                    </a:cubicBezTo>
                    <a:cubicBezTo>
                      <a:pt x="168" y="847"/>
                      <a:pt x="100" y="1142"/>
                      <a:pt x="145" y="1225"/>
                    </a:cubicBezTo>
                    <a:cubicBezTo>
                      <a:pt x="190" y="1308"/>
                      <a:pt x="402" y="1172"/>
                      <a:pt x="417" y="1225"/>
                    </a:cubicBezTo>
                    <a:cubicBezTo>
                      <a:pt x="432" y="1278"/>
                      <a:pt x="250" y="1474"/>
                      <a:pt x="235" y="1542"/>
                    </a:cubicBezTo>
                    <a:cubicBezTo>
                      <a:pt x="220" y="1610"/>
                      <a:pt x="273" y="1621"/>
                      <a:pt x="326" y="163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69" name=""/>
          <p:cNvSpPr/>
          <p:nvPr/>
        </p:nvSpPr>
        <p:spPr>
          <a:xfrm>
            <a:off x="1330200" y="5229360"/>
            <a:ext cx="129564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ва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6 - 199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0" name="">
            <a:hlinkClick r:id="rId13"/>
          </p:cNvPr>
          <p:cNvSpPr/>
          <p:nvPr/>
        </p:nvSpPr>
        <p:spPr>
          <a:xfrm>
            <a:off x="1835280" y="6597720"/>
            <a:ext cx="5545080" cy="260280"/>
          </a:xfrm>
          <a:custGeom>
            <a:avLst/>
            <a:gdLst>
              <a:gd name="textAreaLeft" fmla="*/ 1386360 w 5545080"/>
              <a:gd name="textAreaRight" fmla="*/ 4159080 w 5545080"/>
              <a:gd name="textAreaTop" fmla="*/ 7560 h 260280"/>
              <a:gd name="textAreaBottom" fmla="*/ 1954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1" name="">
            <a:hlinkClick r:id="rId14"/>
          </p:cNvPr>
          <p:cNvSpPr/>
          <p:nvPr/>
        </p:nvSpPr>
        <p:spPr>
          <a:xfrm>
            <a:off x="3203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древу Квасо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2:41:27Z</dcterms:created>
  <dc:creator>Орехов Н Г</dc:creator>
  <dc:description/>
  <dc:language>en-US</dc:language>
  <cp:lastModifiedBy>Орехов Н Г</cp:lastModifiedBy>
  <dcterms:modified xsi:type="dcterms:W3CDTF">2008-05-24T03:12:26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